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C7B-68D3-4C9C-8DFA-CD71064F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87E-4846-4E7C-A689-F49E020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139-A394-496B-8495-F5B3626E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119-3C85-4B86-A480-907A277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3889-4A06-4603-A61F-4F52B1DB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03C-A26A-489E-A811-53263DCE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4B52-FCD2-4F46-A3FE-E833EFCA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699E-44CA-49DD-B005-58DF36BE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7890-95D5-49F8-AFD2-35928FE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92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A4F6-E43E-4F2F-A1D0-1DFC744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AB3E-6747-4917-958B-78C374B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28D-0285-4AEB-8961-F7A08BC3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691B-FCF6-4023-9234-22461BC6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0BD9-8643-4E23-B079-D4F82D4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FF4C-6042-42F0-9E7E-CCD322CD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B78C-1EE3-4A35-8C5E-E33317D5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9D42-327C-4C1A-BACA-D17F5B0F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F96-0E4E-40FE-A9D5-24686B59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B80-B7F5-434E-B179-2E47F988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D10-C542-4BA3-A848-007840DE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92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4EA-0100-4720-84B6-C81800F3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8E6-8519-4573-B9C8-37C2278B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7B7-045C-443F-8EE4-39F5A72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A63-EA6C-4AEF-9EEE-CEDBE527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6FA9-4CCE-4834-B7DF-028B4875D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5EAB-EC00-4057-A56B-E5FD1CBC5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41400" y="1052280"/>
            <a:ext cx="878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PC CPTEC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asonal forecast activities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360" y="2276640"/>
            <a:ext cx="809928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io Coelh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io.coelho@cptec.inpe.b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PTEC/INP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aixaDeTexto 5"/>
          <p:cNvSpPr/>
          <p:nvPr/>
        </p:nvSpPr>
        <p:spPr>
          <a:xfrm>
            <a:off x="3454200" y="2263680"/>
            <a:ext cx="5601240" cy="1465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ian multi-model seasonal forecas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BRISA multi-mode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ly downscaled forecast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re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Subtítulo"/>
          <p:cNvSpPr/>
          <p:nvPr/>
        </p:nvSpPr>
        <p:spPr>
          <a:xfrm>
            <a:off x="380880" y="37893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oint WGSIP/ET-OPSL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xeter, UK, 10 March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-612720" y="228600"/>
            <a:ext cx="9753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PTEC ETA model seasonal forec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FMA 2013 issued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3" descr="prev_prec_eta_FMA"/>
          <p:cNvPicPr/>
          <p:nvPr/>
        </p:nvPicPr>
        <p:blipFill>
          <a:blip r:embed="rId2"/>
          <a:stretch/>
        </p:blipFill>
        <p:spPr>
          <a:xfrm>
            <a:off x="228600" y="1085760"/>
            <a:ext cx="8686800" cy="5761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372360" y="5159520"/>
            <a:ext cx="1800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km x 4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isted S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vious 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4920" y="1628640"/>
            <a:ext cx="9012240" cy="460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TEC GPC forecast products, Brazilian Multi-model forecast system (CPTEC/INMET/FUNCEME), EUROBRISA and ETA forecast products routinely produced and used in national and regional climate outlook forums: demonstrated national and regional cooperation in providing access to forecast produc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testing new version of CPTEC AGCM with new physics and dynamic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investigating potential gain in predictive skill by increasing spatial forecast resolution when downscal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TEC AGCM forecasts with B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03280" y="112680"/>
            <a:ext cx="910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inal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00000" y="2104920"/>
            <a:ext cx="7417080" cy="15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2ca9d0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Thank you for your attention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2ca9d0"/>
                  </a:gs>
                </a:gsLst>
                <a:lin ang="0"/>
              </a:gradFill>
              <a:effectLst>
                <a:outerShdw dist="63504" dir="2216091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-396720" y="289080"/>
            <a:ext cx="9537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zilian multi-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sonal forecas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PTEC"/>
          <p:cNvPicPr/>
          <p:nvPr/>
        </p:nvPicPr>
        <p:blipFill>
          <a:blip r:embed="rId2"/>
          <a:stretch/>
        </p:blipFill>
        <p:spPr>
          <a:xfrm>
            <a:off x="28440" y="1125360"/>
            <a:ext cx="1378080" cy="78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INPE"/>
          <p:cNvPicPr/>
          <p:nvPr/>
        </p:nvPicPr>
        <p:blipFill>
          <a:blip r:embed="rId3"/>
          <a:stretch/>
        </p:blipFill>
        <p:spPr>
          <a:xfrm>
            <a:off x="1401840" y="1125360"/>
            <a:ext cx="1398600" cy="108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s://encrypted-tbn3.gstatic.com/images?q=tbn:ANd9GcRWWMeeJiaS22EIs1PMhQZBf-uOykSCQtavvSn5UjUIENpGyuCd"/>
          <p:cNvPicPr/>
          <p:nvPr/>
        </p:nvPicPr>
        <p:blipFill>
          <a:blip r:embed="rId4"/>
          <a:stretch/>
        </p:blipFill>
        <p:spPr>
          <a:xfrm>
            <a:off x="971640" y="2438280"/>
            <a:ext cx="1224000" cy="142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s://encrypted-tbn0.gstatic.com/images?q=tbn:ANd9GcQnGEWcdOzwtx-sY5uce20VBm2_zV7yv6zMVhX8k5MrXGE2MbeW"/>
          <p:cNvPicPr/>
          <p:nvPr/>
        </p:nvPicPr>
        <p:blipFill>
          <a:blip r:embed="rId5"/>
          <a:stretch/>
        </p:blipFill>
        <p:spPr>
          <a:xfrm>
            <a:off x="395280" y="400536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91" name="CaixaDeTexto 7"/>
          <p:cNvSpPr/>
          <p:nvPr/>
        </p:nvSpPr>
        <p:spPr>
          <a:xfrm>
            <a:off x="2773440" y="981000"/>
            <a:ext cx="6354360" cy="1191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TEC/AGC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conditions: persisted and predicted SST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ve parameterization schemes: Kuo, RAS, Gr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ensembl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ixaDeTexto 8"/>
          <p:cNvSpPr/>
          <p:nvPr/>
        </p:nvSpPr>
        <p:spPr>
          <a:xfrm>
            <a:off x="2759040" y="4221000"/>
            <a:ext cx="4909680" cy="916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AM4.6/AGC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conditions: persisted SST anoma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ensembl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ixaDeTexto 9"/>
          <p:cNvSpPr/>
          <p:nvPr/>
        </p:nvSpPr>
        <p:spPr>
          <a:xfrm>
            <a:off x="2755080" y="2316240"/>
            <a:ext cx="4190400" cy="17398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T/I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ors (SST, Geopotential 500hP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velocity 850 h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eries mod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-W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10"/>
          <p:cNvSpPr/>
          <p:nvPr/>
        </p:nvSpPr>
        <p:spPr>
          <a:xfrm>
            <a:off x="2720160" y="5229360"/>
            <a:ext cx="6151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odels produced retrospective forecasts (hindca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eriod 1989-2008 using exactly the sa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real-time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ixaDeTexto 10"/>
          <p:cNvSpPr/>
          <p:nvPr/>
        </p:nvSpPr>
        <p:spPr>
          <a:xfrm>
            <a:off x="745920" y="6237360"/>
            <a:ext cx="8017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t effort: CPTEC/INPE, INMET and FUNC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2"/>
          <a:srcRect l="20964" t="11924" r="34151" b="22871"/>
          <a:stretch/>
        </p:blipFill>
        <p:spPr>
          <a:xfrm>
            <a:off x="4788000" y="2133720"/>
            <a:ext cx="4392360" cy="3987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-468360" y="243000"/>
            <a:ext cx="9537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PTEC/INMET/FUNC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-model ensemble mean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4"/>
          <p:cNvSpPr/>
          <p:nvPr/>
        </p:nvSpPr>
        <p:spPr>
          <a:xfrm>
            <a:off x="5346000" y="62848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d in Ma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5"/>
          <p:cNvSpPr/>
          <p:nvPr/>
        </p:nvSpPr>
        <p:spPr>
          <a:xfrm>
            <a:off x="4504680" y="1628640"/>
            <a:ext cx="426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ion anomaly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JA 2013 (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coelho\AppData\Local\Temp\CORR_prec_Multimodel_cptec_inmet_funceme_JJA2013.gif"/>
          <p:cNvPicPr/>
          <p:nvPr/>
        </p:nvPicPr>
        <p:blipFill>
          <a:blip r:embed="rId3"/>
          <a:stretch/>
        </p:blipFill>
        <p:spPr>
          <a:xfrm>
            <a:off x="-684360" y="2098800"/>
            <a:ext cx="5545440" cy="4282920"/>
          </a:xfrm>
          <a:prstGeom prst="rect">
            <a:avLst/>
          </a:prstGeom>
          <a:ln w="0">
            <a:noFill/>
          </a:ln>
        </p:spPr>
      </p:pic>
      <p:sp>
        <p:nvSpPr>
          <p:cNvPr id="101" name="CaixaDeTexto 5"/>
          <p:cNvSpPr/>
          <p:nvPr/>
        </p:nvSpPr>
        <p:spPr>
          <a:xfrm>
            <a:off x="221760" y="1233360"/>
            <a:ext cx="373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JA precipitation anoma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sk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-2008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6165720"/>
            <a:ext cx="45352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probabilistic forecast derived from forecast anomaly and retrospective correlation sk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2"/>
          <a:srcRect l="24508" t="10034" r="44784" b="19091"/>
          <a:stretch/>
        </p:blipFill>
        <p:spPr>
          <a:xfrm>
            <a:off x="5292720" y="979560"/>
            <a:ext cx="4094280" cy="5905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-468360" y="243000"/>
            <a:ext cx="9537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PTEC/INMET/FUNC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ulti-model probabilistic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6920640" y="56959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: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coelho\AppData\Local\Temp\CORR_prec_Multimodel_cptec_inmet_funceme_JJA2013.gif"/>
          <p:cNvPicPr/>
          <p:nvPr/>
        </p:nvPicPr>
        <p:blipFill>
          <a:blip r:embed="rId3"/>
          <a:srcRect l="18897" t="0" r="4724" b="0"/>
          <a:stretch/>
        </p:blipFill>
        <p:spPr>
          <a:xfrm>
            <a:off x="-3240" y="1203480"/>
            <a:ext cx="5334120" cy="53942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5"/>
          <p:cNvSpPr/>
          <p:nvPr/>
        </p:nvSpPr>
        <p:spPr>
          <a:xfrm>
            <a:off x="-101880" y="981000"/>
            <a:ext cx="4534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tion anomaly forecast sk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9-2008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6405480"/>
            <a:ext cx="432108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 probabilities determined obj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865760"/>
            <a:ext cx="23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Regression based probabilistic forecast obtained from forecast anomaly and past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00720" y="5805360"/>
            <a:ext cx="863280" cy="64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600" y="365040"/>
            <a:ext cx="7862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ask 5.3.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108000" y="-14400"/>
            <a:ext cx="9436320" cy="1273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360" y="1258920"/>
            <a:ext cx="5112000" cy="445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UROBRISA Integrated (empirical-dynamical combined and calibrated) precipitation seasonal forecasting system for Sou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laborative eff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INPE/CPTEC, Univ. Exeter, ECMWF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UK Met Office, Météo-France, UFP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USP and IN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reviously suppor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urrently suppor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3160" y="4616280"/>
            <a:ext cx="2295360" cy="592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92360" y="4618080"/>
            <a:ext cx="216216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17920" y="5238720"/>
            <a:ext cx="1404720" cy="471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" y="571032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  <a:ea typeface="MS PGothic"/>
              </a:rPr>
              <a:t>http://eurobrisa.cptec.inpe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292720" y="1268280"/>
            <a:ext cx="3851280" cy="4924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6165720"/>
            <a:ext cx="87850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idea: Why not combining all available state-of-the-art forecast information for improving seasonal forecasts in South America - a region where the forecasts have skill and usefu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047-C741-43F4-9B48-4E941179C8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6800" y="110808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MS PGothic"/>
              </a:rPr>
              <a:t>Combined and calibrated coupled + empirical precip.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  <a:ea typeface="MS PGothic"/>
              </a:rPr>
              <a:t>Hybrid multi-model probabilist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4720" y="2030400"/>
          <a:ext cx="5762880" cy="378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720" y="2030400"/>
                    <a:ext cx="576288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718160" y="2954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91240" y="3457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2360" y="4027320"/>
            <a:ext cx="5421240" cy="1586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PGothic"/>
              </a:rPr>
              <a:t>Updated empirical model   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MS PGothic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PGothic"/>
              </a:rPr>
              <a:t>Predictors: Atlantic and Pacific S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PGothic"/>
              </a:rPr>
              <a:t>Predictand: Precip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Coelh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et al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 (2006)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MS PGothic"/>
              </a:rPr>
              <a:t>J. Climate, 1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, 3704-37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2440" y="2616120"/>
            <a:ext cx="14540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2616120"/>
            <a:ext cx="7920" cy="528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2160" y="4784760"/>
            <a:ext cx="1454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408800" y="4167000"/>
            <a:ext cx="1800" cy="625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80200" y="3176640"/>
            <a:ext cx="2165400" cy="957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  <a:ea typeface="MS PGothic"/>
              </a:rPr>
              <a:t>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  <a:ea typeface="MS PGothic"/>
              </a:rPr>
              <a:t>forec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20320" y="4809960"/>
            <a:ext cx="26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duced with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forecast assimilation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Stephenson et al (2005)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Tellus A . Vol.  57, 253-2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734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MS PGothic"/>
              </a:rPr>
              <a:t>Hindcast period: 1981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08800" y="58183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MS PGothic"/>
              </a:rPr>
              <a:t>Implemented in Jul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-324000" y="299880"/>
            <a:ext cx="9410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Updated EUROBRISA integrated </a:t>
            </a:r>
            <a:br>
              <a:rPr sz="3500"/>
            </a:b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forecasting system for South Ame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6480" y="6359400"/>
            <a:ext cx="914400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orecast and verification products available at http://eurobrisa.cptec.in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E43-5C2C-4308-9766-666753D84F9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60280"/>
            <a:ext cx="91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               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Probabilistic forecast verific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  <a:ea typeface="MS PGothic"/>
              </a:rPr>
              <a:t>products for updated EUROBRISA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1280" y="1268280"/>
            <a:ext cx="4368960" cy="436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11760" y="1197000"/>
            <a:ext cx="3936960" cy="474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57160" y="5734080"/>
            <a:ext cx="29941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calibrated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BRISA foreca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1160" y="5735520"/>
            <a:ext cx="32832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EUROBRISA forecasts detect below normal category ev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DA2-B810-4C7C-BD5D-5DDE2B0DA8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2520" y="1144440"/>
            <a:ext cx="875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55600"/>
            <a:ext cx="905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MS PGothic"/>
              </a:rPr>
              <a:t>EUROBRISA integrated fcst for SON 2013 issued in Aug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77080" y="1405080"/>
            <a:ext cx="2120760" cy="2311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2195640" cy="259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124000" y="112536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375080" y="112536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2195640" y="3757680"/>
            <a:ext cx="2286000" cy="2840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4470480" y="3757680"/>
            <a:ext cx="2286000" cy="2840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31"/>
          <p:cNvSpPr/>
          <p:nvPr/>
        </p:nvSpPr>
        <p:spPr>
          <a:xfrm>
            <a:off x="6785280" y="5378400"/>
            <a:ext cx="235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sued: Aug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37"/>
          <p:cNvSpPr/>
          <p:nvPr/>
        </p:nvSpPr>
        <p:spPr>
          <a:xfrm>
            <a:off x="6659640" y="3789360"/>
            <a:ext cx="25048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b. of most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kely precipitation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ercile (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34"/>
          <p:cNvSpPr/>
          <p:nvPr/>
        </p:nvSpPr>
        <p:spPr>
          <a:xfrm>
            <a:off x="4648320" y="98100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K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36"/>
          <p:cNvSpPr/>
          <p:nvPr/>
        </p:nvSpPr>
        <p:spPr>
          <a:xfrm>
            <a:off x="0" y="981000"/>
            <a:ext cx="22287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mpi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51"/>
          <p:cNvSpPr/>
          <p:nvPr/>
        </p:nvSpPr>
        <p:spPr>
          <a:xfrm>
            <a:off x="2362320" y="990720"/>
            <a:ext cx="20574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CMW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33"/>
          <p:cNvSpPr/>
          <p:nvPr/>
        </p:nvSpPr>
        <p:spPr>
          <a:xfrm>
            <a:off x="4600440" y="3602160"/>
            <a:ext cx="22100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nteg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53"/>
          <p:cNvSpPr/>
          <p:nvPr/>
        </p:nvSpPr>
        <p:spPr>
          <a:xfrm>
            <a:off x="2268360" y="3602160"/>
            <a:ext cx="22100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eteo-F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25800" y="1052640"/>
            <a:ext cx="2588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MS PGothic"/>
              </a:rPr>
              <a:t>Obs. SST anoma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MS PGothic"/>
              </a:rPr>
              <a:t>Jul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8A6-18A5-4EAC-B809-F7522B5382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rcRect l="25039" t="0" r="25039" b="5015"/>
          <a:stretch/>
        </p:blipFill>
        <p:spPr>
          <a:xfrm>
            <a:off x="5799240" y="1933560"/>
            <a:ext cx="2692440" cy="329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25039" t="0" r="25039" b="5015"/>
          <a:stretch/>
        </p:blipFill>
        <p:spPr>
          <a:xfrm>
            <a:off x="2987640" y="1916280"/>
            <a:ext cx="2693880" cy="3297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20031" t="0" r="25039" b="0"/>
          <a:stretch/>
        </p:blipFill>
        <p:spPr>
          <a:xfrm>
            <a:off x="-181080" y="1916280"/>
            <a:ext cx="300672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73520" y="1600200"/>
            <a:ext cx="401472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021280"/>
            <a:ext cx="822816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rcRect l="84192" t="10030" r="5008" b="15051"/>
          <a:stretch/>
        </p:blipFill>
        <p:spPr>
          <a:xfrm>
            <a:off x="8459640" y="1844640"/>
            <a:ext cx="596880" cy="344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8000" y="255600"/>
            <a:ext cx="905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MS PGothic"/>
              </a:rPr>
              <a:t>BRAMS MAM 1989 seasonal precipitation forecasts for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0" y="1413000"/>
            <a:ext cx="266544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PCP MAM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precipitation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6200" y="1414440"/>
            <a:ext cx="266544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PTEC AGCM MAM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precipitation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1414440"/>
            <a:ext cx="266544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AMS MAM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 precipitation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1480" y="5375160"/>
            <a:ext cx="317052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sued in previous F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62L28 (~ 200km x 200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isted SST of previous 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5840" y="5375160"/>
            <a:ext cx="317016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sued in previous F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km x 3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isted SST of previous 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052640"/>
            <a:ext cx="7991280" cy="43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AMS: Brazilian Developments on the Regional Atmospheric Model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3:05:52Z</dcterms:created>
  <dc:creator>Claudinei e Elizete</dc:creator>
  <dc:description/>
  <dc:language>en-US</dc:language>
  <cp:lastModifiedBy>suporte</cp:lastModifiedBy>
  <dcterms:modified xsi:type="dcterms:W3CDTF">2014-03-09T22:15:10Z</dcterms:modified>
  <cp:revision>282</cp:revision>
  <dc:subject/>
  <dc:title>Titulo da Apresentação</dc:title>
</cp:coreProperties>
</file>