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CBDE3E-8E8A-411E-9C0B-F77940883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1F04FD-83D6-4E68-8086-16BCE04354C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E7559-6107-4982-889E-83BE80B7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9360" y="3642120"/>
            <a:ext cx="80420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D74A-ACED-4CD6-80B5-6149352F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4936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121CD-9BE0-41D0-A5B6-F998BDD5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8440" y="88308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160" y="88308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9360" y="364212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8440" y="364212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160" y="364212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3F6EE-4067-4E94-909A-2F89E364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0A54D-9326-405A-8596-804D4B85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F5F3D-AF88-41B1-A6CC-7E36F5E6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1A42A-0EEA-4B25-8FF5-AB70C2F7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45F2C-8561-4E8F-AC78-73A95B48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5032A-16CD-4AE3-9F2A-1D48F873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49360" y="107640"/>
            <a:ext cx="804204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842C6-CEB8-4F31-8B28-77DD526E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936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E3C46-7407-4D84-BB08-685B730F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7C25E-47A7-459F-9805-1046533D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D2C9C-3ACE-4150-852E-879897F2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9360" y="3642120"/>
            <a:ext cx="80420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A22C3-1398-4368-B9B9-075D1F70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360" y="3642120"/>
            <a:ext cx="80420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C6D4C-9F84-4BEE-BDB7-29AECD61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936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4AE06-40A9-4305-82BD-B9C7909C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8440" y="88308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160" y="88308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9360" y="364212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8440" y="364212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160" y="364212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61602-3ABB-4B29-B9BD-A509F031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1560A-A998-4E29-8588-FBF7749C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DBB6D-1153-41D5-ACD0-6B56113D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044CD-2FAE-402F-BE8F-05CEE9A5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DBDA4-FEA2-49EB-ACAD-1BCADA91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86852-C507-4D1B-A3A1-B57C136A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933E7-725B-4978-BF9C-93DB2C06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49360" y="107640"/>
            <a:ext cx="804204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D6FA7-BDE2-4705-B94E-2079A209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936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E64CB-A68F-42B4-A272-E61E540B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72B1-BE75-456C-9F43-C6AD47DD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49360" y="3642120"/>
            <a:ext cx="80420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70CCF-16E6-44B5-8F9F-28560F67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9360" y="3642120"/>
            <a:ext cx="80420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565B9-9CB6-4F35-8735-215C0A85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4936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C1E7A-5CA1-44B4-B540-165BFE2D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68440" y="88308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87160" y="88308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49360" y="364212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68440" y="364212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87160" y="3642120"/>
            <a:ext cx="25891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950AD-1367-4F46-B659-5A93FB07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435F6-FD14-489B-8B0F-D0899E72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9E3FF-D4CF-4411-B1D7-2551052B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49360" y="107640"/>
            <a:ext cx="804204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8E8C-0745-4808-A175-E52DEE95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936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CCC8F-A011-421B-819E-3C449C82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364212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936EB-AB57-4642-B998-0C188EC8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883080"/>
            <a:ext cx="3924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9360" y="3642120"/>
            <a:ext cx="80420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A2F75-2A4D-4886-A082-87F4DFB6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bcc.png"/>
          <p:cNvPicPr/>
          <p:nvPr/>
        </p:nvPicPr>
        <p:blipFill>
          <a:blip r:embed="rId3"/>
          <a:stretch/>
        </p:blipFill>
        <p:spPr>
          <a:xfrm>
            <a:off x="8260200" y="19800"/>
            <a:ext cx="883800" cy="8568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1328040" y="1295280"/>
            <a:ext cx="6487200" cy="3152520"/>
          </a:xfrm>
          <a:prstGeom prst="rect">
            <a:avLst/>
          </a:prstGeom>
          <a:noFill/>
          <a:ln w="3175">
            <a:solidFill>
              <a:srgbClr val="ffffff"/>
            </a:solidFill>
            <a:round/>
          </a:ln>
          <a:effectLst>
            <a:outerShdw algn="ctr" blurRad="63360" rotWithShape="0" sx="100500" sy="10050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23000" y="1523880"/>
            <a:ext cx="6497640" cy="172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600" spc="-1" strike="noStrike">
                <a:solidFill>
                  <a:schemeClr val="accent1"/>
                </a:solidFill>
                <a:latin typeface="News Gothic MT"/>
              </a:rPr>
              <a:t>单击此处编辑母版标题样式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629680" y="6275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7898040" y="6275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E8C112-2A54-4D4D-9140-4DC933C85FAA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264600" y="627552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7" descr="bcc.png"/>
          <p:cNvPicPr/>
          <p:nvPr/>
        </p:nvPicPr>
        <p:blipFill>
          <a:blip r:embed="rId3"/>
          <a:stretch/>
        </p:blipFill>
        <p:spPr>
          <a:xfrm>
            <a:off x="8260200" y="19800"/>
            <a:ext cx="883800" cy="856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chemeClr val="accent1"/>
                </a:solidFill>
                <a:latin typeface="Helvetica Neue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zh-CN" sz="2400" spc="-1" strike="noStrike">
                <a:solidFill>
                  <a:srgbClr val="595959"/>
                </a:solidFill>
                <a:latin typeface="Arial"/>
              </a:rPr>
              <a:t>单击此处编辑母版文本样式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zh-CN" sz="2200" spc="-1" strike="noStrike">
                <a:solidFill>
                  <a:srgbClr val="595959"/>
                </a:solidFill>
                <a:latin typeface="Arial"/>
              </a:rPr>
              <a:t>二级</a:t>
            </a:r>
            <a:endParaRPr b="0" lang="en-US" sz="2200" spc="-1" strike="noStrike">
              <a:solidFill>
                <a:srgbClr val="595959"/>
              </a:solidFill>
              <a:latin typeface="Arial"/>
            </a:endParaRPr>
          </a:p>
          <a:p>
            <a:pPr lvl="2" marL="968400" indent="-28260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zh-CN" sz="2000" spc="-1" strike="noStrike">
                <a:solidFill>
                  <a:srgbClr val="595959"/>
                </a:solidFill>
                <a:latin typeface="Arial"/>
              </a:rPr>
              <a:t>三级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263600" indent="-295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四级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1546200" indent="-28260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五级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629680" y="6275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7898040" y="6275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CE4585-60FD-4A93-BDBC-1080AB48D90E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64600" y="627552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7" descr="bcc.png"/>
          <p:cNvPicPr/>
          <p:nvPr/>
        </p:nvPicPr>
        <p:blipFill>
          <a:blip r:embed="rId3"/>
          <a:stretch/>
        </p:blipFill>
        <p:spPr>
          <a:xfrm>
            <a:off x="8260200" y="19800"/>
            <a:ext cx="883800" cy="856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chemeClr val="accent1"/>
                </a:solidFill>
                <a:latin typeface="Helvetica Neue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5629680" y="6275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264600" y="627552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7898040" y="6275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566403-24BC-4E48-AD06-446A65DF31FD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zhangpq@cma.gov.cn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mdp.ncc.cma.gov.cn/pred/en_md.php" TargetMode="External"/><Relationship Id="rId2" Type="http://schemas.openxmlformats.org/officeDocument/2006/relationships/hyperlink" Target="http://cmdp.ncc.cma.gov.cn/pred/en_cs.php" TargetMode="External"/><Relationship Id="rId3" Type="http://schemas.openxmlformats.org/officeDocument/2006/relationships/hyperlink" Target="http://cmdp.ncc.cma.gov.cn/pred/en_cs.php" TargetMode="External"/><Relationship Id="rId4" Type="http://schemas.openxmlformats.org/officeDocument/2006/relationships/hyperlink" Target="http://cmdp.ncc.cma.gov.cn/nccdownload/en_cgcm.php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23000" y="1523880"/>
            <a:ext cx="6497640" cy="172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chemeClr val="accent1"/>
                </a:solidFill>
                <a:latin typeface="News Gothic MT"/>
              </a:rPr>
              <a:t>STATUS </a:t>
            </a:r>
            <a:r>
              <a:rPr b="1" lang="en-US" sz="3600" spc="-1" strike="noStrike">
                <a:solidFill>
                  <a:schemeClr val="accent1"/>
                </a:solidFill>
                <a:latin typeface="News Gothic MT"/>
              </a:rPr>
              <a:t>of </a:t>
            </a:r>
            <a:r>
              <a:rPr b="1" lang="en-AU" sz="3600" spc="-1" strike="noStrike">
                <a:solidFill>
                  <a:schemeClr val="accent1"/>
                </a:solidFill>
                <a:latin typeface="Helvetica Neue"/>
              </a:rPr>
              <a:t>Global Producing Center - Beijing</a:t>
            </a:r>
            <a:endParaRPr b="0" lang="en-US" sz="3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23000" y="3299040"/>
            <a:ext cx="649764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8b8b8b"/>
                </a:solidFill>
                <a:latin typeface="News Gothic MT"/>
              </a:rPr>
              <a:t>Peiqun Zhang (</a:t>
            </a:r>
            <a:r>
              <a:rPr b="0" lang="en-US" sz="1800" spc="-1" strike="noStrike" u="sng">
                <a:solidFill>
                  <a:srgbClr val="a48fbd"/>
                </a:solidFill>
                <a:uFillTx/>
                <a:latin typeface="News Gothic MT"/>
                <a:hlinkClick r:id="rId1"/>
              </a:rPr>
              <a:t>zhangpq@cma.gov.cn</a:t>
            </a:r>
            <a:r>
              <a:rPr b="0" lang="en-US" sz="1800" spc="-1" strike="noStrike">
                <a:solidFill>
                  <a:srgbClr val="8b8b8b"/>
                </a:solidFill>
                <a:latin typeface="News Gothic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800" spc="-1" strike="noStrike" baseline="30000">
                <a:solidFill>
                  <a:srgbClr val="8b8b8b"/>
                </a:solidFill>
                <a:latin typeface="News Gothic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8b8b8b"/>
                </a:solidFill>
                <a:latin typeface="News Gothic MT"/>
              </a:rPr>
              <a:t>Beijing Climate Center, CMA, Beijing, 1000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3"/>
          </p:nvPr>
        </p:nvSpPr>
        <p:spPr>
          <a:xfrm>
            <a:off x="32400" y="645336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Meeting of the joint CBS/CCl ET-OPSLS, 10-14 March 2014, Exeter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4"/>
          </p:nvPr>
        </p:nvSpPr>
        <p:spPr>
          <a:xfrm>
            <a:off x="8157240" y="645336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2F108D-8C1F-4E23-8D05-27861457A11A}" type="slidenum">
              <a:rPr b="0" lang="en-US" sz="14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chemeClr val="accent1"/>
                </a:solidFill>
                <a:latin typeface="Helvetica Neue"/>
              </a:rPr>
              <a:t>GPC Beijing Available Products (additional)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Variables: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Precip., Ts., SST, (OLR…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irculation: H500, U/V200, U/V850, T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Index: Nino, IOD, EASMI, Subtropical High, ……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Resolution: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Precip/Ts/SST: 2.5x2.5 </a:t>
            </a:r>
            <a:r>
              <a:rPr b="0" lang="en-US" sz="1800" spc="-1" strike="noStrike">
                <a:solidFill>
                  <a:srgbClr val="595959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 1.0x1.0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irculation: 2.5x2.5 (enough?) 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requency: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Daily/Pentad for ERF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Monthly for LRF(Seasonal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Leadtime: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10-30 days </a:t>
            </a:r>
            <a:r>
              <a:rPr b="0" lang="en-US" sz="1600" spc="-1" strike="noStrike">
                <a:solidFill>
                  <a:srgbClr val="595959"/>
                </a:solidFill>
                <a:latin typeface="Wingdings"/>
              </a:rPr>
              <a:t>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10-50 day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1-3months (1 seasonal forecast) </a:t>
            </a:r>
            <a:r>
              <a:rPr b="0" lang="en-US" sz="1600" spc="-1" strike="noStrike">
                <a:solidFill>
                  <a:srgbClr val="595959"/>
                </a:solidFill>
                <a:latin typeface="Wingdings"/>
              </a:rPr>
              <a:t>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4-9months (2-3 seasonal forecas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ftr" idx="21"/>
          </p:nvPr>
        </p:nvSpPr>
        <p:spPr>
          <a:xfrm>
            <a:off x="32400" y="645336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Meeting of the joint CBS/CCl ET-OPSLS, 10-14 March 2014, Exeter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F5327-DE02-4AC9-910A-9B800C910A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chemeClr val="accent1"/>
                </a:solidFill>
                <a:latin typeface="Helvetica Neue"/>
              </a:rPr>
              <a:t>Ongoing Work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215d77"/>
              </a:buClr>
              <a:buSzPct val="110000"/>
              <a:buFont typeface="Wingdings" charset="2"/>
              <a:buChar char=""/>
            </a:pP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Operational seasonal climate prediction using BCC_CSM1.1m (~ 110 km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797040" indent="-5144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6fb7d7"/>
              </a:buClr>
              <a:buSzPct val="110000"/>
              <a:buFont typeface="Wingdings" charset="2"/>
              <a:buChar char=""/>
            </a:pP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Verification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797040" indent="-5144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6fb7d7"/>
              </a:buClr>
              <a:buSzPct val="110000"/>
              <a:buFont typeface="Wingdings" charset="2"/>
              <a:buChar char=""/>
            </a:pP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Products Develop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457200">
              <a:lnSpc>
                <a:spcPct val="100000"/>
              </a:lnSpc>
              <a:spcBef>
                <a:spcPts val="2001"/>
              </a:spcBef>
              <a:spcAft>
                <a:spcPts val="1199"/>
              </a:spcAft>
              <a:buClr>
                <a:srgbClr val="6fb7d7"/>
              </a:buClr>
              <a:buSzPct val="110000"/>
              <a:buFont typeface="Wingdings" charset="2"/>
              <a:buChar char=""/>
            </a:pPr>
            <a:r>
              <a:rPr b="1" lang="en-US" sz="1800" spc="-1" strike="noStrike">
                <a:solidFill>
                  <a:srgbClr val="595959"/>
                </a:solidFill>
                <a:latin typeface="Calibri"/>
              </a:rPr>
              <a:t>Developing high resolution version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BCC_CSM2.0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22"/>
          </p:nvPr>
        </p:nvSpPr>
        <p:spPr>
          <a:xfrm>
            <a:off x="32400" y="645336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Meeting of the joint CBS/CCl ET-OPSLS, 10-14 March 2014, Exeter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3E142-B9C1-4975-B803-842A7C8B28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chemeClr val="accent1"/>
                </a:solidFill>
                <a:latin typeface="Helvetica Neue"/>
              </a:rPr>
              <a:t>Upgrades of System: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08880" indent="-308880">
              <a:lnSpc>
                <a:spcPct val="120000"/>
              </a:lnSpc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GB" sz="2300" spc="-1" strike="noStrike">
                <a:solidFill>
                  <a:srgbClr val="595959"/>
                </a:solidFill>
                <a:latin typeface="Arial"/>
              </a:rPr>
              <a:t>BCC_CSM1 (AGCM+AVIM+OGCM+SIS)</a:t>
            </a:r>
            <a:r>
              <a:rPr b="1" lang="en-GB" sz="2300" spc="-1" strike="noStrike">
                <a:solidFill>
                  <a:srgbClr val="595959"/>
                </a:solidFill>
                <a:latin typeface="Wingdings"/>
              </a:rPr>
              <a:t></a:t>
            </a:r>
            <a:r>
              <a:rPr b="1" lang="en-GB" sz="2300" spc="-1" strike="noStrike">
                <a:solidFill>
                  <a:srgbClr val="595959"/>
                </a:solidFill>
                <a:latin typeface="Arial"/>
              </a:rPr>
              <a:t>BCC_CSM2</a:t>
            </a:r>
            <a:endParaRPr b="0" lang="en-US" sz="23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08880" indent="-308880">
              <a:lnSpc>
                <a:spcPct val="120000"/>
              </a:lnSpc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GB" sz="2100" spc="-1" strike="noStrike">
                <a:solidFill>
                  <a:srgbClr val="595959"/>
                </a:solidFill>
                <a:latin typeface="Arial"/>
              </a:rPr>
              <a:t>BCC AGCM2.2:</a:t>
            </a:r>
            <a:r>
              <a:rPr b="0" lang="en-GB" sz="2100" spc="-1" strike="noStrike">
                <a:solidFill>
                  <a:srgbClr val="595959"/>
                </a:solidFill>
                <a:latin typeface="Arial"/>
              </a:rPr>
              <a:t>T42L26-&gt;T106L26 (~110km)</a:t>
            </a:r>
            <a:r>
              <a:rPr b="0" lang="en-GB" sz="21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595959"/>
                </a:solidFill>
                <a:latin typeface="Wingdings"/>
              </a:rPr>
              <a:t></a:t>
            </a:r>
            <a:r>
              <a:rPr b="0" lang="en-GB" sz="21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</a:rPr>
              <a:t>BCC AGCM3.0:</a:t>
            </a:r>
            <a:r>
              <a:rPr b="0" lang="en-GB" sz="2100" spc="-1" strike="noStrike">
                <a:solidFill>
                  <a:srgbClr val="595959"/>
                </a:solidFill>
                <a:latin typeface="Arial"/>
              </a:rPr>
              <a:t> T266 (~45km)</a:t>
            </a:r>
            <a:endParaRPr b="0" lang="en-US" sz="2100" spc="-1" strike="noStrike">
              <a:solidFill>
                <a:srgbClr val="595959"/>
              </a:solidFill>
              <a:latin typeface="Arial"/>
            </a:endParaRPr>
          </a:p>
          <a:p>
            <a:pPr lvl="1" marL="607320" indent="-297720">
              <a:lnSpc>
                <a:spcPct val="120000"/>
              </a:lnSpc>
              <a:buClr>
                <a:srgbClr val="215d77"/>
              </a:buClr>
              <a:buSzPct val="110000"/>
              <a:buFont typeface="Arial"/>
              <a:buChar char="•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Originated from CAM3, Improved Dynamics: Wu et al.(2008, J.Atmos.Sci.) and  Physics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：</a:t>
            </a: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Wu et al. (2010, Climate Dynamics):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857520" indent="-250200">
              <a:lnSpc>
                <a:spcPct val="12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Deep convect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：</a:t>
            </a: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modified Zhang and  Mu (2005) scheme .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857520" indent="-250200">
              <a:lnSpc>
                <a:spcPct val="12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Dry Adiabatic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857520" indent="-250200">
              <a:lnSpc>
                <a:spcPct val="12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Snow cover fraction parameterization (Wu T. and Wu G., 2004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857520" indent="-250200">
              <a:lnSpc>
                <a:spcPct val="12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Sensible and latent flux parameterization on the ocean- Atmosphere interface are modified.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857520" indent="-250200">
              <a:lnSpc>
                <a:spcPct val="12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1" lang="en-US" sz="1600" spc="-1" strike="noStrike">
                <a:solidFill>
                  <a:schemeClr val="accent2"/>
                </a:solidFill>
                <a:latin typeface="Arial"/>
                <a:ea typeface="宋体"/>
              </a:rPr>
              <a:t>A new cumulus convective parameterization scheme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  <a:ea typeface="宋体"/>
              </a:rPr>
              <a:t>Wu (2012: </a:t>
            </a:r>
            <a:r>
              <a:rPr b="1" i="1" lang="en-US" sz="1600" spc="-1" strike="noStrike">
                <a:solidFill>
                  <a:srgbClr val="ff0066"/>
                </a:solidFill>
                <a:latin typeface="Arial"/>
                <a:ea typeface="宋体"/>
              </a:rPr>
              <a:t>Climate Dynamics</a:t>
            </a:r>
            <a:r>
              <a:rPr b="1" lang="en-US" sz="1600" spc="-1" strike="noStrike">
                <a:solidFill>
                  <a:schemeClr val="accent2"/>
                </a:solidFill>
                <a:latin typeface="Arial"/>
                <a:ea typeface="宋体"/>
              </a:rPr>
              <a:t>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08880" indent="-308880">
              <a:lnSpc>
                <a:spcPct val="120000"/>
              </a:lnSpc>
              <a:buClr>
                <a:srgbClr val="6fb7d7"/>
              </a:buClr>
              <a:buSzPct val="110000"/>
              <a:buFont typeface="Wingdings" charset="2"/>
              <a:buChar char=""/>
            </a:pP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MOM4_L40v2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Wingdings"/>
                <a:ea typeface="宋体"/>
              </a:rPr>
              <a:t>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    MOM4_L50</a:t>
            </a:r>
            <a:endParaRPr b="0" lang="en-US" sz="2100" spc="-1" strike="noStrike">
              <a:solidFill>
                <a:srgbClr val="595959"/>
              </a:solidFill>
              <a:latin typeface="Arial"/>
            </a:endParaRPr>
          </a:p>
          <a:p>
            <a:pPr lvl="1" marL="607320" indent="-297720">
              <a:lnSpc>
                <a:spcPct val="120000"/>
              </a:lnSpc>
              <a:buClr>
                <a:srgbClr val="215d77"/>
              </a:buClr>
              <a:buSzPct val="110000"/>
              <a:buFont typeface="Arial"/>
              <a:buChar char="•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  <a:ea typeface="宋体"/>
              </a:rPr>
              <a:t>Originated from MOM4 developed by GFDL, Tri-pole gridpoints 1º×1º,  1/3º meridionally in tropics,40 vertical layers, coupled with a carbon cycle module (from OCMIP2) with simple biogeochemical processes.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08880" indent="-308880">
              <a:lnSpc>
                <a:spcPct val="120000"/>
              </a:lnSpc>
              <a:buClr>
                <a:srgbClr val="6fb7d7"/>
              </a:buClr>
              <a:buSzPct val="110000"/>
              <a:buFont typeface="Wingdings" charset="2"/>
              <a:buChar char=""/>
            </a:pP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BCC AVIM1.0  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Wingdings"/>
                <a:ea typeface="宋体"/>
              </a:rPr>
              <a:t>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    BCC AVIM2.0</a:t>
            </a:r>
            <a:endParaRPr b="0" lang="en-US" sz="2100" spc="-1" strike="noStrike">
              <a:solidFill>
                <a:srgbClr val="595959"/>
              </a:solidFill>
              <a:latin typeface="Arial"/>
            </a:endParaRPr>
          </a:p>
          <a:p>
            <a:pPr lvl="1" marL="607320" indent="-297720">
              <a:lnSpc>
                <a:spcPct val="120000"/>
              </a:lnSpc>
              <a:buClr>
                <a:srgbClr val="215d77"/>
              </a:buClr>
              <a:buSzPct val="110000"/>
              <a:buFont typeface="Arial"/>
              <a:buChar char="•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  <a:ea typeface="宋体"/>
              </a:rPr>
              <a:t>Soil-Vegetation-Atmosphere Transfer module (a multi-layer snow-soil scheme same as NCAR CLM3) with Snow Cover Fraction scheme (sub-grid topography),  Vegetation growth module, Soil carbon decomposition module,  Land use change scheme (crop planting area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Arial"/>
            </a:endParaRPr>
          </a:p>
          <a:p>
            <a:pPr marL="308880" indent="-308880">
              <a:lnSpc>
                <a:spcPct val="120000"/>
              </a:lnSpc>
              <a:buClr>
                <a:srgbClr val="6fb7d7"/>
              </a:buClr>
              <a:buSzPct val="110000"/>
              <a:buFont typeface="Wingdings" charset="2"/>
              <a:buChar char=""/>
            </a:pP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SIS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	</a:t>
            </a:r>
            <a:r>
              <a:rPr b="1" lang="en-GB" sz="2100" spc="-1" strike="noStrike">
                <a:solidFill>
                  <a:srgbClr val="595959"/>
                </a:solidFill>
                <a:latin typeface="Wingdings"/>
                <a:ea typeface="宋体"/>
              </a:rPr>
              <a:t></a:t>
            </a: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    CICE</a:t>
            </a:r>
            <a:endParaRPr b="0" lang="en-US" sz="2100" spc="-1" strike="noStrike">
              <a:solidFill>
                <a:srgbClr val="595959"/>
              </a:solidFill>
              <a:latin typeface="Arial"/>
            </a:endParaRPr>
          </a:p>
          <a:p>
            <a:pPr lvl="1" marL="607320" indent="-297720">
              <a:lnSpc>
                <a:spcPct val="120000"/>
              </a:lnSpc>
              <a:buClr>
                <a:srgbClr val="215d77"/>
              </a:buClr>
              <a:buSzPct val="110000"/>
              <a:buFont typeface="Arial"/>
              <a:buChar char="•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  <a:ea typeface="宋体"/>
              </a:rPr>
              <a:t>From Sea Ice Simulator (SIS) developed by GFDL. Same resolution with oceanic GCM. 3 vertical layers, including 1 snow cover and 2 sea ice layers of equal thickness. Involving the Elastic–Viscous–Plastic dynamic process and Semtner’s thermodynamic process.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23"/>
          </p:nvPr>
        </p:nvSpPr>
        <p:spPr>
          <a:xfrm>
            <a:off x="32400" y="645336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Meeting of the joint CBS/CCl ET-OPSLS, 10-14 March 2014, Exeter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1362C-2F66-4C28-8698-6518A7C342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1" lang="en-US" sz="2800" spc="-1" strike="noStrike">
              <a:solidFill>
                <a:schemeClr val="accent1"/>
              </a:solidFill>
              <a:latin typeface="Helvetica Neu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9200" indent="-349200" algn="ctr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Thank you for your attention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24"/>
          </p:nvPr>
        </p:nvSpPr>
        <p:spPr>
          <a:xfrm>
            <a:off x="5629680" y="6275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13-11-25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Meeting of the joint CBS/CCl ET-OPSLS, 10-14 March 2014, Exeter, UK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1C798-467C-4AD9-A8FA-93956FD520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" y="107640"/>
            <a:ext cx="855900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chemeClr val="accent1"/>
                </a:solidFill>
                <a:latin typeface="Helvetica Neue"/>
              </a:rPr>
              <a:t>Current system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92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Arial"/>
              </a:rPr>
              <a:t>BCC CM1.0 (BCC AGCM1.1 &amp; CGCM1.1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Atmos: T63 (~180km), 16 vertical level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Ocean: IAP/BCC OGCM,  Grid 1.875°x1.875°, 30 vertical level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Aft>
                <a:spcPts val="541"/>
              </a:spcAft>
              <a:buNone/>
              <a:tabLst>
                <a:tab algn="l" pos="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Arial"/>
              </a:rPr>
              <a:t>LRF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SST: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1-tier method; Daily flux adjustment coupled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Ens gen: Atm-LAF(last 8 daily GloAna of each month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                     </a:t>
            </a: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Oce-BCC GODAS1.0 (6 Perturbation by the end of each month)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Forecast: 48 members to 7-11 months (run before 15</a:t>
            </a:r>
            <a:r>
              <a:rPr b="0" lang="en-GB" sz="1800" spc="-1" strike="noStrike" baseline="30000">
                <a:solidFill>
                  <a:srgbClr val="595959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 every month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Hindcast: 1982-2003 (22 years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Aft>
                <a:spcPts val="541"/>
              </a:spcAft>
              <a:buNone/>
              <a:tabLst>
                <a:tab algn="l" pos="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Arial"/>
              </a:rPr>
              <a:t>ERF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SST: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2-tier method; latest weekly SST persisted anomal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Ens gen: LAF(00h 06h 12h 18h GloAna of each day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                     </a:t>
            </a: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SVD(4 Perturbation each day)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Forecast: 8 members run to 45 days each day:  40 members (over 5 days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Hindcast: 1982-2003 (22 years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5"/>
          </p:nvPr>
        </p:nvSpPr>
        <p:spPr>
          <a:xfrm>
            <a:off x="32400" y="645336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Meeting of the joint CBS/CCl ET-OPSLS, 10-14 March 2014, Exeter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1998D-A3DC-485F-9E5D-C21397971E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914364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chemeClr val="accent1"/>
                </a:solidFill>
                <a:latin typeface="Helvetica Neue"/>
              </a:rPr>
              <a:t>2</a:t>
            </a:r>
            <a:r>
              <a:rPr b="1" lang="en-US" sz="2800" spc="-1" strike="noStrike" baseline="30000">
                <a:solidFill>
                  <a:schemeClr val="accent1"/>
                </a:solidFill>
                <a:latin typeface="Helvetica Neue"/>
              </a:rPr>
              <a:t>nd</a:t>
            </a:r>
            <a:r>
              <a:rPr b="1" lang="en-US" sz="2800" spc="-1" strike="noStrike">
                <a:solidFill>
                  <a:schemeClr val="accent1"/>
                </a:solidFill>
                <a:latin typeface="Helvetica Neue"/>
              </a:rPr>
              <a:t> Climate Model System (Exp. Op Dec. 2013):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08880" indent="-308880">
              <a:lnSpc>
                <a:spcPct val="120000"/>
              </a:lnSpc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GB" sz="2300" spc="-1" strike="noStrike">
                <a:solidFill>
                  <a:srgbClr val="595959"/>
                </a:solidFill>
                <a:latin typeface="Arial"/>
              </a:rPr>
              <a:t>BCC_CSM1 (AGCM+AVIM+OGCM+SIS)</a:t>
            </a:r>
            <a:endParaRPr b="0" lang="en-US" sz="23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08880" indent="-308880">
              <a:lnSpc>
                <a:spcPct val="120000"/>
              </a:lnSpc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GB" sz="2100" spc="-1" strike="noStrike">
                <a:solidFill>
                  <a:srgbClr val="595959"/>
                </a:solidFill>
                <a:latin typeface="Arial"/>
              </a:rPr>
              <a:t>BCC AGCM2.2:</a:t>
            </a:r>
            <a:r>
              <a:rPr b="0" lang="en-GB" sz="2100" spc="-1" strike="noStrike">
                <a:solidFill>
                  <a:srgbClr val="595959"/>
                </a:solidFill>
                <a:latin typeface="Arial"/>
              </a:rPr>
              <a:t>T42L26-&gt;T106L26 (~110km)</a:t>
            </a:r>
            <a:endParaRPr b="0" lang="en-US" sz="2100" spc="-1" strike="noStrike">
              <a:solidFill>
                <a:srgbClr val="595959"/>
              </a:solidFill>
              <a:latin typeface="Arial"/>
            </a:endParaRPr>
          </a:p>
          <a:p>
            <a:pPr lvl="1" marL="607320" indent="-297720">
              <a:lnSpc>
                <a:spcPct val="120000"/>
              </a:lnSpc>
              <a:buClr>
                <a:srgbClr val="215d77"/>
              </a:buClr>
              <a:buSzPct val="110000"/>
              <a:buFont typeface="Arial"/>
              <a:buChar char="•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Originated from CAM3, Improved Dynamics: Wu et al.(2008, J.Atmos.Sci.) and  Physics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：</a:t>
            </a: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Wu et al. (2010, Climate Dynamics):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857520" indent="-250200">
              <a:lnSpc>
                <a:spcPct val="12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Deep convect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：</a:t>
            </a: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modified Zhang and  Mu (2005) scheme .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857520" indent="-250200">
              <a:lnSpc>
                <a:spcPct val="12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Dry Adiabatic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857520" indent="-250200">
              <a:lnSpc>
                <a:spcPct val="12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Snow cover fraction parameterization (Wu T. and Wu G., 2004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857520" indent="-250200">
              <a:lnSpc>
                <a:spcPct val="12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Sensible and latent flux parameterization on the ocean- Atmosphere interface are modified.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857520" indent="-250200">
              <a:lnSpc>
                <a:spcPct val="12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1" lang="en-US" sz="1600" spc="-1" strike="noStrike">
                <a:solidFill>
                  <a:schemeClr val="accent2"/>
                </a:solidFill>
                <a:latin typeface="Arial"/>
                <a:ea typeface="宋体"/>
              </a:rPr>
              <a:t>A new cumulus convective parameterization scheme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  <a:ea typeface="宋体"/>
              </a:rPr>
              <a:t>Wu (2012: </a:t>
            </a:r>
            <a:r>
              <a:rPr b="1" i="1" lang="en-US" sz="1600" spc="-1" strike="noStrike">
                <a:solidFill>
                  <a:srgbClr val="ff0066"/>
                </a:solidFill>
                <a:latin typeface="Arial"/>
                <a:ea typeface="宋体"/>
              </a:rPr>
              <a:t>Climate Dynamics</a:t>
            </a:r>
            <a:r>
              <a:rPr b="1" lang="en-US" sz="1600" spc="-1" strike="noStrike">
                <a:solidFill>
                  <a:schemeClr val="accent2"/>
                </a:solidFill>
                <a:latin typeface="Arial"/>
                <a:ea typeface="宋体"/>
              </a:rPr>
              <a:t>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08880" indent="-308880">
              <a:lnSpc>
                <a:spcPct val="120000"/>
              </a:lnSpc>
              <a:buClr>
                <a:srgbClr val="6fb7d7"/>
              </a:buClr>
              <a:buSzPct val="110000"/>
              <a:buFont typeface="Wingdings" charset="2"/>
              <a:buChar char=""/>
            </a:pP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MOM4_L40v2</a:t>
            </a:r>
            <a:endParaRPr b="0" lang="en-US" sz="2100" spc="-1" strike="noStrike">
              <a:solidFill>
                <a:srgbClr val="595959"/>
              </a:solidFill>
              <a:latin typeface="Arial"/>
            </a:endParaRPr>
          </a:p>
          <a:p>
            <a:pPr lvl="1" marL="607320" indent="-297720">
              <a:lnSpc>
                <a:spcPct val="120000"/>
              </a:lnSpc>
              <a:buClr>
                <a:srgbClr val="215d77"/>
              </a:buClr>
              <a:buSzPct val="110000"/>
              <a:buFont typeface="Arial"/>
              <a:buChar char="•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  <a:ea typeface="宋体"/>
              </a:rPr>
              <a:t>Originated from MOM4 developed by GFDL, Tri-pole gridpoints 1º×1º,  1/3º meridionally in tropics,40 vertical layers, coupled with a carbon cycle module (from OCMIP2) with simple biogeochemical processes.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08880" indent="-308880">
              <a:lnSpc>
                <a:spcPct val="120000"/>
              </a:lnSpc>
              <a:buClr>
                <a:srgbClr val="6fb7d7"/>
              </a:buClr>
              <a:buSzPct val="110000"/>
              <a:buFont typeface="Wingdings" charset="2"/>
              <a:buChar char=""/>
            </a:pP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BCC AVIM1.0</a:t>
            </a:r>
            <a:endParaRPr b="0" lang="en-US" sz="2100" spc="-1" strike="noStrike">
              <a:solidFill>
                <a:srgbClr val="595959"/>
              </a:solidFill>
              <a:latin typeface="Arial"/>
            </a:endParaRPr>
          </a:p>
          <a:p>
            <a:pPr lvl="1" marL="607320" indent="-297720">
              <a:lnSpc>
                <a:spcPct val="120000"/>
              </a:lnSpc>
              <a:buClr>
                <a:srgbClr val="215d77"/>
              </a:buClr>
              <a:buSzPct val="110000"/>
              <a:buFont typeface="Arial"/>
              <a:buChar char="•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  <a:ea typeface="宋体"/>
              </a:rPr>
              <a:t>Soil-Vegetation-Atmosphere Transfer module (a multi-layer snow-soil scheme same as NCAR CLM3) with Snow Cover Fraction scheme (sub-grid topography),  Vegetation growth module, Soil carbon decomposition module,  Land use change scheme (crop planting area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Arial"/>
            </a:endParaRPr>
          </a:p>
          <a:p>
            <a:pPr marL="308880" indent="-308880">
              <a:lnSpc>
                <a:spcPct val="120000"/>
              </a:lnSpc>
              <a:buClr>
                <a:srgbClr val="6fb7d7"/>
              </a:buClr>
              <a:buSzPct val="110000"/>
              <a:buFont typeface="Wingdings" charset="2"/>
              <a:buChar char=""/>
            </a:pPr>
            <a:r>
              <a:rPr b="1" lang="en-GB" sz="2100" spc="-1" strike="noStrike">
                <a:solidFill>
                  <a:srgbClr val="595959"/>
                </a:solidFill>
                <a:latin typeface="Arial"/>
                <a:ea typeface="宋体"/>
              </a:rPr>
              <a:t>SIS</a:t>
            </a:r>
            <a:endParaRPr b="0" lang="en-US" sz="2100" spc="-1" strike="noStrike">
              <a:solidFill>
                <a:srgbClr val="595959"/>
              </a:solidFill>
              <a:latin typeface="Arial"/>
            </a:endParaRPr>
          </a:p>
          <a:p>
            <a:pPr lvl="1" marL="607320" indent="-297720">
              <a:lnSpc>
                <a:spcPct val="120000"/>
              </a:lnSpc>
              <a:buClr>
                <a:srgbClr val="215d77"/>
              </a:buClr>
              <a:buSzPct val="110000"/>
              <a:buFont typeface="Arial"/>
              <a:buChar char="•"/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  <a:ea typeface="宋体"/>
              </a:rPr>
              <a:t>From Sea Ice Simulator (SIS) developed by GFDL. Same resolution with oceanic GCM. 3 vertical layers, including 1 snow cover and 2 sea ice layers of equal thickness. Involving the Elastic–Viscous–Plastic dynamic process and Semtner’s thermodynamic process.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6"/>
          </p:nvPr>
        </p:nvSpPr>
        <p:spPr>
          <a:xfrm>
            <a:off x="32400" y="645336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Meeting of the joint CBS/CCl ET-OPSLS, 10-14 March 2014, Exeter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257CD-88C5-4EE9-8728-74078DD774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chemeClr val="accent1"/>
                </a:solidFill>
                <a:latin typeface="Helvetica Neue"/>
              </a:rPr>
              <a:t>Configuration of System: 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9360" y="883080"/>
            <a:ext cx="80420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4720" indent="-324720">
              <a:lnSpc>
                <a:spcPct val="100000"/>
              </a:lnSpc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GB" sz="1900" spc="-1" strike="noStrike">
                <a:solidFill>
                  <a:srgbClr val="595959"/>
                </a:solidFill>
                <a:latin typeface="Arial"/>
              </a:rPr>
              <a:t>Model</a:t>
            </a:r>
            <a:endParaRPr b="0" lang="en-US" sz="1900" spc="-1" strike="noStrike">
              <a:solidFill>
                <a:srgbClr val="595959"/>
              </a:solidFill>
              <a:latin typeface="Arial"/>
            </a:endParaRPr>
          </a:p>
          <a:p>
            <a:pPr lvl="1" marL="637560" indent="-312840">
              <a:lnSpc>
                <a:spcPct val="100000"/>
              </a:lnSpc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ERF: BCC_AGCM2.2(T106L26)</a:t>
            </a:r>
            <a:endParaRPr b="0" lang="en-US" sz="1700" spc="-1" strike="noStrike">
              <a:solidFill>
                <a:srgbClr val="595959"/>
              </a:solidFill>
              <a:latin typeface="Arial"/>
            </a:endParaRPr>
          </a:p>
          <a:p>
            <a:pPr lvl="1" marL="637560" indent="-312840">
              <a:lnSpc>
                <a:spcPct val="100000"/>
              </a:lnSpc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LRF: BCC_CSM1.1-m (BCC_AGCM2.2  + BCC_AVIM1.0 + MOM4_L40v2 + SIS)</a:t>
            </a:r>
            <a:endParaRPr b="0" lang="en-US" sz="17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700" spc="-1" strike="noStrike">
              <a:solidFill>
                <a:srgbClr val="595959"/>
              </a:solidFill>
              <a:latin typeface="Arial"/>
            </a:endParaRPr>
          </a:p>
          <a:p>
            <a:pPr marL="324720" indent="-324720">
              <a:lnSpc>
                <a:spcPct val="100000"/>
              </a:lnSpc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GB" sz="1900" spc="-1" strike="noStrike">
                <a:solidFill>
                  <a:srgbClr val="595959"/>
                </a:solidFill>
                <a:latin typeface="Arial"/>
              </a:rPr>
              <a:t>Initialization</a:t>
            </a:r>
            <a:endParaRPr b="0" lang="en-US" sz="1900" spc="-1" strike="noStrike">
              <a:solidFill>
                <a:srgbClr val="595959"/>
              </a:solidFill>
              <a:latin typeface="Arial"/>
            </a:endParaRPr>
          </a:p>
          <a:p>
            <a:pPr lvl="1" marL="637560" indent="-312840">
              <a:lnSpc>
                <a:spcPct val="100000"/>
              </a:lnSpc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Atm: CMA NWP analysis for Forecast &amp; NCEP Reanalysis for Hindcast</a:t>
            </a:r>
            <a:endParaRPr b="0" lang="en-US" sz="1700" spc="-1" strike="noStrike">
              <a:solidFill>
                <a:srgbClr val="595959"/>
              </a:solidFill>
              <a:latin typeface="Arial"/>
            </a:endParaRPr>
          </a:p>
          <a:p>
            <a:pPr lvl="1" marL="637560" indent="-312840">
              <a:lnSpc>
                <a:spcPct val="100000"/>
              </a:lnSpc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Ocean and Sea Ice: BCC-GODAS2.0 for LRF &amp; latest weekly SST persisted anomaly for ERF</a:t>
            </a:r>
            <a:endParaRPr b="0" lang="en-US" sz="1700" spc="-1" strike="noStrike">
              <a:solidFill>
                <a:srgbClr val="595959"/>
              </a:solidFill>
              <a:latin typeface="Arial"/>
            </a:endParaRPr>
          </a:p>
          <a:p>
            <a:pPr lvl="1" marL="637560" indent="-312840">
              <a:lnSpc>
                <a:spcPct val="100000"/>
              </a:lnSpc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Land: BCC-AVIM1.0</a:t>
            </a:r>
            <a:endParaRPr b="0" lang="en-US" sz="17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700" spc="-1" strike="noStrike">
              <a:solidFill>
                <a:srgbClr val="595959"/>
              </a:solidFill>
              <a:latin typeface="Arial"/>
            </a:endParaRPr>
          </a:p>
          <a:p>
            <a:pPr marL="324720" indent="-324720">
              <a:lnSpc>
                <a:spcPct val="100000"/>
              </a:lnSpc>
              <a:buClr>
                <a:srgbClr val="6fb7d7"/>
              </a:buClr>
              <a:buSzPct val="110000"/>
              <a:buFont typeface="Wingdings" charset="2"/>
              <a:buChar char=""/>
            </a:pPr>
            <a:r>
              <a:rPr b="1" lang="en-GB" sz="1900" spc="-1" strike="noStrike">
                <a:solidFill>
                  <a:srgbClr val="595959"/>
                </a:solidFill>
                <a:latin typeface="Arial"/>
              </a:rPr>
              <a:t>Generation of Ensemble Member: </a:t>
            </a:r>
            <a:endParaRPr b="0" lang="en-US" sz="1900" spc="-1" strike="noStrike">
              <a:solidFill>
                <a:srgbClr val="595959"/>
              </a:solidFill>
              <a:latin typeface="Arial"/>
            </a:endParaRPr>
          </a:p>
          <a:p>
            <a:pPr lvl="1" marL="637560" indent="-312840">
              <a:lnSpc>
                <a:spcPct val="100000"/>
              </a:lnSpc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ERF: LAF(00h 06h 12h 18h) 4 members run to 45 days each day.  20 members (over 5 days) ensemble for 6 times per month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637560" indent="-312840">
              <a:lnSpc>
                <a:spcPct val="100000"/>
              </a:lnSpc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LRF: 24 members to 8-13 months (run before 15</a:t>
            </a:r>
            <a:r>
              <a:rPr b="0" lang="en-GB" sz="1600" spc="-1" strike="noStrike" baseline="30000">
                <a:solidFill>
                  <a:srgbClr val="595959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 every month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900360" indent="-262800">
              <a:lnSpc>
                <a:spcPct val="10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GB" sz="1400" spc="-1" strike="noStrike">
                <a:solidFill>
                  <a:srgbClr val="595959"/>
                </a:solidFill>
                <a:latin typeface="Arial"/>
              </a:rPr>
              <a:t>(1) LAF/15 samples: 5 atmos IC (interval 12hr) from NMC/CMA analysis, and 3 Ocean IC from BCC GODAS2.0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900360" indent="-262800">
              <a:lnSpc>
                <a:spcPct val="10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(2)  Singular Vector forecast: 9 samples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24720" indent="-324720">
              <a:lnSpc>
                <a:spcPct val="100000"/>
              </a:lnSpc>
              <a:buClr>
                <a:srgbClr val="6fb7d7"/>
              </a:buClr>
              <a:buSzPct val="110000"/>
              <a:buFont typeface="Symbol"/>
              <a:buChar char="-"/>
            </a:pPr>
            <a:r>
              <a:rPr b="1" lang="en-GB" sz="1900" spc="-1" strike="noStrike">
                <a:solidFill>
                  <a:srgbClr val="595959"/>
                </a:solidFill>
                <a:latin typeface="Arial"/>
              </a:rPr>
              <a:t>Hindcast: </a:t>
            </a:r>
            <a:r>
              <a:rPr b="0" lang="en-GB" sz="1900" spc="-1" strike="noStrike">
                <a:solidFill>
                  <a:srgbClr val="595959"/>
                </a:solidFill>
                <a:latin typeface="Arial"/>
              </a:rPr>
              <a:t>1991-2013</a:t>
            </a:r>
            <a:endParaRPr b="0" lang="en-US" sz="19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7"/>
          </p:nvPr>
        </p:nvSpPr>
        <p:spPr>
          <a:xfrm>
            <a:off x="32400" y="645336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Meeting of the joint CBS/CCl ET-OPSLS, 10-14 March 2014, Exeter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64ED2-6CC5-4AB6-81C3-92F228AE2E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chemeClr val="accent1"/>
                </a:solidFill>
                <a:latin typeface="Helvetica Neue"/>
              </a:rPr>
              <a:t>Support of RCCs, NMHSs and RCOFs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0600" y="883080"/>
            <a:ext cx="621936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Products Dissemination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Graphical products disseminated freely at BCC website: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948960" indent="-27684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Arial"/>
              <a:buChar char="•"/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a468d2"/>
                </a:solidFill>
                <a:uFillTx/>
                <a:latin typeface="Arial"/>
                <a:hlinkClick r:id="rId1"/>
              </a:rPr>
              <a:t>http://cmdp.ncc.cma.gov.cn/pred/en_md.php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 for ERF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948960" indent="-27684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Arial"/>
              <a:buChar char="•"/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a468d2"/>
                </a:solidFill>
                <a:uFillTx/>
                <a:latin typeface="Arial"/>
                <a:hlinkClick r:id="rId2"/>
              </a:rPr>
              <a:t>http</a:t>
            </a:r>
            <a:r>
              <a:rPr b="0" lang="en-US" sz="1400" spc="-1" strike="noStrike" u="sng">
                <a:solidFill>
                  <a:srgbClr val="a468d2"/>
                </a:solidFill>
                <a:uFillTx/>
                <a:latin typeface="Arial"/>
                <a:hlinkClick r:id="rId3"/>
              </a:rPr>
              <a:t>://cmdp.ncc.cma.gov.cn/pred/en_cs.php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 for LRF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Digital data (seasonal forecast and hindcast) download on request at: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948960" indent="-27684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Arial"/>
              <a:buChar char="•"/>
            </a:pPr>
            <a:r>
              <a:rPr b="0" lang="en-US" sz="1400" spc="-1" strike="noStrike" u="sng">
                <a:solidFill>
                  <a:srgbClr val="a468d2"/>
                </a:solidFill>
                <a:uFillTx/>
                <a:latin typeface="Arial"/>
                <a:hlinkClick r:id="rId4"/>
              </a:rPr>
              <a:t>http://cmdp.ncc.cma.gov.cn/nccdownload/en_cgcm.php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 for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registered user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Digital forecast and hindcast outputs also sent to WMOLC-LRFMME routinely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2000" indent="-3420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"/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C-LRFMME, APCC,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RCC (Beijing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NMHSs (China and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artner countries in RA II) 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948960" indent="-27684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o support operational activities of seasonal prediction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948960" indent="-27684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Symbol"/>
              <a:buChar char="-"/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o assist decision-making of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governmental agencies/sectors user 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r agriculture and risk management of flood and drought, etc. 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Symbol"/>
              <a:buChar char="-"/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RCOF (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OCRAII, SASCOF, EASCOF, etc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. through RCC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148" name="组 8"/>
          <p:cNvGrpSpPr/>
          <p:nvPr/>
        </p:nvGrpSpPr>
        <p:grpSpPr>
          <a:xfrm>
            <a:off x="6618960" y="2841120"/>
            <a:ext cx="2515680" cy="2133360"/>
            <a:chOff x="6618960" y="2841120"/>
            <a:chExt cx="2515680" cy="2133360"/>
          </a:xfrm>
        </p:grpSpPr>
        <p:sp>
          <p:nvSpPr>
            <p:cNvPr id="149" name="矩形 3"/>
            <p:cNvSpPr/>
            <p:nvPr/>
          </p:nvSpPr>
          <p:spPr>
            <a:xfrm>
              <a:off x="6618960" y="2841120"/>
              <a:ext cx="2515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ttp://bcc.cma.gov.cn/bcccsm/htm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图片 7" descr=""/>
            <p:cNvPicPr/>
            <p:nvPr/>
          </p:nvPicPr>
          <p:blipFill>
            <a:blip r:embed="rId5"/>
            <a:stretch/>
          </p:blipFill>
          <p:spPr>
            <a:xfrm>
              <a:off x="6680880" y="3210480"/>
              <a:ext cx="2368080" cy="176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3"/>
          <p:cNvSpPr>
            <a:spLocks noGrp="1"/>
          </p:cNvSpPr>
          <p:nvPr>
            <p:ph type="ftr" idx="18"/>
          </p:nvPr>
        </p:nvSpPr>
        <p:spPr>
          <a:xfrm>
            <a:off x="32400" y="645336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Meeting of the joint CBS/CCl ET-OPSLS, 10-14 March 2014, Exeter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96EE1-DC35-496C-9B04-F20C22D42B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1" lang="en-US" sz="2800" spc="-1" strike="noStrike">
              <a:solidFill>
                <a:schemeClr val="accent1"/>
              </a:solidFill>
              <a:latin typeface="Helvetica Neue"/>
            </a:endParaRPr>
          </a:p>
        </p:txBody>
      </p:sp>
      <p:pic>
        <p:nvPicPr>
          <p:cNvPr id="153" name="内容占位符 6" descr=""/>
          <p:cNvPicPr/>
          <p:nvPr/>
        </p:nvPicPr>
        <p:blipFill>
          <a:blip r:embed="rId1"/>
          <a:srcRect l="0" t="7492" r="0" b="7492"/>
          <a:stretch/>
        </p:blipFill>
        <p:spPr>
          <a:xfrm>
            <a:off x="4278960" y="107640"/>
            <a:ext cx="4730040" cy="31064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dt" idx="19"/>
          </p:nvPr>
        </p:nvSpPr>
        <p:spPr>
          <a:xfrm>
            <a:off x="5629680" y="6275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13-11-25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图片 2" descr=""/>
          <p:cNvPicPr/>
          <p:nvPr/>
        </p:nvPicPr>
        <p:blipFill>
          <a:blip r:embed="rId2"/>
          <a:stretch/>
        </p:blipFill>
        <p:spPr>
          <a:xfrm>
            <a:off x="127080" y="0"/>
            <a:ext cx="4151520" cy="32072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7" descr=""/>
          <p:cNvPicPr/>
          <p:nvPr/>
        </p:nvPicPr>
        <p:blipFill>
          <a:blip r:embed="rId3"/>
          <a:stretch/>
        </p:blipFill>
        <p:spPr>
          <a:xfrm>
            <a:off x="2111040" y="3214440"/>
            <a:ext cx="4335480" cy="317268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8"/>
          <p:cNvSpPr/>
          <p:nvPr/>
        </p:nvSpPr>
        <p:spPr>
          <a:xfrm>
            <a:off x="127080" y="3198960"/>
            <a:ext cx="173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News Gothic MT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9"/>
          <p:cNvSpPr/>
          <p:nvPr/>
        </p:nvSpPr>
        <p:spPr>
          <a:xfrm>
            <a:off x="6834240" y="3166560"/>
            <a:ext cx="2053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News Gothic MT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 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"/>
          <p:cNvSpPr/>
          <p:nvPr/>
        </p:nvSpPr>
        <p:spPr>
          <a:xfrm>
            <a:off x="6446880" y="4938480"/>
            <a:ext cx="173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Obs from I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Meeting of the joint CBS/CCl ET-OPSLS, 10-14 March 2014, Exeter, 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E0A8D-6A3C-4EA6-BD1A-F42167BACF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chemeClr val="accent1"/>
                </a:solidFill>
                <a:latin typeface="Helvetica Neue"/>
              </a:rPr>
              <a:t>Products Developing: MJO &amp; BSISO</a:t>
            </a:r>
            <a:endParaRPr b="0" lang="en-US" sz="2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61" name="矩形 8"/>
          <p:cNvSpPr/>
          <p:nvPr/>
        </p:nvSpPr>
        <p:spPr>
          <a:xfrm>
            <a:off x="6028200" y="1320840"/>
            <a:ext cx="2844360" cy="42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News Gothic MT"/>
              </a:rPr>
              <a:t>Model</a:t>
            </a: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BCCCSM 1.1m (couple model) T1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600" spc="-1" strike="noStrike">
                <a:solidFill>
                  <a:srgbClr val="000000"/>
                </a:solidFill>
                <a:latin typeface="News Gothic MT"/>
              </a:rPr>
              <a:t>Desig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2001–2010 (10 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Jan</a:t>
            </a: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–Dec </a:t>
            </a: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(12 month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total 120 s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600" spc="-1" strike="noStrike">
                <a:solidFill>
                  <a:srgbClr val="000000"/>
                </a:solidFill>
                <a:latin typeface="News Gothic MT"/>
              </a:rPr>
              <a:t>Initialization:</a:t>
            </a: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2 month nudging (NC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News Gothic MT"/>
              </a:rPr>
              <a:t>Start time: </a:t>
            </a: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00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600" spc="-1" strike="noStrike">
                <a:solidFill>
                  <a:srgbClr val="000000"/>
                </a:solidFill>
                <a:latin typeface="News Gothic MT"/>
              </a:rPr>
              <a:t>Forecast:</a:t>
            </a: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 1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600" spc="-1" strike="noStrike">
                <a:solidFill>
                  <a:srgbClr val="000000"/>
                </a:solidFill>
                <a:latin typeface="News Gothic MT"/>
              </a:rPr>
              <a:t>Output</a:t>
            </a: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Wind, TMP, PREC, OLR, Shum(DAI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600" spc="-1" strike="noStrike">
                <a:solidFill>
                  <a:srgbClr val="000000"/>
                </a:solidFill>
                <a:latin typeface="News Gothic MT"/>
              </a:rPr>
              <a:t>POST</a:t>
            </a: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News Gothic MT"/>
              </a:rPr>
              <a:t>Horizontal and vertical interpol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20"/>
          </p:nvPr>
        </p:nvSpPr>
        <p:spPr>
          <a:xfrm>
            <a:off x="32400" y="6453360"/>
            <a:ext cx="5365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News Gothic MT"/>
              </a:rPr>
              <a:t>Meeting of the joint CBS/CCl ET-OPSLS, 10-14 March 2014, Exeter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 21"/>
          <p:cNvGrpSpPr/>
          <p:nvPr/>
        </p:nvGrpSpPr>
        <p:grpSpPr>
          <a:xfrm>
            <a:off x="0" y="1005840"/>
            <a:ext cx="6027840" cy="5371200"/>
            <a:chOff x="0" y="1005840"/>
            <a:chExt cx="6027840" cy="5371200"/>
          </a:xfrm>
        </p:grpSpPr>
        <p:pic>
          <p:nvPicPr>
            <p:cNvPr id="164" name="Picture 8" descr=""/>
            <p:cNvPicPr/>
            <p:nvPr/>
          </p:nvPicPr>
          <p:blipFill>
            <a:blip r:embed="rId1"/>
            <a:srcRect l="0" t="1311" r="0" b="1311"/>
            <a:stretch/>
          </p:blipFill>
          <p:spPr>
            <a:xfrm>
              <a:off x="924480" y="1005840"/>
              <a:ext cx="5100120" cy="252432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65" name="Picture 5" descr=""/>
            <p:cNvPicPr/>
            <p:nvPr/>
          </p:nvPicPr>
          <p:blipFill>
            <a:blip r:embed="rId2"/>
            <a:srcRect l="0" t="2983" r="0" b="1499"/>
            <a:stretch/>
          </p:blipFill>
          <p:spPr>
            <a:xfrm>
              <a:off x="837000" y="3604320"/>
              <a:ext cx="5190840" cy="27727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66" name="TextBox 6"/>
            <p:cNvSpPr/>
            <p:nvPr/>
          </p:nvSpPr>
          <p:spPr>
            <a:xfrm>
              <a:off x="0" y="1846440"/>
              <a:ext cx="101052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JO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MM Ind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7"/>
            <p:cNvSpPr/>
            <p:nvPr/>
          </p:nvSpPr>
          <p:spPr>
            <a:xfrm>
              <a:off x="0" y="4894560"/>
              <a:ext cx="95436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SISO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组合 7"/>
            <p:cNvGrpSpPr/>
            <p:nvPr/>
          </p:nvGrpSpPr>
          <p:grpSpPr>
            <a:xfrm>
              <a:off x="1713240" y="3769200"/>
              <a:ext cx="647640" cy="523800"/>
              <a:chOff x="1713240" y="3769200"/>
              <a:chExt cx="647640" cy="523800"/>
            </a:xfrm>
          </p:grpSpPr>
          <p:sp>
            <p:nvSpPr>
              <p:cNvPr id="169" name="TextBox 6"/>
              <p:cNvSpPr/>
              <p:nvPr/>
            </p:nvSpPr>
            <p:spPr>
              <a:xfrm>
                <a:off x="1713240" y="3769200"/>
                <a:ext cx="647640" cy="3052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2000" spc="-1" strike="noStrike">
                    <a:solidFill>
                      <a:srgbClr val="00b050"/>
                    </a:solidFill>
                    <a:latin typeface="Calibri"/>
                  </a:rPr>
                  <a:t>8</a:t>
                </a:r>
                <a:r>
                  <a:rPr b="1" lang="en-US" sz="2000" spc="-1" strike="noStrike">
                    <a:solidFill>
                      <a:srgbClr val="00b050"/>
                    </a:solidFill>
                    <a:latin typeface="Calibri"/>
                  </a:rPr>
                  <a:t>d</a:t>
                </a:r>
                <a:r>
                  <a:rPr b="1" lang="en-GB" sz="2000" spc="-1" strike="noStrike">
                    <a:solidFill>
                      <a:srgbClr val="00b050"/>
                    </a:solidFill>
                    <a:latin typeface="Calibri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0" name="直接连接符 9"/>
              <p:cNvCxnSpPr/>
              <p:nvPr/>
            </p:nvCxnSpPr>
            <p:spPr>
              <a:xfrm>
                <a:off x="2288880" y="3861000"/>
                <a:ext cx="360" cy="432360"/>
              </a:xfrm>
              <a:prstGeom prst="straightConnector1">
                <a:avLst/>
              </a:prstGeom>
              <a:ln w="31750">
                <a:solidFill>
                  <a:srgbClr val="00b050"/>
                </a:solidFill>
                <a:round/>
                <a:tailEnd len="med" type="arrow" w="med"/>
              </a:ln>
            </p:spPr>
          </p:cxnSp>
        </p:grpSp>
        <p:grpSp>
          <p:nvGrpSpPr>
            <p:cNvPr id="171" name="组合 10"/>
            <p:cNvGrpSpPr/>
            <p:nvPr/>
          </p:nvGrpSpPr>
          <p:grpSpPr>
            <a:xfrm>
              <a:off x="2692080" y="1052640"/>
              <a:ext cx="863640" cy="2196000"/>
              <a:chOff x="2692080" y="1052640"/>
              <a:chExt cx="863640" cy="2196000"/>
            </a:xfrm>
          </p:grpSpPr>
          <p:sp>
            <p:nvSpPr>
              <p:cNvPr id="172" name="TextBox 6"/>
              <p:cNvSpPr/>
              <p:nvPr/>
            </p:nvSpPr>
            <p:spPr>
              <a:xfrm>
                <a:off x="2692080" y="2349000"/>
                <a:ext cx="863640" cy="3639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00b050"/>
                    </a:solidFill>
                    <a:latin typeface="Calibri"/>
                  </a:rPr>
                  <a:t>12-13</a:t>
                </a:r>
                <a:r>
                  <a:rPr b="1" lang="en-US" sz="1800" spc="-1" strike="noStrike">
                    <a:solidFill>
                      <a:srgbClr val="00b050"/>
                    </a:solidFill>
                    <a:latin typeface="Calibri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3" name="直接连接符 12"/>
              <p:cNvCxnSpPr/>
              <p:nvPr/>
            </p:nvCxnSpPr>
            <p:spPr>
              <a:xfrm>
                <a:off x="3487320" y="1052640"/>
                <a:ext cx="360" cy="2196360"/>
              </a:xfrm>
              <a:prstGeom prst="straightConnector1">
                <a:avLst/>
              </a:prstGeom>
              <a:ln w="28575">
                <a:solidFill>
                  <a:srgbClr val="00b050"/>
                </a:solidFill>
                <a:prstDash val="dash"/>
                <a:round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2AEA8-5FFC-43F4-8779-A6A10A20E7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4860000" y="787320"/>
            <a:ext cx="4304880" cy="2929320"/>
          </a:xfrm>
          <a:prstGeom prst="rect">
            <a:avLst/>
          </a:prstGeom>
          <a:ln w="9525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4860000" y="3928320"/>
            <a:ext cx="4304880" cy="2929320"/>
          </a:xfrm>
          <a:prstGeom prst="rect">
            <a:avLst/>
          </a:prstGeom>
          <a:ln w="9525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0" y="786960"/>
            <a:ext cx="4304880" cy="2929320"/>
          </a:xfrm>
          <a:prstGeom prst="rect">
            <a:avLst/>
          </a:prstGeom>
          <a:ln w="9525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4"/>
          <a:stretch/>
        </p:blipFill>
        <p:spPr>
          <a:xfrm>
            <a:off x="0" y="3928320"/>
            <a:ext cx="4304880" cy="2929320"/>
          </a:xfrm>
          <a:prstGeom prst="rect">
            <a:avLst/>
          </a:prstGeom>
          <a:ln w="9525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54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00"/>
                </a:solidFill>
                <a:latin typeface="News Gothic MT"/>
              </a:rPr>
              <a:t>(1)EOF result from NCEP vs BCC CSM1.1m</a:t>
            </a: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3345480" y="651240"/>
            <a:ext cx="763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NC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9"/>
          <p:cNvSpPr/>
          <p:nvPr/>
        </p:nvSpPr>
        <p:spPr>
          <a:xfrm>
            <a:off x="5186520" y="651240"/>
            <a:ext cx="134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BCC-CG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内容占位符 2"/>
          <p:cNvSpPr/>
          <p:nvPr/>
        </p:nvSpPr>
        <p:spPr>
          <a:xfrm>
            <a:off x="0" y="0"/>
            <a:ext cx="9143640" cy="5331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2)Performance of BCC CSM1.1m on MJO &amp; BSI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D:\file\serv\iso_shear_mean_con2_io_bcc (9).eps"/>
          <p:cNvPicPr/>
          <p:nvPr/>
        </p:nvPicPr>
        <p:blipFill>
          <a:blip r:embed="rId1"/>
          <a:stretch/>
        </p:blipFill>
        <p:spPr>
          <a:xfrm>
            <a:off x="119160" y="4114800"/>
            <a:ext cx="4524120" cy="2742840"/>
          </a:xfrm>
          <a:prstGeom prst="rect">
            <a:avLst/>
          </a:prstGeom>
          <a:ln w="9525">
            <a:noFill/>
          </a:ln>
        </p:spPr>
      </p:pic>
      <p:pic>
        <p:nvPicPr>
          <p:cNvPr id="183" name="Picture 3" descr="D:\file\serv\iso_shear_mean_con2_wp_bcc (5).eps"/>
          <p:cNvPicPr/>
          <p:nvPr/>
        </p:nvPicPr>
        <p:blipFill>
          <a:blip r:embed="rId2"/>
          <a:stretch/>
        </p:blipFill>
        <p:spPr>
          <a:xfrm>
            <a:off x="4562640" y="4191120"/>
            <a:ext cx="4439880" cy="2663640"/>
          </a:xfrm>
          <a:prstGeom prst="rect">
            <a:avLst/>
          </a:prstGeom>
          <a:ln w="9525">
            <a:noFill/>
          </a:ln>
        </p:spPr>
      </p:pic>
      <p:sp>
        <p:nvSpPr>
          <p:cNvPr id="184" name="矩形 7"/>
          <p:cNvSpPr/>
          <p:nvPr/>
        </p:nvSpPr>
        <p:spPr>
          <a:xfrm>
            <a:off x="385920" y="3795120"/>
            <a:ext cx="821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华文中宋"/>
                <a:ea typeface="华文中宋"/>
              </a:rPr>
              <a:t>BS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9" descr=""/>
          <p:cNvPicPr/>
          <p:nvPr/>
        </p:nvPicPr>
        <p:blipFill>
          <a:blip r:embed="rId3"/>
          <a:srcRect l="0" t="8499" r="0" b="32491"/>
          <a:stretch/>
        </p:blipFill>
        <p:spPr>
          <a:xfrm>
            <a:off x="1927080" y="2268360"/>
            <a:ext cx="5616360" cy="1464840"/>
          </a:xfrm>
          <a:prstGeom prst="rect">
            <a:avLst/>
          </a:prstGeom>
          <a:ln w="9525">
            <a:noFill/>
          </a:ln>
        </p:spPr>
      </p:pic>
      <p:sp>
        <p:nvSpPr>
          <p:cNvPr id="186" name="TextBox 10"/>
          <p:cNvSpPr/>
          <p:nvPr/>
        </p:nvSpPr>
        <p:spPr>
          <a:xfrm>
            <a:off x="7660080" y="1230480"/>
            <a:ext cx="1317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b050"/>
                </a:solidFill>
                <a:latin typeface="News Gothic MT"/>
              </a:rPr>
              <a:t>NCEP-O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1"/>
          <p:cNvSpPr/>
          <p:nvPr/>
        </p:nvSpPr>
        <p:spPr>
          <a:xfrm>
            <a:off x="7621200" y="2514600"/>
            <a:ext cx="14230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News Gothic MT"/>
              </a:rPr>
              <a:t>BCC-CG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News Gothic MT"/>
              </a:rPr>
              <a:t>T106</a:t>
            </a:r>
            <a:r>
              <a:rPr b="1" lang="en-US" sz="1800" spc="-1" strike="noStrike">
                <a:solidFill>
                  <a:srgbClr val="0070c0"/>
                </a:solidFill>
                <a:latin typeface="News Gothic MT"/>
              </a:rPr>
              <a:t> - O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8" descr=""/>
          <p:cNvPicPr/>
          <p:nvPr/>
        </p:nvPicPr>
        <p:blipFill>
          <a:blip r:embed="rId4"/>
          <a:srcRect l="0" t="0" r="0" b="32434"/>
          <a:stretch/>
        </p:blipFill>
        <p:spPr>
          <a:xfrm>
            <a:off x="1927080" y="609480"/>
            <a:ext cx="5616360" cy="1677600"/>
          </a:xfrm>
          <a:prstGeom prst="rect">
            <a:avLst/>
          </a:prstGeom>
          <a:ln w="9525">
            <a:noFill/>
          </a:ln>
        </p:spPr>
      </p:pic>
      <p:sp>
        <p:nvSpPr>
          <p:cNvPr id="189" name="TextBox 12"/>
          <p:cNvSpPr/>
          <p:nvPr/>
        </p:nvSpPr>
        <p:spPr>
          <a:xfrm>
            <a:off x="76320" y="533520"/>
            <a:ext cx="14475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华文中宋"/>
                <a:ea typeface="华文中宋"/>
              </a:rPr>
              <a:t>MJO Temp-Spat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470520" y="1382760"/>
            <a:ext cx="1371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b050"/>
                </a:solidFill>
                <a:latin typeface="Arial Narrow"/>
              </a:rPr>
              <a:t>EOF1+2: 2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470520" y="2754360"/>
            <a:ext cx="1371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Arial Narrow"/>
              </a:rPr>
              <a:t>EOF1+2: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直接连接符 12"/>
          <p:cNvCxnSpPr/>
          <p:nvPr/>
        </p:nvCxnSpPr>
        <p:spPr>
          <a:xfrm>
            <a:off x="5652000" y="1377000"/>
            <a:ext cx="360" cy="2196360"/>
          </a:xfrm>
          <a:prstGeom prst="straightConnector1">
            <a:avLst/>
          </a:prstGeom>
          <a:ln w="28575">
            <a:solidFill>
              <a:srgbClr val="ff0000"/>
            </a:solidFill>
            <a:prstDash val="dash"/>
            <a:round/>
          </a:ln>
        </p:spPr>
      </p:cxnSp>
      <p:cxnSp>
        <p:nvCxnSpPr>
          <p:cNvPr id="193" name="直接连接符 13"/>
          <p:cNvCxnSpPr/>
          <p:nvPr/>
        </p:nvCxnSpPr>
        <p:spPr>
          <a:xfrm>
            <a:off x="6428160" y="1340640"/>
            <a:ext cx="360" cy="2196360"/>
          </a:xfrm>
          <a:prstGeom prst="straightConnector1">
            <a:avLst/>
          </a:prstGeom>
          <a:ln w="28575">
            <a:solidFill>
              <a:srgbClr val="ffff00"/>
            </a:solidFill>
            <a:prstDash val="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微风">
  <a:themeElements>
    <a:clrScheme name="Breeze">
      <a:dk1>
        <a:srgbClr val="000000"/>
      </a:dk1>
      <a:lt1>
        <a:srgbClr val="ffffff"/>
      </a:lt1>
      <a:dk2>
        <a:srgbClr val="09213b"/>
      </a:dk2>
      <a:lt2>
        <a:srgbClr val="d5edf4"/>
      </a:lt2>
      <a:accent1>
        <a:srgbClr val="2c7c9f"/>
      </a:accent1>
      <a:accent2>
        <a:srgbClr val="244a58"/>
      </a:accent2>
      <a:accent3>
        <a:srgbClr val="e2751d"/>
      </a:accent3>
      <a:accent4>
        <a:srgbClr val="ffb400"/>
      </a:accent4>
      <a:accent5>
        <a:srgbClr val="7eb606"/>
      </a:accent5>
      <a:accent6>
        <a:srgbClr val="c00000"/>
      </a:accent6>
      <a:hlink>
        <a:srgbClr val="7030a0"/>
      </a:hlink>
      <a:folHlink>
        <a:srgbClr val="00b0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微风">
  <a:themeElements>
    <a:clrScheme name="Breeze">
      <a:dk1>
        <a:srgbClr val="000000"/>
      </a:dk1>
      <a:lt1>
        <a:srgbClr val="ffffff"/>
      </a:lt1>
      <a:dk2>
        <a:srgbClr val="09213b"/>
      </a:dk2>
      <a:lt2>
        <a:srgbClr val="d5edf4"/>
      </a:lt2>
      <a:accent1>
        <a:srgbClr val="2c7c9f"/>
      </a:accent1>
      <a:accent2>
        <a:srgbClr val="244a58"/>
      </a:accent2>
      <a:accent3>
        <a:srgbClr val="e2751d"/>
      </a:accent3>
      <a:accent4>
        <a:srgbClr val="ffb400"/>
      </a:accent4>
      <a:accent5>
        <a:srgbClr val="7eb606"/>
      </a:accent5>
      <a:accent6>
        <a:srgbClr val="c00000"/>
      </a:accent6>
      <a:hlink>
        <a:srgbClr val="7030a0"/>
      </a:hlink>
      <a:folHlink>
        <a:srgbClr val="00b0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微风">
  <a:themeElements>
    <a:clrScheme name="Breeze">
      <a:dk1>
        <a:srgbClr val="000000"/>
      </a:dk1>
      <a:lt1>
        <a:srgbClr val="ffffff"/>
      </a:lt1>
      <a:dk2>
        <a:srgbClr val="09213b"/>
      </a:dk2>
      <a:lt2>
        <a:srgbClr val="d5edf4"/>
      </a:lt2>
      <a:accent1>
        <a:srgbClr val="2c7c9f"/>
      </a:accent1>
      <a:accent2>
        <a:srgbClr val="244a58"/>
      </a:accent2>
      <a:accent3>
        <a:srgbClr val="e2751d"/>
      </a:accent3>
      <a:accent4>
        <a:srgbClr val="ffb400"/>
      </a:accent4>
      <a:accent5>
        <a:srgbClr val="7eb606"/>
      </a:accent5>
      <a:accent6>
        <a:srgbClr val="c00000"/>
      </a:accent6>
      <a:hlink>
        <a:srgbClr val="7030a0"/>
      </a:hlink>
      <a:folHlink>
        <a:srgbClr val="00b0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9213b"/>
      </a:dk2>
      <a:lt2>
        <a:srgbClr val="d5edf4"/>
      </a:lt2>
      <a:accent1>
        <a:srgbClr val="2c7c9f"/>
      </a:accent1>
      <a:accent2>
        <a:srgbClr val="244a58"/>
      </a:accent2>
      <a:accent3>
        <a:srgbClr val="e2751d"/>
      </a:accent3>
      <a:accent4>
        <a:srgbClr val="ffb400"/>
      </a:accent4>
      <a:accent5>
        <a:srgbClr val="7eb606"/>
      </a:accent5>
      <a:accent6>
        <a:srgbClr val="c00000"/>
      </a:accent6>
      <a:hlink>
        <a:srgbClr val="7030a0"/>
      </a:hlink>
      <a:folHlink>
        <a:srgbClr val="00b0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微风.thmx</Template>
  <TotalTime>1054</TotalTime>
  <Application>LibreOffice/7.4.7.2$Linux_X86_64 LibreOffice_project/40$Build-2</Application>
  <AppVersion>15.0000</AppVersion>
  <Words>1219</Words>
  <Paragraphs>173</Paragraphs>
  <Company>NCC/BCC, CM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17:59:56Z</dcterms:created>
  <dc:creator>PQ Zhang</dc:creator>
  <dc:description/>
  <dc:language>en-US</dc:language>
  <cp:lastModifiedBy>PQ Zhang</cp:lastModifiedBy>
  <dcterms:modified xsi:type="dcterms:W3CDTF">2014-03-10T09:35:23Z</dcterms:modified>
  <cp:revision>62</cp:revision>
  <dc:subject/>
  <dc:title>GPC-Beijing in Support of RCCs, NMHSs and RCOF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3</vt:r8>
  </property>
</Properties>
</file>