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7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11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31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2232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6B6412-E174-4DE0-8E41-34CEF84356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292FD7-EEB9-44E3-9F34-6E31FF2FAF9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F8193A-FEC1-4E6A-8899-CAAAA82D42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 models from JMA, 1 from Canada (MSC) and the UKMO (labelled as t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JMA hybrid very relia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1C9B-3BC2-48CB-844B-9422432A1C5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DPFS: Global Data Producing and Forecast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00C6-5451-48A2-BACC-6FF136CD6C4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DPFS: Global Data Producing and Forecast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2FA7-10D1-4060-A835-384FB543162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DPFS: Global Data Producing and Forecast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age2 "/>
          <p:cNvPicPr/>
          <p:nvPr/>
        </p:nvPicPr>
        <p:blipFill>
          <a:blip r:embed="rId2"/>
          <a:stretch/>
        </p:blipFill>
        <p:spPr>
          <a:xfrm>
            <a:off x="12600" y="7920"/>
            <a:ext cx="9117000" cy="68421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778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89b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d89b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3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ftr" idx="4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0.png"/><Relationship Id="rId13" Type="http://schemas.openxmlformats.org/officeDocument/2006/relationships/image" Target="../media/image25.png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om.gov.au/wmo/lrfvs/index.html" TargetMode="External"/><Relationship Id="rId3" Type="http://schemas.openxmlformats.org/officeDocument/2006/relationships/hyperlink" Target="http://www.bom.gov.au/wmo/lrfvs/index.html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hyperlink" Target="https://www.wmo.int/pages/prog/www/CBS-Reports/DPFS-index.html" TargetMode="External"/><Relationship Id="rId4" Type="http://schemas.openxmlformats.org/officeDocument/2006/relationships/hyperlink" Target="https://www.wmo.int/pages/prog/www/CBS-Reports/DPFS-index.html" TargetMode="External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molc.org/" TargetMode="External"/><Relationship Id="rId3" Type="http://schemas.openxmlformats.org/officeDocument/2006/relationships/hyperlink" Target="http://www.wmolc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2857320"/>
            <a:ext cx="8591400" cy="201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view: WMO ET-OPSLS (Expert Team on Operational Predictions from Sub-seasonal to Longer Time-Scales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23640" y="4928760"/>
            <a:ext cx="856908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chard Graham (Met Office Hadley Centre, Chair ET-OPSL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324000" y="5761080"/>
            <a:ext cx="79628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int  WGSIP16/ET-OPSLS meeting, 10 March 2014, Exeter, U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7" descr="test151"/>
          <p:cNvPicPr/>
          <p:nvPr/>
        </p:nvPicPr>
        <p:blipFill>
          <a:blip r:embed="rId2"/>
          <a:stretch/>
        </p:blipFill>
        <p:spPr>
          <a:xfrm>
            <a:off x="0" y="112536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test151"/>
          <p:cNvPicPr/>
          <p:nvPr/>
        </p:nvPicPr>
        <p:blipFill>
          <a:blip r:embed="rId3"/>
          <a:stretch/>
        </p:blipFill>
        <p:spPr>
          <a:xfrm>
            <a:off x="2224080" y="299736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test151"/>
          <p:cNvPicPr/>
          <p:nvPr/>
        </p:nvPicPr>
        <p:blipFill>
          <a:blip r:embed="rId4"/>
          <a:stretch/>
        </p:blipFill>
        <p:spPr>
          <a:xfrm>
            <a:off x="4518000" y="479736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test151"/>
          <p:cNvPicPr/>
          <p:nvPr/>
        </p:nvPicPr>
        <p:blipFill>
          <a:blip r:embed="rId5"/>
          <a:stretch/>
        </p:blipFill>
        <p:spPr>
          <a:xfrm>
            <a:off x="2232000" y="479736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test151"/>
          <p:cNvPicPr/>
          <p:nvPr/>
        </p:nvPicPr>
        <p:blipFill>
          <a:blip r:embed="rId6"/>
          <a:stretch/>
        </p:blipFill>
        <p:spPr>
          <a:xfrm>
            <a:off x="17640" y="479736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test151"/>
          <p:cNvPicPr/>
          <p:nvPr/>
        </p:nvPicPr>
        <p:blipFill>
          <a:blip r:embed="rId7"/>
          <a:stretch/>
        </p:blipFill>
        <p:spPr>
          <a:xfrm>
            <a:off x="2268360" y="112536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test151"/>
          <p:cNvPicPr/>
          <p:nvPr/>
        </p:nvPicPr>
        <p:blipFill>
          <a:blip r:embed="rId8"/>
          <a:stretch/>
        </p:blipFill>
        <p:spPr>
          <a:xfrm>
            <a:off x="-7920" y="299736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test151"/>
          <p:cNvPicPr/>
          <p:nvPr/>
        </p:nvPicPr>
        <p:blipFill>
          <a:blip r:embed="rId9"/>
          <a:stretch/>
        </p:blipFill>
        <p:spPr>
          <a:xfrm>
            <a:off x="4518000" y="112536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9" descr="test151"/>
          <p:cNvPicPr/>
          <p:nvPr/>
        </p:nvPicPr>
        <p:blipFill>
          <a:blip r:embed="rId10"/>
          <a:stretch/>
        </p:blipFill>
        <p:spPr>
          <a:xfrm>
            <a:off x="4475160" y="300996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test151"/>
          <p:cNvPicPr/>
          <p:nvPr/>
        </p:nvPicPr>
        <p:blipFill>
          <a:blip r:embed="rId11"/>
          <a:stretch/>
        </p:blipFill>
        <p:spPr>
          <a:xfrm>
            <a:off x="6750000" y="112536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C products from LC-LRFMME website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JF 2010/11: ensemble mean pmsl anomal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2"/>
          <p:cNvSpPr/>
          <p:nvPr/>
        </p:nvSpPr>
        <p:spPr>
          <a:xfrm>
            <a:off x="6983280" y="4956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1047960" y="9907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2993760" y="10000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5071680" y="9907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lo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720000" y="28479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6972120" y="99072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5083560" y="28479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y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26269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bour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880560" y="47242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o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882160" y="47386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26"/>
          <p:cNvSpPr/>
          <p:nvPr/>
        </p:nvSpPr>
        <p:spPr>
          <a:xfrm>
            <a:off x="5160960" y="47242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28" descr="test151"/>
          <p:cNvPicPr/>
          <p:nvPr/>
        </p:nvPicPr>
        <p:blipFill>
          <a:blip r:embed="rId12"/>
          <a:srcRect l="0" t="88151" r="0" b="0"/>
          <a:stretch/>
        </p:blipFill>
        <p:spPr>
          <a:xfrm>
            <a:off x="988920" y="6450120"/>
            <a:ext cx="4591080" cy="407880"/>
          </a:xfrm>
          <a:prstGeom prst="rect">
            <a:avLst/>
          </a:prstGeom>
          <a:ln w="0">
            <a:noFill/>
          </a:ln>
        </p:spPr>
      </p:pic>
      <p:grpSp>
        <p:nvGrpSpPr>
          <p:cNvPr id="342" name="Group 36"/>
          <p:cNvGrpSpPr/>
          <p:nvPr/>
        </p:nvGrpSpPr>
        <p:grpSpPr>
          <a:xfrm>
            <a:off x="6729120" y="3214800"/>
            <a:ext cx="2357640" cy="2286000"/>
            <a:chOff x="6729120" y="3214800"/>
            <a:chExt cx="2357640" cy="2286000"/>
          </a:xfrm>
        </p:grpSpPr>
        <p:sp>
          <p:nvSpPr>
            <p:cNvPr id="343" name="Rectangle 32"/>
            <p:cNvSpPr/>
            <p:nvPr/>
          </p:nvSpPr>
          <p:spPr>
            <a:xfrm>
              <a:off x="6729120" y="3214800"/>
              <a:ext cx="2357640" cy="22860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4" name="Group 35"/>
            <p:cNvGrpSpPr/>
            <p:nvPr/>
          </p:nvGrpSpPr>
          <p:grpSpPr>
            <a:xfrm>
              <a:off x="6729480" y="3214800"/>
              <a:ext cx="2271600" cy="2246400"/>
              <a:chOff x="6729480" y="3214800"/>
              <a:chExt cx="2271600" cy="2246400"/>
            </a:xfrm>
          </p:grpSpPr>
          <p:grpSp>
            <p:nvGrpSpPr>
              <p:cNvPr id="345" name="Group 33"/>
              <p:cNvGrpSpPr/>
              <p:nvPr/>
            </p:nvGrpSpPr>
            <p:grpSpPr>
              <a:xfrm>
                <a:off x="6729480" y="3214800"/>
                <a:ext cx="2271600" cy="2246400"/>
                <a:chOff x="6729480" y="3214800"/>
                <a:chExt cx="2271600" cy="2246400"/>
              </a:xfrm>
            </p:grpSpPr>
            <p:pic>
              <p:nvPicPr>
                <p:cNvPr id="346" name="Picture 30" descr="file_to_img"/>
                <p:cNvPicPr/>
                <p:nvPr/>
              </p:nvPicPr>
              <p:blipFill>
                <a:blip r:embed="rId13"/>
                <a:srcRect l="42428" t="13986" r="28015" b="57300"/>
                <a:stretch/>
              </p:blipFill>
              <p:spPr>
                <a:xfrm>
                  <a:off x="6862680" y="3214800"/>
                  <a:ext cx="2089440" cy="144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Picture 34" descr="file_to_img"/>
                <p:cNvPicPr/>
                <p:nvPr/>
              </p:nvPicPr>
              <p:blipFill>
                <a:blip r:embed="rId14"/>
                <a:srcRect l="17963" t="81522" r="3016" b="0"/>
                <a:stretch/>
              </p:blipFill>
              <p:spPr>
                <a:xfrm>
                  <a:off x="6762600" y="4661280"/>
                  <a:ext cx="2232360" cy="37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8" name="Text Box 35"/>
                <p:cNvSpPr/>
                <p:nvPr/>
              </p:nvSpPr>
              <p:spPr>
                <a:xfrm>
                  <a:off x="6729480" y="5092920"/>
                  <a:ext cx="227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bserved anomalies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Rectangle 31"/>
              <p:cNvSpPr/>
              <p:nvPr/>
            </p:nvSpPr>
            <p:spPr>
              <a:xfrm>
                <a:off x="6857640" y="3429000"/>
                <a:ext cx="2071800" cy="121464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lobal Seasonal Climate Update (GSC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5007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80000"/>
              </a:lnSpc>
              <a:spcBef>
                <a:spcPts val="964"/>
              </a:spcBef>
              <a:spcAft>
                <a:spcPts val="9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national consensus on current state of climate plus outlook next for 3 month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64"/>
              </a:spcBef>
              <a:spcAft>
                <a:spcPts val="9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ill extend existing ‘state of climate’  bulletins and El Niño/La Niña updat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64"/>
              </a:spcBef>
              <a:spcAft>
                <a:spcPts val="9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resses: major climate modes and indices, temperature and precipitat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964"/>
              </a:spcBef>
              <a:spcAft>
                <a:spcPts val="9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ers: RCCs, NMHSs and RCOFs (later: interpretation for globally acting users, e.g. aid agencie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7" descr="RAs3"/>
          <p:cNvPicPr/>
          <p:nvPr/>
        </p:nvPicPr>
        <p:blipFill>
          <a:blip r:embed="rId2"/>
          <a:srcRect l="18880" t="57225" r="25600" b="8463"/>
          <a:stretch/>
        </p:blipFill>
        <p:spPr>
          <a:xfrm>
            <a:off x="4719600" y="3143160"/>
            <a:ext cx="4424400" cy="21877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8"/>
          <p:cNvSpPr/>
          <p:nvPr/>
        </p:nvSpPr>
        <p:spPr>
          <a:xfrm>
            <a:off x="5214960" y="78588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page from draft GSCU Mark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Oval 5"/>
          <p:cNvSpPr/>
          <p:nvPr/>
        </p:nvSpPr>
        <p:spPr>
          <a:xfrm>
            <a:off x="4786200" y="3000240"/>
            <a:ext cx="571680" cy="235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3"/>
          <a:srcRect l="13184" t="31250" r="12841" b="18753"/>
          <a:stretch/>
        </p:blipFill>
        <p:spPr>
          <a:xfrm>
            <a:off x="4857840" y="1332000"/>
            <a:ext cx="4214880" cy="1668240"/>
          </a:xfrm>
          <a:prstGeom prst="rect">
            <a:avLst/>
          </a:prstGeom>
          <a:ln w="0">
            <a:noFill/>
          </a:ln>
        </p:spPr>
      </p:pic>
      <p:sp>
        <p:nvSpPr>
          <p:cNvPr id="356" name="TextBox 7"/>
          <p:cNvSpPr/>
          <p:nvPr/>
        </p:nvSpPr>
        <p:spPr>
          <a:xfrm>
            <a:off x="4652280" y="10461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8"/>
          <p:cNvSpPr/>
          <p:nvPr/>
        </p:nvSpPr>
        <p:spPr>
          <a:xfrm>
            <a:off x="7724880" y="10461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9"/>
          <p:cNvSpPr/>
          <p:nvPr/>
        </p:nvSpPr>
        <p:spPr>
          <a:xfrm>
            <a:off x="142920" y="5929200"/>
            <a:ext cx="885816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eing developed by CCl Task Team for GSCU, with CBS - priority activity in the implementation plan for the GF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10"/>
          <p:cNvSpPr/>
          <p:nvPr/>
        </p:nvSpPr>
        <p:spPr>
          <a:xfrm>
            <a:off x="6121440" y="9032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-LRFM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8772800">
            <a:off x="5979240" y="411516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3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52480" y="347400"/>
            <a:ext cx="6934320" cy="92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Verification System for Long-Range Forecasts (SVSLR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00080" y="1988640"/>
            <a:ext cx="7858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0700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s for probability foreca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7000" indent="-207000">
              <a:lnSpc>
                <a:spcPct val="90000"/>
              </a:lnSpc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 Operating Characteristic (ROC) curves and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7000" indent="-207000">
              <a:lnSpc>
                <a:spcPct val="90000"/>
              </a:lnSpc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iability and sharpness dia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for deterministic foreca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7000" indent="-207000">
              <a:lnSpc>
                <a:spcPct val="90000"/>
              </a:lnSpc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n Square Skill Score (MSSS) and 3 component decompo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Centre: LC-SVSLRF operated by CMC (Montreal) and BoM (Melbour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bom.gov.au/wmo/lrfv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3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ample LC-SVSLRF GPC reliability and sharpness, ROC diagrams and ROC maps: precip, tropics, DJF, 1-month 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roc.gif"/>
          <p:cNvPicPr/>
          <p:nvPr/>
        </p:nvPicPr>
        <p:blipFill>
          <a:blip r:embed="rId2"/>
          <a:stretch/>
        </p:blipFill>
        <p:spPr>
          <a:xfrm>
            <a:off x="4286160" y="12859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rel.gif"/>
          <p:cNvPicPr/>
          <p:nvPr/>
        </p:nvPicPr>
        <p:blipFill>
          <a:blip r:embed="rId3"/>
          <a:stretch/>
        </p:blipFill>
        <p:spPr>
          <a:xfrm>
            <a:off x="928800" y="12859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0" descr="glob.gif"/>
          <p:cNvPicPr/>
          <p:nvPr/>
        </p:nvPicPr>
        <p:blipFill>
          <a:blip r:embed="rId4"/>
          <a:stretch/>
        </p:blipFill>
        <p:spPr>
          <a:xfrm>
            <a:off x="2786040" y="4000680"/>
            <a:ext cx="3357720" cy="2517480"/>
          </a:xfrm>
          <a:prstGeom prst="rect">
            <a:avLst/>
          </a:prstGeom>
          <a:ln w="0">
            <a:noFill/>
          </a:ln>
        </p:spPr>
      </p:pic>
      <p:sp>
        <p:nvSpPr>
          <p:cNvPr id="369" name="TextBox 11"/>
          <p:cNvSpPr/>
          <p:nvPr/>
        </p:nvSpPr>
        <p:spPr>
          <a:xfrm>
            <a:off x="582120" y="550080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C skill 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Box 12"/>
          <p:cNvSpPr/>
          <p:nvPr/>
        </p:nvSpPr>
        <p:spPr>
          <a:xfrm>
            <a:off x="6864120" y="35719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18720" y="3571920"/>
            <a:ext cx="38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ability and sharp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C-SVSLRF ROC scores lower tercile MAM precip, G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3" descr="Toul.gif"/>
          <p:cNvPicPr/>
          <p:nvPr/>
        </p:nvPicPr>
        <p:blipFill>
          <a:blip r:embed="rId2"/>
          <a:stretch/>
        </p:blipFill>
        <p:spPr>
          <a:xfrm>
            <a:off x="1285920" y="15717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Mosc.gif"/>
          <p:cNvPicPr/>
          <p:nvPr/>
        </p:nvPicPr>
        <p:blipFill>
          <a:blip r:embed="rId3"/>
          <a:stretch/>
        </p:blipFill>
        <p:spPr>
          <a:xfrm>
            <a:off x="1285920" y="39290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Melb.gif"/>
          <p:cNvPicPr/>
          <p:nvPr/>
        </p:nvPicPr>
        <p:blipFill>
          <a:blip r:embed="rId4"/>
          <a:stretch/>
        </p:blipFill>
        <p:spPr>
          <a:xfrm>
            <a:off x="4714920" y="39290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Exeter.gif"/>
          <p:cNvPicPr/>
          <p:nvPr/>
        </p:nvPicPr>
        <p:blipFill>
          <a:blip r:embed="rId5"/>
          <a:stretch/>
        </p:blipFill>
        <p:spPr>
          <a:xfrm>
            <a:off x="4714920" y="15717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Toul.gif"/>
          <p:cNvPicPr/>
          <p:nvPr/>
        </p:nvPicPr>
        <p:blipFill>
          <a:blip r:embed="rId6"/>
          <a:srcRect l="0" t="94022" r="0" b="0"/>
          <a:stretch/>
        </p:blipFill>
        <p:spPr>
          <a:xfrm>
            <a:off x="1785960" y="6215040"/>
            <a:ext cx="5572080" cy="250920"/>
          </a:xfrm>
          <a:prstGeom prst="rect">
            <a:avLst/>
          </a:prstGeom>
          <a:ln w="0">
            <a:noFill/>
          </a:ln>
        </p:spPr>
      </p:pic>
      <p:sp>
        <p:nvSpPr>
          <p:cNvPr id="379" name="Straight Connector 28"/>
          <p:cNvSpPr/>
          <p:nvPr/>
        </p:nvSpPr>
        <p:spPr>
          <a:xfrm flipV="1">
            <a:off x="5428440" y="6431040"/>
            <a:ext cx="1800" cy="42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31"/>
          <p:cNvSpPr/>
          <p:nvPr/>
        </p:nvSpPr>
        <p:spPr>
          <a:xfrm>
            <a:off x="5504760" y="6396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MO workshop on Operational Long-range Forecasting: GPCs and RCCs in support of NMHSs and RCOF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7345440" cy="41497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2772360" y="5924520"/>
            <a:ext cx="272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-27 November 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MET, Brasilia, Braz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50680" y="6553080"/>
            <a:ext cx="56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wmo.int/pages/prog/www/CBS-Reports/DPFS-index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op conclusions/recommendation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T-OPSLS agenda this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56760" y="1714680"/>
            <a:ext cx="85726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56680" indent="-256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GPC and LC products is well established at RCCs and RCOFs, GPC and LC products are, in many cases, essential for their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a ne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d availability/accessibility of forecast/hindcast 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d availability and consistency of verification inf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products: ocean and atmosphere indices, extremes seas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er lead time and earlier issue of LC-LRFMME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pacity development contributions: training of RCC/NMHSs in forecast interpretation and post-processing tools, guidance manu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d GPC/RCC/NMHSs interaction: annual workshop on long-range forecas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d communication of operational needs to research (WGSIP): e.g. subseasonal prediction, development of new products (e.g. sea-ice extent), evaluation of RCM downscaling of seasonal foreca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2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50560" y="4938480"/>
            <a:ext cx="85914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ank you! Any questio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539280" y="5445000"/>
            <a:ext cx="7993080" cy="6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ent Task Teams (TT) under the ET-OPS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85520" y="2106720"/>
            <a:ext cx="782964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T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Organise workshop on Operational Long-range Forecasting: GPCs and RCCs  in support of NMHSs and RCOFs (hosted by INMET, Brasilia, Nov 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focus on seasonal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T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Develop revised strategies for verificat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T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Scoping/implementation of sub-seasonal 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T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Scoping/implementation of longer-than-seasonal forecasts (multi-annual to decad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oter Placeholder 1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Footer Placeholder 3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PC designation criteri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03280" y="196380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fixed production cycles and time of issuan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n agreed minimum set of long-range forecast produc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n agreed set of forecast skill measures (WMO Standard Verification System for LR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up-to-date information on forecast methodology us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roducts accessible to users through websi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/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S/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5298840" y="6381720"/>
            <a:ext cx="36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adapted from manual on the GDPF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BS - OPAG on Data-Processing and Forecasting System (OPAG-DPF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85840" y="1785960"/>
            <a:ext cx="8858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90000"/>
              </a:lnSpc>
              <a:spcBef>
                <a:spcPts val="964"/>
              </a:spcBef>
              <a:spcAft>
                <a:spcPts val="9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DPFS main purpo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 make available to Members in the most cost-effective way meteorological analyses and forecast product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964"/>
              </a:spcBef>
              <a:spcAft>
                <a:spcPts val="9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design, functions, organizational structure (e.g. RMSCs) and operations of the GDPFS shall be in accordance with Members' needs and their ability to contribute to and benefit from the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964"/>
              </a:spcBef>
              <a:spcAft>
                <a:spcPts val="9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T-OPSL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uides design, functions, organizational structure  for long-range forecasting, notably: Global Producing Centres of Long-Range Forecasts (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PCs)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d associated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ead Centres (LC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Rs: http://www.wmo.int/pages/prog/wcp/ccl/opace/opace3/ET-OPSLS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964"/>
              </a:spcBef>
              <a:spcAft>
                <a:spcPts val="9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Climate Services Information System (CSIS) of the GFCS will build on GDPFS infrastructure –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T-OPSLS a joint CBS/CCl team since 201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1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3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BS/CCl ET-OPSL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erm of reference (of 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14200" y="1785960"/>
            <a:ext cx="8786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basis of requirements from Regional Climate Centres (RCCs) , Regional Climate Outlook Forums (RCOFs) and National Meteorological and Hydrological Service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 the context of the Climate Services Information System of the Global Framework for Climate Servic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 future development, outputs and coordination of components in the production of long-range foreca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[namely], Global Producing Centres (GPCs) of Long-range Forecasts and associated Lead Centres for multi-modelling and ver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hip: representatives from the 12 WMO-designated GPCs plus two CCl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ndcast periods of G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2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857160" y="1500120"/>
          <a:ext cx="7120080" cy="48466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9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403" name="Straight Connector 6"/>
          <p:cNvSpPr/>
          <p:nvPr/>
        </p:nvSpPr>
        <p:spPr>
          <a:xfrm flipH="1">
            <a:off x="1690200" y="1428840"/>
            <a:ext cx="1800" cy="514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Straight Connector 7"/>
          <p:cNvSpPr/>
          <p:nvPr/>
        </p:nvSpPr>
        <p:spPr>
          <a:xfrm flipH="1">
            <a:off x="5649480" y="1214280"/>
            <a:ext cx="1800" cy="5143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499"/>
          <p:cNvSpPr/>
          <p:nvPr/>
        </p:nvSpPr>
        <p:spPr>
          <a:xfrm>
            <a:off x="110160" y="19162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PC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500"/>
          <p:cNvSpPr/>
          <p:nvPr/>
        </p:nvSpPr>
        <p:spPr>
          <a:xfrm>
            <a:off x="110160" y="22766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PC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501"/>
          <p:cNvSpPr/>
          <p:nvPr/>
        </p:nvSpPr>
        <p:spPr>
          <a:xfrm>
            <a:off x="531720" y="2565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02"/>
          <p:cNvSpPr/>
          <p:nvPr/>
        </p:nvSpPr>
        <p:spPr>
          <a:xfrm>
            <a:off x="541800" y="2997360"/>
            <a:ext cx="23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503"/>
          <p:cNvSpPr/>
          <p:nvPr/>
        </p:nvSpPr>
        <p:spPr>
          <a:xfrm>
            <a:off x="396720" y="5950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0" y="-3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143160" y="285840"/>
          <a:ext cx="5869080" cy="6446880"/>
        </p:xfrm>
        <a:graphic>
          <a:graphicData uri="http://schemas.openxmlformats.org/drawingml/2006/table">
            <a:tbl>
              <a:tblPr/>
              <a:tblGrid>
                <a:gridCol w="982800"/>
                <a:gridCol w="1714320"/>
                <a:gridCol w="1028880"/>
                <a:gridCol w="1257120"/>
                <a:gridCol w="88596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PC na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ent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ystem (ensemble:hindcast/forecas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olution (atmosphere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ndcast period use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eijing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eijing Climate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upled (48/48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63/L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83-20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PTE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entre for Weather Forecasts and Climate Studi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-tier (10/15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62/L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79-20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CMWF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uropean Centre for Medium Range Weather Forecast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upled (15/51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255/L9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81-20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xet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t Office Hadley Cent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upled (12/42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83x0.56°/L8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96-20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lbour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ustralian Bureau of Meteorolog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upled (30/30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47/L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60-20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ontre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teorological Service of Canad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upled (20/20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63 L31/L3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81-20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osco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ydromet Centre of Russ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-tier (10/20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1°x1.4°/L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81-20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etor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outh African Weather Servi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-ti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6/6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42/L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81-20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eou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Korean Meteorological Agenc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-tier (20/20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106/L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79-20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ky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Japan Meteorological Agenc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upled (10/51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95/L4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79-20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ulous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étéo-F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upled (11/51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127/L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91-20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ashingt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ational Centres for Environmental Predic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upled (15/40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126/L6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82-20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89"/>
          <p:cNvSpPr/>
          <p:nvPr/>
        </p:nvSpPr>
        <p:spPr>
          <a:xfrm>
            <a:off x="1800" y="64123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90"/>
          <p:cNvSpPr/>
          <p:nvPr/>
        </p:nvSpPr>
        <p:spPr>
          <a:xfrm>
            <a:off x="0" y="1785960"/>
            <a:ext cx="300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12 WMO-designated GP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그림 3" descr="LRFMME.jpg"/>
          <p:cNvPicPr/>
          <p:nvPr/>
        </p:nvPicPr>
        <p:blipFill>
          <a:blip r:embed="rId2"/>
          <a:srcRect l="2180" t="5910" r="7356" b="7028"/>
          <a:stretch/>
        </p:blipFill>
        <p:spPr>
          <a:xfrm>
            <a:off x="142920" y="2714760"/>
            <a:ext cx="2870280" cy="1457280"/>
          </a:xfrm>
          <a:prstGeom prst="rect">
            <a:avLst/>
          </a:prstGeom>
          <a:ln w="9360">
            <a:solidFill>
              <a:srgbClr val="132767"/>
            </a:solidFill>
            <a:miter/>
          </a:ln>
        </p:spPr>
      </p:pic>
      <p:sp>
        <p:nvSpPr>
          <p:cNvPr id="254" name="TextBox 6"/>
          <p:cNvSpPr/>
          <p:nvPr/>
        </p:nvSpPr>
        <p:spPr>
          <a:xfrm>
            <a:off x="9720" y="621504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2060"/>
                </a:solidFill>
                <a:latin typeface="Arial"/>
              </a:rPr>
              <a:t>Graham et al. 2011, Clim 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7"/>
          <p:cNvSpPr/>
          <p:nvPr/>
        </p:nvSpPr>
        <p:spPr>
          <a:xfrm>
            <a:off x="17280" y="4572000"/>
            <a:ext cx="30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-OPSLS defin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ation crite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forecast 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cation requir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PCs and Lead Centres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 designated GPCs; 2 designated Lead Cen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1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그림 3" descr="LRFMME.jpg"/>
          <p:cNvPicPr/>
          <p:nvPr/>
        </p:nvPicPr>
        <p:blipFill>
          <a:blip r:embed="rId2"/>
          <a:srcRect l="2180" t="5910" r="7356" b="7028"/>
          <a:stretch/>
        </p:blipFill>
        <p:spPr>
          <a:xfrm>
            <a:off x="2286000" y="1428840"/>
            <a:ext cx="4572000" cy="2320920"/>
          </a:xfrm>
          <a:prstGeom prst="rect">
            <a:avLst/>
          </a:prstGeom>
          <a:ln w="9360">
            <a:solidFill>
              <a:srgbClr val="132767"/>
            </a:solidFill>
            <a:miter/>
          </a:ln>
        </p:spPr>
      </p:pic>
      <p:sp>
        <p:nvSpPr>
          <p:cNvPr id="259" name="TextBox 7"/>
          <p:cNvSpPr/>
          <p:nvPr/>
        </p:nvSpPr>
        <p:spPr>
          <a:xfrm>
            <a:off x="2209680" y="14288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2 GP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2714760" y="5715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3857760" y="5715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5000760" y="5715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3" name="Straight Arrow Connector 19"/>
          <p:cNvCxnSpPr/>
          <p:nvPr/>
        </p:nvCxnSpPr>
        <p:spPr>
          <a:xfrm>
            <a:off x="2857680" y="5572080"/>
            <a:ext cx="143280" cy="2865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Straight Arrow Connector 20"/>
          <p:cNvCxnSpPr/>
          <p:nvPr/>
        </p:nvCxnSpPr>
        <p:spPr>
          <a:xfrm>
            <a:off x="2857320" y="5572080"/>
            <a:ext cx="1286280" cy="2865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Straight Arrow Connector 22"/>
          <p:cNvCxnSpPr/>
          <p:nvPr/>
        </p:nvCxnSpPr>
        <p:spPr>
          <a:xfrm>
            <a:off x="2857680" y="5572080"/>
            <a:ext cx="2428920" cy="2865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Straight Arrow Connector 27"/>
          <p:cNvCxnSpPr/>
          <p:nvPr/>
        </p:nvCxnSpPr>
        <p:spPr>
          <a:xfrm flipH="1">
            <a:off x="3285360" y="5500800"/>
            <a:ext cx="2143800" cy="4291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Straight Arrow Connector 30"/>
          <p:cNvCxnSpPr/>
          <p:nvPr/>
        </p:nvCxnSpPr>
        <p:spPr>
          <a:xfrm flipH="1">
            <a:off x="4428360" y="5499720"/>
            <a:ext cx="1072440" cy="5007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Straight Arrow Connector 34"/>
          <p:cNvCxnSpPr/>
          <p:nvPr/>
        </p:nvCxnSpPr>
        <p:spPr>
          <a:xfrm flipH="1">
            <a:off x="5428440" y="5500440"/>
            <a:ext cx="72360" cy="5007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Straight Arrow Connector 39"/>
          <p:cNvCxnSpPr/>
          <p:nvPr/>
        </p:nvCxnSpPr>
        <p:spPr>
          <a:xfrm flipH="1">
            <a:off x="4285800" y="3749760"/>
            <a:ext cx="286560" cy="2180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Straight Arrow Connector 42"/>
          <p:cNvCxnSpPr/>
          <p:nvPr/>
        </p:nvCxnSpPr>
        <p:spPr>
          <a:xfrm flipH="1">
            <a:off x="3131280" y="3789000"/>
            <a:ext cx="793080" cy="2143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Rectangle 15"/>
          <p:cNvSpPr/>
          <p:nvPr/>
        </p:nvSpPr>
        <p:spPr>
          <a:xfrm>
            <a:off x="2857680" y="5929200"/>
            <a:ext cx="723600" cy="6080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CO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2928960" y="6357960"/>
            <a:ext cx="723960" cy="2509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Group 26"/>
          <p:cNvGrpSpPr/>
          <p:nvPr/>
        </p:nvGrpSpPr>
        <p:grpSpPr>
          <a:xfrm>
            <a:off x="0" y="2428920"/>
            <a:ext cx="3523320" cy="3918600"/>
            <a:chOff x="0" y="2428920"/>
            <a:chExt cx="3523320" cy="3918600"/>
          </a:xfrm>
        </p:grpSpPr>
        <p:pic>
          <p:nvPicPr>
            <p:cNvPr id="274" name="Picture 6" descr="Capture2.JPG"/>
            <p:cNvPicPr/>
            <p:nvPr/>
          </p:nvPicPr>
          <p:blipFill>
            <a:blip r:embed="rId3"/>
            <a:stretch/>
          </p:blipFill>
          <p:spPr>
            <a:xfrm>
              <a:off x="785880" y="3571920"/>
              <a:ext cx="221004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Box 9"/>
            <p:cNvSpPr/>
            <p:nvPr/>
          </p:nvSpPr>
          <p:spPr>
            <a:xfrm>
              <a:off x="0" y="2428920"/>
              <a:ext cx="2000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ignated Lead Centre: verif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ight Arrow 16"/>
            <p:cNvSpPr/>
            <p:nvPr/>
          </p:nvSpPr>
          <p:spPr>
            <a:xfrm rot="7992600">
              <a:off x="2523240" y="3137040"/>
              <a:ext cx="977760" cy="484200"/>
            </a:xfrm>
            <a:prstGeom prst="rightArrow">
              <a:avLst>
                <a:gd name="adj1" fmla="val 50000"/>
                <a:gd name="adj2" fmla="val 5001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Box 24"/>
            <p:cNvSpPr/>
            <p:nvPr/>
          </p:nvSpPr>
          <p:spPr>
            <a:xfrm>
              <a:off x="507960" y="5643720"/>
              <a:ext cx="176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C-SVSLR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(BoM &amp; CMC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Group 27"/>
          <p:cNvGrpSpPr/>
          <p:nvPr/>
        </p:nvGrpSpPr>
        <p:grpSpPr>
          <a:xfrm>
            <a:off x="5214240" y="2571840"/>
            <a:ext cx="3929760" cy="4314600"/>
            <a:chOff x="5214240" y="2571840"/>
            <a:chExt cx="3929760" cy="4314600"/>
          </a:xfrm>
        </p:grpSpPr>
        <p:pic>
          <p:nvPicPr>
            <p:cNvPr id="279" name="Picture 5" descr="Capture.JPG"/>
            <p:cNvPicPr/>
            <p:nvPr/>
          </p:nvPicPr>
          <p:blipFill>
            <a:blip r:embed="rId4"/>
            <a:stretch/>
          </p:blipFill>
          <p:spPr>
            <a:xfrm>
              <a:off x="5429160" y="3714840"/>
              <a:ext cx="371484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8"/>
            <p:cNvSpPr/>
            <p:nvPr/>
          </p:nvSpPr>
          <p:spPr>
            <a:xfrm>
              <a:off x="7286760" y="2571840"/>
              <a:ext cx="1857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ignated Lead Centre: forecas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ight Arrow 17"/>
            <p:cNvSpPr/>
            <p:nvPr/>
          </p:nvSpPr>
          <p:spPr>
            <a:xfrm rot="3795600">
              <a:off x="5162040" y="3303720"/>
              <a:ext cx="978120" cy="485640"/>
            </a:xfrm>
            <a:prstGeom prst="rightArrow">
              <a:avLst>
                <a:gd name="adj1" fmla="val 50000"/>
                <a:gd name="adj2" fmla="val 4988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Box 25"/>
            <p:cNvSpPr/>
            <p:nvPr/>
          </p:nvSpPr>
          <p:spPr>
            <a:xfrm>
              <a:off x="6572160" y="5572800"/>
              <a:ext cx="25718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C-LRFMM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KMA &amp; NCEP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746 users, 117 countr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14320" y="428760"/>
            <a:ext cx="6933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PC minimum products and data supply to LC-LRFMME</a:t>
            </a:r>
            <a:br>
              <a:rPr sz="36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wmolc.org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13840" y="1820880"/>
            <a:ext cx="8929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d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ed probability forecasts for tercile categories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m temperature; precipitation; SST (applies only to GPCs using coupled mod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: at least first 3 months following month of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on GPC website (graphical products and/or dat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d to LC-LRFM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hly anomalies for all ensemble member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m temperature, precipitation; MSLP; SST; 850hPa temperature; 500 hPa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dcasts also supplied by most G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8581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forecasts of MAM ensemble mean precipitation anomaly, Greater Horn of Africa – used at GHACOF36 (from LC-LRFM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1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5" descr="allMap_86.128.54.21935842.gif"/>
          <p:cNvPicPr/>
          <p:nvPr/>
        </p:nvPicPr>
        <p:blipFill>
          <a:blip r:embed="rId2"/>
          <a:srcRect l="0" t="3471" r="0" b="7420"/>
          <a:stretch/>
        </p:blipFill>
        <p:spPr>
          <a:xfrm>
            <a:off x="428760" y="1357200"/>
            <a:ext cx="823104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56880"/>
            <a:ext cx="9144000" cy="15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-LRFMME deterministic multi-model products for MAM 2014 - user intera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1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6" descr="SimpleMME86.128.54.21963719.gif"/>
          <p:cNvPicPr/>
          <p:nvPr/>
        </p:nvPicPr>
        <p:blipFill>
          <a:blip r:embed="rId2"/>
          <a:stretch/>
        </p:blipFill>
        <p:spPr>
          <a:xfrm>
            <a:off x="1071720" y="4000680"/>
            <a:ext cx="3571560" cy="26794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SimpleMME86.128.54.21916130.gif"/>
          <p:cNvPicPr/>
          <p:nvPr/>
        </p:nvPicPr>
        <p:blipFill>
          <a:blip r:embed="rId3"/>
          <a:stretch/>
        </p:blipFill>
        <p:spPr>
          <a:xfrm>
            <a:off x="2428920" y="85716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SimpleMME86.128.54.2192391(1).gif"/>
          <p:cNvPicPr/>
          <p:nvPr/>
        </p:nvPicPr>
        <p:blipFill>
          <a:blip r:embed="rId4"/>
          <a:stretch/>
        </p:blipFill>
        <p:spPr>
          <a:xfrm>
            <a:off x="4929120" y="4000680"/>
            <a:ext cx="3619440" cy="2714400"/>
          </a:xfrm>
          <a:prstGeom prst="rect">
            <a:avLst/>
          </a:prstGeom>
          <a:ln w="0">
            <a:noFill/>
          </a:ln>
        </p:spPr>
      </p:pic>
      <p:sp>
        <p:nvSpPr>
          <p:cNvPr id="294" name="TextBox 9"/>
          <p:cNvSpPr/>
          <p:nvPr/>
        </p:nvSpPr>
        <p:spPr>
          <a:xfrm>
            <a:off x="5873040" y="1928880"/>
            <a:ext cx="23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mod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emble m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10"/>
          <p:cNvSpPr/>
          <p:nvPr/>
        </p:nvSpPr>
        <p:spPr>
          <a:xfrm>
            <a:off x="0" y="507204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coupled mode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11"/>
          <p:cNvSpPr/>
          <p:nvPr/>
        </p:nvSpPr>
        <p:spPr>
          <a:xfrm>
            <a:off x="7500960" y="500076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wo-tier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12"/>
          <p:cNvSpPr/>
          <p:nvPr/>
        </p:nvSpPr>
        <p:spPr>
          <a:xfrm>
            <a:off x="357120" y="1714680"/>
            <a:ext cx="257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M multi-model precipitation anom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-GPC multi-model probabilistic forecas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M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2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" descr="PMME86.128.54.21977664.gif"/>
          <p:cNvPicPr/>
          <p:nvPr/>
        </p:nvPicPr>
        <p:blipFill>
          <a:blip r:embed="rId2"/>
          <a:stretch/>
        </p:blipFill>
        <p:spPr>
          <a:xfrm>
            <a:off x="1428840" y="10000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01" name="TextBox 5"/>
          <p:cNvSpPr/>
          <p:nvPr/>
        </p:nvSpPr>
        <p:spPr>
          <a:xfrm>
            <a:off x="0" y="221472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M precip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52480" y="14292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C-LRFMME model consistency, MAM and GHACOF36 consens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2"/>
          <p:cNvSpPr/>
          <p:nvPr/>
        </p:nvSpPr>
        <p:spPr>
          <a:xfrm>
            <a:off x="3240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2"/>
          <a:srcRect l="8788" t="27502" r="52394" b="17499"/>
          <a:stretch/>
        </p:blipFill>
        <p:spPr>
          <a:xfrm>
            <a:off x="285840" y="1500120"/>
            <a:ext cx="5335560" cy="4429080"/>
          </a:xfrm>
          <a:prstGeom prst="rect">
            <a:avLst/>
          </a:prstGeom>
          <a:ln w="0">
            <a:noFill/>
          </a:ln>
        </p:spPr>
      </p:pic>
      <p:sp>
        <p:nvSpPr>
          <p:cNvPr id="305" name="Oval 7"/>
          <p:cNvSpPr/>
          <p:nvPr/>
        </p:nvSpPr>
        <p:spPr>
          <a:xfrm>
            <a:off x="785880" y="2857680"/>
            <a:ext cx="9144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Box 8"/>
          <p:cNvSpPr/>
          <p:nvPr/>
        </p:nvSpPr>
        <p:spPr>
          <a:xfrm>
            <a:off x="0" y="5715000"/>
            <a:ext cx="61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models with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semble-mean anoma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Group 25"/>
          <p:cNvGrpSpPr/>
          <p:nvPr/>
        </p:nvGrpSpPr>
        <p:grpSpPr>
          <a:xfrm>
            <a:off x="5575320" y="1214280"/>
            <a:ext cx="3568680" cy="4977720"/>
            <a:chOff x="5575320" y="1214280"/>
            <a:chExt cx="3568680" cy="4977720"/>
          </a:xfrm>
        </p:grpSpPr>
        <p:pic>
          <p:nvPicPr>
            <p:cNvPr id="308" name="Picture 3" descr=""/>
            <p:cNvPicPr/>
            <p:nvPr/>
          </p:nvPicPr>
          <p:blipFill>
            <a:blip r:embed="rId3"/>
            <a:srcRect l="32226" t="26249" r="33352" b="17499"/>
            <a:stretch/>
          </p:blipFill>
          <p:spPr>
            <a:xfrm>
              <a:off x="5575320" y="1928520"/>
              <a:ext cx="3211560" cy="30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Box 5"/>
            <p:cNvSpPr/>
            <p:nvPr/>
          </p:nvSpPr>
          <p:spPr>
            <a:xfrm>
              <a:off x="5942880" y="1214280"/>
              <a:ext cx="2433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M consensu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HACOF3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TextBox 6"/>
            <p:cNvSpPr/>
            <p:nvPr/>
          </p:nvSpPr>
          <p:spPr>
            <a:xfrm>
              <a:off x="5929200" y="5000760"/>
              <a:ext cx="321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ld in Entebbe, coordinated by ICPA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Group 20"/>
            <p:cNvGrpSpPr/>
            <p:nvPr/>
          </p:nvGrpSpPr>
          <p:grpSpPr>
            <a:xfrm>
              <a:off x="7861680" y="3500280"/>
              <a:ext cx="433800" cy="1127520"/>
              <a:chOff x="7861680" y="3500280"/>
              <a:chExt cx="433800" cy="1127520"/>
            </a:xfrm>
          </p:grpSpPr>
          <p:sp>
            <p:nvSpPr>
              <p:cNvPr id="312" name="TextBox 17"/>
              <p:cNvSpPr/>
              <p:nvPr/>
            </p:nvSpPr>
            <p:spPr>
              <a:xfrm>
                <a:off x="7861680" y="4259520"/>
                <a:ext cx="433800" cy="368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TextBox 18"/>
              <p:cNvSpPr/>
              <p:nvPr/>
            </p:nvSpPr>
            <p:spPr>
              <a:xfrm>
                <a:off x="7861680" y="3876480"/>
                <a:ext cx="433800" cy="368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TextBox 19"/>
              <p:cNvSpPr/>
              <p:nvPr/>
            </p:nvSpPr>
            <p:spPr>
              <a:xfrm>
                <a:off x="7861680" y="3500280"/>
                <a:ext cx="433800" cy="368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21"/>
            <p:cNvGrpSpPr/>
            <p:nvPr/>
          </p:nvGrpSpPr>
          <p:grpSpPr>
            <a:xfrm>
              <a:off x="6147000" y="3500280"/>
              <a:ext cx="433800" cy="1127520"/>
              <a:chOff x="6147000" y="3500280"/>
              <a:chExt cx="433800" cy="1127520"/>
            </a:xfrm>
          </p:grpSpPr>
          <p:sp>
            <p:nvSpPr>
              <p:cNvPr id="316" name="TextBox 22"/>
              <p:cNvSpPr/>
              <p:nvPr/>
            </p:nvSpPr>
            <p:spPr>
              <a:xfrm>
                <a:off x="6147000" y="4259520"/>
                <a:ext cx="433800" cy="368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Box 23"/>
              <p:cNvSpPr/>
              <p:nvPr/>
            </p:nvSpPr>
            <p:spPr>
              <a:xfrm>
                <a:off x="6147000" y="3876480"/>
                <a:ext cx="433800" cy="368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TextBox 24"/>
              <p:cNvSpPr/>
              <p:nvPr/>
            </p:nvSpPr>
            <p:spPr>
              <a:xfrm>
                <a:off x="6147000" y="3500280"/>
                <a:ext cx="433800" cy="368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0:14:13Z</dcterms:created>
  <dc:creator>Bernd Eggen</dc:creator>
  <dc:description/>
  <dc:language>en-US</dc:language>
  <cp:lastModifiedBy>richard.graham</cp:lastModifiedBy>
  <cp:lastPrinted>2004-10-15T09:34:20Z</cp:lastPrinted>
  <dcterms:modified xsi:type="dcterms:W3CDTF">2014-03-10T07:57:43Z</dcterms:modified>
  <cp:revision>654</cp:revision>
  <dc:subject>Underground Cable Performance</dc:subject>
  <dc:title>EP2 WP4 UG4</dc:title>
</cp:coreProperties>
</file>