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F5B93-549A-4DAF-BA57-AB845D555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26F7-9AB7-4459-A577-B49B8D824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4BB2D-3E2E-4942-8CCE-24F6BC9D2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F3C78-8717-41B2-BFE4-7D6EBEC40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E642C-BD37-4EC3-85B7-EE23F8FD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415A-E1F1-4374-843A-24A528C72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EE708-CF3F-4D2A-BB0E-FF0263A31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353F7-138A-45B7-B856-53637EA1C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617DE-2132-4F0B-8388-ED88EFD9C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6B03A-EA53-4342-B7C7-14EB914F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146D-35AB-4EFE-8944-5DEB1758C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F311A-6033-4D37-8290-D3DDAEC49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6F0C-5ABA-4CE6-BE41-4FD2F1ECA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Items and Recommend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Arial"/>
              </a:rPr>
              <a:t>WGSIP-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C20C Project</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21.  Link to C20C dataset from the CHFP website.  </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2.  Continue conference calls with C20C to see what the possibilities are for collaboration with CHFP (A. Scaife and B. Kirt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The Ocean Observing System</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23.  Initiate an email discussion between WGSIP, IOP and AAMP on how to best demonstrate the benefit of the Indian Ocean Array, RAMA, on forecast skill (B. Kirtman, T. Stockdale, H. Hend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Standard hindcast verification</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600"/>
                </a:solidFill>
                <a:latin typeface="Arial"/>
              </a:rPr>
              <a:t>24. Recommend that the CAWCR multi-model evaluation be updated to include newly contributed models and then distribute the result to WGSIP (O. A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Linkages to other CLIVAR panels </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anchor="t">
            <a:normAutofit fontScale="85000"/>
          </a:bodyPr>
          <a:p>
            <a:pPr marL="291600" indent="-29160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25.  Circulate the US CLIVAR MJO WG and AAMP-led proposal for a WCRP-WWRP WG on the MJO, as an extension of the US CLIVAR WG activities, for endorsement by WGSIP (H. Hendon).  </a:t>
            </a:r>
            <a:endParaRPr b="0" lang="en-US" sz="3000" spc="-1" strike="noStrike">
              <a:solidFill>
                <a:srgbClr val="000000"/>
              </a:solidFill>
              <a:latin typeface="Arial"/>
            </a:endParaRPr>
          </a:p>
          <a:p>
            <a:pPr marL="291600" indent="-29160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Arial"/>
              </a:rPr>
              <a:t>26.  Endorse the SAWS multi-model product and its application in the SACD region by the SARCOF process.  </a:t>
            </a:r>
            <a:endParaRPr b="0" lang="en-US" sz="3000" spc="-1" strike="noStrike">
              <a:solidFill>
                <a:srgbClr val="000000"/>
              </a:solidFill>
              <a:latin typeface="Arial"/>
            </a:endParaRPr>
          </a:p>
          <a:p>
            <a:pPr marL="291600" indent="-29160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6600"/>
                </a:solidFill>
                <a:latin typeface="Arial"/>
              </a:rPr>
              <a:t>27.  WGSIP to foster PPAI interest with regards to the CHFP data set (B. Kirtman, A. Kum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jor Issues(WGSIP-13)</a:t>
            </a:r>
            <a:endParaRPr b="0" lang="en-US" sz="3600" spc="-1" strike="noStrike">
              <a:solidFill>
                <a:srgbClr val="000000"/>
              </a:solidFill>
              <a:latin typeface="Arial"/>
            </a:endParaRPr>
          </a:p>
        </p:txBody>
      </p:sp>
      <p:sp>
        <p:nvSpPr>
          <p:cNvPr id="68" name=""/>
          <p:cNvSpPr txBox="1"/>
          <p:nvPr/>
        </p:nvSpPr>
        <p:spPr>
          <a:xfrm>
            <a:off x="457200" y="636480"/>
            <a:ext cx="8229600" cy="4525920"/>
          </a:xfrm>
          <a:prstGeom prst="rect">
            <a:avLst/>
          </a:prstGeom>
          <a:noFill/>
          <a:ln w="0">
            <a:noFill/>
          </a:ln>
        </p:spPr>
        <p:txBody>
          <a:bodyPr anchor="t">
            <a:normAutofit fontScale="76000"/>
          </a:bodyPr>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Who to Attend WGNE: Japan October 19-22</a:t>
            </a:r>
            <a:endParaRPr b="0" lang="en-US" sz="28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Who to Attend WGCM: Exeter October 4-6</a:t>
            </a:r>
            <a:endParaRPr b="0" lang="en-US" sz="28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Exeter ISI workshop?</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GGE-CHFP Project</a:t>
            </a:r>
            <a:endParaRPr b="0" lang="en-US" sz="28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Invigorating CHFP!</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ew List of Action Items</a:t>
            </a:r>
            <a:endParaRPr b="0" lang="en-US" sz="2800" spc="-1" strike="noStrike">
              <a:solidFill>
                <a:srgbClr val="000000"/>
              </a:solidFill>
              <a:latin typeface="Arial"/>
            </a:endParaRPr>
          </a:p>
          <a:p>
            <a:pPr lvl="2" marL="868680" indent="-17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ed to get data into CIMA!!!</a:t>
            </a:r>
            <a:endParaRPr b="0" lang="en-US" sz="2400" spc="-1" strike="noStrike">
              <a:solidFill>
                <a:srgbClr val="000000"/>
              </a:solidFill>
              <a:latin typeface="Arial"/>
            </a:endParaRPr>
          </a:p>
          <a:p>
            <a:pPr lvl="2" marL="868680" indent="-17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Identify 2 or 3 WGSIP lead Diagnostic Sub-projects (papers)</a:t>
            </a:r>
            <a:endParaRPr b="0" lang="en-US" sz="2400" spc="-1" strike="noStrike">
              <a:solidFill>
                <a:srgbClr val="000000"/>
              </a:solidFill>
              <a:latin typeface="Arial"/>
            </a:endParaRPr>
          </a:p>
          <a:p>
            <a:pPr lvl="2" marL="868680" indent="-17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CHFP Workshop?</a:t>
            </a:r>
            <a:endParaRPr b="0" lang="en-US" sz="24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WGSIP Contribution to AR5</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hapter 11: Seasonal Assessment of Near-Term Climate Change Prediction</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lor Coding</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tems In Black Have Been Complet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Items in Red Have No Progress to Date</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600"/>
                </a:solidFill>
                <a:latin typeface="Arial"/>
              </a:rPr>
              <a:t>Items In Orange Have Substantial Progress But Have Not Been Comple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Reports from CLIVAR and WCRP</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fontScale="89000"/>
          </a:bodyPr>
          <a:p>
            <a:pPr marL="457560" indent="-45756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WGSIP to review the imperatives for seasonal prediction for the WCRP implementation plan and contribute to the discussion of the long-term vision of WCRP science and infrastructure requirements.  </a:t>
            </a:r>
            <a:endParaRPr b="0" lang="en-US" sz="3200" spc="-1" strike="noStrike">
              <a:solidFill>
                <a:srgbClr val="000000"/>
              </a:solidFill>
              <a:latin typeface="Arial"/>
            </a:endParaRPr>
          </a:p>
          <a:p>
            <a:pPr lvl="1" marL="813600" indent="-45756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NE</a:t>
            </a:r>
            <a:endParaRPr b="0" lang="en-US" sz="2800" spc="-1" strike="noStrike">
              <a:solidFill>
                <a:srgbClr val="000000"/>
              </a:solidFill>
              <a:latin typeface="Arial"/>
            </a:endParaRPr>
          </a:p>
          <a:p>
            <a:pPr marL="457560" indent="-45756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2. WGSIP to contribute to the WCC3 agenda.</a:t>
            </a:r>
            <a:endParaRPr b="0" lang="en-US" sz="3200" spc="-1" strike="noStrike">
              <a:solidFill>
                <a:srgbClr val="000000"/>
              </a:solidFill>
              <a:latin typeface="Arial"/>
            </a:endParaRPr>
          </a:p>
          <a:p>
            <a:pPr marL="457560" indent="-4575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D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Arial"/>
              </a:rPr>
              <a:t>CHFP</a:t>
            </a:r>
            <a:r>
              <a:rPr b="0" i="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txBox="1"/>
          <p:nvPr/>
        </p:nvSpPr>
        <p:spPr>
          <a:xfrm>
            <a:off x="0" y="842760"/>
            <a:ext cx="9144000" cy="58021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3.  </a:t>
            </a:r>
            <a:r>
              <a:rPr b="0" lang="en-US" sz="2000" spc="-1" strike="noStrike">
                <a:solidFill>
                  <a:srgbClr val="ff0000"/>
                </a:solidFill>
                <a:latin typeface="Arial"/>
              </a:rPr>
              <a:t>Issue recommendations for CHFP participants on how to upload new versions of data or replace/disable old versions.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4.  </a:t>
            </a:r>
            <a:r>
              <a:rPr b="0" lang="en-US" sz="2000" spc="-1" strike="noStrike">
                <a:solidFill>
                  <a:srgbClr val="ff0000"/>
                </a:solidFill>
                <a:latin typeface="Arial"/>
              </a:rPr>
              <a:t>Each CHFP contributing group should provide a contact person to the data servers for technical issues.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5.  </a:t>
            </a:r>
            <a:r>
              <a:rPr b="0" lang="en-US" sz="2000" spc="-1" strike="noStrike">
                <a:solidFill>
                  <a:srgbClr val="ff0000"/>
                </a:solidFill>
                <a:latin typeface="Arial"/>
              </a:rPr>
              <a:t>Determine whether there will be a common registration approach for accessing CHFP data to acquire information on the use and dissemination of the CHFP data. Need to give guidelines on the CHFP website on how to acknowledge the data origin. Circulate a draft data policy to WGSIP for endorsem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6.  Circulate proposal for course on the CHFP, seasonal prediction and applications that is being organized by CIMA in Buenos Aires in March 2010 for endorsement by WGSIP (C. Vera).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7.  </a:t>
            </a:r>
            <a:r>
              <a:rPr b="0" lang="en-US" sz="2000" spc="-1" strike="noStrike">
                <a:solidFill>
                  <a:srgbClr val="ff0000"/>
                </a:solidFill>
                <a:latin typeface="Arial"/>
              </a:rPr>
              <a:t>Confirm whether groups contributing CHFP data to the APCC server can send a wider list of variables including metadata than those outlined in the APCC proposal (W.-J. Le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8.  </a:t>
            </a:r>
            <a:r>
              <a:rPr b="0" lang="en-US" sz="2000" spc="-1" strike="noStrike">
                <a:solidFill>
                  <a:srgbClr val="ff6600"/>
                </a:solidFill>
                <a:latin typeface="Arial"/>
              </a:rPr>
              <a:t>Develop interactions with CLIVAR regional panels to develop CHFP diagnostic sub projects.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a:rPr>
              <a:t>Develop a clearing-house of applications-relevant tools, scripts, etc. for evaluating CHFP datasets (A. Pirani, A. Morse).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Arial"/>
              </a:rPr>
              <a:t>These Actions Need to Be Revised?</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GEWEX interactions with WGSIP </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fontScale="98000"/>
          </a:bodyPr>
          <a:p>
            <a:pPr marL="504000" indent="-504000">
              <a:spcBef>
                <a:spcPts val="799"/>
              </a:spcBef>
              <a:buClr>
                <a:srgbClr val="000000"/>
              </a:buClr>
              <a:buFont typeface="Arial"/>
              <a:buAutoNum type="arabicPeriod" startAt="1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Report to the CLIVAR and GEWEX SSGs our views on how to build and maintain appropriate links between WGSIP and GEWEX. Discuss with CLIVAR SSG the general issue of links with projects outside CLIVAR. </a:t>
            </a:r>
            <a:endParaRPr b="0" lang="en-US" sz="3200" spc="-1" strike="noStrike">
              <a:solidFill>
                <a:srgbClr val="000000"/>
              </a:solidFill>
              <a:latin typeface="Arial"/>
            </a:endParaRPr>
          </a:p>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SPARC interactions with WGSIP </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fontScale="89000"/>
          </a:bodyPr>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1.  Endorse a joint WGSIP-SPARC subproject of the CHFP using high-top, stratosphere resolving models (Scaife, Stockdale, Kirtman).  </a:t>
            </a:r>
            <a:endParaRPr b="0" lang="en-US" sz="3200" spc="-1" strike="noStrike">
              <a:solidFill>
                <a:srgbClr val="000000"/>
              </a:solidFill>
              <a:latin typeface="Arial"/>
            </a:endParaRPr>
          </a:p>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2.  </a:t>
            </a:r>
            <a:r>
              <a:rPr b="0" lang="en-US" sz="3200" spc="-1" strike="noStrike">
                <a:solidFill>
                  <a:srgbClr val="ff0000"/>
                </a:solidFill>
                <a:latin typeface="Arial"/>
              </a:rPr>
              <a:t>SPARC to make recommendations on what diagnostics are needed to analyze downward propagating signals from the stratosphere in low-top models participating in the CHFP (Scaif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CliC interactions with WGSIP</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13. Develop a proposal on how to move forward in a CHFP/CliC/GEWEX study of snow cover and soil moisture (J. Christensen, R. Koster).</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	</a:t>
            </a:r>
            <a:r>
              <a:rPr b="0" lang="en-US" sz="3200" spc="-1" strike="noStrike" u="sng">
                <a:solidFill>
                  <a:srgbClr val="000000"/>
                </a:solidFill>
                <a:uFillTx/>
                <a:latin typeface="Arial"/>
              </a:rPr>
              <a:t>Do We Need a New Action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Applications</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fontScale="87000"/>
          </a:bodyPr>
          <a:p>
            <a:pPr marL="298440" indent="-2984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Arial"/>
              </a:rPr>
              <a:t>14. Develop a list of diagnostics that production centres could run which would be useful for the impacts and applications community (A. Morse).</a:t>
            </a:r>
            <a:r>
              <a:rPr b="0" lang="en-US" sz="3000" spc="-1" strike="noStrike">
                <a:solidFill>
                  <a:srgbClr val="000000"/>
                </a:solidFill>
                <a:latin typeface="Arial"/>
              </a:rPr>
              <a:t>  </a:t>
            </a:r>
            <a:endParaRPr b="0" lang="en-US" sz="3000" spc="-1" strike="noStrike">
              <a:solidFill>
                <a:srgbClr val="000000"/>
              </a:solidFill>
              <a:latin typeface="Arial"/>
            </a:endParaRPr>
          </a:p>
          <a:p>
            <a:pPr marL="298440" indent="-2984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Arial"/>
              </a:rPr>
              <a:t>15.  Develop stronger links between WGSIP and WCP, including making WCP aware of the availability of CHFP data (B. Kirtman, T. Stockdale).   </a:t>
            </a:r>
            <a:endParaRPr b="0" lang="en-US" sz="3000" spc="-1" strike="noStrike">
              <a:solidFill>
                <a:srgbClr val="000000"/>
              </a:solidFill>
              <a:latin typeface="Arial"/>
            </a:endParaRPr>
          </a:p>
          <a:p>
            <a:pPr marL="298440" indent="-2984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16.  Lobby the WCC-3 on rendering long-term observational datasets avail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Decadal Prediction</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17.  Confirm T. Stockdale and G. Boer as WGSIP members of the CMIP-WGCM-WGSIP group coordinating the CMIP5 near term experiments.  </a:t>
            </a:r>
            <a:endParaRPr b="0" lang="en-US" sz="2500" spc="-1" strike="noStrike">
              <a:solidFill>
                <a:srgbClr val="000000"/>
              </a:solidFill>
              <a:latin typeface="Arial"/>
            </a:endParaRPr>
          </a:p>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Arial"/>
              </a:rPr>
              <a:t>18.  Circulate to WGSIP the list of data, in particular variables that will be useful for impacts studies, that will be stored from the near term experiments.  (T. Stockdale, G. Boer).  </a:t>
            </a:r>
            <a:endParaRPr b="0" lang="en-US" sz="2500" spc="-1" strike="noStrike">
              <a:solidFill>
                <a:srgbClr val="000000"/>
              </a:solidFill>
              <a:latin typeface="Arial"/>
            </a:endParaRPr>
          </a:p>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19.  Determine the interest within the WGSIP community in participating in the CMIP5 near term experiments and diagnostics analysis.  </a:t>
            </a:r>
            <a:endParaRPr b="0" lang="en-US" sz="2500" spc="-1" strike="noStrike">
              <a:solidFill>
                <a:srgbClr val="000000"/>
              </a:solidFill>
              <a:latin typeface="Arial"/>
            </a:endParaRPr>
          </a:p>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6600"/>
                </a:solidFill>
                <a:latin typeface="Arial"/>
              </a:rPr>
              <a:t>20.  Interface between US CLIVAR WG on decadal prediction and the CMIP-WGCM-WGSIP group (A. Kumar, T. Stockdale, G. Boe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9:07:52Z</dcterms:created>
  <dc:creator>Anna Pirani</dc:creator>
  <dc:description/>
  <dc:language>en-US</dc:language>
  <cp:lastModifiedBy>Anna Pirani</cp:lastModifiedBy>
  <dcterms:modified xsi:type="dcterms:W3CDTF">2010-08-06T09:08:29Z</dcterms:modified>
  <cp:revision>1</cp:revision>
  <dc:subject/>
  <dc:title>Action Items and Recommendations</dc:title>
</cp:coreProperties>
</file>