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A9B9-BD69-489D-9D70-D943FE6D3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4007-B88E-4F70-8579-B73B13D07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58EF-F956-470D-9E88-351DA959A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E99F-0D6F-45B9-AE64-2D2DF8E51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1C7A-1BD1-481B-8D5C-70B8A212B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902D-A7BE-4C71-A15B-E2882579D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57E1-C121-4BA8-A175-0C1F56B00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34DD-3653-4ABD-9696-DCE03E0A7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7F07-9C89-4971-AAEE-E5C0E0C4C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DA4C-B43C-47B7-87E5-9ED95814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70EF-4DCC-454D-A565-1D54B641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FA0D-6673-4E4F-B3BF-E2CB0376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7322D-D06A-49BB-BB70-10D8C8437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wmo.int/pages/prog/arep/wwrp/new/Forecast_Verification.html" TargetMode="External"/><Relationship Id="rId2" Type="http://schemas.openxmlformats.org/officeDocument/2006/relationships/hyperlink" Target="http://www.wmo.int/pages/prog/arep/wwrp/new/Forecast_Verification.html" TargetMode="External"/><Relationship Id="rId3" Type="http://schemas.openxmlformats.org/officeDocument/2006/relationships/hyperlink" Target="http://www.wmo.int/pages/prog/arep/wwrp/new/Forecast_Verification.html" TargetMode="External"/><Relationship Id="rId4" Type="http://schemas.openxmlformats.org/officeDocument/2006/relationships/hyperlink" Target="http://www.wmo.int/pages/prog/arep/wwrp/new/Forecast_Verification.html" TargetMode="External"/><Relationship Id="rId5" Type="http://schemas.openxmlformats.org/officeDocument/2006/relationships/hyperlink" Target="http://www.wmo.int/pages/prog/arep/wwrp/new/Forecast_Verification.html" TargetMode="External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ong-range forecast ver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3920" y="887040"/>
            <a:ext cx="9060120" cy="551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veral organizations/groups involved at the WMO lev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480" y="1303200"/>
            <a:ext cx="9048600" cy="2616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360" y="3433680"/>
            <a:ext cx="9149040" cy="1893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9360" y="5307120"/>
            <a:ext cx="9147240" cy="1172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ong-range forecast ver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3920" y="887040"/>
            <a:ext cx="9060120" cy="551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coordination working groups at the WMO lev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41440" y="1687680"/>
            <a:ext cx="8061120" cy="47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ong-range forecast ver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3920" y="887040"/>
            <a:ext cx="9060120" cy="551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veral organizations/groups involv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int Working Group on Forecast Verification Research of the WWRP and WG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mo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int/pages/prog/arep/wwrp/new/Forecast_Verification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1322280" y="1943280"/>
            <a:ext cx="6483600" cy="3868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1552680" y="1833480"/>
            <a:ext cx="6008760" cy="462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ong-range forecast ver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3920" y="887040"/>
            <a:ext cx="9060120" cy="551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veral organizations/groups involved </a:t>
            </a: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JGWFV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int Working Group on Forecast Verification Research of the WWRP and WG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http://www.cawcr.gov.au/projects/verification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15800" y="1893960"/>
            <a:ext cx="8272440" cy="458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ong-range forecast ver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3920" y="887040"/>
            <a:ext cx="9060120" cy="551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o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verificat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http://cran.r-project.org/web/packages/verification/index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9080" y="2238480"/>
            <a:ext cx="9072360" cy="4203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6T09:22:55Z</dcterms:created>
  <dc:creator>Anna Pirani</dc:creator>
  <dc:description/>
  <dc:language>en-US</dc:language>
  <cp:lastModifiedBy>Anna Pirani</cp:lastModifiedBy>
  <dcterms:modified xsi:type="dcterms:W3CDTF">2010-08-06T09:24:10Z</dcterms:modified>
  <cp:revision>1</cp:revision>
  <dc:subject/>
  <dc:title>Long-range forecast verification</dc:title>
</cp:coreProperties>
</file>