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3D0-7B5A-4B63-A7A6-E235DF16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028-5142-4B3B-B5C0-444606D7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773-2D85-4ABE-B2AF-241875ED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D72-4CF9-4A33-BAC9-110313B9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A03-B565-4518-AC55-2A5622A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25F-3E09-4626-9267-BAE8A233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019-884D-4E75-B644-B83EC7C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9C1-7898-427A-92D2-C9FA238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E37-B948-4B17-918F-4AD27E14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94E-F74D-4F45-ADFD-DD95919B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C16-A943-431A-A93D-BA4B83B8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895-88CC-4BB7-B556-418C4C5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0177-57EE-4B87-ABF1-88A6BB41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mo.int/pages/prog/arep/wwrp/new/Forecast_Verification.html" TargetMode="External"/><Relationship Id="rId2" Type="http://schemas.openxmlformats.org/officeDocument/2006/relationships/hyperlink" Target="http://www.wmo.int/pages/prog/arep/wwrp/new/Forecast_Verification.html" TargetMode="External"/><Relationship Id="rId3" Type="http://schemas.openxmlformats.org/officeDocument/2006/relationships/hyperlink" Target="http://www.wmo.int/pages/prog/arep/wwrp/new/Forecast_Verification.html" TargetMode="External"/><Relationship Id="rId4" Type="http://schemas.openxmlformats.org/officeDocument/2006/relationships/hyperlink" Target="http://www.wmo.int/pages/prog/arep/wwrp/new/Forecast_Verification.html" TargetMode="External"/><Relationship Id="rId5" Type="http://schemas.openxmlformats.org/officeDocument/2006/relationships/hyperlink" Target="http://www.wmo.int/pages/prog/arep/wwrp/new/Forecast_Verification.html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organizations/groups involved at the WMO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1303200"/>
            <a:ext cx="9048600" cy="26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360" y="3433680"/>
            <a:ext cx="9149040" cy="18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360" y="5307120"/>
            <a:ext cx="9147240" cy="117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coordination working groups at the WMO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440" y="1687680"/>
            <a:ext cx="80611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organizations/groups invol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ing Group on Forecast Verification Research of the WWRP and WG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mo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t/pages/prog/arep/wwrp/new/Forecast_Verificatio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322280" y="1943280"/>
            <a:ext cx="6483600" cy="386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552680" y="1833480"/>
            <a:ext cx="6008760" cy="46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organizations/groups involved 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JGWFV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ing Group on Forecast Verification Research of the WWRP and WG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http://www.cawcr.gov.au/projects/verifica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5800" y="1893960"/>
            <a:ext cx="8272440" cy="45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range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920" y="887040"/>
            <a:ext cx="90601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verif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http://cran.r-project.org/web/packages/verification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" y="2238480"/>
            <a:ext cx="9072360" cy="420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09:22:55Z</dcterms:created>
  <dc:creator>Anna Pirani</dc:creator>
  <dc:description/>
  <dc:language>en-US</dc:language>
  <cp:lastModifiedBy>Anna Pirani</cp:lastModifiedBy>
  <dcterms:modified xsi:type="dcterms:W3CDTF">2010-08-06T09:24:10Z</dcterms:modified>
  <cp:revision>1</cp:revision>
  <dc:subject/>
  <dc:title>Long-range forecast verification</dc:title>
</cp:coreProperties>
</file>