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loSea4 – the new Met Office seasonal forecast syst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300640"/>
            <a:ext cx="8401320" cy="15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berto Arribas, Margaret Gordon, Drew Peterson, Anna Maidens, Matthew Glover, Craig Maclachlan, David Fereday, Joanne Camp, Peter McLean, Richard Graham, Andrew Colman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am Scaif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Prince Xavier, Steve Cusa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GSIP Jul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gth of hind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83040" y="1557000"/>
            <a:ext cx="3360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416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 for all 46 years and sample means for 100 randomly subsamp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ear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sigma for 46 year cli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sigma for sample statistics (100 random subsamples of lengt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 of most rece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5184720" cy="3792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1773360"/>
            <a:ext cx="5111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o 3.4, November initialisation, forecast for Decemb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5877000"/>
            <a:ext cx="422280" cy="360360"/>
          </a:xfrm>
          <a:prstGeom prst="diamond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1557360"/>
            <a:ext cx="5047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3429000"/>
            <a:ext cx="1079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4581360"/>
            <a:ext cx="1079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6308640"/>
            <a:ext cx="4103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from ENSEMBLES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0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Seasonal Forecast System 4: GloSe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4800"/>
            <a:ext cx="82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ontent Placeholder 4"/>
          <p:cNvSpPr/>
          <p:nvPr/>
        </p:nvSpPr>
        <p:spPr>
          <a:xfrm>
            <a:off x="395280" y="1773360"/>
            <a:ext cx="8424720" cy="496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56680" indent="-25668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derlying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loSea3 – HadCM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loSea4 – HadGEM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178560">
              <a:lnSpc>
                <a:spcPct val="9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M (Met Office Unified Model) atmospher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178560">
              <a:lnSpc>
                <a:spcPct val="9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MO (Nucleus for European Modelling of the Ocean) ocean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178560">
              <a:lnSpc>
                <a:spcPct val="9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ICE (Los Alamos Sea-ice Model) sea-ic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1280" indent="-178560">
              <a:lnSpc>
                <a:spcPct val="90000"/>
              </a:lnSpc>
              <a:spcBef>
                <a:spcPts val="612"/>
              </a:spcBef>
              <a:spcAft>
                <a:spcPts val="6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(Met Office  Surface Exchange Scheme) land surfa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del resolu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96 (approximately 120 km. horizontal resolution in mid-latitudes) and 38 levels in the vert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ce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CA1 grid (1 degree ocean with 1/3 of a degree refinement between 20S and 20N) and 42 levels in the vertic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69724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semble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42920" y="1773360"/>
            <a:ext cx="697248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dc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sed for calibration and skil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years (1989-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in real time to allow for model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 interim reanalyses for atmosphere, Met Office optimal interpolation for oc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ice active but not initia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Office analyses for atmosphere and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members per week, initialised every 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69721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ing uncertainties using ensemble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2205000"/>
            <a:ext cx="4968720" cy="374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condition uncertainti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turbations added to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st with previous system: SST and wind stress perturbation of a centr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ncertain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hastic Kinetic Energy Backscatter version2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3025800" cy="188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08720" y="4435560"/>
            <a:ext cx="3527280" cy="1789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12000" y="4149720"/>
            <a:ext cx="273672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 of initial spread - Nino 3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916280"/>
            <a:ext cx="27370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2010 forecast of Nino 3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54480" cy="2621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280040" cy="234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1628640"/>
            <a:ext cx="4230720" cy="2328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C scores – 1.5m T for Giorgi land reg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3500280"/>
            <a:ext cx="216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Upper ter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5877000"/>
            <a:ext cx="194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Lower ter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500280"/>
            <a:ext cx="2233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Middle ter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4581360"/>
            <a:ext cx="172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forecasts for DJ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40000" y="4005360"/>
            <a:ext cx="4267080" cy="267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4243320" cy="23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50920" y="1700280"/>
            <a:ext cx="4279680" cy="2279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933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C scores – precipitation for Giorgi land reg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500280"/>
            <a:ext cx="216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Upper ter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5877000"/>
            <a:ext cx="194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Lower ter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9280" y="3500280"/>
            <a:ext cx="2233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Middle ter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581360"/>
            <a:ext cx="172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forecasts for DJ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5084640"/>
            <a:ext cx="172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hy is middle tercile always lower in ski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933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pitation patterns for ENSO pha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327560" cy="2670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4267080" cy="23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4005360"/>
            <a:ext cx="4273560" cy="263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572000" y="1628640"/>
            <a:ext cx="4346640" cy="2335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8000" y="6237360"/>
            <a:ext cx="1297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933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pitation in Horn of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840120" cy="3840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3768480" cy="3768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2276640"/>
            <a:ext cx="309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o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276640"/>
            <a:ext cx="309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532560"/>
            <a:ext cx="46083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initialised in November for DJ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9339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4436640"/>
            <a:ext cx="828036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vertical resolution (L85 atmosphere, L75 oc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milation of Sea 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ily Initialisation of forecast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e to simulate tropical volcanic eru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197000"/>
            <a:ext cx="828036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ndcasts run in real time, allowing for easy upgr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ill of GloSea4 comparable to, or better than, GloSea3 in mos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O teleconnections and MJO well captured, NAO has low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sancha.lancaster</dc:creator>
  <dc:description>submitted 26.7.2005     CHG015666 refers</dc:description>
  <dc:language>en-US</dc:language>
  <cp:lastModifiedBy>Anna Pirani</cp:lastModifiedBy>
  <cp:lastPrinted>2004-10-15T09:34:20Z</cp:lastPrinted>
  <dcterms:modified xsi:type="dcterms:W3CDTF">2010-08-06T14:10:37Z</dcterms:modified>
  <cp:revision>351</cp:revision>
  <dc:subject/>
  <dc:title>Slide 1</dc:title>
</cp:coreProperties>
</file>