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AB9-FD9C-4898-90F8-8774DEF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639-26E1-4009-9848-AF83EEFB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50E-F7DF-4F51-AD96-8ED7AB47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A23-A1E3-4DED-8434-CFC4325F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A71-551D-4A77-99E1-AC933681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027-04ED-4305-9122-96668D23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AB2-6E39-4838-916E-086BC67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C5A-4B2E-4AE6-BE3A-D70C6FFD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2BD-0685-4D5A-A506-C14F2B5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BB1-92D0-4B17-9ADA-C72546A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BC6-55F4-4D19-842B-C5107B6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427-DC38-4A0D-A06F-A82E7BC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E46F-1F36-45FD-9E3E-F036C8B51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change of Decadal Prediction Inform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8400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m Scaife and Doug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GSIP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 George has explained many groups are now developing decad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experiments are being done for CMI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about real time predi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5th session of the WMO Commission for Climatology recommended action to start the coordination and exchange of decad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sal went out to various groups earlier this year to exchange decadal prediction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search exercise – we can learn a lot from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event over-confidence from a sing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qual access, ownership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’ve had an overwhelmingly positive respo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FDL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ony Rosat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U. Tokyo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Kimoto Masa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MH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Klaus Wyser,Colin Jon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KNM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ilco Hazel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C3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Francisco Doblas-Rey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aniela M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SMAS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en Kirtma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CCMA-EC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George Bo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M-GEOMAR -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ojib Latif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RFACS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Laurent Te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Are others planning to make regular decadal predic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f so, would you like to take 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We plan to keep initial exchange very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Global Annual Mean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One file for each year,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 u="sng">
                <a:solidFill>
                  <a:srgbClr val="008000"/>
                </a:solidFill>
                <a:uFillTx/>
                <a:latin typeface="Arial"/>
              </a:rPr>
              <a:t>Exchanged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 once per year around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Example diagno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760920"/>
            <a:ext cx="295272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5113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9:52:47Z</dcterms:created>
  <dc:creator>Anna Pirani</dc:creator>
  <dc:description/>
  <dc:language>en-US</dc:language>
  <cp:lastModifiedBy>Anna Pirani</cp:lastModifiedBy>
  <dcterms:modified xsi:type="dcterms:W3CDTF">2010-08-09T09:35:01Z</dcterms:modified>
  <cp:revision>2</cp:revision>
  <dc:subject/>
  <dc:title>Exchange of Decadal Prediction Information  </dc:title>
</cp:coreProperties>
</file>