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9AD-B527-4696-A2CA-7D1FF020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E1E-A498-42BF-B9E0-823D10EA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45C-04A8-48A3-8C01-1C312052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DFB-1359-42C1-9F4E-BC2B9604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EE1-7C13-4A79-ABC0-6292A6F4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AFD-B5F0-4417-9918-EDDD4A7F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68E-DA59-4F97-B538-22B64798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0E1-31B6-42A4-8644-9D98474F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855-7025-4C1C-AA47-1C3676A0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AC6-1705-43A5-AAD7-BC1A619F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93A-7DC7-456D-BA44-1131B987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039-6802-4F13-A5B5-6B277445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1821-33CF-4836-91A8-0F4CA60E2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change of Decadal Prediction Inform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445000"/>
            <a:ext cx="840096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m Scaife and Doug 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GSIP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4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 George has explained many groups are now developing decad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y experiments are being done for CMI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about real time predi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5th session of the WMO Commission for Climatology recommended action to start the coordination and exchange of decad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posal went out to various groups earlier this year to exchange decadal prediction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search exercise – we can learn a lot from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prevent over-confidence from a singl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equal access, ownership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4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e’ve had an overwhelmingly positive respon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FDL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ony Rosat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U. Tokyo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Kimoto Masa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MHI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Klaus Wyser,Colin Jon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KNMI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ilco Hazel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C3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Francisco Doblas-Rey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I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Daniela Ma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SMAS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Ben Kirtma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CCMA-EC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George Boer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fM-GEOMAR -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ojib Latif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RFACS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Laurent Te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Are others planning to make regular decadal predic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If so, would you like to take p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4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We plan to keep initial exchange very 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Global Annual Mean 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One file for each year,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GB" sz="3200" spc="-1" strike="noStrike" u="sng">
                <a:solidFill>
                  <a:srgbClr val="008000"/>
                </a:solidFill>
                <a:uFillTx/>
                <a:latin typeface="Arial"/>
              </a:rPr>
              <a:t>Exchanged</a:t>
            </a:r>
            <a:r>
              <a:rPr b="1" i="1" lang="en-GB" sz="3200" spc="-1" strike="noStrike">
                <a:solidFill>
                  <a:srgbClr val="008000"/>
                </a:solidFill>
                <a:latin typeface="Arial"/>
              </a:rPr>
              <a:t> once per year around Octo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Example diagno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3760920"/>
            <a:ext cx="295272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360" y="3789360"/>
            <a:ext cx="51134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09:52:47Z</dcterms:created>
  <dc:creator>Anna Pirani</dc:creator>
  <dc:description/>
  <dc:language>en-US</dc:language>
  <cp:lastModifiedBy>Anna Pirani</cp:lastModifiedBy>
  <dcterms:modified xsi:type="dcterms:W3CDTF">2010-08-09T09:35:01Z</dcterms:modified>
  <cp:revision>2</cp:revision>
  <dc:subject/>
  <dc:title>Exchange of Decadal Prediction Information  </dc:title>
</cp:coreProperties>
</file>