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13.png" ContentType="image/png"/>
  <Override PartName="/ppt/media/image6.pct" ContentType="image/x-pict"/>
  <Override PartName="/ppt/media/image9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5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6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7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A886-567E-49AF-B613-253E0A265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6FBA-7A7E-49F0-9891-C726638E8997}" type="slidenum">
              <a:rPr b="0" lang="en-GB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1F9D-AAA4-4491-9852-403EFC7E9D3E}" type="slidenum">
              <a:rPr b="0" lang="en-GB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0674-E16B-409D-941C-2E5B5B9C7B02}" type="slidenum">
              <a:rPr b="0" lang="en-GB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08440" y="530280"/>
            <a:ext cx="3394080" cy="254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41280" y="3235320"/>
            <a:ext cx="6731280" cy="31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B0B1-D443-4233-93C9-CB349EDB1A38}" type="slidenum">
              <a:rPr b="0" lang="en-GB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DF4C-93DF-4200-B3AE-902B374E7CC2}" type="slidenum">
              <a:rPr b="0" lang="en-GB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6AB2-0A2A-4D58-A086-59B402251F84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81AB-3229-4231-BEAB-BB8BBC9999A2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A465-3FFA-45FF-8BA3-DA75F8DF9AA2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F0EA-7343-43AD-B027-B2613ED5F12C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2689-EEFA-4DD5-B159-450A79259444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9C60-65FD-421C-9F57-16BA29A2EC64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0"/>
            <a:ext cx="7192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651640" y="6381360"/>
            <a:ext cx="280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71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Times New Roman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Times New Roman"/>
              </a:rPr>
              <a:t>A partnership between CSIRO and the Bureau of Meteorolog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8"/>
          <p:cNvGrpSpPr/>
          <p:nvPr/>
        </p:nvGrpSpPr>
        <p:grpSpPr>
          <a:xfrm>
            <a:off x="8459640" y="6207120"/>
            <a:ext cx="401760" cy="503280"/>
            <a:chOff x="8459640" y="6207120"/>
            <a:chExt cx="401760" cy="503280"/>
          </a:xfrm>
        </p:grpSpPr>
        <p:sp>
          <p:nvSpPr>
            <p:cNvPr id="3" name="AutoShape 9"/>
            <p:cNvSpPr/>
            <p:nvPr/>
          </p:nvSpPr>
          <p:spPr>
            <a:xfrm>
              <a:off x="8459640" y="6207120"/>
              <a:ext cx="4017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8459640" y="6207120"/>
              <a:ext cx="4017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461080" y="6208560"/>
              <a:ext cx="398520" cy="39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497800" y="6630840"/>
              <a:ext cx="5220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578800" y="6630840"/>
              <a:ext cx="42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" name="Rectangle 14"/>
            <p:cNvSpPr/>
            <p:nvPr/>
          </p:nvSpPr>
          <p:spPr>
            <a:xfrm>
              <a:off x="8651880" y="6630840"/>
              <a:ext cx="1584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700840" y="6630840"/>
              <a:ext cx="4896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74280" y="6630840"/>
              <a:ext cx="6192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461080" y="6208560"/>
              <a:ext cx="398520" cy="400320"/>
            </a:xfrm>
            <a:prstGeom prst="pie">
              <a:avLst/>
            </a:prstGeom>
            <a:solidFill>
              <a:srgbClr val="00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461080" y="6240240"/>
              <a:ext cx="90720" cy="33660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" name="Freeform 19"/>
            <p:cNvSpPr/>
            <p:nvPr/>
          </p:nvSpPr>
          <p:spPr>
            <a:xfrm>
              <a:off x="8664480" y="6208560"/>
              <a:ext cx="28440" cy="400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" name="Freeform 20"/>
            <p:cNvSpPr/>
            <p:nvPr/>
          </p:nvSpPr>
          <p:spPr>
            <a:xfrm>
              <a:off x="8734320" y="6221160"/>
              <a:ext cx="28440" cy="373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" name="Freeform 21"/>
            <p:cNvSpPr/>
            <p:nvPr/>
          </p:nvSpPr>
          <p:spPr>
            <a:xfrm>
              <a:off x="8769600" y="6240240"/>
              <a:ext cx="90720" cy="33660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" name="Freeform 22"/>
            <p:cNvSpPr/>
            <p:nvPr/>
          </p:nvSpPr>
          <p:spPr>
            <a:xfrm>
              <a:off x="8699400" y="6211440"/>
              <a:ext cx="28440" cy="39384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" name="Freeform 23"/>
            <p:cNvSpPr/>
            <p:nvPr/>
          </p:nvSpPr>
          <p:spPr>
            <a:xfrm>
              <a:off x="8629560" y="6208560"/>
              <a:ext cx="26640" cy="400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" name="Freeform 24"/>
            <p:cNvSpPr/>
            <p:nvPr/>
          </p:nvSpPr>
          <p:spPr>
            <a:xfrm>
              <a:off x="8593200" y="6211440"/>
              <a:ext cx="28440" cy="39384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" name="Freeform 25"/>
            <p:cNvSpPr/>
            <p:nvPr/>
          </p:nvSpPr>
          <p:spPr>
            <a:xfrm>
              <a:off x="8558280" y="6221160"/>
              <a:ext cx="28440" cy="373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20" name="Picture 26" descr="BM_stacked"/>
          <p:cNvPicPr/>
          <p:nvPr/>
        </p:nvPicPr>
        <p:blipFill>
          <a:blip r:embed="rId2"/>
          <a:stretch/>
        </p:blipFill>
        <p:spPr>
          <a:xfrm>
            <a:off x="4716360" y="6062760"/>
            <a:ext cx="978120" cy="685800"/>
          </a:xfrm>
          <a:prstGeom prst="rect">
            <a:avLst/>
          </a:prstGeom>
          <a:ln w="0">
            <a:noFill/>
          </a:ln>
        </p:spPr>
      </p:pic>
      <p:grpSp>
        <p:nvGrpSpPr>
          <p:cNvPr id="21" name="Group 34"/>
          <p:cNvGrpSpPr/>
          <p:nvPr/>
        </p:nvGrpSpPr>
        <p:grpSpPr>
          <a:xfrm>
            <a:off x="762120" y="76320"/>
            <a:ext cx="3581280" cy="228600"/>
            <a:chOff x="762120" y="76320"/>
            <a:chExt cx="3581280" cy="228600"/>
          </a:xfrm>
        </p:grpSpPr>
        <p:pic>
          <p:nvPicPr>
            <p:cNvPr id="22" name="Picture 35" descr="poama_logo"/>
            <p:cNvPicPr/>
            <p:nvPr/>
          </p:nvPicPr>
          <p:blipFill>
            <a:blip r:embed="rId3"/>
            <a:stretch/>
          </p:blipFill>
          <p:spPr>
            <a:xfrm>
              <a:off x="762120" y="76320"/>
              <a:ext cx="100728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Line 36"/>
            <p:cNvSpPr/>
            <p:nvPr/>
          </p:nvSpPr>
          <p:spPr>
            <a:xfrm>
              <a:off x="762120" y="304920"/>
              <a:ext cx="3581280" cy="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pic>
          <p:nvPicPr>
            <p:cNvPr id="24" name="Picture 37" descr="poama_title"/>
            <p:cNvPicPr/>
            <p:nvPr/>
          </p:nvPicPr>
          <p:blipFill>
            <a:blip r:embed="rId4"/>
            <a:stretch/>
          </p:blipFill>
          <p:spPr>
            <a:xfrm>
              <a:off x="1791720" y="114480"/>
              <a:ext cx="2551320" cy="18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" name="Line 38"/>
          <p:cNvSpPr/>
          <p:nvPr/>
        </p:nvSpPr>
        <p:spPr>
          <a:xfrm>
            <a:off x="762120" y="304920"/>
            <a:ext cx="3581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dt" idx="2"/>
          </p:nvPr>
        </p:nvSpPr>
        <p:spPr>
          <a:xfrm>
            <a:off x="8172360" y="6308280"/>
            <a:ext cx="7272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7"/>
          <p:cNvSpPr/>
          <p:nvPr/>
        </p:nvSpPr>
        <p:spPr>
          <a:xfrm>
            <a:off x="0" y="0"/>
            <a:ext cx="7192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01" name="Group 8"/>
          <p:cNvGrpSpPr/>
          <p:nvPr/>
        </p:nvGrpSpPr>
        <p:grpSpPr>
          <a:xfrm>
            <a:off x="8459640" y="6207120"/>
            <a:ext cx="401760" cy="503280"/>
            <a:chOff x="8459640" y="6207120"/>
            <a:chExt cx="401760" cy="503280"/>
          </a:xfrm>
        </p:grpSpPr>
        <p:sp>
          <p:nvSpPr>
            <p:cNvPr id="102" name="AutoShape 9"/>
            <p:cNvSpPr/>
            <p:nvPr/>
          </p:nvSpPr>
          <p:spPr>
            <a:xfrm>
              <a:off x="8459640" y="6207120"/>
              <a:ext cx="4017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8459640" y="6207120"/>
              <a:ext cx="4017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8461080" y="6208560"/>
              <a:ext cx="398520" cy="39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8497800" y="6630840"/>
              <a:ext cx="5220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" name="Freeform 13"/>
            <p:cNvSpPr/>
            <p:nvPr/>
          </p:nvSpPr>
          <p:spPr>
            <a:xfrm>
              <a:off x="8578800" y="6630840"/>
              <a:ext cx="42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7" name="Rectangle 14"/>
            <p:cNvSpPr/>
            <p:nvPr/>
          </p:nvSpPr>
          <p:spPr>
            <a:xfrm>
              <a:off x="8651880" y="6630840"/>
              <a:ext cx="1584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8" name="Freeform 15"/>
            <p:cNvSpPr/>
            <p:nvPr/>
          </p:nvSpPr>
          <p:spPr>
            <a:xfrm>
              <a:off x="8700840" y="6630840"/>
              <a:ext cx="4896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9" name="Freeform 16"/>
            <p:cNvSpPr/>
            <p:nvPr/>
          </p:nvSpPr>
          <p:spPr>
            <a:xfrm>
              <a:off x="8774280" y="6630840"/>
              <a:ext cx="6192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0" name="Freeform 17"/>
            <p:cNvSpPr/>
            <p:nvPr/>
          </p:nvSpPr>
          <p:spPr>
            <a:xfrm>
              <a:off x="8461080" y="6208560"/>
              <a:ext cx="398520" cy="400320"/>
            </a:xfrm>
            <a:prstGeom prst="pie">
              <a:avLst/>
            </a:prstGeom>
            <a:solidFill>
              <a:srgbClr val="00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" name="Freeform 18"/>
            <p:cNvSpPr/>
            <p:nvPr/>
          </p:nvSpPr>
          <p:spPr>
            <a:xfrm>
              <a:off x="8461080" y="6240240"/>
              <a:ext cx="90720" cy="33660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2" name="Freeform 19"/>
            <p:cNvSpPr/>
            <p:nvPr/>
          </p:nvSpPr>
          <p:spPr>
            <a:xfrm>
              <a:off x="8664480" y="6208560"/>
              <a:ext cx="28440" cy="400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3" name="Freeform 20"/>
            <p:cNvSpPr/>
            <p:nvPr/>
          </p:nvSpPr>
          <p:spPr>
            <a:xfrm>
              <a:off x="8734320" y="6221160"/>
              <a:ext cx="28440" cy="373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4" name="Freeform 21"/>
            <p:cNvSpPr/>
            <p:nvPr/>
          </p:nvSpPr>
          <p:spPr>
            <a:xfrm>
              <a:off x="8769600" y="6240240"/>
              <a:ext cx="90720" cy="33660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5" name="Freeform 22"/>
            <p:cNvSpPr/>
            <p:nvPr/>
          </p:nvSpPr>
          <p:spPr>
            <a:xfrm>
              <a:off x="8699400" y="6211440"/>
              <a:ext cx="28440" cy="39384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" name="Freeform 23"/>
            <p:cNvSpPr/>
            <p:nvPr/>
          </p:nvSpPr>
          <p:spPr>
            <a:xfrm>
              <a:off x="8629560" y="6208560"/>
              <a:ext cx="26640" cy="400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" name="Freeform 24"/>
            <p:cNvSpPr/>
            <p:nvPr/>
          </p:nvSpPr>
          <p:spPr>
            <a:xfrm>
              <a:off x="8593200" y="6211440"/>
              <a:ext cx="28440" cy="39384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" name="Freeform 25"/>
            <p:cNvSpPr/>
            <p:nvPr/>
          </p:nvSpPr>
          <p:spPr>
            <a:xfrm>
              <a:off x="8558280" y="6221160"/>
              <a:ext cx="28440" cy="373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119" name="Picture 26" descr="BM_stacked"/>
          <p:cNvPicPr/>
          <p:nvPr/>
        </p:nvPicPr>
        <p:blipFill>
          <a:blip r:embed="rId2"/>
          <a:stretch/>
        </p:blipFill>
        <p:spPr>
          <a:xfrm>
            <a:off x="4716360" y="6062760"/>
            <a:ext cx="978120" cy="6858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34"/>
          <p:cNvGrpSpPr/>
          <p:nvPr/>
        </p:nvGrpSpPr>
        <p:grpSpPr>
          <a:xfrm>
            <a:off x="762120" y="76320"/>
            <a:ext cx="3581280" cy="228600"/>
            <a:chOff x="762120" y="76320"/>
            <a:chExt cx="3581280" cy="228600"/>
          </a:xfrm>
        </p:grpSpPr>
        <p:pic>
          <p:nvPicPr>
            <p:cNvPr id="121" name="Picture 35" descr="poama_logo"/>
            <p:cNvPicPr/>
            <p:nvPr/>
          </p:nvPicPr>
          <p:blipFill>
            <a:blip r:embed="rId3"/>
            <a:stretch/>
          </p:blipFill>
          <p:spPr>
            <a:xfrm>
              <a:off x="762120" y="76320"/>
              <a:ext cx="100728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Line 36"/>
            <p:cNvSpPr/>
            <p:nvPr/>
          </p:nvSpPr>
          <p:spPr>
            <a:xfrm>
              <a:off x="762120" y="304920"/>
              <a:ext cx="3581280" cy="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pic>
          <p:nvPicPr>
            <p:cNvPr id="123" name="Picture 37" descr="poama_title"/>
            <p:cNvPicPr/>
            <p:nvPr/>
          </p:nvPicPr>
          <p:blipFill>
            <a:blip r:embed="rId4"/>
            <a:stretch/>
          </p:blipFill>
          <p:spPr>
            <a:xfrm>
              <a:off x="1791720" y="114480"/>
              <a:ext cx="2551320" cy="18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Line 38"/>
          <p:cNvSpPr/>
          <p:nvPr/>
        </p:nvSpPr>
        <p:spPr>
          <a:xfrm>
            <a:off x="762120" y="304920"/>
            <a:ext cx="3581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4"/>
          </p:nvPr>
        </p:nvSpPr>
        <p:spPr>
          <a:xfrm>
            <a:off x="5651640" y="6381360"/>
            <a:ext cx="280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133720" y="3049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cean Sub-Surface Observing Network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457200" y="762120"/>
            <a:ext cx="89330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XBT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ed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TAO/PIRATA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ed (T Used, S and U for validation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rgo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ed (T,S, Some do not use Salinity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ltimeter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ed by some (Benefit ?, Mean sea level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ST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ually nudged – should be assimilated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SS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from Satellite – not yet good enough ?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rifters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Could be used for validatio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Currents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e.g. TAO used for validatio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e of observations: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ssimilation sophistication (Univariate, Multivariate, 2D,3D,4D, Coupled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Model/forcing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ias correction/Shock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Big problem – Non-stationarity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914400" y="2514600"/>
            <a:ext cx="738828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6699"/>
                </a:solidFill>
                <a:latin typeface="Arial"/>
              </a:rPr>
              <a:t>Decadal Prediction</a:t>
            </a:r>
            <a:endParaRPr b="0" lang="en-US" sz="80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535480" y="53352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ecal prediction: Other differenc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914400" y="914400"/>
            <a:ext cx="7391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asonal well known modes of variability (ENSO, IOD etc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cadal deep ocean variability in North Atlantic, but no clear modes in southern hemisphere (e.g.for Australia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asonal memory for relatively well observed upper ocea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cadal depends on less well observed deeper ocea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1066680" y="3124080"/>
            <a:ext cx="5181840" cy="2819520"/>
            <a:chOff x="1066680" y="3124080"/>
            <a:chExt cx="5181840" cy="2819520"/>
          </a:xfrm>
        </p:grpSpPr>
        <p:pic>
          <p:nvPicPr>
            <p:cNvPr id="220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4524840"/>
              <a:ext cx="5181840" cy="14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"/>
            <p:cNvPicPr/>
            <p:nvPr/>
          </p:nvPicPr>
          <p:blipFill>
            <a:blip r:embed="rId2"/>
            <a:stretch/>
          </p:blipFill>
          <p:spPr>
            <a:xfrm>
              <a:off x="1066680" y="3124080"/>
              <a:ext cx="5181840" cy="14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TextBox 8"/>
          <p:cNvSpPr/>
          <p:nvPr/>
        </p:nvSpPr>
        <p:spPr>
          <a:xfrm>
            <a:off x="6629400" y="312408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tlantic Meridional overturning circulation in GFDL mod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rgo is essentia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Zhang et al 2007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21320" cy="2743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913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276720" y="609480"/>
            <a:ext cx="40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mpact of Ocean Observation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1195560" y="1066680"/>
            <a:ext cx="751824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1"/>
          <p:cNvSpPr/>
          <p:nvPr/>
        </p:nvSpPr>
        <p:spPr>
          <a:xfrm>
            <a:off x="5651640" y="638172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828800" y="68580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Simulation of El Nin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1529640" y="3035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rcRect l="0" t="0" r="79113" b="73338"/>
          <a:stretch/>
        </p:blipFill>
        <p:spPr>
          <a:xfrm>
            <a:off x="2209680" y="1143000"/>
            <a:ext cx="5067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1"/>
          <p:cNvSpPr/>
          <p:nvPr/>
        </p:nvSpPr>
        <p:spPr>
          <a:xfrm>
            <a:off x="5651640" y="638172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905120" y="3808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Simulation of El Nin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529640" y="3035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rcRect l="0" t="0" r="79113" b="0"/>
          <a:stretch/>
        </p:blipFill>
        <p:spPr>
          <a:xfrm>
            <a:off x="571680" y="1143000"/>
            <a:ext cx="1790640" cy="5715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533520" y="83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S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52280" y="1066680"/>
            <a:ext cx="30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ECMWF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152280" y="2590920"/>
            <a:ext cx="304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PEODA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152280" y="4038480"/>
            <a:ext cx="30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GODA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152280" y="5486400"/>
            <a:ext cx="3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EN3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5651640" y="607680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828800" y="304920"/>
            <a:ext cx="609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Simulation of El Nin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1529640" y="2730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rcRect l="0" t="0" r="0" b="2666"/>
          <a:stretch/>
        </p:blipFill>
        <p:spPr>
          <a:xfrm>
            <a:off x="571680" y="838080"/>
            <a:ext cx="8572320" cy="5562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533520" y="5335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ST                     HEAT CONT          SSS               Salt Cont             Surf Curre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152280" y="762120"/>
            <a:ext cx="30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ECMWF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152280" y="2286000"/>
            <a:ext cx="304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PEODA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152280" y="3733920"/>
            <a:ext cx="30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GODA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152280" y="5105520"/>
            <a:ext cx="30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ENAC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914400" y="6477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What is truth ?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5651640" y="638172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828800" y="990720"/>
            <a:ext cx="609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Observations in the Tropical Indian Ocean (TRIO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1529640" y="3035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558720" y="2063880"/>
            <a:ext cx="802656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5651640" y="638172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828800" y="533520"/>
            <a:ext cx="609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Indian Ocea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1529640" y="3035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1592280" y="1295280"/>
            <a:ext cx="7593120" cy="46483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5"/>
          <p:cNvSpPr/>
          <p:nvPr/>
        </p:nvSpPr>
        <p:spPr>
          <a:xfrm>
            <a:off x="2133720" y="9144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emperature                                          Salinity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838080" y="18288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e- Arg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76212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rg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1"/>
          <p:cNvSpPr/>
          <p:nvPr/>
        </p:nvSpPr>
        <p:spPr>
          <a:xfrm>
            <a:off x="5651640" y="638172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1905120" y="533520"/>
            <a:ext cx="609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Salinity assimil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529640" y="3035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6399360" cy="53341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6934320" y="1447920"/>
            <a:ext cx="2057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gnificant co-variance between T &amp; S particularly associated with thermocline variability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s can be exploited pre Arg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7238880" y="5638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Produced by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Robin Wedd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3:45:09Z</dcterms:created>
  <dc:creator>Richmond, Joanne (CMAR, Aspendale)</dc:creator>
  <dc:description/>
  <cp:keywords/>
  <dc:language>en-US</dc:language>
  <cp:lastModifiedBy>Oscar Alves</cp:lastModifiedBy>
  <cp:lastPrinted>2008-12-19T03:02:04Z</cp:lastPrinted>
  <dcterms:modified xsi:type="dcterms:W3CDTF">2010-07-30T17:06:35Z</dcterms:modified>
  <cp:revision>18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51033</vt:lpwstr>
  </property>
</Properties>
</file>