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t.stockdale@ecmwf.int" TargetMode="External"/><Relationship Id="rId3" Type="http://schemas.openxmlformats.org/officeDocument/2006/relationships/hyperlink" Target="mailto:Hualu.Pan@noaa.gov" TargetMode="External"/><Relationship Id="rId4" Type="http://schemas.openxmlformats.org/officeDocument/2006/relationships/hyperlink" Target="mailto:Judith.perlwitz@noaa.gov.uk" TargetMode="External"/><Relationship Id="rId5" Type="http://schemas.openxmlformats.org/officeDocument/2006/relationships/hyperlink" Target="mailto:pnobre@cptec.inpe.br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ospheric Extension to the CHFP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S-CHFP” and links to WCRP-SPAR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445000"/>
            <a:ext cx="8400960" cy="14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m Sca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GSIP July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PARC - DynVar 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96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RC DynVar activity is part of the Stratospheric Process and their Role in Climate Project (SPARC). SPARC is a core project of the World Climate Research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o determine the dependence of the mean climate, climate variability, and climate change on stratospheric dynamics as represented in Climate Mod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lan to use CMIP5 and S-CHF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PARC DynVar Activity will hold its 2nd Workshop in Boulder, Colorado, USA, 3-5 Nov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sted by CIRES and NOAA in Boulder Colorado, will include a talk on seasonal and stratosphere and S-CH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further information and limited travel funds available to support attendance: elisa.manzini@zmaw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712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te-system Historical Foreca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445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Provide a baseline assessment of our seasonal prediction capabilities using the best available models of the climate system and data for initia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Provide a framework for assessing of current and planned observing systems, and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st bed for integrating process stud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field campaigns into mode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 Provide an experimental framework for focused research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various components of the climate system interact and affect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 Provide a test bed for evaluating IPCC class models in seasonal prediction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281640"/>
            <a:ext cx="453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ccff"/>
                </a:solidFill>
                <a:latin typeface="Arial"/>
              </a:rPr>
              <a:t>Dynamical forecast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ynamical forecast + 70hPa stat fcast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(Christiansen 200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62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S-CHF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3780000" cy="2478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3213000"/>
            <a:ext cx="309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aldwin and Dunkerton 2001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0" t="58821" r="23424" b="0"/>
          <a:stretch/>
        </p:blipFill>
        <p:spPr>
          <a:xfrm>
            <a:off x="324000" y="3789360"/>
            <a:ext cx="3528720" cy="245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58560" y="3860640"/>
            <a:ext cx="2472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wind at 60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084720" y="549360"/>
            <a:ext cx="2670480" cy="2994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1280" y="3429000"/>
            <a:ext cx="2008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neson and Scaife, 200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rcRect l="18255" t="6003" r="4289" b="12668"/>
          <a:stretch/>
        </p:blipFill>
        <p:spPr>
          <a:xfrm>
            <a:off x="6300720" y="429264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00720" y="6583320"/>
            <a:ext cx="226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rshall and Scaife 200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4005360"/>
            <a:ext cx="226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BO teleconn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04640"/>
            <a:ext cx="226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O teleconn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4776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ospheric extension of the CHF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53440" cy="23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 Top Hin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 to WGSIP-CH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ising extra atmosphere, better represented stra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076640"/>
            <a:ext cx="8353440" cy="2665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nth lead times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vember and 1st May start d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easons (DJF and JJ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study years: 1989 onw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6 members per year, preferably m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ospheric extension of the CHF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765000"/>
            <a:ext cx="835344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ic 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thly means of: surface T, near surface T, precip, pm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thly mean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(10, 30, 50, 700, 850hP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, v (10, 30, 50, 200, 850hP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(10, 30, 50, 500, 850, 1000hP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ily values: u, T (10, 30hPa), near surface T, sea level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365720"/>
            <a:ext cx="8353440" cy="23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176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ily precip, Z500 and monthly means to match CMIP5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176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 month fore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176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seasons, 10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176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79 on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48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reased number of participa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81000"/>
          <a:ext cx="9145440" cy="6273720"/>
        </p:xfrm>
        <a:graphic>
          <a:graphicData uri="http://schemas.openxmlformats.org/drawingml/2006/table">
            <a:tbl>
              <a:tblPr/>
              <a:tblGrid>
                <a:gridCol w="1405080"/>
                <a:gridCol w="1224000"/>
                <a:gridCol w="1512720"/>
                <a:gridCol w="1079640"/>
                <a:gridCol w="1657080"/>
                <a:gridCol w="226692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stit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del t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t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Office H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G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6L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6L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et al 2006, J. Clim., 19, 1217-13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.scaife@metoffice.gov.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o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ege 4.4 + O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remy et al, 2005, Tellus, 57A, p308-3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.deque@meteo.f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.philippe.piedelievre@meteo.f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MW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t.stockdale@ecmwf.i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C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L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L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1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nocca et al 2008, ACP, 8, 7055-70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.Scinocca@ac.gc.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.Boer@ec.gc.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 v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ha et al, J.Clim., vol.19, no.15, p3483-35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Hualu.Pan@noaa.go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udith.perlwitz@noaa.gov.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T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T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pnobre@cptec.inpe.b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M-GEOM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AM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L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L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spcAft>
                          <a:spcPts val="7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h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eckner et al 2003, MPI report No. 349, 127p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zini et al 2006, J. Clim., 19, 3863-388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keenlyside@ifm-geomar.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37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63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ARC inte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7632720" cy="345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-25920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skil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ing standard probabilistic verification measures for different regions - WG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ons of annular mod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dden warmings and intraseasonal predic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cularly in early part of 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SO tele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evidence of an effect on Europe, perhaps SH to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annual predictability from the QB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ll models will simulate a QBO but all will initiali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ing frequen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the high-top model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hibit better blocking stats? Are they linked to SSW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1320" y="1052640"/>
            <a:ext cx="7635960" cy="162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ended the SPARC SSG in Oct 2009 on behalf of WGS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sented material on strat-trop coupling in S2D predi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sented WGSIP CHFP and plan for Strat HF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thusiastic response - SPARC keen to take part i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eseries of winter N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81040" y="2027160"/>
            <a:ext cx="6907320" cy="3132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95640" y="5373720"/>
            <a:ext cx="6337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NAO from forecasts around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NAO (EMSLP gridded, Ansell and Allan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NAO (station data, Jones et al 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5516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805360"/>
            <a:ext cx="144360" cy="14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6165720"/>
            <a:ext cx="144360" cy="144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149720"/>
            <a:ext cx="431640" cy="431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veral groups are doing or have done hindcasts with vertically extended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eo France –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MWF – underway – complete by Dec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MO Hadley Centre – underway – complete by Au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CCMA – underway – complete by Dec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PTEC – complete by earl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M-GEOMAR – complete by Autum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reposi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MA (Carolina Vera) kindly agreed to host data parallel to CH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files to be uploaded in next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Anna Pirani</cp:lastModifiedBy>
  <cp:lastPrinted>2004-10-15T09:34:20Z</cp:lastPrinted>
  <dcterms:modified xsi:type="dcterms:W3CDTF">2010-08-06T09:53:38Z</dcterms:modified>
  <cp:revision>350</cp:revision>
  <dc:subject/>
  <dc:title>Slide 1</dc:title>
</cp:coreProperties>
</file>