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D54-FC7E-4E95-8B9B-DF1970B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F7F-B0E9-4C96-B9ED-B70091CA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B65-CAA8-4577-A476-554E1AF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F96-B7CE-408C-958D-77AD0106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D53-539C-4F59-B675-56F1E23A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538-FE97-48A2-BB3D-CEDC7843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29C-8885-41C0-A5D2-4DEC4405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9A4-8D10-4270-9FC9-9B43FDBA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547-FE87-4A42-ABE1-856378B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82D-3091-4DEF-8C1E-40457D5F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E88-3C46-4A29-974E-A4495B4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CE8-B71A-4681-92F1-3F7C1C46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5BD-6D37-450E-AF1E-7981A34B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cent S-I Forecast Developments at 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y Barn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DeW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God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a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Tipp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hua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al-Time Coupl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nning 3 coupled models in real-time with modest ensemble size (12 me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storical forecasts back to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 Directly Coupled (ECHAM-DC2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 Anomaly Coupled (ECHAM-AC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HAM4.5-GML (forced by CFS forecast in central and eastern Pacific. Thermodynamic ocean elsew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is available in IRI Data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* = contributed to CHFP. Others could be contribu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-Tier Experimental Multi-Model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D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A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HAM-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CEP-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ndcasts from 1982 to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pooling MME. Found to be (slightly) superior to Bayesian combination. But still trying to make an objective combination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ecasts are available on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Next step is to combine with 1-tier 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1-Tier MM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640" y="747720"/>
            <a:ext cx="8172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urrent 2-Tier MM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tern-based correction of model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ct systematic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ibration based on historical foreca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served SST vs. forecast S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ormation beyond terc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matology and forecast probability dens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w methods for weighting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400480" cy="206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2400480" cy="21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57600" y="1219320"/>
            <a:ext cx="240048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24004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14400" y="1295280"/>
            <a:ext cx="240048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00800" y="4038480"/>
            <a:ext cx="2400480" cy="2067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38080" y="7984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82360" y="722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24480" y="798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31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316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2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J temperature variability patterns (EO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19680" y="2438280"/>
            <a:ext cx="4324320" cy="370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24320" cy="370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39160" y="19414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0080" y="194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60120" y="825480"/>
            <a:ext cx="94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t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749160"/>
            <a:ext cx="1981440" cy="54889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: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: tr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   (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cs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997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pss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0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(0.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05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(0.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keliho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1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(0.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04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id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0.006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(0.0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021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0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OC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G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0.537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ＭＳ Ｐゴシック"/>
              </a:rPr>
              <a:t> (0.5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T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0.572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 (0.5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38560" y="22860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ＭＳ Ｐゴシック"/>
              </a:rPr>
              <a:t>Verification of Most Recent Season Precipit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448080"/>
            <a:ext cx="126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d-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2514600"/>
            <a:ext cx="1522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810" t="0" r="0" b="7711"/>
          <a:stretch/>
        </p:blipFill>
        <p:spPr>
          <a:xfrm>
            <a:off x="1854360" y="609480"/>
            <a:ext cx="512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1622" t="3692" r="1622" b="0"/>
          <a:stretch/>
        </p:blipFill>
        <p:spPr>
          <a:xfrm>
            <a:off x="1989000" y="3041640"/>
            <a:ext cx="5015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4:06:07Z</dcterms:created>
  <dc:creator>Michael Tippett</dc:creator>
  <dc:description/>
  <dc:language>en-US</dc:language>
  <cp:lastModifiedBy>Anna Pirani</cp:lastModifiedBy>
  <dcterms:modified xsi:type="dcterms:W3CDTF">2010-08-06T14:08:05Z</dcterms:modified>
  <cp:revision>21</cp:revision>
  <dc:subject/>
  <dc:title>IRI CTB MME activities</dc:title>
</cp:coreProperties>
</file>