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0F0-8EFD-4C8D-A938-FD2B2727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79F-D79E-41B2-A2E8-A8C5721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416-1264-4EE5-A875-1ED62E06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92D-E29E-4499-834A-1CCC2091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61C-91BA-4E36-8AE7-DD19D07A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1E4-FC3C-4444-B9CD-FCA08C7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4A0-D500-4D6C-B9E1-46B9C908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570-697F-47F1-B504-EEB59D78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F7F-2F6C-4FD3-ABEE-A0D7A689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E65-DF51-4E26-88CA-EE326F4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6B9-2FE8-47AE-949D-EBF4AEB5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4C9-6644-4159-854E-00BF0A4C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3032-2BED-4513-8E65-CDD03603B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cent S-I Forecast Developments at 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y Barn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DeW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God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a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Tipp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uhua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Real-Time Coupl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nning 3 coupled models in real-time with modest ensemble size (12 me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istorical forecasts back to 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HAM4.5- Directly Coupled (ECHAM-DC2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HAM4.5- Anomaly Coupled (ECHAM-AC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HAM4.5-GML (forced by CFS forecast in central and eastern Pacific. Thermodynamic ocean else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is available in IRI Data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* = contributed to CHFP. Others could be contribut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1-Tier Experimental Multi-Model 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AM-D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AM-A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AM-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CEP-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ndcasts from 1982 to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e pooling MME. Found to be (slightly) superior to Bayesian combination. But still trying to make an objective combination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ecasts are available on the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Next step is to combine with 1-tier 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1-Tier MM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640" y="747720"/>
            <a:ext cx="81727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urrent 2-Tier MM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ttern-based correction of model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rrect systematic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libration based on historical foreca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bserved SST vs. forecast S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ormation beyond terc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matology and forecast probability density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w methods for weighting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400480" cy="206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2400480" cy="219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657600" y="1219320"/>
            <a:ext cx="2400480" cy="21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240048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914400" y="1295280"/>
            <a:ext cx="240048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00800" y="4038480"/>
            <a:ext cx="2400480" cy="2067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38080" y="7984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82360" y="722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24480" y="798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316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316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2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J temperature variability patterns (EO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19680" y="2438280"/>
            <a:ext cx="4324320" cy="3706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4324320" cy="370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39160" y="19414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10080" y="1941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60120" y="825480"/>
            <a:ext cx="94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r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t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749160"/>
            <a:ext cx="1981440" cy="54889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if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G: g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: tr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   (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cst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997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pss: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G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0.000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(0.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0.005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 (0.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keliho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G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0.00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(0.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0.004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(0.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id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G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0.006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(0.0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0.021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(0.0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OC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G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0.537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 (0.5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0.572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(0.5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38560" y="22860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Verification of Most Recent Season Precipit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448080"/>
            <a:ext cx="1267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d-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2514600"/>
            <a:ext cx="1522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3810" t="0" r="0" b="7711"/>
          <a:stretch/>
        </p:blipFill>
        <p:spPr>
          <a:xfrm>
            <a:off x="1854360" y="609480"/>
            <a:ext cx="512604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1622" t="3692" r="1622" b="0"/>
          <a:stretch/>
        </p:blipFill>
        <p:spPr>
          <a:xfrm>
            <a:off x="1989000" y="3041640"/>
            <a:ext cx="5015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4:06:07Z</dcterms:created>
  <dc:creator>Michael Tippett</dc:creator>
  <dc:description/>
  <dc:language>en-US</dc:language>
  <cp:lastModifiedBy>Anna Pirani</cp:lastModifiedBy>
  <dcterms:modified xsi:type="dcterms:W3CDTF">2010-08-06T14:08:05Z</dcterms:modified>
  <cp:revision>21</cp:revision>
  <dc:subject/>
  <dc:title>IRI CTB MME activities</dc:title>
</cp:coreProperties>
</file>