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024-494D-4D98-822C-7943DC20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C0D-D5F5-412C-93F7-ECB13974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F91-8BF7-470F-9235-4F763774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65F-5093-4F59-B93C-DF8EBB2C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238-1466-4398-93B9-E82A6242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823-CEA6-48E1-92B3-796332A2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353-98FD-404A-9AA4-BE290404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020-15EA-43CD-924E-EAC53613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6B4-67BA-4793-B7ED-48F24465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8AD-2DE3-4D0C-B964-F375A540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4CF-5C99-4E9E-864C-F484544D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E84-17D1-449D-8E38-51DAAE3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6286-E7CD-458F-BB1E-AE0B41B21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41148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te paper and workshop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rought Predictability and Prediction in a Changing Climate: Assessing Current Predictive Knowledge and Capabilities, User Requirements, and Research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553080" y="3581280"/>
            <a:ext cx="2210040" cy="3048120"/>
            <a:chOff x="6553080" y="3581280"/>
            <a:chExt cx="2210040" cy="3048120"/>
          </a:xfrm>
        </p:grpSpPr>
        <p:pic>
          <p:nvPicPr>
            <p:cNvPr id="43" name="Picture 7" descr=""/>
            <p:cNvPicPr/>
            <p:nvPr/>
          </p:nvPicPr>
          <p:blipFill>
            <a:blip r:embed="rId1"/>
            <a:stretch/>
          </p:blipFill>
          <p:spPr>
            <a:xfrm>
              <a:off x="6553080" y="5105520"/>
              <a:ext cx="21942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7" descr=""/>
            <p:cNvPicPr/>
            <p:nvPr/>
          </p:nvPicPr>
          <p:blipFill>
            <a:blip r:embed="rId2"/>
            <a:stretch/>
          </p:blipFill>
          <p:spPr>
            <a:xfrm>
              <a:off x="6553080" y="3581280"/>
              <a:ext cx="2210040" cy="159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5485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600200" y="-466560"/>
            <a:ext cx="1135368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3920" y="380880"/>
            <a:ext cx="7547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CRP ‘Workshop’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ught Predictability and Prediction in a Changing Clim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ing Current Predictive Knowledge and Capabil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Requirements and Research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March 2011, Barcelona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ju Cai - CSIRO,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avier Rodo - IC3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ia Seneviratne - ETHZ, Switz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gfried Schubert - NASA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nsultation with the WCRP Drought Interes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Drought and its Predic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ught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ity of Drought and its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Dr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el discussion: Next steps (priorities for making progress on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ies with links to user nee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01:33:35Z</dcterms:created>
  <dc:creator>Anna Pirani</dc:creator>
  <dc:description/>
  <dc:language>en-US</dc:language>
  <cp:lastModifiedBy>Anna Pirani</cp:lastModifiedBy>
  <dcterms:modified xsi:type="dcterms:W3CDTF">2010-07-30T02:03:09Z</dcterms:modified>
  <cp:revision>2</cp:revision>
  <dc:subject/>
  <dc:title>PowerPoint Presentation</dc:title>
</cp:coreProperties>
</file>