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7B4-C836-4A21-B2C8-0C5AE00D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A53-4E24-4A13-B0D6-DC777C13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200-3CF5-4D23-BB20-1B231CFD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460-FD10-46FF-8E10-E46A2233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510-5086-41F2-AD92-CEA5DFA2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3C8-E398-49DD-8107-E8844B80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1C5-96CB-49E1-9D5F-B1D1851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7A2-6FEB-48CB-AAA2-C9202FC4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500-CDCB-4AB0-AF6D-6962F81D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CFE-BCAA-4E94-A3A1-BE6EB7F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AA3-57E4-49A5-83CA-E948063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3A1-3524-4D57-867E-D911AFA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93DC-CFD1-43A0-896E-FF2949BC8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41148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te paper and workshop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rought Predictability and Prediction in a Changing Climate: Assessing Current Predictive Knowledge and Capabilities, User Requirements, and Research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553080" y="3581280"/>
            <a:ext cx="2210040" cy="3048120"/>
            <a:chOff x="6553080" y="3581280"/>
            <a:chExt cx="2210040" cy="3048120"/>
          </a:xfrm>
        </p:grpSpPr>
        <p:pic>
          <p:nvPicPr>
            <p:cNvPr id="43" name="Picture 7" descr=""/>
            <p:cNvPicPr/>
            <p:nvPr/>
          </p:nvPicPr>
          <p:blipFill>
            <a:blip r:embed="rId1"/>
            <a:stretch/>
          </p:blipFill>
          <p:spPr>
            <a:xfrm>
              <a:off x="6553080" y="5105520"/>
              <a:ext cx="21942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3581280"/>
              <a:ext cx="2210040" cy="159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5485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600200" y="-466560"/>
            <a:ext cx="1135368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3920" y="380880"/>
            <a:ext cx="7547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CRP ‘Workshop’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ught Predictability and Prediction in a Changing Clim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ing Current Predictive Knowledge and Capabil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Requirements and Research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March 2011, Barcelona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ju Cai - CSIRO,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avier Rodo - IC3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ia Seneviratne - ETHZ, Switz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gfried Schubert - NAS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nsultation with the WCRP Drought Interes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Drought and its Predic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ught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ity of Drought and its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Dr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el discussion: Next steps (priorities for making progress on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ies with links to user ne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01:33:35Z</dcterms:created>
  <dc:creator>Anna Pirani</dc:creator>
  <dc:description/>
  <dc:language>en-US</dc:language>
  <cp:lastModifiedBy>Anna Pirani</cp:lastModifiedBy>
  <dcterms:modified xsi:type="dcterms:W3CDTF">2010-07-30T02:03:09Z</dcterms:modified>
  <cp:revision>2</cp:revision>
  <dc:subject/>
  <dc:title>PowerPoint Presentation</dc:title>
</cp:coreProperties>
</file>