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2313-4F08-47F5-878F-A187D632DC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74F0-F4CE-4824-835C-845CE8941E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307-B6E1-49C6-8FB9-31728F51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259-53CA-471C-92E8-7AA252F5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423-E669-4F65-9BF8-E8F34786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B97-6DC9-4299-9C9B-C7D03E8C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C9B-5E88-4A39-AA0D-0FE3A3F6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02F-4B7D-4DB7-8180-A5569E16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FAF-27BF-4F24-9CC8-05449F46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6B5-5F53-4D81-826F-553482DC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9D7-640E-46BC-8C24-94D3A8B9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866-4BD1-4A79-9FD0-A8C6D84F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4D4-1287-46F2-85D1-9AD8E7E8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D22-9FF4-4FCB-8446-6291E4DA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AAD2-1A05-4D0F-911E-ED5407CA6F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2377" t="0" r="2392" b="6251"/>
          <a:stretch/>
        </p:blipFill>
        <p:spPr>
          <a:xfrm>
            <a:off x="-14436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3840" y="0"/>
            <a:ext cx="8929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the specifications in the CHFP documentation, and trying to be as broad as possible, we have organiz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F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 vari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vari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 vari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variables invari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n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d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each "variable" directory, test files were copied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 nam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following conven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ble_frecuency_model_exp_yyyymm_ti.n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le = variable frequency = daily / month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= exper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YYYMM = year and month (initial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 = number of times the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23148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doubts about whether there is any specific definition about how the CHFP files should be organized and in particular, how many months of predictions each CHFP file should cont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 instructions about that in the CHFP documentation. We noticed however, that in the seasonal directories of the ECMWF Data Server for ENSEMBLES, each file contains the multi-member prediction of a specific variable starting on a specific year and month, with prediction lengths between 7 and 14 month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HFP data at CIMA: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I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s have been made.  Issues in formatting the data following the CHFP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MA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ata has been transferred already to CIMA via ftp, (ccsm3_0 model outputs. 1982-1998 period , atm (2.5x2.5), ocn (1x1), surface and levels variables. Files are in netcdf format but they do not fully follow the CHFP guideli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D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year some test files have been provided. Doubts about the prediction leng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2142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 Objective: to increase local and regional capacity on the use of seasonal prediction tailored to user needs in different socioeconomic sectors of Latin Amer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urse will consist of two weeks of lectures, seminars, discussions and practical exercises in computer lab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topics are: 1) From global to regional seasonal predictions; 2) Translating science into applied knowledge to inform decision making; 3) Use of climate information: Experiences and needs in disaster risk reduction; in the agricultural, water management sector; and the health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s (40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ents or young scientists from Latin America and the Caribbean region  (Universities, NWS, Water agencies, Agricultural ag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 based on the use of CPT software from I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s://iaibr3.iai.int/twiki/bin/view/TIClimatePredictions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rcRect l="17019" t="21486" r="20937" b="48204"/>
          <a:stretch/>
        </p:blipFill>
        <p:spPr>
          <a:xfrm>
            <a:off x="928800" y="71280"/>
            <a:ext cx="6500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684360" y="836640"/>
          <a:ext cx="558792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836640"/>
                    <a:ext cx="558792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5"/>
          <p:cNvSpPr/>
          <p:nvPr/>
        </p:nvSpPr>
        <p:spPr>
          <a:xfrm>
            <a:off x="2987640" y="3500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929120" y="2359080"/>
            <a:ext cx="3819600" cy="155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ound 10 Terabites have been already allocated to the CHFP dataserver at C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HFP Data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3 Marcador de contenido" descr="pantallaInicial.jpg"/>
          <p:cNvPicPr/>
          <p:nvPr/>
        </p:nvPicPr>
        <p:blipFill>
          <a:blip r:embed="rId1"/>
          <a:stretch/>
        </p:blipFill>
        <p:spPr>
          <a:xfrm>
            <a:off x="500040" y="1720800"/>
            <a:ext cx="7920000" cy="378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CHFP\PPT\pantalla1.jpg"/>
          <p:cNvPicPr/>
          <p:nvPr/>
        </p:nvPicPr>
        <p:blipFill>
          <a:blip r:embed="rId1"/>
          <a:stretch/>
        </p:blipFill>
        <p:spPr>
          <a:xfrm>
            <a:off x="1285920" y="214200"/>
            <a:ext cx="514656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CHFP\PPT\pantalla2.jpg"/>
          <p:cNvPicPr/>
          <p:nvPr/>
        </p:nvPicPr>
        <p:blipFill>
          <a:blip r:embed="rId1"/>
          <a:stretch/>
        </p:blipFill>
        <p:spPr>
          <a:xfrm>
            <a:off x="-81000" y="17640"/>
            <a:ext cx="93488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CHFP\PPT\pantalla3.jpg"/>
          <p:cNvPicPr/>
          <p:nvPr/>
        </p:nvPicPr>
        <p:blipFill>
          <a:blip r:embed="rId1"/>
          <a:stretch/>
        </p:blipFill>
        <p:spPr>
          <a:xfrm>
            <a:off x="-71280" y="500040"/>
            <a:ext cx="93088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CHFP\PPT\messages1.jpg"/>
          <p:cNvPicPr/>
          <p:nvPr/>
        </p:nvPicPr>
        <p:blipFill>
          <a:blip r:embed="rId1"/>
          <a:stretch/>
        </p:blipFill>
        <p:spPr>
          <a:xfrm>
            <a:off x="0" y="401760"/>
            <a:ext cx="90900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CHFP\PPT\Thredds1.jpg"/>
          <p:cNvPicPr/>
          <p:nvPr/>
        </p:nvPicPr>
        <p:blipFill>
          <a:blip r:embed="rId1"/>
          <a:stretch/>
        </p:blipFill>
        <p:spPr>
          <a:xfrm>
            <a:off x="0" y="0"/>
            <a:ext cx="5435640" cy="330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CHFP\PPT\Thredds6.jpg"/>
          <p:cNvPicPr/>
          <p:nvPr/>
        </p:nvPicPr>
        <p:blipFill>
          <a:blip r:embed="rId2"/>
          <a:stretch/>
        </p:blipFill>
        <p:spPr>
          <a:xfrm>
            <a:off x="3765600" y="1971720"/>
            <a:ext cx="5307120" cy="29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CHFP\PPT\Thredds8.jpg"/>
          <p:cNvPicPr/>
          <p:nvPr/>
        </p:nvPicPr>
        <p:blipFill>
          <a:blip r:embed="rId3"/>
          <a:stretch/>
        </p:blipFill>
        <p:spPr>
          <a:xfrm>
            <a:off x="0" y="3800520"/>
            <a:ext cx="47689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CHFP\PPT\FileTest.jpg"/>
          <p:cNvPicPr/>
          <p:nvPr/>
        </p:nvPicPr>
        <p:blipFill>
          <a:blip r:embed="rId1"/>
          <a:stretch/>
        </p:blipFill>
        <p:spPr>
          <a:xfrm>
            <a:off x="85680" y="571680"/>
            <a:ext cx="9058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22:47:38Z</dcterms:created>
  <dc:creator>alrolla</dc:creator>
  <dc:description/>
  <dc:language>en-US</dc:language>
  <cp:lastModifiedBy>Carolina Vera</cp:lastModifiedBy>
  <dcterms:modified xsi:type="dcterms:W3CDTF">2010-07-29T10:17:16Z</dcterms:modified>
  <cp:revision>50</cp:revision>
  <dc:subject/>
  <dc:title>Diapositiva 1</dc:title>
</cp:coreProperties>
</file>