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107-1237-45D9-9592-8C59751AAF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DB0-9258-46A9-84AF-1855277263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F6E-EB04-4F5A-A789-FD3F5A6C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A99-43BC-4525-92A9-F9EA6983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9ED-9032-4749-B16C-DA48C10C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3E8-B02E-490C-8755-E7DF9B30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DF3-2FFC-4908-84BA-73926DE6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D34-BFDF-4408-A9D0-0F1DFBF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059-48BE-4A77-9458-8AFFC2F6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4CA-32FE-42A4-AE19-6E15753F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557-1336-44F9-814D-C8C0E097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E9A-7548-4589-BE3B-0FCA4B9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229-5BFD-47D4-B4DF-1951033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9BC-B43D-44A2-8768-9C2FF8F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17A-1E16-45BA-A86E-36C56B0B03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2377" t="0" r="2392" b="625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the specifications in the CHFP documentation, and trying to be as broad as possible, we have organiz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F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variables invari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n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d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each "variable" directory, test files were copied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 na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following conven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ble_frecuency_model_exp_yyyymm_ti.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le = variable frequency = daily / month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= exper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YYYMM = year and month (initial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 = number of times the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3148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oubts about whether there is any specific definition about how the CHFP files should be organized and in particular, how many months of predictions each CHFP file should con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instructions about that in the CHFP documentation. We noticed however, that in the seasonal directories of the ECMWF Data Server for ENSEMBLES, each file contains the multi-member prediction of a specific variable starting on a specific year and month, with prediction lengths between 7 and 14 mont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HFP data at CIMA: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I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s have been made.  Issues in formatting the data following the CHFP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MA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ata has been transferred already to CIMA via ftp, (ccsm3_0 model outputs. 1982-1998 period , atm (2.5x2.5), ocn (1x1), surface and levels variables. Files are in netcdf format but they do not fully follow the CHFP guidel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D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year some test files have been provided. Doubts about the prediction leng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Objective: to increase local and regional capacity on the use of seasonal prediction tailored to user needs in different socioeconomic sectors of Latin Ame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urse will consist of two weeks of lectures, seminars, discussions and practical exercises in computer la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opics are: 1) From global to regional seasonal predictions; 2) Translating science into applied knowledge to inform decision making; 3) Use of climate information: Experiences and needs in disaster risk reduction; in the agricultural, water management sector; and the health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(40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or young scientists from Latin America and the Caribbean region  (Universities, NWS, Water agencies, Agricultural ag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 based on the use of CPT software from 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s://iaibr3.iai.int/twiki/bin/view/TIClimatePredictions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17019" t="21486" r="20937" b="48204"/>
          <a:stretch/>
        </p:blipFill>
        <p:spPr>
          <a:xfrm>
            <a:off x="928800" y="71280"/>
            <a:ext cx="6500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684360" y="836640"/>
          <a:ext cx="558792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55879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5"/>
          <p:cNvSpPr/>
          <p:nvPr/>
        </p:nvSpPr>
        <p:spPr>
          <a:xfrm>
            <a:off x="2987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29120" y="2359080"/>
            <a:ext cx="381960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ound 10 Terabites have been already allocated to the CHFP dataserver at 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HFP Data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3 Marcador de contenido" descr="pantallaInicial.jpg"/>
          <p:cNvPicPr/>
          <p:nvPr/>
        </p:nvPicPr>
        <p:blipFill>
          <a:blip r:embed="rId1"/>
          <a:stretch/>
        </p:blipFill>
        <p:spPr>
          <a:xfrm>
            <a:off x="500040" y="1720800"/>
            <a:ext cx="7920000" cy="378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CHFP\PPT\pantalla1.jpg"/>
          <p:cNvPicPr/>
          <p:nvPr/>
        </p:nvPicPr>
        <p:blipFill>
          <a:blip r:embed="rId1"/>
          <a:stretch/>
        </p:blipFill>
        <p:spPr>
          <a:xfrm>
            <a:off x="1285920" y="214200"/>
            <a:ext cx="51465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CHFP\PPT\pantalla2.jpg"/>
          <p:cNvPicPr/>
          <p:nvPr/>
        </p:nvPicPr>
        <p:blipFill>
          <a:blip r:embed="rId1"/>
          <a:stretch/>
        </p:blipFill>
        <p:spPr>
          <a:xfrm>
            <a:off x="-81000" y="17640"/>
            <a:ext cx="9348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CHFP\PPT\pantalla3.jpg"/>
          <p:cNvPicPr/>
          <p:nvPr/>
        </p:nvPicPr>
        <p:blipFill>
          <a:blip r:embed="rId1"/>
          <a:stretch/>
        </p:blipFill>
        <p:spPr>
          <a:xfrm>
            <a:off x="-71280" y="500040"/>
            <a:ext cx="9308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CHFP\PPT\messages1.jpg"/>
          <p:cNvPicPr/>
          <p:nvPr/>
        </p:nvPicPr>
        <p:blipFill>
          <a:blip r:embed="rId1"/>
          <a:stretch/>
        </p:blipFill>
        <p:spPr>
          <a:xfrm>
            <a:off x="0" y="401760"/>
            <a:ext cx="9090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CHFP\PPT\Thredds1.jpg"/>
          <p:cNvPicPr/>
          <p:nvPr/>
        </p:nvPicPr>
        <p:blipFill>
          <a:blip r:embed="rId1"/>
          <a:stretch/>
        </p:blipFill>
        <p:spPr>
          <a:xfrm>
            <a:off x="0" y="0"/>
            <a:ext cx="5435640" cy="330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CHFP\PPT\Thredds6.jpg"/>
          <p:cNvPicPr/>
          <p:nvPr/>
        </p:nvPicPr>
        <p:blipFill>
          <a:blip r:embed="rId2"/>
          <a:stretch/>
        </p:blipFill>
        <p:spPr>
          <a:xfrm>
            <a:off x="3765600" y="1971720"/>
            <a:ext cx="5307120" cy="29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CHFP\PPT\Thredds8.jpg"/>
          <p:cNvPicPr/>
          <p:nvPr/>
        </p:nvPicPr>
        <p:blipFill>
          <a:blip r:embed="rId3"/>
          <a:stretch/>
        </p:blipFill>
        <p:spPr>
          <a:xfrm>
            <a:off x="0" y="3800520"/>
            <a:ext cx="4768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CHFP\PPT\FileTest.jpg"/>
          <p:cNvPicPr/>
          <p:nvPr/>
        </p:nvPicPr>
        <p:blipFill>
          <a:blip r:embed="rId1"/>
          <a:stretch/>
        </p:blipFill>
        <p:spPr>
          <a:xfrm>
            <a:off x="85680" y="571680"/>
            <a:ext cx="9058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2:47:38Z</dcterms:created>
  <dc:creator>alrolla</dc:creator>
  <dc:description/>
  <dc:language>en-US</dc:language>
  <cp:lastModifiedBy>Carolina Vera</cp:lastModifiedBy>
  <dcterms:modified xsi:type="dcterms:W3CDTF">2010-07-29T10:17:16Z</dcterms:modified>
  <cp:revision>50</cp:revision>
  <dc:subject/>
  <dc:title>Diapositiva 1</dc:title>
</cp:coreProperties>
</file>