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8A4A-B9A7-4341-AC55-BBA2A50A5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293840" y="797040"/>
            <a:ext cx="4275000" cy="3205080"/>
          </a:xfrm>
          <a:prstGeom prst="rect">
            <a:avLst/>
          </a:prstGeom>
          <a:ln w="0">
            <a:noFill/>
          </a:ln>
        </p:spPr>
      </p:sp>
      <p:sp>
        <p:nvSpPr>
          <p:cNvPr id="62" name="PlaceHolder 2"/>
          <p:cNvSpPr>
            <a:spLocks noGrp="1"/>
          </p:cNvSpPr>
          <p:nvPr>
            <p:ph type="body"/>
          </p:nvPr>
        </p:nvSpPr>
        <p:spPr>
          <a:xfrm>
            <a:off x="833400" y="4344480"/>
            <a:ext cx="5191200" cy="385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matic pre/post TAO contrast is specific to these forecasts. Hypothesis is that model error usually dominates forecasts, but at this particular time of year, for this model and this forecast range, model error has negligible impact on forecasts. In this case, the role of initial condition error becomes visible, and the pre/post TAO era is clearly demarcated. At longer lead times (eg May verification), we start to get forecast errors in the post-TAO era, although June and July SSTs verify almost perfectly in the last 10 years (1998-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riking behaviour of the forecasts plotted above was first noted using forecasts to 2005. 2006 and 2007 (the last two points above) continue the pattern of excellent recent forecasts. The forecast from 2008 looks as if it is also going to be nearly perfect, despite the challenging evolution of SST over the last few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since the above plot was “selected” from a range of possible plots covering different seasons and lead times, there is likely to be an element of artificial skill. Nonetheless, it is believed that an important part of the apparent error reduction is re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840ED-1ACC-42E7-80F5-75E38550B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5FE63-5881-4E60-8A61-D36BF7F58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53E30-9575-40AC-AF67-F98B31DEE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9B2B6-989C-4612-BCEA-B40B22105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F9F41-516F-47DC-9667-287A8AEC2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04DBE-030F-4DDB-9E48-0B3470CC5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A7113-EFF4-4E2F-8F6A-8834C5E89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EDD70-97C6-4443-8131-0BC01A0A9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75372-D7B1-4892-B43D-B091662B9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7C257-8710-49ED-BDEB-89C8314B9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9A7D-6020-4BA9-AAA4-D081295CF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2C2AA-CA52-4271-8C9B-A8543EA01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9596-0E2A-449A-989A-0797EE72B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cean observing system</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olution of ocean observing system</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HRR SST from November 1981</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O from 1993 approx</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imetry from 1993</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tterometer winds from mid-late1990s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GO from 2004 approx</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ed to sustain observing system</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thing?</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ceanObs 09</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we show benefits? Is it useful to try??</a:t>
            </a: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5353560" y="123840"/>
            <a:ext cx="363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 Stockdale, WGSIP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62197" t="175853" r="62197" b="175853"/>
          <a:stretch/>
        </p:blipFill>
        <p:spPr>
          <a:xfrm>
            <a:off x="252360" y="998640"/>
            <a:ext cx="7261200" cy="5200560"/>
          </a:xfrm>
          <a:prstGeom prst="rect">
            <a:avLst/>
          </a:prstGeom>
          <a:ln w="0">
            <a:noFill/>
          </a:ln>
        </p:spPr>
      </p:pic>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 in ENSO forecast skill after 1993</a:t>
            </a:r>
            <a:endParaRPr b="0" lang="en-US" sz="2400" spc="-1" strike="noStrike">
              <a:solidFill>
                <a:srgbClr val="000000"/>
              </a:solidFill>
              <a:latin typeface="Arial"/>
            </a:endParaRPr>
          </a:p>
        </p:txBody>
      </p:sp>
      <p:sp>
        <p:nvSpPr>
          <p:cNvPr id="53" name=""/>
          <p:cNvSpPr/>
          <p:nvPr/>
        </p:nvSpPr>
        <p:spPr>
          <a:xfrm>
            <a:off x="5038560" y="3860640"/>
            <a:ext cx="0" cy="1944720"/>
          </a:xfrm>
          <a:prstGeom prst="line">
            <a:avLst/>
          </a:prstGeom>
          <a:ln w="507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
          <p:cNvSpPr/>
          <p:nvPr/>
        </p:nvSpPr>
        <p:spPr>
          <a:xfrm>
            <a:off x="3706920" y="3500280"/>
            <a:ext cx="2593800" cy="580680"/>
          </a:xfrm>
          <a:prstGeom prst="rect">
            <a:avLst/>
          </a:prstGeom>
          <a:solidFill>
            <a:srgbClr val="ffffff"/>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letion of TAO array</a:t>
            </a:r>
            <a:endParaRPr b="0" lang="en-US" sz="1600" spc="-1" strike="noStrike">
              <a:solidFill>
                <a:srgbClr val="000000"/>
              </a:solidFill>
              <a:latin typeface="Arial"/>
            </a:endParaRPr>
          </a:p>
        </p:txBody>
      </p:sp>
      <p:sp>
        <p:nvSpPr>
          <p:cNvPr id="55" name=""/>
          <p:cNvSpPr/>
          <p:nvPr/>
        </p:nvSpPr>
        <p:spPr>
          <a:xfrm>
            <a:off x="6110280" y="998640"/>
            <a:ext cx="2857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CMWF S3, 1 Feb Starts, first 3 months of forecast</a:t>
            </a:r>
            <a:endParaRPr b="0" lang="en-US" sz="1800" spc="-1" strike="noStrike">
              <a:solidFill>
                <a:srgbClr val="000000"/>
              </a:solidFill>
              <a:latin typeface="Arial"/>
            </a:endParaRPr>
          </a:p>
        </p:txBody>
      </p:sp>
      <p:pic>
        <p:nvPicPr>
          <p:cNvPr id="56" name="" descr=""/>
          <p:cNvPicPr/>
          <p:nvPr/>
        </p:nvPicPr>
        <p:blipFill>
          <a:blip r:embed="rId2"/>
          <a:srcRect l="88158" t="124673" r="88158" b="1744673"/>
          <a:stretch/>
        </p:blipFill>
        <p:spPr>
          <a:xfrm>
            <a:off x="7240680" y="2376360"/>
            <a:ext cx="1903320" cy="14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62197" t="175853" r="62197" b="175853"/>
          <a:stretch/>
        </p:blipFill>
        <p:spPr>
          <a:xfrm>
            <a:off x="252360" y="998640"/>
            <a:ext cx="7259760" cy="5202000"/>
          </a:xfrm>
          <a:prstGeom prst="rect">
            <a:avLst/>
          </a:prstGeom>
          <a:ln w="0">
            <a:noFill/>
          </a:ln>
        </p:spPr>
      </p:pic>
      <p:sp>
        <p:nvSpPr>
          <p:cNvPr id="58" name=""/>
          <p:cNvSpPr/>
          <p:nvPr/>
        </p:nvSpPr>
        <p:spPr>
          <a:xfrm>
            <a:off x="6110280" y="954000"/>
            <a:ext cx="2857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CMWF S2, 1 Feb Starts, first 3 months of forecast</a:t>
            </a:r>
            <a:endParaRPr b="0" lang="en-US" sz="1800" spc="-1" strike="noStrike">
              <a:solidFill>
                <a:srgbClr val="000000"/>
              </a:solidFill>
              <a:latin typeface="Arial"/>
            </a:endParaRPr>
          </a:p>
        </p:txBody>
      </p:sp>
      <p:sp>
        <p:nvSpPr>
          <p:cNvPr id="59" name=""/>
          <p:cNvSpPr/>
          <p:nvPr/>
        </p:nvSpPr>
        <p:spPr>
          <a:xfrm>
            <a:off x="5038560" y="3860640"/>
            <a:ext cx="0" cy="1944720"/>
          </a:xfrm>
          <a:prstGeom prst="line">
            <a:avLst/>
          </a:prstGeom>
          <a:ln w="507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
          <p:cNvSpPr/>
          <p:nvPr/>
        </p:nvSpPr>
        <p:spPr>
          <a:xfrm>
            <a:off x="3706920" y="3500280"/>
            <a:ext cx="2593800" cy="580680"/>
          </a:xfrm>
          <a:prstGeom prst="rect">
            <a:avLst/>
          </a:prstGeom>
          <a:solidFill>
            <a:srgbClr val="ffffff"/>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letion of TAO arr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0T15:17:08Z</dcterms:created>
  <dc:creator>Anna Pirani</dc:creator>
  <dc:description/>
  <dc:language>en-US</dc:language>
  <cp:lastModifiedBy>Anna Pirani</cp:lastModifiedBy>
  <dcterms:modified xsi:type="dcterms:W3CDTF">2009-02-20T15:40:57Z</dcterms:modified>
  <cp:revision>2</cp:revision>
  <dc:subject/>
  <dc:title>Ocean observing system</dc:title>
</cp:coreProperties>
</file>