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F1D-ECF7-4675-9A54-192E352A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939-7BE5-47E9-A857-4BE52BAA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F6F-6F02-452D-91A4-0E116FB2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BC9-90A4-4F39-BF45-B5E00159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278-CE1B-40EE-9631-28CE5E1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A9C-8983-4FDD-A2EC-10A3796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E67-1F8D-48CD-BD78-8F61083B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F4C-1265-4911-A465-3FCB9C5F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A72-B482-4181-ADA8-1235BDF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F18-F7F5-4C73-8F52-9DF4E63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CFD-992C-46A4-9003-55CBDE8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25B-4D63-406A-AECF-4DF1C47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C81F-51BC-4743-A5FC-34C29411D12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381120" cy="5345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48401" b="72506"/>
          <a:stretch/>
        </p:blipFill>
        <p:spPr>
          <a:xfrm>
            <a:off x="4859280" y="1989000"/>
            <a:ext cx="3168720" cy="125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31780" r="48401" b="38807"/>
          <a:stretch/>
        </p:blipFill>
        <p:spPr>
          <a:xfrm>
            <a:off x="4859280" y="3284640"/>
            <a:ext cx="316872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67060" r="48401" b="4694"/>
          <a:stretch/>
        </p:blipFill>
        <p:spPr>
          <a:xfrm>
            <a:off x="4859280" y="4581360"/>
            <a:ext cx="31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17606" t="95310" r="17919" b="0"/>
          <a:stretch/>
        </p:blipFill>
        <p:spPr>
          <a:xfrm>
            <a:off x="4932360" y="5805360"/>
            <a:ext cx="3166920" cy="23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8360" y="26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T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19640" y="14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 Content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" y="23493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35733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47973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98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m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1080" y="2421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01080" y="37893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37440" y="494172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72060" r="0" b="0"/>
          <a:stretch/>
        </p:blipFill>
        <p:spPr>
          <a:xfrm>
            <a:off x="1187280" y="981000"/>
            <a:ext cx="6624720" cy="2281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0" b="74816"/>
          <a:stretch/>
        </p:blipFill>
        <p:spPr>
          <a:xfrm>
            <a:off x="1258920" y="3933720"/>
            <a:ext cx="6553080" cy="2035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67280" y="62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o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35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62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2720" y="62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6520" y="5335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SimSun"/>
              </a:rPr>
              <a:t>Nino-4 Anomaly Cor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00200" y="39625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Red - Ol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Navy - PE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Blue - 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40384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Navy - PE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Pink - No As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380880"/>
            <a:ext cx="815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SimSun"/>
              </a:rPr>
              <a:t>Temperature error - comparison with TAO and ECMW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50839" t="50723" r="6931" b="0"/>
          <a:stretch/>
        </p:blipFill>
        <p:spPr>
          <a:xfrm>
            <a:off x="1219320" y="1523880"/>
            <a:ext cx="4876560" cy="4808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0800" y="3048120"/>
            <a:ext cx="2362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with TAO Mooring at 140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33720" y="609480"/>
            <a:ext cx="6019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SimSun"/>
              </a:rPr>
              <a:t>IOD Anomaly Cor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40384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Red - Ol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Navy - PE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Blue - 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1911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Navy - PE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Pink - No As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15228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SimSun"/>
              </a:rPr>
              <a:t>Surface currents in the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2755" t="36660" r="67202" b="26686"/>
          <a:stretch/>
        </p:blipFill>
        <p:spPr>
          <a:xfrm>
            <a:off x="1981080" y="2590920"/>
            <a:ext cx="2070360" cy="259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5638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9999"/>
                </a:solidFill>
                <a:latin typeface="Arial"/>
                <a:ea typeface="SimSun"/>
              </a:rPr>
              <a:t>ECMWF Better due to Altimet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12755" t="36660" r="67202" b="26686"/>
          <a:stretch/>
        </p:blipFill>
        <p:spPr>
          <a:xfrm>
            <a:off x="5181480" y="2590920"/>
            <a:ext cx="187344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89070" t="0" r="0" b="0"/>
          <a:stretch/>
        </p:blipFill>
        <p:spPr>
          <a:xfrm>
            <a:off x="8077320" y="1676520"/>
            <a:ext cx="457200" cy="353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13716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Correlation of surface U with OSCAR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(www.oscar.noaa.gov)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209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PEODAS                                     ECMWF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561440" cy="4486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16000" y="4979880"/>
            <a:ext cx="748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resent, RAMA is 39% complete, with 18 of the 46 total mooring sites occupied (Figure 2). Nations that have provided mooring equipment, ship time, personnel, and/or logistic support so far include Japan, India, the United States, Indonesia, China, and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7600" y="77760"/>
            <a:ext cx="7047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03:06:23Z</dcterms:created>
  <dc:creator>Administrator</dc:creator>
  <dc:description/>
  <dc:language>en-US</dc:language>
  <cp:lastModifiedBy>Administrator</cp:lastModifiedBy>
  <dcterms:modified xsi:type="dcterms:W3CDTF">2009-01-13T19:32:01Z</dcterms:modified>
  <cp:revision>6</cp:revision>
  <dc:subject/>
  <dc:title>Slide 1</dc:title>
</cp:coreProperties>
</file>