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6150-F5CF-4C1B-8752-80202E204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r-2 ROC skill scores (ROCSS, where a score above zero indicates skill relative to climatology) for above the median malaria event, DEMETER-driven LMM forecasts minus ROCSS for control run (where positive). Scores were calculated at tier-2 relative to ERA-40 driven LMM malaria incidence for the same period.May forecast months 4-6 (left) and November forecast months 4-6 (right). (Results masked to show only grid points with CoV&gt;0.5 for ERA-40 driven LMM malaria incidence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352D-8E52-4BEC-BD60-A6A5B13A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295-7433-44FD-B4D0-8EB433BC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16A-2405-4FB2-8805-338AC688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C0E-67BE-41D7-A944-1BC8ECA7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E59-C317-4AAD-A382-81A031EA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B6F-FEDB-4593-ADD7-E3674A3E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352-FAAA-4D86-BF40-D3439CC9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F15-312C-422D-8A26-E26CAB00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D7E-3110-4D0B-96AE-2ADD8234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E94-033E-4EA2-ADEF-1FE3B982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D85-9A39-4AD9-BBBB-330F04ED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6FE-2397-475F-AE2B-6D12C87A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360" y="6237000"/>
            <a:ext cx="6877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GSIP12 – Miami - January 2009 – Impacts verification - Andy Mor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A8F6-0DA9-494E-97BB-7A3A62209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48360" y="6165720"/>
            <a:ext cx="201636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989840" cy="17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liminary report on verification scores for malaria and the climate drivers DEMETER to ENSEM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ndy Mor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Cyril Caminade and Anne J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partment of Geograph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versity of Liverpoo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verpoo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ted King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.P.Morse@liv.ac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6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1" descr="ENSEMBLES_stream2_vs_era_INCIDENC_196111_200011_NDJF_map_MSSS.ps.gif"/>
          <p:cNvPicPr/>
          <p:nvPr/>
        </p:nvPicPr>
        <p:blipFill>
          <a:blip r:embed="rId1"/>
          <a:stretch/>
        </p:blipFill>
        <p:spPr>
          <a:xfrm>
            <a:off x="1476360" y="1341360"/>
            <a:ext cx="59691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1547640" y="51577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SSS for Malaria Incidenc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ver Botswana (NDJF 1961-2000). The reference dataset is a companion run forced by ERA40 reanalysis, and the analysis is applied to the ensemble mea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ENSEMBLES_stream2_vs_era_INCIDENC_198111_200011_NDJF_map_RMSE.ps.gif"/>
          <p:cNvPicPr/>
          <p:nvPr/>
        </p:nvPicPr>
        <p:blipFill>
          <a:blip r:embed="rId1"/>
          <a:stretch/>
        </p:blipFill>
        <p:spPr>
          <a:xfrm>
            <a:off x="1547640" y="1341360"/>
            <a:ext cx="5969160" cy="3784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1476360" y="53006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MSE for Malaria Incidenc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ver Botswana (NDJF 1981-2000). The reference dataset is a companion run forced by ERA40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ENSEMBLES_stream2_vs_era_INCIDENC_198111_200011_NDJF_map_ACC.ps.gif"/>
          <p:cNvPicPr/>
          <p:nvPr/>
        </p:nvPicPr>
        <p:blipFill>
          <a:blip r:embed="rId1"/>
          <a:stretch/>
        </p:blipFill>
        <p:spPr>
          <a:xfrm>
            <a:off x="1692360" y="1341360"/>
            <a:ext cx="5968800" cy="378468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1547640" y="51577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CC for Malaria Incidenc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ver Botswana (NDJF 1981-2000). The reference dataset is a companion run forced by ERA40 reanalysis, and the analysis is applied to the ensemble means. The dotted area display significant correlations at the 95% confidence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ENSEMBLES_stream2_vs_era_INCIDENC_198111_200011_NDJF_map_MSSS.ps.gif"/>
          <p:cNvPicPr/>
          <p:nvPr/>
        </p:nvPicPr>
        <p:blipFill>
          <a:blip r:embed="rId1"/>
          <a:stretch/>
        </p:blipFill>
        <p:spPr>
          <a:xfrm>
            <a:off x="1619280" y="1413000"/>
            <a:ext cx="5968800" cy="3784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8"/>
          <p:cNvSpPr/>
          <p:nvPr/>
        </p:nvSpPr>
        <p:spPr>
          <a:xfrm>
            <a:off x="1476360" y="53006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SSS for Malaria Incidenc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ver Bostwana (NDJF 1981-2000). The reference dataset is a companion run forced by ERA40 reanalysis, and the analysis is applied to the ensemble mea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58920" y="83664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alidation climate driv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SEMBLES stream2 1981-2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asonal fore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MSE for tasmax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NDJF 1981-2000). The reference dataset is a NCE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52070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CC for tasmax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NDJF 1981-2000). The reference dataset is a NCE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1134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SSS for tasmax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NDJF 1981-2000). The reference dataset is a NCE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27868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MSE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NDJF 198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3499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CC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NDJF 198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27868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8120" y="45072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unning 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1916280"/>
            <a:ext cx="756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laria verification – ENSEMBLES stream II –limited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verification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stream II - all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mmary and Way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8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SSS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NDJF 198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18472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12640" y="189000"/>
            <a:ext cx="45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&amp; Way Forw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1360" y="858960"/>
            <a:ext cx="668340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ence in BSS and ROCSS (probabilis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stion non probabilistic nature/use of RM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 and MSSS for EPS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data should come with sets of verification plo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ECMWF DE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ecmwf.int/research/demeter/d/charts/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 of scripts?  Or portal to where they ex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618600" cy="4964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647520" y="18900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58920" y="83664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alidation climate driv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SEMBLES stream1 1991-20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asonal fore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7640" y="278136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lso have for DEMETER equivalent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MSE for t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91-2000). The reference dataset is a ERA40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15920" y="1519200"/>
          <a:ext cx="711360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1519200"/>
                    <a:ext cx="711360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MSE for t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91-2000). The reference dataset is a NCE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14480" y="1522440"/>
            <a:ext cx="711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CC for t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91-2000). The reference dataset is a ERA40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14480" y="1522440"/>
            <a:ext cx="711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CC for t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91-2000). The reference dataset is a NCE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14480" y="1522440"/>
            <a:ext cx="711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SSS for t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91-2000). The reference dataset is a ERA40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65200" y="33336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9680" y="836640"/>
            <a:ext cx="80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ly use BSS and ROCSS to work with probabilistic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ning RMSE, ACC and MSSS deterministic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ensemble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veloped/modified  scripts for skill sc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NCAR Command Language (NCL) – share &amp; cross valid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not complete – will report via ENSEMBLES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SSS for t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91-2000). The reference dataset is a NCE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14480" y="1519200"/>
            <a:ext cx="71150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MSE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9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15920" y="1519200"/>
          <a:ext cx="711360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1519200"/>
                    <a:ext cx="711360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CC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9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14480" y="1522440"/>
            <a:ext cx="711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SSS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DJF 198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14480" y="1522440"/>
            <a:ext cx="711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J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MSE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JAS 199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14480" y="1522440"/>
            <a:ext cx="711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J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CC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JAS 199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14480" y="1522440"/>
            <a:ext cx="711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91-2000 J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1476360" y="5300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SSS for prl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JAS 1991-2000). The reference dataset is a GPCP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14480" y="1522440"/>
            <a:ext cx="7113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roduction – ROCSS malaria mod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487680" cy="367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40360" y="1197000"/>
            <a:ext cx="3443040" cy="3744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42920" y="90792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er-2 malaria runs  - ROC Skill Scores Above Median Eve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5013360"/>
            <a:ext cx="81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METER driven LMM. Areas of high interannual variability were selected and persisted forecast skill was removed from the sc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ones, A. and Morse, A. (2007)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IVAR Exchang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58200" y="3357720"/>
            <a:ext cx="105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y 4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3357720"/>
            <a:ext cx="102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v 4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885080" y="1341360"/>
            <a:ext cx="93024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87280" y="1628640"/>
            <a:ext cx="66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alidation of Liverpool Malaria Model (LMM)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orced by ENSEMBLES stream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asonal fore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9640" y="1341360"/>
            <a:ext cx="8229600" cy="1219320"/>
          </a:xfrm>
          <a:prstGeom prst="rect">
            <a:avLst/>
          </a:prstGeom>
          <a:solidFill>
            <a:srgbClr val="b9cde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375e"/>
                </a:solidFill>
                <a:latin typeface="Times New Roman"/>
              </a:rPr>
              <a:t>LMM dynamic malaria mode forced with daily Tx and ppt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375e"/>
                </a:solidFill>
                <a:latin typeface="Times New Roman"/>
              </a:rPr>
              <a:t>The domain: Botswana: [27.5°S-17.5°S] [17.5°E-30°E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140328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able of experi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4360" y="2349360"/>
          <a:ext cx="7777080" cy="3934080"/>
        </p:xfrm>
        <a:graphic>
          <a:graphicData uri="http://schemas.openxmlformats.org/drawingml/2006/table">
            <a:tbl>
              <a:tblPr/>
              <a:tblGrid>
                <a:gridCol w="1217520"/>
                <a:gridCol w="1446120"/>
                <a:gridCol w="1655640"/>
                <a:gridCol w="936720"/>
                <a:gridCol w="1368360"/>
                <a:gridCol w="1152720"/>
              </a:tblGrid>
              <a:tr h="112392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i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itution/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rt d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ead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emble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232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ec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EM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ECMWF IFS-H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0-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 1 (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eg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EM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UK Met-Office HadGe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0-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 1 (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lfp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EM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Meteo-France ARPEGE4/O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0-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 1 (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ing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EM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INGV ECHAM5/OPA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0-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 1 (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fm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EM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Kiel ECHAM5/O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0-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 1 (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476360" y="62064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c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395280" y="1197000"/>
            <a:ext cx="8229600" cy="51055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375e"/>
                </a:solidFill>
                <a:latin typeface="Times New Roman"/>
              </a:rPr>
              <a:t>ACC: anomaly correlation coeffic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es the question: How well did the forecast anomalies correspond to the observed anomalies?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375e"/>
                </a:solidFill>
                <a:latin typeface="Times New Roman"/>
              </a:rPr>
              <a:t>RMSE: Root mean squar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nswers the question: What is the average magnitude of the forecast errors?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375e"/>
                </a:solidFill>
                <a:latin typeface="Times New Roman"/>
              </a:rPr>
              <a:t>MSSS: Mean square skill 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17375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375e"/>
                </a:solidFill>
                <a:latin typeface="Times New Roman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" descr="Anomaly correlation equation"/>
          <p:cNvPicPr/>
          <p:nvPr/>
        </p:nvPicPr>
        <p:blipFill>
          <a:blip r:embed="rId1"/>
          <a:stretch/>
        </p:blipFill>
        <p:spPr>
          <a:xfrm>
            <a:off x="1763640" y="1700280"/>
            <a:ext cx="6188040" cy="62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Equation for root mean square error"/>
          <p:cNvPicPr/>
          <p:nvPr/>
        </p:nvPicPr>
        <p:blipFill>
          <a:blip r:embed="rId2"/>
          <a:stretch/>
        </p:blipFill>
        <p:spPr>
          <a:xfrm>
            <a:off x="1979640" y="3933720"/>
            <a:ext cx="1690560" cy="552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6227640" y="5013360"/>
                <a:ext cx="17146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1258920" y="5516640"/>
                <a:ext cx="2190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ba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708360" y="5516640"/>
                <a:ext cx="2171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6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ENSEMBLES_stream2_vs_era_INCIDENC_196111_200011_NDJF_map_RMSE.ps.gif"/>
          <p:cNvPicPr/>
          <p:nvPr/>
        </p:nvPicPr>
        <p:blipFill>
          <a:blip r:embed="rId1"/>
          <a:stretch/>
        </p:blipFill>
        <p:spPr>
          <a:xfrm>
            <a:off x="1763640" y="1341360"/>
            <a:ext cx="5956200" cy="37767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2"/>
          <p:cNvSpPr/>
          <p:nvPr/>
        </p:nvSpPr>
        <p:spPr>
          <a:xfrm>
            <a:off x="1476360" y="53006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MSE for Malaria Incidenc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ver Botswana (NDJF 1961-2000). The reference dataset is a companion run forced by ERA40 reanalysis, and the analysis is applied to the ensemble me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719800" y="189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MBLES –str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1763640" y="692280"/>
            <a:ext cx="5943600" cy="5814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sults 1961-2000 NDJ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1" descr="ENSEMBLES_stream2_vs_era_INCIDENC_196111_200011_NDJF_map_ACC.ps.gif"/>
          <p:cNvPicPr/>
          <p:nvPr/>
        </p:nvPicPr>
        <p:blipFill>
          <a:blip r:embed="rId1"/>
          <a:stretch/>
        </p:blipFill>
        <p:spPr>
          <a:xfrm>
            <a:off x="1692360" y="1413000"/>
            <a:ext cx="5968800" cy="3784320"/>
          </a:xfrm>
          <a:prstGeom prst="rect">
            <a:avLst/>
          </a:prstGeom>
          <a:ln w="0">
            <a:noFill/>
          </a:ln>
        </p:spPr>
      </p:pic>
      <p:sp>
        <p:nvSpPr>
          <p:cNvPr id="83" name="TextBox 10"/>
          <p:cNvSpPr/>
          <p:nvPr/>
        </p:nvSpPr>
        <p:spPr>
          <a:xfrm>
            <a:off x="1476360" y="5445000"/>
            <a:ext cx="6934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CC for Malaria Incidenc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ver Bostwana (NDJF 1961-2000). The reference dataset is a companion run forced by ERA40 reanalysis, and the analysis is applied to the ensemble means. The dotted area display significant correlations at the 95% confidence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AM</cp:lastModifiedBy>
  <dcterms:modified xsi:type="dcterms:W3CDTF">2009-01-13T20:25:38Z</dcterms:modified>
  <cp:revision>407</cp:revision>
  <dc:subject/>
  <dc:title>PowerPoint Presentation</dc:title>
</cp:coreProperties>
</file>