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352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GloSea4 – the new Met Office Hadley Centre seasonal forecast system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445000"/>
            <a:ext cx="8400960" cy="14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m Scaife and Alberto Arrib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nuary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47760"/>
            <a:ext cx="8362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loSea3 vs GloSea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297080"/>
          <a:ext cx="8424720" cy="4938480"/>
        </p:xfrm>
        <a:graphic>
          <a:graphicData uri="http://schemas.openxmlformats.org/drawingml/2006/table">
            <a:tbl>
              <a:tblPr/>
              <a:tblGrid>
                <a:gridCol w="1871640"/>
                <a:gridCol w="3168720"/>
                <a:gridCol w="3384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GloSea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GloSea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MS Mincho"/>
                        </a:rPr>
                        <a:t>Mod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CM3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48L19 – 1/3L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GEM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96L38-ORCA1L4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MS Mincho"/>
                        </a:rPr>
                        <a:t>Initial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tmos/soil: reconf. of ECMWF 4D-V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cean: UM 3D-O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/soil/sea-ice: reconf. of Met Office 4D-V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: NEMO 3D-O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MS Mincho"/>
                        </a:rPr>
                        <a:t>IC uncertain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nd stress and SST perturbations added to a central anal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ly lagged approa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MS Mincho"/>
                        </a:rPr>
                        <a:t>Model uncertain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P + SKE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MS Mincho"/>
                        </a:rPr>
                        <a:t>Forecast ensem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members (monthly bursts from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embers (weekly burst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MS Mincho"/>
                        </a:rPr>
                        <a:t>Hindcast ensem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un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 prio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off-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-members / 15-years (1987-2001) ERA-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un real-time with foreca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-members / 15-years (1993-2007) ERA-inter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04720" y="2203560"/>
            <a:ext cx="266364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(NWP) + 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ly 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forecasts (6-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ing/post-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Sea4 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design/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43360" y="2205000"/>
            <a:ext cx="245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ue -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A(NWP) + O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forecasts (6-mont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ing/post-proc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802800" y="2522520"/>
            <a:ext cx="454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C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35720" y="3429000"/>
            <a:ext cx="260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very we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l together last 4-weeks fcsts/hc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proc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 / web displ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38640" y="4365720"/>
            <a:ext cx="2457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very 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ly’ IC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forecasts (6-month): Y-years, M-me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ing/post-proc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2844360" y="5016960"/>
            <a:ext cx="45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C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437000"/>
            <a:ext cx="143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17440" indent="-217440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Off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7440" indent="-21744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ous ODA (e.g. 1989 – 199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7440" indent="-21744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ekly’ Atmos + land.surf. Reanalysis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7440" indent="-217440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7080" y="1989000"/>
            <a:ext cx="5400720" cy="2016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3440" y="4148280"/>
            <a:ext cx="3384360" cy="20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76640"/>
            <a:ext cx="1728720" cy="216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197080" y="4797360"/>
            <a:ext cx="122400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9440" y="4724280"/>
            <a:ext cx="1225440" cy="505080"/>
          </a:xfrm>
          <a:custGeom>
            <a:avLst/>
            <a:gdLst>
              <a:gd name="textAreaLeft" fmla="*/ 408600 w 1225440"/>
              <a:gd name="textAreaRight" fmla="*/ 1049760 w 1225440"/>
              <a:gd name="textAreaTop" fmla="*/ 290880 h 505080"/>
              <a:gd name="textAreaBottom" fmla="*/ 4327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229440" y="2708280"/>
            <a:ext cx="1225440" cy="503280"/>
          </a:xfrm>
          <a:custGeom>
            <a:avLst/>
            <a:gdLst>
              <a:gd name="textAreaLeft" fmla="*/ 449280 w 1225440"/>
              <a:gd name="textAreaRight" fmla="*/ 1000080 w 1225440"/>
              <a:gd name="textAreaTop" fmla="*/ 277560 h 503280"/>
              <a:gd name="textAreaBottom" fmla="*/ 411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864"/>
                </a:moveTo>
                <a:lnTo>
                  <a:pt x="11891" y="15864"/>
                </a:lnTo>
                <a:lnTo>
                  <a:pt x="11891" y="7918"/>
                </a:lnTo>
                <a:lnTo>
                  <a:pt x="7918" y="7918"/>
                </a:lnTo>
                <a:lnTo>
                  <a:pt x="14759" y="0"/>
                </a:lnTo>
                <a:lnTo>
                  <a:pt x="21600" y="7918"/>
                </a:lnTo>
                <a:lnTo>
                  <a:pt x="17627" y="7918"/>
                </a:lnTo>
                <a:lnTo>
                  <a:pt x="176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852640"/>
            <a:ext cx="1224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292428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3213000"/>
            <a:ext cx="0" cy="14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9080" y="292572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479736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522936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0" t="11063" r="0" b="0"/>
          <a:stretch/>
        </p:blipFill>
        <p:spPr>
          <a:xfrm>
            <a:off x="755640" y="1484280"/>
            <a:ext cx="7632720" cy="5207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347760"/>
            <a:ext cx="8713800" cy="12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with ICs perturb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3019320"/>
            <a:ext cx="168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t.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" y="6521400"/>
            <a:ext cx="4044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(Bowler, Arribas and Mylne, 2008. </a:t>
            </a: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MWR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0000" y="2011320"/>
            <a:ext cx="5337000" cy="1800360"/>
          </a:xfrm>
          <a:custGeom>
            <a:avLst/>
            <a:gdLst/>
            <a:ahLst/>
            <a:rect l="l" t="t" r="r" b="b"/>
            <a:pathLst>
              <a:path w="3351" h="1115">
                <a:moveTo>
                  <a:pt x="0" y="1080"/>
                </a:moveTo>
                <a:cubicBezTo>
                  <a:pt x="211" y="1115"/>
                  <a:pt x="403" y="994"/>
                  <a:pt x="608" y="968"/>
                </a:cubicBezTo>
                <a:cubicBezTo>
                  <a:pt x="669" y="948"/>
                  <a:pt x="707" y="942"/>
                  <a:pt x="776" y="936"/>
                </a:cubicBezTo>
                <a:cubicBezTo>
                  <a:pt x="1007" y="878"/>
                  <a:pt x="1238" y="819"/>
                  <a:pt x="1464" y="744"/>
                </a:cubicBezTo>
                <a:cubicBezTo>
                  <a:pt x="1482" y="738"/>
                  <a:pt x="1536" y="732"/>
                  <a:pt x="1552" y="728"/>
                </a:cubicBezTo>
                <a:cubicBezTo>
                  <a:pt x="1600" y="716"/>
                  <a:pt x="1649" y="696"/>
                  <a:pt x="1696" y="680"/>
                </a:cubicBezTo>
                <a:cubicBezTo>
                  <a:pt x="1705" y="677"/>
                  <a:pt x="1711" y="668"/>
                  <a:pt x="1720" y="664"/>
                </a:cubicBezTo>
                <a:cubicBezTo>
                  <a:pt x="1774" y="640"/>
                  <a:pt x="1834" y="631"/>
                  <a:pt x="1888" y="608"/>
                </a:cubicBezTo>
                <a:cubicBezTo>
                  <a:pt x="1933" y="589"/>
                  <a:pt x="1972" y="563"/>
                  <a:pt x="2016" y="544"/>
                </a:cubicBezTo>
                <a:cubicBezTo>
                  <a:pt x="2105" y="505"/>
                  <a:pt x="2204" y="487"/>
                  <a:pt x="2296" y="456"/>
                </a:cubicBezTo>
                <a:cubicBezTo>
                  <a:pt x="2305" y="453"/>
                  <a:pt x="2311" y="444"/>
                  <a:pt x="2320" y="440"/>
                </a:cubicBezTo>
                <a:cubicBezTo>
                  <a:pt x="2350" y="427"/>
                  <a:pt x="2385" y="418"/>
                  <a:pt x="2416" y="408"/>
                </a:cubicBezTo>
                <a:cubicBezTo>
                  <a:pt x="2425" y="405"/>
                  <a:pt x="2431" y="396"/>
                  <a:pt x="2440" y="392"/>
                </a:cubicBezTo>
                <a:cubicBezTo>
                  <a:pt x="2470" y="379"/>
                  <a:pt x="2505" y="370"/>
                  <a:pt x="2536" y="360"/>
                </a:cubicBezTo>
                <a:cubicBezTo>
                  <a:pt x="2560" y="352"/>
                  <a:pt x="2585" y="330"/>
                  <a:pt x="2608" y="320"/>
                </a:cubicBezTo>
                <a:cubicBezTo>
                  <a:pt x="2641" y="305"/>
                  <a:pt x="2673" y="297"/>
                  <a:pt x="2704" y="280"/>
                </a:cubicBezTo>
                <a:cubicBezTo>
                  <a:pt x="2750" y="255"/>
                  <a:pt x="2793" y="224"/>
                  <a:pt x="2840" y="200"/>
                </a:cubicBezTo>
                <a:cubicBezTo>
                  <a:pt x="2887" y="177"/>
                  <a:pt x="2934" y="169"/>
                  <a:pt x="2984" y="152"/>
                </a:cubicBezTo>
                <a:cubicBezTo>
                  <a:pt x="3008" y="144"/>
                  <a:pt x="3033" y="122"/>
                  <a:pt x="3056" y="112"/>
                </a:cubicBezTo>
                <a:cubicBezTo>
                  <a:pt x="3107" y="89"/>
                  <a:pt x="3153" y="79"/>
                  <a:pt x="3200" y="48"/>
                </a:cubicBezTo>
                <a:cubicBezTo>
                  <a:pt x="3173" y="88"/>
                  <a:pt x="3176" y="77"/>
                  <a:pt x="3232" y="40"/>
                </a:cubicBezTo>
                <a:cubicBezTo>
                  <a:pt x="3256" y="24"/>
                  <a:pt x="3280" y="16"/>
                  <a:pt x="3304" y="0"/>
                </a:cubicBezTo>
                <a:cubicBezTo>
                  <a:pt x="3351" y="71"/>
                  <a:pt x="3341" y="199"/>
                  <a:pt x="3272" y="256"/>
                </a:cubicBezTo>
                <a:cubicBezTo>
                  <a:pt x="3225" y="295"/>
                  <a:pt x="3109" y="316"/>
                  <a:pt x="3048" y="336"/>
                </a:cubicBezTo>
                <a:cubicBezTo>
                  <a:pt x="3039" y="339"/>
                  <a:pt x="3033" y="349"/>
                  <a:pt x="3024" y="352"/>
                </a:cubicBezTo>
                <a:cubicBezTo>
                  <a:pt x="3009" y="357"/>
                  <a:pt x="2992" y="356"/>
                  <a:pt x="2976" y="360"/>
                </a:cubicBezTo>
                <a:cubicBezTo>
                  <a:pt x="2917" y="375"/>
                  <a:pt x="2863" y="401"/>
                  <a:pt x="2808" y="424"/>
                </a:cubicBezTo>
                <a:cubicBezTo>
                  <a:pt x="2740" y="453"/>
                  <a:pt x="2663" y="472"/>
                  <a:pt x="2592" y="496"/>
                </a:cubicBezTo>
                <a:cubicBezTo>
                  <a:pt x="2542" y="513"/>
                  <a:pt x="2497" y="536"/>
                  <a:pt x="2448" y="552"/>
                </a:cubicBezTo>
                <a:cubicBezTo>
                  <a:pt x="2439" y="555"/>
                  <a:pt x="2433" y="565"/>
                  <a:pt x="2424" y="568"/>
                </a:cubicBezTo>
                <a:cubicBezTo>
                  <a:pt x="2390" y="581"/>
                  <a:pt x="2320" y="600"/>
                  <a:pt x="2320" y="600"/>
                </a:cubicBezTo>
                <a:cubicBezTo>
                  <a:pt x="2282" y="625"/>
                  <a:pt x="2305" y="613"/>
                  <a:pt x="2248" y="632"/>
                </a:cubicBezTo>
                <a:cubicBezTo>
                  <a:pt x="2225" y="640"/>
                  <a:pt x="2206" y="655"/>
                  <a:pt x="2184" y="664"/>
                </a:cubicBezTo>
                <a:cubicBezTo>
                  <a:pt x="2137" y="684"/>
                  <a:pt x="2082" y="700"/>
                  <a:pt x="2032" y="712"/>
                </a:cubicBezTo>
                <a:cubicBezTo>
                  <a:pt x="1934" y="737"/>
                  <a:pt x="1836" y="746"/>
                  <a:pt x="1736" y="760"/>
                </a:cubicBezTo>
                <a:cubicBezTo>
                  <a:pt x="1688" y="776"/>
                  <a:pt x="1640" y="785"/>
                  <a:pt x="1592" y="800"/>
                </a:cubicBezTo>
                <a:cubicBezTo>
                  <a:pt x="1533" y="818"/>
                  <a:pt x="1476" y="844"/>
                  <a:pt x="1416" y="856"/>
                </a:cubicBezTo>
                <a:cubicBezTo>
                  <a:pt x="1332" y="873"/>
                  <a:pt x="1243" y="883"/>
                  <a:pt x="1160" y="904"/>
                </a:cubicBezTo>
                <a:cubicBezTo>
                  <a:pt x="1092" y="921"/>
                  <a:pt x="1028" y="951"/>
                  <a:pt x="960" y="968"/>
                </a:cubicBezTo>
                <a:cubicBezTo>
                  <a:pt x="914" y="979"/>
                  <a:pt x="901" y="977"/>
                  <a:pt x="848" y="984"/>
                </a:cubicBezTo>
                <a:cubicBezTo>
                  <a:pt x="726" y="1000"/>
                  <a:pt x="603" y="1021"/>
                  <a:pt x="480" y="1032"/>
                </a:cubicBezTo>
                <a:cubicBezTo>
                  <a:pt x="402" y="1048"/>
                  <a:pt x="326" y="1074"/>
                  <a:pt x="248" y="1088"/>
                </a:cubicBezTo>
                <a:cubicBezTo>
                  <a:pt x="185" y="1100"/>
                  <a:pt x="120" y="1101"/>
                  <a:pt x="56" y="1112"/>
                </a:cubicBezTo>
                <a:cubicBezTo>
                  <a:pt x="7" y="1102"/>
                  <a:pt x="24" y="1115"/>
                  <a:pt x="0" y="10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148360" y="3213000"/>
            <a:ext cx="2448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213000"/>
            <a:ext cx="0" cy="158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2134800"/>
            <a:ext cx="33480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Sea4 to follow a lagged initializ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dependent perturb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ing true uncertainty (spatial and magnitu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0" r="47842" b="49790"/>
          <a:stretch/>
        </p:blipFill>
        <p:spPr>
          <a:xfrm>
            <a:off x="4500720" y="1806480"/>
            <a:ext cx="4205160" cy="4286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3708360" y="321264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8520" y="3500280"/>
            <a:ext cx="1563120" cy="94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r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1484280"/>
            <a:ext cx="15825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45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with ICs perturb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25760" y="1197000"/>
            <a:ext cx="314028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Lagg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upgrade for coupled initialisation and strat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1546200"/>
          <a:ext cx="8291160" cy="5195520"/>
        </p:xfrm>
        <a:graphic>
          <a:graphicData uri="http://schemas.openxmlformats.org/drawingml/2006/table">
            <a:tbl>
              <a:tblPr/>
              <a:tblGrid>
                <a:gridCol w="1956600"/>
                <a:gridCol w="3621240"/>
                <a:gridCol w="2713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pril 200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uture upgrad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ystem configur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cst: 30 memb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cst: 15-yr (most recent years from ERA-Interim); 10 memb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cst: 30 memb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cst: 20-yr; 10 member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[cost incr.: x 1.3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odel configuration and resolu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adGEM3 N96L38+ORCA1L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adGEM3 N96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L85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+ORCA1L4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[cost incr.: x 1.6 (</a:t>
                      </a: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with same timestep)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itializ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tmosphere: reconfiguration of NWP / E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cean: DA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: improved covarian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a-ice: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Include assimilation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pled initialization as described in Anderson et al. (2008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lacement of NEMO-OI by NEMOV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resentation of uncertain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Cs: lagged appro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odel:RP + </a:t>
                      </a:r>
                      <a:r>
                        <a:rPr b="0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SKEB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mprovement of SKEB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3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ost-process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GloSea3 calibration and display sys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- Complete MO-EPS Integrated web display sys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Improvement of new calibration metho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 Improvement of integrated display sys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mputing co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~1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~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sancha.lancaster</dc:creator>
  <dc:description>submitted 26.7.2005     CHG015666 refers</dc:description>
  <dc:language>en-US</dc:language>
  <cp:lastModifiedBy>adam.scaife</cp:lastModifiedBy>
  <cp:lastPrinted>2004-10-15T09:34:20Z</cp:lastPrinted>
  <dcterms:modified xsi:type="dcterms:W3CDTF">2009-01-09T17:50:03Z</dcterms:modified>
  <cp:revision>171</cp:revision>
  <dc:subject/>
  <dc:title>Slide 1</dc:title>
</cp:coreProperties>
</file>