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png" ContentType="image/png"/>
  <Override PartName="/ppt/media/image6.wmf" ContentType="image/x-wmf"/>
  <Override PartName="/ppt/media/image13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9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352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The stratosphere and Seasonal to Decadal Prediction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445000"/>
            <a:ext cx="8400960" cy="14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m Scaife, Sarah Ineson, Jeff Knight and Andrew Mars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nuary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3678480" cy="4010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6012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te El Nino eff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1413000"/>
            <a:ext cx="3032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 El Nino anoma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50hPa geopotential heigh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0880" y="155736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amilton, 199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3457440" cy="3325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320" y="6558120"/>
            <a:ext cx="43549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eson and Scaife, Nature Geoscience, (200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00" y="-49320"/>
            <a:ext cx="52099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te El Nino Eff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600720" cy="31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3718080" cy="3130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24000" y="1700280"/>
            <a:ext cx="1416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onal 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8880" y="1700280"/>
            <a:ext cx="1563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20" y="6558120"/>
            <a:ext cx="43549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eson and Scaife, Nature Geoscience, (200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46480" cy="4649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133880" cy="4594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0"/>
            <a:ext cx="7380360" cy="20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te El Nino Eff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4360" y="126828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-Feb PM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7440" y="12682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-Feb T2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20" y="6558120"/>
            <a:ext cx="43549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eson and Scaife, Nature Geoscience, (200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mote El Nino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2157480" cy="2328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68360" y="1628640"/>
            <a:ext cx="20480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268360" y="4292640"/>
            <a:ext cx="2051280" cy="2349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788000" y="429264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71280" y="24922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0hPa g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360" y="1268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8720" y="508464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S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126828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44640" y="549360"/>
            <a:ext cx="72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si-Biennial Osci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82880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50mb geopotential height anomalies (m): QBOE-QBOW compo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5562720"/>
            <a:ext cx="8001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Arial"/>
                <a:ea typeface="ＭＳ Ｐゴシック"/>
              </a:rPr>
              <a:t>Negative phase of the AO, as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  <a:ea typeface="ＭＳ Ｐゴシック"/>
              </a:rPr>
              <a:t>(statistically significa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2492280"/>
            <a:ext cx="1344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48360" y="2492280"/>
            <a:ext cx="1079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0" t="95339" r="0" b="0"/>
          <a:stretch/>
        </p:blipFill>
        <p:spPr>
          <a:xfrm>
            <a:off x="1547640" y="5084640"/>
            <a:ext cx="6000840" cy="266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8255" t="6003" r="4289" b="12668"/>
          <a:stretch/>
        </p:blipFill>
        <p:spPr>
          <a:xfrm>
            <a:off x="533520" y="28195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rcRect l="18255" t="6003" r="4289" b="12668"/>
          <a:stretch/>
        </p:blipFill>
        <p:spPr>
          <a:xfrm>
            <a:off x="6400800" y="2819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6583320"/>
            <a:ext cx="4038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shall and Scaife (2009)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it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692360" y="776160"/>
            <a:ext cx="72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si-Biennial Oscillation -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82880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urface temperature anomalies (K): QBOE-QBOW compo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45813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Arial"/>
                <a:ea typeface="ＭＳ Ｐゴシック"/>
              </a:rPr>
              <a:t>Cooling over northern Europe, as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2421000"/>
            <a:ext cx="12733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2421000"/>
            <a:ext cx="1079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5346720"/>
            <a:ext cx="896472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AO response captured in early stages of winter seasonal hindc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Better representation of the QBO could lead to improved forecasts at seasonal-t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-multiannual</a:t>
            </a:r>
            <a:r>
              <a:rPr b="1" lang="en-GB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 time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9623" t="95630" r="6000" b="-614"/>
          <a:stretch/>
        </p:blipFill>
        <p:spPr>
          <a:xfrm>
            <a:off x="1332000" y="4221000"/>
            <a:ext cx="6429240" cy="228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14627" t="7504" r="4002" b="16039"/>
          <a:stretch/>
        </p:blipFill>
        <p:spPr>
          <a:xfrm>
            <a:off x="1258920" y="2781360"/>
            <a:ext cx="2362320" cy="133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rcRect l="14627" t="7504" r="4002" b="15630"/>
          <a:stretch/>
        </p:blipFill>
        <p:spPr>
          <a:xfrm>
            <a:off x="5148360" y="2781360"/>
            <a:ext cx="2361960" cy="1338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76920" y="15228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shall and Scaife (2009)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it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200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si-Biennial Oscillation in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1253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BOW: 1963/64, 1982/83, 1992/93 and 1998/9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1628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BO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62/63, 1974/75, 1983/84, 1989/90, 1991/92, 1995/96 and 1997/9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8000" y="5300640"/>
            <a:ext cx="8820000" cy="15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Standard model drifts to easterly bias </a:t>
            </a: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(c.f. Hamilton and Boer 20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Extended model simulates realistic QBO </a:t>
            </a: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(Scaife et al., 20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=&gt; Interannual predictability for extratropics in wi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205000"/>
            <a:ext cx="3810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BO anomaly, 30h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8000" y="2637000"/>
            <a:ext cx="4496040" cy="2440080"/>
            <a:chOff x="1908000" y="2637000"/>
            <a:chExt cx="4496040" cy="244008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rcRect l="11475" t="5386" r="0" b="13115"/>
            <a:stretch/>
          </p:blipFill>
          <p:spPr>
            <a:xfrm>
              <a:off x="2289240" y="2637000"/>
              <a:ext cx="41148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flipV="1">
              <a:off x="2327400" y="4370040"/>
              <a:ext cx="3933720" cy="2761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27400" y="3313080"/>
              <a:ext cx="3904920" cy="17136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308320" y="4160880"/>
              <a:ext cx="3933720" cy="409680"/>
              <a:chOff x="2308320" y="4160880"/>
              <a:chExt cx="3933720" cy="40968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08320" y="4408560"/>
                <a:ext cx="1085760" cy="16200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3365640" y="4227120"/>
                <a:ext cx="1857240" cy="19044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194440" y="4160880"/>
                <a:ext cx="1047600" cy="763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327400" y="3122640"/>
              <a:ext cx="3914640" cy="123840"/>
              <a:chOff x="2327400" y="3122640"/>
              <a:chExt cx="3914640" cy="123840"/>
            </a:xfrm>
          </p:grpSpPr>
          <p:sp>
            <p:nvSpPr>
              <p:cNvPr id="265" name=""/>
              <p:cNvSpPr/>
              <p:nvPr/>
            </p:nvSpPr>
            <p:spPr>
              <a:xfrm>
                <a:off x="2327400" y="3246480"/>
                <a:ext cx="227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4556160" y="3122640"/>
                <a:ext cx="1685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2327400" y="3217680"/>
              <a:ext cx="3914640" cy="666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27400" y="4684680"/>
              <a:ext cx="109512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403440" y="4598640"/>
              <a:ext cx="282888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60640" y="48006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1000" y="480060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41720" y="48006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32440" y="48006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7000" y="480060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908000" y="2637000"/>
              <a:ext cx="1219320" cy="2211480"/>
              <a:chOff x="1908000" y="2637000"/>
              <a:chExt cx="1219320" cy="2211480"/>
            </a:xfrm>
          </p:grpSpPr>
          <p:sp>
            <p:nvSpPr>
              <p:cNvPr id="276" name=""/>
              <p:cNvSpPr/>
              <p:nvPr/>
            </p:nvSpPr>
            <p:spPr>
              <a:xfrm>
                <a:off x="2060280" y="3581280"/>
                <a:ext cx="106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4320" y="3094200"/>
                <a:ext cx="106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84320" y="2637000"/>
                <a:ext cx="106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08000" y="4572000"/>
                <a:ext cx="106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- 2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8000" y="4084560"/>
                <a:ext cx="106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- 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6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adal climate: Antar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79280" y="2276640"/>
            <a:ext cx="4897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zone depletion led to increased Antarctic winds from the stratosphere to the su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s and models agree on the impact: cooling over pole surrounded by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zone recovery expected by ~2060 so this signal will 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decadal prediction ski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435640" y="2082960"/>
            <a:ext cx="3457440" cy="3197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719680" y="5373720"/>
            <a:ext cx="294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nge per 30 yrs, Thompson and Solomon (200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adal climate: NAO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4032360" cy="3360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572000" y="1557360"/>
            <a:ext cx="3887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opospheric models” do not easily capture the observed NAO tre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rcRect l="11137" t="1981" r="47198" b="79453"/>
          <a:stretch/>
        </p:blipFill>
        <p:spPr>
          <a:xfrm>
            <a:off x="324000" y="3789360"/>
            <a:ext cx="3147840" cy="1971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rcRect l="11137" t="19863" r="47198" b="53948"/>
          <a:stretch/>
        </p:blipFill>
        <p:spPr>
          <a:xfrm>
            <a:off x="684360" y="1268280"/>
            <a:ext cx="2447640" cy="2163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78240" y="5661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ote 1960s to 1990s 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adal NAO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0" t="0" r="48533" b="66012"/>
          <a:stretch/>
        </p:blipFill>
        <p:spPr>
          <a:xfrm>
            <a:off x="5076720" y="1341360"/>
            <a:ext cx="3168720" cy="2903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864760" y="1197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NAO 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05560" y="1773360"/>
            <a:ext cx="3829320" cy="109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tions have a large increase in N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run has very little increase in N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cludes GHG, aerosols, observed SST etc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rcRect l="6313" t="11555" r="9139" b="60493"/>
          <a:stretch/>
        </p:blipFill>
        <p:spPr>
          <a:xfrm>
            <a:off x="468360" y="3933720"/>
            <a:ext cx="3851280" cy="1774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621600" y="450864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Stone Sans ITC TT"/>
              </a:rPr>
              <a:t>NA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5440" y="4797360"/>
            <a:ext cx="601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tone Sans ITC TT"/>
              </a:rPr>
              <a:t>U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Stone Sans ITC TT"/>
              </a:rPr>
              <a:t>50h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27480" y="4579920"/>
            <a:ext cx="261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3068640"/>
            <a:ext cx="3024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4292640"/>
            <a:ext cx="3960720" cy="1159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th NAO and stratospheric wind incr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rease in recent ye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milar multiannual vari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000" y="3068640"/>
            <a:ext cx="5220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95640" y="3068640"/>
            <a:ext cx="5220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86920" y="259920"/>
            <a:ext cx="8821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3880" indent="0"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ff"/>
                </a:solidFill>
                <a:latin typeface="Arial"/>
              </a:rPr>
              <a:t>Intraseasonal to Sea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arly studies suggested an NAO/AO response to imposed stratospheric changes in G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bservations show downward propagation of wind anomalies from the upper stratosp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me studies show additional predictability from the stratosphere on monthly to seasonal times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adal NAO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0" t="0" r="48533" b="66012"/>
          <a:stretch/>
        </p:blipFill>
        <p:spPr>
          <a:xfrm>
            <a:off x="1042920" y="3500280"/>
            <a:ext cx="3168720" cy="2903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rcRect l="0" t="0" r="48533" b="67095"/>
          <a:stretch/>
        </p:blipFill>
        <p:spPr>
          <a:xfrm>
            <a:off x="4932360" y="3573360"/>
            <a:ext cx="2951280" cy="2619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832760" y="3357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NAO 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88040" y="335772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surface pres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413000"/>
            <a:ext cx="7920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e a body force in the model stratosphere (c.f. Norton 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Increase in stratospheric wind from 1960s to 1990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Increase in NAO similar to observed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adal Surface Climate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rcRect l="9367" t="50604" r="8657" b="28440"/>
          <a:stretch/>
        </p:blipFill>
        <p:spPr>
          <a:xfrm>
            <a:off x="0" y="1125360"/>
            <a:ext cx="5867280" cy="2880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25800" y="12682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6520" y="126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56360" y="2708280"/>
            <a:ext cx="284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uropean T trends 1960s-1990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dAM3 ctl      0.15K/dec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dAM3 expt   0.59K/dec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   0.53K/dec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rcRect l="17724" t="76442" r="58028" b="3727"/>
          <a:stretch/>
        </p:blipFill>
        <p:spPr>
          <a:xfrm>
            <a:off x="324000" y="4365720"/>
            <a:ext cx="2087280" cy="2376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60382" t="76442" r="16181" b="3727"/>
          <a:stretch/>
        </p:blipFill>
        <p:spPr>
          <a:xfrm>
            <a:off x="3492360" y="4365720"/>
            <a:ext cx="2017800" cy="2376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1280" y="4149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Precip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49440" y="41497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Precip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77080" y="6237360"/>
            <a:ext cx="210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aife et al. GRL,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3640" y="115920"/>
            <a:ext cx="8569080" cy="6626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atospheric dynamics are important for seasonal to decadal surfac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veral sources of predictability/vari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dden Warmings -&gt; persistent anomalies 30-60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O -&gt; extratropics -&gt; stratosphere -&gt; N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olcanoes -&gt; stratosphere -&gt; extratropics -&gt; N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BO -&gt; extratropics -&gt; N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adal climate variability involves the stra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w lid models do not represent thes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cessary to achieve good skill for the extratr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347760"/>
            <a:ext cx="8507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ARC – Stratospheric Processes And their role in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673280"/>
            <a:ext cx="83628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7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ccff"/>
                </a:solidFill>
                <a:latin typeface="Arial"/>
              </a:rPr>
              <a:t>1 - Climate-Chemistry Interactions</a:t>
            </a: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How will stratospheric ozone and other constituents evolve?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How will changes in stratospheric composition affect climate?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What are the links between changes in stratospheric ozone, UV radiation and tropospheric chemistry?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ccff"/>
                </a:solidFill>
                <a:latin typeface="Arial"/>
              </a:rPr>
              <a:t>2 - Detection, Attribution, and Prediction of Stratospheric Change</a:t>
            </a: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What are the past changes and variations in the stratosphere?         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How well can we explain past changes in terms of natural and anthropogenic effects?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How do we expect the stratosphere to evolve in the future, and what confidence do we have in those predictions?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- Stratosphere-Troposphere Dynamical Coupl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the role of dynamical and radiative coupling with the stratosphere in extended-range tropospheric weather forecasting and determining long-term trends in tropospheric climate?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what mechanisms do the stratosphere and troposphere act as a coupled 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4000" y="347760"/>
            <a:ext cx="8362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ARC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619280" y="141300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Gravity Wav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Data Assimi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CCM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Laboratory Studies joint with IG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Influence for SPARC (SOLARI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ARC Dynamical Variability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Var 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Var intrasea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Var climat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Var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LL LONG SIMULATIONS – not initialis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UTLS/SPARC Tropopaus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347760"/>
            <a:ext cx="8362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 WGSIP/SPARC interaction and stratospheric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80360" cy="468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 Top – Low Top Hind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 to WGSIP-CH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initial ocean data? Just initialising extra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annual predictability from the QB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ed model or a simple parametrization (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y experiment – cheap.  Requires a few years of E and W QBO with a reasonable number of members.  Could lead directly to forecast impr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47640" y="5229360"/>
            <a:ext cx="453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6ccff"/>
                </a:solidFill>
                <a:latin typeface="Arial"/>
              </a:rPr>
              <a:t>Dynamical forecast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ynamical forecast + 70hPa stat fcast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hristiansen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47760"/>
            <a:ext cx="8362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wnward propagating w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5183280" cy="339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48360" y="191628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aldwin and Dunkerton 2001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e also: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Kodera et al 1990, Boville 19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rcRect l="0" t="58821" r="23424" b="0"/>
          <a:stretch/>
        </p:blipFill>
        <p:spPr>
          <a:xfrm>
            <a:off x="5614920" y="440208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99640" y="4149720"/>
            <a:ext cx="2472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wind at 60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05636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ter 2005/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356000" y="2491920"/>
            <a:ext cx="46087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stratospheric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ward propag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cooling and extreme snow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6056" t="0" r="0" b="0"/>
          <a:stretch/>
        </p:blipFill>
        <p:spPr>
          <a:xfrm>
            <a:off x="108000" y="1413000"/>
            <a:ext cx="4464000" cy="4427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99080"/>
            <a:ext cx="36352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3422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inter 2005/6 ensembles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43120" y="2419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25360"/>
            <a:ext cx="6948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opospheric models (HadAM/HadG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0/25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dISST as a boundary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opospheric Model + stratospheric perturb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5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dISST as lower boundary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urbed stratosphere from 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J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1450" t="4303" r="0" b="6552"/>
          <a:stretch/>
        </p:blipFill>
        <p:spPr>
          <a:xfrm>
            <a:off x="6211800" y="2060640"/>
            <a:ext cx="2932200" cy="1736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020720" y="227664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Zonal wind at 50hP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0" t="7187" r="33723" b="47307"/>
          <a:stretch/>
        </p:blipFill>
        <p:spPr>
          <a:xfrm>
            <a:off x="2916360" y="5038560"/>
            <a:ext cx="4460760" cy="181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3440" y="4653000"/>
            <a:ext cx="1264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0880" y="4653000"/>
            <a:ext cx="1619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tur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rcRect l="0" t="0" r="48623" b="0"/>
          <a:stretch/>
        </p:blipFill>
        <p:spPr>
          <a:xfrm>
            <a:off x="0" y="4941720"/>
            <a:ext cx="2484360" cy="207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6520" y="4581360"/>
            <a:ext cx="158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49360"/>
            <a:ext cx="3635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caife and Knight, QJRMS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286000" y="2133720"/>
            <a:ext cx="6781320" cy="4117320"/>
            <a:chOff x="2286000" y="2133720"/>
            <a:chExt cx="6781320" cy="41173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rcRect l="0" t="5786" r="0" b="0"/>
            <a:stretch/>
          </p:blipFill>
          <p:spPr>
            <a:xfrm>
              <a:off x="3473640" y="2133720"/>
              <a:ext cx="4463280" cy="41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583000" y="4204080"/>
              <a:ext cx="655560" cy="290160"/>
            </a:xfrm>
            <a:prstGeom prst="rightArrow">
              <a:avLst>
                <a:gd name="adj1" fmla="val 50000"/>
                <a:gd name="adj2" fmla="val 56483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8114760" y="2288880"/>
              <a:ext cx="655200" cy="288000"/>
            </a:xfrm>
            <a:prstGeom prst="rightArrow">
              <a:avLst>
                <a:gd name="adj1" fmla="val 50000"/>
                <a:gd name="adj2" fmla="val 56875"/>
              </a:avLst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13400" y="2577240"/>
              <a:ext cx="20811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ff"/>
                  </a:solidFill>
                  <a:latin typeface="Arial"/>
                </a:rPr>
                <a:t>Standard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74200" y="2666160"/>
              <a:ext cx="20239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66"/>
                  </a:solidFill>
                  <a:latin typeface="Arial"/>
                </a:rPr>
                <a:t>Extend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66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51320" y="2403360"/>
              <a:ext cx="1665720" cy="3660480"/>
            </a:xfrm>
            <a:prstGeom prst="rect">
              <a:avLst/>
            </a:pr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17160" y="4352760"/>
              <a:ext cx="1665360" cy="1711440"/>
            </a:xfrm>
            <a:prstGeom prst="rect">
              <a:avLst/>
            </a:pr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4356000"/>
              <a:ext cx="1309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ff"/>
                  </a:solidFill>
                  <a:latin typeface="Arial"/>
                </a:rPr>
                <a:t>39.3k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58360" y="2413440"/>
              <a:ext cx="13089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84.1k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28600" y="1981080"/>
            <a:ext cx="3330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dGEM2-A 15-member ensemble hindcasts        (1 Dec – 30 Ap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 winters, 1962-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33360"/>
            <a:ext cx="839628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ed and Standard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47760"/>
            <a:ext cx="8507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ability of stratospheric war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4920" y="378936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gradFill rotWithShape="0">
            <a:gsLst>
              <a:gs pos="0">
                <a:srgbClr val="d1ff2b"/>
              </a:gs>
              <a:gs pos="100000">
                <a:srgbClr val="607513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378936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Improved seasonal prediction of European winter cold spel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59280" y="4610160"/>
            <a:ext cx="5875200" cy="2058480"/>
            <a:chOff x="3059280" y="4610160"/>
            <a:chExt cx="5875200" cy="20584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rcRect l="11641" t="5921" r="2835" b="12976"/>
            <a:stretch/>
          </p:blipFill>
          <p:spPr>
            <a:xfrm>
              <a:off x="3059280" y="5013000"/>
              <a:ext cx="2849400" cy="16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rcRect l="11584" t="6142" r="3133" b="12359"/>
            <a:stretch/>
          </p:blipFill>
          <p:spPr>
            <a:xfrm>
              <a:off x="6053400" y="5016240"/>
              <a:ext cx="288108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124680" y="4610160"/>
              <a:ext cx="2664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1960" y="4610160"/>
              <a:ext cx="2664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end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959600" y="2612880"/>
            <a:ext cx="1005120" cy="750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0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27680" y="2612880"/>
            <a:ext cx="12319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0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0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65880" y="2612880"/>
            <a:ext cx="1261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0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3160" y="2612880"/>
            <a:ext cx="1152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0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4240" y="2612880"/>
            <a:ext cx="12589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0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2612880"/>
            <a:ext cx="2874960" cy="750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ak easterly magn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fraction of observ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9600" y="1913040"/>
            <a:ext cx="1005120" cy="699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27680" y="1913040"/>
            <a:ext cx="1231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65880" y="1913040"/>
            <a:ext cx="1261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3160" y="1913040"/>
            <a:ext cx="1152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4240" y="1913040"/>
            <a:ext cx="1258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|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913040"/>
            <a:ext cx="2874960" cy="699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Maximum lead time for capture (day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59600" y="907920"/>
            <a:ext cx="1005120" cy="100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27680" y="907920"/>
            <a:ext cx="1231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F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5880" y="907920"/>
            <a:ext cx="1261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13160" y="907920"/>
            <a:ext cx="11527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D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4240" y="907920"/>
            <a:ext cx="1258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F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907920"/>
            <a:ext cx="2874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3363840"/>
            <a:ext cx="8785440" cy="0"/>
          </a:xfrm>
          <a:prstGeom prst="line">
            <a:avLst/>
          </a:prstGeom>
          <a:ln cap="rnd"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916280"/>
            <a:ext cx="0" cy="14475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64720" y="907920"/>
            <a:ext cx="0" cy="2455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913040"/>
            <a:ext cx="8785440" cy="0"/>
          </a:xfrm>
          <a:prstGeom prst="line">
            <a:avLst/>
          </a:prstGeom>
          <a:ln cap="rnd"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4240" y="907920"/>
            <a:ext cx="0" cy="2455920"/>
          </a:xfrm>
          <a:prstGeom prst="line">
            <a:avLst/>
          </a:prstGeom>
          <a:ln cap="rnd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3160" y="907920"/>
            <a:ext cx="0" cy="2455920"/>
          </a:xfrm>
          <a:prstGeom prst="line">
            <a:avLst/>
          </a:prstGeom>
          <a:ln cap="rnd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65880" y="907920"/>
            <a:ext cx="0" cy="2455920"/>
          </a:xfrm>
          <a:prstGeom prst="line">
            <a:avLst/>
          </a:prstGeom>
          <a:ln cap="rnd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27680" y="907920"/>
            <a:ext cx="0" cy="2455920"/>
          </a:xfrm>
          <a:prstGeom prst="line">
            <a:avLst/>
          </a:prstGeom>
          <a:ln cap="rnd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59600" y="907920"/>
            <a:ext cx="0" cy="2455920"/>
          </a:xfrm>
          <a:prstGeom prst="line">
            <a:avLst/>
          </a:prstGeom>
          <a:ln cap="rnd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612880"/>
            <a:ext cx="8785440" cy="0"/>
          </a:xfrm>
          <a:prstGeom prst="line">
            <a:avLst/>
          </a:prstGeom>
          <a:ln cap="rnd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907920"/>
            <a:ext cx="5905440" cy="0"/>
          </a:xfrm>
          <a:prstGeom prst="line">
            <a:avLst/>
          </a:prstGeom>
          <a:ln cap="rnd"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9280" y="3500280"/>
            <a:ext cx="2808360" cy="2521080"/>
            <a:chOff x="179280" y="3500280"/>
            <a:chExt cx="2808360" cy="252108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179280" y="3500280"/>
              <a:ext cx="280836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3720" y="3644640"/>
              <a:ext cx="206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onal wi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10hPa,60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27640" y="1773360"/>
            <a:ext cx="431640" cy="1655640"/>
          </a:xfrm>
          <a:prstGeom prst="ellipse">
            <a:avLst/>
          </a:pr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16360" y="3068640"/>
            <a:ext cx="1511280" cy="72072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1557360"/>
            <a:ext cx="151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  <a:ea typeface="MS Mincho"/>
              </a:rPr>
              <a:t>Ex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| Stan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499080"/>
            <a:ext cx="2987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rshall and Scaife, sub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994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mospheric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4724280"/>
            <a:ext cx="4105440" cy="20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mate models and weather forecas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derestimate blocking frequency aft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5 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-trop model reproduces maximu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locking frequency in both Pacific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lantic se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s ultra-high horizontal resolution essenti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0" t="2977" r="0" b="15763"/>
          <a:stretch/>
        </p:blipFill>
        <p:spPr>
          <a:xfrm>
            <a:off x="179280" y="2060640"/>
            <a:ext cx="4010040" cy="4681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47360" y="1484280"/>
            <a:ext cx="32821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mate model blocking frequenc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D’Andrea et al. 1997, Tibaldi and Molteni 199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rcRect l="4054" t="2229" r="0" b="51084"/>
          <a:stretch/>
        </p:blipFill>
        <p:spPr>
          <a:xfrm>
            <a:off x="5003640" y="0"/>
            <a:ext cx="4140360" cy="2276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rcRect l="0" t="0" r="0" b="48900"/>
          <a:stretch/>
        </p:blipFill>
        <p:spPr>
          <a:xfrm>
            <a:off x="4843440" y="2060640"/>
            <a:ext cx="43005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86920" y="259920"/>
            <a:ext cx="8821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3880" indent="0" algn="ctr">
              <a:lnSpc>
                <a:spcPct val="100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ff"/>
                </a:solidFill>
                <a:latin typeface="Arial"/>
              </a:rPr>
              <a:t>Interannual to Decad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not only the ocean which contains a long memory. Stratospheric processes have a long memory too! For example the QBO has a period of 2-3 yrs and is predictable for 1-2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ey elements of interannual to decadal variability are strongly influenced by stratospheric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me key recent example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sancha.lancas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09-01-09T17:44:47Z</dcterms:modified>
  <cp:revision>226</cp:revision>
  <dc:subject/>
  <dc:title>Slide 1</dc:title>
</cp:coreProperties>
</file>