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08C-506B-4175-B3A6-DA9401FD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2D1-5B39-4267-8091-7C932125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131-4327-4738-82FB-3BA0ED5B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895-A4C5-45F8-A7A1-6F622123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D31E-7819-4B4A-BA7C-37B40D5C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8602-A979-49DD-A761-615D70F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8FF-6062-4BAE-9649-BCC156D8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1E7-D787-4988-8385-7D9682B7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A4A6-589C-4E23-869A-4177CCDD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EC3E-960C-482C-8E9A-0C5A487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09CE-2715-475E-BCF0-506CEE0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7FC-DDFA-4262-8F53-3ACC808D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CBD5-CF7A-45FD-A78F-E368797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1176-EF30-4BC9-9567-4E3436FC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754F-28ED-4474-9D86-D43196BA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0DD-296A-417E-965D-D0D20568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1C72-90E8-4281-A1A5-3AC15C67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CBB-782C-49EC-B05A-10BCBA3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E0C-09D9-4193-95FF-D667FA2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8F8-EA59-47C0-BD43-E132750D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14E-1B44-47A2-99FC-CB06410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DAF-5BD7-409D-8180-8F7324B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DAD-0973-4B85-97D0-431D069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4DE-8A75-4CD1-B69D-F9239075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82BD-3FB6-4314-AC1F-8BA5AE7CD3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8B6-E636-4FBB-B33F-61409145EA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52280" y="152280"/>
            <a:ext cx="8839080" cy="6553440"/>
            <a:chOff x="152280" y="152280"/>
            <a:chExt cx="8839080" cy="6553440"/>
          </a:xfrm>
        </p:grpSpPr>
        <p:cxnSp>
          <p:nvCxnSpPr>
            <p:cNvPr id="109" name="_s91140"/>
            <p:cNvCxnSpPr>
              <a:stCxn id="110" idx="1"/>
              <a:endCxn id="111" idx="2"/>
            </p:cNvCxnSpPr>
            <p:nvPr/>
          </p:nvCxnSpPr>
          <p:spPr>
            <a:xfrm rot="10800000">
              <a:off x="6858000" y="2076480"/>
              <a:ext cx="303480" cy="42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91141"/>
            <p:cNvCxnSpPr>
              <a:stCxn id="113" idx="3"/>
              <a:endCxn id="114" idx="2"/>
            </p:cNvCxnSpPr>
            <p:nvPr/>
          </p:nvCxnSpPr>
          <p:spPr>
            <a:xfrm flipV="1">
              <a:off x="1982520" y="2076480"/>
              <a:ext cx="304920" cy="4241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91142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4911840" y="1734840"/>
              <a:ext cx="387360" cy="106740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91143"/>
            <p:cNvCxnSpPr>
              <a:stCxn id="119" idx="0"/>
              <a:endCxn id="117" idx="2"/>
            </p:cNvCxnSpPr>
            <p:nvPr/>
          </p:nvCxnSpPr>
          <p:spPr>
            <a:xfrm flipH="1" flipV="1" rot="5400000">
              <a:off x="3844440" y="1735200"/>
              <a:ext cx="387360" cy="106704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91144"/>
            <p:cNvCxnSpPr>
              <a:stCxn id="117" idx="0"/>
              <a:endCxn id="121" idx="2"/>
            </p:cNvCxnSpPr>
            <p:nvPr/>
          </p:nvCxnSpPr>
          <p:spPr>
            <a:xfrm flipH="1" flipV="1" rot="5400000">
              <a:off x="4379400" y="1116000"/>
              <a:ext cx="38628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91145"/>
            <p:cNvCxnSpPr>
              <a:stCxn id="123" idx="1"/>
              <a:endCxn id="111" idx="2"/>
            </p:cNvCxnSpPr>
            <p:nvPr/>
          </p:nvCxnSpPr>
          <p:spPr>
            <a:xfrm rot="10800000">
              <a:off x="6858000" y="2076480"/>
              <a:ext cx="303480" cy="308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91146"/>
            <p:cNvCxnSpPr>
              <a:stCxn id="125" idx="1"/>
              <a:endCxn id="111" idx="2"/>
            </p:cNvCxnSpPr>
            <p:nvPr/>
          </p:nvCxnSpPr>
          <p:spPr>
            <a:xfrm rot="10800000">
              <a:off x="6858000" y="2076120"/>
              <a:ext cx="303480" cy="1926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91147"/>
            <p:cNvCxnSpPr>
              <a:stCxn id="127" idx="1"/>
              <a:endCxn id="111" idx="2"/>
            </p:cNvCxnSpPr>
            <p:nvPr/>
          </p:nvCxnSpPr>
          <p:spPr>
            <a:xfrm rot="10800000">
              <a:off x="6858000" y="2076480"/>
              <a:ext cx="303480" cy="76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91148"/>
            <p:cNvCxnSpPr>
              <a:stCxn id="129" idx="3"/>
              <a:endCxn id="114" idx="2"/>
            </p:cNvCxnSpPr>
            <p:nvPr/>
          </p:nvCxnSpPr>
          <p:spPr>
            <a:xfrm flipV="1">
              <a:off x="1982520" y="2076480"/>
              <a:ext cx="304920" cy="308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91149"/>
            <p:cNvCxnSpPr>
              <a:stCxn id="131" idx="3"/>
              <a:endCxn id="114" idx="2"/>
            </p:cNvCxnSpPr>
            <p:nvPr/>
          </p:nvCxnSpPr>
          <p:spPr>
            <a:xfrm flipV="1">
              <a:off x="1982520" y="2076480"/>
              <a:ext cx="304920" cy="19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91150"/>
            <p:cNvCxnSpPr>
              <a:stCxn id="133" idx="3"/>
              <a:endCxn id="114" idx="2"/>
            </p:cNvCxnSpPr>
            <p:nvPr/>
          </p:nvCxnSpPr>
          <p:spPr>
            <a:xfrm flipV="1">
              <a:off x="1982520" y="2076480"/>
              <a:ext cx="304920" cy="76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91151"/>
            <p:cNvCxnSpPr>
              <a:stCxn id="111" idx="0"/>
              <a:endCxn id="121" idx="2"/>
            </p:cNvCxnSpPr>
            <p:nvPr/>
          </p:nvCxnSpPr>
          <p:spPr>
            <a:xfrm flipV="1" rot="16200000">
              <a:off x="5522400" y="-25920"/>
              <a:ext cx="386280" cy="2285280"/>
            </a:xfrm>
            <a:prstGeom prst="bentConnector5">
              <a:avLst>
                <a:gd name="adj1" fmla="val 59981"/>
                <a:gd name="adj2" fmla="val -49881"/>
                <a:gd name="adj3" fmla="val -25876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91152"/>
            <p:cNvCxnSpPr>
              <a:stCxn id="114" idx="0"/>
              <a:endCxn id="121" idx="2"/>
            </p:cNvCxnSpPr>
            <p:nvPr/>
          </p:nvCxnSpPr>
          <p:spPr>
            <a:xfrm flipH="1" flipV="1" rot="5400000">
              <a:off x="3237120" y="-26280"/>
              <a:ext cx="386280" cy="2286360"/>
            </a:xfrm>
            <a:prstGeom prst="bentConnector5">
              <a:avLst>
                <a:gd name="adj1" fmla="val 59981"/>
                <a:gd name="adj2" fmla="val 49874"/>
                <a:gd name="adj3" fmla="val 400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91153"/>
            <p:cNvSpPr/>
            <p:nvPr/>
          </p:nvSpPr>
          <p:spPr>
            <a:xfrm>
              <a:off x="3659040" y="152280"/>
              <a:ext cx="1828440" cy="7714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LRF Modelli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ffff00"/>
                  </a:solidFill>
                  <a:uFillTx/>
                  <a:latin typeface="Arial"/>
                </a:rPr>
                <a:t>2008/09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91154"/>
            <p:cNvSpPr/>
            <p:nvPr/>
          </p:nvSpPr>
          <p:spPr>
            <a:xfrm>
              <a:off x="1379160" y="1309680"/>
              <a:ext cx="18158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660066"/>
                  </a:solidFill>
                  <a:uFillTx/>
                  <a:latin typeface="Arial"/>
                </a:rPr>
                <a:t>Physical Mode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91155"/>
            <p:cNvSpPr/>
            <p:nvPr/>
          </p:nvSpPr>
          <p:spPr>
            <a:xfrm>
              <a:off x="5950080" y="1309680"/>
              <a:ext cx="181620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660066"/>
                  </a:solidFill>
                  <a:uFillTx/>
                  <a:latin typeface="Arial"/>
                </a:rPr>
                <a:t>Empirical Mode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91156"/>
            <p:cNvSpPr/>
            <p:nvPr/>
          </p:nvSpPr>
          <p:spPr>
            <a:xfrm>
              <a:off x="152280" y="2462040"/>
              <a:ext cx="18302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AGC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ECHAM4.5 – for GPC recognition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smerom Berak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NE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91157"/>
            <p:cNvSpPr/>
            <p:nvPr/>
          </p:nvSpPr>
          <p:spPr>
            <a:xfrm>
              <a:off x="152280" y="3614760"/>
              <a:ext cx="1830240" cy="7761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CGC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Feasibility study ECHAM-MOM: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Implement on SA machine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smerom Berak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CHP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91158"/>
            <p:cNvSpPr/>
            <p:nvPr/>
          </p:nvSpPr>
          <p:spPr>
            <a:xfrm>
              <a:off x="155520" y="4776840"/>
              <a:ext cx="182700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Application Mod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crop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Noelien Somers (ARC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91159"/>
            <p:cNvSpPr/>
            <p:nvPr/>
          </p:nvSpPr>
          <p:spPr>
            <a:xfrm>
              <a:off x="7161120" y="2462040"/>
              <a:ext cx="18284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Global SST scenari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91160"/>
            <p:cNvSpPr/>
            <p:nvPr/>
          </p:nvSpPr>
          <p:spPr>
            <a:xfrm>
              <a:off x="7161120" y="3614760"/>
              <a:ext cx="1830240" cy="7747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MM Ensemble for LRF &amp; C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91161"/>
            <p:cNvSpPr/>
            <p:nvPr/>
          </p:nvSpPr>
          <p:spPr>
            <a:xfrm>
              <a:off x="7161120" y="4776840"/>
              <a:ext cx="18302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Application Model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streamflow and malari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91162"/>
            <p:cNvSpPr/>
            <p:nvPr/>
          </p:nvSpPr>
          <p:spPr>
            <a:xfrm>
              <a:off x="3657240" y="1309680"/>
              <a:ext cx="1828800" cy="765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660066"/>
                  </a:solidFill>
                  <a:uFillTx/>
                  <a:latin typeface="Arial"/>
                </a:rPr>
                <a:t>Verific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91163"/>
            <p:cNvSpPr/>
            <p:nvPr/>
          </p:nvSpPr>
          <p:spPr>
            <a:xfrm>
              <a:off x="2589840" y="2462040"/>
              <a:ext cx="1830240" cy="765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Model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ECHAM4.5+GPC+Statistica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smerom Berak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91164"/>
            <p:cNvSpPr/>
            <p:nvPr/>
          </p:nvSpPr>
          <p:spPr>
            <a:xfrm>
              <a:off x="4723560" y="2462040"/>
              <a:ext cx="1830240" cy="765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Operational Forecas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91165"/>
            <p:cNvSpPr/>
            <p:nvPr/>
          </p:nvSpPr>
          <p:spPr>
            <a:xfrm>
              <a:off x="152280" y="5929200"/>
              <a:ext cx="1830240" cy="776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External Model Da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HadGEM, GloSea4 and GPC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276000" y="5145120"/>
              <a:ext cx="256752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3276000" y="3295800"/>
              <a:ext cx="25912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_s91168"/>
            <p:cNvSpPr/>
            <p:nvPr/>
          </p:nvSpPr>
          <p:spPr>
            <a:xfrm>
              <a:off x="7161120" y="5929200"/>
              <a:ext cx="1830240" cy="7318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SADC-DMC products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rainfall and temperature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2200" y="4815000"/>
              <a:ext cx="36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im high with the goal in mi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781680" y="5334120"/>
            <a:ext cx="2743200" cy="1752480"/>
          </a:xfrm>
          <a:prstGeom prst="irregularSeal2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20557" t="16221" r="22223" b="4665"/>
          <a:stretch/>
        </p:blipFill>
        <p:spPr>
          <a:xfrm>
            <a:off x="838080" y="187200"/>
            <a:ext cx="754380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52960" cy="4091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29200" y="297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x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895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x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09680"/>
            <a:ext cx="1676160" cy="1295640"/>
          </a:xfrm>
          <a:prstGeom prst="parallelogram">
            <a:avLst>
              <a:gd name="adj" fmla="val 32342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362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x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3623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rgest respons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14003" t="-1994" r="16668" b="92006"/>
          <a:stretch/>
        </p:blipFill>
        <p:spPr>
          <a:xfrm>
            <a:off x="5181480" y="3352680"/>
            <a:ext cx="396252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0" t="51004" r="0" b="13001"/>
          <a:stretch/>
        </p:blipFill>
        <p:spPr>
          <a:xfrm>
            <a:off x="3429000" y="4114800"/>
            <a:ext cx="5715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782040" cy="657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10280" y="2057400"/>
            <a:ext cx="221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CM better able to capture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e, AGCM (in forecast mode) is therefore a better representation of 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hould thus give better predictions of rainfall over South Africa than CG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8380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ahoma"/>
              </a:rPr>
              <a:t>NCEP vs AGCM = 0.45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ahoma"/>
              </a:rPr>
              <a:t>NCEP vs CGCM = 0.37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2088" t="7771" r="10990" b="6765"/>
          <a:stretch/>
        </p:blipFill>
        <p:spPr>
          <a:xfrm>
            <a:off x="1752480" y="2286000"/>
            <a:ext cx="5562720" cy="437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66880" y="81000"/>
            <a:ext cx="4267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del output statistics (MOS) applied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CM ensemble mean S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CM ensemble mean S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-year-out cross-vali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earman rank corre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2286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GCM-MOS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slp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– CGCM-MOS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s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962520"/>
            <a:ext cx="350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nly about 5% of the stations show local significant correlation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ifferences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at the 95%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713560"/>
            <a:ext cx="5029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cast skill not significantly different irrespective of the use of “correct” or “incorrect” SLP forec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em.Landman</cp:lastModifiedBy>
  <dcterms:modified xsi:type="dcterms:W3CDTF">2009-01-14T15:33:19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