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662-E7DF-45D6-AD4F-7F4837E1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A56-3673-4AD4-8F78-EBA7A5F9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9D5-061B-4B81-A254-12EB8460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2A6-6048-4BB7-B0EC-EB062FB7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D99D-4CE3-417D-80AD-8B82134A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AFEB-28FA-49DD-A1AC-7ABCDDA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5285-482E-4451-820F-91AE98D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1D91-7A55-440D-A08B-36363DA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5C11-83F2-4FC9-A918-A2090087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4D81-8E0A-4B2A-984C-21D8E9DA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729D-3D3A-42D4-976D-48912E8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EF5-E642-477B-A507-A68157E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232-F78B-4B78-A822-4978F42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B5F4-C87B-4579-9237-D4F724A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B3B1-0503-42AC-A617-1EAA7C60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FBC-3FDA-4280-A5F3-0E82BE2D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6AD4-6F02-40F7-854C-EB537FC9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2EB-8538-4433-B6B3-949DA4CF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3FD-9FF9-43E0-ACC9-C0E02D5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EEE-CAEF-4B31-B014-9EBD2A5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548-79B4-4D8D-933E-CA5B0A15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759-7B96-471E-9985-6E1D1BA5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B9C-3E4B-40E3-BA02-93CB24F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F30-616B-405B-B9A9-A8A61B2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6C4-E8B9-4C49-AB6C-26AE98195B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5040-38A4-4E56-BBB4-374DAFC6F4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52280" y="152280"/>
            <a:ext cx="8839080" cy="6553440"/>
            <a:chOff x="152280" y="152280"/>
            <a:chExt cx="8839080" cy="6553440"/>
          </a:xfrm>
        </p:grpSpPr>
        <p:cxnSp>
          <p:nvCxnSpPr>
            <p:cNvPr id="109" name="_s91140"/>
            <p:cNvCxnSpPr>
              <a:stCxn id="110" idx="1"/>
              <a:endCxn id="111" idx="2"/>
            </p:cNvCxnSpPr>
            <p:nvPr/>
          </p:nvCxnSpPr>
          <p:spPr>
            <a:xfrm rot="10800000">
              <a:off x="6858000" y="2076480"/>
              <a:ext cx="303480" cy="42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91141"/>
            <p:cNvCxnSpPr>
              <a:stCxn id="113" idx="3"/>
              <a:endCxn id="114" idx="2"/>
            </p:cNvCxnSpPr>
            <p:nvPr/>
          </p:nvCxnSpPr>
          <p:spPr>
            <a:xfrm flipV="1">
              <a:off x="1982520" y="2076480"/>
              <a:ext cx="304920" cy="4241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91142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4911840" y="1734840"/>
              <a:ext cx="387360" cy="106740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91143"/>
            <p:cNvCxnSpPr>
              <a:stCxn id="119" idx="0"/>
              <a:endCxn id="117" idx="2"/>
            </p:cNvCxnSpPr>
            <p:nvPr/>
          </p:nvCxnSpPr>
          <p:spPr>
            <a:xfrm flipH="1" flipV="1" rot="5400000">
              <a:off x="3844440" y="1735200"/>
              <a:ext cx="387360" cy="106704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91144"/>
            <p:cNvCxnSpPr>
              <a:stCxn id="117" idx="0"/>
              <a:endCxn id="121" idx="2"/>
            </p:cNvCxnSpPr>
            <p:nvPr/>
          </p:nvCxnSpPr>
          <p:spPr>
            <a:xfrm flipH="1" flipV="1" rot="5400000">
              <a:off x="4379400" y="1116000"/>
              <a:ext cx="38628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91145"/>
            <p:cNvCxnSpPr>
              <a:stCxn id="123" idx="1"/>
              <a:endCxn id="111" idx="2"/>
            </p:cNvCxnSpPr>
            <p:nvPr/>
          </p:nvCxnSpPr>
          <p:spPr>
            <a:xfrm rot="10800000">
              <a:off x="6858000" y="2076480"/>
              <a:ext cx="303480" cy="308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91146"/>
            <p:cNvCxnSpPr>
              <a:stCxn id="125" idx="1"/>
              <a:endCxn id="111" idx="2"/>
            </p:cNvCxnSpPr>
            <p:nvPr/>
          </p:nvCxnSpPr>
          <p:spPr>
            <a:xfrm rot="10800000">
              <a:off x="6858000" y="2076120"/>
              <a:ext cx="303480" cy="1926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91147"/>
            <p:cNvCxnSpPr>
              <a:stCxn id="127" idx="1"/>
              <a:endCxn id="111" idx="2"/>
            </p:cNvCxnSpPr>
            <p:nvPr/>
          </p:nvCxnSpPr>
          <p:spPr>
            <a:xfrm rot="10800000">
              <a:off x="6858000" y="2076480"/>
              <a:ext cx="303480" cy="76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91148"/>
            <p:cNvCxnSpPr>
              <a:stCxn id="129" idx="3"/>
              <a:endCxn id="114" idx="2"/>
            </p:cNvCxnSpPr>
            <p:nvPr/>
          </p:nvCxnSpPr>
          <p:spPr>
            <a:xfrm flipV="1">
              <a:off x="1982520" y="2076480"/>
              <a:ext cx="304920" cy="308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91149"/>
            <p:cNvCxnSpPr>
              <a:stCxn id="131" idx="3"/>
              <a:endCxn id="114" idx="2"/>
            </p:cNvCxnSpPr>
            <p:nvPr/>
          </p:nvCxnSpPr>
          <p:spPr>
            <a:xfrm flipV="1">
              <a:off x="1982520" y="2076480"/>
              <a:ext cx="304920" cy="19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91150"/>
            <p:cNvCxnSpPr>
              <a:stCxn id="133" idx="3"/>
              <a:endCxn id="114" idx="2"/>
            </p:cNvCxnSpPr>
            <p:nvPr/>
          </p:nvCxnSpPr>
          <p:spPr>
            <a:xfrm flipV="1">
              <a:off x="1982520" y="2076480"/>
              <a:ext cx="304920" cy="76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91151"/>
            <p:cNvCxnSpPr>
              <a:stCxn id="111" idx="0"/>
              <a:endCxn id="121" idx="2"/>
            </p:cNvCxnSpPr>
            <p:nvPr/>
          </p:nvCxnSpPr>
          <p:spPr>
            <a:xfrm flipV="1" rot="16200000">
              <a:off x="5522400" y="-25920"/>
              <a:ext cx="386280" cy="2285280"/>
            </a:xfrm>
            <a:prstGeom prst="bentConnector5">
              <a:avLst>
                <a:gd name="adj1" fmla="val 59981"/>
                <a:gd name="adj2" fmla="val -49881"/>
                <a:gd name="adj3" fmla="val -25876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91152"/>
            <p:cNvCxnSpPr>
              <a:stCxn id="114" idx="0"/>
              <a:endCxn id="121" idx="2"/>
            </p:cNvCxnSpPr>
            <p:nvPr/>
          </p:nvCxnSpPr>
          <p:spPr>
            <a:xfrm flipH="1" flipV="1" rot="5400000">
              <a:off x="3237120" y="-26280"/>
              <a:ext cx="386280" cy="2286360"/>
            </a:xfrm>
            <a:prstGeom prst="bentConnector5">
              <a:avLst>
                <a:gd name="adj1" fmla="val 59981"/>
                <a:gd name="adj2" fmla="val 49874"/>
                <a:gd name="adj3" fmla="val 400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1" name="_s91153"/>
            <p:cNvSpPr/>
            <p:nvPr/>
          </p:nvSpPr>
          <p:spPr>
            <a:xfrm>
              <a:off x="3659040" y="152280"/>
              <a:ext cx="1828440" cy="7714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</a:rPr>
                <a:t>LRF Modelli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ffff00"/>
                  </a:solidFill>
                  <a:uFillTx/>
                  <a:latin typeface="Arial"/>
                </a:rPr>
                <a:t>2008/09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91154"/>
            <p:cNvSpPr/>
            <p:nvPr/>
          </p:nvSpPr>
          <p:spPr>
            <a:xfrm>
              <a:off x="1379160" y="1309680"/>
              <a:ext cx="18158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660066"/>
                  </a:solidFill>
                  <a:uFillTx/>
                  <a:latin typeface="Arial"/>
                </a:rPr>
                <a:t>Physical Mode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91155"/>
            <p:cNvSpPr/>
            <p:nvPr/>
          </p:nvSpPr>
          <p:spPr>
            <a:xfrm>
              <a:off x="5950080" y="1309680"/>
              <a:ext cx="181620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660066"/>
                  </a:solidFill>
                  <a:uFillTx/>
                  <a:latin typeface="Arial"/>
                </a:rPr>
                <a:t>Empirical Mode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91156"/>
            <p:cNvSpPr/>
            <p:nvPr/>
          </p:nvSpPr>
          <p:spPr>
            <a:xfrm>
              <a:off x="152280" y="2462040"/>
              <a:ext cx="18302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AGC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ECHAM4.5 – for GPC recognition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smerom Berak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NE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91157"/>
            <p:cNvSpPr/>
            <p:nvPr/>
          </p:nvSpPr>
          <p:spPr>
            <a:xfrm>
              <a:off x="152280" y="3614760"/>
              <a:ext cx="1830240" cy="7761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CGC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Feasibility study ECHAM-MOM: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Implement on SA machine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smerom Berak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CHP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91158"/>
            <p:cNvSpPr/>
            <p:nvPr/>
          </p:nvSpPr>
          <p:spPr>
            <a:xfrm>
              <a:off x="155520" y="4776840"/>
              <a:ext cx="182700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Application Mod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crop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Noelien Somers (ARC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91159"/>
            <p:cNvSpPr/>
            <p:nvPr/>
          </p:nvSpPr>
          <p:spPr>
            <a:xfrm>
              <a:off x="7161120" y="2462040"/>
              <a:ext cx="18284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Global SST scenari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91160"/>
            <p:cNvSpPr/>
            <p:nvPr/>
          </p:nvSpPr>
          <p:spPr>
            <a:xfrm>
              <a:off x="7161120" y="3614760"/>
              <a:ext cx="1830240" cy="7747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MM Ensemble for LRF &amp; C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91161"/>
            <p:cNvSpPr/>
            <p:nvPr/>
          </p:nvSpPr>
          <p:spPr>
            <a:xfrm>
              <a:off x="7161120" y="4776840"/>
              <a:ext cx="1830240" cy="7668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Application Model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streamflow and malari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91162"/>
            <p:cNvSpPr/>
            <p:nvPr/>
          </p:nvSpPr>
          <p:spPr>
            <a:xfrm>
              <a:off x="3657240" y="1309680"/>
              <a:ext cx="1828800" cy="765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660066"/>
                  </a:solidFill>
                  <a:uFillTx/>
                  <a:latin typeface="Arial"/>
                </a:rPr>
                <a:t>Verific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91163"/>
            <p:cNvSpPr/>
            <p:nvPr/>
          </p:nvSpPr>
          <p:spPr>
            <a:xfrm>
              <a:off x="2589840" y="2462040"/>
              <a:ext cx="1830240" cy="765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Model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ECHAM4.5+GPC+Statistica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Asmerom Berak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91164"/>
            <p:cNvSpPr/>
            <p:nvPr/>
          </p:nvSpPr>
          <p:spPr>
            <a:xfrm>
              <a:off x="4723560" y="2462040"/>
              <a:ext cx="1830240" cy="7653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Operational Forecas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91165"/>
            <p:cNvSpPr/>
            <p:nvPr/>
          </p:nvSpPr>
          <p:spPr>
            <a:xfrm>
              <a:off x="152280" y="5929200"/>
              <a:ext cx="1830240" cy="7765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External Model Da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HadGEM, GloSea4 and GPC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bus Olivie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276000" y="5145120"/>
              <a:ext cx="256752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3276000" y="3295800"/>
              <a:ext cx="25912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_s91168"/>
            <p:cNvSpPr/>
            <p:nvPr/>
          </p:nvSpPr>
          <p:spPr>
            <a:xfrm>
              <a:off x="7161120" y="5929200"/>
              <a:ext cx="1830240" cy="7318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SADC-DMC products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Arial"/>
                </a:rPr>
                <a:t>(rainfall and temperature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Willem Landm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PC &amp; LORE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2200" y="4815000"/>
              <a:ext cx="36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im high with the goal in mi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781680" y="5334120"/>
            <a:ext cx="2743200" cy="1752480"/>
          </a:xfrm>
          <a:prstGeom prst="irregularSeal2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20557" t="16221" r="22223" b="4665"/>
          <a:stretch/>
        </p:blipFill>
        <p:spPr>
          <a:xfrm>
            <a:off x="838080" y="187200"/>
            <a:ext cx="754380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52960" cy="4091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29200" y="297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x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895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xp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09680"/>
            <a:ext cx="1676160" cy="1295640"/>
          </a:xfrm>
          <a:prstGeom prst="parallelogram">
            <a:avLst>
              <a:gd name="adj" fmla="val 32342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3623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x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3623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argest respons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14003" t="-1994" r="16668" b="92006"/>
          <a:stretch/>
        </p:blipFill>
        <p:spPr>
          <a:xfrm>
            <a:off x="5181480" y="3352680"/>
            <a:ext cx="396252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0" t="51004" r="0" b="13001"/>
          <a:stretch/>
        </p:blipFill>
        <p:spPr>
          <a:xfrm>
            <a:off x="3429000" y="4114800"/>
            <a:ext cx="5715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782040" cy="657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10280" y="2057400"/>
            <a:ext cx="221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CM better able to capture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e, AGCM (in forecast mode) is therefore a better representation of 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hould thus give better predictions of rainfall over South Africa than CG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8380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ahoma"/>
              </a:rPr>
              <a:t>NCEP vs AGCM = 0.45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ahoma"/>
              </a:rPr>
              <a:t>NCEP vs CGCM = 0.37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2088" t="7771" r="10990" b="6765"/>
          <a:stretch/>
        </p:blipFill>
        <p:spPr>
          <a:xfrm>
            <a:off x="1752480" y="2286000"/>
            <a:ext cx="5562720" cy="437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66880" y="81000"/>
            <a:ext cx="4267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del output statistics (MOS) applied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CM ensemble mean S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CM ensemble mean S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-year-out cross-vali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earman rank corre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2286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GCM-MOS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slp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– CGCM-MOS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s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962520"/>
            <a:ext cx="350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nly about 5% of the stations show local significant correlation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ifferences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at the 95%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713560"/>
            <a:ext cx="5029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cast skill not significantly different irrespective of the use of “correct” or “incorrect” SLP forec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em.Landman</cp:lastModifiedBy>
  <dcterms:modified xsi:type="dcterms:W3CDTF">2009-01-14T15:33:19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