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BE7-153F-4843-AAF2-ACDDDBD5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C3A-DE1C-4D0F-8D94-8ABBA08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2D3-BAD7-4BB5-95DD-7C7505CE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0EB-802D-485A-9AB3-151D245B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443-D1EE-41DA-B9AC-4F6E4AD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BE6-B250-4989-84F2-B1FE3D7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493-4BA8-4066-B3B5-B71BE2B7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58C-7139-450C-9AFD-A4E722E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995-BB3F-4186-9C14-18B1CDDA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C19-8D22-495C-8E34-FBB7C55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453-6908-40A8-96E5-693857D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E82-0C17-4618-93B8-914D393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62BB-FFA9-4E63-93A9-E996702B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ability of Monthly Mean Temperature and Precipitation: Role of Init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429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gyue Chen, Wanqiu Wang, and Arun 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Prediction Center/NCEP/NO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ur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skill for longer lead-ti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arison of CFS hindcasts with GFS AMIP 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vs. GFS AM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7219" t="8224" r="2838" b="2472"/>
          <a:stretch/>
        </p:blipFill>
        <p:spPr>
          <a:xfrm>
            <a:off x="4952880" y="914400"/>
            <a:ext cx="4191120" cy="5791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3747" t="7050" r="54484" b="74152"/>
          <a:stretch/>
        </p:blipFill>
        <p:spPr>
          <a:xfrm>
            <a:off x="1371600" y="838080"/>
            <a:ext cx="3505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3733920"/>
            <a:ext cx="396216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IP skill in high-latitudes 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FS AMIP is similar to CFS in the trop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59092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152388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vs. GFS AMIP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global m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33" t="14118" r="53673" b="45968"/>
          <a:stretch/>
        </p:blipFill>
        <p:spPr>
          <a:xfrm>
            <a:off x="1752480" y="1676520"/>
            <a:ext cx="4662720" cy="3230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2680" y="2057400"/>
            <a:ext cx="2514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628400">
            <a:off x="5194800" y="2562480"/>
            <a:ext cx="1275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GFS A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7760" y="236232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3124080"/>
            <a:ext cx="53352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630200">
            <a:off x="3509640" y="1752840"/>
            <a:ext cx="151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F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334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ly, the AMIP skill is comparable to CFS skill at 20-30-day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169400">
            <a:off x="3430080" y="3338280"/>
            <a:ext cx="852480" cy="382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9081" t="16572" r="0" b="8224"/>
          <a:stretch/>
        </p:blipFill>
        <p:spPr>
          <a:xfrm>
            <a:off x="152280" y="1295280"/>
            <a:ext cx="7629480" cy="487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7265" t="15276" r="1929" b="9522"/>
          <a:stretch/>
        </p:blipFill>
        <p:spPr>
          <a:xfrm>
            <a:off x="0" y="121428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2m monthly correlation skill (CFS vs. GFS AMIP)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zonal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3920" y="1763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7080" y="18399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14040" y="2286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33160" y="25257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2438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0" y="2602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5680" y="3429000"/>
            <a:ext cx="10418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FS A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71600" y="281916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3657600"/>
            <a:ext cx="2895480" cy="301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skills in CFS &amp; GFS AMIP near the 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. lower latitudes (5N-35N), CFS skill higher at lead time shorter than 2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N. high latitudes (35N-80N), CFS skill higher at lead time shorter than 20-30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444800">
            <a:off x="3119400" y="3535200"/>
            <a:ext cx="833400" cy="45720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444800">
            <a:off x="1735200" y="2895480"/>
            <a:ext cx="1371600" cy="45720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995800">
            <a:off x="567720" y="1902240"/>
            <a:ext cx="1600200" cy="586080"/>
          </a:xfrm>
          <a:prstGeom prst="ellipse">
            <a:avLst/>
          </a:prstGeom>
          <a:noFill/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410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nthly forecasts, contribution from the observ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d atmosphe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 conditions does lead to improvements in sk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rovement in skill, however, decays quickly, and within 20-30 days, skill of initialized runs asymptotes to that from S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to be discu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predictability (prediction skill) because of initialized observed condi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lead-time depe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es the predictability due to atmospheric/land initial conditions compare with that from S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920" y="3657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49568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30320" indent="-39852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lead-time dependence of prediction skill of monthly means in CFS hin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9852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FS with the simulation skill from the AMIP integrations to assess predictability due to SSTs, and to assess on what time scale influence of initial conditions dec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an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spectiv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S (5 member ensem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P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 (5 member ensem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to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is based on forecast and simulations for 198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ment of CFS monthly mean forecast skills wit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lead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 of forecast lead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5257800"/>
            <a:ext cx="855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0574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0960" y="547056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05240" y="524196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97680" y="5318280"/>
            <a:ext cx="10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7240" y="53182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9687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85440" y="2044800"/>
            <a:ext cx="75438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200" y="1968480"/>
            <a:ext cx="777240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2320" y="5241960"/>
            <a:ext cx="9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2895480"/>
            <a:ext cx="54864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43360" y="2946240"/>
            <a:ext cx="5333760" cy="23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124080" y="3035160"/>
            <a:ext cx="5105520" cy="22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14240" y="2819520"/>
            <a:ext cx="57150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2743200"/>
            <a:ext cx="59436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572000" y="3632040"/>
            <a:ext cx="36576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723920" y="3708360"/>
            <a:ext cx="3505320" cy="15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952880" y="3784680"/>
            <a:ext cx="3276720" cy="14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040" y="3556080"/>
            <a:ext cx="3886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114800" y="3505320"/>
            <a:ext cx="4114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00800" y="4400640"/>
            <a:ext cx="182880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552720" y="447660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81680" y="4552920"/>
            <a:ext cx="1447920" cy="67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1840" y="4324320"/>
            <a:ext cx="205740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943600" y="4248000"/>
            <a:ext cx="2286000" cy="9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8600" y="52578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2322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52387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4160" y="44798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3600" y="3870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09560" y="3032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09560" y="22701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0-day-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4400" y="2120760"/>
            <a:ext cx="73152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066320" y="2209680"/>
            <a:ext cx="716292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295280" y="2273400"/>
            <a:ext cx="693432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45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133720"/>
            <a:ext cx="3124080" cy="283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FS skill at 0-day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atic skill decrease with lead time from 0-day lead to 10-day lead and more slow decrease afte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pati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46299" t="7059" r="3752" b="0"/>
          <a:stretch/>
        </p:blipFill>
        <p:spPr>
          <a:xfrm>
            <a:off x="4343400" y="76320"/>
            <a:ext cx="47163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FS T2m monthly correlation skill (global m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1859" r="53587" b="45855"/>
          <a:stretch/>
        </p:blipFill>
        <p:spPr>
          <a:xfrm>
            <a:off x="1143000" y="1143000"/>
            <a:ext cx="584028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5486400"/>
            <a:ext cx="838188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FS skill at 0-day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atic skill decrease with lead time from 0-day lead to 10-day lead and more slow decrease afte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7265" t="16450" r="0" b="7172"/>
          <a:stretch/>
        </p:blipFill>
        <p:spPr>
          <a:xfrm>
            <a:off x="380880" y="1295280"/>
            <a:ext cx="778212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FS T2m monthly forecast skills with different lead time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zonal 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9081" t="16450" r="1020" b="9522"/>
          <a:stretch/>
        </p:blipFill>
        <p:spPr>
          <a:xfrm>
            <a:off x="533520" y="129528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8286" t="16450" r="0" b="9522"/>
          <a:stretch/>
        </p:blipFill>
        <p:spPr>
          <a:xfrm>
            <a:off x="469800" y="1295280"/>
            <a:ext cx="769644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9081" t="16572" r="0" b="9402"/>
          <a:stretch/>
        </p:blipFill>
        <p:spPr>
          <a:xfrm>
            <a:off x="549360" y="1311120"/>
            <a:ext cx="7629480" cy="4800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9081" t="16572" r="0" b="9402"/>
          <a:stretch/>
        </p:blipFill>
        <p:spPr>
          <a:xfrm>
            <a:off x="549360" y="1320840"/>
            <a:ext cx="7629480" cy="480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rcRect l="9081" t="16572" r="0" b="8224"/>
          <a:stretch/>
        </p:blipFill>
        <p:spPr>
          <a:xfrm>
            <a:off x="549360" y="1311120"/>
            <a:ext cx="7629480" cy="48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19720" y="2525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85640" y="2373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7080" y="2209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988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128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0400" y="251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3962520"/>
            <a:ext cx="214956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change with lead time over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decrease in high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99036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143000" y="2590560"/>
            <a:ext cx="4572000" cy="75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4191120"/>
            <a:ext cx="312444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thly prec useful skills are at 0-day-lead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ful skill at lead time long than 10 day for most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 skill much lower than T2m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FS Prec monthly forecast skills with different lea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5832" t="7326" r="4042" b="1634"/>
          <a:stretch/>
        </p:blipFill>
        <p:spPr>
          <a:xfrm>
            <a:off x="4267080" y="152280"/>
            <a:ext cx="4724640" cy="6629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12537" r="52670" b="46646"/>
          <a:stretch/>
        </p:blipFill>
        <p:spPr>
          <a:xfrm>
            <a:off x="71280" y="1066680"/>
            <a:ext cx="39672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8:16:24Z</dcterms:created>
  <dc:creator>mingyue</dc:creator>
  <dc:description/>
  <dc:language>en-US</dc:language>
  <cp:lastModifiedBy>A Kumar</cp:lastModifiedBy>
  <dcterms:modified xsi:type="dcterms:W3CDTF">2009-01-14T15:12:34Z</dcterms:modified>
  <cp:revision>443</cp:revision>
  <dc:subject/>
  <dc:title>Slide 1</dc:title>
</cp:coreProperties>
</file>