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F07E-9251-4553-B0AE-8A3B31AC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DDB-00A4-4011-A82D-B1D9773E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66D-822F-4683-B829-886258B8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976-6507-47D1-A825-242B73D0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5BF-3E18-4FF9-B2B7-DD1DD1C2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089-271D-4833-B65F-92E3D02D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19D-C266-41D1-ADA1-1687D4CB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0F3-A12A-462B-A9B7-7F68B8FD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D22-8F32-4973-8F05-4ED89DD7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48D-67AF-44BD-814D-839E464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277-6155-4789-9C87-B85567CA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F02-551F-48A7-8ED8-3A4B05B7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147E-9E33-48B2-8740-290ADD925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MJO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Prediction/Diagnostics Activity within CLIVAR, esp AA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SCLIVAR MJO Working Group and proposed follow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in Wang-led ISV prediction exp (monsoon focus) complementary to CH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an-WCRP Monsoon ISV simulation and prediction (Yasnuari):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ase study 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6279" t="24902" r="8027" b="18512"/>
          <a:stretch/>
        </p:blipFill>
        <p:spPr>
          <a:xfrm>
            <a:off x="1547640" y="476280"/>
            <a:ext cx="640908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14680" y="-619200"/>
            <a:ext cx="5715000" cy="809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22281" t="21333" r="18501" b="12843"/>
          <a:stretch/>
        </p:blipFill>
        <p:spPr>
          <a:xfrm>
            <a:off x="2386080" y="333360"/>
            <a:ext cx="38415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9:04:10Z</dcterms:created>
  <dc:creator>Administrator</dc:creator>
  <dc:description/>
  <dc:language>en-US</dc:language>
  <cp:lastModifiedBy>Administrator</cp:lastModifiedBy>
  <dcterms:modified xsi:type="dcterms:W3CDTF">2009-01-13T19:34:25Z</dcterms:modified>
  <cp:revision>3</cp:revision>
  <dc:subject/>
  <dc:title>MJO Prediction/Diagnostics</dc:title>
</cp:coreProperties>
</file>