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9BF4-C141-40D1-A0C8-66085A8B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521C-0E76-4C69-8DAA-2358F788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359-D7C2-40C9-84E2-B40D6AC0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111-10FB-4178-B9E1-95D73311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47D-254B-4CE6-B9AB-4E3B83C8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0FA-0E6E-47B4-9CE4-092FBCDC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A7E-1AC4-4CEF-99AF-E1D77B90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3D0-0B29-4F1A-9925-BC5D13F6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D9B-8A4C-4584-946C-4E2AE06E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027-F785-46D4-B4C9-545D042D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E6E-DBD3-4B6A-9638-3CDE456F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83C-1A4E-43D5-8024-BC7C3A89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7C45-D36A-46EA-BD79-2938696FA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MJO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Prediction/Diagnostics Activity within CLIVAR, esp AA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SCLIVAR MJO Working Group and proposed follow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in Wang-led ISV prediction exp (monsoon focus) complementary to CH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an-WCRP Monsoon ISV simulation and prediction (Yasnuari):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ase study 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6279" t="24902" r="8027" b="18512"/>
          <a:stretch/>
        </p:blipFill>
        <p:spPr>
          <a:xfrm>
            <a:off x="1547640" y="476280"/>
            <a:ext cx="640908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14680" y="-619200"/>
            <a:ext cx="5715000" cy="809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22281" t="21333" r="18501" b="12843"/>
          <a:stretch/>
        </p:blipFill>
        <p:spPr>
          <a:xfrm>
            <a:off x="2386080" y="333360"/>
            <a:ext cx="38415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9:04:10Z</dcterms:created>
  <dc:creator>Administrator</dc:creator>
  <dc:description/>
  <dc:language>en-US</dc:language>
  <cp:lastModifiedBy>Administrator</cp:lastModifiedBy>
  <dcterms:modified xsi:type="dcterms:W3CDTF">2009-01-13T19:34:25Z</dcterms:modified>
  <cp:revision>3</cp:revision>
  <dc:subject/>
  <dc:title>MJO Prediction/Diagnostics</dc:title>
</cp:coreProperties>
</file>