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png" ContentType="image/png"/>
  <Override PartName="/ppt/media/image7.jpeg" ContentType="image/jpeg"/>
  <Override PartName="/ppt/media/image26.png" ContentType="image/png"/>
  <Override PartName="/ppt/media/image5.jpeg" ContentType="image/jpeg"/>
  <Override PartName="/ppt/media/image20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2.wmf" ContentType="image/x-wmf"/>
  <Override PartName="/ppt/media/image12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EC6-E1BF-40C0-82E1-0B4F6294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937-CA7A-4D88-B45C-97740DC3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10C-C806-46DF-85FF-F6BA6F50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CF1-93A1-4D96-9C10-35603739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A20-00EA-4FD8-8BBB-2F02916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517-96E9-4389-B8DB-203E85E5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69D-0737-4163-AE14-6C572E2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6B1-14C2-44C4-BFBE-952F3CDC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ACD-BA12-4F18-8CA2-52AE06BE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650-EEB6-4790-8666-D62BED2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3E6-9908-4ED6-8E4B-453A7C0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84B-EAF1-4339-ABB7-CF00938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D516-E698-4759-94C4-9CB3F09C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4038480" cy="225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47880" y="716040"/>
            <a:ext cx="22075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b4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b4"/>
                </a:solidFill>
                <a:latin typeface="Arial"/>
              </a:rPr>
              <a:t> </a:t>
            </a:r>
            <a:r>
              <a:rPr b="1" i="1" lang="en-US" sz="17200" spc="-1" strike="noStrike">
                <a:solidFill>
                  <a:srgbClr val="0000b4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81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as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Land-Atmosphere Coupl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03400" y="5105520"/>
            <a:ext cx="316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al K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AO, NASA/G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al.d.koster@nas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39880" y="277164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 d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00200" y="152280"/>
            <a:ext cx="508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gration into WCRP/TFSP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FSP = Task Force on Seasonal Pre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0" t="0" r="0" b="5335"/>
          <a:stretch/>
        </p:blipFill>
        <p:spPr>
          <a:xfrm>
            <a:off x="152280" y="914400"/>
            <a:ext cx="4044960" cy="5410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rcRect l="15193" t="10393" r="12309" b="0"/>
          <a:stretch/>
        </p:blipFill>
        <p:spPr>
          <a:xfrm>
            <a:off x="4495680" y="990720"/>
            <a:ext cx="4272120" cy="556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880080" y="2895480"/>
            <a:ext cx="842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08480" y="7632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pdated Participan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000" y="73512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/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33040" y="7351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143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371600"/>
            <a:ext cx="43434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ASA/GSFC (USA): GMAO seasonal forecast system (old and 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COLA (USA): COLA GCM, NCAR/CAM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Princeton (USA): NCEP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IACS (Switzerland): ECHAM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KNMI (Netherlands): ECM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ECM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GFDL (USA): GFD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U. Gothenburg (Sweden): N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CCSR/NIES/FRCGC (Japan): CCSR G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FSU/CO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6440" y="7351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95960" y="29862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 Seneviratne, A. Roe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87320" y="25909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 Wood, L. L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84080" y="201924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 Dirmeyer, Z. G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90200" y="1395360"/>
            <a:ext cx="19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. Koster, T. Y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9240" y="139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91280" y="334332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van den Hu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93080" y="40528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Gor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1040" y="44337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-H. Je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52120" y="480060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 Y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59240" y="2019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9240" y="26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59240" y="2986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59240" y="33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59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9240" y="4433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9240" y="48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5638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9440" y="57387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59240" y="370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91280" y="372420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. Bals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2480" y="51498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Bois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59240" y="5149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4114800" cy="2546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33520" y="9144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d” SST boundary conditions have been constructed and are now available onlin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495360"/>
          <a:ext cx="8305920" cy="17906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472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COLA GCM 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NCA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CAM GCM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via 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ul Dirmeye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hichang G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Forcing data interpolated to proper resolution; offline land simulations proceed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i="1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Completed 10 years of COLA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NCAR runs being set u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609480" y="297180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analyses performed here at GLACE-2 Central on COLA 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nalysis of potential predic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nalysis of forecast sk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nalysis of forecast skill, using statistical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76520" y="143208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ensemble forecast, assume that the first ensemble member represents “natu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9360" y="13860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31444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the remaining ensemble members represent the “foreca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9360" y="22860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9360" y="31240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152880"/>
            <a:ext cx="64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degree to which the “forecast” agrees with the assumed “natur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5410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5410080"/>
            <a:ext cx="3049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5410080"/>
            <a:ext cx="30456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4100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800600" y="5333400"/>
            <a:ext cx="3049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54100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5410080"/>
            <a:ext cx="3049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5410080"/>
            <a:ext cx="3049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5410080"/>
            <a:ext cx="3045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5410080"/>
            <a:ext cx="30492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9920" y="495288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m/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4343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5867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6324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416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1840" y="502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1840" y="480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1840" y="457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1840" y="43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25160" y="54864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5160" y="5715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25160" y="59436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5160" y="6172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18040" y="62485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7216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9256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54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1032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1488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1980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2472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2928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34200" y="507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39680" y="41911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o what extent does this anomal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38120" y="4495680"/>
            <a:ext cx="22860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5715000"/>
            <a:ext cx="164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ree with the average of these anoma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876920"/>
            <a:ext cx="2819520" cy="1218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6934320" y="5790960"/>
            <a:ext cx="380880" cy="75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629400" y="525708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4520" y="4952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80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predictability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dictability possible in the forecas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6566" t="8170" r="5555" b="13401"/>
          <a:stretch/>
        </p:blipFill>
        <p:spPr>
          <a:xfrm>
            <a:off x="2438280" y="76212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320" y="1371600"/>
            <a:ext cx="23619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7072" t="7843" r="6061" b="12419"/>
          <a:stretch/>
        </p:blipFill>
        <p:spPr>
          <a:xfrm>
            <a:off x="2438280" y="762120"/>
            <a:ext cx="6553440" cy="464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6320" y="1371600"/>
            <a:ext cx="23619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6566" t="9479" r="5555" b="12092"/>
          <a:stretch/>
        </p:blipFill>
        <p:spPr>
          <a:xfrm>
            <a:off x="2438280" y="99072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6320" y="1371600"/>
            <a:ext cx="23619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land impact on Potential Predictability 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 mod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1 – Se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July 1 st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nd initial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24160" y="2743200"/>
            <a:ext cx="169704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28520" y="2743200"/>
            <a:ext cx="17413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71520" y="5014800"/>
            <a:ext cx="202752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76240" y="5014800"/>
            <a:ext cx="2071800" cy="368280"/>
          </a:xfrm>
          <a:prstGeom prst="rect">
            <a:avLst/>
          </a:prstGeom>
          <a:solidFill>
            <a:srgbClr val="ffab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38880" y="28260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 Skill: COL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7680" y="1103400"/>
            <a:ext cx="816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 is averaged separately for four l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1-15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16-30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31-45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46-60 days after forecast 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a given forecast start date and lead, the forecasts from the 10 ensemble members are averaged into a sing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ill for a given period is compared to observations during that period.  (Measured as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)  Analysis focuses on US first, out of convenience: we have access to a high quality multi-decade observational dataset there (Higgins et al., 2000), and besides, most models show some coupling strength there (GLACE-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 to computing the skill scores (observations), all 15-day forecasts are standardized (using relevant means and standard deviations for given start date and lead), as are all the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78" t="7411" r="3334" b="12596"/>
          <a:stretch/>
        </p:blipFill>
        <p:spPr>
          <a:xfrm>
            <a:off x="838080" y="1600200"/>
            <a:ext cx="7467840" cy="504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04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CE-1 was a successful international modeling project that looked at soil moisture impacts on precipita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819160" y="2971800"/>
            <a:ext cx="198108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723920" y="3048120"/>
            <a:ext cx="38124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124080"/>
            <a:ext cx="228600" cy="381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28800"/>
            <a:ext cx="2743200" cy="1191240"/>
          </a:xfrm>
          <a:prstGeom prst="rect">
            <a:avLst/>
          </a:prstGeom>
          <a:solidFill>
            <a:srgbClr val="c9e4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precipitation responds to variations in soil moisture, according to the 12 GLACE mod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738880" y="28260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 Skill: COL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7680" y="110340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kill analysis is supplemented with an analysis of transformed foreca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92240" y="2978280"/>
            <a:ext cx="2622600" cy="1873080"/>
            <a:chOff x="1092240" y="2978280"/>
            <a:chExt cx="2622600" cy="187308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rcRect l="10608" t="14710" r="14646" b="12092"/>
            <a:stretch/>
          </p:blipFill>
          <p:spPr>
            <a:xfrm>
              <a:off x="1092240" y="2978280"/>
              <a:ext cx="262260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187280" y="2978280"/>
              <a:ext cx="24796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803240" y="3716280"/>
            <a:ext cx="374760" cy="39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47840" y="3716280"/>
            <a:ext cx="374760" cy="39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2438280"/>
            <a:ext cx="144756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se we can predict P here with the forecast system (high potential predictability)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81360" y="4135320"/>
            <a:ext cx="133344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se, though, that P in these two areas are correlated in the real wor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4994280"/>
            <a:ext cx="1689120" cy="7030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n we can combine the model forecasts with the observed correlations to derive a forecas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558880" y="3165480"/>
            <a:ext cx="260640" cy="530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2114640" y="4133520"/>
            <a:ext cx="666720" cy="398520"/>
          </a:xfrm>
          <a:prstGeom prst="line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514240" y="4133520"/>
            <a:ext cx="266760" cy="398520"/>
          </a:xfrm>
          <a:prstGeom prst="line">
            <a:avLst/>
          </a:prstGeom>
          <a:ln w="190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1981080" y="4133880"/>
            <a:ext cx="76320" cy="860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860480" y="3470400"/>
            <a:ext cx="120600" cy="2286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3241800"/>
            <a:ext cx="1254240" cy="246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2514600"/>
            <a:ext cx="44197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these ideas, we can compute a “transformation matrix”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improves a foreca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6960" y="3062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81680" y="3909960"/>
            <a:ext cx="1278000" cy="641520"/>
          </a:xfrm>
          <a:prstGeom prst="rect">
            <a:avLst/>
          </a:prstGeom>
          <a:solidFill>
            <a:srgbClr val="ffc58b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holding original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3833640"/>
            <a:ext cx="1041480" cy="824040"/>
          </a:xfrm>
          <a:prstGeom prst="rect">
            <a:avLst/>
          </a:prstGeom>
          <a:solidFill>
            <a:srgbClr val="ffc58b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holding transformed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95880" y="3529080"/>
            <a:ext cx="139680" cy="3268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7162560" y="3529080"/>
            <a:ext cx="152280" cy="3808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51037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details, see Koster et al.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nthly Weather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. 1923-19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5555" t="8170" r="1518" b="33008"/>
          <a:stretch/>
        </p:blipFill>
        <p:spPr>
          <a:xfrm>
            <a:off x="1905120" y="2362320"/>
            <a:ext cx="7010280" cy="3429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977400" y="457200"/>
            <a:ext cx="6852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rt dates (10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6566" t="9479" r="1518" b="35620"/>
          <a:stretch/>
        </p:blipFill>
        <p:spPr>
          <a:xfrm>
            <a:off x="1981080" y="2438280"/>
            <a:ext cx="6934320" cy="320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77400" y="457200"/>
            <a:ext cx="6852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tart dates (10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5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6566" t="10789" r="2524" b="36930"/>
          <a:stretch/>
        </p:blipFill>
        <p:spPr>
          <a:xfrm>
            <a:off x="1981080" y="2438280"/>
            <a:ext cx="6858000" cy="30481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951120" y="457200"/>
            <a:ext cx="6908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 skill (COLA):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J start dates (60 standardized values going int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:  Days 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68920" y="1981080"/>
            <a:ext cx="190728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45000" y="1981080"/>
            <a:ext cx="162540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35680" y="1981080"/>
            <a:ext cx="1445760" cy="58068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4200" y="28195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7440" y="43876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60920" y="56624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37800" y="566244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6566" t="10789" r="1518" b="64380"/>
          <a:stretch/>
        </p:blipFill>
        <p:spPr>
          <a:xfrm>
            <a:off x="3505320" y="880920"/>
            <a:ext cx="5410080" cy="1130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6320" y="1447920"/>
            <a:ext cx="2133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cast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L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w resul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tart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3560" y="380880"/>
            <a:ext cx="169848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77400" y="380880"/>
            <a:ext cx="145008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es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4560" y="380880"/>
            <a:ext cx="1293120" cy="520200"/>
          </a:xfrm>
          <a:prstGeom prst="rect">
            <a:avLst/>
          </a:prstGeom>
          <a:solidFill>
            <a:srgbClr val="eed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33960" y="11350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1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69000" y="571500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 0.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6520" y="563868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ors g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5 to 0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rcRect l="6566" t="10789" r="2524" b="64380"/>
          <a:stretch/>
        </p:blipFill>
        <p:spPr>
          <a:xfrm>
            <a:off x="3505320" y="2075040"/>
            <a:ext cx="5333760" cy="11253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rcRect l="6566" t="10789" r="2524" b="64380"/>
          <a:stretch/>
        </p:blipFill>
        <p:spPr>
          <a:xfrm>
            <a:off x="3505320" y="3292560"/>
            <a:ext cx="5333760" cy="1127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rcRect l="6566" t="10789" r="2524" b="64380"/>
          <a:stretch/>
        </p:blipFill>
        <p:spPr>
          <a:xfrm>
            <a:off x="3505320" y="4513320"/>
            <a:ext cx="5333760" cy="1125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376720" y="22780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64120" y="342108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-4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64120" y="47163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-6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28600" y="304920"/>
          <a:ext cx="8610480" cy="1736640"/>
        </p:xfrm>
        <a:graphic>
          <a:graphicData uri="http://schemas.openxmlformats.org/drawingml/2006/table">
            <a:tbl>
              <a:tblPr/>
              <a:tblGrid>
                <a:gridCol w="1905120"/>
                <a:gridCol w="2068560"/>
                <a:gridCol w="46368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NCAR</a:t>
                      </a:r>
                      <a:r>
                        <a:rPr b="1" lang="it-IT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USA, v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. Gothenburg, Swed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ee-Hoon Jeo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i="1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Baseline set of simulations for the period 1986-1995 is finished (Series 1 and Series 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Performing additional forecasts with modified initialization strateg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"/>
          <p:cNvSpPr/>
          <p:nvPr/>
        </p:nvSpPr>
        <p:spPr>
          <a:xfrm>
            <a:off x="1676520" y="3276720"/>
            <a:ext cx="5638680" cy="916920"/>
          </a:xfrm>
          <a:prstGeom prst="rect">
            <a:avLst/>
          </a:prstGeom>
          <a:solidFill>
            <a:srgbClr val="eeff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some unusual aspects of the results that need clearing up – we need to talk to Jee-Hoon.  Currently, the results for NCAR are inde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380880" y="457200"/>
          <a:ext cx="8534520" cy="258912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4648320"/>
              </a:tblGrid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GEOS5 GCM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NSIPP G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NASA/GSF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andal Kost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mohito Ya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Ran GEOS5 GCM 10 years to generate climat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July 1 forecasts finish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3440" y="433440"/>
            <a:ext cx="4570560" cy="31986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SW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3440" y="4316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P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4573440" y="36590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3440" y="431640"/>
            <a:ext cx="4570560" cy="3198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0" y="3659040"/>
            <a:ext cx="4570560" cy="3198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762120" y="914400"/>
            <a:ext cx="3228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GE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: P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: Jul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tential predict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3600" y="3164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28520" y="3276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27000" y="7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8120" y="5486400"/>
            <a:ext cx="5638680" cy="916920"/>
          </a:xfrm>
          <a:prstGeom prst="rect">
            <a:avLst/>
          </a:prstGeom>
          <a:solidFill>
            <a:srgbClr val="eeff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uns used an early, unfinished version of the NASA free-running climate model, a version known to be deficient in land-atmosphere coupling str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7120" y="41112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tivation for GLACE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il moisture initialization to add to subseasonal or season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ecast sk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wo criteria must be satis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24080"/>
            <a:ext cx="594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itialized anomaly must be “remembered” into the forecast perio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mosphere must be able to respond to the remembered anoma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4000" y="503064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y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19560" y="4800600"/>
            <a:ext cx="152640" cy="1143000"/>
            <a:chOff x="6019560" y="4800600"/>
            <a:chExt cx="152640" cy="1143000"/>
          </a:xfrm>
        </p:grpSpPr>
        <p:sp>
          <p:nvSpPr>
            <p:cNvPr id="56" name=""/>
            <p:cNvSpPr/>
            <p:nvPr/>
          </p:nvSpPr>
          <p:spPr>
            <a:xfrm>
              <a:off x="6172200" y="4800600"/>
              <a:ext cx="0" cy="1143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019560" y="594360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9920" y="480060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315200" y="3276720"/>
            <a:ext cx="228240" cy="2818440"/>
            <a:chOff x="7315200" y="3276720"/>
            <a:chExt cx="228240" cy="2818440"/>
          </a:xfrm>
        </p:grpSpPr>
        <p:sp>
          <p:nvSpPr>
            <p:cNvPr id="60" name=""/>
            <p:cNvSpPr/>
            <p:nvPr/>
          </p:nvSpPr>
          <p:spPr>
            <a:xfrm>
              <a:off x="7543440" y="3276720"/>
              <a:ext cx="0" cy="28184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315200" y="6095160"/>
              <a:ext cx="228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15200" y="3276720"/>
              <a:ext cx="22824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545600" y="3809880"/>
            <a:ext cx="148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by GLACE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the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forec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rot="20409600">
            <a:off x="2376360" y="5105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af58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rcRect l="6566" t="10789" r="5555" b="8170"/>
          <a:stretch/>
        </p:blipFill>
        <p:spPr>
          <a:xfrm>
            <a:off x="3505320" y="3200400"/>
            <a:ext cx="5029200" cy="35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28600" y="152280"/>
          <a:ext cx="8534520" cy="2820960"/>
        </p:xfrm>
        <a:graphic>
          <a:graphicData uri="http://schemas.openxmlformats.org/drawingml/2006/table">
            <a:tbl>
              <a:tblPr/>
              <a:tblGrid>
                <a:gridCol w="1474920"/>
                <a:gridCol w="2016000"/>
                <a:gridCol w="5043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.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6600cc"/>
                          </a:solidFill>
                          <a:uFillTx/>
                          <a:latin typeface="Times New Roman"/>
                          <a:ea typeface="MS Mincho"/>
                        </a:rPr>
                        <a:t>KN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art van den Hurk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elio Camarg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ianpaolo Balsa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GSWP2 forcings regridded to their GCM’s resol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10-yr climatology run with the GCM, to allow for soil moisture 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Land model incorporated into LIS, for efficient offline simul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5008a"/>
                          </a:solidFill>
                          <a:latin typeface="Times New Roman"/>
                          <a:ea typeface="MS Mincho"/>
                        </a:rPr>
                        <a:t>-- 1+ years of Series 1 forecasts, 1 set of Series 2 forecasts.  (Forecasts are ongoing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"/>
          <p:cNvSpPr/>
          <p:nvPr/>
        </p:nvSpPr>
        <p:spPr>
          <a:xfrm>
            <a:off x="228600" y="3581280"/>
            <a:ext cx="2590920" cy="277092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results showing forecasted soil moisture’s agreement with “truth” across the glob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decrease of agreement with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greement differs amongst ensemble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longer apparent memory in mid-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380880" y="380880"/>
          <a:ext cx="8534520" cy="321480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464832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GFD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ny Gor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AMIP style control run performed for atmospheric initial conditions and for scaling of land variables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-- 10 years (1</a:t>
                      </a:r>
                      <a:r>
                        <a:rPr b="0" lang="en-US" sz="1800" spc="-1" strike="noStrike" baseline="30000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 of each of month, 10 ensemble members) completed, for both Series 1 and Series 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 All Series 1 runs done; scaled and unscaled; Series 2 done two ways: with pdf, and with avera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304920" y="1293840"/>
          <a:ext cx="8534160" cy="539424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4647960"/>
              </a:tblGrid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NC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(via Princeton, 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ric Wood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ifeng L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Ready to go; waiting for time on NCEP machi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ECHA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via IACS, Switzerl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onia Senevirat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esch And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</a:t>
                      </a:r>
                      <a:r>
                        <a:rPr b="0" lang="en-US" sz="18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Series 2 simulations for GSWP2 period are finished for most start dates in 10-year perio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ECMW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ianpaulo Balsa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CCSR/NIES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FRCGC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Jap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mohito Ya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 Simulated 50 years of land surface conditions for initia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cc"/>
                          </a:solidFill>
                          <a:latin typeface="Times New Roman"/>
                          <a:ea typeface="MS Mincho"/>
                        </a:rPr>
                        <a:t>FSU/CO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rie Boiss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New to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304920" y="152280"/>
          <a:ext cx="8534160" cy="1125360"/>
        </p:xfrm>
        <a:graphic>
          <a:graphicData uri="http://schemas.openxmlformats.org/drawingml/2006/table">
            <a:tbl>
              <a:tblPr/>
              <a:tblGrid>
                <a:gridCol w="1981080"/>
                <a:gridCol w="1904760"/>
                <a:gridCol w="464832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cs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oints of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gr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: Problem with GLACE2 SST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anks to Tony Gordon for spotting th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data: Hadley monthly mea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tart date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terpolated by two months, e.g., (March+April)/2=April 1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tart date: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irectly from Hadley monthly mean sate at a same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986280" cy="3200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rcRect l="0" t="0" r="0" b="14288"/>
          <a:stretch/>
        </p:blipFill>
        <p:spPr>
          <a:xfrm>
            <a:off x="380880" y="3809880"/>
            <a:ext cx="39862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986280" cy="32004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051280" y="0"/>
            <a:ext cx="53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, Sea Surfac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CE2 (black line) &amp; Hadley (Green li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03200" y="6094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03080" y="609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9920" y="274320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March+April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9920" y="56386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April+May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4496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in poin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mehow, the SST data meant to refer to March 1 actually refers to observations on April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lem only applies to start dates on the first of the month.  SST data for start dates on the 15 of the month are not i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T datasets are being constructe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986280" cy="32004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rcRect l="0" t="0" r="0" b="14288"/>
          <a:stretch/>
        </p:blipFill>
        <p:spPr>
          <a:xfrm>
            <a:off x="380880" y="3809880"/>
            <a:ext cx="3986280" cy="2743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986280" cy="32004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051280" y="0"/>
            <a:ext cx="53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, Sea Surfac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CE2 (black line) &amp; Hadley (Green li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03200" y="6094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3080" y="609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9920" y="274320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March+April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9920" y="563868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CE2: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ley: (April+May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886200"/>
            <a:ext cx="4496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in poin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mehow, the SST data meant to refer to March 1 actually refers to observations on April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blem only applies to start dates on the first of the month.  SST data for start dates on the 15 of the month are not i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T datasets are being constructed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1002400">
            <a:off x="3964680" y="3711600"/>
            <a:ext cx="4021200" cy="520560"/>
          </a:xfrm>
          <a:prstGeom prst="rect">
            <a:avLst/>
          </a:prstGeom>
          <a:solidFill>
            <a:srgbClr val="faf58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has been fix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143000" y="28195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:  Aside from that glitch, GLACE-2 is proceeding nice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264120" y="27036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24640" y="133200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utational requi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6200" y="2311560"/>
            <a:ext cx="992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43360" y="2311560"/>
            <a:ext cx="116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31360" y="2311560"/>
            <a:ext cx="127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08560" y="2311560"/>
            <a:ext cx="1422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780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2472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15040" y="238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9320" y="45864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 333 years of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09480" y="1201680"/>
            <a:ext cx="82296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d output diagnostics (to be provided to GLACE data cent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For each of the 4 15-day periods of each forecast simulation, provide global field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total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ar-surface air temperature (in the lowest AGCM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total 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vertically-integrated soil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-day average near-surface relative hum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14400" y="2895480"/>
            <a:ext cx="15228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27672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36576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41148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45720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0292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733840"/>
            <a:ext cx="2361960" cy="131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sembles of retrospective seasonal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57520"/>
            <a:ext cx="230508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lan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“observations”, using GSWP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546440"/>
            <a:ext cx="2590920" cy="824040"/>
          </a:xfrm>
          <a:prstGeom prst="rect">
            <a:avLst/>
          </a:prstGeom>
          <a:solidFill>
            <a:srgbClr val="65b2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bed, observed SSTs or the use of a coupled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692520"/>
            <a:ext cx="2324160" cy="8240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tmosphere with “observations”, via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2844720"/>
            <a:ext cx="152424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forecasts against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4560" y="280980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6600" y="316224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28960" y="368928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3360" y="4168800"/>
            <a:ext cx="333360" cy="311040"/>
          </a:xfrm>
          <a:prstGeom prst="upArrow">
            <a:avLst>
              <a:gd name="adj1" fmla="val 49528"/>
              <a:gd name="adj2" fmla="val 611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760" y="1411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" y="1201680"/>
            <a:ext cx="822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quired output diagnostics (to be provided to GLACE data cent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For each day of the first 30 days of certain forecast simulations, provide global field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ly-integrated soil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358128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low us to analyze the decay with lead time of the information provided by soil moisture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ecast simulations chosen for this output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pr. 1, May 1, June 1, July 1, and Aug.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986, 1988, 1990, 1992, and 199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602000" y="114300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Generation of SST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98560" y="2305080"/>
            <a:ext cx="72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: SST conditions for forecasts that do not include measurements of SSTs during the forecas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: Determine persistence timescales from observational record (with data exclusion) and reduce initial (measured) SST anomalies with time into the forecast, using those times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114800" cy="2547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4114800" cy="2546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3520" y="9144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d” SST boundary conditions have been constructed and are now available onlin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rcRect l="10840" t="16996" r="6060" b="23717"/>
          <a:stretch/>
        </p:blipFill>
        <p:spPr>
          <a:xfrm>
            <a:off x="152280" y="3084480"/>
            <a:ext cx="4419720" cy="2401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526040" y="25290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W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rcRect l="8871" t="17355" r="6627" b="17400"/>
          <a:stretch/>
        </p:blipFill>
        <p:spPr>
          <a:xfrm>
            <a:off x="4572000" y="3124080"/>
            <a:ext cx="4343400" cy="2554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022080" y="245268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840" y="1752480"/>
            <a:ext cx="87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988 Soil Moisture Anomaly (against 1986-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28440" y="380880"/>
            <a:ext cx="52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Examined forcing dataset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T. Yam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9805" t="3787" r="7842" b="66360"/>
          <a:stretch/>
        </p:blipFill>
        <p:spPr>
          <a:xfrm>
            <a:off x="380880" y="1447920"/>
            <a:ext cx="8382240" cy="49528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37" name=""/>
          <p:cNvSpPr/>
          <p:nvPr/>
        </p:nvSpPr>
        <p:spPr>
          <a:xfrm>
            <a:off x="304920" y="228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Determine maximum level of precipitation (and air temperature) predictability associated with land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20544000">
            <a:off x="4947120" y="4649040"/>
            <a:ext cx="2987640" cy="64260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pilot study of Koster et al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rcRect l="0" t="0" r="0" b="27306"/>
          <a:stretch/>
        </p:blipFill>
        <p:spPr>
          <a:xfrm>
            <a:off x="380880" y="196200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477120" y="318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gress full forecast against actual observations to retrieve 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638320" y="3562200"/>
            <a:ext cx="76212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441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etermine forecast skill for precipitation (and air temperature) associated with land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4920" t="46211" r="48957" b="11036"/>
          <a:stretch/>
        </p:blipFill>
        <p:spPr>
          <a:xfrm>
            <a:off x="4724280" y="3048120"/>
            <a:ext cx="3962520" cy="23619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rcRect l="4467" t="47891" r="48218" b="8448"/>
          <a:stretch/>
        </p:blipFill>
        <p:spPr>
          <a:xfrm>
            <a:off x="457200" y="3200400"/>
            <a:ext cx="4038480" cy="2362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066680" y="1523880"/>
            <a:ext cx="2819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2454120"/>
            <a:ext cx="266724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to skil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8222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s of land moisture initialization to the skill of subseasonal (one-month) forecasts of P an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2454120"/>
            <a:ext cx="266688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ribution to sk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84120" y="6477120"/>
            <a:ext cx="47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ter et al.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Hydrometeorology,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p. 1049-1063, 20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544000">
            <a:off x="5023440" y="5106240"/>
            <a:ext cx="2987640" cy="642600"/>
          </a:xfrm>
          <a:prstGeom prst="rect">
            <a:avLst/>
          </a:prstGeom>
          <a:solidFill>
            <a:srgbClr val="faf5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pilot study of Koster et al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733840"/>
            <a:ext cx="2361960" cy="131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ensembles of retrospective seasonal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657520"/>
            <a:ext cx="230508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lan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“observations”, using GSWP approa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4546440"/>
            <a:ext cx="2590920" cy="824040"/>
          </a:xfrm>
          <a:prstGeom prst="rect">
            <a:avLst/>
          </a:prstGeom>
          <a:solidFill>
            <a:srgbClr val="65b2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bed, observed SSTs or the use of a coupled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692520"/>
            <a:ext cx="2324160" cy="8240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tmosphere with “observations”, via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2844720"/>
            <a:ext cx="152424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forecasts against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4560" y="280980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86600" y="316224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8960" y="3689280"/>
            <a:ext cx="747720" cy="333360"/>
          </a:xfrm>
          <a:prstGeom prst="rightArrow">
            <a:avLst>
              <a:gd name="adj1" fmla="val 50000"/>
              <a:gd name="adj2" fmla="val 5607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43360" y="4168800"/>
            <a:ext cx="333360" cy="311040"/>
          </a:xfrm>
          <a:prstGeom prst="upArrow">
            <a:avLst>
              <a:gd name="adj1" fmla="val 49528"/>
              <a:gd name="adj2" fmla="val 6111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760" y="1411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769400">
            <a:off x="556200" y="2502360"/>
            <a:ext cx="2163600" cy="642600"/>
          </a:xfrm>
          <a:prstGeom prst="rect">
            <a:avLst/>
          </a:prstGeom>
          <a:solidFill>
            <a:srgbClr val="ffc4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ize”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80160" y="154080"/>
            <a:ext cx="3053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ACE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 3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skill; isolate contribution of realistic land initializ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048120"/>
            <a:ext cx="2057400" cy="106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obtain in experiment using realistic land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895480"/>
            <a:ext cx="2514600" cy="13107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obtained in identical experiment, except that land is not initialized to realistic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124080"/>
            <a:ext cx="1524240" cy="8240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skill due to land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34290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3733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43320" y="22860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STAR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523800">
            <a:off x="1635120" y="1116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640" y="1614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464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4640" y="2224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4640" y="252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640" y="2833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510552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00 different 10-member forecast ensem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ch ensemble consists of 10 simulations, each running for 2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181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640" y="3138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4640" y="3443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4640" y="37479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4640" y="4052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4640" y="435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30360" y="1628640"/>
            <a:ext cx="3352680" cy="3048120"/>
            <a:chOff x="1530360" y="1628640"/>
            <a:chExt cx="3352680" cy="3048120"/>
          </a:xfrm>
        </p:grpSpPr>
        <p:sp>
          <p:nvSpPr>
            <p:cNvPr id="110" name=""/>
            <p:cNvSpPr/>
            <p:nvPr/>
          </p:nvSpPr>
          <p:spPr>
            <a:xfrm>
              <a:off x="1530360" y="16286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0360" y="19335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30360" y="22384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30360" y="25430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0360" y="28479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30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068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71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168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236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812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844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912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9980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012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8812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5844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912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980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7012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8812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5844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912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980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7012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812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5844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912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9980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7012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8812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5844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912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980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7012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30360" y="31528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0360" y="34574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30360" y="376236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0360" y="4067280"/>
              <a:ext cx="3352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0360" y="4371840"/>
              <a:ext cx="3352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0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068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71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4168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36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8812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844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912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980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7012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8812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44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912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980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012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812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844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912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9980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012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8812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844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912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9980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012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8812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5844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912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980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7012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83040" y="1628640"/>
            <a:ext cx="3353040" cy="3048120"/>
            <a:chOff x="4883040" y="1628640"/>
            <a:chExt cx="3353040" cy="3048120"/>
          </a:xfrm>
        </p:grpSpPr>
        <p:sp>
          <p:nvSpPr>
            <p:cNvPr id="181" name=""/>
            <p:cNvSpPr/>
            <p:nvPr/>
          </p:nvSpPr>
          <p:spPr>
            <a:xfrm>
              <a:off x="4883040" y="16286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83040" y="19335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83040" y="22384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3040" y="25430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3040" y="28479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8304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5372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440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9472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65400" y="1628640"/>
              <a:ext cx="670320" cy="152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80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1148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8216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2840" y="17049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23160" y="17049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4080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1148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8216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52840" y="20098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23160" y="20098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4080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148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216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2840" y="23144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23160" y="23144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080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1148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216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52840" y="26193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23160" y="26193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4080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1148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216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2840" y="29242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23160" y="29242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3040" y="31528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3040" y="34574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83040" y="376236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3040" y="4067280"/>
              <a:ext cx="33530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83040" y="4371840"/>
              <a:ext cx="33530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304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5372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440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9472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5400" y="3152880"/>
              <a:ext cx="6703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080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1148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216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52840" y="32288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23160" y="32288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080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1148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8216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52840" y="35337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23160" y="35337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4080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1148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216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2840" y="383868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23160" y="383868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4080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1148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216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52840" y="4143240"/>
              <a:ext cx="10296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23160" y="4143240"/>
              <a:ext cx="103320" cy="152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080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1148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8216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52840" y="4448160"/>
              <a:ext cx="10296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3160" y="4448160"/>
              <a:ext cx="10332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rot="18523800">
            <a:off x="2238480" y="1066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8523800">
            <a:off x="2939760" y="1075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8523800">
            <a:off x="3543480" y="1025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8523800">
            <a:off x="4250520" y="1100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8523800">
            <a:off x="4853520" y="1051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8523800">
            <a:off x="5636160" y="113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523800">
            <a:off x="6239160" y="1081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8523800">
            <a:off x="6987240" y="1084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523800">
            <a:off x="759024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21560" y="2341440"/>
            <a:ext cx="1207800" cy="580680"/>
          </a:xfrm>
          <a:prstGeom prst="rect">
            <a:avLst/>
          </a:prstGeom>
          <a:solidFill>
            <a:srgbClr val="d2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1828800"/>
            <a:ext cx="1676520" cy="1067400"/>
          </a:xfrm>
          <a:prstGeom prst="rect">
            <a:avLst/>
          </a:prstGeom>
          <a:solidFill>
            <a:srgbClr val="ffc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 speed, humidity, air temperatur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re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0920" y="2341440"/>
            <a:ext cx="959400" cy="580680"/>
          </a:xfrm>
          <a:prstGeom prst="rect">
            <a:avLst/>
          </a:prstGeom>
          <a:solidFill>
            <a:srgbClr val="d2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3589200"/>
            <a:ext cx="2286000" cy="520560"/>
          </a:xfrm>
          <a:prstGeom prst="rect">
            <a:avLst/>
          </a:prstGeom>
          <a:solidFill>
            <a:srgbClr val="fc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979720"/>
            <a:ext cx="30456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2979720"/>
            <a:ext cx="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352680" y="3056040"/>
            <a:ext cx="45720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1600200"/>
            <a:ext cx="304920" cy="259092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2743200"/>
            <a:ext cx="1600200" cy="380880"/>
          </a:xfrm>
          <a:prstGeom prst="rightArrow">
            <a:avLst>
              <a:gd name="adj1" fmla="val 54167"/>
              <a:gd name="adj2" fmla="val 8585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2286000"/>
            <a:ext cx="1219320" cy="1310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A decade of LSM initial conditions for seasonal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410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sulting LSM initial conditions reflect observed antecedent atmospheric for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9360" y="304920"/>
            <a:ext cx="51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D STATE 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offline simulations, a la GSW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19810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ecade of offlin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838080"/>
            <a:ext cx="7467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oals of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alculate “potential predictability” in each forecast system – where does atmospheric noise overwhelm any potential sig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alculate skill in P and T prediction associated with the accurate initialization of land surfac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03:12Z</dcterms:created>
  <dc:creator> Randy Koster</dc:creator>
  <dc:description/>
  <dc:language>en-US</dc:language>
  <cp:lastModifiedBy>RKOSTER</cp:lastModifiedBy>
  <dcterms:modified xsi:type="dcterms:W3CDTF">2009-01-08T17:59:24Z</dcterms:modified>
  <cp:revision>49</cp:revision>
  <dc:subject/>
  <dc:title>Slide 1</dc:title>
</cp:coreProperties>
</file>