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68580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84760" y="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84760" y="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4760" y="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1280" y="373608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60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644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160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128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644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160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71640" y="242640"/>
            <a:ext cx="726264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1280" y="373608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560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644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1600" y="155700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128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644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1600" y="3736080"/>
            <a:ext cx="25473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640" y="242640"/>
            <a:ext cx="726264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600" y="373608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600" y="1557000"/>
            <a:ext cx="3861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1280" y="3736080"/>
            <a:ext cx="79120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68360" y="6453360"/>
            <a:ext cx="2889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08800"/>
            <a:ext cx="228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iami, 12-14 Januar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2640"/>
            <a:ext cx="7262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11280" y="1557000"/>
            <a:ext cx="7912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8920" y="1628280"/>
            <a:ext cx="60390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2240" y="1751040"/>
            <a:ext cx="878184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Recent developments in seasonal forecasting at French NMS </a:t>
            </a:r>
            <a:br>
              <a:rPr sz="36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hel Déqué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étéo-France, Toulous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69440" y="0"/>
            <a:ext cx="5680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115B1C-35F7-4EA1-BFDA-69F22B46C3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S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71400"/>
            <a:ext cx="792180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7-month ensembles of 41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Together with ECMWF and M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Issued operationally each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Météo-France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system3 in Ma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451"/>
              </a:spcBef>
              <a:buClr>
                <a:srgbClr val="2d82ff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New ocea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76000"/>
              </a:lnSpc>
              <a:spcBef>
                <a:spcPts val="451"/>
              </a:spcBef>
              <a:buClr>
                <a:srgbClr val="2d82ff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91 levels on the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569440" y="0"/>
            <a:ext cx="5680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71DFEE-1BFA-4A5C-9783-C1C31264D0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ter temperature in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DJF daily values of 2m temperature at 1 grid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Pdf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Validated against observed series at Paris-Orly for 1988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Model data pre-conditioning: model climatological pdf must fit observation pdf for eac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7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BAAAAA+ArialMT"/>
              </a:rPr>
              <a:t>Example: last two winters of the hindcas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280" y="242640"/>
            <a:ext cx="7264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inter 2005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079640"/>
            <a:ext cx="5759280" cy="5486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59640" y="1619280"/>
            <a:ext cx="24843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ima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Multi-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42640"/>
            <a:ext cx="7264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inter 2006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1079640"/>
            <a:ext cx="575928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659640" y="1619280"/>
            <a:ext cx="24843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lima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Multi-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569440" y="0"/>
            <a:ext cx="56808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811CDA-F688-4E49-84B8-B71216F953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27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Ranked probability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200 equiprobabl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AAAAA+ArialMT"/>
                <a:ea typeface="BAAAAA+ArialMT"/>
              </a:rPr>
              <a:t>Leave one ou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3060720"/>
            <a:ext cx="432108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Climatology:  0.00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ECMWF :       0.01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MetO:         0.009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Météo-France: 0.009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Multi:        0.0088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87280"/>
            <a:ext cx="726444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neralization 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2518920"/>
            <a:ext cx="79138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4 European ca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P6-ENSEMBLES observation gridded dataset (25 km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76000"/>
              </a:lnSpc>
              <a:spcBef>
                <a:spcPts val="499"/>
              </a:spcBef>
              <a:buClr>
                <a:srgbClr val="2d82ff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étéo-France hindcas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42640"/>
            <a:ext cx="7264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PS skill score (x100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25560" y="1152360"/>
            <a:ext cx="5734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