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68580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84760" y="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84760" y="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4760" y="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1280" y="373608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60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644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160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128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644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160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71640" y="242640"/>
            <a:ext cx="726264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1280" y="373608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560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644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160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128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644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160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640" y="242640"/>
            <a:ext cx="726264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60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68360" y="6453360"/>
            <a:ext cx="2889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08800"/>
            <a:ext cx="228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iami, 12-14 Januar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8920" y="1628280"/>
            <a:ext cx="60390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2240" y="1751040"/>
            <a:ext cx="878184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Recent developments in seasonal forecasting at French NMS </a:t>
            </a:r>
            <a:br>
              <a:rPr sz="36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hel Déqué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étéo-France, Toulous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69440" y="0"/>
            <a:ext cx="5680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78CF2D-6805-42F3-B060-7A73ABA15C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S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71400"/>
            <a:ext cx="792180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7-month ensembles of 41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ogether with ECMWF and M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ssued operationally each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Météo-France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system3 in Ma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451"/>
              </a:spcBef>
              <a:buClr>
                <a:srgbClr val="2d82ff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New ocea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451"/>
              </a:spcBef>
              <a:buClr>
                <a:srgbClr val="2d82ff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91 levels on the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569440" y="0"/>
            <a:ext cx="5680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B99D01-85BA-4E1F-84B3-748EB70D17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ter temperature in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DJF daily values of 2m temperature at 1 grid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Pdf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Validated against observed series at Paris-Orly for 1988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Model data pre-conditioning: model climatological pdf must fit observation pdf for eac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Example: last two winters of the hindcas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280" y="242640"/>
            <a:ext cx="7264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inter 2005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079640"/>
            <a:ext cx="5759280" cy="5486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59640" y="1619280"/>
            <a:ext cx="24843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ima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Multi-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42640"/>
            <a:ext cx="7264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inter 2006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1079640"/>
            <a:ext cx="575928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659640" y="1619280"/>
            <a:ext cx="24843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ima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Multi-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569440" y="0"/>
            <a:ext cx="5680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EA5C7F-1BDF-452E-893D-CC9C3921B0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Ranked probability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200 equiprobabl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Leave one ou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3060720"/>
            <a:ext cx="432108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Climatology:  0.00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ECMWF :       0.01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MetO:         0.009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Météo-France: 0.009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Multi:        0.0088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87280"/>
            <a:ext cx="72644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neralization 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2518920"/>
            <a:ext cx="79138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4 European ca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P6-ENSEMBLES observation gridded dataset (25 km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étéo-France hindcas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42640"/>
            <a:ext cx="7264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PS skill score (x100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25560" y="1152360"/>
            <a:ext cx="5734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