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D976-D912-4B66-96C6-1605AE63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573E-F1D3-46FC-8F0B-B806B815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4B6-886E-41D2-9EF0-A8A01849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BF5-9E5A-48D4-8D2C-6BB5FCFC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1ED2-FA36-4943-9A88-4FD7F92C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308F-82AA-4BE3-B36F-83DAF9E4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1C8-31DC-4EC8-A563-5B6B7751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DCFF-C099-41A6-8E0F-3E678D66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B30-E74D-4887-A9EB-D2BF3F4D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E25E-D74E-4695-A900-59B5A988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C0F-B440-47D4-B5A3-0AFE93A5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DD6-0DBF-4E0C-95FD-53600D62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0727-AFBD-490C-A249-C5914068F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dicting global mean 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62197" t="87927" r="62197" b="263780"/>
          <a:stretch/>
        </p:blipFill>
        <p:spPr>
          <a:xfrm>
            <a:off x="382680" y="549360"/>
            <a:ext cx="81723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s at ECMW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rge of monthly forecast into 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um-range EPS is now continuous with monthly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lution “steps down” from T399 to T255 after 1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dcasts also have high resolution for first 1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casting system changes every few months – hindcasts produced in near-real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to 15 days every day; to 32 days only once per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ean coupling switched off for first 10 days – for the mo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imental runs to 45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irst step towards unified NWP/seasonal prediction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3400" y="4752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 Stockdale, WGSIP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nthly All India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2200" y="2438280"/>
            <a:ext cx="995400" cy="31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21480" y="23860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V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42200" y="3203640"/>
            <a:ext cx="954000" cy="269640"/>
          </a:xfrm>
          <a:prstGeom prst="rect">
            <a:avLst/>
          </a:prstGeom>
          <a:solidFill>
            <a:srgbClr val="6363fb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37600" y="3106800"/>
            <a:ext cx="14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EAS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8120" y="1042920"/>
            <a:ext cx="785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orrelation with IMD  station data- 1991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0960" y="1943280"/>
            <a:ext cx="4860720" cy="4003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428080" y="5589720"/>
            <a:ext cx="41583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lides from Frederic Vit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9080" y="609480"/>
            <a:ext cx="837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erannual variability of Atlantic hurricane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991-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93800" y="3441600"/>
          <a:ext cx="7740720" cy="2711520"/>
        </p:xfrm>
        <a:graphic>
          <a:graphicData uri="http://schemas.openxmlformats.org/drawingml/2006/table">
            <a:tbl>
              <a:tblPr/>
              <a:tblGrid>
                <a:gridCol w="1905120"/>
                <a:gridCol w="1795320"/>
                <a:gridCol w="1954080"/>
                <a:gridCol w="2086200"/>
              </a:tblGrid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E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 - Month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 – Month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.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0.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-0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.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0.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0.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0.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0.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2038320" y="2209680"/>
            <a:ext cx="47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orrelation with HUR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70120" y="3406680"/>
          <a:ext cx="7359480" cy="2765160"/>
        </p:xfrm>
        <a:graphic>
          <a:graphicData uri="http://schemas.openxmlformats.org/drawingml/2006/table">
            <a:tbl>
              <a:tblPr/>
              <a:tblGrid>
                <a:gridCol w="1810440"/>
                <a:gridCol w="1708200"/>
                <a:gridCol w="1859040"/>
                <a:gridCol w="1981800"/>
              </a:tblGrid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- Month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- Month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.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0.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0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.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0.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0.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.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0.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0.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768240" y="990720"/>
            <a:ext cx="8375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erannual variability of Accumulated Cyclone Energy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1991-2007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5000" y="2362320"/>
            <a:ext cx="47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orrelation with HUR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obal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5840" y="1089000"/>
            <a:ext cx="789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mTm- Ensemble mean correlation with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ugust 1981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1480" y="2476440"/>
            <a:ext cx="269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EAS3- Month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03960" y="2476440"/>
            <a:ext cx="26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V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1400" y="3071880"/>
            <a:ext cx="4281480" cy="2566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2943360"/>
            <a:ext cx="40705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s at ECMW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sonal prediction “System 4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ocean model – N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ocean assimilation system – 3D/4D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coupling interface – OASI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treatment of lakes and sea-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pe to have improved stratosphere (extra resolution, volcanic aerosols, improved gravity wave parameter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stent land surface initialization (stand-alone analysis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Latest IFS cycle is much more active in tropics, generally more accurate, but has problems with easterly bias in equatorial winds, at least at TL15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s at ECMW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8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adal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s part of EU-funded proje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EM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-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an group adapting the ECMWF model for climate chang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tempt to keep technical infrastructure integrated with ECM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may get feedback from some aspects of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5:21:03Z</dcterms:created>
  <dc:creator>Anna Pirani</dc:creator>
  <dc:description/>
  <dc:language>en-US</dc:language>
  <cp:lastModifiedBy>Anna Pirani</cp:lastModifiedBy>
  <dcterms:modified xsi:type="dcterms:W3CDTF">2009-02-20T15:39:41Z</dcterms:modified>
  <cp:revision>2</cp:revision>
  <dc:subject/>
  <dc:title>Developments at ECMWF</dc:title>
</cp:coreProperties>
</file>