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81C2D-C227-491D-BC75-A25B457A3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cesses leading to the elaboration of consensus seasonal climate prediction at CPT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95C-53A9-4AF3-B19E-3E36865B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14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7D4-80F9-48BC-9133-E1335FED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1E0-A6C5-4999-8A07-2A8186DE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B21-A2C5-464C-85F0-B904561E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D27-3080-491A-A4B3-2B8D621F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B50-30CF-49C5-9336-6A40783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E62-4B10-4717-B9DC-57E94FF3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302-031B-4276-9E84-9AB776FF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3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58F-371F-40E0-8747-81985336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6CE-73A3-4BAE-9EA8-FB89470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D27-EA7A-4E3B-BE25-C211ECEE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661-D223-488C-83E6-6A0CA90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4920"/>
            <a:ext cx="38815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90EE4-0CA9-4512-852E-1F88E6196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28440"/>
            <a:ext cx="76212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52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P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ctivities on Seasonal Climate Pred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35258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ulo N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E-CCST-CPT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SIP-12, Miami, 12-14 Januar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01120" cy="974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Coupled Ocean-Atmosphere processes at pl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F Precipitation Forecasts anomaly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5120" y="1351080"/>
            <a:ext cx="5562360" cy="5506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67000" y="6573960"/>
            <a:ext cx="24105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DejaVu Sans"/>
                <a:ea typeface="Arial"/>
              </a:rPr>
              <a:t>Nobre et al. (2008, in prep)</a:t>
            </a:r>
            <a:r>
              <a:rPr b="0" lang="en-US" sz="1300" spc="-1" strike="noStrike">
                <a:solidFill>
                  <a:srgbClr val="ff0000"/>
                </a:solidFill>
                <a:latin typeface="DejaVu Sans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695680" y="5184720"/>
            <a:ext cx="4351320" cy="1035000"/>
            <a:chOff x="2695680" y="5184720"/>
            <a:chExt cx="4351320" cy="1035000"/>
          </a:xfrm>
        </p:grpSpPr>
        <p:sp>
          <p:nvSpPr>
            <p:cNvPr id="100" name=""/>
            <p:cNvSpPr/>
            <p:nvPr/>
          </p:nvSpPr>
          <p:spPr>
            <a:xfrm>
              <a:off x="2695680" y="5184720"/>
              <a:ext cx="1450800" cy="620640"/>
            </a:xfrm>
            <a:prstGeom prst="ellipse">
              <a:avLst/>
            </a:prstGeom>
            <a:noFill/>
            <a:ln w="54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03920" y="5675400"/>
              <a:ext cx="1243080" cy="544320"/>
            </a:xfrm>
            <a:prstGeom prst="ellipse">
              <a:avLst/>
            </a:prstGeom>
            <a:noFill/>
            <a:ln w="54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257960" y="2489040"/>
            <a:ext cx="1752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Increa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Coup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Foreca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Sk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727440" y="4148280"/>
            <a:ext cx="3535200" cy="124272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630480" y="4148280"/>
            <a:ext cx="838440" cy="165888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57960" y="2695680"/>
            <a:ext cx="1800" cy="145260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57960" y="4148280"/>
            <a:ext cx="1451160" cy="144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01120" cy="974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Coupled Ocean-Atmosphere processes at pl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F Precipitation Forecasts anomaly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1351080"/>
            <a:ext cx="5562360" cy="5506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67000" y="6573960"/>
            <a:ext cx="24105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DejaVu Sans"/>
                <a:ea typeface="Arial"/>
              </a:rPr>
              <a:t>Nobre et al. (2008, in prep)</a:t>
            </a:r>
            <a:r>
              <a:rPr b="0" lang="en-US" sz="1300" spc="-1" strike="noStrike">
                <a:solidFill>
                  <a:srgbClr val="ff0000"/>
                </a:solidFill>
                <a:latin typeface="DejaVu Sans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334120"/>
            <a:ext cx="1244880" cy="546120"/>
          </a:xfrm>
          <a:prstGeom prst="ellipse">
            <a:avLst/>
          </a:prstGeom>
          <a:noFill/>
          <a:ln w="547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57960" y="2489040"/>
            <a:ext cx="1752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Decrea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Coup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Foreca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Sk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549840" y="4148280"/>
            <a:ext cx="919080" cy="126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57960" y="2695680"/>
            <a:ext cx="1800" cy="1452600"/>
          </a:xfrm>
          <a:prstGeom prst="line">
            <a:avLst/>
          </a:prstGeom>
          <a:ln w="367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7960" y="4148280"/>
            <a:ext cx="1451160" cy="1440"/>
          </a:xfrm>
          <a:prstGeom prst="line">
            <a:avLst/>
          </a:prstGeom>
          <a:ln w="367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611280" y="4986360"/>
            <a:ext cx="3904560" cy="1181160"/>
            <a:chOff x="611280" y="4986360"/>
            <a:chExt cx="3904560" cy="1181160"/>
          </a:xfrm>
        </p:grpSpPr>
        <p:sp>
          <p:nvSpPr>
            <p:cNvPr id="116" name=""/>
            <p:cNvSpPr/>
            <p:nvPr/>
          </p:nvSpPr>
          <p:spPr>
            <a:xfrm>
              <a:off x="611280" y="5994360"/>
              <a:ext cx="7207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7440" y="5799240"/>
              <a:ext cx="29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I-SST / NCEP Re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1280" y="5614920"/>
              <a:ext cx="720720" cy="18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33240" y="541980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GCM Clima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0360" y="5181480"/>
              <a:ext cx="720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56280" y="4986360"/>
              <a:ext cx="21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GCM Clima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260360" y="549360"/>
            <a:ext cx="69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ern Oceans’ Coupled O-A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9912" t="0" r="0" b="4258"/>
          <a:stretch/>
        </p:blipFill>
        <p:spPr>
          <a:xfrm>
            <a:off x="4788000" y="1405080"/>
            <a:ext cx="4356000" cy="3463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18280" y="4030560"/>
            <a:ext cx="33843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18280" y="2171880"/>
            <a:ext cx="3384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9964" t="0" r="0" b="4208"/>
          <a:stretch/>
        </p:blipFill>
        <p:spPr>
          <a:xfrm>
            <a:off x="324000" y="1397160"/>
            <a:ext cx="4319280" cy="3471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26920" y="4005360"/>
            <a:ext cx="33847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2146320"/>
            <a:ext cx="33847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763200"/>
            <a:ext cx="8227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GCM SWRad systematic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39840" y="2281320"/>
            <a:ext cx="4016160" cy="3011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4033800" cy="3024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08200" y="1847880"/>
            <a:ext cx="1263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S 30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1847880"/>
            <a:ext cx="102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N 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E's CGCM Ev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90160"/>
            <a:ext cx="822636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 algn="just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Version 1.1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just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OLA AGCM, RAS, SIB, T042L18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just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nomaly coupling to MOM2 at 1/3 degree deep global tropics, 40S-40N, L20, rigid l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just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Version 1.2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PTEC/COLA AGCM, RAS, SSiB, T062L28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ully coupled to MOM3, daily coupling, at ¼ degree deep global tropics, 40S-40N, L20, rigid l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ion 2.0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TEC AGCM 2.0, Kuo/RAS/Grell, SsiB/IBIS, T213L6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lly coupled to MOM4 , 3 hourly coupling, at 1/8 degree deep tropics, global, L50, free surface, sea ice &amp; biogeochemis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FDL's FMS coup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8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 4’s FMS COU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65400" y="1878120"/>
            <a:ext cx="2074680" cy="207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Ocean to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06880" y="1849320"/>
            <a:ext cx="2073240" cy="20664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c Boundary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65400" y="2206800"/>
            <a:ext cx="2074680" cy="206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ce Model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06880" y="2800440"/>
            <a:ext cx="2073240" cy="20772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Lan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06880" y="2473200"/>
            <a:ext cx="2073240" cy="20664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down from At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06880" y="2176560"/>
            <a:ext cx="2073240" cy="2062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os Model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06880" y="3760920"/>
            <a:ext cx="2073240" cy="2062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Atmos Model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6880" y="3432240"/>
            <a:ext cx="2073240" cy="2062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up to At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06880" y="3103560"/>
            <a:ext cx="2073240" cy="2080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3120" y="2587680"/>
            <a:ext cx="2281320" cy="208080"/>
          </a:xfrm>
          <a:prstGeom prst="roundRect">
            <a:avLst>
              <a:gd name="adj" fmla="val 16667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os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3120" y="3090960"/>
            <a:ext cx="2281320" cy="206280"/>
          </a:xfrm>
          <a:prstGeom prst="roundRect">
            <a:avLst>
              <a:gd name="adj" fmla="val 16667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os Loop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50120" y="2511360"/>
            <a:ext cx="2073240" cy="20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psu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50120" y="2195640"/>
            <a:ext cx="2073240" cy="20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os-2-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50120" y="1844640"/>
            <a:ext cx="2073240" cy="20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T-2-At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3840" y="1803240"/>
            <a:ext cx="415800" cy="2281320"/>
          </a:xfrm>
          <a:custGeom>
            <a:avLst/>
            <a:gdLst>
              <a:gd name="textAreaLeft" fmla="*/ 265680 w 415800"/>
              <a:gd name="textAreaRight" fmla="*/ 416160 w 415800"/>
              <a:gd name="textAreaTop" fmla="*/ 59400 h 2281320"/>
              <a:gd name="textAreaBottom" fmla="*/ 222192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5440" y="1792440"/>
            <a:ext cx="415800" cy="1036440"/>
          </a:xfrm>
          <a:custGeom>
            <a:avLst/>
            <a:gdLst>
              <a:gd name="textAreaLeft" fmla="*/ 265680 w 415800"/>
              <a:gd name="textAreaRight" fmla="*/ 416160 w 415800"/>
              <a:gd name="textAreaTop" fmla="*/ 27000 h 1036440"/>
              <a:gd name="textAreaBottom" fmla="*/ 1009440 h 103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65400" y="3505320"/>
            <a:ext cx="2074680" cy="207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Lan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5400" y="4619520"/>
            <a:ext cx="2074680" cy="20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Ice to Oc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5400" y="4237200"/>
            <a:ext cx="2074680" cy="207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ce Model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5400" y="3855960"/>
            <a:ext cx="2074680" cy="206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Land to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11280" y="5000760"/>
            <a:ext cx="2281320" cy="20628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ean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11280" y="5535720"/>
            <a:ext cx="2281320" cy="20772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ean Loop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49640" y="5283360"/>
            <a:ext cx="2073240" cy="20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Ocea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5840" y="1582560"/>
            <a:ext cx="2281320" cy="208080"/>
          </a:xfrm>
          <a:prstGeom prst="roundRect">
            <a:avLst>
              <a:gd name="adj" fmla="val 16667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d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58760" y="5969160"/>
            <a:ext cx="2281320" cy="207720"/>
          </a:xfrm>
          <a:prstGeom prst="roundRect">
            <a:avLst>
              <a:gd name="adj" fmla="val 16667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d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79920" y="4932360"/>
            <a:ext cx="369720" cy="874800"/>
          </a:xfrm>
          <a:custGeom>
            <a:avLst/>
            <a:gdLst>
              <a:gd name="textAreaLeft" fmla="*/ 236160 w 369720"/>
              <a:gd name="textAreaRight" fmla="*/ 370080 w 369720"/>
              <a:gd name="textAreaTop" fmla="*/ 22680 h 874800"/>
              <a:gd name="textAreaBottom" fmla="*/ 852120 h 87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" y="6429240"/>
            <a:ext cx="2280960" cy="2066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r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" y="1244520"/>
            <a:ext cx="2280960" cy="2062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r 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8160" y="3124080"/>
            <a:ext cx="4406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ow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1680" y="2592000"/>
            <a:ext cx="44064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7640" y="5030280"/>
            <a:ext cx="44064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E-CPTEC CGCM V.2.0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213 L64, 6 hourly coupl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s avrg spinup S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2520" cy="45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E-CPTEC CGCM V.2.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213 L64, 6 hourly coupl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s avrg spinup Prec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2520" cy="45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E's CC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 of Earth System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Brazilian Model of the Climat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nd disseminate operational climate predictions on time scales of years to dec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the Brazilian contribution to IPCC AR5 (in cooperation with Hadley Centre and NCA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 program on Earth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110280" y="1600200"/>
            <a:ext cx="2131920" cy="714240"/>
            <a:chOff x="6110280" y="1600200"/>
            <a:chExt cx="2131920" cy="714240"/>
          </a:xfrm>
        </p:grpSpPr>
        <p:sp>
          <p:nvSpPr>
            <p:cNvPr id="56" name=""/>
            <p:cNvSpPr/>
            <p:nvPr/>
          </p:nvSpPr>
          <p:spPr>
            <a:xfrm>
              <a:off x="6110280" y="1600200"/>
              <a:ext cx="2131920" cy="714240"/>
            </a:xfrm>
            <a:prstGeom prst="roundRect">
              <a:avLst>
                <a:gd name="adj" fmla="val 222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10280" y="1600200"/>
              <a:ext cx="2131920" cy="71424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92beb"/>
                  </a:solidFill>
                  <a:latin typeface="Arial"/>
                </a:rPr>
                <a:t>Consensus</a:t>
              </a:r>
              <a:br>
                <a:rPr sz="1800"/>
              </a:br>
              <a:r>
                <a:rPr b="1" lang="en-GB" sz="1800" spc="-1" strike="noStrike">
                  <a:solidFill>
                    <a:srgbClr val="392beb"/>
                  </a:solidFill>
                  <a:latin typeface="Arial"/>
                </a:rPr>
                <a:t>Fore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429000" y="2295360"/>
            <a:ext cx="1828800" cy="2298960"/>
            <a:chOff x="3429000" y="2295360"/>
            <a:chExt cx="1828800" cy="22989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3429000" y="2295360"/>
              <a:ext cx="182880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429000" y="2295360"/>
              <a:ext cx="1828800" cy="229896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2298960"/>
                <a:gd name="textAreaBottom" fmla="*/ 2298600 h 2298960"/>
              </a:gdLst>
              <a:ahLst/>
              <a:rect l="textAreaLeft" t="textAreaTop" r="textAreaRight" b="textAreaBottom"/>
              <a:pathLst>
                <a:path w="21600" h="27152">
                  <a:moveTo>
                    <a:pt x="24" y="0"/>
                  </a:moveTo>
                  <a:arcTo wR="24" hR="24" stAng="16200000" swAng="-5400000"/>
                  <a:lnTo>
                    <a:pt x="0" y="27128"/>
                  </a:lnTo>
                  <a:arcTo wR="24" hR="24" stAng="10800000" swAng="-5400000"/>
                  <a:lnTo>
                    <a:pt x="21576" y="27152"/>
                  </a:lnTo>
                  <a:arcTo wR="24" hR="24" stAng="5400000" swAng="-5400000"/>
                  <a:lnTo>
                    <a:pt x="21600" y="24"/>
                  </a:lnTo>
                  <a:arcTo wR="24" hR="24" stAng="0" swAng="-5400000"/>
                  <a:close/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684360" y="189000"/>
            <a:ext cx="819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Seasonal Climate Prediction at CPTEC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00400" y="1252440"/>
            <a:ext cx="1892160" cy="219240"/>
            <a:chOff x="3200400" y="1252440"/>
            <a:chExt cx="1892160" cy="219240"/>
          </a:xfrm>
        </p:grpSpPr>
        <p:sp>
          <p:nvSpPr>
            <p:cNvPr id="63" name=""/>
            <p:cNvSpPr/>
            <p:nvPr/>
          </p:nvSpPr>
          <p:spPr>
            <a:xfrm>
              <a:off x="3200400" y="1252440"/>
              <a:ext cx="1892160" cy="180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200400" y="1252440"/>
              <a:ext cx="1239840" cy="219240"/>
              <a:chOff x="3200400" y="1252440"/>
              <a:chExt cx="1239840" cy="219240"/>
            </a:xfrm>
          </p:grpSpPr>
          <p:sp>
            <p:nvSpPr>
              <p:cNvPr id="65" name=""/>
              <p:cNvSpPr/>
              <p:nvPr/>
            </p:nvSpPr>
            <p:spPr>
              <a:xfrm>
                <a:off x="3200400" y="1252440"/>
                <a:ext cx="1239840" cy="219240"/>
              </a:xfrm>
              <a:prstGeom prst="roundRect">
                <a:avLst>
                  <a:gd name="adj" fmla="val 72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00400" y="1252440"/>
                <a:ext cx="1239840" cy="1800"/>
              </a:xfrm>
              <a:prstGeom prst="roundRect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630600"/>
            <a:ext cx="2273400" cy="231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88840" y="1395360"/>
            <a:ext cx="1765440" cy="1374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93880" y="1204920"/>
            <a:ext cx="1591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dels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114560" y="2924280"/>
            <a:ext cx="838080" cy="380880"/>
          </a:xfrm>
          <a:prstGeom prst="rightArrow">
            <a:avLst>
              <a:gd name="adj1" fmla="val 31824"/>
              <a:gd name="adj2" fmla="val 93536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697440" y="2658960"/>
            <a:ext cx="593640" cy="304920"/>
          </a:xfrm>
          <a:prstGeom prst="rightArrow">
            <a:avLst>
              <a:gd name="adj1" fmla="val 44250"/>
              <a:gd name="adj2" fmla="val 65851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05320" y="1828800"/>
            <a:ext cx="762120" cy="345960"/>
          </a:xfrm>
          <a:prstGeom prst="rightArrow">
            <a:avLst>
              <a:gd name="adj1" fmla="val 44250"/>
              <a:gd name="adj2" fmla="val 74511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6680" y="1865160"/>
            <a:ext cx="944640" cy="381240"/>
          </a:xfrm>
          <a:prstGeom prst="rightArrow">
            <a:avLst>
              <a:gd name="adj1" fmla="val 44250"/>
              <a:gd name="adj2" fmla="val 83809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0400" y="1252440"/>
            <a:ext cx="1514520" cy="189000"/>
            <a:chOff x="3200400" y="1252440"/>
            <a:chExt cx="1514520" cy="189000"/>
          </a:xfrm>
        </p:grpSpPr>
        <p:sp>
          <p:nvSpPr>
            <p:cNvPr id="75" name=""/>
            <p:cNvSpPr/>
            <p:nvPr/>
          </p:nvSpPr>
          <p:spPr>
            <a:xfrm>
              <a:off x="3200400" y="1252440"/>
              <a:ext cx="151452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200400" y="1252440"/>
              <a:ext cx="993600" cy="189000"/>
              <a:chOff x="3200400" y="1252440"/>
              <a:chExt cx="993600" cy="189000"/>
            </a:xfrm>
          </p:grpSpPr>
          <p:sp>
            <p:nvSpPr>
              <p:cNvPr id="77" name=""/>
              <p:cNvSpPr/>
              <p:nvPr/>
            </p:nvSpPr>
            <p:spPr>
              <a:xfrm>
                <a:off x="3200400" y="1252440"/>
                <a:ext cx="993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00400" y="1252440"/>
                <a:ext cx="99360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943600" y="3200400"/>
            <a:ext cx="2419200" cy="320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52840" y="1371600"/>
            <a:ext cx="1476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9440" y="6049800"/>
            <a:ext cx="20937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T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4358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asonal prediction operational ru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lobal Atmospheric 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O, RAS, GRELL, DE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T: NCEP CFS &amp; CPTEC CCA FCST, prescribed S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Members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month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lobal Coupled Ocean-Atmosphere 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062L28, RA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¼ degree, L20, 40S-40N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embers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month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ional Atmospheric E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Km grid L38 over 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CM T062L28, Kuo, L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embers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month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RF – Global Coupled Ocean-Atmosphere 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26L28, R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¼ degree, L20, 65S-65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ember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day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maly Correlation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pot. Hight over South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5202" t="16843" r="17285" b="46800"/>
          <a:stretch/>
        </p:blipFill>
        <p:spPr>
          <a:xfrm>
            <a:off x="1219320" y="1496880"/>
            <a:ext cx="7162560" cy="498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sonal Climate Prediction at INPE-CP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monthly meetings encompassing  institutions from Brasil, Argentina, and 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ttp://visitview.cptec.inpe.br/clima/1108/po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of AGCM and CGCM runs done at CPTEC as well as those done at I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al downscaling using RCMs nested at CPTEC and ECHAM4.5 AGCM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precipitation forecast in terciles: Above, Normal,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temperature forecast Above/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760040"/>
            <a:ext cx="8447040" cy="48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CM Modular Ocean Model (MOM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Tropics (40S – 40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4 x 1/4 degree deep tropics of the 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anowski and Philander vertical mi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id lid approx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CM: (daily, fully coupled) to CPTEC AGCM, T062L28, RAS, SSi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 IC: NC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IC: MOM3 forced runs, no Ocean Data 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embers, 20 years of 8 month forecast runs for the 12 calendar month for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GC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taling 3200 years of integration at INPE's NEC-SX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pled Ocean-Atmosphere predictability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777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CM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4722" t="35383" r="3540" b="43689"/>
          <a:stretch/>
        </p:blipFill>
        <p:spPr>
          <a:xfrm>
            <a:off x="431640" y="2492280"/>
            <a:ext cx="8388360" cy="2708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79720" y="24922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igh Re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on Lat Tropical Atla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8400" y="533520"/>
            <a:ext cx="8064720" cy="60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95480" y="549360"/>
            <a:ext cx="5384880" cy="2684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79640" y="3562200"/>
            <a:ext cx="5411880" cy="245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o Nobre</cp:lastModifiedBy>
  <cp:revision>0</cp:revision>
  <dc:subject/>
  <dc:title>Coupled ocean-atmosphere modeling evidences of the Amazon Rainf</dc:title>
</cp:coreProperties>
</file>