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8AA-5713-4189-A164-27E9E647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160-3AEA-4B69-BDB3-08A0539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D5E-6360-4E7E-9E17-5E77F037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3C6-1E31-4405-BCE4-0F6AAD26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AB1-0974-4C8C-BFFD-52C51A5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DD0-485B-42DB-94F9-A55EAF3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F9A-9F4F-46AA-81AB-D0D1BD6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2F8-ECD7-49F3-98C1-16DCFD5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746-5143-4FE2-9D10-1EA349C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E93-6D40-46AB-9CDF-9B358F9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EF9-43C7-44F6-9B19-3003294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5D7-071B-4298-A726-FFFF6E5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8DA-BCCA-435A-A88E-C59BDB2C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FSP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articipating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EU ENSEMBLES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CC, Cli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OAA-NCEP, NOAA-GF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SA-GM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COLA-N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umerical Experi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WEX: GLACE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C: Seasonal Prediction Skill Assessment: Troposphere-Stratosphere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: Sea-Ice Predictability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VAR: (WGSIP-Decadal Experiment; Regional Panels to Lead Application Interface for Seasonal Prediction Skill Assess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adal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0:43:16Z</dcterms:created>
  <dc:creator>Ben Kirtman</dc:creator>
  <dc:description/>
  <dc:language>en-US</dc:language>
  <cp:lastModifiedBy>Ben Kirtman</cp:lastModifiedBy>
  <dcterms:modified xsi:type="dcterms:W3CDTF">2009-01-15T20:44:17Z</dcterms:modified>
  <cp:revision>1</cp:revision>
  <dc:subject/>
  <dc:title>TFSP Experiment</dc:title>
</cp:coreProperties>
</file>