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CAB-95FC-45AB-A0AE-CB2D355C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5AC-6B22-42F3-AECA-EBBF065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7B0-B961-4A34-9EFE-6500A694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797-1BDB-4EC4-8DD1-EED3381F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607-80D6-4463-BF50-85E46363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C3A-E3B0-4020-9A57-C8510F7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018-4F4D-49B0-A59B-352EF579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8EF-8ED3-4DAC-8C06-B04219F0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BDC-E202-468D-B925-DA3B074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93B-AF3F-4CA1-AC80-9463C424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2EC-A3AD-4339-A7B6-B7890ED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F00-8AE8-4FE5-A1E6-84023AE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3D5-998C-483B-AFCC-61F73176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FSP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articipating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EU ENSEMBLES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CC, Cli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OAA-NCEP, NOAA-GF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SA-GM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COLA-N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umerical Experi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WEX: GLACE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RC: Seasonal Prediction Skill Assessment: Troposphere-Stratosphere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: Sea-Ice Predictability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VAR: (WGSIP-Decadal Experiment; Regional Panels to Lead Application Interface for Seasonal Prediction Skill Assess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adal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0:43:16Z</dcterms:created>
  <dc:creator>Ben Kirtman</dc:creator>
  <dc:description/>
  <dc:language>en-US</dc:language>
  <cp:lastModifiedBy>Ben Kirtman</cp:lastModifiedBy>
  <dcterms:modified xsi:type="dcterms:W3CDTF">2009-01-15T20:44:17Z</dcterms:modified>
  <cp:revision>1</cp:revision>
  <dc:subject/>
  <dc:title>TFSP Experiment</dc:title>
</cp:coreProperties>
</file>