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9F2F-CE69-4F39-BEF2-9D72D50C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45D1-5D76-48E9-A5AA-5BA685D7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38C3-1DDE-4855-985F-C5709B08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BA24-1A94-4353-B69D-CE2B5679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4CDD-8687-4AA5-9CFC-05ED1272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EDE3-9122-40DA-8DB8-F3B48140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9F35-C4FB-4027-8FF3-00FC3375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0EBF-739F-4F39-AB29-A13CBCBD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14A7-61AD-4F7A-A6BE-7B80207E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13C0-79C7-4354-8CC1-EED476B2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A362-33C9-4146-97F5-948DA734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6093-DDD1-4DD1-8CD6-44C83C5D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8AE7-2EC9-424B-A763-86FC8B997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2377" t="0" r="2392" b="6251"/>
          <a:stretch/>
        </p:blipFill>
        <p:spPr>
          <a:xfrm>
            <a:off x="-144360" y="0"/>
            <a:ext cx="92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84360" y="836640"/>
          <a:ext cx="5587920" cy="52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836640"/>
                    <a:ext cx="558792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987640" y="3500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77080" y="1844640"/>
            <a:ext cx="1871640" cy="33858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ound 10 Terabites have been already allocated to the CHFP dataserver at C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920" y="115560"/>
            <a:ext cx="9082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ort Course on seasonal predictions for Latin Americ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weeks of lectures (morning) &amp; computing laboratory (afterno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ntatively scheduled for March 2010 at the School of Exact and Natural Sciences of the University of Buenos Ai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: To make visible the CHFP effort within the Latin-american scientific community and increase the regional capacity on the use of seasonal prediction for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-model multi-member seasonal predi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s for Probabilistic seasonal prediction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 on the use of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CHFP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Water resources and agri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nts (50-70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udents or young scientists from all the countries in Latin America and the Caribbean (Universities, NWS, Water agencies, Agricultural ag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likely it will be a Training Course of IAI (Interamerican Institute for Global Chan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I and CPTEC have shown interest and they will likely participate in the content design and lecture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24360" y="321300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22:47:38Z</dcterms:created>
  <dc:creator>alrolla</dc:creator>
  <dc:description/>
  <dc:language>en-US</dc:language>
  <cp:lastModifiedBy>Anna Pirani</cp:lastModifiedBy>
  <dcterms:modified xsi:type="dcterms:W3CDTF">2009-01-22T20:37:20Z</dcterms:modified>
  <cp:revision>7</cp:revision>
  <dc:subject/>
  <dc:title>Diapositiva 1</dc:title>
</cp:coreProperties>
</file>