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4A96-AF82-43AD-9B80-DAB5D0DC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C916-8950-4F35-80F1-083FC917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9CF4-BB7A-403A-980C-68D245A9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832B-2CE0-4783-8A98-A61C59B7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1D10-826D-4D8F-AA7F-0E7A2987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E59A-CB87-4FC9-8801-ACCEEDC6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B5D1-DD4E-4E05-B2B7-BEC494BE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D084-E798-4EC6-A8FE-493ED631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B723-E811-4D53-83BB-7FDA01E1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9D99-62E2-4C4E-95A1-856EA440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257-B96E-4511-A08B-8818BFEE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E0BC-04D2-4ACF-9E68-DB5FBAA1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B169-DACE-4CAB-8DB7-5B458CE6F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2377" t="0" r="2392" b="6251"/>
          <a:stretch/>
        </p:blipFill>
        <p:spPr>
          <a:xfrm>
            <a:off x="-144360" y="0"/>
            <a:ext cx="92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84360" y="836640"/>
          <a:ext cx="5587920" cy="52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836640"/>
                    <a:ext cx="558792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987640" y="3500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77080" y="1844640"/>
            <a:ext cx="1871640" cy="33858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ound 10 Terabites have been already allocated to the CHFP dataserver at C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920" y="115560"/>
            <a:ext cx="9082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ort Course on seasonal predictions for Latin Americ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weeks of lectures (morning) &amp; computing laboratory (afterno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ntatively scheduled for March 2010 at the School of Exact and Natural Sciences of the University of Buenos Ai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: To make visible the CHFP effort within the Latin-american scientific community and increase the regional capacity on the use of seasonal prediction for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-model multi-member seasonal predi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s for Probabilistic seasonal prediction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 on the use of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CHFP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Water resources and agri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nts (50-70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udents or young scientists from all the countries in Latin America and the Caribbean (Universities, NWS, Water agencies, Agricultural ag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likely it will be a Training Course of IAI (Interamerican Institute for Global Chan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I and CPTEC have shown interest and they will likely participate in the content design and lecture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24360" y="321300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22:47:38Z</dcterms:created>
  <dc:creator>alrolla</dc:creator>
  <dc:description/>
  <dc:language>en-US</dc:language>
  <cp:lastModifiedBy>Anna Pirani</cp:lastModifiedBy>
  <dcterms:modified xsi:type="dcterms:W3CDTF">2009-01-22T20:37:20Z</dcterms:modified>
  <cp:revision>7</cp:revision>
  <dc:subject/>
  <dc:title>Diapositiva 1</dc:title>
</cp:coreProperties>
</file>