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2825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8416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3040" y="4166640"/>
            <a:ext cx="8416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6200" y="205740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3040" y="416664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6200" y="416664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27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8840" y="2057400"/>
            <a:ext cx="27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5000" y="2057400"/>
            <a:ext cx="27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3040" y="4166640"/>
            <a:ext cx="27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8840" y="4166640"/>
            <a:ext cx="27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5000" y="4166640"/>
            <a:ext cx="27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3040" y="2057400"/>
            <a:ext cx="8416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841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4107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2057400"/>
            <a:ext cx="4107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3040" y="8377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2057400"/>
            <a:ext cx="4107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040" y="416664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4107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205740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6200" y="416664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05740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6200" y="2057400"/>
            <a:ext cx="4107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3040" y="4166640"/>
            <a:ext cx="8416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8377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057400"/>
            <a:ext cx="841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000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30120" y="152280"/>
            <a:ext cx="7260840" cy="304920"/>
            <a:chOff x="330120" y="152280"/>
            <a:chExt cx="7260840" cy="3049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330120" y="152280"/>
              <a:ext cx="20422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330120" y="457200"/>
              <a:ext cx="726084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2417760" y="203040"/>
              <a:ext cx="5173200" cy="2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056440" y="152280"/>
            <a:ext cx="12178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7440" y="2646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ummary of Progress with POAMA/ACCES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easonal Predic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1523880"/>
          <a:ext cx="51642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164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710240" y="3200400"/>
          <a:ext cx="519264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0240" y="3200400"/>
                    <a:ext cx="5192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410080" y="1447920"/>
            <a:ext cx="397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N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nner Bridging (EOF/NINO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ser   SVD-c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5720" y="601992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Eun-Pa Lim and Harry He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609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ainfall Forecasts (POAMA-1.5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1143000"/>
            <a:ext cx="9505800" cy="2692440"/>
            <a:chOff x="0" y="1143000"/>
            <a:chExt cx="9505800" cy="26924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0" y="1143000"/>
              <a:ext cx="690084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0" y="2438640"/>
              <a:ext cx="694548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086600" y="1295640"/>
              <a:ext cx="24192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O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0" y="4021200"/>
            <a:ext cx="9669600" cy="2836800"/>
            <a:chOff x="0" y="4021200"/>
            <a:chExt cx="9669600" cy="283680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0" y="4021200"/>
              <a:ext cx="6945480" cy="13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0" y="5460840"/>
              <a:ext cx="69454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058160" y="4092480"/>
              <a:ext cx="26114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SST anomaly predicted by POAMA 1.5a at </a:t>
              </a:r>
              <a:r>
                <a:rPr b="0" lang="en-AU" sz="1800" spc="-1" strike="noStrike">
                  <a:solidFill>
                    <a:srgbClr val="0066ff"/>
                  </a:solidFill>
                  <a:latin typeface="Arial"/>
                </a:rPr>
                <a:t>L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76720" y="609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7 vs 2002 SST 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40840" y="649116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Eun-Pa Lim and Harry He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098720"/>
            <a:ext cx="3810240" cy="2711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67080" y="1098720"/>
            <a:ext cx="3810240" cy="2711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3809880"/>
            <a:ext cx="94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997                                                                 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609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7 vs 2002 Rainfall 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4043520"/>
            <a:ext cx="9597960" cy="2814480"/>
            <a:chOff x="304920" y="4043520"/>
            <a:chExt cx="9597960" cy="281448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4043520"/>
              <a:ext cx="7848360" cy="2814480"/>
              <a:chOff x="304920" y="4043520"/>
              <a:chExt cx="7848360" cy="2814480"/>
            </a:xfrm>
          </p:grpSpPr>
          <p:pic>
            <p:nvPicPr>
              <p:cNvPr id="1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4091040"/>
                <a:ext cx="3886200" cy="27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99040" y="4043520"/>
                <a:ext cx="3954240" cy="281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8305920" y="4800600"/>
              <a:ext cx="159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orecast - Lead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640840" y="649116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Eun-Pa Lim and Harry He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58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Intra-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nitialised with true state of ocean, land and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tored dail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Can start looking at weekly time 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Gap between NWP and Seasonal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82296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kill over Australia as a function of lead time (days): precipit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(by Debbie Hud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1980-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562720" y="1143000"/>
            <a:ext cx="3508200" cy="631440"/>
            <a:chOff x="5562720" y="1143000"/>
            <a:chExt cx="3508200" cy="631440"/>
          </a:xfrm>
        </p:grpSpPr>
        <p:sp>
          <p:nvSpPr>
            <p:cNvPr id="169" name=""/>
            <p:cNvSpPr/>
            <p:nvPr/>
          </p:nvSpPr>
          <p:spPr>
            <a:xfrm>
              <a:off x="5562720" y="1143000"/>
              <a:ext cx="35082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KEY:   persistence  </a:t>
              </a:r>
              <a:r>
                <a:rPr b="0" lang="en-AU" sz="1400" spc="-1" strike="noStrike">
                  <a:solidFill>
                    <a:srgbClr val="0000ff"/>
                  </a:solidFill>
                  <a:latin typeface="Arial"/>
                </a:rPr>
                <a:t>p15a  </a:t>
              </a:r>
              <a:r>
                <a:rPr b="0" lang="en-AU" sz="1400" spc="-1" strike="noStrike">
                  <a:solidFill>
                    <a:srgbClr val="ff0000"/>
                  </a:solidFill>
                  <a:latin typeface="Arial"/>
                </a:rPr>
                <a:t>p15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68640" y="1143000"/>
              <a:ext cx="3096000" cy="358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rcRect l="9449" t="3780" r="9449" b="3780"/>
          <a:stretch/>
        </p:blipFill>
        <p:spPr>
          <a:xfrm>
            <a:off x="5791320" y="1523880"/>
            <a:ext cx="3208320" cy="253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4495680" y="2133720"/>
            <a:ext cx="210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95320" y="3276720"/>
            <a:ext cx="17938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58200" y="342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106880" cy="2930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33520" y="4027320"/>
            <a:ext cx="4106880" cy="29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029200" y="4005360"/>
            <a:ext cx="4267080" cy="3044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2440" y="2332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5146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257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715000" y="1295280"/>
            <a:ext cx="3997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eler MJO Phas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Forecasts starting 1st March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50 day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Light Blue - o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Other colours - ense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Produced by Harun Ras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30631" t="65496" r="27504" b="3732"/>
          <a:stretch/>
        </p:blipFill>
        <p:spPr>
          <a:xfrm>
            <a:off x="0" y="838080"/>
            <a:ext cx="563868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58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21337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ignificant improvement in SST ski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Rainfall competitive with statistical forecas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Range of new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easonal and Weekly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Comprehensive hind-cast set available s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Available externally - openDA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Exiting year ahead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14320" y="53964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OAMA/ACCESS - Seasonal Predic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75248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41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988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45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70844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12600">
            <a:off x="-237960" y="37861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POAMA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325800" y="22320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OAMA-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236160" y="51753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OAMA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43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828800"/>
            <a:ext cx="762120" cy="228600"/>
          </a:xfrm>
          <a:prstGeom prst="rect">
            <a:avLst/>
          </a:prstGeom>
          <a:solidFill>
            <a:srgbClr val="00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nd-c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840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328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057400"/>
            <a:ext cx="1143000" cy="228600"/>
          </a:xfrm>
          <a:prstGeom prst="rect">
            <a:avLst/>
          </a:prstGeom>
          <a:solidFill>
            <a:srgbClr val="0066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286000"/>
            <a:ext cx="1295280" cy="22860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s &amp; do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514600"/>
            <a:ext cx="2210040" cy="228600"/>
          </a:xfrm>
          <a:prstGeom prst="rect">
            <a:avLst/>
          </a:prstGeom>
          <a:solidFill>
            <a:srgbClr val="0066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3276720"/>
            <a:ext cx="5333760" cy="1371600"/>
            <a:chOff x="533520" y="3276720"/>
            <a:chExt cx="5333760" cy="1371600"/>
          </a:xfrm>
        </p:grpSpPr>
        <p:sp>
          <p:nvSpPr>
            <p:cNvPr id="69" name=""/>
            <p:cNvSpPr/>
            <p:nvPr/>
          </p:nvSpPr>
          <p:spPr>
            <a:xfrm>
              <a:off x="533520" y="3276720"/>
              <a:ext cx="9144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3505320"/>
              <a:ext cx="1371600" cy="228600"/>
            </a:xfrm>
            <a:prstGeom prst="rect">
              <a:avLst/>
            </a:prstGeom>
            <a:solidFill>
              <a:srgbClr val="00ff00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-analy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5120" y="3733920"/>
              <a:ext cx="1676160" cy="228600"/>
            </a:xfrm>
            <a:prstGeom prst="rect">
              <a:avLst/>
            </a:prstGeom>
            <a:solidFill>
              <a:srgbClr val="00ff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nd-ca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0" y="3962520"/>
              <a:ext cx="1447920" cy="228600"/>
            </a:xfrm>
            <a:prstGeom prst="rect">
              <a:avLst/>
            </a:prstGeom>
            <a:solidFill>
              <a:srgbClr val="00ff00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6880" y="4191120"/>
              <a:ext cx="1447920" cy="228600"/>
            </a:xfrm>
            <a:prstGeom prst="rect">
              <a:avLst/>
            </a:prstGeom>
            <a:solidFill>
              <a:srgbClr val="00ff00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s and d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720" y="4419720"/>
              <a:ext cx="2590560" cy="228600"/>
            </a:xfrm>
            <a:prstGeom prst="rect">
              <a:avLst/>
            </a:prstGeom>
            <a:solidFill>
              <a:srgbClr val="00ff00">
                <a:alpha val="2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33520" y="4800600"/>
            <a:ext cx="7619760" cy="1387440"/>
            <a:chOff x="533520" y="4800600"/>
            <a:chExt cx="7619760" cy="1387440"/>
          </a:xfrm>
        </p:grpSpPr>
        <p:sp>
          <p:nvSpPr>
            <p:cNvPr id="76" name=""/>
            <p:cNvSpPr/>
            <p:nvPr/>
          </p:nvSpPr>
          <p:spPr>
            <a:xfrm>
              <a:off x="533520" y="4800600"/>
              <a:ext cx="30477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1280" y="5029200"/>
              <a:ext cx="1676520" cy="228600"/>
            </a:xfrm>
            <a:prstGeom prst="rect">
              <a:avLst/>
            </a:prstGeom>
            <a:solidFill>
              <a:srgbClr val="ff0000">
                <a:alpha val="8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-analy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67080" y="5257800"/>
              <a:ext cx="1676520" cy="2286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nd-ca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800" y="5486400"/>
              <a:ext cx="1523880" cy="228600"/>
            </a:xfrm>
            <a:prstGeom prst="rect">
              <a:avLst/>
            </a:prstGeom>
            <a:solidFill>
              <a:srgbClr val="ff0000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5730840"/>
              <a:ext cx="1371600" cy="228600"/>
            </a:xfrm>
            <a:prstGeom prst="rect">
              <a:avLst/>
            </a:prstGeom>
            <a:solidFill>
              <a:srgbClr val="ff0000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s &amp; D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3600" y="5959440"/>
              <a:ext cx="2209680" cy="228600"/>
            </a:xfrm>
            <a:prstGeom prst="rect">
              <a:avLst/>
            </a:prstGeom>
            <a:solidFill>
              <a:srgbClr val="ff0000">
                <a:alpha val="2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5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ajor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POAMA-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ew ACCESS atmosphere/land initialisation (ALI)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mprehensive hind-cast set (1980-2006, 10 member ensemble each month) - 3 members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Rainfall forecasts (direct + statistical downsca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ntra-seasonal (weekly)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OpenDAP external data server (sample - last 3 years availa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57480" y="3429000"/>
            <a:ext cx="7619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POAMA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ew ACCESS Ocean assimilation system (PEO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ew ACCESS ensemble generation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ncreased atmospheric resolution (T95 - 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7480" y="502920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POAMA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ew ACCESS coupled model (UKMO UM, AusCOM, 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igher resolution (ocean, atmosp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ew ACCESS coupled assimilation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58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POAMA-1.5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o far 3 out of 10 member ensemble each month from 1980-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eal-time forecasts in next 2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(Some results from preliminary version 1.5A, with no A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6483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ummary of work of many from BM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49860" b="77305"/>
          <a:stretch/>
        </p:blipFill>
        <p:spPr>
          <a:xfrm>
            <a:off x="1066680" y="762120"/>
            <a:ext cx="5486400" cy="28447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905120" y="1828800"/>
            <a:ext cx="1587240" cy="946440"/>
            <a:chOff x="1905120" y="1828800"/>
            <a:chExt cx="1587240" cy="946440"/>
          </a:xfrm>
        </p:grpSpPr>
        <p:grpSp>
          <p:nvGrpSpPr>
            <p:cNvPr id="91" name=""/>
            <p:cNvGrpSpPr/>
            <p:nvPr/>
          </p:nvGrpSpPr>
          <p:grpSpPr>
            <a:xfrm>
              <a:off x="1984320" y="1952640"/>
              <a:ext cx="468360" cy="647640"/>
              <a:chOff x="1984320" y="1952640"/>
              <a:chExt cx="468360" cy="647640"/>
            </a:xfrm>
          </p:grpSpPr>
          <p:sp>
            <p:nvSpPr>
              <p:cNvPr id="92" name=""/>
              <p:cNvSpPr/>
              <p:nvPr/>
            </p:nvSpPr>
            <p:spPr>
              <a:xfrm>
                <a:off x="1984320" y="1952640"/>
                <a:ext cx="46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84320" y="2168640"/>
                <a:ext cx="46836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84320" y="2384640"/>
                <a:ext cx="468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84320" y="26002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905120" y="1828800"/>
              <a:ext cx="15872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5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5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200" spc="-1" strike="noStrike">
                  <a:solidFill>
                    <a:srgbClr val="000000"/>
                  </a:solidFill>
                  <a:latin typeface="Times New Roman"/>
                </a:rPr>
                <a:t>Persis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66680" y="3733920"/>
            <a:ext cx="5529240" cy="3124080"/>
            <a:chOff x="1066680" y="3733920"/>
            <a:chExt cx="5529240" cy="3124080"/>
          </a:xfrm>
        </p:grpSpPr>
        <p:pic>
          <p:nvPicPr>
            <p:cNvPr id="98" name="" descr=""/>
            <p:cNvPicPr/>
            <p:nvPr/>
          </p:nvPicPr>
          <p:blipFill>
            <a:blip r:embed="rId2"/>
            <a:srcRect l="0" t="0" r="49772" b="75518"/>
            <a:stretch/>
          </p:blipFill>
          <p:spPr>
            <a:xfrm>
              <a:off x="1066680" y="3733920"/>
              <a:ext cx="552924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4346640" y="5305320"/>
              <a:ext cx="468360" cy="647640"/>
              <a:chOff x="4346640" y="5305320"/>
              <a:chExt cx="468360" cy="647640"/>
            </a:xfrm>
          </p:grpSpPr>
          <p:sp>
            <p:nvSpPr>
              <p:cNvPr id="100" name=""/>
              <p:cNvSpPr/>
              <p:nvPr/>
            </p:nvSpPr>
            <p:spPr>
              <a:xfrm>
                <a:off x="4346640" y="5305320"/>
                <a:ext cx="46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46640" y="5521320"/>
                <a:ext cx="46836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6640" y="5737320"/>
                <a:ext cx="468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46640" y="595296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267080" y="5181480"/>
              <a:ext cx="158760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5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5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200" spc="-1" strike="noStrike">
                  <a:solidFill>
                    <a:srgbClr val="000000"/>
                  </a:solidFill>
                  <a:latin typeface="Times New Roman"/>
                </a:rPr>
                <a:t>Persis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933960" y="64008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Guomin W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143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O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TA 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51437" t="36978" r="0" b="36344"/>
          <a:stretch/>
        </p:blipFill>
        <p:spPr>
          <a:xfrm>
            <a:off x="1600200" y="533520"/>
            <a:ext cx="5038560" cy="31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51631" t="36668" r="0" b="36668"/>
          <a:stretch/>
        </p:blipFill>
        <p:spPr>
          <a:xfrm>
            <a:off x="1600200" y="3619440"/>
            <a:ext cx="50673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800600" y="990720"/>
            <a:ext cx="1589040" cy="946440"/>
            <a:chOff x="4800600" y="990720"/>
            <a:chExt cx="1589040" cy="946440"/>
          </a:xfrm>
        </p:grpSpPr>
        <p:sp>
          <p:nvSpPr>
            <p:cNvPr id="110" name=""/>
            <p:cNvSpPr/>
            <p:nvPr/>
          </p:nvSpPr>
          <p:spPr>
            <a:xfrm>
              <a:off x="4883040" y="1143360"/>
              <a:ext cx="46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1371960"/>
              <a:ext cx="4683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83040" y="1600560"/>
              <a:ext cx="468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83040" y="1829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990720"/>
              <a:ext cx="15890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5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5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AU" sz="1200" spc="-1" strike="noStrike">
                  <a:solidFill>
                    <a:srgbClr val="000000"/>
                  </a:solidFill>
                  <a:latin typeface="Times New Roman"/>
                </a:rPr>
                <a:t>Persis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010280" y="12952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n Ocean Dipole Model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3960" y="64008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Guomin W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477120" y="1447920"/>
            <a:ext cx="323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OAMA15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982-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members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kill at lead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ashed: pers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50904" t="0" r="0" b="73336"/>
          <a:stretch/>
        </p:blipFill>
        <p:spPr>
          <a:xfrm>
            <a:off x="152280" y="1295280"/>
            <a:ext cx="5943600" cy="369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33960" y="64008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Guomin W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48793" b="42254"/>
          <a:stretch/>
        </p:blipFill>
        <p:spPr>
          <a:xfrm>
            <a:off x="1249200" y="1295280"/>
            <a:ext cx="410076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47953" b="42145"/>
          <a:stretch/>
        </p:blipFill>
        <p:spPr>
          <a:xfrm>
            <a:off x="5516640" y="129528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004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T Anomaly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AMA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AMA-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19035" t="97017" r="15911" b="-1131"/>
          <a:stretch/>
        </p:blipFill>
        <p:spPr>
          <a:xfrm>
            <a:off x="2286000" y="6172200"/>
            <a:ext cx="5410080" cy="330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933960" y="64008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Guomin W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1219320"/>
          <a:ext cx="519264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5192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710240" y="3200400"/>
          <a:ext cx="519264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0240" y="3200400"/>
                    <a:ext cx="5192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248520" y="1600200"/>
            <a:ext cx="2819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M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nner PO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ser    SV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609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ainfall Forecasts (POAMA-1.5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5720" y="601992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ed by Eun-Pa Lim and Harry He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1:34:26Z</dcterms:created>
  <dc:creator>Alves</dc:creator>
  <dc:description/>
  <dc:language>en-US</dc:language>
  <cp:lastModifiedBy>guw</cp:lastModifiedBy>
  <cp:lastPrinted>2004-12-07T23:24:41Z</cp:lastPrinted>
  <dcterms:modified xsi:type="dcterms:W3CDTF">2007-06-08T07:38:10Z</dcterms:modified>
  <cp:revision>394</cp:revision>
  <dc:subject/>
  <dc:title>No Slide Title</dc:title>
</cp:coreProperties>
</file>