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2825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729960"/>
            <a:ext cx="9293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0320" y="114300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0320" y="372996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992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0680" y="1143000"/>
            <a:ext cx="2992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760" y="1143000"/>
            <a:ext cx="2992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729960"/>
            <a:ext cx="2992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0680" y="3729960"/>
            <a:ext cx="2992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760" y="3729960"/>
            <a:ext cx="2992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534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0320" y="1143000"/>
            <a:ext cx="4534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14120"/>
            <a:ext cx="92757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0320" y="1143000"/>
            <a:ext cx="4534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534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0320" y="114300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0320" y="372996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0320" y="1143000"/>
            <a:ext cx="4534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9293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99760" y="6276960"/>
            <a:ext cx="18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6381720"/>
            <a:ext cx="6821640" cy="228600"/>
          </a:xfrm>
          <a:prstGeom prst="parallelogram">
            <a:avLst>
              <a:gd name="adj" fmla="val 57886"/>
            </a:avLst>
          </a:prstGeom>
          <a:solidFill>
            <a:srgbClr val="0b44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GSIP-11, Barcelona   7-8</a:t>
            </a:r>
            <a:r>
              <a:rPr b="1" lang="en-GB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06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2599"/>
              </a:lnSpc>
              <a:spcAft>
                <a:spcPts val="1001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2860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17136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75440" y="6381720"/>
            <a:ext cx="1525680" cy="2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0069"/>
                </a:solidFill>
                <a:latin typeface="Arial Black"/>
              </a:rPr>
              <a:t>Data: way forward</a:t>
            </a: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-ESSP meeting next week in Par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decide whether our ensemble definitions can become CF-approved ‘standard nam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give other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to agree data gridding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to prioritize variables to be “served”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to give APCC some volume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2599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0069"/>
                </a:solidFill>
                <a:latin typeface="Arial Black"/>
              </a:rPr>
              <a:t>The plan …</a:t>
            </a: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ed data serv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allow easy scaling as more models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s us to get off the ground with limi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s political issues / accommodates requirements of f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iginal idea: everyone serve their own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perfectly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e want to allow data producers to do deals with data centres – some regional concentrations of data may be help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0069"/>
                </a:solidFill>
                <a:latin typeface="Arial Black"/>
              </a:rPr>
              <a:t>The plan …</a:t>
            </a: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F compliant netC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a strong consensus from the scientists to use netCDF (rather than eg GR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im is to use CF compliant net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o create netCDF files contain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-model ensem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ecast data – this means we need the concepts of ensemble member number, and also a “multi-model” dimension allowing an adequate characterization of the models conce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totype implementation has been created, and is presently being used to serve ENSEMBLES seasonal data at ECMWF, via a THREDDS aggregation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metadata could be encoded in other way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0069"/>
                </a:solidFill>
                <a:latin typeface="Arial Black"/>
              </a:rPr>
              <a:t>The plan …</a:t>
            </a: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CDF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from Paco Doblas-Reyes outlines the approac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oints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_reference_time” and “forecast_period” are independent time variables, needed to cope with forecasts which overlap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“ensemble” dimension is used to distinguish the ensemble members, and is used in several auxiliary variables, which between them encode sufficient metadata to identify which integration the data come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ts val="1998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1998"/>
              </a:lnSpc>
              <a:spcAft>
                <a:spcPts val="499"/>
              </a:spcAft>
              <a:buClr>
                <a:srgbClr val="919191"/>
              </a:buClr>
              <a:buSzPct val="9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ut if you look at Paco’s document in detail, you will be able to judge better than me what are the critical points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14120"/>
            <a:ext cx="92757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0069"/>
                </a:solidFill>
                <a:latin typeface="Arial Black"/>
              </a:rPr>
              <a:t>Reference</a:t>
            </a:r>
            <a:endParaRPr b="0" lang="en-US" sz="3200" spc="-1" strike="noStrike">
              <a:solidFill>
                <a:srgbClr val="b5006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293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599"/>
              </a:lnSpc>
              <a:spcAft>
                <a:spcPts val="1001"/>
              </a:spcAft>
              <a:buClr>
                <a:srgbClr val="3365fb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www.ecmwf.int/research/EU_projects/ENSEMBLES/data/data_dissemination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0:17:32Z</dcterms:created>
  <dc:creator>Rob Hine</dc:creator>
  <dc:description/>
  <cp:keywords/>
  <dc:language>en-US</dc:language>
  <cp:lastModifiedBy>ecmwf</cp:lastModifiedBy>
  <cp:lastPrinted>2002-04-11T09:36:15Z</cp:lastPrinted>
  <dcterms:modified xsi:type="dcterms:W3CDTF">2007-06-07T18:10:42Z</dcterms:modified>
  <cp:revision>222</cp:revision>
  <dc:subject/>
  <dc:title>DB background</dc:title>
</cp:coreProperties>
</file>