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041480" y="723960"/>
            <a:ext cx="4806720" cy="36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5296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901680" y="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033-4CDB-495F-A79A-829FDE78B7C4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4400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01680" y="9144000"/>
            <a:ext cx="29862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EB3-5C5B-4115-8F72-8AE36C554541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41480" y="723960"/>
            <a:ext cx="4806720" cy="3605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5296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010201020010002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0201020010002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020102001000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01000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01102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201220122011102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1220120000002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122012001000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2012000000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02012000000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00120000002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00010200020010002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---------------------------------------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  The number of cas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ALL:    20   20   20   20   20   20   20   20   20   20   20  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EN:     4    4    4    4    6    6    4    5    3    3    3   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LN:     4    5    4    6    7    7    5    4    5    4    5   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*------------------------------------------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B7E-44E7-473D-8FDC-C19CF442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FAC-7679-4DDF-A3C4-83FDD6C0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AFD-F4B7-4629-8B4C-48D7F3E4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1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892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0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1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A24-B329-4201-AC56-8FC707E9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74D0-4556-4C7F-9724-6D6482C1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67A-83BD-4FD5-98BC-4D55B50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8159-EC3B-4DD0-A28C-C673954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3E43-3B5B-4ADE-A44D-5EC98C1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827-4E68-4231-9D95-E0A2BAE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8920" y="54900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F104-8BA8-4823-8C53-FE97F6F1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5B7-3EB5-4F28-A72B-8FE19BE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C0C-0006-4671-AAD4-786BF839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C2B9-73A8-42B5-A2A6-F21C571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440-022E-49B7-90C7-8B17958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76B-07AB-4EF6-A50C-8D445E06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A12A-AA5F-4BDE-AF2D-DF71651C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0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41280" y="1844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892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0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41280" y="39942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D75-FED4-4A90-BD78-151D4FDF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C23-197F-447F-8CC7-FE2220A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491-955A-4367-82A9-1C1ABBF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AA9-2853-467E-8514-E74EDFA6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54900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F30-445A-494F-A9D6-B7B3331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B57-DAE0-49FC-88CC-F2B84A7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39942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124-9AD9-4FFA-BC8B-374D490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844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8920" y="39942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71A-9F4F-4D56-BF24-11D0D27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A63-8365-482B-AC24-19E78389F5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049-7941-475A-BB3A-64FD6192C3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95640" y="4076640"/>
            <a:ext cx="4515120" cy="24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un Yoshimura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azuyoshi Ouchi (AESTO),</a:t>
            </a: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iromasa Yoshimura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kira Mizuta (AESTO),</a:t>
            </a: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oji Kusunoki (MRI)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kira Noda (Frontier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060640"/>
            <a:ext cx="820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 Narrow"/>
              </a:rPr>
              <a:t>Tropical cyclones in the 20km AGCM AMIP experiments</a:t>
            </a:r>
            <a:endParaRPr b="0" lang="en-US" sz="33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4724280"/>
            <a:ext cx="2016360" cy="1952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19640" y="18900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WGSIP2007_JPinput_yoshimura_AMIP_typhoon.pp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40720" y="2421000"/>
            <a:ext cx="1295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Jan-Feb-Mar,</a:t>
            </a:r>
            <a:br>
              <a:rPr sz="1000"/>
            </a:br>
            <a:r>
              <a:rPr b="0" lang="en-US" sz="1000" spc="-1" strike="noStrike">
                <a:solidFill>
                  <a:srgbClr val="00cc00"/>
                </a:solidFill>
                <a:latin typeface="Times New Roman"/>
              </a:rPr>
              <a:t>green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Apr-May-Jun,</a:t>
            </a:r>
            <a:br>
              <a:rPr sz="1000"/>
            </a:b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Jul-Aug-Sep, </a:t>
            </a:r>
            <a:br>
              <a:rPr sz="1000"/>
            </a:br>
            <a:r>
              <a:rPr b="0" lang="en-US" sz="1000" spc="-1" strike="noStrike">
                <a:solidFill>
                  <a:srgbClr val="f66c04"/>
                </a:solidFill>
                <a:latin typeface="Times New Roman"/>
              </a:rPr>
              <a:t>orange</a:t>
            </a: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Times New Roman"/>
              </a:rPr>
              <a:t>for Oct-Nov-Dec.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98100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 Narrow"/>
              </a:rPr>
              <a:t>Best tracks</a:t>
            </a:r>
            <a:br>
              <a:rPr sz="2800"/>
            </a:b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920" y="2971800"/>
            <a:ext cx="17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20-km-mesh</a:t>
            </a:r>
            <a:br>
              <a:rPr sz="2600"/>
            </a:b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AGCM</a:t>
            </a:r>
            <a:r>
              <a:rPr b="0" lang="ja-JP" sz="2600" spc="-1" strike="noStrike">
                <a:solidFill>
                  <a:srgbClr val="010000"/>
                </a:solidFill>
                <a:latin typeface="Arial Narrow"/>
              </a:rPr>
              <a:t>　</a:t>
            </a: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(AJ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440320" cy="381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9960" y="2813040"/>
            <a:ext cx="5440320" cy="3813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5520" y="4941720"/>
            <a:ext cx="17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20-km-mesh</a:t>
            </a:r>
            <a:br>
              <a:rPr sz="2600"/>
            </a:b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AGCM</a:t>
            </a:r>
            <a:r>
              <a:rPr b="0" lang="ja-JP" sz="2600" spc="-1" strike="noStrike">
                <a:solidFill>
                  <a:srgbClr val="010000"/>
                </a:solidFill>
                <a:latin typeface="Arial Narrow"/>
              </a:rPr>
              <a:t>　</a:t>
            </a:r>
            <a:r>
              <a:rPr b="0" lang="en-US" sz="2600" spc="-1" strike="noStrike">
                <a:solidFill>
                  <a:srgbClr val="010000"/>
                </a:solidFill>
                <a:latin typeface="Arial Narrow"/>
              </a:rPr>
              <a:t>(AT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om J.Yoshimur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189000"/>
            <a:ext cx="4724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Tropical cyclone track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49988"/>
          <a:stretch/>
        </p:blipFill>
        <p:spPr>
          <a:xfrm>
            <a:off x="179280" y="1844640"/>
            <a:ext cx="436572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50017" r="0" b="1369"/>
          <a:stretch/>
        </p:blipFill>
        <p:spPr>
          <a:xfrm>
            <a:off x="4572000" y="1854360"/>
            <a:ext cx="4365720" cy="302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63640" y="26028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ep-Oct-Nov.</a:t>
            </a:r>
            <a:r>
              <a:rPr b="1" lang="ja-JP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C tracks.</a:t>
            </a:r>
            <a:br>
              <a:rPr sz="2800"/>
            </a:br>
            <a:r>
              <a:rPr b="1" lang="ja-JP" sz="2800" spc="-1" strike="noStrike">
                <a:solidFill>
                  <a:srgbClr val="009999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ＭＳ Ｐゴシック"/>
              </a:rPr>
              <a:t>Strong ElNino </a:t>
            </a:r>
            <a:r>
              <a:rPr b="1" lang="en-US" sz="2800" spc="-1" strike="noStrike">
                <a:solidFill>
                  <a:srgbClr val="010000"/>
                </a:solidFill>
                <a:latin typeface="ＭＳ Ｐゴシック"/>
              </a:rPr>
              <a:t>vs.</a:t>
            </a:r>
            <a:r>
              <a:rPr b="1" lang="en-US" sz="2800" spc="-1" strike="noStrike">
                <a:solidFill>
                  <a:srgbClr val="ff3300"/>
                </a:solidFill>
                <a:latin typeface="ＭＳ Ｐゴシック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ＭＳ Ｐゴシック"/>
              </a:rPr>
              <a:t>Strong LaNin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4842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ゴシック"/>
              </a:rPr>
              <a:t>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02240" y="14749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ゴシック"/>
              </a:rPr>
              <a:t>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8211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ＭＳ Ｐゴシック"/>
              </a:rPr>
              <a:t>L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7280" y="484020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ＭＳ Ｐゴシック"/>
              </a:rPr>
              <a:t>L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573408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El Nino years and La Nina years, and green-line regions are from Wang and Chan (2002,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J.Clim.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on_ページ_1" descr=""/>
          <p:cNvPicPr/>
          <p:nvPr/>
        </p:nvPicPr>
        <p:blipFill>
          <a:blip r:embed="rId1"/>
          <a:stretch/>
        </p:blipFill>
        <p:spPr>
          <a:xfrm>
            <a:off x="650880" y="728640"/>
            <a:ext cx="3692520" cy="6129360"/>
          </a:xfrm>
          <a:prstGeom prst="rect">
            <a:avLst/>
          </a:prstGeom>
          <a:ln w="0">
            <a:noFill/>
          </a:ln>
        </p:spPr>
      </p:pic>
      <p:pic>
        <p:nvPicPr>
          <p:cNvPr id="112" name="lon_ページ_2" descr=""/>
          <p:cNvPicPr/>
          <p:nvPr/>
        </p:nvPicPr>
        <p:blipFill>
          <a:blip r:embed="rId2"/>
          <a:stretch/>
        </p:blipFill>
        <p:spPr>
          <a:xfrm>
            <a:off x="4538520" y="728640"/>
            <a:ext cx="3692520" cy="612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-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he latitudinally summed numbers of occurrence of tropical cyclones per year  </a:t>
            </a: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(1979-1998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480" y="8748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B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6436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hange in Strong Hurricanes ?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6481800" cy="267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32360" y="3789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Webster et al. (2005,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Science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6716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260960" cy="343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60600" cy="343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18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ropical cyclone frequency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s a function of peak wind intensit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213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990-2005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00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979-1989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15772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Decadal change is small.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12682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"/>
              </a:rPr>
              <a:t>NH                                SH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2:09:54Z</dcterms:created>
  <dc:creator>地球フロンティア研究システム</dc:creator>
  <dc:description/>
  <dc:language>en-US</dc:language>
  <cp:lastModifiedBy>気候２研</cp:lastModifiedBy>
  <cp:lastPrinted>2004-10-05T14:21:07Z</cp:lastPrinted>
  <dcterms:modified xsi:type="dcterms:W3CDTF">2007-06-08T05:07:29Z</dcterms:modified>
  <cp:revision>133</cp:revision>
  <dc:subject/>
  <dc:title>How Does Greenhouse Warming Affect  Tropical Cyclone Activity?</dc:title>
</cp:coreProperties>
</file>