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041480" y="723960"/>
            <a:ext cx="4806720" cy="36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5296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901680" y="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F31-6911-474B-8691-AB479A0EDA8C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4400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01680" y="914400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BF0-DCCB-4820-B857-B8B75798C115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41480" y="723960"/>
            <a:ext cx="4806720" cy="3605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5296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010201020010002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0201020010002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020102001000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01000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01102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11102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1220120000002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122012001000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2012000000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02012000000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00120000002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00020010002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---------------------------------------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  The number of cas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ALL:    20   20   20   20   20   20   20   20   20   20   20 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:     4    4    4    4    6    6    4    5    3    3    3   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LN:     4    5    4    6    7    7    5    4    5    4    5   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---------------------------------------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FB6-33A4-47B7-B165-346DD632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896-F7D0-4658-84BC-30455CF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EB7-19D4-4E68-9BB2-F189BE4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1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892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0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1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57B-8E94-4735-BF2F-3BC82D2F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F8C5-DC02-4D21-9412-FE34DA84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170-482C-4175-8532-1449717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5BB-E99C-4F42-A2D9-52DC06F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3A98-D2D5-4116-B3C8-022D0A16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84D9-9F53-47E4-95AA-42F192E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8920" y="54900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6B9-24ED-43BC-9C2D-C7AE6C11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8D40-C0C9-4F1E-B892-064E534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D2C-D021-48AD-B481-FC618E43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C45-2DE5-4AFC-8FD4-03FC85E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FFA-2E2B-445F-9D09-1C3EDD4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CC3-D6FB-46DE-9E09-09E785F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0B0-AB87-4EA4-935A-FF2F5A77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0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41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892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0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41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475C-6057-4558-86E0-EA82C88F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503-DBD8-404D-B34A-356135F7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2D6-129F-46FF-AED4-C0DB2C0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B2D-6C92-4D59-864D-E5DA940A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54900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278-3AD3-46A4-B2BF-CCDDF9E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8F6-4108-4540-87C8-5611F34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F86-166B-4C4C-926E-458B6BF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F8A-A975-4D34-88AB-30CCC55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101-FD91-4AC2-A2E1-3C182214D4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AF9-95A8-48BB-92E1-D0B8CA85C6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95640" y="4076640"/>
            <a:ext cx="4515120" cy="24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un Yoshimura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azuyoshi Ouchi (AESTO),</a:t>
            </a: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iromasa Yoshimura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kira Mizuta (AESTO),</a:t>
            </a: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oji Kusunoki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kira Noda (Frontier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060640"/>
            <a:ext cx="820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 Narrow"/>
              </a:rPr>
              <a:t>Tropical cyclones in the 20km AGCM AMIP experiments</a:t>
            </a:r>
            <a:endParaRPr b="0" lang="en-US" sz="33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2016360" cy="1952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19640" y="18900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WGSIP2007_JPinput_yoshimura_AMIP_typhoon.pp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40720" y="2421000"/>
            <a:ext cx="1295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Jan-Feb-Mar,</a:t>
            </a:r>
            <a:br>
              <a:rPr sz="1000"/>
            </a:br>
            <a:r>
              <a:rPr b="0" lang="en-US" sz="10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Apr-May-Jun,</a:t>
            </a:r>
            <a:br>
              <a:rPr sz="1000"/>
            </a:b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Jul-Aug-Sep, </a:t>
            </a:r>
            <a:br>
              <a:rPr sz="1000"/>
            </a:br>
            <a:r>
              <a:rPr b="0" lang="en-US" sz="1000" spc="-1" strike="noStrike">
                <a:solidFill>
                  <a:srgbClr val="f66c04"/>
                </a:solidFill>
                <a:latin typeface="Times New Roman"/>
              </a:rPr>
              <a:t>orange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Oct-Nov-Dec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98100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Narrow"/>
              </a:rPr>
              <a:t>Best tracks</a:t>
            </a:r>
            <a:br>
              <a:rPr sz="2800"/>
            </a:b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920" y="2971800"/>
            <a:ext cx="17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20-km-mesh</a:t>
            </a:r>
            <a:br>
              <a:rPr sz="2600"/>
            </a:b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AGCM</a:t>
            </a:r>
            <a:r>
              <a:rPr b="0" lang="ja-JP" sz="2600" spc="-1" strike="noStrike">
                <a:solidFill>
                  <a:srgbClr val="010000"/>
                </a:solidFill>
                <a:latin typeface="Arial Narrow"/>
              </a:rPr>
              <a:t>　</a:t>
            </a: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(AJ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440320" cy="381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9960" y="2813040"/>
            <a:ext cx="5440320" cy="381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520" y="4941720"/>
            <a:ext cx="17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20-km-mesh</a:t>
            </a:r>
            <a:br>
              <a:rPr sz="2600"/>
            </a:b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AGCM</a:t>
            </a:r>
            <a:r>
              <a:rPr b="0" lang="ja-JP" sz="2600" spc="-1" strike="noStrike">
                <a:solidFill>
                  <a:srgbClr val="010000"/>
                </a:solidFill>
                <a:latin typeface="Arial Narrow"/>
              </a:rPr>
              <a:t>　</a:t>
            </a: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(AT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om J.Yoshimur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189000"/>
            <a:ext cx="4724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Tropical cyclone track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9988"/>
          <a:stretch/>
        </p:blipFill>
        <p:spPr>
          <a:xfrm>
            <a:off x="179280" y="1844640"/>
            <a:ext cx="436572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50017" r="0" b="1369"/>
          <a:stretch/>
        </p:blipFill>
        <p:spPr>
          <a:xfrm>
            <a:off x="4572000" y="1854360"/>
            <a:ext cx="4365720" cy="302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63640" y="26028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ep-Oct-Nov.</a:t>
            </a:r>
            <a:r>
              <a:rPr b="1" lang="ja-JP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C tracks.</a:t>
            </a:r>
            <a:br>
              <a:rPr sz="2800"/>
            </a:br>
            <a:r>
              <a:rPr b="1" lang="ja-JP" sz="2800" spc="-1" strike="noStrike">
                <a:solidFill>
                  <a:srgbClr val="009999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ＭＳ Ｐゴシック"/>
              </a:rPr>
              <a:t>Strong ElNino </a:t>
            </a:r>
            <a:r>
              <a:rPr b="1" lang="en-US" sz="2800" spc="-1" strike="noStrike">
                <a:solidFill>
                  <a:srgbClr val="010000"/>
                </a:solidFill>
                <a:latin typeface="ＭＳ Ｐゴシック"/>
              </a:rPr>
              <a:t>vs.</a:t>
            </a:r>
            <a:r>
              <a:rPr b="1" lang="en-US" sz="2800" spc="-1" strike="noStrike">
                <a:solidFill>
                  <a:srgbClr val="ff3300"/>
                </a:solidFill>
                <a:latin typeface="ＭＳ Ｐゴシック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ＭＳ Ｐゴシック"/>
              </a:rPr>
              <a:t>Strong LaNin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ゴシック"/>
              </a:rPr>
              <a:t>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02240" y="14749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ゴシック"/>
              </a:rPr>
              <a:t>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8211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ＭＳ Ｐゴシック"/>
              </a:rPr>
              <a:t>L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7280" y="484020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ＭＳ Ｐゴシック"/>
              </a:rPr>
              <a:t>L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573408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El Nino years and La Nina years, and green-line regions are from Wang and Chan (2002,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J.Clim.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on_ページ_1" descr=""/>
          <p:cNvPicPr/>
          <p:nvPr/>
        </p:nvPicPr>
        <p:blipFill>
          <a:blip r:embed="rId1"/>
          <a:stretch/>
        </p:blipFill>
        <p:spPr>
          <a:xfrm>
            <a:off x="650880" y="728640"/>
            <a:ext cx="3692520" cy="6129360"/>
          </a:xfrm>
          <a:prstGeom prst="rect">
            <a:avLst/>
          </a:prstGeom>
          <a:ln w="0">
            <a:noFill/>
          </a:ln>
        </p:spPr>
      </p:pic>
      <p:pic>
        <p:nvPicPr>
          <p:cNvPr id="112" name="lon_ページ_2" descr=""/>
          <p:cNvPicPr/>
          <p:nvPr/>
        </p:nvPicPr>
        <p:blipFill>
          <a:blip r:embed="rId2"/>
          <a:stretch/>
        </p:blipFill>
        <p:spPr>
          <a:xfrm>
            <a:off x="4538520" y="728640"/>
            <a:ext cx="3692520" cy="612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-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he latitudinally summed numbers of occurrence of tropical cyclones per year  </a:t>
            </a: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(1979-1998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480" y="8748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6436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hange in Strong Hurricanes ?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6481800" cy="267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32360" y="3789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Webster et al. (2005,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Science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6716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260960" cy="343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60600" cy="343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18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ropical cyclone frequency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s a function of peak wind intensit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213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990-2005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00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979-1989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15772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Decadal change is small.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12682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NH                                S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2:09:54Z</dcterms:created>
  <dc:creator>地球フロンティア研究システム</dc:creator>
  <dc:description/>
  <dc:language>en-US</dc:language>
  <cp:lastModifiedBy>気候２研</cp:lastModifiedBy>
  <cp:lastPrinted>2004-10-05T14:21:07Z</cp:lastPrinted>
  <dcterms:modified xsi:type="dcterms:W3CDTF">2007-06-08T05:07:29Z</dcterms:modified>
  <cp:revision>133</cp:revision>
  <dc:subject/>
  <dc:title>How Does Greenhouse Warming Affect  Tropical Cyclone Activity?</dc:title>
</cp:coreProperties>
</file>