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5BC6-8532-44E2-BE00-FAE9ADD5C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qui inicia a seção que vamos falar da NEC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ode ler o slide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qui inicia a seção que vamos falar da NEC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ode ler o slide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qui inicia a seção que vamos falar da NEC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ode ler o slide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478E8-214E-4519-89B3-ACBD07BB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87F4-3B08-40BA-83B7-694CC15B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9982-3F61-4B0D-A9B3-EA06AC7E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1A7A-5AC7-480D-BCE8-8F301F44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51018-C50A-4F4D-A670-6F19D079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30D82-D708-4B5A-9090-35DF5472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6EAC5-F6AD-4BBE-A045-DCC85165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9E54-D9D0-405F-893D-AC0E88B2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D4B18-B74B-4C0C-AFF3-A7DC748A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5FE8-1FDA-44D2-BE5D-39D2778A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06B5-B55B-4F60-AAD1-65D6A68C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ADED-8FBD-4229-9673-31FA09ED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6D58-C049-44A3-A792-C0360CCFE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95280" y="6381720"/>
            <a:ext cx="5616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11</a:t>
            </a:r>
            <a:r>
              <a:rPr b="0" lang="en-US" sz="1400" spc="-1" strike="noStrike" baseline="30000">
                <a:solidFill>
                  <a:srgbClr val="99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 WGSIP Workshop, 7-8 June 2007, Barcelona, S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56720" y="6176880"/>
            <a:ext cx="703080" cy="565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48360" y="6323040"/>
            <a:ext cx="76212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382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sonal Climate Predictions at CPTEC-IN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6064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ulo No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Arial"/>
              </a:rPr>
              <a:t>CPTEC/IN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767040" cy="2817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36334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xperiment Design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Vegetation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3760" y="14619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4720" y="382428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100% BARE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79800" y="38242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50% SAVANNAH 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7040" y="14763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50% SAVANNAH 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7920000" y="464940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bre et al.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IPITATION ANOMA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7041" t="4800" r="18841" b="0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16280" y="1371600"/>
            <a:ext cx="358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50% SAVANNAH LARGE 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58160" y="6491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bre et al.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fall reduction over the Amazon amplified by O-A coup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1320" t="5921" r="3775" b="0"/>
          <a:stretch/>
        </p:blipFill>
        <p:spPr>
          <a:xfrm>
            <a:off x="1066680" y="1584360"/>
            <a:ext cx="6934320" cy="4892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058160" y="6491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bre et al.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azon deforestation increases ENSO-related climate var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9434" t="4504" r="3775" b="0"/>
          <a:stretch/>
        </p:blipFill>
        <p:spPr>
          <a:xfrm>
            <a:off x="853920" y="1486080"/>
            <a:ext cx="7086600" cy="5074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058160" y="6491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bre et al.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GCM Niño 3.4 SST D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1839" t="7956" r="0" b="2312"/>
          <a:stretch/>
        </p:blipFill>
        <p:spPr>
          <a:xfrm>
            <a:off x="755640" y="1413000"/>
            <a:ext cx="79930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16592" r="0" b="16706"/>
          <a:stretch/>
        </p:blipFill>
        <p:spPr>
          <a:xfrm>
            <a:off x="1763640" y="260280"/>
            <a:ext cx="5610240" cy="2808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16970" r="0" b="4334"/>
          <a:stretch/>
        </p:blipFill>
        <p:spPr>
          <a:xfrm>
            <a:off x="1763640" y="2924280"/>
            <a:ext cx="56102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4 Atlantic Meridional Transport (S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826920" y="1341360"/>
            <a:ext cx="7128000" cy="4894200"/>
            <a:chOff x="826920" y="1341360"/>
            <a:chExt cx="7128000" cy="489420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rcRect l="0" t="3735" r="0" b="0"/>
            <a:stretch/>
          </p:blipFill>
          <p:spPr>
            <a:xfrm>
              <a:off x="826920" y="1341360"/>
              <a:ext cx="7128000" cy="48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833640" y="316260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42440" y="271836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82920" y="495432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AB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85560" y="1820880"/>
              <a:ext cx="79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AI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8480" y="1143000"/>
            <a:ext cx="7008840" cy="501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  <a:ea typeface="Arial"/>
              </a:rPr>
              <a:t>Ventilation of the EU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1000" y="6124680"/>
            <a:ext cx="33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dapted from Schott et al. (TACE white pap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902160"/>
            <a:ext cx="7067160" cy="5497920"/>
            <a:chOff x="228600" y="902160"/>
            <a:chExt cx="7067160" cy="5497920"/>
          </a:xfrm>
        </p:grpSpPr>
        <p:grpSp>
          <p:nvGrpSpPr>
            <p:cNvPr id="135" name=""/>
            <p:cNvGrpSpPr/>
            <p:nvPr/>
          </p:nvGrpSpPr>
          <p:grpSpPr>
            <a:xfrm>
              <a:off x="3288600" y="902160"/>
              <a:ext cx="4007160" cy="5168880"/>
              <a:chOff x="3288600" y="902160"/>
              <a:chExt cx="4007160" cy="5168880"/>
            </a:xfrm>
          </p:grpSpPr>
          <p:sp>
            <p:nvSpPr>
              <p:cNvPr id="136" name=""/>
              <p:cNvSpPr/>
              <p:nvPr/>
            </p:nvSpPr>
            <p:spPr>
              <a:xfrm rot="19500000">
                <a:off x="3361320" y="1362240"/>
                <a:ext cx="1871280" cy="843840"/>
              </a:xfrm>
              <a:prstGeom prst="ellipse">
                <a:avLst/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500000">
                <a:off x="5333760" y="4871160"/>
                <a:ext cx="1871280" cy="843840"/>
              </a:xfrm>
              <a:prstGeom prst="ellipse">
                <a:avLst/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28600" y="2286000"/>
              <a:ext cx="5949360" cy="4114080"/>
              <a:chOff x="228600" y="2286000"/>
              <a:chExt cx="5949360" cy="4114080"/>
            </a:xfrm>
          </p:grpSpPr>
          <p:sp>
            <p:nvSpPr>
              <p:cNvPr id="139" name=""/>
              <p:cNvSpPr/>
              <p:nvPr/>
            </p:nvSpPr>
            <p:spPr>
              <a:xfrm flipH="1">
                <a:off x="2048400" y="2286000"/>
                <a:ext cx="2072520" cy="3428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505960" y="5028840"/>
                <a:ext cx="3672000" cy="9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8600" y="5714640"/>
                <a:ext cx="2285280" cy="68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Diferent origins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2949480" y="6051600"/>
            <a:ext cx="2220840" cy="699480"/>
            <a:chOff x="2949480" y="6051600"/>
            <a:chExt cx="2220840" cy="699480"/>
          </a:xfrm>
        </p:grpSpPr>
        <p:sp>
          <p:nvSpPr>
            <p:cNvPr id="143" name=""/>
            <p:cNvSpPr/>
            <p:nvPr/>
          </p:nvSpPr>
          <p:spPr>
            <a:xfrm>
              <a:off x="2949480" y="6165720"/>
              <a:ext cx="152640" cy="763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c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49480" y="6369120"/>
              <a:ext cx="152640" cy="759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49480" y="6572160"/>
              <a:ext cx="152640" cy="76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076560" y="6051600"/>
              <a:ext cx="2093760" cy="699480"/>
              <a:chOff x="3076560" y="6051600"/>
              <a:chExt cx="2093760" cy="6994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84480" y="6051600"/>
                <a:ext cx="2085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C subduction reg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82680" y="6253920"/>
                <a:ext cx="1587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pwelling reg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076560" y="6444000"/>
                <a:ext cx="199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kman transports (Me)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  <a:ea typeface="Arial"/>
              </a:rPr>
              <a:t>Lagrangian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ce back particles from the EUC at 20W to the deepest mixed layer depth (De Vries &amp; Döös 2001, Hazeleger &amp; al. 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inguish between parcels from T &gt; 20C and T &lt;= 20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716280" y="3200400"/>
            <a:ext cx="5199120" cy="3666960"/>
            <a:chOff x="3716280" y="3200400"/>
            <a:chExt cx="5199120" cy="366696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3716280" y="3200400"/>
              <a:ext cx="5199120" cy="36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485680" y="5742000"/>
              <a:ext cx="15994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1.7 S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operational r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O, RAS, GRELL, DE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ST SSTA, PRESCRIBED S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Members each: 120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months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CM – seasonal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062L28, 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ember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months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CM – extended 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126L28, R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embers per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  <a:ea typeface="Arial"/>
              </a:rPr>
              <a:t>EUC vent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70040" y="949320"/>
            <a:ext cx="7605720" cy="5613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70040" y="949320"/>
            <a:ext cx="7605720" cy="5613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29000" y="162864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.9 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82904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7.8 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205740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0.04 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525780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1.8 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8137800" cy="59072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atarina Tropical Storm Hits Brazil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6 March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extreme events become more frequent in a warmer cl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5561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493680" y="640080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ww.hadleycent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aluation of CGCM.1.0 climatology &amp; FCST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88928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CM: CPTEC.1.0 RAS T062L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CM: MOM3, 40S-40N, ¼ x ¼ deep tropics, L20, rigid l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size: 10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each month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on length: 7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integration: 1982 -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os IC: NCEP re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 IC: Restart files from OGCM forced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velopment of CPTEC’s CGCM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C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TEC.2.0 MPI, T126L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, Grell deep cumulus conv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llow cumulus convection (diurnal cycle related…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solar radiation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C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4, Global, 1/8 x 1/8 tropics, L50, free sfc, fresh water flu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 i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4’s FSM cou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computer with 1000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(W1)"/>
              </a:rPr>
              <a:t>CPTEC’s Coupled GC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39536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5029200"/>
            <a:ext cx="1219320" cy="6858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4275000"/>
            <a:ext cx="914400" cy="411480"/>
          </a:xfrm>
          <a:prstGeom prst="flowChartOnlineStorag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au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4686480"/>
            <a:ext cx="228600" cy="342720"/>
          </a:xfrm>
          <a:prstGeom prst="downArrow">
            <a:avLst>
              <a:gd name="adj1" fmla="val 50000"/>
              <a:gd name="adj2" fmla="val 3748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743200" y="2314440"/>
            <a:ext cx="685800" cy="2879640"/>
            <a:chOff x="2743200" y="2314440"/>
            <a:chExt cx="685800" cy="2879640"/>
          </a:xfrm>
        </p:grpSpPr>
        <p:sp>
          <p:nvSpPr>
            <p:cNvPr id="64" name=""/>
            <p:cNvSpPr/>
            <p:nvPr/>
          </p:nvSpPr>
          <p:spPr>
            <a:xfrm>
              <a:off x="2819520" y="4943160"/>
              <a:ext cx="533160" cy="25092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62640 h 250920"/>
                <a:gd name="textAreaBottom" fmla="*/ 188280 h 2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43200" y="2314440"/>
              <a:ext cx="685800" cy="20628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51480 h 206280"/>
                <a:gd name="textAreaBottom" fmla="*/ 15480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581280" y="981000"/>
            <a:ext cx="0" cy="506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5962680"/>
            <a:ext cx="76212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2322360"/>
            <a:ext cx="457200" cy="204840"/>
          </a:xfrm>
          <a:custGeom>
            <a:avLst/>
            <a:gdLst>
              <a:gd name="textAreaLeft" fmla="*/ 71280 w 457200"/>
              <a:gd name="textAreaRight" fmla="*/ 400320 w 457200"/>
              <a:gd name="textAreaTop" fmla="*/ 51120 h 204840"/>
              <a:gd name="textAreaBottom" fmla="*/ 153720 h 204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943520"/>
            <a:ext cx="533520" cy="258840"/>
          </a:xfrm>
          <a:custGeom>
            <a:avLst/>
            <a:gdLst>
              <a:gd name="textAreaLeft" fmla="*/ 83160 w 533520"/>
              <a:gd name="textAreaRight" fmla="*/ 466920 w 533520"/>
              <a:gd name="textAreaTop" fmla="*/ 64800 h 258840"/>
              <a:gd name="textAreaBottom" fmla="*/ 194400 h 258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3716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upled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2637000"/>
            <a:ext cx="1981080" cy="204480"/>
          </a:xfrm>
          <a:prstGeom prst="rightArrow">
            <a:avLst>
              <a:gd name="adj1" fmla="val 50000"/>
              <a:gd name="adj2" fmla="val 24221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34320" y="2498760"/>
            <a:ext cx="990360" cy="1098360"/>
          </a:xfrm>
          <a:prstGeom prst="flowChartMultidocumen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t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C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5105520"/>
            <a:ext cx="1314360" cy="771480"/>
          </a:xfrm>
          <a:prstGeom prst="flowChartPreparation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lu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886200" y="3048120"/>
            <a:ext cx="1066680" cy="2125440"/>
            <a:chOff x="3886200" y="3048120"/>
            <a:chExt cx="1066680" cy="2125440"/>
          </a:xfrm>
        </p:grpSpPr>
        <p:sp>
          <p:nvSpPr>
            <p:cNvPr id="75" name=""/>
            <p:cNvSpPr/>
            <p:nvPr/>
          </p:nvSpPr>
          <p:spPr>
            <a:xfrm flipV="1">
              <a:off x="4343400" y="4762440"/>
              <a:ext cx="228600" cy="411120"/>
            </a:xfrm>
            <a:prstGeom prst="downArrow">
              <a:avLst>
                <a:gd name="adj1" fmla="val 50000"/>
                <a:gd name="adj2" fmla="val 44961"/>
              </a:avLst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6200" y="4282920"/>
              <a:ext cx="1066680" cy="615960"/>
            </a:xfrm>
            <a:prstGeom prst="flowChartPreparation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343400" y="3048120"/>
              <a:ext cx="228600" cy="1303200"/>
            </a:xfrm>
            <a:prstGeom prst="downArrow">
              <a:avLst>
                <a:gd name="adj1" fmla="val 50000"/>
                <a:gd name="adj2" fmla="val 14252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3333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886200" y="5105520"/>
            <a:ext cx="1143000" cy="6858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2362320"/>
            <a:ext cx="1143000" cy="7538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3505320"/>
            <a:ext cx="228600" cy="1646280"/>
          </a:xfrm>
          <a:prstGeom prst="downArrow">
            <a:avLst>
              <a:gd name="adj1" fmla="val 50000"/>
              <a:gd name="adj2" fmla="val 1800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52880" y="4876920"/>
            <a:ext cx="1981440" cy="639720"/>
            <a:chOff x="4952880" y="4876920"/>
            <a:chExt cx="1981440" cy="639720"/>
          </a:xfrm>
        </p:grpSpPr>
        <p:sp>
          <p:nvSpPr>
            <p:cNvPr id="82" name=""/>
            <p:cNvSpPr/>
            <p:nvPr/>
          </p:nvSpPr>
          <p:spPr>
            <a:xfrm flipH="1">
              <a:off x="4952880" y="5311800"/>
              <a:ext cx="1981440" cy="204840"/>
            </a:xfrm>
            <a:custGeom>
              <a:avLst/>
              <a:gdLst>
                <a:gd name="textAreaLeft" fmla="*/ 309600 w 1981440"/>
                <a:gd name="textAreaRight" fmla="*/ 1733760 w 1981440"/>
                <a:gd name="textAreaTop" fmla="*/ 51120 h 204840"/>
                <a:gd name="textAreaBottom" fmla="*/ 1537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8680" y="487692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ai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600200" y="2170080"/>
            <a:ext cx="1388880" cy="877680"/>
            <a:chOff x="1600200" y="2170080"/>
            <a:chExt cx="1388880" cy="877680"/>
          </a:xfrm>
        </p:grpSpPr>
        <p:sp>
          <p:nvSpPr>
            <p:cNvPr id="85" name=""/>
            <p:cNvSpPr/>
            <p:nvPr/>
          </p:nvSpPr>
          <p:spPr>
            <a:xfrm>
              <a:off x="1846080" y="2170080"/>
              <a:ext cx="1143000" cy="75384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CE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60400" y="2212920"/>
              <a:ext cx="1143000" cy="75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CE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2920" y="2251080"/>
              <a:ext cx="1143000" cy="75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CE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00200" y="2293920"/>
              <a:ext cx="1143000" cy="75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CE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7240" y="777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GCM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4722" t="35383" r="3540" b="43689"/>
          <a:stretch/>
        </p:blipFill>
        <p:spPr>
          <a:xfrm>
            <a:off x="431640" y="2492280"/>
            <a:ext cx="8388360" cy="2708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080080" y="249228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igh Res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on Lat Tropical Atlan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J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pi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eca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y cor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5120" y="1351080"/>
            <a:ext cx="5562360" cy="5506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414920" y="6521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Nobre et al. (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39600"/>
            <a:ext cx="806436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95480" y="549360"/>
            <a:ext cx="5384880" cy="2684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520848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4:08:14Z</dcterms:created>
  <dc:creator>Paulo Nobre</dc:creator>
  <dc:description/>
  <dc:language>en-US</dc:language>
  <cp:lastModifiedBy>Paulo Nobre</cp:lastModifiedBy>
  <dcterms:modified xsi:type="dcterms:W3CDTF">2007-06-08T14:41:31Z</dcterms:modified>
  <cp:revision>42</cp:revision>
  <dc:subject/>
  <dc:title>Grupo de Modelagem Acoplada Oceano-Atmosfera</dc:title>
</cp:coreProperties>
</file>