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52DCB-0E94-4A60-A032-FC66F1A4BEA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50EE-3ABA-4FFC-B98E-B69B728EA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0920" y="373860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348A-777F-4304-9581-C28E16906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ED17-3D69-441C-A481-ED3CB00BE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556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092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556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4507-2E6D-4779-AAAB-00CD669DE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640" y="259920"/>
            <a:ext cx="72691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A9EE-D689-4B04-906C-26FB94ECF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373860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24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556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24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556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D98C-2E84-4403-9513-4E2BF22B3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7BFD-82C9-4980-B3A2-04A027867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76AB-5B84-474B-A771-D0F11CE53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259920"/>
            <a:ext cx="72691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0A0D-8C2C-4B3C-8EDA-D301E806D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B4F3-3AE4-454E-8F63-FBF957E78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CD62-3D22-4B42-9EDA-FFAB67616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D196-7AD2-4BCE-9FF6-E6A14E157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68000" y="64533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69080" y="-360"/>
            <a:ext cx="571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98AFF0-BD33-4167-A501-951C26475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08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celona, 4-8 Jun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162864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60451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678168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Conclusions of the WGNE/PCMDI systematic errors workshop </a:t>
            </a:r>
            <a:br>
              <a:rPr sz="36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hel Déqué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étéo-France, Toulous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71400"/>
            <a:ext cx="792180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Held on February 12-16, 2007, San Francisco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hird workshop organized by WCRP-CAS working group on numerical experi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After Toronto (1988) and Melbourne (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heme: how to identify and possibly correct biases in atmospheric and ocean atmospher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6391-3703-44BB-A653-A1F024FA1C4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Scope of the mee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examine systematic errors in operational NWP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nvestigate the potential of systematic error reduction in seasonal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evaluate the coupled AOGCMs in the IPCC-AR4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he role of the ocean, and particularly the tropical Pacific received a special attention (item 2 and 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Given the implication of the local organizer in IPCC-AR4, item 3 represented about 2/3 of the contributions</a:t>
            </a:r>
            <a:r>
              <a:rPr b="0" lang="en-GB" sz="2000" spc="-1" strike="noStrike">
                <a:solidFill>
                  <a:srgbClr val="000081"/>
                </a:solidFill>
                <a:latin typeface="Arial"/>
                <a:ea typeface="BAAAAA+ArialMT"/>
              </a:rPr>
              <a:t>.</a:t>
            </a:r>
            <a:r>
              <a:rPr b="0" lang="en-GB" sz="2000" spc="-1" strike="noStrike">
                <a:solidFill>
                  <a:srgbClr val="000081"/>
                </a:solidFill>
                <a:latin typeface="BAAAAA+ArialMT"/>
                <a:ea typeface="BAAAAA+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AEDB-FAD2-4BE8-8FA0-16A5CDB054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6920" indent="-37692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n numerical seasonal forecasting, refinements in the model led sometimes to improved climate (bias decrease) and sometimes to improved scores (correlation increase). But it is much more frequent to get a double degradation than to get a double impro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wo approaches were presented at the mee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enhancing the horizontal resolu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reducing SST bias via two-tier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reducing atmospheric bias by carefully evaluating initial tendency err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tem 1: improvements in some aspects of the bias or some scores are obtained, but degradations are observed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tems 2 and 3: the scores are marginally affected, although the biases are significantly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807C-5D76-4875-BECE-56C94DEC11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2514600"/>
            <a:ext cx="79214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PCC modellers should tune separately the atmospheric and oceanic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he first tests in coupled mode should use a validation technique close to seasonal forec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E268-9FAE-43D7-B864-F880DB1976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6040" y="292860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No plans for printed proceed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Oral presentations, posters, reports from the scientific organizing committee and working groups very soon on line at </a:t>
            </a:r>
            <a:r>
              <a:rPr b="1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www-pcmdi.llnl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61AE-48E7-4179-AC85-9AFF94F1256E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que</cp:lastModifiedBy>
  <dcterms:modified xsi:type="dcterms:W3CDTF">2007-06-07T16:46:42Z</dcterms:modified>
  <cp:revision>4</cp:revision>
  <dc:subject/>
  <dc:title>Masque de titre</dc:title>
</cp:coreProperties>
</file>