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1D1DB-D6F2-4528-A029-A31D689B9702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E23EC-7280-4F86-9DF2-1CD7C8091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91820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0920" y="3738600"/>
            <a:ext cx="791820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797F3-AB4D-48CB-9123-A48CFAD55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0920" y="373860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3860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CDF0A-9736-4EF9-8DC6-35F0A1A94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240" y="155736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5560" y="155736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0920" y="373860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240" y="373860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5560" y="373860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D83DC-B6AD-45A7-8F62-84BAB6AA6D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557360"/>
            <a:ext cx="791820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9182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8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557360"/>
            <a:ext cx="38638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640" y="259920"/>
            <a:ext cx="72691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57360"/>
            <a:ext cx="38638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373860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0920" y="1557360"/>
            <a:ext cx="791820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A8C48-8C5D-4FD1-833F-03C536DFF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8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73860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3738600"/>
            <a:ext cx="791820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91820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3738600"/>
            <a:ext cx="791820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373860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73860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8240" y="155736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5560" y="155736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373860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8240" y="373860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5560" y="3738600"/>
            <a:ext cx="25495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9182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36CD-39AC-4CE1-882C-22C918C56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8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57360"/>
            <a:ext cx="38638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C8A18-45C6-4CBB-B72E-54888670F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F4080-3E26-4F7D-9663-67A28F000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259920"/>
            <a:ext cx="72691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B9D98-5F84-4B10-BF0D-053C25D96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57360"/>
            <a:ext cx="38638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0920" y="373860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544F1-7AF8-4ED6-85C6-D6F824103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8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3860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01B04-8359-4D55-81EF-133B85E56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57360"/>
            <a:ext cx="386388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0920" y="3738600"/>
            <a:ext cx="791820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25657-115C-454C-B908-023F37AE5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69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557360"/>
            <a:ext cx="79182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-26676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5560" indent="-2667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5560" indent="-2667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68000" y="645336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569080" y="-360"/>
            <a:ext cx="5713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C4AF41-F533-4532-8BB4-AE1EB2FAE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08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rcelona, 4-8 June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1628640"/>
            <a:ext cx="61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60451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057400"/>
            <a:ext cx="678168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Conclusions of the WGNE/PCMDI systematic errors workshop </a:t>
            </a:r>
            <a:br>
              <a:rPr sz="36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hel Déqué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étéo-France, Toulous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2723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471400"/>
            <a:ext cx="792180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Held on February 12-16, 2007, San Francisco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Third workshop organized by WCRP-CAS working group on numerical experi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After Toronto (1988) and Melbourne (200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Theme: how to identify and possibly correct biases in atmospheric and ocean atmospher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7EFA-D754-402F-968E-99D982B6C60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2723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Scope of the meet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spcBef>
                <a:spcPts val="451"/>
              </a:spcBef>
              <a:buClr>
                <a:srgbClr val="2d82ff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examine systematic errors in operational NWP mod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spcBef>
                <a:spcPts val="451"/>
              </a:spcBef>
              <a:buClr>
                <a:srgbClr val="2d82ff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investigate the potential of systematic error reduction in seasonal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spcBef>
                <a:spcPts val="451"/>
              </a:spcBef>
              <a:buClr>
                <a:srgbClr val="2d82ff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evaluate the coupled AOGCMs in the IPCC-AR4 exer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The role of the ocean, and particularly the tropical Pacific received a special attention (item 2 and 3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Given the implication of the local organizer in IPCC-AR4, item 3 represented about 2/3 of the contributions</a:t>
            </a:r>
            <a:r>
              <a:rPr b="0" lang="en-GB" sz="2000" spc="-1" strike="noStrike">
                <a:solidFill>
                  <a:srgbClr val="000081"/>
                </a:solidFill>
                <a:latin typeface="Arial"/>
                <a:ea typeface="BAAAAA+ArialMT"/>
              </a:rPr>
              <a:t>.</a:t>
            </a:r>
            <a:r>
              <a:rPr b="0" lang="en-GB" sz="2000" spc="-1" strike="noStrike">
                <a:solidFill>
                  <a:srgbClr val="000081"/>
                </a:solidFill>
                <a:latin typeface="BAAAAA+ArialMT"/>
                <a:ea typeface="BAAAAA+Arial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5A124-0960-4689-8A83-8C2F593FE10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2723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6920" indent="-37692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In numerical seasonal forecasting, refinements in the model led sometimes to improved climate (bias decrease) and sometimes to improved scores (correlation increase). But it is much more frequent to get a double degradation than to get a double improv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Two approaches were presented at the meet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3000"/>
              </a:lnSpc>
              <a:spcBef>
                <a:spcPts val="451"/>
              </a:spcBef>
              <a:buClr>
                <a:srgbClr val="2d82ff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enhancing the horizontal resolu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3000"/>
              </a:lnSpc>
              <a:spcBef>
                <a:spcPts val="451"/>
              </a:spcBef>
              <a:buClr>
                <a:srgbClr val="2d82ff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reducing SST bias via two-tier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3000"/>
              </a:lnSpc>
              <a:spcBef>
                <a:spcPts val="451"/>
              </a:spcBef>
              <a:buClr>
                <a:srgbClr val="2d82ff"/>
              </a:buClr>
              <a:buFont typeface="Arial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reducing atmospheric bias by carefully evaluating initial tendency err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Item 1: improvements in some aspects of the bias or some scores are obtained, but degradations are observed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Items 2 and 3: the scores are marginally affected, although the biases are significantly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DFCA-B511-4566-9A37-4CD07064732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2723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2514600"/>
            <a:ext cx="79214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IPCC modellers should tune separately the atmospheric and oceanic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The first tests in coupled mode should use a validation technique close to seasonal forec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4182-2530-4BE6-832B-8654B8014CB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2723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6040" y="2928600"/>
            <a:ext cx="792180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AAAAA+ArialMT"/>
                <a:ea typeface="BAAAAA+ArialMT"/>
              </a:rPr>
              <a:t>No plans for printed proceeding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AAAAA+ArialMT"/>
                <a:ea typeface="BAAAAA+ArialMT"/>
              </a:rPr>
              <a:t>Oral presentations, posters, reports from the scientific organizing committee and working groups very soon on line at </a:t>
            </a:r>
            <a:r>
              <a:rPr b="1" lang="en-GB" sz="2000" spc="-1" strike="noStrike">
                <a:solidFill>
                  <a:srgbClr val="000000"/>
                </a:solidFill>
                <a:latin typeface="BAAAAA+ArialMT"/>
                <a:ea typeface="BAAAAA+ArialMT"/>
              </a:rPr>
              <a:t>www-pcmdi.llnl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2F41B-D7DD-436C-A2DB-67524046E6B2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que</cp:lastModifiedBy>
  <dcterms:modified xsi:type="dcterms:W3CDTF">2007-06-07T16:46:42Z</dcterms:modified>
  <cp:revision>4</cp:revision>
  <dc:subject/>
  <dc:title>Masque de titre</dc:title>
</cp:coreProperties>
</file>