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4B8F-0473-42F1-B770-D79EFAB47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days with 4mm or more recorded prec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D906-93F5-4670-B76F-7A9F6956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CDFB-F3C6-4B02-81AC-E7031ED4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FF2A-ECEF-4984-9924-41D8B7A4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D5FB-1279-497C-92F0-E6C26FC0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083B-0276-4EBD-B340-F0E13696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CAB3-BFA9-44AC-8167-C0E991D9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3D1C-F304-4824-BD98-732F2F50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990-BAAC-4794-AA41-C2CC3490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DD95-6EC1-45B2-A793-496FB2BB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D2F4-396A-4983-A606-6A835FE8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F3BE-52C0-4F5E-A264-842BFA29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DE7-22F9-4C10-AA6C-793A11E9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1C8D-1855-49C8-9436-239DD2F41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Recent S/I Prediction Activities at I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velopment Path for Next Couple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GCM- ECHAM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Ocean 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23"/>
                </a:solidFill>
                <a:latin typeface="Arial"/>
              </a:rPr>
              <a:t>MOM4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23"/>
                </a:solidFill>
                <a:latin typeface="Arial"/>
              </a:rPr>
              <a:t>Postdoc (Galant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23"/>
                </a:solidFill>
                <a:latin typeface="Arial"/>
              </a:rPr>
              <a:t>New postdoc (to be hi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23"/>
                </a:solidFill>
                <a:latin typeface="Arial"/>
              </a:rPr>
              <a:t>KKZ – Multi-mode reduced gravit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23"/>
                </a:solidFill>
                <a:latin typeface="Arial"/>
              </a:rPr>
              <a:t>LDEO (State Dependent Bias Corrected Mod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223"/>
                </a:solidFill>
                <a:latin typeface="Arial"/>
              </a:rPr>
              <a:t>CZ(K)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223"/>
                </a:solidFill>
                <a:latin typeface="Arial"/>
              </a:rPr>
              <a:t>INC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223"/>
                </a:solidFill>
                <a:latin typeface="Arial"/>
              </a:rPr>
              <a:t>MOM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23"/>
                </a:solidFill>
                <a:latin typeface="Arial"/>
              </a:rPr>
              <a:t>Thermodynamic Ocean Models (Donna L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Enhanced Predictive Skill by Selective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ong Eun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avid DeWi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1262160"/>
            <a:ext cx="3519360" cy="4529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19720" y="1295280"/>
            <a:ext cx="3601800" cy="4467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446200" y="5867280"/>
            <a:ext cx="4259520" cy="265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81480" y="914400"/>
            <a:ext cx="25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Schbook Mono BT"/>
              </a:rPr>
              <a:t>NCEP/NCAR Re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838080"/>
            <a:ext cx="253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Schbook Mono BT"/>
              </a:rPr>
              <a:t>Ensemble mean ECHA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Schbook Mono BT"/>
              </a:rPr>
              <a:t>1</a:t>
            </a:r>
            <a:r>
              <a:rPr b="0" lang="en-US" sz="1300" spc="-1" strike="noStrike" baseline="30000">
                <a:solidFill>
                  <a:srgbClr val="000000"/>
                </a:solidFill>
                <a:latin typeface="CentSchbook Mono BT"/>
              </a:rPr>
              <a:t>st</a:t>
            </a:r>
            <a:r>
              <a:rPr b="0" lang="en-US" sz="1300" spc="-1" strike="noStrike">
                <a:solidFill>
                  <a:srgbClr val="000000"/>
                </a:solidFill>
                <a:latin typeface="CentSchbook Mono BT"/>
              </a:rPr>
              <a:t> month lead foreca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28720" y="26676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Schbook Mono BT"/>
              </a:rPr>
              <a:t>Feedback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86440" y="6183360"/>
            <a:ext cx="90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W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489040" y="990720"/>
            <a:ext cx="436896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Book Antiqua"/>
              </a:rPr>
              <a:t>ECHAM forecast 24 ensemble</a:t>
            </a:r>
            <a:r>
              <a:rPr b="1" lang="en-US" sz="2000" spc="-1" strike="noStrike">
                <a:solidFill>
                  <a:srgbClr val="0099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5200560"/>
            <a:ext cx="6705360" cy="131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Ocean Mixed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ixed MLD at mean annual cycle (Levitus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matological dynamics through flux correction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124080"/>
            <a:ext cx="5689440" cy="971640"/>
          </a:xfrm>
          <a:prstGeom prst="rect">
            <a:avLst/>
          </a:prstGeom>
          <a:solidFill>
            <a:srgbClr val="ffcc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eager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411480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4114800"/>
            <a:ext cx="0" cy="10857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35120" y="4503600"/>
            <a:ext cx="5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441972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atent, sensible heat flu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nd long wave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2" idx="2"/>
            <a:endCxn id="94" idx="0"/>
          </p:cNvCxnSpPr>
          <p:nvPr/>
        </p:nvCxnSpPr>
        <p:spPr>
          <a:xfrm flipH="1" rot="16200000">
            <a:off x="3949560" y="2323800"/>
            <a:ext cx="1524600" cy="76680"/>
          </a:xfrm>
          <a:prstGeom prst="bentConnector3">
            <a:avLst>
              <a:gd name="adj1" fmla="val 50000"/>
            </a:avLst>
          </a:prstGeom>
          <a:ln w="63360">
            <a:solidFill>
              <a:srgbClr val="808080"/>
            </a:solidFill>
            <a:miter/>
            <a:tailEnd len="med" type="triangle" w="lg"/>
          </a:ln>
        </p:spPr>
      </p:cxnSp>
      <p:sp>
        <p:nvSpPr>
          <p:cNvPr id="100" name=""/>
          <p:cNvSpPr/>
          <p:nvPr/>
        </p:nvSpPr>
        <p:spPr>
          <a:xfrm>
            <a:off x="3129120" y="2114640"/>
            <a:ext cx="36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urface wind velocit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loud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49320" y="285840"/>
            <a:ext cx="5591160" cy="4597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ff-line SST predic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3" idx="1"/>
            <a:endCxn id="92" idx="1"/>
          </p:cNvCxnSpPr>
          <p:nvPr/>
        </p:nvCxnSpPr>
        <p:spPr>
          <a:xfrm flipH="1" rot="10800000">
            <a:off x="1675440" y="1294560"/>
            <a:ext cx="813240" cy="4563360"/>
          </a:xfrm>
          <a:prstGeom prst="bentConnector3">
            <a:avLst>
              <a:gd name="adj1" fmla="val -115013"/>
            </a:avLst>
          </a:prstGeom>
          <a:ln w="8892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0" y="24382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wind st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or Ekman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1600" y="720720"/>
            <a:ext cx="3656160" cy="5483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76920" y="685800"/>
            <a:ext cx="3519360" cy="5442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11680" y="960480"/>
            <a:ext cx="106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Schbook Mono BT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CentSchbook Mono BT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CentSchbook Mono BT"/>
              </a:rPr>
              <a:t> mon L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9604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Book Antiqua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 mon </a:t>
            </a:r>
            <a:r>
              <a:rPr b="0" lang="en-US" sz="1000" spc="-1" strike="noStrike">
                <a:solidFill>
                  <a:srgbClr val="000000"/>
                </a:solidFill>
                <a:latin typeface="CentSchbook Mono BT"/>
              </a:rPr>
              <a:t>L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6560" y="533520"/>
            <a:ext cx="601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Schbook Mono BT"/>
              </a:rPr>
              <a:t>Seager heat 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IRI Climate Predictability Tool (C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imon M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at is C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1880" y="6095880"/>
            <a:ext cx="684360" cy="685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Predictability Tool (CPT) is an easy-to-use Windows-based software package for making downscaled seasonal climate forec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96960" y="3211560"/>
            <a:ext cx="3341520" cy="3341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48320" y="3124080"/>
            <a:ext cx="3809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uns on Windows 95+. A source code version, which has no GUI or any of the graphics capabilities, is available for other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at is C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1880" y="6095880"/>
            <a:ext cx="684360" cy="685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lly, CPT is designed to produce statistical forecasts of seasonal climate using either the output from a GCM, or fields of sea-surface temper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3429000"/>
            <a:ext cx="2743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gram provides extensive tests indicating forecast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24221" t="33889" r="32668" b="28334"/>
          <a:stretch/>
        </p:blipFill>
        <p:spPr>
          <a:xfrm>
            <a:off x="685800" y="3200400"/>
            <a:ext cx="47242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omparison of Coupled and Uncoupled Simulations on Simulation of Indian Monsoon Precip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ndrew Robert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Vincent M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vid DeWi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79200" y="6134040"/>
            <a:ext cx="91342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correlations (%) with CPC GSOD daily rainfall amount 1980–200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01840" y="2653200"/>
            <a:ext cx="1192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coupl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911160" y="723960"/>
            <a:ext cx="5465520" cy="7072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303720" y="723960"/>
            <a:ext cx="5465520" cy="7072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06680" y="2653200"/>
            <a:ext cx="15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uncoupl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089920" cy="17146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ffect of Coupling on Simulated Indian Summer Monso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8960" y="159840"/>
            <a:ext cx="80913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ffect of Coupling on Simulated Indian Summer Monso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153120"/>
            <a:ext cx="91346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correlations (%) with CPC GSOD 1980–200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01840" y="2653200"/>
            <a:ext cx="1192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coupl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6680" y="2653200"/>
            <a:ext cx="15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uncoupl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1680" y="1850040"/>
            <a:ext cx="4109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ff1c00"/>
                </a:solidFill>
                <a:latin typeface="Gill Sans"/>
              </a:rPr>
              <a:t>obs daily rainfall frequenc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803160" y="803160"/>
            <a:ext cx="5464080" cy="7072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268800" y="803160"/>
            <a:ext cx="5464080" cy="707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GCM-Based Coupled Modeling at IR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itial Coupled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CHAM4.5-MOM3 Fully Coup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LA (Kirtman, Min) Provides ODA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ocumented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chneider et al. (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eWitt (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eWitt (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eWitt, Goddard, Li (In Prepa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ssues with Initial Forecas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DA and OGCM are run at 2 different re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DA has large salinity drift due to mistreatment of fresh water flu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DA system not parallel and historic records are not set up for operational u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ot apparent that direct coupling is best approach despite fact that it is methodology employed by all operational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pen question whether OGCM based systems are best tool to use for S/I fore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omputationally 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Large systematic errors even in ocean only integrations (diffuse thermoc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5:38:50Z</dcterms:created>
  <dc:creator>ousmane</dc:creator>
  <dc:description/>
  <dc:language>en-US</dc:language>
  <cp:lastModifiedBy> David G. DeWitt</cp:lastModifiedBy>
  <dcterms:modified xsi:type="dcterms:W3CDTF">2006-02-14T20:01:18Z</dcterms:modified>
  <cp:revision>14</cp:revision>
  <dc:subject/>
  <dc:title>GCM rainfall vs GCM wind MOS correction 1968-03</dc:title>
</cp:coreProperties>
</file>