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A26F-A82A-4F5E-9776-CE96FEFDC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left for each set of 8 plots is observational estimates from IOSST and Upper right for each set of 8 plots is the ensemble mean of 6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left for each set of 8 plots is observational estimates from IOSST and Upper right for each set of 8 plots is the ensemble mean of 6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left for each set of 8 plots is observational estimates from IOSST and Upper right for each set of 8 plots is the ensemble mean of 6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5FF-0A49-4908-8523-5EE3BCE5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6E1-DC51-4B32-AC68-DFA98118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0F1-0A41-4D1D-8B1D-0E6D8B14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591-2948-4733-9F74-691259C3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85C8-536A-453B-89CA-4BC09B58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AD3-D9AA-4136-8664-32D5793A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346-8EFD-4295-8A8E-9805573B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F99-1838-43EF-A345-7F885C9C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083-C434-4D93-BF65-E56F011D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E23-7C88-4053-A628-CD15EF8F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AF7-3EAF-41AA-A0DC-8B58BC46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E5E-A83D-4347-8B00-26C93AFE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D457-FE19-452F-AB73-94108C7BB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CSM3.0 Prediction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IPCC Class Model on the Seasonal-to-Interannual Predic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Model Contribution to the NOAA Climate Test-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Ocean Initial Conditions from MOM3 in 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0838" t="1150" r="20822" b="1150"/>
          <a:stretch/>
        </p:blipFill>
        <p:spPr>
          <a:xfrm>
            <a:off x="36360" y="609480"/>
            <a:ext cx="4459320" cy="6172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20838" t="1113" r="20818" b="1087"/>
          <a:stretch/>
        </p:blipFill>
        <p:spPr>
          <a:xfrm>
            <a:off x="4648320" y="609480"/>
            <a:ext cx="4437000" cy="6172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720" y="243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SM3.0 Jan 1982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9600" y="2430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S Jan 1982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3720" y="243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SM3.0 Jan 1983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9600" y="2430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S Jan 1983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0838" t="1113" r="20818" b="1087"/>
          <a:stretch/>
        </p:blipFill>
        <p:spPr>
          <a:xfrm>
            <a:off x="0" y="609480"/>
            <a:ext cx="4545000" cy="6096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20838" t="1113" r="20818" b="1087"/>
          <a:stretch/>
        </p:blipFill>
        <p:spPr>
          <a:xfrm>
            <a:off x="4572000" y="609480"/>
            <a:ext cx="4495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720" y="2430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SM3.0 Jan 1988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9600" y="2430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S Jan 1988 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0838" t="1113" r="20818" b="1087"/>
          <a:stretch/>
        </p:blipFill>
        <p:spPr>
          <a:xfrm>
            <a:off x="0" y="609480"/>
            <a:ext cx="4419720" cy="6172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20838" t="1113" r="20818" b="1087"/>
          <a:stretch/>
        </p:blipFill>
        <p:spPr>
          <a:xfrm>
            <a:off x="4343400" y="609480"/>
            <a:ext cx="45464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83692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06436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87200"/>
            <a:ext cx="8435880" cy="651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51824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21:47:15Z</dcterms:created>
  <dc:creator>Anna Pirani</dc:creator>
  <dc:description/>
  <dc:language>en-US</dc:language>
  <cp:lastModifiedBy>Anna Pirani</cp:lastModifiedBy>
  <dcterms:modified xsi:type="dcterms:W3CDTF">2007-09-14T21:49:12Z</dcterms:modified>
  <cp:revision>1</cp:revision>
  <dc:subject/>
  <dc:title>CCSM3.0 Prediction Experiments</dc:title>
</cp:coreProperties>
</file>