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FEFE-99BA-4AA3-AD32-95948F25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38C-E4D8-48D3-8D0C-8586E3AB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89D-D2D5-433B-B144-11B46302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568-470D-465D-992C-0B7BCD49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4DC-1D6A-489F-A44A-5AA8E21D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AFD-C7E4-4272-89D2-E6F32BC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276-CE6A-4EB4-9290-32F6D5A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9F6-0BE4-4A94-81AD-CE9AE86D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D0F-8C2A-42E8-9250-100CECE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B07-4DDD-4FCC-8BD0-AA561759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67D-CC19-43BB-B33B-B56F41C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E28-7AB6-412A-AFEF-3B3C400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784-AA74-4AA7-8498-0917F56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6696-27C3-4449-ACDD-86B783ED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CSM3.0 Predictio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IPCC Class Model on the Seasonal-to-Interannual Predi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Model Contribution to the NOAA Climate Test-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cean Initial Conditions from MOM3 in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0838" t="1150" r="20822" b="1150"/>
          <a:stretch/>
        </p:blipFill>
        <p:spPr>
          <a:xfrm>
            <a:off x="36360" y="609480"/>
            <a:ext cx="4459320" cy="617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648320" y="609480"/>
            <a:ext cx="4437000" cy="617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2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2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3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3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0838" t="1113" r="20818" b="1087"/>
          <a:stretch/>
        </p:blipFill>
        <p:spPr>
          <a:xfrm>
            <a:off x="0" y="609480"/>
            <a:ext cx="4545000" cy="609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572000" y="609480"/>
            <a:ext cx="4495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8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8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0838" t="1113" r="20818" b="1087"/>
          <a:stretch/>
        </p:blipFill>
        <p:spPr>
          <a:xfrm>
            <a:off x="0" y="609480"/>
            <a:ext cx="4419720" cy="6172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343400" y="609480"/>
            <a:ext cx="4546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8369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643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87200"/>
            <a:ext cx="843588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51824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21:47:15Z</dcterms:created>
  <dc:creator>Anna Pirani</dc:creator>
  <dc:description/>
  <dc:language>en-US</dc:language>
  <cp:lastModifiedBy>Anna Pirani</cp:lastModifiedBy>
  <dcterms:modified xsi:type="dcterms:W3CDTF">2007-09-14T21:49:12Z</dcterms:modified>
  <cp:revision>1</cp:revision>
  <dc:subject/>
  <dc:title>CCSM3.0 Prediction Experiments</dc:title>
</cp:coreProperties>
</file>