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0C03-7AD8-4CF9-96AC-2C12359A6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5F75-6A52-446F-ACCF-CDC92FC9B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5B57-ACCA-48A8-A99E-C2479903B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40B4-65A4-4C0B-8AC9-3D02F10F0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AFEBD-ECDA-45C0-865C-D0FD2DFB3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810A1-C27E-4091-A671-A1CBB9DA7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D0BC9-42D7-47A2-9E08-110E4DE86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13A4A-A3B5-416A-9C54-24DF4C03A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D7F52-6EB0-4401-8C6E-C14137F47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3D1B2-1FE1-41A5-925C-CD0D82318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9C096-01A9-4040-A6F4-A4672EA8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7494-890F-4458-B2AB-088AB327F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8588C-6567-473E-A7C2-1D1D3F12F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7533F-F984-419B-A3BD-94A35DF0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1DF3A-F8BA-426C-8CD7-2024342D2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ABBB0-90D4-491C-802E-9BFDB7731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D68B4-2225-4B6E-BD03-7230FE130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57E1-2232-4D52-BA96-1304ADF4D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FB03-5382-40F4-8413-79865B3D0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19C6-E7C1-4490-B341-179B5F6E9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584F-119E-409C-846E-200FD0186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D4D2-20C9-471B-9B40-907167614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02FC-3997-484B-A131-16DCA6721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C1E2-C502-41D7-A66C-783479A19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52488-5F7B-4591-B5EC-092981C914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4C83C-702D-4091-8C61-A0541D7560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ome lessons from SMIP2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52960" y="33660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End of less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e5ffff"/>
                </a:solidFill>
                <a:latin typeface="Tahoma"/>
              </a:rPr>
              <a:t>History of SMIP2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SMIP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- 1</a:t>
            </a:r>
            <a:r>
              <a:rPr b="0" lang="en-CA" sz="28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 and 2</a:t>
            </a:r>
            <a:r>
              <a:rPr b="0" lang="en-CA" sz="2800" spc="-1" strike="noStrike" baseline="30000">
                <a:solidFill>
                  <a:srgbClr val="ffffff"/>
                </a:solidFill>
                <a:latin typeface="Tahoma"/>
              </a:rPr>
              <a:t>nd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 season </a:t>
            </a:r>
            <a:r>
              <a:rPr b="0" i="1" lang="en-CA" sz="2800" spc="-1" strike="noStrike">
                <a:solidFill>
                  <a:srgbClr val="ffffff"/>
                </a:solidFill>
                <a:latin typeface="Tahoma"/>
              </a:rPr>
              <a:t>potential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 predictab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- AGCM using observed SST and sea-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- initialize from reanaly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SMIP2/HF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- 1</a:t>
            </a:r>
            <a:r>
              <a:rPr b="0" lang="en-CA" sz="28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 season </a:t>
            </a:r>
            <a:r>
              <a:rPr b="0" i="1" lang="en-CA" sz="2800" spc="-1" strike="noStrike">
                <a:solidFill>
                  <a:srgbClr val="ffffff"/>
                </a:solidFill>
                <a:latin typeface="Tahoma"/>
              </a:rPr>
              <a:t>actual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 predictive skill in operational context – </a:t>
            </a:r>
            <a:r>
              <a:rPr b="0" i="1" lang="en-CA" sz="2800" spc="-1" strike="noStrike">
                <a:solidFill>
                  <a:srgbClr val="ffffff"/>
                </a:solidFill>
                <a:latin typeface="Tahoma"/>
              </a:rPr>
              <a:t>no information from the fut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- 2-tier forecast or 1-tier forecast with coupled syst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- initialized from reanaly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e5ffff"/>
                </a:solidFill>
                <a:latin typeface="Tahoma"/>
              </a:rPr>
              <a:t>Why SMIP2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New knowledge on S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Intercomparison of models in the SP contex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Measures of potential and/or actual “predictability” in current mode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Diagnostic subprojects to entrain “outside expertise” to analyze resul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Collection of results for research into multi-model metho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(forerunner/prototype/precursor/exemplar of TFSP 1</a:t>
            </a:r>
            <a:r>
              <a:rPr b="0" lang="en-CA" sz="28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 Experimen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e5ffff"/>
                </a:solidFill>
                <a:latin typeface="Tahoma"/>
              </a:rPr>
              <a:t>Basic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09480" y="1295280"/>
            <a:ext cx="4000680" cy="51818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4952880" y="1371600"/>
            <a:ext cx="3886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e5ffff"/>
                </a:solidFill>
                <a:latin typeface="Tahoma"/>
              </a:rPr>
              <a:t>Declared participants and dat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57200" y="1371600"/>
            <a:ext cx="4000680" cy="51814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4662360" y="1371600"/>
            <a:ext cx="40021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e5ffff"/>
                </a:solidFill>
                <a:latin typeface="Tahoma"/>
              </a:rPr>
              <a:t>Particip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Modest participation despite efforts to recru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Reasons…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- problem not of intere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- lack of a clear output (i.e. compare IPCC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- fun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- timing/other priori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- organizational suppor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e5ffff"/>
                </a:solidFill>
                <a:latin typeface="Tahoma"/>
              </a:rPr>
              <a:t>Some problem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Scientific inter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- SMIP2 was much like SMIP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- SMIP2/HFP tried to broaden but perhaps too la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- no specific scientific output such as an analysis/Repo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Data/organizational suppor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- PCMDI commitment to central data repository weak … organizational changes + IPC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- IRI commitment mod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- passive rather than active data colle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Other commitments – espc. IPC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e5ffff"/>
                </a:solidFill>
                <a:latin typeface="Tahoma"/>
              </a:rPr>
              <a:t>Funding/competing prioriti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rcRect l="0" t="14815" r="0" b="10461"/>
          <a:stretch/>
        </p:blipFill>
        <p:spPr>
          <a:xfrm>
            <a:off x="380880" y="1905120"/>
            <a:ext cx="4191120" cy="4049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4648320" y="1905120"/>
            <a:ext cx="4038480" cy="30286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485360" y="1523880"/>
            <a:ext cx="151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CliPAS/APC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0" y="506088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CliPAS/APCC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800" spc="-1" strike="noStrike">
                <a:solidFill>
                  <a:srgbClr val="ffffff"/>
                </a:solidFill>
                <a:latin typeface="Tahoma"/>
              </a:rPr>
              <a:t>funded</a:t>
            </a: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 project able to attract participa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800" spc="-1" strike="noStrike">
                <a:solidFill>
                  <a:srgbClr val="ffffff"/>
                </a:solidFill>
                <a:latin typeface="Tahoma"/>
              </a:rPr>
              <a:t>funded</a:t>
            </a: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 Workshops (IPR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800" spc="-1" strike="noStrike">
                <a:solidFill>
                  <a:srgbClr val="ffffff"/>
                </a:solidFill>
                <a:latin typeface="Tahoma"/>
              </a:rPr>
              <a:t>active</a:t>
            </a: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 data coll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e5ffff"/>
                </a:solidFill>
                <a:latin typeface="Tahoma"/>
              </a:rPr>
              <a:t>Lessons for future WGSIP project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Clear scientific go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- includes commitment to basic analysis and a Repo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- diagnostic subproject suppo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Clear data polic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- IPCC shows the virtue of a “dedicated” data reposito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i="1" lang="en-CA" sz="2400" spc="-1" strike="noStrike">
                <a:solidFill>
                  <a:srgbClr val="ffffff"/>
                </a:solidFill>
                <a:latin typeface="Tahoma"/>
              </a:rPr>
              <a:t>active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 data policy of “recruiting” data is preferr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- otherwise KISS including amount of da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Fund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- commitment of funding a </a:t>
            </a:r>
            <a:r>
              <a:rPr b="0" i="1" lang="en-CA" sz="2400" spc="-1" strike="noStrike">
                <a:solidFill>
                  <a:srgbClr val="ffffff"/>
                </a:solidFill>
                <a:latin typeface="Tahoma"/>
              </a:rPr>
              <a:t>major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 as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- research, workshops,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Organizational suppo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- Website, Workshop(s) et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8T16:56:49Z</dcterms:created>
  <dc:creator>root</dc:creator>
  <dc:description/>
  <dc:language>en-US</dc:language>
  <cp:lastModifiedBy>George Boer</cp:lastModifiedBy>
  <dcterms:modified xsi:type="dcterms:W3CDTF">2007-05-25T20:47:51Z</dcterms:modified>
  <cp:revision>11</cp:revision>
  <dc:subject/>
  <dc:title>Seasonal Forecasting and the HFP</dc:title>
</cp:coreProperties>
</file>