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3C8-82A0-4138-AAA1-BFBE92DB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D5C-C8D3-4E7C-810E-A696C23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6F5-917A-4D1E-8FEE-6526DD48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B7F-99BE-4FA1-B7EF-C3B58131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E32C-7143-4DC1-BF50-D770C69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AAA-78D2-4965-9591-560031FC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C92F-99E6-4EAE-8F7E-EA59F5A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7144-306D-48A6-A5FC-D2AB738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F0A8-C2F2-4375-9CED-14D7686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A084-D59B-467B-8A05-6B11EF4F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5EA1-8CEE-44AE-B76E-99C5BCC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0C5-9C31-42A7-8445-3275C547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0854-8C87-4D1C-9B4F-2CE9788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DF98-83C9-4094-8F5D-AFD7E1C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FB74-9ED4-46CB-9E6D-177400B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F41-78B3-4FCA-A0F7-848190A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6EB9-F2F4-49D9-AC18-1E802559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72F-1BEB-420F-9FA3-67BFB7D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A7F-6FAB-4E86-98A2-ADB1A15D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7DC-34F7-4C34-9EC0-D3BC1FB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8BC-B2A9-42CE-B0ED-7149E062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B58-F6BC-41D8-864C-886B546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24A-4911-4C18-98BF-B79B98A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77B-9BCA-466F-BDCD-B616F287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31F-1CD4-440F-B179-D80CCC4F8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8B8-DCBB-4E62-9DBB-2FC780B4D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lessons from SMIP2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2960" y="336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End of le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istory of SMIP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IP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and 2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season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potential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predic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AGCM using observed SST and sea-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initialize from re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IP2/H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season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actual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predictive skill in operational context –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no information from the 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2-tier forecast or 1-tier forecast with coupl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initialized from reanaly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y SMIP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knowledge on 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ntercomparison of models in the SP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easures of potential and/or actual “predictability” in current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iagnostic subprojects to entrain “outside expertise” to analyz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llection of results for research into multi-model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forerunner/prototype/precursor/exemplar of TFSP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Experi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4000680" cy="518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Declared participants an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4000680" cy="5181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62360" y="1371600"/>
            <a:ext cx="4002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Particip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dest participation despite efforts to rec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ason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problem not of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lack of a clear output (i.e. compare IPC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timing/other pri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organizational suppo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Some 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cientific inte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SMIP2 was much like SMIP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SMIP2/HFP tried to broaden but perhaps too 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no specific scientific output such as an analysis/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ata/organizational suppo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PCMDI commitment to central data repository weak … organizational changes + IP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RI commitment mo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passive rather than active data col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ther commitments – espc. IP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Funding/competing prior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14815" r="0" b="10461"/>
          <a:stretch/>
        </p:blipFill>
        <p:spPr>
          <a:xfrm>
            <a:off x="380880" y="1905120"/>
            <a:ext cx="4191120" cy="40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85360" y="1523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liPAS/AP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060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liPAS/APC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funded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project able to attract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funded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Workshops (IPR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ata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Lessons for future WGSIP projec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lear scientific g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ncludes commitment to basic analysis and a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diagnostic subproject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lear data p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PCC shows the virtue of a “dedicated” data reposi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data policy of “recruiting” data is prefer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otherwise KISS including amount of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commitment of funding a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major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as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research, workshop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rganization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Website, Workshop(s)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6:56:49Z</dcterms:created>
  <dc:creator>root</dc:creator>
  <dc:description/>
  <dc:language>en-US</dc:language>
  <cp:lastModifiedBy>George Boer</cp:lastModifiedBy>
  <dcterms:modified xsi:type="dcterms:W3CDTF">2007-05-25T20:47:51Z</dcterms:modified>
  <cp:revision>11</cp:revision>
  <dc:subject/>
  <dc:title>Seasonal Forecasting and the HFP</dc:title>
</cp:coreProperties>
</file>