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7588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A5F-0AA7-4EA6-990D-F58F92DF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E55-578D-4D7B-992D-6D1844DA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C8A-90F2-46C0-B49E-B4EE89B2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360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43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360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643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673-7F5C-475D-90DD-0DEEC091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13B7-8B09-49A7-9A25-7EBBD5B1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0DAF-1DE7-4C18-942B-15F24AA2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9D47-D551-4566-B16D-9E28A472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5B82-C0B6-4FCC-8A5C-77EF7575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929C-3122-45A2-8B8F-25F8757D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03080" y="155160"/>
            <a:ext cx="907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197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C544-0B8E-4CBA-8E22-00CE06CA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7CF7-BD1B-49B7-9A28-0235F784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07A-448B-4670-AC32-CEF7AA5B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7E5E-BC6C-4CC9-AF16-5D1BE0F4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43C5-108C-4DF8-8EA8-110B6F31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2F1E-2426-4140-993B-1F7E59CD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519E-4442-4744-A430-716A9852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2360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643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5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2360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643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89A8-AEA9-42F4-9BF6-D614A88D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B42-412D-4A7B-B762-4E855E59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03080" y="155160"/>
            <a:ext cx="907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197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2360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643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825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2360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643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326-0C99-470E-AABD-406DF89F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454-B75A-4EB4-B6A9-B1BB170E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3080" y="155160"/>
            <a:ext cx="907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197"/>
              </a:lnSpc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113-57CF-459A-943A-37872881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4D6A-6030-4936-A073-F5E9DF80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1F1-465E-4FC1-9C25-6FA2FB28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118-B714-45FF-A009-0D2A09F0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C5F2-3EEC-40CE-A09E-AEF6A1FE3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DD2D-2DD5-4B0E-B33D-AC7DAB8B2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2286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9960" indent="-2286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9960" indent="-2286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9960" indent="-2286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4720" y="115200"/>
            <a:ext cx="308520" cy="597960"/>
            <a:chOff x="324720" y="115200"/>
            <a:chExt cx="308520" cy="597960"/>
          </a:xfrm>
        </p:grpSpPr>
        <p:sp>
          <p:nvSpPr>
            <p:cNvPr id="85" name=""/>
            <p:cNvSpPr/>
            <p:nvPr/>
          </p:nvSpPr>
          <p:spPr>
            <a:xfrm rot="16176000">
              <a:off x="288360" y="367560"/>
              <a:ext cx="451080" cy="235080"/>
            </a:xfrm>
            <a:custGeom>
              <a:avLst/>
              <a:gdLst/>
              <a:ahLst/>
              <a:rect l="l" t="t" r="r" b="b"/>
              <a:pathLst>
                <a:path w="1037" h="535">
                  <a:moveTo>
                    <a:pt x="0" y="202"/>
                  </a:moveTo>
                  <a:cubicBezTo>
                    <a:pt x="105" y="169"/>
                    <a:pt x="465" y="8"/>
                    <a:pt x="633" y="4"/>
                  </a:cubicBezTo>
                  <a:cubicBezTo>
                    <a:pt x="801" y="0"/>
                    <a:pt x="977" y="87"/>
                    <a:pt x="1007" y="175"/>
                  </a:cubicBezTo>
                  <a:cubicBezTo>
                    <a:pt x="1037" y="263"/>
                    <a:pt x="853" y="460"/>
                    <a:pt x="813" y="535"/>
                  </a:cubicBezTo>
                </a:path>
              </a:pathLst>
            </a:custGeom>
            <a:noFill/>
            <a:ln w="31680">
              <a:solidFill>
                <a:srgbClr val="0000ff">
                  <a:alpha val="50000"/>
                </a:srgbClr>
              </a:solidFill>
              <a:round/>
              <a:tailEnd len="med" type="arrow" w="med"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176000">
              <a:off x="99000" y="343440"/>
              <a:ext cx="596880" cy="141480"/>
            </a:xfrm>
            <a:custGeom>
              <a:avLst/>
              <a:gdLst/>
              <a:ahLst/>
              <a:rect l="l" t="t" r="r" b="b"/>
              <a:pathLst>
                <a:path w="1373" h="323">
                  <a:moveTo>
                    <a:pt x="0" y="323"/>
                  </a:moveTo>
                  <a:cubicBezTo>
                    <a:pt x="108" y="289"/>
                    <a:pt x="460" y="130"/>
                    <a:pt x="649" y="117"/>
                  </a:cubicBezTo>
                  <a:cubicBezTo>
                    <a:pt x="838" y="104"/>
                    <a:pt x="1011" y="261"/>
                    <a:pt x="1132" y="242"/>
                  </a:cubicBezTo>
                  <a:cubicBezTo>
                    <a:pt x="1253" y="223"/>
                    <a:pt x="1323" y="50"/>
                    <a:pt x="1373" y="0"/>
                  </a:cubicBezTo>
                </a:path>
              </a:pathLst>
            </a:custGeom>
            <a:noFill/>
            <a:ln w="31680">
              <a:solidFill>
                <a:srgbClr val="0000ff">
                  <a:alpha val="50000"/>
                </a:srgbClr>
              </a:solidFill>
              <a:round/>
              <a:tailEnd len="med" type="arrow" w="med"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82520" y="836640"/>
            <a:ext cx="9537840" cy="54000"/>
          </a:xfrm>
          <a:prstGeom prst="rect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66800" y="6562800"/>
            <a:ext cx="82393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VAR WORKSHOP. Barcelona 4-6 June 2007: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Joint Proposal to WGOMD                                           </a:t>
            </a:r>
            <a:fld id="{734B530C-71CB-4CD4-BBA1-EC403A4FC3E1}" type="slidenum">
              <a:rPr b="0" i="1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0160" y="6534000"/>
            <a:ext cx="9523440" cy="323640"/>
            <a:chOff x="200160" y="6534000"/>
            <a:chExt cx="9523440" cy="323640"/>
          </a:xfrm>
        </p:grpSpPr>
        <p:sp>
          <p:nvSpPr>
            <p:cNvPr id="90" name=""/>
            <p:cNvSpPr/>
            <p:nvPr/>
          </p:nvSpPr>
          <p:spPr>
            <a:xfrm>
              <a:off x="200160" y="6534000"/>
              <a:ext cx="1498680" cy="3236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58840" y="6563880"/>
              <a:ext cx="1374840" cy="2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98840" y="6534000"/>
              <a:ext cx="8024760" cy="54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int Proposal to WGOMD for a community ocean model experi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673600" y="2349360"/>
            <a:ext cx="1690920" cy="30416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848880" y="3719520"/>
            <a:ext cx="4535640" cy="2877840"/>
            <a:chOff x="848880" y="3719520"/>
            <a:chExt cx="4535640" cy="287784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rcRect l="22236" t="828" r="4990" b="4018"/>
            <a:stretch/>
          </p:blipFill>
          <p:spPr>
            <a:xfrm rot="5400000">
              <a:off x="1852560" y="3065040"/>
              <a:ext cx="252828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105200" y="3719520"/>
              <a:ext cx="427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Verdana"/>
                </a:rPr>
                <a:t>Mean Assimation Temperature Increment</a:t>
              </a:r>
              <a:r>
                <a:rPr b="1" lang="en-GB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400880" y="2328840"/>
            <a:ext cx="1692360" cy="3116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529240" y="2060640"/>
            <a:ext cx="180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estern Paci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00880" y="2060640"/>
            <a:ext cx="201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quatorial Ind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29240" y="1628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nalysis minus 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466120" y="3357720"/>
            <a:ext cx="14400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DATA AS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c0128"/>
                </a:solidFill>
                <a:latin typeface="Verdana"/>
              </a:rPr>
              <a:t>NO DATA AS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4880" y="1268280"/>
            <a:ext cx="5472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SzPct val="12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quatorial Pacific heat content is model 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SzPct val="12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lope of Pacific Eq. thermocline controlled by wi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RA40 produces weak thermocline slope in most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SzPct val="12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oo diffuse thermocline in Indian Oce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248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20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nsitivities: preliminary results from ENACT/GS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776160" y="90792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AN ST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rawman for the CNTL integ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rom spin up, launch the integrations, using daily atmospheric forcing fluxes plus some restoring term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D relaxation to climatology of T and S (~10 year time sca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rong relaxation to time-varying values of SST (~2-3 days t.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laxation to climatological Surface Salinity (1 year t.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free surface, volume preserving constrai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restoring terms are used to diagnose erro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ic forcing (daily value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mentum flux: ERA40 0-24 wind st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eat flux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RA40 0-24 solar, latent and sensible heat fluxes.   PL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rong relaxation to daily values of  SST (~2 days time scale) (Reynolds from 198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resh Water flux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RA40 0-24 PME + ENACT corr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eak Relaxation to climatological SSS (~12 month time sca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f free surface, some volume preserving constrai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NTL integration at ECWM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cent Inter-annual ENSO vari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2516" t="23544" r="6647" b="4868"/>
          <a:stretch/>
        </p:blipFill>
        <p:spPr>
          <a:xfrm>
            <a:off x="1784520" y="2997360"/>
            <a:ext cx="5257800" cy="2747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92520" y="2205000"/>
            <a:ext cx="3581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elation with altimeter data  (1993-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NTL integration at ECWM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me MOC  vari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 rot="16200000">
            <a:off x="2143080" y="333360"/>
            <a:ext cx="482760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NTL integration at ECWM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 initial conditions, decent forecast skil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3645" t="2049" r="2646" b="49700"/>
          <a:stretch/>
        </p:blipFill>
        <p:spPr>
          <a:xfrm>
            <a:off x="920880" y="1557360"/>
            <a:ext cx="7313400" cy="4913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352520" y="2276640"/>
            <a:ext cx="662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6"/>
                </a:solidFill>
                <a:latin typeface="Times New Roman"/>
              </a:rPr>
              <a:t>S3 Nodat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fc0128"/>
                </a:solidFill>
                <a:latin typeface="Times New Roman"/>
              </a:rPr>
              <a:t>S3 As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asonal Forecasts is an ideal test bed to asses the quality of the GCMS used in future climate projec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eed ocean initial conditions to carry out experi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t all the groups have ocean data assimilation systems in pla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GOMD is about to discuss experimental setup to asses ocean model performance in the representation of the inter-annual variability. Possibility of X-Panel interaction and feedba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proposed experiment could answer some outstanding questions about the key elements needed to improve the  representation of the Pacific basin and EN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uestions from the Pacific Pa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re are known model deficiencies in the representation of the Pacific clima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pwelling off the South American Coa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ld tongue penetrating too far w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o weak/too strong east-west slope of the thermoc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quatorial heat content (IT/meridional transport, vertical mix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s it possible to say which are the dominant source of err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cing fiel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del parameterizations/configur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del resolu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ameterization of air-sea interac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duct a long ocean model simulation (20-40 years) with a variety of models, using inter-annually varying  atmospheric reanalysis (ERA40-ENACT, NCEP-CORE, JMR-25…). This long integration can be used a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CNTL experiment  to answer some of the above questions (see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provide initial conditions for concerted seasonal forecast experi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duct additional integrations with each model (optional), to test sensitivit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erent forcing fie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erent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erent parameterization, bulk formulae, 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ed to agree the specifications for the CNTL integr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nsitivities: Compute and Comp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2160" y="980640"/>
            <a:ext cx="4716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sitivity to Forcing flux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sitivity to Resolu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sitivity to Mod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sitivity to Bulk Formul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3197"/>
              </a:lnSpc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sitivity to P-parameteriz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359320" y="988920"/>
                <a:ext cx="2664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∂</m:t>
                    </m:r>
                    <m:r>
                      <m:t xml:space="preserve">F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384880" y="1854360"/>
                <a:ext cx="2638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R</m:t>
                    </m:r>
                    <m:r>
                      <m:t xml:space="preserve">=</m:t>
                    </m:r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∂</m:t>
                    </m:r>
                    <m:r>
                      <m:t xml:space="preserve">R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32240" y="2852640"/>
                <a:ext cx="2791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M</m:t>
                    </m:r>
                    <m:r>
                      <m:t xml:space="preserve">=</m:t>
                    </m:r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∂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84880" y="3870360"/>
                <a:ext cx="2638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=</m:t>
                    </m:r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∂</m:t>
                    </m:r>
                    <m:r>
                      <m:t xml:space="preserve">B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13240" y="4878360"/>
                <a:ext cx="2638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∂</m:t>
                    </m:r>
                    <m:r>
                      <m:t xml:space="preserve">P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ources of Uncertain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0" r="68714" b="50003"/>
          <a:stretch/>
        </p:blipFill>
        <p:spPr>
          <a:xfrm>
            <a:off x="8229600" y="4508640"/>
            <a:ext cx="1440000" cy="1535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151840" y="1628640"/>
            <a:ext cx="1600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19191"/>
                </a:solidFill>
                <a:latin typeface="Times New Roman"/>
              </a:rPr>
              <a:t>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ERA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c6"/>
                </a:solidFill>
                <a:latin typeface="Times New Roman"/>
              </a:rPr>
              <a:t>ERA40-No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00"/>
                </a:solidFill>
                <a:latin typeface="Times New Roman"/>
              </a:rPr>
              <a:t>ERA40-Ass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052640" y="1378080"/>
            <a:ext cx="701676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quatorial Atlantic: Assimilation increases spr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33847" t="0" r="34739" b="51177"/>
          <a:stretch/>
        </p:blipFill>
        <p:spPr>
          <a:xfrm>
            <a:off x="8307360" y="4379760"/>
            <a:ext cx="1441440" cy="1497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052640" y="1235160"/>
            <a:ext cx="7105680" cy="4930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151840" y="1628640"/>
            <a:ext cx="1600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19191"/>
                </a:solidFill>
                <a:latin typeface="Times New Roman"/>
              </a:rPr>
              <a:t>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ERA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c6"/>
                </a:solidFill>
                <a:latin typeface="Times New Roman"/>
              </a:rPr>
              <a:t>ERA40-No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00"/>
                </a:solidFill>
                <a:latin typeface="Times New Roman"/>
              </a:rPr>
              <a:t>ERA40-Ass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imilation and Uncertainty T3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2880" y="1341000"/>
            <a:ext cx="4592880" cy="15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ng period 1956-2005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rge part of uncertainty comes from forcing flux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6176880" y="1916280"/>
            <a:ext cx="195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956-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4880" y="3573360"/>
            <a:ext cx="327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240160" y="2276640"/>
            <a:ext cx="4038840" cy="3218400"/>
            <a:chOff x="5240160" y="2276640"/>
            <a:chExt cx="4038840" cy="321840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240160" y="2565360"/>
              <a:ext cx="3865680" cy="26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343480" y="2276640"/>
              <a:ext cx="38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QPAC     EQATL     EQIND TRP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57960" y="5157720"/>
              <a:ext cx="38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RATL     NPAC     NATL  GLOB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76160" y="4005360"/>
            <a:ext cx="367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19191"/>
                </a:solidFill>
                <a:latin typeface="Verdana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Verdana"/>
              </a:rPr>
              <a:t>SAME FORCING (ERA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79f"/>
                </a:solidFill>
                <a:latin typeface="Verdana"/>
              </a:rPr>
              <a:t>OCEA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Verdana"/>
              </a:rPr>
              <a:t>ASSIMILATION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7901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imilation and Uncertainty S3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72880" y="1989000"/>
            <a:ext cx="4592880" cy="157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ng period 1956-2005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3197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Model error and forcing flux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392880" y="141300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956-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68880" y="2421000"/>
            <a:ext cx="3882960" cy="2603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84880" y="5229360"/>
            <a:ext cx="38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TL     NPAC     NATL     GLOB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40160" y="1916280"/>
            <a:ext cx="382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QPAC      EQATL      EQIND    TRP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6160" y="4581360"/>
            <a:ext cx="367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19191"/>
                </a:solidFill>
                <a:latin typeface="Verdana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Verdana"/>
              </a:rPr>
              <a:t>FOR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79f"/>
                </a:solidFill>
                <a:latin typeface="Verdana"/>
              </a:rPr>
              <a:t>OCEA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Verdana"/>
              </a:rPr>
              <a:t>ASSIMILATION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0:17:32Z</dcterms:created>
  <dc:creator>Rob Hine</dc:creator>
  <dc:description/>
  <cp:keywords/>
  <dc:language>en-US</dc:language>
  <cp:lastModifiedBy>ecmwf</cp:lastModifiedBy>
  <cp:lastPrinted>2002-03-04T09:31:28Z</cp:lastPrinted>
  <dcterms:modified xsi:type="dcterms:W3CDTF">2007-06-06T22:41:09Z</dcterms:modified>
  <cp:revision>466</cp:revision>
  <dc:subject/>
  <dc:title>DB background</dc:title>
</cp:coreProperties>
</file>