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6151-5C90-4817-9D09-204F9621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6F0-C01C-4B22-ACDB-9008F037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C84-8BAF-4DDD-A4C0-5096458B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D3C-013B-4298-8EFF-70C76B81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162-845E-439A-B999-CE032401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73F-A41E-4516-B318-CC32A191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7BC-AEC3-4DF6-AB16-B7761D7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6EE-698A-4DC6-83DB-CF6737EB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13E2-5679-4690-A147-63B93A06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8FE-E42D-49E5-B049-3211C47B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B77-22A4-40C6-B02D-38ED1D8B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60C-898F-4F79-AAA4-A310E38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396280" y="0"/>
            <a:ext cx="747360" cy="191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A26FB9-0CC7-493D-8AB6-63BC316B1A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of 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17040" y="1512000"/>
            <a:ext cx="6319800" cy="51624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 CMIP “Fast-Track” MIP Categ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533400" y="2924640"/>
            <a:ext cx="232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Scino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896560" y="3661200"/>
            <a:ext cx="360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ian Centre for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Modelling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883960" y="259200"/>
            <a:ext cx="331452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Initial Vision for C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794520" y="955800"/>
            <a:ext cx="7814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ntinuous MIP Submission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: Spread out MIP submission/execu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nalysis more evenly between successive phases of C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35880" y="1860120"/>
            <a:ext cx="762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eliminate/ease pressure 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del exec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ata 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ypically concentrates towards the end of a CMIP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96320" y="2625840"/>
            <a:ext cx="813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ordinated MIP Submission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:  Align MIP submission with start of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new phase of CMIP  to allow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144440" y="3318480"/>
            <a:ext cx="320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armonized data requ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167480" y="3687840"/>
            <a:ext cx="8185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eak/adjust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xperiment designs so one set can service multiple MIP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149120" y="4083480"/>
            <a:ext cx="402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ordinate science across MIP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1162080" y="4461480"/>
            <a:ext cx="7785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low modelling centres to plan and budget their limited resourc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132560" y="4842000"/>
            <a:ext cx="7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…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863640" y="5279040"/>
            <a:ext cx="8089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n the end, the benefits of coordinating MIPs at the start of each ph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f CMIP was so great that the idea of continual MIP submission 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receded somewhat into the backg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120080" y="1445400"/>
            <a:ext cx="191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CA" sz="1600" spc="-1" strike="noStrike">
                <a:solidFill>
                  <a:srgbClr val="000099"/>
                </a:solidFill>
                <a:latin typeface="Arial"/>
              </a:rPr>
              <a:t>(Meehl et al. 20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962360" y="259200"/>
            <a:ext cx="479052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After Phase 6 MIP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889200" y="1069920"/>
            <a:ext cx="736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nce all Phase 6 MIP coordination is concluded, there will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139040" y="1602000"/>
            <a:ext cx="803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 set of well-defined phase 6 experiments including climate forcing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161720" y="1980000"/>
            <a:ext cx="582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 well-defined phase 6 harmonized data reques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171440" y="2393640"/>
            <a:ext cx="776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e 6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frastructure support for the creation and dissemina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odel output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166400" y="3062520"/>
            <a:ext cx="7944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n increasing body of phase 6 model output on the ESGF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frastructure at each modelling centre to perform the accompan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numerical simulatio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83360" y="4102560"/>
            <a:ext cx="8252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During the intervening period that leads up to Phase 7 MIP coordin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there is opportunity to exploit the enormous effort that wen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ordinating phase 6 MIPs and the resulting body of dat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simulations it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98120" y="5331600"/>
            <a:ext cx="8470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nsider the potential for an open, 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continuous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,  call for set of “fast-track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MIPs during the inter-phase period leading up to CMIP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560" y="259200"/>
            <a:ext cx="7746480" cy="39456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000" spc="-1" strike="noStrike">
                <a:solidFill>
                  <a:srgbClr val="000099"/>
                </a:solidFill>
                <a:latin typeface="Arial"/>
              </a:rPr>
              <a:t>Continuous “Fast-Track” MIPs vs Coordinated “Phase n” M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159200" y="2400480"/>
            <a:ext cx="7686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use phase n experiments and forcings as the control for new experiments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140840" y="2787840"/>
            <a:ext cx="5065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equire only the existing phase n data request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802080" y="960480"/>
            <a:ext cx="8116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“</a:t>
            </a:r>
            <a:r>
              <a:rPr b="1" lang="en-CA" sz="1800" spc="-1" strike="noStrike" u="sng">
                <a:solidFill>
                  <a:srgbClr val="000099"/>
                </a:solidFill>
                <a:uFillTx/>
                <a:latin typeface="Arial"/>
              </a:rPr>
              <a:t>Fast-Track”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, or “inter-phase”, MIPs address emerging climate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ssues that arise from either CMIP6 MIPs or from the commun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9200" y="1614960"/>
            <a:ext cx="804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Fast-track MIPS can take advantage of all phase 6 coordination if th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1117440" y="2047680"/>
            <a:ext cx="2578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use phase n models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61120" y="4177440"/>
            <a:ext cx="8072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● </a:t>
            </a:r>
            <a:r>
              <a:rPr b="1" lang="en-CA" sz="1800" spc="-1" strike="noStrike" u="sng">
                <a:solidFill>
                  <a:srgbClr val="860000"/>
                </a:solidFill>
                <a:uFillTx/>
                <a:latin typeface="Arial"/>
              </a:rPr>
              <a:t>Suggestion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:  Once the coordination of Phase n MIPs is concluded (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once all experiments, forcings, data request, and infrastructure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the CMIP panel could consider issuing an open call for fast-track MI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860000"/>
                </a:solidFill>
                <a:latin typeface="Arial"/>
              </a:rPr>
              <a:t>that satisfy conditions 1) – 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780480" y="5589000"/>
            <a:ext cx="379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Consider post-CMIP5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481320" y="3223440"/>
            <a:ext cx="8659080" cy="732960"/>
            <a:chOff x="481320" y="3223440"/>
            <a:chExt cx="8659080" cy="732960"/>
          </a:xfrm>
        </p:grpSpPr>
        <p:grpSp>
          <p:nvGrpSpPr>
            <p:cNvPr id="72" name="Group 2"/>
            <p:cNvGrpSpPr/>
            <p:nvPr/>
          </p:nvGrpSpPr>
          <p:grpSpPr>
            <a:xfrm>
              <a:off x="481320" y="3223440"/>
              <a:ext cx="8659080" cy="701640"/>
              <a:chOff x="481320" y="3223440"/>
              <a:chExt cx="8659080" cy="701640"/>
            </a:xfrm>
          </p:grpSpPr>
          <p:sp>
            <p:nvSpPr>
              <p:cNvPr id="73" name="Text Box 3"/>
              <p:cNvSpPr/>
              <p:nvPr/>
            </p:nvSpPr>
            <p:spPr>
              <a:xfrm>
                <a:off x="870120" y="3286800"/>
                <a:ext cx="82702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800" spc="-1" strike="noStrike">
                    <a:solidFill>
                      <a:srgbClr val="000099"/>
                    </a:solidFill>
                    <a:latin typeface="Arial"/>
                  </a:rPr>
                  <a:t>Unlike phase n MIPs, fast-track MIPs would require essential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CA" sz="1800" spc="-1" strike="noStrike" u="sng">
                    <a:solidFill>
                      <a:srgbClr val="000099"/>
                    </a:solidFill>
                    <a:uFillTx/>
                    <a:latin typeface="Arial"/>
                  </a:rPr>
                  <a:t>no coordination</a:t>
                </a:r>
                <a:r>
                  <a:rPr b="1" lang="en-CA" sz="1800" spc="-1" strike="noStrike">
                    <a:solidFill>
                      <a:srgbClr val="000099"/>
                    </a:solidFill>
                    <a:latin typeface="Arial"/>
                  </a:rPr>
                  <a:t>        little burden on the CMIP panel and modelling cen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TextBox 16"/>
                  <p:cNvSpPr txBox="1"/>
                  <p:nvPr/>
                </p:nvSpPr>
                <p:spPr>
                  <a:xfrm>
                    <a:off x="481320" y="3223440"/>
                    <a:ext cx="535320" cy="461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⇒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75" name="TextBox 13"/>
                <p:cNvSpPr txBox="1"/>
                <p:nvPr/>
              </p:nvSpPr>
              <p:spPr>
                <a:xfrm>
                  <a:off x="2706480" y="3495240"/>
                  <a:ext cx="535320" cy="46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2792160" y="259200"/>
            <a:ext cx="3305160" cy="455400"/>
          </a:xfrm>
          <a:prstGeom prst="rect">
            <a:avLst/>
          </a:prstGeom>
          <a:solidFill>
            <a:srgbClr val="fffcc9"/>
          </a:solidFill>
          <a:ln w="28575">
            <a:solidFill>
              <a:srgbClr val="800000"/>
            </a:solidFill>
            <a:miter/>
          </a:ln>
          <a:effectLst>
            <a:outerShdw algn="ctr" dir="2700000" dist="107423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2400" spc="-1" strike="noStrike">
                <a:solidFill>
                  <a:srgbClr val="000099"/>
                </a:solidFill>
                <a:latin typeface="Arial"/>
              </a:rPr>
              <a:t>CCCma − Post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94880" y="944640"/>
            <a:ext cx="82249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t CCCma the decision was taken to build off the enormous inves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of effort that went into its CMIP5 contribution (its body of simula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infrastructure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91640" y="1921680"/>
            <a:ext cx="7922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●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 new, “Applications and Analysis” meeting was instituted to 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and investigate emerging clim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800" spc="-1" strike="noStrike">
                <a:solidFill>
                  <a:srgbClr val="000099"/>
                </a:solidFill>
                <a:latin typeface="Arial"/>
              </a:rPr>
              <a:t>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61680" y="2889000"/>
            <a:ext cx="4977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1. EMIC models were used to evaluate the ro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updated volcanic aerosol forcing (Vern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 al. 2011) in the observe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arming hiat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olomon et al.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rcRect l="11768" t="9148" r="51346" b="73914"/>
          <a:stretch/>
        </p:blipFill>
        <p:spPr>
          <a:xfrm>
            <a:off x="5502600" y="2286360"/>
            <a:ext cx="3294000" cy="1956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866520" y="4051080"/>
            <a:ext cx="501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860000"/>
                </a:solidFill>
                <a:latin typeface="Arial"/>
              </a:rPr>
              <a:t>Q. </a:t>
            </a: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Do conclusions based on EMIC models hold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     </a:t>
            </a:r>
            <a:r>
              <a:rPr b="1" lang="en-CA" sz="1600" spc="-1" strike="noStrike">
                <a:solidFill>
                  <a:srgbClr val="860000"/>
                </a:solidFill>
                <a:latin typeface="Arial"/>
              </a:rPr>
              <a:t>in full ESMs  (Fyfe et al.  2013 - CanESM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1"/>
          <p:cNvGrpSpPr/>
          <p:nvPr/>
        </p:nvGrpSpPr>
        <p:grpSpPr>
          <a:xfrm>
            <a:off x="721800" y="4654440"/>
            <a:ext cx="6578640" cy="369000"/>
            <a:chOff x="721800" y="4654440"/>
            <a:chExt cx="6578640" cy="369000"/>
          </a:xfrm>
        </p:grpSpPr>
        <p:sp>
          <p:nvSpPr>
            <p:cNvPr id="83" name="Text Box 3"/>
            <p:cNvSpPr/>
            <p:nvPr/>
          </p:nvSpPr>
          <p:spPr>
            <a:xfrm>
              <a:off x="1053720" y="4669920"/>
              <a:ext cx="624672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Excellent candidate for a “fast-track” MIP using CMIP5 mod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TextBox 13"/>
                <p:cNvSpPr txBox="1"/>
                <p:nvPr/>
              </p:nvSpPr>
              <p:spPr>
                <a:xfrm>
                  <a:off x="721800" y="4654440"/>
                  <a:ext cx="448920" cy="36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5" name="Text Box 3"/>
          <p:cNvSpPr/>
          <p:nvPr/>
        </p:nvSpPr>
        <p:spPr>
          <a:xfrm>
            <a:off x="634680" y="4996800"/>
            <a:ext cx="5021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g 2. Large ensembles (role of internal variabilit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065960" y="5294880"/>
            <a:ext cx="564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CAR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4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2000-2060 A1B)  - (Deser et al. 20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171800" y="5902560"/>
            <a:ext cx="8103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Cm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950-2100, historical/RCP8.5, natural forcings, aerosol-on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cing, stratospheric ozone only forcing) - (Sigmond and Fyfe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069200" y="5619600"/>
            <a:ext cx="6145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M-L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30 memb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1920-2100, RCP8.5)  - (Kay et al.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9" name="Straight Connector 4"/>
          <p:cNvCxnSpPr/>
          <p:nvPr/>
        </p:nvCxnSpPr>
        <p:spPr>
          <a:xfrm>
            <a:off x="1379880" y="1048320"/>
            <a:ext cx="360" cy="73008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</a:ln>
        </p:spPr>
      </p:cxnSp>
      <p:sp>
        <p:nvSpPr>
          <p:cNvPr id="90" name="TextBox 8"/>
          <p:cNvSpPr/>
          <p:nvPr/>
        </p:nvSpPr>
        <p:spPr>
          <a:xfrm>
            <a:off x="2399040" y="390240"/>
            <a:ext cx="1470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hase 6 (~6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0"/>
          <p:cNvSpPr/>
          <p:nvPr/>
        </p:nvSpPr>
        <p:spPr>
          <a:xfrm rot="16200000">
            <a:off x="3025800" y="-915840"/>
            <a:ext cx="220320" cy="3510360"/>
          </a:xfrm>
          <a:prstGeom prst="rightBrace">
            <a:avLst>
              <a:gd name="adj1" fmla="val 53457"/>
              <a:gd name="adj2" fmla="val 50000"/>
            </a:avLst>
          </a:prstGeom>
          <a:noFill/>
          <a:ln w="222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5"/>
          <p:cNvGrpSpPr/>
          <p:nvPr/>
        </p:nvGrpSpPr>
        <p:grpSpPr>
          <a:xfrm>
            <a:off x="1388880" y="1140480"/>
            <a:ext cx="967320" cy="637560"/>
            <a:chOff x="1388880" y="1140480"/>
            <a:chExt cx="967320" cy="637560"/>
          </a:xfrm>
        </p:grpSpPr>
        <p:sp>
          <p:nvSpPr>
            <p:cNvPr id="93" name="Rectangle 6"/>
            <p:cNvSpPr/>
            <p:nvPr/>
          </p:nvSpPr>
          <p:spPr>
            <a:xfrm>
              <a:off x="1388880" y="1140480"/>
              <a:ext cx="963720" cy="637560"/>
            </a:xfrm>
            <a:prstGeom prst="rect">
              <a:avLst/>
            </a:prstGeom>
            <a:solidFill>
              <a:srgbClr val="b3ffcc"/>
            </a:solidFill>
            <a:ln cap="rnd" w="3175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31"/>
            <p:cNvGrpSpPr/>
            <p:nvPr/>
          </p:nvGrpSpPr>
          <p:grpSpPr>
            <a:xfrm>
              <a:off x="1395000" y="1149480"/>
              <a:ext cx="961200" cy="619560"/>
              <a:chOff x="1395000" y="1149480"/>
              <a:chExt cx="961200" cy="619560"/>
            </a:xfrm>
          </p:grpSpPr>
          <p:sp>
            <p:nvSpPr>
              <p:cNvPr id="95" name="TextBox 32"/>
              <p:cNvSpPr/>
              <p:nvPr/>
            </p:nvSpPr>
            <p:spPr>
              <a:xfrm>
                <a:off x="1395000" y="1149480"/>
                <a:ext cx="96120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coordina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33"/>
              <p:cNvSpPr/>
              <p:nvPr/>
            </p:nvSpPr>
            <p:spPr>
              <a:xfrm>
                <a:off x="1491480" y="1303200"/>
                <a:ext cx="7509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phase 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34"/>
              <p:cNvSpPr/>
              <p:nvPr/>
            </p:nvSpPr>
            <p:spPr>
              <a:xfrm>
                <a:off x="1606320" y="1496880"/>
                <a:ext cx="5378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MIP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98" name="Straight Connector 5"/>
          <p:cNvCxnSpPr/>
          <p:nvPr/>
        </p:nvCxnSpPr>
        <p:spPr>
          <a:xfrm>
            <a:off x="4891320" y="1048320"/>
            <a:ext cx="360" cy="73008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</a:ln>
        </p:spPr>
      </p:cxnSp>
      <p:grpSp>
        <p:nvGrpSpPr>
          <p:cNvPr id="99" name="Group 7"/>
          <p:cNvGrpSpPr/>
          <p:nvPr/>
        </p:nvGrpSpPr>
        <p:grpSpPr>
          <a:xfrm>
            <a:off x="2350800" y="1303200"/>
            <a:ext cx="1139760" cy="463680"/>
            <a:chOff x="2350800" y="1303200"/>
            <a:chExt cx="1139760" cy="463680"/>
          </a:xfrm>
        </p:grpSpPr>
        <p:sp>
          <p:nvSpPr>
            <p:cNvPr id="100" name="Rectangle 23"/>
            <p:cNvSpPr/>
            <p:nvPr/>
          </p:nvSpPr>
          <p:spPr>
            <a:xfrm>
              <a:off x="2379240" y="1303200"/>
              <a:ext cx="1081800" cy="463680"/>
            </a:xfrm>
            <a:prstGeom prst="rect">
              <a:avLst/>
            </a:prstGeom>
            <a:solidFill>
              <a:srgbClr val="ffc5b3"/>
            </a:solidFill>
            <a:ln cap="rnd" w="3175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42"/>
            <p:cNvGrpSpPr/>
            <p:nvPr/>
          </p:nvGrpSpPr>
          <p:grpSpPr>
            <a:xfrm>
              <a:off x="2350800" y="1322640"/>
              <a:ext cx="1139760" cy="434880"/>
              <a:chOff x="2350800" y="1322640"/>
              <a:chExt cx="1139760" cy="434880"/>
            </a:xfrm>
          </p:grpSpPr>
          <p:sp>
            <p:nvSpPr>
              <p:cNvPr id="102" name="TextBox 13"/>
              <p:cNvSpPr/>
              <p:nvPr/>
            </p:nvSpPr>
            <p:spPr>
              <a:xfrm>
                <a:off x="2350800" y="1322640"/>
                <a:ext cx="113976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CMIP6 mod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5"/>
              <p:cNvSpPr/>
              <p:nvPr/>
            </p:nvSpPr>
            <p:spPr>
              <a:xfrm>
                <a:off x="2478240" y="1485360"/>
                <a:ext cx="8942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execu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Group 19"/>
          <p:cNvGrpSpPr/>
          <p:nvPr/>
        </p:nvGrpSpPr>
        <p:grpSpPr>
          <a:xfrm>
            <a:off x="4891680" y="390240"/>
            <a:ext cx="3510360" cy="559080"/>
            <a:chOff x="4891680" y="390240"/>
            <a:chExt cx="3510360" cy="559080"/>
          </a:xfrm>
        </p:grpSpPr>
        <p:sp>
          <p:nvSpPr>
            <p:cNvPr id="105" name="Right Brace 11"/>
            <p:cNvSpPr/>
            <p:nvPr/>
          </p:nvSpPr>
          <p:spPr>
            <a:xfrm rot="16200000">
              <a:off x="6536520" y="-915840"/>
              <a:ext cx="220320" cy="3510360"/>
            </a:xfrm>
            <a:prstGeom prst="rightBrace">
              <a:avLst>
                <a:gd name="adj1" fmla="val 53457"/>
                <a:gd name="adj2" fmla="val 50000"/>
              </a:avLst>
            </a:prstGeom>
            <a:noFill/>
            <a:ln w="222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2"/>
            <p:cNvSpPr/>
            <p:nvPr/>
          </p:nvSpPr>
          <p:spPr>
            <a:xfrm>
              <a:off x="5945040" y="390240"/>
              <a:ext cx="14140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600" spc="-1" strike="noStrike">
                  <a:solidFill>
                    <a:srgbClr val="000000"/>
                  </a:solidFill>
                  <a:latin typeface="Arial"/>
                </a:rPr>
                <a:t>phase 7(~6y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7"/>
          <p:cNvGrpSpPr/>
          <p:nvPr/>
        </p:nvGrpSpPr>
        <p:grpSpPr>
          <a:xfrm>
            <a:off x="4903200" y="1140480"/>
            <a:ext cx="966960" cy="637560"/>
            <a:chOff x="4903200" y="1140480"/>
            <a:chExt cx="966960" cy="637560"/>
          </a:xfrm>
        </p:grpSpPr>
        <p:sp>
          <p:nvSpPr>
            <p:cNvPr id="108" name="Rectangle 37"/>
            <p:cNvSpPr/>
            <p:nvPr/>
          </p:nvSpPr>
          <p:spPr>
            <a:xfrm>
              <a:off x="4903200" y="1140480"/>
              <a:ext cx="963720" cy="637560"/>
            </a:xfrm>
            <a:prstGeom prst="rect">
              <a:avLst/>
            </a:prstGeom>
            <a:solidFill>
              <a:srgbClr val="b3ffcc"/>
            </a:solidFill>
            <a:ln cap="rnd" w="3175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39"/>
            <p:cNvSpPr/>
            <p:nvPr/>
          </p:nvSpPr>
          <p:spPr>
            <a:xfrm>
              <a:off x="4908960" y="1149480"/>
              <a:ext cx="9612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0"/>
            <p:cNvSpPr/>
            <p:nvPr/>
          </p:nvSpPr>
          <p:spPr>
            <a:xfrm>
              <a:off x="4978800" y="1321200"/>
              <a:ext cx="7509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phase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41"/>
            <p:cNvSpPr/>
            <p:nvPr/>
          </p:nvSpPr>
          <p:spPr>
            <a:xfrm>
              <a:off x="5120640" y="1496880"/>
              <a:ext cx="5378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MI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8"/>
          <p:cNvGrpSpPr/>
          <p:nvPr/>
        </p:nvGrpSpPr>
        <p:grpSpPr>
          <a:xfrm>
            <a:off x="5864400" y="1303200"/>
            <a:ext cx="1145880" cy="463680"/>
            <a:chOff x="5864400" y="1303200"/>
            <a:chExt cx="1145880" cy="463680"/>
          </a:xfrm>
        </p:grpSpPr>
        <p:sp>
          <p:nvSpPr>
            <p:cNvPr id="113" name="Rectangle 43"/>
            <p:cNvSpPr/>
            <p:nvPr/>
          </p:nvSpPr>
          <p:spPr>
            <a:xfrm>
              <a:off x="5893560" y="1303200"/>
              <a:ext cx="1116720" cy="463680"/>
            </a:xfrm>
            <a:prstGeom prst="rect">
              <a:avLst/>
            </a:prstGeom>
            <a:solidFill>
              <a:srgbClr val="ffc5b3"/>
            </a:solidFill>
            <a:ln cap="rnd" w="3175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5"/>
            <p:cNvSpPr/>
            <p:nvPr/>
          </p:nvSpPr>
          <p:spPr>
            <a:xfrm>
              <a:off x="5864400" y="1322640"/>
              <a:ext cx="1139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CMIP7 mod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46"/>
            <p:cNvSpPr/>
            <p:nvPr/>
          </p:nvSpPr>
          <p:spPr>
            <a:xfrm>
              <a:off x="6045840" y="1485360"/>
              <a:ext cx="894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CA" sz="12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6" name="Straight Connector 2"/>
          <p:cNvCxnSpPr/>
          <p:nvPr/>
        </p:nvCxnSpPr>
        <p:spPr>
          <a:xfrm>
            <a:off x="1380600" y="1780560"/>
            <a:ext cx="7022160" cy="360"/>
          </a:xfrm>
          <a:prstGeom prst="straightConnector1">
            <a:avLst/>
          </a:prstGeom>
          <a:ln cap="rnd" w="28575">
            <a:solidFill>
              <a:srgbClr val="000000"/>
            </a:solidFill>
            <a:round/>
            <a:tailEnd len="lg" type="triangle" w="lg"/>
          </a:ln>
        </p:spPr>
      </p:cxnSp>
      <p:grpSp>
        <p:nvGrpSpPr>
          <p:cNvPr id="117" name="Group 27"/>
          <p:cNvGrpSpPr/>
          <p:nvPr/>
        </p:nvGrpSpPr>
        <p:grpSpPr>
          <a:xfrm>
            <a:off x="2557800" y="2012040"/>
            <a:ext cx="3483720" cy="972720"/>
            <a:chOff x="2557800" y="2012040"/>
            <a:chExt cx="3483720" cy="972720"/>
          </a:xfrm>
        </p:grpSpPr>
        <p:grpSp>
          <p:nvGrpSpPr>
            <p:cNvPr id="118" name="Group 20"/>
            <p:cNvGrpSpPr/>
            <p:nvPr/>
          </p:nvGrpSpPr>
          <p:grpSpPr>
            <a:xfrm>
              <a:off x="3708360" y="2219040"/>
              <a:ext cx="1194480" cy="765720"/>
              <a:chOff x="3708360" y="2219040"/>
              <a:chExt cx="1194480" cy="765720"/>
            </a:xfrm>
          </p:grpSpPr>
          <p:sp>
            <p:nvSpPr>
              <p:cNvPr id="119" name="TextBox 49"/>
              <p:cNvSpPr/>
              <p:nvPr/>
            </p:nvSpPr>
            <p:spPr>
              <a:xfrm>
                <a:off x="3834720" y="2219040"/>
                <a:ext cx="93564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phase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50"/>
              <p:cNvSpPr/>
              <p:nvPr/>
            </p:nvSpPr>
            <p:spPr>
              <a:xfrm>
                <a:off x="3708360" y="2434320"/>
                <a:ext cx="119448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Fast-Tra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59"/>
              <p:cNvSpPr/>
              <p:nvPr/>
            </p:nvSpPr>
            <p:spPr>
              <a:xfrm>
                <a:off x="3966840" y="2651760"/>
                <a:ext cx="65520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CA" sz="1600" spc="-1" strike="noStrike">
                    <a:solidFill>
                      <a:srgbClr val="000099"/>
                    </a:solidFill>
                    <a:latin typeface="Arial"/>
                  </a:rPr>
                  <a:t>MIP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Right Brace 48"/>
            <p:cNvSpPr/>
            <p:nvPr/>
          </p:nvSpPr>
          <p:spPr>
            <a:xfrm flipV="1" rot="5400000">
              <a:off x="4189320" y="380160"/>
              <a:ext cx="220320" cy="3483720"/>
            </a:xfrm>
            <a:prstGeom prst="rightBrace">
              <a:avLst>
                <a:gd name="adj1" fmla="val 53457"/>
                <a:gd name="adj2" fmla="val 50000"/>
              </a:avLst>
            </a:prstGeom>
            <a:noFill/>
            <a:ln w="22225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3" name="Group 21"/>
          <p:cNvGrpSpPr/>
          <p:nvPr/>
        </p:nvGrpSpPr>
        <p:grpSpPr>
          <a:xfrm>
            <a:off x="5851080" y="1890360"/>
            <a:ext cx="682560" cy="331200"/>
            <a:chOff x="5851080" y="1890360"/>
            <a:chExt cx="682560" cy="331200"/>
          </a:xfrm>
        </p:grpSpPr>
        <p:sp>
          <p:nvSpPr>
            <p:cNvPr id="124" name="Rectangle 1"/>
            <p:cNvSpPr/>
            <p:nvPr/>
          </p:nvSpPr>
          <p:spPr>
            <a:xfrm>
              <a:off x="5908320" y="1890360"/>
              <a:ext cx="625320" cy="3312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Straight Connector 9"/>
            <p:cNvCxnSpPr/>
            <p:nvPr/>
          </p:nvCxnSpPr>
          <p:spPr>
            <a:xfrm>
              <a:off x="5851080" y="2124720"/>
              <a:ext cx="415440" cy="360"/>
            </a:xfrm>
            <a:prstGeom prst="straightConnector1">
              <a:avLst/>
            </a:prstGeom>
            <a:ln w="22225">
              <a:solidFill>
                <a:srgbClr val="000099"/>
              </a:solidFill>
              <a:round/>
              <a:tailEnd len="lg" type="stealth" w="lg"/>
            </a:ln>
          </p:spPr>
        </p:cxnSp>
      </p:grpSp>
      <p:sp>
        <p:nvSpPr>
          <p:cNvPr id="126" name="TextBox 25"/>
          <p:cNvSpPr/>
          <p:nvPr/>
        </p:nvSpPr>
        <p:spPr>
          <a:xfrm>
            <a:off x="4514400" y="190080"/>
            <a:ext cx="752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M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783000" y="2875680"/>
            <a:ext cx="3130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Advantages of fast-track M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7040" y="3339720"/>
            <a:ext cx="7380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essentially no coordination as they piggyback off phase-n coordina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077480" y="3689280"/>
            <a:ext cx="775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body of phase n MIP output provides body of control runs to perform furth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scien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1066680" y="4225680"/>
            <a:ext cx="71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allows CMIP to entertain MIPs and support MIP science at </a:t>
            </a:r>
            <a:r>
              <a:rPr b="1" lang="en-CA" sz="1600" spc="-1" strike="noStrike" u="sng">
                <a:solidFill>
                  <a:srgbClr val="000099"/>
                </a:solidFill>
                <a:uFillTx/>
                <a:latin typeface="Arial"/>
              </a:rPr>
              <a:t>any time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,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originally intended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1071360" y="4781880"/>
            <a:ext cx="784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no reason why fast-track MIPs for one particular phase might couldn’t exte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for longer than the 6y cyc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1071720" y="5366880"/>
            <a:ext cx="7846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as phase n fast-track MIPs begin to overlap with the next phase n+1 of CMIP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opens the door for interesting comparisons across MIPs (ie model chan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CA" sz="1600" spc="-1" strike="noStrike">
                <a:solidFill>
                  <a:srgbClr val="000099"/>
                </a:solidFill>
                <a:latin typeface="Arial"/>
              </a:rPr>
              <a:t>between phases, forcing changes between phases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91</TotalTime>
  <Application>LibreOffice/7.4.7.2$Linux_X86_64 LibreOffice_project/40$Build-2</Application>
  <AppVersion>15.0000</AppVersion>
  <Words>805</Words>
  <Paragraphs>98</Paragraphs>
  <Company>Environment Canad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8:58:35Z</dcterms:created>
  <dc:creator>Vivek Arora</dc:creator>
  <dc:description/>
  <dc:language>en-US</dc:language>
  <cp:lastModifiedBy>Scinocca,John [CCCMA]</cp:lastModifiedBy>
  <dcterms:modified xsi:type="dcterms:W3CDTF">2015-10-19T09:31:00Z</dcterms:modified>
  <cp:revision>8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