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tif" ContentType="image/tif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1A60D9-546A-440A-9C22-C5DD1E789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8DEC74-6F39-41C6-923E-F6864128AE6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6C50C3-B533-4B2F-9178-FAD8A43B71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クサと距離を保ちながら、温暖化予測には「地球シミュレータ」が利用される。京より全体性能は落ちるが、温暖化予測モデルを動かすには十分な能力をもち、かつ、運用の自由度が保たれているのが利点。来年度には更新の予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京の２つを大きな計算には使っている。京はほかの研究機関の運営で融通が利かないため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IP(IPCC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ど、計算機運用の柔軟性が求められる課題に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使っている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ベクトル機なので、見かけほどの計算能力の違いはないことに注意。また来年度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倍程度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更新予定。問題によって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方が速い。京では、たとえ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70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グリッドでの全球雲解像モデルなど、問題の規模が大きく野心的な計算を行ってい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8C4C94-9795-415C-B273-15845BDDFDF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IP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もっとも関連の深い日本のプログラムが、「創生プログラム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地球シミュレータを用いた温暖化予測を推進し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IP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対応する体制を整備している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つの研究テーマに加え、事務局機能の充実も図ってい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４つの研究テーマと事務局の計５つがコンポーネント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RI, JAMSTEC, MRI,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京大が主要参加機関だが、ほかにも参加機関多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59CB69-3C74-4DF5-907C-E63869EB6DE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IP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得られたデータの発信には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採用されてい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本から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参加しており、一定の役割を担ってい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7A6965-A775-4F5C-8820-87D910381FA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F138-88FC-4FC6-8505-CD80B0B4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65B0-5402-4D25-AE33-066453A1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0E5F-48E7-4A7B-9237-FC74AAA4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EC7C-FDDC-4D3C-867B-B953E898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6E7C-F02E-44F5-ADAD-E3C8FC92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D785-C83C-45D3-939C-BD76F4D4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096B-309B-49E9-AF6E-D137EB6F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DADF-B8C0-413D-A0CD-9207CA4A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1D71-3C5A-404C-8691-8DA7E7C8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441C-01FE-4E30-8045-0BD49F37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9EFE-A78B-46C4-BB11-B80E419F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F454-2AC1-4C08-8B19-A65DF68C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D6F3-5EE7-4ADC-8586-3126405E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F76A-2630-435A-967D-387FBB03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617A-3BB7-43D5-9250-B5E9834E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25D8-FBDD-47C8-BD06-9AC7D0EA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4F41-D34B-4B4D-8428-4C8A7144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965B1-657B-4CF6-AE04-48B03717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B678B-3F33-4E02-BCD3-0C759780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A80F8-37A5-4404-87D2-007440AF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2B8E3-0DD5-4B2C-B11F-A5A5224B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9138B-92DF-4E12-8773-849A489A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F922-5802-4537-9FF7-BEBF11E1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2C937-AC72-4254-9140-58D76E09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5A6B0-1896-4787-A84A-B0CC3FC7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4033A-DD9A-4EE6-AE03-D40E0448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87735-B21E-423F-ABDA-25B74621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C9FA9-EE4F-46AC-807C-3B0CC068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8670A-9035-40BD-A37A-81CA3FBE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73C6D-2640-4E85-862D-F42F4E22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EB9-C624-4ABA-BC8C-0EE34CA0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33B1-85D1-45A5-ABD1-E4C30CC5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789F-5BB5-4998-8F44-9FA4129F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7D4-57E9-453D-8405-BA276209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D3C-EE35-4E59-B51D-0FAFB3C7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74B-58D1-40D0-BB2A-6190B13F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ja-JP" sz="6000" spc="-1" strike="noStrike">
                <a:solidFill>
                  <a:srgbClr val="000000"/>
                </a:solidFill>
                <a:latin typeface="Calibri Light"/>
              </a:rPr>
              <a:t>マスター タイトルの書式設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B89BA5-0691-4F2B-AFCA-1CE40359EE3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</a:rPr>
              <a:t>マスター タイトルの書式設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44367C-0A66-4BA9-BEE6-ECB09894C60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</a:rPr>
              <a:t>マスター タイトルの書式設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マスター テキストの書式設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第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レベ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第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レベ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第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レベ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第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レベ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5AA494-56D9-4E29-A791-C843FF64567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t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163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Group Reports: Jap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(Team MIROC, NICAM &amp; MRI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hio Kawam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MST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80560" y="409320"/>
            <a:ext cx="97459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Lineup of Japanese models for CMIP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表 2"/>
          <p:cNvGraphicFramePr/>
          <p:nvPr/>
        </p:nvGraphicFramePr>
        <p:xfrm>
          <a:off x="1303560" y="1906560"/>
          <a:ext cx="8367120" cy="4574520"/>
        </p:xfrm>
        <a:graphic>
          <a:graphicData uri="http://schemas.openxmlformats.org/drawingml/2006/table">
            <a:tbl>
              <a:tblPr/>
              <a:tblGrid>
                <a:gridCol w="1263240"/>
                <a:gridCol w="1396800"/>
                <a:gridCol w="1218600"/>
                <a:gridCol w="1159200"/>
                <a:gridCol w="1159200"/>
                <a:gridCol w="1173960"/>
                <a:gridCol w="995760"/>
              </a:tblGrid>
              <a:tr h="32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MIROC6-CG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MIROC-E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NIC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MRI-ESM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MRI-AGCM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MRI-R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</a:tr>
              <a:tr h="34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esolution (Atm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40km or fi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40km-280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4km-56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20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&lt; 20k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O(5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</a:tr>
              <a:tr h="634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esolution (Oce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deg. X 1de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deg. X 1de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n.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deg. X 0.3-0.5de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n.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n.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</a:tr>
              <a:tr h="32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High T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</a:tr>
              <a:tr h="325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Biogeo-chemi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</a:tr>
              <a:tr h="94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Institu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AORI/UT, JAMSTEC, N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JAMSTEC, AORI/UT, N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AORI/UT, JAMSTEC, RIK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M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M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M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8e4b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36360" y="78840"/>
            <a:ext cx="5595120" cy="6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Participation in endorsed M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表 1"/>
          <p:cNvGraphicFramePr/>
          <p:nvPr/>
        </p:nvGraphicFramePr>
        <p:xfrm>
          <a:off x="2236320" y="694080"/>
          <a:ext cx="7193520" cy="6257520"/>
        </p:xfrm>
        <a:graphic>
          <a:graphicData uri="http://schemas.openxmlformats.org/drawingml/2006/table">
            <a:tbl>
              <a:tblPr/>
              <a:tblGrid>
                <a:gridCol w="563760"/>
                <a:gridCol w="1215720"/>
                <a:gridCol w="902160"/>
                <a:gridCol w="902160"/>
                <a:gridCol w="902160"/>
                <a:gridCol w="902160"/>
                <a:gridCol w="902160"/>
                <a:gridCol w="902160"/>
              </a:tblGrid>
              <a:tr h="745200"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Short name of 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64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IROC6-CG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IROC-E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IC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RI-ESM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RI-AGCM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RI-R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AerChem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4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F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A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CP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FAF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Geo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GM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HighResMI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ISMIP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S3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LU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O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P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RF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Scenario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Vol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OR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224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ynV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SIM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VIA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7920" rIns="7920" tIns="792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ＭＳ Ｐゴシック"/>
                        <a:ea typeface="ＭＳ Ｐゴシック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ＭＳ Ｐゴシック"/>
                        <a:ea typeface="ＭＳ Ｐゴシック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-7449480" y="743760"/>
            <a:ext cx="12191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ja-JP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超高解像度モデル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NIC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テキスト ボックス 2"/>
          <p:cNvSpPr/>
          <p:nvPr/>
        </p:nvSpPr>
        <p:spPr>
          <a:xfrm>
            <a:off x="4643640" y="5871240"/>
            <a:ext cx="6612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ICAM (Nonhydrostatic Icosahedral Atmospheric Mod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with 870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resolution globally (Miyamoto et al. 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図 4" descr=""/>
          <p:cNvPicPr/>
          <p:nvPr/>
        </p:nvPicPr>
        <p:blipFill>
          <a:blip r:embed="rId1"/>
          <a:stretch/>
        </p:blipFill>
        <p:spPr>
          <a:xfrm>
            <a:off x="3385080" y="1827720"/>
            <a:ext cx="8092080" cy="4043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170280" y="2289240"/>
            <a:ext cx="2795760" cy="27752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NICAM: A global cloud resolving mode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テキスト ボックス 2"/>
          <p:cNvSpPr/>
          <p:nvPr/>
        </p:nvSpPr>
        <p:spPr>
          <a:xfrm>
            <a:off x="380880" y="5065200"/>
            <a:ext cx="258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cosahedral gri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表 8"/>
          <p:cNvGraphicFramePr/>
          <p:nvPr/>
        </p:nvGraphicFramePr>
        <p:xfrm>
          <a:off x="2033640" y="1199880"/>
          <a:ext cx="8244000" cy="1885680"/>
        </p:xfrm>
        <a:graphic>
          <a:graphicData uri="http://schemas.openxmlformats.org/drawingml/2006/table">
            <a:tbl>
              <a:tblPr/>
              <a:tblGrid>
                <a:gridCol w="1648800"/>
                <a:gridCol w="1648800"/>
                <a:gridCol w="1648800"/>
                <a:gridCol w="1648800"/>
                <a:gridCol w="1648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Total Peak Performance (Pflop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Total main memory (Tby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eak Performance / CPU (Gflop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Total number of C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Earth Simu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JAMST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4 cor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K Comp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(Rik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,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28 (16x8cor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8,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</a:tbl>
          </a:graphicData>
        </a:graphic>
      </p:graphicFrame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5840" y="60840"/>
            <a:ext cx="1119672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Earth Simulator for most of the CMIP6 experi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11" descr=""/>
          <p:cNvPicPr/>
          <p:nvPr/>
        </p:nvPicPr>
        <p:blipFill>
          <a:blip r:embed="rId1"/>
          <a:stretch/>
        </p:blipFill>
        <p:spPr>
          <a:xfrm>
            <a:off x="6707520" y="3499200"/>
            <a:ext cx="3362040" cy="1680840"/>
          </a:xfrm>
          <a:prstGeom prst="rect">
            <a:avLst/>
          </a:prstGeom>
          <a:ln w="0">
            <a:noFill/>
          </a:ln>
        </p:spPr>
      </p:pic>
      <p:sp>
        <p:nvSpPr>
          <p:cNvPr id="144" name="テキスト ボックス 12"/>
          <p:cNvSpPr/>
          <p:nvPr/>
        </p:nvSpPr>
        <p:spPr>
          <a:xfrm>
            <a:off x="2532240" y="5517360"/>
            <a:ext cx="316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rth Simulator: “medium” size simulations  such as CMIP6 experiments. Operation started in March, 20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テキスト ボックス 14"/>
          <p:cNvSpPr/>
          <p:nvPr/>
        </p:nvSpPr>
        <p:spPr>
          <a:xfrm>
            <a:off x="6888240" y="5517360"/>
            <a:ext cx="31680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 Computer: ambitious, gigantic size simulations such as global cloud resolving runs with 870m 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図 1" descr=""/>
          <p:cNvPicPr/>
          <p:nvPr/>
        </p:nvPicPr>
        <p:blipFill>
          <a:blip r:embed="rId2"/>
          <a:stretch/>
        </p:blipFill>
        <p:spPr>
          <a:xfrm>
            <a:off x="2279520" y="3499200"/>
            <a:ext cx="367308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235120" y="6576480"/>
            <a:ext cx="2241360" cy="3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indent="0">
              <a:lnSpc>
                <a:spcPct val="9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Supported by M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8" descr=""/>
          <p:cNvPicPr/>
          <p:nvPr/>
        </p:nvPicPr>
        <p:blipFill>
          <a:blip r:embed="rId1"/>
          <a:stretch/>
        </p:blipFill>
        <p:spPr>
          <a:xfrm>
            <a:off x="320400" y="88200"/>
            <a:ext cx="6385680" cy="1432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7178760" y="6548760"/>
            <a:ext cx="2053800" cy="360720"/>
          </a:xfrm>
          <a:prstGeom prst="rect">
            <a:avLst/>
          </a:prstGeom>
          <a:ln w="0">
            <a:noFill/>
          </a:ln>
        </p:spPr>
      </p:pic>
      <p:sp>
        <p:nvSpPr>
          <p:cNvPr id="150" name="正方形/長方形 6"/>
          <p:cNvSpPr/>
          <p:nvPr/>
        </p:nvSpPr>
        <p:spPr>
          <a:xfrm>
            <a:off x="455040" y="1374120"/>
            <a:ext cx="8760960" cy="55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tarSymbol"/>
              <a:buAutoNum type="alphaUcPeriod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diction and diagnosis of imminent global climate change (PI: M. Kimoto, U. of Toky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D/A, E/A, Seamless Prediction, Climate Sensitivity, Data Assim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. Climate change projection contributing to stabilization target setting (PI: M. Kawamiya, JAMST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limate Scenario, Earth System Model, Tipping Element, Geo-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. Development of basic technology for risk information on climate change (PI: I. Takayabu, M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Dynamical and Statistical Downscaling, High-res G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. Precise impact assessments on climate change (PI: E. Nakakita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yoto U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Weather, Water, Coastal  Disasters, Water Resource, ecosystem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. Promotion office for climate change research and linkage coordination (PI: M. Kawamiya, JAMSTE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テキスト ボックス 2"/>
          <p:cNvSpPr/>
          <p:nvPr/>
        </p:nvSpPr>
        <p:spPr>
          <a:xfrm>
            <a:off x="7001280" y="632880"/>
            <a:ext cx="1674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Y 2012-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dget: ~6m$/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テキスト ボックス 4"/>
          <p:cNvSpPr/>
          <p:nvPr/>
        </p:nvSpPr>
        <p:spPr>
          <a:xfrm>
            <a:off x="9076680" y="3688200"/>
            <a:ext cx="2985120" cy="200988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SEI is coming to an end in March 2017. A forum involving both scientists and the funding agency (MEXT) has been set up for  establishing a follow-on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DIAS for CMIP6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48960" y="1825560"/>
            <a:ext cx="500436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34360" indent="-234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S is coming to an end next March. A follow-on project is likely to be establis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4360" indent="-234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ng a DIAS member for CDNOT (CMIP Data Node Operating Tea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4360" indent="-234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a WIP (WGCM Infrastructure Panel) member from Jap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0" descr="a.tiff"/>
          <p:cNvPicPr/>
          <p:nvPr/>
        </p:nvPicPr>
        <p:blipFill>
          <a:blip r:embed="rId1"/>
          <a:stretch/>
        </p:blipFill>
        <p:spPr>
          <a:xfrm>
            <a:off x="1274040" y="1780560"/>
            <a:ext cx="4752000" cy="4552200"/>
          </a:xfrm>
          <a:prstGeom prst="rect">
            <a:avLst/>
          </a:prstGeom>
          <a:ln w="0">
            <a:noFill/>
          </a:ln>
        </p:spPr>
      </p:pic>
      <p:sp>
        <p:nvSpPr>
          <p:cNvPr id="156" name="テキスト ボックス 4"/>
          <p:cNvSpPr/>
          <p:nvPr/>
        </p:nvSpPr>
        <p:spPr>
          <a:xfrm>
            <a:off x="3342240" y="6354720"/>
            <a:ext cx="231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var Exchanges No.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panese models for CMIP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ROC family, NICAM, MRI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all the Japanese models combined, the endorsed MIPs are fully cove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 re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arth Simulator (1.3PFlops) run by JAMSTEC, plus MRI supercompu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ying to get funded for follow-on programs of SOUSEI (ends 2017, climate science) and DIAS (ends 2016, ESGF staf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テーマ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  <Words>854</Words>
  <Paragraphs>3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7T00:12:20Z</dcterms:created>
  <dc:creator>michio kawamiya</dc:creator>
  <dc:description/>
  <dc:language>en-US</dc:language>
  <cp:lastModifiedBy>michio kawamiya</cp:lastModifiedBy>
  <dcterms:modified xsi:type="dcterms:W3CDTF">2015-10-19T13:24:42Z</dcterms:modified>
  <cp:revision>41</cp:revision>
  <dc:subject/>
  <dc:title>Modeling groups' perspectives on CMIP6: Japan (Team MIROC &amp; MRI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ワイド画面</vt:lpwstr>
  </property>
  <property fmtid="{D5CDD505-2E9C-101B-9397-08002B2CF9AE}" pid="4" name="Slides">
    <vt:r8>8</vt:r8>
  </property>
</Properties>
</file>