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tif" ContentType="image/tif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29257E-72DF-4EDF-8571-5B8354BF6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0ECC0E-D0CC-4613-B2A5-A01B05551B3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7A9AB4-7693-4C5F-804B-54158BCD45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クサと距離を保ちながら、温暖化予測には「地球シミュレータ」が利用される。京より全体性能は落ちるが、温暖化予測モデルを動かすには十分な能力をもち、かつ、運用の自由度が保たれているのが利点。来年度には更新の予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京の２つを大きな計算には使っている。京はほかの研究機関の運営で融通が利かないため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P(IPC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、計算機運用の柔軟性が求められる課題に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使ってい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ベクトル機なので、見かけほどの計算能力の違いはないことに注意。また来年度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倍程度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更新予定。問題によって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方が速い。京では、たとえ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0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リッドでの全球雲解像モデルなど、問題の規模が大きく野心的な計算を行って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6B0CB9-D030-4BE9-BE61-CEC2383E05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P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もっとも関連の深い日本のプログラムが、「創生プログラム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地球シミュレータを用いた温暖化予測を推進し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P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対応する体制を整備してい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つの研究テーマに加え、事務局機能の充実も図って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４つの研究テーマと事務局の計５つがコンポーネント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RI, JAMSTEC, MRI,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京大が主要参加機関だが、ほかにも参加機関多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37A663-7A6B-49FC-8B94-15F208FB7BE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P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得られたデータの発信には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採用されて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本から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参加しており、一定の役割を担って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D69019-4E27-4B42-9DDE-1E1A77B6EFC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B4F-9D1B-47B0-9AB4-94F99655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CC5-FC11-4016-BC4A-31CD3F2A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5D6-05D0-45B6-A557-125B5BC4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DC5-0881-4C8F-8EDA-B1124A51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4BF8-ED88-45A9-A1F0-459AE457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CC3-0ECD-4318-935E-60915729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D858-11FF-42B6-91F9-C7536295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47FE-AF52-4C85-8AC4-59160BFE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BF43-9AB1-46C1-804F-0C5986E4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84AF-1220-4186-83A3-38D070CA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9894-1354-4EEA-B1ED-F882596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CA9-FF63-4848-9130-137E666C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54C6-03DB-4373-9E0E-EFC5F8E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E6B9-BE49-45BE-95A4-B5493EEA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6354-CE20-469F-BC5D-7969EB1F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CD35-FB1D-4A62-8C4F-A37C6581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A8DA-5D1D-416D-9EC8-96E4B5C8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3A98A-E8F8-49D7-B40C-0FC26570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B980-C5CA-46DA-9B6F-9B68A73B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82EC-8E45-44E8-9D75-A51469FA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8529-6DC4-46DB-8EAC-B2190390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9F84-31E5-4035-B919-0B624AA6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03F-4D82-4892-8460-CD5D33E7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BB5D-A751-4598-BCAB-B1C1EE2A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67E3-EFF9-4D0C-AA7F-3EB125D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C7E4-F846-4B19-A133-559CE53D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96A3-7B1A-46B0-9B95-2DE2CDC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476E-E700-45A0-91F0-31398802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25BB-452E-4F60-BAD1-2A608BC9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C01E-99DC-4D24-B858-82D2D051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A24-EA22-4BF7-A80C-3FD2C10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4C3-068E-4D8A-AD7A-90A8CCD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866-D2C6-4F7F-BC85-71DC4CF9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3AB-EFE8-4B07-9875-55034974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E5D-DCE2-46BB-A29E-266B2042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F12-C0F2-4E2A-B476-4B29AFB2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ja-JP" sz="6000" spc="-1" strike="noStrike">
                <a:solidFill>
                  <a:srgbClr val="000000"/>
                </a:solidFill>
                <a:latin typeface="Calibri Light"/>
              </a:rPr>
              <a:t>マスター タイトルの書式設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834342-448D-4DAA-A779-7AA1ABCC308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</a:rPr>
              <a:t>マスター タイトルの書式設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76587E-6FFE-4634-A022-BD7EB76A82F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</a:rPr>
              <a:t>マスター タイトルの書式設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マスター テキストの書式設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47AB51-5D11-49E2-95AE-AD0A8648C7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163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Group Reports: Jap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(Team MIROC, NICAM &amp; MR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hio Kawam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ST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80560" y="409320"/>
            <a:ext cx="97459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Lineup of Japanese models for CMIP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表 2"/>
          <p:cNvGraphicFramePr/>
          <p:nvPr/>
        </p:nvGraphicFramePr>
        <p:xfrm>
          <a:off x="1303560" y="1906560"/>
          <a:ext cx="8367120" cy="4574520"/>
        </p:xfrm>
        <a:graphic>
          <a:graphicData uri="http://schemas.openxmlformats.org/drawingml/2006/table">
            <a:tbl>
              <a:tblPr/>
              <a:tblGrid>
                <a:gridCol w="1263240"/>
                <a:gridCol w="1396800"/>
                <a:gridCol w="1218600"/>
                <a:gridCol w="1159200"/>
                <a:gridCol w="1159200"/>
                <a:gridCol w="1173960"/>
                <a:gridCol w="995760"/>
              </a:tblGrid>
              <a:tr h="32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IROC6-CG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IROC-E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I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-ESM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-AGCM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-R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esolution (At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40km or 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40km-280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4km-56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0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&lt; 20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O(5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esolution (Oc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deg. X 1de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deg. X 1de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.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deg. X 0.3-0.5de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.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.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32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High 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32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Biogeo-chem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94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Instit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ORI/UT, JAMSTEC, N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JAMSTEC, AORI/UT, N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ORI/UT, JAMSTEC, RI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36360" y="78840"/>
            <a:ext cx="5595120" cy="6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Participation in endorsed M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表 1"/>
          <p:cNvGraphicFramePr/>
          <p:nvPr/>
        </p:nvGraphicFramePr>
        <p:xfrm>
          <a:off x="2236320" y="694080"/>
          <a:ext cx="7193520" cy="6257520"/>
        </p:xfrm>
        <a:graphic>
          <a:graphicData uri="http://schemas.openxmlformats.org/drawingml/2006/table">
            <a:tbl>
              <a:tblPr/>
              <a:tblGrid>
                <a:gridCol w="563760"/>
                <a:gridCol w="1215720"/>
                <a:gridCol w="902160"/>
                <a:gridCol w="902160"/>
                <a:gridCol w="902160"/>
                <a:gridCol w="902160"/>
                <a:gridCol w="902160"/>
                <a:gridCol w="902160"/>
              </a:tblGrid>
              <a:tr h="74520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hort name of 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64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IROC6-CG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IROC-E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IC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RI-ESM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RI-AGCM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RI-R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erChem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4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F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A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AF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Geo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GM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HighResMI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ISMIP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S3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U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O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P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F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cenario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Vol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OR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ynV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I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VIA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ＭＳ Ｐゴシック"/>
                        <a:ea typeface="ＭＳ Ｐゴシック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  <a:ea typeface="ＭＳ Ｐゴシック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-7449480" y="743760"/>
            <a:ext cx="1219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ja-JP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超高解像度モデル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I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4643640" y="5871240"/>
            <a:ext cx="6612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CAM (Nonhydrostatic Icosahedral Atmospheric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with 870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solution globally (Miyamoto et al.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図 4" descr=""/>
          <p:cNvPicPr/>
          <p:nvPr/>
        </p:nvPicPr>
        <p:blipFill>
          <a:blip r:embed="rId1"/>
          <a:stretch/>
        </p:blipFill>
        <p:spPr>
          <a:xfrm>
            <a:off x="3385080" y="1827720"/>
            <a:ext cx="8092080" cy="404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170280" y="2289240"/>
            <a:ext cx="2795760" cy="2775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ICAM: A global cloud resolving mod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2"/>
          <p:cNvSpPr/>
          <p:nvPr/>
        </p:nvSpPr>
        <p:spPr>
          <a:xfrm>
            <a:off x="380880" y="5065200"/>
            <a:ext cx="258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osahedral gri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表 8"/>
          <p:cNvGraphicFramePr/>
          <p:nvPr/>
        </p:nvGraphicFramePr>
        <p:xfrm>
          <a:off x="2033640" y="1199880"/>
          <a:ext cx="8244000" cy="1885680"/>
        </p:xfrm>
        <a:graphic>
          <a:graphicData uri="http://schemas.openxmlformats.org/drawingml/2006/table">
            <a:tbl>
              <a:tblPr/>
              <a:tblGrid>
                <a:gridCol w="1648800"/>
                <a:gridCol w="1648800"/>
                <a:gridCol w="1648800"/>
                <a:gridCol w="1648800"/>
                <a:gridCol w="1648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otal Peak Performance (Pflo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otal main memory (Tby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eak Performance / CPU (Gflo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otal number of C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Earth Simu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JAMST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 cor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K 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Ri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,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8 (16x8cor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8,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5840" y="60840"/>
            <a:ext cx="111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arth Simulator for most of the CMIP6 experi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6707520" y="3499200"/>
            <a:ext cx="3362040" cy="1680840"/>
          </a:xfrm>
          <a:prstGeom prst="rect">
            <a:avLst/>
          </a:prstGeom>
          <a:ln w="0">
            <a:noFill/>
          </a:ln>
        </p:spPr>
      </p:pic>
      <p:sp>
        <p:nvSpPr>
          <p:cNvPr id="144" name="テキスト ボックス 12"/>
          <p:cNvSpPr/>
          <p:nvPr/>
        </p:nvSpPr>
        <p:spPr>
          <a:xfrm>
            <a:off x="2532240" y="5517360"/>
            <a:ext cx="316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th Simulator: “medium” size simulations  such as CMIP6 experiments. Operation started in March, 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14"/>
          <p:cNvSpPr/>
          <p:nvPr/>
        </p:nvSpPr>
        <p:spPr>
          <a:xfrm>
            <a:off x="6888240" y="5517360"/>
            <a:ext cx="316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Computer: ambitious, gigantic size simulations such as global cloud resolving runs with 870m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図 1" descr=""/>
          <p:cNvPicPr/>
          <p:nvPr/>
        </p:nvPicPr>
        <p:blipFill>
          <a:blip r:embed="rId2"/>
          <a:stretch/>
        </p:blipFill>
        <p:spPr>
          <a:xfrm>
            <a:off x="2279520" y="3499200"/>
            <a:ext cx="36730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5120" y="6576480"/>
            <a:ext cx="2241360" cy="3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9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Supported by M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8" descr=""/>
          <p:cNvPicPr/>
          <p:nvPr/>
        </p:nvPicPr>
        <p:blipFill>
          <a:blip r:embed="rId1"/>
          <a:stretch/>
        </p:blipFill>
        <p:spPr>
          <a:xfrm>
            <a:off x="320400" y="88200"/>
            <a:ext cx="6385680" cy="1432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7178760" y="6548760"/>
            <a:ext cx="2053800" cy="360720"/>
          </a:xfrm>
          <a:prstGeom prst="rect">
            <a:avLst/>
          </a:prstGeom>
          <a:ln w="0">
            <a:noFill/>
          </a:ln>
        </p:spPr>
      </p:pic>
      <p:sp>
        <p:nvSpPr>
          <p:cNvPr id="150" name="正方形/長方形 6"/>
          <p:cNvSpPr/>
          <p:nvPr/>
        </p:nvSpPr>
        <p:spPr>
          <a:xfrm>
            <a:off x="455040" y="1374120"/>
            <a:ext cx="8760960" cy="55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lphaUcPeriod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diction and diagnosis of imminent global climate change (PI: M. Kimoto, U. of Tok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/A, E/A, Seamless Prediction, Climate Sensitivity, Data Assim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. Climate change projection contributing to stabilization target setting (PI: M. Kawamiya, JAMST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limate Scenario, Earth System Model, Tipping Element, Geo-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. Development of basic technology for risk information on climate change (PI: I. Takayabu, M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ynamical and Statistical Downscaling, High-res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. Precise impact assessments on climate change (PI: E. Nakakita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oto 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Weather, Water, Coastal  Disasters, Water Resource, ecosystem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. Promotion office for climate change research and linkage coordination (PI: M. Kawamiya, JAMSTE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2"/>
          <p:cNvSpPr/>
          <p:nvPr/>
        </p:nvSpPr>
        <p:spPr>
          <a:xfrm>
            <a:off x="7001280" y="632880"/>
            <a:ext cx="16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Y 2012-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dget: ~6m$/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4"/>
          <p:cNvSpPr/>
          <p:nvPr/>
        </p:nvSpPr>
        <p:spPr>
          <a:xfrm>
            <a:off x="9076680" y="3688200"/>
            <a:ext cx="2985120" cy="20098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SEI is coming to an end in March 2017. A forum involving both scientists and the funding agency (MEXT) has been set up for  establishing a follow-on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S for CMIP6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48960" y="1825560"/>
            <a:ext cx="50043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34360" indent="-234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S is coming to an end next March. A follow-on project is likely to be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4360" indent="-234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a DIAS member for CDNOT (CMIP Data Node Operating Tea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4360" indent="-234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a WIP (WGCM Infrastructure Panel) member from Jap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0" descr="a.tiff"/>
          <p:cNvPicPr/>
          <p:nvPr/>
        </p:nvPicPr>
        <p:blipFill>
          <a:blip r:embed="rId1"/>
          <a:stretch/>
        </p:blipFill>
        <p:spPr>
          <a:xfrm>
            <a:off x="1274040" y="1780560"/>
            <a:ext cx="4752000" cy="4552200"/>
          </a:xfrm>
          <a:prstGeom prst="rect">
            <a:avLst/>
          </a:prstGeom>
          <a:ln w="0">
            <a:noFill/>
          </a:ln>
        </p:spPr>
      </p:pic>
      <p:sp>
        <p:nvSpPr>
          <p:cNvPr id="156" name="テキスト ボックス 4"/>
          <p:cNvSpPr/>
          <p:nvPr/>
        </p:nvSpPr>
        <p:spPr>
          <a:xfrm>
            <a:off x="3342240" y="6354720"/>
            <a:ext cx="231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var Exchanges No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models for CMIP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ROC family, NICAM, MRI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all the Japanese models combined, the endorsed MIPs are fully cov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re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Simulator (1.3PFlops) run by JAMSTEC, plus MRI super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ing to get funded for follow-on programs of SOUSEI (ends 2017, climate science) and DIAS (ends 2016, ESGF staf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  <Words>854</Words>
  <Paragraphs>3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00:12:20Z</dcterms:created>
  <dc:creator>michio kawamiya</dc:creator>
  <dc:description/>
  <dc:language>en-US</dc:language>
  <cp:lastModifiedBy>michio kawamiya</cp:lastModifiedBy>
  <dcterms:modified xsi:type="dcterms:W3CDTF">2015-10-19T13:24:42Z</dcterms:modified>
  <cp:revision>41</cp:revision>
  <dc:subject/>
  <dc:title>Modeling groups' perspectives on CMIP6: Japan (Team MIROC &amp; MRI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ワイド画面</vt:lpwstr>
  </property>
  <property fmtid="{D5CDD505-2E9C-101B-9397-08002B2CF9AE}" pid="4" name="Slides">
    <vt:r8>8</vt:r8>
  </property>
</Properties>
</file>