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491-9FE7-4960-924B-6E74929B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4FC-C13E-4FFD-8D16-B94FC914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21D-D716-409F-9503-B8E0333D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601-A9F9-4783-AA0E-E95B53D4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BFBD-9065-4317-97C7-30270A40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CC29-B443-4D32-9549-9BDC204A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259B-E6B8-4984-885D-B884AF40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7CCF-0319-428F-A399-A7B80A57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3BE1-4709-44EF-BEF3-5C4ECA41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CEE6-C84E-4B92-95EE-6E8373CF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68D6-1DE1-4DB6-9DE1-D6749DAC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9EE-F802-423B-8335-77C12D60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F1B1-5BD5-4BDD-9729-DF954F68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4CCE-7825-4C3E-9359-12C6D18A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9DA1-B210-4B0A-B940-916888C3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3B7F-7EFD-435C-8218-0792C57B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E673-A891-4A57-8989-7F080306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77D4-DBB2-4EE8-AFBF-32D133D5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DC1-9677-4DFA-844A-14674CC8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F57-4171-4E30-AEE3-3049CDBA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8BD0-E9DB-4B3E-ABB3-AB0F1013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74E-5AF6-447F-BF60-67BF6D59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3A6D-52B6-4FE9-B0F0-CAF2BE83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83F-B332-41A4-84EA-412437AD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968C05-6A29-4EB2-AF0C-BB5035CABC7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AC1BC3-36C6-48B7-A88F-586AD133A9F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FDL CMIP6 Pl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Ronald J Sto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October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7086600" y="5029200"/>
            <a:ext cx="1409400" cy="139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GFDL Model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114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M4”, “ESM4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degL48 atm full chemistry or 1/2degL32 fast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/4deg MOM6 ocean+BGC (COBA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M3+”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S2” sea 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500760" y="5943600"/>
            <a:ext cx="8373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etails (resolution and etc.) depend on availability of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mospheric component “AM4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57840" cy="4525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 fontScale="75000"/>
          </a:bodyPr>
          <a:p>
            <a:pPr marL="331560" indent="-331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convection scheme (double plume – shallow and deep - Brethert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560" indent="-331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k or TKE PBL – testing -TB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560" indent="-331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er version of FV core – FV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1560" indent="-331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ud physics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8920" indent="-276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physics – single moment (eg CM3, Donner et al. 20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8920" indent="-276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physics - Tiedt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560" indent="-331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st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8920" indent="-276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w prognostic variables (dust, sea salt, BC, OC, sulfate aeroso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560" indent="-3315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chemis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8920" indent="-276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~100 prognostic variables, ~60 adv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cean “MOM6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rewrite of code, open shared development via GitH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-grid – better choke points, no X-land mix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 in vertical – no vert time step limit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-coor developed/tuned, HYCOM-like vertical coor being te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numer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tle numerical diapycnal mixing (grid depend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(all?) diapycnal mixing explic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d “LM3+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land model in our CMIP5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grid hillslope tiles and groundwater upd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LM4 model delivered in next year or 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vegetation dynamics (PPA) and urban t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&amp; N cycles in plants, soils, r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soil BGC with microb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a Ice “SIS2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440" cy="4525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rewrite of SIS1 – conservation impro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-grid – better representation of chann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ical physics shared with C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s several numerical inst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gs – adding tabular to CMIP5 point ber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ing 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 ice will be re-embedded in ocean =&gt; hope to fix remaining numerics iss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 ice – ocean interfac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FDL CMIP6 Issues/Conc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all CMIP6 models/MIPs follow the OMIP protocol for archived variab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updated historical forcings as near to real time as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P data requests seem impractical - way too large – C4MIP as example, but there ar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m to be many “hidden” runs in 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8720" indent="-2840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dden == not explicitly in priorities but needed to make priority runs (C4MIP (e.g. emission), FAMIP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  <Words>377</Words>
  <Paragraphs>51</Paragraphs>
  <Company>@domainou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3:43:26Z</dcterms:created>
  <dc:creator>rjs</dc:creator>
  <dc:description/>
  <dc:language>en-US</dc:language>
  <cp:lastModifiedBy>Ron Stouffer</cp:lastModifiedBy>
  <cp:lastPrinted>2015-09-30T14:15:34Z</cp:lastPrinted>
  <dcterms:modified xsi:type="dcterms:W3CDTF">2015-10-16T14:44:38Z</dcterms:modified>
  <cp:revision>16</cp:revision>
  <dc:subject/>
  <dc:title>GFDL CMIP6 Pl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