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24D8-9BAD-441F-B83E-8DBB3BDE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CB1F-354B-454D-BDB0-3CE3A991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533-DC6B-4B52-8D62-4FAF6185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0A45-6D51-404C-AF49-4294648E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DBCA-1542-41FF-B88E-2CEA148A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5A15-4073-481D-9802-32584338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91BF-E346-4DEC-9D71-94ABE61C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311E-F686-4F04-A9EF-1506E7C0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F335-5059-4C3B-A711-A77A7EB7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BBD9-E2AA-4BC9-9A75-896ACC2C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BF97-DA90-411D-B90A-E0F07FC7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2128-A6F0-4EB2-89C4-3B7340C4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0E39-9DC8-412E-A066-BB849026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A7B3-7799-4289-82C0-8489FE39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08BB-599B-4A2E-8F2A-9D5D2AE6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7B5B-D38B-4865-B61E-BD3B0915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FCF4-95D7-43AF-9683-EE9F739B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A676-DFCF-4A04-9276-DB63E294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DBF0-2658-48B5-936F-912CA0B6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8631-7AE1-4EDE-B6F7-120B902A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D9B5-C19D-4546-AF78-39EE6E6C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50E5-7064-4F70-8EF4-3EA7850B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01F4-909B-49FA-BA43-E34E7793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3FAC-E215-4773-81B8-63C9D3BA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9C3E0A-AB3C-4BF3-93F7-AA45CF57A71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BCFE9B-0DBE-41B4-B6EC-40500B19547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FDL CMIP6 Pl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Ronald J Sto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October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7086600" y="5029200"/>
            <a:ext cx="1409400" cy="139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GFDL Model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114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M4”, “ESM4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degL48 atm full chemistry or 1/2degL32 fast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/4deg MOM6 ocean+BGC (COBAL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M3+”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S2” sea 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500760" y="5943600"/>
            <a:ext cx="8373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Details (resolution and etc.) depend on availability of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mospheric component “AM4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57840" cy="4525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 fontScale="75000"/>
          </a:bodyPr>
          <a:p>
            <a:pPr marL="331560" indent="-331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convection scheme (double plume – shallow and deep - Brethert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1560" indent="-331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k or TKE PBL – testing -TB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1560" indent="-331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er version of FV core – FV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1560" indent="-331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ud physics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8920" indent="-276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physics – single moment (eg CM3, Donner et al. 20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8920" indent="-276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physics - Tiedt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560" indent="-331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st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8920" indent="-276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w prognostic variables (dust, sea salt, BC, OC, sulfate aerosol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560" indent="-331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chemist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8920" indent="-276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~100 prognostic variables, ~60 adv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cean “MOM6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e rewrite of code, open shared development via GitH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-grid – better choke points, no X-land mix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E in vertical – no vert time step limita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-coor developed/tuned, HYCOM-like vertical coor being te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numer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ttle numerical diapycnal mixing (grid depend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(all?) diapycnal mixing explic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d “LM3+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to land model in our CMIP5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grid hillslope tiles and groundwater upd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LM4 model delivered in next year or 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vegetation dynamics (PPA) and urban t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 &amp; N cycles in plants, soils, ri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soil BGC with microb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a Ice “SIS2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440" cy="4525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 fontScale="92000"/>
          </a:bodyPr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e rewrite of SIS1 – conservation impro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-grid – better representation of chann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tical physics shared with C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es several numerical insta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gs – adding tabular to CMIP5 point ber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ing 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720" indent="-2840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 ice will be re-embedded in ocean =&gt; hope to fix remaining numerics iss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8720" indent="-2840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d ice – ocean interfac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FDL CMIP6 Issues/Concer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 fontScale="92000"/>
          </a:bodyPr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all CMIP6 models/MIPs follow the OMIP protocol for archived variab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r updated historical forcings as near to real time as possi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P data requests seem impractical - way too large – C4MIP as example, but there are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m to be many “hidden” runs in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720" indent="-2840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dden == not explicitly in priorities but needed to make priority runs (C4MIP (e.g. emission), FAMIP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  <Words>377</Words>
  <Paragraphs>51</Paragraphs>
  <Company>@domainou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3:43:26Z</dcterms:created>
  <dc:creator>rjs</dc:creator>
  <dc:description/>
  <dc:language>en-US</dc:language>
  <cp:lastModifiedBy>Ron Stouffer</cp:lastModifiedBy>
  <cp:lastPrinted>2015-09-30T14:15:34Z</cp:lastPrinted>
  <dcterms:modified xsi:type="dcterms:W3CDTF">2015-10-16T14:44:38Z</dcterms:modified>
  <cp:revision>16</cp:revision>
  <dc:subject/>
  <dc:title>GFDL CMIP6 Pl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7</vt:r8>
  </property>
</Properties>
</file>