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A65D876-44EC-47C4-93F1-BB322080DD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Num" idx="12"/>
          </p:nvPr>
        </p:nvSpPr>
        <p:spPr>
          <a:xfrm>
            <a:off x="3885120" y="8685360"/>
            <a:ext cx="29710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fr-FR" sz="1400" spc="-1" strike="noStrike">
                <a:solidFill>
                  <a:srgbClr val="ffffff"/>
                </a:solidFill>
                <a:latin typeface="Calibri"/>
                <a:ea typeface="+mn-e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31755157-A82E-4052-AF4F-57D8002A104C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ldImg"/>
          </p:nvPr>
        </p:nvSpPr>
        <p:spPr>
          <a:xfrm>
            <a:off x="1187280" y="711360"/>
            <a:ext cx="4484160" cy="3362040"/>
          </a:xfrm>
          <a:prstGeom prst="rect">
            <a:avLst/>
          </a:prstGeom>
          <a:ln w="0">
            <a:noFill/>
          </a:ln>
        </p:spPr>
      </p:sp>
      <p:sp>
        <p:nvSpPr>
          <p:cNvPr id="249" name="Text Box 2"/>
          <p:cNvSpPr/>
          <p:nvPr/>
        </p:nvSpPr>
        <p:spPr>
          <a:xfrm>
            <a:off x="950400" y="4360320"/>
            <a:ext cx="4958280" cy="40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GB" sz="2400" spc="-1" strike="noStrike">
              <a:solidFill>
                <a:srgbClr val="ffffff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Num" idx="10"/>
          </p:nvPr>
        </p:nvSpPr>
        <p:spPr>
          <a:xfrm>
            <a:off x="3885120" y="8685360"/>
            <a:ext cx="29710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fr-FR" sz="1400" spc="-1" strike="noStrike">
                <a:solidFill>
                  <a:srgbClr val="ffffff"/>
                </a:solidFill>
                <a:latin typeface="Calibri"/>
                <a:ea typeface="+mn-e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B2700716-3B4B-4998-900A-3F3C9BEE1EDC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ldImg"/>
          </p:nvPr>
        </p:nvSpPr>
        <p:spPr>
          <a:xfrm>
            <a:off x="1187280" y="711360"/>
            <a:ext cx="4484160" cy="3362040"/>
          </a:xfrm>
          <a:prstGeom prst="rect">
            <a:avLst/>
          </a:prstGeom>
          <a:ln w="0">
            <a:noFill/>
          </a:ln>
        </p:spPr>
      </p:sp>
      <p:sp>
        <p:nvSpPr>
          <p:cNvPr id="243" name="Text Box 2"/>
          <p:cNvSpPr/>
          <p:nvPr/>
        </p:nvSpPr>
        <p:spPr>
          <a:xfrm>
            <a:off x="950400" y="4360320"/>
            <a:ext cx="4958280" cy="4077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GB" sz="2400" spc="-1" strike="noStrike">
              <a:solidFill>
                <a:srgbClr val="ffffff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Num" idx="11"/>
          </p:nvPr>
        </p:nvSpPr>
        <p:spPr>
          <a:xfrm>
            <a:off x="3885120" y="8685360"/>
            <a:ext cx="29710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fr-FR" sz="1400" spc="-1" strike="noStrike">
                <a:solidFill>
                  <a:srgbClr val="ffffff"/>
                </a:solidFill>
                <a:latin typeface="Calibri"/>
                <a:ea typeface="+mn-e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34E46697-E633-4543-82D3-6F4666502075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ldImg"/>
          </p:nvPr>
        </p:nvSpPr>
        <p:spPr>
          <a:xfrm>
            <a:off x="1187280" y="711360"/>
            <a:ext cx="4484160" cy="3362040"/>
          </a:xfrm>
          <a:prstGeom prst="rect">
            <a:avLst/>
          </a:prstGeom>
          <a:ln w="0">
            <a:noFill/>
          </a:ln>
        </p:spPr>
      </p:sp>
      <p:sp>
        <p:nvSpPr>
          <p:cNvPr id="246" name="Text Box 2"/>
          <p:cNvSpPr/>
          <p:nvPr/>
        </p:nvSpPr>
        <p:spPr>
          <a:xfrm>
            <a:off x="950400" y="4360320"/>
            <a:ext cx="4958280" cy="40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GB" sz="2400" spc="-1" strike="noStrike">
              <a:solidFill>
                <a:srgbClr val="ffffff"/>
              </a:solidFill>
              <a:latin typeface="Times New Roman"/>
              <a:ea typeface="Microsoft YaHe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90964-61AE-438F-ADDC-2DB1ECCEE0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B6FDE-D50C-46D3-9690-053C9E75F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B3623-B73A-4A48-BF59-1852187E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64022-6160-4F88-B9F2-8D75E7CE1A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1B403C-4FB2-4FD7-B8A2-1F3FAB5EC7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ACC9B8-F027-457A-8EB9-F50602C3A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745FA8-8D0E-4CAB-B799-53B7F5499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A3E2A8-BBE6-4A1B-A225-A83858052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88BC95-C483-4C92-908A-2CD2F40B8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7167A8-F917-4499-B63E-4B8E95601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91B546-60D1-4EC6-A915-DAEAD5178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A496B-333E-4C00-B1EC-4B3D1A17B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8210DA-288F-42B2-A577-DE7894D8C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5933DC-BEF1-48F5-90AD-1CB815EC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2ACE5D-ADB0-4D8C-8466-8F6104387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F20792-BE9D-47D4-A36D-BDCCD6B4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047C1A-BC0D-4B13-A778-165BA6FD5F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C2B20-A2C6-462A-BB1A-55682D9E7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97898-4CD6-4971-8ADE-880D0A377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985BE-9B7A-44AC-AED8-B89F565CF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B4058-7A0D-4C56-9E95-85F83226D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C3300-0C6D-4FBE-A61C-B624B0E0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4BBAE-E065-4F64-A8CA-DC6B4306C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D4CEE-97E3-4DD2-ADC6-6281BE87F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4"/>
          <p:cNvSpPr/>
          <p:nvPr/>
        </p:nvSpPr>
        <p:spPr>
          <a:xfrm>
            <a:off x="3124080" y="6354720"/>
            <a:ext cx="289512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ffffff"/>
              </a:solidFill>
              <a:latin typeface="Calibri"/>
              <a:ea typeface="AR PL UMing H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AR PL UMing HK"/>
              </a:rPr>
              <a:t>Modifiez le style du titre</a:t>
            </a: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30120" cy="3711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30120" cy="3711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fr-FR" sz="1400" spc="-1" strike="noStrike">
                <a:solidFill>
                  <a:srgbClr val="000000"/>
                </a:solidFill>
                <a:latin typeface="Calibri"/>
                <a:ea typeface="AR PL UMing H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952E8CFE-2CDD-4762-8BC6-48260ECFF0D5}" type="slidenum">
              <a:rPr b="0" lang="fr-FR" sz="1400" spc="-1" strike="noStrike">
                <a:solidFill>
                  <a:srgbClr val="000000"/>
                </a:solidFill>
                <a:latin typeface="Calibri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GB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GB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GB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GB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GB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GB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124080" y="6354720"/>
            <a:ext cx="289512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ffffff"/>
              </a:solidFill>
              <a:latin typeface="Calibri"/>
              <a:ea typeface="AR PL UMing HK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3"/>
          </p:nvPr>
        </p:nvSpPr>
        <p:spPr>
          <a:xfrm>
            <a:off x="457200" y="6353280"/>
            <a:ext cx="2130120" cy="3711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4"/>
          </p:nvPr>
        </p:nvSpPr>
        <p:spPr>
          <a:xfrm>
            <a:off x="6553080" y="6353280"/>
            <a:ext cx="2130120" cy="3711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fr-FR" sz="1400" spc="-1" strike="noStrike">
                <a:solidFill>
                  <a:srgbClr val="000000"/>
                </a:solidFill>
                <a:latin typeface="Calibri"/>
                <a:ea typeface="AR PL UMing H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018DF704-716B-45F8-988C-14DEBE64AC6E}" type="slidenum">
              <a:rPr b="0" lang="fr-FR" sz="1400" spc="-1" strike="noStrike">
                <a:solidFill>
                  <a:srgbClr val="000000"/>
                </a:solidFill>
                <a:latin typeface="Calibri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GB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GB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GB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GB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GB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GB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"/>
          <p:cNvPicPr/>
          <p:nvPr/>
        </p:nvPicPr>
        <p:blipFill>
          <a:blip r:embed="rId3"/>
          <a:srcRect l="5263" t="13014" r="8781" b="22065"/>
          <a:stretch/>
        </p:blipFill>
        <p:spPr>
          <a:xfrm>
            <a:off x="6588000" y="6264360"/>
            <a:ext cx="2339640" cy="477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4"/>
          <a:srcRect l="5263" t="13020" r="8781" b="22075"/>
          <a:stretch/>
        </p:blipFill>
        <p:spPr>
          <a:xfrm>
            <a:off x="6588000" y="6257880"/>
            <a:ext cx="2339640" cy="47736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6"/>
          <p:cNvSpPr/>
          <p:nvPr/>
        </p:nvSpPr>
        <p:spPr>
          <a:xfrm>
            <a:off x="6553080" y="6242040"/>
            <a:ext cx="2437920" cy="60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GB" sz="2400" spc="-1" strike="noStrike">
              <a:solidFill>
                <a:srgbClr val="ffffff"/>
              </a:solidFill>
              <a:latin typeface="Times New Roman"/>
              <a:ea typeface="Microsoft YaHei"/>
            </a:endParaRPr>
          </a:p>
        </p:txBody>
      </p:sp>
      <p:pic>
        <p:nvPicPr>
          <p:cNvPr id="85" name="Picture 7" descr=""/>
          <p:cNvPicPr/>
          <p:nvPr/>
        </p:nvPicPr>
        <p:blipFill>
          <a:blip r:embed="rId5"/>
          <a:stretch/>
        </p:blipFill>
        <p:spPr>
          <a:xfrm>
            <a:off x="6629400" y="6251400"/>
            <a:ext cx="1528560" cy="453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"/>
          <p:cNvPicPr/>
          <p:nvPr/>
        </p:nvPicPr>
        <p:blipFill>
          <a:blip r:embed="rId6"/>
          <a:stretch/>
        </p:blipFill>
        <p:spPr>
          <a:xfrm>
            <a:off x="5005440" y="6124680"/>
            <a:ext cx="561600" cy="685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"/>
          <p:cNvPicPr/>
          <p:nvPr/>
        </p:nvPicPr>
        <p:blipFill>
          <a:blip r:embed="rId7"/>
          <a:stretch/>
        </p:blipFill>
        <p:spPr>
          <a:xfrm>
            <a:off x="4191120" y="6161040"/>
            <a:ext cx="685440" cy="630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0600" cy="14680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fr-FR" sz="3500" spc="-1" strike="noStrike">
                <a:solidFill>
                  <a:srgbClr val="000000"/>
                </a:solidFill>
                <a:latin typeface="Arial"/>
                <a:ea typeface="Microsoft YaHei"/>
              </a:rPr>
              <a:t>Modifiez le style du titre</a:t>
            </a:r>
            <a:endParaRPr b="0" lang="en-GB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ftr" idx="5"/>
          </p:nvPr>
        </p:nvSpPr>
        <p:spPr>
          <a:xfrm>
            <a:off x="76320" y="6248520"/>
            <a:ext cx="3526920" cy="2059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ctr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 algn="ctr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GB" sz="16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 algn="ctr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GB" sz="1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 algn="ctr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GB" sz="14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 algn="ctr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 algn="ctr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 algn="ctr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42920" y="274680"/>
            <a:ext cx="7272000" cy="7045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  <a:ea typeface="Microsoft YaHei"/>
              </a:rPr>
              <a:t>Modifiez le style du titre</a:t>
            </a:r>
            <a:endParaRPr b="0" lang="en-GB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05480" cy="44622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Modifiez les styles du texte du masque</a:t>
            </a: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Deuxième niveau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Troisième niveau</a:t>
            </a:r>
            <a:endParaRPr b="0" lang="en-GB" sz="1600" spc="-1" strike="noStrike">
              <a:solidFill>
                <a:srgbClr val="000000"/>
              </a:solidFill>
              <a:latin typeface="Arial"/>
            </a:endParaRPr>
          </a:p>
          <a:p>
            <a:pPr marL="1600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Quatrième niveau</a:t>
            </a:r>
            <a:endParaRPr b="0" lang="en-GB" sz="1400" spc="-1" strike="noStrike">
              <a:solidFill>
                <a:srgbClr val="000000"/>
              </a:solidFill>
              <a:latin typeface="Arial"/>
            </a:endParaRPr>
          </a:p>
          <a:p>
            <a:pPr marL="20574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Cinquième niveau</a:t>
            </a:r>
            <a:endParaRPr b="0" lang="en-GB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6"/>
          </p:nvPr>
        </p:nvSpPr>
        <p:spPr>
          <a:xfrm>
            <a:off x="466560" y="6245280"/>
            <a:ext cx="1871280" cy="4744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AR PL UMing HK"/>
              </a:rPr>
              <a:t>WGCM19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AR PL UMing HK"/>
              </a:rPr>
              <a:t>Report from the French groups</a:t>
            </a: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73" name="Groupe 4"/>
          <p:cNvGrpSpPr/>
          <p:nvPr/>
        </p:nvGrpSpPr>
        <p:grpSpPr>
          <a:xfrm>
            <a:off x="179640" y="4869000"/>
            <a:ext cx="3919320" cy="1050480"/>
            <a:chOff x="179640" y="4869000"/>
            <a:chExt cx="3919320" cy="1050480"/>
          </a:xfrm>
        </p:grpSpPr>
        <p:pic>
          <p:nvPicPr>
            <p:cNvPr id="174" name="Picture 2" descr=""/>
            <p:cNvPicPr/>
            <p:nvPr/>
          </p:nvPicPr>
          <p:blipFill>
            <a:blip r:embed="rId1"/>
            <a:srcRect l="0" t="0" r="65614" b="0"/>
            <a:stretch/>
          </p:blipFill>
          <p:spPr>
            <a:xfrm>
              <a:off x="179640" y="4869000"/>
              <a:ext cx="3919320" cy="105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Rectangle 3"/>
            <p:cNvSpPr/>
            <p:nvPr/>
          </p:nvSpPr>
          <p:spPr>
            <a:xfrm>
              <a:off x="2219040" y="4869000"/>
              <a:ext cx="1879920" cy="794880"/>
            </a:xfrm>
            <a:prstGeom prst="rect">
              <a:avLst/>
            </a:prstGeom>
            <a:solidFill>
              <a:srgbClr val="ffffff"/>
            </a:solidFill>
            <a:ln cap="sq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fr-FR" sz="1800" spc="-1" strike="noStrike">
                <a:solidFill>
                  <a:srgbClr val="ffffff"/>
                </a:solidFill>
                <a:latin typeface="Calibri"/>
                <a:ea typeface="AR PL UMing HK"/>
              </a:endParaRPr>
            </a:p>
          </p:txBody>
        </p:sp>
      </p:grpSp>
      <p:pic>
        <p:nvPicPr>
          <p:cNvPr id="176" name="Picture 7" descr=""/>
          <p:cNvPicPr/>
          <p:nvPr/>
        </p:nvPicPr>
        <p:blipFill>
          <a:blip r:embed="rId2"/>
          <a:stretch/>
        </p:blipFill>
        <p:spPr>
          <a:xfrm>
            <a:off x="5940000" y="4869000"/>
            <a:ext cx="2744640" cy="8150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"/>
          <p:cNvPicPr/>
          <p:nvPr/>
        </p:nvPicPr>
        <p:blipFill>
          <a:blip r:embed="rId3"/>
          <a:stretch/>
        </p:blipFill>
        <p:spPr>
          <a:xfrm>
            <a:off x="4098960" y="4444920"/>
            <a:ext cx="120852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"/>
          <p:cNvSpPr/>
          <p:nvPr/>
        </p:nvSpPr>
        <p:spPr>
          <a:xfrm>
            <a:off x="0" y="5867280"/>
            <a:ext cx="914364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GB" sz="2400" spc="-1" strike="noStrike">
              <a:solidFill>
                <a:srgbClr val="ffffff"/>
              </a:solidFill>
              <a:latin typeface="Times New Roman"/>
              <a:ea typeface="Microsoft YaHei"/>
            </a:endParaRPr>
          </a:p>
        </p:txBody>
      </p:sp>
      <p:sp>
        <p:nvSpPr>
          <p:cNvPr id="231" name="Rectangle 2"/>
          <p:cNvSpPr/>
          <p:nvPr/>
        </p:nvSpPr>
        <p:spPr>
          <a:xfrm>
            <a:off x="1042920" y="274680"/>
            <a:ext cx="727344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  <a:ea typeface="Microsoft YaHei"/>
              </a:rPr>
              <a:t>Plans for CNRM-CM6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990720" y="1189080"/>
            <a:ext cx="748296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CNRM-CM6 AOGCM: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98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low resolution (LR) : TL127L91 + NEMO3.6 ORCA1L75 + SURFEX + TRIP0.5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69880">
              <a:lnSpc>
                <a:spcPct val="100000"/>
              </a:lnSpc>
              <a:tabLst>
                <a:tab algn="l" pos="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Microsoft YaHei"/>
              </a:rPr>
              <a:t>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for D&amp;A, ScenarioMIP… ARPEGE-Climat v6 (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prognostic physic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98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high resolution (HR): Atm: TL359L91 / Oce: ORCA025L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69880">
              <a:lnSpc>
                <a:spcPct val="100000"/>
              </a:lnSpc>
              <a:tabLst>
                <a:tab algn="l" pos="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for HighResMIP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698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2015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98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CNRM-CM6-LR available by late 2015 (preliminary version performing already better than CNRM-CM5 already available, a bit more tuning is still needed to improve the model furth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2016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- CNRM-ESM LR available by mid 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- CNRM-CM6 HR + CNRM-ESM2 HR available by late 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98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DECK + CMIP6 Historical Simulation (CNRM-CM6-LR + CNRM-ESM2-LR) by late 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98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AMIP simulations, OMIP, Land-Only simulations, DAMIP (LR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2017-2018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98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MIPs (all except PDRMIP, SolarMIP, VolMI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6988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42920" y="274680"/>
            <a:ext cx="7272000" cy="7045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  <a:ea typeface="Microsoft YaHei"/>
              </a:rPr>
              <a:t>Plans for regional climate modelling</a:t>
            </a:r>
            <a:endParaRPr b="0" lang="en-GB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5480" cy="44622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Based on Aladin-Climat model</a:t>
            </a: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CORDEX actually managed outside CMIP</a:t>
            </a: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AR PL UMing HK"/>
              </a:rPr>
              <a:t>Thank you</a:t>
            </a: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36" name="Groupe 4"/>
          <p:cNvGrpSpPr/>
          <p:nvPr/>
        </p:nvGrpSpPr>
        <p:grpSpPr>
          <a:xfrm>
            <a:off x="179640" y="4869000"/>
            <a:ext cx="3919320" cy="1050480"/>
            <a:chOff x="179640" y="4869000"/>
            <a:chExt cx="3919320" cy="1050480"/>
          </a:xfrm>
        </p:grpSpPr>
        <p:pic>
          <p:nvPicPr>
            <p:cNvPr id="237" name="Picture 2" descr=""/>
            <p:cNvPicPr/>
            <p:nvPr/>
          </p:nvPicPr>
          <p:blipFill>
            <a:blip r:embed="rId1"/>
            <a:srcRect l="0" t="0" r="65614" b="0"/>
            <a:stretch/>
          </p:blipFill>
          <p:spPr>
            <a:xfrm>
              <a:off x="179640" y="4869000"/>
              <a:ext cx="3919320" cy="105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Rectangle 3"/>
            <p:cNvSpPr/>
            <p:nvPr/>
          </p:nvSpPr>
          <p:spPr>
            <a:xfrm>
              <a:off x="2219040" y="4869000"/>
              <a:ext cx="1879920" cy="794880"/>
            </a:xfrm>
            <a:prstGeom prst="rect">
              <a:avLst/>
            </a:prstGeom>
            <a:solidFill>
              <a:srgbClr val="ffffff"/>
            </a:solidFill>
            <a:ln cap="sq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fr-FR" sz="1800" spc="-1" strike="noStrike">
                <a:solidFill>
                  <a:srgbClr val="ffffff"/>
                </a:solidFill>
                <a:latin typeface="Calibri"/>
                <a:ea typeface="AR PL UMing HK"/>
              </a:endParaRPr>
            </a:p>
          </p:txBody>
        </p:sp>
      </p:grpSp>
      <p:pic>
        <p:nvPicPr>
          <p:cNvPr id="239" name="Picture 7" descr=""/>
          <p:cNvPicPr/>
          <p:nvPr/>
        </p:nvPicPr>
        <p:blipFill>
          <a:blip r:embed="rId2"/>
          <a:stretch/>
        </p:blipFill>
        <p:spPr>
          <a:xfrm>
            <a:off x="5940000" y="4869000"/>
            <a:ext cx="2744640" cy="8150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8" descr=""/>
          <p:cNvPicPr/>
          <p:nvPr/>
        </p:nvPicPr>
        <p:blipFill>
          <a:blip r:embed="rId3"/>
          <a:stretch/>
        </p:blipFill>
        <p:spPr>
          <a:xfrm>
            <a:off x="4098960" y="4444920"/>
            <a:ext cx="120852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"/>
          <p:cNvSpPr/>
          <p:nvPr/>
        </p:nvSpPr>
        <p:spPr>
          <a:xfrm>
            <a:off x="425520" y="3213000"/>
            <a:ext cx="810684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0" i="1" lang="fr-FR" sz="3600" spc="-1" strike="noStrike">
                <a:solidFill>
                  <a:srgbClr val="0070c0"/>
                </a:solidFill>
                <a:latin typeface="Lucida Sans"/>
                <a:ea typeface="Lucida Sans"/>
              </a:rPr>
              <a:t>IPSL plans for CMIP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e 2"/>
          <p:cNvGrpSpPr/>
          <p:nvPr/>
        </p:nvGrpSpPr>
        <p:grpSpPr>
          <a:xfrm>
            <a:off x="0" y="317520"/>
            <a:ext cx="5155920" cy="1482480"/>
            <a:chOff x="0" y="317520"/>
            <a:chExt cx="5155920" cy="1482480"/>
          </a:xfrm>
        </p:grpSpPr>
        <p:pic>
          <p:nvPicPr>
            <p:cNvPr id="180" name="Picture 2" descr=""/>
            <p:cNvPicPr/>
            <p:nvPr/>
          </p:nvPicPr>
          <p:blipFill>
            <a:blip r:embed="rId1"/>
            <a:srcRect l="0" t="0" r="65614" b="0"/>
            <a:stretch/>
          </p:blipFill>
          <p:spPr>
            <a:xfrm>
              <a:off x="0" y="317520"/>
              <a:ext cx="5155920" cy="148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Rectangle 3"/>
            <p:cNvSpPr/>
            <p:nvPr/>
          </p:nvSpPr>
          <p:spPr>
            <a:xfrm>
              <a:off x="2682720" y="317520"/>
              <a:ext cx="2472840" cy="1122120"/>
            </a:xfrm>
            <a:prstGeom prst="rect">
              <a:avLst/>
            </a:prstGeom>
            <a:solidFill>
              <a:srgbClr val="ffffff"/>
            </a:solidFill>
            <a:ln cap="sq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fr-FR" sz="1800" spc="-1" strike="noStrike">
                <a:solidFill>
                  <a:srgbClr val="ffffff"/>
                </a:solidFill>
                <a:latin typeface="Calibri"/>
                <a:ea typeface="AR PL UMing H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3"/>
          <p:cNvSpPr/>
          <p:nvPr/>
        </p:nvSpPr>
        <p:spPr>
          <a:xfrm>
            <a:off x="3554640" y="3808440"/>
            <a:ext cx="1792080" cy="638640"/>
          </a:xfrm>
          <a:prstGeom prst="rect">
            <a:avLst/>
          </a:prstGeom>
          <a:solidFill>
            <a:srgbClr val="cc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fr-FR" sz="1800" spc="-1" strike="noStrike">
              <a:solidFill>
                <a:srgbClr val="ffffff"/>
              </a:solidFill>
              <a:latin typeface="Arial"/>
              <a:ea typeface="DejaVu LGC Sans"/>
            </a:endParaRPr>
          </a:p>
        </p:txBody>
      </p:sp>
      <p:sp>
        <p:nvSpPr>
          <p:cNvPr id="183" name="Forme libre 4"/>
          <p:cNvSpPr/>
          <p:nvPr/>
        </p:nvSpPr>
        <p:spPr>
          <a:xfrm>
            <a:off x="849600" y="1618200"/>
            <a:ext cx="2785680" cy="869760"/>
          </a:xfrm>
          <a:custGeom>
            <a:avLst/>
            <a:gdLst>
              <a:gd name="textAreaLeft" fmla="*/ 407880 w 2785680"/>
              <a:gd name="textAreaRight" fmla="*/ 2377800 w 2785680"/>
              <a:gd name="textAreaTop" fmla="*/ 127080 h 869760"/>
              <a:gd name="textAreaBottom" fmla="*/ 742680 h 869760"/>
            </a:gdLst>
            <a:ahLst/>
            <a:rect l="textAreaLeft" t="textAreaTop" r="textAreaRight" b="textAreaBottom"/>
            <a:pathLst>
              <a:path w="3870" h="1209">
                <a:moveTo>
                  <a:pt x="0" y="1209"/>
                </a:moveTo>
                <a:arcTo wR="3869.5" hR="1208.5" stAng="10800000" swAng="5400000"/>
                <a:arcTo wR="3869.5" hR="1208.5" stAng="16200000" swAng="5400000"/>
                <a:arcTo wR="3869.5" hR="1208.5" stAng="0" swAng="5400000"/>
                <a:arcTo wR="3869.5" hR="1208.5" stAng="5400000" swAng="5400000"/>
                <a:close/>
              </a:path>
            </a:pathLst>
          </a:custGeom>
          <a:solidFill>
            <a:srgbClr val="ffc000">
              <a:alpha val="8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fr-FR" sz="1800" spc="-1" strike="noStrike">
              <a:solidFill>
                <a:srgbClr val="ffffff"/>
              </a:solidFill>
              <a:latin typeface="Arial"/>
              <a:ea typeface="DejaVu LGC Sans"/>
            </a:endParaRPr>
          </a:p>
        </p:txBody>
      </p:sp>
      <p:grpSp>
        <p:nvGrpSpPr>
          <p:cNvPr id="184" name="Group 5"/>
          <p:cNvGrpSpPr/>
          <p:nvPr/>
        </p:nvGrpSpPr>
        <p:grpSpPr>
          <a:xfrm>
            <a:off x="6015600" y="3058200"/>
            <a:ext cx="2961000" cy="1967760"/>
            <a:chOff x="6015600" y="3058200"/>
            <a:chExt cx="2961000" cy="1967760"/>
          </a:xfrm>
        </p:grpSpPr>
        <p:grpSp>
          <p:nvGrpSpPr>
            <p:cNvPr id="185" name="Group 6"/>
            <p:cNvGrpSpPr/>
            <p:nvPr/>
          </p:nvGrpSpPr>
          <p:grpSpPr>
            <a:xfrm>
              <a:off x="6084360" y="3868920"/>
              <a:ext cx="2814480" cy="1157040"/>
              <a:chOff x="6084360" y="3868920"/>
              <a:chExt cx="2814480" cy="1157040"/>
            </a:xfrm>
          </p:grpSpPr>
          <p:pic>
            <p:nvPicPr>
              <p:cNvPr id="186" name="Pictur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6084360" y="3868920"/>
                <a:ext cx="2814480" cy="1157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Rectangle 11"/>
              <p:cNvSpPr/>
              <p:nvPr/>
            </p:nvSpPr>
            <p:spPr>
              <a:xfrm rot="1020000">
                <a:off x="8187840" y="4663800"/>
                <a:ext cx="507240" cy="6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fr-FR" sz="1800" spc="-1" strike="noStrike">
                  <a:solidFill>
                    <a:srgbClr val="ffffff"/>
                  </a:solidFill>
                  <a:latin typeface="Arial"/>
                  <a:ea typeface="DejaVu LGC Sans"/>
                </a:endParaRPr>
              </a:p>
            </p:txBody>
          </p:sp>
        </p:grpSp>
        <p:pic>
          <p:nvPicPr>
            <p:cNvPr id="188" name="Picture 9" descr=""/>
            <p:cNvPicPr/>
            <p:nvPr/>
          </p:nvPicPr>
          <p:blipFill>
            <a:blip r:embed="rId2"/>
            <a:stretch/>
          </p:blipFill>
          <p:spPr>
            <a:xfrm>
              <a:off x="6015600" y="3058200"/>
              <a:ext cx="2961000" cy="104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AutoShape 10"/>
            <p:cNvSpPr/>
            <p:nvPr/>
          </p:nvSpPr>
          <p:spPr>
            <a:xfrm>
              <a:off x="8586000" y="3645720"/>
              <a:ext cx="176040" cy="59580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595800"/>
                <a:gd name="textAreaBottom" fmla="*/ 596160 h 595800"/>
              </a:gdLst>
              <a:ahLst/>
              <a:rect l="textAreaLeft" t="textAreaTop" r="textAreaRight" b="textAreaBottom"/>
              <a:pathLst>
                <a:path stroke="0" w="512" h="1715">
                  <a:moveTo>
                    <a:pt x="0" y="1280"/>
                  </a:moveTo>
                  <a:lnTo>
                    <a:pt x="163" y="873"/>
                  </a:lnTo>
                  <a:lnTo>
                    <a:pt x="163" y="1061"/>
                  </a:lnTo>
                  <a:arcTo wR="490" hR="546.06135" stAng="4343895" swAng="-3010531"/>
                  <a:arcTo wR="490" hR="546.06135" stAng="-1333365" swAng="5677260"/>
                  <a:lnTo>
                    <a:pt x="163" y="1625"/>
                  </a:lnTo>
                  <a:close/>
                </a:path>
                <a:path stroke="0" w="512" h="1715">
                  <a:moveTo>
                    <a:pt x="490" y="922"/>
                  </a:moveTo>
                  <a:arcTo wR="490" hR="546.06135" stAng="0" swAng="-5400000"/>
                  <a:lnTo>
                    <a:pt x="0" y="0"/>
                  </a:lnTo>
                  <a:arcTo wR="490" hR="546.06135" stAng="16200000" swAng="5400000"/>
                  <a:close/>
                </a:path>
                <a:path fill="none" w="512" h="1715">
                  <a:moveTo>
                    <a:pt x="490" y="922"/>
                  </a:moveTo>
                  <a:arcTo wR="490" hR="546.06135" stAng="0" swAng="-5400000"/>
                  <a:lnTo>
                    <a:pt x="0" y="0"/>
                  </a:lnTo>
                  <a:arcTo wR="490" hR="546.06135" stAng="16200000" swAng="5400000"/>
                  <a:lnTo>
                    <a:pt x="490" y="922"/>
                  </a:lnTo>
                  <a:arcTo wR="490" hR="546.06135" stAng="0" swAng="4343895"/>
                  <a:lnTo>
                    <a:pt x="163" y="1625"/>
                  </a:lnTo>
                  <a:lnTo>
                    <a:pt x="0" y="1280"/>
                  </a:lnTo>
                  <a:lnTo>
                    <a:pt x="163" y="873"/>
                  </a:lnTo>
                  <a:lnTo>
                    <a:pt x="163" y="1061"/>
                  </a:lnTo>
                  <a:arcTo wR="490" hR="546.06135" stAng="4343895" swAng="-3010531"/>
                </a:path>
              </a:pathLst>
            </a:custGeom>
            <a:solidFill>
              <a:srgbClr val="009999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fr-FR" sz="1800" spc="-1" strike="noStrike">
                <a:solidFill>
                  <a:srgbClr val="ffffff"/>
                </a:solidFill>
                <a:latin typeface="Arial"/>
                <a:ea typeface="DejaVu LGC Sans"/>
              </a:endParaRPr>
            </a:p>
          </p:txBody>
        </p:sp>
        <p:sp>
          <p:nvSpPr>
            <p:cNvPr id="190" name="AutoShape 11"/>
            <p:cNvSpPr/>
            <p:nvPr/>
          </p:nvSpPr>
          <p:spPr>
            <a:xfrm flipV="1">
              <a:off x="6230880" y="3631320"/>
              <a:ext cx="176040" cy="62208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360 h 622080"/>
                <a:gd name="textAreaBottom" fmla="*/ 622800 h 622080"/>
              </a:gdLst>
              <a:ahLst/>
              <a:rect l="textAreaLeft" t="textAreaTop" r="textAreaRight" b="textAreaBottom"/>
              <a:pathLst>
                <a:path stroke="0" w="490" h="1769">
                  <a:moveTo>
                    <a:pt x="0" y="570"/>
                  </a:moveTo>
                  <a:arcTo wR="490" hR="570.1227" stAng="10800000" swAng="-4385875"/>
                  <a:lnTo>
                    <a:pt x="327" y="911"/>
                  </a:lnTo>
                  <a:lnTo>
                    <a:pt x="490" y="1336"/>
                  </a:lnTo>
                  <a:lnTo>
                    <a:pt x="327" y="1696"/>
                  </a:lnTo>
                  <a:lnTo>
                    <a:pt x="327" y="1500"/>
                  </a:lnTo>
                  <a:arcTo wR="490" hR="570.1227" stAng="6414125" swAng="4385875"/>
                  <a:close/>
                </a:path>
                <a:path stroke="0" w="490" h="1769">
                  <a:moveTo>
                    <a:pt x="490" y="393"/>
                  </a:moveTo>
                  <a:arcTo wR="490" hR="570.1227" stAng="16200000" swAng="-4013857"/>
                  <a:arcTo wR="490" hR="570.1227" stAng="9413857" swAng="6786143"/>
                  <a:close/>
                </a:path>
                <a:path fill="none" w="490" h="1769">
                  <a:moveTo>
                    <a:pt x="0" y="570"/>
                  </a:moveTo>
                  <a:arcTo wR="490" hR="570.1227" stAng="10800000" swAng="-4385875"/>
                  <a:lnTo>
                    <a:pt x="327" y="911"/>
                  </a:lnTo>
                  <a:lnTo>
                    <a:pt x="490" y="1336"/>
                  </a:lnTo>
                  <a:lnTo>
                    <a:pt x="327" y="1696"/>
                  </a:lnTo>
                  <a:lnTo>
                    <a:pt x="327" y="1500"/>
                  </a:lnTo>
                  <a:arcTo wR="490" hR="570.1227" stAng="6414125" swAng="4385875"/>
                  <a:lnTo>
                    <a:pt x="0" y="570"/>
                  </a:lnTo>
                  <a:arcTo wR="490" hR="570.1227" stAng="10800000" swAng="5400000"/>
                  <a:lnTo>
                    <a:pt x="490" y="393"/>
                  </a:lnTo>
                  <a:arcTo wR="490" hR="570.1227" stAng="16200000" swAng="-4013857"/>
                </a:path>
              </a:pathLst>
            </a:custGeom>
            <a:solidFill>
              <a:srgbClr val="009999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fr-FR" sz="1800" spc="-1" strike="noStrike">
                <a:solidFill>
                  <a:srgbClr val="ffffff"/>
                </a:solidFill>
                <a:latin typeface="Arial"/>
                <a:ea typeface="DejaVu LGC Sans"/>
              </a:endParaRPr>
            </a:p>
          </p:txBody>
        </p:sp>
      </p:grpSp>
      <p:pic>
        <p:nvPicPr>
          <p:cNvPr id="191" name="Picture 9" descr=""/>
          <p:cNvPicPr/>
          <p:nvPr/>
        </p:nvPicPr>
        <p:blipFill>
          <a:blip r:embed="rId3"/>
          <a:srcRect l="25984" t="0" r="25984" b="0"/>
          <a:stretch/>
        </p:blipFill>
        <p:spPr>
          <a:xfrm>
            <a:off x="179640" y="2931480"/>
            <a:ext cx="2477160" cy="1915920"/>
          </a:xfrm>
          <a:prstGeom prst="rect">
            <a:avLst/>
          </a:prstGeom>
          <a:ln w="0">
            <a:noFill/>
          </a:ln>
        </p:spPr>
      </p:pic>
      <p:sp>
        <p:nvSpPr>
          <p:cNvPr id="192" name="ZoneTexte 13"/>
          <p:cNvSpPr/>
          <p:nvPr/>
        </p:nvSpPr>
        <p:spPr>
          <a:xfrm>
            <a:off x="850320" y="1717560"/>
            <a:ext cx="279720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LGC Sans"/>
              </a:rPr>
              <a:t>chemistry &amp; aeros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  <a:ea typeface="DejaVu LGC Sans"/>
              </a:rPr>
              <a:t>INCA / REPRO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orme libre 14"/>
          <p:cNvSpPr/>
          <p:nvPr/>
        </p:nvSpPr>
        <p:spPr>
          <a:xfrm>
            <a:off x="5061960" y="1622520"/>
            <a:ext cx="2785680" cy="881640"/>
          </a:xfrm>
          <a:custGeom>
            <a:avLst/>
            <a:gdLst>
              <a:gd name="textAreaLeft" fmla="*/ 407880 w 2785680"/>
              <a:gd name="textAreaRight" fmla="*/ 2377800 w 2785680"/>
              <a:gd name="textAreaTop" fmla="*/ 128880 h 881640"/>
              <a:gd name="textAreaBottom" fmla="*/ 752760 h 881640"/>
            </a:gdLst>
            <a:ahLst/>
            <a:rect l="textAreaLeft" t="textAreaTop" r="textAreaRight" b="textAreaBottom"/>
            <a:pathLst>
              <a:path w="3870" h="1225">
                <a:moveTo>
                  <a:pt x="0" y="1225"/>
                </a:moveTo>
                <a:arcTo wR="3869.5" hR="1225" stAng="10800000" swAng="5400000"/>
                <a:arcTo wR="3869.5" hR="1225" stAng="16200000" swAng="5400000"/>
                <a:arcTo wR="3869.5" hR="1225" stAng="0" swAng="5400000"/>
                <a:arcTo wR="3869.5" hR="1225" stAng="5400000" swAng="5400000"/>
                <a:close/>
              </a:path>
            </a:pathLst>
          </a:custGeom>
          <a:solidFill>
            <a:schemeClr val="accent5">
              <a:lumMod val="75000"/>
            </a:scheme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fr-FR" sz="1800" spc="-1" strike="noStrike">
              <a:solidFill>
                <a:srgbClr val="ffffff"/>
              </a:solidFill>
              <a:latin typeface="Arial"/>
              <a:ea typeface="DejaVu LGC Sans"/>
            </a:endParaRPr>
          </a:p>
        </p:txBody>
      </p:sp>
      <p:sp>
        <p:nvSpPr>
          <p:cNvPr id="194" name="ZoneTexte 15"/>
          <p:cNvSpPr/>
          <p:nvPr/>
        </p:nvSpPr>
        <p:spPr>
          <a:xfrm>
            <a:off x="5062680" y="1717920"/>
            <a:ext cx="279720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LGC Sans"/>
              </a:rPr>
              <a:t>Land and vege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  <a:ea typeface="DejaVu LGC Sans"/>
              </a:rPr>
              <a:t>ORCHID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orme libre 16"/>
          <p:cNvSpPr/>
          <p:nvPr/>
        </p:nvSpPr>
        <p:spPr>
          <a:xfrm>
            <a:off x="3010320" y="2626200"/>
            <a:ext cx="2785680" cy="868320"/>
          </a:xfrm>
          <a:custGeom>
            <a:avLst/>
            <a:gdLst>
              <a:gd name="textAreaLeft" fmla="*/ 407880 w 2785680"/>
              <a:gd name="textAreaRight" fmla="*/ 2377800 w 2785680"/>
              <a:gd name="textAreaTop" fmla="*/ 127080 h 868320"/>
              <a:gd name="textAreaBottom" fmla="*/ 741240 h 868320"/>
            </a:gdLst>
            <a:ahLst/>
            <a:rect l="textAreaLeft" t="textAreaTop" r="textAreaRight" b="textAreaBottom"/>
            <a:pathLst>
              <a:path w="3870" h="1207">
                <a:moveTo>
                  <a:pt x="0" y="1207"/>
                </a:moveTo>
                <a:arcTo wR="3869.5" hR="1206.5" stAng="10800000" swAng="5400000"/>
                <a:arcTo wR="3869.5" hR="1206.5" stAng="16200000" swAng="5400000"/>
                <a:arcTo wR="3869.5" hR="1206.5" stAng="0" swAng="5400000"/>
                <a:arcTo wR="3869.5" hR="1206.5" stAng="5400000" swAng="5400000"/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fr-FR" sz="1800" spc="-1" strike="noStrike">
              <a:solidFill>
                <a:srgbClr val="ffffff"/>
              </a:solidFill>
              <a:latin typeface="Arial"/>
              <a:ea typeface="DejaVu LGC Sans"/>
            </a:endParaRPr>
          </a:p>
        </p:txBody>
      </p:sp>
      <p:sp>
        <p:nvSpPr>
          <p:cNvPr id="196" name="ZoneTexte 17"/>
          <p:cNvSpPr/>
          <p:nvPr/>
        </p:nvSpPr>
        <p:spPr>
          <a:xfrm>
            <a:off x="3011040" y="2726280"/>
            <a:ext cx="279720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LGC Sans"/>
              </a:rPr>
              <a:t>Atmospheric phys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  <a:ea typeface="DejaVu LGC Sans"/>
              </a:rPr>
              <a:t>LMD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orme libre 18"/>
          <p:cNvSpPr/>
          <p:nvPr/>
        </p:nvSpPr>
        <p:spPr>
          <a:xfrm>
            <a:off x="3010680" y="4716720"/>
            <a:ext cx="2785680" cy="874440"/>
          </a:xfrm>
          <a:custGeom>
            <a:avLst/>
            <a:gdLst>
              <a:gd name="textAreaLeft" fmla="*/ 407880 w 2785680"/>
              <a:gd name="textAreaRight" fmla="*/ 2377800 w 2785680"/>
              <a:gd name="textAreaTop" fmla="*/ 127800 h 874440"/>
              <a:gd name="textAreaBottom" fmla="*/ 746640 h 874440"/>
            </a:gdLst>
            <a:ahLst/>
            <a:rect l="textAreaLeft" t="textAreaTop" r="textAreaRight" b="textAreaBottom"/>
            <a:pathLst>
              <a:path w="3870" h="1215">
                <a:moveTo>
                  <a:pt x="0" y="1215"/>
                </a:moveTo>
                <a:arcTo wR="3869.5" hR="1215" stAng="10800000" swAng="5400000"/>
                <a:arcTo wR="3869.5" hR="1215" stAng="16200000" swAng="5400000"/>
                <a:arcTo wR="3869.5" hR="1215" stAng="0" swAng="5400000"/>
                <a:arcTo wR="3869.5" hR="1215" stAng="5400000" swAng="5400000"/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fr-FR" sz="1800" spc="-1" strike="noStrike">
              <a:solidFill>
                <a:srgbClr val="ffffff"/>
              </a:solidFill>
              <a:latin typeface="Arial"/>
              <a:ea typeface="DejaVu LGC Sans"/>
            </a:endParaRPr>
          </a:p>
        </p:txBody>
      </p:sp>
      <p:sp>
        <p:nvSpPr>
          <p:cNvPr id="198" name="ZoneTexte 19"/>
          <p:cNvSpPr/>
          <p:nvPr/>
        </p:nvSpPr>
        <p:spPr>
          <a:xfrm>
            <a:off x="3011400" y="4814640"/>
            <a:ext cx="279720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LGC Sans"/>
              </a:rPr>
              <a:t>Oceanic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DejaVu LGC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LGC Sans"/>
              </a:rPr>
              <a:t>phys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  <a:ea typeface="DejaVu LGC Sans"/>
              </a:rPr>
              <a:t>O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orme libre 20"/>
          <p:cNvSpPr/>
          <p:nvPr/>
        </p:nvSpPr>
        <p:spPr>
          <a:xfrm>
            <a:off x="909360" y="5650560"/>
            <a:ext cx="2785680" cy="874440"/>
          </a:xfrm>
          <a:custGeom>
            <a:avLst/>
            <a:gdLst>
              <a:gd name="textAreaLeft" fmla="*/ 407880 w 2785680"/>
              <a:gd name="textAreaRight" fmla="*/ 2377800 w 2785680"/>
              <a:gd name="textAreaTop" fmla="*/ 127800 h 874440"/>
              <a:gd name="textAreaBottom" fmla="*/ 746640 h 874440"/>
            </a:gdLst>
            <a:ahLst/>
            <a:rect l="textAreaLeft" t="textAreaTop" r="textAreaRight" b="textAreaBottom"/>
            <a:pathLst>
              <a:path w="3870" h="1215">
                <a:moveTo>
                  <a:pt x="0" y="1215"/>
                </a:moveTo>
                <a:arcTo wR="3869.5" hR="1215" stAng="10800000" swAng="5400000"/>
                <a:arcTo wR="3869.5" hR="1215" stAng="16200000" swAng="5400000"/>
                <a:arcTo wR="3869.5" hR="1215" stAng="0" swAng="5400000"/>
                <a:arcTo wR="3869.5" hR="1215" stAng="5400000" swAng="5400000"/>
                <a:close/>
              </a:path>
            </a:pathLst>
          </a:custGeom>
          <a:solidFill>
            <a:schemeClr val="accent1">
              <a:lumMod val="60000"/>
              <a:lumOff val="40000"/>
            </a:scheme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fr-FR" sz="1800" spc="-1" strike="noStrike">
              <a:solidFill>
                <a:srgbClr val="ffffff"/>
              </a:solidFill>
              <a:latin typeface="Arial"/>
              <a:ea typeface="DejaVu LGC Sans"/>
            </a:endParaRPr>
          </a:p>
        </p:txBody>
      </p:sp>
      <p:sp>
        <p:nvSpPr>
          <p:cNvPr id="200" name="ZoneTexte 21"/>
          <p:cNvSpPr/>
          <p:nvPr/>
        </p:nvSpPr>
        <p:spPr>
          <a:xfrm>
            <a:off x="910440" y="5748480"/>
            <a:ext cx="279720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LGC Sans"/>
              </a:rPr>
              <a:t>biogeoch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  <a:ea typeface="DejaVu LGC Sans"/>
              </a:rPr>
              <a:t>PIS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orme libre 22"/>
          <p:cNvSpPr/>
          <p:nvPr/>
        </p:nvSpPr>
        <p:spPr>
          <a:xfrm>
            <a:off x="4941720" y="5650560"/>
            <a:ext cx="2785680" cy="874440"/>
          </a:xfrm>
          <a:custGeom>
            <a:avLst/>
            <a:gdLst>
              <a:gd name="textAreaLeft" fmla="*/ 407880 w 2785680"/>
              <a:gd name="textAreaRight" fmla="*/ 2377800 w 2785680"/>
              <a:gd name="textAreaTop" fmla="*/ 127800 h 874440"/>
              <a:gd name="textAreaBottom" fmla="*/ 746640 h 874440"/>
            </a:gdLst>
            <a:ahLst/>
            <a:rect l="textAreaLeft" t="textAreaTop" r="textAreaRight" b="textAreaBottom"/>
            <a:pathLst>
              <a:path w="3870" h="1215">
                <a:moveTo>
                  <a:pt x="0" y="1215"/>
                </a:moveTo>
                <a:arcTo wR="3869.5" hR="1215" stAng="10800000" swAng="5400000"/>
                <a:arcTo wR="3869.5" hR="1215" stAng="16200000" swAng="5400000"/>
                <a:arcTo wR="3869.5" hR="1215" stAng="0" swAng="5400000"/>
                <a:arcTo wR="3869.5" hR="1215" stAng="5400000" swAng="5400000"/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fr-FR" sz="1800" spc="-1" strike="noStrike">
              <a:solidFill>
                <a:srgbClr val="ffffff"/>
              </a:solidFill>
              <a:latin typeface="Arial"/>
              <a:ea typeface="DejaVu LGC Sans"/>
            </a:endParaRPr>
          </a:p>
        </p:txBody>
      </p:sp>
      <p:sp>
        <p:nvSpPr>
          <p:cNvPr id="202" name="ZoneTexte 23"/>
          <p:cNvSpPr/>
          <p:nvPr/>
        </p:nvSpPr>
        <p:spPr>
          <a:xfrm>
            <a:off x="4942800" y="5748480"/>
            <a:ext cx="279720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LGC Sans"/>
              </a:rPr>
              <a:t>Sea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DejaVu LGC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LGC Sans"/>
              </a:rPr>
              <a:t>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  <a:ea typeface="DejaVu LGC Sans"/>
              </a:rPr>
              <a:t>L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ZoneTexte 24"/>
          <p:cNvSpPr/>
          <p:nvPr/>
        </p:nvSpPr>
        <p:spPr>
          <a:xfrm>
            <a:off x="3679560" y="3807000"/>
            <a:ext cx="150696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LGC Sans"/>
              </a:rPr>
              <a:t>coup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  <a:ea typeface="DejaVu LGC Sans"/>
              </a:rPr>
              <a:t>OA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orme libre 25"/>
          <p:cNvSpPr/>
          <p:nvPr/>
        </p:nvSpPr>
        <p:spPr>
          <a:xfrm rot="2400000">
            <a:off x="5231520" y="5485680"/>
            <a:ext cx="419400" cy="275760"/>
          </a:xfrm>
          <a:custGeom>
            <a:avLst/>
            <a:gdLst>
              <a:gd name="textAreaLeft" fmla="*/ 41760 w 419400"/>
              <a:gd name="textAreaRight" fmla="*/ 377640 w 419400"/>
              <a:gd name="textAreaTop" fmla="*/ 68760 h 275760"/>
              <a:gd name="textAreaBottom" fmla="*/ 207000 h 275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0"/>
                </a:lnTo>
                <a:lnTo>
                  <a:pt x="4300" y="5400"/>
                </a:lnTo>
                <a:lnTo>
                  <a:pt x="17300" y="5400"/>
                </a:lnTo>
                <a:lnTo>
                  <a:pt x="17300" y="0"/>
                </a:lnTo>
                <a:lnTo>
                  <a:pt x="21600" y="10800"/>
                </a:lnTo>
                <a:lnTo>
                  <a:pt x="17300" y="21600"/>
                </a:lnTo>
                <a:lnTo>
                  <a:pt x="17300" y="16200"/>
                </a:lnTo>
                <a:lnTo>
                  <a:pt x="4300" y="16200"/>
                </a:lnTo>
                <a:lnTo>
                  <a:pt x="4300" y="21600"/>
                </a:lnTo>
                <a:close/>
              </a:path>
            </a:pathLst>
          </a:custGeom>
          <a:solidFill>
            <a:srgbClr val="2323d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fr-FR" sz="1800" spc="-1" strike="noStrike">
              <a:solidFill>
                <a:srgbClr val="ffffff"/>
              </a:solidFill>
              <a:latin typeface="Arial"/>
              <a:ea typeface="DejaVu LGC Sans"/>
            </a:endParaRPr>
          </a:p>
        </p:txBody>
      </p:sp>
      <p:sp>
        <p:nvSpPr>
          <p:cNvPr id="205" name="Forme libre 26"/>
          <p:cNvSpPr/>
          <p:nvPr/>
        </p:nvSpPr>
        <p:spPr>
          <a:xfrm rot="2400000">
            <a:off x="3108960" y="2414520"/>
            <a:ext cx="419400" cy="275760"/>
          </a:xfrm>
          <a:custGeom>
            <a:avLst/>
            <a:gdLst>
              <a:gd name="textAreaLeft" fmla="*/ 41760 w 419400"/>
              <a:gd name="textAreaRight" fmla="*/ 377640 w 419400"/>
              <a:gd name="textAreaTop" fmla="*/ 68760 h 275760"/>
              <a:gd name="textAreaBottom" fmla="*/ 207000 h 275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0"/>
                </a:lnTo>
                <a:lnTo>
                  <a:pt x="4300" y="5400"/>
                </a:lnTo>
                <a:lnTo>
                  <a:pt x="17300" y="5400"/>
                </a:lnTo>
                <a:lnTo>
                  <a:pt x="17300" y="0"/>
                </a:lnTo>
                <a:lnTo>
                  <a:pt x="21600" y="10800"/>
                </a:lnTo>
                <a:lnTo>
                  <a:pt x="17300" y="21600"/>
                </a:lnTo>
                <a:lnTo>
                  <a:pt x="17300" y="16200"/>
                </a:lnTo>
                <a:lnTo>
                  <a:pt x="4300" y="16200"/>
                </a:lnTo>
                <a:lnTo>
                  <a:pt x="4300" y="21600"/>
                </a:lnTo>
                <a:close/>
              </a:path>
            </a:pathLst>
          </a:custGeom>
          <a:solidFill>
            <a:srgbClr val="2323d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fr-FR" sz="1800" spc="-1" strike="noStrike">
              <a:solidFill>
                <a:srgbClr val="ffffff"/>
              </a:solidFill>
              <a:latin typeface="Arial"/>
              <a:ea typeface="DejaVu LGC Sans"/>
            </a:endParaRPr>
          </a:p>
        </p:txBody>
      </p:sp>
      <p:sp>
        <p:nvSpPr>
          <p:cNvPr id="206" name="Forme libre 27"/>
          <p:cNvSpPr/>
          <p:nvPr/>
        </p:nvSpPr>
        <p:spPr>
          <a:xfrm rot="8400000">
            <a:off x="5226840" y="2432880"/>
            <a:ext cx="419400" cy="275760"/>
          </a:xfrm>
          <a:custGeom>
            <a:avLst/>
            <a:gdLst>
              <a:gd name="textAreaLeft" fmla="*/ 41760 w 419400"/>
              <a:gd name="textAreaRight" fmla="*/ 377640 w 419400"/>
              <a:gd name="textAreaTop" fmla="*/ 68760 h 275760"/>
              <a:gd name="textAreaBottom" fmla="*/ 207000 h 275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0"/>
                </a:lnTo>
                <a:lnTo>
                  <a:pt x="4300" y="5400"/>
                </a:lnTo>
                <a:lnTo>
                  <a:pt x="17300" y="5400"/>
                </a:lnTo>
                <a:lnTo>
                  <a:pt x="17300" y="0"/>
                </a:lnTo>
                <a:lnTo>
                  <a:pt x="21600" y="10800"/>
                </a:lnTo>
                <a:lnTo>
                  <a:pt x="17300" y="21600"/>
                </a:lnTo>
                <a:lnTo>
                  <a:pt x="17300" y="16200"/>
                </a:lnTo>
                <a:lnTo>
                  <a:pt x="4300" y="16200"/>
                </a:lnTo>
                <a:lnTo>
                  <a:pt x="4300" y="21600"/>
                </a:lnTo>
                <a:close/>
              </a:path>
            </a:pathLst>
          </a:custGeom>
          <a:solidFill>
            <a:srgbClr val="2323d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fr-FR" sz="1800" spc="-1" strike="noStrike">
              <a:solidFill>
                <a:srgbClr val="ffffff"/>
              </a:solidFill>
              <a:latin typeface="Arial"/>
              <a:ea typeface="DejaVu LGC Sans"/>
            </a:endParaRPr>
          </a:p>
        </p:txBody>
      </p:sp>
      <p:sp>
        <p:nvSpPr>
          <p:cNvPr id="207" name="Forme libre 28"/>
          <p:cNvSpPr/>
          <p:nvPr/>
        </p:nvSpPr>
        <p:spPr>
          <a:xfrm rot="5400000">
            <a:off x="4140360" y="3500280"/>
            <a:ext cx="409320" cy="262440"/>
          </a:xfrm>
          <a:custGeom>
            <a:avLst/>
            <a:gdLst>
              <a:gd name="textAreaLeft" fmla="*/ 40680 w 409320"/>
              <a:gd name="textAreaRight" fmla="*/ 368640 w 409320"/>
              <a:gd name="textAreaTop" fmla="*/ 65520 h 262440"/>
              <a:gd name="textAreaBottom" fmla="*/ 196920 h 262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0"/>
                </a:lnTo>
                <a:lnTo>
                  <a:pt x="4300" y="5400"/>
                </a:lnTo>
                <a:lnTo>
                  <a:pt x="17300" y="5400"/>
                </a:lnTo>
                <a:lnTo>
                  <a:pt x="17300" y="0"/>
                </a:lnTo>
                <a:lnTo>
                  <a:pt x="21600" y="10800"/>
                </a:lnTo>
                <a:lnTo>
                  <a:pt x="17300" y="21600"/>
                </a:lnTo>
                <a:lnTo>
                  <a:pt x="17300" y="16200"/>
                </a:lnTo>
                <a:lnTo>
                  <a:pt x="4300" y="16200"/>
                </a:lnTo>
                <a:lnTo>
                  <a:pt x="4300" y="21600"/>
                </a:lnTo>
                <a:close/>
              </a:path>
            </a:pathLst>
          </a:custGeom>
          <a:solidFill>
            <a:srgbClr val="2323d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fr-FR" sz="1800" spc="-1" strike="noStrike">
              <a:solidFill>
                <a:srgbClr val="ffffff"/>
              </a:solidFill>
              <a:latin typeface="Arial"/>
              <a:ea typeface="DejaVu LGC Sans"/>
            </a:endParaRPr>
          </a:p>
        </p:txBody>
      </p:sp>
      <p:sp>
        <p:nvSpPr>
          <p:cNvPr id="208" name="Forme libre 29"/>
          <p:cNvSpPr/>
          <p:nvPr/>
        </p:nvSpPr>
        <p:spPr>
          <a:xfrm rot="5400000">
            <a:off x="4219200" y="4419000"/>
            <a:ext cx="331920" cy="262440"/>
          </a:xfrm>
          <a:custGeom>
            <a:avLst/>
            <a:gdLst>
              <a:gd name="textAreaLeft" fmla="*/ 32760 w 331920"/>
              <a:gd name="textAreaRight" fmla="*/ 299160 w 331920"/>
              <a:gd name="textAreaTop" fmla="*/ 65520 h 262440"/>
              <a:gd name="textAreaBottom" fmla="*/ 196920 h 262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0"/>
                </a:lnTo>
                <a:lnTo>
                  <a:pt x="4300" y="5400"/>
                </a:lnTo>
                <a:lnTo>
                  <a:pt x="17300" y="5400"/>
                </a:lnTo>
                <a:lnTo>
                  <a:pt x="17300" y="0"/>
                </a:lnTo>
                <a:lnTo>
                  <a:pt x="21600" y="10800"/>
                </a:lnTo>
                <a:lnTo>
                  <a:pt x="17300" y="21600"/>
                </a:lnTo>
                <a:lnTo>
                  <a:pt x="17300" y="16200"/>
                </a:lnTo>
                <a:lnTo>
                  <a:pt x="4300" y="16200"/>
                </a:lnTo>
                <a:lnTo>
                  <a:pt x="4300" y="21600"/>
                </a:lnTo>
                <a:close/>
              </a:path>
            </a:pathLst>
          </a:custGeom>
          <a:solidFill>
            <a:srgbClr val="2323d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fr-FR" sz="1800" spc="-1" strike="noStrike">
              <a:solidFill>
                <a:srgbClr val="ffffff"/>
              </a:solidFill>
              <a:latin typeface="Arial"/>
              <a:ea typeface="DejaVu LGC Sans"/>
            </a:endParaRPr>
          </a:p>
        </p:txBody>
      </p:sp>
      <p:sp>
        <p:nvSpPr>
          <p:cNvPr id="209" name="Forme libre 30"/>
          <p:cNvSpPr/>
          <p:nvPr/>
        </p:nvSpPr>
        <p:spPr>
          <a:xfrm rot="7429800">
            <a:off x="3123000" y="5475600"/>
            <a:ext cx="419400" cy="275760"/>
          </a:xfrm>
          <a:custGeom>
            <a:avLst/>
            <a:gdLst>
              <a:gd name="textAreaLeft" fmla="*/ 41760 w 419400"/>
              <a:gd name="textAreaRight" fmla="*/ 377640 w 419400"/>
              <a:gd name="textAreaTop" fmla="*/ 68760 h 275760"/>
              <a:gd name="textAreaBottom" fmla="*/ 207000 h 275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0"/>
                </a:lnTo>
                <a:lnTo>
                  <a:pt x="4300" y="5400"/>
                </a:lnTo>
                <a:lnTo>
                  <a:pt x="17300" y="5400"/>
                </a:lnTo>
                <a:lnTo>
                  <a:pt x="17300" y="0"/>
                </a:lnTo>
                <a:lnTo>
                  <a:pt x="21600" y="10800"/>
                </a:lnTo>
                <a:lnTo>
                  <a:pt x="17300" y="21600"/>
                </a:lnTo>
                <a:lnTo>
                  <a:pt x="17300" y="16200"/>
                </a:lnTo>
                <a:lnTo>
                  <a:pt x="4300" y="16200"/>
                </a:lnTo>
                <a:lnTo>
                  <a:pt x="4300" y="21600"/>
                </a:lnTo>
                <a:close/>
              </a:path>
            </a:pathLst>
          </a:custGeom>
          <a:solidFill>
            <a:srgbClr val="2323d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fr-FR" sz="1800" spc="-1" strike="noStrike">
              <a:solidFill>
                <a:srgbClr val="ffffff"/>
              </a:solidFill>
              <a:latin typeface="Arial"/>
              <a:ea typeface="DejaVu LGC Sans"/>
            </a:endParaRPr>
          </a:p>
        </p:txBody>
      </p:sp>
      <p:sp>
        <p:nvSpPr>
          <p:cNvPr id="210" name="ZoneTexte 31"/>
          <p:cNvSpPr/>
          <p:nvPr/>
        </p:nvSpPr>
        <p:spPr>
          <a:xfrm>
            <a:off x="3667320" y="5650560"/>
            <a:ext cx="1255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r-FR" sz="1800" spc="-1" strike="noStrike">
                <a:solidFill>
                  <a:srgbClr val="2323dc"/>
                </a:solidFill>
                <a:latin typeface="Arial"/>
                <a:ea typeface="DejaVu LGC Sans"/>
              </a:rPr>
              <a:t>NE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ZoneTexte 32"/>
          <p:cNvSpPr/>
          <p:nvPr/>
        </p:nvSpPr>
        <p:spPr>
          <a:xfrm>
            <a:off x="1835640" y="208080"/>
            <a:ext cx="576036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r-FR" sz="3200" spc="-1" strike="noStrike">
                <a:solidFill>
                  <a:srgbClr val="0093d9"/>
                </a:solidFill>
                <a:latin typeface="Arial"/>
                <a:ea typeface="DejaVu LGC Sans"/>
              </a:rPr>
              <a:t>IPSL-CM ESM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r-FR" sz="2400" spc="-1" strike="noStrike">
                <a:solidFill>
                  <a:srgbClr val="0093d9"/>
                </a:solidFill>
                <a:latin typeface="Arial"/>
                <a:ea typeface="DejaVu LGC Sans"/>
              </a:rPr>
              <a:t>(same as in CMIP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4"/>
          <a:srcRect l="2234" t="0" r="82109" b="31275"/>
          <a:stretch/>
        </p:blipFill>
        <p:spPr>
          <a:xfrm>
            <a:off x="123480" y="158040"/>
            <a:ext cx="189468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467640" y="692640"/>
            <a:ext cx="8424720" cy="62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Calibri"/>
                <a:ea typeface="AR PL UMing HK"/>
              </a:rPr>
              <a:t>IPSL-CM6 E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  <a:ea typeface="AR PL UMing HK"/>
              </a:rPr>
              <a:t>AOGCM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 PL UMing HK"/>
              </a:rPr>
              <a:t>Two resol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 PL UMing HK"/>
              </a:rPr>
              <a:t>L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 PL UMing HK"/>
              </a:rPr>
              <a:t> : Atm: 2.5x1.5° (144x144) L79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 PL UMing H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 PL UMing H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 PL UMing HK"/>
              </a:rPr>
              <a:t>Oce: 1° L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 PL UMing HK"/>
              </a:rPr>
              <a:t>M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 PL UMing HK"/>
              </a:rPr>
              <a:t> : Atm: 1.3x0.6° (280x280) L79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 PL UMing HK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 PL UMing H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 PL UMing HK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 PL UMing H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 PL UMing HK"/>
              </a:rPr>
              <a:t>Oce: 0.25° L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  <a:ea typeface="AR PL UMing HK"/>
              </a:rPr>
              <a:t>Configu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 PL UMing HK"/>
              </a:rPr>
              <a:t>standard: physical + carbon cycle + prescribed aerosol and o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 PL UMing HK"/>
              </a:rPr>
              <a:t>standard with interactive aeros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  <a:ea typeface="AR PL UMing HK"/>
              </a:rPr>
              <a:t>Atmosphere only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 PL UMing HK"/>
              </a:rPr>
              <a:t>High resolu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 PL UMing HK"/>
              </a:rPr>
              <a:t>H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 PL UMing HK"/>
              </a:rPr>
              <a:t> : Atm with new dynamical core DYNAMICO 0.5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Calibri"/>
                <a:ea typeface="AR PL UMing HK"/>
              </a:rPr>
              <a:t>IPSL-CM5A-AerC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 PL UMing HK"/>
              </a:rPr>
              <a:t>Continuity with IPSL-CM5A used in CMIP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 PL UMing HK"/>
              </a:rPr>
              <a:t>Interactive chemistry and aeros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 PL UMing HK"/>
              </a:rPr>
              <a:t>VLR 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 PL UMing HK"/>
              </a:rPr>
              <a:t>Atm: 3.75x1.9° (96x95) L39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 PL UMing H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 PL UMing H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 PL UMing HK"/>
              </a:rPr>
              <a:t>Oce: 2° L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"/>
          <p:cNvSpPr/>
          <p:nvPr/>
        </p:nvSpPr>
        <p:spPr>
          <a:xfrm>
            <a:off x="1546200" y="116640"/>
            <a:ext cx="65559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  <a:ea typeface="AR PL UMing HK"/>
              </a:rPr>
              <a:t>IPSL Models for CMIP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1"/>
          <p:cNvSpPr/>
          <p:nvPr/>
        </p:nvSpPr>
        <p:spPr>
          <a:xfrm>
            <a:off x="467640" y="983520"/>
            <a:ext cx="842472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Calibri"/>
                <a:ea typeface="AR PL UMing HK"/>
              </a:rPr>
              <a:t>IPSL-CM6 E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  <a:ea typeface="AR PL UMing HK"/>
              </a:rPr>
              <a:t>Configurations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 PL UMing H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 PL UMing HK"/>
              </a:rPr>
              <a:t>standard: physical + carbon cycle + prescribed aerosol and o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 PL UMing HK"/>
              </a:rPr>
              <a:t>standard with interactive aeros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 u="sng">
                <a:solidFill>
                  <a:srgbClr val="0070c0"/>
                </a:solidFill>
                <a:uFillTx/>
                <a:latin typeface="Wingdings"/>
                <a:ea typeface="AR PL UMing HK"/>
              </a:rPr>
              <a:t></a:t>
            </a:r>
            <a:r>
              <a:rPr b="0" lang="en-US" sz="2400" spc="-1" strike="noStrike" u="sng">
                <a:solidFill>
                  <a:srgbClr val="0070c0"/>
                </a:solidFill>
                <a:uFillTx/>
                <a:latin typeface="Calibri"/>
                <a:ea typeface="AR PL UMing HK"/>
              </a:rPr>
              <a:t> </a:t>
            </a:r>
            <a:r>
              <a:rPr b="0" lang="en-US" sz="2400" spc="-1" strike="noStrike" u="sng">
                <a:solidFill>
                  <a:srgbClr val="0070c0"/>
                </a:solidFill>
                <a:uFillTx/>
                <a:latin typeface="Calibri"/>
                <a:ea typeface="AR PL UMing HK"/>
              </a:rPr>
              <a:t>High interest 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AR PL UMing HK"/>
              </a:rPr>
              <a:t>Consistency between past-present-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AR PL UMing HK"/>
              </a:rPr>
              <a:t>“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AR PL UMing HK"/>
              </a:rPr>
              <a:t>Realistic” versus idealized experiments and configurations (including aquaplan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AR PL UMing HK"/>
              </a:rPr>
              <a:t>Stand-alone model vs coupled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Calibri"/>
                <a:ea typeface="AR PL UMing HK"/>
              </a:rPr>
              <a:t>IPSL-CM5A-AerC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 PL UMing HK"/>
              </a:rPr>
              <a:t>Dedicated model version for complex, interactive chemistry  and aerosol: robust and stable physics, low 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467640" y="116640"/>
            <a:ext cx="82087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  <a:ea typeface="AR PL UMing HK"/>
              </a:rPr>
              <a:t>Configuration and hierarchy of IPSL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Tableau 4"/>
          <p:cNvGraphicFramePr/>
          <p:nvPr/>
        </p:nvGraphicFramePr>
        <p:xfrm>
          <a:off x="683640" y="692640"/>
          <a:ext cx="7560360" cy="4863240"/>
        </p:xfrm>
        <a:graphic>
          <a:graphicData uri="http://schemas.openxmlformats.org/drawingml/2006/table">
            <a:tbl>
              <a:tblPr/>
              <a:tblGrid>
                <a:gridCol w="2180880"/>
                <a:gridCol w="3939480"/>
                <a:gridCol w="1440000"/>
              </a:tblGrid>
              <a:tr h="237960">
                <a:tc>
                  <a:txBody>
                    <a:bodyPr lIns="9000" rIns="9000" tIns="90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Short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Long name of M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IPSL-CM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21420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AerChemM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Aerosols and Chemistry Model Intercomparison Proj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definite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1420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C4M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Coupled Climate Carbon Cycle Model Intercomparison Proj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definite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1420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CFM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Cloud Feedback Model Intercomparison Proj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definite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1420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DAM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Detection and Attribution Model Intercomparison Proj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may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21420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DC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Decadal Climate Prediction Proj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definite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1420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FAFM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Flux-Anomaly-Forced Model Intercomparison Proj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definite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1420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GeoM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Geoengineering Model Intercomparison Proj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definite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1420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GMM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Global Monsoons Model Intercomparison Proj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definite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1420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HighResM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High Resolution Model Intercomparison Proj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may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21420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ISMIP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Ice Sheet Model Intercomparison Project for CMIP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definite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1420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LS3M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Land Surface, Snow and Soil Moist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definite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1420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LUM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Land-Use Model Intercomparison Proj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definite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1420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OM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Ocean Model Intercomparison Proj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definite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1420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PM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Palaeoclimate Modelling Intercomparison Proj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definite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1420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RFM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Radiative Forcing Model Intercomparison Proj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definite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1420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ScenarioM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Scenario Model Intercomparison Proj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definite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1420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VolM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Volcanic Forcings Model Intercomparison Proj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definite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1420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DynV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Dynamics and Variability of the Stratosphere-Troposphere Sys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definite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1420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SIM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Sea-Ice Model Intercomparison Proj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definite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18" name="Text Box 2"/>
          <p:cNvSpPr/>
          <p:nvPr/>
        </p:nvSpPr>
        <p:spPr>
          <a:xfrm>
            <a:off x="1546200" y="116640"/>
            <a:ext cx="65559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  <a:ea typeface="AR PL UMing HK"/>
              </a:rPr>
              <a:t>IPSL planed contribution to CMIP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1"/>
          <p:cNvSpPr/>
          <p:nvPr/>
        </p:nvSpPr>
        <p:spPr>
          <a:xfrm>
            <a:off x="395640" y="3036240"/>
            <a:ext cx="842472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70c0"/>
                </a:solidFill>
                <a:uFillTx/>
                <a:latin typeface="Calibri"/>
                <a:ea typeface="AR PL UMing HK"/>
              </a:rPr>
              <a:t>Mid 2016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 PL UMing HK"/>
              </a:rPr>
              <a:t>Start simulations with IPSL-CM6.1-LR and IPSL-CM5A-AerC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70c0"/>
                </a:solidFill>
                <a:uFillTx/>
                <a:latin typeface="Calibri"/>
                <a:ea typeface="AR PL UMing HK"/>
              </a:rPr>
              <a:t>End 2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 PL UMing HK"/>
              </a:rPr>
              <a:t>Start publication of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70c0"/>
                </a:solidFill>
                <a:uFillTx/>
                <a:latin typeface="Calibri"/>
                <a:ea typeface="AR PL UMing HK"/>
              </a:rPr>
              <a:t>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 PL UMing HK"/>
              </a:rPr>
              <a:t>Simulations with IPSL-CM6.1-LR and start with IPSL-CM6.1-M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70c0"/>
                </a:solidFill>
                <a:uFillTx/>
                <a:latin typeface="Calibri"/>
                <a:ea typeface="AR PL UMing HK"/>
              </a:rPr>
              <a:t>2018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 PL UMing HK"/>
              </a:rPr>
              <a:t>IPSL-CM6-HR and possible second version IPSL-CM6.2-L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"/>
          <p:cNvSpPr/>
          <p:nvPr/>
        </p:nvSpPr>
        <p:spPr>
          <a:xfrm>
            <a:off x="467640" y="2349720"/>
            <a:ext cx="82087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  <a:ea typeface="AR PL UMing HK"/>
              </a:rPr>
              <a:t>Planed sche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rcRect l="2234" t="0" r="82109" b="31275"/>
          <a:stretch/>
        </p:blipFill>
        <p:spPr>
          <a:xfrm>
            <a:off x="123480" y="158040"/>
            <a:ext cx="1894680" cy="82224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2"/>
          <p:cNvSpPr/>
          <p:nvPr/>
        </p:nvSpPr>
        <p:spPr>
          <a:xfrm>
            <a:off x="547920" y="591120"/>
            <a:ext cx="82087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  <a:ea typeface="AR PL UMing HK"/>
              </a:rPr>
              <a:t>Regional Cli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395640" y="1455120"/>
            <a:ext cx="8424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 PL UMing HK"/>
              </a:rPr>
              <a:t>Interest in stretched or zoomed g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1"/>
          <p:cNvSpPr/>
          <p:nvPr/>
        </p:nvSpPr>
        <p:spPr>
          <a:xfrm>
            <a:off x="1371600" y="2546280"/>
            <a:ext cx="6857640" cy="20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D. Salas y Mélia, H. Douville, M. Michou, A. Ribes, D. Saint-Martin, R. Séférian</a:t>
            </a:r>
            <a:r>
              <a:rPr b="0" lang="fr-FR" sz="2400" spc="-1" strike="noStrike" baseline="30000">
                <a:solidFill>
                  <a:srgbClr val="000000"/>
                </a:solidFill>
                <a:latin typeface="Arial"/>
                <a:ea typeface="Microsoft YaHe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L. Terray and C. Cassou</a:t>
            </a:r>
            <a:r>
              <a:rPr b="0" lang="fr-FR" sz="2400" spc="-1" strike="noStrike" baseline="30000">
                <a:solidFill>
                  <a:srgbClr val="000000"/>
                </a:solidFill>
                <a:latin typeface="Arial"/>
                <a:ea typeface="Microsoft YaHe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Microsoft YaHei"/>
              </a:rPr>
              <a:t>1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CNRM-GAME, Toulouse, F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Microsoft YaHei"/>
              </a:rPr>
              <a:t>2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CERFACS, Toulouse, F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0" y="0"/>
            <a:ext cx="9143640" cy="159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GB" sz="2400" spc="-1" strike="noStrike">
              <a:solidFill>
                <a:srgbClr val="ffffff"/>
              </a:solidFill>
              <a:latin typeface="Times New Roman"/>
              <a:ea typeface="Microsoft YaHei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762120" y="441360"/>
            <a:ext cx="78483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CMIP6: Feedback from CNRM-CERFAC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icrosoft YaHe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1"/>
          <p:cNvSpPr/>
          <p:nvPr/>
        </p:nvSpPr>
        <p:spPr>
          <a:xfrm>
            <a:off x="0" y="5867280"/>
            <a:ext cx="914364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GB" sz="2400" spc="-1" strike="noStrike">
              <a:solidFill>
                <a:srgbClr val="ffffff"/>
              </a:solidFill>
              <a:latin typeface="Times New Roman"/>
              <a:ea typeface="Microsoft YaHei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1042920" y="274680"/>
            <a:ext cx="727344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  <a:ea typeface="Microsoft YaHei"/>
              </a:rPr>
              <a:t>Introduction: CNRM-CM5 (CMIP5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898560" y="1635120"/>
            <a:ext cx="7482960" cy="46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6000" indent="-216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CNRM-CM5 :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ARPEGE-Climat v5 (diag. physics) TL127L31 + NEMO3.2 ORCA1L42 + SURFEX + TRIP1° (Voldoire et al., Clim. Dyn, 20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Meteo-France’s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operational seasonal prediction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based on CNRM-CM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Contribution to CMIP5 :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~9000 years for CMIP5 (centennial, CNRM), 4000 years (decadal, CERFAC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Participated to CFMIP, PMIP, D&amp;A large ensemble (30 historical ex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Derived version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9880">
              <a:lnSpc>
                <a:spcPct val="12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CNRM-ESM1 :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CNRM-CM5 + carbon cyc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9880">
              <a:lnSpc>
                <a:spcPct val="12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CNRM-CCM :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CNRM-CM5 including stratospheric + tropospheric chemistry (60 vertical levels in the atmospher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9880">
              <a:lnSpc>
                <a:spcPct val="12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CNRM-CM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with interactive Greenland ice-sh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Thème Office">
  <a:themeElements>
    <a:clrScheme name="Thème Office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Thème Office">
  <a:themeElements>
    <a:clrScheme name="Thème Office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1_Thème Office">
  <a:themeElements>
    <a:clrScheme name="Thème Office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2_Thème Office">
  <a:themeElements>
    <a:clrScheme name="Thème Office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5</TotalTime>
  <Application>LibreOffice/7.4.7.2$Linux_X86_64 LibreOffice_project/40$Build-2</Application>
  <AppVersion>15.0000</AppVersion>
  <Words>489</Words>
  <Paragraphs>15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2T17:19:22Z</dcterms:created>
  <dc:creator>Jean-Louis Dufresne</dc:creator>
  <dc:description/>
  <dc:language>en-US</dc:language>
  <cp:lastModifiedBy>Masa Kageyama</cp:lastModifiedBy>
  <cp:lastPrinted>1601-01-01T00:00:00Z</cp:lastPrinted>
  <dcterms:modified xsi:type="dcterms:W3CDTF">2015-10-19T10:33:11Z</dcterms:modified>
  <cp:revision>38</cp:revision>
  <dc:subject/>
  <dc:title>The IPSL-CM5 Earth System Mode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4</vt:r8>
  </property>
  <property fmtid="{D5CDD505-2E9C-101B-9397-08002B2CF9AE}" pid="3" name="PresentationFormat">
    <vt:lpwstr>Affichage à l'écran (4:3)</vt:lpwstr>
  </property>
  <property fmtid="{D5CDD505-2E9C-101B-9397-08002B2CF9AE}" pid="4" name="Slides">
    <vt:r8>12</vt:r8>
  </property>
</Properties>
</file>