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27E747-5FB3-4229-AE1F-2443F73E0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Num" idx="12"/>
          </p:nvPr>
        </p:nvSpPr>
        <p:spPr>
          <a:xfrm>
            <a:off x="3885120" y="8685360"/>
            <a:ext cx="29710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fr-FR" sz="1400" spc="-1" strike="noStrike">
                <a:solidFill>
                  <a:srgbClr val="ffffff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F91C0DB-C6EE-4EF4-B501-28DDD7D452FF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ldImg"/>
          </p:nvPr>
        </p:nvSpPr>
        <p:spPr>
          <a:xfrm>
            <a:off x="1187280" y="711360"/>
            <a:ext cx="4484160" cy="3362040"/>
          </a:xfrm>
          <a:prstGeom prst="rect">
            <a:avLst/>
          </a:prstGeom>
          <a:ln w="0">
            <a:noFill/>
          </a:ln>
        </p:spPr>
      </p:sp>
      <p:sp>
        <p:nvSpPr>
          <p:cNvPr id="249" name="Text Box 2"/>
          <p:cNvSpPr/>
          <p:nvPr/>
        </p:nvSpPr>
        <p:spPr>
          <a:xfrm>
            <a:off x="950400" y="4360320"/>
            <a:ext cx="495828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Num" idx="10"/>
          </p:nvPr>
        </p:nvSpPr>
        <p:spPr>
          <a:xfrm>
            <a:off x="3885120" y="8685360"/>
            <a:ext cx="29710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fr-FR" sz="1400" spc="-1" strike="noStrike">
                <a:solidFill>
                  <a:srgbClr val="ffffff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9EBD688-4826-4960-BEEB-8FBAF05A02F2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ldImg"/>
          </p:nvPr>
        </p:nvSpPr>
        <p:spPr>
          <a:xfrm>
            <a:off x="1187280" y="711360"/>
            <a:ext cx="4484160" cy="3362040"/>
          </a:xfrm>
          <a:prstGeom prst="rect">
            <a:avLst/>
          </a:prstGeom>
          <a:ln w="0">
            <a:noFill/>
          </a:ln>
        </p:spPr>
      </p:sp>
      <p:sp>
        <p:nvSpPr>
          <p:cNvPr id="243" name="Text Box 2"/>
          <p:cNvSpPr/>
          <p:nvPr/>
        </p:nvSpPr>
        <p:spPr>
          <a:xfrm>
            <a:off x="950400" y="4360320"/>
            <a:ext cx="4958280" cy="4077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Num" idx="11"/>
          </p:nvPr>
        </p:nvSpPr>
        <p:spPr>
          <a:xfrm>
            <a:off x="3885120" y="8685360"/>
            <a:ext cx="297108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fr-FR" sz="1400" spc="-1" strike="noStrike">
                <a:solidFill>
                  <a:srgbClr val="ffffff"/>
                </a:solidFill>
                <a:latin typeface="Calibri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CE60BC56-1EB8-4DE9-8919-B60A8EB3AD78}" type="slidenum">
              <a:rPr b="0" lang="fr-FR" sz="1400" spc="-1" strike="noStrike">
                <a:solidFill>
                  <a:srgbClr val="ffffff"/>
                </a:solidFill>
                <a:latin typeface="Calibri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1187280" y="711360"/>
            <a:ext cx="4484160" cy="3362040"/>
          </a:xfrm>
          <a:prstGeom prst="rect">
            <a:avLst/>
          </a:prstGeom>
          <a:ln w="0">
            <a:noFill/>
          </a:ln>
        </p:spPr>
      </p:sp>
      <p:sp>
        <p:nvSpPr>
          <p:cNvPr id="246" name="Text Box 2"/>
          <p:cNvSpPr/>
          <p:nvPr/>
        </p:nvSpPr>
        <p:spPr>
          <a:xfrm>
            <a:off x="950400" y="4360320"/>
            <a:ext cx="4958280" cy="40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ED42-DBE2-4085-B3AB-F17E104E61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18DC-A3A9-48DE-B042-393B3072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72FCA-4102-4848-A0FD-2D493E7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5C6C7-9809-44E1-B8E6-6C78F37843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C5802-77AE-4904-AA3F-088B5BD646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E8D81-67AA-4F9E-AAF6-9C7426F1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90B37-284D-441E-A1B6-9B394B30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7AC8B-7DE8-46AD-9B3F-F1A41EFA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468E0-91B8-4AC1-999B-37CD97B3B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C8D50-8205-42DD-934D-A4F340D1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D6C40-F7ED-424F-86FC-9BCC0856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12FC-9814-4A51-8421-BCEE243D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5DB6F-CABC-4022-9E18-81246CB7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DB9F6-D8A0-44F9-8F2E-A8AB8777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48962-B8D9-4D2F-AA68-26BBCE0D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796D5-4566-46D1-958C-C2CE064F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185BC-D5D4-4BB1-9307-18285467E6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D93AB-11B0-46DB-8322-E24D8FF1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FF3A9-F283-4E70-89AB-77633423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863D2-FE09-4105-838E-440B3CDC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BB052-FA67-4B45-B132-1981AB38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D4B9-3E7E-471B-85D1-4FFC8CB5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625F-9C7F-42BB-B21C-357724E6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C9740-4012-4EC4-974B-4C68292E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4"/>
          <p:cNvSpPr/>
          <p:nvPr/>
        </p:nvSpPr>
        <p:spPr>
          <a:xfrm>
            <a:off x="3124080" y="6354720"/>
            <a:ext cx="289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ffffff"/>
              </a:solidFill>
              <a:latin typeface="Calibri"/>
              <a:ea typeface="AR PL UMing H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 PL UMing HK"/>
              </a:rPr>
              <a:t>Modifiez le style du titre</a:t>
            </a: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12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12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fr-FR" sz="1400" spc="-1" strike="noStrike">
                <a:solidFill>
                  <a:srgbClr val="000000"/>
                </a:solidFill>
                <a:latin typeface="Calibri"/>
                <a:ea typeface="AR PL UMing H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EB4C7AAC-B3EF-4CCB-926D-FAF09F5C5E6D}" type="slidenum">
              <a:rPr b="0" lang="fr-FR" sz="1400" spc="-1" strike="noStrike">
                <a:solidFill>
                  <a:srgbClr val="000000"/>
                </a:solidFill>
                <a:latin typeface="Calibri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124080" y="6354720"/>
            <a:ext cx="289512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fr-FR" sz="1800" spc="-1" strike="noStrike">
              <a:solidFill>
                <a:srgbClr val="ffffff"/>
              </a:solidFill>
              <a:latin typeface="Calibri"/>
              <a:ea typeface="AR PL UMing H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457200" y="6353280"/>
            <a:ext cx="213012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553080" y="6353280"/>
            <a:ext cx="2130120" cy="3711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fr-FR" sz="1400" spc="-1" strike="noStrike">
                <a:solidFill>
                  <a:srgbClr val="000000"/>
                </a:solidFill>
                <a:latin typeface="Calibri"/>
                <a:ea typeface="AR PL UMing H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8517C75A-299C-44BF-83C9-3332629B4F67}" type="slidenum">
              <a:rPr b="0" lang="fr-FR" sz="1400" spc="-1" strike="noStrike">
                <a:solidFill>
                  <a:srgbClr val="000000"/>
                </a:solidFill>
                <a:latin typeface="Calibri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3"/>
          <a:srcRect l="5263" t="13014" r="8781" b="22065"/>
          <a:stretch/>
        </p:blipFill>
        <p:spPr>
          <a:xfrm>
            <a:off x="6588000" y="6264360"/>
            <a:ext cx="2339640" cy="47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4"/>
          <a:srcRect l="5263" t="13020" r="8781" b="22075"/>
          <a:stretch/>
        </p:blipFill>
        <p:spPr>
          <a:xfrm>
            <a:off x="6588000" y="6257880"/>
            <a:ext cx="2339640" cy="477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6553080" y="6242040"/>
            <a:ext cx="2437920" cy="60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5"/>
          <a:stretch/>
        </p:blipFill>
        <p:spPr>
          <a:xfrm>
            <a:off x="6629400" y="6251400"/>
            <a:ext cx="1528560" cy="453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6"/>
          <a:stretch/>
        </p:blipFill>
        <p:spPr>
          <a:xfrm>
            <a:off x="5005440" y="6124680"/>
            <a:ext cx="561600" cy="685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7"/>
          <a:stretch/>
        </p:blipFill>
        <p:spPr>
          <a:xfrm>
            <a:off x="4191120" y="6161040"/>
            <a:ext cx="685440" cy="630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0600" cy="1468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fr-FR" sz="3500" spc="-1" strike="noStrike">
                <a:solidFill>
                  <a:srgbClr val="000000"/>
                </a:solidFill>
                <a:latin typeface="Arial"/>
                <a:ea typeface="Microsoft YaHei"/>
              </a:rPr>
              <a:t>Modifiez le style du titre</a:t>
            </a:r>
            <a:endParaRPr b="0" lang="en-GB" sz="3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5"/>
          </p:nvPr>
        </p:nvSpPr>
        <p:spPr>
          <a:xfrm>
            <a:off x="76320" y="6248520"/>
            <a:ext cx="3526920" cy="2059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ctr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 algn="ctr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 algn="ctr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 algn="ctr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 algn="ctr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 algn="ctr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 algn="ctr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2000" cy="704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Modifiez le style du titre</a:t>
            </a:r>
            <a:endParaRPr b="0" lang="en-GB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05480" cy="4462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Modifiez les styles du texte du masque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Deuxième niveau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Troisième niveau</a:t>
            </a: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  <a:p>
            <a:pPr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Quatrième niveau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Cinquième niveau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6"/>
          </p:nvPr>
        </p:nvSpPr>
        <p:spPr>
          <a:xfrm>
            <a:off x="466560" y="6245280"/>
            <a:ext cx="1871280" cy="4744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 PL UMing HK"/>
              </a:rPr>
              <a:t>WGCM19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 PL UMing HK"/>
              </a:rPr>
              <a:t>Report from the French groups</a:t>
            </a: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e 4"/>
          <p:cNvGrpSpPr/>
          <p:nvPr/>
        </p:nvGrpSpPr>
        <p:grpSpPr>
          <a:xfrm>
            <a:off x="179640" y="4869000"/>
            <a:ext cx="3919320" cy="1050480"/>
            <a:chOff x="179640" y="4869000"/>
            <a:chExt cx="3919320" cy="1050480"/>
          </a:xfrm>
        </p:grpSpPr>
        <p:pic>
          <p:nvPicPr>
            <p:cNvPr id="174" name="Picture 2" descr=""/>
            <p:cNvPicPr/>
            <p:nvPr/>
          </p:nvPicPr>
          <p:blipFill>
            <a:blip r:embed="rId1"/>
            <a:srcRect l="0" t="0" r="65614" b="0"/>
            <a:stretch/>
          </p:blipFill>
          <p:spPr>
            <a:xfrm>
              <a:off x="179640" y="4869000"/>
              <a:ext cx="391932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"/>
            <p:cNvSpPr/>
            <p:nvPr/>
          </p:nvSpPr>
          <p:spPr>
            <a:xfrm>
              <a:off x="2219040" y="4869000"/>
              <a:ext cx="1879920" cy="794880"/>
            </a:xfrm>
            <a:prstGeom prst="rect">
              <a:avLst/>
            </a:prstGeom>
            <a:solidFill>
              <a:srgbClr val="ffffff"/>
            </a:solidFill>
            <a:ln cap="sq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fr-FR" sz="1800" spc="-1" strike="noStrike">
                <a:solidFill>
                  <a:srgbClr val="ffffff"/>
                </a:solidFill>
                <a:latin typeface="Calibri"/>
                <a:ea typeface="AR PL UMing HK"/>
              </a:endParaRPr>
            </a:p>
          </p:txBody>
        </p:sp>
      </p:grpSp>
      <p:pic>
        <p:nvPicPr>
          <p:cNvPr id="176" name="Picture 7" descr=""/>
          <p:cNvPicPr/>
          <p:nvPr/>
        </p:nvPicPr>
        <p:blipFill>
          <a:blip r:embed="rId2"/>
          <a:stretch/>
        </p:blipFill>
        <p:spPr>
          <a:xfrm>
            <a:off x="5940000" y="4869000"/>
            <a:ext cx="2744640" cy="81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"/>
          <p:cNvPicPr/>
          <p:nvPr/>
        </p:nvPicPr>
        <p:blipFill>
          <a:blip r:embed="rId3"/>
          <a:stretch/>
        </p:blipFill>
        <p:spPr>
          <a:xfrm>
            <a:off x="4098960" y="4444920"/>
            <a:ext cx="12085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"/>
          <p:cNvSpPr/>
          <p:nvPr/>
        </p:nvSpPr>
        <p:spPr>
          <a:xfrm>
            <a:off x="0" y="5867280"/>
            <a:ext cx="91436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1042920" y="274680"/>
            <a:ext cx="72734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Plans for CNRM-CM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990720" y="1189080"/>
            <a:ext cx="748296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NRM-CM6 AOGCM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low resolution (LR) : TL127L91 + NEMO3.6 ORCA1L75 + SURFEX + TRIP0.5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9880">
              <a:lnSpc>
                <a:spcPct val="100000"/>
              </a:lnSpc>
              <a:tabLst>
                <a:tab algn="l" pos="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Microsoft YaHei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for D&amp;A, ScenarioMIP… ARPEGE-Climat v6 (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rognostic physic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high resolution (HR): Atm: TL359L91 / Oce: ORCA025L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9880">
              <a:lnSpc>
                <a:spcPct val="100000"/>
              </a:lnSpc>
              <a:tabLst>
                <a:tab algn="l" pos="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for HighResMIP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9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01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NRM-CM6-LR available by late 2015 (preliminary version performing already better than CNRM-CM5 already available, a bit more tuning is still needed to improve the model fur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016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- CNRM-ESM LR available by mid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- CNRM-CM6 HR + CNRM-ESM2 HR available by late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CK + CMIP6 Historical Simulation (CNRM-CM6-LR + CNRM-ESM2-LR) by late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AMIP simulations, OMIP, Land-Only simulations, DAMIP (L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2017-2018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MIPs (all except PDRMIP, SolarMIP, VolM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698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920" y="274680"/>
            <a:ext cx="7272000" cy="704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Plans for regional climate modelling</a:t>
            </a:r>
            <a:endParaRPr b="0" lang="en-GB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5480" cy="44622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Based on Aladin-Climat mod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CORDEX actually managed outside CMIP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AR PL UMing HK"/>
              </a:rPr>
              <a:t>Thank you</a:t>
            </a:r>
            <a:endParaRPr b="0" lang="en-GB" sz="4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6" name="Groupe 4"/>
          <p:cNvGrpSpPr/>
          <p:nvPr/>
        </p:nvGrpSpPr>
        <p:grpSpPr>
          <a:xfrm>
            <a:off x="179640" y="4869000"/>
            <a:ext cx="3919320" cy="1050480"/>
            <a:chOff x="179640" y="4869000"/>
            <a:chExt cx="3919320" cy="1050480"/>
          </a:xfrm>
        </p:grpSpPr>
        <p:pic>
          <p:nvPicPr>
            <p:cNvPr id="237" name="Picture 2" descr=""/>
            <p:cNvPicPr/>
            <p:nvPr/>
          </p:nvPicPr>
          <p:blipFill>
            <a:blip r:embed="rId1"/>
            <a:srcRect l="0" t="0" r="65614" b="0"/>
            <a:stretch/>
          </p:blipFill>
          <p:spPr>
            <a:xfrm>
              <a:off x="179640" y="4869000"/>
              <a:ext cx="391932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3"/>
            <p:cNvSpPr/>
            <p:nvPr/>
          </p:nvSpPr>
          <p:spPr>
            <a:xfrm>
              <a:off x="2219040" y="4869000"/>
              <a:ext cx="1879920" cy="794880"/>
            </a:xfrm>
            <a:prstGeom prst="rect">
              <a:avLst/>
            </a:prstGeom>
            <a:solidFill>
              <a:srgbClr val="ffffff"/>
            </a:solidFill>
            <a:ln cap="sq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fr-FR" sz="1800" spc="-1" strike="noStrike">
                <a:solidFill>
                  <a:srgbClr val="ffffff"/>
                </a:solidFill>
                <a:latin typeface="Calibri"/>
                <a:ea typeface="AR PL UMing HK"/>
              </a:endParaRPr>
            </a:p>
          </p:txBody>
        </p:sp>
      </p:grpSp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5940000" y="4869000"/>
            <a:ext cx="2744640" cy="815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"/>
          <p:cNvPicPr/>
          <p:nvPr/>
        </p:nvPicPr>
        <p:blipFill>
          <a:blip r:embed="rId3"/>
          <a:stretch/>
        </p:blipFill>
        <p:spPr>
          <a:xfrm>
            <a:off x="4098960" y="4444920"/>
            <a:ext cx="12085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"/>
          <p:cNvSpPr/>
          <p:nvPr/>
        </p:nvSpPr>
        <p:spPr>
          <a:xfrm>
            <a:off x="425520" y="3213000"/>
            <a:ext cx="810684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0" i="1" lang="fr-FR" sz="3600" spc="-1" strike="noStrike">
                <a:solidFill>
                  <a:srgbClr val="0070c0"/>
                </a:solidFill>
                <a:latin typeface="Lucida Sans"/>
                <a:ea typeface="Lucida Sans"/>
              </a:rPr>
              <a:t>IPSL plans for CMIP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e 2"/>
          <p:cNvGrpSpPr/>
          <p:nvPr/>
        </p:nvGrpSpPr>
        <p:grpSpPr>
          <a:xfrm>
            <a:off x="0" y="317520"/>
            <a:ext cx="5155920" cy="1482480"/>
            <a:chOff x="0" y="317520"/>
            <a:chExt cx="5155920" cy="1482480"/>
          </a:xfrm>
        </p:grpSpPr>
        <p:pic>
          <p:nvPicPr>
            <p:cNvPr id="180" name="Picture 2" descr=""/>
            <p:cNvPicPr/>
            <p:nvPr/>
          </p:nvPicPr>
          <p:blipFill>
            <a:blip r:embed="rId1"/>
            <a:srcRect l="0" t="0" r="65614" b="0"/>
            <a:stretch/>
          </p:blipFill>
          <p:spPr>
            <a:xfrm>
              <a:off x="0" y="317520"/>
              <a:ext cx="5155920" cy="148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3"/>
            <p:cNvSpPr/>
            <p:nvPr/>
          </p:nvSpPr>
          <p:spPr>
            <a:xfrm>
              <a:off x="2682720" y="317520"/>
              <a:ext cx="2472840" cy="1122120"/>
            </a:xfrm>
            <a:prstGeom prst="rect">
              <a:avLst/>
            </a:prstGeom>
            <a:solidFill>
              <a:srgbClr val="ffffff"/>
            </a:solidFill>
            <a:ln cap="sq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fr-FR" sz="1800" spc="-1" strike="noStrike">
                <a:solidFill>
                  <a:srgbClr val="ffffff"/>
                </a:solidFill>
                <a:latin typeface="Calibri"/>
                <a:ea typeface="AR PL UMing H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3"/>
          <p:cNvSpPr/>
          <p:nvPr/>
        </p:nvSpPr>
        <p:spPr>
          <a:xfrm>
            <a:off x="3554640" y="3808440"/>
            <a:ext cx="1792080" cy="638640"/>
          </a:xfrm>
          <a:prstGeom prst="rect">
            <a:avLst/>
          </a:prstGeom>
          <a:solidFill>
            <a:srgbClr val="cccc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183" name="Forme libre 4"/>
          <p:cNvSpPr/>
          <p:nvPr/>
        </p:nvSpPr>
        <p:spPr>
          <a:xfrm>
            <a:off x="849600" y="1618200"/>
            <a:ext cx="2785680" cy="869760"/>
          </a:xfrm>
          <a:custGeom>
            <a:avLst/>
            <a:gdLst>
              <a:gd name="textAreaLeft" fmla="*/ 407880 w 2785680"/>
              <a:gd name="textAreaRight" fmla="*/ 2377800 w 2785680"/>
              <a:gd name="textAreaTop" fmla="*/ 127080 h 869760"/>
              <a:gd name="textAreaBottom" fmla="*/ 742680 h 869760"/>
            </a:gdLst>
            <a:ahLst/>
            <a:rect l="textAreaLeft" t="textAreaTop" r="textAreaRight" b="textAreaBottom"/>
            <a:pathLst>
              <a:path w="3870" h="1209">
                <a:moveTo>
                  <a:pt x="0" y="1209"/>
                </a:moveTo>
                <a:arcTo wR="3869.5" hR="1208.5" stAng="10800000" swAng="5400000"/>
                <a:arcTo wR="3869.5" hR="1208.5" stAng="16200000" swAng="5400000"/>
                <a:arcTo wR="3869.5" hR="1208.5" stAng="0" swAng="5400000"/>
                <a:arcTo wR="3869.5" hR="1208.5" stAng="5400000" swAng="5400000"/>
                <a:close/>
              </a:path>
            </a:pathLst>
          </a:custGeom>
          <a:solidFill>
            <a:srgbClr val="ffc000">
              <a:alpha val="8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6015600" y="3058200"/>
            <a:ext cx="2961000" cy="1967760"/>
            <a:chOff x="6015600" y="3058200"/>
            <a:chExt cx="2961000" cy="1967760"/>
          </a:xfrm>
        </p:grpSpPr>
        <p:grpSp>
          <p:nvGrpSpPr>
            <p:cNvPr id="185" name="Group 6"/>
            <p:cNvGrpSpPr/>
            <p:nvPr/>
          </p:nvGrpSpPr>
          <p:grpSpPr>
            <a:xfrm>
              <a:off x="6084360" y="3868920"/>
              <a:ext cx="2814480" cy="1157040"/>
              <a:chOff x="6084360" y="3868920"/>
              <a:chExt cx="2814480" cy="1157040"/>
            </a:xfrm>
          </p:grpSpPr>
          <p:pic>
            <p:nvPicPr>
              <p:cNvPr id="186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6084360" y="3868920"/>
                <a:ext cx="2814480" cy="115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11"/>
              <p:cNvSpPr/>
              <p:nvPr/>
            </p:nvSpPr>
            <p:spPr>
              <a:xfrm rot="1020000">
                <a:off x="8187840" y="4663800"/>
                <a:ext cx="507240" cy="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fr-FR" sz="1800" spc="-1" strike="noStrike">
                  <a:solidFill>
                    <a:srgbClr val="ffffff"/>
                  </a:solidFill>
                  <a:latin typeface="Arial"/>
                  <a:ea typeface="DejaVu LGC Sans"/>
                </a:endParaRPr>
              </a:p>
            </p:txBody>
          </p:sp>
        </p:grpSp>
        <p:pic>
          <p:nvPicPr>
            <p:cNvPr id="188" name="Picture 9" descr=""/>
            <p:cNvPicPr/>
            <p:nvPr/>
          </p:nvPicPr>
          <p:blipFill>
            <a:blip r:embed="rId2"/>
            <a:stretch/>
          </p:blipFill>
          <p:spPr>
            <a:xfrm>
              <a:off x="6015600" y="3058200"/>
              <a:ext cx="2961000" cy="104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AutoShape 10"/>
            <p:cNvSpPr/>
            <p:nvPr/>
          </p:nvSpPr>
          <p:spPr>
            <a:xfrm>
              <a:off x="8586000" y="3645720"/>
              <a:ext cx="176040" cy="5958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5800"/>
                <a:gd name="textAreaBottom" fmla="*/ 596160 h 595800"/>
              </a:gdLst>
              <a:ahLst/>
              <a:rect l="textAreaLeft" t="textAreaTop" r="textAreaRight" b="textAreaBottom"/>
              <a:pathLst>
                <a:path stroke="0" w="512" h="1715">
                  <a:moveTo>
                    <a:pt x="0" y="1280"/>
                  </a:moveTo>
                  <a:lnTo>
                    <a:pt x="163" y="873"/>
                  </a:lnTo>
                  <a:lnTo>
                    <a:pt x="163" y="1061"/>
                  </a:lnTo>
                  <a:arcTo wR="490" hR="546.06135" stAng="4343895" swAng="-3010531"/>
                  <a:arcTo wR="490" hR="546.06135" stAng="-1333365" swAng="5677260"/>
                  <a:lnTo>
                    <a:pt x="163" y="1625"/>
                  </a:lnTo>
                  <a:close/>
                </a:path>
                <a:path stroke="0" w="512" h="1715">
                  <a:moveTo>
                    <a:pt x="490" y="922"/>
                  </a:moveTo>
                  <a:arcTo wR="490" hR="546.06135" stAng="0" swAng="-5400000"/>
                  <a:lnTo>
                    <a:pt x="0" y="0"/>
                  </a:lnTo>
                  <a:arcTo wR="490" hR="546.06135" stAng="16200000" swAng="5400000"/>
                  <a:close/>
                </a:path>
                <a:path fill="none" w="512" h="1715">
                  <a:moveTo>
                    <a:pt x="490" y="922"/>
                  </a:moveTo>
                  <a:arcTo wR="490" hR="546.06135" stAng="0" swAng="-5400000"/>
                  <a:lnTo>
                    <a:pt x="0" y="0"/>
                  </a:lnTo>
                  <a:arcTo wR="490" hR="546.06135" stAng="16200000" swAng="5400000"/>
                  <a:lnTo>
                    <a:pt x="490" y="922"/>
                  </a:lnTo>
                  <a:arcTo wR="490" hR="546.06135" stAng="0" swAng="4343895"/>
                  <a:lnTo>
                    <a:pt x="163" y="1625"/>
                  </a:lnTo>
                  <a:lnTo>
                    <a:pt x="0" y="1280"/>
                  </a:lnTo>
                  <a:lnTo>
                    <a:pt x="163" y="873"/>
                  </a:lnTo>
                  <a:lnTo>
                    <a:pt x="163" y="1061"/>
                  </a:lnTo>
                  <a:arcTo wR="490" hR="546.06135" stAng="4343895" swAng="-3010531"/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fr-FR" sz="1800" spc="-1" strike="noStrike">
                <a:solidFill>
                  <a:srgbClr val="ffffff"/>
                </a:solidFill>
                <a:latin typeface="Arial"/>
                <a:ea typeface="DejaVu LGC Sans"/>
              </a:endParaRPr>
            </a:p>
          </p:txBody>
        </p:sp>
        <p:sp>
          <p:nvSpPr>
            <p:cNvPr id="190" name="AutoShape 11"/>
            <p:cNvSpPr/>
            <p:nvPr/>
          </p:nvSpPr>
          <p:spPr>
            <a:xfrm flipV="1">
              <a:off x="6230880" y="3631320"/>
              <a:ext cx="176040" cy="6220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360 h 622080"/>
                <a:gd name="textAreaBottom" fmla="*/ 622800 h 622080"/>
              </a:gdLst>
              <a:ahLst/>
              <a:rect l="textAreaLeft" t="textAreaTop" r="textAreaRight" b="textAreaBottom"/>
              <a:pathLst>
                <a:path stroke="0" w="490" h="1769">
                  <a:moveTo>
                    <a:pt x="0" y="570"/>
                  </a:moveTo>
                  <a:arcTo wR="490" hR="570.1227" stAng="10800000" swAng="-4385875"/>
                  <a:lnTo>
                    <a:pt x="327" y="911"/>
                  </a:lnTo>
                  <a:lnTo>
                    <a:pt x="490" y="1336"/>
                  </a:lnTo>
                  <a:lnTo>
                    <a:pt x="327" y="1696"/>
                  </a:lnTo>
                  <a:lnTo>
                    <a:pt x="327" y="1500"/>
                  </a:lnTo>
                  <a:arcTo wR="490" hR="570.1227" stAng="6414125" swAng="4385875"/>
                  <a:close/>
                </a:path>
                <a:path stroke="0" w="490" h="1769">
                  <a:moveTo>
                    <a:pt x="490" y="393"/>
                  </a:moveTo>
                  <a:arcTo wR="490" hR="570.1227" stAng="16200000" swAng="-4013857"/>
                  <a:arcTo wR="490" hR="570.1227" stAng="9413857" swAng="6786143"/>
                  <a:close/>
                </a:path>
                <a:path fill="none" w="490" h="1769">
                  <a:moveTo>
                    <a:pt x="0" y="570"/>
                  </a:moveTo>
                  <a:arcTo wR="490" hR="570.1227" stAng="10800000" swAng="-4385875"/>
                  <a:lnTo>
                    <a:pt x="327" y="911"/>
                  </a:lnTo>
                  <a:lnTo>
                    <a:pt x="490" y="1336"/>
                  </a:lnTo>
                  <a:lnTo>
                    <a:pt x="327" y="1696"/>
                  </a:lnTo>
                  <a:lnTo>
                    <a:pt x="327" y="1500"/>
                  </a:lnTo>
                  <a:arcTo wR="490" hR="570.1227" stAng="6414125" swAng="4385875"/>
                  <a:lnTo>
                    <a:pt x="0" y="570"/>
                  </a:lnTo>
                  <a:arcTo wR="490" hR="570.1227" stAng="10800000" swAng="5400000"/>
                  <a:lnTo>
                    <a:pt x="490" y="393"/>
                  </a:lnTo>
                  <a:arcTo wR="490" hR="570.1227" stAng="16200000" swAng="-4013857"/>
                </a:path>
              </a:pathLst>
            </a:cu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fr-FR" sz="1800" spc="-1" strike="noStrike">
                <a:solidFill>
                  <a:srgbClr val="ffffff"/>
                </a:solidFill>
                <a:latin typeface="Arial"/>
                <a:ea typeface="DejaVu LGC Sans"/>
              </a:endParaRPr>
            </a:p>
          </p:txBody>
        </p:sp>
      </p:grpSp>
      <p:pic>
        <p:nvPicPr>
          <p:cNvPr id="191" name="Picture 9" descr=""/>
          <p:cNvPicPr/>
          <p:nvPr/>
        </p:nvPicPr>
        <p:blipFill>
          <a:blip r:embed="rId3"/>
          <a:srcRect l="25984" t="0" r="25984" b="0"/>
          <a:stretch/>
        </p:blipFill>
        <p:spPr>
          <a:xfrm>
            <a:off x="179640" y="2931480"/>
            <a:ext cx="2477160" cy="1915920"/>
          </a:xfrm>
          <a:prstGeom prst="rect">
            <a:avLst/>
          </a:prstGeom>
          <a:ln w="0">
            <a:noFill/>
          </a:ln>
        </p:spPr>
      </p:pic>
      <p:sp>
        <p:nvSpPr>
          <p:cNvPr id="192" name="ZoneTexte 13"/>
          <p:cNvSpPr/>
          <p:nvPr/>
        </p:nvSpPr>
        <p:spPr>
          <a:xfrm>
            <a:off x="850320" y="1717560"/>
            <a:ext cx="2797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chemistry &amp;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INCA / REPRO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rme libre 14"/>
          <p:cNvSpPr/>
          <p:nvPr/>
        </p:nvSpPr>
        <p:spPr>
          <a:xfrm>
            <a:off x="5061960" y="1622520"/>
            <a:ext cx="2785680" cy="881640"/>
          </a:xfrm>
          <a:custGeom>
            <a:avLst/>
            <a:gdLst>
              <a:gd name="textAreaLeft" fmla="*/ 407880 w 2785680"/>
              <a:gd name="textAreaRight" fmla="*/ 2377800 w 2785680"/>
              <a:gd name="textAreaTop" fmla="*/ 128880 h 881640"/>
              <a:gd name="textAreaBottom" fmla="*/ 752760 h 881640"/>
            </a:gdLst>
            <a:ahLst/>
            <a:rect l="textAreaLeft" t="textAreaTop" r="textAreaRight" b="textAreaBottom"/>
            <a:pathLst>
              <a:path w="3870" h="1225">
                <a:moveTo>
                  <a:pt x="0" y="1225"/>
                </a:moveTo>
                <a:arcTo wR="3869.5" hR="1225" stAng="10800000" swAng="5400000"/>
                <a:arcTo wR="3869.5" hR="1225" stAng="16200000" swAng="5400000"/>
                <a:arcTo wR="3869.5" hR="1225" stAng="0" swAng="5400000"/>
                <a:arcTo wR="3869.5" hR="1225" stAng="5400000" swAng="5400000"/>
                <a:close/>
              </a:path>
            </a:pathLst>
          </a:custGeom>
          <a:solidFill>
            <a:schemeClr val="accent5">
              <a:lumMod val="75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194" name="ZoneTexte 15"/>
          <p:cNvSpPr/>
          <p:nvPr/>
        </p:nvSpPr>
        <p:spPr>
          <a:xfrm>
            <a:off x="5062680" y="1717920"/>
            <a:ext cx="2797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Land and veg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ORCHID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rme libre 16"/>
          <p:cNvSpPr/>
          <p:nvPr/>
        </p:nvSpPr>
        <p:spPr>
          <a:xfrm>
            <a:off x="3010320" y="2626200"/>
            <a:ext cx="2785680" cy="868320"/>
          </a:xfrm>
          <a:custGeom>
            <a:avLst/>
            <a:gdLst>
              <a:gd name="textAreaLeft" fmla="*/ 407880 w 2785680"/>
              <a:gd name="textAreaRight" fmla="*/ 2377800 w 2785680"/>
              <a:gd name="textAreaTop" fmla="*/ 127080 h 868320"/>
              <a:gd name="textAreaBottom" fmla="*/ 741240 h 868320"/>
            </a:gdLst>
            <a:ahLst/>
            <a:rect l="textAreaLeft" t="textAreaTop" r="textAreaRight" b="textAreaBottom"/>
            <a:pathLst>
              <a:path w="3870" h="1207">
                <a:moveTo>
                  <a:pt x="0" y="1207"/>
                </a:moveTo>
                <a:arcTo wR="3869.5" hR="1206.5" stAng="10800000" swAng="5400000"/>
                <a:arcTo wR="3869.5" hR="1206.5" stAng="16200000" swAng="5400000"/>
                <a:arcTo wR="3869.5" hR="1206.5" stAng="0" swAng="5400000"/>
                <a:arcTo wR="3869.5" hR="1206.5" stAng="5400000" swAng="5400000"/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196" name="ZoneTexte 17"/>
          <p:cNvSpPr/>
          <p:nvPr/>
        </p:nvSpPr>
        <p:spPr>
          <a:xfrm>
            <a:off x="3011040" y="2726280"/>
            <a:ext cx="2797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Atmospheric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LM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rme libre 18"/>
          <p:cNvSpPr/>
          <p:nvPr/>
        </p:nvSpPr>
        <p:spPr>
          <a:xfrm>
            <a:off x="3010680" y="4716720"/>
            <a:ext cx="2785680" cy="874440"/>
          </a:xfrm>
          <a:custGeom>
            <a:avLst/>
            <a:gdLst>
              <a:gd name="textAreaLeft" fmla="*/ 407880 w 2785680"/>
              <a:gd name="textAreaRight" fmla="*/ 2377800 w 2785680"/>
              <a:gd name="textAreaTop" fmla="*/ 127800 h 874440"/>
              <a:gd name="textAreaBottom" fmla="*/ 746640 h 874440"/>
            </a:gdLst>
            <a:ahLst/>
            <a:rect l="textAreaLeft" t="textAreaTop" r="textAreaRight" b="textAreaBottom"/>
            <a:pathLst>
              <a:path w="3870" h="1215">
                <a:moveTo>
                  <a:pt x="0" y="1215"/>
                </a:moveTo>
                <a:arcTo wR="3869.5" hR="1215" stAng="10800000" swAng="5400000"/>
                <a:arcTo wR="3869.5" hR="1215" stAng="16200000" swAng="5400000"/>
                <a:arcTo wR="3869.5" hR="1215" stAng="0" swAng="5400000"/>
                <a:arcTo wR="3869.5" hR="1215" stAng="5400000" swAng="5400000"/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198" name="ZoneTexte 19"/>
          <p:cNvSpPr/>
          <p:nvPr/>
        </p:nvSpPr>
        <p:spPr>
          <a:xfrm>
            <a:off x="3011400" y="4814640"/>
            <a:ext cx="2797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Oceani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DejaVu LGC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rme libre 20"/>
          <p:cNvSpPr/>
          <p:nvPr/>
        </p:nvSpPr>
        <p:spPr>
          <a:xfrm>
            <a:off x="909360" y="5650560"/>
            <a:ext cx="2785680" cy="874440"/>
          </a:xfrm>
          <a:custGeom>
            <a:avLst/>
            <a:gdLst>
              <a:gd name="textAreaLeft" fmla="*/ 407880 w 2785680"/>
              <a:gd name="textAreaRight" fmla="*/ 2377800 w 2785680"/>
              <a:gd name="textAreaTop" fmla="*/ 127800 h 874440"/>
              <a:gd name="textAreaBottom" fmla="*/ 746640 h 874440"/>
            </a:gdLst>
            <a:ahLst/>
            <a:rect l="textAreaLeft" t="textAreaTop" r="textAreaRight" b="textAreaBottom"/>
            <a:pathLst>
              <a:path w="3870" h="1215">
                <a:moveTo>
                  <a:pt x="0" y="1215"/>
                </a:moveTo>
                <a:arcTo wR="3869.5" hR="1215" stAng="10800000" swAng="5400000"/>
                <a:arcTo wR="3869.5" hR="1215" stAng="16200000" swAng="5400000"/>
                <a:arcTo wR="3869.5" hR="1215" stAng="0" swAng="5400000"/>
                <a:arcTo wR="3869.5" hR="1215" stAng="5400000" swAng="5400000"/>
                <a:close/>
              </a:path>
            </a:pathLst>
          </a:custGeom>
          <a:solidFill>
            <a:schemeClr val="accent1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0" name="ZoneTexte 21"/>
          <p:cNvSpPr/>
          <p:nvPr/>
        </p:nvSpPr>
        <p:spPr>
          <a:xfrm>
            <a:off x="910440" y="5748480"/>
            <a:ext cx="2797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biogeochmi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PIS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rme libre 22"/>
          <p:cNvSpPr/>
          <p:nvPr/>
        </p:nvSpPr>
        <p:spPr>
          <a:xfrm>
            <a:off x="4941720" y="5650560"/>
            <a:ext cx="2785680" cy="874440"/>
          </a:xfrm>
          <a:custGeom>
            <a:avLst/>
            <a:gdLst>
              <a:gd name="textAreaLeft" fmla="*/ 407880 w 2785680"/>
              <a:gd name="textAreaRight" fmla="*/ 2377800 w 2785680"/>
              <a:gd name="textAreaTop" fmla="*/ 127800 h 874440"/>
              <a:gd name="textAreaBottom" fmla="*/ 746640 h 874440"/>
            </a:gdLst>
            <a:ahLst/>
            <a:rect l="textAreaLeft" t="textAreaTop" r="textAreaRight" b="textAreaBottom"/>
            <a:pathLst>
              <a:path w="3870" h="1215">
                <a:moveTo>
                  <a:pt x="0" y="1215"/>
                </a:moveTo>
                <a:arcTo wR="3869.5" hR="1215" stAng="10800000" swAng="5400000"/>
                <a:arcTo wR="3869.5" hR="1215" stAng="16200000" swAng="5400000"/>
                <a:arcTo wR="3869.5" hR="1215" stAng="0" swAng="5400000"/>
                <a:arcTo wR="3869.5" hR="1215" stAng="5400000" swAng="5400000"/>
                <a:close/>
              </a:path>
            </a:pathLst>
          </a:custGeom>
          <a:solidFill>
            <a:srgbClr val="99cc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2" name="ZoneTexte 23"/>
          <p:cNvSpPr/>
          <p:nvPr/>
        </p:nvSpPr>
        <p:spPr>
          <a:xfrm>
            <a:off x="4942800" y="5748480"/>
            <a:ext cx="27972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Se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DejaVu LGC San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24"/>
          <p:cNvSpPr/>
          <p:nvPr/>
        </p:nvSpPr>
        <p:spPr>
          <a:xfrm>
            <a:off x="3679560" y="3807000"/>
            <a:ext cx="15069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LGC Sans"/>
              </a:rPr>
              <a:t>coup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  <a:ea typeface="DejaVu LGC Sans"/>
              </a:rPr>
              <a:t>O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rme libre 25"/>
          <p:cNvSpPr/>
          <p:nvPr/>
        </p:nvSpPr>
        <p:spPr>
          <a:xfrm rot="2400000">
            <a:off x="5231520" y="5485680"/>
            <a:ext cx="419400" cy="275760"/>
          </a:xfrm>
          <a:custGeom>
            <a:avLst/>
            <a:gdLst>
              <a:gd name="textAreaLeft" fmla="*/ 41760 w 419400"/>
              <a:gd name="textAreaRight" fmla="*/ 377640 w 419400"/>
              <a:gd name="textAreaTop" fmla="*/ 68760 h 275760"/>
              <a:gd name="textAreaBottom" fmla="*/ 207000 h 27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0"/>
                </a:lnTo>
                <a:lnTo>
                  <a:pt x="4300" y="5400"/>
                </a:lnTo>
                <a:lnTo>
                  <a:pt x="17300" y="5400"/>
                </a:lnTo>
                <a:lnTo>
                  <a:pt x="17300" y="0"/>
                </a:lnTo>
                <a:lnTo>
                  <a:pt x="21600" y="10800"/>
                </a:lnTo>
                <a:lnTo>
                  <a:pt x="17300" y="21600"/>
                </a:lnTo>
                <a:lnTo>
                  <a:pt x="17300" y="16200"/>
                </a:lnTo>
                <a:lnTo>
                  <a:pt x="4300" y="16200"/>
                </a:lnTo>
                <a:lnTo>
                  <a:pt x="4300" y="21600"/>
                </a:lnTo>
                <a:close/>
              </a:path>
            </a:pathLst>
          </a:custGeom>
          <a:solidFill>
            <a:srgbClr val="2323d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5" name="Forme libre 26"/>
          <p:cNvSpPr/>
          <p:nvPr/>
        </p:nvSpPr>
        <p:spPr>
          <a:xfrm rot="2400000">
            <a:off x="3108960" y="2414520"/>
            <a:ext cx="419400" cy="275760"/>
          </a:xfrm>
          <a:custGeom>
            <a:avLst/>
            <a:gdLst>
              <a:gd name="textAreaLeft" fmla="*/ 41760 w 419400"/>
              <a:gd name="textAreaRight" fmla="*/ 377640 w 419400"/>
              <a:gd name="textAreaTop" fmla="*/ 68760 h 275760"/>
              <a:gd name="textAreaBottom" fmla="*/ 207000 h 27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0"/>
                </a:lnTo>
                <a:lnTo>
                  <a:pt x="4300" y="5400"/>
                </a:lnTo>
                <a:lnTo>
                  <a:pt x="17300" y="5400"/>
                </a:lnTo>
                <a:lnTo>
                  <a:pt x="17300" y="0"/>
                </a:lnTo>
                <a:lnTo>
                  <a:pt x="21600" y="10800"/>
                </a:lnTo>
                <a:lnTo>
                  <a:pt x="17300" y="21600"/>
                </a:lnTo>
                <a:lnTo>
                  <a:pt x="17300" y="16200"/>
                </a:lnTo>
                <a:lnTo>
                  <a:pt x="4300" y="16200"/>
                </a:lnTo>
                <a:lnTo>
                  <a:pt x="4300" y="21600"/>
                </a:lnTo>
                <a:close/>
              </a:path>
            </a:pathLst>
          </a:custGeom>
          <a:solidFill>
            <a:srgbClr val="2323d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6" name="Forme libre 27"/>
          <p:cNvSpPr/>
          <p:nvPr/>
        </p:nvSpPr>
        <p:spPr>
          <a:xfrm rot="8400000">
            <a:off x="5226840" y="2432880"/>
            <a:ext cx="419400" cy="275760"/>
          </a:xfrm>
          <a:custGeom>
            <a:avLst/>
            <a:gdLst>
              <a:gd name="textAreaLeft" fmla="*/ 41760 w 419400"/>
              <a:gd name="textAreaRight" fmla="*/ 377640 w 419400"/>
              <a:gd name="textAreaTop" fmla="*/ 68760 h 275760"/>
              <a:gd name="textAreaBottom" fmla="*/ 207000 h 27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0"/>
                </a:lnTo>
                <a:lnTo>
                  <a:pt x="4300" y="5400"/>
                </a:lnTo>
                <a:lnTo>
                  <a:pt x="17300" y="5400"/>
                </a:lnTo>
                <a:lnTo>
                  <a:pt x="17300" y="0"/>
                </a:lnTo>
                <a:lnTo>
                  <a:pt x="21600" y="10800"/>
                </a:lnTo>
                <a:lnTo>
                  <a:pt x="17300" y="21600"/>
                </a:lnTo>
                <a:lnTo>
                  <a:pt x="17300" y="16200"/>
                </a:lnTo>
                <a:lnTo>
                  <a:pt x="4300" y="16200"/>
                </a:lnTo>
                <a:lnTo>
                  <a:pt x="4300" y="21600"/>
                </a:lnTo>
                <a:close/>
              </a:path>
            </a:pathLst>
          </a:custGeom>
          <a:solidFill>
            <a:srgbClr val="2323d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7" name="Forme libre 28"/>
          <p:cNvSpPr/>
          <p:nvPr/>
        </p:nvSpPr>
        <p:spPr>
          <a:xfrm rot="5400000">
            <a:off x="4140360" y="3500280"/>
            <a:ext cx="409320" cy="262440"/>
          </a:xfrm>
          <a:custGeom>
            <a:avLst/>
            <a:gdLst>
              <a:gd name="textAreaLeft" fmla="*/ 40680 w 409320"/>
              <a:gd name="textAreaRight" fmla="*/ 368640 w 409320"/>
              <a:gd name="textAreaTop" fmla="*/ 65520 h 262440"/>
              <a:gd name="textAreaBottom" fmla="*/ 196920 h 26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0"/>
                </a:lnTo>
                <a:lnTo>
                  <a:pt x="4300" y="5400"/>
                </a:lnTo>
                <a:lnTo>
                  <a:pt x="17300" y="5400"/>
                </a:lnTo>
                <a:lnTo>
                  <a:pt x="17300" y="0"/>
                </a:lnTo>
                <a:lnTo>
                  <a:pt x="21600" y="10800"/>
                </a:lnTo>
                <a:lnTo>
                  <a:pt x="17300" y="21600"/>
                </a:lnTo>
                <a:lnTo>
                  <a:pt x="17300" y="16200"/>
                </a:lnTo>
                <a:lnTo>
                  <a:pt x="4300" y="16200"/>
                </a:lnTo>
                <a:lnTo>
                  <a:pt x="4300" y="21600"/>
                </a:lnTo>
                <a:close/>
              </a:path>
            </a:pathLst>
          </a:custGeom>
          <a:solidFill>
            <a:srgbClr val="2323d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8" name="Forme libre 29"/>
          <p:cNvSpPr/>
          <p:nvPr/>
        </p:nvSpPr>
        <p:spPr>
          <a:xfrm rot="5400000">
            <a:off x="4219200" y="4419000"/>
            <a:ext cx="331920" cy="262440"/>
          </a:xfrm>
          <a:custGeom>
            <a:avLst/>
            <a:gdLst>
              <a:gd name="textAreaLeft" fmla="*/ 32760 w 331920"/>
              <a:gd name="textAreaRight" fmla="*/ 299160 w 331920"/>
              <a:gd name="textAreaTop" fmla="*/ 65520 h 262440"/>
              <a:gd name="textAreaBottom" fmla="*/ 196920 h 262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0"/>
                </a:lnTo>
                <a:lnTo>
                  <a:pt x="4300" y="5400"/>
                </a:lnTo>
                <a:lnTo>
                  <a:pt x="17300" y="5400"/>
                </a:lnTo>
                <a:lnTo>
                  <a:pt x="17300" y="0"/>
                </a:lnTo>
                <a:lnTo>
                  <a:pt x="21600" y="10800"/>
                </a:lnTo>
                <a:lnTo>
                  <a:pt x="17300" y="21600"/>
                </a:lnTo>
                <a:lnTo>
                  <a:pt x="17300" y="16200"/>
                </a:lnTo>
                <a:lnTo>
                  <a:pt x="4300" y="16200"/>
                </a:lnTo>
                <a:lnTo>
                  <a:pt x="4300" y="21600"/>
                </a:lnTo>
                <a:close/>
              </a:path>
            </a:pathLst>
          </a:custGeom>
          <a:solidFill>
            <a:srgbClr val="2323d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09" name="Forme libre 30"/>
          <p:cNvSpPr/>
          <p:nvPr/>
        </p:nvSpPr>
        <p:spPr>
          <a:xfrm rot="7429800">
            <a:off x="3123000" y="5475600"/>
            <a:ext cx="419400" cy="275760"/>
          </a:xfrm>
          <a:custGeom>
            <a:avLst/>
            <a:gdLst>
              <a:gd name="textAreaLeft" fmla="*/ 41760 w 419400"/>
              <a:gd name="textAreaRight" fmla="*/ 377640 w 419400"/>
              <a:gd name="textAreaTop" fmla="*/ 68760 h 275760"/>
              <a:gd name="textAreaBottom" fmla="*/ 207000 h 27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0"/>
                </a:lnTo>
                <a:lnTo>
                  <a:pt x="4300" y="5400"/>
                </a:lnTo>
                <a:lnTo>
                  <a:pt x="17300" y="5400"/>
                </a:lnTo>
                <a:lnTo>
                  <a:pt x="17300" y="0"/>
                </a:lnTo>
                <a:lnTo>
                  <a:pt x="21600" y="10800"/>
                </a:lnTo>
                <a:lnTo>
                  <a:pt x="17300" y="21600"/>
                </a:lnTo>
                <a:lnTo>
                  <a:pt x="17300" y="16200"/>
                </a:lnTo>
                <a:lnTo>
                  <a:pt x="4300" y="16200"/>
                </a:lnTo>
                <a:lnTo>
                  <a:pt x="4300" y="21600"/>
                </a:lnTo>
                <a:close/>
              </a:path>
            </a:pathLst>
          </a:custGeom>
          <a:solidFill>
            <a:srgbClr val="2323d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fr-FR" sz="1800" spc="-1" strike="noStrike">
              <a:solidFill>
                <a:srgbClr val="ffffff"/>
              </a:solidFill>
              <a:latin typeface="Arial"/>
              <a:ea typeface="DejaVu LGC Sans"/>
            </a:endParaRPr>
          </a:p>
        </p:txBody>
      </p:sp>
      <p:sp>
        <p:nvSpPr>
          <p:cNvPr id="210" name="ZoneTexte 31"/>
          <p:cNvSpPr/>
          <p:nvPr/>
        </p:nvSpPr>
        <p:spPr>
          <a:xfrm>
            <a:off x="3667320" y="5650560"/>
            <a:ext cx="1255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r-FR" sz="1800" spc="-1" strike="noStrike">
                <a:solidFill>
                  <a:srgbClr val="2323dc"/>
                </a:solidFill>
                <a:latin typeface="Arial"/>
                <a:ea typeface="DejaVu LGC Sans"/>
              </a:rPr>
              <a:t>N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32"/>
          <p:cNvSpPr/>
          <p:nvPr/>
        </p:nvSpPr>
        <p:spPr>
          <a:xfrm>
            <a:off x="1835640" y="208080"/>
            <a:ext cx="5760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r-FR" sz="3200" spc="-1" strike="noStrike">
                <a:solidFill>
                  <a:srgbClr val="0093d9"/>
                </a:solidFill>
                <a:latin typeface="Arial"/>
                <a:ea typeface="DejaVu LGC Sans"/>
              </a:rPr>
              <a:t>IPSL-CM ESM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fr-FR" sz="2400" spc="-1" strike="noStrike">
                <a:solidFill>
                  <a:srgbClr val="0093d9"/>
                </a:solidFill>
                <a:latin typeface="Arial"/>
                <a:ea typeface="DejaVu LGC Sans"/>
              </a:rPr>
              <a:t>(same as in CMIP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4"/>
          <a:srcRect l="2234" t="0" r="82109" b="31275"/>
          <a:stretch/>
        </p:blipFill>
        <p:spPr>
          <a:xfrm>
            <a:off x="123480" y="158040"/>
            <a:ext cx="18946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67640" y="692640"/>
            <a:ext cx="8424720" cy="62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  <a:ea typeface="AR PL UMing HK"/>
              </a:rPr>
              <a:t>IPSL-CM6 E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 PL UMing HK"/>
              </a:rPr>
              <a:t>AOGCM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Two resol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L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 : Atm: 2.5x1.5° (144x144) L79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Oce: 1° L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M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 : Atm: 1.3x0.6° (280x280) L79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Oce: 0.25° L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AR PL UMing HK"/>
              </a:rPr>
              <a:t>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tandard: physical + carbon cycle + prescribed aerosol and 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tandard with interactive aer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AR PL UMing HK"/>
              </a:rPr>
              <a:t>Atmosphere onl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High re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H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 : Atm with new dynamical core DYNAMICO 0.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  <a:ea typeface="AR PL UMing HK"/>
              </a:rPr>
              <a:t>IPSL-CM5A-AerC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Continuity with IPSL-CM5A used in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Interactive chemistry and aeros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VLR 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Atm: 3.75x1.9° (96x95) L39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Oce: 2° L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1546200" y="116640"/>
            <a:ext cx="6555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AR PL UMing HK"/>
              </a:rPr>
              <a:t>IPSL Models for CMIP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467640" y="983520"/>
            <a:ext cx="84247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  <a:ea typeface="AR PL UMing HK"/>
              </a:rPr>
              <a:t>IPSL-CM6 E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  <a:ea typeface="AR PL UMing HK"/>
              </a:rPr>
              <a:t>Configuration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tandard: physical + carbon cycle + prescribed aerosol and o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tandard with interactive aer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Wingdings"/>
                <a:ea typeface="AR PL UMing HK"/>
              </a:rPr>
              <a:t>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Calibri"/>
                <a:ea typeface="AR PL UMing HK"/>
              </a:rPr>
              <a:t> </a:t>
            </a:r>
            <a:r>
              <a:rPr b="0" lang="en-US" sz="2400" spc="-1" strike="noStrike" u="sng">
                <a:solidFill>
                  <a:srgbClr val="0070c0"/>
                </a:solidFill>
                <a:uFillTx/>
                <a:latin typeface="Calibri"/>
                <a:ea typeface="AR PL UMing HK"/>
              </a:rPr>
              <a:t>High interest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 PL UMing HK"/>
              </a:rPr>
              <a:t>Consistency between past-present-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 PL UMing HK"/>
              </a:rPr>
              <a:t>“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 PL UMing HK"/>
              </a:rPr>
              <a:t>Realistic” versus idealized experiments and configurations (including aquapla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AR PL UMing HK"/>
              </a:rPr>
              <a:t>Stand-alone model vs coupl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  <a:ea typeface="AR PL UMing HK"/>
              </a:rPr>
              <a:t>IPSL-CM5A-AerC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Dedicated model version for complex, interactive chemistry  and aerosol: robust and stable physics, low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467640" y="116640"/>
            <a:ext cx="820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AR PL UMing HK"/>
              </a:rPr>
              <a:t>Configuration and hierarchy of IPS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Tableau 4"/>
          <p:cNvGraphicFramePr/>
          <p:nvPr/>
        </p:nvGraphicFramePr>
        <p:xfrm>
          <a:off x="683640" y="692640"/>
          <a:ext cx="7560360" cy="4863240"/>
        </p:xfrm>
        <a:graphic>
          <a:graphicData uri="http://schemas.openxmlformats.org/drawingml/2006/table">
            <a:tbl>
              <a:tblPr/>
              <a:tblGrid>
                <a:gridCol w="2180880"/>
                <a:gridCol w="3939480"/>
                <a:gridCol w="1440000"/>
              </a:tblGrid>
              <a:tr h="237960"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Short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Long name of M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IPSL-CM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AerChem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Aerosols and Chemistry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C4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Coupled Climate Carbon Cycle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CF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Cloud Feedback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A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tection and Attribution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may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C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cadal Climate Predicti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FAF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Flux-Anomaly-Forced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Geo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Geoengineering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GM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Global Monsoons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HighRes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High Resolution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may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ISMIP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Ice Sheet Model Intercomparison Project for CMIP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LS3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Land Surface, Snow and Soil Mois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LU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Land-Use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O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Ocean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P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Palaeoclimate Modelling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RF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Radiative Forcing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Scenario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Scenario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Vol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Volcanic Forcings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ynV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ynamics and Variability of the Stratosphere-Troposphere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1420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SIM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Sea-Ice Model Intercomparison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AR PL UMing HK"/>
                        </a:rPr>
                        <a:t>definite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8" name="Text Box 2"/>
          <p:cNvSpPr/>
          <p:nvPr/>
        </p:nvSpPr>
        <p:spPr>
          <a:xfrm>
            <a:off x="1546200" y="116640"/>
            <a:ext cx="65559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AR PL UMing HK"/>
              </a:rPr>
              <a:t>IPSL planed contribution to CMIP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"/>
          <p:cNvSpPr/>
          <p:nvPr/>
        </p:nvSpPr>
        <p:spPr>
          <a:xfrm>
            <a:off x="395640" y="3036240"/>
            <a:ext cx="842472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  <a:ea typeface="AR PL UMing HK"/>
              </a:rPr>
              <a:t>Mid 201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tart simulations with IPSL-CM6.1-LR and IPSL-CM5A-AerC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  <a:ea typeface="AR PL UMing HK"/>
              </a:rPr>
              <a:t>End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tart publication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  <a:ea typeface="AR PL UMing HK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Simulations with IPSL-CM6.1-LR and start with IPSL-CM6.1-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  <a:ea typeface="AR PL UMing HK"/>
              </a:rPr>
              <a:t>2018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IPSL-CM6-HR and possible second version IPSL-CM6.2-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67640" y="2349720"/>
            <a:ext cx="820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AR PL UMing HK"/>
              </a:rPr>
              <a:t>Planed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rcRect l="2234" t="0" r="82109" b="31275"/>
          <a:stretch/>
        </p:blipFill>
        <p:spPr>
          <a:xfrm>
            <a:off x="123480" y="158040"/>
            <a:ext cx="1894680" cy="8222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2"/>
          <p:cNvSpPr/>
          <p:nvPr/>
        </p:nvSpPr>
        <p:spPr>
          <a:xfrm>
            <a:off x="547920" y="591120"/>
            <a:ext cx="8208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AR PL UMing HK"/>
              </a:rPr>
              <a:t>Regional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395640" y="1455120"/>
            <a:ext cx="8424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 PL UMing HK"/>
              </a:rPr>
              <a:t>Interest in stretched or zoomed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1371600" y="2546280"/>
            <a:ext cx="6857640" cy="20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D. Salas y Mélia, H. Douville, M. Michou, A. Ribes, D. Saint-Martin, R. Séférian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  <a:ea typeface="Microsoft YaHe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L. Terray and C. Cassou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  <a:ea typeface="Microsoft YaHe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Microsoft YaHei"/>
              </a:rPr>
              <a:t>1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CNRM-GAME, Toulouse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Microsoft YaHei"/>
              </a:rPr>
              <a:t>2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CERFACS, Toulouse, 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3640" cy="159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762120" y="441360"/>
            <a:ext cx="7848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CMIP6: Feedback from CNRM-CERFAC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5867280"/>
            <a:ext cx="91436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ffffff"/>
              </a:solidFill>
              <a:latin typeface="Times New Roman"/>
              <a:ea typeface="Microsoft YaHei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1042920" y="274680"/>
            <a:ext cx="727344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Introduction: CNRM-CM5 (CMIP5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898560" y="1635120"/>
            <a:ext cx="7482960" cy="46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NRM-CM5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ARPEGE-Climat v5 (diag. physics) TL127L31 + NEMO3.2 ORCA1L42 + SURFEX + TRIP1° (Voldoire et al., Clim. Dyn, 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Meteo-France’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operational seasonal predic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based on CNRM-C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ontribution to CMIP5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~9000 years for CMIP5 (centennial, CNRM), 4000 years (decadal, CERFA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Participated to CFMIP, PMIP, D&amp;A large ensemble (30 historical ex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Derived vers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NRM-ESM1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CNRM-CM5 + carbon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NRM-CCM :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CNRM-CM5 including stratospheric + tropospheric chemistry (60 vertical levels in the atmospher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>
              <a:lnSpc>
                <a:spcPct val="12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CNRM-C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with interactive Greenland ice-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hème Office">
  <a:themeElements>
    <a:clrScheme name="Thème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hème Office">
  <a:themeElements>
    <a:clrScheme name="Thème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Thème Office">
  <a:themeElements>
    <a:clrScheme name="Thème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Thème Office">
  <a:themeElements>
    <a:clrScheme name="Thème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  <Words>489</Words>
  <Paragraphs>1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17:19:22Z</dcterms:created>
  <dc:creator>Jean-Louis Dufresne</dc:creator>
  <dc:description/>
  <dc:language>en-US</dc:language>
  <cp:lastModifiedBy>Masa Kageyama</cp:lastModifiedBy>
  <cp:lastPrinted>1601-01-01T00:00:00Z</cp:lastPrinted>
  <dcterms:modified xsi:type="dcterms:W3CDTF">2015-10-19T10:33:11Z</dcterms:modified>
  <cp:revision>38</cp:revision>
  <dc:subject/>
  <dc:title>The IPSL-CM5 Earth System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Affichage à l'écran (4:3)</vt:lpwstr>
  </property>
  <property fmtid="{D5CDD505-2E9C-101B-9397-08002B2CF9AE}" pid="4" name="Slides">
    <vt:r8>12</vt:r8>
  </property>
</Properties>
</file>