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C1C-EB29-406C-B722-B7BFF63E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5C7-48C1-4DDD-9A21-1ECDCF57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78A-9D02-4DAD-A46B-002BEFEF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998-B1A4-44A6-A012-DB7AA13C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AF4-FC46-4BF8-B2FD-F9F9CFD6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2E0-E276-425F-A8EC-512C4213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6B07-27AB-49EA-AB7C-69758D90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FBB-86C1-4AB0-9B10-2458558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2CD-E20A-493F-A6D8-8BD061AB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A9F-4D29-4956-A6E1-DCCA0ECE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957D-EA64-4C06-863F-923FC3AE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918-EC9E-431C-9F32-14A20F30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971800" y="76320"/>
            <a:ext cx="579096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04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1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2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3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46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47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8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dt" idx="1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2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0" y="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5000" bIns="-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A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91AF847-7128-4D82-84B1-C605E57F4D45}" type="slidenum"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0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91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92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93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Greenhouse Ga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2" name="Shape 9"/>
          <p:cNvCxnSpPr/>
          <p:nvPr/>
        </p:nvCxnSpPr>
        <p:spPr>
          <a:xfrm>
            <a:off x="1812600" y="107640"/>
            <a:ext cx="360" cy="8625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pic>
        <p:nvPicPr>
          <p:cNvPr id="133" name="Shape 10" descr=""/>
          <p:cNvPicPr/>
          <p:nvPr/>
        </p:nvPicPr>
        <p:blipFill>
          <a:blip r:embed="rId2"/>
          <a:stretch/>
        </p:blipFill>
        <p:spPr>
          <a:xfrm>
            <a:off x="533520" y="119160"/>
            <a:ext cx="860040" cy="871200"/>
          </a:xfrm>
          <a:prstGeom prst="rect">
            <a:avLst/>
          </a:prstGeom>
          <a:ln w="0">
            <a:noFill/>
          </a:ln>
        </p:spPr>
      </p:pic>
      <p:sp>
        <p:nvSpPr>
          <p:cNvPr id="134" name="Shape 11"/>
          <p:cNvSpPr/>
          <p:nvPr/>
        </p:nvSpPr>
        <p:spPr>
          <a:xfrm>
            <a:off x="0" y="0"/>
            <a:ext cx="9143640" cy="837720"/>
          </a:xfrm>
          <a:prstGeom prst="rect">
            <a:avLst/>
          </a:prstGeom>
          <a:solidFill>
            <a:srgbClr val="0033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35" name="Shape 15"/>
          <p:cNvSpPr/>
          <p:nvPr/>
        </p:nvSpPr>
        <p:spPr>
          <a:xfrm>
            <a:off x="0" y="838080"/>
            <a:ext cx="9143640" cy="75960"/>
          </a:xfrm>
          <a:prstGeom prst="rect">
            <a:avLst/>
          </a:prstGeom>
          <a:solidFill>
            <a:srgbClr val="759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chemeClr val="dk1"/>
              </a:solidFill>
              <a:latin typeface="Arial"/>
              <a:ea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76320"/>
            <a:ext cx="5790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srl.noaa.gov/gmd/ccgg/about/global_means.html" TargetMode="External"/><Relationship Id="rId2" Type="http://schemas.openxmlformats.org/officeDocument/2006/relationships/hyperlink" Target="http://www.esrl.noaa.gov/gmd/hats/combined/N2O.html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35040"/>
            <a:ext cx="6130800" cy="741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400" spc="-1" strike="noStrike">
                <a:solidFill>
                  <a:schemeClr val="dk1"/>
                </a:solidFill>
                <a:latin typeface="Arial"/>
                <a:ea typeface="Arial"/>
              </a:rPr>
              <a:t>CMIP6 Forcing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400" spc="-1" strike="noStrike">
                <a:solidFill>
                  <a:schemeClr val="dk1"/>
                </a:solidFill>
                <a:latin typeface="Arial"/>
                <a:ea typeface="Arial"/>
              </a:rPr>
              <a:t>Historical GHG concen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7080" y="2692800"/>
            <a:ext cx="5626440" cy="298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A collaboration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David Etheridge, Paul Fraser, Pep Cannadell,  </a:t>
            </a: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(CSIRO)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Katja Dommenget, Alexander Nauels, Elisabeth Vogel, Malte Meinshausen </a:t>
            </a:r>
            <a:r>
              <a:rPr b="0" lang="en-AU" sz="1600" spc="-1" strike="noStrike">
                <a:solidFill>
                  <a:srgbClr val="808080"/>
                </a:solidFill>
                <a:latin typeface="Arial"/>
                <a:ea typeface="Arial"/>
              </a:rPr>
              <a:t>(Climate &amp; Energy College, University of Melbourne)</a:t>
            </a: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, 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bfbfbf"/>
                </a:solidFill>
                <a:latin typeface="Arial"/>
                <a:ea typeface="Arial"/>
              </a:rPr>
              <a:t>… 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and many oth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Malte Meinshausen, 19</a:t>
            </a:r>
            <a:r>
              <a:rPr b="0" lang="en-AU" sz="1800" spc="-1" strike="noStrike" baseline="30000">
                <a:solidFill>
                  <a:schemeClr val="dk1"/>
                </a:solidFill>
                <a:latin typeface="Arial"/>
                <a:ea typeface="Arial"/>
              </a:rPr>
              <a:t>th</a:t>
            </a:r>
            <a:r>
              <a:rPr b="0" lang="en-AU" sz="1800" spc="-1" strike="noStrike">
                <a:solidFill>
                  <a:schemeClr val="dk1"/>
                </a:solidFill>
                <a:latin typeface="Arial"/>
                <a:ea typeface="Arial"/>
              </a:rPr>
              <a:t> October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Australian-German Climate &amp; Energy Colle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AU" sz="1800" spc="-1" strike="noStrike">
                <a:solidFill>
                  <a:srgbClr val="808080"/>
                </a:solidFill>
                <a:latin typeface="Arial"/>
                <a:ea typeface="Arial"/>
              </a:rPr>
              <a:t>The University of Melbourne, Australia, malte.Meinshausen@unimelb.edu.a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Shape 13" descr=""/>
          <p:cNvPicPr/>
          <p:nvPr/>
        </p:nvPicPr>
        <p:blipFill>
          <a:blip r:embed="rId1"/>
          <a:stretch/>
        </p:blipFill>
        <p:spPr>
          <a:xfrm>
            <a:off x="179640" y="108000"/>
            <a:ext cx="2361960" cy="61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s://pbs.twimg.com/profile_images/528904817427484673/pmvo0IXw.jpeg"/>
          <p:cNvPicPr/>
          <p:nvPr/>
        </p:nvPicPr>
        <p:blipFill>
          <a:blip r:embed="rId2"/>
          <a:stretch/>
        </p:blipFill>
        <p:spPr>
          <a:xfrm>
            <a:off x="5607360" y="5733360"/>
            <a:ext cx="1124280" cy="112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www.climate-energy-college.net/files/site1/styles/mi7_120/public/images/614/profile_kd_fin.jpg?itok=ZYpo7A_r"/>
          <p:cNvPicPr/>
          <p:nvPr/>
        </p:nvPicPr>
        <p:blipFill>
          <a:blip r:embed="rId3"/>
          <a:stretch/>
        </p:blipFill>
        <p:spPr>
          <a:xfrm>
            <a:off x="8184240" y="2074680"/>
            <a:ext cx="971640" cy="1498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lisabeth Vogel"/>
          <p:cNvPicPr/>
          <p:nvPr/>
        </p:nvPicPr>
        <p:blipFill>
          <a:blip r:embed="rId4"/>
          <a:stretch/>
        </p:blipFill>
        <p:spPr>
          <a:xfrm>
            <a:off x="6982200" y="3472920"/>
            <a:ext cx="951480" cy="1258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www.climate-energy-college.net/files/site1/styles/mi7_240/public/images/14/Nauels.jpg?itok=fnlm3NS3"/>
          <p:cNvPicPr/>
          <p:nvPr/>
        </p:nvPicPr>
        <p:blipFill>
          <a:blip r:embed="rId5"/>
          <a:stretch/>
        </p:blipFill>
        <p:spPr>
          <a:xfrm>
            <a:off x="7934400" y="3518280"/>
            <a:ext cx="1206720" cy="1206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www.theage.com.au/ffximage/2007/01/26/js26climate1_wideweb__470x328,0.jpg"/>
          <p:cNvPicPr/>
          <p:nvPr/>
        </p:nvPicPr>
        <p:blipFill>
          <a:blip r:embed="rId6"/>
          <a:stretch/>
        </p:blipFill>
        <p:spPr>
          <a:xfrm>
            <a:off x="6732360" y="4725000"/>
            <a:ext cx="3095280" cy="2160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http://www.abc.net.au/news/image/1183718-3x2-940x627.jpg"/>
          <p:cNvPicPr/>
          <p:nvPr/>
        </p:nvPicPr>
        <p:blipFill>
          <a:blip r:embed="rId7"/>
          <a:stretch/>
        </p:blipFill>
        <p:spPr>
          <a:xfrm>
            <a:off x="7997400" y="4713480"/>
            <a:ext cx="1528560" cy="10195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8"/>
          <p:cNvSpPr/>
          <p:nvPr/>
        </p:nvSpPr>
        <p:spPr>
          <a:xfrm>
            <a:off x="155520" y="-982800"/>
            <a:ext cx="205704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AU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84" name="Picture 20" descr="http://dge.stanford.edu/DGE/NEWS/Images,%20speakers/Canadell,J.jpg"/>
          <p:cNvPicPr/>
          <p:nvPr/>
        </p:nvPicPr>
        <p:blipFill>
          <a:blip r:embed="rId8"/>
          <a:stretch/>
        </p:blipFill>
        <p:spPr>
          <a:xfrm>
            <a:off x="8018640" y="5733360"/>
            <a:ext cx="112248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CO2_concentrations_version1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3" descr="co2_m1_spatial-binning_linear_linear_5_5_lat-5.0_lon-5.0_time-10.0_flying_carpet.png"/>
          <p:cNvPicPr/>
          <p:nvPr/>
        </p:nvPicPr>
        <p:blipFill>
          <a:blip r:embed="rId1"/>
          <a:stretch/>
        </p:blipFill>
        <p:spPr>
          <a:xfrm>
            <a:off x="611640" y="934560"/>
            <a:ext cx="7882560" cy="59119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3640" y="76320"/>
            <a:ext cx="8515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CO</a:t>
            </a:r>
            <a:r>
              <a:rPr b="1" lang="en-AU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 rot="16200000">
            <a:off x="7233480" y="3755160"/>
            <a:ext cx="1460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  <a:ea typeface="Arial"/>
              </a:rPr>
              <a:t>Mixing Ratio (pp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1640" y="76320"/>
            <a:ext cx="85874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H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ch4_m1_spatial-binning_linear_linear_5_5_lat-5.0_lon-5.0_time-10.0_flying_carpet.png"/>
          <p:cNvPicPr/>
          <p:nvPr/>
        </p:nvPicPr>
        <p:blipFill>
          <a:blip r:embed="rId1"/>
          <a:stretch/>
        </p:blipFill>
        <p:spPr>
          <a:xfrm>
            <a:off x="945000" y="980640"/>
            <a:ext cx="7200360" cy="54003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9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H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1"/>
          <a:stretch/>
        </p:blipFill>
        <p:spPr>
          <a:xfrm>
            <a:off x="683640" y="908640"/>
            <a:ext cx="7659360" cy="5949000"/>
          </a:xfrm>
          <a:prstGeom prst="rect">
            <a:avLst/>
          </a:prstGeom>
          <a:ln w="0">
            <a:noFill/>
          </a:ln>
        </p:spPr>
      </p:pic>
      <p:sp>
        <p:nvSpPr>
          <p:cNvPr id="208" name="TextBox 11"/>
          <p:cNvSpPr/>
          <p:nvPr/>
        </p:nvSpPr>
        <p:spPr>
          <a:xfrm>
            <a:off x="-448920" y="6605640"/>
            <a:ext cx="99745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1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 - CO2 and CH4 semidiurnal flask values from1968 - 2015 and 1983 – 2015,  ~105 stations (~ 1/3 SH and 2/3 NH), own interpo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n2o_m1_spatial-binning_linear_linear_5_5_lat-30.0_lon-30.0_time-30.0_flying_carpet.png"/>
          <p:cNvPicPr/>
          <p:nvPr/>
        </p:nvPicPr>
        <p:blipFill>
          <a:blip r:embed="rId1"/>
          <a:stretch/>
        </p:blipFill>
        <p:spPr>
          <a:xfrm>
            <a:off x="683640" y="980640"/>
            <a:ext cx="7966080" cy="5974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N</a:t>
            </a:r>
            <a:r>
              <a:rPr b="1" lang="de-DE" sz="2000" spc="-1" strike="noStrike" baseline="-25000">
                <a:solidFill>
                  <a:schemeClr val="lt1"/>
                </a:solidFill>
                <a:latin typeface="Arial"/>
                <a:ea typeface="Arial"/>
              </a:rPr>
              <a:t>2</a:t>
            </a: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>
            <a:off x="12240" y="6605640"/>
            <a:ext cx="90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900" spc="-1" strike="noStrike">
                <a:solidFill>
                  <a:srgbClr val="808080"/>
                </a:solidFill>
                <a:latin typeface="Arial"/>
                <a:ea typeface="Arial"/>
              </a:rPr>
              <a:t>Data: NOAA ESLR  - N2O monthly mean flask values from 1977 – 2015, 13 stations (9 NH and 4 SH), globally and hemispherically averaged data available, own interpolation</a:t>
            </a:r>
            <a:r>
              <a:rPr b="0" lang="en-AU" sz="1100" spc="-1" strike="noStrike">
                <a:solidFill>
                  <a:srgbClr val="808080"/>
                </a:solidFill>
                <a:latin typeface="Gill Sans MT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640" y="76320"/>
            <a:ext cx="8583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Hemispheric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Important to get CMIP6 historical hemispheric / latitudinal forcing correct – for detection &amp; attribution, for estimating climate sensitivity &amp; TCR, for atmospheric chemistry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CO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, CH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4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, N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O and short-lived forcers in particular have north-south gradi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igher northern hemisphere GHG forcing slightly offsets higher northern hemispheric aerosol coo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blem: We have latitudinally resolved observations only from about 1980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Before the 80s: For methane and N</a:t>
            </a:r>
            <a:r>
              <a:rPr b="0" lang="de-DE" sz="2000" spc="-1" strike="noStrike" baseline="-25000">
                <a:solidFill>
                  <a:schemeClr val="dk1"/>
                </a:solidFill>
                <a:latin typeface="Arial"/>
                <a:ea typeface="Arial"/>
              </a:rPr>
              <a:t>2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O, there is Greenland firn data (NEEM) and Antarctic ice (Law Dome) reco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60240" indent="-4572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Regressing the NH-SH difference against NH-SH emission difference could allow backcasting historical hemispheric GHG concentr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Wingdings"/>
                <a:ea typeface="Arial"/>
              </a:rPr>
              <a:t></a:t>
            </a: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Complete NH, SH, and global average concentrations over period 1850 to 201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07696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For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4876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Why not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duce historical GHG concentrations with monthly resolution to capture seasonal cycle or higher latitudinal resolutio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</a:tabLst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Not sufficient basis for pre-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7480" indent="-5144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lphaLcParenR"/>
              <a:tabLst>
                <a:tab algn="l" pos="0"/>
              </a:tabLst>
            </a:pP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Difficult to model sensibly for future scen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ow to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produce consistent GHG concentration timeseries of future scenarios for concentration-driven model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How to </a:t>
            </a:r>
            <a:r>
              <a:rPr b="0" lang="de-DE" sz="2000" spc="-1" strike="noStrike">
                <a:solidFill>
                  <a:schemeClr val="dk1"/>
                </a:solidFill>
                <a:latin typeface="Arial"/>
                <a:ea typeface="Arial"/>
              </a:rPr>
              <a:t>implement hemispheric GHG concentrations in CMIP6 models? </a:t>
            </a:r>
            <a:r>
              <a:rPr b="0" lang="de-DE" sz="2000" spc="-1" strike="noStrike">
                <a:solidFill>
                  <a:srgbClr val="808080"/>
                </a:solidFill>
                <a:latin typeface="Arial"/>
                <a:ea typeface="Arial"/>
              </a:rPr>
              <a:t>(Would a latitudinal, even if only approximate, interpolation be easier or done anyway within CMIP6 models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640" y="76320"/>
            <a:ext cx="8511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Complete hermispheric Data se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940760" y="3357000"/>
            <a:ext cx="5132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Scheduled for 1 January 201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7101720" y="6021360"/>
            <a:ext cx="1064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hank y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7640" y="76320"/>
            <a:ext cx="7935120" cy="685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de-DE" sz="2000" spc="-1" strike="noStrike">
                <a:solidFill>
                  <a:schemeClr val="lt1"/>
                </a:solidFill>
                <a:latin typeface="Arial"/>
                <a:ea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040" cy="5609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This exercise is going to build on a wide array of data from the community and any suggestions for additional data are much appreci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Shown Dat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Rubino, Mauro; Etheridge, David; Trudinger, Cathy; Allison, Colin; Battle, Mark; Langenfelds, Ray; et al. A revised 1000 year atmospheric d13C-CO2 record from Law Dome and South Pole, Antarctica. Journal of Geophysical Research-Atmospheres. 2013; 118(5):8482-84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MacFarling Meure, C. M.; Etheridge, D. M.; Trudinger, C. M.; Steele, L. P.; Langenfelds, R. L.; van Ommen, T. D.; et al. Law Dome CO2, CH4 and N2O ice core records extended to 2000 years BP. Geophysical research letters. 2006; 33:L14810, doi:10.1029/2006GL02615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Etheridge, D. M.; Steele, L. P.; Langenfelds, R. L.; Francey, R. J.; Barnola, J. -M.; Morgan, V. I. Natural and anthropogenic changes in atmospheric CO2 over the last 1000 years from air in Antarctic ice and firn. Journal of geophysical research - Atmospheres. 1996; 101(D2):4115-412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Etheridge, D. M.; Steele, L. P.; Francey, R. J.; Langenfelds, R. L. Atmospheric methane between 1000 A.D. and present: evidence of anthropogenic emissions and climatic variability. Journal of geophysical research - Atmospheres. 1998; 103(D13):15979-15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OAA ESRL - CO2 and CH4 semidiurnal flask values from1968 - 2015 and 1983 – 2015,  ~105 stations (~ 1/3 SH and 2/3 NH), </a:t>
            </a:r>
            <a:r>
              <a:rPr b="0" lang="en-AU" sz="1200" spc="-1" strike="noStrike" u="sng">
                <a:solidFill>
                  <a:schemeClr val="dk1"/>
                </a:solidFill>
                <a:uFillTx/>
                <a:latin typeface="Gill Sans MT"/>
                <a:ea typeface="Arial"/>
                <a:hlinkClick r:id="rId1"/>
              </a:rPr>
              <a:t>http://www.esrl.noaa.gov/gmd/ccgg/about/global_means.html</a:t>
            </a: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2O monthly mean flask values from 1977 – 2015, 13 stations (9 NH and 4 SH), globally and hemispherically averaged data available,  </a:t>
            </a:r>
            <a:r>
              <a:rPr b="0" lang="en-AU" sz="1200" spc="-1" strike="noStrike" u="sng">
                <a:solidFill>
                  <a:schemeClr val="dk1"/>
                </a:solidFill>
                <a:uFillTx/>
                <a:latin typeface="Gill Sans MT"/>
                <a:ea typeface="Arial"/>
                <a:hlinkClick r:id="rId2"/>
              </a:rPr>
              <a:t>http://www.esrl.noaa.gov/gmd/hats/combined/N2O.html</a:t>
            </a: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NEEM-2011-S1 Ice Core 1800 Year Continuous Methane Dat. World Data Center for Paleoclimatology, Boulder, and NOAA Paleoclimatology Program, original_Source_URL:  ftp://ftp.ncdc.noaa.gov/pub/data/paleo/icecore/greenland/neem/neem2011s1-ch4.t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de-DE" sz="1200" spc="-1" strike="noStrike">
                <a:solidFill>
                  <a:schemeClr val="dk1"/>
                </a:solidFill>
                <a:latin typeface="Gill Sans MT"/>
                <a:ea typeface="Arial"/>
              </a:rPr>
              <a:t>Metho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AU" sz="1200" spc="-1" strike="noStrike">
                <a:solidFill>
                  <a:schemeClr val="dk1"/>
                </a:solidFill>
                <a:latin typeface="Gill Sans MT"/>
                <a:ea typeface="Arial"/>
              </a:rPr>
              <a:t>Linear interpolation Method (in space and time) : optionally Thoning et al. (1989), Tans et al.  (1989) for final data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489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AU" sz="2000" spc="-1" strike="noStrike">
                <a:solidFill>
                  <a:schemeClr val="lt1"/>
                </a:solidFill>
                <a:latin typeface="Arial"/>
                <a:ea typeface="Arial"/>
              </a:rPr>
              <a:t>The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Table 6"/>
          <p:cNvGraphicFramePr/>
          <p:nvPr/>
        </p:nvGraphicFramePr>
        <p:xfrm>
          <a:off x="359640" y="1052640"/>
          <a:ext cx="8424720" cy="5805000"/>
        </p:xfrm>
        <a:graphic>
          <a:graphicData uri="http://schemas.openxmlformats.org/drawingml/2006/table">
            <a:tbl>
              <a:tblPr/>
              <a:tblGrid>
                <a:gridCol w="2424600"/>
                <a:gridCol w="5999760"/>
              </a:tblGrid>
              <a:tr h="3826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MIP6 Historical GHG concentr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e-spa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50 to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(With optional backward extension to year 1000 for CO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, CH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and N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913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ases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N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, C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C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HFC-125, HFC-134a, HFC-143a, HFC-23, S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  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F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and 16 ODS, namely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FC-11, CFC-12, CFC-113, CFC-114, CFC-115, CCl14, CH3CCl3, HCFC-22, HCFC-141b, HCFC-142b, Halon1211, Halon1202, Halon1301, Halon2404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r, CH</a:t>
                      </a:r>
                      <a:r>
                        <a:rPr b="0" lang="en-A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me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nnual averages.</a:t>
                      </a:r>
                      <a:br>
                        <a:rPr sz="1600"/>
                      </a:b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Value for 1850 is average mixing ratio from 1</a:t>
                      </a:r>
                      <a:r>
                        <a:rPr b="0" lang="en-AU" sz="1400" spc="-1" strike="noStrike" baseline="30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st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Jan 1850 to 31 Dec 18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(with optional extension to monthly values for CO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 and CH</a:t>
                      </a:r>
                      <a:r>
                        <a:rPr b="0" lang="en-AU" sz="14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en-AU" sz="1400" spc="-1" strike="noStrike">
                          <a:solidFill>
                            <a:srgbClr val="808080"/>
                          </a:solidFill>
                          <a:latin typeface="Arial"/>
                          <a:ea typeface="Calibri"/>
                        </a:rPr>
                        <a:t>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148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patial resolution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Global averages </a:t>
                      </a:r>
                      <a:r>
                        <a:rPr b="0" lang="en-AU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and hemispheric means</a:t>
                      </a: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 w="1224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447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AU" sz="24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12240">
                      <a:solidFill>
                        <a:srgbClr val="7f7f7f"/>
                      </a:solidFill>
                    </a:lnR>
                    <a:lnT w="122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en-AU" sz="2400" spc="-1" strike="noStrike">
                        <a:solidFill>
                          <a:srgbClr val="000000"/>
                        </a:solidFill>
                        <a:latin typeface="Arial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" descr="CO2_concentrations_version8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CO2_concentrations_version7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" descr="CO2_concentrations_version6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CO2_concentrations_version5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CO2_concentrations_version4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CO2_concentrations_version3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CO2_concentrations_version2"/>
          <p:cNvPicPr/>
          <p:nvPr/>
        </p:nvPicPr>
        <p:blipFill>
          <a:blip r:embed="rId1"/>
          <a:stretch/>
        </p:blipFill>
        <p:spPr>
          <a:xfrm>
            <a:off x="578520" y="857160"/>
            <a:ext cx="7986240" cy="51433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73440" y="6576120"/>
            <a:ext cx="6716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de-DE" sz="1100" spc="-1" strike="noStrike">
                <a:solidFill>
                  <a:srgbClr val="808080"/>
                </a:solidFill>
                <a:latin typeface="Arial"/>
                <a:ea typeface="Arial"/>
              </a:rPr>
              <a:t>Law Dome record: Rubino et al. 2013, MacFarling et al. 2006; Etheridge et al. 1996; Ehteridge et al. 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theme/theme1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Blank Presentatio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  <Words>1023</Words>
  <Paragraphs>6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einshausen</dc:creator>
  <dc:description/>
  <dc:language>en-US</dc:language>
  <cp:lastModifiedBy>Malte Meinshausen _17Oct</cp:lastModifiedBy>
  <dcterms:modified xsi:type="dcterms:W3CDTF">2015-10-19T05:48:55Z</dcterms:modified>
  <cp:revision>4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