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2.png" ContentType="image/png"/>
  <Override PartName="/ppt/media/image10.png" ContentType="image/png"/>
  <Override PartName="/ppt/media/image6.jpeg" ContentType="image/jpeg"/>
  <Override PartName="/ppt/media/image9.gif" ContentType="image/gif"/>
  <Override PartName="/ppt/media/image8.wmf" ContentType="image/x-wmf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18.png" ContentType="image/png"/>
  <Override PartName="/ppt/media/image7.jpeg" ContentType="image/jpe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dt" idx="13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ftr" idx="14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 type="sldNum" idx="15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DE62D07-C2B1-4003-A8D5-5766138D0E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UCAR page and names from the ICONICS committ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 type="sldNum" idx="2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D8834A5-0C0D-48DE-BF62-22A70089BBC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9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* it may be (or may be not) worth making the point that the proposal can be read as updating the 4 RCPs and adding two new forcing levels – but we don’t want to undersell it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 type="sldNum" idx="2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36DA6C8-823F-46EC-B28F-F5F87F12D507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9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 type="sldNum" idx="2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9A13FF2-1374-4499-BF18-90B9509DEEB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9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 type="sldNum" idx="2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A0374C8-9949-4BC1-A8EF-A69CB44C20B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9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 type="sldNum" idx="2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993DDD3-1574-43D7-9480-431D2D3E446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2DE40-B8C5-453C-BB38-39C2DE7C6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4D005-88C2-49D5-84EE-85A1C6C71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FC602-96EC-4B97-BEFD-6A0F69A68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14676-C56F-4A55-A2FB-0F726362A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C651A-A249-4A02-A9A1-683CB78DF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9380A-6A2C-474E-94ED-910A24EB2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868D8-2CB8-4C28-800E-5223A5A24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97EBD-A991-4CDA-8943-3A41006BE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AFEF4-877F-4245-AC49-7DE68DF37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2DF29-D0B7-42A6-B51A-1883635E8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2B7EF-7519-4CC8-8FE6-458C0F4D7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2D5F3-9416-4BAB-8984-786A2AD54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EBF03-F8A9-431A-A7EA-805303FB6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41C28-8BC5-4423-9EEB-DD539506E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F1655-AC4F-4768-BE41-6DF881C1A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8E2D9-FC4E-453F-AC81-B098A911E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9D221-9B78-40C5-B91A-08536A26D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A2237E-81A7-45D6-88CC-04C54DA50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9F8A48-BA1B-4CB1-93ED-696B2E739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31250A-0CED-4C38-B4CD-87558E198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99F534-F407-4EEE-8BBB-7598E3081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0552DB-A1E9-416E-91C5-1F9BF04D8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74D3F-9517-47DC-AD2E-E2C30298B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8BD6AD-5BAD-4CB8-98B3-B8F064A59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B02370-2D32-450A-8334-D6A097300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3D32F0-772C-4607-8386-C6DDED4EA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4BAE71-651F-432E-A914-FBA6558DE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1B02B1-0EA7-487F-AD60-DCB6C1036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F5615A-7421-4A68-9B79-D3E2BFAB2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DD59F1-766B-4198-AF92-D58741C21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9CFF9D-EE0E-4069-AD0C-1369F676B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C94332-9DBB-4D2B-B0F7-5ACFD989D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576A38-FFEF-4106-86EA-CB8B3F1B9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DDB1E-DC9E-4C39-BEF4-949BE3BE3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8EB5C0-9781-4840-87A6-433EBA80D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917C63-798A-4C4F-8F7E-6EC375D3B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31B9E7-D45F-4C17-B5A1-63BC0EBC1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DC7AB0-042B-4887-9242-7C3BEB1B7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C5336A-24B2-4542-B683-CFD45D3B0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FF08F8-1397-4BBA-B701-841ACDAFE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1EE324-ACEF-46A5-A4D4-1E828FFA5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F43D30-C658-416F-AB8C-3D4810C00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4111C5-497E-406C-A02D-782AA918B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645D0-2DD9-4ABB-B64F-DC975347D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E77A5-EDFB-47A5-9400-CA771D671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06F67-8E19-44E4-827D-7249CA912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4BC57-BD4F-4383-A44B-FCA4D251B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8111C-5ED2-4422-BBA8-5EA6DC248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177453B-8879-4E78-950F-0E14F9C62458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83312B1-B4FC-4A48-919D-508326AA5724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dt" idx="7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9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C02E465-6037-4304-8A1B-91A7DA7E53CA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Master text sty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03B17AF-2286-454E-B94A-CB80A58E491A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hyperlink" Target="http://www.google.nl/url?sa=i&amp;rct=j&amp;q=&amp;esrc=s&amp;source=images&amp;cd=&amp;cad=rja&amp;uact=8&amp;ved=0CAcQjRw&amp;url=http%3A%2F%2Fwww.radio.gov.pk%2Finside%2F17&amp;ei=EUbcVMvlBYSvPOuSgagM&amp;bvm=bv.85761416,d.ZWU&amp;psig=AFQjCNFXOJ5LL5eqPEaaYoEqpkfmFXfzRg&amp;ust=1423808319069985" TargetMode="External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17.xml"/><Relationship Id="rId10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8.wmf"/><Relationship Id="rId5" Type="http://schemas.openxmlformats.org/officeDocument/2006/relationships/image" Target="../media/image8.wmf"/><Relationship Id="rId6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400" spc="-1" strike="noStrike">
                <a:solidFill>
                  <a:srgbClr val="800000"/>
                </a:solidFill>
                <a:latin typeface="Calibri"/>
              </a:rPr>
              <a:t>Future emissions</a:t>
            </a:r>
            <a:br>
              <a:rPr sz="4400"/>
            </a:br>
            <a:r>
              <a:rPr b="1" lang="en-US" sz="4400" spc="-1" strike="noStrike">
                <a:solidFill>
                  <a:srgbClr val="800000"/>
                </a:solidFill>
                <a:latin typeface="Calibri"/>
              </a:rPr>
              <a:t>(ScenarioMIP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440" cy="175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23000"/>
          </a:bodyPr>
          <a:p>
            <a:pPr indent="0" algn="ctr">
              <a:lnSpc>
                <a:spcPct val="100000"/>
              </a:lnSpc>
              <a:spcBef>
                <a:spcPts val="1440"/>
              </a:spcBef>
              <a:buNone/>
              <a:tabLst>
                <a:tab algn="l" pos="0"/>
              </a:tabLst>
            </a:pPr>
            <a:r>
              <a:rPr b="0" lang="en-US" sz="7200" spc="-1" strike="noStrike">
                <a:solidFill>
                  <a:srgbClr val="8b8b8b"/>
                </a:solidFill>
                <a:latin typeface="Calibri"/>
              </a:rPr>
              <a:t>Co-chairs: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440"/>
              </a:spcBef>
              <a:buNone/>
              <a:tabLst>
                <a:tab algn="l" pos="0"/>
              </a:tabLst>
            </a:pPr>
            <a:r>
              <a:rPr b="0" lang="en-US" sz="7200" spc="-1" strike="noStrike">
                <a:solidFill>
                  <a:srgbClr val="8b8b8b"/>
                </a:solidFill>
                <a:latin typeface="Calibri"/>
              </a:rPr>
              <a:t>Brian O’Neill; Claudia Tebaldi; Detlef van Vuuren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</a:tabLst>
            </a:pP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440"/>
              </a:spcBef>
              <a:buNone/>
              <a:tabLst>
                <a:tab algn="l" pos="0"/>
              </a:tabLst>
            </a:pPr>
            <a:r>
              <a:rPr b="0" lang="en-US" sz="7200" spc="-1" strike="noStrike">
                <a:solidFill>
                  <a:srgbClr val="8b8b8b"/>
                </a:solidFill>
                <a:latin typeface="Calibri"/>
              </a:rPr>
              <a:t>Scientific Steering Committee: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440"/>
              </a:spcBef>
              <a:buNone/>
              <a:tabLst>
                <a:tab algn="l" pos="0"/>
              </a:tabLst>
            </a:pPr>
            <a:r>
              <a:rPr b="0" lang="en-US" sz="7200" spc="-1" strike="noStrike">
                <a:solidFill>
                  <a:srgbClr val="8b8b8b"/>
                </a:solidFill>
                <a:latin typeface="Calibri"/>
              </a:rPr>
              <a:t>Pierre Friedlingstein; George Hurtt; Reto Knutti; Jean-Francois Lamarque; Jason Lowe; Jerry Meehl; Richard Moss; Ben Sanderson; Veronica Eyring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1" name="Group -1024"/>
          <p:cNvGrpSpPr/>
          <p:nvPr/>
        </p:nvGrpSpPr>
        <p:grpSpPr>
          <a:xfrm>
            <a:off x="-29160" y="976320"/>
            <a:ext cx="6127920" cy="4803120"/>
            <a:chOff x="-29160" y="976320"/>
            <a:chExt cx="6127920" cy="4803120"/>
          </a:xfrm>
        </p:grpSpPr>
        <p:sp>
          <p:nvSpPr>
            <p:cNvPr id="812" name="Text Box 6"/>
            <p:cNvSpPr/>
            <p:nvPr/>
          </p:nvSpPr>
          <p:spPr>
            <a:xfrm>
              <a:off x="508320" y="5535360"/>
              <a:ext cx="462960" cy="24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000000"/>
                  </a:solidFill>
                  <a:latin typeface="Dialog"/>
                </a:rPr>
                <a:t>200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Freeform 7"/>
            <p:cNvSpPr/>
            <p:nvPr/>
          </p:nvSpPr>
          <p:spPr>
            <a:xfrm>
              <a:off x="739800" y="5456160"/>
              <a:ext cx="1080" cy="50400"/>
            </a:xfrm>
            <a:custGeom>
              <a:avLst/>
              <a:gdLst>
                <a:gd name="textAreaLeft" fmla="*/ 0 w 1080"/>
                <a:gd name="textAreaRight" fmla="*/ 1440 w 108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0" h="32">
                  <a:moveTo>
                    <a:pt x="0" y="0"/>
                  </a:moveTo>
                  <a:lnTo>
                    <a:pt x="0" y="32"/>
                  </a:lnTo>
                </a:path>
              </a:pathLst>
            </a:custGeom>
            <a:noFill/>
            <a:ln w="317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4" name="Text Box 8"/>
            <p:cNvSpPr/>
            <p:nvPr/>
          </p:nvSpPr>
          <p:spPr>
            <a:xfrm>
              <a:off x="1499040" y="5535360"/>
              <a:ext cx="462960" cy="24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000000"/>
                  </a:solidFill>
                  <a:latin typeface="Dialog"/>
                </a:rPr>
                <a:t>202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Freeform 9"/>
            <p:cNvSpPr/>
            <p:nvPr/>
          </p:nvSpPr>
          <p:spPr>
            <a:xfrm>
              <a:off x="1730520" y="5456160"/>
              <a:ext cx="1080" cy="50400"/>
            </a:xfrm>
            <a:custGeom>
              <a:avLst/>
              <a:gdLst>
                <a:gd name="textAreaLeft" fmla="*/ 0 w 1080"/>
                <a:gd name="textAreaRight" fmla="*/ 1440 w 108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0" h="32">
                  <a:moveTo>
                    <a:pt x="0" y="0"/>
                  </a:moveTo>
                  <a:lnTo>
                    <a:pt x="0" y="32"/>
                  </a:lnTo>
                </a:path>
              </a:pathLst>
            </a:custGeom>
            <a:noFill/>
            <a:ln w="317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6" name="Text Box 10"/>
            <p:cNvSpPr/>
            <p:nvPr/>
          </p:nvSpPr>
          <p:spPr>
            <a:xfrm>
              <a:off x="2502360" y="5535360"/>
              <a:ext cx="462960" cy="24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000000"/>
                  </a:solidFill>
                  <a:latin typeface="Dialog"/>
                </a:rPr>
                <a:t>204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Freeform 11"/>
            <p:cNvSpPr/>
            <p:nvPr/>
          </p:nvSpPr>
          <p:spPr>
            <a:xfrm>
              <a:off x="2733840" y="5456160"/>
              <a:ext cx="1080" cy="50400"/>
            </a:xfrm>
            <a:custGeom>
              <a:avLst/>
              <a:gdLst>
                <a:gd name="textAreaLeft" fmla="*/ 0 w 1080"/>
                <a:gd name="textAreaRight" fmla="*/ 1440 w 108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0" h="32">
                  <a:moveTo>
                    <a:pt x="0" y="0"/>
                  </a:moveTo>
                  <a:lnTo>
                    <a:pt x="0" y="32"/>
                  </a:lnTo>
                </a:path>
              </a:pathLst>
            </a:custGeom>
            <a:noFill/>
            <a:ln w="317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8" name="Text Box 12"/>
            <p:cNvSpPr/>
            <p:nvPr/>
          </p:nvSpPr>
          <p:spPr>
            <a:xfrm>
              <a:off x="3505680" y="5535360"/>
              <a:ext cx="462960" cy="24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000000"/>
                  </a:solidFill>
                  <a:latin typeface="Dialog"/>
                </a:rPr>
                <a:t>206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Freeform 13"/>
            <p:cNvSpPr/>
            <p:nvPr/>
          </p:nvSpPr>
          <p:spPr>
            <a:xfrm>
              <a:off x="3737160" y="5456160"/>
              <a:ext cx="1080" cy="50400"/>
            </a:xfrm>
            <a:custGeom>
              <a:avLst/>
              <a:gdLst>
                <a:gd name="textAreaLeft" fmla="*/ 0 w 1080"/>
                <a:gd name="textAreaRight" fmla="*/ 1440 w 108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0" h="32">
                  <a:moveTo>
                    <a:pt x="0" y="0"/>
                  </a:moveTo>
                  <a:lnTo>
                    <a:pt x="0" y="32"/>
                  </a:lnTo>
                </a:path>
              </a:pathLst>
            </a:custGeom>
            <a:noFill/>
            <a:ln w="317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0" name="Text Box 14"/>
            <p:cNvSpPr/>
            <p:nvPr/>
          </p:nvSpPr>
          <p:spPr>
            <a:xfrm>
              <a:off x="4509000" y="5535360"/>
              <a:ext cx="462960" cy="24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000000"/>
                  </a:solidFill>
                  <a:latin typeface="Dialog"/>
                </a:rPr>
                <a:t>208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Freeform 15"/>
            <p:cNvSpPr/>
            <p:nvPr/>
          </p:nvSpPr>
          <p:spPr>
            <a:xfrm>
              <a:off x="4740480" y="5456160"/>
              <a:ext cx="1080" cy="50400"/>
            </a:xfrm>
            <a:custGeom>
              <a:avLst/>
              <a:gdLst>
                <a:gd name="textAreaLeft" fmla="*/ 0 w 1080"/>
                <a:gd name="textAreaRight" fmla="*/ 1440 w 108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0" h="32">
                  <a:moveTo>
                    <a:pt x="0" y="0"/>
                  </a:moveTo>
                  <a:lnTo>
                    <a:pt x="0" y="32"/>
                  </a:lnTo>
                </a:path>
              </a:pathLst>
            </a:custGeom>
            <a:noFill/>
            <a:ln w="317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2" name="Text Box 16"/>
            <p:cNvSpPr/>
            <p:nvPr/>
          </p:nvSpPr>
          <p:spPr>
            <a:xfrm>
              <a:off x="5512320" y="5535360"/>
              <a:ext cx="462960" cy="24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000000"/>
                  </a:solidFill>
                  <a:latin typeface="Dialog"/>
                </a:rPr>
                <a:t>210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Freeform 17"/>
            <p:cNvSpPr/>
            <p:nvPr/>
          </p:nvSpPr>
          <p:spPr>
            <a:xfrm>
              <a:off x="5743800" y="5456160"/>
              <a:ext cx="1080" cy="50400"/>
            </a:xfrm>
            <a:custGeom>
              <a:avLst/>
              <a:gdLst>
                <a:gd name="textAreaLeft" fmla="*/ 0 w 1080"/>
                <a:gd name="textAreaRight" fmla="*/ 1440 w 108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0" h="32">
                  <a:moveTo>
                    <a:pt x="0" y="0"/>
                  </a:moveTo>
                  <a:lnTo>
                    <a:pt x="0" y="32"/>
                  </a:lnTo>
                </a:path>
              </a:pathLst>
            </a:custGeom>
            <a:noFill/>
            <a:ln w="317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4" name="Text Box 18"/>
            <p:cNvSpPr/>
            <p:nvPr/>
          </p:nvSpPr>
          <p:spPr>
            <a:xfrm rot="16200000">
              <a:off x="-408600" y="3171240"/>
              <a:ext cx="972720" cy="21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Dialog"/>
                </a:rPr>
                <a:t>Sulfur (MtS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Text Box 19"/>
            <p:cNvSpPr/>
            <p:nvPr/>
          </p:nvSpPr>
          <p:spPr>
            <a:xfrm>
              <a:off x="536040" y="5319720"/>
              <a:ext cx="115560" cy="24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000000"/>
                  </a:solidFill>
                  <a:latin typeface="Dialog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Freeform 20"/>
            <p:cNvSpPr/>
            <p:nvPr/>
          </p:nvSpPr>
          <p:spPr>
            <a:xfrm>
              <a:off x="689040" y="5456160"/>
              <a:ext cx="50400" cy="1080"/>
            </a:xfrm>
            <a:custGeom>
              <a:avLst/>
              <a:gdLst>
                <a:gd name="textAreaLeft" fmla="*/ 0 w 50400"/>
                <a:gd name="textAreaRight" fmla="*/ 50760 w 50400"/>
                <a:gd name="textAreaTop" fmla="*/ 0 h 1080"/>
                <a:gd name="textAreaBottom" fmla="*/ 1440 h 1080"/>
              </a:gdLst>
              <a:ahLst/>
              <a:rect l="textAreaLeft" t="textAreaTop" r="textAreaRight" b="textAreaBottom"/>
              <a:pathLst>
                <a:path w="32" h="0">
                  <a:moveTo>
                    <a:pt x="32" y="0"/>
                  </a:moveTo>
                  <a:lnTo>
                    <a:pt x="0" y="0"/>
                  </a:lnTo>
                </a:path>
              </a:pathLst>
            </a:custGeom>
            <a:noFill/>
            <a:ln w="317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7" name="Text Box 21"/>
            <p:cNvSpPr/>
            <p:nvPr/>
          </p:nvSpPr>
          <p:spPr>
            <a:xfrm>
              <a:off x="420840" y="4773600"/>
              <a:ext cx="231120" cy="24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000000"/>
                  </a:solidFill>
                  <a:latin typeface="Dialog"/>
                </a:rPr>
                <a:t>2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Freeform 22"/>
            <p:cNvSpPr/>
            <p:nvPr/>
          </p:nvSpPr>
          <p:spPr>
            <a:xfrm>
              <a:off x="689040" y="4910040"/>
              <a:ext cx="50400" cy="1080"/>
            </a:xfrm>
            <a:custGeom>
              <a:avLst/>
              <a:gdLst>
                <a:gd name="textAreaLeft" fmla="*/ 0 w 50400"/>
                <a:gd name="textAreaRight" fmla="*/ 50760 w 50400"/>
                <a:gd name="textAreaTop" fmla="*/ 0 h 1080"/>
                <a:gd name="textAreaBottom" fmla="*/ 1440 h 1080"/>
              </a:gdLst>
              <a:ahLst/>
              <a:rect l="textAreaLeft" t="textAreaTop" r="textAreaRight" b="textAreaBottom"/>
              <a:pathLst>
                <a:path w="32" h="0">
                  <a:moveTo>
                    <a:pt x="32" y="0"/>
                  </a:moveTo>
                  <a:lnTo>
                    <a:pt x="0" y="0"/>
                  </a:lnTo>
                </a:path>
              </a:pathLst>
            </a:custGeom>
            <a:noFill/>
            <a:ln w="317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9" name="Text Box 23"/>
            <p:cNvSpPr/>
            <p:nvPr/>
          </p:nvSpPr>
          <p:spPr>
            <a:xfrm>
              <a:off x="420840" y="4227480"/>
              <a:ext cx="231120" cy="24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000000"/>
                  </a:solidFill>
                  <a:latin typeface="Dialog"/>
                </a:rPr>
                <a:t>4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Freeform 24"/>
            <p:cNvSpPr/>
            <p:nvPr/>
          </p:nvSpPr>
          <p:spPr>
            <a:xfrm>
              <a:off x="689040" y="4363920"/>
              <a:ext cx="50400" cy="1080"/>
            </a:xfrm>
            <a:custGeom>
              <a:avLst/>
              <a:gdLst>
                <a:gd name="textAreaLeft" fmla="*/ 0 w 50400"/>
                <a:gd name="textAreaRight" fmla="*/ 50760 w 50400"/>
                <a:gd name="textAreaTop" fmla="*/ 0 h 1080"/>
                <a:gd name="textAreaBottom" fmla="*/ 1440 h 1080"/>
              </a:gdLst>
              <a:ahLst/>
              <a:rect l="textAreaLeft" t="textAreaTop" r="textAreaRight" b="textAreaBottom"/>
              <a:pathLst>
                <a:path w="32" h="0">
                  <a:moveTo>
                    <a:pt x="32" y="0"/>
                  </a:moveTo>
                  <a:lnTo>
                    <a:pt x="0" y="0"/>
                  </a:lnTo>
                </a:path>
              </a:pathLst>
            </a:custGeom>
            <a:noFill/>
            <a:ln w="317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1" name="Text Box 25"/>
            <p:cNvSpPr/>
            <p:nvPr/>
          </p:nvSpPr>
          <p:spPr>
            <a:xfrm>
              <a:off x="420840" y="3681360"/>
              <a:ext cx="231120" cy="24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000000"/>
                  </a:solidFill>
                  <a:latin typeface="Dialog"/>
                </a:rPr>
                <a:t>6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Freeform 26"/>
            <p:cNvSpPr/>
            <p:nvPr/>
          </p:nvSpPr>
          <p:spPr>
            <a:xfrm>
              <a:off x="689040" y="3817800"/>
              <a:ext cx="50400" cy="1080"/>
            </a:xfrm>
            <a:custGeom>
              <a:avLst/>
              <a:gdLst>
                <a:gd name="textAreaLeft" fmla="*/ 0 w 50400"/>
                <a:gd name="textAreaRight" fmla="*/ 50760 w 50400"/>
                <a:gd name="textAreaTop" fmla="*/ 0 h 1080"/>
                <a:gd name="textAreaBottom" fmla="*/ 1440 h 1080"/>
              </a:gdLst>
              <a:ahLst/>
              <a:rect l="textAreaLeft" t="textAreaTop" r="textAreaRight" b="textAreaBottom"/>
              <a:pathLst>
                <a:path w="32" h="0">
                  <a:moveTo>
                    <a:pt x="32" y="0"/>
                  </a:moveTo>
                  <a:lnTo>
                    <a:pt x="0" y="0"/>
                  </a:lnTo>
                </a:path>
              </a:pathLst>
            </a:custGeom>
            <a:noFill/>
            <a:ln w="317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3" name="Text Box 27"/>
            <p:cNvSpPr/>
            <p:nvPr/>
          </p:nvSpPr>
          <p:spPr>
            <a:xfrm>
              <a:off x="420840" y="3147840"/>
              <a:ext cx="231120" cy="24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000000"/>
                  </a:solidFill>
                  <a:latin typeface="Dialog"/>
                </a:rPr>
                <a:t>8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Freeform 28"/>
            <p:cNvSpPr/>
            <p:nvPr/>
          </p:nvSpPr>
          <p:spPr>
            <a:xfrm>
              <a:off x="689040" y="3284640"/>
              <a:ext cx="50400" cy="1080"/>
            </a:xfrm>
            <a:custGeom>
              <a:avLst/>
              <a:gdLst>
                <a:gd name="textAreaLeft" fmla="*/ 0 w 50400"/>
                <a:gd name="textAreaRight" fmla="*/ 50760 w 50400"/>
                <a:gd name="textAreaTop" fmla="*/ 0 h 1080"/>
                <a:gd name="textAreaBottom" fmla="*/ 1440 h 1080"/>
              </a:gdLst>
              <a:ahLst/>
              <a:rect l="textAreaLeft" t="textAreaTop" r="textAreaRight" b="textAreaBottom"/>
              <a:pathLst>
                <a:path w="32" h="0">
                  <a:moveTo>
                    <a:pt x="32" y="0"/>
                  </a:moveTo>
                  <a:lnTo>
                    <a:pt x="0" y="0"/>
                  </a:lnTo>
                </a:path>
              </a:pathLst>
            </a:custGeom>
            <a:noFill/>
            <a:ln w="317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5" name="Text Box 29"/>
            <p:cNvSpPr/>
            <p:nvPr/>
          </p:nvSpPr>
          <p:spPr>
            <a:xfrm>
              <a:off x="306000" y="2601720"/>
              <a:ext cx="347040" cy="24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000000"/>
                  </a:solidFill>
                  <a:latin typeface="Dialog"/>
                </a:rPr>
                <a:t>10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Freeform 30"/>
            <p:cNvSpPr/>
            <p:nvPr/>
          </p:nvSpPr>
          <p:spPr>
            <a:xfrm>
              <a:off x="689040" y="2738520"/>
              <a:ext cx="50400" cy="1080"/>
            </a:xfrm>
            <a:custGeom>
              <a:avLst/>
              <a:gdLst>
                <a:gd name="textAreaLeft" fmla="*/ 0 w 50400"/>
                <a:gd name="textAreaRight" fmla="*/ 50760 w 50400"/>
                <a:gd name="textAreaTop" fmla="*/ 0 h 1080"/>
                <a:gd name="textAreaBottom" fmla="*/ 1440 h 1080"/>
              </a:gdLst>
              <a:ahLst/>
              <a:rect l="textAreaLeft" t="textAreaTop" r="textAreaRight" b="textAreaBottom"/>
              <a:pathLst>
                <a:path w="32" h="0">
                  <a:moveTo>
                    <a:pt x="32" y="0"/>
                  </a:moveTo>
                  <a:lnTo>
                    <a:pt x="0" y="0"/>
                  </a:lnTo>
                </a:path>
              </a:pathLst>
            </a:custGeom>
            <a:noFill/>
            <a:ln w="317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7" name="Text Box 31"/>
            <p:cNvSpPr/>
            <p:nvPr/>
          </p:nvSpPr>
          <p:spPr>
            <a:xfrm>
              <a:off x="306000" y="2055600"/>
              <a:ext cx="347040" cy="24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000000"/>
                  </a:solidFill>
                  <a:latin typeface="Dialog"/>
                </a:rPr>
                <a:t>12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Freeform 32"/>
            <p:cNvSpPr/>
            <p:nvPr/>
          </p:nvSpPr>
          <p:spPr>
            <a:xfrm>
              <a:off x="689040" y="2192400"/>
              <a:ext cx="50400" cy="1080"/>
            </a:xfrm>
            <a:custGeom>
              <a:avLst/>
              <a:gdLst>
                <a:gd name="textAreaLeft" fmla="*/ 0 w 50400"/>
                <a:gd name="textAreaRight" fmla="*/ 50760 w 50400"/>
                <a:gd name="textAreaTop" fmla="*/ 0 h 1080"/>
                <a:gd name="textAreaBottom" fmla="*/ 1440 h 1080"/>
              </a:gdLst>
              <a:ahLst/>
              <a:rect l="textAreaLeft" t="textAreaTop" r="textAreaRight" b="textAreaBottom"/>
              <a:pathLst>
                <a:path w="32" h="0">
                  <a:moveTo>
                    <a:pt x="32" y="0"/>
                  </a:moveTo>
                  <a:lnTo>
                    <a:pt x="0" y="0"/>
                  </a:lnTo>
                </a:path>
              </a:pathLst>
            </a:custGeom>
            <a:noFill/>
            <a:ln w="317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9" name="Text Box 33"/>
            <p:cNvSpPr/>
            <p:nvPr/>
          </p:nvSpPr>
          <p:spPr>
            <a:xfrm>
              <a:off x="306000" y="1509480"/>
              <a:ext cx="347040" cy="24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000000"/>
                  </a:solidFill>
                  <a:latin typeface="Dialog"/>
                </a:rPr>
                <a:t>14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Freeform 34"/>
            <p:cNvSpPr/>
            <p:nvPr/>
          </p:nvSpPr>
          <p:spPr>
            <a:xfrm>
              <a:off x="689040" y="1646280"/>
              <a:ext cx="50400" cy="1080"/>
            </a:xfrm>
            <a:custGeom>
              <a:avLst/>
              <a:gdLst>
                <a:gd name="textAreaLeft" fmla="*/ 0 w 50400"/>
                <a:gd name="textAreaRight" fmla="*/ 50760 w 50400"/>
                <a:gd name="textAreaTop" fmla="*/ 0 h 1080"/>
                <a:gd name="textAreaBottom" fmla="*/ 1440 h 1080"/>
              </a:gdLst>
              <a:ahLst/>
              <a:rect l="textAreaLeft" t="textAreaTop" r="textAreaRight" b="textAreaBottom"/>
              <a:pathLst>
                <a:path w="32" h="0">
                  <a:moveTo>
                    <a:pt x="32" y="0"/>
                  </a:moveTo>
                  <a:lnTo>
                    <a:pt x="0" y="0"/>
                  </a:lnTo>
                </a:path>
              </a:pathLst>
            </a:custGeom>
            <a:noFill/>
            <a:ln w="317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1" name="Text Box 35"/>
            <p:cNvSpPr/>
            <p:nvPr/>
          </p:nvSpPr>
          <p:spPr>
            <a:xfrm>
              <a:off x="306000" y="976320"/>
              <a:ext cx="347040" cy="24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000000"/>
                  </a:solidFill>
                  <a:latin typeface="Dialog"/>
                </a:rPr>
                <a:t>16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Freeform 36"/>
            <p:cNvSpPr/>
            <p:nvPr/>
          </p:nvSpPr>
          <p:spPr>
            <a:xfrm>
              <a:off x="689040" y="1112760"/>
              <a:ext cx="50400" cy="1080"/>
            </a:xfrm>
            <a:custGeom>
              <a:avLst/>
              <a:gdLst>
                <a:gd name="textAreaLeft" fmla="*/ 0 w 50400"/>
                <a:gd name="textAreaRight" fmla="*/ 50760 w 50400"/>
                <a:gd name="textAreaTop" fmla="*/ 0 h 1080"/>
                <a:gd name="textAreaBottom" fmla="*/ 1440 h 1080"/>
              </a:gdLst>
              <a:ahLst/>
              <a:rect l="textAreaLeft" t="textAreaTop" r="textAreaRight" b="textAreaBottom"/>
              <a:pathLst>
                <a:path w="32" h="0">
                  <a:moveTo>
                    <a:pt x="32" y="0"/>
                  </a:moveTo>
                  <a:lnTo>
                    <a:pt x="0" y="0"/>
                  </a:lnTo>
                </a:path>
              </a:pathLst>
            </a:custGeom>
            <a:noFill/>
            <a:ln w="317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3" name="Freeform 37"/>
            <p:cNvSpPr/>
            <p:nvPr/>
          </p:nvSpPr>
          <p:spPr>
            <a:xfrm>
              <a:off x="739800" y="1112760"/>
              <a:ext cx="5003280" cy="4343040"/>
            </a:xfrm>
            <a:custGeom>
              <a:avLst/>
              <a:gdLst>
                <a:gd name="textAreaLeft" fmla="*/ 0 w 5003280"/>
                <a:gd name="textAreaRight" fmla="*/ 5003640 w 5003280"/>
                <a:gd name="textAreaTop" fmla="*/ 0 h 4343040"/>
                <a:gd name="textAreaBottom" fmla="*/ 4343400 h 4343040"/>
              </a:gdLst>
              <a:ahLst/>
              <a:rect l="textAreaLeft" t="textAreaTop" r="textAreaRight" b="textAreaBottom"/>
              <a:pathLst>
                <a:path w="3152" h="2736">
                  <a:moveTo>
                    <a:pt x="0" y="0"/>
                  </a:moveTo>
                  <a:lnTo>
                    <a:pt x="3152" y="0"/>
                  </a:lnTo>
                  <a:lnTo>
                    <a:pt x="3152" y="2736"/>
                  </a:lnTo>
                  <a:lnTo>
                    <a:pt x="0" y="2736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317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4" name="Freeform 38"/>
            <p:cNvSpPr/>
            <p:nvPr/>
          </p:nvSpPr>
          <p:spPr>
            <a:xfrm>
              <a:off x="989280" y="2224080"/>
              <a:ext cx="4752720" cy="2728440"/>
            </a:xfrm>
            <a:custGeom>
              <a:avLst/>
              <a:gdLst>
                <a:gd name="textAreaLeft" fmla="*/ 0 w 4752720"/>
                <a:gd name="textAreaRight" fmla="*/ 4753080 w 4752720"/>
                <a:gd name="textAreaTop" fmla="*/ 0 h 2728440"/>
                <a:gd name="textAreaBottom" fmla="*/ 2728800 h 2728440"/>
              </a:gdLst>
              <a:ahLst/>
              <a:rect l="textAreaLeft" t="textAreaTop" r="textAreaRight" b="textAreaBottom"/>
              <a:pathLst>
                <a:path w="2994" h="1718">
                  <a:moveTo>
                    <a:pt x="0" y="170"/>
                  </a:moveTo>
                  <a:lnTo>
                    <a:pt x="31" y="232"/>
                  </a:lnTo>
                  <a:lnTo>
                    <a:pt x="63" y="295"/>
                  </a:lnTo>
                  <a:lnTo>
                    <a:pt x="94" y="357"/>
                  </a:lnTo>
                  <a:lnTo>
                    <a:pt x="126" y="419"/>
                  </a:lnTo>
                  <a:lnTo>
                    <a:pt x="157" y="481"/>
                  </a:lnTo>
                  <a:lnTo>
                    <a:pt x="189" y="501"/>
                  </a:lnTo>
                  <a:lnTo>
                    <a:pt x="220" y="521"/>
                  </a:lnTo>
                  <a:lnTo>
                    <a:pt x="252" y="540"/>
                  </a:lnTo>
                  <a:lnTo>
                    <a:pt x="283" y="560"/>
                  </a:lnTo>
                  <a:lnTo>
                    <a:pt x="315" y="580"/>
                  </a:lnTo>
                  <a:lnTo>
                    <a:pt x="346" y="600"/>
                  </a:lnTo>
                  <a:lnTo>
                    <a:pt x="378" y="619"/>
                  </a:lnTo>
                  <a:lnTo>
                    <a:pt x="409" y="639"/>
                  </a:lnTo>
                  <a:lnTo>
                    <a:pt x="441" y="659"/>
                  </a:lnTo>
                  <a:lnTo>
                    <a:pt x="472" y="678"/>
                  </a:lnTo>
                  <a:lnTo>
                    <a:pt x="504" y="703"/>
                  </a:lnTo>
                  <a:lnTo>
                    <a:pt x="535" y="731"/>
                  </a:lnTo>
                  <a:lnTo>
                    <a:pt x="567" y="758"/>
                  </a:lnTo>
                  <a:lnTo>
                    <a:pt x="598" y="786"/>
                  </a:lnTo>
                  <a:lnTo>
                    <a:pt x="630" y="813"/>
                  </a:lnTo>
                  <a:lnTo>
                    <a:pt x="661" y="841"/>
                  </a:lnTo>
                  <a:lnTo>
                    <a:pt x="693" y="868"/>
                  </a:lnTo>
                  <a:lnTo>
                    <a:pt x="724" y="895"/>
                  </a:lnTo>
                  <a:lnTo>
                    <a:pt x="756" y="923"/>
                  </a:lnTo>
                  <a:lnTo>
                    <a:pt x="788" y="950"/>
                  </a:lnTo>
                  <a:lnTo>
                    <a:pt x="819" y="966"/>
                  </a:lnTo>
                  <a:lnTo>
                    <a:pt x="851" y="981"/>
                  </a:lnTo>
                  <a:lnTo>
                    <a:pt x="882" y="996"/>
                  </a:lnTo>
                  <a:lnTo>
                    <a:pt x="914" y="1012"/>
                  </a:lnTo>
                  <a:lnTo>
                    <a:pt x="945" y="1027"/>
                  </a:lnTo>
                  <a:lnTo>
                    <a:pt x="977" y="1042"/>
                  </a:lnTo>
                  <a:lnTo>
                    <a:pt x="1008" y="1058"/>
                  </a:lnTo>
                  <a:lnTo>
                    <a:pt x="1040" y="1073"/>
                  </a:lnTo>
                  <a:lnTo>
                    <a:pt x="1071" y="1088"/>
                  </a:lnTo>
                  <a:lnTo>
                    <a:pt x="1103" y="1104"/>
                  </a:lnTo>
                  <a:lnTo>
                    <a:pt x="1134" y="1124"/>
                  </a:lnTo>
                  <a:lnTo>
                    <a:pt x="1166" y="1144"/>
                  </a:lnTo>
                  <a:lnTo>
                    <a:pt x="1197" y="1165"/>
                  </a:lnTo>
                  <a:lnTo>
                    <a:pt x="1229" y="1185"/>
                  </a:lnTo>
                  <a:lnTo>
                    <a:pt x="1260" y="1206"/>
                  </a:lnTo>
                  <a:lnTo>
                    <a:pt x="1292" y="1226"/>
                  </a:lnTo>
                  <a:lnTo>
                    <a:pt x="1323" y="1246"/>
                  </a:lnTo>
                  <a:lnTo>
                    <a:pt x="1355" y="1267"/>
                  </a:lnTo>
                  <a:lnTo>
                    <a:pt x="1386" y="1287"/>
                  </a:lnTo>
                  <a:lnTo>
                    <a:pt x="1418" y="1307"/>
                  </a:lnTo>
                  <a:lnTo>
                    <a:pt x="1449" y="1318"/>
                  </a:lnTo>
                  <a:lnTo>
                    <a:pt x="1481" y="1329"/>
                  </a:lnTo>
                  <a:lnTo>
                    <a:pt x="1512" y="1340"/>
                  </a:lnTo>
                  <a:lnTo>
                    <a:pt x="1544" y="1350"/>
                  </a:lnTo>
                  <a:lnTo>
                    <a:pt x="1576" y="1361"/>
                  </a:lnTo>
                  <a:lnTo>
                    <a:pt x="1607" y="1372"/>
                  </a:lnTo>
                  <a:lnTo>
                    <a:pt x="1639" y="1382"/>
                  </a:lnTo>
                  <a:lnTo>
                    <a:pt x="1670" y="1393"/>
                  </a:lnTo>
                  <a:lnTo>
                    <a:pt x="1702" y="1404"/>
                  </a:lnTo>
                  <a:lnTo>
                    <a:pt x="1733" y="1414"/>
                  </a:lnTo>
                  <a:lnTo>
                    <a:pt x="1765" y="1422"/>
                  </a:lnTo>
                  <a:lnTo>
                    <a:pt x="1796" y="1430"/>
                  </a:lnTo>
                  <a:lnTo>
                    <a:pt x="1828" y="1438"/>
                  </a:lnTo>
                  <a:lnTo>
                    <a:pt x="1859" y="1446"/>
                  </a:lnTo>
                  <a:lnTo>
                    <a:pt x="1891" y="1454"/>
                  </a:lnTo>
                  <a:lnTo>
                    <a:pt x="1922" y="1462"/>
                  </a:lnTo>
                  <a:lnTo>
                    <a:pt x="1954" y="1469"/>
                  </a:lnTo>
                  <a:lnTo>
                    <a:pt x="1985" y="1477"/>
                  </a:lnTo>
                  <a:lnTo>
                    <a:pt x="2017" y="1485"/>
                  </a:lnTo>
                  <a:lnTo>
                    <a:pt x="2048" y="1493"/>
                  </a:lnTo>
                  <a:lnTo>
                    <a:pt x="2080" y="1500"/>
                  </a:lnTo>
                  <a:lnTo>
                    <a:pt x="2111" y="1506"/>
                  </a:lnTo>
                  <a:lnTo>
                    <a:pt x="2143" y="1513"/>
                  </a:lnTo>
                  <a:lnTo>
                    <a:pt x="2174" y="1519"/>
                  </a:lnTo>
                  <a:lnTo>
                    <a:pt x="2206" y="1526"/>
                  </a:lnTo>
                  <a:lnTo>
                    <a:pt x="2237" y="1532"/>
                  </a:lnTo>
                  <a:lnTo>
                    <a:pt x="2269" y="1539"/>
                  </a:lnTo>
                  <a:lnTo>
                    <a:pt x="2300" y="1545"/>
                  </a:lnTo>
                  <a:lnTo>
                    <a:pt x="2332" y="1552"/>
                  </a:lnTo>
                  <a:lnTo>
                    <a:pt x="2364" y="1558"/>
                  </a:lnTo>
                  <a:lnTo>
                    <a:pt x="2395" y="1565"/>
                  </a:lnTo>
                  <a:lnTo>
                    <a:pt x="2427" y="1571"/>
                  </a:lnTo>
                  <a:lnTo>
                    <a:pt x="2458" y="1578"/>
                  </a:lnTo>
                  <a:lnTo>
                    <a:pt x="2490" y="1584"/>
                  </a:lnTo>
                  <a:lnTo>
                    <a:pt x="2521" y="1591"/>
                  </a:lnTo>
                  <a:lnTo>
                    <a:pt x="2553" y="1597"/>
                  </a:lnTo>
                  <a:lnTo>
                    <a:pt x="2584" y="1604"/>
                  </a:lnTo>
                  <a:lnTo>
                    <a:pt x="2616" y="1610"/>
                  </a:lnTo>
                  <a:lnTo>
                    <a:pt x="2647" y="1617"/>
                  </a:lnTo>
                  <a:lnTo>
                    <a:pt x="2679" y="1623"/>
                  </a:lnTo>
                  <a:lnTo>
                    <a:pt x="2710" y="1633"/>
                  </a:lnTo>
                  <a:lnTo>
                    <a:pt x="2742" y="1642"/>
                  </a:lnTo>
                  <a:lnTo>
                    <a:pt x="2773" y="1652"/>
                  </a:lnTo>
                  <a:lnTo>
                    <a:pt x="2805" y="1661"/>
                  </a:lnTo>
                  <a:lnTo>
                    <a:pt x="2836" y="1671"/>
                  </a:lnTo>
                  <a:lnTo>
                    <a:pt x="2868" y="1680"/>
                  </a:lnTo>
                  <a:lnTo>
                    <a:pt x="2899" y="1690"/>
                  </a:lnTo>
                  <a:lnTo>
                    <a:pt x="2931" y="1699"/>
                  </a:lnTo>
                  <a:lnTo>
                    <a:pt x="2962" y="1709"/>
                  </a:lnTo>
                  <a:lnTo>
                    <a:pt x="2994" y="1718"/>
                  </a:lnTo>
                  <a:lnTo>
                    <a:pt x="2994" y="1094"/>
                  </a:lnTo>
                  <a:lnTo>
                    <a:pt x="2962" y="1084"/>
                  </a:lnTo>
                  <a:lnTo>
                    <a:pt x="2931" y="1074"/>
                  </a:lnTo>
                  <a:lnTo>
                    <a:pt x="2899" y="1064"/>
                  </a:lnTo>
                  <a:lnTo>
                    <a:pt x="2868" y="1054"/>
                  </a:lnTo>
                  <a:lnTo>
                    <a:pt x="2836" y="1045"/>
                  </a:lnTo>
                  <a:lnTo>
                    <a:pt x="2805" y="1035"/>
                  </a:lnTo>
                  <a:lnTo>
                    <a:pt x="2773" y="1025"/>
                  </a:lnTo>
                  <a:lnTo>
                    <a:pt x="2742" y="1015"/>
                  </a:lnTo>
                  <a:lnTo>
                    <a:pt x="2710" y="1005"/>
                  </a:lnTo>
                  <a:lnTo>
                    <a:pt x="2679" y="996"/>
                  </a:lnTo>
                  <a:lnTo>
                    <a:pt x="2647" y="987"/>
                  </a:lnTo>
                  <a:lnTo>
                    <a:pt x="2616" y="978"/>
                  </a:lnTo>
                  <a:lnTo>
                    <a:pt x="2584" y="970"/>
                  </a:lnTo>
                  <a:lnTo>
                    <a:pt x="2553" y="961"/>
                  </a:lnTo>
                  <a:lnTo>
                    <a:pt x="2521" y="953"/>
                  </a:lnTo>
                  <a:lnTo>
                    <a:pt x="2490" y="944"/>
                  </a:lnTo>
                  <a:lnTo>
                    <a:pt x="2458" y="936"/>
                  </a:lnTo>
                  <a:lnTo>
                    <a:pt x="2427" y="927"/>
                  </a:lnTo>
                  <a:lnTo>
                    <a:pt x="2395" y="918"/>
                  </a:lnTo>
                  <a:lnTo>
                    <a:pt x="2364" y="910"/>
                  </a:lnTo>
                  <a:lnTo>
                    <a:pt x="2332" y="901"/>
                  </a:lnTo>
                  <a:lnTo>
                    <a:pt x="2300" y="892"/>
                  </a:lnTo>
                  <a:lnTo>
                    <a:pt x="2269" y="883"/>
                  </a:lnTo>
                  <a:lnTo>
                    <a:pt x="2237" y="874"/>
                  </a:lnTo>
                  <a:lnTo>
                    <a:pt x="2206" y="865"/>
                  </a:lnTo>
                  <a:lnTo>
                    <a:pt x="2174" y="856"/>
                  </a:lnTo>
                  <a:lnTo>
                    <a:pt x="2143" y="847"/>
                  </a:lnTo>
                  <a:lnTo>
                    <a:pt x="2111" y="838"/>
                  </a:lnTo>
                  <a:lnTo>
                    <a:pt x="2080" y="829"/>
                  </a:lnTo>
                  <a:lnTo>
                    <a:pt x="2048" y="820"/>
                  </a:lnTo>
                  <a:lnTo>
                    <a:pt x="2017" y="816"/>
                  </a:lnTo>
                  <a:lnTo>
                    <a:pt x="1985" y="811"/>
                  </a:lnTo>
                  <a:lnTo>
                    <a:pt x="1954" y="807"/>
                  </a:lnTo>
                  <a:lnTo>
                    <a:pt x="1922" y="802"/>
                  </a:lnTo>
                  <a:lnTo>
                    <a:pt x="1891" y="798"/>
                  </a:lnTo>
                  <a:lnTo>
                    <a:pt x="1859" y="794"/>
                  </a:lnTo>
                  <a:lnTo>
                    <a:pt x="1828" y="789"/>
                  </a:lnTo>
                  <a:lnTo>
                    <a:pt x="1796" y="785"/>
                  </a:lnTo>
                  <a:lnTo>
                    <a:pt x="1765" y="781"/>
                  </a:lnTo>
                  <a:lnTo>
                    <a:pt x="1733" y="776"/>
                  </a:lnTo>
                  <a:lnTo>
                    <a:pt x="1702" y="775"/>
                  </a:lnTo>
                  <a:lnTo>
                    <a:pt x="1670" y="775"/>
                  </a:lnTo>
                  <a:lnTo>
                    <a:pt x="1639" y="774"/>
                  </a:lnTo>
                  <a:lnTo>
                    <a:pt x="1607" y="773"/>
                  </a:lnTo>
                  <a:lnTo>
                    <a:pt x="1576" y="773"/>
                  </a:lnTo>
                  <a:lnTo>
                    <a:pt x="1544" y="772"/>
                  </a:lnTo>
                  <a:lnTo>
                    <a:pt x="1512" y="771"/>
                  </a:lnTo>
                  <a:lnTo>
                    <a:pt x="1481" y="771"/>
                  </a:lnTo>
                  <a:lnTo>
                    <a:pt x="1449" y="770"/>
                  </a:lnTo>
                  <a:lnTo>
                    <a:pt x="1418" y="769"/>
                  </a:lnTo>
                  <a:lnTo>
                    <a:pt x="1386" y="743"/>
                  </a:lnTo>
                  <a:lnTo>
                    <a:pt x="1355" y="717"/>
                  </a:lnTo>
                  <a:lnTo>
                    <a:pt x="1323" y="691"/>
                  </a:lnTo>
                  <a:lnTo>
                    <a:pt x="1292" y="665"/>
                  </a:lnTo>
                  <a:lnTo>
                    <a:pt x="1260" y="639"/>
                  </a:lnTo>
                  <a:lnTo>
                    <a:pt x="1229" y="613"/>
                  </a:lnTo>
                  <a:lnTo>
                    <a:pt x="1197" y="587"/>
                  </a:lnTo>
                  <a:lnTo>
                    <a:pt x="1166" y="561"/>
                  </a:lnTo>
                  <a:lnTo>
                    <a:pt x="1134" y="535"/>
                  </a:lnTo>
                  <a:lnTo>
                    <a:pt x="1103" y="509"/>
                  </a:lnTo>
                  <a:lnTo>
                    <a:pt x="1071" y="504"/>
                  </a:lnTo>
                  <a:lnTo>
                    <a:pt x="1040" y="499"/>
                  </a:lnTo>
                  <a:lnTo>
                    <a:pt x="1008" y="493"/>
                  </a:lnTo>
                  <a:lnTo>
                    <a:pt x="977" y="488"/>
                  </a:lnTo>
                  <a:lnTo>
                    <a:pt x="945" y="483"/>
                  </a:lnTo>
                  <a:lnTo>
                    <a:pt x="914" y="477"/>
                  </a:lnTo>
                  <a:lnTo>
                    <a:pt x="882" y="472"/>
                  </a:lnTo>
                  <a:lnTo>
                    <a:pt x="851" y="467"/>
                  </a:lnTo>
                  <a:lnTo>
                    <a:pt x="819" y="461"/>
                  </a:lnTo>
                  <a:lnTo>
                    <a:pt x="788" y="456"/>
                  </a:lnTo>
                  <a:lnTo>
                    <a:pt x="756" y="450"/>
                  </a:lnTo>
                  <a:lnTo>
                    <a:pt x="724" y="445"/>
                  </a:lnTo>
                  <a:lnTo>
                    <a:pt x="693" y="439"/>
                  </a:lnTo>
                  <a:lnTo>
                    <a:pt x="661" y="434"/>
                  </a:lnTo>
                  <a:lnTo>
                    <a:pt x="630" y="428"/>
                  </a:lnTo>
                  <a:lnTo>
                    <a:pt x="598" y="423"/>
                  </a:lnTo>
                  <a:lnTo>
                    <a:pt x="567" y="418"/>
                  </a:lnTo>
                  <a:lnTo>
                    <a:pt x="535" y="412"/>
                  </a:lnTo>
                  <a:lnTo>
                    <a:pt x="504" y="407"/>
                  </a:lnTo>
                  <a:lnTo>
                    <a:pt x="472" y="401"/>
                  </a:lnTo>
                  <a:lnTo>
                    <a:pt x="441" y="392"/>
                  </a:lnTo>
                  <a:lnTo>
                    <a:pt x="409" y="384"/>
                  </a:lnTo>
                  <a:lnTo>
                    <a:pt x="378" y="375"/>
                  </a:lnTo>
                  <a:lnTo>
                    <a:pt x="346" y="366"/>
                  </a:lnTo>
                  <a:lnTo>
                    <a:pt x="315" y="358"/>
                  </a:lnTo>
                  <a:lnTo>
                    <a:pt x="283" y="349"/>
                  </a:lnTo>
                  <a:lnTo>
                    <a:pt x="252" y="340"/>
                  </a:lnTo>
                  <a:lnTo>
                    <a:pt x="220" y="331"/>
                  </a:lnTo>
                  <a:lnTo>
                    <a:pt x="189" y="323"/>
                  </a:lnTo>
                  <a:lnTo>
                    <a:pt x="157" y="314"/>
                  </a:lnTo>
                  <a:lnTo>
                    <a:pt x="126" y="253"/>
                  </a:lnTo>
                  <a:lnTo>
                    <a:pt x="94" y="190"/>
                  </a:lnTo>
                  <a:lnTo>
                    <a:pt x="63" y="126"/>
                  </a:lnTo>
                  <a:lnTo>
                    <a:pt x="31" y="63"/>
                  </a:lnTo>
                  <a:lnTo>
                    <a:pt x="0" y="0"/>
                  </a:lnTo>
                  <a:lnTo>
                    <a:pt x="0" y="170"/>
                  </a:lnTo>
                  <a:close/>
                </a:path>
              </a:pathLst>
            </a:custGeom>
            <a:solidFill>
              <a:srgbClr val="c032c0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5" name="Freeform 39"/>
            <p:cNvSpPr/>
            <p:nvPr/>
          </p:nvSpPr>
          <p:spPr>
            <a:xfrm>
              <a:off x="989280" y="2224080"/>
              <a:ext cx="4752720" cy="2504880"/>
            </a:xfrm>
            <a:custGeom>
              <a:avLst/>
              <a:gdLst>
                <a:gd name="textAreaLeft" fmla="*/ 0 w 4752720"/>
                <a:gd name="textAreaRight" fmla="*/ 4753080 w 4752720"/>
                <a:gd name="textAreaTop" fmla="*/ 0 h 2504880"/>
                <a:gd name="textAreaBottom" fmla="*/ 2505240 h 2504880"/>
              </a:gdLst>
              <a:ahLst/>
              <a:rect l="textAreaLeft" t="textAreaTop" r="textAreaRight" b="textAreaBottom"/>
              <a:pathLst>
                <a:path w="2994" h="1578">
                  <a:moveTo>
                    <a:pt x="0" y="170"/>
                  </a:moveTo>
                  <a:lnTo>
                    <a:pt x="31" y="235"/>
                  </a:lnTo>
                  <a:lnTo>
                    <a:pt x="63" y="301"/>
                  </a:lnTo>
                  <a:lnTo>
                    <a:pt x="94" y="366"/>
                  </a:lnTo>
                  <a:lnTo>
                    <a:pt x="126" y="431"/>
                  </a:lnTo>
                  <a:lnTo>
                    <a:pt x="157" y="497"/>
                  </a:lnTo>
                  <a:lnTo>
                    <a:pt x="189" y="502"/>
                  </a:lnTo>
                  <a:lnTo>
                    <a:pt x="220" y="508"/>
                  </a:lnTo>
                  <a:lnTo>
                    <a:pt x="252" y="514"/>
                  </a:lnTo>
                  <a:lnTo>
                    <a:pt x="283" y="519"/>
                  </a:lnTo>
                  <a:lnTo>
                    <a:pt x="315" y="525"/>
                  </a:lnTo>
                  <a:lnTo>
                    <a:pt x="346" y="531"/>
                  </a:lnTo>
                  <a:lnTo>
                    <a:pt x="378" y="536"/>
                  </a:lnTo>
                  <a:lnTo>
                    <a:pt x="409" y="542"/>
                  </a:lnTo>
                  <a:lnTo>
                    <a:pt x="441" y="548"/>
                  </a:lnTo>
                  <a:lnTo>
                    <a:pt x="472" y="553"/>
                  </a:lnTo>
                  <a:lnTo>
                    <a:pt x="504" y="562"/>
                  </a:lnTo>
                  <a:lnTo>
                    <a:pt x="535" y="571"/>
                  </a:lnTo>
                  <a:lnTo>
                    <a:pt x="567" y="583"/>
                  </a:lnTo>
                  <a:lnTo>
                    <a:pt x="598" y="599"/>
                  </a:lnTo>
                  <a:lnTo>
                    <a:pt x="630" y="614"/>
                  </a:lnTo>
                  <a:lnTo>
                    <a:pt x="661" y="629"/>
                  </a:lnTo>
                  <a:lnTo>
                    <a:pt x="693" y="644"/>
                  </a:lnTo>
                  <a:lnTo>
                    <a:pt x="724" y="659"/>
                  </a:lnTo>
                  <a:lnTo>
                    <a:pt x="756" y="674"/>
                  </a:lnTo>
                  <a:lnTo>
                    <a:pt x="788" y="689"/>
                  </a:lnTo>
                  <a:lnTo>
                    <a:pt x="819" y="697"/>
                  </a:lnTo>
                  <a:lnTo>
                    <a:pt x="851" y="706"/>
                  </a:lnTo>
                  <a:lnTo>
                    <a:pt x="882" y="714"/>
                  </a:lnTo>
                  <a:lnTo>
                    <a:pt x="914" y="722"/>
                  </a:lnTo>
                  <a:lnTo>
                    <a:pt x="945" y="730"/>
                  </a:lnTo>
                  <a:lnTo>
                    <a:pt x="977" y="738"/>
                  </a:lnTo>
                  <a:lnTo>
                    <a:pt x="1008" y="747"/>
                  </a:lnTo>
                  <a:lnTo>
                    <a:pt x="1040" y="755"/>
                  </a:lnTo>
                  <a:lnTo>
                    <a:pt x="1071" y="763"/>
                  </a:lnTo>
                  <a:lnTo>
                    <a:pt x="1103" y="771"/>
                  </a:lnTo>
                  <a:lnTo>
                    <a:pt x="1134" y="778"/>
                  </a:lnTo>
                  <a:lnTo>
                    <a:pt x="1166" y="785"/>
                  </a:lnTo>
                  <a:lnTo>
                    <a:pt x="1197" y="791"/>
                  </a:lnTo>
                  <a:lnTo>
                    <a:pt x="1229" y="798"/>
                  </a:lnTo>
                  <a:lnTo>
                    <a:pt x="1260" y="805"/>
                  </a:lnTo>
                  <a:lnTo>
                    <a:pt x="1292" y="812"/>
                  </a:lnTo>
                  <a:lnTo>
                    <a:pt x="1323" y="818"/>
                  </a:lnTo>
                  <a:lnTo>
                    <a:pt x="1355" y="825"/>
                  </a:lnTo>
                  <a:lnTo>
                    <a:pt x="1386" y="832"/>
                  </a:lnTo>
                  <a:lnTo>
                    <a:pt x="1418" y="839"/>
                  </a:lnTo>
                  <a:lnTo>
                    <a:pt x="1449" y="852"/>
                  </a:lnTo>
                  <a:lnTo>
                    <a:pt x="1481" y="865"/>
                  </a:lnTo>
                  <a:lnTo>
                    <a:pt x="1512" y="879"/>
                  </a:lnTo>
                  <a:lnTo>
                    <a:pt x="1544" y="892"/>
                  </a:lnTo>
                  <a:lnTo>
                    <a:pt x="1576" y="905"/>
                  </a:lnTo>
                  <a:lnTo>
                    <a:pt x="1607" y="919"/>
                  </a:lnTo>
                  <a:lnTo>
                    <a:pt x="1639" y="932"/>
                  </a:lnTo>
                  <a:lnTo>
                    <a:pt x="1670" y="945"/>
                  </a:lnTo>
                  <a:lnTo>
                    <a:pt x="1702" y="958"/>
                  </a:lnTo>
                  <a:lnTo>
                    <a:pt x="1733" y="972"/>
                  </a:lnTo>
                  <a:lnTo>
                    <a:pt x="1765" y="989"/>
                  </a:lnTo>
                  <a:lnTo>
                    <a:pt x="1796" y="1006"/>
                  </a:lnTo>
                  <a:lnTo>
                    <a:pt x="1828" y="1023"/>
                  </a:lnTo>
                  <a:lnTo>
                    <a:pt x="1859" y="1040"/>
                  </a:lnTo>
                  <a:lnTo>
                    <a:pt x="1891" y="1057"/>
                  </a:lnTo>
                  <a:lnTo>
                    <a:pt x="1922" y="1074"/>
                  </a:lnTo>
                  <a:lnTo>
                    <a:pt x="1954" y="1091"/>
                  </a:lnTo>
                  <a:lnTo>
                    <a:pt x="1985" y="1108"/>
                  </a:lnTo>
                  <a:lnTo>
                    <a:pt x="2017" y="1125"/>
                  </a:lnTo>
                  <a:lnTo>
                    <a:pt x="2048" y="1142"/>
                  </a:lnTo>
                  <a:lnTo>
                    <a:pt x="2080" y="1159"/>
                  </a:lnTo>
                  <a:lnTo>
                    <a:pt x="2111" y="1176"/>
                  </a:lnTo>
                  <a:lnTo>
                    <a:pt x="2143" y="1193"/>
                  </a:lnTo>
                  <a:lnTo>
                    <a:pt x="2174" y="1210"/>
                  </a:lnTo>
                  <a:lnTo>
                    <a:pt x="2206" y="1227"/>
                  </a:lnTo>
                  <a:lnTo>
                    <a:pt x="2237" y="1244"/>
                  </a:lnTo>
                  <a:lnTo>
                    <a:pt x="2269" y="1261"/>
                  </a:lnTo>
                  <a:lnTo>
                    <a:pt x="2300" y="1277"/>
                  </a:lnTo>
                  <a:lnTo>
                    <a:pt x="2332" y="1294"/>
                  </a:lnTo>
                  <a:lnTo>
                    <a:pt x="2364" y="1311"/>
                  </a:lnTo>
                  <a:lnTo>
                    <a:pt x="2395" y="1326"/>
                  </a:lnTo>
                  <a:lnTo>
                    <a:pt x="2427" y="1341"/>
                  </a:lnTo>
                  <a:lnTo>
                    <a:pt x="2458" y="1356"/>
                  </a:lnTo>
                  <a:lnTo>
                    <a:pt x="2490" y="1370"/>
                  </a:lnTo>
                  <a:lnTo>
                    <a:pt x="2521" y="1385"/>
                  </a:lnTo>
                  <a:lnTo>
                    <a:pt x="2553" y="1400"/>
                  </a:lnTo>
                  <a:lnTo>
                    <a:pt x="2584" y="1415"/>
                  </a:lnTo>
                  <a:lnTo>
                    <a:pt x="2616" y="1430"/>
                  </a:lnTo>
                  <a:lnTo>
                    <a:pt x="2647" y="1445"/>
                  </a:lnTo>
                  <a:lnTo>
                    <a:pt x="2679" y="1459"/>
                  </a:lnTo>
                  <a:lnTo>
                    <a:pt x="2710" y="1471"/>
                  </a:lnTo>
                  <a:lnTo>
                    <a:pt x="2742" y="1483"/>
                  </a:lnTo>
                  <a:lnTo>
                    <a:pt x="2773" y="1495"/>
                  </a:lnTo>
                  <a:lnTo>
                    <a:pt x="2805" y="1507"/>
                  </a:lnTo>
                  <a:lnTo>
                    <a:pt x="2836" y="1518"/>
                  </a:lnTo>
                  <a:lnTo>
                    <a:pt x="2868" y="1530"/>
                  </a:lnTo>
                  <a:lnTo>
                    <a:pt x="2899" y="1542"/>
                  </a:lnTo>
                  <a:lnTo>
                    <a:pt x="2931" y="1554"/>
                  </a:lnTo>
                  <a:lnTo>
                    <a:pt x="2962" y="1566"/>
                  </a:lnTo>
                  <a:lnTo>
                    <a:pt x="2994" y="1578"/>
                  </a:lnTo>
                  <a:lnTo>
                    <a:pt x="2994" y="1272"/>
                  </a:lnTo>
                  <a:lnTo>
                    <a:pt x="2962" y="1260"/>
                  </a:lnTo>
                  <a:lnTo>
                    <a:pt x="2931" y="1248"/>
                  </a:lnTo>
                  <a:lnTo>
                    <a:pt x="2899" y="1236"/>
                  </a:lnTo>
                  <a:lnTo>
                    <a:pt x="2868" y="1224"/>
                  </a:lnTo>
                  <a:lnTo>
                    <a:pt x="2836" y="1212"/>
                  </a:lnTo>
                  <a:lnTo>
                    <a:pt x="2805" y="1200"/>
                  </a:lnTo>
                  <a:lnTo>
                    <a:pt x="2773" y="1187"/>
                  </a:lnTo>
                  <a:lnTo>
                    <a:pt x="2742" y="1175"/>
                  </a:lnTo>
                  <a:lnTo>
                    <a:pt x="2710" y="1163"/>
                  </a:lnTo>
                  <a:lnTo>
                    <a:pt x="2679" y="1151"/>
                  </a:lnTo>
                  <a:lnTo>
                    <a:pt x="2647" y="1138"/>
                  </a:lnTo>
                  <a:lnTo>
                    <a:pt x="2616" y="1124"/>
                  </a:lnTo>
                  <a:lnTo>
                    <a:pt x="2584" y="1111"/>
                  </a:lnTo>
                  <a:lnTo>
                    <a:pt x="2553" y="1097"/>
                  </a:lnTo>
                  <a:lnTo>
                    <a:pt x="2521" y="1084"/>
                  </a:lnTo>
                  <a:lnTo>
                    <a:pt x="2490" y="1070"/>
                  </a:lnTo>
                  <a:lnTo>
                    <a:pt x="2458" y="1057"/>
                  </a:lnTo>
                  <a:lnTo>
                    <a:pt x="2427" y="1044"/>
                  </a:lnTo>
                  <a:lnTo>
                    <a:pt x="2395" y="1030"/>
                  </a:lnTo>
                  <a:lnTo>
                    <a:pt x="2364" y="1017"/>
                  </a:lnTo>
                  <a:lnTo>
                    <a:pt x="2332" y="997"/>
                  </a:lnTo>
                  <a:lnTo>
                    <a:pt x="2300" y="978"/>
                  </a:lnTo>
                  <a:lnTo>
                    <a:pt x="2269" y="958"/>
                  </a:lnTo>
                  <a:lnTo>
                    <a:pt x="2237" y="939"/>
                  </a:lnTo>
                  <a:lnTo>
                    <a:pt x="2206" y="919"/>
                  </a:lnTo>
                  <a:lnTo>
                    <a:pt x="2174" y="899"/>
                  </a:lnTo>
                  <a:lnTo>
                    <a:pt x="2143" y="880"/>
                  </a:lnTo>
                  <a:lnTo>
                    <a:pt x="2111" y="860"/>
                  </a:lnTo>
                  <a:lnTo>
                    <a:pt x="2080" y="841"/>
                  </a:lnTo>
                  <a:lnTo>
                    <a:pt x="2048" y="821"/>
                  </a:lnTo>
                  <a:lnTo>
                    <a:pt x="2017" y="807"/>
                  </a:lnTo>
                  <a:lnTo>
                    <a:pt x="1985" y="794"/>
                  </a:lnTo>
                  <a:lnTo>
                    <a:pt x="1954" y="780"/>
                  </a:lnTo>
                  <a:lnTo>
                    <a:pt x="1922" y="766"/>
                  </a:lnTo>
                  <a:lnTo>
                    <a:pt x="1891" y="752"/>
                  </a:lnTo>
                  <a:lnTo>
                    <a:pt x="1859" y="738"/>
                  </a:lnTo>
                  <a:lnTo>
                    <a:pt x="1828" y="724"/>
                  </a:lnTo>
                  <a:lnTo>
                    <a:pt x="1796" y="710"/>
                  </a:lnTo>
                  <a:lnTo>
                    <a:pt x="1765" y="696"/>
                  </a:lnTo>
                  <a:lnTo>
                    <a:pt x="1733" y="683"/>
                  </a:lnTo>
                  <a:lnTo>
                    <a:pt x="1702" y="671"/>
                  </a:lnTo>
                  <a:lnTo>
                    <a:pt x="1670" y="659"/>
                  </a:lnTo>
                  <a:lnTo>
                    <a:pt x="1639" y="647"/>
                  </a:lnTo>
                  <a:lnTo>
                    <a:pt x="1607" y="635"/>
                  </a:lnTo>
                  <a:lnTo>
                    <a:pt x="1576" y="623"/>
                  </a:lnTo>
                  <a:lnTo>
                    <a:pt x="1544" y="612"/>
                  </a:lnTo>
                  <a:lnTo>
                    <a:pt x="1512" y="600"/>
                  </a:lnTo>
                  <a:lnTo>
                    <a:pt x="1481" y="588"/>
                  </a:lnTo>
                  <a:lnTo>
                    <a:pt x="1449" y="576"/>
                  </a:lnTo>
                  <a:lnTo>
                    <a:pt x="1418" y="564"/>
                  </a:lnTo>
                  <a:lnTo>
                    <a:pt x="1386" y="552"/>
                  </a:lnTo>
                  <a:lnTo>
                    <a:pt x="1355" y="540"/>
                  </a:lnTo>
                  <a:lnTo>
                    <a:pt x="1323" y="528"/>
                  </a:lnTo>
                  <a:lnTo>
                    <a:pt x="1292" y="516"/>
                  </a:lnTo>
                  <a:lnTo>
                    <a:pt x="1260" y="504"/>
                  </a:lnTo>
                  <a:lnTo>
                    <a:pt x="1229" y="492"/>
                  </a:lnTo>
                  <a:lnTo>
                    <a:pt x="1197" y="480"/>
                  </a:lnTo>
                  <a:lnTo>
                    <a:pt x="1166" y="468"/>
                  </a:lnTo>
                  <a:lnTo>
                    <a:pt x="1134" y="455"/>
                  </a:lnTo>
                  <a:lnTo>
                    <a:pt x="1103" y="443"/>
                  </a:lnTo>
                  <a:lnTo>
                    <a:pt x="1071" y="436"/>
                  </a:lnTo>
                  <a:lnTo>
                    <a:pt x="1040" y="428"/>
                  </a:lnTo>
                  <a:lnTo>
                    <a:pt x="1008" y="421"/>
                  </a:lnTo>
                  <a:lnTo>
                    <a:pt x="977" y="414"/>
                  </a:lnTo>
                  <a:lnTo>
                    <a:pt x="945" y="406"/>
                  </a:lnTo>
                  <a:lnTo>
                    <a:pt x="914" y="399"/>
                  </a:lnTo>
                  <a:lnTo>
                    <a:pt x="882" y="391"/>
                  </a:lnTo>
                  <a:lnTo>
                    <a:pt x="851" y="384"/>
                  </a:lnTo>
                  <a:lnTo>
                    <a:pt x="819" y="377"/>
                  </a:lnTo>
                  <a:lnTo>
                    <a:pt x="788" y="369"/>
                  </a:lnTo>
                  <a:lnTo>
                    <a:pt x="756" y="365"/>
                  </a:lnTo>
                  <a:lnTo>
                    <a:pt x="724" y="360"/>
                  </a:lnTo>
                  <a:lnTo>
                    <a:pt x="693" y="356"/>
                  </a:lnTo>
                  <a:lnTo>
                    <a:pt x="661" y="351"/>
                  </a:lnTo>
                  <a:lnTo>
                    <a:pt x="630" y="347"/>
                  </a:lnTo>
                  <a:lnTo>
                    <a:pt x="598" y="342"/>
                  </a:lnTo>
                  <a:lnTo>
                    <a:pt x="567" y="338"/>
                  </a:lnTo>
                  <a:lnTo>
                    <a:pt x="535" y="334"/>
                  </a:lnTo>
                  <a:lnTo>
                    <a:pt x="504" y="329"/>
                  </a:lnTo>
                  <a:lnTo>
                    <a:pt x="472" y="325"/>
                  </a:lnTo>
                  <a:lnTo>
                    <a:pt x="441" y="324"/>
                  </a:lnTo>
                  <a:lnTo>
                    <a:pt x="409" y="323"/>
                  </a:lnTo>
                  <a:lnTo>
                    <a:pt x="378" y="321"/>
                  </a:lnTo>
                  <a:lnTo>
                    <a:pt x="346" y="320"/>
                  </a:lnTo>
                  <a:lnTo>
                    <a:pt x="315" y="319"/>
                  </a:lnTo>
                  <a:lnTo>
                    <a:pt x="283" y="318"/>
                  </a:lnTo>
                  <a:lnTo>
                    <a:pt x="252" y="317"/>
                  </a:lnTo>
                  <a:lnTo>
                    <a:pt x="220" y="316"/>
                  </a:lnTo>
                  <a:lnTo>
                    <a:pt x="189" y="315"/>
                  </a:lnTo>
                  <a:lnTo>
                    <a:pt x="157" y="314"/>
                  </a:lnTo>
                  <a:lnTo>
                    <a:pt x="126" y="266"/>
                  </a:lnTo>
                  <a:lnTo>
                    <a:pt x="94" y="208"/>
                  </a:lnTo>
                  <a:lnTo>
                    <a:pt x="63" y="138"/>
                  </a:lnTo>
                  <a:lnTo>
                    <a:pt x="31" y="69"/>
                  </a:lnTo>
                  <a:lnTo>
                    <a:pt x="0" y="0"/>
                  </a:lnTo>
                  <a:lnTo>
                    <a:pt x="0" y="170"/>
                  </a:lnTo>
                  <a:close/>
                </a:path>
              </a:pathLst>
            </a:custGeom>
            <a:solidFill>
              <a:srgbClr val="f79646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6" name="Freeform 40"/>
            <p:cNvSpPr/>
            <p:nvPr/>
          </p:nvSpPr>
          <p:spPr>
            <a:xfrm>
              <a:off x="989280" y="2158920"/>
              <a:ext cx="4752720" cy="1777680"/>
            </a:xfrm>
            <a:custGeom>
              <a:avLst/>
              <a:gdLst>
                <a:gd name="textAreaLeft" fmla="*/ 0 w 4752720"/>
                <a:gd name="textAreaRight" fmla="*/ 4753080 w 4752720"/>
                <a:gd name="textAreaTop" fmla="*/ 0 h 1777680"/>
                <a:gd name="textAreaBottom" fmla="*/ 1778040 h 1777680"/>
              </a:gdLst>
              <a:ahLst/>
              <a:rect l="textAreaLeft" t="textAreaTop" r="textAreaRight" b="textAreaBottom"/>
              <a:pathLst>
                <a:path w="2994" h="1120">
                  <a:moveTo>
                    <a:pt x="0" y="271"/>
                  </a:moveTo>
                  <a:lnTo>
                    <a:pt x="31" y="306"/>
                  </a:lnTo>
                  <a:lnTo>
                    <a:pt x="63" y="342"/>
                  </a:lnTo>
                  <a:lnTo>
                    <a:pt x="94" y="407"/>
                  </a:lnTo>
                  <a:lnTo>
                    <a:pt x="126" y="473"/>
                  </a:lnTo>
                  <a:lnTo>
                    <a:pt x="157" y="538"/>
                  </a:lnTo>
                  <a:lnTo>
                    <a:pt x="189" y="528"/>
                  </a:lnTo>
                  <a:lnTo>
                    <a:pt x="220" y="518"/>
                  </a:lnTo>
                  <a:lnTo>
                    <a:pt x="252" y="509"/>
                  </a:lnTo>
                  <a:lnTo>
                    <a:pt x="283" y="499"/>
                  </a:lnTo>
                  <a:lnTo>
                    <a:pt x="315" y="489"/>
                  </a:lnTo>
                  <a:lnTo>
                    <a:pt x="346" y="479"/>
                  </a:lnTo>
                  <a:lnTo>
                    <a:pt x="378" y="470"/>
                  </a:lnTo>
                  <a:lnTo>
                    <a:pt x="409" y="460"/>
                  </a:lnTo>
                  <a:lnTo>
                    <a:pt x="441" y="450"/>
                  </a:lnTo>
                  <a:lnTo>
                    <a:pt x="472" y="448"/>
                  </a:lnTo>
                  <a:lnTo>
                    <a:pt x="504" y="428"/>
                  </a:lnTo>
                  <a:lnTo>
                    <a:pt x="535" y="417"/>
                  </a:lnTo>
                  <a:lnTo>
                    <a:pt x="567" y="405"/>
                  </a:lnTo>
                  <a:lnTo>
                    <a:pt x="598" y="393"/>
                  </a:lnTo>
                  <a:lnTo>
                    <a:pt x="630" y="381"/>
                  </a:lnTo>
                  <a:lnTo>
                    <a:pt x="661" y="369"/>
                  </a:lnTo>
                  <a:lnTo>
                    <a:pt x="693" y="357"/>
                  </a:lnTo>
                  <a:lnTo>
                    <a:pt x="724" y="346"/>
                  </a:lnTo>
                  <a:lnTo>
                    <a:pt x="756" y="334"/>
                  </a:lnTo>
                  <a:lnTo>
                    <a:pt x="788" y="322"/>
                  </a:lnTo>
                  <a:lnTo>
                    <a:pt x="819" y="312"/>
                  </a:lnTo>
                  <a:lnTo>
                    <a:pt x="851" y="303"/>
                  </a:lnTo>
                  <a:lnTo>
                    <a:pt x="882" y="293"/>
                  </a:lnTo>
                  <a:lnTo>
                    <a:pt x="914" y="284"/>
                  </a:lnTo>
                  <a:lnTo>
                    <a:pt x="945" y="274"/>
                  </a:lnTo>
                  <a:lnTo>
                    <a:pt x="977" y="269"/>
                  </a:lnTo>
                  <a:lnTo>
                    <a:pt x="1008" y="270"/>
                  </a:lnTo>
                  <a:lnTo>
                    <a:pt x="1040" y="271"/>
                  </a:lnTo>
                  <a:lnTo>
                    <a:pt x="1071" y="272"/>
                  </a:lnTo>
                  <a:lnTo>
                    <a:pt x="1103" y="273"/>
                  </a:lnTo>
                  <a:lnTo>
                    <a:pt x="1134" y="278"/>
                  </a:lnTo>
                  <a:lnTo>
                    <a:pt x="1166" y="283"/>
                  </a:lnTo>
                  <a:lnTo>
                    <a:pt x="1197" y="288"/>
                  </a:lnTo>
                  <a:lnTo>
                    <a:pt x="1229" y="292"/>
                  </a:lnTo>
                  <a:lnTo>
                    <a:pt x="1260" y="297"/>
                  </a:lnTo>
                  <a:lnTo>
                    <a:pt x="1292" y="302"/>
                  </a:lnTo>
                  <a:lnTo>
                    <a:pt x="1323" y="307"/>
                  </a:lnTo>
                  <a:lnTo>
                    <a:pt x="1355" y="312"/>
                  </a:lnTo>
                  <a:lnTo>
                    <a:pt x="1386" y="316"/>
                  </a:lnTo>
                  <a:lnTo>
                    <a:pt x="1418" y="321"/>
                  </a:lnTo>
                  <a:lnTo>
                    <a:pt x="1449" y="325"/>
                  </a:lnTo>
                  <a:lnTo>
                    <a:pt x="1481" y="329"/>
                  </a:lnTo>
                  <a:lnTo>
                    <a:pt x="1512" y="332"/>
                  </a:lnTo>
                  <a:lnTo>
                    <a:pt x="1544" y="336"/>
                  </a:lnTo>
                  <a:lnTo>
                    <a:pt x="1576" y="340"/>
                  </a:lnTo>
                  <a:lnTo>
                    <a:pt x="1607" y="343"/>
                  </a:lnTo>
                  <a:lnTo>
                    <a:pt x="1639" y="347"/>
                  </a:lnTo>
                  <a:lnTo>
                    <a:pt x="1670" y="351"/>
                  </a:lnTo>
                  <a:lnTo>
                    <a:pt x="1702" y="357"/>
                  </a:lnTo>
                  <a:lnTo>
                    <a:pt x="1733" y="366"/>
                  </a:lnTo>
                  <a:lnTo>
                    <a:pt x="1765" y="375"/>
                  </a:lnTo>
                  <a:lnTo>
                    <a:pt x="1796" y="385"/>
                  </a:lnTo>
                  <a:lnTo>
                    <a:pt x="1828" y="394"/>
                  </a:lnTo>
                  <a:lnTo>
                    <a:pt x="1859" y="404"/>
                  </a:lnTo>
                  <a:lnTo>
                    <a:pt x="1891" y="413"/>
                  </a:lnTo>
                  <a:lnTo>
                    <a:pt x="1922" y="423"/>
                  </a:lnTo>
                  <a:lnTo>
                    <a:pt x="1954" y="432"/>
                  </a:lnTo>
                  <a:lnTo>
                    <a:pt x="1985" y="442"/>
                  </a:lnTo>
                  <a:lnTo>
                    <a:pt x="2017" y="451"/>
                  </a:lnTo>
                  <a:lnTo>
                    <a:pt x="2048" y="461"/>
                  </a:lnTo>
                  <a:lnTo>
                    <a:pt x="2080" y="475"/>
                  </a:lnTo>
                  <a:lnTo>
                    <a:pt x="2111" y="501"/>
                  </a:lnTo>
                  <a:lnTo>
                    <a:pt x="2143" y="526"/>
                  </a:lnTo>
                  <a:lnTo>
                    <a:pt x="2174" y="552"/>
                  </a:lnTo>
                  <a:lnTo>
                    <a:pt x="2206" y="578"/>
                  </a:lnTo>
                  <a:lnTo>
                    <a:pt x="2237" y="603"/>
                  </a:lnTo>
                  <a:lnTo>
                    <a:pt x="2269" y="629"/>
                  </a:lnTo>
                  <a:lnTo>
                    <a:pt x="2300" y="655"/>
                  </a:lnTo>
                  <a:lnTo>
                    <a:pt x="2332" y="680"/>
                  </a:lnTo>
                  <a:lnTo>
                    <a:pt x="2364" y="706"/>
                  </a:lnTo>
                  <a:lnTo>
                    <a:pt x="2395" y="730"/>
                  </a:lnTo>
                  <a:lnTo>
                    <a:pt x="2427" y="755"/>
                  </a:lnTo>
                  <a:lnTo>
                    <a:pt x="2458" y="779"/>
                  </a:lnTo>
                  <a:lnTo>
                    <a:pt x="2490" y="803"/>
                  </a:lnTo>
                  <a:lnTo>
                    <a:pt x="2521" y="828"/>
                  </a:lnTo>
                  <a:lnTo>
                    <a:pt x="2553" y="852"/>
                  </a:lnTo>
                  <a:lnTo>
                    <a:pt x="2584" y="876"/>
                  </a:lnTo>
                  <a:lnTo>
                    <a:pt x="2616" y="901"/>
                  </a:lnTo>
                  <a:lnTo>
                    <a:pt x="2647" y="925"/>
                  </a:lnTo>
                  <a:lnTo>
                    <a:pt x="2679" y="949"/>
                  </a:lnTo>
                  <a:lnTo>
                    <a:pt x="2710" y="966"/>
                  </a:lnTo>
                  <a:lnTo>
                    <a:pt x="2742" y="983"/>
                  </a:lnTo>
                  <a:lnTo>
                    <a:pt x="2773" y="1000"/>
                  </a:lnTo>
                  <a:lnTo>
                    <a:pt x="2805" y="1017"/>
                  </a:lnTo>
                  <a:lnTo>
                    <a:pt x="2836" y="1034"/>
                  </a:lnTo>
                  <a:lnTo>
                    <a:pt x="2868" y="1052"/>
                  </a:lnTo>
                  <a:lnTo>
                    <a:pt x="2899" y="1069"/>
                  </a:lnTo>
                  <a:lnTo>
                    <a:pt x="2931" y="1086"/>
                  </a:lnTo>
                  <a:lnTo>
                    <a:pt x="2962" y="1103"/>
                  </a:lnTo>
                  <a:lnTo>
                    <a:pt x="2994" y="1120"/>
                  </a:lnTo>
                  <a:lnTo>
                    <a:pt x="2994" y="290"/>
                  </a:lnTo>
                  <a:lnTo>
                    <a:pt x="2962" y="282"/>
                  </a:lnTo>
                  <a:lnTo>
                    <a:pt x="2931" y="273"/>
                  </a:lnTo>
                  <a:lnTo>
                    <a:pt x="2899" y="264"/>
                  </a:lnTo>
                  <a:lnTo>
                    <a:pt x="2868" y="255"/>
                  </a:lnTo>
                  <a:lnTo>
                    <a:pt x="2836" y="247"/>
                  </a:lnTo>
                  <a:lnTo>
                    <a:pt x="2805" y="238"/>
                  </a:lnTo>
                  <a:lnTo>
                    <a:pt x="2773" y="229"/>
                  </a:lnTo>
                  <a:lnTo>
                    <a:pt x="2742" y="221"/>
                  </a:lnTo>
                  <a:lnTo>
                    <a:pt x="2710" y="212"/>
                  </a:lnTo>
                  <a:lnTo>
                    <a:pt x="2679" y="203"/>
                  </a:lnTo>
                  <a:lnTo>
                    <a:pt x="2647" y="193"/>
                  </a:lnTo>
                  <a:lnTo>
                    <a:pt x="2616" y="183"/>
                  </a:lnTo>
                  <a:lnTo>
                    <a:pt x="2584" y="173"/>
                  </a:lnTo>
                  <a:lnTo>
                    <a:pt x="2553" y="163"/>
                  </a:lnTo>
                  <a:lnTo>
                    <a:pt x="2521" y="153"/>
                  </a:lnTo>
                  <a:lnTo>
                    <a:pt x="2490" y="143"/>
                  </a:lnTo>
                  <a:lnTo>
                    <a:pt x="2458" y="133"/>
                  </a:lnTo>
                  <a:lnTo>
                    <a:pt x="2427" y="123"/>
                  </a:lnTo>
                  <a:lnTo>
                    <a:pt x="2395" y="113"/>
                  </a:lnTo>
                  <a:lnTo>
                    <a:pt x="2364" y="103"/>
                  </a:lnTo>
                  <a:lnTo>
                    <a:pt x="2332" y="99"/>
                  </a:lnTo>
                  <a:lnTo>
                    <a:pt x="2300" y="95"/>
                  </a:lnTo>
                  <a:lnTo>
                    <a:pt x="2269" y="91"/>
                  </a:lnTo>
                  <a:lnTo>
                    <a:pt x="2237" y="87"/>
                  </a:lnTo>
                  <a:lnTo>
                    <a:pt x="2206" y="83"/>
                  </a:lnTo>
                  <a:lnTo>
                    <a:pt x="2174" y="78"/>
                  </a:lnTo>
                  <a:lnTo>
                    <a:pt x="2143" y="74"/>
                  </a:lnTo>
                  <a:lnTo>
                    <a:pt x="2111" y="70"/>
                  </a:lnTo>
                  <a:lnTo>
                    <a:pt x="2080" y="66"/>
                  </a:lnTo>
                  <a:lnTo>
                    <a:pt x="2048" y="62"/>
                  </a:lnTo>
                  <a:lnTo>
                    <a:pt x="2017" y="60"/>
                  </a:lnTo>
                  <a:lnTo>
                    <a:pt x="1985" y="58"/>
                  </a:lnTo>
                  <a:lnTo>
                    <a:pt x="1954" y="55"/>
                  </a:lnTo>
                  <a:lnTo>
                    <a:pt x="1922" y="53"/>
                  </a:lnTo>
                  <a:lnTo>
                    <a:pt x="1891" y="51"/>
                  </a:lnTo>
                  <a:lnTo>
                    <a:pt x="1859" y="49"/>
                  </a:lnTo>
                  <a:lnTo>
                    <a:pt x="1828" y="47"/>
                  </a:lnTo>
                  <a:lnTo>
                    <a:pt x="1796" y="45"/>
                  </a:lnTo>
                  <a:lnTo>
                    <a:pt x="1765" y="43"/>
                  </a:lnTo>
                  <a:lnTo>
                    <a:pt x="1733" y="41"/>
                  </a:lnTo>
                  <a:lnTo>
                    <a:pt x="1702" y="37"/>
                  </a:lnTo>
                  <a:lnTo>
                    <a:pt x="1670" y="34"/>
                  </a:lnTo>
                  <a:lnTo>
                    <a:pt x="1639" y="31"/>
                  </a:lnTo>
                  <a:lnTo>
                    <a:pt x="1607" y="27"/>
                  </a:lnTo>
                  <a:lnTo>
                    <a:pt x="1576" y="24"/>
                  </a:lnTo>
                  <a:lnTo>
                    <a:pt x="1544" y="21"/>
                  </a:lnTo>
                  <a:lnTo>
                    <a:pt x="1512" y="17"/>
                  </a:lnTo>
                  <a:lnTo>
                    <a:pt x="1481" y="14"/>
                  </a:lnTo>
                  <a:lnTo>
                    <a:pt x="1449" y="11"/>
                  </a:lnTo>
                  <a:lnTo>
                    <a:pt x="1418" y="7"/>
                  </a:lnTo>
                  <a:lnTo>
                    <a:pt x="1386" y="8"/>
                  </a:lnTo>
                  <a:lnTo>
                    <a:pt x="1355" y="9"/>
                  </a:lnTo>
                  <a:lnTo>
                    <a:pt x="1323" y="10"/>
                  </a:lnTo>
                  <a:lnTo>
                    <a:pt x="1292" y="11"/>
                  </a:lnTo>
                  <a:lnTo>
                    <a:pt x="1260" y="11"/>
                  </a:lnTo>
                  <a:lnTo>
                    <a:pt x="1229" y="12"/>
                  </a:lnTo>
                  <a:lnTo>
                    <a:pt x="1197" y="13"/>
                  </a:lnTo>
                  <a:lnTo>
                    <a:pt x="1166" y="14"/>
                  </a:lnTo>
                  <a:lnTo>
                    <a:pt x="1134" y="15"/>
                  </a:lnTo>
                  <a:lnTo>
                    <a:pt x="1103" y="16"/>
                  </a:lnTo>
                  <a:lnTo>
                    <a:pt x="1071" y="17"/>
                  </a:lnTo>
                  <a:lnTo>
                    <a:pt x="1040" y="18"/>
                  </a:lnTo>
                  <a:lnTo>
                    <a:pt x="1008" y="20"/>
                  </a:lnTo>
                  <a:lnTo>
                    <a:pt x="977" y="21"/>
                  </a:lnTo>
                  <a:lnTo>
                    <a:pt x="945" y="23"/>
                  </a:lnTo>
                  <a:lnTo>
                    <a:pt x="914" y="24"/>
                  </a:lnTo>
                  <a:lnTo>
                    <a:pt x="882" y="26"/>
                  </a:lnTo>
                  <a:lnTo>
                    <a:pt x="851" y="27"/>
                  </a:lnTo>
                  <a:lnTo>
                    <a:pt x="819" y="28"/>
                  </a:lnTo>
                  <a:lnTo>
                    <a:pt x="788" y="30"/>
                  </a:lnTo>
                  <a:lnTo>
                    <a:pt x="756" y="37"/>
                  </a:lnTo>
                  <a:lnTo>
                    <a:pt x="724" y="44"/>
                  </a:lnTo>
                  <a:lnTo>
                    <a:pt x="693" y="52"/>
                  </a:lnTo>
                  <a:lnTo>
                    <a:pt x="661" y="59"/>
                  </a:lnTo>
                  <a:lnTo>
                    <a:pt x="630" y="66"/>
                  </a:lnTo>
                  <a:lnTo>
                    <a:pt x="598" y="74"/>
                  </a:lnTo>
                  <a:lnTo>
                    <a:pt x="567" y="81"/>
                  </a:lnTo>
                  <a:lnTo>
                    <a:pt x="535" y="54"/>
                  </a:lnTo>
                  <a:lnTo>
                    <a:pt x="504" y="27"/>
                  </a:lnTo>
                  <a:lnTo>
                    <a:pt x="472" y="0"/>
                  </a:lnTo>
                  <a:lnTo>
                    <a:pt x="441" y="2"/>
                  </a:lnTo>
                  <a:lnTo>
                    <a:pt x="409" y="5"/>
                  </a:lnTo>
                  <a:lnTo>
                    <a:pt x="378" y="8"/>
                  </a:lnTo>
                  <a:lnTo>
                    <a:pt x="346" y="10"/>
                  </a:lnTo>
                  <a:lnTo>
                    <a:pt x="315" y="13"/>
                  </a:lnTo>
                  <a:lnTo>
                    <a:pt x="283" y="16"/>
                  </a:lnTo>
                  <a:lnTo>
                    <a:pt x="252" y="19"/>
                  </a:lnTo>
                  <a:lnTo>
                    <a:pt x="220" y="21"/>
                  </a:lnTo>
                  <a:lnTo>
                    <a:pt x="189" y="24"/>
                  </a:lnTo>
                  <a:lnTo>
                    <a:pt x="157" y="27"/>
                  </a:lnTo>
                  <a:lnTo>
                    <a:pt x="126" y="45"/>
                  </a:lnTo>
                  <a:lnTo>
                    <a:pt x="94" y="64"/>
                  </a:lnTo>
                  <a:lnTo>
                    <a:pt x="63" y="82"/>
                  </a:lnTo>
                  <a:lnTo>
                    <a:pt x="31" y="90"/>
                  </a:lnTo>
                  <a:lnTo>
                    <a:pt x="0" y="41"/>
                  </a:lnTo>
                  <a:lnTo>
                    <a:pt x="0" y="271"/>
                  </a:lnTo>
                  <a:close/>
                </a:path>
              </a:pathLst>
            </a:custGeom>
            <a:solidFill>
              <a:srgbClr val="ff0505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7" name="Freeform 41"/>
            <p:cNvSpPr/>
            <p:nvPr/>
          </p:nvSpPr>
          <p:spPr>
            <a:xfrm>
              <a:off x="989280" y="2220840"/>
              <a:ext cx="4752720" cy="2841120"/>
            </a:xfrm>
            <a:custGeom>
              <a:avLst/>
              <a:gdLst>
                <a:gd name="textAreaLeft" fmla="*/ 0 w 4752720"/>
                <a:gd name="textAreaRight" fmla="*/ 4753080 w 4752720"/>
                <a:gd name="textAreaTop" fmla="*/ 0 h 2841120"/>
                <a:gd name="textAreaBottom" fmla="*/ 2841480 h 2841120"/>
              </a:gdLst>
              <a:ahLst/>
              <a:rect l="textAreaLeft" t="textAreaTop" r="textAreaRight" b="textAreaBottom"/>
              <a:pathLst>
                <a:path w="2994" h="1790">
                  <a:moveTo>
                    <a:pt x="0" y="205"/>
                  </a:moveTo>
                  <a:lnTo>
                    <a:pt x="31" y="235"/>
                  </a:lnTo>
                  <a:lnTo>
                    <a:pt x="63" y="297"/>
                  </a:lnTo>
                  <a:lnTo>
                    <a:pt x="94" y="359"/>
                  </a:lnTo>
                  <a:lnTo>
                    <a:pt x="126" y="421"/>
                  </a:lnTo>
                  <a:lnTo>
                    <a:pt x="157" y="484"/>
                  </a:lnTo>
                  <a:lnTo>
                    <a:pt x="189" y="498"/>
                  </a:lnTo>
                  <a:lnTo>
                    <a:pt x="220" y="513"/>
                  </a:lnTo>
                  <a:lnTo>
                    <a:pt x="252" y="527"/>
                  </a:lnTo>
                  <a:lnTo>
                    <a:pt x="283" y="542"/>
                  </a:lnTo>
                  <a:lnTo>
                    <a:pt x="315" y="557"/>
                  </a:lnTo>
                  <a:lnTo>
                    <a:pt x="346" y="571"/>
                  </a:lnTo>
                  <a:lnTo>
                    <a:pt x="378" y="586"/>
                  </a:lnTo>
                  <a:lnTo>
                    <a:pt x="409" y="600"/>
                  </a:lnTo>
                  <a:lnTo>
                    <a:pt x="441" y="623"/>
                  </a:lnTo>
                  <a:lnTo>
                    <a:pt x="472" y="654"/>
                  </a:lnTo>
                  <a:lnTo>
                    <a:pt x="504" y="653"/>
                  </a:lnTo>
                  <a:lnTo>
                    <a:pt x="535" y="652"/>
                  </a:lnTo>
                  <a:lnTo>
                    <a:pt x="567" y="651"/>
                  </a:lnTo>
                  <a:lnTo>
                    <a:pt x="598" y="657"/>
                  </a:lnTo>
                  <a:lnTo>
                    <a:pt x="630" y="664"/>
                  </a:lnTo>
                  <a:lnTo>
                    <a:pt x="661" y="670"/>
                  </a:lnTo>
                  <a:lnTo>
                    <a:pt x="693" y="677"/>
                  </a:lnTo>
                  <a:lnTo>
                    <a:pt x="724" y="684"/>
                  </a:lnTo>
                  <a:lnTo>
                    <a:pt x="756" y="691"/>
                  </a:lnTo>
                  <a:lnTo>
                    <a:pt x="788" y="700"/>
                  </a:lnTo>
                  <a:lnTo>
                    <a:pt x="819" y="714"/>
                  </a:lnTo>
                  <a:lnTo>
                    <a:pt x="851" y="729"/>
                  </a:lnTo>
                  <a:lnTo>
                    <a:pt x="882" y="749"/>
                  </a:lnTo>
                  <a:lnTo>
                    <a:pt x="914" y="777"/>
                  </a:lnTo>
                  <a:lnTo>
                    <a:pt x="945" y="805"/>
                  </a:lnTo>
                  <a:lnTo>
                    <a:pt x="977" y="833"/>
                  </a:lnTo>
                  <a:lnTo>
                    <a:pt x="1008" y="861"/>
                  </a:lnTo>
                  <a:lnTo>
                    <a:pt x="1040" y="889"/>
                  </a:lnTo>
                  <a:lnTo>
                    <a:pt x="1071" y="918"/>
                  </a:lnTo>
                  <a:lnTo>
                    <a:pt x="1103" y="946"/>
                  </a:lnTo>
                  <a:lnTo>
                    <a:pt x="1134" y="976"/>
                  </a:lnTo>
                  <a:lnTo>
                    <a:pt x="1166" y="1016"/>
                  </a:lnTo>
                  <a:lnTo>
                    <a:pt x="1197" y="1056"/>
                  </a:lnTo>
                  <a:lnTo>
                    <a:pt x="1229" y="1097"/>
                  </a:lnTo>
                  <a:lnTo>
                    <a:pt x="1260" y="1137"/>
                  </a:lnTo>
                  <a:lnTo>
                    <a:pt x="1292" y="1177"/>
                  </a:lnTo>
                  <a:lnTo>
                    <a:pt x="1323" y="1218"/>
                  </a:lnTo>
                  <a:lnTo>
                    <a:pt x="1355" y="1258"/>
                  </a:lnTo>
                  <a:lnTo>
                    <a:pt x="1386" y="1298"/>
                  </a:lnTo>
                  <a:lnTo>
                    <a:pt x="1418" y="1339"/>
                  </a:lnTo>
                  <a:lnTo>
                    <a:pt x="1449" y="1344"/>
                  </a:lnTo>
                  <a:lnTo>
                    <a:pt x="1481" y="1349"/>
                  </a:lnTo>
                  <a:lnTo>
                    <a:pt x="1512" y="1355"/>
                  </a:lnTo>
                  <a:lnTo>
                    <a:pt x="1544" y="1360"/>
                  </a:lnTo>
                  <a:lnTo>
                    <a:pt x="1576" y="1365"/>
                  </a:lnTo>
                  <a:lnTo>
                    <a:pt x="1607" y="1370"/>
                  </a:lnTo>
                  <a:lnTo>
                    <a:pt x="1639" y="1376"/>
                  </a:lnTo>
                  <a:lnTo>
                    <a:pt x="1670" y="1381"/>
                  </a:lnTo>
                  <a:lnTo>
                    <a:pt x="1702" y="1386"/>
                  </a:lnTo>
                  <a:lnTo>
                    <a:pt x="1733" y="1395"/>
                  </a:lnTo>
                  <a:lnTo>
                    <a:pt x="1765" y="1410"/>
                  </a:lnTo>
                  <a:lnTo>
                    <a:pt x="1796" y="1425"/>
                  </a:lnTo>
                  <a:lnTo>
                    <a:pt x="1828" y="1440"/>
                  </a:lnTo>
                  <a:lnTo>
                    <a:pt x="1859" y="1455"/>
                  </a:lnTo>
                  <a:lnTo>
                    <a:pt x="1891" y="1469"/>
                  </a:lnTo>
                  <a:lnTo>
                    <a:pt x="1922" y="1484"/>
                  </a:lnTo>
                  <a:lnTo>
                    <a:pt x="1954" y="1499"/>
                  </a:lnTo>
                  <a:lnTo>
                    <a:pt x="1985" y="1514"/>
                  </a:lnTo>
                  <a:lnTo>
                    <a:pt x="2017" y="1529"/>
                  </a:lnTo>
                  <a:lnTo>
                    <a:pt x="2048" y="1544"/>
                  </a:lnTo>
                  <a:lnTo>
                    <a:pt x="2080" y="1555"/>
                  </a:lnTo>
                  <a:lnTo>
                    <a:pt x="2111" y="1566"/>
                  </a:lnTo>
                  <a:lnTo>
                    <a:pt x="2143" y="1577"/>
                  </a:lnTo>
                  <a:lnTo>
                    <a:pt x="2174" y="1589"/>
                  </a:lnTo>
                  <a:lnTo>
                    <a:pt x="2206" y="1600"/>
                  </a:lnTo>
                  <a:lnTo>
                    <a:pt x="2237" y="1611"/>
                  </a:lnTo>
                  <a:lnTo>
                    <a:pt x="2269" y="1622"/>
                  </a:lnTo>
                  <a:lnTo>
                    <a:pt x="2300" y="1633"/>
                  </a:lnTo>
                  <a:lnTo>
                    <a:pt x="2332" y="1644"/>
                  </a:lnTo>
                  <a:lnTo>
                    <a:pt x="2364" y="1656"/>
                  </a:lnTo>
                  <a:lnTo>
                    <a:pt x="2395" y="1664"/>
                  </a:lnTo>
                  <a:lnTo>
                    <a:pt x="2427" y="1672"/>
                  </a:lnTo>
                  <a:lnTo>
                    <a:pt x="2458" y="1680"/>
                  </a:lnTo>
                  <a:lnTo>
                    <a:pt x="2490" y="1688"/>
                  </a:lnTo>
                  <a:lnTo>
                    <a:pt x="2521" y="1697"/>
                  </a:lnTo>
                  <a:lnTo>
                    <a:pt x="2553" y="1705"/>
                  </a:lnTo>
                  <a:lnTo>
                    <a:pt x="2584" y="1713"/>
                  </a:lnTo>
                  <a:lnTo>
                    <a:pt x="2616" y="1721"/>
                  </a:lnTo>
                  <a:lnTo>
                    <a:pt x="2647" y="1729"/>
                  </a:lnTo>
                  <a:lnTo>
                    <a:pt x="2679" y="1738"/>
                  </a:lnTo>
                  <a:lnTo>
                    <a:pt x="2710" y="1743"/>
                  </a:lnTo>
                  <a:lnTo>
                    <a:pt x="2742" y="1748"/>
                  </a:lnTo>
                  <a:lnTo>
                    <a:pt x="2773" y="1753"/>
                  </a:lnTo>
                  <a:lnTo>
                    <a:pt x="2805" y="1759"/>
                  </a:lnTo>
                  <a:lnTo>
                    <a:pt x="2836" y="1764"/>
                  </a:lnTo>
                  <a:lnTo>
                    <a:pt x="2868" y="1769"/>
                  </a:lnTo>
                  <a:lnTo>
                    <a:pt x="2899" y="1774"/>
                  </a:lnTo>
                  <a:lnTo>
                    <a:pt x="2931" y="1780"/>
                  </a:lnTo>
                  <a:lnTo>
                    <a:pt x="2962" y="1785"/>
                  </a:lnTo>
                  <a:lnTo>
                    <a:pt x="2994" y="1790"/>
                  </a:lnTo>
                  <a:lnTo>
                    <a:pt x="2994" y="1248"/>
                  </a:lnTo>
                  <a:lnTo>
                    <a:pt x="2962" y="1242"/>
                  </a:lnTo>
                  <a:lnTo>
                    <a:pt x="2931" y="1235"/>
                  </a:lnTo>
                  <a:lnTo>
                    <a:pt x="2899" y="1229"/>
                  </a:lnTo>
                  <a:lnTo>
                    <a:pt x="2868" y="1222"/>
                  </a:lnTo>
                  <a:lnTo>
                    <a:pt x="2836" y="1216"/>
                  </a:lnTo>
                  <a:lnTo>
                    <a:pt x="2805" y="1209"/>
                  </a:lnTo>
                  <a:lnTo>
                    <a:pt x="2773" y="1203"/>
                  </a:lnTo>
                  <a:lnTo>
                    <a:pt x="2742" y="1195"/>
                  </a:lnTo>
                  <a:lnTo>
                    <a:pt x="2710" y="1185"/>
                  </a:lnTo>
                  <a:lnTo>
                    <a:pt x="2679" y="1174"/>
                  </a:lnTo>
                  <a:lnTo>
                    <a:pt x="2647" y="1164"/>
                  </a:lnTo>
                  <a:lnTo>
                    <a:pt x="2616" y="1154"/>
                  </a:lnTo>
                  <a:lnTo>
                    <a:pt x="2584" y="1143"/>
                  </a:lnTo>
                  <a:lnTo>
                    <a:pt x="2553" y="1133"/>
                  </a:lnTo>
                  <a:lnTo>
                    <a:pt x="2521" y="1122"/>
                  </a:lnTo>
                  <a:lnTo>
                    <a:pt x="2490" y="1112"/>
                  </a:lnTo>
                  <a:lnTo>
                    <a:pt x="2458" y="1102"/>
                  </a:lnTo>
                  <a:lnTo>
                    <a:pt x="2427" y="1091"/>
                  </a:lnTo>
                  <a:lnTo>
                    <a:pt x="2395" y="1081"/>
                  </a:lnTo>
                  <a:lnTo>
                    <a:pt x="2364" y="1070"/>
                  </a:lnTo>
                  <a:lnTo>
                    <a:pt x="2332" y="1058"/>
                  </a:lnTo>
                  <a:lnTo>
                    <a:pt x="2300" y="1046"/>
                  </a:lnTo>
                  <a:lnTo>
                    <a:pt x="2269" y="1034"/>
                  </a:lnTo>
                  <a:lnTo>
                    <a:pt x="2237" y="1022"/>
                  </a:lnTo>
                  <a:lnTo>
                    <a:pt x="2206" y="1010"/>
                  </a:lnTo>
                  <a:lnTo>
                    <a:pt x="2174" y="998"/>
                  </a:lnTo>
                  <a:lnTo>
                    <a:pt x="2143" y="986"/>
                  </a:lnTo>
                  <a:lnTo>
                    <a:pt x="2111" y="974"/>
                  </a:lnTo>
                  <a:lnTo>
                    <a:pt x="2080" y="962"/>
                  </a:lnTo>
                  <a:lnTo>
                    <a:pt x="2048" y="950"/>
                  </a:lnTo>
                  <a:lnTo>
                    <a:pt x="2017" y="943"/>
                  </a:lnTo>
                  <a:lnTo>
                    <a:pt x="1985" y="936"/>
                  </a:lnTo>
                  <a:lnTo>
                    <a:pt x="1954" y="929"/>
                  </a:lnTo>
                  <a:lnTo>
                    <a:pt x="1922" y="922"/>
                  </a:lnTo>
                  <a:lnTo>
                    <a:pt x="1891" y="915"/>
                  </a:lnTo>
                  <a:lnTo>
                    <a:pt x="1859" y="908"/>
                  </a:lnTo>
                  <a:lnTo>
                    <a:pt x="1828" y="902"/>
                  </a:lnTo>
                  <a:lnTo>
                    <a:pt x="1796" y="895"/>
                  </a:lnTo>
                  <a:lnTo>
                    <a:pt x="1765" y="888"/>
                  </a:lnTo>
                  <a:lnTo>
                    <a:pt x="1733" y="881"/>
                  </a:lnTo>
                  <a:lnTo>
                    <a:pt x="1702" y="877"/>
                  </a:lnTo>
                  <a:lnTo>
                    <a:pt x="1670" y="873"/>
                  </a:lnTo>
                  <a:lnTo>
                    <a:pt x="1639" y="869"/>
                  </a:lnTo>
                  <a:lnTo>
                    <a:pt x="1607" y="865"/>
                  </a:lnTo>
                  <a:lnTo>
                    <a:pt x="1576" y="861"/>
                  </a:lnTo>
                  <a:lnTo>
                    <a:pt x="1544" y="848"/>
                  </a:lnTo>
                  <a:lnTo>
                    <a:pt x="1512" y="830"/>
                  </a:lnTo>
                  <a:lnTo>
                    <a:pt x="1481" y="811"/>
                  </a:lnTo>
                  <a:lnTo>
                    <a:pt x="1449" y="792"/>
                  </a:lnTo>
                  <a:lnTo>
                    <a:pt x="1418" y="773"/>
                  </a:lnTo>
                  <a:lnTo>
                    <a:pt x="1386" y="770"/>
                  </a:lnTo>
                  <a:lnTo>
                    <a:pt x="1355" y="767"/>
                  </a:lnTo>
                  <a:lnTo>
                    <a:pt x="1323" y="764"/>
                  </a:lnTo>
                  <a:lnTo>
                    <a:pt x="1292" y="747"/>
                  </a:lnTo>
                  <a:lnTo>
                    <a:pt x="1260" y="724"/>
                  </a:lnTo>
                  <a:lnTo>
                    <a:pt x="1229" y="700"/>
                  </a:lnTo>
                  <a:lnTo>
                    <a:pt x="1197" y="677"/>
                  </a:lnTo>
                  <a:lnTo>
                    <a:pt x="1166" y="653"/>
                  </a:lnTo>
                  <a:lnTo>
                    <a:pt x="1134" y="630"/>
                  </a:lnTo>
                  <a:lnTo>
                    <a:pt x="1103" y="606"/>
                  </a:lnTo>
                  <a:lnTo>
                    <a:pt x="1071" y="590"/>
                  </a:lnTo>
                  <a:lnTo>
                    <a:pt x="1040" y="573"/>
                  </a:lnTo>
                  <a:lnTo>
                    <a:pt x="1008" y="556"/>
                  </a:lnTo>
                  <a:lnTo>
                    <a:pt x="977" y="539"/>
                  </a:lnTo>
                  <a:lnTo>
                    <a:pt x="945" y="523"/>
                  </a:lnTo>
                  <a:lnTo>
                    <a:pt x="914" y="506"/>
                  </a:lnTo>
                  <a:lnTo>
                    <a:pt x="882" y="489"/>
                  </a:lnTo>
                  <a:lnTo>
                    <a:pt x="851" y="473"/>
                  </a:lnTo>
                  <a:lnTo>
                    <a:pt x="819" y="456"/>
                  </a:lnTo>
                  <a:lnTo>
                    <a:pt x="788" y="439"/>
                  </a:lnTo>
                  <a:lnTo>
                    <a:pt x="756" y="431"/>
                  </a:lnTo>
                  <a:lnTo>
                    <a:pt x="724" y="424"/>
                  </a:lnTo>
                  <a:lnTo>
                    <a:pt x="693" y="416"/>
                  </a:lnTo>
                  <a:lnTo>
                    <a:pt x="661" y="408"/>
                  </a:lnTo>
                  <a:lnTo>
                    <a:pt x="630" y="401"/>
                  </a:lnTo>
                  <a:lnTo>
                    <a:pt x="598" y="393"/>
                  </a:lnTo>
                  <a:lnTo>
                    <a:pt x="567" y="385"/>
                  </a:lnTo>
                  <a:lnTo>
                    <a:pt x="535" y="340"/>
                  </a:lnTo>
                  <a:lnTo>
                    <a:pt x="504" y="295"/>
                  </a:lnTo>
                  <a:lnTo>
                    <a:pt x="472" y="250"/>
                  </a:lnTo>
                  <a:lnTo>
                    <a:pt x="441" y="225"/>
                  </a:lnTo>
                  <a:lnTo>
                    <a:pt x="409" y="200"/>
                  </a:lnTo>
                  <a:lnTo>
                    <a:pt x="378" y="175"/>
                  </a:lnTo>
                  <a:lnTo>
                    <a:pt x="346" y="150"/>
                  </a:lnTo>
                  <a:lnTo>
                    <a:pt x="315" y="125"/>
                  </a:lnTo>
                  <a:lnTo>
                    <a:pt x="283" y="100"/>
                  </a:lnTo>
                  <a:lnTo>
                    <a:pt x="252" y="75"/>
                  </a:lnTo>
                  <a:lnTo>
                    <a:pt x="220" y="50"/>
                  </a:lnTo>
                  <a:lnTo>
                    <a:pt x="189" y="25"/>
                  </a:lnTo>
                  <a:lnTo>
                    <a:pt x="157" y="0"/>
                  </a:lnTo>
                  <a:lnTo>
                    <a:pt x="126" y="15"/>
                  </a:lnTo>
                  <a:lnTo>
                    <a:pt x="94" y="31"/>
                  </a:lnTo>
                  <a:lnTo>
                    <a:pt x="63" y="47"/>
                  </a:lnTo>
                  <a:lnTo>
                    <a:pt x="31" y="63"/>
                  </a:lnTo>
                  <a:lnTo>
                    <a:pt x="0" y="2"/>
                  </a:lnTo>
                  <a:lnTo>
                    <a:pt x="0" y="205"/>
                  </a:lnTo>
                  <a:close/>
                </a:path>
              </a:pathLst>
            </a:custGeom>
            <a:solidFill>
              <a:srgbClr val="0000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8" name="Freeform 42"/>
            <p:cNvSpPr/>
            <p:nvPr/>
          </p:nvSpPr>
          <p:spPr>
            <a:xfrm>
              <a:off x="989280" y="2224080"/>
              <a:ext cx="4752720" cy="3042720"/>
            </a:xfrm>
            <a:custGeom>
              <a:avLst/>
              <a:gdLst>
                <a:gd name="textAreaLeft" fmla="*/ 0 w 4752720"/>
                <a:gd name="textAreaRight" fmla="*/ 4753080 w 4752720"/>
                <a:gd name="textAreaTop" fmla="*/ 0 h 3042720"/>
                <a:gd name="textAreaBottom" fmla="*/ 3043080 h 3042720"/>
              </a:gdLst>
              <a:ahLst/>
              <a:rect l="textAreaLeft" t="textAreaTop" r="textAreaRight" b="textAreaBottom"/>
              <a:pathLst>
                <a:path w="2994" h="1917">
                  <a:moveTo>
                    <a:pt x="0" y="205"/>
                  </a:moveTo>
                  <a:lnTo>
                    <a:pt x="31" y="232"/>
                  </a:lnTo>
                  <a:lnTo>
                    <a:pt x="63" y="295"/>
                  </a:lnTo>
                  <a:lnTo>
                    <a:pt x="94" y="357"/>
                  </a:lnTo>
                  <a:lnTo>
                    <a:pt x="126" y="419"/>
                  </a:lnTo>
                  <a:lnTo>
                    <a:pt x="157" y="481"/>
                  </a:lnTo>
                  <a:lnTo>
                    <a:pt x="189" y="507"/>
                  </a:lnTo>
                  <a:lnTo>
                    <a:pt x="220" y="533"/>
                  </a:lnTo>
                  <a:lnTo>
                    <a:pt x="252" y="573"/>
                  </a:lnTo>
                  <a:lnTo>
                    <a:pt x="283" y="621"/>
                  </a:lnTo>
                  <a:lnTo>
                    <a:pt x="315" y="670"/>
                  </a:lnTo>
                  <a:lnTo>
                    <a:pt x="346" y="731"/>
                  </a:lnTo>
                  <a:lnTo>
                    <a:pt x="378" y="796"/>
                  </a:lnTo>
                  <a:lnTo>
                    <a:pt x="409" y="862"/>
                  </a:lnTo>
                  <a:lnTo>
                    <a:pt x="441" y="928"/>
                  </a:lnTo>
                  <a:lnTo>
                    <a:pt x="472" y="994"/>
                  </a:lnTo>
                  <a:lnTo>
                    <a:pt x="504" y="1001"/>
                  </a:lnTo>
                  <a:lnTo>
                    <a:pt x="535" y="1007"/>
                  </a:lnTo>
                  <a:lnTo>
                    <a:pt x="567" y="1014"/>
                  </a:lnTo>
                  <a:lnTo>
                    <a:pt x="598" y="1047"/>
                  </a:lnTo>
                  <a:lnTo>
                    <a:pt x="630" y="1080"/>
                  </a:lnTo>
                  <a:lnTo>
                    <a:pt x="661" y="1114"/>
                  </a:lnTo>
                  <a:lnTo>
                    <a:pt x="693" y="1147"/>
                  </a:lnTo>
                  <a:lnTo>
                    <a:pt x="724" y="1181"/>
                  </a:lnTo>
                  <a:lnTo>
                    <a:pt x="756" y="1214"/>
                  </a:lnTo>
                  <a:lnTo>
                    <a:pt x="788" y="1247"/>
                  </a:lnTo>
                  <a:lnTo>
                    <a:pt x="819" y="1266"/>
                  </a:lnTo>
                  <a:lnTo>
                    <a:pt x="851" y="1284"/>
                  </a:lnTo>
                  <a:lnTo>
                    <a:pt x="882" y="1302"/>
                  </a:lnTo>
                  <a:lnTo>
                    <a:pt x="914" y="1320"/>
                  </a:lnTo>
                  <a:lnTo>
                    <a:pt x="945" y="1339"/>
                  </a:lnTo>
                  <a:lnTo>
                    <a:pt x="977" y="1357"/>
                  </a:lnTo>
                  <a:lnTo>
                    <a:pt x="1008" y="1375"/>
                  </a:lnTo>
                  <a:lnTo>
                    <a:pt x="1040" y="1393"/>
                  </a:lnTo>
                  <a:lnTo>
                    <a:pt x="1071" y="1411"/>
                  </a:lnTo>
                  <a:lnTo>
                    <a:pt x="1103" y="1430"/>
                  </a:lnTo>
                  <a:lnTo>
                    <a:pt x="1134" y="1453"/>
                  </a:lnTo>
                  <a:lnTo>
                    <a:pt x="1166" y="1475"/>
                  </a:lnTo>
                  <a:lnTo>
                    <a:pt x="1197" y="1498"/>
                  </a:lnTo>
                  <a:lnTo>
                    <a:pt x="1229" y="1521"/>
                  </a:lnTo>
                  <a:lnTo>
                    <a:pt x="1260" y="1544"/>
                  </a:lnTo>
                  <a:lnTo>
                    <a:pt x="1292" y="1567"/>
                  </a:lnTo>
                  <a:lnTo>
                    <a:pt x="1323" y="1590"/>
                  </a:lnTo>
                  <a:lnTo>
                    <a:pt x="1355" y="1613"/>
                  </a:lnTo>
                  <a:lnTo>
                    <a:pt x="1386" y="1636"/>
                  </a:lnTo>
                  <a:lnTo>
                    <a:pt x="1418" y="1659"/>
                  </a:lnTo>
                  <a:lnTo>
                    <a:pt x="1449" y="1665"/>
                  </a:lnTo>
                  <a:lnTo>
                    <a:pt x="1481" y="1671"/>
                  </a:lnTo>
                  <a:lnTo>
                    <a:pt x="1512" y="1677"/>
                  </a:lnTo>
                  <a:lnTo>
                    <a:pt x="1544" y="1683"/>
                  </a:lnTo>
                  <a:lnTo>
                    <a:pt x="1576" y="1689"/>
                  </a:lnTo>
                  <a:lnTo>
                    <a:pt x="1607" y="1695"/>
                  </a:lnTo>
                  <a:lnTo>
                    <a:pt x="1639" y="1701"/>
                  </a:lnTo>
                  <a:lnTo>
                    <a:pt x="1670" y="1707"/>
                  </a:lnTo>
                  <a:lnTo>
                    <a:pt x="1702" y="1713"/>
                  </a:lnTo>
                  <a:lnTo>
                    <a:pt x="1733" y="1719"/>
                  </a:lnTo>
                  <a:lnTo>
                    <a:pt x="1765" y="1725"/>
                  </a:lnTo>
                  <a:lnTo>
                    <a:pt x="1796" y="1730"/>
                  </a:lnTo>
                  <a:lnTo>
                    <a:pt x="1828" y="1736"/>
                  </a:lnTo>
                  <a:lnTo>
                    <a:pt x="1859" y="1742"/>
                  </a:lnTo>
                  <a:lnTo>
                    <a:pt x="1891" y="1747"/>
                  </a:lnTo>
                  <a:lnTo>
                    <a:pt x="1922" y="1753"/>
                  </a:lnTo>
                  <a:lnTo>
                    <a:pt x="1954" y="1759"/>
                  </a:lnTo>
                  <a:lnTo>
                    <a:pt x="1985" y="1764"/>
                  </a:lnTo>
                  <a:lnTo>
                    <a:pt x="2017" y="1770"/>
                  </a:lnTo>
                  <a:lnTo>
                    <a:pt x="2048" y="1775"/>
                  </a:lnTo>
                  <a:lnTo>
                    <a:pt x="2080" y="1781"/>
                  </a:lnTo>
                  <a:lnTo>
                    <a:pt x="2111" y="1786"/>
                  </a:lnTo>
                  <a:lnTo>
                    <a:pt x="2143" y="1791"/>
                  </a:lnTo>
                  <a:lnTo>
                    <a:pt x="2174" y="1796"/>
                  </a:lnTo>
                  <a:lnTo>
                    <a:pt x="2206" y="1801"/>
                  </a:lnTo>
                  <a:lnTo>
                    <a:pt x="2237" y="1807"/>
                  </a:lnTo>
                  <a:lnTo>
                    <a:pt x="2269" y="1812"/>
                  </a:lnTo>
                  <a:lnTo>
                    <a:pt x="2300" y="1817"/>
                  </a:lnTo>
                  <a:lnTo>
                    <a:pt x="2332" y="1822"/>
                  </a:lnTo>
                  <a:lnTo>
                    <a:pt x="2364" y="1827"/>
                  </a:lnTo>
                  <a:lnTo>
                    <a:pt x="2395" y="1832"/>
                  </a:lnTo>
                  <a:lnTo>
                    <a:pt x="2427" y="1837"/>
                  </a:lnTo>
                  <a:lnTo>
                    <a:pt x="2458" y="1842"/>
                  </a:lnTo>
                  <a:lnTo>
                    <a:pt x="2490" y="1846"/>
                  </a:lnTo>
                  <a:lnTo>
                    <a:pt x="2521" y="1851"/>
                  </a:lnTo>
                  <a:lnTo>
                    <a:pt x="2553" y="1856"/>
                  </a:lnTo>
                  <a:lnTo>
                    <a:pt x="2584" y="1861"/>
                  </a:lnTo>
                  <a:lnTo>
                    <a:pt x="2616" y="1865"/>
                  </a:lnTo>
                  <a:lnTo>
                    <a:pt x="2647" y="1870"/>
                  </a:lnTo>
                  <a:lnTo>
                    <a:pt x="2679" y="1875"/>
                  </a:lnTo>
                  <a:lnTo>
                    <a:pt x="2710" y="1879"/>
                  </a:lnTo>
                  <a:lnTo>
                    <a:pt x="2742" y="1883"/>
                  </a:lnTo>
                  <a:lnTo>
                    <a:pt x="2773" y="1887"/>
                  </a:lnTo>
                  <a:lnTo>
                    <a:pt x="2805" y="1892"/>
                  </a:lnTo>
                  <a:lnTo>
                    <a:pt x="2836" y="1896"/>
                  </a:lnTo>
                  <a:lnTo>
                    <a:pt x="2868" y="1900"/>
                  </a:lnTo>
                  <a:lnTo>
                    <a:pt x="2899" y="1904"/>
                  </a:lnTo>
                  <a:lnTo>
                    <a:pt x="2931" y="1908"/>
                  </a:lnTo>
                  <a:lnTo>
                    <a:pt x="2962" y="1912"/>
                  </a:lnTo>
                  <a:lnTo>
                    <a:pt x="2994" y="1917"/>
                  </a:lnTo>
                  <a:lnTo>
                    <a:pt x="2994" y="1586"/>
                  </a:lnTo>
                  <a:lnTo>
                    <a:pt x="2962" y="1578"/>
                  </a:lnTo>
                  <a:lnTo>
                    <a:pt x="2931" y="1569"/>
                  </a:lnTo>
                  <a:lnTo>
                    <a:pt x="2899" y="1560"/>
                  </a:lnTo>
                  <a:lnTo>
                    <a:pt x="2868" y="1551"/>
                  </a:lnTo>
                  <a:lnTo>
                    <a:pt x="2836" y="1542"/>
                  </a:lnTo>
                  <a:lnTo>
                    <a:pt x="2805" y="1533"/>
                  </a:lnTo>
                  <a:lnTo>
                    <a:pt x="2773" y="1524"/>
                  </a:lnTo>
                  <a:lnTo>
                    <a:pt x="2742" y="1515"/>
                  </a:lnTo>
                  <a:lnTo>
                    <a:pt x="2710" y="1506"/>
                  </a:lnTo>
                  <a:lnTo>
                    <a:pt x="2679" y="1497"/>
                  </a:lnTo>
                  <a:lnTo>
                    <a:pt x="2647" y="1488"/>
                  </a:lnTo>
                  <a:lnTo>
                    <a:pt x="2616" y="1480"/>
                  </a:lnTo>
                  <a:lnTo>
                    <a:pt x="2584" y="1471"/>
                  </a:lnTo>
                  <a:lnTo>
                    <a:pt x="2553" y="1462"/>
                  </a:lnTo>
                  <a:lnTo>
                    <a:pt x="2521" y="1453"/>
                  </a:lnTo>
                  <a:lnTo>
                    <a:pt x="2490" y="1444"/>
                  </a:lnTo>
                  <a:lnTo>
                    <a:pt x="2458" y="1435"/>
                  </a:lnTo>
                  <a:lnTo>
                    <a:pt x="2427" y="1427"/>
                  </a:lnTo>
                  <a:lnTo>
                    <a:pt x="2395" y="1418"/>
                  </a:lnTo>
                  <a:lnTo>
                    <a:pt x="2364" y="1409"/>
                  </a:lnTo>
                  <a:lnTo>
                    <a:pt x="2332" y="1399"/>
                  </a:lnTo>
                  <a:lnTo>
                    <a:pt x="2300" y="1389"/>
                  </a:lnTo>
                  <a:lnTo>
                    <a:pt x="2269" y="1379"/>
                  </a:lnTo>
                  <a:lnTo>
                    <a:pt x="2237" y="1368"/>
                  </a:lnTo>
                  <a:lnTo>
                    <a:pt x="2206" y="1358"/>
                  </a:lnTo>
                  <a:lnTo>
                    <a:pt x="2174" y="1348"/>
                  </a:lnTo>
                  <a:lnTo>
                    <a:pt x="2143" y="1338"/>
                  </a:lnTo>
                  <a:lnTo>
                    <a:pt x="2111" y="1328"/>
                  </a:lnTo>
                  <a:lnTo>
                    <a:pt x="2080" y="1318"/>
                  </a:lnTo>
                  <a:lnTo>
                    <a:pt x="2048" y="1308"/>
                  </a:lnTo>
                  <a:lnTo>
                    <a:pt x="2017" y="1300"/>
                  </a:lnTo>
                  <a:lnTo>
                    <a:pt x="1985" y="1292"/>
                  </a:lnTo>
                  <a:lnTo>
                    <a:pt x="1954" y="1284"/>
                  </a:lnTo>
                  <a:lnTo>
                    <a:pt x="1922" y="1276"/>
                  </a:lnTo>
                  <a:lnTo>
                    <a:pt x="1891" y="1268"/>
                  </a:lnTo>
                  <a:lnTo>
                    <a:pt x="1859" y="1260"/>
                  </a:lnTo>
                  <a:lnTo>
                    <a:pt x="1828" y="1252"/>
                  </a:lnTo>
                  <a:lnTo>
                    <a:pt x="1796" y="1244"/>
                  </a:lnTo>
                  <a:lnTo>
                    <a:pt x="1765" y="1236"/>
                  </a:lnTo>
                  <a:lnTo>
                    <a:pt x="1733" y="1228"/>
                  </a:lnTo>
                  <a:lnTo>
                    <a:pt x="1702" y="1221"/>
                  </a:lnTo>
                  <a:lnTo>
                    <a:pt x="1670" y="1215"/>
                  </a:lnTo>
                  <a:lnTo>
                    <a:pt x="1639" y="1208"/>
                  </a:lnTo>
                  <a:lnTo>
                    <a:pt x="1607" y="1202"/>
                  </a:lnTo>
                  <a:lnTo>
                    <a:pt x="1576" y="1195"/>
                  </a:lnTo>
                  <a:lnTo>
                    <a:pt x="1544" y="1189"/>
                  </a:lnTo>
                  <a:lnTo>
                    <a:pt x="1512" y="1182"/>
                  </a:lnTo>
                  <a:lnTo>
                    <a:pt x="1481" y="1176"/>
                  </a:lnTo>
                  <a:lnTo>
                    <a:pt x="1449" y="1169"/>
                  </a:lnTo>
                  <a:lnTo>
                    <a:pt x="1418" y="1163"/>
                  </a:lnTo>
                  <a:lnTo>
                    <a:pt x="1386" y="1140"/>
                  </a:lnTo>
                  <a:lnTo>
                    <a:pt x="1355" y="1116"/>
                  </a:lnTo>
                  <a:lnTo>
                    <a:pt x="1323" y="1093"/>
                  </a:lnTo>
                  <a:lnTo>
                    <a:pt x="1292" y="1070"/>
                  </a:lnTo>
                  <a:lnTo>
                    <a:pt x="1260" y="1047"/>
                  </a:lnTo>
                  <a:lnTo>
                    <a:pt x="1229" y="1023"/>
                  </a:lnTo>
                  <a:lnTo>
                    <a:pt x="1197" y="1000"/>
                  </a:lnTo>
                  <a:lnTo>
                    <a:pt x="1166" y="977"/>
                  </a:lnTo>
                  <a:lnTo>
                    <a:pt x="1134" y="954"/>
                  </a:lnTo>
                  <a:lnTo>
                    <a:pt x="1103" y="930"/>
                  </a:lnTo>
                  <a:lnTo>
                    <a:pt x="1071" y="913"/>
                  </a:lnTo>
                  <a:lnTo>
                    <a:pt x="1040" y="896"/>
                  </a:lnTo>
                  <a:lnTo>
                    <a:pt x="1008" y="879"/>
                  </a:lnTo>
                  <a:lnTo>
                    <a:pt x="977" y="862"/>
                  </a:lnTo>
                  <a:lnTo>
                    <a:pt x="945" y="845"/>
                  </a:lnTo>
                  <a:lnTo>
                    <a:pt x="914" y="828"/>
                  </a:lnTo>
                  <a:lnTo>
                    <a:pt x="882" y="811"/>
                  </a:lnTo>
                  <a:lnTo>
                    <a:pt x="851" y="794"/>
                  </a:lnTo>
                  <a:lnTo>
                    <a:pt x="819" y="777"/>
                  </a:lnTo>
                  <a:lnTo>
                    <a:pt x="788" y="760"/>
                  </a:lnTo>
                  <a:lnTo>
                    <a:pt x="756" y="737"/>
                  </a:lnTo>
                  <a:lnTo>
                    <a:pt x="724" y="714"/>
                  </a:lnTo>
                  <a:lnTo>
                    <a:pt x="693" y="691"/>
                  </a:lnTo>
                  <a:lnTo>
                    <a:pt x="661" y="669"/>
                  </a:lnTo>
                  <a:lnTo>
                    <a:pt x="630" y="646"/>
                  </a:lnTo>
                  <a:lnTo>
                    <a:pt x="598" y="623"/>
                  </a:lnTo>
                  <a:lnTo>
                    <a:pt x="567" y="600"/>
                  </a:lnTo>
                  <a:lnTo>
                    <a:pt x="535" y="577"/>
                  </a:lnTo>
                  <a:lnTo>
                    <a:pt x="504" y="550"/>
                  </a:lnTo>
                  <a:lnTo>
                    <a:pt x="472" y="495"/>
                  </a:lnTo>
                  <a:lnTo>
                    <a:pt x="441" y="447"/>
                  </a:lnTo>
                  <a:lnTo>
                    <a:pt x="409" y="398"/>
                  </a:lnTo>
                  <a:lnTo>
                    <a:pt x="378" y="350"/>
                  </a:lnTo>
                  <a:lnTo>
                    <a:pt x="346" y="301"/>
                  </a:lnTo>
                  <a:lnTo>
                    <a:pt x="315" y="252"/>
                  </a:lnTo>
                  <a:lnTo>
                    <a:pt x="283" y="204"/>
                  </a:lnTo>
                  <a:lnTo>
                    <a:pt x="252" y="155"/>
                  </a:lnTo>
                  <a:lnTo>
                    <a:pt x="220" y="107"/>
                  </a:lnTo>
                  <a:lnTo>
                    <a:pt x="189" y="58"/>
                  </a:lnTo>
                  <a:lnTo>
                    <a:pt x="157" y="10"/>
                  </a:lnTo>
                  <a:lnTo>
                    <a:pt x="126" y="25"/>
                  </a:lnTo>
                  <a:lnTo>
                    <a:pt x="94" y="39"/>
                  </a:lnTo>
                  <a:lnTo>
                    <a:pt x="63" y="54"/>
                  </a:lnTo>
                  <a:lnTo>
                    <a:pt x="31" y="69"/>
                  </a:lnTo>
                  <a:lnTo>
                    <a:pt x="0" y="0"/>
                  </a:lnTo>
                  <a:lnTo>
                    <a:pt x="0" y="205"/>
                  </a:lnTo>
                  <a:close/>
                </a:path>
              </a:pathLst>
            </a:custGeom>
            <a:solidFill>
              <a:srgbClr val="00b050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9" name="Freeform 43"/>
            <p:cNvSpPr/>
            <p:nvPr/>
          </p:nvSpPr>
          <p:spPr>
            <a:xfrm>
              <a:off x="5818320" y="4743360"/>
              <a:ext cx="1080" cy="523440"/>
            </a:xfrm>
            <a:custGeom>
              <a:avLst/>
              <a:gdLst>
                <a:gd name="textAreaLeft" fmla="*/ 0 w 1080"/>
                <a:gd name="textAreaRight" fmla="*/ 1440 w 1080"/>
                <a:gd name="textAreaTop" fmla="*/ 0 h 523440"/>
                <a:gd name="textAreaBottom" fmla="*/ 523800 h 523440"/>
              </a:gdLst>
              <a:ahLst/>
              <a:rect l="textAreaLeft" t="textAreaTop" r="textAreaRight" b="textAreaBottom"/>
              <a:pathLst>
                <a:path w="0" h="330">
                  <a:moveTo>
                    <a:pt x="0" y="330"/>
                  </a:moveTo>
                  <a:lnTo>
                    <a:pt x="0" y="0"/>
                  </a:lnTo>
                </a:path>
              </a:pathLst>
            </a:custGeom>
            <a:noFill/>
            <a:ln w="5080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0" name="Freeform 44"/>
            <p:cNvSpPr/>
            <p:nvPr/>
          </p:nvSpPr>
          <p:spPr>
            <a:xfrm>
              <a:off x="5888160" y="4202280"/>
              <a:ext cx="1080" cy="860040"/>
            </a:xfrm>
            <a:custGeom>
              <a:avLst/>
              <a:gdLst>
                <a:gd name="textAreaLeft" fmla="*/ 0 w 1080"/>
                <a:gd name="textAreaRight" fmla="*/ 1440 w 1080"/>
                <a:gd name="textAreaTop" fmla="*/ 0 h 860040"/>
                <a:gd name="textAreaBottom" fmla="*/ 860400 h 860040"/>
              </a:gdLst>
              <a:ahLst/>
              <a:rect l="textAreaLeft" t="textAreaTop" r="textAreaRight" b="textAreaBottom"/>
              <a:pathLst>
                <a:path w="0" h="541">
                  <a:moveTo>
                    <a:pt x="0" y="541"/>
                  </a:moveTo>
                  <a:lnTo>
                    <a:pt x="0" y="0"/>
                  </a:lnTo>
                </a:path>
              </a:pathLst>
            </a:custGeom>
            <a:noFill/>
            <a:ln w="508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1" name="Freeform 45"/>
            <p:cNvSpPr/>
            <p:nvPr/>
          </p:nvSpPr>
          <p:spPr>
            <a:xfrm>
              <a:off x="5958000" y="2620800"/>
              <a:ext cx="1080" cy="1315800"/>
            </a:xfrm>
            <a:custGeom>
              <a:avLst/>
              <a:gdLst>
                <a:gd name="textAreaLeft" fmla="*/ 0 w 1080"/>
                <a:gd name="textAreaRight" fmla="*/ 1440 w 1080"/>
                <a:gd name="textAreaTop" fmla="*/ 0 h 1315800"/>
                <a:gd name="textAreaBottom" fmla="*/ 1316160 h 1315800"/>
              </a:gdLst>
              <a:ahLst/>
              <a:rect l="textAreaLeft" t="textAreaTop" r="textAreaRight" b="textAreaBottom"/>
              <a:pathLst>
                <a:path w="0" h="829">
                  <a:moveTo>
                    <a:pt x="0" y="829"/>
                  </a:moveTo>
                  <a:lnTo>
                    <a:pt x="0" y="0"/>
                  </a:lnTo>
                </a:path>
              </a:pathLst>
            </a:custGeom>
            <a:noFill/>
            <a:ln w="50800">
              <a:solidFill>
                <a:srgbClr val="ff050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2" name="Freeform 46"/>
            <p:cNvSpPr/>
            <p:nvPr/>
          </p:nvSpPr>
          <p:spPr>
            <a:xfrm>
              <a:off x="6027840" y="4245120"/>
              <a:ext cx="1080" cy="483840"/>
            </a:xfrm>
            <a:custGeom>
              <a:avLst/>
              <a:gdLst>
                <a:gd name="textAreaLeft" fmla="*/ 0 w 1080"/>
                <a:gd name="textAreaRight" fmla="*/ 1440 w 1080"/>
                <a:gd name="textAreaTop" fmla="*/ 0 h 483840"/>
                <a:gd name="textAreaBottom" fmla="*/ 484200 h 483840"/>
              </a:gdLst>
              <a:ahLst/>
              <a:rect l="textAreaLeft" t="textAreaTop" r="textAreaRight" b="textAreaBottom"/>
              <a:pathLst>
                <a:path w="0" h="305">
                  <a:moveTo>
                    <a:pt x="0" y="305"/>
                  </a:moveTo>
                  <a:lnTo>
                    <a:pt x="0" y="0"/>
                  </a:lnTo>
                </a:path>
              </a:pathLst>
            </a:custGeom>
            <a:noFill/>
            <a:ln w="50800">
              <a:solidFill>
                <a:srgbClr val="f7964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3" name="Freeform 47"/>
            <p:cNvSpPr/>
            <p:nvPr/>
          </p:nvSpPr>
          <p:spPr>
            <a:xfrm>
              <a:off x="6097680" y="3960720"/>
              <a:ext cx="1080" cy="991800"/>
            </a:xfrm>
            <a:custGeom>
              <a:avLst/>
              <a:gdLst>
                <a:gd name="textAreaLeft" fmla="*/ 0 w 1080"/>
                <a:gd name="textAreaRight" fmla="*/ 1440 w 1080"/>
                <a:gd name="textAreaTop" fmla="*/ 0 h 991800"/>
                <a:gd name="textAreaBottom" fmla="*/ 992160 h 991800"/>
              </a:gdLst>
              <a:ahLst/>
              <a:rect l="textAreaLeft" t="textAreaTop" r="textAreaRight" b="textAreaBottom"/>
              <a:pathLst>
                <a:path w="0" h="624">
                  <a:moveTo>
                    <a:pt x="0" y="624"/>
                  </a:moveTo>
                  <a:lnTo>
                    <a:pt x="0" y="0"/>
                  </a:lnTo>
                </a:path>
              </a:pathLst>
            </a:custGeom>
            <a:noFill/>
            <a:ln w="50800">
              <a:solidFill>
                <a:srgbClr val="c032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4" name="Freeform 48"/>
            <p:cNvSpPr/>
            <p:nvPr/>
          </p:nvSpPr>
          <p:spPr>
            <a:xfrm>
              <a:off x="739800" y="5456160"/>
              <a:ext cx="5003280" cy="1080"/>
            </a:xfrm>
            <a:custGeom>
              <a:avLst/>
              <a:gdLst>
                <a:gd name="textAreaLeft" fmla="*/ 0 w 5003280"/>
                <a:gd name="textAreaRight" fmla="*/ 5003640 w 5003280"/>
                <a:gd name="textAreaTop" fmla="*/ 0 h 1080"/>
                <a:gd name="textAreaBottom" fmla="*/ 1440 h 1080"/>
              </a:gdLst>
              <a:ahLst/>
              <a:rect l="textAreaLeft" t="textAreaTop" r="textAreaRight" b="textAreaBottom"/>
              <a:pathLst>
                <a:path w="3152" h="0">
                  <a:moveTo>
                    <a:pt x="0" y="0"/>
                  </a:moveTo>
                  <a:lnTo>
                    <a:pt x="3152" y="0"/>
                  </a:lnTo>
                </a:path>
              </a:pathLst>
            </a:custGeom>
            <a:noFill/>
            <a:ln w="1905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5" name="Freeform 49"/>
            <p:cNvSpPr/>
            <p:nvPr/>
          </p:nvSpPr>
          <p:spPr>
            <a:xfrm>
              <a:off x="739800" y="2509920"/>
              <a:ext cx="5003280" cy="2379240"/>
            </a:xfrm>
            <a:custGeom>
              <a:avLst/>
              <a:gdLst>
                <a:gd name="textAreaLeft" fmla="*/ 0 w 5003280"/>
                <a:gd name="textAreaRight" fmla="*/ 5003640 w 5003280"/>
                <a:gd name="textAreaTop" fmla="*/ 0 h 2379240"/>
                <a:gd name="textAreaBottom" fmla="*/ 2379600 h 2379240"/>
              </a:gdLst>
              <a:ahLst/>
              <a:rect l="textAreaLeft" t="textAreaTop" r="textAreaRight" b="textAreaBottom"/>
              <a:pathLst>
                <a:path w="3152" h="1498">
                  <a:moveTo>
                    <a:pt x="0" y="13"/>
                  </a:moveTo>
                  <a:lnTo>
                    <a:pt x="157" y="0"/>
                  </a:lnTo>
                  <a:lnTo>
                    <a:pt x="315" y="17"/>
                  </a:lnTo>
                  <a:lnTo>
                    <a:pt x="630" y="229"/>
                  </a:lnTo>
                  <a:lnTo>
                    <a:pt x="945" y="487"/>
                  </a:lnTo>
                  <a:lnTo>
                    <a:pt x="1260" y="431"/>
                  </a:lnTo>
                  <a:lnTo>
                    <a:pt x="1576" y="583"/>
                  </a:lnTo>
                  <a:lnTo>
                    <a:pt x="1891" y="660"/>
                  </a:lnTo>
                  <a:lnTo>
                    <a:pt x="2206" y="1092"/>
                  </a:lnTo>
                  <a:lnTo>
                    <a:pt x="2521" y="1341"/>
                  </a:lnTo>
                  <a:lnTo>
                    <a:pt x="2836" y="1424"/>
                  </a:lnTo>
                  <a:lnTo>
                    <a:pt x="3152" y="1498"/>
                  </a:lnTo>
                </a:path>
              </a:pathLst>
            </a:custGeom>
            <a:noFill/>
            <a:ln w="25400">
              <a:solidFill>
                <a:srgbClr val="000000">
                  <a:lumMod val="65000"/>
                  <a:lumOff val="35000"/>
                </a:srgbClr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6" name="Freeform 50"/>
            <p:cNvSpPr/>
            <p:nvPr/>
          </p:nvSpPr>
          <p:spPr>
            <a:xfrm>
              <a:off x="739800" y="2297160"/>
              <a:ext cx="5003280" cy="2547720"/>
            </a:xfrm>
            <a:custGeom>
              <a:avLst/>
              <a:gdLst>
                <a:gd name="textAreaLeft" fmla="*/ 0 w 5003280"/>
                <a:gd name="textAreaRight" fmla="*/ 5003640 w 5003280"/>
                <a:gd name="textAreaTop" fmla="*/ 0 h 2547720"/>
                <a:gd name="textAreaBottom" fmla="*/ 2548080 h 2547720"/>
              </a:gdLst>
              <a:ahLst/>
              <a:rect l="textAreaLeft" t="textAreaTop" r="textAreaRight" b="textAreaBottom"/>
              <a:pathLst>
                <a:path w="3152" h="1605">
                  <a:moveTo>
                    <a:pt x="0" y="147"/>
                  </a:moveTo>
                  <a:lnTo>
                    <a:pt x="157" y="0"/>
                  </a:lnTo>
                  <a:lnTo>
                    <a:pt x="315" y="76"/>
                  </a:lnTo>
                  <a:lnTo>
                    <a:pt x="630" y="230"/>
                  </a:lnTo>
                  <a:lnTo>
                    <a:pt x="945" y="506"/>
                  </a:lnTo>
                  <a:lnTo>
                    <a:pt x="1260" y="799"/>
                  </a:lnTo>
                  <a:lnTo>
                    <a:pt x="1576" y="1111"/>
                  </a:lnTo>
                  <a:lnTo>
                    <a:pt x="1891" y="1281"/>
                  </a:lnTo>
                  <a:lnTo>
                    <a:pt x="2206" y="1429"/>
                  </a:lnTo>
                  <a:lnTo>
                    <a:pt x="2521" y="1554"/>
                  </a:lnTo>
                  <a:lnTo>
                    <a:pt x="2836" y="1579"/>
                  </a:lnTo>
                  <a:lnTo>
                    <a:pt x="3152" y="1605"/>
                  </a:lnTo>
                </a:path>
              </a:pathLst>
            </a:custGeom>
            <a:noFill/>
            <a:ln w="25400">
              <a:solidFill>
                <a:srgbClr val="000000">
                  <a:lumMod val="65000"/>
                  <a:lumOff val="35000"/>
                </a:srgbClr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7" name="Freeform 51"/>
            <p:cNvSpPr/>
            <p:nvPr/>
          </p:nvSpPr>
          <p:spPr>
            <a:xfrm>
              <a:off x="739800" y="2471760"/>
              <a:ext cx="5003280" cy="2633400"/>
            </a:xfrm>
            <a:custGeom>
              <a:avLst/>
              <a:gdLst>
                <a:gd name="textAreaLeft" fmla="*/ 0 w 5003280"/>
                <a:gd name="textAreaRight" fmla="*/ 5003640 w 5003280"/>
                <a:gd name="textAreaTop" fmla="*/ 0 h 2633400"/>
                <a:gd name="textAreaBottom" fmla="*/ 2633760 h 2633400"/>
              </a:gdLst>
              <a:ahLst/>
              <a:rect l="textAreaLeft" t="textAreaTop" r="textAreaRight" b="textAreaBottom"/>
              <a:pathLst>
                <a:path w="3152" h="1658">
                  <a:moveTo>
                    <a:pt x="0" y="41"/>
                  </a:moveTo>
                  <a:lnTo>
                    <a:pt x="157" y="0"/>
                  </a:lnTo>
                  <a:lnTo>
                    <a:pt x="315" y="34"/>
                  </a:lnTo>
                  <a:lnTo>
                    <a:pt x="630" y="415"/>
                  </a:lnTo>
                  <a:lnTo>
                    <a:pt x="945" y="891"/>
                  </a:lnTo>
                  <a:lnTo>
                    <a:pt x="1260" y="1207"/>
                  </a:lnTo>
                  <a:lnTo>
                    <a:pt x="1576" y="1346"/>
                  </a:lnTo>
                  <a:lnTo>
                    <a:pt x="1891" y="1410"/>
                  </a:lnTo>
                  <a:lnTo>
                    <a:pt x="2206" y="1473"/>
                  </a:lnTo>
                  <a:lnTo>
                    <a:pt x="2521" y="1545"/>
                  </a:lnTo>
                  <a:lnTo>
                    <a:pt x="2836" y="1611"/>
                  </a:lnTo>
                  <a:lnTo>
                    <a:pt x="3152" y="1658"/>
                  </a:lnTo>
                </a:path>
              </a:pathLst>
            </a:custGeom>
            <a:noFill/>
            <a:ln w="25400">
              <a:solidFill>
                <a:srgbClr val="000000">
                  <a:lumMod val="65000"/>
                  <a:lumOff val="35000"/>
                </a:srgbClr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8" name="Freeform 52"/>
            <p:cNvSpPr/>
            <p:nvPr/>
          </p:nvSpPr>
          <p:spPr>
            <a:xfrm>
              <a:off x="739800" y="2360520"/>
              <a:ext cx="5003280" cy="2396880"/>
            </a:xfrm>
            <a:custGeom>
              <a:avLst/>
              <a:gdLst>
                <a:gd name="textAreaLeft" fmla="*/ 0 w 5003280"/>
                <a:gd name="textAreaRight" fmla="*/ 5003640 w 5003280"/>
                <a:gd name="textAreaTop" fmla="*/ 0 h 2396880"/>
                <a:gd name="textAreaBottom" fmla="*/ 2397240 h 2396880"/>
              </a:gdLst>
              <a:ahLst/>
              <a:rect l="textAreaLeft" t="textAreaTop" r="textAreaRight" b="textAreaBottom"/>
              <a:pathLst>
                <a:path w="3152" h="1510">
                  <a:moveTo>
                    <a:pt x="0" y="108"/>
                  </a:moveTo>
                  <a:lnTo>
                    <a:pt x="157" y="0"/>
                  </a:lnTo>
                  <a:lnTo>
                    <a:pt x="315" y="213"/>
                  </a:lnTo>
                  <a:lnTo>
                    <a:pt x="630" y="306"/>
                  </a:lnTo>
                  <a:lnTo>
                    <a:pt x="945" y="490"/>
                  </a:lnTo>
                  <a:lnTo>
                    <a:pt x="1260" y="828"/>
                  </a:lnTo>
                  <a:lnTo>
                    <a:pt x="1576" y="1056"/>
                  </a:lnTo>
                  <a:lnTo>
                    <a:pt x="1891" y="1173"/>
                  </a:lnTo>
                  <a:lnTo>
                    <a:pt x="2206" y="1263"/>
                  </a:lnTo>
                  <a:lnTo>
                    <a:pt x="2521" y="1318"/>
                  </a:lnTo>
                  <a:lnTo>
                    <a:pt x="2836" y="1454"/>
                  </a:lnTo>
                  <a:lnTo>
                    <a:pt x="3152" y="1510"/>
                  </a:lnTo>
                </a:path>
              </a:pathLst>
            </a:custGeom>
            <a:noFill/>
            <a:ln w="25400">
              <a:solidFill>
                <a:srgbClr val="000000">
                  <a:lumMod val="65000"/>
                  <a:lumOff val="35000"/>
                </a:srgbClr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9" name="Freeform 53"/>
            <p:cNvSpPr/>
            <p:nvPr/>
          </p:nvSpPr>
          <p:spPr>
            <a:xfrm>
              <a:off x="989280" y="2239920"/>
              <a:ext cx="4752720" cy="2944440"/>
            </a:xfrm>
            <a:custGeom>
              <a:avLst/>
              <a:gdLst>
                <a:gd name="textAreaLeft" fmla="*/ 0 w 4752720"/>
                <a:gd name="textAreaRight" fmla="*/ 4753080 w 4752720"/>
                <a:gd name="textAreaTop" fmla="*/ 0 h 2944440"/>
                <a:gd name="textAreaBottom" fmla="*/ 2944800 h 2944440"/>
              </a:gdLst>
              <a:ahLst/>
              <a:rect l="textAreaLeft" t="textAreaTop" r="textAreaRight" b="textAreaBottom"/>
              <a:pathLst>
                <a:path w="2994" h="1855">
                  <a:moveTo>
                    <a:pt x="0" y="74"/>
                  </a:moveTo>
                  <a:lnTo>
                    <a:pt x="157" y="0"/>
                  </a:lnTo>
                  <a:lnTo>
                    <a:pt x="472" y="485"/>
                  </a:lnTo>
                  <a:lnTo>
                    <a:pt x="788" y="1029"/>
                  </a:lnTo>
                  <a:lnTo>
                    <a:pt x="1103" y="1121"/>
                  </a:lnTo>
                  <a:lnTo>
                    <a:pt x="1418" y="1251"/>
                  </a:lnTo>
                  <a:lnTo>
                    <a:pt x="1733" y="1393"/>
                  </a:lnTo>
                  <a:lnTo>
                    <a:pt x="2048" y="1534"/>
                  </a:lnTo>
                  <a:lnTo>
                    <a:pt x="2364" y="1669"/>
                  </a:lnTo>
                  <a:lnTo>
                    <a:pt x="2679" y="1786"/>
                  </a:lnTo>
                  <a:lnTo>
                    <a:pt x="2994" y="1855"/>
                  </a:lnTo>
                </a:path>
              </a:pathLst>
            </a:custGeom>
            <a:noFill/>
            <a:ln w="50800">
              <a:solidFill>
                <a:srgbClr val="00b050"/>
              </a:solidFill>
              <a:round/>
            </a:ln>
            <a:effectLst>
              <a:outerShdw algn="ctr" dir="2700000" dist="35638" rotWithShape="0">
                <a:schemeClr val="bg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0" name="Freeform 54"/>
            <p:cNvSpPr/>
            <p:nvPr/>
          </p:nvSpPr>
          <p:spPr>
            <a:xfrm>
              <a:off x="989280" y="2546280"/>
              <a:ext cx="4752720" cy="1655280"/>
            </a:xfrm>
            <a:custGeom>
              <a:avLst/>
              <a:gdLst>
                <a:gd name="textAreaLeft" fmla="*/ 0 w 4752720"/>
                <a:gd name="textAreaRight" fmla="*/ 4753080 w 4752720"/>
                <a:gd name="textAreaTop" fmla="*/ 0 h 1655280"/>
                <a:gd name="textAreaBottom" fmla="*/ 1655640 h 1655280"/>
              </a:gdLst>
              <a:ahLst/>
              <a:rect l="textAreaLeft" t="textAreaTop" r="textAreaRight" b="textAreaBottom"/>
              <a:pathLst>
                <a:path w="2994" h="1043">
                  <a:moveTo>
                    <a:pt x="0" y="0"/>
                  </a:moveTo>
                  <a:lnTo>
                    <a:pt x="157" y="143"/>
                  </a:lnTo>
                  <a:lnTo>
                    <a:pt x="472" y="448"/>
                  </a:lnTo>
                  <a:lnTo>
                    <a:pt x="788" y="439"/>
                  </a:lnTo>
                  <a:lnTo>
                    <a:pt x="1103" y="629"/>
                  </a:lnTo>
                  <a:lnTo>
                    <a:pt x="1418" y="732"/>
                  </a:lnTo>
                  <a:lnTo>
                    <a:pt x="1733" y="785"/>
                  </a:lnTo>
                  <a:lnTo>
                    <a:pt x="2048" y="845"/>
                  </a:lnTo>
                  <a:lnTo>
                    <a:pt x="2364" y="917"/>
                  </a:lnTo>
                  <a:lnTo>
                    <a:pt x="2679" y="977"/>
                  </a:lnTo>
                  <a:lnTo>
                    <a:pt x="2994" y="1043"/>
                  </a:lnTo>
                </a:path>
              </a:pathLst>
            </a:custGeom>
            <a:noFill/>
            <a:ln w="50800">
              <a:solidFill>
                <a:srgbClr val="0000ff"/>
              </a:solidFill>
              <a:round/>
            </a:ln>
            <a:effectLst>
              <a:outerShdw algn="bl" blurRad="50760" dir="18900000" dist="37674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1" name="Freeform 55"/>
            <p:cNvSpPr/>
            <p:nvPr/>
          </p:nvSpPr>
          <p:spPr>
            <a:xfrm>
              <a:off x="989280" y="2171880"/>
              <a:ext cx="4752720" cy="448920"/>
            </a:xfrm>
            <a:custGeom>
              <a:avLst/>
              <a:gdLst>
                <a:gd name="textAreaLeft" fmla="*/ 0 w 4752720"/>
                <a:gd name="textAreaRight" fmla="*/ 4753080 w 4752720"/>
                <a:gd name="textAreaTop" fmla="*/ 0 h 448920"/>
                <a:gd name="textAreaBottom" fmla="*/ 449280 h 448920"/>
              </a:gdLst>
              <a:ahLst/>
              <a:rect l="textAreaLeft" t="textAreaTop" r="textAreaRight" b="textAreaBottom"/>
              <a:pathLst>
                <a:path w="2994" h="283">
                  <a:moveTo>
                    <a:pt x="0" y="33"/>
                  </a:moveTo>
                  <a:lnTo>
                    <a:pt x="157" y="279"/>
                  </a:lnTo>
                  <a:lnTo>
                    <a:pt x="472" y="95"/>
                  </a:lnTo>
                  <a:lnTo>
                    <a:pt x="788" y="22"/>
                  </a:lnTo>
                  <a:lnTo>
                    <a:pt x="1103" y="8"/>
                  </a:lnTo>
                  <a:lnTo>
                    <a:pt x="1418" y="0"/>
                  </a:lnTo>
                  <a:lnTo>
                    <a:pt x="1733" y="33"/>
                  </a:lnTo>
                  <a:lnTo>
                    <a:pt x="2048" y="54"/>
                  </a:lnTo>
                  <a:lnTo>
                    <a:pt x="2364" y="96"/>
                  </a:lnTo>
                  <a:lnTo>
                    <a:pt x="2679" y="196"/>
                  </a:lnTo>
                  <a:lnTo>
                    <a:pt x="2994" y="283"/>
                  </a:lnTo>
                </a:path>
              </a:pathLst>
            </a:custGeom>
            <a:noFill/>
            <a:ln w="50800">
              <a:solidFill>
                <a:srgbClr val="ff0505"/>
              </a:solidFill>
              <a:round/>
            </a:ln>
            <a:effectLst>
              <a:outerShdw blurRad="50760" dir="16200000" dist="3816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2" name="Freeform 56"/>
            <p:cNvSpPr/>
            <p:nvPr/>
          </p:nvSpPr>
          <p:spPr>
            <a:xfrm>
              <a:off x="989280" y="2346480"/>
              <a:ext cx="4752720" cy="1898280"/>
            </a:xfrm>
            <a:custGeom>
              <a:avLst/>
              <a:gdLst>
                <a:gd name="textAreaLeft" fmla="*/ 0 w 4752720"/>
                <a:gd name="textAreaRight" fmla="*/ 4753080 w 4752720"/>
                <a:gd name="textAreaTop" fmla="*/ 0 h 1898280"/>
                <a:gd name="textAreaBottom" fmla="*/ 1898640 h 1898280"/>
              </a:gdLst>
              <a:ahLst/>
              <a:rect l="textAreaLeft" t="textAreaTop" r="textAreaRight" b="textAreaBottom"/>
              <a:pathLst>
                <a:path w="2994" h="1195">
                  <a:moveTo>
                    <a:pt x="0" y="0"/>
                  </a:moveTo>
                  <a:lnTo>
                    <a:pt x="157" y="237"/>
                  </a:lnTo>
                  <a:lnTo>
                    <a:pt x="472" y="247"/>
                  </a:lnTo>
                  <a:lnTo>
                    <a:pt x="788" y="292"/>
                  </a:lnTo>
                  <a:lnTo>
                    <a:pt x="1103" y="366"/>
                  </a:lnTo>
                  <a:lnTo>
                    <a:pt x="1418" y="487"/>
                  </a:lnTo>
                  <a:lnTo>
                    <a:pt x="1733" y="605"/>
                  </a:lnTo>
                  <a:lnTo>
                    <a:pt x="2048" y="744"/>
                  </a:lnTo>
                  <a:lnTo>
                    <a:pt x="2364" y="939"/>
                  </a:lnTo>
                  <a:lnTo>
                    <a:pt x="2679" y="1074"/>
                  </a:lnTo>
                  <a:lnTo>
                    <a:pt x="2994" y="1195"/>
                  </a:lnTo>
                </a:path>
              </a:pathLst>
            </a:custGeom>
            <a:noFill/>
            <a:ln w="50800">
              <a:solidFill>
                <a:srgbClr val="f79646"/>
              </a:solidFill>
              <a:round/>
            </a:ln>
            <a:effectLst>
              <a:outerShdw algn="ctr" dir="2700000" dist="35638" rotWithShape="0">
                <a:schemeClr val="bg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3" name="Freeform 57"/>
            <p:cNvSpPr/>
            <p:nvPr/>
          </p:nvSpPr>
          <p:spPr>
            <a:xfrm>
              <a:off x="989280" y="2327400"/>
              <a:ext cx="4752720" cy="2625480"/>
            </a:xfrm>
            <a:custGeom>
              <a:avLst/>
              <a:gdLst>
                <a:gd name="textAreaLeft" fmla="*/ 0 w 4752720"/>
                <a:gd name="textAreaRight" fmla="*/ 4753080 w 4752720"/>
                <a:gd name="textAreaTop" fmla="*/ 0 h 2625480"/>
                <a:gd name="textAreaBottom" fmla="*/ 2625840 h 2625480"/>
              </a:gdLst>
              <a:ahLst/>
              <a:rect l="textAreaLeft" t="textAreaTop" r="textAreaRight" b="textAreaBottom"/>
              <a:pathLst>
                <a:path w="2994" h="1653">
                  <a:moveTo>
                    <a:pt x="0" y="0"/>
                  </a:moveTo>
                  <a:lnTo>
                    <a:pt x="157" y="363"/>
                  </a:lnTo>
                  <a:lnTo>
                    <a:pt x="472" y="611"/>
                  </a:lnTo>
                  <a:lnTo>
                    <a:pt x="788" y="885"/>
                  </a:lnTo>
                  <a:lnTo>
                    <a:pt x="1103" y="1039"/>
                  </a:lnTo>
                  <a:lnTo>
                    <a:pt x="1418" y="1243"/>
                  </a:lnTo>
                  <a:lnTo>
                    <a:pt x="1733" y="1349"/>
                  </a:lnTo>
                  <a:lnTo>
                    <a:pt x="2048" y="1428"/>
                  </a:lnTo>
                  <a:lnTo>
                    <a:pt x="2364" y="1493"/>
                  </a:lnTo>
                  <a:lnTo>
                    <a:pt x="2679" y="1558"/>
                  </a:lnTo>
                  <a:lnTo>
                    <a:pt x="2994" y="1653"/>
                  </a:lnTo>
                </a:path>
              </a:pathLst>
            </a:custGeom>
            <a:noFill/>
            <a:ln w="50800">
              <a:solidFill>
                <a:srgbClr val="c032c0"/>
              </a:solidFill>
              <a:round/>
            </a:ln>
            <a:effectLst>
              <a:outerShdw algn="ctr" dir="2700000" dist="35638" rotWithShape="0">
                <a:schemeClr val="bg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64" name="Text Box 91"/>
          <p:cNvSpPr/>
          <p:nvPr/>
        </p:nvSpPr>
        <p:spPr>
          <a:xfrm>
            <a:off x="6219360" y="5135040"/>
            <a:ext cx="5878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b050"/>
                </a:solidFill>
                <a:latin typeface="Dialog"/>
              </a:rPr>
              <a:t>SSP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Text Box 93"/>
          <p:cNvSpPr/>
          <p:nvPr/>
        </p:nvSpPr>
        <p:spPr>
          <a:xfrm>
            <a:off x="6238440" y="3991680"/>
            <a:ext cx="5878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33cc"/>
                </a:solidFill>
                <a:latin typeface="Dialog"/>
              </a:rPr>
              <a:t>SSP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Text Box 95"/>
          <p:cNvSpPr/>
          <p:nvPr/>
        </p:nvSpPr>
        <p:spPr>
          <a:xfrm>
            <a:off x="6202080" y="2624040"/>
            <a:ext cx="5878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0000"/>
                </a:solidFill>
                <a:latin typeface="Dialog"/>
              </a:rPr>
              <a:t>SSP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Text Box 97"/>
          <p:cNvSpPr/>
          <p:nvPr/>
        </p:nvSpPr>
        <p:spPr>
          <a:xfrm>
            <a:off x="6238440" y="4248360"/>
            <a:ext cx="5878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e79b03"/>
                </a:solidFill>
                <a:latin typeface="Dialog"/>
              </a:rPr>
              <a:t>SSP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Text Box 99"/>
          <p:cNvSpPr/>
          <p:nvPr/>
        </p:nvSpPr>
        <p:spPr>
          <a:xfrm>
            <a:off x="6202080" y="4882320"/>
            <a:ext cx="5878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cc00cc"/>
                </a:solidFill>
                <a:latin typeface="Dialog"/>
              </a:rPr>
              <a:t>SSP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Text Box 2"/>
          <p:cNvSpPr/>
          <p:nvPr/>
        </p:nvSpPr>
        <p:spPr>
          <a:xfrm>
            <a:off x="-12600" y="-14400"/>
            <a:ext cx="777204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chemeClr val="accent1"/>
                </a:solidFill>
                <a:latin typeface="Arial"/>
              </a:rPr>
              <a:t>World Sulfur Emiss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0" name="Straight Connector 72"/>
          <p:cNvCxnSpPr/>
          <p:nvPr/>
        </p:nvCxnSpPr>
        <p:spPr>
          <a:xfrm>
            <a:off x="992880" y="1780200"/>
            <a:ext cx="775800" cy="360"/>
          </a:xfrm>
          <a:prstGeom prst="straightConnector1">
            <a:avLst/>
          </a:prstGeom>
          <a:ln w="25400">
            <a:solidFill>
              <a:srgbClr val="000000">
                <a:lumMod val="65000"/>
                <a:lumOff val="35000"/>
              </a:srgbClr>
            </a:solidFill>
            <a:prstDash val="sysDash"/>
            <a:round/>
          </a:ln>
        </p:spPr>
      </p:cxnSp>
      <p:sp>
        <p:nvSpPr>
          <p:cNvPr id="871" name="TextBox 73"/>
          <p:cNvSpPr/>
          <p:nvPr/>
        </p:nvSpPr>
        <p:spPr>
          <a:xfrm>
            <a:off x="1815840" y="1602720"/>
            <a:ext cx="52992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RC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Rectangle 74"/>
          <p:cNvSpPr/>
          <p:nvPr/>
        </p:nvSpPr>
        <p:spPr>
          <a:xfrm>
            <a:off x="1164600" y="1391400"/>
            <a:ext cx="495000" cy="177480"/>
          </a:xfrm>
          <a:prstGeom prst="rect">
            <a:avLst/>
          </a:prstGeom>
          <a:solidFill>
            <a:schemeClr val="tx1">
              <a:alpha val="25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Freeform 90"/>
          <p:cNvSpPr/>
          <p:nvPr/>
        </p:nvSpPr>
        <p:spPr>
          <a:xfrm>
            <a:off x="1006560" y="1472760"/>
            <a:ext cx="822600" cy="360"/>
          </a:xfrm>
          <a:custGeom>
            <a:avLst/>
            <a:gdLst>
              <a:gd name="textAreaLeft" fmla="*/ 0 w 822600"/>
              <a:gd name="textAreaRight" fmla="*/ 822960 w 822600"/>
              <a:gd name="textAreaTop" fmla="*/ 0 h 360"/>
              <a:gd name="textAreaBottom" fmla="*/ 720 h 360"/>
            </a:gdLst>
            <a:ahLst/>
            <a:rect l="textAreaLeft" t="textAreaTop" r="textAreaRight" b="textAreaBottom"/>
            <a:pathLst>
              <a:path w="256" h="0">
                <a:moveTo>
                  <a:pt x="0" y="0"/>
                </a:moveTo>
                <a:lnTo>
                  <a:pt x="256" y="0"/>
                </a:lnTo>
              </a:path>
            </a:pathLst>
          </a:custGeom>
          <a:noFill/>
          <a:ln w="381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280" bIns="-4428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TextBox 76"/>
          <p:cNvSpPr/>
          <p:nvPr/>
        </p:nvSpPr>
        <p:spPr>
          <a:xfrm>
            <a:off x="1009440" y="1150920"/>
            <a:ext cx="82116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AM r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TextBox 77"/>
          <p:cNvSpPr/>
          <p:nvPr/>
        </p:nvSpPr>
        <p:spPr>
          <a:xfrm>
            <a:off x="1860120" y="1301040"/>
            <a:ext cx="99180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SP mark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TextBox 66"/>
          <p:cNvSpPr/>
          <p:nvPr/>
        </p:nvSpPr>
        <p:spPr>
          <a:xfrm>
            <a:off x="6951240" y="1082160"/>
            <a:ext cx="2074320" cy="521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IAM teams translate these into scenarios of future emissions based on gridded historical emiss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Coordinated effort to create concentration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320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 type="dt" idx="16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nl-NL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EB92DABE-3D50-4332-8D62-8E8E16F4AC61}" type="datetime3">
              <a:rPr b="0" lang="nl-NL" sz="1000" spc="-1" strike="noStrike">
                <a:solidFill>
                  <a:srgbClr val="ffffff"/>
                </a:solidFill>
                <a:latin typeface="Verdana"/>
              </a:rPr>
              <a:t>30 juli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 type="sldNum" idx="17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nl-NL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F76CE18-6D31-4661-8E69-FF9F36B2B6EF}" type="slidenum">
              <a:rPr b="0" lang="nl-NL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4"/>
          <p:cNvSpPr/>
          <p:nvPr/>
        </p:nvSpPr>
        <p:spPr>
          <a:xfrm>
            <a:off x="103320" y="2615040"/>
            <a:ext cx="5222520" cy="639360"/>
          </a:xfrm>
          <a:prstGeom prst="rect">
            <a:avLst/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nl-NL" sz="1500" spc="-1" strike="noStrike">
                <a:solidFill>
                  <a:schemeClr val="lt1"/>
                </a:solidFill>
                <a:latin typeface="Calibri"/>
              </a:rPr>
              <a:t>IAM teams : quantified scenario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Rectangle 14"/>
          <p:cNvSpPr/>
          <p:nvPr/>
        </p:nvSpPr>
        <p:spPr>
          <a:xfrm>
            <a:off x="2023200" y="3485520"/>
            <a:ext cx="3309480" cy="639360"/>
          </a:xfrm>
          <a:prstGeom prst="rect">
            <a:avLst/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nl-NL" sz="1500" spc="-1" strike="noStrike">
                <a:solidFill>
                  <a:schemeClr val="lt1"/>
                </a:solidFill>
                <a:latin typeface="Calibri"/>
              </a:rPr>
              <a:t>ScenarioMIP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2" name="Straight Connector 19"/>
          <p:cNvCxnSpPr/>
          <p:nvPr/>
        </p:nvCxnSpPr>
        <p:spPr>
          <a:xfrm>
            <a:off x="158400" y="1135440"/>
            <a:ext cx="8787240" cy="360"/>
          </a:xfrm>
          <a:prstGeom prst="straightConnector1">
            <a:avLst/>
          </a:prstGeom>
          <a:ln w="76200">
            <a:solidFill>
              <a:srgbClr val="4a7ebb"/>
            </a:solidFill>
            <a:round/>
            <a:tailEnd len="med" type="arrow" w="med"/>
          </a:ln>
        </p:spPr>
      </p:cxnSp>
      <p:sp>
        <p:nvSpPr>
          <p:cNvPr id="883" name="TextBox 20"/>
          <p:cNvSpPr/>
          <p:nvPr/>
        </p:nvSpPr>
        <p:spPr>
          <a:xfrm>
            <a:off x="34560" y="1180080"/>
            <a:ext cx="7052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TextBox 21"/>
          <p:cNvSpPr/>
          <p:nvPr/>
        </p:nvSpPr>
        <p:spPr>
          <a:xfrm>
            <a:off x="1333440" y="1171440"/>
            <a:ext cx="7052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20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TextBox 22"/>
          <p:cNvSpPr/>
          <p:nvPr/>
        </p:nvSpPr>
        <p:spPr>
          <a:xfrm>
            <a:off x="2752200" y="1194120"/>
            <a:ext cx="7052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20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TextBox 23"/>
          <p:cNvSpPr/>
          <p:nvPr/>
        </p:nvSpPr>
        <p:spPr>
          <a:xfrm>
            <a:off x="4185000" y="1233360"/>
            <a:ext cx="7052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20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Rectangle 15"/>
          <p:cNvSpPr/>
          <p:nvPr/>
        </p:nvSpPr>
        <p:spPr>
          <a:xfrm>
            <a:off x="5577840" y="3478680"/>
            <a:ext cx="1620360" cy="639360"/>
          </a:xfrm>
          <a:prstGeom prst="rect">
            <a:avLst/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nl-NL" sz="1500" spc="-1" strike="noStrike">
                <a:solidFill>
                  <a:schemeClr val="lt1"/>
                </a:solidFill>
                <a:latin typeface="Calibri"/>
              </a:rPr>
              <a:t>Harmonised land us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8" name="Straight Arrow Connector 53"/>
          <p:cNvCxnSpPr/>
          <p:nvPr/>
        </p:nvCxnSpPr>
        <p:spPr>
          <a:xfrm>
            <a:off x="7203240" y="-1018440"/>
            <a:ext cx="360" cy="1063800"/>
          </a:xfrm>
          <a:prstGeom prst="straightConnector1">
            <a:avLst/>
          </a:prstGeom>
          <a:ln>
            <a:solidFill>
              <a:srgbClr val="4a7ebb"/>
            </a:solidFill>
            <a:round/>
            <a:tailEnd len="med" type="arrow" w="med"/>
          </a:ln>
        </p:spPr>
      </p:cxnSp>
      <p:pic>
        <p:nvPicPr>
          <p:cNvPr id="889" name="Picture 2" descr="Climatic Change"/>
          <p:cNvPicPr/>
          <p:nvPr/>
        </p:nvPicPr>
        <p:blipFill>
          <a:blip r:embed="rId1"/>
          <a:stretch/>
        </p:blipFill>
        <p:spPr>
          <a:xfrm>
            <a:off x="3147840" y="5638680"/>
            <a:ext cx="808560" cy="1214280"/>
          </a:xfrm>
          <a:prstGeom prst="rect">
            <a:avLst/>
          </a:prstGeom>
          <a:ln w="0">
            <a:noFill/>
          </a:ln>
        </p:spPr>
      </p:pic>
      <p:sp>
        <p:nvSpPr>
          <p:cNvPr id="890" name="TextBox 62"/>
          <p:cNvSpPr/>
          <p:nvPr/>
        </p:nvSpPr>
        <p:spPr>
          <a:xfrm>
            <a:off x="100440" y="6949800"/>
            <a:ext cx="9324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Spe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Rectangle 94"/>
          <p:cNvSpPr/>
          <p:nvPr/>
        </p:nvSpPr>
        <p:spPr>
          <a:xfrm>
            <a:off x="2023200" y="4246920"/>
            <a:ext cx="3295440" cy="573120"/>
          </a:xfrm>
          <a:prstGeom prst="rect">
            <a:avLst/>
          </a:prstGeom>
          <a:noFill/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nl-NL" sz="1500" spc="-1" strike="noStrike">
                <a:solidFill>
                  <a:srgbClr val="000000"/>
                </a:solidFill>
                <a:latin typeface="Calibri"/>
              </a:rPr>
              <a:t>Historica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nl-NL" sz="1500" spc="-1" strike="noStrike">
                <a:solidFill>
                  <a:srgbClr val="000000"/>
                </a:solidFill>
                <a:latin typeface="Calibri"/>
              </a:rPr>
              <a:t>dat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2" name="Picture 4" descr="Global Environmental Change"/>
          <p:cNvPicPr/>
          <p:nvPr/>
        </p:nvPicPr>
        <p:blipFill>
          <a:blip r:embed="rId2"/>
          <a:stretch/>
        </p:blipFill>
        <p:spPr>
          <a:xfrm>
            <a:off x="4680720" y="5638680"/>
            <a:ext cx="831600" cy="1130040"/>
          </a:xfrm>
          <a:prstGeom prst="rect">
            <a:avLst/>
          </a:prstGeom>
          <a:ln w="0">
            <a:noFill/>
          </a:ln>
        </p:spPr>
      </p:pic>
      <p:sp>
        <p:nvSpPr>
          <p:cNvPr id="893" name="Rectangle 56"/>
          <p:cNvSpPr/>
          <p:nvPr/>
        </p:nvSpPr>
        <p:spPr>
          <a:xfrm>
            <a:off x="113040" y="1794960"/>
            <a:ext cx="2975760" cy="649080"/>
          </a:xfrm>
          <a:prstGeom prst="rect">
            <a:avLst/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nl-NL" sz="1500" spc="-1" strike="noStrike">
                <a:solidFill>
                  <a:schemeClr val="lt1"/>
                </a:solidFill>
                <a:latin typeface="Calibri"/>
              </a:rPr>
              <a:t>WG1, WG2, WG3 representatives: design of assessment schem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Rectangle 58"/>
          <p:cNvSpPr/>
          <p:nvPr/>
        </p:nvSpPr>
        <p:spPr>
          <a:xfrm>
            <a:off x="5577840" y="4271040"/>
            <a:ext cx="1620360" cy="639360"/>
          </a:xfrm>
          <a:prstGeom prst="rect">
            <a:avLst/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nl-NL" sz="1500" spc="-1" strike="noStrike">
                <a:solidFill>
                  <a:schemeClr val="lt1"/>
                </a:solidFill>
                <a:latin typeface="Calibri"/>
              </a:rPr>
              <a:t>Harmonised emission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Rectangle 60"/>
          <p:cNvSpPr/>
          <p:nvPr/>
        </p:nvSpPr>
        <p:spPr>
          <a:xfrm>
            <a:off x="5580000" y="5139000"/>
            <a:ext cx="1620360" cy="639360"/>
          </a:xfrm>
          <a:prstGeom prst="rect">
            <a:avLst/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nl-NL" sz="1500" spc="-1" strike="noStrike">
                <a:solidFill>
                  <a:schemeClr val="lt1"/>
                </a:solidFill>
                <a:latin typeface="Calibri"/>
              </a:rPr>
              <a:t>Atm. Chemistry run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Rectangle 1"/>
          <p:cNvSpPr/>
          <p:nvPr/>
        </p:nvSpPr>
        <p:spPr>
          <a:xfrm>
            <a:off x="4150440" y="1961640"/>
            <a:ext cx="401400" cy="3497040"/>
          </a:xfrm>
          <a:prstGeom prst="rect">
            <a:avLst/>
          </a:prstGeom>
          <a:solidFill>
            <a:schemeClr val="bg2"/>
          </a:solidFill>
          <a:ln>
            <a:solidFill>
              <a:srgbClr val="4a7ebb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PC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M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Rectangle 61"/>
          <p:cNvSpPr/>
          <p:nvPr/>
        </p:nvSpPr>
        <p:spPr>
          <a:xfrm>
            <a:off x="5577840" y="5910120"/>
            <a:ext cx="1620360" cy="639360"/>
          </a:xfrm>
          <a:prstGeom prst="rect">
            <a:avLst/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nl-NL" sz="1500" spc="-1" strike="noStrike">
                <a:solidFill>
                  <a:schemeClr val="lt1"/>
                </a:solidFill>
                <a:latin typeface="Calibri"/>
              </a:rPr>
              <a:t>Extension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TextBox 2"/>
          <p:cNvSpPr/>
          <p:nvPr/>
        </p:nvSpPr>
        <p:spPr>
          <a:xfrm>
            <a:off x="4824720" y="2245680"/>
            <a:ext cx="12934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March 20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Rectangle 62"/>
          <p:cNvSpPr/>
          <p:nvPr/>
        </p:nvSpPr>
        <p:spPr>
          <a:xfrm>
            <a:off x="5319000" y="2615040"/>
            <a:ext cx="1275480" cy="639360"/>
          </a:xfrm>
          <a:prstGeom prst="rect">
            <a:avLst/>
          </a:prstGeom>
          <a:solidFill>
            <a:schemeClr val="accent1">
              <a:lumMod val="60000"/>
              <a:lumOff val="40000"/>
            </a:schemeClr>
          </a:solidFill>
          <a:ln>
            <a:solidFill>
              <a:srgbClr val="3a5f8b"/>
            </a:solidFill>
            <a:prstDash val="sysDot"/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nl-NL" sz="1500" spc="-1" strike="noStrike">
                <a:solidFill>
                  <a:schemeClr val="lt1"/>
                </a:solidFill>
                <a:latin typeface="Calibri"/>
              </a:rPr>
              <a:t>2.0W/m2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nl-NL" sz="1500" spc="-1" strike="noStrike">
                <a:solidFill>
                  <a:schemeClr val="lt1"/>
                </a:solidFill>
                <a:latin typeface="Calibri"/>
              </a:rPr>
              <a:t>Overshoo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TextBox 23"/>
          <p:cNvSpPr/>
          <p:nvPr/>
        </p:nvSpPr>
        <p:spPr>
          <a:xfrm>
            <a:off x="5547240" y="1232280"/>
            <a:ext cx="7052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20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Rectangle 64"/>
          <p:cNvSpPr/>
          <p:nvPr/>
        </p:nvSpPr>
        <p:spPr>
          <a:xfrm>
            <a:off x="7489080" y="2615040"/>
            <a:ext cx="1654560" cy="639360"/>
          </a:xfrm>
          <a:prstGeom prst="rect">
            <a:avLst/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nl-NL" sz="1500" spc="-1" strike="noStrike">
                <a:solidFill>
                  <a:schemeClr val="lt1"/>
                </a:solidFill>
                <a:latin typeface="Calibri"/>
              </a:rPr>
              <a:t>ScenarioMIP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nl-NL" sz="1500" spc="-1" strike="noStrike">
                <a:solidFill>
                  <a:schemeClr val="lt1"/>
                </a:solidFill>
                <a:latin typeface="Calibri"/>
              </a:rPr>
              <a:t>run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TextBox 23"/>
          <p:cNvSpPr/>
          <p:nvPr/>
        </p:nvSpPr>
        <p:spPr>
          <a:xfrm>
            <a:off x="7304760" y="1232280"/>
            <a:ext cx="7052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20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Right Brace 3"/>
          <p:cNvSpPr/>
          <p:nvPr/>
        </p:nvSpPr>
        <p:spPr>
          <a:xfrm>
            <a:off x="7198560" y="2430360"/>
            <a:ext cx="290160" cy="4290480"/>
          </a:xfrm>
          <a:prstGeom prst="rightBrace">
            <a:avLst>
              <a:gd name="adj1" fmla="val 8333"/>
              <a:gd name="adj2" fmla="val 50000"/>
            </a:avLst>
          </a:prstGeom>
          <a:noFill/>
          <a:ln>
            <a:solidFill>
              <a:srgbClr val="4f81bd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2">
            <a:schemeClr val="accent1"/>
          </a:lnRef>
          <a:fillRef idx="0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TextBox 5"/>
          <p:cNvSpPr/>
          <p:nvPr/>
        </p:nvSpPr>
        <p:spPr>
          <a:xfrm>
            <a:off x="4622040" y="4210560"/>
            <a:ext cx="6444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Ja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20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TextBox 7"/>
          <p:cNvSpPr/>
          <p:nvPr/>
        </p:nvSpPr>
        <p:spPr>
          <a:xfrm>
            <a:off x="6664680" y="1830960"/>
            <a:ext cx="11808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i="1" lang="nl-NL" sz="1800" spc="-1" strike="noStrike">
                <a:solidFill>
                  <a:srgbClr val="000000"/>
                </a:solidFill>
                <a:latin typeface="Calibri"/>
              </a:rPr>
              <a:t>Oct. 2016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0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 type="dt" idx="18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nl-NL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4A277F15-7FCE-4216-8CDD-C2FD468ACA31}" type="datetime3">
              <a:rPr b="0" lang="nl-NL" sz="1000" spc="-1" strike="noStrike">
                <a:solidFill>
                  <a:srgbClr val="ffffff"/>
                </a:solidFill>
                <a:latin typeface="Verdana"/>
              </a:rPr>
              <a:t>30 juli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 type="sldNum" idx="19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nl-NL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AFCACDF-A1D2-4085-A824-4B7BF2E1D4D5}" type="slidenum">
              <a:rPr b="0" lang="nl-NL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9" name="Picture 2" descr="calvin-hobbes-worst-case-scenario"/>
          <p:cNvPicPr/>
          <p:nvPr/>
        </p:nvPicPr>
        <p:blipFill>
          <a:blip r:embed="rId1"/>
          <a:stretch/>
        </p:blipFill>
        <p:spPr>
          <a:xfrm>
            <a:off x="539640" y="2276640"/>
            <a:ext cx="8240400" cy="258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TextBox 4"/>
          <p:cNvSpPr/>
          <p:nvPr/>
        </p:nvSpPr>
        <p:spPr>
          <a:xfrm>
            <a:off x="152280" y="1447920"/>
            <a:ext cx="8991360" cy="447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l data publicly accessible 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SSP data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ational data (since 2013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GD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opulation (structure, education, to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Urban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AM scenario data (for illustra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nd-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is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cing &amp; Temper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 relevant indicators (carbon price, economic feedbacks, etc.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esolution: 5 World Regions (more details available from IAM teams 10-26 regio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152280" y="46080"/>
            <a:ext cx="417168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2800" spc="-1" strike="noStrike">
                <a:solidFill>
                  <a:srgbClr val="f8f7f3"/>
                </a:solidFill>
                <a:latin typeface="Calibri"/>
              </a:rPr>
              <a:t>Data availability and resolution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2" name="Picture 2" descr=""/>
          <p:cNvPicPr/>
          <p:nvPr/>
        </p:nvPicPr>
        <p:blipFill>
          <a:blip r:embed="rId1"/>
          <a:stretch/>
        </p:blipFill>
        <p:spPr>
          <a:xfrm>
            <a:off x="4324320" y="1189080"/>
            <a:ext cx="4457520" cy="2361960"/>
          </a:xfrm>
          <a:prstGeom prst="rect">
            <a:avLst/>
          </a:prstGeom>
          <a:ln w="0">
            <a:noFill/>
          </a:ln>
        </p:spPr>
      </p:pic>
      <p:sp>
        <p:nvSpPr>
          <p:cNvPr id="913" name="Rectangle 3"/>
          <p:cNvSpPr/>
          <p:nvPr/>
        </p:nvSpPr>
        <p:spPr>
          <a:xfrm>
            <a:off x="5157720" y="3586320"/>
            <a:ext cx="3657240" cy="106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i="1" lang="en-US" sz="1600" spc="-1" strike="noStrike">
                <a:solidFill>
                  <a:srgbClr val="1f497d"/>
                </a:solidFill>
                <a:latin typeface="Verdana"/>
              </a:rPr>
              <a:t> </a:t>
            </a:r>
            <a:r>
              <a:rPr b="0" i="1" lang="en-US" sz="1600" spc="-1" strike="noStrike">
                <a:solidFill>
                  <a:srgbClr val="1f497d"/>
                </a:solidFill>
                <a:latin typeface="Verdana"/>
              </a:rPr>
              <a:t>https://secure.iiasa.ac.at/web-apps/ene/SspD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3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Characteristics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0" y="1012320"/>
            <a:ext cx="896076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ff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Small number </a:t>
            </a: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(3 in Tier 1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1f497d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In each tier a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High, Medium and Low </a:t>
            </a: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by 210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1f497d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Tier 1 still spans a plausible high/low(2</a:t>
            </a:r>
            <a:r>
              <a:rPr b="0" lang="en-US" sz="2800" spc="-1" strike="noStrike" baseline="30000">
                <a:solidFill>
                  <a:srgbClr val="1f497d"/>
                </a:solidFill>
                <a:latin typeface="Calibri"/>
              </a:rPr>
              <a:t>o</a:t>
            </a: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C) range; 6.0 is seen as what would come from current polic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1f497d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Tier 2: 7.0 important for impact assessment; 3.7 considered an important mitigation target; updates 4.5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ff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Updated drivers </a:t>
            </a: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support IAM/IAV research into the 2020’s through not only new IAM and climate models but new socio-economic assumption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1f497d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Variants of the same scenarios can be used to explore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targeted questions </a:t>
            </a: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about sensitivity to LUC, SLCF and overshoot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339480" y="133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Additional Iss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5680" indent="-355680">
              <a:lnSpc>
                <a:spcPct val="100000"/>
              </a:lnSpc>
              <a:spcBef>
                <a:spcPts val="641"/>
              </a:spcBef>
              <a:buClr>
                <a:srgbClr val="1f497d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We recommend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concentration driven </a:t>
            </a: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(better constraining forcing levels and thus making integrated research easier to compare and summarize across studie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641"/>
              </a:spcBef>
              <a:buClr>
                <a:srgbClr val="1f497d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We recommend concentrating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IC ensemble members for one scenario only </a:t>
            </a: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(RCP8.5? RCP4.5? Depending possibly on other MIPs recommended experiment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641"/>
              </a:spcBef>
              <a:buClr>
                <a:srgbClr val="1f497d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We are interested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in long-term extensions</a:t>
            </a: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, TB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400" spc="-1" strike="noStrike">
                <a:solidFill>
                  <a:srgbClr val="800000"/>
                </a:solidFill>
                <a:latin typeface="Calibri"/>
              </a:rPr>
              <a:t>Time-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19" name="Straight Arrow Connector 4"/>
          <p:cNvCxnSpPr/>
          <p:nvPr/>
        </p:nvCxnSpPr>
        <p:spPr>
          <a:xfrm>
            <a:off x="757440" y="1417320"/>
            <a:ext cx="7537680" cy="360"/>
          </a:xfrm>
          <a:prstGeom prst="straightConnector1">
            <a:avLst/>
          </a:prstGeom>
          <a:ln>
            <a:solidFill>
              <a:srgbClr val="4f81bd"/>
            </a:solidFill>
            <a:round/>
            <a:tailEnd len="med" type="arrow" w="med"/>
          </a:ln>
        </p:spPr>
      </p:cxnSp>
      <p:sp>
        <p:nvSpPr>
          <p:cNvPr id="920" name="TextBox 5"/>
          <p:cNvSpPr/>
          <p:nvPr/>
        </p:nvSpPr>
        <p:spPr>
          <a:xfrm>
            <a:off x="591840" y="1660680"/>
            <a:ext cx="6444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20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TextBox 6"/>
          <p:cNvSpPr/>
          <p:nvPr/>
        </p:nvSpPr>
        <p:spPr>
          <a:xfrm>
            <a:off x="3043080" y="1680120"/>
            <a:ext cx="6444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20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TextBox 7"/>
          <p:cNvSpPr/>
          <p:nvPr/>
        </p:nvSpPr>
        <p:spPr>
          <a:xfrm>
            <a:off x="6095520" y="1648080"/>
            <a:ext cx="6444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20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3" name="Straight Arrow Connector 9"/>
          <p:cNvCxnSpPr/>
          <p:nvPr/>
        </p:nvCxnSpPr>
        <p:spPr>
          <a:xfrm flipH="1">
            <a:off x="1005840" y="2049480"/>
            <a:ext cx="13320" cy="615600"/>
          </a:xfrm>
          <a:prstGeom prst="straightConnector1">
            <a:avLst/>
          </a:prstGeom>
          <a:ln>
            <a:solidFill>
              <a:srgbClr val="4f81bd"/>
            </a:solidFill>
            <a:round/>
            <a:tailEnd len="med" type="arrow" w="med"/>
          </a:ln>
        </p:spPr>
      </p:cxnSp>
      <p:cxnSp>
        <p:nvCxnSpPr>
          <p:cNvPr id="924" name="Straight Arrow Connector 13"/>
          <p:cNvCxnSpPr/>
          <p:nvPr/>
        </p:nvCxnSpPr>
        <p:spPr>
          <a:xfrm>
            <a:off x="3187080" y="2049480"/>
            <a:ext cx="13680" cy="1302840"/>
          </a:xfrm>
          <a:prstGeom prst="straightConnector1">
            <a:avLst/>
          </a:prstGeom>
          <a:ln>
            <a:solidFill>
              <a:srgbClr val="4f81bd"/>
            </a:solidFill>
            <a:round/>
            <a:tailEnd len="med" type="arrow" w="med"/>
          </a:ln>
        </p:spPr>
      </p:cxnSp>
      <p:cxnSp>
        <p:nvCxnSpPr>
          <p:cNvPr id="925" name="Straight Arrow Connector 15"/>
          <p:cNvCxnSpPr/>
          <p:nvPr/>
        </p:nvCxnSpPr>
        <p:spPr>
          <a:xfrm>
            <a:off x="4143240" y="2030040"/>
            <a:ext cx="360" cy="1836720"/>
          </a:xfrm>
          <a:prstGeom prst="straightConnector1">
            <a:avLst/>
          </a:prstGeom>
          <a:ln>
            <a:solidFill>
              <a:srgbClr val="4f81bd"/>
            </a:solidFill>
            <a:round/>
            <a:tailEnd len="med" type="arrow" w="med"/>
          </a:ln>
        </p:spPr>
      </p:cxnSp>
      <p:cxnSp>
        <p:nvCxnSpPr>
          <p:cNvPr id="926" name="Straight Arrow Connector 19"/>
          <p:cNvCxnSpPr/>
          <p:nvPr/>
        </p:nvCxnSpPr>
        <p:spPr>
          <a:xfrm flipH="1">
            <a:off x="6622560" y="2049480"/>
            <a:ext cx="13680" cy="3045240"/>
          </a:xfrm>
          <a:prstGeom prst="straightConnector1">
            <a:avLst/>
          </a:prstGeom>
          <a:ln>
            <a:solidFill>
              <a:srgbClr val="4f81bd"/>
            </a:solidFill>
            <a:round/>
            <a:tailEnd len="med" type="arrow" w="med"/>
          </a:ln>
        </p:spPr>
      </p:cxnSp>
      <p:cxnSp>
        <p:nvCxnSpPr>
          <p:cNvPr id="927" name="Straight Arrow Connector 22"/>
          <p:cNvCxnSpPr/>
          <p:nvPr/>
        </p:nvCxnSpPr>
        <p:spPr>
          <a:xfrm>
            <a:off x="4950720" y="2049480"/>
            <a:ext cx="360" cy="2453760"/>
          </a:xfrm>
          <a:prstGeom prst="straightConnector1">
            <a:avLst/>
          </a:prstGeom>
          <a:ln>
            <a:solidFill>
              <a:srgbClr val="4f81bd"/>
            </a:solidFill>
            <a:round/>
            <a:tailEnd len="med" type="arrow" w="med"/>
          </a:ln>
        </p:spPr>
      </p:cxnSp>
      <p:sp>
        <p:nvSpPr>
          <p:cNvPr id="928" name="TextBox 10"/>
          <p:cNvSpPr/>
          <p:nvPr/>
        </p:nvSpPr>
        <p:spPr>
          <a:xfrm>
            <a:off x="475200" y="2819880"/>
            <a:ext cx="3276360" cy="36396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ScenarioMIP proposal / Garmis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TextBox 11"/>
          <p:cNvSpPr/>
          <p:nvPr/>
        </p:nvSpPr>
        <p:spPr>
          <a:xfrm>
            <a:off x="1256760" y="3351960"/>
            <a:ext cx="2869560" cy="36396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IAM model runs open re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TextBox 16"/>
          <p:cNvSpPr/>
          <p:nvPr/>
        </p:nvSpPr>
        <p:spPr>
          <a:xfrm>
            <a:off x="3219840" y="3890520"/>
            <a:ext cx="4390200" cy="36396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Finalisation IAM model runs, IPCC con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TextBox 17"/>
          <p:cNvSpPr/>
          <p:nvPr/>
        </p:nvSpPr>
        <p:spPr>
          <a:xfrm>
            <a:off x="5709960" y="5271840"/>
            <a:ext cx="3342240" cy="91260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Data available after harmonisation, downsca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et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TextBox 20"/>
          <p:cNvSpPr/>
          <p:nvPr/>
        </p:nvSpPr>
        <p:spPr>
          <a:xfrm>
            <a:off x="4258800" y="4503240"/>
            <a:ext cx="3342240" cy="36396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Decisions on scenar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Content Placeholder 2"/>
          <p:cNvSpPr/>
          <p:nvPr/>
        </p:nvSpPr>
        <p:spPr>
          <a:xfrm>
            <a:off x="1644840" y="0"/>
            <a:ext cx="5847480" cy="2762640"/>
          </a:xfrm>
          <a:prstGeom prst="rect">
            <a:avLst/>
          </a:prstGeom>
          <a:solidFill>
            <a:schemeClr val="accent3">
              <a:lumMod val="20000"/>
              <a:lumOff val="80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 fontScale="75000"/>
          </a:bodyPr>
          <a:p>
            <a:pPr marL="302400" indent="-302400">
              <a:lnSpc>
                <a:spcPct val="100000"/>
              </a:lnSpc>
              <a:spcBef>
                <a:spcPts val="641"/>
              </a:spcBef>
              <a:spcAft>
                <a:spcPts val="1199"/>
              </a:spcAft>
              <a:tabLst>
                <a:tab algn="l" pos="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Goal ScenarioMIP: </a:t>
            </a:r>
            <a:r>
              <a:rPr b="0" lang="en-US" sz="2600" spc="-1" strike="noStrike">
                <a:solidFill>
                  <a:srgbClr val="800000"/>
                </a:solidFill>
                <a:latin typeface="Calibri"/>
              </a:rPr>
              <a:t>Simulate future climate outcomes based on alternative </a:t>
            </a:r>
            <a:r>
              <a:rPr b="0" i="1" lang="en-US" sz="2600" spc="-1" strike="noStrike">
                <a:solidFill>
                  <a:srgbClr val="800000"/>
                </a:solidFill>
                <a:latin typeface="Calibri"/>
              </a:rPr>
              <a:t>plausible </a:t>
            </a:r>
            <a:r>
              <a:rPr b="0" lang="en-US" sz="2600" spc="-1" strike="noStrike">
                <a:solidFill>
                  <a:srgbClr val="800000"/>
                </a:solidFill>
                <a:latin typeface="Calibri"/>
              </a:rPr>
              <a:t>future scenari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02400" indent="-302400">
              <a:lnSpc>
                <a:spcPct val="100000"/>
              </a:lnSpc>
              <a:spcBef>
                <a:spcPts val="479"/>
              </a:spcBef>
              <a:spcAft>
                <a:spcPts val="1199"/>
              </a:spcAft>
              <a:buClr>
                <a:srgbClr val="1f497d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1. Facilitating integrated research across climate science, IAM and IAV commun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2400" indent="-302400">
              <a:lnSpc>
                <a:spcPct val="100000"/>
              </a:lnSpc>
              <a:spcBef>
                <a:spcPts val="479"/>
              </a:spcBef>
              <a:spcAft>
                <a:spcPts val="1199"/>
              </a:spcAft>
              <a:buClr>
                <a:srgbClr val="1f497d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2. Anchoring targeted experiments (e.g land-use change/air chemistry) to answer questions about specific forc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4"/>
          <p:cNvSpPr/>
          <p:nvPr/>
        </p:nvSpPr>
        <p:spPr>
          <a:xfrm>
            <a:off x="7572600" y="1801800"/>
            <a:ext cx="792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6600"/>
                </a:solidFill>
                <a:latin typeface="Calibri"/>
              </a:rPr>
              <a:t>RC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7"/>
          <p:cNvSpPr/>
          <p:nvPr/>
        </p:nvSpPr>
        <p:spPr>
          <a:xfrm>
            <a:off x="7608960" y="2319480"/>
            <a:ext cx="11440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6600"/>
                </a:solidFill>
                <a:latin typeface="Calibri"/>
              </a:rPr>
              <a:t>Clim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9"/>
          <p:cNvSpPr/>
          <p:nvPr/>
        </p:nvSpPr>
        <p:spPr>
          <a:xfrm>
            <a:off x="714960" y="2421000"/>
            <a:ext cx="7509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6600"/>
                </a:solidFill>
                <a:latin typeface="Calibri"/>
              </a:rPr>
              <a:t>SS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1"/>
          <p:cNvSpPr/>
          <p:nvPr/>
        </p:nvSpPr>
        <p:spPr>
          <a:xfrm>
            <a:off x="239760" y="4591080"/>
            <a:ext cx="1510920" cy="1439640"/>
          </a:xfrm>
          <a:prstGeom prst="rect">
            <a:avLst/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nl-NL" sz="1800" spc="-1" strike="noStrike">
                <a:solidFill>
                  <a:schemeClr val="lt1"/>
                </a:solidFill>
                <a:latin typeface="Calibri"/>
              </a:rPr>
              <a:t>Drivers (population, GD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87"/>
          <p:cNvSpPr/>
          <p:nvPr/>
        </p:nvSpPr>
        <p:spPr>
          <a:xfrm>
            <a:off x="2057400" y="4581360"/>
            <a:ext cx="1510920" cy="1439640"/>
          </a:xfrm>
          <a:prstGeom prst="rect">
            <a:avLst/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nl-NL" sz="1800" spc="-1" strike="noStrike">
                <a:solidFill>
                  <a:schemeClr val="lt1"/>
                </a:solidFill>
                <a:latin typeface="Calibri"/>
              </a:rPr>
              <a:t>Energy us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nl-NL" sz="1800" spc="-1" strike="noStrike">
                <a:solidFill>
                  <a:schemeClr val="lt1"/>
                </a:solidFill>
                <a:latin typeface="Calibri"/>
              </a:rPr>
              <a:t>Land 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88"/>
          <p:cNvSpPr/>
          <p:nvPr/>
        </p:nvSpPr>
        <p:spPr>
          <a:xfrm>
            <a:off x="3857760" y="4581360"/>
            <a:ext cx="1510920" cy="1439640"/>
          </a:xfrm>
          <a:prstGeom prst="rect">
            <a:avLst/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nl-NL" sz="1800" spc="-1" strike="noStrike">
                <a:solidFill>
                  <a:schemeClr val="lt1"/>
                </a:solidFill>
                <a:latin typeface="Calibri"/>
              </a:rPr>
              <a:t>Emis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90"/>
          <p:cNvSpPr/>
          <p:nvPr/>
        </p:nvSpPr>
        <p:spPr>
          <a:xfrm>
            <a:off x="5657760" y="4581360"/>
            <a:ext cx="1510920" cy="1439640"/>
          </a:xfrm>
          <a:prstGeom prst="rect">
            <a:avLst/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nl-NL" sz="1800" spc="-1" strike="noStrike">
                <a:solidFill>
                  <a:schemeClr val="lt1"/>
                </a:solidFill>
                <a:latin typeface="Calibri"/>
              </a:rPr>
              <a:t>Conc.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nl-NL" sz="1800" spc="-1" strike="noStrike">
                <a:solidFill>
                  <a:schemeClr val="lt1"/>
                </a:solidFill>
                <a:latin typeface="Calibri"/>
              </a:rPr>
              <a:t>for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91"/>
          <p:cNvSpPr/>
          <p:nvPr/>
        </p:nvSpPr>
        <p:spPr>
          <a:xfrm>
            <a:off x="7504200" y="4581360"/>
            <a:ext cx="1510920" cy="1439640"/>
          </a:xfrm>
          <a:prstGeom prst="rect">
            <a:avLst/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nl-NL" sz="1400" spc="-1" strike="noStrike">
                <a:solidFill>
                  <a:schemeClr val="lt1"/>
                </a:solidFill>
                <a:latin typeface="Calibri"/>
              </a:rPr>
              <a:t>Climate</a:t>
            </a:r>
            <a:r>
              <a:rPr b="0" lang="en-US" sz="1400" spc="-1" strike="noStrike">
                <a:solidFill>
                  <a:schemeClr val="lt1"/>
                </a:solidFill>
                <a:latin typeface="Calibri"/>
              </a:rPr>
              <a:t>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chemeClr val="lt1"/>
                </a:solidFill>
                <a:latin typeface="Calibri"/>
              </a:rPr>
              <a:t>Environmental chan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100"/>
          <p:cNvSpPr/>
          <p:nvPr/>
        </p:nvSpPr>
        <p:spPr>
          <a:xfrm>
            <a:off x="7513560" y="2789280"/>
            <a:ext cx="1510920" cy="1439640"/>
          </a:xfrm>
          <a:prstGeom prst="rect">
            <a:avLst/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nl-NL" sz="1800" spc="-1" strike="noStrike">
                <a:solidFill>
                  <a:schemeClr val="lt1"/>
                </a:solidFill>
                <a:latin typeface="Calibri"/>
              </a:rPr>
              <a:t>Imp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ight Arrow 2"/>
          <p:cNvSpPr/>
          <p:nvPr/>
        </p:nvSpPr>
        <p:spPr>
          <a:xfrm>
            <a:off x="1751040" y="5157720"/>
            <a:ext cx="306000" cy="3585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83" name="Right Arrow 101"/>
          <p:cNvSpPr/>
          <p:nvPr/>
        </p:nvSpPr>
        <p:spPr>
          <a:xfrm>
            <a:off x="3568680" y="5157720"/>
            <a:ext cx="306000" cy="3585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84" name="Right Arrow 102"/>
          <p:cNvSpPr/>
          <p:nvPr/>
        </p:nvSpPr>
        <p:spPr>
          <a:xfrm>
            <a:off x="5369040" y="5121360"/>
            <a:ext cx="306000" cy="3600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85" name="Right Arrow 103"/>
          <p:cNvSpPr/>
          <p:nvPr/>
        </p:nvSpPr>
        <p:spPr>
          <a:xfrm>
            <a:off x="7186680" y="5130720"/>
            <a:ext cx="306000" cy="3600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86" name="Up Arrow 3"/>
          <p:cNvSpPr/>
          <p:nvPr/>
        </p:nvSpPr>
        <p:spPr>
          <a:xfrm>
            <a:off x="8180280" y="4229280"/>
            <a:ext cx="352080" cy="35208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cxnSp>
        <p:nvCxnSpPr>
          <p:cNvPr id="187" name="Elbow Connector 6"/>
          <p:cNvCxnSpPr>
            <a:stCxn id="176" idx="0"/>
          </p:cNvCxnSpPr>
          <p:nvPr/>
        </p:nvCxnSpPr>
        <p:spPr>
          <a:xfrm flipV="1">
            <a:off x="995040" y="3428640"/>
            <a:ext cx="6498000" cy="1162440"/>
          </a:xfrm>
          <a:prstGeom prst="bentConnector2">
            <a:avLst/>
          </a:prstGeom>
          <a:ln>
            <a:solidFill>
              <a:srgbClr val="4a7ebb"/>
            </a:solidFill>
            <a:round/>
            <a:tailEnd len="med" type="arrow" w="med"/>
          </a:ln>
        </p:spPr>
      </p:cxnSp>
      <p:sp>
        <p:nvSpPr>
          <p:cNvPr id="188" name="TextBox 11"/>
          <p:cNvSpPr/>
          <p:nvPr/>
        </p:nvSpPr>
        <p:spPr>
          <a:xfrm>
            <a:off x="2533680" y="3357720"/>
            <a:ext cx="34225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Exposed population, ability 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ada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4" descr="factory"/>
          <p:cNvPicPr/>
          <p:nvPr/>
        </p:nvPicPr>
        <p:blipFill>
          <a:blip r:embed="rId1"/>
          <a:stretch/>
        </p:blipFill>
        <p:spPr>
          <a:xfrm>
            <a:off x="2033640" y="5705640"/>
            <a:ext cx="480600" cy="38376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18" descr="http://www.wpclipart.com/cartoon/animals/animal_cartoons_2/cow_cartoon.png"/>
          <p:cNvPicPr/>
          <p:nvPr/>
        </p:nvPicPr>
        <p:blipFill>
          <a:blip r:embed="rId2"/>
          <a:stretch/>
        </p:blipFill>
        <p:spPr>
          <a:xfrm>
            <a:off x="3289320" y="5634000"/>
            <a:ext cx="407520" cy="43308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9" descr="co2"/>
          <p:cNvPicPr/>
          <p:nvPr/>
        </p:nvPicPr>
        <p:blipFill>
          <a:blip r:embed="rId3"/>
          <a:stretch/>
        </p:blipFill>
        <p:spPr>
          <a:xfrm>
            <a:off x="6504120" y="5657760"/>
            <a:ext cx="634680" cy="36792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20" descr="clouds"/>
          <p:cNvPicPr/>
          <p:nvPr/>
        </p:nvPicPr>
        <p:blipFill>
          <a:blip r:embed="rId4"/>
          <a:stretch/>
        </p:blipFill>
        <p:spPr>
          <a:xfrm>
            <a:off x="8450280" y="5637240"/>
            <a:ext cx="564840" cy="45216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21" descr="co22"/>
          <p:cNvPicPr/>
          <p:nvPr/>
        </p:nvPicPr>
        <p:blipFill>
          <a:blip r:embed="rId5"/>
          <a:stretch/>
        </p:blipFill>
        <p:spPr>
          <a:xfrm>
            <a:off x="4702320" y="5653080"/>
            <a:ext cx="593280" cy="39492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22" descr="climate-change-300x163"/>
          <p:cNvPicPr/>
          <p:nvPr/>
        </p:nvPicPr>
        <p:blipFill>
          <a:blip r:embed="rId6"/>
          <a:stretch/>
        </p:blipFill>
        <p:spPr>
          <a:xfrm>
            <a:off x="8348760" y="3860640"/>
            <a:ext cx="676080" cy="36792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23" descr="https://encrypted-tbn0.gstatic.com/images?q=tbn:ANd9GcR3idxD1r558toIa_GYWGcuZc0eDFYCIs7VbygLKRJ1R6T3csAv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1251000" y="5710320"/>
            <a:ext cx="491760" cy="379080"/>
          </a:xfrm>
          <a:prstGeom prst="rect">
            <a:avLst/>
          </a:prstGeom>
          <a:ln w="0">
            <a:noFill/>
          </a:ln>
        </p:spPr>
      </p:pic>
      <p:sp>
        <p:nvSpPr>
          <p:cNvPr id="196" name="Oval 29"/>
          <p:cNvSpPr/>
          <p:nvPr/>
        </p:nvSpPr>
        <p:spPr>
          <a:xfrm>
            <a:off x="509400" y="777960"/>
            <a:ext cx="1266840" cy="861840"/>
          </a:xfrm>
          <a:prstGeom prst="ellipse">
            <a:avLst/>
          </a:prstGeom>
          <a:gradFill rotWithShape="0">
            <a:gsLst>
              <a:gs pos="0">
                <a:srgbClr val="3e7fcc"/>
              </a:gs>
              <a:gs pos="100000">
                <a:srgbClr val="a4c1ff"/>
              </a:gs>
            </a:gsLst>
            <a:lin ang="16200000"/>
          </a:gradFill>
          <a:ln>
            <a:solidFill>
              <a:srgbClr val="4a7ebb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nl-NL" sz="1400" spc="-1" strike="noStrike">
                <a:solidFill>
                  <a:srgbClr val="1f497d"/>
                </a:solidFill>
                <a:latin typeface="Calibri"/>
              </a:rPr>
              <a:t>Co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nl-NL" sz="1400" spc="-1" strike="noStrike">
                <a:solidFill>
                  <a:srgbClr val="1f497d"/>
                </a:solidFill>
                <a:latin typeface="Calibri"/>
              </a:rPr>
              <a:t>ScenarioM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Oval 30"/>
          <p:cNvSpPr/>
          <p:nvPr/>
        </p:nvSpPr>
        <p:spPr>
          <a:xfrm>
            <a:off x="475920" y="1614960"/>
            <a:ext cx="1266840" cy="861840"/>
          </a:xfrm>
          <a:prstGeom prst="ellipse">
            <a:avLst/>
          </a:prstGeom>
          <a:gradFill rotWithShape="0">
            <a:gsLst>
              <a:gs pos="0">
                <a:srgbClr val="3e7fcc"/>
              </a:gs>
              <a:gs pos="100000">
                <a:srgbClr val="a4c1ff"/>
              </a:gs>
            </a:gsLst>
            <a:lin ang="16200000"/>
          </a:gradFill>
          <a:ln>
            <a:solidFill>
              <a:srgbClr val="4a7ebb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nl-NL" sz="1400" spc="-1" strike="noStrike">
                <a:solidFill>
                  <a:srgbClr val="1f497d"/>
                </a:solidFill>
                <a:latin typeface="Calibri"/>
              </a:rPr>
              <a:t>Together with LUMIP, CMIP e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8" name="Group 86"/>
          <p:cNvGrpSpPr/>
          <p:nvPr/>
        </p:nvGrpSpPr>
        <p:grpSpPr>
          <a:xfrm>
            <a:off x="1547640" y="2363760"/>
            <a:ext cx="1119240" cy="3352680"/>
            <a:chOff x="1547640" y="2363760"/>
            <a:chExt cx="1119240" cy="3352680"/>
          </a:xfrm>
        </p:grpSpPr>
        <p:grpSp>
          <p:nvGrpSpPr>
            <p:cNvPr id="199" name="Group 45"/>
            <p:cNvGrpSpPr/>
            <p:nvPr/>
          </p:nvGrpSpPr>
          <p:grpSpPr>
            <a:xfrm>
              <a:off x="1547640" y="2363760"/>
              <a:ext cx="1083600" cy="3352680"/>
              <a:chOff x="1547640" y="2363760"/>
              <a:chExt cx="1083600" cy="3352680"/>
            </a:xfrm>
          </p:grpSpPr>
          <p:sp>
            <p:nvSpPr>
              <p:cNvPr id="200" name="TextBox 69"/>
              <p:cNvSpPr/>
              <p:nvPr/>
            </p:nvSpPr>
            <p:spPr>
              <a:xfrm rot="16200000">
                <a:off x="607680" y="3812760"/>
                <a:ext cx="2551680" cy="39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Verdana"/>
                  </a:rPr>
                  <a:t>Forcing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Verdana"/>
                  </a:rPr>
                  <a:t> level (W/m</a:t>
                </a:r>
                <a:r>
                  <a:rPr b="1" lang="en-US" sz="1800" spc="-1" strike="noStrike" baseline="30000">
                    <a:solidFill>
                      <a:srgbClr val="000000"/>
                    </a:solidFill>
                    <a:latin typeface="Verdana"/>
                  </a:rPr>
                  <a:t>2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Verdana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TextBox 70"/>
              <p:cNvSpPr/>
              <p:nvPr/>
            </p:nvSpPr>
            <p:spPr>
              <a:xfrm>
                <a:off x="2085840" y="2515320"/>
                <a:ext cx="545400" cy="39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Verdana"/>
                  </a:rPr>
                  <a:t>8.5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TextBox 71"/>
              <p:cNvSpPr/>
              <p:nvPr/>
            </p:nvSpPr>
            <p:spPr>
              <a:xfrm>
                <a:off x="2066400" y="3638880"/>
                <a:ext cx="545400" cy="39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Verdana"/>
                  </a:rPr>
                  <a:t>6.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TextBox 72"/>
              <p:cNvSpPr/>
              <p:nvPr/>
            </p:nvSpPr>
            <p:spPr>
              <a:xfrm>
                <a:off x="2066400" y="4267440"/>
                <a:ext cx="545400" cy="39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Verdana"/>
                  </a:rPr>
                  <a:t>4.5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TextBox 73"/>
              <p:cNvSpPr/>
              <p:nvPr/>
            </p:nvSpPr>
            <p:spPr>
              <a:xfrm>
                <a:off x="2066400" y="5162760"/>
                <a:ext cx="545400" cy="39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Verdana"/>
                  </a:rPr>
                  <a:t>2.6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05" name="Straight Arrow Connector 44"/>
              <p:cNvCxnSpPr/>
              <p:nvPr/>
            </p:nvCxnSpPr>
            <p:spPr>
              <a:xfrm flipV="1">
                <a:off x="1547640" y="2363760"/>
                <a:ext cx="1800" cy="3353040"/>
              </a:xfrm>
              <a:prstGeom prst="straightConnector1">
                <a:avLst/>
              </a:prstGeom>
              <a:ln w="19050">
                <a:solidFill>
                  <a:srgbClr val="000000"/>
                </a:solidFill>
                <a:round/>
                <a:tailEnd len="med" type="arrow" w="med"/>
              </a:ln>
            </p:spPr>
          </p:cxnSp>
        </p:grpSp>
        <p:grpSp>
          <p:nvGrpSpPr>
            <p:cNvPr id="206" name="Group 66"/>
            <p:cNvGrpSpPr/>
            <p:nvPr/>
          </p:nvGrpSpPr>
          <p:grpSpPr>
            <a:xfrm>
              <a:off x="2590560" y="2514600"/>
              <a:ext cx="76320" cy="3047760"/>
              <a:chOff x="2590560" y="2514600"/>
              <a:chExt cx="76320" cy="3047760"/>
            </a:xfrm>
          </p:grpSpPr>
          <p:grpSp>
            <p:nvGrpSpPr>
              <p:cNvPr id="207" name="Group 45"/>
              <p:cNvGrpSpPr/>
              <p:nvPr/>
            </p:nvGrpSpPr>
            <p:grpSpPr>
              <a:xfrm>
                <a:off x="2590560" y="5127480"/>
                <a:ext cx="76320" cy="434880"/>
                <a:chOff x="2590560" y="5127480"/>
                <a:chExt cx="76320" cy="434880"/>
              </a:xfrm>
            </p:grpSpPr>
            <p:cxnSp>
              <p:nvCxnSpPr>
                <p:cNvPr id="208" name="Straight Connector 41"/>
                <p:cNvCxnSpPr/>
                <p:nvPr/>
              </p:nvCxnSpPr>
              <p:spPr>
                <a:xfrm>
                  <a:off x="2666880" y="5127480"/>
                  <a:ext cx="360" cy="435240"/>
                </a:xfrm>
                <a:prstGeom prst="straightConnector1">
                  <a:avLst/>
                </a:prstGeom>
                <a:ln>
                  <a:solidFill>
                    <a:srgbClr val="000000"/>
                  </a:solidFill>
                  <a:round/>
                </a:ln>
              </p:spPr>
            </p:cxnSp>
            <p:cxnSp>
              <p:nvCxnSpPr>
                <p:cNvPr id="209" name="Straight Connector 43"/>
                <p:cNvCxnSpPr/>
                <p:nvPr/>
              </p:nvCxnSpPr>
              <p:spPr>
                <a:xfrm flipH="1">
                  <a:off x="2590560" y="5562360"/>
                  <a:ext cx="76680" cy="360"/>
                </a:xfrm>
                <a:prstGeom prst="straightConnector1">
                  <a:avLst/>
                </a:prstGeom>
                <a:ln>
                  <a:solidFill>
                    <a:srgbClr val="000000"/>
                  </a:solidFill>
                  <a:round/>
                </a:ln>
              </p:spPr>
            </p:cxnSp>
          </p:grpSp>
          <p:grpSp>
            <p:nvGrpSpPr>
              <p:cNvPr id="210" name="Group 46"/>
              <p:cNvGrpSpPr/>
              <p:nvPr/>
            </p:nvGrpSpPr>
            <p:grpSpPr>
              <a:xfrm>
                <a:off x="2590560" y="4679640"/>
                <a:ext cx="76320" cy="447840"/>
                <a:chOff x="2590560" y="4679640"/>
                <a:chExt cx="76320" cy="447840"/>
              </a:xfrm>
            </p:grpSpPr>
            <p:cxnSp>
              <p:nvCxnSpPr>
                <p:cNvPr id="211" name="Straight Connector 65"/>
                <p:cNvCxnSpPr/>
                <p:nvPr/>
              </p:nvCxnSpPr>
              <p:spPr>
                <a:xfrm>
                  <a:off x="2666880" y="4679640"/>
                  <a:ext cx="360" cy="448200"/>
                </a:xfrm>
                <a:prstGeom prst="straightConnector1">
                  <a:avLst/>
                </a:prstGeom>
                <a:ln>
                  <a:solidFill>
                    <a:srgbClr val="000000"/>
                  </a:solidFill>
                  <a:round/>
                </a:ln>
              </p:spPr>
            </p:cxnSp>
            <p:cxnSp>
              <p:nvCxnSpPr>
                <p:cNvPr id="212" name="Straight Connector 66"/>
                <p:cNvCxnSpPr/>
                <p:nvPr/>
              </p:nvCxnSpPr>
              <p:spPr>
                <a:xfrm flipH="1">
                  <a:off x="2590560" y="5127480"/>
                  <a:ext cx="76680" cy="360"/>
                </a:xfrm>
                <a:prstGeom prst="straightConnector1">
                  <a:avLst/>
                </a:prstGeom>
                <a:ln>
                  <a:solidFill>
                    <a:srgbClr val="000000"/>
                  </a:solidFill>
                  <a:round/>
                </a:ln>
              </p:spPr>
            </p:cxnSp>
          </p:grpSp>
          <p:grpSp>
            <p:nvGrpSpPr>
              <p:cNvPr id="213" name="Group 49"/>
              <p:cNvGrpSpPr/>
              <p:nvPr/>
            </p:nvGrpSpPr>
            <p:grpSpPr>
              <a:xfrm>
                <a:off x="2590560" y="4255920"/>
                <a:ext cx="76320" cy="423720"/>
                <a:chOff x="2590560" y="4255920"/>
                <a:chExt cx="76320" cy="423720"/>
              </a:xfrm>
            </p:grpSpPr>
            <p:cxnSp>
              <p:nvCxnSpPr>
                <p:cNvPr id="214" name="Straight Connector 63"/>
                <p:cNvCxnSpPr/>
                <p:nvPr/>
              </p:nvCxnSpPr>
              <p:spPr>
                <a:xfrm>
                  <a:off x="2666880" y="4255920"/>
                  <a:ext cx="360" cy="424080"/>
                </a:xfrm>
                <a:prstGeom prst="straightConnector1">
                  <a:avLst/>
                </a:prstGeom>
                <a:ln>
                  <a:solidFill>
                    <a:srgbClr val="000000"/>
                  </a:solidFill>
                  <a:round/>
                </a:ln>
              </p:spPr>
            </p:cxnSp>
            <p:cxnSp>
              <p:nvCxnSpPr>
                <p:cNvPr id="215" name="Straight Connector 64"/>
                <p:cNvCxnSpPr/>
                <p:nvPr/>
              </p:nvCxnSpPr>
              <p:spPr>
                <a:xfrm flipH="1">
                  <a:off x="2590560" y="4679640"/>
                  <a:ext cx="76680" cy="360"/>
                </a:xfrm>
                <a:prstGeom prst="straightConnector1">
                  <a:avLst/>
                </a:prstGeom>
                <a:ln>
                  <a:solidFill>
                    <a:srgbClr val="000000"/>
                  </a:solidFill>
                  <a:round/>
                </a:ln>
              </p:spPr>
            </p:cxnSp>
          </p:grpSp>
          <p:grpSp>
            <p:nvGrpSpPr>
              <p:cNvPr id="216" name="Group 52"/>
              <p:cNvGrpSpPr/>
              <p:nvPr/>
            </p:nvGrpSpPr>
            <p:grpSpPr>
              <a:xfrm>
                <a:off x="2590560" y="3821040"/>
                <a:ext cx="76320" cy="434880"/>
                <a:chOff x="2590560" y="3821040"/>
                <a:chExt cx="76320" cy="434880"/>
              </a:xfrm>
            </p:grpSpPr>
            <p:cxnSp>
              <p:nvCxnSpPr>
                <p:cNvPr id="217" name="Straight Connector 61"/>
                <p:cNvCxnSpPr/>
                <p:nvPr/>
              </p:nvCxnSpPr>
              <p:spPr>
                <a:xfrm>
                  <a:off x="2666880" y="3821040"/>
                  <a:ext cx="360" cy="435240"/>
                </a:xfrm>
                <a:prstGeom prst="straightConnector1">
                  <a:avLst/>
                </a:prstGeom>
                <a:ln>
                  <a:solidFill>
                    <a:srgbClr val="000000"/>
                  </a:solidFill>
                  <a:round/>
                </a:ln>
              </p:spPr>
            </p:cxnSp>
            <p:cxnSp>
              <p:nvCxnSpPr>
                <p:cNvPr id="218" name="Straight Connector 62"/>
                <p:cNvCxnSpPr/>
                <p:nvPr/>
              </p:nvCxnSpPr>
              <p:spPr>
                <a:xfrm flipH="1">
                  <a:off x="2590560" y="4255920"/>
                  <a:ext cx="76680" cy="360"/>
                </a:xfrm>
                <a:prstGeom prst="straightConnector1">
                  <a:avLst/>
                </a:prstGeom>
                <a:ln>
                  <a:solidFill>
                    <a:srgbClr val="000000"/>
                  </a:solidFill>
                  <a:round/>
                </a:ln>
              </p:spPr>
            </p:cxnSp>
          </p:grpSp>
          <p:grpSp>
            <p:nvGrpSpPr>
              <p:cNvPr id="219" name="Group 55"/>
              <p:cNvGrpSpPr/>
              <p:nvPr/>
            </p:nvGrpSpPr>
            <p:grpSpPr>
              <a:xfrm>
                <a:off x="2590560" y="3385800"/>
                <a:ext cx="76320" cy="435240"/>
                <a:chOff x="2590560" y="3385800"/>
                <a:chExt cx="76320" cy="435240"/>
              </a:xfrm>
            </p:grpSpPr>
            <p:cxnSp>
              <p:nvCxnSpPr>
                <p:cNvPr id="220" name="Straight Connector 59"/>
                <p:cNvCxnSpPr/>
                <p:nvPr/>
              </p:nvCxnSpPr>
              <p:spPr>
                <a:xfrm>
                  <a:off x="2666880" y="3385800"/>
                  <a:ext cx="360" cy="435600"/>
                </a:xfrm>
                <a:prstGeom prst="straightConnector1">
                  <a:avLst/>
                </a:prstGeom>
                <a:ln>
                  <a:solidFill>
                    <a:srgbClr val="000000"/>
                  </a:solidFill>
                  <a:round/>
                </a:ln>
              </p:spPr>
            </p:cxnSp>
            <p:cxnSp>
              <p:nvCxnSpPr>
                <p:cNvPr id="221" name="Straight Connector 60"/>
                <p:cNvCxnSpPr/>
                <p:nvPr/>
              </p:nvCxnSpPr>
              <p:spPr>
                <a:xfrm flipH="1">
                  <a:off x="2590560" y="3821040"/>
                  <a:ext cx="76680" cy="360"/>
                </a:xfrm>
                <a:prstGeom prst="straightConnector1">
                  <a:avLst/>
                </a:prstGeom>
                <a:ln>
                  <a:solidFill>
                    <a:srgbClr val="000000"/>
                  </a:solidFill>
                  <a:round/>
                </a:ln>
              </p:spPr>
            </p:cxnSp>
          </p:grpSp>
          <p:grpSp>
            <p:nvGrpSpPr>
              <p:cNvPr id="222" name="Group 58"/>
              <p:cNvGrpSpPr/>
              <p:nvPr/>
            </p:nvGrpSpPr>
            <p:grpSpPr>
              <a:xfrm>
                <a:off x="2590560" y="2938320"/>
                <a:ext cx="76320" cy="447480"/>
                <a:chOff x="2590560" y="2938320"/>
                <a:chExt cx="76320" cy="447480"/>
              </a:xfrm>
            </p:grpSpPr>
            <p:cxnSp>
              <p:nvCxnSpPr>
                <p:cNvPr id="223" name="Straight Connector 57"/>
                <p:cNvCxnSpPr/>
                <p:nvPr/>
              </p:nvCxnSpPr>
              <p:spPr>
                <a:xfrm>
                  <a:off x="2666880" y="2938320"/>
                  <a:ext cx="360" cy="447840"/>
                </a:xfrm>
                <a:prstGeom prst="straightConnector1">
                  <a:avLst/>
                </a:prstGeom>
                <a:ln>
                  <a:solidFill>
                    <a:srgbClr val="000000"/>
                  </a:solidFill>
                  <a:round/>
                </a:ln>
              </p:spPr>
            </p:cxnSp>
            <p:cxnSp>
              <p:nvCxnSpPr>
                <p:cNvPr id="224" name="Straight Connector 58"/>
                <p:cNvCxnSpPr/>
                <p:nvPr/>
              </p:nvCxnSpPr>
              <p:spPr>
                <a:xfrm flipH="1">
                  <a:off x="2590560" y="3385800"/>
                  <a:ext cx="76680" cy="360"/>
                </a:xfrm>
                <a:prstGeom prst="straightConnector1">
                  <a:avLst/>
                </a:prstGeom>
                <a:ln>
                  <a:solidFill>
                    <a:srgbClr val="000000"/>
                  </a:solidFill>
                  <a:round/>
                </a:ln>
              </p:spPr>
            </p:cxnSp>
          </p:grpSp>
          <p:grpSp>
            <p:nvGrpSpPr>
              <p:cNvPr id="225" name="Group 65"/>
              <p:cNvGrpSpPr/>
              <p:nvPr/>
            </p:nvGrpSpPr>
            <p:grpSpPr>
              <a:xfrm>
                <a:off x="2590560" y="2514600"/>
                <a:ext cx="76320" cy="423720"/>
                <a:chOff x="2590560" y="2514600"/>
                <a:chExt cx="76320" cy="423720"/>
              </a:xfrm>
            </p:grpSpPr>
            <p:grpSp>
              <p:nvGrpSpPr>
                <p:cNvPr id="226" name="Group 61"/>
                <p:cNvGrpSpPr/>
                <p:nvPr/>
              </p:nvGrpSpPr>
              <p:grpSpPr>
                <a:xfrm>
                  <a:off x="2590560" y="2514600"/>
                  <a:ext cx="76320" cy="423720"/>
                  <a:chOff x="2590560" y="2514600"/>
                  <a:chExt cx="76320" cy="423720"/>
                </a:xfrm>
              </p:grpSpPr>
              <p:cxnSp>
                <p:nvCxnSpPr>
                  <p:cNvPr id="227" name="Straight Connector 55"/>
                  <p:cNvCxnSpPr/>
                  <p:nvPr/>
                </p:nvCxnSpPr>
                <p:spPr>
                  <a:xfrm>
                    <a:off x="2666880" y="2514600"/>
                    <a:ext cx="360" cy="424080"/>
                  </a:xfrm>
                  <a:prstGeom prst="straightConnector1">
                    <a:avLst/>
                  </a:prstGeom>
                  <a:ln>
                    <a:solidFill>
                      <a:srgbClr val="000000"/>
                    </a:solidFill>
                    <a:round/>
                  </a:ln>
                </p:spPr>
              </p:cxnSp>
              <p:cxnSp>
                <p:nvCxnSpPr>
                  <p:cNvPr id="228" name="Straight Connector 56"/>
                  <p:cNvCxnSpPr/>
                  <p:nvPr/>
                </p:nvCxnSpPr>
                <p:spPr>
                  <a:xfrm flipH="1">
                    <a:off x="2590560" y="2938320"/>
                    <a:ext cx="76680" cy="360"/>
                  </a:xfrm>
                  <a:prstGeom prst="straightConnector1">
                    <a:avLst/>
                  </a:prstGeom>
                  <a:ln>
                    <a:solidFill>
                      <a:srgbClr val="000000"/>
                    </a:solidFill>
                    <a:round/>
                  </a:ln>
                </p:spPr>
              </p:cxnSp>
            </p:grpSp>
            <p:cxnSp>
              <p:nvCxnSpPr>
                <p:cNvPr id="229" name="Straight Connector 54"/>
                <p:cNvCxnSpPr/>
                <p:nvPr/>
              </p:nvCxnSpPr>
              <p:spPr>
                <a:xfrm flipH="1">
                  <a:off x="2590560" y="2514600"/>
                  <a:ext cx="76680" cy="360"/>
                </a:xfrm>
                <a:prstGeom prst="straightConnector1">
                  <a:avLst/>
                </a:prstGeom>
                <a:ln>
                  <a:solidFill>
                    <a:srgbClr val="000000"/>
                  </a:solidFill>
                  <a:round/>
                </a:ln>
              </p:spPr>
            </p:cxnSp>
          </p:grpSp>
        </p:grpSp>
      </p:grpSp>
      <p:grpSp>
        <p:nvGrpSpPr>
          <p:cNvPr id="230" name="Group 84"/>
          <p:cNvGrpSpPr/>
          <p:nvPr/>
        </p:nvGrpSpPr>
        <p:grpSpPr>
          <a:xfrm>
            <a:off x="2744640" y="2286000"/>
            <a:ext cx="5498640" cy="3504960"/>
            <a:chOff x="2744640" y="2286000"/>
            <a:chExt cx="5498640" cy="3504960"/>
          </a:xfrm>
        </p:grpSpPr>
        <p:sp>
          <p:nvSpPr>
            <p:cNvPr id="231" name="Rectangle 2"/>
            <p:cNvSpPr/>
            <p:nvPr/>
          </p:nvSpPr>
          <p:spPr>
            <a:xfrm>
              <a:off x="2744640" y="2286000"/>
              <a:ext cx="5498640" cy="3504960"/>
            </a:xfrm>
            <a:prstGeom prst="rect">
              <a:avLst/>
            </a:prstGeom>
            <a:solidFill>
              <a:schemeClr val="bg1">
                <a:lumMod val="75000"/>
              </a:schemeClr>
            </a:solidFill>
            <a:ln>
              <a:solidFill>
                <a:srgbClr val="000000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2" name="Rectangle 24"/>
            <p:cNvSpPr/>
            <p:nvPr/>
          </p:nvSpPr>
          <p:spPr>
            <a:xfrm>
              <a:off x="2897280" y="4267080"/>
              <a:ext cx="914040" cy="380520"/>
            </a:xfrm>
            <a:prstGeom prst="rect">
              <a:avLst/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33" name="Rectangle 25"/>
            <p:cNvSpPr/>
            <p:nvPr/>
          </p:nvSpPr>
          <p:spPr>
            <a:xfrm>
              <a:off x="3963960" y="4267080"/>
              <a:ext cx="914040" cy="380520"/>
            </a:xfrm>
            <a:prstGeom prst="rect">
              <a:avLst/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34" name="Rectangle 26"/>
            <p:cNvSpPr/>
            <p:nvPr/>
          </p:nvSpPr>
          <p:spPr>
            <a:xfrm>
              <a:off x="5030640" y="4267080"/>
              <a:ext cx="914040" cy="380520"/>
            </a:xfrm>
            <a:prstGeom prst="rect">
              <a:avLst/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35" name="Rectangle 27"/>
            <p:cNvSpPr/>
            <p:nvPr/>
          </p:nvSpPr>
          <p:spPr>
            <a:xfrm>
              <a:off x="6095880" y="4267080"/>
              <a:ext cx="914040" cy="380520"/>
            </a:xfrm>
            <a:prstGeom prst="rect">
              <a:avLst/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36" name="Rectangle 28"/>
            <p:cNvSpPr/>
            <p:nvPr/>
          </p:nvSpPr>
          <p:spPr>
            <a:xfrm>
              <a:off x="2895480" y="5181480"/>
              <a:ext cx="914040" cy="380520"/>
            </a:xfrm>
            <a:prstGeom prst="rect">
              <a:avLst/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37" name="Rectangle 34"/>
            <p:cNvSpPr/>
            <p:nvPr/>
          </p:nvSpPr>
          <p:spPr>
            <a:xfrm>
              <a:off x="5029200" y="3657600"/>
              <a:ext cx="914040" cy="380520"/>
            </a:xfrm>
            <a:prstGeom prst="rect">
              <a:avLst/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38" name="Rectangle 29"/>
            <p:cNvSpPr/>
            <p:nvPr/>
          </p:nvSpPr>
          <p:spPr>
            <a:xfrm>
              <a:off x="3962520" y="5181480"/>
              <a:ext cx="914040" cy="380520"/>
            </a:xfrm>
            <a:prstGeom prst="rect">
              <a:avLst/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39" name="Rectangle 30"/>
            <p:cNvSpPr/>
            <p:nvPr/>
          </p:nvSpPr>
          <p:spPr>
            <a:xfrm>
              <a:off x="5029200" y="5181480"/>
              <a:ext cx="914040" cy="380520"/>
            </a:xfrm>
            <a:prstGeom prst="rect">
              <a:avLst/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40" name="Rectangle 31"/>
            <p:cNvSpPr/>
            <p:nvPr/>
          </p:nvSpPr>
          <p:spPr>
            <a:xfrm>
              <a:off x="6095880" y="5181480"/>
              <a:ext cx="914040" cy="380520"/>
            </a:xfrm>
            <a:prstGeom prst="rect">
              <a:avLst/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41" name="Rectangle 32"/>
            <p:cNvSpPr/>
            <p:nvPr/>
          </p:nvSpPr>
          <p:spPr>
            <a:xfrm>
              <a:off x="2895480" y="3657600"/>
              <a:ext cx="914040" cy="380520"/>
            </a:xfrm>
            <a:prstGeom prst="rect">
              <a:avLst/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42" name="Rectangle 33"/>
            <p:cNvSpPr/>
            <p:nvPr/>
          </p:nvSpPr>
          <p:spPr>
            <a:xfrm>
              <a:off x="3962520" y="3657600"/>
              <a:ext cx="914040" cy="380520"/>
            </a:xfrm>
            <a:prstGeom prst="rect">
              <a:avLst/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43" name="Rectangle 35"/>
            <p:cNvSpPr/>
            <p:nvPr/>
          </p:nvSpPr>
          <p:spPr>
            <a:xfrm>
              <a:off x="6095880" y="3657600"/>
              <a:ext cx="914040" cy="380520"/>
            </a:xfrm>
            <a:prstGeom prst="rect">
              <a:avLst/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44" name="Rectangle 36"/>
            <p:cNvSpPr/>
            <p:nvPr/>
          </p:nvSpPr>
          <p:spPr>
            <a:xfrm>
              <a:off x="2895480" y="2514600"/>
              <a:ext cx="914040" cy="380520"/>
            </a:xfrm>
            <a:prstGeom prst="rect">
              <a:avLst/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45" name="Rectangle 37"/>
            <p:cNvSpPr/>
            <p:nvPr/>
          </p:nvSpPr>
          <p:spPr>
            <a:xfrm>
              <a:off x="3962520" y="2514600"/>
              <a:ext cx="914040" cy="380520"/>
            </a:xfrm>
            <a:prstGeom prst="rect">
              <a:avLst/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46" name="Rectangle 38"/>
            <p:cNvSpPr/>
            <p:nvPr/>
          </p:nvSpPr>
          <p:spPr>
            <a:xfrm>
              <a:off x="5029200" y="2514600"/>
              <a:ext cx="914040" cy="380520"/>
            </a:xfrm>
            <a:prstGeom prst="rect">
              <a:avLst/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47" name="Rectangle 39"/>
            <p:cNvSpPr/>
            <p:nvPr/>
          </p:nvSpPr>
          <p:spPr>
            <a:xfrm>
              <a:off x="6095880" y="2514600"/>
              <a:ext cx="914040" cy="380520"/>
            </a:xfrm>
            <a:prstGeom prst="rect">
              <a:avLst/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48" name="Rectangle 40"/>
            <p:cNvSpPr/>
            <p:nvPr/>
          </p:nvSpPr>
          <p:spPr>
            <a:xfrm>
              <a:off x="7184880" y="4245120"/>
              <a:ext cx="914040" cy="380520"/>
            </a:xfrm>
            <a:prstGeom prst="rect">
              <a:avLst/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49" name="Rectangle 41"/>
            <p:cNvSpPr/>
            <p:nvPr/>
          </p:nvSpPr>
          <p:spPr>
            <a:xfrm>
              <a:off x="7184880" y="5159520"/>
              <a:ext cx="914040" cy="380520"/>
            </a:xfrm>
            <a:prstGeom prst="rect">
              <a:avLst/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50" name="Rectangle 42"/>
            <p:cNvSpPr/>
            <p:nvPr/>
          </p:nvSpPr>
          <p:spPr>
            <a:xfrm>
              <a:off x="7184880" y="3635280"/>
              <a:ext cx="914040" cy="380520"/>
            </a:xfrm>
            <a:prstGeom prst="rect">
              <a:avLst/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51" name="Rectangle 43"/>
            <p:cNvSpPr/>
            <p:nvPr/>
          </p:nvSpPr>
          <p:spPr>
            <a:xfrm>
              <a:off x="7184880" y="2492280"/>
              <a:ext cx="914040" cy="380520"/>
            </a:xfrm>
            <a:prstGeom prst="rect">
              <a:avLst/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252" name="Group 85"/>
          <p:cNvGrpSpPr/>
          <p:nvPr/>
        </p:nvGrpSpPr>
        <p:grpSpPr>
          <a:xfrm>
            <a:off x="2951640" y="1523880"/>
            <a:ext cx="5094720" cy="786960"/>
            <a:chOff x="2951640" y="1523880"/>
            <a:chExt cx="5094720" cy="786960"/>
          </a:xfrm>
        </p:grpSpPr>
        <p:sp>
          <p:nvSpPr>
            <p:cNvPr id="253" name="TextBox 17"/>
            <p:cNvSpPr/>
            <p:nvPr/>
          </p:nvSpPr>
          <p:spPr>
            <a:xfrm>
              <a:off x="2951640" y="1904760"/>
              <a:ext cx="76644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SSP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TextBox 18"/>
            <p:cNvSpPr/>
            <p:nvPr/>
          </p:nvSpPr>
          <p:spPr>
            <a:xfrm>
              <a:off x="3960000" y="1904760"/>
              <a:ext cx="76644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SSP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TextBox 19"/>
            <p:cNvSpPr/>
            <p:nvPr/>
          </p:nvSpPr>
          <p:spPr>
            <a:xfrm>
              <a:off x="5040000" y="1904760"/>
              <a:ext cx="76644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SSP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TextBox 20"/>
            <p:cNvSpPr/>
            <p:nvPr/>
          </p:nvSpPr>
          <p:spPr>
            <a:xfrm>
              <a:off x="3648240" y="1523880"/>
              <a:ext cx="439812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Shared Socio-economic Pathway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TextBox 21"/>
            <p:cNvSpPr/>
            <p:nvPr/>
          </p:nvSpPr>
          <p:spPr>
            <a:xfrm>
              <a:off x="6121080" y="1916280"/>
              <a:ext cx="76788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SSP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TextBox 22"/>
            <p:cNvSpPr/>
            <p:nvPr/>
          </p:nvSpPr>
          <p:spPr>
            <a:xfrm>
              <a:off x="7223400" y="1916280"/>
              <a:ext cx="76788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SSP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" name="TextBox 4"/>
          <p:cNvSpPr/>
          <p:nvPr/>
        </p:nvSpPr>
        <p:spPr>
          <a:xfrm>
            <a:off x="7563240" y="1825560"/>
            <a:ext cx="792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6600"/>
                </a:solidFill>
                <a:latin typeface="Calibri"/>
              </a:rPr>
              <a:t>RC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Box 7"/>
          <p:cNvSpPr/>
          <p:nvPr/>
        </p:nvSpPr>
        <p:spPr>
          <a:xfrm>
            <a:off x="7608960" y="2319480"/>
            <a:ext cx="11440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6600"/>
                </a:solidFill>
                <a:latin typeface="Calibri"/>
              </a:rPr>
              <a:t>Clim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9"/>
          <p:cNvSpPr/>
          <p:nvPr/>
        </p:nvSpPr>
        <p:spPr>
          <a:xfrm>
            <a:off x="714960" y="2421000"/>
            <a:ext cx="7509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6600"/>
                </a:solidFill>
                <a:latin typeface="Calibri"/>
              </a:rPr>
              <a:t>SS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itle 1"/>
          <p:cNvSpPr/>
          <p:nvPr/>
        </p:nvSpPr>
        <p:spPr>
          <a:xfrm>
            <a:off x="534960" y="0"/>
            <a:ext cx="7772040" cy="60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Scenario Matrix Archite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2.71676E-006 C 0.0033 -0.05988 0.00678 -0.11954 0.03959 -0.16486 C 0.0724 -0.21017 0.12344 -0.26844 0.19671 -0.2726 C 0.26997 -0.27676 0.37466 -0.23353 0.47935 -0.19029 E">
                                      <p:cBhvr>
                                        <p:cTn id="56" dur="2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" nodeType="with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1.50289E-006 C -0.0033 0.04069 -0.00642 0.08139 -0.0191 0.12671 C -0.03177 0.17202 -0.04132 0.23445 -0.07621 0.2726 C -0.11111 0.31075 -0.16684 0.33919 -0.22847 0.35514 C -0.2901 0.3711 -0.3901 0.36624 -0.44601 0.36763 C -0.50191 0.36902 -0.53281 0.36624 -0.56354 0.36347 E">
                                      <p:cBhvr>
                                        <p:cTn id="58" dur="2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5400000">
                                      <p:cBhvr>
                                        <p:cTn id="60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1" nodeType="with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107 0.00231 C 0.02569 0.06173 0.02031 0.12116 -0.01667 0.17757 C -0.05365 0.23399 -0.11441 0.3052 -0.19115 0.34035 C -0.26788 0.37549 -0.37222 0.40879 -0.47691 0.38913 C -0.5816 0.36948 -0.7007 0.29572 -0.81979 0.22196 E">
                                      <p:cBhvr>
                                        <p:cTn id="62" dur="2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5400000">
                                      <p:cBhvr>
                                        <p:cTn id="6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3" name="Group 84"/>
          <p:cNvGrpSpPr/>
          <p:nvPr/>
        </p:nvGrpSpPr>
        <p:grpSpPr>
          <a:xfrm>
            <a:off x="2744640" y="2286000"/>
            <a:ext cx="5498640" cy="3504960"/>
            <a:chOff x="2744640" y="2286000"/>
            <a:chExt cx="5498640" cy="3504960"/>
          </a:xfrm>
        </p:grpSpPr>
        <p:sp>
          <p:nvSpPr>
            <p:cNvPr id="264" name="Rectangle 2"/>
            <p:cNvSpPr/>
            <p:nvPr/>
          </p:nvSpPr>
          <p:spPr>
            <a:xfrm>
              <a:off x="2744640" y="2286000"/>
              <a:ext cx="5498640" cy="3504960"/>
            </a:xfrm>
            <a:prstGeom prst="rect">
              <a:avLst/>
            </a:prstGeom>
            <a:solidFill>
              <a:schemeClr val="bg1">
                <a:lumMod val="75000"/>
              </a:schemeClr>
            </a:solidFill>
            <a:ln>
              <a:solidFill>
                <a:srgbClr val="000000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65" name="Rectangle 32"/>
            <p:cNvSpPr/>
            <p:nvPr/>
          </p:nvSpPr>
          <p:spPr>
            <a:xfrm>
              <a:off x="2897280" y="4267080"/>
              <a:ext cx="914040" cy="380520"/>
            </a:xfrm>
            <a:prstGeom prst="rect">
              <a:avLst/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66" name="Rectangle 33"/>
            <p:cNvSpPr/>
            <p:nvPr/>
          </p:nvSpPr>
          <p:spPr>
            <a:xfrm>
              <a:off x="3963960" y="4267080"/>
              <a:ext cx="914040" cy="380520"/>
            </a:xfrm>
            <a:prstGeom prst="rect">
              <a:avLst/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67" name="Rectangle 34"/>
            <p:cNvSpPr/>
            <p:nvPr/>
          </p:nvSpPr>
          <p:spPr>
            <a:xfrm>
              <a:off x="5030640" y="4267080"/>
              <a:ext cx="914040" cy="380520"/>
            </a:xfrm>
            <a:prstGeom prst="rect">
              <a:avLst/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68" name="Rectangle 35"/>
            <p:cNvSpPr/>
            <p:nvPr/>
          </p:nvSpPr>
          <p:spPr>
            <a:xfrm>
              <a:off x="6095880" y="4267080"/>
              <a:ext cx="914040" cy="380520"/>
            </a:xfrm>
            <a:prstGeom prst="rect">
              <a:avLst/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69" name="Rectangle 71"/>
            <p:cNvSpPr/>
            <p:nvPr/>
          </p:nvSpPr>
          <p:spPr>
            <a:xfrm>
              <a:off x="2895480" y="5181480"/>
              <a:ext cx="914040" cy="380520"/>
            </a:xfrm>
            <a:prstGeom prst="rect">
              <a:avLst/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70" name="Rectangle 72"/>
            <p:cNvSpPr/>
            <p:nvPr/>
          </p:nvSpPr>
          <p:spPr>
            <a:xfrm>
              <a:off x="3962520" y="5181480"/>
              <a:ext cx="914040" cy="380520"/>
            </a:xfrm>
            <a:prstGeom prst="rect">
              <a:avLst/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71" name="Rectangle 73"/>
            <p:cNvSpPr/>
            <p:nvPr/>
          </p:nvSpPr>
          <p:spPr>
            <a:xfrm>
              <a:off x="5029200" y="5181480"/>
              <a:ext cx="914040" cy="380520"/>
            </a:xfrm>
            <a:prstGeom prst="rect">
              <a:avLst/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72" name="Rectangle 74"/>
            <p:cNvSpPr/>
            <p:nvPr/>
          </p:nvSpPr>
          <p:spPr>
            <a:xfrm>
              <a:off x="6095880" y="5181480"/>
              <a:ext cx="914040" cy="380520"/>
            </a:xfrm>
            <a:prstGeom prst="rect">
              <a:avLst/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73" name="Rectangle 75"/>
            <p:cNvSpPr/>
            <p:nvPr/>
          </p:nvSpPr>
          <p:spPr>
            <a:xfrm>
              <a:off x="2895480" y="3657600"/>
              <a:ext cx="914040" cy="380520"/>
            </a:xfrm>
            <a:prstGeom prst="rect">
              <a:avLst/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74" name="Rectangle 76"/>
            <p:cNvSpPr/>
            <p:nvPr/>
          </p:nvSpPr>
          <p:spPr>
            <a:xfrm>
              <a:off x="3962520" y="3657600"/>
              <a:ext cx="914040" cy="380520"/>
            </a:xfrm>
            <a:prstGeom prst="rect">
              <a:avLst/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75" name="Rectangle 77"/>
            <p:cNvSpPr/>
            <p:nvPr/>
          </p:nvSpPr>
          <p:spPr>
            <a:xfrm>
              <a:off x="5029200" y="3657600"/>
              <a:ext cx="914040" cy="380520"/>
            </a:xfrm>
            <a:prstGeom prst="rect">
              <a:avLst/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76" name="Rectangle 78"/>
            <p:cNvSpPr/>
            <p:nvPr/>
          </p:nvSpPr>
          <p:spPr>
            <a:xfrm>
              <a:off x="6095880" y="3657600"/>
              <a:ext cx="914040" cy="380520"/>
            </a:xfrm>
            <a:prstGeom prst="rect">
              <a:avLst/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77" name="Rectangle 79"/>
            <p:cNvSpPr/>
            <p:nvPr/>
          </p:nvSpPr>
          <p:spPr>
            <a:xfrm>
              <a:off x="2895480" y="2514600"/>
              <a:ext cx="914040" cy="380520"/>
            </a:xfrm>
            <a:prstGeom prst="rect">
              <a:avLst/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78" name="Rectangle 80"/>
            <p:cNvSpPr/>
            <p:nvPr/>
          </p:nvSpPr>
          <p:spPr>
            <a:xfrm>
              <a:off x="3962520" y="2514600"/>
              <a:ext cx="914040" cy="380520"/>
            </a:xfrm>
            <a:prstGeom prst="rect">
              <a:avLst/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79" name="Rectangle 81"/>
            <p:cNvSpPr/>
            <p:nvPr/>
          </p:nvSpPr>
          <p:spPr>
            <a:xfrm>
              <a:off x="5029200" y="2514600"/>
              <a:ext cx="914040" cy="380520"/>
            </a:xfrm>
            <a:prstGeom prst="rect">
              <a:avLst/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80" name="Rectangle 82"/>
            <p:cNvSpPr/>
            <p:nvPr/>
          </p:nvSpPr>
          <p:spPr>
            <a:xfrm>
              <a:off x="6095880" y="2514600"/>
              <a:ext cx="914040" cy="380520"/>
            </a:xfrm>
            <a:prstGeom prst="rect">
              <a:avLst/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81" name="Rectangle 61"/>
            <p:cNvSpPr/>
            <p:nvPr/>
          </p:nvSpPr>
          <p:spPr>
            <a:xfrm>
              <a:off x="7184880" y="4245120"/>
              <a:ext cx="914040" cy="380520"/>
            </a:xfrm>
            <a:prstGeom prst="rect">
              <a:avLst/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82" name="Rectangle 65"/>
            <p:cNvSpPr/>
            <p:nvPr/>
          </p:nvSpPr>
          <p:spPr>
            <a:xfrm>
              <a:off x="7184880" y="5159520"/>
              <a:ext cx="914040" cy="380520"/>
            </a:xfrm>
            <a:prstGeom prst="rect">
              <a:avLst/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83" name="Rectangle 66"/>
            <p:cNvSpPr/>
            <p:nvPr/>
          </p:nvSpPr>
          <p:spPr>
            <a:xfrm>
              <a:off x="7184880" y="3635280"/>
              <a:ext cx="914040" cy="380520"/>
            </a:xfrm>
            <a:prstGeom prst="rect">
              <a:avLst/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84" name="Rectangle 67"/>
            <p:cNvSpPr/>
            <p:nvPr/>
          </p:nvSpPr>
          <p:spPr>
            <a:xfrm>
              <a:off x="7184880" y="2492280"/>
              <a:ext cx="914040" cy="380520"/>
            </a:xfrm>
            <a:prstGeom prst="rect">
              <a:avLst/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285" name="TextBox 18"/>
          <p:cNvSpPr/>
          <p:nvPr/>
        </p:nvSpPr>
        <p:spPr>
          <a:xfrm>
            <a:off x="2952000" y="1905120"/>
            <a:ext cx="7664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SP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Box 19"/>
          <p:cNvSpPr/>
          <p:nvPr/>
        </p:nvSpPr>
        <p:spPr>
          <a:xfrm>
            <a:off x="3960000" y="1905120"/>
            <a:ext cx="7664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SP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Box 20"/>
          <p:cNvSpPr/>
          <p:nvPr/>
        </p:nvSpPr>
        <p:spPr>
          <a:xfrm>
            <a:off x="5040360" y="1905120"/>
            <a:ext cx="7664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SP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68"/>
          <p:cNvSpPr/>
          <p:nvPr/>
        </p:nvSpPr>
        <p:spPr>
          <a:xfrm>
            <a:off x="3178440" y="1504800"/>
            <a:ext cx="439812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hared Socio-economic Pathw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69"/>
          <p:cNvSpPr/>
          <p:nvPr/>
        </p:nvSpPr>
        <p:spPr>
          <a:xfrm>
            <a:off x="6121080" y="1916280"/>
            <a:ext cx="76788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SP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Box 70"/>
          <p:cNvSpPr/>
          <p:nvPr/>
        </p:nvSpPr>
        <p:spPr>
          <a:xfrm>
            <a:off x="7223040" y="1916280"/>
            <a:ext cx="76788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SP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1" name="Straight Arrow Connector 5"/>
          <p:cNvCxnSpPr/>
          <p:nvPr/>
        </p:nvCxnSpPr>
        <p:spPr>
          <a:xfrm flipV="1">
            <a:off x="539640" y="1704960"/>
            <a:ext cx="71640" cy="3956400"/>
          </a:xfrm>
          <a:prstGeom prst="straightConnector1">
            <a:avLst/>
          </a:prstGeom>
          <a:ln w="25400">
            <a:solidFill>
              <a:srgbClr val="4a7ebb"/>
            </a:solidFill>
            <a:round/>
            <a:tailEnd len="med" type="arrow" w="med"/>
          </a:ln>
        </p:spPr>
      </p:cxnSp>
      <p:cxnSp>
        <p:nvCxnSpPr>
          <p:cNvPr id="292" name="Straight Arrow Connector 25"/>
          <p:cNvCxnSpPr/>
          <p:nvPr/>
        </p:nvCxnSpPr>
        <p:spPr>
          <a:xfrm>
            <a:off x="539640" y="5924520"/>
            <a:ext cx="7417080" cy="360"/>
          </a:xfrm>
          <a:prstGeom prst="straightConnector1">
            <a:avLst/>
          </a:prstGeom>
          <a:ln w="25400">
            <a:solidFill>
              <a:srgbClr val="4a7ebb"/>
            </a:solidFill>
            <a:round/>
            <a:tailEnd len="med" type="arrow" w="med"/>
          </a:ln>
        </p:spPr>
      </p:cxnSp>
      <p:sp>
        <p:nvSpPr>
          <p:cNvPr id="293" name="TextBox 26"/>
          <p:cNvSpPr/>
          <p:nvPr/>
        </p:nvSpPr>
        <p:spPr>
          <a:xfrm>
            <a:off x="2721240" y="5897520"/>
            <a:ext cx="27644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nl-NL" sz="1800" spc="-1" strike="noStrike">
                <a:solidFill>
                  <a:srgbClr val="1f497d"/>
                </a:solidFill>
                <a:latin typeface="Verdana"/>
              </a:rPr>
              <a:t>Challenge to adap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Box 100"/>
          <p:cNvSpPr/>
          <p:nvPr/>
        </p:nvSpPr>
        <p:spPr>
          <a:xfrm rot="16200000">
            <a:off x="-997920" y="3422160"/>
            <a:ext cx="27000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nl-NL" sz="1800" spc="-1" strike="noStrike">
                <a:solidFill>
                  <a:srgbClr val="1f497d"/>
                </a:solidFill>
                <a:latin typeface="Verdana"/>
              </a:rPr>
              <a:t>Challenge to mitig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itle 1"/>
          <p:cNvSpPr/>
          <p:nvPr/>
        </p:nvSpPr>
        <p:spPr>
          <a:xfrm>
            <a:off x="534960" y="0"/>
            <a:ext cx="7772040" cy="60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Scenario Matrix Archite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4.44444E-006 L -0.2349 0.45556 E">
                                      <p:cBhvr>
                                        <p:cTn id="85" dur="2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6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25 E">
                                      <p:cBhvr>
                                        <p:cTn id="87" dur="2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8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4.44444E-006 L 0.15902 -0.00648 E">
                                      <p:cBhvr>
                                        <p:cTn id="89" dur="2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0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-2.96296E-006 L 0.03264 0.45394 E">
                                      <p:cBhvr>
                                        <p:cTn id="91" dur="2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2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4.81481E-006 L -0.69427 0.00255 E">
                                      <p:cBhvr>
                                        <p:cTn id="93" dur="2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4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-0.10243 -0.02106 E">
                                      <p:cBhvr>
                                        <p:cTn id="95" dur="2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6" name="Group 349"/>
          <p:cNvGrpSpPr/>
          <p:nvPr/>
        </p:nvGrpSpPr>
        <p:grpSpPr>
          <a:xfrm>
            <a:off x="54360" y="4059720"/>
            <a:ext cx="8645760" cy="2640240"/>
            <a:chOff x="54360" y="4059720"/>
            <a:chExt cx="8645760" cy="2640240"/>
          </a:xfrm>
        </p:grpSpPr>
        <p:grpSp>
          <p:nvGrpSpPr>
            <p:cNvPr id="297" name="Group -1024"/>
            <p:cNvGrpSpPr/>
            <p:nvPr/>
          </p:nvGrpSpPr>
          <p:grpSpPr>
            <a:xfrm>
              <a:off x="4500000" y="4059720"/>
              <a:ext cx="4200120" cy="2640240"/>
              <a:chOff x="4500000" y="4059720"/>
              <a:chExt cx="4200120" cy="2640240"/>
            </a:xfrm>
          </p:grpSpPr>
          <p:sp>
            <p:nvSpPr>
              <p:cNvPr id="298" name="Freeform 208"/>
              <p:cNvSpPr/>
              <p:nvPr/>
            </p:nvSpPr>
            <p:spPr>
              <a:xfrm>
                <a:off x="4879800" y="4141800"/>
                <a:ext cx="3704400" cy="2360160"/>
              </a:xfrm>
              <a:custGeom>
                <a:avLst/>
                <a:gdLst>
                  <a:gd name="textAreaLeft" fmla="*/ 0 w 3704400"/>
                  <a:gd name="textAreaRight" fmla="*/ 3704760 w 3704400"/>
                  <a:gd name="textAreaTop" fmla="*/ 0 h 2360160"/>
                  <a:gd name="textAreaBottom" fmla="*/ 2360520 h 2360160"/>
                </a:gdLst>
                <a:ahLst/>
                <a:rect l="textAreaLeft" t="textAreaTop" r="textAreaRight" b="textAreaBottom"/>
                <a:pathLst>
                  <a:path w="2320" h="960">
                    <a:moveTo>
                      <a:pt x="0" y="0"/>
                    </a:moveTo>
                    <a:lnTo>
                      <a:pt x="2320" y="0"/>
                    </a:lnTo>
                    <a:lnTo>
                      <a:pt x="2320" y="960"/>
                    </a:lnTo>
                    <a:lnTo>
                      <a:pt x="0" y="96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9" name="Text Box 209"/>
              <p:cNvSpPr/>
              <p:nvPr/>
            </p:nvSpPr>
            <p:spPr>
              <a:xfrm>
                <a:off x="4764240" y="6577560"/>
                <a:ext cx="231120" cy="122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Dialog"/>
                  </a:rPr>
                  <a:t>185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Freeform 210"/>
              <p:cNvSpPr/>
              <p:nvPr/>
            </p:nvSpPr>
            <p:spPr>
              <a:xfrm>
                <a:off x="4879800" y="6502680"/>
                <a:ext cx="1080" cy="388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38880"/>
                  <a:gd name="textAreaBottom" fmla="*/ 39240 h 38880"/>
                </a:gdLst>
                <a:ahLst/>
                <a:rect l="textAreaLeft" t="textAreaTop" r="textAreaRight" b="textAreaBottom"/>
                <a:pathLst>
                  <a:path w="0" h="16">
                    <a:moveTo>
                      <a:pt x="0" y="0"/>
                    </a:moveTo>
                    <a:lnTo>
                      <a:pt x="0" y="16"/>
                    </a:lnTo>
                  </a:path>
                </a:pathLst>
              </a:custGeom>
              <a:noFill/>
              <a:ln w="317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1" name="Text Box 211"/>
              <p:cNvSpPr/>
              <p:nvPr/>
            </p:nvSpPr>
            <p:spPr>
              <a:xfrm>
                <a:off x="5505480" y="6577560"/>
                <a:ext cx="231120" cy="122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Dialog"/>
                  </a:rPr>
                  <a:t>190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Freeform 212"/>
              <p:cNvSpPr/>
              <p:nvPr/>
            </p:nvSpPr>
            <p:spPr>
              <a:xfrm>
                <a:off x="5620680" y="6502680"/>
                <a:ext cx="1080" cy="388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38880"/>
                  <a:gd name="textAreaBottom" fmla="*/ 39240 h 38880"/>
                </a:gdLst>
                <a:ahLst/>
                <a:rect l="textAreaLeft" t="textAreaTop" r="textAreaRight" b="textAreaBottom"/>
                <a:pathLst>
                  <a:path w="0" h="16">
                    <a:moveTo>
                      <a:pt x="0" y="0"/>
                    </a:moveTo>
                    <a:lnTo>
                      <a:pt x="0" y="16"/>
                    </a:lnTo>
                  </a:path>
                </a:pathLst>
              </a:custGeom>
              <a:noFill/>
              <a:ln w="317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3" name="Text Box 213"/>
              <p:cNvSpPr/>
              <p:nvPr/>
            </p:nvSpPr>
            <p:spPr>
              <a:xfrm>
                <a:off x="6246360" y="6577560"/>
                <a:ext cx="231120" cy="122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Dialog"/>
                  </a:rPr>
                  <a:t>195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Freeform 214"/>
              <p:cNvSpPr/>
              <p:nvPr/>
            </p:nvSpPr>
            <p:spPr>
              <a:xfrm>
                <a:off x="6361920" y="6502680"/>
                <a:ext cx="1080" cy="388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38880"/>
                  <a:gd name="textAreaBottom" fmla="*/ 39240 h 38880"/>
                </a:gdLst>
                <a:ahLst/>
                <a:rect l="textAreaLeft" t="textAreaTop" r="textAreaRight" b="textAreaBottom"/>
                <a:pathLst>
                  <a:path w="0" h="16">
                    <a:moveTo>
                      <a:pt x="0" y="0"/>
                    </a:moveTo>
                    <a:lnTo>
                      <a:pt x="0" y="16"/>
                    </a:lnTo>
                  </a:path>
                </a:pathLst>
              </a:custGeom>
              <a:noFill/>
              <a:ln w="317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5" name="Text Box 215"/>
              <p:cNvSpPr/>
              <p:nvPr/>
            </p:nvSpPr>
            <p:spPr>
              <a:xfrm>
                <a:off x="6987240" y="6577560"/>
                <a:ext cx="231120" cy="122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Dialog"/>
                  </a:rPr>
                  <a:t>200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Freeform 216"/>
              <p:cNvSpPr/>
              <p:nvPr/>
            </p:nvSpPr>
            <p:spPr>
              <a:xfrm>
                <a:off x="7102800" y="6502680"/>
                <a:ext cx="1080" cy="388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38880"/>
                  <a:gd name="textAreaBottom" fmla="*/ 39240 h 38880"/>
                </a:gdLst>
                <a:ahLst/>
                <a:rect l="textAreaLeft" t="textAreaTop" r="textAreaRight" b="textAreaBottom"/>
                <a:pathLst>
                  <a:path w="0" h="16">
                    <a:moveTo>
                      <a:pt x="0" y="0"/>
                    </a:moveTo>
                    <a:lnTo>
                      <a:pt x="0" y="16"/>
                    </a:lnTo>
                  </a:path>
                </a:pathLst>
              </a:custGeom>
              <a:noFill/>
              <a:ln w="317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7" name="Text Box 217"/>
              <p:cNvSpPr/>
              <p:nvPr/>
            </p:nvSpPr>
            <p:spPr>
              <a:xfrm>
                <a:off x="7728120" y="5584320"/>
                <a:ext cx="231120" cy="122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Dialog"/>
                  </a:rPr>
                  <a:t>205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Freeform 218"/>
              <p:cNvSpPr/>
              <p:nvPr/>
            </p:nvSpPr>
            <p:spPr>
              <a:xfrm>
                <a:off x="7843680" y="6502680"/>
                <a:ext cx="1080" cy="388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38880"/>
                  <a:gd name="textAreaBottom" fmla="*/ 39240 h 38880"/>
                </a:gdLst>
                <a:ahLst/>
                <a:rect l="textAreaLeft" t="textAreaTop" r="textAreaRight" b="textAreaBottom"/>
                <a:pathLst>
                  <a:path w="0" h="16">
                    <a:moveTo>
                      <a:pt x="0" y="0"/>
                    </a:moveTo>
                    <a:lnTo>
                      <a:pt x="0" y="16"/>
                    </a:lnTo>
                  </a:path>
                </a:pathLst>
              </a:custGeom>
              <a:noFill/>
              <a:ln w="317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9" name="Text Box 219"/>
              <p:cNvSpPr/>
              <p:nvPr/>
            </p:nvSpPr>
            <p:spPr>
              <a:xfrm>
                <a:off x="8469000" y="6577560"/>
                <a:ext cx="231120" cy="122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Dialog"/>
                  </a:rPr>
                  <a:t>210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Freeform 220"/>
              <p:cNvSpPr/>
              <p:nvPr/>
            </p:nvSpPr>
            <p:spPr>
              <a:xfrm>
                <a:off x="8584560" y="6502680"/>
                <a:ext cx="1080" cy="388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38880"/>
                  <a:gd name="textAreaBottom" fmla="*/ 39240 h 38880"/>
                </a:gdLst>
                <a:ahLst/>
                <a:rect l="textAreaLeft" t="textAreaTop" r="textAreaRight" b="textAreaBottom"/>
                <a:pathLst>
                  <a:path w="0" h="16">
                    <a:moveTo>
                      <a:pt x="0" y="0"/>
                    </a:moveTo>
                    <a:lnTo>
                      <a:pt x="0" y="16"/>
                    </a:lnTo>
                  </a:path>
                </a:pathLst>
              </a:custGeom>
              <a:noFill/>
              <a:ln w="317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1" name="Text Box 221"/>
              <p:cNvSpPr/>
              <p:nvPr/>
            </p:nvSpPr>
            <p:spPr>
              <a:xfrm rot="16200000">
                <a:off x="4513320" y="5258520"/>
                <a:ext cx="79560" cy="10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Dialog"/>
                  </a:rPr>
                  <a:t>EJ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Text Box 222"/>
              <p:cNvSpPr/>
              <p:nvPr/>
            </p:nvSpPr>
            <p:spPr>
              <a:xfrm>
                <a:off x="4787280" y="6420240"/>
                <a:ext cx="57600" cy="122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Dialog"/>
                  </a:rPr>
                  <a:t>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Freeform 223"/>
              <p:cNvSpPr/>
              <p:nvPr/>
            </p:nvSpPr>
            <p:spPr>
              <a:xfrm>
                <a:off x="4854240" y="6502680"/>
                <a:ext cx="25200" cy="216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2160"/>
                  <a:gd name="textAreaBottom" fmla="*/ 2520 h 2160"/>
                </a:gdLst>
                <a:ahLst/>
                <a:rect l="textAreaLeft" t="textAreaTop" r="textAreaRight" b="textAreaBottom"/>
                <a:pathLst>
                  <a:path w="16" h="0">
                    <a:moveTo>
                      <a:pt x="16" y="0"/>
                    </a:moveTo>
                    <a:lnTo>
                      <a:pt x="0" y="0"/>
                    </a:lnTo>
                  </a:path>
                </a:pathLst>
              </a:custGeom>
              <a:noFill/>
              <a:ln w="317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4" name="Text Box 224"/>
              <p:cNvSpPr/>
              <p:nvPr/>
            </p:nvSpPr>
            <p:spPr>
              <a:xfrm>
                <a:off x="4678200" y="5948280"/>
                <a:ext cx="173520" cy="122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Dialog"/>
                  </a:rPr>
                  <a:t>50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Freeform 225"/>
              <p:cNvSpPr/>
              <p:nvPr/>
            </p:nvSpPr>
            <p:spPr>
              <a:xfrm>
                <a:off x="4854240" y="6030360"/>
                <a:ext cx="25200" cy="216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2160"/>
                  <a:gd name="textAreaBottom" fmla="*/ 2520 h 2160"/>
                </a:gdLst>
                <a:ahLst/>
                <a:rect l="textAreaLeft" t="textAreaTop" r="textAreaRight" b="textAreaBottom"/>
                <a:pathLst>
                  <a:path w="16" h="0">
                    <a:moveTo>
                      <a:pt x="16" y="0"/>
                    </a:moveTo>
                    <a:lnTo>
                      <a:pt x="0" y="0"/>
                    </a:lnTo>
                  </a:path>
                </a:pathLst>
              </a:custGeom>
              <a:noFill/>
              <a:ln w="317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6" name="Text Box 226"/>
              <p:cNvSpPr/>
              <p:nvPr/>
            </p:nvSpPr>
            <p:spPr>
              <a:xfrm>
                <a:off x="4623840" y="5475960"/>
                <a:ext cx="231120" cy="122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Dialog"/>
                  </a:rPr>
                  <a:t>100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Freeform 227"/>
              <p:cNvSpPr/>
              <p:nvPr/>
            </p:nvSpPr>
            <p:spPr>
              <a:xfrm>
                <a:off x="4854240" y="5558400"/>
                <a:ext cx="25200" cy="216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2160"/>
                  <a:gd name="textAreaBottom" fmla="*/ 2520 h 2160"/>
                </a:gdLst>
                <a:ahLst/>
                <a:rect l="textAreaLeft" t="textAreaTop" r="textAreaRight" b="textAreaBottom"/>
                <a:pathLst>
                  <a:path w="16" h="0">
                    <a:moveTo>
                      <a:pt x="16" y="0"/>
                    </a:moveTo>
                    <a:lnTo>
                      <a:pt x="0" y="0"/>
                    </a:lnTo>
                  </a:path>
                </a:pathLst>
              </a:custGeom>
              <a:noFill/>
              <a:ln w="317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8" name="Text Box 228"/>
              <p:cNvSpPr/>
              <p:nvPr/>
            </p:nvSpPr>
            <p:spPr>
              <a:xfrm>
                <a:off x="4623840" y="5004000"/>
                <a:ext cx="231120" cy="122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Dialog"/>
                  </a:rPr>
                  <a:t>150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Freeform 229"/>
              <p:cNvSpPr/>
              <p:nvPr/>
            </p:nvSpPr>
            <p:spPr>
              <a:xfrm>
                <a:off x="4854240" y="5086080"/>
                <a:ext cx="25200" cy="216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2160"/>
                  <a:gd name="textAreaBottom" fmla="*/ 2520 h 2160"/>
                </a:gdLst>
                <a:ahLst/>
                <a:rect l="textAreaLeft" t="textAreaTop" r="textAreaRight" b="textAreaBottom"/>
                <a:pathLst>
                  <a:path w="16" h="0">
                    <a:moveTo>
                      <a:pt x="16" y="0"/>
                    </a:moveTo>
                    <a:lnTo>
                      <a:pt x="0" y="0"/>
                    </a:lnTo>
                  </a:path>
                </a:pathLst>
              </a:custGeom>
              <a:noFill/>
              <a:ln w="317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0" name="Text Box 230"/>
              <p:cNvSpPr/>
              <p:nvPr/>
            </p:nvSpPr>
            <p:spPr>
              <a:xfrm>
                <a:off x="4623840" y="4531680"/>
                <a:ext cx="231120" cy="122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Dialog"/>
                  </a:rPr>
                  <a:t>200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Freeform 231"/>
              <p:cNvSpPr/>
              <p:nvPr/>
            </p:nvSpPr>
            <p:spPr>
              <a:xfrm>
                <a:off x="4854240" y="4614120"/>
                <a:ext cx="25200" cy="216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2160"/>
                  <a:gd name="textAreaBottom" fmla="*/ 2520 h 2160"/>
                </a:gdLst>
                <a:ahLst/>
                <a:rect l="textAreaLeft" t="textAreaTop" r="textAreaRight" b="textAreaBottom"/>
                <a:pathLst>
                  <a:path w="16" h="0">
                    <a:moveTo>
                      <a:pt x="16" y="0"/>
                    </a:moveTo>
                    <a:lnTo>
                      <a:pt x="0" y="0"/>
                    </a:lnTo>
                  </a:path>
                </a:pathLst>
              </a:custGeom>
              <a:noFill/>
              <a:ln w="317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2" name="Text Box 232"/>
              <p:cNvSpPr/>
              <p:nvPr/>
            </p:nvSpPr>
            <p:spPr>
              <a:xfrm>
                <a:off x="4623840" y="4059720"/>
                <a:ext cx="231120" cy="122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Dialog"/>
                  </a:rPr>
                  <a:t>250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Freeform 233"/>
              <p:cNvSpPr/>
              <p:nvPr/>
            </p:nvSpPr>
            <p:spPr>
              <a:xfrm>
                <a:off x="4854240" y="4141800"/>
                <a:ext cx="25200" cy="216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2160"/>
                  <a:gd name="textAreaBottom" fmla="*/ 2520 h 2160"/>
                </a:gdLst>
                <a:ahLst/>
                <a:rect l="textAreaLeft" t="textAreaTop" r="textAreaRight" b="textAreaBottom"/>
                <a:pathLst>
                  <a:path w="16" h="0">
                    <a:moveTo>
                      <a:pt x="16" y="0"/>
                    </a:moveTo>
                    <a:lnTo>
                      <a:pt x="0" y="0"/>
                    </a:lnTo>
                  </a:path>
                </a:pathLst>
              </a:custGeom>
              <a:noFill/>
              <a:ln w="317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4" name="Freeform 234"/>
              <p:cNvSpPr/>
              <p:nvPr/>
            </p:nvSpPr>
            <p:spPr>
              <a:xfrm>
                <a:off x="4879800" y="4141800"/>
                <a:ext cx="3704400" cy="2360160"/>
              </a:xfrm>
              <a:custGeom>
                <a:avLst/>
                <a:gdLst>
                  <a:gd name="textAreaLeft" fmla="*/ 0 w 3704400"/>
                  <a:gd name="textAreaRight" fmla="*/ 3704760 w 3704400"/>
                  <a:gd name="textAreaTop" fmla="*/ 0 h 2360160"/>
                  <a:gd name="textAreaBottom" fmla="*/ 2360520 h 2360160"/>
                </a:gdLst>
                <a:ahLst/>
                <a:rect l="textAreaLeft" t="textAreaTop" r="textAreaRight" b="textAreaBottom"/>
                <a:pathLst>
                  <a:path w="2320" h="960">
                    <a:moveTo>
                      <a:pt x="0" y="0"/>
                    </a:moveTo>
                    <a:lnTo>
                      <a:pt x="2320" y="0"/>
                    </a:lnTo>
                    <a:lnTo>
                      <a:pt x="2320" y="960"/>
                    </a:lnTo>
                    <a:lnTo>
                      <a:pt x="0" y="96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317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5" name="Freeform 235"/>
              <p:cNvSpPr/>
              <p:nvPr/>
            </p:nvSpPr>
            <p:spPr>
              <a:xfrm>
                <a:off x="7176240" y="5609880"/>
                <a:ext cx="1407960" cy="466920"/>
              </a:xfrm>
              <a:custGeom>
                <a:avLst/>
                <a:gdLst>
                  <a:gd name="textAreaLeft" fmla="*/ 0 w 1407960"/>
                  <a:gd name="textAreaRight" fmla="*/ 1408320 w 1407960"/>
                  <a:gd name="textAreaTop" fmla="*/ 0 h 466920"/>
                  <a:gd name="textAreaBottom" fmla="*/ 467280 h 466920"/>
                </a:gdLst>
                <a:ahLst/>
                <a:rect l="textAreaLeft" t="textAreaTop" r="textAreaRight" b="textAreaBottom"/>
                <a:pathLst>
                  <a:path w="881" h="189">
                    <a:moveTo>
                      <a:pt x="0" y="185"/>
                    </a:moveTo>
                    <a:lnTo>
                      <a:pt x="46" y="167"/>
                    </a:lnTo>
                    <a:lnTo>
                      <a:pt x="139" y="118"/>
                    </a:lnTo>
                    <a:lnTo>
                      <a:pt x="232" y="69"/>
                    </a:lnTo>
                    <a:lnTo>
                      <a:pt x="324" y="36"/>
                    </a:lnTo>
                    <a:lnTo>
                      <a:pt x="417" y="17"/>
                    </a:lnTo>
                    <a:lnTo>
                      <a:pt x="510" y="4"/>
                    </a:lnTo>
                    <a:lnTo>
                      <a:pt x="603" y="0"/>
                    </a:lnTo>
                    <a:lnTo>
                      <a:pt x="696" y="6"/>
                    </a:lnTo>
                    <a:lnTo>
                      <a:pt x="788" y="11"/>
                    </a:lnTo>
                    <a:lnTo>
                      <a:pt x="881" y="15"/>
                    </a:lnTo>
                    <a:lnTo>
                      <a:pt x="881" y="61"/>
                    </a:lnTo>
                    <a:lnTo>
                      <a:pt x="788" y="52"/>
                    </a:lnTo>
                    <a:lnTo>
                      <a:pt x="696" y="42"/>
                    </a:lnTo>
                    <a:lnTo>
                      <a:pt x="603" y="30"/>
                    </a:lnTo>
                    <a:lnTo>
                      <a:pt x="510" y="30"/>
                    </a:lnTo>
                    <a:lnTo>
                      <a:pt x="417" y="38"/>
                    </a:lnTo>
                    <a:lnTo>
                      <a:pt x="324" y="54"/>
                    </a:lnTo>
                    <a:lnTo>
                      <a:pt x="232" y="82"/>
                    </a:lnTo>
                    <a:lnTo>
                      <a:pt x="139" y="127"/>
                    </a:lnTo>
                    <a:lnTo>
                      <a:pt x="46" y="172"/>
                    </a:lnTo>
                    <a:lnTo>
                      <a:pt x="0" y="189"/>
                    </a:lnTo>
                    <a:lnTo>
                      <a:pt x="0" y="185"/>
                    </a:lnTo>
                    <a:close/>
                  </a:path>
                </a:pathLst>
              </a:custGeom>
              <a:solidFill>
                <a:srgbClr val="ffc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6" name="Freeform 236"/>
              <p:cNvSpPr/>
              <p:nvPr/>
            </p:nvSpPr>
            <p:spPr>
              <a:xfrm>
                <a:off x="7176240" y="5609880"/>
                <a:ext cx="1407960" cy="466920"/>
              </a:xfrm>
              <a:custGeom>
                <a:avLst/>
                <a:gdLst>
                  <a:gd name="textAreaLeft" fmla="*/ 0 w 1407960"/>
                  <a:gd name="textAreaRight" fmla="*/ 1408320 w 1407960"/>
                  <a:gd name="textAreaTop" fmla="*/ 0 h 466920"/>
                  <a:gd name="textAreaBottom" fmla="*/ 467280 h 466920"/>
                </a:gdLst>
                <a:ahLst/>
                <a:rect l="textAreaLeft" t="textAreaTop" r="textAreaRight" b="textAreaBottom"/>
                <a:pathLst>
                  <a:path w="881" h="189">
                    <a:moveTo>
                      <a:pt x="0" y="185"/>
                    </a:moveTo>
                    <a:lnTo>
                      <a:pt x="46" y="167"/>
                    </a:lnTo>
                    <a:lnTo>
                      <a:pt x="139" y="118"/>
                    </a:lnTo>
                    <a:lnTo>
                      <a:pt x="232" y="69"/>
                    </a:lnTo>
                    <a:lnTo>
                      <a:pt x="324" y="36"/>
                    </a:lnTo>
                    <a:lnTo>
                      <a:pt x="417" y="17"/>
                    </a:lnTo>
                    <a:lnTo>
                      <a:pt x="510" y="4"/>
                    </a:lnTo>
                    <a:lnTo>
                      <a:pt x="603" y="0"/>
                    </a:lnTo>
                    <a:lnTo>
                      <a:pt x="696" y="6"/>
                    </a:lnTo>
                    <a:lnTo>
                      <a:pt x="788" y="11"/>
                    </a:lnTo>
                    <a:lnTo>
                      <a:pt x="881" y="15"/>
                    </a:lnTo>
                    <a:lnTo>
                      <a:pt x="881" y="61"/>
                    </a:lnTo>
                    <a:lnTo>
                      <a:pt x="788" y="52"/>
                    </a:lnTo>
                    <a:lnTo>
                      <a:pt x="696" y="42"/>
                    </a:lnTo>
                    <a:lnTo>
                      <a:pt x="603" y="30"/>
                    </a:lnTo>
                    <a:lnTo>
                      <a:pt x="510" y="30"/>
                    </a:lnTo>
                    <a:lnTo>
                      <a:pt x="417" y="38"/>
                    </a:lnTo>
                    <a:lnTo>
                      <a:pt x="324" y="54"/>
                    </a:lnTo>
                    <a:lnTo>
                      <a:pt x="232" y="82"/>
                    </a:lnTo>
                    <a:lnTo>
                      <a:pt x="139" y="127"/>
                    </a:lnTo>
                    <a:lnTo>
                      <a:pt x="46" y="172"/>
                    </a:lnTo>
                    <a:lnTo>
                      <a:pt x="0" y="189"/>
                    </a:lnTo>
                    <a:lnTo>
                      <a:pt x="0" y="185"/>
                    </a:lnTo>
                    <a:close/>
                  </a:path>
                </a:pathLst>
              </a:custGeom>
              <a:noFill/>
              <a:ln w="3175">
                <a:solidFill>
                  <a:srgbClr val="ffc8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7" name="Freeform 237"/>
              <p:cNvSpPr/>
              <p:nvPr/>
            </p:nvSpPr>
            <p:spPr>
              <a:xfrm>
                <a:off x="7176240" y="5683680"/>
                <a:ext cx="1407960" cy="402840"/>
              </a:xfrm>
              <a:custGeom>
                <a:avLst/>
                <a:gdLst>
                  <a:gd name="textAreaLeft" fmla="*/ 0 w 1407960"/>
                  <a:gd name="textAreaRight" fmla="*/ 1408320 w 1407960"/>
                  <a:gd name="textAreaTop" fmla="*/ 0 h 402840"/>
                  <a:gd name="textAreaBottom" fmla="*/ 403200 h 402840"/>
                </a:gdLst>
                <a:ahLst/>
                <a:rect l="textAreaLeft" t="textAreaTop" r="textAreaRight" b="textAreaBottom"/>
                <a:pathLst>
                  <a:path w="881" h="163">
                    <a:moveTo>
                      <a:pt x="0" y="159"/>
                    </a:moveTo>
                    <a:lnTo>
                      <a:pt x="46" y="142"/>
                    </a:lnTo>
                    <a:lnTo>
                      <a:pt x="139" y="97"/>
                    </a:lnTo>
                    <a:lnTo>
                      <a:pt x="232" y="52"/>
                    </a:lnTo>
                    <a:lnTo>
                      <a:pt x="324" y="23"/>
                    </a:lnTo>
                    <a:lnTo>
                      <a:pt x="417" y="8"/>
                    </a:lnTo>
                    <a:lnTo>
                      <a:pt x="510" y="0"/>
                    </a:lnTo>
                    <a:lnTo>
                      <a:pt x="603" y="0"/>
                    </a:lnTo>
                    <a:lnTo>
                      <a:pt x="696" y="11"/>
                    </a:lnTo>
                    <a:lnTo>
                      <a:pt x="788" y="22"/>
                    </a:lnTo>
                    <a:lnTo>
                      <a:pt x="881" y="31"/>
                    </a:lnTo>
                    <a:lnTo>
                      <a:pt x="881" y="52"/>
                    </a:lnTo>
                    <a:lnTo>
                      <a:pt x="788" y="42"/>
                    </a:lnTo>
                    <a:lnTo>
                      <a:pt x="696" y="31"/>
                    </a:lnTo>
                    <a:lnTo>
                      <a:pt x="603" y="16"/>
                    </a:lnTo>
                    <a:lnTo>
                      <a:pt x="510" y="14"/>
                    </a:lnTo>
                    <a:lnTo>
                      <a:pt x="417" y="20"/>
                    </a:lnTo>
                    <a:lnTo>
                      <a:pt x="324" y="33"/>
                    </a:lnTo>
                    <a:lnTo>
                      <a:pt x="232" y="59"/>
                    </a:lnTo>
                    <a:lnTo>
                      <a:pt x="139" y="102"/>
                    </a:lnTo>
                    <a:lnTo>
                      <a:pt x="46" y="146"/>
                    </a:lnTo>
                    <a:lnTo>
                      <a:pt x="0" y="163"/>
                    </a:lnTo>
                    <a:lnTo>
                      <a:pt x="0" y="159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8" name="Freeform 238"/>
              <p:cNvSpPr/>
              <p:nvPr/>
            </p:nvSpPr>
            <p:spPr>
              <a:xfrm>
                <a:off x="7176240" y="5683680"/>
                <a:ext cx="1407960" cy="402840"/>
              </a:xfrm>
              <a:custGeom>
                <a:avLst/>
                <a:gdLst>
                  <a:gd name="textAreaLeft" fmla="*/ 0 w 1407960"/>
                  <a:gd name="textAreaRight" fmla="*/ 1408320 w 1407960"/>
                  <a:gd name="textAreaTop" fmla="*/ 0 h 402840"/>
                  <a:gd name="textAreaBottom" fmla="*/ 403200 h 402840"/>
                </a:gdLst>
                <a:ahLst/>
                <a:rect l="textAreaLeft" t="textAreaTop" r="textAreaRight" b="textAreaBottom"/>
                <a:pathLst>
                  <a:path w="881" h="163">
                    <a:moveTo>
                      <a:pt x="0" y="159"/>
                    </a:moveTo>
                    <a:lnTo>
                      <a:pt x="46" y="142"/>
                    </a:lnTo>
                    <a:lnTo>
                      <a:pt x="139" y="97"/>
                    </a:lnTo>
                    <a:lnTo>
                      <a:pt x="232" y="52"/>
                    </a:lnTo>
                    <a:lnTo>
                      <a:pt x="324" y="23"/>
                    </a:lnTo>
                    <a:lnTo>
                      <a:pt x="417" y="8"/>
                    </a:lnTo>
                    <a:lnTo>
                      <a:pt x="510" y="0"/>
                    </a:lnTo>
                    <a:lnTo>
                      <a:pt x="603" y="0"/>
                    </a:lnTo>
                    <a:lnTo>
                      <a:pt x="696" y="11"/>
                    </a:lnTo>
                    <a:lnTo>
                      <a:pt x="788" y="22"/>
                    </a:lnTo>
                    <a:lnTo>
                      <a:pt x="881" y="31"/>
                    </a:lnTo>
                    <a:lnTo>
                      <a:pt x="881" y="52"/>
                    </a:lnTo>
                    <a:lnTo>
                      <a:pt x="788" y="42"/>
                    </a:lnTo>
                    <a:lnTo>
                      <a:pt x="696" y="31"/>
                    </a:lnTo>
                    <a:lnTo>
                      <a:pt x="603" y="16"/>
                    </a:lnTo>
                    <a:lnTo>
                      <a:pt x="510" y="14"/>
                    </a:lnTo>
                    <a:lnTo>
                      <a:pt x="417" y="20"/>
                    </a:lnTo>
                    <a:lnTo>
                      <a:pt x="324" y="33"/>
                    </a:lnTo>
                    <a:lnTo>
                      <a:pt x="232" y="59"/>
                    </a:lnTo>
                    <a:lnTo>
                      <a:pt x="139" y="102"/>
                    </a:lnTo>
                    <a:lnTo>
                      <a:pt x="46" y="146"/>
                    </a:lnTo>
                    <a:lnTo>
                      <a:pt x="0" y="163"/>
                    </a:lnTo>
                    <a:lnTo>
                      <a:pt x="0" y="159"/>
                    </a:lnTo>
                    <a:close/>
                  </a:path>
                </a:pathLst>
              </a:custGeom>
              <a:noFill/>
              <a:ln w="3175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9" name="Freeform 239"/>
              <p:cNvSpPr/>
              <p:nvPr/>
            </p:nvSpPr>
            <p:spPr>
              <a:xfrm>
                <a:off x="7176240" y="5718240"/>
                <a:ext cx="1407960" cy="461880"/>
              </a:xfrm>
              <a:custGeom>
                <a:avLst/>
                <a:gdLst>
                  <a:gd name="textAreaLeft" fmla="*/ 0 w 1407960"/>
                  <a:gd name="textAreaRight" fmla="*/ 1408320 w 1407960"/>
                  <a:gd name="textAreaTop" fmla="*/ 0 h 461880"/>
                  <a:gd name="textAreaBottom" fmla="*/ 462240 h 461880"/>
                </a:gdLst>
                <a:ahLst/>
                <a:rect l="textAreaLeft" t="textAreaTop" r="textAreaRight" b="textAreaBottom"/>
                <a:pathLst>
                  <a:path w="881" h="187">
                    <a:moveTo>
                      <a:pt x="0" y="149"/>
                    </a:moveTo>
                    <a:lnTo>
                      <a:pt x="46" y="132"/>
                    </a:lnTo>
                    <a:lnTo>
                      <a:pt x="139" y="87"/>
                    </a:lnTo>
                    <a:lnTo>
                      <a:pt x="232" y="44"/>
                    </a:lnTo>
                    <a:lnTo>
                      <a:pt x="324" y="19"/>
                    </a:lnTo>
                    <a:lnTo>
                      <a:pt x="417" y="6"/>
                    </a:lnTo>
                    <a:lnTo>
                      <a:pt x="510" y="0"/>
                    </a:lnTo>
                    <a:lnTo>
                      <a:pt x="603" y="2"/>
                    </a:lnTo>
                    <a:lnTo>
                      <a:pt x="696" y="16"/>
                    </a:lnTo>
                    <a:lnTo>
                      <a:pt x="788" y="28"/>
                    </a:lnTo>
                    <a:lnTo>
                      <a:pt x="881" y="37"/>
                    </a:lnTo>
                    <a:lnTo>
                      <a:pt x="881" y="115"/>
                    </a:lnTo>
                    <a:lnTo>
                      <a:pt x="788" y="107"/>
                    </a:lnTo>
                    <a:lnTo>
                      <a:pt x="696" y="99"/>
                    </a:lnTo>
                    <a:lnTo>
                      <a:pt x="603" y="89"/>
                    </a:lnTo>
                    <a:lnTo>
                      <a:pt x="510" y="91"/>
                    </a:lnTo>
                    <a:lnTo>
                      <a:pt x="417" y="97"/>
                    </a:lnTo>
                    <a:lnTo>
                      <a:pt x="324" y="104"/>
                    </a:lnTo>
                    <a:lnTo>
                      <a:pt x="232" y="118"/>
                    </a:lnTo>
                    <a:lnTo>
                      <a:pt x="139" y="143"/>
                    </a:lnTo>
                    <a:lnTo>
                      <a:pt x="46" y="175"/>
                    </a:lnTo>
                    <a:lnTo>
                      <a:pt x="0" y="187"/>
                    </a:lnTo>
                    <a:lnTo>
                      <a:pt x="0" y="149"/>
                    </a:lnTo>
                    <a:close/>
                  </a:path>
                </a:pathLst>
              </a:custGeom>
              <a:solidFill>
                <a:srgbClr val="006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0" name="Freeform 240"/>
              <p:cNvSpPr/>
              <p:nvPr/>
            </p:nvSpPr>
            <p:spPr>
              <a:xfrm>
                <a:off x="7176240" y="5718240"/>
                <a:ext cx="1407960" cy="461880"/>
              </a:xfrm>
              <a:custGeom>
                <a:avLst/>
                <a:gdLst>
                  <a:gd name="textAreaLeft" fmla="*/ 0 w 1407960"/>
                  <a:gd name="textAreaRight" fmla="*/ 1408320 w 1407960"/>
                  <a:gd name="textAreaTop" fmla="*/ 0 h 461880"/>
                  <a:gd name="textAreaBottom" fmla="*/ 462240 h 461880"/>
                </a:gdLst>
                <a:ahLst/>
                <a:rect l="textAreaLeft" t="textAreaTop" r="textAreaRight" b="textAreaBottom"/>
                <a:pathLst>
                  <a:path w="881" h="187">
                    <a:moveTo>
                      <a:pt x="0" y="149"/>
                    </a:moveTo>
                    <a:lnTo>
                      <a:pt x="46" y="132"/>
                    </a:lnTo>
                    <a:lnTo>
                      <a:pt x="139" y="87"/>
                    </a:lnTo>
                    <a:lnTo>
                      <a:pt x="232" y="44"/>
                    </a:lnTo>
                    <a:lnTo>
                      <a:pt x="324" y="19"/>
                    </a:lnTo>
                    <a:lnTo>
                      <a:pt x="417" y="6"/>
                    </a:lnTo>
                    <a:lnTo>
                      <a:pt x="510" y="0"/>
                    </a:lnTo>
                    <a:lnTo>
                      <a:pt x="603" y="2"/>
                    </a:lnTo>
                    <a:lnTo>
                      <a:pt x="696" y="16"/>
                    </a:lnTo>
                    <a:lnTo>
                      <a:pt x="788" y="28"/>
                    </a:lnTo>
                    <a:lnTo>
                      <a:pt x="881" y="37"/>
                    </a:lnTo>
                    <a:lnTo>
                      <a:pt x="881" y="115"/>
                    </a:lnTo>
                    <a:lnTo>
                      <a:pt x="788" y="107"/>
                    </a:lnTo>
                    <a:lnTo>
                      <a:pt x="696" y="99"/>
                    </a:lnTo>
                    <a:lnTo>
                      <a:pt x="603" y="89"/>
                    </a:lnTo>
                    <a:lnTo>
                      <a:pt x="510" y="91"/>
                    </a:lnTo>
                    <a:lnTo>
                      <a:pt x="417" y="97"/>
                    </a:lnTo>
                    <a:lnTo>
                      <a:pt x="324" y="104"/>
                    </a:lnTo>
                    <a:lnTo>
                      <a:pt x="232" y="118"/>
                    </a:lnTo>
                    <a:lnTo>
                      <a:pt x="139" y="143"/>
                    </a:lnTo>
                    <a:lnTo>
                      <a:pt x="46" y="175"/>
                    </a:lnTo>
                    <a:lnTo>
                      <a:pt x="0" y="187"/>
                    </a:lnTo>
                    <a:lnTo>
                      <a:pt x="0" y="149"/>
                    </a:lnTo>
                    <a:close/>
                  </a:path>
                </a:pathLst>
              </a:custGeom>
              <a:noFill/>
              <a:ln w="3175">
                <a:solidFill>
                  <a:srgbClr val="0064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1" name="Freeform 241"/>
              <p:cNvSpPr/>
              <p:nvPr/>
            </p:nvSpPr>
            <p:spPr>
              <a:xfrm>
                <a:off x="7176240" y="5937120"/>
                <a:ext cx="1407960" cy="402840"/>
              </a:xfrm>
              <a:custGeom>
                <a:avLst/>
                <a:gdLst>
                  <a:gd name="textAreaLeft" fmla="*/ 0 w 1407960"/>
                  <a:gd name="textAreaRight" fmla="*/ 1408320 w 1407960"/>
                  <a:gd name="textAreaTop" fmla="*/ 0 h 402840"/>
                  <a:gd name="textAreaBottom" fmla="*/ 403200 h 402840"/>
                </a:gdLst>
                <a:ahLst/>
                <a:rect l="textAreaLeft" t="textAreaTop" r="textAreaRight" b="textAreaBottom"/>
                <a:pathLst>
                  <a:path w="881" h="163">
                    <a:moveTo>
                      <a:pt x="0" y="98"/>
                    </a:moveTo>
                    <a:lnTo>
                      <a:pt x="46" y="86"/>
                    </a:lnTo>
                    <a:lnTo>
                      <a:pt x="139" y="54"/>
                    </a:lnTo>
                    <a:lnTo>
                      <a:pt x="232" y="29"/>
                    </a:lnTo>
                    <a:lnTo>
                      <a:pt x="324" y="15"/>
                    </a:lnTo>
                    <a:lnTo>
                      <a:pt x="417" y="8"/>
                    </a:lnTo>
                    <a:lnTo>
                      <a:pt x="510" y="2"/>
                    </a:lnTo>
                    <a:lnTo>
                      <a:pt x="603" y="0"/>
                    </a:lnTo>
                    <a:lnTo>
                      <a:pt x="696" y="10"/>
                    </a:lnTo>
                    <a:lnTo>
                      <a:pt x="788" y="18"/>
                    </a:lnTo>
                    <a:lnTo>
                      <a:pt x="881" y="26"/>
                    </a:lnTo>
                    <a:lnTo>
                      <a:pt x="881" y="102"/>
                    </a:lnTo>
                    <a:lnTo>
                      <a:pt x="788" y="94"/>
                    </a:lnTo>
                    <a:lnTo>
                      <a:pt x="696" y="84"/>
                    </a:lnTo>
                    <a:lnTo>
                      <a:pt x="603" y="71"/>
                    </a:lnTo>
                    <a:lnTo>
                      <a:pt x="510" y="71"/>
                    </a:lnTo>
                    <a:lnTo>
                      <a:pt x="417" y="79"/>
                    </a:lnTo>
                    <a:lnTo>
                      <a:pt x="324" y="87"/>
                    </a:lnTo>
                    <a:lnTo>
                      <a:pt x="232" y="102"/>
                    </a:lnTo>
                    <a:lnTo>
                      <a:pt x="139" y="128"/>
                    </a:lnTo>
                    <a:lnTo>
                      <a:pt x="46" y="154"/>
                    </a:lnTo>
                    <a:lnTo>
                      <a:pt x="0" y="163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2" name="Freeform 242"/>
              <p:cNvSpPr/>
              <p:nvPr/>
            </p:nvSpPr>
            <p:spPr>
              <a:xfrm>
                <a:off x="7176240" y="5937120"/>
                <a:ext cx="1407960" cy="402840"/>
              </a:xfrm>
              <a:custGeom>
                <a:avLst/>
                <a:gdLst>
                  <a:gd name="textAreaLeft" fmla="*/ 0 w 1407960"/>
                  <a:gd name="textAreaRight" fmla="*/ 1408320 w 1407960"/>
                  <a:gd name="textAreaTop" fmla="*/ 0 h 402840"/>
                  <a:gd name="textAreaBottom" fmla="*/ 403200 h 402840"/>
                </a:gdLst>
                <a:ahLst/>
                <a:rect l="textAreaLeft" t="textAreaTop" r="textAreaRight" b="textAreaBottom"/>
                <a:pathLst>
                  <a:path w="881" h="163">
                    <a:moveTo>
                      <a:pt x="0" y="98"/>
                    </a:moveTo>
                    <a:lnTo>
                      <a:pt x="46" y="86"/>
                    </a:lnTo>
                    <a:lnTo>
                      <a:pt x="139" y="54"/>
                    </a:lnTo>
                    <a:lnTo>
                      <a:pt x="232" y="29"/>
                    </a:lnTo>
                    <a:lnTo>
                      <a:pt x="324" y="15"/>
                    </a:lnTo>
                    <a:lnTo>
                      <a:pt x="417" y="8"/>
                    </a:lnTo>
                    <a:lnTo>
                      <a:pt x="510" y="2"/>
                    </a:lnTo>
                    <a:lnTo>
                      <a:pt x="603" y="0"/>
                    </a:lnTo>
                    <a:lnTo>
                      <a:pt x="696" y="10"/>
                    </a:lnTo>
                    <a:lnTo>
                      <a:pt x="788" y="18"/>
                    </a:lnTo>
                    <a:lnTo>
                      <a:pt x="881" y="26"/>
                    </a:lnTo>
                    <a:lnTo>
                      <a:pt x="881" y="102"/>
                    </a:lnTo>
                    <a:lnTo>
                      <a:pt x="788" y="94"/>
                    </a:lnTo>
                    <a:lnTo>
                      <a:pt x="696" y="84"/>
                    </a:lnTo>
                    <a:lnTo>
                      <a:pt x="603" y="71"/>
                    </a:lnTo>
                    <a:lnTo>
                      <a:pt x="510" y="71"/>
                    </a:lnTo>
                    <a:lnTo>
                      <a:pt x="417" y="79"/>
                    </a:lnTo>
                    <a:lnTo>
                      <a:pt x="324" y="87"/>
                    </a:lnTo>
                    <a:lnTo>
                      <a:pt x="232" y="102"/>
                    </a:lnTo>
                    <a:lnTo>
                      <a:pt x="139" y="128"/>
                    </a:lnTo>
                    <a:lnTo>
                      <a:pt x="46" y="154"/>
                    </a:lnTo>
                    <a:lnTo>
                      <a:pt x="0" y="163"/>
                    </a:lnTo>
                    <a:lnTo>
                      <a:pt x="0" y="98"/>
                    </a:lnTo>
                    <a:close/>
                  </a:path>
                </a:pathLst>
              </a:custGeom>
              <a:noFill/>
              <a:ln w="3175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3" name="Freeform 243"/>
              <p:cNvSpPr/>
              <p:nvPr/>
            </p:nvSpPr>
            <p:spPr>
              <a:xfrm>
                <a:off x="7176240" y="6114240"/>
                <a:ext cx="1407960" cy="343800"/>
              </a:xfrm>
              <a:custGeom>
                <a:avLst/>
                <a:gdLst>
                  <a:gd name="textAreaLeft" fmla="*/ 0 w 1407960"/>
                  <a:gd name="textAreaRight" fmla="*/ 1408320 w 1407960"/>
                  <a:gd name="textAreaTop" fmla="*/ 0 h 343800"/>
                  <a:gd name="textAreaBottom" fmla="*/ 344160 h 343800"/>
                </a:gdLst>
                <a:ahLst/>
                <a:rect l="textAreaLeft" t="textAreaTop" r="textAreaRight" b="textAreaBottom"/>
                <a:pathLst>
                  <a:path w="881" h="139">
                    <a:moveTo>
                      <a:pt x="0" y="91"/>
                    </a:moveTo>
                    <a:lnTo>
                      <a:pt x="46" y="82"/>
                    </a:lnTo>
                    <a:lnTo>
                      <a:pt x="139" y="56"/>
                    </a:lnTo>
                    <a:lnTo>
                      <a:pt x="232" y="30"/>
                    </a:lnTo>
                    <a:lnTo>
                      <a:pt x="324" y="15"/>
                    </a:lnTo>
                    <a:lnTo>
                      <a:pt x="417" y="8"/>
                    </a:lnTo>
                    <a:lnTo>
                      <a:pt x="510" y="0"/>
                    </a:lnTo>
                    <a:lnTo>
                      <a:pt x="603" y="0"/>
                    </a:lnTo>
                    <a:lnTo>
                      <a:pt x="696" y="12"/>
                    </a:lnTo>
                    <a:lnTo>
                      <a:pt x="788" y="22"/>
                    </a:lnTo>
                    <a:lnTo>
                      <a:pt x="881" y="30"/>
                    </a:lnTo>
                    <a:lnTo>
                      <a:pt x="881" y="109"/>
                    </a:lnTo>
                    <a:lnTo>
                      <a:pt x="788" y="108"/>
                    </a:lnTo>
                    <a:lnTo>
                      <a:pt x="696" y="107"/>
                    </a:lnTo>
                    <a:lnTo>
                      <a:pt x="603" y="108"/>
                    </a:lnTo>
                    <a:lnTo>
                      <a:pt x="510" y="109"/>
                    </a:lnTo>
                    <a:lnTo>
                      <a:pt x="417" y="113"/>
                    </a:lnTo>
                    <a:lnTo>
                      <a:pt x="324" y="117"/>
                    </a:lnTo>
                    <a:lnTo>
                      <a:pt x="232" y="123"/>
                    </a:lnTo>
                    <a:lnTo>
                      <a:pt x="139" y="131"/>
                    </a:lnTo>
                    <a:lnTo>
                      <a:pt x="46" y="137"/>
                    </a:lnTo>
                    <a:lnTo>
                      <a:pt x="0" y="139"/>
                    </a:lnTo>
                    <a:lnTo>
                      <a:pt x="0" y="91"/>
                    </a:lnTo>
                    <a:close/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4" name="Freeform 244"/>
              <p:cNvSpPr/>
              <p:nvPr/>
            </p:nvSpPr>
            <p:spPr>
              <a:xfrm>
                <a:off x="7176240" y="6114240"/>
                <a:ext cx="1407960" cy="343800"/>
              </a:xfrm>
              <a:custGeom>
                <a:avLst/>
                <a:gdLst>
                  <a:gd name="textAreaLeft" fmla="*/ 0 w 1407960"/>
                  <a:gd name="textAreaRight" fmla="*/ 1408320 w 1407960"/>
                  <a:gd name="textAreaTop" fmla="*/ 0 h 343800"/>
                  <a:gd name="textAreaBottom" fmla="*/ 344160 h 343800"/>
                </a:gdLst>
                <a:ahLst/>
                <a:rect l="textAreaLeft" t="textAreaTop" r="textAreaRight" b="textAreaBottom"/>
                <a:pathLst>
                  <a:path w="881" h="139">
                    <a:moveTo>
                      <a:pt x="0" y="91"/>
                    </a:moveTo>
                    <a:lnTo>
                      <a:pt x="46" y="82"/>
                    </a:lnTo>
                    <a:lnTo>
                      <a:pt x="139" y="56"/>
                    </a:lnTo>
                    <a:lnTo>
                      <a:pt x="232" y="30"/>
                    </a:lnTo>
                    <a:lnTo>
                      <a:pt x="324" y="15"/>
                    </a:lnTo>
                    <a:lnTo>
                      <a:pt x="417" y="8"/>
                    </a:lnTo>
                    <a:lnTo>
                      <a:pt x="510" y="0"/>
                    </a:lnTo>
                    <a:lnTo>
                      <a:pt x="603" y="0"/>
                    </a:lnTo>
                    <a:lnTo>
                      <a:pt x="696" y="12"/>
                    </a:lnTo>
                    <a:lnTo>
                      <a:pt x="788" y="22"/>
                    </a:lnTo>
                    <a:lnTo>
                      <a:pt x="881" y="30"/>
                    </a:lnTo>
                    <a:lnTo>
                      <a:pt x="881" y="109"/>
                    </a:lnTo>
                    <a:lnTo>
                      <a:pt x="788" y="108"/>
                    </a:lnTo>
                    <a:lnTo>
                      <a:pt x="696" y="107"/>
                    </a:lnTo>
                    <a:lnTo>
                      <a:pt x="603" y="108"/>
                    </a:lnTo>
                    <a:lnTo>
                      <a:pt x="510" y="109"/>
                    </a:lnTo>
                    <a:lnTo>
                      <a:pt x="417" y="113"/>
                    </a:lnTo>
                    <a:lnTo>
                      <a:pt x="324" y="117"/>
                    </a:lnTo>
                    <a:lnTo>
                      <a:pt x="232" y="123"/>
                    </a:lnTo>
                    <a:lnTo>
                      <a:pt x="139" y="131"/>
                    </a:lnTo>
                    <a:lnTo>
                      <a:pt x="46" y="137"/>
                    </a:lnTo>
                    <a:lnTo>
                      <a:pt x="0" y="139"/>
                    </a:lnTo>
                    <a:lnTo>
                      <a:pt x="0" y="91"/>
                    </a:lnTo>
                    <a:close/>
                  </a:path>
                </a:pathLst>
              </a:custGeom>
              <a:noFill/>
              <a:ln w="3175">
                <a:solidFill>
                  <a:srgbClr val="20202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5" name="Freeform 245"/>
              <p:cNvSpPr/>
              <p:nvPr/>
            </p:nvSpPr>
            <p:spPr>
              <a:xfrm>
                <a:off x="7176240" y="6379560"/>
                <a:ext cx="1407960" cy="122760"/>
              </a:xfrm>
              <a:custGeom>
                <a:avLst/>
                <a:gdLst>
                  <a:gd name="textAreaLeft" fmla="*/ 0 w 1407960"/>
                  <a:gd name="textAreaRight" fmla="*/ 1408320 w 1407960"/>
                  <a:gd name="textAreaTop" fmla="*/ 0 h 122760"/>
                  <a:gd name="textAreaBottom" fmla="*/ 123120 h 122760"/>
                </a:gdLst>
                <a:ahLst/>
                <a:rect l="textAreaLeft" t="textAreaTop" r="textAreaRight" b="textAreaBottom"/>
                <a:pathLst>
                  <a:path w="881" h="49">
                    <a:moveTo>
                      <a:pt x="0" y="31"/>
                    </a:moveTo>
                    <a:lnTo>
                      <a:pt x="46" y="29"/>
                    </a:lnTo>
                    <a:lnTo>
                      <a:pt x="139" y="23"/>
                    </a:lnTo>
                    <a:lnTo>
                      <a:pt x="232" y="15"/>
                    </a:lnTo>
                    <a:lnTo>
                      <a:pt x="324" y="9"/>
                    </a:lnTo>
                    <a:lnTo>
                      <a:pt x="417" y="5"/>
                    </a:lnTo>
                    <a:lnTo>
                      <a:pt x="510" y="1"/>
                    </a:lnTo>
                    <a:lnTo>
                      <a:pt x="603" y="0"/>
                    </a:lnTo>
                    <a:lnTo>
                      <a:pt x="696" y="0"/>
                    </a:lnTo>
                    <a:lnTo>
                      <a:pt x="788" y="0"/>
                    </a:lnTo>
                    <a:lnTo>
                      <a:pt x="881" y="1"/>
                    </a:lnTo>
                    <a:lnTo>
                      <a:pt x="881" y="49"/>
                    </a:lnTo>
                    <a:lnTo>
                      <a:pt x="788" y="49"/>
                    </a:lnTo>
                    <a:lnTo>
                      <a:pt x="696" y="49"/>
                    </a:lnTo>
                    <a:lnTo>
                      <a:pt x="603" y="49"/>
                    </a:lnTo>
                    <a:lnTo>
                      <a:pt x="510" y="49"/>
                    </a:lnTo>
                    <a:lnTo>
                      <a:pt x="417" y="49"/>
                    </a:lnTo>
                    <a:lnTo>
                      <a:pt x="324" y="49"/>
                    </a:lnTo>
                    <a:lnTo>
                      <a:pt x="232" y="49"/>
                    </a:lnTo>
                    <a:lnTo>
                      <a:pt x="139" y="49"/>
                    </a:lnTo>
                    <a:lnTo>
                      <a:pt x="46" y="49"/>
                    </a:lnTo>
                    <a:lnTo>
                      <a:pt x="0" y="49"/>
                    </a:lnTo>
                    <a:lnTo>
                      <a:pt x="0" y="31"/>
                    </a:lnTo>
                    <a:close/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6" name="Freeform 246"/>
              <p:cNvSpPr/>
              <p:nvPr/>
            </p:nvSpPr>
            <p:spPr>
              <a:xfrm>
                <a:off x="7176240" y="6379560"/>
                <a:ext cx="1407960" cy="122760"/>
              </a:xfrm>
              <a:custGeom>
                <a:avLst/>
                <a:gdLst>
                  <a:gd name="textAreaLeft" fmla="*/ 0 w 1407960"/>
                  <a:gd name="textAreaRight" fmla="*/ 1408320 w 1407960"/>
                  <a:gd name="textAreaTop" fmla="*/ 0 h 122760"/>
                  <a:gd name="textAreaBottom" fmla="*/ 123120 h 122760"/>
                </a:gdLst>
                <a:ahLst/>
                <a:rect l="textAreaLeft" t="textAreaTop" r="textAreaRight" b="textAreaBottom"/>
                <a:pathLst>
                  <a:path w="881" h="49">
                    <a:moveTo>
                      <a:pt x="0" y="31"/>
                    </a:moveTo>
                    <a:lnTo>
                      <a:pt x="46" y="29"/>
                    </a:lnTo>
                    <a:lnTo>
                      <a:pt x="139" y="23"/>
                    </a:lnTo>
                    <a:lnTo>
                      <a:pt x="232" y="15"/>
                    </a:lnTo>
                    <a:lnTo>
                      <a:pt x="324" y="9"/>
                    </a:lnTo>
                    <a:lnTo>
                      <a:pt x="417" y="5"/>
                    </a:lnTo>
                    <a:lnTo>
                      <a:pt x="510" y="1"/>
                    </a:lnTo>
                    <a:lnTo>
                      <a:pt x="603" y="0"/>
                    </a:lnTo>
                    <a:lnTo>
                      <a:pt x="696" y="0"/>
                    </a:lnTo>
                    <a:lnTo>
                      <a:pt x="788" y="0"/>
                    </a:lnTo>
                    <a:lnTo>
                      <a:pt x="881" y="1"/>
                    </a:lnTo>
                    <a:lnTo>
                      <a:pt x="881" y="49"/>
                    </a:lnTo>
                    <a:lnTo>
                      <a:pt x="788" y="49"/>
                    </a:lnTo>
                    <a:lnTo>
                      <a:pt x="696" y="49"/>
                    </a:lnTo>
                    <a:lnTo>
                      <a:pt x="603" y="49"/>
                    </a:lnTo>
                    <a:lnTo>
                      <a:pt x="510" y="49"/>
                    </a:lnTo>
                    <a:lnTo>
                      <a:pt x="417" y="49"/>
                    </a:lnTo>
                    <a:lnTo>
                      <a:pt x="324" y="49"/>
                    </a:lnTo>
                    <a:lnTo>
                      <a:pt x="232" y="49"/>
                    </a:lnTo>
                    <a:lnTo>
                      <a:pt x="139" y="49"/>
                    </a:lnTo>
                    <a:lnTo>
                      <a:pt x="46" y="49"/>
                    </a:lnTo>
                    <a:lnTo>
                      <a:pt x="0" y="49"/>
                    </a:lnTo>
                    <a:lnTo>
                      <a:pt x="0" y="31"/>
                    </a:lnTo>
                    <a:close/>
                  </a:path>
                </a:pathLst>
              </a:custGeom>
              <a:noFill/>
              <a:ln w="3175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7" name="Freeform 247"/>
              <p:cNvSpPr/>
              <p:nvPr/>
            </p:nvSpPr>
            <p:spPr>
              <a:xfrm>
                <a:off x="4879800" y="6059880"/>
                <a:ext cx="2310120" cy="415080"/>
              </a:xfrm>
              <a:custGeom>
                <a:avLst/>
                <a:gdLst>
                  <a:gd name="textAreaLeft" fmla="*/ 0 w 2310120"/>
                  <a:gd name="textAreaRight" fmla="*/ 2310480 w 2310120"/>
                  <a:gd name="textAreaTop" fmla="*/ 0 h 415080"/>
                  <a:gd name="textAreaBottom" fmla="*/ 415440 h 415080"/>
                </a:gdLst>
                <a:ahLst/>
                <a:rect l="textAreaLeft" t="textAreaTop" r="textAreaRight" b="textAreaBottom"/>
                <a:pathLst>
                  <a:path w="1447" h="169">
                    <a:moveTo>
                      <a:pt x="0" y="168"/>
                    </a:moveTo>
                    <a:lnTo>
                      <a:pt x="9" y="168"/>
                    </a:lnTo>
                    <a:lnTo>
                      <a:pt x="18" y="169"/>
                    </a:lnTo>
                    <a:lnTo>
                      <a:pt x="27" y="168"/>
                    </a:lnTo>
                    <a:lnTo>
                      <a:pt x="37" y="168"/>
                    </a:lnTo>
                    <a:lnTo>
                      <a:pt x="46" y="168"/>
                    </a:lnTo>
                    <a:lnTo>
                      <a:pt x="55" y="168"/>
                    </a:lnTo>
                    <a:lnTo>
                      <a:pt x="64" y="168"/>
                    </a:lnTo>
                    <a:lnTo>
                      <a:pt x="74" y="168"/>
                    </a:lnTo>
                    <a:lnTo>
                      <a:pt x="83" y="168"/>
                    </a:lnTo>
                    <a:lnTo>
                      <a:pt x="92" y="168"/>
                    </a:lnTo>
                    <a:lnTo>
                      <a:pt x="102" y="168"/>
                    </a:lnTo>
                    <a:lnTo>
                      <a:pt x="111" y="167"/>
                    </a:lnTo>
                    <a:lnTo>
                      <a:pt x="120" y="167"/>
                    </a:lnTo>
                    <a:lnTo>
                      <a:pt x="129" y="167"/>
                    </a:lnTo>
                    <a:lnTo>
                      <a:pt x="139" y="167"/>
                    </a:lnTo>
                    <a:lnTo>
                      <a:pt x="148" y="167"/>
                    </a:lnTo>
                    <a:lnTo>
                      <a:pt x="157" y="167"/>
                    </a:lnTo>
                    <a:lnTo>
                      <a:pt x="167" y="167"/>
                    </a:lnTo>
                    <a:lnTo>
                      <a:pt x="176" y="167"/>
                    </a:lnTo>
                    <a:lnTo>
                      <a:pt x="185" y="166"/>
                    </a:lnTo>
                    <a:lnTo>
                      <a:pt x="194" y="166"/>
                    </a:lnTo>
                    <a:lnTo>
                      <a:pt x="204" y="166"/>
                    </a:lnTo>
                    <a:lnTo>
                      <a:pt x="213" y="166"/>
                    </a:lnTo>
                    <a:lnTo>
                      <a:pt x="222" y="166"/>
                    </a:lnTo>
                    <a:lnTo>
                      <a:pt x="232" y="166"/>
                    </a:lnTo>
                    <a:lnTo>
                      <a:pt x="241" y="166"/>
                    </a:lnTo>
                    <a:lnTo>
                      <a:pt x="250" y="165"/>
                    </a:lnTo>
                    <a:lnTo>
                      <a:pt x="259" y="165"/>
                    </a:lnTo>
                    <a:lnTo>
                      <a:pt x="269" y="165"/>
                    </a:lnTo>
                    <a:lnTo>
                      <a:pt x="278" y="165"/>
                    </a:lnTo>
                    <a:lnTo>
                      <a:pt x="287" y="165"/>
                    </a:lnTo>
                    <a:lnTo>
                      <a:pt x="296" y="164"/>
                    </a:lnTo>
                    <a:lnTo>
                      <a:pt x="306" y="164"/>
                    </a:lnTo>
                    <a:lnTo>
                      <a:pt x="315" y="164"/>
                    </a:lnTo>
                    <a:lnTo>
                      <a:pt x="324" y="164"/>
                    </a:lnTo>
                    <a:lnTo>
                      <a:pt x="334" y="164"/>
                    </a:lnTo>
                    <a:lnTo>
                      <a:pt x="343" y="164"/>
                    </a:lnTo>
                    <a:lnTo>
                      <a:pt x="352" y="163"/>
                    </a:lnTo>
                    <a:lnTo>
                      <a:pt x="361" y="163"/>
                    </a:lnTo>
                    <a:lnTo>
                      <a:pt x="371" y="163"/>
                    </a:lnTo>
                    <a:lnTo>
                      <a:pt x="380" y="163"/>
                    </a:lnTo>
                    <a:lnTo>
                      <a:pt x="389" y="163"/>
                    </a:lnTo>
                    <a:lnTo>
                      <a:pt x="399" y="163"/>
                    </a:lnTo>
                    <a:lnTo>
                      <a:pt x="408" y="162"/>
                    </a:lnTo>
                    <a:lnTo>
                      <a:pt x="417" y="162"/>
                    </a:lnTo>
                    <a:lnTo>
                      <a:pt x="426" y="162"/>
                    </a:lnTo>
                    <a:lnTo>
                      <a:pt x="436" y="162"/>
                    </a:lnTo>
                    <a:lnTo>
                      <a:pt x="445" y="161"/>
                    </a:lnTo>
                    <a:lnTo>
                      <a:pt x="454" y="161"/>
                    </a:lnTo>
                    <a:lnTo>
                      <a:pt x="464" y="160"/>
                    </a:lnTo>
                    <a:lnTo>
                      <a:pt x="473" y="160"/>
                    </a:lnTo>
                    <a:lnTo>
                      <a:pt x="482" y="160"/>
                    </a:lnTo>
                    <a:lnTo>
                      <a:pt x="491" y="159"/>
                    </a:lnTo>
                    <a:lnTo>
                      <a:pt x="501" y="159"/>
                    </a:lnTo>
                    <a:lnTo>
                      <a:pt x="510" y="158"/>
                    </a:lnTo>
                    <a:lnTo>
                      <a:pt x="519" y="157"/>
                    </a:lnTo>
                    <a:lnTo>
                      <a:pt x="528" y="156"/>
                    </a:lnTo>
                    <a:lnTo>
                      <a:pt x="538" y="157"/>
                    </a:lnTo>
                    <a:lnTo>
                      <a:pt x="547" y="156"/>
                    </a:lnTo>
                    <a:lnTo>
                      <a:pt x="556" y="156"/>
                    </a:lnTo>
                    <a:lnTo>
                      <a:pt x="566" y="155"/>
                    </a:lnTo>
                    <a:lnTo>
                      <a:pt x="575" y="155"/>
                    </a:lnTo>
                    <a:lnTo>
                      <a:pt x="584" y="154"/>
                    </a:lnTo>
                    <a:lnTo>
                      <a:pt x="593" y="155"/>
                    </a:lnTo>
                    <a:lnTo>
                      <a:pt x="603" y="155"/>
                    </a:lnTo>
                    <a:lnTo>
                      <a:pt x="612" y="154"/>
                    </a:lnTo>
                    <a:lnTo>
                      <a:pt x="621" y="153"/>
                    </a:lnTo>
                    <a:lnTo>
                      <a:pt x="631" y="153"/>
                    </a:lnTo>
                    <a:lnTo>
                      <a:pt x="640" y="155"/>
                    </a:lnTo>
                    <a:lnTo>
                      <a:pt x="649" y="153"/>
                    </a:lnTo>
                    <a:lnTo>
                      <a:pt x="658" y="155"/>
                    </a:lnTo>
                    <a:lnTo>
                      <a:pt x="668" y="154"/>
                    </a:lnTo>
                    <a:lnTo>
                      <a:pt x="677" y="152"/>
                    </a:lnTo>
                    <a:lnTo>
                      <a:pt x="686" y="152"/>
                    </a:lnTo>
                    <a:lnTo>
                      <a:pt x="696" y="151"/>
                    </a:lnTo>
                    <a:lnTo>
                      <a:pt x="705" y="151"/>
                    </a:lnTo>
                    <a:lnTo>
                      <a:pt x="714" y="150"/>
                    </a:lnTo>
                    <a:lnTo>
                      <a:pt x="723" y="149"/>
                    </a:lnTo>
                    <a:lnTo>
                      <a:pt x="733" y="148"/>
                    </a:lnTo>
                    <a:lnTo>
                      <a:pt x="742" y="149"/>
                    </a:lnTo>
                    <a:lnTo>
                      <a:pt x="751" y="150"/>
                    </a:lnTo>
                    <a:lnTo>
                      <a:pt x="760" y="152"/>
                    </a:lnTo>
                    <a:lnTo>
                      <a:pt x="770" y="151"/>
                    </a:lnTo>
                    <a:lnTo>
                      <a:pt x="779" y="150"/>
                    </a:lnTo>
                    <a:lnTo>
                      <a:pt x="788" y="149"/>
                    </a:lnTo>
                    <a:lnTo>
                      <a:pt x="798" y="148"/>
                    </a:lnTo>
                    <a:lnTo>
                      <a:pt x="807" y="147"/>
                    </a:lnTo>
                    <a:lnTo>
                      <a:pt x="816" y="147"/>
                    </a:lnTo>
                    <a:lnTo>
                      <a:pt x="825" y="145"/>
                    </a:lnTo>
                    <a:lnTo>
                      <a:pt x="835" y="145"/>
                    </a:lnTo>
                    <a:lnTo>
                      <a:pt x="844" y="143"/>
                    </a:lnTo>
                    <a:lnTo>
                      <a:pt x="853" y="142"/>
                    </a:lnTo>
                    <a:lnTo>
                      <a:pt x="863" y="142"/>
                    </a:lnTo>
                    <a:lnTo>
                      <a:pt x="872" y="142"/>
                    </a:lnTo>
                    <a:lnTo>
                      <a:pt x="881" y="145"/>
                    </a:lnTo>
                    <a:lnTo>
                      <a:pt x="890" y="143"/>
                    </a:lnTo>
                    <a:lnTo>
                      <a:pt x="900" y="141"/>
                    </a:lnTo>
                    <a:lnTo>
                      <a:pt x="909" y="140"/>
                    </a:lnTo>
                    <a:lnTo>
                      <a:pt x="918" y="140"/>
                    </a:lnTo>
                    <a:lnTo>
                      <a:pt x="928" y="137"/>
                    </a:lnTo>
                    <a:lnTo>
                      <a:pt x="937" y="136"/>
                    </a:lnTo>
                    <a:lnTo>
                      <a:pt x="946" y="135"/>
                    </a:lnTo>
                    <a:lnTo>
                      <a:pt x="955" y="134"/>
                    </a:lnTo>
                    <a:lnTo>
                      <a:pt x="965" y="133"/>
                    </a:lnTo>
                    <a:lnTo>
                      <a:pt x="974" y="131"/>
                    </a:lnTo>
                    <a:lnTo>
                      <a:pt x="983" y="129"/>
                    </a:lnTo>
                    <a:lnTo>
                      <a:pt x="992" y="126"/>
                    </a:lnTo>
                    <a:lnTo>
                      <a:pt x="1002" y="124"/>
                    </a:lnTo>
                    <a:lnTo>
                      <a:pt x="1011" y="122"/>
                    </a:lnTo>
                    <a:lnTo>
                      <a:pt x="1020" y="120"/>
                    </a:lnTo>
                    <a:lnTo>
                      <a:pt x="1030" y="118"/>
                    </a:lnTo>
                    <a:lnTo>
                      <a:pt x="1039" y="115"/>
                    </a:lnTo>
                    <a:lnTo>
                      <a:pt x="1048" y="112"/>
                    </a:lnTo>
                    <a:lnTo>
                      <a:pt x="1057" y="109"/>
                    </a:lnTo>
                    <a:lnTo>
                      <a:pt x="1067" y="109"/>
                    </a:lnTo>
                    <a:lnTo>
                      <a:pt x="1076" y="106"/>
                    </a:lnTo>
                    <a:lnTo>
                      <a:pt x="1085" y="104"/>
                    </a:lnTo>
                    <a:lnTo>
                      <a:pt x="1095" y="101"/>
                    </a:lnTo>
                    <a:lnTo>
                      <a:pt x="1104" y="97"/>
                    </a:lnTo>
                    <a:lnTo>
                      <a:pt x="1113" y="94"/>
                    </a:lnTo>
                    <a:lnTo>
                      <a:pt x="1122" y="91"/>
                    </a:lnTo>
                    <a:lnTo>
                      <a:pt x="1132" y="86"/>
                    </a:lnTo>
                    <a:lnTo>
                      <a:pt x="1141" y="81"/>
                    </a:lnTo>
                    <a:lnTo>
                      <a:pt x="1150" y="81"/>
                    </a:lnTo>
                    <a:lnTo>
                      <a:pt x="1160" y="81"/>
                    </a:lnTo>
                    <a:lnTo>
                      <a:pt x="1169" y="75"/>
                    </a:lnTo>
                    <a:lnTo>
                      <a:pt x="1178" y="72"/>
                    </a:lnTo>
                    <a:lnTo>
                      <a:pt x="1187" y="68"/>
                    </a:lnTo>
                    <a:lnTo>
                      <a:pt x="1197" y="65"/>
                    </a:lnTo>
                    <a:lnTo>
                      <a:pt x="1206" y="65"/>
                    </a:lnTo>
                    <a:lnTo>
                      <a:pt x="1215" y="66"/>
                    </a:lnTo>
                    <a:lnTo>
                      <a:pt x="1224" y="66"/>
                    </a:lnTo>
                    <a:lnTo>
                      <a:pt x="1234" y="66"/>
                    </a:lnTo>
                    <a:lnTo>
                      <a:pt x="1243" y="62"/>
                    </a:lnTo>
                    <a:lnTo>
                      <a:pt x="1252" y="59"/>
                    </a:lnTo>
                    <a:lnTo>
                      <a:pt x="1262" y="57"/>
                    </a:lnTo>
                    <a:lnTo>
                      <a:pt x="1271" y="52"/>
                    </a:lnTo>
                    <a:lnTo>
                      <a:pt x="1280" y="48"/>
                    </a:lnTo>
                    <a:lnTo>
                      <a:pt x="1289" y="46"/>
                    </a:lnTo>
                    <a:lnTo>
                      <a:pt x="1299" y="44"/>
                    </a:lnTo>
                    <a:lnTo>
                      <a:pt x="1308" y="43"/>
                    </a:lnTo>
                    <a:lnTo>
                      <a:pt x="1317" y="43"/>
                    </a:lnTo>
                    <a:lnTo>
                      <a:pt x="1327" y="42"/>
                    </a:lnTo>
                    <a:lnTo>
                      <a:pt x="1336" y="41"/>
                    </a:lnTo>
                    <a:lnTo>
                      <a:pt x="1345" y="38"/>
                    </a:lnTo>
                    <a:lnTo>
                      <a:pt x="1354" y="34"/>
                    </a:lnTo>
                    <a:lnTo>
                      <a:pt x="1364" y="33"/>
                    </a:lnTo>
                    <a:lnTo>
                      <a:pt x="1373" y="32"/>
                    </a:lnTo>
                    <a:lnTo>
                      <a:pt x="1382" y="29"/>
                    </a:lnTo>
                    <a:lnTo>
                      <a:pt x="1392" y="26"/>
                    </a:lnTo>
                    <a:lnTo>
                      <a:pt x="1401" y="26"/>
                    </a:lnTo>
                    <a:lnTo>
                      <a:pt x="1410" y="22"/>
                    </a:lnTo>
                    <a:lnTo>
                      <a:pt x="1419" y="16"/>
                    </a:lnTo>
                    <a:lnTo>
                      <a:pt x="1429" y="8"/>
                    </a:lnTo>
                    <a:lnTo>
                      <a:pt x="1438" y="4"/>
                    </a:lnTo>
                    <a:lnTo>
                      <a:pt x="1447" y="0"/>
                    </a:lnTo>
                    <a:lnTo>
                      <a:pt x="1447" y="4"/>
                    </a:lnTo>
                    <a:lnTo>
                      <a:pt x="1438" y="8"/>
                    </a:lnTo>
                    <a:lnTo>
                      <a:pt x="1429" y="12"/>
                    </a:lnTo>
                    <a:lnTo>
                      <a:pt x="1419" y="20"/>
                    </a:lnTo>
                    <a:lnTo>
                      <a:pt x="1410" y="26"/>
                    </a:lnTo>
                    <a:lnTo>
                      <a:pt x="1401" y="29"/>
                    </a:lnTo>
                    <a:lnTo>
                      <a:pt x="1392" y="30"/>
                    </a:lnTo>
                    <a:lnTo>
                      <a:pt x="1382" y="33"/>
                    </a:lnTo>
                    <a:lnTo>
                      <a:pt x="1373" y="36"/>
                    </a:lnTo>
                    <a:lnTo>
                      <a:pt x="1364" y="36"/>
                    </a:lnTo>
                    <a:lnTo>
                      <a:pt x="1354" y="38"/>
                    </a:lnTo>
                    <a:lnTo>
                      <a:pt x="1345" y="41"/>
                    </a:lnTo>
                    <a:lnTo>
                      <a:pt x="1336" y="44"/>
                    </a:lnTo>
                    <a:lnTo>
                      <a:pt x="1327" y="45"/>
                    </a:lnTo>
                    <a:lnTo>
                      <a:pt x="1317" y="46"/>
                    </a:lnTo>
                    <a:lnTo>
                      <a:pt x="1308" y="46"/>
                    </a:lnTo>
                    <a:lnTo>
                      <a:pt x="1299" y="47"/>
                    </a:lnTo>
                    <a:lnTo>
                      <a:pt x="1289" y="49"/>
                    </a:lnTo>
                    <a:lnTo>
                      <a:pt x="1280" y="51"/>
                    </a:lnTo>
                    <a:lnTo>
                      <a:pt x="1271" y="55"/>
                    </a:lnTo>
                    <a:lnTo>
                      <a:pt x="1262" y="60"/>
                    </a:lnTo>
                    <a:lnTo>
                      <a:pt x="1252" y="62"/>
                    </a:lnTo>
                    <a:lnTo>
                      <a:pt x="1243" y="64"/>
                    </a:lnTo>
                    <a:lnTo>
                      <a:pt x="1234" y="68"/>
                    </a:lnTo>
                    <a:lnTo>
                      <a:pt x="1224" y="69"/>
                    </a:lnTo>
                    <a:lnTo>
                      <a:pt x="1215" y="69"/>
                    </a:lnTo>
                    <a:lnTo>
                      <a:pt x="1206" y="67"/>
                    </a:lnTo>
                    <a:lnTo>
                      <a:pt x="1197" y="67"/>
                    </a:lnTo>
                    <a:lnTo>
                      <a:pt x="1187" y="70"/>
                    </a:lnTo>
                    <a:lnTo>
                      <a:pt x="1178" y="74"/>
                    </a:lnTo>
                    <a:lnTo>
                      <a:pt x="1169" y="77"/>
                    </a:lnTo>
                    <a:lnTo>
                      <a:pt x="1160" y="83"/>
                    </a:lnTo>
                    <a:lnTo>
                      <a:pt x="1150" y="83"/>
                    </a:lnTo>
                    <a:lnTo>
                      <a:pt x="1141" y="83"/>
                    </a:lnTo>
                    <a:lnTo>
                      <a:pt x="1132" y="88"/>
                    </a:lnTo>
                    <a:lnTo>
                      <a:pt x="1122" y="92"/>
                    </a:lnTo>
                    <a:lnTo>
                      <a:pt x="1113" y="95"/>
                    </a:lnTo>
                    <a:lnTo>
                      <a:pt x="1104" y="99"/>
                    </a:lnTo>
                    <a:lnTo>
                      <a:pt x="1095" y="102"/>
                    </a:lnTo>
                    <a:lnTo>
                      <a:pt x="1085" y="106"/>
                    </a:lnTo>
                    <a:lnTo>
                      <a:pt x="1076" y="107"/>
                    </a:lnTo>
                    <a:lnTo>
                      <a:pt x="1067" y="110"/>
                    </a:lnTo>
                    <a:lnTo>
                      <a:pt x="1057" y="110"/>
                    </a:lnTo>
                    <a:lnTo>
                      <a:pt x="1048" y="113"/>
                    </a:lnTo>
                    <a:lnTo>
                      <a:pt x="1039" y="116"/>
                    </a:lnTo>
                    <a:lnTo>
                      <a:pt x="1030" y="119"/>
                    </a:lnTo>
                    <a:lnTo>
                      <a:pt x="1020" y="121"/>
                    </a:lnTo>
                    <a:lnTo>
                      <a:pt x="1011" y="123"/>
                    </a:lnTo>
                    <a:lnTo>
                      <a:pt x="1002" y="125"/>
                    </a:lnTo>
                    <a:lnTo>
                      <a:pt x="992" y="127"/>
                    </a:lnTo>
                    <a:lnTo>
                      <a:pt x="983" y="130"/>
                    </a:lnTo>
                    <a:lnTo>
                      <a:pt x="974" y="132"/>
                    </a:lnTo>
                    <a:lnTo>
                      <a:pt x="965" y="134"/>
                    </a:lnTo>
                    <a:lnTo>
                      <a:pt x="955" y="134"/>
                    </a:lnTo>
                    <a:lnTo>
                      <a:pt x="946" y="136"/>
                    </a:lnTo>
                    <a:lnTo>
                      <a:pt x="937" y="137"/>
                    </a:lnTo>
                    <a:lnTo>
                      <a:pt x="928" y="138"/>
                    </a:lnTo>
                    <a:lnTo>
                      <a:pt x="918" y="141"/>
                    </a:lnTo>
                    <a:lnTo>
                      <a:pt x="909" y="141"/>
                    </a:lnTo>
                    <a:lnTo>
                      <a:pt x="900" y="142"/>
                    </a:lnTo>
                    <a:lnTo>
                      <a:pt x="890" y="144"/>
                    </a:lnTo>
                    <a:lnTo>
                      <a:pt x="881" y="146"/>
                    </a:lnTo>
                    <a:lnTo>
                      <a:pt x="872" y="143"/>
                    </a:lnTo>
                    <a:lnTo>
                      <a:pt x="863" y="142"/>
                    </a:lnTo>
                    <a:lnTo>
                      <a:pt x="853" y="143"/>
                    </a:lnTo>
                    <a:lnTo>
                      <a:pt x="844" y="144"/>
                    </a:lnTo>
                    <a:lnTo>
                      <a:pt x="835" y="146"/>
                    </a:lnTo>
                    <a:lnTo>
                      <a:pt x="825" y="146"/>
                    </a:lnTo>
                    <a:lnTo>
                      <a:pt x="816" y="148"/>
                    </a:lnTo>
                    <a:lnTo>
                      <a:pt x="807" y="147"/>
                    </a:lnTo>
                    <a:lnTo>
                      <a:pt x="798" y="148"/>
                    </a:lnTo>
                    <a:lnTo>
                      <a:pt x="788" y="150"/>
                    </a:lnTo>
                    <a:lnTo>
                      <a:pt x="779" y="151"/>
                    </a:lnTo>
                    <a:lnTo>
                      <a:pt x="770" y="152"/>
                    </a:lnTo>
                    <a:lnTo>
                      <a:pt x="760" y="152"/>
                    </a:lnTo>
                    <a:lnTo>
                      <a:pt x="751" y="151"/>
                    </a:lnTo>
                    <a:lnTo>
                      <a:pt x="742" y="150"/>
                    </a:lnTo>
                    <a:lnTo>
                      <a:pt x="733" y="149"/>
                    </a:lnTo>
                    <a:lnTo>
                      <a:pt x="723" y="149"/>
                    </a:lnTo>
                    <a:lnTo>
                      <a:pt x="714" y="150"/>
                    </a:lnTo>
                    <a:lnTo>
                      <a:pt x="705" y="151"/>
                    </a:lnTo>
                    <a:lnTo>
                      <a:pt x="696" y="151"/>
                    </a:lnTo>
                    <a:lnTo>
                      <a:pt x="686" y="152"/>
                    </a:lnTo>
                    <a:lnTo>
                      <a:pt x="677" y="152"/>
                    </a:lnTo>
                    <a:lnTo>
                      <a:pt x="668" y="154"/>
                    </a:lnTo>
                    <a:lnTo>
                      <a:pt x="658" y="155"/>
                    </a:lnTo>
                    <a:lnTo>
                      <a:pt x="649" y="153"/>
                    </a:lnTo>
                    <a:lnTo>
                      <a:pt x="640" y="155"/>
                    </a:lnTo>
                    <a:lnTo>
                      <a:pt x="631" y="153"/>
                    </a:lnTo>
                    <a:lnTo>
                      <a:pt x="621" y="153"/>
                    </a:lnTo>
                    <a:lnTo>
                      <a:pt x="612" y="154"/>
                    </a:lnTo>
                    <a:lnTo>
                      <a:pt x="603" y="155"/>
                    </a:lnTo>
                    <a:lnTo>
                      <a:pt x="593" y="155"/>
                    </a:lnTo>
                    <a:lnTo>
                      <a:pt x="584" y="154"/>
                    </a:lnTo>
                    <a:lnTo>
                      <a:pt x="575" y="155"/>
                    </a:lnTo>
                    <a:lnTo>
                      <a:pt x="566" y="155"/>
                    </a:lnTo>
                    <a:lnTo>
                      <a:pt x="556" y="156"/>
                    </a:lnTo>
                    <a:lnTo>
                      <a:pt x="547" y="156"/>
                    </a:lnTo>
                    <a:lnTo>
                      <a:pt x="538" y="157"/>
                    </a:lnTo>
                    <a:lnTo>
                      <a:pt x="528" y="156"/>
                    </a:lnTo>
                    <a:lnTo>
                      <a:pt x="519" y="157"/>
                    </a:lnTo>
                    <a:lnTo>
                      <a:pt x="510" y="158"/>
                    </a:lnTo>
                    <a:lnTo>
                      <a:pt x="501" y="159"/>
                    </a:lnTo>
                    <a:lnTo>
                      <a:pt x="491" y="159"/>
                    </a:lnTo>
                    <a:lnTo>
                      <a:pt x="482" y="160"/>
                    </a:lnTo>
                    <a:lnTo>
                      <a:pt x="473" y="160"/>
                    </a:lnTo>
                    <a:lnTo>
                      <a:pt x="464" y="160"/>
                    </a:lnTo>
                    <a:lnTo>
                      <a:pt x="454" y="161"/>
                    </a:lnTo>
                    <a:lnTo>
                      <a:pt x="445" y="161"/>
                    </a:lnTo>
                    <a:lnTo>
                      <a:pt x="436" y="162"/>
                    </a:lnTo>
                    <a:lnTo>
                      <a:pt x="426" y="162"/>
                    </a:lnTo>
                    <a:lnTo>
                      <a:pt x="417" y="162"/>
                    </a:lnTo>
                    <a:lnTo>
                      <a:pt x="408" y="162"/>
                    </a:lnTo>
                    <a:lnTo>
                      <a:pt x="399" y="163"/>
                    </a:lnTo>
                    <a:lnTo>
                      <a:pt x="389" y="163"/>
                    </a:lnTo>
                    <a:lnTo>
                      <a:pt x="380" y="163"/>
                    </a:lnTo>
                    <a:lnTo>
                      <a:pt x="371" y="163"/>
                    </a:lnTo>
                    <a:lnTo>
                      <a:pt x="361" y="163"/>
                    </a:lnTo>
                    <a:lnTo>
                      <a:pt x="352" y="163"/>
                    </a:lnTo>
                    <a:lnTo>
                      <a:pt x="343" y="164"/>
                    </a:lnTo>
                    <a:lnTo>
                      <a:pt x="334" y="164"/>
                    </a:lnTo>
                    <a:lnTo>
                      <a:pt x="324" y="164"/>
                    </a:lnTo>
                    <a:lnTo>
                      <a:pt x="315" y="164"/>
                    </a:lnTo>
                    <a:lnTo>
                      <a:pt x="306" y="164"/>
                    </a:lnTo>
                    <a:lnTo>
                      <a:pt x="296" y="164"/>
                    </a:lnTo>
                    <a:lnTo>
                      <a:pt x="287" y="165"/>
                    </a:lnTo>
                    <a:lnTo>
                      <a:pt x="278" y="165"/>
                    </a:lnTo>
                    <a:lnTo>
                      <a:pt x="269" y="165"/>
                    </a:lnTo>
                    <a:lnTo>
                      <a:pt x="259" y="165"/>
                    </a:lnTo>
                    <a:lnTo>
                      <a:pt x="250" y="165"/>
                    </a:lnTo>
                    <a:lnTo>
                      <a:pt x="241" y="166"/>
                    </a:lnTo>
                    <a:lnTo>
                      <a:pt x="232" y="166"/>
                    </a:lnTo>
                    <a:lnTo>
                      <a:pt x="222" y="166"/>
                    </a:lnTo>
                    <a:lnTo>
                      <a:pt x="213" y="166"/>
                    </a:lnTo>
                    <a:lnTo>
                      <a:pt x="204" y="166"/>
                    </a:lnTo>
                    <a:lnTo>
                      <a:pt x="194" y="166"/>
                    </a:lnTo>
                    <a:lnTo>
                      <a:pt x="185" y="166"/>
                    </a:lnTo>
                    <a:lnTo>
                      <a:pt x="176" y="167"/>
                    </a:lnTo>
                    <a:lnTo>
                      <a:pt x="167" y="167"/>
                    </a:lnTo>
                    <a:lnTo>
                      <a:pt x="157" y="167"/>
                    </a:lnTo>
                    <a:lnTo>
                      <a:pt x="148" y="167"/>
                    </a:lnTo>
                    <a:lnTo>
                      <a:pt x="139" y="167"/>
                    </a:lnTo>
                    <a:lnTo>
                      <a:pt x="129" y="167"/>
                    </a:lnTo>
                    <a:lnTo>
                      <a:pt x="120" y="167"/>
                    </a:lnTo>
                    <a:lnTo>
                      <a:pt x="111" y="167"/>
                    </a:lnTo>
                    <a:lnTo>
                      <a:pt x="102" y="168"/>
                    </a:lnTo>
                    <a:lnTo>
                      <a:pt x="92" y="168"/>
                    </a:lnTo>
                    <a:lnTo>
                      <a:pt x="83" y="168"/>
                    </a:lnTo>
                    <a:lnTo>
                      <a:pt x="74" y="168"/>
                    </a:lnTo>
                    <a:lnTo>
                      <a:pt x="64" y="168"/>
                    </a:lnTo>
                    <a:lnTo>
                      <a:pt x="55" y="168"/>
                    </a:lnTo>
                    <a:lnTo>
                      <a:pt x="46" y="168"/>
                    </a:lnTo>
                    <a:lnTo>
                      <a:pt x="37" y="168"/>
                    </a:lnTo>
                    <a:lnTo>
                      <a:pt x="27" y="168"/>
                    </a:lnTo>
                    <a:lnTo>
                      <a:pt x="18" y="169"/>
                    </a:lnTo>
                    <a:lnTo>
                      <a:pt x="9" y="168"/>
                    </a:lnTo>
                    <a:lnTo>
                      <a:pt x="0" y="168"/>
                    </a:lnTo>
                    <a:close/>
                  </a:path>
                </a:pathLst>
              </a:custGeom>
              <a:solidFill>
                <a:srgbClr val="ffc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8" name="Freeform 248"/>
              <p:cNvSpPr/>
              <p:nvPr/>
            </p:nvSpPr>
            <p:spPr>
              <a:xfrm>
                <a:off x="4879800" y="6059880"/>
                <a:ext cx="2310120" cy="415080"/>
              </a:xfrm>
              <a:custGeom>
                <a:avLst/>
                <a:gdLst>
                  <a:gd name="textAreaLeft" fmla="*/ 0 w 2310120"/>
                  <a:gd name="textAreaRight" fmla="*/ 2310480 w 2310120"/>
                  <a:gd name="textAreaTop" fmla="*/ 0 h 415080"/>
                  <a:gd name="textAreaBottom" fmla="*/ 415440 h 415080"/>
                </a:gdLst>
                <a:ahLst/>
                <a:rect l="textAreaLeft" t="textAreaTop" r="textAreaRight" b="textAreaBottom"/>
                <a:pathLst>
                  <a:path w="1447" h="169">
                    <a:moveTo>
                      <a:pt x="0" y="168"/>
                    </a:moveTo>
                    <a:lnTo>
                      <a:pt x="9" y="168"/>
                    </a:lnTo>
                    <a:lnTo>
                      <a:pt x="18" y="169"/>
                    </a:lnTo>
                    <a:lnTo>
                      <a:pt x="27" y="168"/>
                    </a:lnTo>
                    <a:lnTo>
                      <a:pt x="37" y="168"/>
                    </a:lnTo>
                    <a:lnTo>
                      <a:pt x="46" y="168"/>
                    </a:lnTo>
                    <a:lnTo>
                      <a:pt x="55" y="168"/>
                    </a:lnTo>
                    <a:lnTo>
                      <a:pt x="64" y="168"/>
                    </a:lnTo>
                    <a:lnTo>
                      <a:pt x="74" y="168"/>
                    </a:lnTo>
                    <a:lnTo>
                      <a:pt x="83" y="168"/>
                    </a:lnTo>
                    <a:lnTo>
                      <a:pt x="92" y="168"/>
                    </a:lnTo>
                    <a:lnTo>
                      <a:pt x="102" y="168"/>
                    </a:lnTo>
                    <a:lnTo>
                      <a:pt x="111" y="167"/>
                    </a:lnTo>
                    <a:lnTo>
                      <a:pt x="120" y="167"/>
                    </a:lnTo>
                    <a:lnTo>
                      <a:pt x="129" y="167"/>
                    </a:lnTo>
                    <a:lnTo>
                      <a:pt x="139" y="167"/>
                    </a:lnTo>
                    <a:lnTo>
                      <a:pt x="148" y="167"/>
                    </a:lnTo>
                    <a:lnTo>
                      <a:pt x="157" y="167"/>
                    </a:lnTo>
                    <a:lnTo>
                      <a:pt x="167" y="167"/>
                    </a:lnTo>
                    <a:lnTo>
                      <a:pt x="176" y="167"/>
                    </a:lnTo>
                    <a:lnTo>
                      <a:pt x="185" y="166"/>
                    </a:lnTo>
                    <a:lnTo>
                      <a:pt x="194" y="166"/>
                    </a:lnTo>
                    <a:lnTo>
                      <a:pt x="204" y="166"/>
                    </a:lnTo>
                    <a:lnTo>
                      <a:pt x="213" y="166"/>
                    </a:lnTo>
                    <a:lnTo>
                      <a:pt x="222" y="166"/>
                    </a:lnTo>
                    <a:lnTo>
                      <a:pt x="232" y="166"/>
                    </a:lnTo>
                    <a:lnTo>
                      <a:pt x="241" y="166"/>
                    </a:lnTo>
                    <a:lnTo>
                      <a:pt x="250" y="165"/>
                    </a:lnTo>
                    <a:lnTo>
                      <a:pt x="259" y="165"/>
                    </a:lnTo>
                    <a:lnTo>
                      <a:pt x="269" y="165"/>
                    </a:lnTo>
                    <a:lnTo>
                      <a:pt x="278" y="165"/>
                    </a:lnTo>
                    <a:lnTo>
                      <a:pt x="287" y="165"/>
                    </a:lnTo>
                    <a:lnTo>
                      <a:pt x="296" y="164"/>
                    </a:lnTo>
                    <a:lnTo>
                      <a:pt x="306" y="164"/>
                    </a:lnTo>
                    <a:lnTo>
                      <a:pt x="315" y="164"/>
                    </a:lnTo>
                    <a:lnTo>
                      <a:pt x="324" y="164"/>
                    </a:lnTo>
                    <a:lnTo>
                      <a:pt x="334" y="164"/>
                    </a:lnTo>
                    <a:lnTo>
                      <a:pt x="343" y="164"/>
                    </a:lnTo>
                    <a:lnTo>
                      <a:pt x="352" y="163"/>
                    </a:lnTo>
                    <a:lnTo>
                      <a:pt x="361" y="163"/>
                    </a:lnTo>
                    <a:lnTo>
                      <a:pt x="371" y="163"/>
                    </a:lnTo>
                    <a:lnTo>
                      <a:pt x="380" y="163"/>
                    </a:lnTo>
                    <a:lnTo>
                      <a:pt x="389" y="163"/>
                    </a:lnTo>
                    <a:lnTo>
                      <a:pt x="399" y="163"/>
                    </a:lnTo>
                    <a:lnTo>
                      <a:pt x="408" y="162"/>
                    </a:lnTo>
                    <a:lnTo>
                      <a:pt x="417" y="162"/>
                    </a:lnTo>
                    <a:lnTo>
                      <a:pt x="426" y="162"/>
                    </a:lnTo>
                    <a:lnTo>
                      <a:pt x="436" y="162"/>
                    </a:lnTo>
                    <a:lnTo>
                      <a:pt x="445" y="161"/>
                    </a:lnTo>
                    <a:lnTo>
                      <a:pt x="454" y="161"/>
                    </a:lnTo>
                    <a:lnTo>
                      <a:pt x="464" y="160"/>
                    </a:lnTo>
                    <a:lnTo>
                      <a:pt x="473" y="160"/>
                    </a:lnTo>
                    <a:lnTo>
                      <a:pt x="482" y="160"/>
                    </a:lnTo>
                    <a:lnTo>
                      <a:pt x="491" y="159"/>
                    </a:lnTo>
                    <a:lnTo>
                      <a:pt x="501" y="159"/>
                    </a:lnTo>
                    <a:lnTo>
                      <a:pt x="510" y="158"/>
                    </a:lnTo>
                    <a:lnTo>
                      <a:pt x="519" y="157"/>
                    </a:lnTo>
                    <a:lnTo>
                      <a:pt x="528" y="156"/>
                    </a:lnTo>
                    <a:lnTo>
                      <a:pt x="538" y="157"/>
                    </a:lnTo>
                    <a:lnTo>
                      <a:pt x="547" y="156"/>
                    </a:lnTo>
                    <a:lnTo>
                      <a:pt x="556" y="156"/>
                    </a:lnTo>
                    <a:lnTo>
                      <a:pt x="566" y="155"/>
                    </a:lnTo>
                    <a:lnTo>
                      <a:pt x="575" y="155"/>
                    </a:lnTo>
                    <a:lnTo>
                      <a:pt x="584" y="154"/>
                    </a:lnTo>
                    <a:lnTo>
                      <a:pt x="593" y="155"/>
                    </a:lnTo>
                    <a:lnTo>
                      <a:pt x="603" y="155"/>
                    </a:lnTo>
                    <a:lnTo>
                      <a:pt x="612" y="154"/>
                    </a:lnTo>
                    <a:lnTo>
                      <a:pt x="621" y="153"/>
                    </a:lnTo>
                    <a:lnTo>
                      <a:pt x="631" y="153"/>
                    </a:lnTo>
                    <a:lnTo>
                      <a:pt x="640" y="155"/>
                    </a:lnTo>
                    <a:lnTo>
                      <a:pt x="649" y="153"/>
                    </a:lnTo>
                    <a:lnTo>
                      <a:pt x="658" y="155"/>
                    </a:lnTo>
                    <a:lnTo>
                      <a:pt x="668" y="154"/>
                    </a:lnTo>
                    <a:lnTo>
                      <a:pt x="677" y="152"/>
                    </a:lnTo>
                    <a:lnTo>
                      <a:pt x="686" y="152"/>
                    </a:lnTo>
                    <a:lnTo>
                      <a:pt x="696" y="151"/>
                    </a:lnTo>
                    <a:lnTo>
                      <a:pt x="705" y="151"/>
                    </a:lnTo>
                    <a:lnTo>
                      <a:pt x="714" y="150"/>
                    </a:lnTo>
                    <a:lnTo>
                      <a:pt x="723" y="149"/>
                    </a:lnTo>
                    <a:lnTo>
                      <a:pt x="733" y="148"/>
                    </a:lnTo>
                    <a:lnTo>
                      <a:pt x="742" y="149"/>
                    </a:lnTo>
                    <a:lnTo>
                      <a:pt x="751" y="150"/>
                    </a:lnTo>
                    <a:lnTo>
                      <a:pt x="760" y="152"/>
                    </a:lnTo>
                    <a:lnTo>
                      <a:pt x="770" y="151"/>
                    </a:lnTo>
                    <a:lnTo>
                      <a:pt x="779" y="150"/>
                    </a:lnTo>
                    <a:lnTo>
                      <a:pt x="788" y="149"/>
                    </a:lnTo>
                    <a:lnTo>
                      <a:pt x="798" y="148"/>
                    </a:lnTo>
                    <a:lnTo>
                      <a:pt x="807" y="147"/>
                    </a:lnTo>
                    <a:lnTo>
                      <a:pt x="816" y="147"/>
                    </a:lnTo>
                    <a:lnTo>
                      <a:pt x="825" y="145"/>
                    </a:lnTo>
                    <a:lnTo>
                      <a:pt x="835" y="145"/>
                    </a:lnTo>
                    <a:lnTo>
                      <a:pt x="844" y="143"/>
                    </a:lnTo>
                    <a:lnTo>
                      <a:pt x="853" y="142"/>
                    </a:lnTo>
                    <a:lnTo>
                      <a:pt x="863" y="142"/>
                    </a:lnTo>
                    <a:lnTo>
                      <a:pt x="872" y="142"/>
                    </a:lnTo>
                    <a:lnTo>
                      <a:pt x="881" y="145"/>
                    </a:lnTo>
                    <a:lnTo>
                      <a:pt x="890" y="143"/>
                    </a:lnTo>
                    <a:lnTo>
                      <a:pt x="900" y="141"/>
                    </a:lnTo>
                    <a:lnTo>
                      <a:pt x="909" y="140"/>
                    </a:lnTo>
                    <a:lnTo>
                      <a:pt x="918" y="140"/>
                    </a:lnTo>
                    <a:lnTo>
                      <a:pt x="928" y="137"/>
                    </a:lnTo>
                    <a:lnTo>
                      <a:pt x="937" y="136"/>
                    </a:lnTo>
                    <a:lnTo>
                      <a:pt x="946" y="135"/>
                    </a:lnTo>
                    <a:lnTo>
                      <a:pt x="955" y="134"/>
                    </a:lnTo>
                    <a:lnTo>
                      <a:pt x="965" y="133"/>
                    </a:lnTo>
                    <a:lnTo>
                      <a:pt x="974" y="131"/>
                    </a:lnTo>
                    <a:lnTo>
                      <a:pt x="983" y="129"/>
                    </a:lnTo>
                    <a:lnTo>
                      <a:pt x="992" y="126"/>
                    </a:lnTo>
                    <a:lnTo>
                      <a:pt x="1002" y="124"/>
                    </a:lnTo>
                    <a:lnTo>
                      <a:pt x="1011" y="122"/>
                    </a:lnTo>
                    <a:lnTo>
                      <a:pt x="1020" y="120"/>
                    </a:lnTo>
                    <a:lnTo>
                      <a:pt x="1030" y="118"/>
                    </a:lnTo>
                    <a:lnTo>
                      <a:pt x="1039" y="115"/>
                    </a:lnTo>
                    <a:lnTo>
                      <a:pt x="1048" y="112"/>
                    </a:lnTo>
                    <a:lnTo>
                      <a:pt x="1057" y="109"/>
                    </a:lnTo>
                    <a:lnTo>
                      <a:pt x="1067" y="109"/>
                    </a:lnTo>
                    <a:lnTo>
                      <a:pt x="1076" y="106"/>
                    </a:lnTo>
                    <a:lnTo>
                      <a:pt x="1085" y="104"/>
                    </a:lnTo>
                    <a:lnTo>
                      <a:pt x="1095" y="101"/>
                    </a:lnTo>
                    <a:lnTo>
                      <a:pt x="1104" y="97"/>
                    </a:lnTo>
                    <a:lnTo>
                      <a:pt x="1113" y="94"/>
                    </a:lnTo>
                    <a:lnTo>
                      <a:pt x="1122" y="91"/>
                    </a:lnTo>
                    <a:lnTo>
                      <a:pt x="1132" y="86"/>
                    </a:lnTo>
                    <a:lnTo>
                      <a:pt x="1141" y="81"/>
                    </a:lnTo>
                    <a:lnTo>
                      <a:pt x="1150" y="81"/>
                    </a:lnTo>
                    <a:lnTo>
                      <a:pt x="1160" y="81"/>
                    </a:lnTo>
                    <a:lnTo>
                      <a:pt x="1169" y="75"/>
                    </a:lnTo>
                    <a:lnTo>
                      <a:pt x="1178" y="72"/>
                    </a:lnTo>
                    <a:lnTo>
                      <a:pt x="1187" y="68"/>
                    </a:lnTo>
                    <a:lnTo>
                      <a:pt x="1197" y="65"/>
                    </a:lnTo>
                    <a:lnTo>
                      <a:pt x="1206" y="65"/>
                    </a:lnTo>
                    <a:lnTo>
                      <a:pt x="1215" y="66"/>
                    </a:lnTo>
                    <a:lnTo>
                      <a:pt x="1224" y="66"/>
                    </a:lnTo>
                    <a:lnTo>
                      <a:pt x="1234" y="66"/>
                    </a:lnTo>
                    <a:lnTo>
                      <a:pt x="1243" y="62"/>
                    </a:lnTo>
                    <a:lnTo>
                      <a:pt x="1252" y="59"/>
                    </a:lnTo>
                    <a:lnTo>
                      <a:pt x="1262" y="57"/>
                    </a:lnTo>
                    <a:lnTo>
                      <a:pt x="1271" y="52"/>
                    </a:lnTo>
                    <a:lnTo>
                      <a:pt x="1280" y="48"/>
                    </a:lnTo>
                    <a:lnTo>
                      <a:pt x="1289" y="46"/>
                    </a:lnTo>
                    <a:lnTo>
                      <a:pt x="1299" y="44"/>
                    </a:lnTo>
                    <a:lnTo>
                      <a:pt x="1308" y="43"/>
                    </a:lnTo>
                    <a:lnTo>
                      <a:pt x="1317" y="43"/>
                    </a:lnTo>
                    <a:lnTo>
                      <a:pt x="1327" y="42"/>
                    </a:lnTo>
                    <a:lnTo>
                      <a:pt x="1336" y="41"/>
                    </a:lnTo>
                    <a:lnTo>
                      <a:pt x="1345" y="38"/>
                    </a:lnTo>
                    <a:lnTo>
                      <a:pt x="1354" y="34"/>
                    </a:lnTo>
                    <a:lnTo>
                      <a:pt x="1364" y="33"/>
                    </a:lnTo>
                    <a:lnTo>
                      <a:pt x="1373" y="32"/>
                    </a:lnTo>
                    <a:lnTo>
                      <a:pt x="1382" y="29"/>
                    </a:lnTo>
                    <a:lnTo>
                      <a:pt x="1392" y="26"/>
                    </a:lnTo>
                    <a:lnTo>
                      <a:pt x="1401" y="26"/>
                    </a:lnTo>
                    <a:lnTo>
                      <a:pt x="1410" y="22"/>
                    </a:lnTo>
                    <a:lnTo>
                      <a:pt x="1419" y="16"/>
                    </a:lnTo>
                    <a:lnTo>
                      <a:pt x="1429" y="8"/>
                    </a:lnTo>
                    <a:lnTo>
                      <a:pt x="1438" y="4"/>
                    </a:lnTo>
                    <a:lnTo>
                      <a:pt x="1447" y="0"/>
                    </a:lnTo>
                    <a:lnTo>
                      <a:pt x="1447" y="4"/>
                    </a:lnTo>
                    <a:lnTo>
                      <a:pt x="1438" y="8"/>
                    </a:lnTo>
                    <a:lnTo>
                      <a:pt x="1429" y="12"/>
                    </a:lnTo>
                    <a:lnTo>
                      <a:pt x="1419" y="20"/>
                    </a:lnTo>
                    <a:lnTo>
                      <a:pt x="1410" y="26"/>
                    </a:lnTo>
                    <a:lnTo>
                      <a:pt x="1401" y="29"/>
                    </a:lnTo>
                    <a:lnTo>
                      <a:pt x="1392" y="30"/>
                    </a:lnTo>
                    <a:lnTo>
                      <a:pt x="1382" y="33"/>
                    </a:lnTo>
                    <a:lnTo>
                      <a:pt x="1373" y="36"/>
                    </a:lnTo>
                    <a:lnTo>
                      <a:pt x="1364" y="36"/>
                    </a:lnTo>
                    <a:lnTo>
                      <a:pt x="1354" y="38"/>
                    </a:lnTo>
                    <a:lnTo>
                      <a:pt x="1345" y="41"/>
                    </a:lnTo>
                    <a:lnTo>
                      <a:pt x="1336" y="44"/>
                    </a:lnTo>
                    <a:lnTo>
                      <a:pt x="1327" y="45"/>
                    </a:lnTo>
                    <a:lnTo>
                      <a:pt x="1317" y="46"/>
                    </a:lnTo>
                    <a:lnTo>
                      <a:pt x="1308" y="46"/>
                    </a:lnTo>
                    <a:lnTo>
                      <a:pt x="1299" y="47"/>
                    </a:lnTo>
                    <a:lnTo>
                      <a:pt x="1289" y="49"/>
                    </a:lnTo>
                    <a:lnTo>
                      <a:pt x="1280" y="51"/>
                    </a:lnTo>
                    <a:lnTo>
                      <a:pt x="1271" y="55"/>
                    </a:lnTo>
                    <a:lnTo>
                      <a:pt x="1262" y="60"/>
                    </a:lnTo>
                    <a:lnTo>
                      <a:pt x="1252" y="62"/>
                    </a:lnTo>
                    <a:lnTo>
                      <a:pt x="1243" y="64"/>
                    </a:lnTo>
                    <a:lnTo>
                      <a:pt x="1234" y="68"/>
                    </a:lnTo>
                    <a:lnTo>
                      <a:pt x="1224" y="69"/>
                    </a:lnTo>
                    <a:lnTo>
                      <a:pt x="1215" y="69"/>
                    </a:lnTo>
                    <a:lnTo>
                      <a:pt x="1206" y="67"/>
                    </a:lnTo>
                    <a:lnTo>
                      <a:pt x="1197" y="67"/>
                    </a:lnTo>
                    <a:lnTo>
                      <a:pt x="1187" y="70"/>
                    </a:lnTo>
                    <a:lnTo>
                      <a:pt x="1178" y="74"/>
                    </a:lnTo>
                    <a:lnTo>
                      <a:pt x="1169" y="77"/>
                    </a:lnTo>
                    <a:lnTo>
                      <a:pt x="1160" y="83"/>
                    </a:lnTo>
                    <a:lnTo>
                      <a:pt x="1150" y="83"/>
                    </a:lnTo>
                    <a:lnTo>
                      <a:pt x="1141" y="83"/>
                    </a:lnTo>
                    <a:lnTo>
                      <a:pt x="1132" y="88"/>
                    </a:lnTo>
                    <a:lnTo>
                      <a:pt x="1122" y="92"/>
                    </a:lnTo>
                    <a:lnTo>
                      <a:pt x="1113" y="95"/>
                    </a:lnTo>
                    <a:lnTo>
                      <a:pt x="1104" y="99"/>
                    </a:lnTo>
                    <a:lnTo>
                      <a:pt x="1095" y="102"/>
                    </a:lnTo>
                    <a:lnTo>
                      <a:pt x="1085" y="106"/>
                    </a:lnTo>
                    <a:lnTo>
                      <a:pt x="1076" y="107"/>
                    </a:lnTo>
                    <a:lnTo>
                      <a:pt x="1067" y="110"/>
                    </a:lnTo>
                    <a:lnTo>
                      <a:pt x="1057" y="110"/>
                    </a:lnTo>
                    <a:lnTo>
                      <a:pt x="1048" y="113"/>
                    </a:lnTo>
                    <a:lnTo>
                      <a:pt x="1039" y="116"/>
                    </a:lnTo>
                    <a:lnTo>
                      <a:pt x="1030" y="119"/>
                    </a:lnTo>
                    <a:lnTo>
                      <a:pt x="1020" y="121"/>
                    </a:lnTo>
                    <a:lnTo>
                      <a:pt x="1011" y="123"/>
                    </a:lnTo>
                    <a:lnTo>
                      <a:pt x="1002" y="125"/>
                    </a:lnTo>
                    <a:lnTo>
                      <a:pt x="992" y="127"/>
                    </a:lnTo>
                    <a:lnTo>
                      <a:pt x="983" y="130"/>
                    </a:lnTo>
                    <a:lnTo>
                      <a:pt x="974" y="132"/>
                    </a:lnTo>
                    <a:lnTo>
                      <a:pt x="965" y="134"/>
                    </a:lnTo>
                    <a:lnTo>
                      <a:pt x="955" y="134"/>
                    </a:lnTo>
                    <a:lnTo>
                      <a:pt x="946" y="136"/>
                    </a:lnTo>
                    <a:lnTo>
                      <a:pt x="937" y="137"/>
                    </a:lnTo>
                    <a:lnTo>
                      <a:pt x="928" y="138"/>
                    </a:lnTo>
                    <a:lnTo>
                      <a:pt x="918" y="141"/>
                    </a:lnTo>
                    <a:lnTo>
                      <a:pt x="909" y="141"/>
                    </a:lnTo>
                    <a:lnTo>
                      <a:pt x="900" y="142"/>
                    </a:lnTo>
                    <a:lnTo>
                      <a:pt x="890" y="144"/>
                    </a:lnTo>
                    <a:lnTo>
                      <a:pt x="881" y="146"/>
                    </a:lnTo>
                    <a:lnTo>
                      <a:pt x="872" y="143"/>
                    </a:lnTo>
                    <a:lnTo>
                      <a:pt x="863" y="142"/>
                    </a:lnTo>
                    <a:lnTo>
                      <a:pt x="853" y="143"/>
                    </a:lnTo>
                    <a:lnTo>
                      <a:pt x="844" y="144"/>
                    </a:lnTo>
                    <a:lnTo>
                      <a:pt x="835" y="146"/>
                    </a:lnTo>
                    <a:lnTo>
                      <a:pt x="825" y="146"/>
                    </a:lnTo>
                    <a:lnTo>
                      <a:pt x="816" y="148"/>
                    </a:lnTo>
                    <a:lnTo>
                      <a:pt x="807" y="147"/>
                    </a:lnTo>
                    <a:lnTo>
                      <a:pt x="798" y="148"/>
                    </a:lnTo>
                    <a:lnTo>
                      <a:pt x="788" y="150"/>
                    </a:lnTo>
                    <a:lnTo>
                      <a:pt x="779" y="151"/>
                    </a:lnTo>
                    <a:lnTo>
                      <a:pt x="770" y="152"/>
                    </a:lnTo>
                    <a:lnTo>
                      <a:pt x="760" y="152"/>
                    </a:lnTo>
                    <a:lnTo>
                      <a:pt x="751" y="151"/>
                    </a:lnTo>
                    <a:lnTo>
                      <a:pt x="742" y="150"/>
                    </a:lnTo>
                    <a:lnTo>
                      <a:pt x="733" y="149"/>
                    </a:lnTo>
                    <a:lnTo>
                      <a:pt x="723" y="149"/>
                    </a:lnTo>
                    <a:lnTo>
                      <a:pt x="714" y="150"/>
                    </a:lnTo>
                    <a:lnTo>
                      <a:pt x="705" y="151"/>
                    </a:lnTo>
                    <a:lnTo>
                      <a:pt x="696" y="151"/>
                    </a:lnTo>
                    <a:lnTo>
                      <a:pt x="686" y="152"/>
                    </a:lnTo>
                    <a:lnTo>
                      <a:pt x="677" y="152"/>
                    </a:lnTo>
                    <a:lnTo>
                      <a:pt x="668" y="154"/>
                    </a:lnTo>
                    <a:lnTo>
                      <a:pt x="658" y="155"/>
                    </a:lnTo>
                    <a:lnTo>
                      <a:pt x="649" y="153"/>
                    </a:lnTo>
                    <a:lnTo>
                      <a:pt x="640" y="155"/>
                    </a:lnTo>
                    <a:lnTo>
                      <a:pt x="631" y="153"/>
                    </a:lnTo>
                    <a:lnTo>
                      <a:pt x="621" y="153"/>
                    </a:lnTo>
                    <a:lnTo>
                      <a:pt x="612" y="154"/>
                    </a:lnTo>
                    <a:lnTo>
                      <a:pt x="603" y="155"/>
                    </a:lnTo>
                    <a:lnTo>
                      <a:pt x="593" y="155"/>
                    </a:lnTo>
                    <a:lnTo>
                      <a:pt x="584" y="154"/>
                    </a:lnTo>
                    <a:lnTo>
                      <a:pt x="575" y="155"/>
                    </a:lnTo>
                    <a:lnTo>
                      <a:pt x="566" y="155"/>
                    </a:lnTo>
                    <a:lnTo>
                      <a:pt x="556" y="156"/>
                    </a:lnTo>
                    <a:lnTo>
                      <a:pt x="547" y="156"/>
                    </a:lnTo>
                    <a:lnTo>
                      <a:pt x="538" y="157"/>
                    </a:lnTo>
                    <a:lnTo>
                      <a:pt x="528" y="156"/>
                    </a:lnTo>
                    <a:lnTo>
                      <a:pt x="519" y="157"/>
                    </a:lnTo>
                    <a:lnTo>
                      <a:pt x="510" y="158"/>
                    </a:lnTo>
                    <a:lnTo>
                      <a:pt x="501" y="159"/>
                    </a:lnTo>
                    <a:lnTo>
                      <a:pt x="491" y="159"/>
                    </a:lnTo>
                    <a:lnTo>
                      <a:pt x="482" y="160"/>
                    </a:lnTo>
                    <a:lnTo>
                      <a:pt x="473" y="160"/>
                    </a:lnTo>
                    <a:lnTo>
                      <a:pt x="464" y="160"/>
                    </a:lnTo>
                    <a:lnTo>
                      <a:pt x="454" y="161"/>
                    </a:lnTo>
                    <a:lnTo>
                      <a:pt x="445" y="161"/>
                    </a:lnTo>
                    <a:lnTo>
                      <a:pt x="436" y="162"/>
                    </a:lnTo>
                    <a:lnTo>
                      <a:pt x="426" y="162"/>
                    </a:lnTo>
                    <a:lnTo>
                      <a:pt x="417" y="162"/>
                    </a:lnTo>
                    <a:lnTo>
                      <a:pt x="408" y="162"/>
                    </a:lnTo>
                    <a:lnTo>
                      <a:pt x="399" y="163"/>
                    </a:lnTo>
                    <a:lnTo>
                      <a:pt x="389" y="163"/>
                    </a:lnTo>
                    <a:lnTo>
                      <a:pt x="380" y="163"/>
                    </a:lnTo>
                    <a:lnTo>
                      <a:pt x="371" y="163"/>
                    </a:lnTo>
                    <a:lnTo>
                      <a:pt x="361" y="163"/>
                    </a:lnTo>
                    <a:lnTo>
                      <a:pt x="352" y="163"/>
                    </a:lnTo>
                    <a:lnTo>
                      <a:pt x="343" y="164"/>
                    </a:lnTo>
                    <a:lnTo>
                      <a:pt x="334" y="164"/>
                    </a:lnTo>
                    <a:lnTo>
                      <a:pt x="324" y="164"/>
                    </a:lnTo>
                    <a:lnTo>
                      <a:pt x="315" y="164"/>
                    </a:lnTo>
                    <a:lnTo>
                      <a:pt x="306" y="164"/>
                    </a:lnTo>
                    <a:lnTo>
                      <a:pt x="296" y="164"/>
                    </a:lnTo>
                    <a:lnTo>
                      <a:pt x="287" y="165"/>
                    </a:lnTo>
                    <a:lnTo>
                      <a:pt x="278" y="165"/>
                    </a:lnTo>
                    <a:lnTo>
                      <a:pt x="269" y="165"/>
                    </a:lnTo>
                    <a:lnTo>
                      <a:pt x="259" y="165"/>
                    </a:lnTo>
                    <a:lnTo>
                      <a:pt x="250" y="165"/>
                    </a:lnTo>
                    <a:lnTo>
                      <a:pt x="241" y="166"/>
                    </a:lnTo>
                    <a:lnTo>
                      <a:pt x="232" y="166"/>
                    </a:lnTo>
                    <a:lnTo>
                      <a:pt x="222" y="166"/>
                    </a:lnTo>
                    <a:lnTo>
                      <a:pt x="213" y="166"/>
                    </a:lnTo>
                    <a:lnTo>
                      <a:pt x="204" y="166"/>
                    </a:lnTo>
                    <a:lnTo>
                      <a:pt x="194" y="166"/>
                    </a:lnTo>
                    <a:lnTo>
                      <a:pt x="185" y="166"/>
                    </a:lnTo>
                    <a:lnTo>
                      <a:pt x="176" y="167"/>
                    </a:lnTo>
                    <a:lnTo>
                      <a:pt x="167" y="167"/>
                    </a:lnTo>
                    <a:lnTo>
                      <a:pt x="157" y="167"/>
                    </a:lnTo>
                    <a:lnTo>
                      <a:pt x="148" y="167"/>
                    </a:lnTo>
                    <a:lnTo>
                      <a:pt x="139" y="167"/>
                    </a:lnTo>
                    <a:lnTo>
                      <a:pt x="129" y="167"/>
                    </a:lnTo>
                    <a:lnTo>
                      <a:pt x="120" y="167"/>
                    </a:lnTo>
                    <a:lnTo>
                      <a:pt x="111" y="167"/>
                    </a:lnTo>
                    <a:lnTo>
                      <a:pt x="102" y="168"/>
                    </a:lnTo>
                    <a:lnTo>
                      <a:pt x="92" y="168"/>
                    </a:lnTo>
                    <a:lnTo>
                      <a:pt x="83" y="168"/>
                    </a:lnTo>
                    <a:lnTo>
                      <a:pt x="74" y="168"/>
                    </a:lnTo>
                    <a:lnTo>
                      <a:pt x="64" y="168"/>
                    </a:lnTo>
                    <a:lnTo>
                      <a:pt x="55" y="168"/>
                    </a:lnTo>
                    <a:lnTo>
                      <a:pt x="46" y="168"/>
                    </a:lnTo>
                    <a:lnTo>
                      <a:pt x="37" y="168"/>
                    </a:lnTo>
                    <a:lnTo>
                      <a:pt x="27" y="168"/>
                    </a:lnTo>
                    <a:lnTo>
                      <a:pt x="18" y="169"/>
                    </a:lnTo>
                    <a:lnTo>
                      <a:pt x="9" y="168"/>
                    </a:lnTo>
                    <a:lnTo>
                      <a:pt x="0" y="168"/>
                    </a:lnTo>
                    <a:close/>
                  </a:path>
                </a:pathLst>
              </a:custGeom>
              <a:noFill/>
              <a:ln w="3175">
                <a:solidFill>
                  <a:srgbClr val="ffc8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9" name="Freeform 249"/>
              <p:cNvSpPr/>
              <p:nvPr/>
            </p:nvSpPr>
            <p:spPr>
              <a:xfrm>
                <a:off x="4879800" y="6069960"/>
                <a:ext cx="2310120" cy="405360"/>
              </a:xfrm>
              <a:custGeom>
                <a:avLst/>
                <a:gdLst>
                  <a:gd name="textAreaLeft" fmla="*/ 0 w 2310120"/>
                  <a:gd name="textAreaRight" fmla="*/ 2310480 w 2310120"/>
                  <a:gd name="textAreaTop" fmla="*/ 0 h 405360"/>
                  <a:gd name="textAreaBottom" fmla="*/ 405720 h 405360"/>
                </a:gdLst>
                <a:ahLst/>
                <a:rect l="textAreaLeft" t="textAreaTop" r="textAreaRight" b="textAreaBottom"/>
                <a:pathLst>
                  <a:path w="1447" h="164">
                    <a:moveTo>
                      <a:pt x="0" y="164"/>
                    </a:moveTo>
                    <a:lnTo>
                      <a:pt x="9" y="164"/>
                    </a:lnTo>
                    <a:lnTo>
                      <a:pt x="18" y="164"/>
                    </a:lnTo>
                    <a:lnTo>
                      <a:pt x="27" y="164"/>
                    </a:lnTo>
                    <a:lnTo>
                      <a:pt x="37" y="164"/>
                    </a:lnTo>
                    <a:lnTo>
                      <a:pt x="46" y="164"/>
                    </a:lnTo>
                    <a:lnTo>
                      <a:pt x="55" y="164"/>
                    </a:lnTo>
                    <a:lnTo>
                      <a:pt x="64" y="164"/>
                    </a:lnTo>
                    <a:lnTo>
                      <a:pt x="74" y="164"/>
                    </a:lnTo>
                    <a:lnTo>
                      <a:pt x="83" y="164"/>
                    </a:lnTo>
                    <a:lnTo>
                      <a:pt x="92" y="163"/>
                    </a:lnTo>
                    <a:lnTo>
                      <a:pt x="102" y="163"/>
                    </a:lnTo>
                    <a:lnTo>
                      <a:pt x="111" y="163"/>
                    </a:lnTo>
                    <a:lnTo>
                      <a:pt x="120" y="163"/>
                    </a:lnTo>
                    <a:lnTo>
                      <a:pt x="129" y="163"/>
                    </a:lnTo>
                    <a:lnTo>
                      <a:pt x="139" y="163"/>
                    </a:lnTo>
                    <a:lnTo>
                      <a:pt x="148" y="163"/>
                    </a:lnTo>
                    <a:lnTo>
                      <a:pt x="157" y="163"/>
                    </a:lnTo>
                    <a:lnTo>
                      <a:pt x="167" y="162"/>
                    </a:lnTo>
                    <a:lnTo>
                      <a:pt x="176" y="162"/>
                    </a:lnTo>
                    <a:lnTo>
                      <a:pt x="185" y="162"/>
                    </a:lnTo>
                    <a:lnTo>
                      <a:pt x="194" y="162"/>
                    </a:lnTo>
                    <a:lnTo>
                      <a:pt x="204" y="162"/>
                    </a:lnTo>
                    <a:lnTo>
                      <a:pt x="213" y="162"/>
                    </a:lnTo>
                    <a:lnTo>
                      <a:pt x="222" y="162"/>
                    </a:lnTo>
                    <a:lnTo>
                      <a:pt x="232" y="161"/>
                    </a:lnTo>
                    <a:lnTo>
                      <a:pt x="241" y="161"/>
                    </a:lnTo>
                    <a:lnTo>
                      <a:pt x="250" y="161"/>
                    </a:lnTo>
                    <a:lnTo>
                      <a:pt x="259" y="161"/>
                    </a:lnTo>
                    <a:lnTo>
                      <a:pt x="269" y="161"/>
                    </a:lnTo>
                    <a:lnTo>
                      <a:pt x="278" y="161"/>
                    </a:lnTo>
                    <a:lnTo>
                      <a:pt x="287" y="160"/>
                    </a:lnTo>
                    <a:lnTo>
                      <a:pt x="296" y="160"/>
                    </a:lnTo>
                    <a:lnTo>
                      <a:pt x="306" y="160"/>
                    </a:lnTo>
                    <a:lnTo>
                      <a:pt x="315" y="160"/>
                    </a:lnTo>
                    <a:lnTo>
                      <a:pt x="324" y="160"/>
                    </a:lnTo>
                    <a:lnTo>
                      <a:pt x="334" y="160"/>
                    </a:lnTo>
                    <a:lnTo>
                      <a:pt x="343" y="160"/>
                    </a:lnTo>
                    <a:lnTo>
                      <a:pt x="352" y="159"/>
                    </a:lnTo>
                    <a:lnTo>
                      <a:pt x="361" y="159"/>
                    </a:lnTo>
                    <a:lnTo>
                      <a:pt x="371" y="159"/>
                    </a:lnTo>
                    <a:lnTo>
                      <a:pt x="380" y="158"/>
                    </a:lnTo>
                    <a:lnTo>
                      <a:pt x="389" y="158"/>
                    </a:lnTo>
                    <a:lnTo>
                      <a:pt x="399" y="158"/>
                    </a:lnTo>
                    <a:lnTo>
                      <a:pt x="408" y="158"/>
                    </a:lnTo>
                    <a:lnTo>
                      <a:pt x="417" y="158"/>
                    </a:lnTo>
                    <a:lnTo>
                      <a:pt x="426" y="158"/>
                    </a:lnTo>
                    <a:lnTo>
                      <a:pt x="436" y="157"/>
                    </a:lnTo>
                    <a:lnTo>
                      <a:pt x="445" y="157"/>
                    </a:lnTo>
                    <a:lnTo>
                      <a:pt x="454" y="156"/>
                    </a:lnTo>
                    <a:lnTo>
                      <a:pt x="464" y="156"/>
                    </a:lnTo>
                    <a:lnTo>
                      <a:pt x="473" y="156"/>
                    </a:lnTo>
                    <a:lnTo>
                      <a:pt x="482" y="156"/>
                    </a:lnTo>
                    <a:lnTo>
                      <a:pt x="491" y="155"/>
                    </a:lnTo>
                    <a:lnTo>
                      <a:pt x="501" y="155"/>
                    </a:lnTo>
                    <a:lnTo>
                      <a:pt x="510" y="154"/>
                    </a:lnTo>
                    <a:lnTo>
                      <a:pt x="519" y="153"/>
                    </a:lnTo>
                    <a:lnTo>
                      <a:pt x="528" y="152"/>
                    </a:lnTo>
                    <a:lnTo>
                      <a:pt x="538" y="153"/>
                    </a:lnTo>
                    <a:lnTo>
                      <a:pt x="547" y="152"/>
                    </a:lnTo>
                    <a:lnTo>
                      <a:pt x="556" y="152"/>
                    </a:lnTo>
                    <a:lnTo>
                      <a:pt x="566" y="151"/>
                    </a:lnTo>
                    <a:lnTo>
                      <a:pt x="575" y="151"/>
                    </a:lnTo>
                    <a:lnTo>
                      <a:pt x="584" y="150"/>
                    </a:lnTo>
                    <a:lnTo>
                      <a:pt x="593" y="151"/>
                    </a:lnTo>
                    <a:lnTo>
                      <a:pt x="603" y="151"/>
                    </a:lnTo>
                    <a:lnTo>
                      <a:pt x="612" y="150"/>
                    </a:lnTo>
                    <a:lnTo>
                      <a:pt x="621" y="149"/>
                    </a:lnTo>
                    <a:lnTo>
                      <a:pt x="631" y="149"/>
                    </a:lnTo>
                    <a:lnTo>
                      <a:pt x="640" y="151"/>
                    </a:lnTo>
                    <a:lnTo>
                      <a:pt x="649" y="149"/>
                    </a:lnTo>
                    <a:lnTo>
                      <a:pt x="658" y="151"/>
                    </a:lnTo>
                    <a:lnTo>
                      <a:pt x="668" y="150"/>
                    </a:lnTo>
                    <a:lnTo>
                      <a:pt x="677" y="148"/>
                    </a:lnTo>
                    <a:lnTo>
                      <a:pt x="686" y="148"/>
                    </a:lnTo>
                    <a:lnTo>
                      <a:pt x="696" y="147"/>
                    </a:lnTo>
                    <a:lnTo>
                      <a:pt x="705" y="147"/>
                    </a:lnTo>
                    <a:lnTo>
                      <a:pt x="714" y="146"/>
                    </a:lnTo>
                    <a:lnTo>
                      <a:pt x="723" y="145"/>
                    </a:lnTo>
                    <a:lnTo>
                      <a:pt x="733" y="145"/>
                    </a:lnTo>
                    <a:lnTo>
                      <a:pt x="742" y="145"/>
                    </a:lnTo>
                    <a:lnTo>
                      <a:pt x="751" y="147"/>
                    </a:lnTo>
                    <a:lnTo>
                      <a:pt x="760" y="148"/>
                    </a:lnTo>
                    <a:lnTo>
                      <a:pt x="770" y="147"/>
                    </a:lnTo>
                    <a:lnTo>
                      <a:pt x="779" y="146"/>
                    </a:lnTo>
                    <a:lnTo>
                      <a:pt x="788" y="146"/>
                    </a:lnTo>
                    <a:lnTo>
                      <a:pt x="798" y="144"/>
                    </a:lnTo>
                    <a:lnTo>
                      <a:pt x="807" y="143"/>
                    </a:lnTo>
                    <a:lnTo>
                      <a:pt x="816" y="143"/>
                    </a:lnTo>
                    <a:lnTo>
                      <a:pt x="825" y="142"/>
                    </a:lnTo>
                    <a:lnTo>
                      <a:pt x="835" y="142"/>
                    </a:lnTo>
                    <a:lnTo>
                      <a:pt x="844" y="139"/>
                    </a:lnTo>
                    <a:lnTo>
                      <a:pt x="853" y="139"/>
                    </a:lnTo>
                    <a:lnTo>
                      <a:pt x="863" y="138"/>
                    </a:lnTo>
                    <a:lnTo>
                      <a:pt x="872" y="139"/>
                    </a:lnTo>
                    <a:lnTo>
                      <a:pt x="881" y="141"/>
                    </a:lnTo>
                    <a:lnTo>
                      <a:pt x="890" y="140"/>
                    </a:lnTo>
                    <a:lnTo>
                      <a:pt x="900" y="138"/>
                    </a:lnTo>
                    <a:lnTo>
                      <a:pt x="909" y="137"/>
                    </a:lnTo>
                    <a:lnTo>
                      <a:pt x="918" y="136"/>
                    </a:lnTo>
                    <a:lnTo>
                      <a:pt x="928" y="134"/>
                    </a:lnTo>
                    <a:lnTo>
                      <a:pt x="937" y="132"/>
                    </a:lnTo>
                    <a:lnTo>
                      <a:pt x="946" y="131"/>
                    </a:lnTo>
                    <a:lnTo>
                      <a:pt x="955" y="130"/>
                    </a:lnTo>
                    <a:lnTo>
                      <a:pt x="965" y="129"/>
                    </a:lnTo>
                    <a:lnTo>
                      <a:pt x="974" y="127"/>
                    </a:lnTo>
                    <a:lnTo>
                      <a:pt x="983" y="126"/>
                    </a:lnTo>
                    <a:lnTo>
                      <a:pt x="992" y="123"/>
                    </a:lnTo>
                    <a:lnTo>
                      <a:pt x="1002" y="121"/>
                    </a:lnTo>
                    <a:lnTo>
                      <a:pt x="1011" y="119"/>
                    </a:lnTo>
                    <a:lnTo>
                      <a:pt x="1020" y="116"/>
                    </a:lnTo>
                    <a:lnTo>
                      <a:pt x="1030" y="115"/>
                    </a:lnTo>
                    <a:lnTo>
                      <a:pt x="1039" y="112"/>
                    </a:lnTo>
                    <a:lnTo>
                      <a:pt x="1048" y="109"/>
                    </a:lnTo>
                    <a:lnTo>
                      <a:pt x="1057" y="106"/>
                    </a:lnTo>
                    <a:lnTo>
                      <a:pt x="1067" y="106"/>
                    </a:lnTo>
                    <a:lnTo>
                      <a:pt x="1076" y="103"/>
                    </a:lnTo>
                    <a:lnTo>
                      <a:pt x="1085" y="102"/>
                    </a:lnTo>
                    <a:lnTo>
                      <a:pt x="1095" y="98"/>
                    </a:lnTo>
                    <a:lnTo>
                      <a:pt x="1104" y="95"/>
                    </a:lnTo>
                    <a:lnTo>
                      <a:pt x="1113" y="91"/>
                    </a:lnTo>
                    <a:lnTo>
                      <a:pt x="1122" y="88"/>
                    </a:lnTo>
                    <a:lnTo>
                      <a:pt x="1132" y="84"/>
                    </a:lnTo>
                    <a:lnTo>
                      <a:pt x="1141" y="79"/>
                    </a:lnTo>
                    <a:lnTo>
                      <a:pt x="1150" y="79"/>
                    </a:lnTo>
                    <a:lnTo>
                      <a:pt x="1160" y="78"/>
                    </a:lnTo>
                    <a:lnTo>
                      <a:pt x="1169" y="73"/>
                    </a:lnTo>
                    <a:lnTo>
                      <a:pt x="1178" y="70"/>
                    </a:lnTo>
                    <a:lnTo>
                      <a:pt x="1187" y="66"/>
                    </a:lnTo>
                    <a:lnTo>
                      <a:pt x="1197" y="63"/>
                    </a:lnTo>
                    <a:lnTo>
                      <a:pt x="1206" y="63"/>
                    </a:lnTo>
                    <a:lnTo>
                      <a:pt x="1215" y="65"/>
                    </a:lnTo>
                    <a:lnTo>
                      <a:pt x="1224" y="65"/>
                    </a:lnTo>
                    <a:lnTo>
                      <a:pt x="1234" y="64"/>
                    </a:lnTo>
                    <a:lnTo>
                      <a:pt x="1243" y="60"/>
                    </a:lnTo>
                    <a:lnTo>
                      <a:pt x="1252" y="58"/>
                    </a:lnTo>
                    <a:lnTo>
                      <a:pt x="1262" y="55"/>
                    </a:lnTo>
                    <a:lnTo>
                      <a:pt x="1271" y="51"/>
                    </a:lnTo>
                    <a:lnTo>
                      <a:pt x="1280" y="47"/>
                    </a:lnTo>
                    <a:lnTo>
                      <a:pt x="1289" y="45"/>
                    </a:lnTo>
                    <a:lnTo>
                      <a:pt x="1299" y="43"/>
                    </a:lnTo>
                    <a:lnTo>
                      <a:pt x="1308" y="42"/>
                    </a:lnTo>
                    <a:lnTo>
                      <a:pt x="1317" y="42"/>
                    </a:lnTo>
                    <a:lnTo>
                      <a:pt x="1327" y="41"/>
                    </a:lnTo>
                    <a:lnTo>
                      <a:pt x="1336" y="40"/>
                    </a:lnTo>
                    <a:lnTo>
                      <a:pt x="1345" y="37"/>
                    </a:lnTo>
                    <a:lnTo>
                      <a:pt x="1354" y="33"/>
                    </a:lnTo>
                    <a:lnTo>
                      <a:pt x="1364" y="32"/>
                    </a:lnTo>
                    <a:lnTo>
                      <a:pt x="1373" y="31"/>
                    </a:lnTo>
                    <a:lnTo>
                      <a:pt x="1382" y="29"/>
                    </a:lnTo>
                    <a:lnTo>
                      <a:pt x="1392" y="26"/>
                    </a:lnTo>
                    <a:lnTo>
                      <a:pt x="1401" y="25"/>
                    </a:lnTo>
                    <a:lnTo>
                      <a:pt x="1410" y="22"/>
                    </a:lnTo>
                    <a:lnTo>
                      <a:pt x="1419" y="16"/>
                    </a:lnTo>
                    <a:lnTo>
                      <a:pt x="1429" y="8"/>
                    </a:lnTo>
                    <a:lnTo>
                      <a:pt x="1438" y="4"/>
                    </a:lnTo>
                    <a:lnTo>
                      <a:pt x="1447" y="0"/>
                    </a:lnTo>
                    <a:lnTo>
                      <a:pt x="1447" y="3"/>
                    </a:lnTo>
                    <a:lnTo>
                      <a:pt x="1438" y="8"/>
                    </a:lnTo>
                    <a:lnTo>
                      <a:pt x="1429" y="12"/>
                    </a:lnTo>
                    <a:lnTo>
                      <a:pt x="1419" y="19"/>
                    </a:lnTo>
                    <a:lnTo>
                      <a:pt x="1410" y="25"/>
                    </a:lnTo>
                    <a:lnTo>
                      <a:pt x="1401" y="29"/>
                    </a:lnTo>
                    <a:lnTo>
                      <a:pt x="1392" y="29"/>
                    </a:lnTo>
                    <a:lnTo>
                      <a:pt x="1382" y="32"/>
                    </a:lnTo>
                    <a:lnTo>
                      <a:pt x="1373" y="35"/>
                    </a:lnTo>
                    <a:lnTo>
                      <a:pt x="1364" y="35"/>
                    </a:lnTo>
                    <a:lnTo>
                      <a:pt x="1354" y="37"/>
                    </a:lnTo>
                    <a:lnTo>
                      <a:pt x="1345" y="40"/>
                    </a:lnTo>
                    <a:lnTo>
                      <a:pt x="1336" y="43"/>
                    </a:lnTo>
                    <a:lnTo>
                      <a:pt x="1327" y="44"/>
                    </a:lnTo>
                    <a:lnTo>
                      <a:pt x="1317" y="45"/>
                    </a:lnTo>
                    <a:lnTo>
                      <a:pt x="1308" y="45"/>
                    </a:lnTo>
                    <a:lnTo>
                      <a:pt x="1299" y="46"/>
                    </a:lnTo>
                    <a:lnTo>
                      <a:pt x="1289" y="48"/>
                    </a:lnTo>
                    <a:lnTo>
                      <a:pt x="1280" y="50"/>
                    </a:lnTo>
                    <a:lnTo>
                      <a:pt x="1271" y="53"/>
                    </a:lnTo>
                    <a:lnTo>
                      <a:pt x="1262" y="58"/>
                    </a:lnTo>
                    <a:lnTo>
                      <a:pt x="1252" y="60"/>
                    </a:lnTo>
                    <a:lnTo>
                      <a:pt x="1243" y="62"/>
                    </a:lnTo>
                    <a:lnTo>
                      <a:pt x="1234" y="65"/>
                    </a:lnTo>
                    <a:lnTo>
                      <a:pt x="1224" y="66"/>
                    </a:lnTo>
                    <a:lnTo>
                      <a:pt x="1215" y="66"/>
                    </a:lnTo>
                    <a:lnTo>
                      <a:pt x="1206" y="64"/>
                    </a:lnTo>
                    <a:lnTo>
                      <a:pt x="1197" y="64"/>
                    </a:lnTo>
                    <a:lnTo>
                      <a:pt x="1187" y="67"/>
                    </a:lnTo>
                    <a:lnTo>
                      <a:pt x="1178" y="71"/>
                    </a:lnTo>
                    <a:lnTo>
                      <a:pt x="1169" y="74"/>
                    </a:lnTo>
                    <a:lnTo>
                      <a:pt x="1160" y="79"/>
                    </a:lnTo>
                    <a:lnTo>
                      <a:pt x="1150" y="79"/>
                    </a:lnTo>
                    <a:lnTo>
                      <a:pt x="1141" y="79"/>
                    </a:lnTo>
                    <a:lnTo>
                      <a:pt x="1132" y="84"/>
                    </a:lnTo>
                    <a:lnTo>
                      <a:pt x="1122" y="88"/>
                    </a:lnTo>
                    <a:lnTo>
                      <a:pt x="1113" y="91"/>
                    </a:lnTo>
                    <a:lnTo>
                      <a:pt x="1104" y="95"/>
                    </a:lnTo>
                    <a:lnTo>
                      <a:pt x="1095" y="98"/>
                    </a:lnTo>
                    <a:lnTo>
                      <a:pt x="1085" y="102"/>
                    </a:lnTo>
                    <a:lnTo>
                      <a:pt x="1076" y="103"/>
                    </a:lnTo>
                    <a:lnTo>
                      <a:pt x="1067" y="106"/>
                    </a:lnTo>
                    <a:lnTo>
                      <a:pt x="1057" y="106"/>
                    </a:lnTo>
                    <a:lnTo>
                      <a:pt x="1048" y="109"/>
                    </a:lnTo>
                    <a:lnTo>
                      <a:pt x="1039" y="112"/>
                    </a:lnTo>
                    <a:lnTo>
                      <a:pt x="1030" y="115"/>
                    </a:lnTo>
                    <a:lnTo>
                      <a:pt x="1020" y="116"/>
                    </a:lnTo>
                    <a:lnTo>
                      <a:pt x="1011" y="119"/>
                    </a:lnTo>
                    <a:lnTo>
                      <a:pt x="1002" y="121"/>
                    </a:lnTo>
                    <a:lnTo>
                      <a:pt x="992" y="123"/>
                    </a:lnTo>
                    <a:lnTo>
                      <a:pt x="983" y="126"/>
                    </a:lnTo>
                    <a:lnTo>
                      <a:pt x="974" y="127"/>
                    </a:lnTo>
                    <a:lnTo>
                      <a:pt x="965" y="129"/>
                    </a:lnTo>
                    <a:lnTo>
                      <a:pt x="955" y="130"/>
                    </a:lnTo>
                    <a:lnTo>
                      <a:pt x="946" y="131"/>
                    </a:lnTo>
                    <a:lnTo>
                      <a:pt x="937" y="132"/>
                    </a:lnTo>
                    <a:lnTo>
                      <a:pt x="928" y="134"/>
                    </a:lnTo>
                    <a:lnTo>
                      <a:pt x="918" y="136"/>
                    </a:lnTo>
                    <a:lnTo>
                      <a:pt x="909" y="137"/>
                    </a:lnTo>
                    <a:lnTo>
                      <a:pt x="900" y="138"/>
                    </a:lnTo>
                    <a:lnTo>
                      <a:pt x="890" y="140"/>
                    </a:lnTo>
                    <a:lnTo>
                      <a:pt x="881" y="141"/>
                    </a:lnTo>
                    <a:lnTo>
                      <a:pt x="872" y="139"/>
                    </a:lnTo>
                    <a:lnTo>
                      <a:pt x="863" y="138"/>
                    </a:lnTo>
                    <a:lnTo>
                      <a:pt x="853" y="139"/>
                    </a:lnTo>
                    <a:lnTo>
                      <a:pt x="844" y="139"/>
                    </a:lnTo>
                    <a:lnTo>
                      <a:pt x="835" y="142"/>
                    </a:lnTo>
                    <a:lnTo>
                      <a:pt x="825" y="142"/>
                    </a:lnTo>
                    <a:lnTo>
                      <a:pt x="816" y="143"/>
                    </a:lnTo>
                    <a:lnTo>
                      <a:pt x="807" y="143"/>
                    </a:lnTo>
                    <a:lnTo>
                      <a:pt x="798" y="144"/>
                    </a:lnTo>
                    <a:lnTo>
                      <a:pt x="788" y="146"/>
                    </a:lnTo>
                    <a:lnTo>
                      <a:pt x="779" y="146"/>
                    </a:lnTo>
                    <a:lnTo>
                      <a:pt x="770" y="147"/>
                    </a:lnTo>
                    <a:lnTo>
                      <a:pt x="760" y="148"/>
                    </a:lnTo>
                    <a:lnTo>
                      <a:pt x="751" y="147"/>
                    </a:lnTo>
                    <a:lnTo>
                      <a:pt x="742" y="145"/>
                    </a:lnTo>
                    <a:lnTo>
                      <a:pt x="733" y="145"/>
                    </a:lnTo>
                    <a:lnTo>
                      <a:pt x="723" y="145"/>
                    </a:lnTo>
                    <a:lnTo>
                      <a:pt x="714" y="146"/>
                    </a:lnTo>
                    <a:lnTo>
                      <a:pt x="705" y="147"/>
                    </a:lnTo>
                    <a:lnTo>
                      <a:pt x="696" y="147"/>
                    </a:lnTo>
                    <a:lnTo>
                      <a:pt x="686" y="148"/>
                    </a:lnTo>
                    <a:lnTo>
                      <a:pt x="677" y="148"/>
                    </a:lnTo>
                    <a:lnTo>
                      <a:pt x="668" y="150"/>
                    </a:lnTo>
                    <a:lnTo>
                      <a:pt x="658" y="151"/>
                    </a:lnTo>
                    <a:lnTo>
                      <a:pt x="649" y="149"/>
                    </a:lnTo>
                    <a:lnTo>
                      <a:pt x="640" y="151"/>
                    </a:lnTo>
                    <a:lnTo>
                      <a:pt x="631" y="149"/>
                    </a:lnTo>
                    <a:lnTo>
                      <a:pt x="621" y="149"/>
                    </a:lnTo>
                    <a:lnTo>
                      <a:pt x="612" y="150"/>
                    </a:lnTo>
                    <a:lnTo>
                      <a:pt x="603" y="151"/>
                    </a:lnTo>
                    <a:lnTo>
                      <a:pt x="593" y="151"/>
                    </a:lnTo>
                    <a:lnTo>
                      <a:pt x="584" y="150"/>
                    </a:lnTo>
                    <a:lnTo>
                      <a:pt x="575" y="151"/>
                    </a:lnTo>
                    <a:lnTo>
                      <a:pt x="566" y="151"/>
                    </a:lnTo>
                    <a:lnTo>
                      <a:pt x="556" y="152"/>
                    </a:lnTo>
                    <a:lnTo>
                      <a:pt x="547" y="152"/>
                    </a:lnTo>
                    <a:lnTo>
                      <a:pt x="538" y="153"/>
                    </a:lnTo>
                    <a:lnTo>
                      <a:pt x="528" y="152"/>
                    </a:lnTo>
                    <a:lnTo>
                      <a:pt x="519" y="153"/>
                    </a:lnTo>
                    <a:lnTo>
                      <a:pt x="510" y="154"/>
                    </a:lnTo>
                    <a:lnTo>
                      <a:pt x="501" y="155"/>
                    </a:lnTo>
                    <a:lnTo>
                      <a:pt x="491" y="155"/>
                    </a:lnTo>
                    <a:lnTo>
                      <a:pt x="482" y="156"/>
                    </a:lnTo>
                    <a:lnTo>
                      <a:pt x="473" y="156"/>
                    </a:lnTo>
                    <a:lnTo>
                      <a:pt x="464" y="156"/>
                    </a:lnTo>
                    <a:lnTo>
                      <a:pt x="454" y="156"/>
                    </a:lnTo>
                    <a:lnTo>
                      <a:pt x="445" y="157"/>
                    </a:lnTo>
                    <a:lnTo>
                      <a:pt x="436" y="157"/>
                    </a:lnTo>
                    <a:lnTo>
                      <a:pt x="426" y="158"/>
                    </a:lnTo>
                    <a:lnTo>
                      <a:pt x="417" y="158"/>
                    </a:lnTo>
                    <a:lnTo>
                      <a:pt x="408" y="158"/>
                    </a:lnTo>
                    <a:lnTo>
                      <a:pt x="399" y="158"/>
                    </a:lnTo>
                    <a:lnTo>
                      <a:pt x="389" y="158"/>
                    </a:lnTo>
                    <a:lnTo>
                      <a:pt x="380" y="158"/>
                    </a:lnTo>
                    <a:lnTo>
                      <a:pt x="371" y="159"/>
                    </a:lnTo>
                    <a:lnTo>
                      <a:pt x="361" y="159"/>
                    </a:lnTo>
                    <a:lnTo>
                      <a:pt x="352" y="159"/>
                    </a:lnTo>
                    <a:lnTo>
                      <a:pt x="343" y="160"/>
                    </a:lnTo>
                    <a:lnTo>
                      <a:pt x="334" y="160"/>
                    </a:lnTo>
                    <a:lnTo>
                      <a:pt x="324" y="160"/>
                    </a:lnTo>
                    <a:lnTo>
                      <a:pt x="315" y="160"/>
                    </a:lnTo>
                    <a:lnTo>
                      <a:pt x="306" y="160"/>
                    </a:lnTo>
                    <a:lnTo>
                      <a:pt x="296" y="160"/>
                    </a:lnTo>
                    <a:lnTo>
                      <a:pt x="287" y="160"/>
                    </a:lnTo>
                    <a:lnTo>
                      <a:pt x="278" y="161"/>
                    </a:lnTo>
                    <a:lnTo>
                      <a:pt x="269" y="161"/>
                    </a:lnTo>
                    <a:lnTo>
                      <a:pt x="259" y="161"/>
                    </a:lnTo>
                    <a:lnTo>
                      <a:pt x="250" y="161"/>
                    </a:lnTo>
                    <a:lnTo>
                      <a:pt x="241" y="161"/>
                    </a:lnTo>
                    <a:lnTo>
                      <a:pt x="232" y="161"/>
                    </a:lnTo>
                    <a:lnTo>
                      <a:pt x="222" y="162"/>
                    </a:lnTo>
                    <a:lnTo>
                      <a:pt x="213" y="162"/>
                    </a:lnTo>
                    <a:lnTo>
                      <a:pt x="204" y="162"/>
                    </a:lnTo>
                    <a:lnTo>
                      <a:pt x="194" y="162"/>
                    </a:lnTo>
                    <a:lnTo>
                      <a:pt x="185" y="162"/>
                    </a:lnTo>
                    <a:lnTo>
                      <a:pt x="176" y="162"/>
                    </a:lnTo>
                    <a:lnTo>
                      <a:pt x="167" y="162"/>
                    </a:lnTo>
                    <a:lnTo>
                      <a:pt x="157" y="163"/>
                    </a:lnTo>
                    <a:lnTo>
                      <a:pt x="148" y="163"/>
                    </a:lnTo>
                    <a:lnTo>
                      <a:pt x="139" y="163"/>
                    </a:lnTo>
                    <a:lnTo>
                      <a:pt x="129" y="163"/>
                    </a:lnTo>
                    <a:lnTo>
                      <a:pt x="120" y="163"/>
                    </a:lnTo>
                    <a:lnTo>
                      <a:pt x="111" y="163"/>
                    </a:lnTo>
                    <a:lnTo>
                      <a:pt x="102" y="163"/>
                    </a:lnTo>
                    <a:lnTo>
                      <a:pt x="92" y="163"/>
                    </a:lnTo>
                    <a:lnTo>
                      <a:pt x="83" y="164"/>
                    </a:lnTo>
                    <a:lnTo>
                      <a:pt x="74" y="164"/>
                    </a:lnTo>
                    <a:lnTo>
                      <a:pt x="64" y="164"/>
                    </a:lnTo>
                    <a:lnTo>
                      <a:pt x="55" y="164"/>
                    </a:lnTo>
                    <a:lnTo>
                      <a:pt x="46" y="164"/>
                    </a:lnTo>
                    <a:lnTo>
                      <a:pt x="37" y="164"/>
                    </a:lnTo>
                    <a:lnTo>
                      <a:pt x="27" y="164"/>
                    </a:lnTo>
                    <a:lnTo>
                      <a:pt x="18" y="164"/>
                    </a:lnTo>
                    <a:lnTo>
                      <a:pt x="9" y="164"/>
                    </a:lnTo>
                    <a:lnTo>
                      <a:pt x="0" y="164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0" name="Freeform 250"/>
              <p:cNvSpPr/>
              <p:nvPr/>
            </p:nvSpPr>
            <p:spPr>
              <a:xfrm>
                <a:off x="4879800" y="6069960"/>
                <a:ext cx="2310120" cy="405360"/>
              </a:xfrm>
              <a:custGeom>
                <a:avLst/>
                <a:gdLst>
                  <a:gd name="textAreaLeft" fmla="*/ 0 w 2310120"/>
                  <a:gd name="textAreaRight" fmla="*/ 2310480 w 2310120"/>
                  <a:gd name="textAreaTop" fmla="*/ 0 h 405360"/>
                  <a:gd name="textAreaBottom" fmla="*/ 405720 h 405360"/>
                </a:gdLst>
                <a:ahLst/>
                <a:rect l="textAreaLeft" t="textAreaTop" r="textAreaRight" b="textAreaBottom"/>
                <a:pathLst>
                  <a:path w="1447" h="164">
                    <a:moveTo>
                      <a:pt x="0" y="164"/>
                    </a:moveTo>
                    <a:lnTo>
                      <a:pt x="9" y="164"/>
                    </a:lnTo>
                    <a:lnTo>
                      <a:pt x="18" y="164"/>
                    </a:lnTo>
                    <a:lnTo>
                      <a:pt x="27" y="164"/>
                    </a:lnTo>
                    <a:lnTo>
                      <a:pt x="37" y="164"/>
                    </a:lnTo>
                    <a:lnTo>
                      <a:pt x="46" y="164"/>
                    </a:lnTo>
                    <a:lnTo>
                      <a:pt x="55" y="164"/>
                    </a:lnTo>
                    <a:lnTo>
                      <a:pt x="64" y="164"/>
                    </a:lnTo>
                    <a:lnTo>
                      <a:pt x="74" y="164"/>
                    </a:lnTo>
                    <a:lnTo>
                      <a:pt x="83" y="164"/>
                    </a:lnTo>
                    <a:lnTo>
                      <a:pt x="92" y="163"/>
                    </a:lnTo>
                    <a:lnTo>
                      <a:pt x="102" y="163"/>
                    </a:lnTo>
                    <a:lnTo>
                      <a:pt x="111" y="163"/>
                    </a:lnTo>
                    <a:lnTo>
                      <a:pt x="120" y="163"/>
                    </a:lnTo>
                    <a:lnTo>
                      <a:pt x="129" y="163"/>
                    </a:lnTo>
                    <a:lnTo>
                      <a:pt x="139" y="163"/>
                    </a:lnTo>
                    <a:lnTo>
                      <a:pt x="148" y="163"/>
                    </a:lnTo>
                    <a:lnTo>
                      <a:pt x="157" y="163"/>
                    </a:lnTo>
                    <a:lnTo>
                      <a:pt x="167" y="162"/>
                    </a:lnTo>
                    <a:lnTo>
                      <a:pt x="176" y="162"/>
                    </a:lnTo>
                    <a:lnTo>
                      <a:pt x="185" y="162"/>
                    </a:lnTo>
                    <a:lnTo>
                      <a:pt x="194" y="162"/>
                    </a:lnTo>
                    <a:lnTo>
                      <a:pt x="204" y="162"/>
                    </a:lnTo>
                    <a:lnTo>
                      <a:pt x="213" y="162"/>
                    </a:lnTo>
                    <a:lnTo>
                      <a:pt x="222" y="162"/>
                    </a:lnTo>
                    <a:lnTo>
                      <a:pt x="232" y="161"/>
                    </a:lnTo>
                    <a:lnTo>
                      <a:pt x="241" y="161"/>
                    </a:lnTo>
                    <a:lnTo>
                      <a:pt x="250" y="161"/>
                    </a:lnTo>
                    <a:lnTo>
                      <a:pt x="259" y="161"/>
                    </a:lnTo>
                    <a:lnTo>
                      <a:pt x="269" y="161"/>
                    </a:lnTo>
                    <a:lnTo>
                      <a:pt x="278" y="161"/>
                    </a:lnTo>
                    <a:lnTo>
                      <a:pt x="287" y="160"/>
                    </a:lnTo>
                    <a:lnTo>
                      <a:pt x="296" y="160"/>
                    </a:lnTo>
                    <a:lnTo>
                      <a:pt x="306" y="160"/>
                    </a:lnTo>
                    <a:lnTo>
                      <a:pt x="315" y="160"/>
                    </a:lnTo>
                    <a:lnTo>
                      <a:pt x="324" y="160"/>
                    </a:lnTo>
                    <a:lnTo>
                      <a:pt x="334" y="160"/>
                    </a:lnTo>
                    <a:lnTo>
                      <a:pt x="343" y="160"/>
                    </a:lnTo>
                    <a:lnTo>
                      <a:pt x="352" y="159"/>
                    </a:lnTo>
                    <a:lnTo>
                      <a:pt x="361" y="159"/>
                    </a:lnTo>
                    <a:lnTo>
                      <a:pt x="371" y="159"/>
                    </a:lnTo>
                    <a:lnTo>
                      <a:pt x="380" y="158"/>
                    </a:lnTo>
                    <a:lnTo>
                      <a:pt x="389" y="158"/>
                    </a:lnTo>
                    <a:lnTo>
                      <a:pt x="399" y="158"/>
                    </a:lnTo>
                    <a:lnTo>
                      <a:pt x="408" y="158"/>
                    </a:lnTo>
                    <a:lnTo>
                      <a:pt x="417" y="158"/>
                    </a:lnTo>
                    <a:lnTo>
                      <a:pt x="426" y="158"/>
                    </a:lnTo>
                    <a:lnTo>
                      <a:pt x="436" y="157"/>
                    </a:lnTo>
                    <a:lnTo>
                      <a:pt x="445" y="157"/>
                    </a:lnTo>
                    <a:lnTo>
                      <a:pt x="454" y="156"/>
                    </a:lnTo>
                    <a:lnTo>
                      <a:pt x="464" y="156"/>
                    </a:lnTo>
                    <a:lnTo>
                      <a:pt x="473" y="156"/>
                    </a:lnTo>
                    <a:lnTo>
                      <a:pt x="482" y="156"/>
                    </a:lnTo>
                    <a:lnTo>
                      <a:pt x="491" y="155"/>
                    </a:lnTo>
                    <a:lnTo>
                      <a:pt x="501" y="155"/>
                    </a:lnTo>
                    <a:lnTo>
                      <a:pt x="510" y="154"/>
                    </a:lnTo>
                    <a:lnTo>
                      <a:pt x="519" y="153"/>
                    </a:lnTo>
                    <a:lnTo>
                      <a:pt x="528" y="152"/>
                    </a:lnTo>
                    <a:lnTo>
                      <a:pt x="538" y="153"/>
                    </a:lnTo>
                    <a:lnTo>
                      <a:pt x="547" y="152"/>
                    </a:lnTo>
                    <a:lnTo>
                      <a:pt x="556" y="152"/>
                    </a:lnTo>
                    <a:lnTo>
                      <a:pt x="566" y="151"/>
                    </a:lnTo>
                    <a:lnTo>
                      <a:pt x="575" y="151"/>
                    </a:lnTo>
                    <a:lnTo>
                      <a:pt x="584" y="150"/>
                    </a:lnTo>
                    <a:lnTo>
                      <a:pt x="593" y="151"/>
                    </a:lnTo>
                    <a:lnTo>
                      <a:pt x="603" y="151"/>
                    </a:lnTo>
                    <a:lnTo>
                      <a:pt x="612" y="150"/>
                    </a:lnTo>
                    <a:lnTo>
                      <a:pt x="621" y="149"/>
                    </a:lnTo>
                    <a:lnTo>
                      <a:pt x="631" y="149"/>
                    </a:lnTo>
                    <a:lnTo>
                      <a:pt x="640" y="151"/>
                    </a:lnTo>
                    <a:lnTo>
                      <a:pt x="649" y="149"/>
                    </a:lnTo>
                    <a:lnTo>
                      <a:pt x="658" y="151"/>
                    </a:lnTo>
                    <a:lnTo>
                      <a:pt x="668" y="150"/>
                    </a:lnTo>
                    <a:lnTo>
                      <a:pt x="677" y="148"/>
                    </a:lnTo>
                    <a:lnTo>
                      <a:pt x="686" y="148"/>
                    </a:lnTo>
                    <a:lnTo>
                      <a:pt x="696" y="147"/>
                    </a:lnTo>
                    <a:lnTo>
                      <a:pt x="705" y="147"/>
                    </a:lnTo>
                    <a:lnTo>
                      <a:pt x="714" y="146"/>
                    </a:lnTo>
                    <a:lnTo>
                      <a:pt x="723" y="145"/>
                    </a:lnTo>
                    <a:lnTo>
                      <a:pt x="733" y="145"/>
                    </a:lnTo>
                    <a:lnTo>
                      <a:pt x="742" y="145"/>
                    </a:lnTo>
                    <a:lnTo>
                      <a:pt x="751" y="147"/>
                    </a:lnTo>
                    <a:lnTo>
                      <a:pt x="760" y="148"/>
                    </a:lnTo>
                    <a:lnTo>
                      <a:pt x="770" y="147"/>
                    </a:lnTo>
                    <a:lnTo>
                      <a:pt x="779" y="146"/>
                    </a:lnTo>
                    <a:lnTo>
                      <a:pt x="788" y="146"/>
                    </a:lnTo>
                    <a:lnTo>
                      <a:pt x="798" y="144"/>
                    </a:lnTo>
                    <a:lnTo>
                      <a:pt x="807" y="143"/>
                    </a:lnTo>
                    <a:lnTo>
                      <a:pt x="816" y="143"/>
                    </a:lnTo>
                    <a:lnTo>
                      <a:pt x="825" y="142"/>
                    </a:lnTo>
                    <a:lnTo>
                      <a:pt x="835" y="142"/>
                    </a:lnTo>
                    <a:lnTo>
                      <a:pt x="844" y="139"/>
                    </a:lnTo>
                    <a:lnTo>
                      <a:pt x="853" y="139"/>
                    </a:lnTo>
                    <a:lnTo>
                      <a:pt x="863" y="138"/>
                    </a:lnTo>
                    <a:lnTo>
                      <a:pt x="872" y="139"/>
                    </a:lnTo>
                    <a:lnTo>
                      <a:pt x="881" y="141"/>
                    </a:lnTo>
                    <a:lnTo>
                      <a:pt x="890" y="140"/>
                    </a:lnTo>
                    <a:lnTo>
                      <a:pt x="900" y="138"/>
                    </a:lnTo>
                    <a:lnTo>
                      <a:pt x="909" y="137"/>
                    </a:lnTo>
                    <a:lnTo>
                      <a:pt x="918" y="136"/>
                    </a:lnTo>
                    <a:lnTo>
                      <a:pt x="928" y="134"/>
                    </a:lnTo>
                    <a:lnTo>
                      <a:pt x="937" y="132"/>
                    </a:lnTo>
                    <a:lnTo>
                      <a:pt x="946" y="131"/>
                    </a:lnTo>
                    <a:lnTo>
                      <a:pt x="955" y="130"/>
                    </a:lnTo>
                    <a:lnTo>
                      <a:pt x="965" y="129"/>
                    </a:lnTo>
                    <a:lnTo>
                      <a:pt x="974" y="127"/>
                    </a:lnTo>
                    <a:lnTo>
                      <a:pt x="983" y="126"/>
                    </a:lnTo>
                    <a:lnTo>
                      <a:pt x="992" y="123"/>
                    </a:lnTo>
                    <a:lnTo>
                      <a:pt x="1002" y="121"/>
                    </a:lnTo>
                    <a:lnTo>
                      <a:pt x="1011" y="119"/>
                    </a:lnTo>
                    <a:lnTo>
                      <a:pt x="1020" y="116"/>
                    </a:lnTo>
                    <a:lnTo>
                      <a:pt x="1030" y="115"/>
                    </a:lnTo>
                    <a:lnTo>
                      <a:pt x="1039" y="112"/>
                    </a:lnTo>
                    <a:lnTo>
                      <a:pt x="1048" y="109"/>
                    </a:lnTo>
                    <a:lnTo>
                      <a:pt x="1057" y="106"/>
                    </a:lnTo>
                    <a:lnTo>
                      <a:pt x="1067" y="106"/>
                    </a:lnTo>
                    <a:lnTo>
                      <a:pt x="1076" y="103"/>
                    </a:lnTo>
                    <a:lnTo>
                      <a:pt x="1085" y="102"/>
                    </a:lnTo>
                    <a:lnTo>
                      <a:pt x="1095" y="98"/>
                    </a:lnTo>
                    <a:lnTo>
                      <a:pt x="1104" y="95"/>
                    </a:lnTo>
                    <a:lnTo>
                      <a:pt x="1113" y="91"/>
                    </a:lnTo>
                    <a:lnTo>
                      <a:pt x="1122" y="88"/>
                    </a:lnTo>
                    <a:lnTo>
                      <a:pt x="1132" y="84"/>
                    </a:lnTo>
                    <a:lnTo>
                      <a:pt x="1141" y="79"/>
                    </a:lnTo>
                    <a:lnTo>
                      <a:pt x="1150" y="79"/>
                    </a:lnTo>
                    <a:lnTo>
                      <a:pt x="1160" y="78"/>
                    </a:lnTo>
                    <a:lnTo>
                      <a:pt x="1169" y="73"/>
                    </a:lnTo>
                    <a:lnTo>
                      <a:pt x="1178" y="70"/>
                    </a:lnTo>
                    <a:lnTo>
                      <a:pt x="1187" y="66"/>
                    </a:lnTo>
                    <a:lnTo>
                      <a:pt x="1197" y="63"/>
                    </a:lnTo>
                    <a:lnTo>
                      <a:pt x="1206" y="63"/>
                    </a:lnTo>
                    <a:lnTo>
                      <a:pt x="1215" y="65"/>
                    </a:lnTo>
                    <a:lnTo>
                      <a:pt x="1224" y="65"/>
                    </a:lnTo>
                    <a:lnTo>
                      <a:pt x="1234" y="64"/>
                    </a:lnTo>
                    <a:lnTo>
                      <a:pt x="1243" y="60"/>
                    </a:lnTo>
                    <a:lnTo>
                      <a:pt x="1252" y="58"/>
                    </a:lnTo>
                    <a:lnTo>
                      <a:pt x="1262" y="55"/>
                    </a:lnTo>
                    <a:lnTo>
                      <a:pt x="1271" y="51"/>
                    </a:lnTo>
                    <a:lnTo>
                      <a:pt x="1280" y="47"/>
                    </a:lnTo>
                    <a:lnTo>
                      <a:pt x="1289" y="45"/>
                    </a:lnTo>
                    <a:lnTo>
                      <a:pt x="1299" y="43"/>
                    </a:lnTo>
                    <a:lnTo>
                      <a:pt x="1308" y="42"/>
                    </a:lnTo>
                    <a:lnTo>
                      <a:pt x="1317" y="42"/>
                    </a:lnTo>
                    <a:lnTo>
                      <a:pt x="1327" y="41"/>
                    </a:lnTo>
                    <a:lnTo>
                      <a:pt x="1336" y="40"/>
                    </a:lnTo>
                    <a:lnTo>
                      <a:pt x="1345" y="37"/>
                    </a:lnTo>
                    <a:lnTo>
                      <a:pt x="1354" y="33"/>
                    </a:lnTo>
                    <a:lnTo>
                      <a:pt x="1364" y="32"/>
                    </a:lnTo>
                    <a:lnTo>
                      <a:pt x="1373" y="31"/>
                    </a:lnTo>
                    <a:lnTo>
                      <a:pt x="1382" y="29"/>
                    </a:lnTo>
                    <a:lnTo>
                      <a:pt x="1392" y="26"/>
                    </a:lnTo>
                    <a:lnTo>
                      <a:pt x="1401" y="25"/>
                    </a:lnTo>
                    <a:lnTo>
                      <a:pt x="1410" y="22"/>
                    </a:lnTo>
                    <a:lnTo>
                      <a:pt x="1419" y="16"/>
                    </a:lnTo>
                    <a:lnTo>
                      <a:pt x="1429" y="8"/>
                    </a:lnTo>
                    <a:lnTo>
                      <a:pt x="1438" y="4"/>
                    </a:lnTo>
                    <a:lnTo>
                      <a:pt x="1447" y="0"/>
                    </a:lnTo>
                    <a:lnTo>
                      <a:pt x="1447" y="3"/>
                    </a:lnTo>
                    <a:lnTo>
                      <a:pt x="1438" y="8"/>
                    </a:lnTo>
                    <a:lnTo>
                      <a:pt x="1429" y="12"/>
                    </a:lnTo>
                    <a:lnTo>
                      <a:pt x="1419" y="19"/>
                    </a:lnTo>
                    <a:lnTo>
                      <a:pt x="1410" y="25"/>
                    </a:lnTo>
                    <a:lnTo>
                      <a:pt x="1401" y="29"/>
                    </a:lnTo>
                    <a:lnTo>
                      <a:pt x="1392" y="29"/>
                    </a:lnTo>
                    <a:lnTo>
                      <a:pt x="1382" y="32"/>
                    </a:lnTo>
                    <a:lnTo>
                      <a:pt x="1373" y="35"/>
                    </a:lnTo>
                    <a:lnTo>
                      <a:pt x="1364" y="35"/>
                    </a:lnTo>
                    <a:lnTo>
                      <a:pt x="1354" y="37"/>
                    </a:lnTo>
                    <a:lnTo>
                      <a:pt x="1345" y="40"/>
                    </a:lnTo>
                    <a:lnTo>
                      <a:pt x="1336" y="43"/>
                    </a:lnTo>
                    <a:lnTo>
                      <a:pt x="1327" y="44"/>
                    </a:lnTo>
                    <a:lnTo>
                      <a:pt x="1317" y="45"/>
                    </a:lnTo>
                    <a:lnTo>
                      <a:pt x="1308" y="45"/>
                    </a:lnTo>
                    <a:lnTo>
                      <a:pt x="1299" y="46"/>
                    </a:lnTo>
                    <a:lnTo>
                      <a:pt x="1289" y="48"/>
                    </a:lnTo>
                    <a:lnTo>
                      <a:pt x="1280" y="50"/>
                    </a:lnTo>
                    <a:lnTo>
                      <a:pt x="1271" y="53"/>
                    </a:lnTo>
                    <a:lnTo>
                      <a:pt x="1262" y="58"/>
                    </a:lnTo>
                    <a:lnTo>
                      <a:pt x="1252" y="60"/>
                    </a:lnTo>
                    <a:lnTo>
                      <a:pt x="1243" y="62"/>
                    </a:lnTo>
                    <a:lnTo>
                      <a:pt x="1234" y="65"/>
                    </a:lnTo>
                    <a:lnTo>
                      <a:pt x="1224" y="66"/>
                    </a:lnTo>
                    <a:lnTo>
                      <a:pt x="1215" y="66"/>
                    </a:lnTo>
                    <a:lnTo>
                      <a:pt x="1206" y="64"/>
                    </a:lnTo>
                    <a:lnTo>
                      <a:pt x="1197" y="64"/>
                    </a:lnTo>
                    <a:lnTo>
                      <a:pt x="1187" y="67"/>
                    </a:lnTo>
                    <a:lnTo>
                      <a:pt x="1178" y="71"/>
                    </a:lnTo>
                    <a:lnTo>
                      <a:pt x="1169" y="74"/>
                    </a:lnTo>
                    <a:lnTo>
                      <a:pt x="1160" y="79"/>
                    </a:lnTo>
                    <a:lnTo>
                      <a:pt x="1150" y="79"/>
                    </a:lnTo>
                    <a:lnTo>
                      <a:pt x="1141" y="79"/>
                    </a:lnTo>
                    <a:lnTo>
                      <a:pt x="1132" y="84"/>
                    </a:lnTo>
                    <a:lnTo>
                      <a:pt x="1122" y="88"/>
                    </a:lnTo>
                    <a:lnTo>
                      <a:pt x="1113" y="91"/>
                    </a:lnTo>
                    <a:lnTo>
                      <a:pt x="1104" y="95"/>
                    </a:lnTo>
                    <a:lnTo>
                      <a:pt x="1095" y="98"/>
                    </a:lnTo>
                    <a:lnTo>
                      <a:pt x="1085" y="102"/>
                    </a:lnTo>
                    <a:lnTo>
                      <a:pt x="1076" y="103"/>
                    </a:lnTo>
                    <a:lnTo>
                      <a:pt x="1067" y="106"/>
                    </a:lnTo>
                    <a:lnTo>
                      <a:pt x="1057" y="106"/>
                    </a:lnTo>
                    <a:lnTo>
                      <a:pt x="1048" y="109"/>
                    </a:lnTo>
                    <a:lnTo>
                      <a:pt x="1039" y="112"/>
                    </a:lnTo>
                    <a:lnTo>
                      <a:pt x="1030" y="115"/>
                    </a:lnTo>
                    <a:lnTo>
                      <a:pt x="1020" y="116"/>
                    </a:lnTo>
                    <a:lnTo>
                      <a:pt x="1011" y="119"/>
                    </a:lnTo>
                    <a:lnTo>
                      <a:pt x="1002" y="121"/>
                    </a:lnTo>
                    <a:lnTo>
                      <a:pt x="992" y="123"/>
                    </a:lnTo>
                    <a:lnTo>
                      <a:pt x="983" y="126"/>
                    </a:lnTo>
                    <a:lnTo>
                      <a:pt x="974" y="127"/>
                    </a:lnTo>
                    <a:lnTo>
                      <a:pt x="965" y="129"/>
                    </a:lnTo>
                    <a:lnTo>
                      <a:pt x="955" y="130"/>
                    </a:lnTo>
                    <a:lnTo>
                      <a:pt x="946" y="131"/>
                    </a:lnTo>
                    <a:lnTo>
                      <a:pt x="937" y="132"/>
                    </a:lnTo>
                    <a:lnTo>
                      <a:pt x="928" y="134"/>
                    </a:lnTo>
                    <a:lnTo>
                      <a:pt x="918" y="136"/>
                    </a:lnTo>
                    <a:lnTo>
                      <a:pt x="909" y="137"/>
                    </a:lnTo>
                    <a:lnTo>
                      <a:pt x="900" y="138"/>
                    </a:lnTo>
                    <a:lnTo>
                      <a:pt x="890" y="140"/>
                    </a:lnTo>
                    <a:lnTo>
                      <a:pt x="881" y="141"/>
                    </a:lnTo>
                    <a:lnTo>
                      <a:pt x="872" y="139"/>
                    </a:lnTo>
                    <a:lnTo>
                      <a:pt x="863" y="138"/>
                    </a:lnTo>
                    <a:lnTo>
                      <a:pt x="853" y="139"/>
                    </a:lnTo>
                    <a:lnTo>
                      <a:pt x="844" y="139"/>
                    </a:lnTo>
                    <a:lnTo>
                      <a:pt x="835" y="142"/>
                    </a:lnTo>
                    <a:lnTo>
                      <a:pt x="825" y="142"/>
                    </a:lnTo>
                    <a:lnTo>
                      <a:pt x="816" y="143"/>
                    </a:lnTo>
                    <a:lnTo>
                      <a:pt x="807" y="143"/>
                    </a:lnTo>
                    <a:lnTo>
                      <a:pt x="798" y="144"/>
                    </a:lnTo>
                    <a:lnTo>
                      <a:pt x="788" y="146"/>
                    </a:lnTo>
                    <a:lnTo>
                      <a:pt x="779" y="146"/>
                    </a:lnTo>
                    <a:lnTo>
                      <a:pt x="770" y="147"/>
                    </a:lnTo>
                    <a:lnTo>
                      <a:pt x="760" y="148"/>
                    </a:lnTo>
                    <a:lnTo>
                      <a:pt x="751" y="147"/>
                    </a:lnTo>
                    <a:lnTo>
                      <a:pt x="742" y="145"/>
                    </a:lnTo>
                    <a:lnTo>
                      <a:pt x="733" y="145"/>
                    </a:lnTo>
                    <a:lnTo>
                      <a:pt x="723" y="145"/>
                    </a:lnTo>
                    <a:lnTo>
                      <a:pt x="714" y="146"/>
                    </a:lnTo>
                    <a:lnTo>
                      <a:pt x="705" y="147"/>
                    </a:lnTo>
                    <a:lnTo>
                      <a:pt x="696" y="147"/>
                    </a:lnTo>
                    <a:lnTo>
                      <a:pt x="686" y="148"/>
                    </a:lnTo>
                    <a:lnTo>
                      <a:pt x="677" y="148"/>
                    </a:lnTo>
                    <a:lnTo>
                      <a:pt x="668" y="150"/>
                    </a:lnTo>
                    <a:lnTo>
                      <a:pt x="658" y="151"/>
                    </a:lnTo>
                    <a:lnTo>
                      <a:pt x="649" y="149"/>
                    </a:lnTo>
                    <a:lnTo>
                      <a:pt x="640" y="151"/>
                    </a:lnTo>
                    <a:lnTo>
                      <a:pt x="631" y="149"/>
                    </a:lnTo>
                    <a:lnTo>
                      <a:pt x="621" y="149"/>
                    </a:lnTo>
                    <a:lnTo>
                      <a:pt x="612" y="150"/>
                    </a:lnTo>
                    <a:lnTo>
                      <a:pt x="603" y="151"/>
                    </a:lnTo>
                    <a:lnTo>
                      <a:pt x="593" y="151"/>
                    </a:lnTo>
                    <a:lnTo>
                      <a:pt x="584" y="150"/>
                    </a:lnTo>
                    <a:lnTo>
                      <a:pt x="575" y="151"/>
                    </a:lnTo>
                    <a:lnTo>
                      <a:pt x="566" y="151"/>
                    </a:lnTo>
                    <a:lnTo>
                      <a:pt x="556" y="152"/>
                    </a:lnTo>
                    <a:lnTo>
                      <a:pt x="547" y="152"/>
                    </a:lnTo>
                    <a:lnTo>
                      <a:pt x="538" y="153"/>
                    </a:lnTo>
                    <a:lnTo>
                      <a:pt x="528" y="152"/>
                    </a:lnTo>
                    <a:lnTo>
                      <a:pt x="519" y="153"/>
                    </a:lnTo>
                    <a:lnTo>
                      <a:pt x="510" y="154"/>
                    </a:lnTo>
                    <a:lnTo>
                      <a:pt x="501" y="155"/>
                    </a:lnTo>
                    <a:lnTo>
                      <a:pt x="491" y="155"/>
                    </a:lnTo>
                    <a:lnTo>
                      <a:pt x="482" y="156"/>
                    </a:lnTo>
                    <a:lnTo>
                      <a:pt x="473" y="156"/>
                    </a:lnTo>
                    <a:lnTo>
                      <a:pt x="464" y="156"/>
                    </a:lnTo>
                    <a:lnTo>
                      <a:pt x="454" y="156"/>
                    </a:lnTo>
                    <a:lnTo>
                      <a:pt x="445" y="157"/>
                    </a:lnTo>
                    <a:lnTo>
                      <a:pt x="436" y="157"/>
                    </a:lnTo>
                    <a:lnTo>
                      <a:pt x="426" y="158"/>
                    </a:lnTo>
                    <a:lnTo>
                      <a:pt x="417" y="158"/>
                    </a:lnTo>
                    <a:lnTo>
                      <a:pt x="408" y="158"/>
                    </a:lnTo>
                    <a:lnTo>
                      <a:pt x="399" y="158"/>
                    </a:lnTo>
                    <a:lnTo>
                      <a:pt x="389" y="158"/>
                    </a:lnTo>
                    <a:lnTo>
                      <a:pt x="380" y="158"/>
                    </a:lnTo>
                    <a:lnTo>
                      <a:pt x="371" y="159"/>
                    </a:lnTo>
                    <a:lnTo>
                      <a:pt x="361" y="159"/>
                    </a:lnTo>
                    <a:lnTo>
                      <a:pt x="352" y="159"/>
                    </a:lnTo>
                    <a:lnTo>
                      <a:pt x="343" y="160"/>
                    </a:lnTo>
                    <a:lnTo>
                      <a:pt x="334" y="160"/>
                    </a:lnTo>
                    <a:lnTo>
                      <a:pt x="324" y="160"/>
                    </a:lnTo>
                    <a:lnTo>
                      <a:pt x="315" y="160"/>
                    </a:lnTo>
                    <a:lnTo>
                      <a:pt x="306" y="160"/>
                    </a:lnTo>
                    <a:lnTo>
                      <a:pt x="296" y="160"/>
                    </a:lnTo>
                    <a:lnTo>
                      <a:pt x="287" y="160"/>
                    </a:lnTo>
                    <a:lnTo>
                      <a:pt x="278" y="161"/>
                    </a:lnTo>
                    <a:lnTo>
                      <a:pt x="269" y="161"/>
                    </a:lnTo>
                    <a:lnTo>
                      <a:pt x="259" y="161"/>
                    </a:lnTo>
                    <a:lnTo>
                      <a:pt x="250" y="161"/>
                    </a:lnTo>
                    <a:lnTo>
                      <a:pt x="241" y="161"/>
                    </a:lnTo>
                    <a:lnTo>
                      <a:pt x="232" y="161"/>
                    </a:lnTo>
                    <a:lnTo>
                      <a:pt x="222" y="162"/>
                    </a:lnTo>
                    <a:lnTo>
                      <a:pt x="213" y="162"/>
                    </a:lnTo>
                    <a:lnTo>
                      <a:pt x="204" y="162"/>
                    </a:lnTo>
                    <a:lnTo>
                      <a:pt x="194" y="162"/>
                    </a:lnTo>
                    <a:lnTo>
                      <a:pt x="185" y="162"/>
                    </a:lnTo>
                    <a:lnTo>
                      <a:pt x="176" y="162"/>
                    </a:lnTo>
                    <a:lnTo>
                      <a:pt x="167" y="162"/>
                    </a:lnTo>
                    <a:lnTo>
                      <a:pt x="157" y="163"/>
                    </a:lnTo>
                    <a:lnTo>
                      <a:pt x="148" y="163"/>
                    </a:lnTo>
                    <a:lnTo>
                      <a:pt x="139" y="163"/>
                    </a:lnTo>
                    <a:lnTo>
                      <a:pt x="129" y="163"/>
                    </a:lnTo>
                    <a:lnTo>
                      <a:pt x="120" y="163"/>
                    </a:lnTo>
                    <a:lnTo>
                      <a:pt x="111" y="163"/>
                    </a:lnTo>
                    <a:lnTo>
                      <a:pt x="102" y="163"/>
                    </a:lnTo>
                    <a:lnTo>
                      <a:pt x="92" y="163"/>
                    </a:lnTo>
                    <a:lnTo>
                      <a:pt x="83" y="164"/>
                    </a:lnTo>
                    <a:lnTo>
                      <a:pt x="74" y="164"/>
                    </a:lnTo>
                    <a:lnTo>
                      <a:pt x="64" y="164"/>
                    </a:lnTo>
                    <a:lnTo>
                      <a:pt x="55" y="164"/>
                    </a:lnTo>
                    <a:lnTo>
                      <a:pt x="46" y="164"/>
                    </a:lnTo>
                    <a:lnTo>
                      <a:pt x="37" y="164"/>
                    </a:lnTo>
                    <a:lnTo>
                      <a:pt x="27" y="164"/>
                    </a:lnTo>
                    <a:lnTo>
                      <a:pt x="18" y="164"/>
                    </a:lnTo>
                    <a:lnTo>
                      <a:pt x="9" y="164"/>
                    </a:lnTo>
                    <a:lnTo>
                      <a:pt x="0" y="164"/>
                    </a:lnTo>
                    <a:close/>
                  </a:path>
                </a:pathLst>
              </a:custGeom>
              <a:noFill/>
              <a:ln w="3175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1" name="Freeform 251"/>
              <p:cNvSpPr/>
              <p:nvPr/>
            </p:nvSpPr>
            <p:spPr>
              <a:xfrm>
                <a:off x="4879800" y="6079680"/>
                <a:ext cx="2310120" cy="395640"/>
              </a:xfrm>
              <a:custGeom>
                <a:avLst/>
                <a:gdLst>
                  <a:gd name="textAreaLeft" fmla="*/ 0 w 2310120"/>
                  <a:gd name="textAreaRight" fmla="*/ 2310480 w 2310120"/>
                  <a:gd name="textAreaTop" fmla="*/ 0 h 395640"/>
                  <a:gd name="textAreaBottom" fmla="*/ 396000 h 395640"/>
                </a:gdLst>
                <a:ahLst/>
                <a:rect l="textAreaLeft" t="textAreaTop" r="textAreaRight" b="textAreaBottom"/>
                <a:pathLst>
                  <a:path w="1447" h="160">
                    <a:moveTo>
                      <a:pt x="0" y="160"/>
                    </a:moveTo>
                    <a:lnTo>
                      <a:pt x="9" y="160"/>
                    </a:lnTo>
                    <a:lnTo>
                      <a:pt x="18" y="160"/>
                    </a:lnTo>
                    <a:lnTo>
                      <a:pt x="27" y="160"/>
                    </a:lnTo>
                    <a:lnTo>
                      <a:pt x="37" y="160"/>
                    </a:lnTo>
                    <a:lnTo>
                      <a:pt x="46" y="160"/>
                    </a:lnTo>
                    <a:lnTo>
                      <a:pt x="55" y="160"/>
                    </a:lnTo>
                    <a:lnTo>
                      <a:pt x="64" y="160"/>
                    </a:lnTo>
                    <a:lnTo>
                      <a:pt x="74" y="160"/>
                    </a:lnTo>
                    <a:lnTo>
                      <a:pt x="83" y="160"/>
                    </a:lnTo>
                    <a:lnTo>
                      <a:pt x="92" y="160"/>
                    </a:lnTo>
                    <a:lnTo>
                      <a:pt x="102" y="159"/>
                    </a:lnTo>
                    <a:lnTo>
                      <a:pt x="111" y="159"/>
                    </a:lnTo>
                    <a:lnTo>
                      <a:pt x="120" y="159"/>
                    </a:lnTo>
                    <a:lnTo>
                      <a:pt x="129" y="159"/>
                    </a:lnTo>
                    <a:lnTo>
                      <a:pt x="139" y="159"/>
                    </a:lnTo>
                    <a:lnTo>
                      <a:pt x="148" y="159"/>
                    </a:lnTo>
                    <a:lnTo>
                      <a:pt x="157" y="159"/>
                    </a:lnTo>
                    <a:lnTo>
                      <a:pt x="167" y="159"/>
                    </a:lnTo>
                    <a:lnTo>
                      <a:pt x="176" y="158"/>
                    </a:lnTo>
                    <a:lnTo>
                      <a:pt x="185" y="158"/>
                    </a:lnTo>
                    <a:lnTo>
                      <a:pt x="194" y="158"/>
                    </a:lnTo>
                    <a:lnTo>
                      <a:pt x="204" y="158"/>
                    </a:lnTo>
                    <a:lnTo>
                      <a:pt x="213" y="158"/>
                    </a:lnTo>
                    <a:lnTo>
                      <a:pt x="222" y="158"/>
                    </a:lnTo>
                    <a:lnTo>
                      <a:pt x="232" y="158"/>
                    </a:lnTo>
                    <a:lnTo>
                      <a:pt x="241" y="157"/>
                    </a:lnTo>
                    <a:lnTo>
                      <a:pt x="250" y="157"/>
                    </a:lnTo>
                    <a:lnTo>
                      <a:pt x="259" y="157"/>
                    </a:lnTo>
                    <a:lnTo>
                      <a:pt x="269" y="157"/>
                    </a:lnTo>
                    <a:lnTo>
                      <a:pt x="278" y="157"/>
                    </a:lnTo>
                    <a:lnTo>
                      <a:pt x="287" y="157"/>
                    </a:lnTo>
                    <a:lnTo>
                      <a:pt x="296" y="156"/>
                    </a:lnTo>
                    <a:lnTo>
                      <a:pt x="306" y="156"/>
                    </a:lnTo>
                    <a:lnTo>
                      <a:pt x="315" y="156"/>
                    </a:lnTo>
                    <a:lnTo>
                      <a:pt x="324" y="156"/>
                    </a:lnTo>
                    <a:lnTo>
                      <a:pt x="334" y="156"/>
                    </a:lnTo>
                    <a:lnTo>
                      <a:pt x="343" y="156"/>
                    </a:lnTo>
                    <a:lnTo>
                      <a:pt x="352" y="155"/>
                    </a:lnTo>
                    <a:lnTo>
                      <a:pt x="361" y="155"/>
                    </a:lnTo>
                    <a:lnTo>
                      <a:pt x="371" y="155"/>
                    </a:lnTo>
                    <a:lnTo>
                      <a:pt x="380" y="155"/>
                    </a:lnTo>
                    <a:lnTo>
                      <a:pt x="389" y="155"/>
                    </a:lnTo>
                    <a:lnTo>
                      <a:pt x="399" y="155"/>
                    </a:lnTo>
                    <a:lnTo>
                      <a:pt x="408" y="154"/>
                    </a:lnTo>
                    <a:lnTo>
                      <a:pt x="417" y="154"/>
                    </a:lnTo>
                    <a:lnTo>
                      <a:pt x="426" y="154"/>
                    </a:lnTo>
                    <a:lnTo>
                      <a:pt x="436" y="154"/>
                    </a:lnTo>
                    <a:lnTo>
                      <a:pt x="445" y="153"/>
                    </a:lnTo>
                    <a:lnTo>
                      <a:pt x="454" y="153"/>
                    </a:lnTo>
                    <a:lnTo>
                      <a:pt x="464" y="152"/>
                    </a:lnTo>
                    <a:lnTo>
                      <a:pt x="473" y="152"/>
                    </a:lnTo>
                    <a:lnTo>
                      <a:pt x="482" y="152"/>
                    </a:lnTo>
                    <a:lnTo>
                      <a:pt x="491" y="151"/>
                    </a:lnTo>
                    <a:lnTo>
                      <a:pt x="501" y="151"/>
                    </a:lnTo>
                    <a:lnTo>
                      <a:pt x="510" y="150"/>
                    </a:lnTo>
                    <a:lnTo>
                      <a:pt x="519" y="149"/>
                    </a:lnTo>
                    <a:lnTo>
                      <a:pt x="528" y="148"/>
                    </a:lnTo>
                    <a:lnTo>
                      <a:pt x="538" y="149"/>
                    </a:lnTo>
                    <a:lnTo>
                      <a:pt x="547" y="148"/>
                    </a:lnTo>
                    <a:lnTo>
                      <a:pt x="556" y="148"/>
                    </a:lnTo>
                    <a:lnTo>
                      <a:pt x="566" y="147"/>
                    </a:lnTo>
                    <a:lnTo>
                      <a:pt x="575" y="147"/>
                    </a:lnTo>
                    <a:lnTo>
                      <a:pt x="584" y="146"/>
                    </a:lnTo>
                    <a:lnTo>
                      <a:pt x="593" y="147"/>
                    </a:lnTo>
                    <a:lnTo>
                      <a:pt x="603" y="147"/>
                    </a:lnTo>
                    <a:lnTo>
                      <a:pt x="612" y="146"/>
                    </a:lnTo>
                    <a:lnTo>
                      <a:pt x="621" y="145"/>
                    </a:lnTo>
                    <a:lnTo>
                      <a:pt x="631" y="145"/>
                    </a:lnTo>
                    <a:lnTo>
                      <a:pt x="640" y="147"/>
                    </a:lnTo>
                    <a:lnTo>
                      <a:pt x="649" y="145"/>
                    </a:lnTo>
                    <a:lnTo>
                      <a:pt x="658" y="147"/>
                    </a:lnTo>
                    <a:lnTo>
                      <a:pt x="668" y="146"/>
                    </a:lnTo>
                    <a:lnTo>
                      <a:pt x="677" y="144"/>
                    </a:lnTo>
                    <a:lnTo>
                      <a:pt x="686" y="144"/>
                    </a:lnTo>
                    <a:lnTo>
                      <a:pt x="696" y="143"/>
                    </a:lnTo>
                    <a:lnTo>
                      <a:pt x="705" y="143"/>
                    </a:lnTo>
                    <a:lnTo>
                      <a:pt x="714" y="142"/>
                    </a:lnTo>
                    <a:lnTo>
                      <a:pt x="723" y="141"/>
                    </a:lnTo>
                    <a:lnTo>
                      <a:pt x="733" y="141"/>
                    </a:lnTo>
                    <a:lnTo>
                      <a:pt x="742" y="142"/>
                    </a:lnTo>
                    <a:lnTo>
                      <a:pt x="751" y="143"/>
                    </a:lnTo>
                    <a:lnTo>
                      <a:pt x="760" y="144"/>
                    </a:lnTo>
                    <a:lnTo>
                      <a:pt x="770" y="144"/>
                    </a:lnTo>
                    <a:lnTo>
                      <a:pt x="779" y="143"/>
                    </a:lnTo>
                    <a:lnTo>
                      <a:pt x="788" y="142"/>
                    </a:lnTo>
                    <a:lnTo>
                      <a:pt x="798" y="140"/>
                    </a:lnTo>
                    <a:lnTo>
                      <a:pt x="807" y="139"/>
                    </a:lnTo>
                    <a:lnTo>
                      <a:pt x="816" y="140"/>
                    </a:lnTo>
                    <a:lnTo>
                      <a:pt x="825" y="138"/>
                    </a:lnTo>
                    <a:lnTo>
                      <a:pt x="835" y="138"/>
                    </a:lnTo>
                    <a:lnTo>
                      <a:pt x="844" y="135"/>
                    </a:lnTo>
                    <a:lnTo>
                      <a:pt x="853" y="135"/>
                    </a:lnTo>
                    <a:lnTo>
                      <a:pt x="863" y="134"/>
                    </a:lnTo>
                    <a:lnTo>
                      <a:pt x="872" y="135"/>
                    </a:lnTo>
                    <a:lnTo>
                      <a:pt x="881" y="138"/>
                    </a:lnTo>
                    <a:lnTo>
                      <a:pt x="890" y="136"/>
                    </a:lnTo>
                    <a:lnTo>
                      <a:pt x="900" y="134"/>
                    </a:lnTo>
                    <a:lnTo>
                      <a:pt x="909" y="133"/>
                    </a:lnTo>
                    <a:lnTo>
                      <a:pt x="918" y="133"/>
                    </a:lnTo>
                    <a:lnTo>
                      <a:pt x="928" y="130"/>
                    </a:lnTo>
                    <a:lnTo>
                      <a:pt x="937" y="128"/>
                    </a:lnTo>
                    <a:lnTo>
                      <a:pt x="946" y="128"/>
                    </a:lnTo>
                    <a:lnTo>
                      <a:pt x="955" y="126"/>
                    </a:lnTo>
                    <a:lnTo>
                      <a:pt x="965" y="126"/>
                    </a:lnTo>
                    <a:lnTo>
                      <a:pt x="974" y="124"/>
                    </a:lnTo>
                    <a:lnTo>
                      <a:pt x="983" y="122"/>
                    </a:lnTo>
                    <a:lnTo>
                      <a:pt x="992" y="119"/>
                    </a:lnTo>
                    <a:lnTo>
                      <a:pt x="1002" y="117"/>
                    </a:lnTo>
                    <a:lnTo>
                      <a:pt x="1011" y="115"/>
                    </a:lnTo>
                    <a:lnTo>
                      <a:pt x="1020" y="113"/>
                    </a:lnTo>
                    <a:lnTo>
                      <a:pt x="1030" y="111"/>
                    </a:lnTo>
                    <a:lnTo>
                      <a:pt x="1039" y="108"/>
                    </a:lnTo>
                    <a:lnTo>
                      <a:pt x="1048" y="105"/>
                    </a:lnTo>
                    <a:lnTo>
                      <a:pt x="1057" y="102"/>
                    </a:lnTo>
                    <a:lnTo>
                      <a:pt x="1067" y="102"/>
                    </a:lnTo>
                    <a:lnTo>
                      <a:pt x="1076" y="99"/>
                    </a:lnTo>
                    <a:lnTo>
                      <a:pt x="1085" y="98"/>
                    </a:lnTo>
                    <a:lnTo>
                      <a:pt x="1095" y="94"/>
                    </a:lnTo>
                    <a:lnTo>
                      <a:pt x="1104" y="91"/>
                    </a:lnTo>
                    <a:lnTo>
                      <a:pt x="1113" y="88"/>
                    </a:lnTo>
                    <a:lnTo>
                      <a:pt x="1122" y="84"/>
                    </a:lnTo>
                    <a:lnTo>
                      <a:pt x="1132" y="80"/>
                    </a:lnTo>
                    <a:lnTo>
                      <a:pt x="1141" y="75"/>
                    </a:lnTo>
                    <a:lnTo>
                      <a:pt x="1150" y="75"/>
                    </a:lnTo>
                    <a:lnTo>
                      <a:pt x="1160" y="75"/>
                    </a:lnTo>
                    <a:lnTo>
                      <a:pt x="1169" y="70"/>
                    </a:lnTo>
                    <a:lnTo>
                      <a:pt x="1178" y="67"/>
                    </a:lnTo>
                    <a:lnTo>
                      <a:pt x="1187" y="63"/>
                    </a:lnTo>
                    <a:lnTo>
                      <a:pt x="1197" y="60"/>
                    </a:lnTo>
                    <a:lnTo>
                      <a:pt x="1206" y="60"/>
                    </a:lnTo>
                    <a:lnTo>
                      <a:pt x="1215" y="62"/>
                    </a:lnTo>
                    <a:lnTo>
                      <a:pt x="1224" y="62"/>
                    </a:lnTo>
                    <a:lnTo>
                      <a:pt x="1234" y="61"/>
                    </a:lnTo>
                    <a:lnTo>
                      <a:pt x="1243" y="58"/>
                    </a:lnTo>
                    <a:lnTo>
                      <a:pt x="1252" y="56"/>
                    </a:lnTo>
                    <a:lnTo>
                      <a:pt x="1262" y="54"/>
                    </a:lnTo>
                    <a:lnTo>
                      <a:pt x="1271" y="50"/>
                    </a:lnTo>
                    <a:lnTo>
                      <a:pt x="1280" y="46"/>
                    </a:lnTo>
                    <a:lnTo>
                      <a:pt x="1289" y="44"/>
                    </a:lnTo>
                    <a:lnTo>
                      <a:pt x="1299" y="42"/>
                    </a:lnTo>
                    <a:lnTo>
                      <a:pt x="1308" y="41"/>
                    </a:lnTo>
                    <a:lnTo>
                      <a:pt x="1317" y="41"/>
                    </a:lnTo>
                    <a:lnTo>
                      <a:pt x="1327" y="40"/>
                    </a:lnTo>
                    <a:lnTo>
                      <a:pt x="1336" y="39"/>
                    </a:lnTo>
                    <a:lnTo>
                      <a:pt x="1345" y="36"/>
                    </a:lnTo>
                    <a:lnTo>
                      <a:pt x="1354" y="33"/>
                    </a:lnTo>
                    <a:lnTo>
                      <a:pt x="1364" y="32"/>
                    </a:lnTo>
                    <a:lnTo>
                      <a:pt x="1373" y="31"/>
                    </a:lnTo>
                    <a:lnTo>
                      <a:pt x="1382" y="28"/>
                    </a:lnTo>
                    <a:lnTo>
                      <a:pt x="1392" y="25"/>
                    </a:lnTo>
                    <a:lnTo>
                      <a:pt x="1401" y="25"/>
                    </a:lnTo>
                    <a:lnTo>
                      <a:pt x="1410" y="22"/>
                    </a:lnTo>
                    <a:lnTo>
                      <a:pt x="1419" y="16"/>
                    </a:lnTo>
                    <a:lnTo>
                      <a:pt x="1429" y="8"/>
                    </a:lnTo>
                    <a:lnTo>
                      <a:pt x="1438" y="4"/>
                    </a:lnTo>
                    <a:lnTo>
                      <a:pt x="1447" y="0"/>
                    </a:lnTo>
                    <a:lnTo>
                      <a:pt x="1447" y="38"/>
                    </a:lnTo>
                    <a:lnTo>
                      <a:pt x="1438" y="42"/>
                    </a:lnTo>
                    <a:lnTo>
                      <a:pt x="1429" y="45"/>
                    </a:lnTo>
                    <a:lnTo>
                      <a:pt x="1419" y="51"/>
                    </a:lnTo>
                    <a:lnTo>
                      <a:pt x="1410" y="56"/>
                    </a:lnTo>
                    <a:lnTo>
                      <a:pt x="1401" y="58"/>
                    </a:lnTo>
                    <a:lnTo>
                      <a:pt x="1392" y="59"/>
                    </a:lnTo>
                    <a:lnTo>
                      <a:pt x="1382" y="61"/>
                    </a:lnTo>
                    <a:lnTo>
                      <a:pt x="1373" y="62"/>
                    </a:lnTo>
                    <a:lnTo>
                      <a:pt x="1364" y="62"/>
                    </a:lnTo>
                    <a:lnTo>
                      <a:pt x="1354" y="63"/>
                    </a:lnTo>
                    <a:lnTo>
                      <a:pt x="1345" y="66"/>
                    </a:lnTo>
                    <a:lnTo>
                      <a:pt x="1336" y="68"/>
                    </a:lnTo>
                    <a:lnTo>
                      <a:pt x="1327" y="69"/>
                    </a:lnTo>
                    <a:lnTo>
                      <a:pt x="1317" y="69"/>
                    </a:lnTo>
                    <a:lnTo>
                      <a:pt x="1308" y="69"/>
                    </a:lnTo>
                    <a:lnTo>
                      <a:pt x="1299" y="69"/>
                    </a:lnTo>
                    <a:lnTo>
                      <a:pt x="1289" y="70"/>
                    </a:lnTo>
                    <a:lnTo>
                      <a:pt x="1280" y="71"/>
                    </a:lnTo>
                    <a:lnTo>
                      <a:pt x="1271" y="74"/>
                    </a:lnTo>
                    <a:lnTo>
                      <a:pt x="1262" y="77"/>
                    </a:lnTo>
                    <a:lnTo>
                      <a:pt x="1252" y="78"/>
                    </a:lnTo>
                    <a:lnTo>
                      <a:pt x="1243" y="80"/>
                    </a:lnTo>
                    <a:lnTo>
                      <a:pt x="1234" y="82"/>
                    </a:lnTo>
                    <a:lnTo>
                      <a:pt x="1224" y="82"/>
                    </a:lnTo>
                    <a:lnTo>
                      <a:pt x="1215" y="82"/>
                    </a:lnTo>
                    <a:lnTo>
                      <a:pt x="1206" y="80"/>
                    </a:lnTo>
                    <a:lnTo>
                      <a:pt x="1197" y="79"/>
                    </a:lnTo>
                    <a:lnTo>
                      <a:pt x="1187" y="81"/>
                    </a:lnTo>
                    <a:lnTo>
                      <a:pt x="1178" y="84"/>
                    </a:lnTo>
                    <a:lnTo>
                      <a:pt x="1169" y="87"/>
                    </a:lnTo>
                    <a:lnTo>
                      <a:pt x="1160" y="91"/>
                    </a:lnTo>
                    <a:lnTo>
                      <a:pt x="1150" y="92"/>
                    </a:lnTo>
                    <a:lnTo>
                      <a:pt x="1141" y="91"/>
                    </a:lnTo>
                    <a:lnTo>
                      <a:pt x="1132" y="95"/>
                    </a:lnTo>
                    <a:lnTo>
                      <a:pt x="1122" y="99"/>
                    </a:lnTo>
                    <a:lnTo>
                      <a:pt x="1113" y="101"/>
                    </a:lnTo>
                    <a:lnTo>
                      <a:pt x="1104" y="103"/>
                    </a:lnTo>
                    <a:lnTo>
                      <a:pt x="1095" y="106"/>
                    </a:lnTo>
                    <a:lnTo>
                      <a:pt x="1085" y="108"/>
                    </a:lnTo>
                    <a:lnTo>
                      <a:pt x="1076" y="109"/>
                    </a:lnTo>
                    <a:lnTo>
                      <a:pt x="1067" y="111"/>
                    </a:lnTo>
                    <a:lnTo>
                      <a:pt x="1057" y="111"/>
                    </a:lnTo>
                    <a:lnTo>
                      <a:pt x="1048" y="113"/>
                    </a:lnTo>
                    <a:lnTo>
                      <a:pt x="1039" y="115"/>
                    </a:lnTo>
                    <a:lnTo>
                      <a:pt x="1030" y="118"/>
                    </a:lnTo>
                    <a:lnTo>
                      <a:pt x="1020" y="119"/>
                    </a:lnTo>
                    <a:lnTo>
                      <a:pt x="1011" y="121"/>
                    </a:lnTo>
                    <a:lnTo>
                      <a:pt x="1002" y="122"/>
                    </a:lnTo>
                    <a:lnTo>
                      <a:pt x="992" y="124"/>
                    </a:lnTo>
                    <a:lnTo>
                      <a:pt x="983" y="126"/>
                    </a:lnTo>
                    <a:lnTo>
                      <a:pt x="974" y="127"/>
                    </a:lnTo>
                    <a:lnTo>
                      <a:pt x="965" y="129"/>
                    </a:lnTo>
                    <a:lnTo>
                      <a:pt x="955" y="130"/>
                    </a:lnTo>
                    <a:lnTo>
                      <a:pt x="946" y="131"/>
                    </a:lnTo>
                    <a:lnTo>
                      <a:pt x="937" y="132"/>
                    </a:lnTo>
                    <a:lnTo>
                      <a:pt x="928" y="132"/>
                    </a:lnTo>
                    <a:lnTo>
                      <a:pt x="918" y="135"/>
                    </a:lnTo>
                    <a:lnTo>
                      <a:pt x="909" y="135"/>
                    </a:lnTo>
                    <a:lnTo>
                      <a:pt x="900" y="136"/>
                    </a:lnTo>
                    <a:lnTo>
                      <a:pt x="890" y="138"/>
                    </a:lnTo>
                    <a:lnTo>
                      <a:pt x="881" y="139"/>
                    </a:lnTo>
                    <a:lnTo>
                      <a:pt x="872" y="136"/>
                    </a:lnTo>
                    <a:lnTo>
                      <a:pt x="863" y="136"/>
                    </a:lnTo>
                    <a:lnTo>
                      <a:pt x="853" y="136"/>
                    </a:lnTo>
                    <a:lnTo>
                      <a:pt x="844" y="137"/>
                    </a:lnTo>
                    <a:lnTo>
                      <a:pt x="835" y="139"/>
                    </a:lnTo>
                    <a:lnTo>
                      <a:pt x="825" y="139"/>
                    </a:lnTo>
                    <a:lnTo>
                      <a:pt x="816" y="141"/>
                    </a:lnTo>
                    <a:lnTo>
                      <a:pt x="807" y="140"/>
                    </a:lnTo>
                    <a:lnTo>
                      <a:pt x="798" y="141"/>
                    </a:lnTo>
                    <a:lnTo>
                      <a:pt x="788" y="143"/>
                    </a:lnTo>
                    <a:lnTo>
                      <a:pt x="779" y="143"/>
                    </a:lnTo>
                    <a:lnTo>
                      <a:pt x="770" y="144"/>
                    </a:lnTo>
                    <a:lnTo>
                      <a:pt x="760" y="145"/>
                    </a:lnTo>
                    <a:lnTo>
                      <a:pt x="751" y="143"/>
                    </a:lnTo>
                    <a:lnTo>
                      <a:pt x="742" y="142"/>
                    </a:lnTo>
                    <a:lnTo>
                      <a:pt x="733" y="141"/>
                    </a:lnTo>
                    <a:lnTo>
                      <a:pt x="723" y="142"/>
                    </a:lnTo>
                    <a:lnTo>
                      <a:pt x="714" y="143"/>
                    </a:lnTo>
                    <a:lnTo>
                      <a:pt x="705" y="144"/>
                    </a:lnTo>
                    <a:lnTo>
                      <a:pt x="696" y="144"/>
                    </a:lnTo>
                    <a:lnTo>
                      <a:pt x="686" y="144"/>
                    </a:lnTo>
                    <a:lnTo>
                      <a:pt x="677" y="144"/>
                    </a:lnTo>
                    <a:lnTo>
                      <a:pt x="668" y="146"/>
                    </a:lnTo>
                    <a:lnTo>
                      <a:pt x="658" y="147"/>
                    </a:lnTo>
                    <a:lnTo>
                      <a:pt x="649" y="145"/>
                    </a:lnTo>
                    <a:lnTo>
                      <a:pt x="640" y="147"/>
                    </a:lnTo>
                    <a:lnTo>
                      <a:pt x="631" y="146"/>
                    </a:lnTo>
                    <a:lnTo>
                      <a:pt x="621" y="146"/>
                    </a:lnTo>
                    <a:lnTo>
                      <a:pt x="612" y="146"/>
                    </a:lnTo>
                    <a:lnTo>
                      <a:pt x="603" y="147"/>
                    </a:lnTo>
                    <a:lnTo>
                      <a:pt x="593" y="147"/>
                    </a:lnTo>
                    <a:lnTo>
                      <a:pt x="584" y="146"/>
                    </a:lnTo>
                    <a:lnTo>
                      <a:pt x="575" y="147"/>
                    </a:lnTo>
                    <a:lnTo>
                      <a:pt x="566" y="148"/>
                    </a:lnTo>
                    <a:lnTo>
                      <a:pt x="556" y="148"/>
                    </a:lnTo>
                    <a:lnTo>
                      <a:pt x="547" y="148"/>
                    </a:lnTo>
                    <a:lnTo>
                      <a:pt x="538" y="149"/>
                    </a:lnTo>
                    <a:lnTo>
                      <a:pt x="528" y="149"/>
                    </a:lnTo>
                    <a:lnTo>
                      <a:pt x="519" y="150"/>
                    </a:lnTo>
                    <a:lnTo>
                      <a:pt x="510" y="150"/>
                    </a:lnTo>
                    <a:lnTo>
                      <a:pt x="501" y="151"/>
                    </a:lnTo>
                    <a:lnTo>
                      <a:pt x="491" y="151"/>
                    </a:lnTo>
                    <a:lnTo>
                      <a:pt x="482" y="152"/>
                    </a:lnTo>
                    <a:lnTo>
                      <a:pt x="473" y="152"/>
                    </a:lnTo>
                    <a:lnTo>
                      <a:pt x="464" y="152"/>
                    </a:lnTo>
                    <a:lnTo>
                      <a:pt x="454" y="153"/>
                    </a:lnTo>
                    <a:lnTo>
                      <a:pt x="445" y="153"/>
                    </a:lnTo>
                    <a:lnTo>
                      <a:pt x="436" y="154"/>
                    </a:lnTo>
                    <a:lnTo>
                      <a:pt x="426" y="154"/>
                    </a:lnTo>
                    <a:lnTo>
                      <a:pt x="417" y="154"/>
                    </a:lnTo>
                    <a:lnTo>
                      <a:pt x="408" y="154"/>
                    </a:lnTo>
                    <a:lnTo>
                      <a:pt x="399" y="155"/>
                    </a:lnTo>
                    <a:lnTo>
                      <a:pt x="389" y="155"/>
                    </a:lnTo>
                    <a:lnTo>
                      <a:pt x="380" y="155"/>
                    </a:lnTo>
                    <a:lnTo>
                      <a:pt x="371" y="155"/>
                    </a:lnTo>
                    <a:lnTo>
                      <a:pt x="361" y="155"/>
                    </a:lnTo>
                    <a:lnTo>
                      <a:pt x="352" y="155"/>
                    </a:lnTo>
                    <a:lnTo>
                      <a:pt x="343" y="156"/>
                    </a:lnTo>
                    <a:lnTo>
                      <a:pt x="334" y="156"/>
                    </a:lnTo>
                    <a:lnTo>
                      <a:pt x="324" y="156"/>
                    </a:lnTo>
                    <a:lnTo>
                      <a:pt x="315" y="156"/>
                    </a:lnTo>
                    <a:lnTo>
                      <a:pt x="306" y="156"/>
                    </a:lnTo>
                    <a:lnTo>
                      <a:pt x="296" y="156"/>
                    </a:lnTo>
                    <a:lnTo>
                      <a:pt x="287" y="157"/>
                    </a:lnTo>
                    <a:lnTo>
                      <a:pt x="278" y="157"/>
                    </a:lnTo>
                    <a:lnTo>
                      <a:pt x="269" y="157"/>
                    </a:lnTo>
                    <a:lnTo>
                      <a:pt x="259" y="157"/>
                    </a:lnTo>
                    <a:lnTo>
                      <a:pt x="250" y="157"/>
                    </a:lnTo>
                    <a:lnTo>
                      <a:pt x="241" y="157"/>
                    </a:lnTo>
                    <a:lnTo>
                      <a:pt x="232" y="158"/>
                    </a:lnTo>
                    <a:lnTo>
                      <a:pt x="222" y="158"/>
                    </a:lnTo>
                    <a:lnTo>
                      <a:pt x="213" y="158"/>
                    </a:lnTo>
                    <a:lnTo>
                      <a:pt x="204" y="158"/>
                    </a:lnTo>
                    <a:lnTo>
                      <a:pt x="194" y="158"/>
                    </a:lnTo>
                    <a:lnTo>
                      <a:pt x="185" y="158"/>
                    </a:lnTo>
                    <a:lnTo>
                      <a:pt x="176" y="158"/>
                    </a:lnTo>
                    <a:lnTo>
                      <a:pt x="167" y="159"/>
                    </a:lnTo>
                    <a:lnTo>
                      <a:pt x="157" y="159"/>
                    </a:lnTo>
                    <a:lnTo>
                      <a:pt x="148" y="159"/>
                    </a:lnTo>
                    <a:lnTo>
                      <a:pt x="139" y="159"/>
                    </a:lnTo>
                    <a:lnTo>
                      <a:pt x="129" y="159"/>
                    </a:lnTo>
                    <a:lnTo>
                      <a:pt x="120" y="159"/>
                    </a:lnTo>
                    <a:lnTo>
                      <a:pt x="111" y="159"/>
                    </a:lnTo>
                    <a:lnTo>
                      <a:pt x="102" y="159"/>
                    </a:lnTo>
                    <a:lnTo>
                      <a:pt x="92" y="160"/>
                    </a:lnTo>
                    <a:lnTo>
                      <a:pt x="83" y="160"/>
                    </a:lnTo>
                    <a:lnTo>
                      <a:pt x="74" y="160"/>
                    </a:lnTo>
                    <a:lnTo>
                      <a:pt x="64" y="160"/>
                    </a:lnTo>
                    <a:lnTo>
                      <a:pt x="55" y="160"/>
                    </a:lnTo>
                    <a:lnTo>
                      <a:pt x="46" y="160"/>
                    </a:lnTo>
                    <a:lnTo>
                      <a:pt x="37" y="160"/>
                    </a:lnTo>
                    <a:lnTo>
                      <a:pt x="27" y="160"/>
                    </a:lnTo>
                    <a:lnTo>
                      <a:pt x="18" y="160"/>
                    </a:lnTo>
                    <a:lnTo>
                      <a:pt x="9" y="160"/>
                    </a:lnTo>
                    <a:lnTo>
                      <a:pt x="0" y="160"/>
                    </a:lnTo>
                    <a:close/>
                  </a:path>
                </a:pathLst>
              </a:custGeom>
              <a:solidFill>
                <a:srgbClr val="006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2" name="Freeform 252"/>
              <p:cNvSpPr/>
              <p:nvPr/>
            </p:nvSpPr>
            <p:spPr>
              <a:xfrm>
                <a:off x="4879800" y="6079680"/>
                <a:ext cx="2310120" cy="395640"/>
              </a:xfrm>
              <a:custGeom>
                <a:avLst/>
                <a:gdLst>
                  <a:gd name="textAreaLeft" fmla="*/ 0 w 2310120"/>
                  <a:gd name="textAreaRight" fmla="*/ 2310480 w 2310120"/>
                  <a:gd name="textAreaTop" fmla="*/ 0 h 395640"/>
                  <a:gd name="textAreaBottom" fmla="*/ 396000 h 395640"/>
                </a:gdLst>
                <a:ahLst/>
                <a:rect l="textAreaLeft" t="textAreaTop" r="textAreaRight" b="textAreaBottom"/>
                <a:pathLst>
                  <a:path w="1447" h="160">
                    <a:moveTo>
                      <a:pt x="0" y="160"/>
                    </a:moveTo>
                    <a:lnTo>
                      <a:pt x="9" y="160"/>
                    </a:lnTo>
                    <a:lnTo>
                      <a:pt x="18" y="160"/>
                    </a:lnTo>
                    <a:lnTo>
                      <a:pt x="27" y="160"/>
                    </a:lnTo>
                    <a:lnTo>
                      <a:pt x="37" y="160"/>
                    </a:lnTo>
                    <a:lnTo>
                      <a:pt x="46" y="160"/>
                    </a:lnTo>
                    <a:lnTo>
                      <a:pt x="55" y="160"/>
                    </a:lnTo>
                    <a:lnTo>
                      <a:pt x="64" y="160"/>
                    </a:lnTo>
                    <a:lnTo>
                      <a:pt x="74" y="160"/>
                    </a:lnTo>
                    <a:lnTo>
                      <a:pt x="83" y="160"/>
                    </a:lnTo>
                    <a:lnTo>
                      <a:pt x="92" y="160"/>
                    </a:lnTo>
                    <a:lnTo>
                      <a:pt x="102" y="159"/>
                    </a:lnTo>
                    <a:lnTo>
                      <a:pt x="111" y="159"/>
                    </a:lnTo>
                    <a:lnTo>
                      <a:pt x="120" y="159"/>
                    </a:lnTo>
                    <a:lnTo>
                      <a:pt x="129" y="159"/>
                    </a:lnTo>
                    <a:lnTo>
                      <a:pt x="139" y="159"/>
                    </a:lnTo>
                    <a:lnTo>
                      <a:pt x="148" y="159"/>
                    </a:lnTo>
                    <a:lnTo>
                      <a:pt x="157" y="159"/>
                    </a:lnTo>
                    <a:lnTo>
                      <a:pt x="167" y="159"/>
                    </a:lnTo>
                    <a:lnTo>
                      <a:pt x="176" y="158"/>
                    </a:lnTo>
                    <a:lnTo>
                      <a:pt x="185" y="158"/>
                    </a:lnTo>
                    <a:lnTo>
                      <a:pt x="194" y="158"/>
                    </a:lnTo>
                    <a:lnTo>
                      <a:pt x="204" y="158"/>
                    </a:lnTo>
                    <a:lnTo>
                      <a:pt x="213" y="158"/>
                    </a:lnTo>
                    <a:lnTo>
                      <a:pt x="222" y="158"/>
                    </a:lnTo>
                    <a:lnTo>
                      <a:pt x="232" y="158"/>
                    </a:lnTo>
                    <a:lnTo>
                      <a:pt x="241" y="157"/>
                    </a:lnTo>
                    <a:lnTo>
                      <a:pt x="250" y="157"/>
                    </a:lnTo>
                    <a:lnTo>
                      <a:pt x="259" y="157"/>
                    </a:lnTo>
                    <a:lnTo>
                      <a:pt x="269" y="157"/>
                    </a:lnTo>
                    <a:lnTo>
                      <a:pt x="278" y="157"/>
                    </a:lnTo>
                    <a:lnTo>
                      <a:pt x="287" y="157"/>
                    </a:lnTo>
                    <a:lnTo>
                      <a:pt x="296" y="156"/>
                    </a:lnTo>
                    <a:lnTo>
                      <a:pt x="306" y="156"/>
                    </a:lnTo>
                    <a:lnTo>
                      <a:pt x="315" y="156"/>
                    </a:lnTo>
                    <a:lnTo>
                      <a:pt x="324" y="156"/>
                    </a:lnTo>
                    <a:lnTo>
                      <a:pt x="334" y="156"/>
                    </a:lnTo>
                    <a:lnTo>
                      <a:pt x="343" y="156"/>
                    </a:lnTo>
                    <a:lnTo>
                      <a:pt x="352" y="155"/>
                    </a:lnTo>
                    <a:lnTo>
                      <a:pt x="361" y="155"/>
                    </a:lnTo>
                    <a:lnTo>
                      <a:pt x="371" y="155"/>
                    </a:lnTo>
                    <a:lnTo>
                      <a:pt x="380" y="155"/>
                    </a:lnTo>
                    <a:lnTo>
                      <a:pt x="389" y="155"/>
                    </a:lnTo>
                    <a:lnTo>
                      <a:pt x="399" y="155"/>
                    </a:lnTo>
                    <a:lnTo>
                      <a:pt x="408" y="154"/>
                    </a:lnTo>
                    <a:lnTo>
                      <a:pt x="417" y="154"/>
                    </a:lnTo>
                    <a:lnTo>
                      <a:pt x="426" y="154"/>
                    </a:lnTo>
                    <a:lnTo>
                      <a:pt x="436" y="154"/>
                    </a:lnTo>
                    <a:lnTo>
                      <a:pt x="445" y="153"/>
                    </a:lnTo>
                    <a:lnTo>
                      <a:pt x="454" y="153"/>
                    </a:lnTo>
                    <a:lnTo>
                      <a:pt x="464" y="152"/>
                    </a:lnTo>
                    <a:lnTo>
                      <a:pt x="473" y="152"/>
                    </a:lnTo>
                    <a:lnTo>
                      <a:pt x="482" y="152"/>
                    </a:lnTo>
                    <a:lnTo>
                      <a:pt x="491" y="151"/>
                    </a:lnTo>
                    <a:lnTo>
                      <a:pt x="501" y="151"/>
                    </a:lnTo>
                    <a:lnTo>
                      <a:pt x="510" y="150"/>
                    </a:lnTo>
                    <a:lnTo>
                      <a:pt x="519" y="149"/>
                    </a:lnTo>
                    <a:lnTo>
                      <a:pt x="528" y="148"/>
                    </a:lnTo>
                    <a:lnTo>
                      <a:pt x="538" y="149"/>
                    </a:lnTo>
                    <a:lnTo>
                      <a:pt x="547" y="148"/>
                    </a:lnTo>
                    <a:lnTo>
                      <a:pt x="556" y="148"/>
                    </a:lnTo>
                    <a:lnTo>
                      <a:pt x="566" y="147"/>
                    </a:lnTo>
                    <a:lnTo>
                      <a:pt x="575" y="147"/>
                    </a:lnTo>
                    <a:lnTo>
                      <a:pt x="584" y="146"/>
                    </a:lnTo>
                    <a:lnTo>
                      <a:pt x="593" y="147"/>
                    </a:lnTo>
                    <a:lnTo>
                      <a:pt x="603" y="147"/>
                    </a:lnTo>
                    <a:lnTo>
                      <a:pt x="612" y="146"/>
                    </a:lnTo>
                    <a:lnTo>
                      <a:pt x="621" y="145"/>
                    </a:lnTo>
                    <a:lnTo>
                      <a:pt x="631" y="145"/>
                    </a:lnTo>
                    <a:lnTo>
                      <a:pt x="640" y="147"/>
                    </a:lnTo>
                    <a:lnTo>
                      <a:pt x="649" y="145"/>
                    </a:lnTo>
                    <a:lnTo>
                      <a:pt x="658" y="147"/>
                    </a:lnTo>
                    <a:lnTo>
                      <a:pt x="668" y="146"/>
                    </a:lnTo>
                    <a:lnTo>
                      <a:pt x="677" y="144"/>
                    </a:lnTo>
                    <a:lnTo>
                      <a:pt x="686" y="144"/>
                    </a:lnTo>
                    <a:lnTo>
                      <a:pt x="696" y="143"/>
                    </a:lnTo>
                    <a:lnTo>
                      <a:pt x="705" y="143"/>
                    </a:lnTo>
                    <a:lnTo>
                      <a:pt x="714" y="142"/>
                    </a:lnTo>
                    <a:lnTo>
                      <a:pt x="723" y="141"/>
                    </a:lnTo>
                    <a:lnTo>
                      <a:pt x="733" y="141"/>
                    </a:lnTo>
                    <a:lnTo>
                      <a:pt x="742" y="142"/>
                    </a:lnTo>
                    <a:lnTo>
                      <a:pt x="751" y="143"/>
                    </a:lnTo>
                    <a:lnTo>
                      <a:pt x="760" y="144"/>
                    </a:lnTo>
                    <a:lnTo>
                      <a:pt x="770" y="144"/>
                    </a:lnTo>
                    <a:lnTo>
                      <a:pt x="779" y="143"/>
                    </a:lnTo>
                    <a:lnTo>
                      <a:pt x="788" y="142"/>
                    </a:lnTo>
                    <a:lnTo>
                      <a:pt x="798" y="140"/>
                    </a:lnTo>
                    <a:lnTo>
                      <a:pt x="807" y="139"/>
                    </a:lnTo>
                    <a:lnTo>
                      <a:pt x="816" y="140"/>
                    </a:lnTo>
                    <a:lnTo>
                      <a:pt x="825" y="138"/>
                    </a:lnTo>
                    <a:lnTo>
                      <a:pt x="835" y="138"/>
                    </a:lnTo>
                    <a:lnTo>
                      <a:pt x="844" y="135"/>
                    </a:lnTo>
                    <a:lnTo>
                      <a:pt x="853" y="135"/>
                    </a:lnTo>
                    <a:lnTo>
                      <a:pt x="863" y="134"/>
                    </a:lnTo>
                    <a:lnTo>
                      <a:pt x="872" y="135"/>
                    </a:lnTo>
                    <a:lnTo>
                      <a:pt x="881" y="138"/>
                    </a:lnTo>
                    <a:lnTo>
                      <a:pt x="890" y="136"/>
                    </a:lnTo>
                    <a:lnTo>
                      <a:pt x="900" y="134"/>
                    </a:lnTo>
                    <a:lnTo>
                      <a:pt x="909" y="133"/>
                    </a:lnTo>
                    <a:lnTo>
                      <a:pt x="918" y="133"/>
                    </a:lnTo>
                    <a:lnTo>
                      <a:pt x="928" y="130"/>
                    </a:lnTo>
                    <a:lnTo>
                      <a:pt x="937" y="128"/>
                    </a:lnTo>
                    <a:lnTo>
                      <a:pt x="946" y="128"/>
                    </a:lnTo>
                    <a:lnTo>
                      <a:pt x="955" y="126"/>
                    </a:lnTo>
                    <a:lnTo>
                      <a:pt x="965" y="126"/>
                    </a:lnTo>
                    <a:lnTo>
                      <a:pt x="974" y="124"/>
                    </a:lnTo>
                    <a:lnTo>
                      <a:pt x="983" y="122"/>
                    </a:lnTo>
                    <a:lnTo>
                      <a:pt x="992" y="119"/>
                    </a:lnTo>
                    <a:lnTo>
                      <a:pt x="1002" y="117"/>
                    </a:lnTo>
                    <a:lnTo>
                      <a:pt x="1011" y="115"/>
                    </a:lnTo>
                    <a:lnTo>
                      <a:pt x="1020" y="113"/>
                    </a:lnTo>
                    <a:lnTo>
                      <a:pt x="1030" y="111"/>
                    </a:lnTo>
                    <a:lnTo>
                      <a:pt x="1039" y="108"/>
                    </a:lnTo>
                    <a:lnTo>
                      <a:pt x="1048" y="105"/>
                    </a:lnTo>
                    <a:lnTo>
                      <a:pt x="1057" y="102"/>
                    </a:lnTo>
                    <a:lnTo>
                      <a:pt x="1067" y="102"/>
                    </a:lnTo>
                    <a:lnTo>
                      <a:pt x="1076" y="99"/>
                    </a:lnTo>
                    <a:lnTo>
                      <a:pt x="1085" y="98"/>
                    </a:lnTo>
                    <a:lnTo>
                      <a:pt x="1095" y="94"/>
                    </a:lnTo>
                    <a:lnTo>
                      <a:pt x="1104" y="91"/>
                    </a:lnTo>
                    <a:lnTo>
                      <a:pt x="1113" y="88"/>
                    </a:lnTo>
                    <a:lnTo>
                      <a:pt x="1122" y="84"/>
                    </a:lnTo>
                    <a:lnTo>
                      <a:pt x="1132" y="80"/>
                    </a:lnTo>
                    <a:lnTo>
                      <a:pt x="1141" y="75"/>
                    </a:lnTo>
                    <a:lnTo>
                      <a:pt x="1150" y="75"/>
                    </a:lnTo>
                    <a:lnTo>
                      <a:pt x="1160" y="75"/>
                    </a:lnTo>
                    <a:lnTo>
                      <a:pt x="1169" y="70"/>
                    </a:lnTo>
                    <a:lnTo>
                      <a:pt x="1178" y="67"/>
                    </a:lnTo>
                    <a:lnTo>
                      <a:pt x="1187" y="63"/>
                    </a:lnTo>
                    <a:lnTo>
                      <a:pt x="1197" y="60"/>
                    </a:lnTo>
                    <a:lnTo>
                      <a:pt x="1206" y="60"/>
                    </a:lnTo>
                    <a:lnTo>
                      <a:pt x="1215" y="62"/>
                    </a:lnTo>
                    <a:lnTo>
                      <a:pt x="1224" y="62"/>
                    </a:lnTo>
                    <a:lnTo>
                      <a:pt x="1234" y="61"/>
                    </a:lnTo>
                    <a:lnTo>
                      <a:pt x="1243" y="58"/>
                    </a:lnTo>
                    <a:lnTo>
                      <a:pt x="1252" y="56"/>
                    </a:lnTo>
                    <a:lnTo>
                      <a:pt x="1262" y="54"/>
                    </a:lnTo>
                    <a:lnTo>
                      <a:pt x="1271" y="50"/>
                    </a:lnTo>
                    <a:lnTo>
                      <a:pt x="1280" y="46"/>
                    </a:lnTo>
                    <a:lnTo>
                      <a:pt x="1289" y="44"/>
                    </a:lnTo>
                    <a:lnTo>
                      <a:pt x="1299" y="42"/>
                    </a:lnTo>
                    <a:lnTo>
                      <a:pt x="1308" y="41"/>
                    </a:lnTo>
                    <a:lnTo>
                      <a:pt x="1317" y="41"/>
                    </a:lnTo>
                    <a:lnTo>
                      <a:pt x="1327" y="40"/>
                    </a:lnTo>
                    <a:lnTo>
                      <a:pt x="1336" y="39"/>
                    </a:lnTo>
                    <a:lnTo>
                      <a:pt x="1345" y="36"/>
                    </a:lnTo>
                    <a:lnTo>
                      <a:pt x="1354" y="33"/>
                    </a:lnTo>
                    <a:lnTo>
                      <a:pt x="1364" y="32"/>
                    </a:lnTo>
                    <a:lnTo>
                      <a:pt x="1373" y="31"/>
                    </a:lnTo>
                    <a:lnTo>
                      <a:pt x="1382" y="28"/>
                    </a:lnTo>
                    <a:lnTo>
                      <a:pt x="1392" y="25"/>
                    </a:lnTo>
                    <a:lnTo>
                      <a:pt x="1401" y="25"/>
                    </a:lnTo>
                    <a:lnTo>
                      <a:pt x="1410" y="22"/>
                    </a:lnTo>
                    <a:lnTo>
                      <a:pt x="1419" y="16"/>
                    </a:lnTo>
                    <a:lnTo>
                      <a:pt x="1429" y="8"/>
                    </a:lnTo>
                    <a:lnTo>
                      <a:pt x="1438" y="4"/>
                    </a:lnTo>
                    <a:lnTo>
                      <a:pt x="1447" y="0"/>
                    </a:lnTo>
                    <a:lnTo>
                      <a:pt x="1447" y="38"/>
                    </a:lnTo>
                    <a:lnTo>
                      <a:pt x="1438" y="42"/>
                    </a:lnTo>
                    <a:lnTo>
                      <a:pt x="1429" y="45"/>
                    </a:lnTo>
                    <a:lnTo>
                      <a:pt x="1419" y="51"/>
                    </a:lnTo>
                    <a:lnTo>
                      <a:pt x="1410" y="56"/>
                    </a:lnTo>
                    <a:lnTo>
                      <a:pt x="1401" y="58"/>
                    </a:lnTo>
                    <a:lnTo>
                      <a:pt x="1392" y="59"/>
                    </a:lnTo>
                    <a:lnTo>
                      <a:pt x="1382" y="61"/>
                    </a:lnTo>
                    <a:lnTo>
                      <a:pt x="1373" y="62"/>
                    </a:lnTo>
                    <a:lnTo>
                      <a:pt x="1364" y="62"/>
                    </a:lnTo>
                    <a:lnTo>
                      <a:pt x="1354" y="63"/>
                    </a:lnTo>
                    <a:lnTo>
                      <a:pt x="1345" y="66"/>
                    </a:lnTo>
                    <a:lnTo>
                      <a:pt x="1336" y="68"/>
                    </a:lnTo>
                    <a:lnTo>
                      <a:pt x="1327" y="69"/>
                    </a:lnTo>
                    <a:lnTo>
                      <a:pt x="1317" y="69"/>
                    </a:lnTo>
                    <a:lnTo>
                      <a:pt x="1308" y="69"/>
                    </a:lnTo>
                    <a:lnTo>
                      <a:pt x="1299" y="69"/>
                    </a:lnTo>
                    <a:lnTo>
                      <a:pt x="1289" y="70"/>
                    </a:lnTo>
                    <a:lnTo>
                      <a:pt x="1280" y="71"/>
                    </a:lnTo>
                    <a:lnTo>
                      <a:pt x="1271" y="74"/>
                    </a:lnTo>
                    <a:lnTo>
                      <a:pt x="1262" y="77"/>
                    </a:lnTo>
                    <a:lnTo>
                      <a:pt x="1252" y="78"/>
                    </a:lnTo>
                    <a:lnTo>
                      <a:pt x="1243" y="80"/>
                    </a:lnTo>
                    <a:lnTo>
                      <a:pt x="1234" y="82"/>
                    </a:lnTo>
                    <a:lnTo>
                      <a:pt x="1224" y="82"/>
                    </a:lnTo>
                    <a:lnTo>
                      <a:pt x="1215" y="82"/>
                    </a:lnTo>
                    <a:lnTo>
                      <a:pt x="1206" y="80"/>
                    </a:lnTo>
                    <a:lnTo>
                      <a:pt x="1197" y="79"/>
                    </a:lnTo>
                    <a:lnTo>
                      <a:pt x="1187" y="81"/>
                    </a:lnTo>
                    <a:lnTo>
                      <a:pt x="1178" y="84"/>
                    </a:lnTo>
                    <a:lnTo>
                      <a:pt x="1169" y="87"/>
                    </a:lnTo>
                    <a:lnTo>
                      <a:pt x="1160" y="91"/>
                    </a:lnTo>
                    <a:lnTo>
                      <a:pt x="1150" y="92"/>
                    </a:lnTo>
                    <a:lnTo>
                      <a:pt x="1141" y="91"/>
                    </a:lnTo>
                    <a:lnTo>
                      <a:pt x="1132" y="95"/>
                    </a:lnTo>
                    <a:lnTo>
                      <a:pt x="1122" y="99"/>
                    </a:lnTo>
                    <a:lnTo>
                      <a:pt x="1113" y="101"/>
                    </a:lnTo>
                    <a:lnTo>
                      <a:pt x="1104" y="103"/>
                    </a:lnTo>
                    <a:lnTo>
                      <a:pt x="1095" y="106"/>
                    </a:lnTo>
                    <a:lnTo>
                      <a:pt x="1085" y="108"/>
                    </a:lnTo>
                    <a:lnTo>
                      <a:pt x="1076" y="109"/>
                    </a:lnTo>
                    <a:lnTo>
                      <a:pt x="1067" y="111"/>
                    </a:lnTo>
                    <a:lnTo>
                      <a:pt x="1057" y="111"/>
                    </a:lnTo>
                    <a:lnTo>
                      <a:pt x="1048" y="113"/>
                    </a:lnTo>
                    <a:lnTo>
                      <a:pt x="1039" y="115"/>
                    </a:lnTo>
                    <a:lnTo>
                      <a:pt x="1030" y="118"/>
                    </a:lnTo>
                    <a:lnTo>
                      <a:pt x="1020" y="119"/>
                    </a:lnTo>
                    <a:lnTo>
                      <a:pt x="1011" y="121"/>
                    </a:lnTo>
                    <a:lnTo>
                      <a:pt x="1002" y="122"/>
                    </a:lnTo>
                    <a:lnTo>
                      <a:pt x="992" y="124"/>
                    </a:lnTo>
                    <a:lnTo>
                      <a:pt x="983" y="126"/>
                    </a:lnTo>
                    <a:lnTo>
                      <a:pt x="974" y="127"/>
                    </a:lnTo>
                    <a:lnTo>
                      <a:pt x="965" y="129"/>
                    </a:lnTo>
                    <a:lnTo>
                      <a:pt x="955" y="130"/>
                    </a:lnTo>
                    <a:lnTo>
                      <a:pt x="946" y="131"/>
                    </a:lnTo>
                    <a:lnTo>
                      <a:pt x="937" y="132"/>
                    </a:lnTo>
                    <a:lnTo>
                      <a:pt x="928" y="132"/>
                    </a:lnTo>
                    <a:lnTo>
                      <a:pt x="918" y="135"/>
                    </a:lnTo>
                    <a:lnTo>
                      <a:pt x="909" y="135"/>
                    </a:lnTo>
                    <a:lnTo>
                      <a:pt x="900" y="136"/>
                    </a:lnTo>
                    <a:lnTo>
                      <a:pt x="890" y="138"/>
                    </a:lnTo>
                    <a:lnTo>
                      <a:pt x="881" y="139"/>
                    </a:lnTo>
                    <a:lnTo>
                      <a:pt x="872" y="136"/>
                    </a:lnTo>
                    <a:lnTo>
                      <a:pt x="863" y="136"/>
                    </a:lnTo>
                    <a:lnTo>
                      <a:pt x="853" y="136"/>
                    </a:lnTo>
                    <a:lnTo>
                      <a:pt x="844" y="137"/>
                    </a:lnTo>
                    <a:lnTo>
                      <a:pt x="835" y="139"/>
                    </a:lnTo>
                    <a:lnTo>
                      <a:pt x="825" y="139"/>
                    </a:lnTo>
                    <a:lnTo>
                      <a:pt x="816" y="141"/>
                    </a:lnTo>
                    <a:lnTo>
                      <a:pt x="807" y="140"/>
                    </a:lnTo>
                    <a:lnTo>
                      <a:pt x="798" y="141"/>
                    </a:lnTo>
                    <a:lnTo>
                      <a:pt x="788" y="143"/>
                    </a:lnTo>
                    <a:lnTo>
                      <a:pt x="779" y="143"/>
                    </a:lnTo>
                    <a:lnTo>
                      <a:pt x="770" y="144"/>
                    </a:lnTo>
                    <a:lnTo>
                      <a:pt x="760" y="145"/>
                    </a:lnTo>
                    <a:lnTo>
                      <a:pt x="751" y="143"/>
                    </a:lnTo>
                    <a:lnTo>
                      <a:pt x="742" y="142"/>
                    </a:lnTo>
                    <a:lnTo>
                      <a:pt x="733" y="141"/>
                    </a:lnTo>
                    <a:lnTo>
                      <a:pt x="723" y="142"/>
                    </a:lnTo>
                    <a:lnTo>
                      <a:pt x="714" y="143"/>
                    </a:lnTo>
                    <a:lnTo>
                      <a:pt x="705" y="144"/>
                    </a:lnTo>
                    <a:lnTo>
                      <a:pt x="696" y="144"/>
                    </a:lnTo>
                    <a:lnTo>
                      <a:pt x="686" y="144"/>
                    </a:lnTo>
                    <a:lnTo>
                      <a:pt x="677" y="144"/>
                    </a:lnTo>
                    <a:lnTo>
                      <a:pt x="668" y="146"/>
                    </a:lnTo>
                    <a:lnTo>
                      <a:pt x="658" y="147"/>
                    </a:lnTo>
                    <a:lnTo>
                      <a:pt x="649" y="145"/>
                    </a:lnTo>
                    <a:lnTo>
                      <a:pt x="640" y="147"/>
                    </a:lnTo>
                    <a:lnTo>
                      <a:pt x="631" y="146"/>
                    </a:lnTo>
                    <a:lnTo>
                      <a:pt x="621" y="146"/>
                    </a:lnTo>
                    <a:lnTo>
                      <a:pt x="612" y="146"/>
                    </a:lnTo>
                    <a:lnTo>
                      <a:pt x="603" y="147"/>
                    </a:lnTo>
                    <a:lnTo>
                      <a:pt x="593" y="147"/>
                    </a:lnTo>
                    <a:lnTo>
                      <a:pt x="584" y="146"/>
                    </a:lnTo>
                    <a:lnTo>
                      <a:pt x="575" y="147"/>
                    </a:lnTo>
                    <a:lnTo>
                      <a:pt x="566" y="148"/>
                    </a:lnTo>
                    <a:lnTo>
                      <a:pt x="556" y="148"/>
                    </a:lnTo>
                    <a:lnTo>
                      <a:pt x="547" y="148"/>
                    </a:lnTo>
                    <a:lnTo>
                      <a:pt x="538" y="149"/>
                    </a:lnTo>
                    <a:lnTo>
                      <a:pt x="528" y="149"/>
                    </a:lnTo>
                    <a:lnTo>
                      <a:pt x="519" y="150"/>
                    </a:lnTo>
                    <a:lnTo>
                      <a:pt x="510" y="150"/>
                    </a:lnTo>
                    <a:lnTo>
                      <a:pt x="501" y="151"/>
                    </a:lnTo>
                    <a:lnTo>
                      <a:pt x="491" y="151"/>
                    </a:lnTo>
                    <a:lnTo>
                      <a:pt x="482" y="152"/>
                    </a:lnTo>
                    <a:lnTo>
                      <a:pt x="473" y="152"/>
                    </a:lnTo>
                    <a:lnTo>
                      <a:pt x="464" y="152"/>
                    </a:lnTo>
                    <a:lnTo>
                      <a:pt x="454" y="153"/>
                    </a:lnTo>
                    <a:lnTo>
                      <a:pt x="445" y="153"/>
                    </a:lnTo>
                    <a:lnTo>
                      <a:pt x="436" y="154"/>
                    </a:lnTo>
                    <a:lnTo>
                      <a:pt x="426" y="154"/>
                    </a:lnTo>
                    <a:lnTo>
                      <a:pt x="417" y="154"/>
                    </a:lnTo>
                    <a:lnTo>
                      <a:pt x="408" y="154"/>
                    </a:lnTo>
                    <a:lnTo>
                      <a:pt x="399" y="155"/>
                    </a:lnTo>
                    <a:lnTo>
                      <a:pt x="389" y="155"/>
                    </a:lnTo>
                    <a:lnTo>
                      <a:pt x="380" y="155"/>
                    </a:lnTo>
                    <a:lnTo>
                      <a:pt x="371" y="155"/>
                    </a:lnTo>
                    <a:lnTo>
                      <a:pt x="361" y="155"/>
                    </a:lnTo>
                    <a:lnTo>
                      <a:pt x="352" y="155"/>
                    </a:lnTo>
                    <a:lnTo>
                      <a:pt x="343" y="156"/>
                    </a:lnTo>
                    <a:lnTo>
                      <a:pt x="334" y="156"/>
                    </a:lnTo>
                    <a:lnTo>
                      <a:pt x="324" y="156"/>
                    </a:lnTo>
                    <a:lnTo>
                      <a:pt x="315" y="156"/>
                    </a:lnTo>
                    <a:lnTo>
                      <a:pt x="306" y="156"/>
                    </a:lnTo>
                    <a:lnTo>
                      <a:pt x="296" y="156"/>
                    </a:lnTo>
                    <a:lnTo>
                      <a:pt x="287" y="157"/>
                    </a:lnTo>
                    <a:lnTo>
                      <a:pt x="278" y="157"/>
                    </a:lnTo>
                    <a:lnTo>
                      <a:pt x="269" y="157"/>
                    </a:lnTo>
                    <a:lnTo>
                      <a:pt x="259" y="157"/>
                    </a:lnTo>
                    <a:lnTo>
                      <a:pt x="250" y="157"/>
                    </a:lnTo>
                    <a:lnTo>
                      <a:pt x="241" y="157"/>
                    </a:lnTo>
                    <a:lnTo>
                      <a:pt x="232" y="158"/>
                    </a:lnTo>
                    <a:lnTo>
                      <a:pt x="222" y="158"/>
                    </a:lnTo>
                    <a:lnTo>
                      <a:pt x="213" y="158"/>
                    </a:lnTo>
                    <a:lnTo>
                      <a:pt x="204" y="158"/>
                    </a:lnTo>
                    <a:lnTo>
                      <a:pt x="194" y="158"/>
                    </a:lnTo>
                    <a:lnTo>
                      <a:pt x="185" y="158"/>
                    </a:lnTo>
                    <a:lnTo>
                      <a:pt x="176" y="158"/>
                    </a:lnTo>
                    <a:lnTo>
                      <a:pt x="167" y="159"/>
                    </a:lnTo>
                    <a:lnTo>
                      <a:pt x="157" y="159"/>
                    </a:lnTo>
                    <a:lnTo>
                      <a:pt x="148" y="159"/>
                    </a:lnTo>
                    <a:lnTo>
                      <a:pt x="139" y="159"/>
                    </a:lnTo>
                    <a:lnTo>
                      <a:pt x="129" y="159"/>
                    </a:lnTo>
                    <a:lnTo>
                      <a:pt x="120" y="159"/>
                    </a:lnTo>
                    <a:lnTo>
                      <a:pt x="111" y="159"/>
                    </a:lnTo>
                    <a:lnTo>
                      <a:pt x="102" y="159"/>
                    </a:lnTo>
                    <a:lnTo>
                      <a:pt x="92" y="160"/>
                    </a:lnTo>
                    <a:lnTo>
                      <a:pt x="83" y="160"/>
                    </a:lnTo>
                    <a:lnTo>
                      <a:pt x="74" y="160"/>
                    </a:lnTo>
                    <a:lnTo>
                      <a:pt x="64" y="160"/>
                    </a:lnTo>
                    <a:lnTo>
                      <a:pt x="55" y="160"/>
                    </a:lnTo>
                    <a:lnTo>
                      <a:pt x="46" y="160"/>
                    </a:lnTo>
                    <a:lnTo>
                      <a:pt x="37" y="160"/>
                    </a:lnTo>
                    <a:lnTo>
                      <a:pt x="27" y="160"/>
                    </a:lnTo>
                    <a:lnTo>
                      <a:pt x="18" y="160"/>
                    </a:lnTo>
                    <a:lnTo>
                      <a:pt x="9" y="160"/>
                    </a:lnTo>
                    <a:lnTo>
                      <a:pt x="0" y="160"/>
                    </a:lnTo>
                    <a:close/>
                  </a:path>
                </a:pathLst>
              </a:custGeom>
              <a:noFill/>
              <a:ln w="3175">
                <a:solidFill>
                  <a:srgbClr val="0064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3" name="Freeform 253"/>
              <p:cNvSpPr/>
              <p:nvPr/>
            </p:nvSpPr>
            <p:spPr>
              <a:xfrm>
                <a:off x="4879800" y="6175440"/>
                <a:ext cx="2310120" cy="299520"/>
              </a:xfrm>
              <a:custGeom>
                <a:avLst/>
                <a:gdLst>
                  <a:gd name="textAreaLeft" fmla="*/ 0 w 2310120"/>
                  <a:gd name="textAreaRight" fmla="*/ 2310480 w 2310120"/>
                  <a:gd name="textAreaTop" fmla="*/ 0 h 299520"/>
                  <a:gd name="textAreaBottom" fmla="*/ 299880 h 299520"/>
                </a:gdLst>
                <a:ahLst/>
                <a:rect l="textAreaLeft" t="textAreaTop" r="textAreaRight" b="textAreaBottom"/>
                <a:pathLst>
                  <a:path w="1447" h="122">
                    <a:moveTo>
                      <a:pt x="0" y="122"/>
                    </a:moveTo>
                    <a:lnTo>
                      <a:pt x="9" y="121"/>
                    </a:lnTo>
                    <a:lnTo>
                      <a:pt x="18" y="122"/>
                    </a:lnTo>
                    <a:lnTo>
                      <a:pt x="27" y="122"/>
                    </a:lnTo>
                    <a:lnTo>
                      <a:pt x="37" y="121"/>
                    </a:lnTo>
                    <a:lnTo>
                      <a:pt x="46" y="121"/>
                    </a:lnTo>
                    <a:lnTo>
                      <a:pt x="55" y="121"/>
                    </a:lnTo>
                    <a:lnTo>
                      <a:pt x="64" y="121"/>
                    </a:lnTo>
                    <a:lnTo>
                      <a:pt x="74" y="121"/>
                    </a:lnTo>
                    <a:lnTo>
                      <a:pt x="83" y="121"/>
                    </a:lnTo>
                    <a:lnTo>
                      <a:pt x="92" y="121"/>
                    </a:lnTo>
                    <a:lnTo>
                      <a:pt x="102" y="121"/>
                    </a:lnTo>
                    <a:lnTo>
                      <a:pt x="111" y="121"/>
                    </a:lnTo>
                    <a:lnTo>
                      <a:pt x="120" y="120"/>
                    </a:lnTo>
                    <a:lnTo>
                      <a:pt x="129" y="120"/>
                    </a:lnTo>
                    <a:lnTo>
                      <a:pt x="139" y="120"/>
                    </a:lnTo>
                    <a:lnTo>
                      <a:pt x="148" y="120"/>
                    </a:lnTo>
                    <a:lnTo>
                      <a:pt x="157" y="120"/>
                    </a:lnTo>
                    <a:lnTo>
                      <a:pt x="167" y="120"/>
                    </a:lnTo>
                    <a:lnTo>
                      <a:pt x="176" y="120"/>
                    </a:lnTo>
                    <a:lnTo>
                      <a:pt x="185" y="120"/>
                    </a:lnTo>
                    <a:lnTo>
                      <a:pt x="194" y="119"/>
                    </a:lnTo>
                    <a:lnTo>
                      <a:pt x="204" y="119"/>
                    </a:lnTo>
                    <a:lnTo>
                      <a:pt x="213" y="119"/>
                    </a:lnTo>
                    <a:lnTo>
                      <a:pt x="222" y="119"/>
                    </a:lnTo>
                    <a:lnTo>
                      <a:pt x="232" y="119"/>
                    </a:lnTo>
                    <a:lnTo>
                      <a:pt x="241" y="119"/>
                    </a:lnTo>
                    <a:lnTo>
                      <a:pt x="250" y="119"/>
                    </a:lnTo>
                    <a:lnTo>
                      <a:pt x="259" y="118"/>
                    </a:lnTo>
                    <a:lnTo>
                      <a:pt x="269" y="118"/>
                    </a:lnTo>
                    <a:lnTo>
                      <a:pt x="278" y="118"/>
                    </a:lnTo>
                    <a:lnTo>
                      <a:pt x="287" y="118"/>
                    </a:lnTo>
                    <a:lnTo>
                      <a:pt x="296" y="117"/>
                    </a:lnTo>
                    <a:lnTo>
                      <a:pt x="306" y="117"/>
                    </a:lnTo>
                    <a:lnTo>
                      <a:pt x="315" y="117"/>
                    </a:lnTo>
                    <a:lnTo>
                      <a:pt x="324" y="117"/>
                    </a:lnTo>
                    <a:lnTo>
                      <a:pt x="334" y="117"/>
                    </a:lnTo>
                    <a:lnTo>
                      <a:pt x="343" y="117"/>
                    </a:lnTo>
                    <a:lnTo>
                      <a:pt x="352" y="116"/>
                    </a:lnTo>
                    <a:lnTo>
                      <a:pt x="361" y="116"/>
                    </a:lnTo>
                    <a:lnTo>
                      <a:pt x="371" y="116"/>
                    </a:lnTo>
                    <a:lnTo>
                      <a:pt x="380" y="116"/>
                    </a:lnTo>
                    <a:lnTo>
                      <a:pt x="389" y="116"/>
                    </a:lnTo>
                    <a:lnTo>
                      <a:pt x="399" y="116"/>
                    </a:lnTo>
                    <a:lnTo>
                      <a:pt x="408" y="116"/>
                    </a:lnTo>
                    <a:lnTo>
                      <a:pt x="417" y="115"/>
                    </a:lnTo>
                    <a:lnTo>
                      <a:pt x="426" y="115"/>
                    </a:lnTo>
                    <a:lnTo>
                      <a:pt x="436" y="115"/>
                    </a:lnTo>
                    <a:lnTo>
                      <a:pt x="445" y="114"/>
                    </a:lnTo>
                    <a:lnTo>
                      <a:pt x="454" y="114"/>
                    </a:lnTo>
                    <a:lnTo>
                      <a:pt x="464" y="113"/>
                    </a:lnTo>
                    <a:lnTo>
                      <a:pt x="473" y="113"/>
                    </a:lnTo>
                    <a:lnTo>
                      <a:pt x="482" y="113"/>
                    </a:lnTo>
                    <a:lnTo>
                      <a:pt x="491" y="112"/>
                    </a:lnTo>
                    <a:lnTo>
                      <a:pt x="501" y="112"/>
                    </a:lnTo>
                    <a:lnTo>
                      <a:pt x="510" y="111"/>
                    </a:lnTo>
                    <a:lnTo>
                      <a:pt x="519" y="111"/>
                    </a:lnTo>
                    <a:lnTo>
                      <a:pt x="528" y="110"/>
                    </a:lnTo>
                    <a:lnTo>
                      <a:pt x="538" y="110"/>
                    </a:lnTo>
                    <a:lnTo>
                      <a:pt x="547" y="110"/>
                    </a:lnTo>
                    <a:lnTo>
                      <a:pt x="556" y="109"/>
                    </a:lnTo>
                    <a:lnTo>
                      <a:pt x="566" y="109"/>
                    </a:lnTo>
                    <a:lnTo>
                      <a:pt x="575" y="108"/>
                    </a:lnTo>
                    <a:lnTo>
                      <a:pt x="584" y="107"/>
                    </a:lnTo>
                    <a:lnTo>
                      <a:pt x="593" y="108"/>
                    </a:lnTo>
                    <a:lnTo>
                      <a:pt x="603" y="108"/>
                    </a:lnTo>
                    <a:lnTo>
                      <a:pt x="612" y="107"/>
                    </a:lnTo>
                    <a:lnTo>
                      <a:pt x="621" y="107"/>
                    </a:lnTo>
                    <a:lnTo>
                      <a:pt x="631" y="107"/>
                    </a:lnTo>
                    <a:lnTo>
                      <a:pt x="640" y="108"/>
                    </a:lnTo>
                    <a:lnTo>
                      <a:pt x="649" y="107"/>
                    </a:lnTo>
                    <a:lnTo>
                      <a:pt x="658" y="108"/>
                    </a:lnTo>
                    <a:lnTo>
                      <a:pt x="668" y="107"/>
                    </a:lnTo>
                    <a:lnTo>
                      <a:pt x="677" y="106"/>
                    </a:lnTo>
                    <a:lnTo>
                      <a:pt x="686" y="105"/>
                    </a:lnTo>
                    <a:lnTo>
                      <a:pt x="696" y="105"/>
                    </a:lnTo>
                    <a:lnTo>
                      <a:pt x="705" y="105"/>
                    </a:lnTo>
                    <a:lnTo>
                      <a:pt x="714" y="104"/>
                    </a:lnTo>
                    <a:lnTo>
                      <a:pt x="723" y="103"/>
                    </a:lnTo>
                    <a:lnTo>
                      <a:pt x="733" y="103"/>
                    </a:lnTo>
                    <a:lnTo>
                      <a:pt x="742" y="104"/>
                    </a:lnTo>
                    <a:lnTo>
                      <a:pt x="751" y="105"/>
                    </a:lnTo>
                    <a:lnTo>
                      <a:pt x="760" y="106"/>
                    </a:lnTo>
                    <a:lnTo>
                      <a:pt x="770" y="105"/>
                    </a:lnTo>
                    <a:lnTo>
                      <a:pt x="779" y="104"/>
                    </a:lnTo>
                    <a:lnTo>
                      <a:pt x="788" y="104"/>
                    </a:lnTo>
                    <a:lnTo>
                      <a:pt x="798" y="102"/>
                    </a:lnTo>
                    <a:lnTo>
                      <a:pt x="807" y="101"/>
                    </a:lnTo>
                    <a:lnTo>
                      <a:pt x="816" y="102"/>
                    </a:lnTo>
                    <a:lnTo>
                      <a:pt x="825" y="100"/>
                    </a:lnTo>
                    <a:lnTo>
                      <a:pt x="835" y="100"/>
                    </a:lnTo>
                    <a:lnTo>
                      <a:pt x="844" y="98"/>
                    </a:lnTo>
                    <a:lnTo>
                      <a:pt x="853" y="97"/>
                    </a:lnTo>
                    <a:lnTo>
                      <a:pt x="863" y="97"/>
                    </a:lnTo>
                    <a:lnTo>
                      <a:pt x="872" y="97"/>
                    </a:lnTo>
                    <a:lnTo>
                      <a:pt x="881" y="100"/>
                    </a:lnTo>
                    <a:lnTo>
                      <a:pt x="890" y="99"/>
                    </a:lnTo>
                    <a:lnTo>
                      <a:pt x="900" y="97"/>
                    </a:lnTo>
                    <a:lnTo>
                      <a:pt x="909" y="96"/>
                    </a:lnTo>
                    <a:lnTo>
                      <a:pt x="918" y="96"/>
                    </a:lnTo>
                    <a:lnTo>
                      <a:pt x="928" y="94"/>
                    </a:lnTo>
                    <a:lnTo>
                      <a:pt x="937" y="93"/>
                    </a:lnTo>
                    <a:lnTo>
                      <a:pt x="946" y="92"/>
                    </a:lnTo>
                    <a:lnTo>
                      <a:pt x="955" y="91"/>
                    </a:lnTo>
                    <a:lnTo>
                      <a:pt x="965" y="91"/>
                    </a:lnTo>
                    <a:lnTo>
                      <a:pt x="974" y="89"/>
                    </a:lnTo>
                    <a:lnTo>
                      <a:pt x="983" y="87"/>
                    </a:lnTo>
                    <a:lnTo>
                      <a:pt x="992" y="85"/>
                    </a:lnTo>
                    <a:lnTo>
                      <a:pt x="1002" y="83"/>
                    </a:lnTo>
                    <a:lnTo>
                      <a:pt x="1011" y="82"/>
                    </a:lnTo>
                    <a:lnTo>
                      <a:pt x="1020" y="80"/>
                    </a:lnTo>
                    <a:lnTo>
                      <a:pt x="1030" y="79"/>
                    </a:lnTo>
                    <a:lnTo>
                      <a:pt x="1039" y="76"/>
                    </a:lnTo>
                    <a:lnTo>
                      <a:pt x="1048" y="74"/>
                    </a:lnTo>
                    <a:lnTo>
                      <a:pt x="1057" y="72"/>
                    </a:lnTo>
                    <a:lnTo>
                      <a:pt x="1067" y="72"/>
                    </a:lnTo>
                    <a:lnTo>
                      <a:pt x="1076" y="70"/>
                    </a:lnTo>
                    <a:lnTo>
                      <a:pt x="1085" y="70"/>
                    </a:lnTo>
                    <a:lnTo>
                      <a:pt x="1095" y="67"/>
                    </a:lnTo>
                    <a:lnTo>
                      <a:pt x="1104" y="65"/>
                    </a:lnTo>
                    <a:lnTo>
                      <a:pt x="1113" y="62"/>
                    </a:lnTo>
                    <a:lnTo>
                      <a:pt x="1122" y="60"/>
                    </a:lnTo>
                    <a:lnTo>
                      <a:pt x="1132" y="57"/>
                    </a:lnTo>
                    <a:lnTo>
                      <a:pt x="1141" y="52"/>
                    </a:lnTo>
                    <a:lnTo>
                      <a:pt x="1150" y="53"/>
                    </a:lnTo>
                    <a:lnTo>
                      <a:pt x="1160" y="52"/>
                    </a:lnTo>
                    <a:lnTo>
                      <a:pt x="1169" y="48"/>
                    </a:lnTo>
                    <a:lnTo>
                      <a:pt x="1178" y="45"/>
                    </a:lnTo>
                    <a:lnTo>
                      <a:pt x="1187" y="42"/>
                    </a:lnTo>
                    <a:lnTo>
                      <a:pt x="1197" y="40"/>
                    </a:lnTo>
                    <a:lnTo>
                      <a:pt x="1206" y="41"/>
                    </a:lnTo>
                    <a:lnTo>
                      <a:pt x="1215" y="43"/>
                    </a:lnTo>
                    <a:lnTo>
                      <a:pt x="1224" y="43"/>
                    </a:lnTo>
                    <a:lnTo>
                      <a:pt x="1234" y="43"/>
                    </a:lnTo>
                    <a:lnTo>
                      <a:pt x="1243" y="41"/>
                    </a:lnTo>
                    <a:lnTo>
                      <a:pt x="1252" y="40"/>
                    </a:lnTo>
                    <a:lnTo>
                      <a:pt x="1262" y="38"/>
                    </a:lnTo>
                    <a:lnTo>
                      <a:pt x="1271" y="35"/>
                    </a:lnTo>
                    <a:lnTo>
                      <a:pt x="1280" y="32"/>
                    </a:lnTo>
                    <a:lnTo>
                      <a:pt x="1289" y="31"/>
                    </a:lnTo>
                    <a:lnTo>
                      <a:pt x="1299" y="30"/>
                    </a:lnTo>
                    <a:lnTo>
                      <a:pt x="1308" y="30"/>
                    </a:lnTo>
                    <a:lnTo>
                      <a:pt x="1317" y="30"/>
                    </a:lnTo>
                    <a:lnTo>
                      <a:pt x="1327" y="30"/>
                    </a:lnTo>
                    <a:lnTo>
                      <a:pt x="1336" y="29"/>
                    </a:lnTo>
                    <a:lnTo>
                      <a:pt x="1345" y="27"/>
                    </a:lnTo>
                    <a:lnTo>
                      <a:pt x="1354" y="24"/>
                    </a:lnTo>
                    <a:lnTo>
                      <a:pt x="1364" y="23"/>
                    </a:lnTo>
                    <a:lnTo>
                      <a:pt x="1373" y="23"/>
                    </a:lnTo>
                    <a:lnTo>
                      <a:pt x="1382" y="22"/>
                    </a:lnTo>
                    <a:lnTo>
                      <a:pt x="1392" y="20"/>
                    </a:lnTo>
                    <a:lnTo>
                      <a:pt x="1401" y="20"/>
                    </a:lnTo>
                    <a:lnTo>
                      <a:pt x="1410" y="17"/>
                    </a:lnTo>
                    <a:lnTo>
                      <a:pt x="1419" y="13"/>
                    </a:lnTo>
                    <a:lnTo>
                      <a:pt x="1429" y="6"/>
                    </a:lnTo>
                    <a:lnTo>
                      <a:pt x="1438" y="3"/>
                    </a:lnTo>
                    <a:lnTo>
                      <a:pt x="1447" y="0"/>
                    </a:lnTo>
                    <a:lnTo>
                      <a:pt x="1447" y="64"/>
                    </a:lnTo>
                    <a:lnTo>
                      <a:pt x="1438" y="67"/>
                    </a:lnTo>
                    <a:lnTo>
                      <a:pt x="1429" y="70"/>
                    </a:lnTo>
                    <a:lnTo>
                      <a:pt x="1419" y="74"/>
                    </a:lnTo>
                    <a:lnTo>
                      <a:pt x="1410" y="77"/>
                    </a:lnTo>
                    <a:lnTo>
                      <a:pt x="1401" y="79"/>
                    </a:lnTo>
                    <a:lnTo>
                      <a:pt x="1392" y="79"/>
                    </a:lnTo>
                    <a:lnTo>
                      <a:pt x="1382" y="80"/>
                    </a:lnTo>
                    <a:lnTo>
                      <a:pt x="1373" y="80"/>
                    </a:lnTo>
                    <a:lnTo>
                      <a:pt x="1364" y="80"/>
                    </a:lnTo>
                    <a:lnTo>
                      <a:pt x="1354" y="80"/>
                    </a:lnTo>
                    <a:lnTo>
                      <a:pt x="1345" y="81"/>
                    </a:lnTo>
                    <a:lnTo>
                      <a:pt x="1336" y="82"/>
                    </a:lnTo>
                    <a:lnTo>
                      <a:pt x="1327" y="82"/>
                    </a:lnTo>
                    <a:lnTo>
                      <a:pt x="1317" y="83"/>
                    </a:lnTo>
                    <a:lnTo>
                      <a:pt x="1308" y="82"/>
                    </a:lnTo>
                    <a:lnTo>
                      <a:pt x="1299" y="82"/>
                    </a:lnTo>
                    <a:lnTo>
                      <a:pt x="1289" y="83"/>
                    </a:lnTo>
                    <a:lnTo>
                      <a:pt x="1280" y="83"/>
                    </a:lnTo>
                    <a:lnTo>
                      <a:pt x="1271" y="84"/>
                    </a:lnTo>
                    <a:lnTo>
                      <a:pt x="1262" y="86"/>
                    </a:lnTo>
                    <a:lnTo>
                      <a:pt x="1252" y="86"/>
                    </a:lnTo>
                    <a:lnTo>
                      <a:pt x="1243" y="88"/>
                    </a:lnTo>
                    <a:lnTo>
                      <a:pt x="1234" y="89"/>
                    </a:lnTo>
                    <a:lnTo>
                      <a:pt x="1224" y="90"/>
                    </a:lnTo>
                    <a:lnTo>
                      <a:pt x="1215" y="91"/>
                    </a:lnTo>
                    <a:lnTo>
                      <a:pt x="1206" y="91"/>
                    </a:lnTo>
                    <a:lnTo>
                      <a:pt x="1197" y="92"/>
                    </a:lnTo>
                    <a:lnTo>
                      <a:pt x="1187" y="93"/>
                    </a:lnTo>
                    <a:lnTo>
                      <a:pt x="1178" y="94"/>
                    </a:lnTo>
                    <a:lnTo>
                      <a:pt x="1169" y="95"/>
                    </a:lnTo>
                    <a:lnTo>
                      <a:pt x="1160" y="97"/>
                    </a:lnTo>
                    <a:lnTo>
                      <a:pt x="1150" y="97"/>
                    </a:lnTo>
                    <a:lnTo>
                      <a:pt x="1141" y="98"/>
                    </a:lnTo>
                    <a:lnTo>
                      <a:pt x="1132" y="99"/>
                    </a:lnTo>
                    <a:lnTo>
                      <a:pt x="1122" y="99"/>
                    </a:lnTo>
                    <a:lnTo>
                      <a:pt x="1113" y="98"/>
                    </a:lnTo>
                    <a:lnTo>
                      <a:pt x="1104" y="98"/>
                    </a:lnTo>
                    <a:lnTo>
                      <a:pt x="1095" y="98"/>
                    </a:lnTo>
                    <a:lnTo>
                      <a:pt x="1085" y="98"/>
                    </a:lnTo>
                    <a:lnTo>
                      <a:pt x="1076" y="97"/>
                    </a:lnTo>
                    <a:lnTo>
                      <a:pt x="1067" y="97"/>
                    </a:lnTo>
                    <a:lnTo>
                      <a:pt x="1057" y="95"/>
                    </a:lnTo>
                    <a:lnTo>
                      <a:pt x="1048" y="95"/>
                    </a:lnTo>
                    <a:lnTo>
                      <a:pt x="1039" y="96"/>
                    </a:lnTo>
                    <a:lnTo>
                      <a:pt x="1030" y="97"/>
                    </a:lnTo>
                    <a:lnTo>
                      <a:pt x="1020" y="97"/>
                    </a:lnTo>
                    <a:lnTo>
                      <a:pt x="1011" y="98"/>
                    </a:lnTo>
                    <a:lnTo>
                      <a:pt x="1002" y="98"/>
                    </a:lnTo>
                    <a:lnTo>
                      <a:pt x="992" y="99"/>
                    </a:lnTo>
                    <a:lnTo>
                      <a:pt x="983" y="100"/>
                    </a:lnTo>
                    <a:lnTo>
                      <a:pt x="974" y="101"/>
                    </a:lnTo>
                    <a:lnTo>
                      <a:pt x="965" y="102"/>
                    </a:lnTo>
                    <a:lnTo>
                      <a:pt x="955" y="102"/>
                    </a:lnTo>
                    <a:lnTo>
                      <a:pt x="946" y="102"/>
                    </a:lnTo>
                    <a:lnTo>
                      <a:pt x="937" y="102"/>
                    </a:lnTo>
                    <a:lnTo>
                      <a:pt x="928" y="103"/>
                    </a:lnTo>
                    <a:lnTo>
                      <a:pt x="918" y="104"/>
                    </a:lnTo>
                    <a:lnTo>
                      <a:pt x="909" y="103"/>
                    </a:lnTo>
                    <a:lnTo>
                      <a:pt x="900" y="104"/>
                    </a:lnTo>
                    <a:lnTo>
                      <a:pt x="890" y="105"/>
                    </a:lnTo>
                    <a:lnTo>
                      <a:pt x="881" y="106"/>
                    </a:lnTo>
                    <a:lnTo>
                      <a:pt x="872" y="103"/>
                    </a:lnTo>
                    <a:lnTo>
                      <a:pt x="863" y="102"/>
                    </a:lnTo>
                    <a:lnTo>
                      <a:pt x="853" y="103"/>
                    </a:lnTo>
                    <a:lnTo>
                      <a:pt x="844" y="103"/>
                    </a:lnTo>
                    <a:lnTo>
                      <a:pt x="835" y="104"/>
                    </a:lnTo>
                    <a:lnTo>
                      <a:pt x="825" y="105"/>
                    </a:lnTo>
                    <a:lnTo>
                      <a:pt x="816" y="106"/>
                    </a:lnTo>
                    <a:lnTo>
                      <a:pt x="807" y="105"/>
                    </a:lnTo>
                    <a:lnTo>
                      <a:pt x="798" y="106"/>
                    </a:lnTo>
                    <a:lnTo>
                      <a:pt x="788" y="107"/>
                    </a:lnTo>
                    <a:lnTo>
                      <a:pt x="779" y="108"/>
                    </a:lnTo>
                    <a:lnTo>
                      <a:pt x="770" y="109"/>
                    </a:lnTo>
                    <a:lnTo>
                      <a:pt x="760" y="109"/>
                    </a:lnTo>
                    <a:lnTo>
                      <a:pt x="751" y="108"/>
                    </a:lnTo>
                    <a:lnTo>
                      <a:pt x="742" y="107"/>
                    </a:lnTo>
                    <a:lnTo>
                      <a:pt x="733" y="106"/>
                    </a:lnTo>
                    <a:lnTo>
                      <a:pt x="723" y="105"/>
                    </a:lnTo>
                    <a:lnTo>
                      <a:pt x="714" y="107"/>
                    </a:lnTo>
                    <a:lnTo>
                      <a:pt x="705" y="107"/>
                    </a:lnTo>
                    <a:lnTo>
                      <a:pt x="696" y="107"/>
                    </a:lnTo>
                    <a:lnTo>
                      <a:pt x="686" y="107"/>
                    </a:lnTo>
                    <a:lnTo>
                      <a:pt x="677" y="107"/>
                    </a:lnTo>
                    <a:lnTo>
                      <a:pt x="668" y="109"/>
                    </a:lnTo>
                    <a:lnTo>
                      <a:pt x="658" y="110"/>
                    </a:lnTo>
                    <a:lnTo>
                      <a:pt x="649" y="108"/>
                    </a:lnTo>
                    <a:lnTo>
                      <a:pt x="640" y="109"/>
                    </a:lnTo>
                    <a:lnTo>
                      <a:pt x="631" y="108"/>
                    </a:lnTo>
                    <a:lnTo>
                      <a:pt x="621" y="108"/>
                    </a:lnTo>
                    <a:lnTo>
                      <a:pt x="612" y="108"/>
                    </a:lnTo>
                    <a:lnTo>
                      <a:pt x="603" y="109"/>
                    </a:lnTo>
                    <a:lnTo>
                      <a:pt x="593" y="109"/>
                    </a:lnTo>
                    <a:lnTo>
                      <a:pt x="584" y="108"/>
                    </a:lnTo>
                    <a:lnTo>
                      <a:pt x="575" y="109"/>
                    </a:lnTo>
                    <a:lnTo>
                      <a:pt x="566" y="109"/>
                    </a:lnTo>
                    <a:lnTo>
                      <a:pt x="556" y="110"/>
                    </a:lnTo>
                    <a:lnTo>
                      <a:pt x="547" y="110"/>
                    </a:lnTo>
                    <a:lnTo>
                      <a:pt x="538" y="111"/>
                    </a:lnTo>
                    <a:lnTo>
                      <a:pt x="528" y="110"/>
                    </a:lnTo>
                    <a:lnTo>
                      <a:pt x="519" y="111"/>
                    </a:lnTo>
                    <a:lnTo>
                      <a:pt x="510" y="112"/>
                    </a:lnTo>
                    <a:lnTo>
                      <a:pt x="501" y="112"/>
                    </a:lnTo>
                    <a:lnTo>
                      <a:pt x="491" y="113"/>
                    </a:lnTo>
                    <a:lnTo>
                      <a:pt x="482" y="113"/>
                    </a:lnTo>
                    <a:lnTo>
                      <a:pt x="473" y="113"/>
                    </a:lnTo>
                    <a:lnTo>
                      <a:pt x="464" y="114"/>
                    </a:lnTo>
                    <a:lnTo>
                      <a:pt x="454" y="114"/>
                    </a:lnTo>
                    <a:lnTo>
                      <a:pt x="445" y="115"/>
                    </a:lnTo>
                    <a:lnTo>
                      <a:pt x="436" y="115"/>
                    </a:lnTo>
                    <a:lnTo>
                      <a:pt x="426" y="115"/>
                    </a:lnTo>
                    <a:lnTo>
                      <a:pt x="417" y="115"/>
                    </a:lnTo>
                    <a:lnTo>
                      <a:pt x="408" y="116"/>
                    </a:lnTo>
                    <a:lnTo>
                      <a:pt x="399" y="116"/>
                    </a:lnTo>
                    <a:lnTo>
                      <a:pt x="389" y="116"/>
                    </a:lnTo>
                    <a:lnTo>
                      <a:pt x="380" y="116"/>
                    </a:lnTo>
                    <a:lnTo>
                      <a:pt x="371" y="116"/>
                    </a:lnTo>
                    <a:lnTo>
                      <a:pt x="361" y="116"/>
                    </a:lnTo>
                    <a:lnTo>
                      <a:pt x="352" y="117"/>
                    </a:lnTo>
                    <a:lnTo>
                      <a:pt x="343" y="117"/>
                    </a:lnTo>
                    <a:lnTo>
                      <a:pt x="334" y="117"/>
                    </a:lnTo>
                    <a:lnTo>
                      <a:pt x="324" y="117"/>
                    </a:lnTo>
                    <a:lnTo>
                      <a:pt x="315" y="117"/>
                    </a:lnTo>
                    <a:lnTo>
                      <a:pt x="306" y="117"/>
                    </a:lnTo>
                    <a:lnTo>
                      <a:pt x="296" y="118"/>
                    </a:lnTo>
                    <a:lnTo>
                      <a:pt x="287" y="118"/>
                    </a:lnTo>
                    <a:lnTo>
                      <a:pt x="278" y="118"/>
                    </a:lnTo>
                    <a:lnTo>
                      <a:pt x="269" y="118"/>
                    </a:lnTo>
                    <a:lnTo>
                      <a:pt x="259" y="119"/>
                    </a:lnTo>
                    <a:lnTo>
                      <a:pt x="250" y="119"/>
                    </a:lnTo>
                    <a:lnTo>
                      <a:pt x="241" y="119"/>
                    </a:lnTo>
                    <a:lnTo>
                      <a:pt x="232" y="119"/>
                    </a:lnTo>
                    <a:lnTo>
                      <a:pt x="222" y="119"/>
                    </a:lnTo>
                    <a:lnTo>
                      <a:pt x="213" y="119"/>
                    </a:lnTo>
                    <a:lnTo>
                      <a:pt x="204" y="119"/>
                    </a:lnTo>
                    <a:lnTo>
                      <a:pt x="194" y="119"/>
                    </a:lnTo>
                    <a:lnTo>
                      <a:pt x="185" y="120"/>
                    </a:lnTo>
                    <a:lnTo>
                      <a:pt x="176" y="120"/>
                    </a:lnTo>
                    <a:lnTo>
                      <a:pt x="167" y="120"/>
                    </a:lnTo>
                    <a:lnTo>
                      <a:pt x="157" y="120"/>
                    </a:lnTo>
                    <a:lnTo>
                      <a:pt x="148" y="120"/>
                    </a:lnTo>
                    <a:lnTo>
                      <a:pt x="139" y="120"/>
                    </a:lnTo>
                    <a:lnTo>
                      <a:pt x="129" y="120"/>
                    </a:lnTo>
                    <a:lnTo>
                      <a:pt x="120" y="120"/>
                    </a:lnTo>
                    <a:lnTo>
                      <a:pt x="111" y="121"/>
                    </a:lnTo>
                    <a:lnTo>
                      <a:pt x="102" y="121"/>
                    </a:lnTo>
                    <a:lnTo>
                      <a:pt x="92" y="121"/>
                    </a:lnTo>
                    <a:lnTo>
                      <a:pt x="83" y="121"/>
                    </a:lnTo>
                    <a:lnTo>
                      <a:pt x="74" y="121"/>
                    </a:lnTo>
                    <a:lnTo>
                      <a:pt x="64" y="121"/>
                    </a:lnTo>
                    <a:lnTo>
                      <a:pt x="55" y="121"/>
                    </a:lnTo>
                    <a:lnTo>
                      <a:pt x="46" y="121"/>
                    </a:lnTo>
                    <a:lnTo>
                      <a:pt x="37" y="121"/>
                    </a:lnTo>
                    <a:lnTo>
                      <a:pt x="27" y="122"/>
                    </a:lnTo>
                    <a:lnTo>
                      <a:pt x="18" y="122"/>
                    </a:lnTo>
                    <a:lnTo>
                      <a:pt x="9" y="121"/>
                    </a:lnTo>
                    <a:lnTo>
                      <a:pt x="0" y="122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4" name="Freeform 254"/>
              <p:cNvSpPr/>
              <p:nvPr/>
            </p:nvSpPr>
            <p:spPr>
              <a:xfrm>
                <a:off x="4879800" y="6175440"/>
                <a:ext cx="2310120" cy="299520"/>
              </a:xfrm>
              <a:custGeom>
                <a:avLst/>
                <a:gdLst>
                  <a:gd name="textAreaLeft" fmla="*/ 0 w 2310120"/>
                  <a:gd name="textAreaRight" fmla="*/ 2310480 w 2310120"/>
                  <a:gd name="textAreaTop" fmla="*/ 0 h 299520"/>
                  <a:gd name="textAreaBottom" fmla="*/ 299880 h 299520"/>
                </a:gdLst>
                <a:ahLst/>
                <a:rect l="textAreaLeft" t="textAreaTop" r="textAreaRight" b="textAreaBottom"/>
                <a:pathLst>
                  <a:path w="1447" h="122">
                    <a:moveTo>
                      <a:pt x="0" y="122"/>
                    </a:moveTo>
                    <a:lnTo>
                      <a:pt x="9" y="121"/>
                    </a:lnTo>
                    <a:lnTo>
                      <a:pt x="18" y="122"/>
                    </a:lnTo>
                    <a:lnTo>
                      <a:pt x="27" y="122"/>
                    </a:lnTo>
                    <a:lnTo>
                      <a:pt x="37" y="121"/>
                    </a:lnTo>
                    <a:lnTo>
                      <a:pt x="46" y="121"/>
                    </a:lnTo>
                    <a:lnTo>
                      <a:pt x="55" y="121"/>
                    </a:lnTo>
                    <a:lnTo>
                      <a:pt x="64" y="121"/>
                    </a:lnTo>
                    <a:lnTo>
                      <a:pt x="74" y="121"/>
                    </a:lnTo>
                    <a:lnTo>
                      <a:pt x="83" y="121"/>
                    </a:lnTo>
                    <a:lnTo>
                      <a:pt x="92" y="121"/>
                    </a:lnTo>
                    <a:lnTo>
                      <a:pt x="102" y="121"/>
                    </a:lnTo>
                    <a:lnTo>
                      <a:pt x="111" y="121"/>
                    </a:lnTo>
                    <a:lnTo>
                      <a:pt x="120" y="120"/>
                    </a:lnTo>
                    <a:lnTo>
                      <a:pt x="129" y="120"/>
                    </a:lnTo>
                    <a:lnTo>
                      <a:pt x="139" y="120"/>
                    </a:lnTo>
                    <a:lnTo>
                      <a:pt x="148" y="120"/>
                    </a:lnTo>
                    <a:lnTo>
                      <a:pt x="157" y="120"/>
                    </a:lnTo>
                    <a:lnTo>
                      <a:pt x="167" y="120"/>
                    </a:lnTo>
                    <a:lnTo>
                      <a:pt x="176" y="120"/>
                    </a:lnTo>
                    <a:lnTo>
                      <a:pt x="185" y="120"/>
                    </a:lnTo>
                    <a:lnTo>
                      <a:pt x="194" y="119"/>
                    </a:lnTo>
                    <a:lnTo>
                      <a:pt x="204" y="119"/>
                    </a:lnTo>
                    <a:lnTo>
                      <a:pt x="213" y="119"/>
                    </a:lnTo>
                    <a:lnTo>
                      <a:pt x="222" y="119"/>
                    </a:lnTo>
                    <a:lnTo>
                      <a:pt x="232" y="119"/>
                    </a:lnTo>
                    <a:lnTo>
                      <a:pt x="241" y="119"/>
                    </a:lnTo>
                    <a:lnTo>
                      <a:pt x="250" y="119"/>
                    </a:lnTo>
                    <a:lnTo>
                      <a:pt x="259" y="118"/>
                    </a:lnTo>
                    <a:lnTo>
                      <a:pt x="269" y="118"/>
                    </a:lnTo>
                    <a:lnTo>
                      <a:pt x="278" y="118"/>
                    </a:lnTo>
                    <a:lnTo>
                      <a:pt x="287" y="118"/>
                    </a:lnTo>
                    <a:lnTo>
                      <a:pt x="296" y="117"/>
                    </a:lnTo>
                    <a:lnTo>
                      <a:pt x="306" y="117"/>
                    </a:lnTo>
                    <a:lnTo>
                      <a:pt x="315" y="117"/>
                    </a:lnTo>
                    <a:lnTo>
                      <a:pt x="324" y="117"/>
                    </a:lnTo>
                    <a:lnTo>
                      <a:pt x="334" y="117"/>
                    </a:lnTo>
                    <a:lnTo>
                      <a:pt x="343" y="117"/>
                    </a:lnTo>
                    <a:lnTo>
                      <a:pt x="352" y="116"/>
                    </a:lnTo>
                    <a:lnTo>
                      <a:pt x="361" y="116"/>
                    </a:lnTo>
                    <a:lnTo>
                      <a:pt x="371" y="116"/>
                    </a:lnTo>
                    <a:lnTo>
                      <a:pt x="380" y="116"/>
                    </a:lnTo>
                    <a:lnTo>
                      <a:pt x="389" y="116"/>
                    </a:lnTo>
                    <a:lnTo>
                      <a:pt x="399" y="116"/>
                    </a:lnTo>
                    <a:lnTo>
                      <a:pt x="408" y="116"/>
                    </a:lnTo>
                    <a:lnTo>
                      <a:pt x="417" y="115"/>
                    </a:lnTo>
                    <a:lnTo>
                      <a:pt x="426" y="115"/>
                    </a:lnTo>
                    <a:lnTo>
                      <a:pt x="436" y="115"/>
                    </a:lnTo>
                    <a:lnTo>
                      <a:pt x="445" y="114"/>
                    </a:lnTo>
                    <a:lnTo>
                      <a:pt x="454" y="114"/>
                    </a:lnTo>
                    <a:lnTo>
                      <a:pt x="464" y="113"/>
                    </a:lnTo>
                    <a:lnTo>
                      <a:pt x="473" y="113"/>
                    </a:lnTo>
                    <a:lnTo>
                      <a:pt x="482" y="113"/>
                    </a:lnTo>
                    <a:lnTo>
                      <a:pt x="491" y="112"/>
                    </a:lnTo>
                    <a:lnTo>
                      <a:pt x="501" y="112"/>
                    </a:lnTo>
                    <a:lnTo>
                      <a:pt x="510" y="111"/>
                    </a:lnTo>
                    <a:lnTo>
                      <a:pt x="519" y="111"/>
                    </a:lnTo>
                    <a:lnTo>
                      <a:pt x="528" y="110"/>
                    </a:lnTo>
                    <a:lnTo>
                      <a:pt x="538" y="110"/>
                    </a:lnTo>
                    <a:lnTo>
                      <a:pt x="547" y="110"/>
                    </a:lnTo>
                    <a:lnTo>
                      <a:pt x="556" y="109"/>
                    </a:lnTo>
                    <a:lnTo>
                      <a:pt x="566" y="109"/>
                    </a:lnTo>
                    <a:lnTo>
                      <a:pt x="575" y="108"/>
                    </a:lnTo>
                    <a:lnTo>
                      <a:pt x="584" y="107"/>
                    </a:lnTo>
                    <a:lnTo>
                      <a:pt x="593" y="108"/>
                    </a:lnTo>
                    <a:lnTo>
                      <a:pt x="603" y="108"/>
                    </a:lnTo>
                    <a:lnTo>
                      <a:pt x="612" y="107"/>
                    </a:lnTo>
                    <a:lnTo>
                      <a:pt x="621" y="107"/>
                    </a:lnTo>
                    <a:lnTo>
                      <a:pt x="631" y="107"/>
                    </a:lnTo>
                    <a:lnTo>
                      <a:pt x="640" y="108"/>
                    </a:lnTo>
                    <a:lnTo>
                      <a:pt x="649" y="107"/>
                    </a:lnTo>
                    <a:lnTo>
                      <a:pt x="658" y="108"/>
                    </a:lnTo>
                    <a:lnTo>
                      <a:pt x="668" y="107"/>
                    </a:lnTo>
                    <a:lnTo>
                      <a:pt x="677" y="106"/>
                    </a:lnTo>
                    <a:lnTo>
                      <a:pt x="686" y="105"/>
                    </a:lnTo>
                    <a:lnTo>
                      <a:pt x="696" y="105"/>
                    </a:lnTo>
                    <a:lnTo>
                      <a:pt x="705" y="105"/>
                    </a:lnTo>
                    <a:lnTo>
                      <a:pt x="714" y="104"/>
                    </a:lnTo>
                    <a:lnTo>
                      <a:pt x="723" y="103"/>
                    </a:lnTo>
                    <a:lnTo>
                      <a:pt x="733" y="103"/>
                    </a:lnTo>
                    <a:lnTo>
                      <a:pt x="742" y="104"/>
                    </a:lnTo>
                    <a:lnTo>
                      <a:pt x="751" y="105"/>
                    </a:lnTo>
                    <a:lnTo>
                      <a:pt x="760" y="106"/>
                    </a:lnTo>
                    <a:lnTo>
                      <a:pt x="770" y="105"/>
                    </a:lnTo>
                    <a:lnTo>
                      <a:pt x="779" y="104"/>
                    </a:lnTo>
                    <a:lnTo>
                      <a:pt x="788" y="104"/>
                    </a:lnTo>
                    <a:lnTo>
                      <a:pt x="798" y="102"/>
                    </a:lnTo>
                    <a:lnTo>
                      <a:pt x="807" y="101"/>
                    </a:lnTo>
                    <a:lnTo>
                      <a:pt x="816" y="102"/>
                    </a:lnTo>
                    <a:lnTo>
                      <a:pt x="825" y="100"/>
                    </a:lnTo>
                    <a:lnTo>
                      <a:pt x="835" y="100"/>
                    </a:lnTo>
                    <a:lnTo>
                      <a:pt x="844" y="98"/>
                    </a:lnTo>
                    <a:lnTo>
                      <a:pt x="853" y="97"/>
                    </a:lnTo>
                    <a:lnTo>
                      <a:pt x="863" y="97"/>
                    </a:lnTo>
                    <a:lnTo>
                      <a:pt x="872" y="97"/>
                    </a:lnTo>
                    <a:lnTo>
                      <a:pt x="881" y="100"/>
                    </a:lnTo>
                    <a:lnTo>
                      <a:pt x="890" y="99"/>
                    </a:lnTo>
                    <a:lnTo>
                      <a:pt x="900" y="97"/>
                    </a:lnTo>
                    <a:lnTo>
                      <a:pt x="909" y="96"/>
                    </a:lnTo>
                    <a:lnTo>
                      <a:pt x="918" y="96"/>
                    </a:lnTo>
                    <a:lnTo>
                      <a:pt x="928" y="94"/>
                    </a:lnTo>
                    <a:lnTo>
                      <a:pt x="937" y="93"/>
                    </a:lnTo>
                    <a:lnTo>
                      <a:pt x="946" y="92"/>
                    </a:lnTo>
                    <a:lnTo>
                      <a:pt x="955" y="91"/>
                    </a:lnTo>
                    <a:lnTo>
                      <a:pt x="965" y="91"/>
                    </a:lnTo>
                    <a:lnTo>
                      <a:pt x="974" y="89"/>
                    </a:lnTo>
                    <a:lnTo>
                      <a:pt x="983" y="87"/>
                    </a:lnTo>
                    <a:lnTo>
                      <a:pt x="992" y="85"/>
                    </a:lnTo>
                    <a:lnTo>
                      <a:pt x="1002" y="83"/>
                    </a:lnTo>
                    <a:lnTo>
                      <a:pt x="1011" y="82"/>
                    </a:lnTo>
                    <a:lnTo>
                      <a:pt x="1020" y="80"/>
                    </a:lnTo>
                    <a:lnTo>
                      <a:pt x="1030" y="79"/>
                    </a:lnTo>
                    <a:lnTo>
                      <a:pt x="1039" y="76"/>
                    </a:lnTo>
                    <a:lnTo>
                      <a:pt x="1048" y="74"/>
                    </a:lnTo>
                    <a:lnTo>
                      <a:pt x="1057" y="72"/>
                    </a:lnTo>
                    <a:lnTo>
                      <a:pt x="1067" y="72"/>
                    </a:lnTo>
                    <a:lnTo>
                      <a:pt x="1076" y="70"/>
                    </a:lnTo>
                    <a:lnTo>
                      <a:pt x="1085" y="70"/>
                    </a:lnTo>
                    <a:lnTo>
                      <a:pt x="1095" y="67"/>
                    </a:lnTo>
                    <a:lnTo>
                      <a:pt x="1104" y="65"/>
                    </a:lnTo>
                    <a:lnTo>
                      <a:pt x="1113" y="62"/>
                    </a:lnTo>
                    <a:lnTo>
                      <a:pt x="1122" y="60"/>
                    </a:lnTo>
                    <a:lnTo>
                      <a:pt x="1132" y="57"/>
                    </a:lnTo>
                    <a:lnTo>
                      <a:pt x="1141" y="52"/>
                    </a:lnTo>
                    <a:lnTo>
                      <a:pt x="1150" y="53"/>
                    </a:lnTo>
                    <a:lnTo>
                      <a:pt x="1160" y="52"/>
                    </a:lnTo>
                    <a:lnTo>
                      <a:pt x="1169" y="48"/>
                    </a:lnTo>
                    <a:lnTo>
                      <a:pt x="1178" y="45"/>
                    </a:lnTo>
                    <a:lnTo>
                      <a:pt x="1187" y="42"/>
                    </a:lnTo>
                    <a:lnTo>
                      <a:pt x="1197" y="40"/>
                    </a:lnTo>
                    <a:lnTo>
                      <a:pt x="1206" y="41"/>
                    </a:lnTo>
                    <a:lnTo>
                      <a:pt x="1215" y="43"/>
                    </a:lnTo>
                    <a:lnTo>
                      <a:pt x="1224" y="43"/>
                    </a:lnTo>
                    <a:lnTo>
                      <a:pt x="1234" y="43"/>
                    </a:lnTo>
                    <a:lnTo>
                      <a:pt x="1243" y="41"/>
                    </a:lnTo>
                    <a:lnTo>
                      <a:pt x="1252" y="40"/>
                    </a:lnTo>
                    <a:lnTo>
                      <a:pt x="1262" y="38"/>
                    </a:lnTo>
                    <a:lnTo>
                      <a:pt x="1271" y="35"/>
                    </a:lnTo>
                    <a:lnTo>
                      <a:pt x="1280" y="32"/>
                    </a:lnTo>
                    <a:lnTo>
                      <a:pt x="1289" y="31"/>
                    </a:lnTo>
                    <a:lnTo>
                      <a:pt x="1299" y="30"/>
                    </a:lnTo>
                    <a:lnTo>
                      <a:pt x="1308" y="30"/>
                    </a:lnTo>
                    <a:lnTo>
                      <a:pt x="1317" y="30"/>
                    </a:lnTo>
                    <a:lnTo>
                      <a:pt x="1327" y="30"/>
                    </a:lnTo>
                    <a:lnTo>
                      <a:pt x="1336" y="29"/>
                    </a:lnTo>
                    <a:lnTo>
                      <a:pt x="1345" y="27"/>
                    </a:lnTo>
                    <a:lnTo>
                      <a:pt x="1354" y="24"/>
                    </a:lnTo>
                    <a:lnTo>
                      <a:pt x="1364" y="23"/>
                    </a:lnTo>
                    <a:lnTo>
                      <a:pt x="1373" y="23"/>
                    </a:lnTo>
                    <a:lnTo>
                      <a:pt x="1382" y="22"/>
                    </a:lnTo>
                    <a:lnTo>
                      <a:pt x="1392" y="20"/>
                    </a:lnTo>
                    <a:lnTo>
                      <a:pt x="1401" y="20"/>
                    </a:lnTo>
                    <a:lnTo>
                      <a:pt x="1410" y="17"/>
                    </a:lnTo>
                    <a:lnTo>
                      <a:pt x="1419" y="13"/>
                    </a:lnTo>
                    <a:lnTo>
                      <a:pt x="1429" y="6"/>
                    </a:lnTo>
                    <a:lnTo>
                      <a:pt x="1438" y="3"/>
                    </a:lnTo>
                    <a:lnTo>
                      <a:pt x="1447" y="0"/>
                    </a:lnTo>
                    <a:lnTo>
                      <a:pt x="1447" y="64"/>
                    </a:lnTo>
                    <a:lnTo>
                      <a:pt x="1438" y="67"/>
                    </a:lnTo>
                    <a:lnTo>
                      <a:pt x="1429" y="70"/>
                    </a:lnTo>
                    <a:lnTo>
                      <a:pt x="1419" y="74"/>
                    </a:lnTo>
                    <a:lnTo>
                      <a:pt x="1410" y="77"/>
                    </a:lnTo>
                    <a:lnTo>
                      <a:pt x="1401" y="79"/>
                    </a:lnTo>
                    <a:lnTo>
                      <a:pt x="1392" y="79"/>
                    </a:lnTo>
                    <a:lnTo>
                      <a:pt x="1382" y="80"/>
                    </a:lnTo>
                    <a:lnTo>
                      <a:pt x="1373" y="80"/>
                    </a:lnTo>
                    <a:lnTo>
                      <a:pt x="1364" y="80"/>
                    </a:lnTo>
                    <a:lnTo>
                      <a:pt x="1354" y="80"/>
                    </a:lnTo>
                    <a:lnTo>
                      <a:pt x="1345" y="81"/>
                    </a:lnTo>
                    <a:lnTo>
                      <a:pt x="1336" y="82"/>
                    </a:lnTo>
                    <a:lnTo>
                      <a:pt x="1327" y="82"/>
                    </a:lnTo>
                    <a:lnTo>
                      <a:pt x="1317" y="83"/>
                    </a:lnTo>
                    <a:lnTo>
                      <a:pt x="1308" y="82"/>
                    </a:lnTo>
                    <a:lnTo>
                      <a:pt x="1299" y="82"/>
                    </a:lnTo>
                    <a:lnTo>
                      <a:pt x="1289" y="83"/>
                    </a:lnTo>
                    <a:lnTo>
                      <a:pt x="1280" y="83"/>
                    </a:lnTo>
                    <a:lnTo>
                      <a:pt x="1271" y="84"/>
                    </a:lnTo>
                    <a:lnTo>
                      <a:pt x="1262" y="86"/>
                    </a:lnTo>
                    <a:lnTo>
                      <a:pt x="1252" y="86"/>
                    </a:lnTo>
                    <a:lnTo>
                      <a:pt x="1243" y="88"/>
                    </a:lnTo>
                    <a:lnTo>
                      <a:pt x="1234" y="89"/>
                    </a:lnTo>
                    <a:lnTo>
                      <a:pt x="1224" y="90"/>
                    </a:lnTo>
                    <a:lnTo>
                      <a:pt x="1215" y="91"/>
                    </a:lnTo>
                    <a:lnTo>
                      <a:pt x="1206" y="91"/>
                    </a:lnTo>
                    <a:lnTo>
                      <a:pt x="1197" y="92"/>
                    </a:lnTo>
                    <a:lnTo>
                      <a:pt x="1187" y="93"/>
                    </a:lnTo>
                    <a:lnTo>
                      <a:pt x="1178" y="94"/>
                    </a:lnTo>
                    <a:lnTo>
                      <a:pt x="1169" y="95"/>
                    </a:lnTo>
                    <a:lnTo>
                      <a:pt x="1160" y="97"/>
                    </a:lnTo>
                    <a:lnTo>
                      <a:pt x="1150" y="97"/>
                    </a:lnTo>
                    <a:lnTo>
                      <a:pt x="1141" y="98"/>
                    </a:lnTo>
                    <a:lnTo>
                      <a:pt x="1132" y="99"/>
                    </a:lnTo>
                    <a:lnTo>
                      <a:pt x="1122" y="99"/>
                    </a:lnTo>
                    <a:lnTo>
                      <a:pt x="1113" y="98"/>
                    </a:lnTo>
                    <a:lnTo>
                      <a:pt x="1104" y="98"/>
                    </a:lnTo>
                    <a:lnTo>
                      <a:pt x="1095" y="98"/>
                    </a:lnTo>
                    <a:lnTo>
                      <a:pt x="1085" y="98"/>
                    </a:lnTo>
                    <a:lnTo>
                      <a:pt x="1076" y="97"/>
                    </a:lnTo>
                    <a:lnTo>
                      <a:pt x="1067" y="97"/>
                    </a:lnTo>
                    <a:lnTo>
                      <a:pt x="1057" y="95"/>
                    </a:lnTo>
                    <a:lnTo>
                      <a:pt x="1048" y="95"/>
                    </a:lnTo>
                    <a:lnTo>
                      <a:pt x="1039" y="96"/>
                    </a:lnTo>
                    <a:lnTo>
                      <a:pt x="1030" y="97"/>
                    </a:lnTo>
                    <a:lnTo>
                      <a:pt x="1020" y="97"/>
                    </a:lnTo>
                    <a:lnTo>
                      <a:pt x="1011" y="98"/>
                    </a:lnTo>
                    <a:lnTo>
                      <a:pt x="1002" y="98"/>
                    </a:lnTo>
                    <a:lnTo>
                      <a:pt x="992" y="99"/>
                    </a:lnTo>
                    <a:lnTo>
                      <a:pt x="983" y="100"/>
                    </a:lnTo>
                    <a:lnTo>
                      <a:pt x="974" y="101"/>
                    </a:lnTo>
                    <a:lnTo>
                      <a:pt x="965" y="102"/>
                    </a:lnTo>
                    <a:lnTo>
                      <a:pt x="955" y="102"/>
                    </a:lnTo>
                    <a:lnTo>
                      <a:pt x="946" y="102"/>
                    </a:lnTo>
                    <a:lnTo>
                      <a:pt x="937" y="102"/>
                    </a:lnTo>
                    <a:lnTo>
                      <a:pt x="928" y="103"/>
                    </a:lnTo>
                    <a:lnTo>
                      <a:pt x="918" y="104"/>
                    </a:lnTo>
                    <a:lnTo>
                      <a:pt x="909" y="103"/>
                    </a:lnTo>
                    <a:lnTo>
                      <a:pt x="900" y="104"/>
                    </a:lnTo>
                    <a:lnTo>
                      <a:pt x="890" y="105"/>
                    </a:lnTo>
                    <a:lnTo>
                      <a:pt x="881" y="106"/>
                    </a:lnTo>
                    <a:lnTo>
                      <a:pt x="872" y="103"/>
                    </a:lnTo>
                    <a:lnTo>
                      <a:pt x="863" y="102"/>
                    </a:lnTo>
                    <a:lnTo>
                      <a:pt x="853" y="103"/>
                    </a:lnTo>
                    <a:lnTo>
                      <a:pt x="844" y="103"/>
                    </a:lnTo>
                    <a:lnTo>
                      <a:pt x="835" y="104"/>
                    </a:lnTo>
                    <a:lnTo>
                      <a:pt x="825" y="105"/>
                    </a:lnTo>
                    <a:lnTo>
                      <a:pt x="816" y="106"/>
                    </a:lnTo>
                    <a:lnTo>
                      <a:pt x="807" y="105"/>
                    </a:lnTo>
                    <a:lnTo>
                      <a:pt x="798" y="106"/>
                    </a:lnTo>
                    <a:lnTo>
                      <a:pt x="788" y="107"/>
                    </a:lnTo>
                    <a:lnTo>
                      <a:pt x="779" y="108"/>
                    </a:lnTo>
                    <a:lnTo>
                      <a:pt x="770" y="109"/>
                    </a:lnTo>
                    <a:lnTo>
                      <a:pt x="760" y="109"/>
                    </a:lnTo>
                    <a:lnTo>
                      <a:pt x="751" y="108"/>
                    </a:lnTo>
                    <a:lnTo>
                      <a:pt x="742" y="107"/>
                    </a:lnTo>
                    <a:lnTo>
                      <a:pt x="733" y="106"/>
                    </a:lnTo>
                    <a:lnTo>
                      <a:pt x="723" y="105"/>
                    </a:lnTo>
                    <a:lnTo>
                      <a:pt x="714" y="107"/>
                    </a:lnTo>
                    <a:lnTo>
                      <a:pt x="705" y="107"/>
                    </a:lnTo>
                    <a:lnTo>
                      <a:pt x="696" y="107"/>
                    </a:lnTo>
                    <a:lnTo>
                      <a:pt x="686" y="107"/>
                    </a:lnTo>
                    <a:lnTo>
                      <a:pt x="677" y="107"/>
                    </a:lnTo>
                    <a:lnTo>
                      <a:pt x="668" y="109"/>
                    </a:lnTo>
                    <a:lnTo>
                      <a:pt x="658" y="110"/>
                    </a:lnTo>
                    <a:lnTo>
                      <a:pt x="649" y="108"/>
                    </a:lnTo>
                    <a:lnTo>
                      <a:pt x="640" y="109"/>
                    </a:lnTo>
                    <a:lnTo>
                      <a:pt x="631" y="108"/>
                    </a:lnTo>
                    <a:lnTo>
                      <a:pt x="621" y="108"/>
                    </a:lnTo>
                    <a:lnTo>
                      <a:pt x="612" y="108"/>
                    </a:lnTo>
                    <a:lnTo>
                      <a:pt x="603" y="109"/>
                    </a:lnTo>
                    <a:lnTo>
                      <a:pt x="593" y="109"/>
                    </a:lnTo>
                    <a:lnTo>
                      <a:pt x="584" y="108"/>
                    </a:lnTo>
                    <a:lnTo>
                      <a:pt x="575" y="109"/>
                    </a:lnTo>
                    <a:lnTo>
                      <a:pt x="566" y="109"/>
                    </a:lnTo>
                    <a:lnTo>
                      <a:pt x="556" y="110"/>
                    </a:lnTo>
                    <a:lnTo>
                      <a:pt x="547" y="110"/>
                    </a:lnTo>
                    <a:lnTo>
                      <a:pt x="538" y="111"/>
                    </a:lnTo>
                    <a:lnTo>
                      <a:pt x="528" y="110"/>
                    </a:lnTo>
                    <a:lnTo>
                      <a:pt x="519" y="111"/>
                    </a:lnTo>
                    <a:lnTo>
                      <a:pt x="510" y="112"/>
                    </a:lnTo>
                    <a:lnTo>
                      <a:pt x="501" y="112"/>
                    </a:lnTo>
                    <a:lnTo>
                      <a:pt x="491" y="113"/>
                    </a:lnTo>
                    <a:lnTo>
                      <a:pt x="482" y="113"/>
                    </a:lnTo>
                    <a:lnTo>
                      <a:pt x="473" y="113"/>
                    </a:lnTo>
                    <a:lnTo>
                      <a:pt x="464" y="114"/>
                    </a:lnTo>
                    <a:lnTo>
                      <a:pt x="454" y="114"/>
                    </a:lnTo>
                    <a:lnTo>
                      <a:pt x="445" y="115"/>
                    </a:lnTo>
                    <a:lnTo>
                      <a:pt x="436" y="115"/>
                    </a:lnTo>
                    <a:lnTo>
                      <a:pt x="426" y="115"/>
                    </a:lnTo>
                    <a:lnTo>
                      <a:pt x="417" y="115"/>
                    </a:lnTo>
                    <a:lnTo>
                      <a:pt x="408" y="116"/>
                    </a:lnTo>
                    <a:lnTo>
                      <a:pt x="399" y="116"/>
                    </a:lnTo>
                    <a:lnTo>
                      <a:pt x="389" y="116"/>
                    </a:lnTo>
                    <a:lnTo>
                      <a:pt x="380" y="116"/>
                    </a:lnTo>
                    <a:lnTo>
                      <a:pt x="371" y="116"/>
                    </a:lnTo>
                    <a:lnTo>
                      <a:pt x="361" y="116"/>
                    </a:lnTo>
                    <a:lnTo>
                      <a:pt x="352" y="117"/>
                    </a:lnTo>
                    <a:lnTo>
                      <a:pt x="343" y="117"/>
                    </a:lnTo>
                    <a:lnTo>
                      <a:pt x="334" y="117"/>
                    </a:lnTo>
                    <a:lnTo>
                      <a:pt x="324" y="117"/>
                    </a:lnTo>
                    <a:lnTo>
                      <a:pt x="315" y="117"/>
                    </a:lnTo>
                    <a:lnTo>
                      <a:pt x="306" y="117"/>
                    </a:lnTo>
                    <a:lnTo>
                      <a:pt x="296" y="118"/>
                    </a:lnTo>
                    <a:lnTo>
                      <a:pt x="287" y="118"/>
                    </a:lnTo>
                    <a:lnTo>
                      <a:pt x="278" y="118"/>
                    </a:lnTo>
                    <a:lnTo>
                      <a:pt x="269" y="118"/>
                    </a:lnTo>
                    <a:lnTo>
                      <a:pt x="259" y="119"/>
                    </a:lnTo>
                    <a:lnTo>
                      <a:pt x="250" y="119"/>
                    </a:lnTo>
                    <a:lnTo>
                      <a:pt x="241" y="119"/>
                    </a:lnTo>
                    <a:lnTo>
                      <a:pt x="232" y="119"/>
                    </a:lnTo>
                    <a:lnTo>
                      <a:pt x="222" y="119"/>
                    </a:lnTo>
                    <a:lnTo>
                      <a:pt x="213" y="119"/>
                    </a:lnTo>
                    <a:lnTo>
                      <a:pt x="204" y="119"/>
                    </a:lnTo>
                    <a:lnTo>
                      <a:pt x="194" y="119"/>
                    </a:lnTo>
                    <a:lnTo>
                      <a:pt x="185" y="120"/>
                    </a:lnTo>
                    <a:lnTo>
                      <a:pt x="176" y="120"/>
                    </a:lnTo>
                    <a:lnTo>
                      <a:pt x="167" y="120"/>
                    </a:lnTo>
                    <a:lnTo>
                      <a:pt x="157" y="120"/>
                    </a:lnTo>
                    <a:lnTo>
                      <a:pt x="148" y="120"/>
                    </a:lnTo>
                    <a:lnTo>
                      <a:pt x="139" y="120"/>
                    </a:lnTo>
                    <a:lnTo>
                      <a:pt x="129" y="120"/>
                    </a:lnTo>
                    <a:lnTo>
                      <a:pt x="120" y="120"/>
                    </a:lnTo>
                    <a:lnTo>
                      <a:pt x="111" y="121"/>
                    </a:lnTo>
                    <a:lnTo>
                      <a:pt x="102" y="121"/>
                    </a:lnTo>
                    <a:lnTo>
                      <a:pt x="92" y="121"/>
                    </a:lnTo>
                    <a:lnTo>
                      <a:pt x="83" y="121"/>
                    </a:lnTo>
                    <a:lnTo>
                      <a:pt x="74" y="121"/>
                    </a:lnTo>
                    <a:lnTo>
                      <a:pt x="64" y="121"/>
                    </a:lnTo>
                    <a:lnTo>
                      <a:pt x="55" y="121"/>
                    </a:lnTo>
                    <a:lnTo>
                      <a:pt x="46" y="121"/>
                    </a:lnTo>
                    <a:lnTo>
                      <a:pt x="37" y="121"/>
                    </a:lnTo>
                    <a:lnTo>
                      <a:pt x="27" y="122"/>
                    </a:lnTo>
                    <a:lnTo>
                      <a:pt x="18" y="122"/>
                    </a:lnTo>
                    <a:lnTo>
                      <a:pt x="9" y="121"/>
                    </a:lnTo>
                    <a:lnTo>
                      <a:pt x="0" y="122"/>
                    </a:lnTo>
                    <a:close/>
                  </a:path>
                </a:pathLst>
              </a:custGeom>
              <a:noFill/>
              <a:ln w="3175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5" name="Freeform 255"/>
              <p:cNvSpPr/>
              <p:nvPr/>
            </p:nvSpPr>
            <p:spPr>
              <a:xfrm>
                <a:off x="4879800" y="6335280"/>
                <a:ext cx="2310120" cy="142200"/>
              </a:xfrm>
              <a:custGeom>
                <a:avLst/>
                <a:gdLst>
                  <a:gd name="textAreaLeft" fmla="*/ 0 w 2310120"/>
                  <a:gd name="textAreaRight" fmla="*/ 2310480 w 2310120"/>
                  <a:gd name="textAreaTop" fmla="*/ 0 h 142200"/>
                  <a:gd name="textAreaBottom" fmla="*/ 142560 h 142200"/>
                </a:gdLst>
                <a:ahLst/>
                <a:rect l="textAreaLeft" t="textAreaTop" r="textAreaRight" b="textAreaBottom"/>
                <a:pathLst>
                  <a:path w="1447" h="58">
                    <a:moveTo>
                      <a:pt x="0" y="57"/>
                    </a:moveTo>
                    <a:lnTo>
                      <a:pt x="9" y="57"/>
                    </a:lnTo>
                    <a:lnTo>
                      <a:pt x="18" y="57"/>
                    </a:lnTo>
                    <a:lnTo>
                      <a:pt x="27" y="57"/>
                    </a:lnTo>
                    <a:lnTo>
                      <a:pt x="37" y="57"/>
                    </a:lnTo>
                    <a:lnTo>
                      <a:pt x="46" y="56"/>
                    </a:lnTo>
                    <a:lnTo>
                      <a:pt x="55" y="56"/>
                    </a:lnTo>
                    <a:lnTo>
                      <a:pt x="64" y="56"/>
                    </a:lnTo>
                    <a:lnTo>
                      <a:pt x="74" y="56"/>
                    </a:lnTo>
                    <a:lnTo>
                      <a:pt x="83" y="56"/>
                    </a:lnTo>
                    <a:lnTo>
                      <a:pt x="92" y="56"/>
                    </a:lnTo>
                    <a:lnTo>
                      <a:pt x="102" y="56"/>
                    </a:lnTo>
                    <a:lnTo>
                      <a:pt x="111" y="56"/>
                    </a:lnTo>
                    <a:lnTo>
                      <a:pt x="120" y="56"/>
                    </a:lnTo>
                    <a:lnTo>
                      <a:pt x="129" y="55"/>
                    </a:lnTo>
                    <a:lnTo>
                      <a:pt x="139" y="55"/>
                    </a:lnTo>
                    <a:lnTo>
                      <a:pt x="148" y="55"/>
                    </a:lnTo>
                    <a:lnTo>
                      <a:pt x="157" y="55"/>
                    </a:lnTo>
                    <a:lnTo>
                      <a:pt x="167" y="55"/>
                    </a:lnTo>
                    <a:lnTo>
                      <a:pt x="176" y="55"/>
                    </a:lnTo>
                    <a:lnTo>
                      <a:pt x="185" y="55"/>
                    </a:lnTo>
                    <a:lnTo>
                      <a:pt x="194" y="54"/>
                    </a:lnTo>
                    <a:lnTo>
                      <a:pt x="204" y="54"/>
                    </a:lnTo>
                    <a:lnTo>
                      <a:pt x="213" y="54"/>
                    </a:lnTo>
                    <a:lnTo>
                      <a:pt x="222" y="54"/>
                    </a:lnTo>
                    <a:lnTo>
                      <a:pt x="232" y="54"/>
                    </a:lnTo>
                    <a:lnTo>
                      <a:pt x="241" y="54"/>
                    </a:lnTo>
                    <a:lnTo>
                      <a:pt x="250" y="54"/>
                    </a:lnTo>
                    <a:lnTo>
                      <a:pt x="259" y="54"/>
                    </a:lnTo>
                    <a:lnTo>
                      <a:pt x="269" y="54"/>
                    </a:lnTo>
                    <a:lnTo>
                      <a:pt x="278" y="53"/>
                    </a:lnTo>
                    <a:lnTo>
                      <a:pt x="287" y="53"/>
                    </a:lnTo>
                    <a:lnTo>
                      <a:pt x="296" y="53"/>
                    </a:lnTo>
                    <a:lnTo>
                      <a:pt x="306" y="52"/>
                    </a:lnTo>
                    <a:lnTo>
                      <a:pt x="315" y="52"/>
                    </a:lnTo>
                    <a:lnTo>
                      <a:pt x="324" y="52"/>
                    </a:lnTo>
                    <a:lnTo>
                      <a:pt x="334" y="52"/>
                    </a:lnTo>
                    <a:lnTo>
                      <a:pt x="343" y="52"/>
                    </a:lnTo>
                    <a:lnTo>
                      <a:pt x="352" y="52"/>
                    </a:lnTo>
                    <a:lnTo>
                      <a:pt x="361" y="52"/>
                    </a:lnTo>
                    <a:lnTo>
                      <a:pt x="371" y="51"/>
                    </a:lnTo>
                    <a:lnTo>
                      <a:pt x="380" y="51"/>
                    </a:lnTo>
                    <a:lnTo>
                      <a:pt x="389" y="51"/>
                    </a:lnTo>
                    <a:lnTo>
                      <a:pt x="399" y="51"/>
                    </a:lnTo>
                    <a:lnTo>
                      <a:pt x="408" y="51"/>
                    </a:lnTo>
                    <a:lnTo>
                      <a:pt x="417" y="51"/>
                    </a:lnTo>
                    <a:lnTo>
                      <a:pt x="426" y="50"/>
                    </a:lnTo>
                    <a:lnTo>
                      <a:pt x="436" y="50"/>
                    </a:lnTo>
                    <a:lnTo>
                      <a:pt x="445" y="50"/>
                    </a:lnTo>
                    <a:lnTo>
                      <a:pt x="454" y="49"/>
                    </a:lnTo>
                    <a:lnTo>
                      <a:pt x="464" y="49"/>
                    </a:lnTo>
                    <a:lnTo>
                      <a:pt x="473" y="49"/>
                    </a:lnTo>
                    <a:lnTo>
                      <a:pt x="482" y="48"/>
                    </a:lnTo>
                    <a:lnTo>
                      <a:pt x="491" y="48"/>
                    </a:lnTo>
                    <a:lnTo>
                      <a:pt x="501" y="48"/>
                    </a:lnTo>
                    <a:lnTo>
                      <a:pt x="510" y="47"/>
                    </a:lnTo>
                    <a:lnTo>
                      <a:pt x="519" y="46"/>
                    </a:lnTo>
                    <a:lnTo>
                      <a:pt x="528" y="45"/>
                    </a:lnTo>
                    <a:lnTo>
                      <a:pt x="538" y="46"/>
                    </a:lnTo>
                    <a:lnTo>
                      <a:pt x="547" y="45"/>
                    </a:lnTo>
                    <a:lnTo>
                      <a:pt x="556" y="45"/>
                    </a:lnTo>
                    <a:lnTo>
                      <a:pt x="566" y="45"/>
                    </a:lnTo>
                    <a:lnTo>
                      <a:pt x="575" y="44"/>
                    </a:lnTo>
                    <a:lnTo>
                      <a:pt x="584" y="43"/>
                    </a:lnTo>
                    <a:lnTo>
                      <a:pt x="593" y="44"/>
                    </a:lnTo>
                    <a:lnTo>
                      <a:pt x="603" y="44"/>
                    </a:lnTo>
                    <a:lnTo>
                      <a:pt x="612" y="43"/>
                    </a:lnTo>
                    <a:lnTo>
                      <a:pt x="621" y="43"/>
                    </a:lnTo>
                    <a:lnTo>
                      <a:pt x="631" y="43"/>
                    </a:lnTo>
                    <a:lnTo>
                      <a:pt x="640" y="44"/>
                    </a:lnTo>
                    <a:lnTo>
                      <a:pt x="649" y="43"/>
                    </a:lnTo>
                    <a:lnTo>
                      <a:pt x="658" y="45"/>
                    </a:lnTo>
                    <a:lnTo>
                      <a:pt x="668" y="44"/>
                    </a:lnTo>
                    <a:lnTo>
                      <a:pt x="677" y="42"/>
                    </a:lnTo>
                    <a:lnTo>
                      <a:pt x="686" y="43"/>
                    </a:lnTo>
                    <a:lnTo>
                      <a:pt x="696" y="42"/>
                    </a:lnTo>
                    <a:lnTo>
                      <a:pt x="705" y="43"/>
                    </a:lnTo>
                    <a:lnTo>
                      <a:pt x="714" y="42"/>
                    </a:lnTo>
                    <a:lnTo>
                      <a:pt x="723" y="41"/>
                    </a:lnTo>
                    <a:lnTo>
                      <a:pt x="733" y="41"/>
                    </a:lnTo>
                    <a:lnTo>
                      <a:pt x="742" y="42"/>
                    </a:lnTo>
                    <a:lnTo>
                      <a:pt x="751" y="43"/>
                    </a:lnTo>
                    <a:lnTo>
                      <a:pt x="760" y="44"/>
                    </a:lnTo>
                    <a:lnTo>
                      <a:pt x="770" y="44"/>
                    </a:lnTo>
                    <a:lnTo>
                      <a:pt x="779" y="43"/>
                    </a:lnTo>
                    <a:lnTo>
                      <a:pt x="788" y="42"/>
                    </a:lnTo>
                    <a:lnTo>
                      <a:pt x="798" y="41"/>
                    </a:lnTo>
                    <a:lnTo>
                      <a:pt x="807" y="40"/>
                    </a:lnTo>
                    <a:lnTo>
                      <a:pt x="816" y="41"/>
                    </a:lnTo>
                    <a:lnTo>
                      <a:pt x="825" y="40"/>
                    </a:lnTo>
                    <a:lnTo>
                      <a:pt x="835" y="39"/>
                    </a:lnTo>
                    <a:lnTo>
                      <a:pt x="844" y="38"/>
                    </a:lnTo>
                    <a:lnTo>
                      <a:pt x="853" y="38"/>
                    </a:lnTo>
                    <a:lnTo>
                      <a:pt x="863" y="37"/>
                    </a:lnTo>
                    <a:lnTo>
                      <a:pt x="872" y="38"/>
                    </a:lnTo>
                    <a:lnTo>
                      <a:pt x="881" y="41"/>
                    </a:lnTo>
                    <a:lnTo>
                      <a:pt x="890" y="41"/>
                    </a:lnTo>
                    <a:lnTo>
                      <a:pt x="900" y="39"/>
                    </a:lnTo>
                    <a:lnTo>
                      <a:pt x="909" y="38"/>
                    </a:lnTo>
                    <a:lnTo>
                      <a:pt x="918" y="39"/>
                    </a:lnTo>
                    <a:lnTo>
                      <a:pt x="928" y="38"/>
                    </a:lnTo>
                    <a:lnTo>
                      <a:pt x="937" y="37"/>
                    </a:lnTo>
                    <a:lnTo>
                      <a:pt x="946" y="37"/>
                    </a:lnTo>
                    <a:lnTo>
                      <a:pt x="955" y="37"/>
                    </a:lnTo>
                    <a:lnTo>
                      <a:pt x="965" y="37"/>
                    </a:lnTo>
                    <a:lnTo>
                      <a:pt x="974" y="36"/>
                    </a:lnTo>
                    <a:lnTo>
                      <a:pt x="983" y="35"/>
                    </a:lnTo>
                    <a:lnTo>
                      <a:pt x="992" y="34"/>
                    </a:lnTo>
                    <a:lnTo>
                      <a:pt x="1002" y="34"/>
                    </a:lnTo>
                    <a:lnTo>
                      <a:pt x="1011" y="33"/>
                    </a:lnTo>
                    <a:lnTo>
                      <a:pt x="1020" y="32"/>
                    </a:lnTo>
                    <a:lnTo>
                      <a:pt x="1030" y="32"/>
                    </a:lnTo>
                    <a:lnTo>
                      <a:pt x="1039" y="31"/>
                    </a:lnTo>
                    <a:lnTo>
                      <a:pt x="1048" y="30"/>
                    </a:lnTo>
                    <a:lnTo>
                      <a:pt x="1057" y="30"/>
                    </a:lnTo>
                    <a:lnTo>
                      <a:pt x="1067" y="32"/>
                    </a:lnTo>
                    <a:lnTo>
                      <a:pt x="1076" y="32"/>
                    </a:lnTo>
                    <a:lnTo>
                      <a:pt x="1085" y="33"/>
                    </a:lnTo>
                    <a:lnTo>
                      <a:pt x="1095" y="33"/>
                    </a:lnTo>
                    <a:lnTo>
                      <a:pt x="1104" y="33"/>
                    </a:lnTo>
                    <a:lnTo>
                      <a:pt x="1113" y="33"/>
                    </a:lnTo>
                    <a:lnTo>
                      <a:pt x="1122" y="34"/>
                    </a:lnTo>
                    <a:lnTo>
                      <a:pt x="1132" y="34"/>
                    </a:lnTo>
                    <a:lnTo>
                      <a:pt x="1141" y="33"/>
                    </a:lnTo>
                    <a:lnTo>
                      <a:pt x="1150" y="32"/>
                    </a:lnTo>
                    <a:lnTo>
                      <a:pt x="1160" y="32"/>
                    </a:lnTo>
                    <a:lnTo>
                      <a:pt x="1169" y="31"/>
                    </a:lnTo>
                    <a:lnTo>
                      <a:pt x="1178" y="30"/>
                    </a:lnTo>
                    <a:lnTo>
                      <a:pt x="1187" y="28"/>
                    </a:lnTo>
                    <a:lnTo>
                      <a:pt x="1197" y="27"/>
                    </a:lnTo>
                    <a:lnTo>
                      <a:pt x="1206" y="26"/>
                    </a:lnTo>
                    <a:lnTo>
                      <a:pt x="1215" y="26"/>
                    </a:lnTo>
                    <a:lnTo>
                      <a:pt x="1224" y="25"/>
                    </a:lnTo>
                    <a:lnTo>
                      <a:pt x="1234" y="24"/>
                    </a:lnTo>
                    <a:lnTo>
                      <a:pt x="1243" y="23"/>
                    </a:lnTo>
                    <a:lnTo>
                      <a:pt x="1252" y="21"/>
                    </a:lnTo>
                    <a:lnTo>
                      <a:pt x="1262" y="21"/>
                    </a:lnTo>
                    <a:lnTo>
                      <a:pt x="1271" y="19"/>
                    </a:lnTo>
                    <a:lnTo>
                      <a:pt x="1280" y="18"/>
                    </a:lnTo>
                    <a:lnTo>
                      <a:pt x="1289" y="18"/>
                    </a:lnTo>
                    <a:lnTo>
                      <a:pt x="1299" y="17"/>
                    </a:lnTo>
                    <a:lnTo>
                      <a:pt x="1308" y="17"/>
                    </a:lnTo>
                    <a:lnTo>
                      <a:pt x="1317" y="18"/>
                    </a:lnTo>
                    <a:lnTo>
                      <a:pt x="1327" y="18"/>
                    </a:lnTo>
                    <a:lnTo>
                      <a:pt x="1336" y="17"/>
                    </a:lnTo>
                    <a:lnTo>
                      <a:pt x="1345" y="16"/>
                    </a:lnTo>
                    <a:lnTo>
                      <a:pt x="1354" y="15"/>
                    </a:lnTo>
                    <a:lnTo>
                      <a:pt x="1364" y="15"/>
                    </a:lnTo>
                    <a:lnTo>
                      <a:pt x="1373" y="15"/>
                    </a:lnTo>
                    <a:lnTo>
                      <a:pt x="1382" y="15"/>
                    </a:lnTo>
                    <a:lnTo>
                      <a:pt x="1392" y="14"/>
                    </a:lnTo>
                    <a:lnTo>
                      <a:pt x="1401" y="14"/>
                    </a:lnTo>
                    <a:lnTo>
                      <a:pt x="1410" y="12"/>
                    </a:lnTo>
                    <a:lnTo>
                      <a:pt x="1419" y="9"/>
                    </a:lnTo>
                    <a:lnTo>
                      <a:pt x="1429" y="5"/>
                    </a:lnTo>
                    <a:lnTo>
                      <a:pt x="1438" y="3"/>
                    </a:lnTo>
                    <a:lnTo>
                      <a:pt x="1447" y="0"/>
                    </a:lnTo>
                    <a:lnTo>
                      <a:pt x="1447" y="49"/>
                    </a:lnTo>
                    <a:lnTo>
                      <a:pt x="1438" y="50"/>
                    </a:lnTo>
                    <a:lnTo>
                      <a:pt x="1429" y="50"/>
                    </a:lnTo>
                    <a:lnTo>
                      <a:pt x="1419" y="50"/>
                    </a:lnTo>
                    <a:lnTo>
                      <a:pt x="1410" y="51"/>
                    </a:lnTo>
                    <a:lnTo>
                      <a:pt x="1401" y="51"/>
                    </a:lnTo>
                    <a:lnTo>
                      <a:pt x="1392" y="51"/>
                    </a:lnTo>
                    <a:lnTo>
                      <a:pt x="1382" y="51"/>
                    </a:lnTo>
                    <a:lnTo>
                      <a:pt x="1373" y="51"/>
                    </a:lnTo>
                    <a:lnTo>
                      <a:pt x="1364" y="52"/>
                    </a:lnTo>
                    <a:lnTo>
                      <a:pt x="1354" y="52"/>
                    </a:lnTo>
                    <a:lnTo>
                      <a:pt x="1345" y="52"/>
                    </a:lnTo>
                    <a:lnTo>
                      <a:pt x="1336" y="52"/>
                    </a:lnTo>
                    <a:lnTo>
                      <a:pt x="1327" y="52"/>
                    </a:lnTo>
                    <a:lnTo>
                      <a:pt x="1317" y="52"/>
                    </a:lnTo>
                    <a:lnTo>
                      <a:pt x="1308" y="53"/>
                    </a:lnTo>
                    <a:lnTo>
                      <a:pt x="1299" y="53"/>
                    </a:lnTo>
                    <a:lnTo>
                      <a:pt x="1289" y="53"/>
                    </a:lnTo>
                    <a:lnTo>
                      <a:pt x="1280" y="53"/>
                    </a:lnTo>
                    <a:lnTo>
                      <a:pt x="1271" y="53"/>
                    </a:lnTo>
                    <a:lnTo>
                      <a:pt x="1262" y="54"/>
                    </a:lnTo>
                    <a:lnTo>
                      <a:pt x="1252" y="54"/>
                    </a:lnTo>
                    <a:lnTo>
                      <a:pt x="1243" y="54"/>
                    </a:lnTo>
                    <a:lnTo>
                      <a:pt x="1234" y="55"/>
                    </a:lnTo>
                    <a:lnTo>
                      <a:pt x="1224" y="55"/>
                    </a:lnTo>
                    <a:lnTo>
                      <a:pt x="1215" y="55"/>
                    </a:lnTo>
                    <a:lnTo>
                      <a:pt x="1206" y="55"/>
                    </a:lnTo>
                    <a:lnTo>
                      <a:pt x="1197" y="56"/>
                    </a:lnTo>
                    <a:lnTo>
                      <a:pt x="1187" y="56"/>
                    </a:lnTo>
                    <a:lnTo>
                      <a:pt x="1178" y="56"/>
                    </a:lnTo>
                    <a:lnTo>
                      <a:pt x="1169" y="56"/>
                    </a:lnTo>
                    <a:lnTo>
                      <a:pt x="1160" y="57"/>
                    </a:lnTo>
                    <a:lnTo>
                      <a:pt x="1150" y="57"/>
                    </a:lnTo>
                    <a:lnTo>
                      <a:pt x="1141" y="57"/>
                    </a:lnTo>
                    <a:lnTo>
                      <a:pt x="1132" y="57"/>
                    </a:lnTo>
                    <a:lnTo>
                      <a:pt x="1122" y="57"/>
                    </a:lnTo>
                    <a:lnTo>
                      <a:pt x="1113" y="56"/>
                    </a:lnTo>
                    <a:lnTo>
                      <a:pt x="1104" y="56"/>
                    </a:lnTo>
                    <a:lnTo>
                      <a:pt x="1095" y="56"/>
                    </a:lnTo>
                    <a:lnTo>
                      <a:pt x="1085" y="55"/>
                    </a:lnTo>
                    <a:lnTo>
                      <a:pt x="1076" y="55"/>
                    </a:lnTo>
                    <a:lnTo>
                      <a:pt x="1067" y="55"/>
                    </a:lnTo>
                    <a:lnTo>
                      <a:pt x="1057" y="54"/>
                    </a:lnTo>
                    <a:lnTo>
                      <a:pt x="1048" y="54"/>
                    </a:lnTo>
                    <a:lnTo>
                      <a:pt x="1039" y="53"/>
                    </a:lnTo>
                    <a:lnTo>
                      <a:pt x="1030" y="53"/>
                    </a:lnTo>
                    <a:lnTo>
                      <a:pt x="1020" y="53"/>
                    </a:lnTo>
                    <a:lnTo>
                      <a:pt x="1011" y="53"/>
                    </a:lnTo>
                    <a:lnTo>
                      <a:pt x="1002" y="53"/>
                    </a:lnTo>
                    <a:lnTo>
                      <a:pt x="992" y="53"/>
                    </a:lnTo>
                    <a:lnTo>
                      <a:pt x="983" y="53"/>
                    </a:lnTo>
                    <a:lnTo>
                      <a:pt x="974" y="53"/>
                    </a:lnTo>
                    <a:lnTo>
                      <a:pt x="965" y="53"/>
                    </a:lnTo>
                    <a:lnTo>
                      <a:pt x="955" y="53"/>
                    </a:lnTo>
                    <a:lnTo>
                      <a:pt x="946" y="53"/>
                    </a:lnTo>
                    <a:lnTo>
                      <a:pt x="937" y="53"/>
                    </a:lnTo>
                    <a:lnTo>
                      <a:pt x="928" y="53"/>
                    </a:lnTo>
                    <a:lnTo>
                      <a:pt x="918" y="53"/>
                    </a:lnTo>
                    <a:lnTo>
                      <a:pt x="909" y="53"/>
                    </a:lnTo>
                    <a:lnTo>
                      <a:pt x="900" y="53"/>
                    </a:lnTo>
                    <a:lnTo>
                      <a:pt x="890" y="53"/>
                    </a:lnTo>
                    <a:lnTo>
                      <a:pt x="881" y="53"/>
                    </a:lnTo>
                    <a:lnTo>
                      <a:pt x="872" y="53"/>
                    </a:lnTo>
                    <a:lnTo>
                      <a:pt x="863" y="53"/>
                    </a:lnTo>
                    <a:lnTo>
                      <a:pt x="853" y="53"/>
                    </a:lnTo>
                    <a:lnTo>
                      <a:pt x="844" y="53"/>
                    </a:lnTo>
                    <a:lnTo>
                      <a:pt x="835" y="54"/>
                    </a:lnTo>
                    <a:lnTo>
                      <a:pt x="825" y="54"/>
                    </a:lnTo>
                    <a:lnTo>
                      <a:pt x="816" y="54"/>
                    </a:lnTo>
                    <a:lnTo>
                      <a:pt x="807" y="54"/>
                    </a:lnTo>
                    <a:lnTo>
                      <a:pt x="798" y="54"/>
                    </a:lnTo>
                    <a:lnTo>
                      <a:pt x="788" y="54"/>
                    </a:lnTo>
                    <a:lnTo>
                      <a:pt x="779" y="54"/>
                    </a:lnTo>
                    <a:lnTo>
                      <a:pt x="770" y="54"/>
                    </a:lnTo>
                    <a:lnTo>
                      <a:pt x="760" y="54"/>
                    </a:lnTo>
                    <a:lnTo>
                      <a:pt x="751" y="54"/>
                    </a:lnTo>
                    <a:lnTo>
                      <a:pt x="742" y="54"/>
                    </a:lnTo>
                    <a:lnTo>
                      <a:pt x="733" y="54"/>
                    </a:lnTo>
                    <a:lnTo>
                      <a:pt x="723" y="54"/>
                    </a:lnTo>
                    <a:lnTo>
                      <a:pt x="714" y="54"/>
                    </a:lnTo>
                    <a:lnTo>
                      <a:pt x="705" y="54"/>
                    </a:lnTo>
                    <a:lnTo>
                      <a:pt x="696" y="55"/>
                    </a:lnTo>
                    <a:lnTo>
                      <a:pt x="686" y="55"/>
                    </a:lnTo>
                    <a:lnTo>
                      <a:pt x="677" y="55"/>
                    </a:lnTo>
                    <a:lnTo>
                      <a:pt x="668" y="55"/>
                    </a:lnTo>
                    <a:lnTo>
                      <a:pt x="658" y="55"/>
                    </a:lnTo>
                    <a:lnTo>
                      <a:pt x="649" y="55"/>
                    </a:lnTo>
                    <a:lnTo>
                      <a:pt x="640" y="55"/>
                    </a:lnTo>
                    <a:lnTo>
                      <a:pt x="631" y="55"/>
                    </a:lnTo>
                    <a:lnTo>
                      <a:pt x="621" y="55"/>
                    </a:lnTo>
                    <a:lnTo>
                      <a:pt x="612" y="55"/>
                    </a:lnTo>
                    <a:lnTo>
                      <a:pt x="603" y="55"/>
                    </a:lnTo>
                    <a:lnTo>
                      <a:pt x="593" y="55"/>
                    </a:lnTo>
                    <a:lnTo>
                      <a:pt x="584" y="55"/>
                    </a:lnTo>
                    <a:lnTo>
                      <a:pt x="575" y="55"/>
                    </a:lnTo>
                    <a:lnTo>
                      <a:pt x="566" y="55"/>
                    </a:lnTo>
                    <a:lnTo>
                      <a:pt x="556" y="55"/>
                    </a:lnTo>
                    <a:lnTo>
                      <a:pt x="547" y="55"/>
                    </a:lnTo>
                    <a:lnTo>
                      <a:pt x="538" y="55"/>
                    </a:lnTo>
                    <a:lnTo>
                      <a:pt x="528" y="55"/>
                    </a:lnTo>
                    <a:lnTo>
                      <a:pt x="519" y="56"/>
                    </a:lnTo>
                    <a:lnTo>
                      <a:pt x="510" y="56"/>
                    </a:lnTo>
                    <a:lnTo>
                      <a:pt x="501" y="56"/>
                    </a:lnTo>
                    <a:lnTo>
                      <a:pt x="491" y="56"/>
                    </a:lnTo>
                    <a:lnTo>
                      <a:pt x="482" y="56"/>
                    </a:lnTo>
                    <a:lnTo>
                      <a:pt x="473" y="56"/>
                    </a:lnTo>
                    <a:lnTo>
                      <a:pt x="464" y="56"/>
                    </a:lnTo>
                    <a:lnTo>
                      <a:pt x="454" y="56"/>
                    </a:lnTo>
                    <a:lnTo>
                      <a:pt x="445" y="56"/>
                    </a:lnTo>
                    <a:lnTo>
                      <a:pt x="436" y="56"/>
                    </a:lnTo>
                    <a:lnTo>
                      <a:pt x="426" y="56"/>
                    </a:lnTo>
                    <a:lnTo>
                      <a:pt x="417" y="56"/>
                    </a:lnTo>
                    <a:lnTo>
                      <a:pt x="408" y="56"/>
                    </a:lnTo>
                    <a:lnTo>
                      <a:pt x="399" y="56"/>
                    </a:lnTo>
                    <a:lnTo>
                      <a:pt x="389" y="56"/>
                    </a:lnTo>
                    <a:lnTo>
                      <a:pt x="380" y="56"/>
                    </a:lnTo>
                    <a:lnTo>
                      <a:pt x="371" y="56"/>
                    </a:lnTo>
                    <a:lnTo>
                      <a:pt x="361" y="56"/>
                    </a:lnTo>
                    <a:lnTo>
                      <a:pt x="352" y="56"/>
                    </a:lnTo>
                    <a:lnTo>
                      <a:pt x="343" y="56"/>
                    </a:lnTo>
                    <a:lnTo>
                      <a:pt x="334" y="56"/>
                    </a:lnTo>
                    <a:lnTo>
                      <a:pt x="324" y="56"/>
                    </a:lnTo>
                    <a:lnTo>
                      <a:pt x="315" y="56"/>
                    </a:lnTo>
                    <a:lnTo>
                      <a:pt x="306" y="56"/>
                    </a:lnTo>
                    <a:lnTo>
                      <a:pt x="296" y="56"/>
                    </a:lnTo>
                    <a:lnTo>
                      <a:pt x="287" y="56"/>
                    </a:lnTo>
                    <a:lnTo>
                      <a:pt x="278" y="56"/>
                    </a:lnTo>
                    <a:lnTo>
                      <a:pt x="269" y="56"/>
                    </a:lnTo>
                    <a:lnTo>
                      <a:pt x="259" y="56"/>
                    </a:lnTo>
                    <a:lnTo>
                      <a:pt x="250" y="56"/>
                    </a:lnTo>
                    <a:lnTo>
                      <a:pt x="241" y="56"/>
                    </a:lnTo>
                    <a:lnTo>
                      <a:pt x="232" y="56"/>
                    </a:lnTo>
                    <a:lnTo>
                      <a:pt x="222" y="57"/>
                    </a:lnTo>
                    <a:lnTo>
                      <a:pt x="213" y="57"/>
                    </a:lnTo>
                    <a:lnTo>
                      <a:pt x="204" y="57"/>
                    </a:lnTo>
                    <a:lnTo>
                      <a:pt x="194" y="57"/>
                    </a:lnTo>
                    <a:lnTo>
                      <a:pt x="185" y="57"/>
                    </a:lnTo>
                    <a:lnTo>
                      <a:pt x="176" y="57"/>
                    </a:lnTo>
                    <a:lnTo>
                      <a:pt x="167" y="57"/>
                    </a:lnTo>
                    <a:lnTo>
                      <a:pt x="157" y="57"/>
                    </a:lnTo>
                    <a:lnTo>
                      <a:pt x="148" y="57"/>
                    </a:lnTo>
                    <a:lnTo>
                      <a:pt x="139" y="57"/>
                    </a:lnTo>
                    <a:lnTo>
                      <a:pt x="129" y="57"/>
                    </a:lnTo>
                    <a:lnTo>
                      <a:pt x="120" y="57"/>
                    </a:lnTo>
                    <a:lnTo>
                      <a:pt x="111" y="57"/>
                    </a:lnTo>
                    <a:lnTo>
                      <a:pt x="102" y="57"/>
                    </a:lnTo>
                    <a:lnTo>
                      <a:pt x="92" y="57"/>
                    </a:lnTo>
                    <a:lnTo>
                      <a:pt x="83" y="57"/>
                    </a:lnTo>
                    <a:lnTo>
                      <a:pt x="74" y="57"/>
                    </a:lnTo>
                    <a:lnTo>
                      <a:pt x="64" y="57"/>
                    </a:lnTo>
                    <a:lnTo>
                      <a:pt x="55" y="57"/>
                    </a:lnTo>
                    <a:lnTo>
                      <a:pt x="46" y="57"/>
                    </a:lnTo>
                    <a:lnTo>
                      <a:pt x="37" y="57"/>
                    </a:lnTo>
                    <a:lnTo>
                      <a:pt x="27" y="57"/>
                    </a:lnTo>
                    <a:lnTo>
                      <a:pt x="18" y="58"/>
                    </a:lnTo>
                    <a:lnTo>
                      <a:pt x="9" y="57"/>
                    </a:lnTo>
                    <a:lnTo>
                      <a:pt x="0" y="57"/>
                    </a:lnTo>
                    <a:close/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6" name="Freeform 256"/>
              <p:cNvSpPr/>
              <p:nvPr/>
            </p:nvSpPr>
            <p:spPr>
              <a:xfrm>
                <a:off x="4879800" y="6335280"/>
                <a:ext cx="2310120" cy="142200"/>
              </a:xfrm>
              <a:custGeom>
                <a:avLst/>
                <a:gdLst>
                  <a:gd name="textAreaLeft" fmla="*/ 0 w 2310120"/>
                  <a:gd name="textAreaRight" fmla="*/ 2310480 w 2310120"/>
                  <a:gd name="textAreaTop" fmla="*/ 0 h 142200"/>
                  <a:gd name="textAreaBottom" fmla="*/ 142560 h 142200"/>
                </a:gdLst>
                <a:ahLst/>
                <a:rect l="textAreaLeft" t="textAreaTop" r="textAreaRight" b="textAreaBottom"/>
                <a:pathLst>
                  <a:path w="1447" h="58">
                    <a:moveTo>
                      <a:pt x="0" y="57"/>
                    </a:moveTo>
                    <a:lnTo>
                      <a:pt x="9" y="57"/>
                    </a:lnTo>
                    <a:lnTo>
                      <a:pt x="18" y="57"/>
                    </a:lnTo>
                    <a:lnTo>
                      <a:pt x="27" y="57"/>
                    </a:lnTo>
                    <a:lnTo>
                      <a:pt x="37" y="57"/>
                    </a:lnTo>
                    <a:lnTo>
                      <a:pt x="46" y="56"/>
                    </a:lnTo>
                    <a:lnTo>
                      <a:pt x="55" y="56"/>
                    </a:lnTo>
                    <a:lnTo>
                      <a:pt x="64" y="56"/>
                    </a:lnTo>
                    <a:lnTo>
                      <a:pt x="74" y="56"/>
                    </a:lnTo>
                    <a:lnTo>
                      <a:pt x="83" y="56"/>
                    </a:lnTo>
                    <a:lnTo>
                      <a:pt x="92" y="56"/>
                    </a:lnTo>
                    <a:lnTo>
                      <a:pt x="102" y="56"/>
                    </a:lnTo>
                    <a:lnTo>
                      <a:pt x="111" y="56"/>
                    </a:lnTo>
                    <a:lnTo>
                      <a:pt x="120" y="56"/>
                    </a:lnTo>
                    <a:lnTo>
                      <a:pt x="129" y="55"/>
                    </a:lnTo>
                    <a:lnTo>
                      <a:pt x="139" y="55"/>
                    </a:lnTo>
                    <a:lnTo>
                      <a:pt x="148" y="55"/>
                    </a:lnTo>
                    <a:lnTo>
                      <a:pt x="157" y="55"/>
                    </a:lnTo>
                    <a:lnTo>
                      <a:pt x="167" y="55"/>
                    </a:lnTo>
                    <a:lnTo>
                      <a:pt x="176" y="55"/>
                    </a:lnTo>
                    <a:lnTo>
                      <a:pt x="185" y="55"/>
                    </a:lnTo>
                    <a:lnTo>
                      <a:pt x="194" y="54"/>
                    </a:lnTo>
                    <a:lnTo>
                      <a:pt x="204" y="54"/>
                    </a:lnTo>
                    <a:lnTo>
                      <a:pt x="213" y="54"/>
                    </a:lnTo>
                    <a:lnTo>
                      <a:pt x="222" y="54"/>
                    </a:lnTo>
                    <a:lnTo>
                      <a:pt x="232" y="54"/>
                    </a:lnTo>
                    <a:lnTo>
                      <a:pt x="241" y="54"/>
                    </a:lnTo>
                    <a:lnTo>
                      <a:pt x="250" y="54"/>
                    </a:lnTo>
                    <a:lnTo>
                      <a:pt x="259" y="54"/>
                    </a:lnTo>
                    <a:lnTo>
                      <a:pt x="269" y="54"/>
                    </a:lnTo>
                    <a:lnTo>
                      <a:pt x="278" y="53"/>
                    </a:lnTo>
                    <a:lnTo>
                      <a:pt x="287" y="53"/>
                    </a:lnTo>
                    <a:lnTo>
                      <a:pt x="296" y="53"/>
                    </a:lnTo>
                    <a:lnTo>
                      <a:pt x="306" y="52"/>
                    </a:lnTo>
                    <a:lnTo>
                      <a:pt x="315" y="52"/>
                    </a:lnTo>
                    <a:lnTo>
                      <a:pt x="324" y="52"/>
                    </a:lnTo>
                    <a:lnTo>
                      <a:pt x="334" y="52"/>
                    </a:lnTo>
                    <a:lnTo>
                      <a:pt x="343" y="52"/>
                    </a:lnTo>
                    <a:lnTo>
                      <a:pt x="352" y="52"/>
                    </a:lnTo>
                    <a:lnTo>
                      <a:pt x="361" y="52"/>
                    </a:lnTo>
                    <a:lnTo>
                      <a:pt x="371" y="51"/>
                    </a:lnTo>
                    <a:lnTo>
                      <a:pt x="380" y="51"/>
                    </a:lnTo>
                    <a:lnTo>
                      <a:pt x="389" y="51"/>
                    </a:lnTo>
                    <a:lnTo>
                      <a:pt x="399" y="51"/>
                    </a:lnTo>
                    <a:lnTo>
                      <a:pt x="408" y="51"/>
                    </a:lnTo>
                    <a:lnTo>
                      <a:pt x="417" y="51"/>
                    </a:lnTo>
                    <a:lnTo>
                      <a:pt x="426" y="50"/>
                    </a:lnTo>
                    <a:lnTo>
                      <a:pt x="436" y="50"/>
                    </a:lnTo>
                    <a:lnTo>
                      <a:pt x="445" y="50"/>
                    </a:lnTo>
                    <a:lnTo>
                      <a:pt x="454" y="49"/>
                    </a:lnTo>
                    <a:lnTo>
                      <a:pt x="464" y="49"/>
                    </a:lnTo>
                    <a:lnTo>
                      <a:pt x="473" y="49"/>
                    </a:lnTo>
                    <a:lnTo>
                      <a:pt x="482" y="48"/>
                    </a:lnTo>
                    <a:lnTo>
                      <a:pt x="491" y="48"/>
                    </a:lnTo>
                    <a:lnTo>
                      <a:pt x="501" y="48"/>
                    </a:lnTo>
                    <a:lnTo>
                      <a:pt x="510" y="47"/>
                    </a:lnTo>
                    <a:lnTo>
                      <a:pt x="519" y="46"/>
                    </a:lnTo>
                    <a:lnTo>
                      <a:pt x="528" y="45"/>
                    </a:lnTo>
                    <a:lnTo>
                      <a:pt x="538" y="46"/>
                    </a:lnTo>
                    <a:lnTo>
                      <a:pt x="547" y="45"/>
                    </a:lnTo>
                    <a:lnTo>
                      <a:pt x="556" y="45"/>
                    </a:lnTo>
                    <a:lnTo>
                      <a:pt x="566" y="45"/>
                    </a:lnTo>
                    <a:lnTo>
                      <a:pt x="575" y="44"/>
                    </a:lnTo>
                    <a:lnTo>
                      <a:pt x="584" y="43"/>
                    </a:lnTo>
                    <a:lnTo>
                      <a:pt x="593" y="44"/>
                    </a:lnTo>
                    <a:lnTo>
                      <a:pt x="603" y="44"/>
                    </a:lnTo>
                    <a:lnTo>
                      <a:pt x="612" y="43"/>
                    </a:lnTo>
                    <a:lnTo>
                      <a:pt x="621" y="43"/>
                    </a:lnTo>
                    <a:lnTo>
                      <a:pt x="631" y="43"/>
                    </a:lnTo>
                    <a:lnTo>
                      <a:pt x="640" y="44"/>
                    </a:lnTo>
                    <a:lnTo>
                      <a:pt x="649" y="43"/>
                    </a:lnTo>
                    <a:lnTo>
                      <a:pt x="658" y="45"/>
                    </a:lnTo>
                    <a:lnTo>
                      <a:pt x="668" y="44"/>
                    </a:lnTo>
                    <a:lnTo>
                      <a:pt x="677" y="42"/>
                    </a:lnTo>
                    <a:lnTo>
                      <a:pt x="686" y="43"/>
                    </a:lnTo>
                    <a:lnTo>
                      <a:pt x="696" y="42"/>
                    </a:lnTo>
                    <a:lnTo>
                      <a:pt x="705" y="43"/>
                    </a:lnTo>
                    <a:lnTo>
                      <a:pt x="714" y="42"/>
                    </a:lnTo>
                    <a:lnTo>
                      <a:pt x="723" y="41"/>
                    </a:lnTo>
                    <a:lnTo>
                      <a:pt x="733" y="41"/>
                    </a:lnTo>
                    <a:lnTo>
                      <a:pt x="742" y="42"/>
                    </a:lnTo>
                    <a:lnTo>
                      <a:pt x="751" y="43"/>
                    </a:lnTo>
                    <a:lnTo>
                      <a:pt x="760" y="44"/>
                    </a:lnTo>
                    <a:lnTo>
                      <a:pt x="770" y="44"/>
                    </a:lnTo>
                    <a:lnTo>
                      <a:pt x="779" y="43"/>
                    </a:lnTo>
                    <a:lnTo>
                      <a:pt x="788" y="42"/>
                    </a:lnTo>
                    <a:lnTo>
                      <a:pt x="798" y="41"/>
                    </a:lnTo>
                    <a:lnTo>
                      <a:pt x="807" y="40"/>
                    </a:lnTo>
                    <a:lnTo>
                      <a:pt x="816" y="41"/>
                    </a:lnTo>
                    <a:lnTo>
                      <a:pt x="825" y="40"/>
                    </a:lnTo>
                    <a:lnTo>
                      <a:pt x="835" y="39"/>
                    </a:lnTo>
                    <a:lnTo>
                      <a:pt x="844" y="38"/>
                    </a:lnTo>
                    <a:lnTo>
                      <a:pt x="853" y="38"/>
                    </a:lnTo>
                    <a:lnTo>
                      <a:pt x="863" y="37"/>
                    </a:lnTo>
                    <a:lnTo>
                      <a:pt x="872" y="38"/>
                    </a:lnTo>
                    <a:lnTo>
                      <a:pt x="881" y="41"/>
                    </a:lnTo>
                    <a:lnTo>
                      <a:pt x="890" y="41"/>
                    </a:lnTo>
                    <a:lnTo>
                      <a:pt x="900" y="39"/>
                    </a:lnTo>
                    <a:lnTo>
                      <a:pt x="909" y="38"/>
                    </a:lnTo>
                    <a:lnTo>
                      <a:pt x="918" y="39"/>
                    </a:lnTo>
                    <a:lnTo>
                      <a:pt x="928" y="38"/>
                    </a:lnTo>
                    <a:lnTo>
                      <a:pt x="937" y="37"/>
                    </a:lnTo>
                    <a:lnTo>
                      <a:pt x="946" y="37"/>
                    </a:lnTo>
                    <a:lnTo>
                      <a:pt x="955" y="37"/>
                    </a:lnTo>
                    <a:lnTo>
                      <a:pt x="965" y="37"/>
                    </a:lnTo>
                    <a:lnTo>
                      <a:pt x="974" y="36"/>
                    </a:lnTo>
                    <a:lnTo>
                      <a:pt x="983" y="35"/>
                    </a:lnTo>
                    <a:lnTo>
                      <a:pt x="992" y="34"/>
                    </a:lnTo>
                    <a:lnTo>
                      <a:pt x="1002" y="34"/>
                    </a:lnTo>
                    <a:lnTo>
                      <a:pt x="1011" y="33"/>
                    </a:lnTo>
                    <a:lnTo>
                      <a:pt x="1020" y="32"/>
                    </a:lnTo>
                    <a:lnTo>
                      <a:pt x="1030" y="32"/>
                    </a:lnTo>
                    <a:lnTo>
                      <a:pt x="1039" y="31"/>
                    </a:lnTo>
                    <a:lnTo>
                      <a:pt x="1048" y="30"/>
                    </a:lnTo>
                    <a:lnTo>
                      <a:pt x="1057" y="30"/>
                    </a:lnTo>
                    <a:lnTo>
                      <a:pt x="1067" y="32"/>
                    </a:lnTo>
                    <a:lnTo>
                      <a:pt x="1076" y="32"/>
                    </a:lnTo>
                    <a:lnTo>
                      <a:pt x="1085" y="33"/>
                    </a:lnTo>
                    <a:lnTo>
                      <a:pt x="1095" y="33"/>
                    </a:lnTo>
                    <a:lnTo>
                      <a:pt x="1104" y="33"/>
                    </a:lnTo>
                    <a:lnTo>
                      <a:pt x="1113" y="33"/>
                    </a:lnTo>
                    <a:lnTo>
                      <a:pt x="1122" y="34"/>
                    </a:lnTo>
                    <a:lnTo>
                      <a:pt x="1132" y="34"/>
                    </a:lnTo>
                    <a:lnTo>
                      <a:pt x="1141" y="33"/>
                    </a:lnTo>
                    <a:lnTo>
                      <a:pt x="1150" y="32"/>
                    </a:lnTo>
                    <a:lnTo>
                      <a:pt x="1160" y="32"/>
                    </a:lnTo>
                    <a:lnTo>
                      <a:pt x="1169" y="31"/>
                    </a:lnTo>
                    <a:lnTo>
                      <a:pt x="1178" y="30"/>
                    </a:lnTo>
                    <a:lnTo>
                      <a:pt x="1187" y="28"/>
                    </a:lnTo>
                    <a:lnTo>
                      <a:pt x="1197" y="27"/>
                    </a:lnTo>
                    <a:lnTo>
                      <a:pt x="1206" y="26"/>
                    </a:lnTo>
                    <a:lnTo>
                      <a:pt x="1215" y="26"/>
                    </a:lnTo>
                    <a:lnTo>
                      <a:pt x="1224" y="25"/>
                    </a:lnTo>
                    <a:lnTo>
                      <a:pt x="1234" y="24"/>
                    </a:lnTo>
                    <a:lnTo>
                      <a:pt x="1243" y="23"/>
                    </a:lnTo>
                    <a:lnTo>
                      <a:pt x="1252" y="21"/>
                    </a:lnTo>
                    <a:lnTo>
                      <a:pt x="1262" y="21"/>
                    </a:lnTo>
                    <a:lnTo>
                      <a:pt x="1271" y="19"/>
                    </a:lnTo>
                    <a:lnTo>
                      <a:pt x="1280" y="18"/>
                    </a:lnTo>
                    <a:lnTo>
                      <a:pt x="1289" y="18"/>
                    </a:lnTo>
                    <a:lnTo>
                      <a:pt x="1299" y="17"/>
                    </a:lnTo>
                    <a:lnTo>
                      <a:pt x="1308" y="17"/>
                    </a:lnTo>
                    <a:lnTo>
                      <a:pt x="1317" y="18"/>
                    </a:lnTo>
                    <a:lnTo>
                      <a:pt x="1327" y="18"/>
                    </a:lnTo>
                    <a:lnTo>
                      <a:pt x="1336" y="17"/>
                    </a:lnTo>
                    <a:lnTo>
                      <a:pt x="1345" y="16"/>
                    </a:lnTo>
                    <a:lnTo>
                      <a:pt x="1354" y="15"/>
                    </a:lnTo>
                    <a:lnTo>
                      <a:pt x="1364" y="15"/>
                    </a:lnTo>
                    <a:lnTo>
                      <a:pt x="1373" y="15"/>
                    </a:lnTo>
                    <a:lnTo>
                      <a:pt x="1382" y="15"/>
                    </a:lnTo>
                    <a:lnTo>
                      <a:pt x="1392" y="14"/>
                    </a:lnTo>
                    <a:lnTo>
                      <a:pt x="1401" y="14"/>
                    </a:lnTo>
                    <a:lnTo>
                      <a:pt x="1410" y="12"/>
                    </a:lnTo>
                    <a:lnTo>
                      <a:pt x="1419" y="9"/>
                    </a:lnTo>
                    <a:lnTo>
                      <a:pt x="1429" y="5"/>
                    </a:lnTo>
                    <a:lnTo>
                      <a:pt x="1438" y="3"/>
                    </a:lnTo>
                    <a:lnTo>
                      <a:pt x="1447" y="0"/>
                    </a:lnTo>
                    <a:lnTo>
                      <a:pt x="1447" y="49"/>
                    </a:lnTo>
                    <a:lnTo>
                      <a:pt x="1438" y="50"/>
                    </a:lnTo>
                    <a:lnTo>
                      <a:pt x="1429" y="50"/>
                    </a:lnTo>
                    <a:lnTo>
                      <a:pt x="1419" y="50"/>
                    </a:lnTo>
                    <a:lnTo>
                      <a:pt x="1410" y="51"/>
                    </a:lnTo>
                    <a:lnTo>
                      <a:pt x="1401" y="51"/>
                    </a:lnTo>
                    <a:lnTo>
                      <a:pt x="1392" y="51"/>
                    </a:lnTo>
                    <a:lnTo>
                      <a:pt x="1382" y="51"/>
                    </a:lnTo>
                    <a:lnTo>
                      <a:pt x="1373" y="51"/>
                    </a:lnTo>
                    <a:lnTo>
                      <a:pt x="1364" y="52"/>
                    </a:lnTo>
                    <a:lnTo>
                      <a:pt x="1354" y="52"/>
                    </a:lnTo>
                    <a:lnTo>
                      <a:pt x="1345" y="52"/>
                    </a:lnTo>
                    <a:lnTo>
                      <a:pt x="1336" y="52"/>
                    </a:lnTo>
                    <a:lnTo>
                      <a:pt x="1327" y="52"/>
                    </a:lnTo>
                    <a:lnTo>
                      <a:pt x="1317" y="52"/>
                    </a:lnTo>
                    <a:lnTo>
                      <a:pt x="1308" y="53"/>
                    </a:lnTo>
                    <a:lnTo>
                      <a:pt x="1299" y="53"/>
                    </a:lnTo>
                    <a:lnTo>
                      <a:pt x="1289" y="53"/>
                    </a:lnTo>
                    <a:lnTo>
                      <a:pt x="1280" y="53"/>
                    </a:lnTo>
                    <a:lnTo>
                      <a:pt x="1271" y="53"/>
                    </a:lnTo>
                    <a:lnTo>
                      <a:pt x="1262" y="54"/>
                    </a:lnTo>
                    <a:lnTo>
                      <a:pt x="1252" y="54"/>
                    </a:lnTo>
                    <a:lnTo>
                      <a:pt x="1243" y="54"/>
                    </a:lnTo>
                    <a:lnTo>
                      <a:pt x="1234" y="55"/>
                    </a:lnTo>
                    <a:lnTo>
                      <a:pt x="1224" y="55"/>
                    </a:lnTo>
                    <a:lnTo>
                      <a:pt x="1215" y="55"/>
                    </a:lnTo>
                    <a:lnTo>
                      <a:pt x="1206" y="55"/>
                    </a:lnTo>
                    <a:lnTo>
                      <a:pt x="1197" y="56"/>
                    </a:lnTo>
                    <a:lnTo>
                      <a:pt x="1187" y="56"/>
                    </a:lnTo>
                    <a:lnTo>
                      <a:pt x="1178" y="56"/>
                    </a:lnTo>
                    <a:lnTo>
                      <a:pt x="1169" y="56"/>
                    </a:lnTo>
                    <a:lnTo>
                      <a:pt x="1160" y="57"/>
                    </a:lnTo>
                    <a:lnTo>
                      <a:pt x="1150" y="57"/>
                    </a:lnTo>
                    <a:lnTo>
                      <a:pt x="1141" y="57"/>
                    </a:lnTo>
                    <a:lnTo>
                      <a:pt x="1132" y="57"/>
                    </a:lnTo>
                    <a:lnTo>
                      <a:pt x="1122" y="57"/>
                    </a:lnTo>
                    <a:lnTo>
                      <a:pt x="1113" y="56"/>
                    </a:lnTo>
                    <a:lnTo>
                      <a:pt x="1104" y="56"/>
                    </a:lnTo>
                    <a:lnTo>
                      <a:pt x="1095" y="56"/>
                    </a:lnTo>
                    <a:lnTo>
                      <a:pt x="1085" y="55"/>
                    </a:lnTo>
                    <a:lnTo>
                      <a:pt x="1076" y="55"/>
                    </a:lnTo>
                    <a:lnTo>
                      <a:pt x="1067" y="55"/>
                    </a:lnTo>
                    <a:lnTo>
                      <a:pt x="1057" y="54"/>
                    </a:lnTo>
                    <a:lnTo>
                      <a:pt x="1048" y="54"/>
                    </a:lnTo>
                    <a:lnTo>
                      <a:pt x="1039" y="53"/>
                    </a:lnTo>
                    <a:lnTo>
                      <a:pt x="1030" y="53"/>
                    </a:lnTo>
                    <a:lnTo>
                      <a:pt x="1020" y="53"/>
                    </a:lnTo>
                    <a:lnTo>
                      <a:pt x="1011" y="53"/>
                    </a:lnTo>
                    <a:lnTo>
                      <a:pt x="1002" y="53"/>
                    </a:lnTo>
                    <a:lnTo>
                      <a:pt x="992" y="53"/>
                    </a:lnTo>
                    <a:lnTo>
                      <a:pt x="983" y="53"/>
                    </a:lnTo>
                    <a:lnTo>
                      <a:pt x="974" y="53"/>
                    </a:lnTo>
                    <a:lnTo>
                      <a:pt x="965" y="53"/>
                    </a:lnTo>
                    <a:lnTo>
                      <a:pt x="955" y="53"/>
                    </a:lnTo>
                    <a:lnTo>
                      <a:pt x="946" y="53"/>
                    </a:lnTo>
                    <a:lnTo>
                      <a:pt x="937" y="53"/>
                    </a:lnTo>
                    <a:lnTo>
                      <a:pt x="928" y="53"/>
                    </a:lnTo>
                    <a:lnTo>
                      <a:pt x="918" y="53"/>
                    </a:lnTo>
                    <a:lnTo>
                      <a:pt x="909" y="53"/>
                    </a:lnTo>
                    <a:lnTo>
                      <a:pt x="900" y="53"/>
                    </a:lnTo>
                    <a:lnTo>
                      <a:pt x="890" y="53"/>
                    </a:lnTo>
                    <a:lnTo>
                      <a:pt x="881" y="53"/>
                    </a:lnTo>
                    <a:lnTo>
                      <a:pt x="872" y="53"/>
                    </a:lnTo>
                    <a:lnTo>
                      <a:pt x="863" y="53"/>
                    </a:lnTo>
                    <a:lnTo>
                      <a:pt x="853" y="53"/>
                    </a:lnTo>
                    <a:lnTo>
                      <a:pt x="844" y="53"/>
                    </a:lnTo>
                    <a:lnTo>
                      <a:pt x="835" y="54"/>
                    </a:lnTo>
                    <a:lnTo>
                      <a:pt x="825" y="54"/>
                    </a:lnTo>
                    <a:lnTo>
                      <a:pt x="816" y="54"/>
                    </a:lnTo>
                    <a:lnTo>
                      <a:pt x="807" y="54"/>
                    </a:lnTo>
                    <a:lnTo>
                      <a:pt x="798" y="54"/>
                    </a:lnTo>
                    <a:lnTo>
                      <a:pt x="788" y="54"/>
                    </a:lnTo>
                    <a:lnTo>
                      <a:pt x="779" y="54"/>
                    </a:lnTo>
                    <a:lnTo>
                      <a:pt x="770" y="54"/>
                    </a:lnTo>
                    <a:lnTo>
                      <a:pt x="760" y="54"/>
                    </a:lnTo>
                    <a:lnTo>
                      <a:pt x="751" y="54"/>
                    </a:lnTo>
                    <a:lnTo>
                      <a:pt x="742" y="54"/>
                    </a:lnTo>
                    <a:lnTo>
                      <a:pt x="733" y="54"/>
                    </a:lnTo>
                    <a:lnTo>
                      <a:pt x="723" y="54"/>
                    </a:lnTo>
                    <a:lnTo>
                      <a:pt x="714" y="54"/>
                    </a:lnTo>
                    <a:lnTo>
                      <a:pt x="705" y="54"/>
                    </a:lnTo>
                    <a:lnTo>
                      <a:pt x="696" y="55"/>
                    </a:lnTo>
                    <a:lnTo>
                      <a:pt x="686" y="55"/>
                    </a:lnTo>
                    <a:lnTo>
                      <a:pt x="677" y="55"/>
                    </a:lnTo>
                    <a:lnTo>
                      <a:pt x="668" y="55"/>
                    </a:lnTo>
                    <a:lnTo>
                      <a:pt x="658" y="55"/>
                    </a:lnTo>
                    <a:lnTo>
                      <a:pt x="649" y="55"/>
                    </a:lnTo>
                    <a:lnTo>
                      <a:pt x="640" y="55"/>
                    </a:lnTo>
                    <a:lnTo>
                      <a:pt x="631" y="55"/>
                    </a:lnTo>
                    <a:lnTo>
                      <a:pt x="621" y="55"/>
                    </a:lnTo>
                    <a:lnTo>
                      <a:pt x="612" y="55"/>
                    </a:lnTo>
                    <a:lnTo>
                      <a:pt x="603" y="55"/>
                    </a:lnTo>
                    <a:lnTo>
                      <a:pt x="593" y="55"/>
                    </a:lnTo>
                    <a:lnTo>
                      <a:pt x="584" y="55"/>
                    </a:lnTo>
                    <a:lnTo>
                      <a:pt x="575" y="55"/>
                    </a:lnTo>
                    <a:lnTo>
                      <a:pt x="566" y="55"/>
                    </a:lnTo>
                    <a:lnTo>
                      <a:pt x="556" y="55"/>
                    </a:lnTo>
                    <a:lnTo>
                      <a:pt x="547" y="55"/>
                    </a:lnTo>
                    <a:lnTo>
                      <a:pt x="538" y="55"/>
                    </a:lnTo>
                    <a:lnTo>
                      <a:pt x="528" y="55"/>
                    </a:lnTo>
                    <a:lnTo>
                      <a:pt x="519" y="56"/>
                    </a:lnTo>
                    <a:lnTo>
                      <a:pt x="510" y="56"/>
                    </a:lnTo>
                    <a:lnTo>
                      <a:pt x="501" y="56"/>
                    </a:lnTo>
                    <a:lnTo>
                      <a:pt x="491" y="56"/>
                    </a:lnTo>
                    <a:lnTo>
                      <a:pt x="482" y="56"/>
                    </a:lnTo>
                    <a:lnTo>
                      <a:pt x="473" y="56"/>
                    </a:lnTo>
                    <a:lnTo>
                      <a:pt x="464" y="56"/>
                    </a:lnTo>
                    <a:lnTo>
                      <a:pt x="454" y="56"/>
                    </a:lnTo>
                    <a:lnTo>
                      <a:pt x="445" y="56"/>
                    </a:lnTo>
                    <a:lnTo>
                      <a:pt x="436" y="56"/>
                    </a:lnTo>
                    <a:lnTo>
                      <a:pt x="426" y="56"/>
                    </a:lnTo>
                    <a:lnTo>
                      <a:pt x="417" y="56"/>
                    </a:lnTo>
                    <a:lnTo>
                      <a:pt x="408" y="56"/>
                    </a:lnTo>
                    <a:lnTo>
                      <a:pt x="399" y="56"/>
                    </a:lnTo>
                    <a:lnTo>
                      <a:pt x="389" y="56"/>
                    </a:lnTo>
                    <a:lnTo>
                      <a:pt x="380" y="56"/>
                    </a:lnTo>
                    <a:lnTo>
                      <a:pt x="371" y="56"/>
                    </a:lnTo>
                    <a:lnTo>
                      <a:pt x="361" y="56"/>
                    </a:lnTo>
                    <a:lnTo>
                      <a:pt x="352" y="56"/>
                    </a:lnTo>
                    <a:lnTo>
                      <a:pt x="343" y="56"/>
                    </a:lnTo>
                    <a:lnTo>
                      <a:pt x="334" y="56"/>
                    </a:lnTo>
                    <a:lnTo>
                      <a:pt x="324" y="56"/>
                    </a:lnTo>
                    <a:lnTo>
                      <a:pt x="315" y="56"/>
                    </a:lnTo>
                    <a:lnTo>
                      <a:pt x="306" y="56"/>
                    </a:lnTo>
                    <a:lnTo>
                      <a:pt x="296" y="56"/>
                    </a:lnTo>
                    <a:lnTo>
                      <a:pt x="287" y="56"/>
                    </a:lnTo>
                    <a:lnTo>
                      <a:pt x="278" y="56"/>
                    </a:lnTo>
                    <a:lnTo>
                      <a:pt x="269" y="56"/>
                    </a:lnTo>
                    <a:lnTo>
                      <a:pt x="259" y="56"/>
                    </a:lnTo>
                    <a:lnTo>
                      <a:pt x="250" y="56"/>
                    </a:lnTo>
                    <a:lnTo>
                      <a:pt x="241" y="56"/>
                    </a:lnTo>
                    <a:lnTo>
                      <a:pt x="232" y="56"/>
                    </a:lnTo>
                    <a:lnTo>
                      <a:pt x="222" y="57"/>
                    </a:lnTo>
                    <a:lnTo>
                      <a:pt x="213" y="57"/>
                    </a:lnTo>
                    <a:lnTo>
                      <a:pt x="204" y="57"/>
                    </a:lnTo>
                    <a:lnTo>
                      <a:pt x="194" y="57"/>
                    </a:lnTo>
                    <a:lnTo>
                      <a:pt x="185" y="57"/>
                    </a:lnTo>
                    <a:lnTo>
                      <a:pt x="176" y="57"/>
                    </a:lnTo>
                    <a:lnTo>
                      <a:pt x="167" y="57"/>
                    </a:lnTo>
                    <a:lnTo>
                      <a:pt x="157" y="57"/>
                    </a:lnTo>
                    <a:lnTo>
                      <a:pt x="148" y="57"/>
                    </a:lnTo>
                    <a:lnTo>
                      <a:pt x="139" y="57"/>
                    </a:lnTo>
                    <a:lnTo>
                      <a:pt x="129" y="57"/>
                    </a:lnTo>
                    <a:lnTo>
                      <a:pt x="120" y="57"/>
                    </a:lnTo>
                    <a:lnTo>
                      <a:pt x="111" y="57"/>
                    </a:lnTo>
                    <a:lnTo>
                      <a:pt x="102" y="57"/>
                    </a:lnTo>
                    <a:lnTo>
                      <a:pt x="92" y="57"/>
                    </a:lnTo>
                    <a:lnTo>
                      <a:pt x="83" y="57"/>
                    </a:lnTo>
                    <a:lnTo>
                      <a:pt x="74" y="57"/>
                    </a:lnTo>
                    <a:lnTo>
                      <a:pt x="64" y="57"/>
                    </a:lnTo>
                    <a:lnTo>
                      <a:pt x="55" y="57"/>
                    </a:lnTo>
                    <a:lnTo>
                      <a:pt x="46" y="57"/>
                    </a:lnTo>
                    <a:lnTo>
                      <a:pt x="37" y="57"/>
                    </a:lnTo>
                    <a:lnTo>
                      <a:pt x="27" y="57"/>
                    </a:lnTo>
                    <a:lnTo>
                      <a:pt x="18" y="58"/>
                    </a:lnTo>
                    <a:lnTo>
                      <a:pt x="9" y="57"/>
                    </a:lnTo>
                    <a:lnTo>
                      <a:pt x="0" y="57"/>
                    </a:lnTo>
                    <a:close/>
                  </a:path>
                </a:pathLst>
              </a:custGeom>
              <a:noFill/>
              <a:ln w="3175">
                <a:solidFill>
                  <a:srgbClr val="20202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7" name="Freeform 257"/>
              <p:cNvSpPr/>
              <p:nvPr/>
            </p:nvSpPr>
            <p:spPr>
              <a:xfrm>
                <a:off x="4879800" y="6455880"/>
                <a:ext cx="2310120" cy="46440"/>
              </a:xfrm>
              <a:custGeom>
                <a:avLst/>
                <a:gdLst>
                  <a:gd name="textAreaLeft" fmla="*/ 0 w 2310120"/>
                  <a:gd name="textAreaRight" fmla="*/ 2310480 w 2310120"/>
                  <a:gd name="textAreaTop" fmla="*/ 0 h 46440"/>
                  <a:gd name="textAreaBottom" fmla="*/ 46800 h 46440"/>
                </a:gdLst>
                <a:ahLst/>
                <a:rect l="textAreaLeft" t="textAreaTop" r="textAreaRight" b="textAreaBottom"/>
                <a:pathLst>
                  <a:path w="1447" h="18">
                    <a:moveTo>
                      <a:pt x="0" y="8"/>
                    </a:moveTo>
                    <a:lnTo>
                      <a:pt x="9" y="8"/>
                    </a:lnTo>
                    <a:lnTo>
                      <a:pt x="18" y="8"/>
                    </a:lnTo>
                    <a:lnTo>
                      <a:pt x="27" y="8"/>
                    </a:lnTo>
                    <a:lnTo>
                      <a:pt x="37" y="8"/>
                    </a:lnTo>
                    <a:lnTo>
                      <a:pt x="46" y="8"/>
                    </a:lnTo>
                    <a:lnTo>
                      <a:pt x="55" y="8"/>
                    </a:lnTo>
                    <a:lnTo>
                      <a:pt x="64" y="8"/>
                    </a:lnTo>
                    <a:lnTo>
                      <a:pt x="74" y="8"/>
                    </a:lnTo>
                    <a:lnTo>
                      <a:pt x="83" y="8"/>
                    </a:lnTo>
                    <a:lnTo>
                      <a:pt x="92" y="8"/>
                    </a:lnTo>
                    <a:lnTo>
                      <a:pt x="102" y="7"/>
                    </a:lnTo>
                    <a:lnTo>
                      <a:pt x="111" y="7"/>
                    </a:lnTo>
                    <a:lnTo>
                      <a:pt x="120" y="7"/>
                    </a:lnTo>
                    <a:lnTo>
                      <a:pt x="129" y="7"/>
                    </a:lnTo>
                    <a:lnTo>
                      <a:pt x="139" y="7"/>
                    </a:lnTo>
                    <a:lnTo>
                      <a:pt x="148" y="7"/>
                    </a:lnTo>
                    <a:lnTo>
                      <a:pt x="157" y="7"/>
                    </a:lnTo>
                    <a:lnTo>
                      <a:pt x="167" y="7"/>
                    </a:lnTo>
                    <a:lnTo>
                      <a:pt x="176" y="7"/>
                    </a:lnTo>
                    <a:lnTo>
                      <a:pt x="185" y="7"/>
                    </a:lnTo>
                    <a:lnTo>
                      <a:pt x="194" y="7"/>
                    </a:lnTo>
                    <a:lnTo>
                      <a:pt x="204" y="7"/>
                    </a:lnTo>
                    <a:lnTo>
                      <a:pt x="213" y="7"/>
                    </a:lnTo>
                    <a:lnTo>
                      <a:pt x="222" y="7"/>
                    </a:lnTo>
                    <a:lnTo>
                      <a:pt x="232" y="7"/>
                    </a:lnTo>
                    <a:lnTo>
                      <a:pt x="241" y="7"/>
                    </a:lnTo>
                    <a:lnTo>
                      <a:pt x="250" y="7"/>
                    </a:lnTo>
                    <a:lnTo>
                      <a:pt x="259" y="7"/>
                    </a:lnTo>
                    <a:lnTo>
                      <a:pt x="269" y="7"/>
                    </a:lnTo>
                    <a:lnTo>
                      <a:pt x="278" y="7"/>
                    </a:lnTo>
                    <a:lnTo>
                      <a:pt x="287" y="7"/>
                    </a:lnTo>
                    <a:lnTo>
                      <a:pt x="296" y="7"/>
                    </a:lnTo>
                    <a:lnTo>
                      <a:pt x="306" y="7"/>
                    </a:lnTo>
                    <a:lnTo>
                      <a:pt x="315" y="7"/>
                    </a:lnTo>
                    <a:lnTo>
                      <a:pt x="324" y="7"/>
                    </a:lnTo>
                    <a:lnTo>
                      <a:pt x="334" y="7"/>
                    </a:lnTo>
                    <a:lnTo>
                      <a:pt x="343" y="7"/>
                    </a:lnTo>
                    <a:lnTo>
                      <a:pt x="352" y="6"/>
                    </a:lnTo>
                    <a:lnTo>
                      <a:pt x="361" y="6"/>
                    </a:lnTo>
                    <a:lnTo>
                      <a:pt x="371" y="6"/>
                    </a:lnTo>
                    <a:lnTo>
                      <a:pt x="380" y="6"/>
                    </a:lnTo>
                    <a:lnTo>
                      <a:pt x="389" y="6"/>
                    </a:lnTo>
                    <a:lnTo>
                      <a:pt x="399" y="6"/>
                    </a:lnTo>
                    <a:lnTo>
                      <a:pt x="408" y="6"/>
                    </a:lnTo>
                    <a:lnTo>
                      <a:pt x="417" y="6"/>
                    </a:lnTo>
                    <a:lnTo>
                      <a:pt x="426" y="6"/>
                    </a:lnTo>
                    <a:lnTo>
                      <a:pt x="436" y="6"/>
                    </a:lnTo>
                    <a:lnTo>
                      <a:pt x="445" y="6"/>
                    </a:lnTo>
                    <a:lnTo>
                      <a:pt x="454" y="6"/>
                    </a:lnTo>
                    <a:lnTo>
                      <a:pt x="464" y="6"/>
                    </a:lnTo>
                    <a:lnTo>
                      <a:pt x="473" y="6"/>
                    </a:lnTo>
                    <a:lnTo>
                      <a:pt x="482" y="6"/>
                    </a:lnTo>
                    <a:lnTo>
                      <a:pt x="491" y="6"/>
                    </a:lnTo>
                    <a:lnTo>
                      <a:pt x="501" y="6"/>
                    </a:lnTo>
                    <a:lnTo>
                      <a:pt x="510" y="6"/>
                    </a:lnTo>
                    <a:lnTo>
                      <a:pt x="519" y="6"/>
                    </a:lnTo>
                    <a:lnTo>
                      <a:pt x="528" y="6"/>
                    </a:lnTo>
                    <a:lnTo>
                      <a:pt x="538" y="6"/>
                    </a:lnTo>
                    <a:lnTo>
                      <a:pt x="547" y="6"/>
                    </a:lnTo>
                    <a:lnTo>
                      <a:pt x="556" y="6"/>
                    </a:lnTo>
                    <a:lnTo>
                      <a:pt x="566" y="6"/>
                    </a:lnTo>
                    <a:lnTo>
                      <a:pt x="575" y="6"/>
                    </a:lnTo>
                    <a:lnTo>
                      <a:pt x="584" y="6"/>
                    </a:lnTo>
                    <a:lnTo>
                      <a:pt x="593" y="6"/>
                    </a:lnTo>
                    <a:lnTo>
                      <a:pt x="603" y="5"/>
                    </a:lnTo>
                    <a:lnTo>
                      <a:pt x="612" y="5"/>
                    </a:lnTo>
                    <a:lnTo>
                      <a:pt x="621" y="5"/>
                    </a:lnTo>
                    <a:lnTo>
                      <a:pt x="631" y="5"/>
                    </a:lnTo>
                    <a:lnTo>
                      <a:pt x="640" y="5"/>
                    </a:lnTo>
                    <a:lnTo>
                      <a:pt x="649" y="5"/>
                    </a:lnTo>
                    <a:lnTo>
                      <a:pt x="658" y="5"/>
                    </a:lnTo>
                    <a:lnTo>
                      <a:pt x="668" y="5"/>
                    </a:lnTo>
                    <a:lnTo>
                      <a:pt x="677" y="5"/>
                    </a:lnTo>
                    <a:lnTo>
                      <a:pt x="686" y="5"/>
                    </a:lnTo>
                    <a:lnTo>
                      <a:pt x="696" y="5"/>
                    </a:lnTo>
                    <a:lnTo>
                      <a:pt x="705" y="5"/>
                    </a:lnTo>
                    <a:lnTo>
                      <a:pt x="714" y="5"/>
                    </a:lnTo>
                    <a:lnTo>
                      <a:pt x="723" y="5"/>
                    </a:lnTo>
                    <a:lnTo>
                      <a:pt x="733" y="5"/>
                    </a:lnTo>
                    <a:lnTo>
                      <a:pt x="742" y="5"/>
                    </a:lnTo>
                    <a:lnTo>
                      <a:pt x="751" y="5"/>
                    </a:lnTo>
                    <a:lnTo>
                      <a:pt x="760" y="4"/>
                    </a:lnTo>
                    <a:lnTo>
                      <a:pt x="770" y="4"/>
                    </a:lnTo>
                    <a:lnTo>
                      <a:pt x="779" y="4"/>
                    </a:lnTo>
                    <a:lnTo>
                      <a:pt x="788" y="4"/>
                    </a:lnTo>
                    <a:lnTo>
                      <a:pt x="798" y="4"/>
                    </a:lnTo>
                    <a:lnTo>
                      <a:pt x="807" y="4"/>
                    </a:lnTo>
                    <a:lnTo>
                      <a:pt x="816" y="4"/>
                    </a:lnTo>
                    <a:lnTo>
                      <a:pt x="825" y="4"/>
                    </a:lnTo>
                    <a:lnTo>
                      <a:pt x="835" y="4"/>
                    </a:lnTo>
                    <a:lnTo>
                      <a:pt x="844" y="4"/>
                    </a:lnTo>
                    <a:lnTo>
                      <a:pt x="853" y="4"/>
                    </a:lnTo>
                    <a:lnTo>
                      <a:pt x="863" y="4"/>
                    </a:lnTo>
                    <a:lnTo>
                      <a:pt x="872" y="4"/>
                    </a:lnTo>
                    <a:lnTo>
                      <a:pt x="881" y="4"/>
                    </a:lnTo>
                    <a:lnTo>
                      <a:pt x="890" y="3"/>
                    </a:lnTo>
                    <a:lnTo>
                      <a:pt x="900" y="3"/>
                    </a:lnTo>
                    <a:lnTo>
                      <a:pt x="909" y="3"/>
                    </a:lnTo>
                    <a:lnTo>
                      <a:pt x="918" y="3"/>
                    </a:lnTo>
                    <a:lnTo>
                      <a:pt x="928" y="3"/>
                    </a:lnTo>
                    <a:lnTo>
                      <a:pt x="937" y="3"/>
                    </a:lnTo>
                    <a:lnTo>
                      <a:pt x="946" y="3"/>
                    </a:lnTo>
                    <a:lnTo>
                      <a:pt x="955" y="3"/>
                    </a:lnTo>
                    <a:lnTo>
                      <a:pt x="965" y="3"/>
                    </a:lnTo>
                    <a:lnTo>
                      <a:pt x="974" y="3"/>
                    </a:lnTo>
                    <a:lnTo>
                      <a:pt x="983" y="3"/>
                    </a:lnTo>
                    <a:lnTo>
                      <a:pt x="992" y="3"/>
                    </a:lnTo>
                    <a:lnTo>
                      <a:pt x="1002" y="3"/>
                    </a:lnTo>
                    <a:lnTo>
                      <a:pt x="1011" y="3"/>
                    </a:lnTo>
                    <a:lnTo>
                      <a:pt x="1020" y="4"/>
                    </a:lnTo>
                    <a:lnTo>
                      <a:pt x="1030" y="4"/>
                    </a:lnTo>
                    <a:lnTo>
                      <a:pt x="1039" y="4"/>
                    </a:lnTo>
                    <a:lnTo>
                      <a:pt x="1048" y="4"/>
                    </a:lnTo>
                    <a:lnTo>
                      <a:pt x="1057" y="5"/>
                    </a:lnTo>
                    <a:lnTo>
                      <a:pt x="1067" y="5"/>
                    </a:lnTo>
                    <a:lnTo>
                      <a:pt x="1076" y="5"/>
                    </a:lnTo>
                    <a:lnTo>
                      <a:pt x="1085" y="6"/>
                    </a:lnTo>
                    <a:lnTo>
                      <a:pt x="1095" y="6"/>
                    </a:lnTo>
                    <a:lnTo>
                      <a:pt x="1104" y="6"/>
                    </a:lnTo>
                    <a:lnTo>
                      <a:pt x="1113" y="7"/>
                    </a:lnTo>
                    <a:lnTo>
                      <a:pt x="1122" y="8"/>
                    </a:lnTo>
                    <a:lnTo>
                      <a:pt x="1132" y="7"/>
                    </a:lnTo>
                    <a:lnTo>
                      <a:pt x="1141" y="7"/>
                    </a:lnTo>
                    <a:lnTo>
                      <a:pt x="1150" y="7"/>
                    </a:lnTo>
                    <a:lnTo>
                      <a:pt x="1160" y="7"/>
                    </a:lnTo>
                    <a:lnTo>
                      <a:pt x="1169" y="7"/>
                    </a:lnTo>
                    <a:lnTo>
                      <a:pt x="1178" y="6"/>
                    </a:lnTo>
                    <a:lnTo>
                      <a:pt x="1187" y="6"/>
                    </a:lnTo>
                    <a:lnTo>
                      <a:pt x="1197" y="6"/>
                    </a:lnTo>
                    <a:lnTo>
                      <a:pt x="1206" y="6"/>
                    </a:lnTo>
                    <a:lnTo>
                      <a:pt x="1215" y="5"/>
                    </a:lnTo>
                    <a:lnTo>
                      <a:pt x="1224" y="5"/>
                    </a:lnTo>
                    <a:lnTo>
                      <a:pt x="1234" y="5"/>
                    </a:lnTo>
                    <a:lnTo>
                      <a:pt x="1243" y="4"/>
                    </a:lnTo>
                    <a:lnTo>
                      <a:pt x="1252" y="4"/>
                    </a:lnTo>
                    <a:lnTo>
                      <a:pt x="1262" y="4"/>
                    </a:lnTo>
                    <a:lnTo>
                      <a:pt x="1271" y="4"/>
                    </a:lnTo>
                    <a:lnTo>
                      <a:pt x="1280" y="4"/>
                    </a:lnTo>
                    <a:lnTo>
                      <a:pt x="1289" y="3"/>
                    </a:lnTo>
                    <a:lnTo>
                      <a:pt x="1299" y="3"/>
                    </a:lnTo>
                    <a:lnTo>
                      <a:pt x="1308" y="3"/>
                    </a:lnTo>
                    <a:lnTo>
                      <a:pt x="1317" y="3"/>
                    </a:lnTo>
                    <a:lnTo>
                      <a:pt x="1327" y="3"/>
                    </a:lnTo>
                    <a:lnTo>
                      <a:pt x="1336" y="3"/>
                    </a:lnTo>
                    <a:lnTo>
                      <a:pt x="1345" y="2"/>
                    </a:lnTo>
                    <a:lnTo>
                      <a:pt x="1354" y="2"/>
                    </a:lnTo>
                    <a:lnTo>
                      <a:pt x="1364" y="2"/>
                    </a:lnTo>
                    <a:lnTo>
                      <a:pt x="1373" y="2"/>
                    </a:lnTo>
                    <a:lnTo>
                      <a:pt x="1382" y="2"/>
                    </a:lnTo>
                    <a:lnTo>
                      <a:pt x="1392" y="1"/>
                    </a:lnTo>
                    <a:lnTo>
                      <a:pt x="1401" y="1"/>
                    </a:lnTo>
                    <a:lnTo>
                      <a:pt x="1410" y="1"/>
                    </a:lnTo>
                    <a:lnTo>
                      <a:pt x="1419" y="1"/>
                    </a:lnTo>
                    <a:lnTo>
                      <a:pt x="1429" y="0"/>
                    </a:lnTo>
                    <a:lnTo>
                      <a:pt x="1438" y="0"/>
                    </a:lnTo>
                    <a:lnTo>
                      <a:pt x="1447" y="0"/>
                    </a:lnTo>
                    <a:lnTo>
                      <a:pt x="1447" y="18"/>
                    </a:lnTo>
                    <a:lnTo>
                      <a:pt x="1438" y="18"/>
                    </a:lnTo>
                    <a:lnTo>
                      <a:pt x="1429" y="18"/>
                    </a:lnTo>
                    <a:lnTo>
                      <a:pt x="1419" y="18"/>
                    </a:lnTo>
                    <a:lnTo>
                      <a:pt x="1410" y="18"/>
                    </a:lnTo>
                    <a:lnTo>
                      <a:pt x="1401" y="18"/>
                    </a:lnTo>
                    <a:lnTo>
                      <a:pt x="1392" y="18"/>
                    </a:lnTo>
                    <a:lnTo>
                      <a:pt x="1382" y="18"/>
                    </a:lnTo>
                    <a:lnTo>
                      <a:pt x="1373" y="18"/>
                    </a:lnTo>
                    <a:lnTo>
                      <a:pt x="1364" y="18"/>
                    </a:lnTo>
                    <a:lnTo>
                      <a:pt x="1354" y="18"/>
                    </a:lnTo>
                    <a:lnTo>
                      <a:pt x="1345" y="18"/>
                    </a:lnTo>
                    <a:lnTo>
                      <a:pt x="1336" y="18"/>
                    </a:lnTo>
                    <a:lnTo>
                      <a:pt x="1327" y="18"/>
                    </a:lnTo>
                    <a:lnTo>
                      <a:pt x="1317" y="18"/>
                    </a:lnTo>
                    <a:lnTo>
                      <a:pt x="1308" y="18"/>
                    </a:lnTo>
                    <a:lnTo>
                      <a:pt x="1299" y="18"/>
                    </a:lnTo>
                    <a:lnTo>
                      <a:pt x="1289" y="18"/>
                    </a:lnTo>
                    <a:lnTo>
                      <a:pt x="1280" y="18"/>
                    </a:lnTo>
                    <a:lnTo>
                      <a:pt x="1271" y="18"/>
                    </a:lnTo>
                    <a:lnTo>
                      <a:pt x="1262" y="18"/>
                    </a:lnTo>
                    <a:lnTo>
                      <a:pt x="1252" y="18"/>
                    </a:lnTo>
                    <a:lnTo>
                      <a:pt x="1243" y="18"/>
                    </a:lnTo>
                    <a:lnTo>
                      <a:pt x="1234" y="18"/>
                    </a:lnTo>
                    <a:lnTo>
                      <a:pt x="1224" y="18"/>
                    </a:lnTo>
                    <a:lnTo>
                      <a:pt x="1215" y="18"/>
                    </a:lnTo>
                    <a:lnTo>
                      <a:pt x="1206" y="18"/>
                    </a:lnTo>
                    <a:lnTo>
                      <a:pt x="1197" y="18"/>
                    </a:lnTo>
                    <a:lnTo>
                      <a:pt x="1187" y="18"/>
                    </a:lnTo>
                    <a:lnTo>
                      <a:pt x="1178" y="18"/>
                    </a:lnTo>
                    <a:lnTo>
                      <a:pt x="1169" y="18"/>
                    </a:lnTo>
                    <a:lnTo>
                      <a:pt x="1160" y="18"/>
                    </a:lnTo>
                    <a:lnTo>
                      <a:pt x="1150" y="18"/>
                    </a:lnTo>
                    <a:lnTo>
                      <a:pt x="1141" y="18"/>
                    </a:lnTo>
                    <a:lnTo>
                      <a:pt x="1132" y="18"/>
                    </a:lnTo>
                    <a:lnTo>
                      <a:pt x="1122" y="18"/>
                    </a:lnTo>
                    <a:lnTo>
                      <a:pt x="1113" y="18"/>
                    </a:lnTo>
                    <a:lnTo>
                      <a:pt x="1104" y="18"/>
                    </a:lnTo>
                    <a:lnTo>
                      <a:pt x="1095" y="18"/>
                    </a:lnTo>
                    <a:lnTo>
                      <a:pt x="1085" y="18"/>
                    </a:lnTo>
                    <a:lnTo>
                      <a:pt x="1076" y="18"/>
                    </a:lnTo>
                    <a:lnTo>
                      <a:pt x="1067" y="18"/>
                    </a:lnTo>
                    <a:lnTo>
                      <a:pt x="1057" y="18"/>
                    </a:lnTo>
                    <a:lnTo>
                      <a:pt x="1048" y="18"/>
                    </a:lnTo>
                    <a:lnTo>
                      <a:pt x="1039" y="18"/>
                    </a:lnTo>
                    <a:lnTo>
                      <a:pt x="1030" y="18"/>
                    </a:lnTo>
                    <a:lnTo>
                      <a:pt x="1020" y="18"/>
                    </a:lnTo>
                    <a:lnTo>
                      <a:pt x="1011" y="18"/>
                    </a:lnTo>
                    <a:lnTo>
                      <a:pt x="1002" y="18"/>
                    </a:lnTo>
                    <a:lnTo>
                      <a:pt x="992" y="18"/>
                    </a:lnTo>
                    <a:lnTo>
                      <a:pt x="983" y="18"/>
                    </a:lnTo>
                    <a:lnTo>
                      <a:pt x="974" y="18"/>
                    </a:lnTo>
                    <a:lnTo>
                      <a:pt x="965" y="18"/>
                    </a:lnTo>
                    <a:lnTo>
                      <a:pt x="955" y="18"/>
                    </a:lnTo>
                    <a:lnTo>
                      <a:pt x="946" y="18"/>
                    </a:lnTo>
                    <a:lnTo>
                      <a:pt x="937" y="18"/>
                    </a:lnTo>
                    <a:lnTo>
                      <a:pt x="928" y="18"/>
                    </a:lnTo>
                    <a:lnTo>
                      <a:pt x="918" y="18"/>
                    </a:lnTo>
                    <a:lnTo>
                      <a:pt x="909" y="18"/>
                    </a:lnTo>
                    <a:lnTo>
                      <a:pt x="900" y="18"/>
                    </a:lnTo>
                    <a:lnTo>
                      <a:pt x="890" y="18"/>
                    </a:lnTo>
                    <a:lnTo>
                      <a:pt x="881" y="18"/>
                    </a:lnTo>
                    <a:lnTo>
                      <a:pt x="872" y="18"/>
                    </a:lnTo>
                    <a:lnTo>
                      <a:pt x="863" y="18"/>
                    </a:lnTo>
                    <a:lnTo>
                      <a:pt x="853" y="18"/>
                    </a:lnTo>
                    <a:lnTo>
                      <a:pt x="844" y="18"/>
                    </a:lnTo>
                    <a:lnTo>
                      <a:pt x="835" y="18"/>
                    </a:lnTo>
                    <a:lnTo>
                      <a:pt x="825" y="18"/>
                    </a:lnTo>
                    <a:lnTo>
                      <a:pt x="816" y="18"/>
                    </a:lnTo>
                    <a:lnTo>
                      <a:pt x="807" y="18"/>
                    </a:lnTo>
                    <a:lnTo>
                      <a:pt x="798" y="18"/>
                    </a:lnTo>
                    <a:lnTo>
                      <a:pt x="788" y="18"/>
                    </a:lnTo>
                    <a:lnTo>
                      <a:pt x="779" y="18"/>
                    </a:lnTo>
                    <a:lnTo>
                      <a:pt x="770" y="18"/>
                    </a:lnTo>
                    <a:lnTo>
                      <a:pt x="760" y="18"/>
                    </a:lnTo>
                    <a:lnTo>
                      <a:pt x="751" y="18"/>
                    </a:lnTo>
                    <a:lnTo>
                      <a:pt x="742" y="18"/>
                    </a:lnTo>
                    <a:lnTo>
                      <a:pt x="733" y="18"/>
                    </a:lnTo>
                    <a:lnTo>
                      <a:pt x="723" y="18"/>
                    </a:lnTo>
                    <a:lnTo>
                      <a:pt x="714" y="18"/>
                    </a:lnTo>
                    <a:lnTo>
                      <a:pt x="705" y="18"/>
                    </a:lnTo>
                    <a:lnTo>
                      <a:pt x="696" y="18"/>
                    </a:lnTo>
                    <a:lnTo>
                      <a:pt x="686" y="18"/>
                    </a:lnTo>
                    <a:lnTo>
                      <a:pt x="677" y="18"/>
                    </a:lnTo>
                    <a:lnTo>
                      <a:pt x="668" y="18"/>
                    </a:lnTo>
                    <a:lnTo>
                      <a:pt x="658" y="18"/>
                    </a:lnTo>
                    <a:lnTo>
                      <a:pt x="649" y="18"/>
                    </a:lnTo>
                    <a:lnTo>
                      <a:pt x="640" y="18"/>
                    </a:lnTo>
                    <a:lnTo>
                      <a:pt x="631" y="18"/>
                    </a:lnTo>
                    <a:lnTo>
                      <a:pt x="621" y="18"/>
                    </a:lnTo>
                    <a:lnTo>
                      <a:pt x="612" y="18"/>
                    </a:lnTo>
                    <a:lnTo>
                      <a:pt x="603" y="18"/>
                    </a:lnTo>
                    <a:lnTo>
                      <a:pt x="593" y="18"/>
                    </a:lnTo>
                    <a:lnTo>
                      <a:pt x="584" y="18"/>
                    </a:lnTo>
                    <a:lnTo>
                      <a:pt x="575" y="18"/>
                    </a:lnTo>
                    <a:lnTo>
                      <a:pt x="566" y="18"/>
                    </a:lnTo>
                    <a:lnTo>
                      <a:pt x="556" y="18"/>
                    </a:lnTo>
                    <a:lnTo>
                      <a:pt x="547" y="18"/>
                    </a:lnTo>
                    <a:lnTo>
                      <a:pt x="538" y="18"/>
                    </a:lnTo>
                    <a:lnTo>
                      <a:pt x="528" y="18"/>
                    </a:lnTo>
                    <a:lnTo>
                      <a:pt x="519" y="18"/>
                    </a:lnTo>
                    <a:lnTo>
                      <a:pt x="510" y="18"/>
                    </a:lnTo>
                    <a:lnTo>
                      <a:pt x="501" y="18"/>
                    </a:lnTo>
                    <a:lnTo>
                      <a:pt x="491" y="18"/>
                    </a:lnTo>
                    <a:lnTo>
                      <a:pt x="482" y="18"/>
                    </a:lnTo>
                    <a:lnTo>
                      <a:pt x="473" y="18"/>
                    </a:lnTo>
                    <a:lnTo>
                      <a:pt x="464" y="18"/>
                    </a:lnTo>
                    <a:lnTo>
                      <a:pt x="454" y="18"/>
                    </a:lnTo>
                    <a:lnTo>
                      <a:pt x="445" y="18"/>
                    </a:lnTo>
                    <a:lnTo>
                      <a:pt x="436" y="18"/>
                    </a:lnTo>
                    <a:lnTo>
                      <a:pt x="426" y="18"/>
                    </a:lnTo>
                    <a:lnTo>
                      <a:pt x="417" y="18"/>
                    </a:lnTo>
                    <a:lnTo>
                      <a:pt x="408" y="18"/>
                    </a:lnTo>
                    <a:lnTo>
                      <a:pt x="399" y="18"/>
                    </a:lnTo>
                    <a:lnTo>
                      <a:pt x="389" y="18"/>
                    </a:lnTo>
                    <a:lnTo>
                      <a:pt x="380" y="18"/>
                    </a:lnTo>
                    <a:lnTo>
                      <a:pt x="371" y="18"/>
                    </a:lnTo>
                    <a:lnTo>
                      <a:pt x="361" y="18"/>
                    </a:lnTo>
                    <a:lnTo>
                      <a:pt x="352" y="18"/>
                    </a:lnTo>
                    <a:lnTo>
                      <a:pt x="343" y="18"/>
                    </a:lnTo>
                    <a:lnTo>
                      <a:pt x="334" y="18"/>
                    </a:lnTo>
                    <a:lnTo>
                      <a:pt x="324" y="18"/>
                    </a:lnTo>
                    <a:lnTo>
                      <a:pt x="315" y="18"/>
                    </a:lnTo>
                    <a:lnTo>
                      <a:pt x="306" y="18"/>
                    </a:lnTo>
                    <a:lnTo>
                      <a:pt x="296" y="18"/>
                    </a:lnTo>
                    <a:lnTo>
                      <a:pt x="287" y="18"/>
                    </a:lnTo>
                    <a:lnTo>
                      <a:pt x="278" y="18"/>
                    </a:lnTo>
                    <a:lnTo>
                      <a:pt x="269" y="18"/>
                    </a:lnTo>
                    <a:lnTo>
                      <a:pt x="259" y="18"/>
                    </a:lnTo>
                    <a:lnTo>
                      <a:pt x="250" y="18"/>
                    </a:lnTo>
                    <a:lnTo>
                      <a:pt x="241" y="18"/>
                    </a:lnTo>
                    <a:lnTo>
                      <a:pt x="232" y="18"/>
                    </a:lnTo>
                    <a:lnTo>
                      <a:pt x="222" y="18"/>
                    </a:lnTo>
                    <a:lnTo>
                      <a:pt x="213" y="18"/>
                    </a:lnTo>
                    <a:lnTo>
                      <a:pt x="204" y="18"/>
                    </a:lnTo>
                    <a:lnTo>
                      <a:pt x="194" y="18"/>
                    </a:lnTo>
                    <a:lnTo>
                      <a:pt x="185" y="18"/>
                    </a:lnTo>
                    <a:lnTo>
                      <a:pt x="176" y="18"/>
                    </a:lnTo>
                    <a:lnTo>
                      <a:pt x="167" y="18"/>
                    </a:lnTo>
                    <a:lnTo>
                      <a:pt x="157" y="18"/>
                    </a:lnTo>
                    <a:lnTo>
                      <a:pt x="148" y="18"/>
                    </a:lnTo>
                    <a:lnTo>
                      <a:pt x="139" y="18"/>
                    </a:lnTo>
                    <a:lnTo>
                      <a:pt x="129" y="18"/>
                    </a:lnTo>
                    <a:lnTo>
                      <a:pt x="120" y="18"/>
                    </a:lnTo>
                    <a:lnTo>
                      <a:pt x="111" y="18"/>
                    </a:lnTo>
                    <a:lnTo>
                      <a:pt x="102" y="18"/>
                    </a:lnTo>
                    <a:lnTo>
                      <a:pt x="92" y="18"/>
                    </a:lnTo>
                    <a:lnTo>
                      <a:pt x="83" y="18"/>
                    </a:lnTo>
                    <a:lnTo>
                      <a:pt x="74" y="18"/>
                    </a:lnTo>
                    <a:lnTo>
                      <a:pt x="64" y="18"/>
                    </a:lnTo>
                    <a:lnTo>
                      <a:pt x="55" y="18"/>
                    </a:lnTo>
                    <a:lnTo>
                      <a:pt x="46" y="18"/>
                    </a:lnTo>
                    <a:lnTo>
                      <a:pt x="37" y="18"/>
                    </a:lnTo>
                    <a:lnTo>
                      <a:pt x="27" y="18"/>
                    </a:lnTo>
                    <a:lnTo>
                      <a:pt x="18" y="18"/>
                    </a:lnTo>
                    <a:lnTo>
                      <a:pt x="9" y="18"/>
                    </a:lnTo>
                    <a:lnTo>
                      <a:pt x="0" y="18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8" name="Freeform 258"/>
              <p:cNvSpPr/>
              <p:nvPr/>
            </p:nvSpPr>
            <p:spPr>
              <a:xfrm>
                <a:off x="4879800" y="6455880"/>
                <a:ext cx="2310120" cy="46440"/>
              </a:xfrm>
              <a:custGeom>
                <a:avLst/>
                <a:gdLst>
                  <a:gd name="textAreaLeft" fmla="*/ 0 w 2310120"/>
                  <a:gd name="textAreaRight" fmla="*/ 2310480 w 2310120"/>
                  <a:gd name="textAreaTop" fmla="*/ 0 h 46440"/>
                  <a:gd name="textAreaBottom" fmla="*/ 46800 h 46440"/>
                </a:gdLst>
                <a:ahLst/>
                <a:rect l="textAreaLeft" t="textAreaTop" r="textAreaRight" b="textAreaBottom"/>
                <a:pathLst>
                  <a:path w="1447" h="18">
                    <a:moveTo>
                      <a:pt x="0" y="8"/>
                    </a:moveTo>
                    <a:lnTo>
                      <a:pt x="9" y="8"/>
                    </a:lnTo>
                    <a:lnTo>
                      <a:pt x="18" y="8"/>
                    </a:lnTo>
                    <a:lnTo>
                      <a:pt x="27" y="8"/>
                    </a:lnTo>
                    <a:lnTo>
                      <a:pt x="37" y="8"/>
                    </a:lnTo>
                    <a:lnTo>
                      <a:pt x="46" y="8"/>
                    </a:lnTo>
                    <a:lnTo>
                      <a:pt x="55" y="8"/>
                    </a:lnTo>
                    <a:lnTo>
                      <a:pt x="64" y="8"/>
                    </a:lnTo>
                    <a:lnTo>
                      <a:pt x="74" y="8"/>
                    </a:lnTo>
                    <a:lnTo>
                      <a:pt x="83" y="8"/>
                    </a:lnTo>
                    <a:lnTo>
                      <a:pt x="92" y="8"/>
                    </a:lnTo>
                    <a:lnTo>
                      <a:pt x="102" y="7"/>
                    </a:lnTo>
                    <a:lnTo>
                      <a:pt x="111" y="7"/>
                    </a:lnTo>
                    <a:lnTo>
                      <a:pt x="120" y="7"/>
                    </a:lnTo>
                    <a:lnTo>
                      <a:pt x="129" y="7"/>
                    </a:lnTo>
                    <a:lnTo>
                      <a:pt x="139" y="7"/>
                    </a:lnTo>
                    <a:lnTo>
                      <a:pt x="148" y="7"/>
                    </a:lnTo>
                    <a:lnTo>
                      <a:pt x="157" y="7"/>
                    </a:lnTo>
                    <a:lnTo>
                      <a:pt x="167" y="7"/>
                    </a:lnTo>
                    <a:lnTo>
                      <a:pt x="176" y="7"/>
                    </a:lnTo>
                    <a:lnTo>
                      <a:pt x="185" y="7"/>
                    </a:lnTo>
                    <a:lnTo>
                      <a:pt x="194" y="7"/>
                    </a:lnTo>
                    <a:lnTo>
                      <a:pt x="204" y="7"/>
                    </a:lnTo>
                    <a:lnTo>
                      <a:pt x="213" y="7"/>
                    </a:lnTo>
                    <a:lnTo>
                      <a:pt x="222" y="7"/>
                    </a:lnTo>
                    <a:lnTo>
                      <a:pt x="232" y="7"/>
                    </a:lnTo>
                    <a:lnTo>
                      <a:pt x="241" y="7"/>
                    </a:lnTo>
                    <a:lnTo>
                      <a:pt x="250" y="7"/>
                    </a:lnTo>
                    <a:lnTo>
                      <a:pt x="259" y="7"/>
                    </a:lnTo>
                    <a:lnTo>
                      <a:pt x="269" y="7"/>
                    </a:lnTo>
                    <a:lnTo>
                      <a:pt x="278" y="7"/>
                    </a:lnTo>
                    <a:lnTo>
                      <a:pt x="287" y="7"/>
                    </a:lnTo>
                    <a:lnTo>
                      <a:pt x="296" y="7"/>
                    </a:lnTo>
                    <a:lnTo>
                      <a:pt x="306" y="7"/>
                    </a:lnTo>
                    <a:lnTo>
                      <a:pt x="315" y="7"/>
                    </a:lnTo>
                    <a:lnTo>
                      <a:pt x="324" y="7"/>
                    </a:lnTo>
                    <a:lnTo>
                      <a:pt x="334" y="7"/>
                    </a:lnTo>
                    <a:lnTo>
                      <a:pt x="343" y="7"/>
                    </a:lnTo>
                    <a:lnTo>
                      <a:pt x="352" y="6"/>
                    </a:lnTo>
                    <a:lnTo>
                      <a:pt x="361" y="6"/>
                    </a:lnTo>
                    <a:lnTo>
                      <a:pt x="371" y="6"/>
                    </a:lnTo>
                    <a:lnTo>
                      <a:pt x="380" y="6"/>
                    </a:lnTo>
                    <a:lnTo>
                      <a:pt x="389" y="6"/>
                    </a:lnTo>
                    <a:lnTo>
                      <a:pt x="399" y="6"/>
                    </a:lnTo>
                    <a:lnTo>
                      <a:pt x="408" y="6"/>
                    </a:lnTo>
                    <a:lnTo>
                      <a:pt x="417" y="6"/>
                    </a:lnTo>
                    <a:lnTo>
                      <a:pt x="426" y="6"/>
                    </a:lnTo>
                    <a:lnTo>
                      <a:pt x="436" y="6"/>
                    </a:lnTo>
                    <a:lnTo>
                      <a:pt x="445" y="6"/>
                    </a:lnTo>
                    <a:lnTo>
                      <a:pt x="454" y="6"/>
                    </a:lnTo>
                    <a:lnTo>
                      <a:pt x="464" y="6"/>
                    </a:lnTo>
                    <a:lnTo>
                      <a:pt x="473" y="6"/>
                    </a:lnTo>
                    <a:lnTo>
                      <a:pt x="482" y="6"/>
                    </a:lnTo>
                    <a:lnTo>
                      <a:pt x="491" y="6"/>
                    </a:lnTo>
                    <a:lnTo>
                      <a:pt x="501" y="6"/>
                    </a:lnTo>
                    <a:lnTo>
                      <a:pt x="510" y="6"/>
                    </a:lnTo>
                    <a:lnTo>
                      <a:pt x="519" y="6"/>
                    </a:lnTo>
                    <a:lnTo>
                      <a:pt x="528" y="6"/>
                    </a:lnTo>
                    <a:lnTo>
                      <a:pt x="538" y="6"/>
                    </a:lnTo>
                    <a:lnTo>
                      <a:pt x="547" y="6"/>
                    </a:lnTo>
                    <a:lnTo>
                      <a:pt x="556" y="6"/>
                    </a:lnTo>
                    <a:lnTo>
                      <a:pt x="566" y="6"/>
                    </a:lnTo>
                    <a:lnTo>
                      <a:pt x="575" y="6"/>
                    </a:lnTo>
                    <a:lnTo>
                      <a:pt x="584" y="6"/>
                    </a:lnTo>
                    <a:lnTo>
                      <a:pt x="593" y="6"/>
                    </a:lnTo>
                    <a:lnTo>
                      <a:pt x="603" y="5"/>
                    </a:lnTo>
                    <a:lnTo>
                      <a:pt x="612" y="5"/>
                    </a:lnTo>
                    <a:lnTo>
                      <a:pt x="621" y="5"/>
                    </a:lnTo>
                    <a:lnTo>
                      <a:pt x="631" y="5"/>
                    </a:lnTo>
                    <a:lnTo>
                      <a:pt x="640" y="5"/>
                    </a:lnTo>
                    <a:lnTo>
                      <a:pt x="649" y="5"/>
                    </a:lnTo>
                    <a:lnTo>
                      <a:pt x="658" y="5"/>
                    </a:lnTo>
                    <a:lnTo>
                      <a:pt x="668" y="5"/>
                    </a:lnTo>
                    <a:lnTo>
                      <a:pt x="677" y="5"/>
                    </a:lnTo>
                    <a:lnTo>
                      <a:pt x="686" y="5"/>
                    </a:lnTo>
                    <a:lnTo>
                      <a:pt x="696" y="5"/>
                    </a:lnTo>
                    <a:lnTo>
                      <a:pt x="705" y="5"/>
                    </a:lnTo>
                    <a:lnTo>
                      <a:pt x="714" y="5"/>
                    </a:lnTo>
                    <a:lnTo>
                      <a:pt x="723" y="5"/>
                    </a:lnTo>
                    <a:lnTo>
                      <a:pt x="733" y="5"/>
                    </a:lnTo>
                    <a:lnTo>
                      <a:pt x="742" y="5"/>
                    </a:lnTo>
                    <a:lnTo>
                      <a:pt x="751" y="5"/>
                    </a:lnTo>
                    <a:lnTo>
                      <a:pt x="760" y="4"/>
                    </a:lnTo>
                    <a:lnTo>
                      <a:pt x="770" y="4"/>
                    </a:lnTo>
                    <a:lnTo>
                      <a:pt x="779" y="4"/>
                    </a:lnTo>
                    <a:lnTo>
                      <a:pt x="788" y="4"/>
                    </a:lnTo>
                    <a:lnTo>
                      <a:pt x="798" y="4"/>
                    </a:lnTo>
                    <a:lnTo>
                      <a:pt x="807" y="4"/>
                    </a:lnTo>
                    <a:lnTo>
                      <a:pt x="816" y="4"/>
                    </a:lnTo>
                    <a:lnTo>
                      <a:pt x="825" y="4"/>
                    </a:lnTo>
                    <a:lnTo>
                      <a:pt x="835" y="4"/>
                    </a:lnTo>
                    <a:lnTo>
                      <a:pt x="844" y="4"/>
                    </a:lnTo>
                    <a:lnTo>
                      <a:pt x="853" y="4"/>
                    </a:lnTo>
                    <a:lnTo>
                      <a:pt x="863" y="4"/>
                    </a:lnTo>
                    <a:lnTo>
                      <a:pt x="872" y="4"/>
                    </a:lnTo>
                    <a:lnTo>
                      <a:pt x="881" y="4"/>
                    </a:lnTo>
                    <a:lnTo>
                      <a:pt x="890" y="3"/>
                    </a:lnTo>
                    <a:lnTo>
                      <a:pt x="900" y="3"/>
                    </a:lnTo>
                    <a:lnTo>
                      <a:pt x="909" y="3"/>
                    </a:lnTo>
                    <a:lnTo>
                      <a:pt x="918" y="3"/>
                    </a:lnTo>
                    <a:lnTo>
                      <a:pt x="928" y="3"/>
                    </a:lnTo>
                    <a:lnTo>
                      <a:pt x="937" y="3"/>
                    </a:lnTo>
                    <a:lnTo>
                      <a:pt x="946" y="3"/>
                    </a:lnTo>
                    <a:lnTo>
                      <a:pt x="955" y="3"/>
                    </a:lnTo>
                    <a:lnTo>
                      <a:pt x="965" y="3"/>
                    </a:lnTo>
                    <a:lnTo>
                      <a:pt x="974" y="3"/>
                    </a:lnTo>
                    <a:lnTo>
                      <a:pt x="983" y="3"/>
                    </a:lnTo>
                    <a:lnTo>
                      <a:pt x="992" y="3"/>
                    </a:lnTo>
                    <a:lnTo>
                      <a:pt x="1002" y="3"/>
                    </a:lnTo>
                    <a:lnTo>
                      <a:pt x="1011" y="3"/>
                    </a:lnTo>
                    <a:lnTo>
                      <a:pt x="1020" y="4"/>
                    </a:lnTo>
                    <a:lnTo>
                      <a:pt x="1030" y="4"/>
                    </a:lnTo>
                    <a:lnTo>
                      <a:pt x="1039" y="4"/>
                    </a:lnTo>
                    <a:lnTo>
                      <a:pt x="1048" y="4"/>
                    </a:lnTo>
                    <a:lnTo>
                      <a:pt x="1057" y="5"/>
                    </a:lnTo>
                    <a:lnTo>
                      <a:pt x="1067" y="5"/>
                    </a:lnTo>
                    <a:lnTo>
                      <a:pt x="1076" y="5"/>
                    </a:lnTo>
                    <a:lnTo>
                      <a:pt x="1085" y="6"/>
                    </a:lnTo>
                    <a:lnTo>
                      <a:pt x="1095" y="6"/>
                    </a:lnTo>
                    <a:lnTo>
                      <a:pt x="1104" y="6"/>
                    </a:lnTo>
                    <a:lnTo>
                      <a:pt x="1113" y="7"/>
                    </a:lnTo>
                    <a:lnTo>
                      <a:pt x="1122" y="8"/>
                    </a:lnTo>
                    <a:lnTo>
                      <a:pt x="1132" y="7"/>
                    </a:lnTo>
                    <a:lnTo>
                      <a:pt x="1141" y="7"/>
                    </a:lnTo>
                    <a:lnTo>
                      <a:pt x="1150" y="7"/>
                    </a:lnTo>
                    <a:lnTo>
                      <a:pt x="1160" y="7"/>
                    </a:lnTo>
                    <a:lnTo>
                      <a:pt x="1169" y="7"/>
                    </a:lnTo>
                    <a:lnTo>
                      <a:pt x="1178" y="6"/>
                    </a:lnTo>
                    <a:lnTo>
                      <a:pt x="1187" y="6"/>
                    </a:lnTo>
                    <a:lnTo>
                      <a:pt x="1197" y="6"/>
                    </a:lnTo>
                    <a:lnTo>
                      <a:pt x="1206" y="6"/>
                    </a:lnTo>
                    <a:lnTo>
                      <a:pt x="1215" y="5"/>
                    </a:lnTo>
                    <a:lnTo>
                      <a:pt x="1224" y="5"/>
                    </a:lnTo>
                    <a:lnTo>
                      <a:pt x="1234" y="5"/>
                    </a:lnTo>
                    <a:lnTo>
                      <a:pt x="1243" y="4"/>
                    </a:lnTo>
                    <a:lnTo>
                      <a:pt x="1252" y="4"/>
                    </a:lnTo>
                    <a:lnTo>
                      <a:pt x="1262" y="4"/>
                    </a:lnTo>
                    <a:lnTo>
                      <a:pt x="1271" y="4"/>
                    </a:lnTo>
                    <a:lnTo>
                      <a:pt x="1280" y="4"/>
                    </a:lnTo>
                    <a:lnTo>
                      <a:pt x="1289" y="3"/>
                    </a:lnTo>
                    <a:lnTo>
                      <a:pt x="1299" y="3"/>
                    </a:lnTo>
                    <a:lnTo>
                      <a:pt x="1308" y="3"/>
                    </a:lnTo>
                    <a:lnTo>
                      <a:pt x="1317" y="3"/>
                    </a:lnTo>
                    <a:lnTo>
                      <a:pt x="1327" y="3"/>
                    </a:lnTo>
                    <a:lnTo>
                      <a:pt x="1336" y="3"/>
                    </a:lnTo>
                    <a:lnTo>
                      <a:pt x="1345" y="2"/>
                    </a:lnTo>
                    <a:lnTo>
                      <a:pt x="1354" y="2"/>
                    </a:lnTo>
                    <a:lnTo>
                      <a:pt x="1364" y="2"/>
                    </a:lnTo>
                    <a:lnTo>
                      <a:pt x="1373" y="2"/>
                    </a:lnTo>
                    <a:lnTo>
                      <a:pt x="1382" y="2"/>
                    </a:lnTo>
                    <a:lnTo>
                      <a:pt x="1392" y="1"/>
                    </a:lnTo>
                    <a:lnTo>
                      <a:pt x="1401" y="1"/>
                    </a:lnTo>
                    <a:lnTo>
                      <a:pt x="1410" y="1"/>
                    </a:lnTo>
                    <a:lnTo>
                      <a:pt x="1419" y="1"/>
                    </a:lnTo>
                    <a:lnTo>
                      <a:pt x="1429" y="0"/>
                    </a:lnTo>
                    <a:lnTo>
                      <a:pt x="1438" y="0"/>
                    </a:lnTo>
                    <a:lnTo>
                      <a:pt x="1447" y="0"/>
                    </a:lnTo>
                    <a:lnTo>
                      <a:pt x="1447" y="18"/>
                    </a:lnTo>
                    <a:lnTo>
                      <a:pt x="1438" y="18"/>
                    </a:lnTo>
                    <a:lnTo>
                      <a:pt x="1429" y="18"/>
                    </a:lnTo>
                    <a:lnTo>
                      <a:pt x="1419" y="18"/>
                    </a:lnTo>
                    <a:lnTo>
                      <a:pt x="1410" y="18"/>
                    </a:lnTo>
                    <a:lnTo>
                      <a:pt x="1401" y="18"/>
                    </a:lnTo>
                    <a:lnTo>
                      <a:pt x="1392" y="18"/>
                    </a:lnTo>
                    <a:lnTo>
                      <a:pt x="1382" y="18"/>
                    </a:lnTo>
                    <a:lnTo>
                      <a:pt x="1373" y="18"/>
                    </a:lnTo>
                    <a:lnTo>
                      <a:pt x="1364" y="18"/>
                    </a:lnTo>
                    <a:lnTo>
                      <a:pt x="1354" y="18"/>
                    </a:lnTo>
                    <a:lnTo>
                      <a:pt x="1345" y="18"/>
                    </a:lnTo>
                    <a:lnTo>
                      <a:pt x="1336" y="18"/>
                    </a:lnTo>
                    <a:lnTo>
                      <a:pt x="1327" y="18"/>
                    </a:lnTo>
                    <a:lnTo>
                      <a:pt x="1317" y="18"/>
                    </a:lnTo>
                    <a:lnTo>
                      <a:pt x="1308" y="18"/>
                    </a:lnTo>
                    <a:lnTo>
                      <a:pt x="1299" y="18"/>
                    </a:lnTo>
                    <a:lnTo>
                      <a:pt x="1289" y="18"/>
                    </a:lnTo>
                    <a:lnTo>
                      <a:pt x="1280" y="18"/>
                    </a:lnTo>
                    <a:lnTo>
                      <a:pt x="1271" y="18"/>
                    </a:lnTo>
                    <a:lnTo>
                      <a:pt x="1262" y="18"/>
                    </a:lnTo>
                    <a:lnTo>
                      <a:pt x="1252" y="18"/>
                    </a:lnTo>
                    <a:lnTo>
                      <a:pt x="1243" y="18"/>
                    </a:lnTo>
                    <a:lnTo>
                      <a:pt x="1234" y="18"/>
                    </a:lnTo>
                    <a:lnTo>
                      <a:pt x="1224" y="18"/>
                    </a:lnTo>
                    <a:lnTo>
                      <a:pt x="1215" y="18"/>
                    </a:lnTo>
                    <a:lnTo>
                      <a:pt x="1206" y="18"/>
                    </a:lnTo>
                    <a:lnTo>
                      <a:pt x="1197" y="18"/>
                    </a:lnTo>
                    <a:lnTo>
                      <a:pt x="1187" y="18"/>
                    </a:lnTo>
                    <a:lnTo>
                      <a:pt x="1178" y="18"/>
                    </a:lnTo>
                    <a:lnTo>
                      <a:pt x="1169" y="18"/>
                    </a:lnTo>
                    <a:lnTo>
                      <a:pt x="1160" y="18"/>
                    </a:lnTo>
                    <a:lnTo>
                      <a:pt x="1150" y="18"/>
                    </a:lnTo>
                    <a:lnTo>
                      <a:pt x="1141" y="18"/>
                    </a:lnTo>
                    <a:lnTo>
                      <a:pt x="1132" y="18"/>
                    </a:lnTo>
                    <a:lnTo>
                      <a:pt x="1122" y="18"/>
                    </a:lnTo>
                    <a:lnTo>
                      <a:pt x="1113" y="18"/>
                    </a:lnTo>
                    <a:lnTo>
                      <a:pt x="1104" y="18"/>
                    </a:lnTo>
                    <a:lnTo>
                      <a:pt x="1095" y="18"/>
                    </a:lnTo>
                    <a:lnTo>
                      <a:pt x="1085" y="18"/>
                    </a:lnTo>
                    <a:lnTo>
                      <a:pt x="1076" y="18"/>
                    </a:lnTo>
                    <a:lnTo>
                      <a:pt x="1067" y="18"/>
                    </a:lnTo>
                    <a:lnTo>
                      <a:pt x="1057" y="18"/>
                    </a:lnTo>
                    <a:lnTo>
                      <a:pt x="1048" y="18"/>
                    </a:lnTo>
                    <a:lnTo>
                      <a:pt x="1039" y="18"/>
                    </a:lnTo>
                    <a:lnTo>
                      <a:pt x="1030" y="18"/>
                    </a:lnTo>
                    <a:lnTo>
                      <a:pt x="1020" y="18"/>
                    </a:lnTo>
                    <a:lnTo>
                      <a:pt x="1011" y="18"/>
                    </a:lnTo>
                    <a:lnTo>
                      <a:pt x="1002" y="18"/>
                    </a:lnTo>
                    <a:lnTo>
                      <a:pt x="992" y="18"/>
                    </a:lnTo>
                    <a:lnTo>
                      <a:pt x="983" y="18"/>
                    </a:lnTo>
                    <a:lnTo>
                      <a:pt x="974" y="18"/>
                    </a:lnTo>
                    <a:lnTo>
                      <a:pt x="965" y="18"/>
                    </a:lnTo>
                    <a:lnTo>
                      <a:pt x="955" y="18"/>
                    </a:lnTo>
                    <a:lnTo>
                      <a:pt x="946" y="18"/>
                    </a:lnTo>
                    <a:lnTo>
                      <a:pt x="937" y="18"/>
                    </a:lnTo>
                    <a:lnTo>
                      <a:pt x="928" y="18"/>
                    </a:lnTo>
                    <a:lnTo>
                      <a:pt x="918" y="18"/>
                    </a:lnTo>
                    <a:lnTo>
                      <a:pt x="909" y="18"/>
                    </a:lnTo>
                    <a:lnTo>
                      <a:pt x="900" y="18"/>
                    </a:lnTo>
                    <a:lnTo>
                      <a:pt x="890" y="18"/>
                    </a:lnTo>
                    <a:lnTo>
                      <a:pt x="881" y="18"/>
                    </a:lnTo>
                    <a:lnTo>
                      <a:pt x="872" y="18"/>
                    </a:lnTo>
                    <a:lnTo>
                      <a:pt x="863" y="18"/>
                    </a:lnTo>
                    <a:lnTo>
                      <a:pt x="853" y="18"/>
                    </a:lnTo>
                    <a:lnTo>
                      <a:pt x="844" y="18"/>
                    </a:lnTo>
                    <a:lnTo>
                      <a:pt x="835" y="18"/>
                    </a:lnTo>
                    <a:lnTo>
                      <a:pt x="825" y="18"/>
                    </a:lnTo>
                    <a:lnTo>
                      <a:pt x="816" y="18"/>
                    </a:lnTo>
                    <a:lnTo>
                      <a:pt x="807" y="18"/>
                    </a:lnTo>
                    <a:lnTo>
                      <a:pt x="798" y="18"/>
                    </a:lnTo>
                    <a:lnTo>
                      <a:pt x="788" y="18"/>
                    </a:lnTo>
                    <a:lnTo>
                      <a:pt x="779" y="18"/>
                    </a:lnTo>
                    <a:lnTo>
                      <a:pt x="770" y="18"/>
                    </a:lnTo>
                    <a:lnTo>
                      <a:pt x="760" y="18"/>
                    </a:lnTo>
                    <a:lnTo>
                      <a:pt x="751" y="18"/>
                    </a:lnTo>
                    <a:lnTo>
                      <a:pt x="742" y="18"/>
                    </a:lnTo>
                    <a:lnTo>
                      <a:pt x="733" y="18"/>
                    </a:lnTo>
                    <a:lnTo>
                      <a:pt x="723" y="18"/>
                    </a:lnTo>
                    <a:lnTo>
                      <a:pt x="714" y="18"/>
                    </a:lnTo>
                    <a:lnTo>
                      <a:pt x="705" y="18"/>
                    </a:lnTo>
                    <a:lnTo>
                      <a:pt x="696" y="18"/>
                    </a:lnTo>
                    <a:lnTo>
                      <a:pt x="686" y="18"/>
                    </a:lnTo>
                    <a:lnTo>
                      <a:pt x="677" y="18"/>
                    </a:lnTo>
                    <a:lnTo>
                      <a:pt x="668" y="18"/>
                    </a:lnTo>
                    <a:lnTo>
                      <a:pt x="658" y="18"/>
                    </a:lnTo>
                    <a:lnTo>
                      <a:pt x="649" y="18"/>
                    </a:lnTo>
                    <a:lnTo>
                      <a:pt x="640" y="18"/>
                    </a:lnTo>
                    <a:lnTo>
                      <a:pt x="631" y="18"/>
                    </a:lnTo>
                    <a:lnTo>
                      <a:pt x="621" y="18"/>
                    </a:lnTo>
                    <a:lnTo>
                      <a:pt x="612" y="18"/>
                    </a:lnTo>
                    <a:lnTo>
                      <a:pt x="603" y="18"/>
                    </a:lnTo>
                    <a:lnTo>
                      <a:pt x="593" y="18"/>
                    </a:lnTo>
                    <a:lnTo>
                      <a:pt x="584" y="18"/>
                    </a:lnTo>
                    <a:lnTo>
                      <a:pt x="575" y="18"/>
                    </a:lnTo>
                    <a:lnTo>
                      <a:pt x="566" y="18"/>
                    </a:lnTo>
                    <a:lnTo>
                      <a:pt x="556" y="18"/>
                    </a:lnTo>
                    <a:lnTo>
                      <a:pt x="547" y="18"/>
                    </a:lnTo>
                    <a:lnTo>
                      <a:pt x="538" y="18"/>
                    </a:lnTo>
                    <a:lnTo>
                      <a:pt x="528" y="18"/>
                    </a:lnTo>
                    <a:lnTo>
                      <a:pt x="519" y="18"/>
                    </a:lnTo>
                    <a:lnTo>
                      <a:pt x="510" y="18"/>
                    </a:lnTo>
                    <a:lnTo>
                      <a:pt x="501" y="18"/>
                    </a:lnTo>
                    <a:lnTo>
                      <a:pt x="491" y="18"/>
                    </a:lnTo>
                    <a:lnTo>
                      <a:pt x="482" y="18"/>
                    </a:lnTo>
                    <a:lnTo>
                      <a:pt x="473" y="18"/>
                    </a:lnTo>
                    <a:lnTo>
                      <a:pt x="464" y="18"/>
                    </a:lnTo>
                    <a:lnTo>
                      <a:pt x="454" y="18"/>
                    </a:lnTo>
                    <a:lnTo>
                      <a:pt x="445" y="18"/>
                    </a:lnTo>
                    <a:lnTo>
                      <a:pt x="436" y="18"/>
                    </a:lnTo>
                    <a:lnTo>
                      <a:pt x="426" y="18"/>
                    </a:lnTo>
                    <a:lnTo>
                      <a:pt x="417" y="18"/>
                    </a:lnTo>
                    <a:lnTo>
                      <a:pt x="408" y="18"/>
                    </a:lnTo>
                    <a:lnTo>
                      <a:pt x="399" y="18"/>
                    </a:lnTo>
                    <a:lnTo>
                      <a:pt x="389" y="18"/>
                    </a:lnTo>
                    <a:lnTo>
                      <a:pt x="380" y="18"/>
                    </a:lnTo>
                    <a:lnTo>
                      <a:pt x="371" y="18"/>
                    </a:lnTo>
                    <a:lnTo>
                      <a:pt x="361" y="18"/>
                    </a:lnTo>
                    <a:lnTo>
                      <a:pt x="352" y="18"/>
                    </a:lnTo>
                    <a:lnTo>
                      <a:pt x="343" y="18"/>
                    </a:lnTo>
                    <a:lnTo>
                      <a:pt x="334" y="18"/>
                    </a:lnTo>
                    <a:lnTo>
                      <a:pt x="324" y="18"/>
                    </a:lnTo>
                    <a:lnTo>
                      <a:pt x="315" y="18"/>
                    </a:lnTo>
                    <a:lnTo>
                      <a:pt x="306" y="18"/>
                    </a:lnTo>
                    <a:lnTo>
                      <a:pt x="296" y="18"/>
                    </a:lnTo>
                    <a:lnTo>
                      <a:pt x="287" y="18"/>
                    </a:lnTo>
                    <a:lnTo>
                      <a:pt x="278" y="18"/>
                    </a:lnTo>
                    <a:lnTo>
                      <a:pt x="269" y="18"/>
                    </a:lnTo>
                    <a:lnTo>
                      <a:pt x="259" y="18"/>
                    </a:lnTo>
                    <a:lnTo>
                      <a:pt x="250" y="18"/>
                    </a:lnTo>
                    <a:lnTo>
                      <a:pt x="241" y="18"/>
                    </a:lnTo>
                    <a:lnTo>
                      <a:pt x="232" y="18"/>
                    </a:lnTo>
                    <a:lnTo>
                      <a:pt x="222" y="18"/>
                    </a:lnTo>
                    <a:lnTo>
                      <a:pt x="213" y="18"/>
                    </a:lnTo>
                    <a:lnTo>
                      <a:pt x="204" y="18"/>
                    </a:lnTo>
                    <a:lnTo>
                      <a:pt x="194" y="18"/>
                    </a:lnTo>
                    <a:lnTo>
                      <a:pt x="185" y="18"/>
                    </a:lnTo>
                    <a:lnTo>
                      <a:pt x="176" y="18"/>
                    </a:lnTo>
                    <a:lnTo>
                      <a:pt x="167" y="18"/>
                    </a:lnTo>
                    <a:lnTo>
                      <a:pt x="157" y="18"/>
                    </a:lnTo>
                    <a:lnTo>
                      <a:pt x="148" y="18"/>
                    </a:lnTo>
                    <a:lnTo>
                      <a:pt x="139" y="18"/>
                    </a:lnTo>
                    <a:lnTo>
                      <a:pt x="129" y="18"/>
                    </a:lnTo>
                    <a:lnTo>
                      <a:pt x="120" y="18"/>
                    </a:lnTo>
                    <a:lnTo>
                      <a:pt x="111" y="18"/>
                    </a:lnTo>
                    <a:lnTo>
                      <a:pt x="102" y="18"/>
                    </a:lnTo>
                    <a:lnTo>
                      <a:pt x="92" y="18"/>
                    </a:lnTo>
                    <a:lnTo>
                      <a:pt x="83" y="18"/>
                    </a:lnTo>
                    <a:lnTo>
                      <a:pt x="74" y="18"/>
                    </a:lnTo>
                    <a:lnTo>
                      <a:pt x="64" y="18"/>
                    </a:lnTo>
                    <a:lnTo>
                      <a:pt x="55" y="18"/>
                    </a:lnTo>
                    <a:lnTo>
                      <a:pt x="46" y="18"/>
                    </a:lnTo>
                    <a:lnTo>
                      <a:pt x="37" y="18"/>
                    </a:lnTo>
                    <a:lnTo>
                      <a:pt x="27" y="18"/>
                    </a:lnTo>
                    <a:lnTo>
                      <a:pt x="18" y="18"/>
                    </a:lnTo>
                    <a:lnTo>
                      <a:pt x="9" y="18"/>
                    </a:lnTo>
                    <a:lnTo>
                      <a:pt x="0" y="18"/>
                    </a:lnTo>
                    <a:lnTo>
                      <a:pt x="0" y="8"/>
                    </a:lnTo>
                    <a:close/>
                  </a:path>
                </a:pathLst>
              </a:custGeom>
              <a:noFill/>
              <a:ln w="3175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9" name="Freeform 259"/>
              <p:cNvSpPr/>
              <p:nvPr/>
            </p:nvSpPr>
            <p:spPr>
              <a:xfrm>
                <a:off x="4930920" y="4220640"/>
                <a:ext cx="1059840" cy="1140480"/>
              </a:xfrm>
              <a:custGeom>
                <a:avLst/>
                <a:gdLst>
                  <a:gd name="textAreaLeft" fmla="*/ 0 w 1059840"/>
                  <a:gd name="textAreaRight" fmla="*/ 1060200 w 1059840"/>
                  <a:gd name="textAreaTop" fmla="*/ 0 h 1140480"/>
                  <a:gd name="textAreaBottom" fmla="*/ 1140840 h 1140480"/>
                </a:gdLst>
                <a:ahLst/>
                <a:rect l="textAreaLeft" t="textAreaTop" r="textAreaRight" b="textAreaBottom"/>
                <a:pathLst>
                  <a:path w="664" h="464">
                    <a:moveTo>
                      <a:pt x="0" y="4"/>
                    </a:moveTo>
                    <a:lnTo>
                      <a:pt x="0" y="460"/>
                    </a:lnTo>
                    <a:cubicBezTo>
                      <a:pt x="0" y="462"/>
                      <a:pt x="1" y="464"/>
                      <a:pt x="4" y="464"/>
                    </a:cubicBezTo>
                    <a:lnTo>
                      <a:pt x="660" y="464"/>
                    </a:lnTo>
                    <a:cubicBezTo>
                      <a:pt x="662" y="464"/>
                      <a:pt x="664" y="462"/>
                      <a:pt x="664" y="460"/>
                    </a:cubicBezTo>
                    <a:lnTo>
                      <a:pt x="664" y="4"/>
                    </a:lnTo>
                    <a:cubicBezTo>
                      <a:pt x="664" y="1"/>
                      <a:pt x="662" y="0"/>
                      <a:pt x="660" y="0"/>
                    </a:cubicBezTo>
                    <a:lnTo>
                      <a:pt x="4" y="0"/>
                    </a:lnTo>
                    <a:cubicBezTo>
                      <a:pt x="1" y="0"/>
                      <a:pt x="0" y="1"/>
                      <a:pt x="0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0" name="Freeform 260"/>
              <p:cNvSpPr/>
              <p:nvPr/>
            </p:nvSpPr>
            <p:spPr>
              <a:xfrm>
                <a:off x="4930920" y="4220640"/>
                <a:ext cx="1059840" cy="1140480"/>
              </a:xfrm>
              <a:custGeom>
                <a:avLst/>
                <a:gdLst>
                  <a:gd name="textAreaLeft" fmla="*/ 0 w 1059840"/>
                  <a:gd name="textAreaRight" fmla="*/ 1060200 w 1059840"/>
                  <a:gd name="textAreaTop" fmla="*/ 0 h 1140480"/>
                  <a:gd name="textAreaBottom" fmla="*/ 1140840 h 1140480"/>
                </a:gdLst>
                <a:ahLst/>
                <a:rect l="textAreaLeft" t="textAreaTop" r="textAreaRight" b="textAreaBottom"/>
                <a:pathLst>
                  <a:path w="664" h="464">
                    <a:moveTo>
                      <a:pt x="0" y="4"/>
                    </a:moveTo>
                    <a:lnTo>
                      <a:pt x="0" y="460"/>
                    </a:lnTo>
                    <a:cubicBezTo>
                      <a:pt x="0" y="462"/>
                      <a:pt x="1" y="464"/>
                      <a:pt x="4" y="464"/>
                    </a:cubicBezTo>
                    <a:lnTo>
                      <a:pt x="660" y="464"/>
                    </a:lnTo>
                    <a:cubicBezTo>
                      <a:pt x="662" y="464"/>
                      <a:pt x="664" y="462"/>
                      <a:pt x="664" y="460"/>
                    </a:cubicBezTo>
                    <a:lnTo>
                      <a:pt x="664" y="4"/>
                    </a:lnTo>
                    <a:cubicBezTo>
                      <a:pt x="664" y="1"/>
                      <a:pt x="662" y="0"/>
                      <a:pt x="660" y="0"/>
                    </a:cubicBezTo>
                    <a:lnTo>
                      <a:pt x="4" y="0"/>
                    </a:lnTo>
                    <a:cubicBezTo>
                      <a:pt x="1" y="0"/>
                      <a:pt x="0" y="1"/>
                      <a:pt x="0" y="4"/>
                    </a:cubicBezTo>
                    <a:close/>
                  </a:path>
                </a:pathLst>
              </a:custGeom>
              <a:noFill/>
              <a:ln w="317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1" name="Freeform 261"/>
              <p:cNvSpPr/>
              <p:nvPr/>
            </p:nvSpPr>
            <p:spPr>
              <a:xfrm>
                <a:off x="4956480" y="4279680"/>
                <a:ext cx="267840" cy="97920"/>
              </a:xfrm>
              <a:custGeom>
                <a:avLst/>
                <a:gdLst>
                  <a:gd name="textAreaLeft" fmla="*/ 0 w 267840"/>
                  <a:gd name="textAreaRight" fmla="*/ 268200 w 267840"/>
                  <a:gd name="textAreaTop" fmla="*/ 0 h 97920"/>
                  <a:gd name="textAreaBottom" fmla="*/ 98280 h 97920"/>
                </a:gdLst>
                <a:ahLst/>
                <a:rect l="textAreaLeft" t="textAreaTop" r="textAreaRight" b="textAreaBottom"/>
                <a:pathLst>
                  <a:path w="168" h="40">
                    <a:moveTo>
                      <a:pt x="0" y="0"/>
                    </a:moveTo>
                    <a:lnTo>
                      <a:pt x="168" y="0"/>
                    </a:lnTo>
                    <a:lnTo>
                      <a:pt x="168" y="40"/>
                    </a:lnTo>
                    <a:lnTo>
                      <a:pt x="0" y="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2" name="Text Box 262"/>
              <p:cNvSpPr/>
              <p:nvPr/>
            </p:nvSpPr>
            <p:spPr>
              <a:xfrm>
                <a:off x="5222880" y="4273560"/>
                <a:ext cx="744840" cy="10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Dialog"/>
                  </a:rPr>
                  <a:t>Other renewables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Freeform 263"/>
              <p:cNvSpPr/>
              <p:nvPr/>
            </p:nvSpPr>
            <p:spPr>
              <a:xfrm>
                <a:off x="4956480" y="4456800"/>
                <a:ext cx="267840" cy="97920"/>
              </a:xfrm>
              <a:custGeom>
                <a:avLst/>
                <a:gdLst>
                  <a:gd name="textAreaLeft" fmla="*/ 0 w 267840"/>
                  <a:gd name="textAreaRight" fmla="*/ 268200 w 267840"/>
                  <a:gd name="textAreaTop" fmla="*/ 0 h 97920"/>
                  <a:gd name="textAreaBottom" fmla="*/ 98280 h 97920"/>
                </a:gdLst>
                <a:ahLst/>
                <a:rect l="textAreaLeft" t="textAreaTop" r="textAreaRight" b="textAreaBottom"/>
                <a:pathLst>
                  <a:path w="168" h="40">
                    <a:moveTo>
                      <a:pt x="0" y="0"/>
                    </a:moveTo>
                    <a:lnTo>
                      <a:pt x="168" y="0"/>
                    </a:lnTo>
                    <a:lnTo>
                      <a:pt x="168" y="40"/>
                    </a:lnTo>
                    <a:lnTo>
                      <a:pt x="0" y="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4" name="Text Box 264"/>
              <p:cNvSpPr/>
              <p:nvPr/>
            </p:nvSpPr>
            <p:spPr>
              <a:xfrm>
                <a:off x="5235120" y="4450680"/>
                <a:ext cx="324360" cy="10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Dialog"/>
                  </a:rPr>
                  <a:t>Nuclear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Freeform 265"/>
              <p:cNvSpPr/>
              <p:nvPr/>
            </p:nvSpPr>
            <p:spPr>
              <a:xfrm>
                <a:off x="4956480" y="4633560"/>
                <a:ext cx="267840" cy="97920"/>
              </a:xfrm>
              <a:custGeom>
                <a:avLst/>
                <a:gdLst>
                  <a:gd name="textAreaLeft" fmla="*/ 0 w 267840"/>
                  <a:gd name="textAreaRight" fmla="*/ 268200 w 267840"/>
                  <a:gd name="textAreaTop" fmla="*/ 0 h 97920"/>
                  <a:gd name="textAreaBottom" fmla="*/ 98280 h 97920"/>
                </a:gdLst>
                <a:ahLst/>
                <a:rect l="textAreaLeft" t="textAreaTop" r="textAreaRight" b="textAreaBottom"/>
                <a:pathLst>
                  <a:path w="168" h="40">
                    <a:moveTo>
                      <a:pt x="0" y="0"/>
                    </a:moveTo>
                    <a:lnTo>
                      <a:pt x="168" y="0"/>
                    </a:lnTo>
                    <a:lnTo>
                      <a:pt x="168" y="40"/>
                    </a:lnTo>
                    <a:lnTo>
                      <a:pt x="0" y="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6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6" name="Text Box 266"/>
              <p:cNvSpPr/>
              <p:nvPr/>
            </p:nvSpPr>
            <p:spPr>
              <a:xfrm>
                <a:off x="5241240" y="4627800"/>
                <a:ext cx="158040" cy="10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Dialog"/>
                  </a:rPr>
                  <a:t>Gas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Freeform 267"/>
              <p:cNvSpPr/>
              <p:nvPr/>
            </p:nvSpPr>
            <p:spPr>
              <a:xfrm>
                <a:off x="4956480" y="4810680"/>
                <a:ext cx="267840" cy="97920"/>
              </a:xfrm>
              <a:custGeom>
                <a:avLst/>
                <a:gdLst>
                  <a:gd name="textAreaLeft" fmla="*/ 0 w 267840"/>
                  <a:gd name="textAreaRight" fmla="*/ 268200 w 267840"/>
                  <a:gd name="textAreaTop" fmla="*/ 0 h 97920"/>
                  <a:gd name="textAreaBottom" fmla="*/ 98280 h 97920"/>
                </a:gdLst>
                <a:ahLst/>
                <a:rect l="textAreaLeft" t="textAreaTop" r="textAreaRight" b="textAreaBottom"/>
                <a:pathLst>
                  <a:path w="168" h="40">
                    <a:moveTo>
                      <a:pt x="0" y="0"/>
                    </a:moveTo>
                    <a:lnTo>
                      <a:pt x="168" y="0"/>
                    </a:lnTo>
                    <a:lnTo>
                      <a:pt x="168" y="40"/>
                    </a:lnTo>
                    <a:lnTo>
                      <a:pt x="0" y="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8" name="Text Box 268"/>
              <p:cNvSpPr/>
              <p:nvPr/>
            </p:nvSpPr>
            <p:spPr>
              <a:xfrm>
                <a:off x="5237640" y="4804920"/>
                <a:ext cx="114480" cy="10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Dialog"/>
                  </a:rPr>
                  <a:t>Oil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Freeform 269"/>
              <p:cNvSpPr/>
              <p:nvPr/>
            </p:nvSpPr>
            <p:spPr>
              <a:xfrm>
                <a:off x="4956480" y="4987800"/>
                <a:ext cx="267840" cy="97920"/>
              </a:xfrm>
              <a:custGeom>
                <a:avLst/>
                <a:gdLst>
                  <a:gd name="textAreaLeft" fmla="*/ 0 w 267840"/>
                  <a:gd name="textAreaRight" fmla="*/ 268200 w 267840"/>
                  <a:gd name="textAreaTop" fmla="*/ 0 h 97920"/>
                  <a:gd name="textAreaBottom" fmla="*/ 98280 h 97920"/>
                </a:gdLst>
                <a:ahLst/>
                <a:rect l="textAreaLeft" t="textAreaTop" r="textAreaRight" b="textAreaBottom"/>
                <a:pathLst>
                  <a:path w="168" h="40">
                    <a:moveTo>
                      <a:pt x="0" y="0"/>
                    </a:moveTo>
                    <a:lnTo>
                      <a:pt x="168" y="0"/>
                    </a:lnTo>
                    <a:lnTo>
                      <a:pt x="168" y="40"/>
                    </a:lnTo>
                    <a:lnTo>
                      <a:pt x="0" y="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0" name="Text Box 270"/>
              <p:cNvSpPr/>
              <p:nvPr/>
            </p:nvSpPr>
            <p:spPr>
              <a:xfrm>
                <a:off x="5241240" y="4981680"/>
                <a:ext cx="183960" cy="10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Dialog"/>
                  </a:rPr>
                  <a:t>Coal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Freeform 271"/>
              <p:cNvSpPr/>
              <p:nvPr/>
            </p:nvSpPr>
            <p:spPr>
              <a:xfrm>
                <a:off x="4956480" y="5164920"/>
                <a:ext cx="267840" cy="97920"/>
              </a:xfrm>
              <a:custGeom>
                <a:avLst/>
                <a:gdLst>
                  <a:gd name="textAreaLeft" fmla="*/ 0 w 267840"/>
                  <a:gd name="textAreaRight" fmla="*/ 268200 w 267840"/>
                  <a:gd name="textAreaTop" fmla="*/ 0 h 97920"/>
                  <a:gd name="textAreaBottom" fmla="*/ 98280 h 97920"/>
                </a:gdLst>
                <a:ahLst/>
                <a:rect l="textAreaLeft" t="textAreaTop" r="textAreaRight" b="textAreaBottom"/>
                <a:pathLst>
                  <a:path w="168" h="40">
                    <a:moveTo>
                      <a:pt x="0" y="0"/>
                    </a:moveTo>
                    <a:lnTo>
                      <a:pt x="168" y="0"/>
                    </a:lnTo>
                    <a:lnTo>
                      <a:pt x="168" y="40"/>
                    </a:lnTo>
                    <a:lnTo>
                      <a:pt x="0" y="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2" name="Text Box 272"/>
              <p:cNvSpPr/>
              <p:nvPr/>
            </p:nvSpPr>
            <p:spPr>
              <a:xfrm>
                <a:off x="5245920" y="5158800"/>
                <a:ext cx="353160" cy="10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Dialog"/>
                  </a:rPr>
                  <a:t>Biomass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3" name="Group -1024"/>
            <p:cNvGrpSpPr/>
            <p:nvPr/>
          </p:nvGrpSpPr>
          <p:grpSpPr>
            <a:xfrm>
              <a:off x="54360" y="4062960"/>
              <a:ext cx="4200120" cy="2628000"/>
              <a:chOff x="54360" y="4062960"/>
              <a:chExt cx="4200120" cy="2628000"/>
            </a:xfrm>
          </p:grpSpPr>
          <p:sp>
            <p:nvSpPr>
              <p:cNvPr id="364" name="Freeform 4"/>
              <p:cNvSpPr/>
              <p:nvPr/>
            </p:nvSpPr>
            <p:spPr>
              <a:xfrm>
                <a:off x="434160" y="4145400"/>
                <a:ext cx="3704400" cy="2348280"/>
              </a:xfrm>
              <a:custGeom>
                <a:avLst/>
                <a:gdLst>
                  <a:gd name="textAreaLeft" fmla="*/ 0 w 3704400"/>
                  <a:gd name="textAreaRight" fmla="*/ 3704760 w 3704400"/>
                  <a:gd name="textAreaTop" fmla="*/ 0 h 2348280"/>
                  <a:gd name="textAreaBottom" fmla="*/ 2348640 h 2348280"/>
                </a:gdLst>
                <a:ahLst/>
                <a:rect l="textAreaLeft" t="textAreaTop" r="textAreaRight" b="textAreaBottom"/>
                <a:pathLst>
                  <a:path w="2320" h="960">
                    <a:moveTo>
                      <a:pt x="0" y="0"/>
                    </a:moveTo>
                    <a:lnTo>
                      <a:pt x="2320" y="0"/>
                    </a:lnTo>
                    <a:lnTo>
                      <a:pt x="2320" y="960"/>
                    </a:lnTo>
                    <a:lnTo>
                      <a:pt x="0" y="96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5" name="Text Box 5"/>
              <p:cNvSpPr/>
              <p:nvPr/>
            </p:nvSpPr>
            <p:spPr>
              <a:xfrm>
                <a:off x="318600" y="6568560"/>
                <a:ext cx="231120" cy="122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Dialog"/>
                  </a:rPr>
                  <a:t>185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Freeform 6"/>
              <p:cNvSpPr/>
              <p:nvPr/>
            </p:nvSpPr>
            <p:spPr>
              <a:xfrm>
                <a:off x="434160" y="6494040"/>
                <a:ext cx="1080" cy="388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38880"/>
                  <a:gd name="textAreaBottom" fmla="*/ 39240 h 38880"/>
                </a:gdLst>
                <a:ahLst/>
                <a:rect l="textAreaLeft" t="textAreaTop" r="textAreaRight" b="textAreaBottom"/>
                <a:pathLst>
                  <a:path w="0" h="16">
                    <a:moveTo>
                      <a:pt x="0" y="0"/>
                    </a:moveTo>
                    <a:lnTo>
                      <a:pt x="0" y="16"/>
                    </a:lnTo>
                  </a:path>
                </a:pathLst>
              </a:custGeom>
              <a:noFill/>
              <a:ln w="317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7" name="Text Box 7"/>
              <p:cNvSpPr/>
              <p:nvPr/>
            </p:nvSpPr>
            <p:spPr>
              <a:xfrm>
                <a:off x="1059840" y="6568560"/>
                <a:ext cx="231120" cy="122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Dialog"/>
                  </a:rPr>
                  <a:t>190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Freeform 8"/>
              <p:cNvSpPr/>
              <p:nvPr/>
            </p:nvSpPr>
            <p:spPr>
              <a:xfrm>
                <a:off x="1175040" y="6494040"/>
                <a:ext cx="1080" cy="388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38880"/>
                  <a:gd name="textAreaBottom" fmla="*/ 39240 h 38880"/>
                </a:gdLst>
                <a:ahLst/>
                <a:rect l="textAreaLeft" t="textAreaTop" r="textAreaRight" b="textAreaBottom"/>
                <a:pathLst>
                  <a:path w="0" h="16">
                    <a:moveTo>
                      <a:pt x="0" y="0"/>
                    </a:moveTo>
                    <a:lnTo>
                      <a:pt x="0" y="16"/>
                    </a:lnTo>
                  </a:path>
                </a:pathLst>
              </a:custGeom>
              <a:noFill/>
              <a:ln w="317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9" name="Text Box 9"/>
              <p:cNvSpPr/>
              <p:nvPr/>
            </p:nvSpPr>
            <p:spPr>
              <a:xfrm>
                <a:off x="1800720" y="6568560"/>
                <a:ext cx="231120" cy="122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Dialog"/>
                  </a:rPr>
                  <a:t>195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Freeform 10"/>
              <p:cNvSpPr/>
              <p:nvPr/>
            </p:nvSpPr>
            <p:spPr>
              <a:xfrm>
                <a:off x="1916280" y="6494040"/>
                <a:ext cx="1080" cy="388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38880"/>
                  <a:gd name="textAreaBottom" fmla="*/ 39240 h 38880"/>
                </a:gdLst>
                <a:ahLst/>
                <a:rect l="textAreaLeft" t="textAreaTop" r="textAreaRight" b="textAreaBottom"/>
                <a:pathLst>
                  <a:path w="0" h="16">
                    <a:moveTo>
                      <a:pt x="0" y="0"/>
                    </a:moveTo>
                    <a:lnTo>
                      <a:pt x="0" y="16"/>
                    </a:lnTo>
                  </a:path>
                </a:pathLst>
              </a:custGeom>
              <a:noFill/>
              <a:ln w="317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1" name="Text Box 11"/>
              <p:cNvSpPr/>
              <p:nvPr/>
            </p:nvSpPr>
            <p:spPr>
              <a:xfrm>
                <a:off x="2541600" y="6568560"/>
                <a:ext cx="231120" cy="122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Dialog"/>
                  </a:rPr>
                  <a:t>200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Freeform 12"/>
              <p:cNvSpPr/>
              <p:nvPr/>
            </p:nvSpPr>
            <p:spPr>
              <a:xfrm>
                <a:off x="2657160" y="6494040"/>
                <a:ext cx="1080" cy="388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38880"/>
                  <a:gd name="textAreaBottom" fmla="*/ 39240 h 38880"/>
                </a:gdLst>
                <a:ahLst/>
                <a:rect l="textAreaLeft" t="textAreaTop" r="textAreaRight" b="textAreaBottom"/>
                <a:pathLst>
                  <a:path w="0" h="16">
                    <a:moveTo>
                      <a:pt x="0" y="0"/>
                    </a:moveTo>
                    <a:lnTo>
                      <a:pt x="0" y="16"/>
                    </a:lnTo>
                  </a:path>
                </a:pathLst>
              </a:custGeom>
              <a:noFill/>
              <a:ln w="317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3" name="Text Box 13"/>
              <p:cNvSpPr/>
              <p:nvPr/>
            </p:nvSpPr>
            <p:spPr>
              <a:xfrm>
                <a:off x="3282480" y="6568560"/>
                <a:ext cx="231120" cy="122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Dialog"/>
                  </a:rPr>
                  <a:t>205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Freeform 14"/>
              <p:cNvSpPr/>
              <p:nvPr/>
            </p:nvSpPr>
            <p:spPr>
              <a:xfrm>
                <a:off x="3398040" y="6494040"/>
                <a:ext cx="1080" cy="388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38880"/>
                  <a:gd name="textAreaBottom" fmla="*/ 39240 h 38880"/>
                </a:gdLst>
                <a:ahLst/>
                <a:rect l="textAreaLeft" t="textAreaTop" r="textAreaRight" b="textAreaBottom"/>
                <a:pathLst>
                  <a:path w="0" h="16">
                    <a:moveTo>
                      <a:pt x="0" y="0"/>
                    </a:moveTo>
                    <a:lnTo>
                      <a:pt x="0" y="16"/>
                    </a:lnTo>
                  </a:path>
                </a:pathLst>
              </a:custGeom>
              <a:noFill/>
              <a:ln w="317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5" name="Text Box 15"/>
              <p:cNvSpPr/>
              <p:nvPr/>
            </p:nvSpPr>
            <p:spPr>
              <a:xfrm>
                <a:off x="4023360" y="6568560"/>
                <a:ext cx="231120" cy="122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Dialog"/>
                  </a:rPr>
                  <a:t>210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Freeform 16"/>
              <p:cNvSpPr/>
              <p:nvPr/>
            </p:nvSpPr>
            <p:spPr>
              <a:xfrm>
                <a:off x="4138920" y="6494040"/>
                <a:ext cx="1080" cy="388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38880"/>
                  <a:gd name="textAreaBottom" fmla="*/ 39240 h 38880"/>
                </a:gdLst>
                <a:ahLst/>
                <a:rect l="textAreaLeft" t="textAreaTop" r="textAreaRight" b="textAreaBottom"/>
                <a:pathLst>
                  <a:path w="0" h="16">
                    <a:moveTo>
                      <a:pt x="0" y="0"/>
                    </a:moveTo>
                    <a:lnTo>
                      <a:pt x="0" y="16"/>
                    </a:lnTo>
                  </a:path>
                </a:pathLst>
              </a:custGeom>
              <a:noFill/>
              <a:ln w="317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7" name="Text Box 17"/>
              <p:cNvSpPr/>
              <p:nvPr/>
            </p:nvSpPr>
            <p:spPr>
              <a:xfrm rot="16200000">
                <a:off x="67680" y="5256000"/>
                <a:ext cx="79560" cy="10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Dialog"/>
                  </a:rPr>
                  <a:t>EJ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Text Box 18"/>
              <p:cNvSpPr/>
              <p:nvPr/>
            </p:nvSpPr>
            <p:spPr>
              <a:xfrm>
                <a:off x="341640" y="6411960"/>
                <a:ext cx="57600" cy="122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Dialog"/>
                  </a:rPr>
                  <a:t>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Freeform 19"/>
              <p:cNvSpPr/>
              <p:nvPr/>
            </p:nvSpPr>
            <p:spPr>
              <a:xfrm>
                <a:off x="408600" y="6494040"/>
                <a:ext cx="25200" cy="216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2160"/>
                  <a:gd name="textAreaBottom" fmla="*/ 2520 h 2160"/>
                </a:gdLst>
                <a:ahLst/>
                <a:rect l="textAreaLeft" t="textAreaTop" r="textAreaRight" b="textAreaBottom"/>
                <a:pathLst>
                  <a:path w="16" h="0">
                    <a:moveTo>
                      <a:pt x="16" y="0"/>
                    </a:moveTo>
                    <a:lnTo>
                      <a:pt x="0" y="0"/>
                    </a:lnTo>
                  </a:path>
                </a:pathLst>
              </a:custGeom>
              <a:noFill/>
              <a:ln w="317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0" name="Text Box 20"/>
              <p:cNvSpPr/>
              <p:nvPr/>
            </p:nvSpPr>
            <p:spPr>
              <a:xfrm>
                <a:off x="232560" y="5942160"/>
                <a:ext cx="173520" cy="122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Dialog"/>
                  </a:rPr>
                  <a:t>50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Freeform 21"/>
              <p:cNvSpPr/>
              <p:nvPr/>
            </p:nvSpPr>
            <p:spPr>
              <a:xfrm>
                <a:off x="408600" y="6024240"/>
                <a:ext cx="25200" cy="216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2160"/>
                  <a:gd name="textAreaBottom" fmla="*/ 2520 h 2160"/>
                </a:gdLst>
                <a:ahLst/>
                <a:rect l="textAreaLeft" t="textAreaTop" r="textAreaRight" b="textAreaBottom"/>
                <a:pathLst>
                  <a:path w="16" h="0">
                    <a:moveTo>
                      <a:pt x="16" y="0"/>
                    </a:moveTo>
                    <a:lnTo>
                      <a:pt x="0" y="0"/>
                    </a:lnTo>
                  </a:path>
                </a:pathLst>
              </a:custGeom>
              <a:noFill/>
              <a:ln w="317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2" name="Text Box 22"/>
              <p:cNvSpPr/>
              <p:nvPr/>
            </p:nvSpPr>
            <p:spPr>
              <a:xfrm>
                <a:off x="178200" y="5472360"/>
                <a:ext cx="231120" cy="122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Dialog"/>
                  </a:rPr>
                  <a:t>100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Freeform 23"/>
              <p:cNvSpPr/>
              <p:nvPr/>
            </p:nvSpPr>
            <p:spPr>
              <a:xfrm>
                <a:off x="408600" y="5554440"/>
                <a:ext cx="25200" cy="216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2160"/>
                  <a:gd name="textAreaBottom" fmla="*/ 2520 h 2160"/>
                </a:gdLst>
                <a:ahLst/>
                <a:rect l="textAreaLeft" t="textAreaTop" r="textAreaRight" b="textAreaBottom"/>
                <a:pathLst>
                  <a:path w="16" h="0">
                    <a:moveTo>
                      <a:pt x="16" y="0"/>
                    </a:moveTo>
                    <a:lnTo>
                      <a:pt x="0" y="0"/>
                    </a:lnTo>
                  </a:path>
                </a:pathLst>
              </a:custGeom>
              <a:noFill/>
              <a:ln w="317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4" name="Text Box 24"/>
              <p:cNvSpPr/>
              <p:nvPr/>
            </p:nvSpPr>
            <p:spPr>
              <a:xfrm>
                <a:off x="178200" y="5002560"/>
                <a:ext cx="231120" cy="122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Dialog"/>
                  </a:rPr>
                  <a:t>150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Freeform 25"/>
              <p:cNvSpPr/>
              <p:nvPr/>
            </p:nvSpPr>
            <p:spPr>
              <a:xfrm>
                <a:off x="408600" y="5084640"/>
                <a:ext cx="25200" cy="216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2160"/>
                  <a:gd name="textAreaBottom" fmla="*/ 2520 h 2160"/>
                </a:gdLst>
                <a:ahLst/>
                <a:rect l="textAreaLeft" t="textAreaTop" r="textAreaRight" b="textAreaBottom"/>
                <a:pathLst>
                  <a:path w="16" h="0">
                    <a:moveTo>
                      <a:pt x="16" y="0"/>
                    </a:moveTo>
                    <a:lnTo>
                      <a:pt x="0" y="0"/>
                    </a:lnTo>
                  </a:path>
                </a:pathLst>
              </a:custGeom>
              <a:noFill/>
              <a:ln w="317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6" name="Text Box 26"/>
              <p:cNvSpPr/>
              <p:nvPr/>
            </p:nvSpPr>
            <p:spPr>
              <a:xfrm>
                <a:off x="178200" y="4532760"/>
                <a:ext cx="231120" cy="122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Dialog"/>
                  </a:rPr>
                  <a:t>200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Freeform 27"/>
              <p:cNvSpPr/>
              <p:nvPr/>
            </p:nvSpPr>
            <p:spPr>
              <a:xfrm>
                <a:off x="408600" y="4614840"/>
                <a:ext cx="25200" cy="216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2160"/>
                  <a:gd name="textAreaBottom" fmla="*/ 2520 h 2160"/>
                </a:gdLst>
                <a:ahLst/>
                <a:rect l="textAreaLeft" t="textAreaTop" r="textAreaRight" b="textAreaBottom"/>
                <a:pathLst>
                  <a:path w="16" h="0">
                    <a:moveTo>
                      <a:pt x="16" y="0"/>
                    </a:moveTo>
                    <a:lnTo>
                      <a:pt x="0" y="0"/>
                    </a:lnTo>
                  </a:path>
                </a:pathLst>
              </a:custGeom>
              <a:noFill/>
              <a:ln w="317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8" name="Text Box 28"/>
              <p:cNvSpPr/>
              <p:nvPr/>
            </p:nvSpPr>
            <p:spPr>
              <a:xfrm>
                <a:off x="178200" y="4062960"/>
                <a:ext cx="231120" cy="122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Dialog"/>
                  </a:rPr>
                  <a:t>250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Freeform 29"/>
              <p:cNvSpPr/>
              <p:nvPr/>
            </p:nvSpPr>
            <p:spPr>
              <a:xfrm>
                <a:off x="408600" y="4145400"/>
                <a:ext cx="25200" cy="216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2160"/>
                  <a:gd name="textAreaBottom" fmla="*/ 2520 h 2160"/>
                </a:gdLst>
                <a:ahLst/>
                <a:rect l="textAreaLeft" t="textAreaTop" r="textAreaRight" b="textAreaBottom"/>
                <a:pathLst>
                  <a:path w="16" h="0">
                    <a:moveTo>
                      <a:pt x="16" y="0"/>
                    </a:moveTo>
                    <a:lnTo>
                      <a:pt x="0" y="0"/>
                    </a:lnTo>
                  </a:path>
                </a:pathLst>
              </a:custGeom>
              <a:noFill/>
              <a:ln w="317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0" name="Freeform 30"/>
              <p:cNvSpPr/>
              <p:nvPr/>
            </p:nvSpPr>
            <p:spPr>
              <a:xfrm>
                <a:off x="434160" y="4145400"/>
                <a:ext cx="3704400" cy="2348280"/>
              </a:xfrm>
              <a:custGeom>
                <a:avLst/>
                <a:gdLst>
                  <a:gd name="textAreaLeft" fmla="*/ 0 w 3704400"/>
                  <a:gd name="textAreaRight" fmla="*/ 3704760 w 3704400"/>
                  <a:gd name="textAreaTop" fmla="*/ 0 h 2348280"/>
                  <a:gd name="textAreaBottom" fmla="*/ 2348640 h 2348280"/>
                </a:gdLst>
                <a:ahLst/>
                <a:rect l="textAreaLeft" t="textAreaTop" r="textAreaRight" b="textAreaBottom"/>
                <a:pathLst>
                  <a:path w="2320" h="960">
                    <a:moveTo>
                      <a:pt x="0" y="0"/>
                    </a:moveTo>
                    <a:lnTo>
                      <a:pt x="2320" y="0"/>
                    </a:lnTo>
                    <a:lnTo>
                      <a:pt x="2320" y="960"/>
                    </a:lnTo>
                    <a:lnTo>
                      <a:pt x="0" y="96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317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1" name="Freeform 31"/>
              <p:cNvSpPr/>
              <p:nvPr/>
            </p:nvSpPr>
            <p:spPr>
              <a:xfrm>
                <a:off x="2730600" y="5787000"/>
                <a:ext cx="1407960" cy="305640"/>
              </a:xfrm>
              <a:custGeom>
                <a:avLst/>
                <a:gdLst>
                  <a:gd name="textAreaLeft" fmla="*/ 0 w 1407960"/>
                  <a:gd name="textAreaRight" fmla="*/ 1408320 w 1407960"/>
                  <a:gd name="textAreaTop" fmla="*/ 0 h 305640"/>
                  <a:gd name="textAreaBottom" fmla="*/ 306000 h 305640"/>
                </a:gdLst>
                <a:ahLst/>
                <a:rect l="textAreaLeft" t="textAreaTop" r="textAreaRight" b="textAreaBottom"/>
                <a:pathLst>
                  <a:path w="881" h="125">
                    <a:moveTo>
                      <a:pt x="0" y="121"/>
                    </a:moveTo>
                    <a:lnTo>
                      <a:pt x="46" y="111"/>
                    </a:lnTo>
                    <a:lnTo>
                      <a:pt x="139" y="84"/>
                    </a:lnTo>
                    <a:lnTo>
                      <a:pt x="231" y="58"/>
                    </a:lnTo>
                    <a:lnTo>
                      <a:pt x="324" y="30"/>
                    </a:lnTo>
                    <a:lnTo>
                      <a:pt x="417" y="12"/>
                    </a:lnTo>
                    <a:lnTo>
                      <a:pt x="510" y="2"/>
                    </a:lnTo>
                    <a:lnTo>
                      <a:pt x="603" y="0"/>
                    </a:lnTo>
                    <a:lnTo>
                      <a:pt x="695" y="5"/>
                    </a:lnTo>
                    <a:lnTo>
                      <a:pt x="788" y="18"/>
                    </a:lnTo>
                    <a:lnTo>
                      <a:pt x="881" y="32"/>
                    </a:lnTo>
                    <a:lnTo>
                      <a:pt x="881" y="81"/>
                    </a:lnTo>
                    <a:lnTo>
                      <a:pt x="788" y="65"/>
                    </a:lnTo>
                    <a:lnTo>
                      <a:pt x="695" y="47"/>
                    </a:lnTo>
                    <a:lnTo>
                      <a:pt x="603" y="35"/>
                    </a:lnTo>
                    <a:lnTo>
                      <a:pt x="510" y="30"/>
                    </a:lnTo>
                    <a:lnTo>
                      <a:pt x="417" y="34"/>
                    </a:lnTo>
                    <a:lnTo>
                      <a:pt x="324" y="45"/>
                    </a:lnTo>
                    <a:lnTo>
                      <a:pt x="231" y="68"/>
                    </a:lnTo>
                    <a:lnTo>
                      <a:pt x="139" y="92"/>
                    </a:lnTo>
                    <a:lnTo>
                      <a:pt x="46" y="116"/>
                    </a:lnTo>
                    <a:lnTo>
                      <a:pt x="0" y="125"/>
                    </a:lnTo>
                    <a:lnTo>
                      <a:pt x="0" y="121"/>
                    </a:lnTo>
                    <a:close/>
                  </a:path>
                </a:pathLst>
              </a:custGeom>
              <a:solidFill>
                <a:srgbClr val="ffc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2" name="Freeform 32"/>
              <p:cNvSpPr/>
              <p:nvPr/>
            </p:nvSpPr>
            <p:spPr>
              <a:xfrm>
                <a:off x="2730600" y="5787000"/>
                <a:ext cx="1407960" cy="305640"/>
              </a:xfrm>
              <a:custGeom>
                <a:avLst/>
                <a:gdLst>
                  <a:gd name="textAreaLeft" fmla="*/ 0 w 1407960"/>
                  <a:gd name="textAreaRight" fmla="*/ 1408320 w 1407960"/>
                  <a:gd name="textAreaTop" fmla="*/ 0 h 305640"/>
                  <a:gd name="textAreaBottom" fmla="*/ 306000 h 305640"/>
                </a:gdLst>
                <a:ahLst/>
                <a:rect l="textAreaLeft" t="textAreaTop" r="textAreaRight" b="textAreaBottom"/>
                <a:pathLst>
                  <a:path w="881" h="125">
                    <a:moveTo>
                      <a:pt x="0" y="121"/>
                    </a:moveTo>
                    <a:lnTo>
                      <a:pt x="46" y="111"/>
                    </a:lnTo>
                    <a:lnTo>
                      <a:pt x="139" y="84"/>
                    </a:lnTo>
                    <a:lnTo>
                      <a:pt x="231" y="58"/>
                    </a:lnTo>
                    <a:lnTo>
                      <a:pt x="324" y="30"/>
                    </a:lnTo>
                    <a:lnTo>
                      <a:pt x="417" y="12"/>
                    </a:lnTo>
                    <a:lnTo>
                      <a:pt x="510" y="2"/>
                    </a:lnTo>
                    <a:lnTo>
                      <a:pt x="603" y="0"/>
                    </a:lnTo>
                    <a:lnTo>
                      <a:pt x="695" y="5"/>
                    </a:lnTo>
                    <a:lnTo>
                      <a:pt x="788" y="18"/>
                    </a:lnTo>
                    <a:lnTo>
                      <a:pt x="881" y="32"/>
                    </a:lnTo>
                    <a:lnTo>
                      <a:pt x="881" y="81"/>
                    </a:lnTo>
                    <a:lnTo>
                      <a:pt x="788" y="65"/>
                    </a:lnTo>
                    <a:lnTo>
                      <a:pt x="695" y="47"/>
                    </a:lnTo>
                    <a:lnTo>
                      <a:pt x="603" y="35"/>
                    </a:lnTo>
                    <a:lnTo>
                      <a:pt x="510" y="30"/>
                    </a:lnTo>
                    <a:lnTo>
                      <a:pt x="417" y="34"/>
                    </a:lnTo>
                    <a:lnTo>
                      <a:pt x="324" y="45"/>
                    </a:lnTo>
                    <a:lnTo>
                      <a:pt x="231" y="68"/>
                    </a:lnTo>
                    <a:lnTo>
                      <a:pt x="139" y="92"/>
                    </a:lnTo>
                    <a:lnTo>
                      <a:pt x="46" y="116"/>
                    </a:lnTo>
                    <a:lnTo>
                      <a:pt x="0" y="125"/>
                    </a:lnTo>
                    <a:lnTo>
                      <a:pt x="0" y="121"/>
                    </a:lnTo>
                    <a:close/>
                  </a:path>
                </a:pathLst>
              </a:custGeom>
              <a:noFill/>
              <a:ln w="3175">
                <a:solidFill>
                  <a:srgbClr val="ffc8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3" name="Freeform 33"/>
              <p:cNvSpPr/>
              <p:nvPr/>
            </p:nvSpPr>
            <p:spPr>
              <a:xfrm>
                <a:off x="2730600" y="5860440"/>
                <a:ext cx="1407960" cy="241920"/>
              </a:xfrm>
              <a:custGeom>
                <a:avLst/>
                <a:gdLst>
                  <a:gd name="textAreaLeft" fmla="*/ 0 w 1407960"/>
                  <a:gd name="textAreaRight" fmla="*/ 1408320 w 1407960"/>
                  <a:gd name="textAreaTop" fmla="*/ 0 h 241920"/>
                  <a:gd name="textAreaBottom" fmla="*/ 242280 h 241920"/>
                </a:gdLst>
                <a:ahLst/>
                <a:rect l="textAreaLeft" t="textAreaTop" r="textAreaRight" b="textAreaBottom"/>
                <a:pathLst>
                  <a:path w="881" h="98">
                    <a:moveTo>
                      <a:pt x="0" y="94"/>
                    </a:moveTo>
                    <a:lnTo>
                      <a:pt x="46" y="86"/>
                    </a:lnTo>
                    <a:lnTo>
                      <a:pt x="139" y="61"/>
                    </a:lnTo>
                    <a:lnTo>
                      <a:pt x="231" y="38"/>
                    </a:lnTo>
                    <a:lnTo>
                      <a:pt x="324" y="15"/>
                    </a:lnTo>
                    <a:lnTo>
                      <a:pt x="417" y="3"/>
                    </a:lnTo>
                    <a:lnTo>
                      <a:pt x="510" y="0"/>
                    </a:lnTo>
                    <a:lnTo>
                      <a:pt x="603" y="4"/>
                    </a:lnTo>
                    <a:lnTo>
                      <a:pt x="695" y="17"/>
                    </a:lnTo>
                    <a:lnTo>
                      <a:pt x="788" y="34"/>
                    </a:lnTo>
                    <a:lnTo>
                      <a:pt x="881" y="50"/>
                    </a:lnTo>
                    <a:lnTo>
                      <a:pt x="881" y="52"/>
                    </a:lnTo>
                    <a:lnTo>
                      <a:pt x="788" y="36"/>
                    </a:lnTo>
                    <a:lnTo>
                      <a:pt x="695" y="18"/>
                    </a:lnTo>
                    <a:lnTo>
                      <a:pt x="603" y="6"/>
                    </a:lnTo>
                    <a:lnTo>
                      <a:pt x="510" y="3"/>
                    </a:lnTo>
                    <a:lnTo>
                      <a:pt x="417" y="7"/>
                    </a:lnTo>
                    <a:lnTo>
                      <a:pt x="324" y="19"/>
                    </a:lnTo>
                    <a:lnTo>
                      <a:pt x="231" y="42"/>
                    </a:lnTo>
                    <a:lnTo>
                      <a:pt x="139" y="65"/>
                    </a:lnTo>
                    <a:lnTo>
                      <a:pt x="46" y="89"/>
                    </a:lnTo>
                    <a:lnTo>
                      <a:pt x="0" y="98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4" name="Freeform 34"/>
              <p:cNvSpPr/>
              <p:nvPr/>
            </p:nvSpPr>
            <p:spPr>
              <a:xfrm>
                <a:off x="2730600" y="5860440"/>
                <a:ext cx="1407960" cy="241920"/>
              </a:xfrm>
              <a:custGeom>
                <a:avLst/>
                <a:gdLst>
                  <a:gd name="textAreaLeft" fmla="*/ 0 w 1407960"/>
                  <a:gd name="textAreaRight" fmla="*/ 1408320 w 1407960"/>
                  <a:gd name="textAreaTop" fmla="*/ 0 h 241920"/>
                  <a:gd name="textAreaBottom" fmla="*/ 242280 h 241920"/>
                </a:gdLst>
                <a:ahLst/>
                <a:rect l="textAreaLeft" t="textAreaTop" r="textAreaRight" b="textAreaBottom"/>
                <a:pathLst>
                  <a:path w="881" h="98">
                    <a:moveTo>
                      <a:pt x="0" y="94"/>
                    </a:moveTo>
                    <a:lnTo>
                      <a:pt x="46" y="86"/>
                    </a:lnTo>
                    <a:lnTo>
                      <a:pt x="139" y="61"/>
                    </a:lnTo>
                    <a:lnTo>
                      <a:pt x="231" y="38"/>
                    </a:lnTo>
                    <a:lnTo>
                      <a:pt x="324" y="15"/>
                    </a:lnTo>
                    <a:lnTo>
                      <a:pt x="417" y="3"/>
                    </a:lnTo>
                    <a:lnTo>
                      <a:pt x="510" y="0"/>
                    </a:lnTo>
                    <a:lnTo>
                      <a:pt x="603" y="4"/>
                    </a:lnTo>
                    <a:lnTo>
                      <a:pt x="695" y="17"/>
                    </a:lnTo>
                    <a:lnTo>
                      <a:pt x="788" y="34"/>
                    </a:lnTo>
                    <a:lnTo>
                      <a:pt x="881" y="50"/>
                    </a:lnTo>
                    <a:lnTo>
                      <a:pt x="881" y="52"/>
                    </a:lnTo>
                    <a:lnTo>
                      <a:pt x="788" y="36"/>
                    </a:lnTo>
                    <a:lnTo>
                      <a:pt x="695" y="18"/>
                    </a:lnTo>
                    <a:lnTo>
                      <a:pt x="603" y="6"/>
                    </a:lnTo>
                    <a:lnTo>
                      <a:pt x="510" y="3"/>
                    </a:lnTo>
                    <a:lnTo>
                      <a:pt x="417" y="7"/>
                    </a:lnTo>
                    <a:lnTo>
                      <a:pt x="324" y="19"/>
                    </a:lnTo>
                    <a:lnTo>
                      <a:pt x="231" y="42"/>
                    </a:lnTo>
                    <a:lnTo>
                      <a:pt x="139" y="65"/>
                    </a:lnTo>
                    <a:lnTo>
                      <a:pt x="46" y="89"/>
                    </a:lnTo>
                    <a:lnTo>
                      <a:pt x="0" y="98"/>
                    </a:lnTo>
                    <a:lnTo>
                      <a:pt x="0" y="94"/>
                    </a:lnTo>
                    <a:close/>
                  </a:path>
                </a:pathLst>
              </a:custGeom>
              <a:noFill/>
              <a:ln w="3175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5" name="Freeform 35"/>
              <p:cNvSpPr/>
              <p:nvPr/>
            </p:nvSpPr>
            <p:spPr>
              <a:xfrm>
                <a:off x="2730600" y="5870160"/>
                <a:ext cx="1407960" cy="356760"/>
              </a:xfrm>
              <a:custGeom>
                <a:avLst/>
                <a:gdLst>
                  <a:gd name="textAreaLeft" fmla="*/ 0 w 1407960"/>
                  <a:gd name="textAreaRight" fmla="*/ 1408320 w 1407960"/>
                  <a:gd name="textAreaTop" fmla="*/ 0 h 356760"/>
                  <a:gd name="textAreaBottom" fmla="*/ 357120 h 356760"/>
                </a:gdLst>
                <a:ahLst/>
                <a:rect l="textAreaLeft" t="textAreaTop" r="textAreaRight" b="textAreaBottom"/>
                <a:pathLst>
                  <a:path w="881" h="146">
                    <a:moveTo>
                      <a:pt x="0" y="95"/>
                    </a:moveTo>
                    <a:lnTo>
                      <a:pt x="46" y="86"/>
                    </a:lnTo>
                    <a:lnTo>
                      <a:pt x="139" y="62"/>
                    </a:lnTo>
                    <a:lnTo>
                      <a:pt x="231" y="39"/>
                    </a:lnTo>
                    <a:lnTo>
                      <a:pt x="324" y="16"/>
                    </a:lnTo>
                    <a:lnTo>
                      <a:pt x="417" y="4"/>
                    </a:lnTo>
                    <a:lnTo>
                      <a:pt x="510" y="0"/>
                    </a:lnTo>
                    <a:lnTo>
                      <a:pt x="603" y="3"/>
                    </a:lnTo>
                    <a:lnTo>
                      <a:pt x="695" y="15"/>
                    </a:lnTo>
                    <a:lnTo>
                      <a:pt x="788" y="32"/>
                    </a:lnTo>
                    <a:lnTo>
                      <a:pt x="881" y="48"/>
                    </a:lnTo>
                    <a:lnTo>
                      <a:pt x="881" y="146"/>
                    </a:lnTo>
                    <a:lnTo>
                      <a:pt x="788" y="131"/>
                    </a:lnTo>
                    <a:lnTo>
                      <a:pt x="695" y="117"/>
                    </a:lnTo>
                    <a:lnTo>
                      <a:pt x="603" y="111"/>
                    </a:lnTo>
                    <a:lnTo>
                      <a:pt x="510" y="109"/>
                    </a:lnTo>
                    <a:lnTo>
                      <a:pt x="417" y="106"/>
                    </a:lnTo>
                    <a:lnTo>
                      <a:pt x="324" y="106"/>
                    </a:lnTo>
                    <a:lnTo>
                      <a:pt x="231" y="112"/>
                    </a:lnTo>
                    <a:lnTo>
                      <a:pt x="139" y="114"/>
                    </a:lnTo>
                    <a:lnTo>
                      <a:pt x="46" y="121"/>
                    </a:lnTo>
                    <a:lnTo>
                      <a:pt x="0" y="130"/>
                    </a:lnTo>
                    <a:lnTo>
                      <a:pt x="0" y="95"/>
                    </a:lnTo>
                    <a:close/>
                  </a:path>
                </a:pathLst>
              </a:custGeom>
              <a:solidFill>
                <a:srgbClr val="006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6" name="Freeform 36"/>
              <p:cNvSpPr/>
              <p:nvPr/>
            </p:nvSpPr>
            <p:spPr>
              <a:xfrm>
                <a:off x="2730600" y="5870160"/>
                <a:ext cx="1407960" cy="356760"/>
              </a:xfrm>
              <a:custGeom>
                <a:avLst/>
                <a:gdLst>
                  <a:gd name="textAreaLeft" fmla="*/ 0 w 1407960"/>
                  <a:gd name="textAreaRight" fmla="*/ 1408320 w 1407960"/>
                  <a:gd name="textAreaTop" fmla="*/ 0 h 356760"/>
                  <a:gd name="textAreaBottom" fmla="*/ 357120 h 356760"/>
                </a:gdLst>
                <a:ahLst/>
                <a:rect l="textAreaLeft" t="textAreaTop" r="textAreaRight" b="textAreaBottom"/>
                <a:pathLst>
                  <a:path w="881" h="146">
                    <a:moveTo>
                      <a:pt x="0" y="95"/>
                    </a:moveTo>
                    <a:lnTo>
                      <a:pt x="46" y="86"/>
                    </a:lnTo>
                    <a:lnTo>
                      <a:pt x="139" y="62"/>
                    </a:lnTo>
                    <a:lnTo>
                      <a:pt x="231" y="39"/>
                    </a:lnTo>
                    <a:lnTo>
                      <a:pt x="324" y="16"/>
                    </a:lnTo>
                    <a:lnTo>
                      <a:pt x="417" y="4"/>
                    </a:lnTo>
                    <a:lnTo>
                      <a:pt x="510" y="0"/>
                    </a:lnTo>
                    <a:lnTo>
                      <a:pt x="603" y="3"/>
                    </a:lnTo>
                    <a:lnTo>
                      <a:pt x="695" y="15"/>
                    </a:lnTo>
                    <a:lnTo>
                      <a:pt x="788" y="32"/>
                    </a:lnTo>
                    <a:lnTo>
                      <a:pt x="881" y="48"/>
                    </a:lnTo>
                    <a:lnTo>
                      <a:pt x="881" y="146"/>
                    </a:lnTo>
                    <a:lnTo>
                      <a:pt x="788" y="131"/>
                    </a:lnTo>
                    <a:lnTo>
                      <a:pt x="695" y="117"/>
                    </a:lnTo>
                    <a:lnTo>
                      <a:pt x="603" y="111"/>
                    </a:lnTo>
                    <a:lnTo>
                      <a:pt x="510" y="109"/>
                    </a:lnTo>
                    <a:lnTo>
                      <a:pt x="417" y="106"/>
                    </a:lnTo>
                    <a:lnTo>
                      <a:pt x="324" y="106"/>
                    </a:lnTo>
                    <a:lnTo>
                      <a:pt x="231" y="112"/>
                    </a:lnTo>
                    <a:lnTo>
                      <a:pt x="139" y="114"/>
                    </a:lnTo>
                    <a:lnTo>
                      <a:pt x="46" y="121"/>
                    </a:lnTo>
                    <a:lnTo>
                      <a:pt x="0" y="130"/>
                    </a:lnTo>
                    <a:lnTo>
                      <a:pt x="0" y="95"/>
                    </a:lnTo>
                    <a:close/>
                  </a:path>
                </a:pathLst>
              </a:custGeom>
              <a:noFill/>
              <a:ln w="3175">
                <a:solidFill>
                  <a:srgbClr val="0064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7" name="Freeform 37"/>
              <p:cNvSpPr/>
              <p:nvPr/>
            </p:nvSpPr>
            <p:spPr>
              <a:xfrm>
                <a:off x="2730600" y="6129360"/>
                <a:ext cx="1407960" cy="219960"/>
              </a:xfrm>
              <a:custGeom>
                <a:avLst/>
                <a:gdLst>
                  <a:gd name="textAreaLeft" fmla="*/ 0 w 1407960"/>
                  <a:gd name="textAreaRight" fmla="*/ 1408320 w 1407960"/>
                  <a:gd name="textAreaTop" fmla="*/ 0 h 219960"/>
                  <a:gd name="textAreaBottom" fmla="*/ 220320 h 219960"/>
                </a:gdLst>
                <a:ahLst/>
                <a:rect l="textAreaLeft" t="textAreaTop" r="textAreaRight" b="textAreaBottom"/>
                <a:pathLst>
                  <a:path w="881" h="90">
                    <a:moveTo>
                      <a:pt x="0" y="23"/>
                    </a:moveTo>
                    <a:lnTo>
                      <a:pt x="46" y="14"/>
                    </a:lnTo>
                    <a:lnTo>
                      <a:pt x="139" y="8"/>
                    </a:lnTo>
                    <a:lnTo>
                      <a:pt x="231" y="6"/>
                    </a:lnTo>
                    <a:lnTo>
                      <a:pt x="324" y="0"/>
                    </a:lnTo>
                    <a:lnTo>
                      <a:pt x="417" y="0"/>
                    </a:lnTo>
                    <a:lnTo>
                      <a:pt x="510" y="2"/>
                    </a:lnTo>
                    <a:lnTo>
                      <a:pt x="603" y="4"/>
                    </a:lnTo>
                    <a:lnTo>
                      <a:pt x="695" y="11"/>
                    </a:lnTo>
                    <a:lnTo>
                      <a:pt x="788" y="24"/>
                    </a:lnTo>
                    <a:lnTo>
                      <a:pt x="881" y="39"/>
                    </a:lnTo>
                    <a:lnTo>
                      <a:pt x="881" y="63"/>
                    </a:lnTo>
                    <a:lnTo>
                      <a:pt x="788" y="54"/>
                    </a:lnTo>
                    <a:lnTo>
                      <a:pt x="695" y="48"/>
                    </a:lnTo>
                    <a:lnTo>
                      <a:pt x="603" y="46"/>
                    </a:lnTo>
                    <a:lnTo>
                      <a:pt x="510" y="46"/>
                    </a:lnTo>
                    <a:lnTo>
                      <a:pt x="417" y="45"/>
                    </a:lnTo>
                    <a:lnTo>
                      <a:pt x="324" y="48"/>
                    </a:lnTo>
                    <a:lnTo>
                      <a:pt x="231" y="58"/>
                    </a:lnTo>
                    <a:lnTo>
                      <a:pt x="139" y="68"/>
                    </a:lnTo>
                    <a:lnTo>
                      <a:pt x="46" y="76"/>
                    </a:lnTo>
                    <a:lnTo>
                      <a:pt x="0" y="90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8" name="Freeform 38"/>
              <p:cNvSpPr/>
              <p:nvPr/>
            </p:nvSpPr>
            <p:spPr>
              <a:xfrm>
                <a:off x="2730600" y="6129360"/>
                <a:ext cx="1407960" cy="219960"/>
              </a:xfrm>
              <a:custGeom>
                <a:avLst/>
                <a:gdLst>
                  <a:gd name="textAreaLeft" fmla="*/ 0 w 1407960"/>
                  <a:gd name="textAreaRight" fmla="*/ 1408320 w 1407960"/>
                  <a:gd name="textAreaTop" fmla="*/ 0 h 219960"/>
                  <a:gd name="textAreaBottom" fmla="*/ 220320 h 219960"/>
                </a:gdLst>
                <a:ahLst/>
                <a:rect l="textAreaLeft" t="textAreaTop" r="textAreaRight" b="textAreaBottom"/>
                <a:pathLst>
                  <a:path w="881" h="90">
                    <a:moveTo>
                      <a:pt x="0" y="23"/>
                    </a:moveTo>
                    <a:lnTo>
                      <a:pt x="46" y="14"/>
                    </a:lnTo>
                    <a:lnTo>
                      <a:pt x="139" y="8"/>
                    </a:lnTo>
                    <a:lnTo>
                      <a:pt x="231" y="6"/>
                    </a:lnTo>
                    <a:lnTo>
                      <a:pt x="324" y="0"/>
                    </a:lnTo>
                    <a:lnTo>
                      <a:pt x="417" y="0"/>
                    </a:lnTo>
                    <a:lnTo>
                      <a:pt x="510" y="2"/>
                    </a:lnTo>
                    <a:lnTo>
                      <a:pt x="603" y="4"/>
                    </a:lnTo>
                    <a:lnTo>
                      <a:pt x="695" y="11"/>
                    </a:lnTo>
                    <a:lnTo>
                      <a:pt x="788" y="24"/>
                    </a:lnTo>
                    <a:lnTo>
                      <a:pt x="881" y="39"/>
                    </a:lnTo>
                    <a:lnTo>
                      <a:pt x="881" y="63"/>
                    </a:lnTo>
                    <a:lnTo>
                      <a:pt x="788" y="54"/>
                    </a:lnTo>
                    <a:lnTo>
                      <a:pt x="695" y="48"/>
                    </a:lnTo>
                    <a:lnTo>
                      <a:pt x="603" y="46"/>
                    </a:lnTo>
                    <a:lnTo>
                      <a:pt x="510" y="46"/>
                    </a:lnTo>
                    <a:lnTo>
                      <a:pt x="417" y="45"/>
                    </a:lnTo>
                    <a:lnTo>
                      <a:pt x="324" y="48"/>
                    </a:lnTo>
                    <a:lnTo>
                      <a:pt x="231" y="58"/>
                    </a:lnTo>
                    <a:lnTo>
                      <a:pt x="139" y="68"/>
                    </a:lnTo>
                    <a:lnTo>
                      <a:pt x="46" y="76"/>
                    </a:lnTo>
                    <a:lnTo>
                      <a:pt x="0" y="90"/>
                    </a:lnTo>
                    <a:lnTo>
                      <a:pt x="0" y="23"/>
                    </a:lnTo>
                    <a:close/>
                  </a:path>
                </a:pathLst>
              </a:custGeom>
              <a:noFill/>
              <a:ln w="3175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9" name="Freeform 39"/>
              <p:cNvSpPr/>
              <p:nvPr/>
            </p:nvSpPr>
            <p:spPr>
              <a:xfrm>
                <a:off x="2730600" y="6242040"/>
                <a:ext cx="1407960" cy="212400"/>
              </a:xfrm>
              <a:custGeom>
                <a:avLst/>
                <a:gdLst>
                  <a:gd name="textAreaLeft" fmla="*/ 0 w 1407960"/>
                  <a:gd name="textAreaRight" fmla="*/ 1408320 w 1407960"/>
                  <a:gd name="textAreaTop" fmla="*/ 0 h 212400"/>
                  <a:gd name="textAreaBottom" fmla="*/ 212760 h 212400"/>
                </a:gdLst>
                <a:ahLst/>
                <a:rect l="textAreaLeft" t="textAreaTop" r="textAreaRight" b="textAreaBottom"/>
                <a:pathLst>
                  <a:path w="881" h="86">
                    <a:moveTo>
                      <a:pt x="0" y="44"/>
                    </a:moveTo>
                    <a:lnTo>
                      <a:pt x="46" y="30"/>
                    </a:lnTo>
                    <a:lnTo>
                      <a:pt x="139" y="22"/>
                    </a:lnTo>
                    <a:lnTo>
                      <a:pt x="231" y="12"/>
                    </a:lnTo>
                    <a:lnTo>
                      <a:pt x="324" y="2"/>
                    </a:lnTo>
                    <a:lnTo>
                      <a:pt x="417" y="0"/>
                    </a:lnTo>
                    <a:lnTo>
                      <a:pt x="510" y="0"/>
                    </a:lnTo>
                    <a:lnTo>
                      <a:pt x="603" y="0"/>
                    </a:lnTo>
                    <a:lnTo>
                      <a:pt x="695" y="2"/>
                    </a:lnTo>
                    <a:lnTo>
                      <a:pt x="788" y="8"/>
                    </a:lnTo>
                    <a:lnTo>
                      <a:pt x="881" y="17"/>
                    </a:lnTo>
                    <a:lnTo>
                      <a:pt x="881" y="52"/>
                    </a:lnTo>
                    <a:lnTo>
                      <a:pt x="788" y="53"/>
                    </a:lnTo>
                    <a:lnTo>
                      <a:pt x="695" y="54"/>
                    </a:lnTo>
                    <a:lnTo>
                      <a:pt x="603" y="58"/>
                    </a:lnTo>
                    <a:lnTo>
                      <a:pt x="510" y="62"/>
                    </a:lnTo>
                    <a:lnTo>
                      <a:pt x="417" y="64"/>
                    </a:lnTo>
                    <a:lnTo>
                      <a:pt x="324" y="70"/>
                    </a:lnTo>
                    <a:lnTo>
                      <a:pt x="231" y="79"/>
                    </a:lnTo>
                    <a:lnTo>
                      <a:pt x="139" y="86"/>
                    </a:lnTo>
                    <a:lnTo>
                      <a:pt x="46" y="84"/>
                    </a:lnTo>
                    <a:lnTo>
                      <a:pt x="0" y="86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0" name="Freeform 40"/>
              <p:cNvSpPr/>
              <p:nvPr/>
            </p:nvSpPr>
            <p:spPr>
              <a:xfrm>
                <a:off x="2730600" y="6242040"/>
                <a:ext cx="1407960" cy="212400"/>
              </a:xfrm>
              <a:custGeom>
                <a:avLst/>
                <a:gdLst>
                  <a:gd name="textAreaLeft" fmla="*/ 0 w 1407960"/>
                  <a:gd name="textAreaRight" fmla="*/ 1408320 w 1407960"/>
                  <a:gd name="textAreaTop" fmla="*/ 0 h 212400"/>
                  <a:gd name="textAreaBottom" fmla="*/ 212760 h 212400"/>
                </a:gdLst>
                <a:ahLst/>
                <a:rect l="textAreaLeft" t="textAreaTop" r="textAreaRight" b="textAreaBottom"/>
                <a:pathLst>
                  <a:path w="881" h="86">
                    <a:moveTo>
                      <a:pt x="0" y="44"/>
                    </a:moveTo>
                    <a:lnTo>
                      <a:pt x="46" y="30"/>
                    </a:lnTo>
                    <a:lnTo>
                      <a:pt x="139" y="22"/>
                    </a:lnTo>
                    <a:lnTo>
                      <a:pt x="231" y="12"/>
                    </a:lnTo>
                    <a:lnTo>
                      <a:pt x="324" y="2"/>
                    </a:lnTo>
                    <a:lnTo>
                      <a:pt x="417" y="0"/>
                    </a:lnTo>
                    <a:lnTo>
                      <a:pt x="510" y="0"/>
                    </a:lnTo>
                    <a:lnTo>
                      <a:pt x="603" y="0"/>
                    </a:lnTo>
                    <a:lnTo>
                      <a:pt x="695" y="2"/>
                    </a:lnTo>
                    <a:lnTo>
                      <a:pt x="788" y="8"/>
                    </a:lnTo>
                    <a:lnTo>
                      <a:pt x="881" y="17"/>
                    </a:lnTo>
                    <a:lnTo>
                      <a:pt x="881" y="52"/>
                    </a:lnTo>
                    <a:lnTo>
                      <a:pt x="788" y="53"/>
                    </a:lnTo>
                    <a:lnTo>
                      <a:pt x="695" y="54"/>
                    </a:lnTo>
                    <a:lnTo>
                      <a:pt x="603" y="58"/>
                    </a:lnTo>
                    <a:lnTo>
                      <a:pt x="510" y="62"/>
                    </a:lnTo>
                    <a:lnTo>
                      <a:pt x="417" y="64"/>
                    </a:lnTo>
                    <a:lnTo>
                      <a:pt x="324" y="70"/>
                    </a:lnTo>
                    <a:lnTo>
                      <a:pt x="231" y="79"/>
                    </a:lnTo>
                    <a:lnTo>
                      <a:pt x="139" y="86"/>
                    </a:lnTo>
                    <a:lnTo>
                      <a:pt x="46" y="84"/>
                    </a:lnTo>
                    <a:lnTo>
                      <a:pt x="0" y="86"/>
                    </a:lnTo>
                    <a:lnTo>
                      <a:pt x="0" y="44"/>
                    </a:lnTo>
                    <a:close/>
                  </a:path>
                </a:pathLst>
              </a:custGeom>
              <a:noFill/>
              <a:ln w="3175">
                <a:solidFill>
                  <a:srgbClr val="20202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1" name="Freeform 41"/>
              <p:cNvSpPr/>
              <p:nvPr/>
            </p:nvSpPr>
            <p:spPr>
              <a:xfrm>
                <a:off x="2730600" y="6369120"/>
                <a:ext cx="1407960" cy="124560"/>
              </a:xfrm>
              <a:custGeom>
                <a:avLst/>
                <a:gdLst>
                  <a:gd name="textAreaLeft" fmla="*/ 0 w 1407960"/>
                  <a:gd name="textAreaRight" fmla="*/ 1408320 w 1407960"/>
                  <a:gd name="textAreaTop" fmla="*/ 0 h 124560"/>
                  <a:gd name="textAreaBottom" fmla="*/ 124920 h 124560"/>
                </a:gdLst>
                <a:ahLst/>
                <a:rect l="textAreaLeft" t="textAreaTop" r="textAreaRight" b="textAreaBottom"/>
                <a:pathLst>
                  <a:path w="881" h="50">
                    <a:moveTo>
                      <a:pt x="0" y="34"/>
                    </a:moveTo>
                    <a:lnTo>
                      <a:pt x="46" y="32"/>
                    </a:lnTo>
                    <a:lnTo>
                      <a:pt x="139" y="34"/>
                    </a:lnTo>
                    <a:lnTo>
                      <a:pt x="231" y="27"/>
                    </a:lnTo>
                    <a:lnTo>
                      <a:pt x="324" y="17"/>
                    </a:lnTo>
                    <a:lnTo>
                      <a:pt x="417" y="12"/>
                    </a:lnTo>
                    <a:lnTo>
                      <a:pt x="510" y="9"/>
                    </a:lnTo>
                    <a:lnTo>
                      <a:pt x="603" y="6"/>
                    </a:lnTo>
                    <a:lnTo>
                      <a:pt x="695" y="2"/>
                    </a:lnTo>
                    <a:lnTo>
                      <a:pt x="788" y="1"/>
                    </a:lnTo>
                    <a:lnTo>
                      <a:pt x="881" y="0"/>
                    </a:lnTo>
                    <a:lnTo>
                      <a:pt x="881" y="50"/>
                    </a:lnTo>
                    <a:lnTo>
                      <a:pt x="788" y="50"/>
                    </a:lnTo>
                    <a:lnTo>
                      <a:pt x="695" y="50"/>
                    </a:lnTo>
                    <a:lnTo>
                      <a:pt x="603" y="50"/>
                    </a:lnTo>
                    <a:lnTo>
                      <a:pt x="510" y="50"/>
                    </a:lnTo>
                    <a:lnTo>
                      <a:pt x="417" y="50"/>
                    </a:lnTo>
                    <a:lnTo>
                      <a:pt x="324" y="50"/>
                    </a:lnTo>
                    <a:lnTo>
                      <a:pt x="231" y="50"/>
                    </a:lnTo>
                    <a:lnTo>
                      <a:pt x="139" y="50"/>
                    </a:lnTo>
                    <a:lnTo>
                      <a:pt x="46" y="50"/>
                    </a:lnTo>
                    <a:lnTo>
                      <a:pt x="0" y="50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2" name="Freeform 42"/>
              <p:cNvSpPr/>
              <p:nvPr/>
            </p:nvSpPr>
            <p:spPr>
              <a:xfrm>
                <a:off x="2730600" y="6369120"/>
                <a:ext cx="1407960" cy="124560"/>
              </a:xfrm>
              <a:custGeom>
                <a:avLst/>
                <a:gdLst>
                  <a:gd name="textAreaLeft" fmla="*/ 0 w 1407960"/>
                  <a:gd name="textAreaRight" fmla="*/ 1408320 w 1407960"/>
                  <a:gd name="textAreaTop" fmla="*/ 0 h 124560"/>
                  <a:gd name="textAreaBottom" fmla="*/ 124920 h 124560"/>
                </a:gdLst>
                <a:ahLst/>
                <a:rect l="textAreaLeft" t="textAreaTop" r="textAreaRight" b="textAreaBottom"/>
                <a:pathLst>
                  <a:path w="881" h="50">
                    <a:moveTo>
                      <a:pt x="0" y="34"/>
                    </a:moveTo>
                    <a:lnTo>
                      <a:pt x="46" y="32"/>
                    </a:lnTo>
                    <a:lnTo>
                      <a:pt x="139" y="34"/>
                    </a:lnTo>
                    <a:lnTo>
                      <a:pt x="231" y="27"/>
                    </a:lnTo>
                    <a:lnTo>
                      <a:pt x="324" y="17"/>
                    </a:lnTo>
                    <a:lnTo>
                      <a:pt x="417" y="12"/>
                    </a:lnTo>
                    <a:lnTo>
                      <a:pt x="510" y="9"/>
                    </a:lnTo>
                    <a:lnTo>
                      <a:pt x="603" y="6"/>
                    </a:lnTo>
                    <a:lnTo>
                      <a:pt x="695" y="2"/>
                    </a:lnTo>
                    <a:lnTo>
                      <a:pt x="788" y="1"/>
                    </a:lnTo>
                    <a:lnTo>
                      <a:pt x="881" y="0"/>
                    </a:lnTo>
                    <a:lnTo>
                      <a:pt x="881" y="50"/>
                    </a:lnTo>
                    <a:lnTo>
                      <a:pt x="788" y="50"/>
                    </a:lnTo>
                    <a:lnTo>
                      <a:pt x="695" y="50"/>
                    </a:lnTo>
                    <a:lnTo>
                      <a:pt x="603" y="50"/>
                    </a:lnTo>
                    <a:lnTo>
                      <a:pt x="510" y="50"/>
                    </a:lnTo>
                    <a:lnTo>
                      <a:pt x="417" y="50"/>
                    </a:lnTo>
                    <a:lnTo>
                      <a:pt x="324" y="50"/>
                    </a:lnTo>
                    <a:lnTo>
                      <a:pt x="231" y="50"/>
                    </a:lnTo>
                    <a:lnTo>
                      <a:pt x="139" y="50"/>
                    </a:lnTo>
                    <a:lnTo>
                      <a:pt x="46" y="50"/>
                    </a:lnTo>
                    <a:lnTo>
                      <a:pt x="0" y="50"/>
                    </a:lnTo>
                    <a:lnTo>
                      <a:pt x="0" y="34"/>
                    </a:lnTo>
                    <a:close/>
                  </a:path>
                </a:pathLst>
              </a:custGeom>
              <a:noFill/>
              <a:ln w="3175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3" name="Freeform 43"/>
              <p:cNvSpPr/>
              <p:nvPr/>
            </p:nvSpPr>
            <p:spPr>
              <a:xfrm>
                <a:off x="434160" y="6053760"/>
                <a:ext cx="2310120" cy="413280"/>
              </a:xfrm>
              <a:custGeom>
                <a:avLst/>
                <a:gdLst>
                  <a:gd name="textAreaLeft" fmla="*/ 0 w 2310120"/>
                  <a:gd name="textAreaRight" fmla="*/ 2310480 w 2310120"/>
                  <a:gd name="textAreaTop" fmla="*/ 0 h 413280"/>
                  <a:gd name="textAreaBottom" fmla="*/ 413640 h 413280"/>
                </a:gdLst>
                <a:ahLst/>
                <a:rect l="textAreaLeft" t="textAreaTop" r="textAreaRight" b="textAreaBottom"/>
                <a:pathLst>
                  <a:path w="1447" h="169">
                    <a:moveTo>
                      <a:pt x="0" y="168"/>
                    </a:moveTo>
                    <a:lnTo>
                      <a:pt x="9" y="168"/>
                    </a:lnTo>
                    <a:lnTo>
                      <a:pt x="18" y="169"/>
                    </a:lnTo>
                    <a:lnTo>
                      <a:pt x="27" y="168"/>
                    </a:lnTo>
                    <a:lnTo>
                      <a:pt x="37" y="168"/>
                    </a:lnTo>
                    <a:lnTo>
                      <a:pt x="46" y="168"/>
                    </a:lnTo>
                    <a:lnTo>
                      <a:pt x="55" y="168"/>
                    </a:lnTo>
                    <a:lnTo>
                      <a:pt x="64" y="168"/>
                    </a:lnTo>
                    <a:lnTo>
                      <a:pt x="74" y="168"/>
                    </a:lnTo>
                    <a:lnTo>
                      <a:pt x="83" y="168"/>
                    </a:lnTo>
                    <a:lnTo>
                      <a:pt x="92" y="168"/>
                    </a:lnTo>
                    <a:lnTo>
                      <a:pt x="102" y="168"/>
                    </a:lnTo>
                    <a:lnTo>
                      <a:pt x="111" y="167"/>
                    </a:lnTo>
                    <a:lnTo>
                      <a:pt x="120" y="167"/>
                    </a:lnTo>
                    <a:lnTo>
                      <a:pt x="129" y="167"/>
                    </a:lnTo>
                    <a:lnTo>
                      <a:pt x="139" y="167"/>
                    </a:lnTo>
                    <a:lnTo>
                      <a:pt x="148" y="167"/>
                    </a:lnTo>
                    <a:lnTo>
                      <a:pt x="157" y="167"/>
                    </a:lnTo>
                    <a:lnTo>
                      <a:pt x="167" y="167"/>
                    </a:lnTo>
                    <a:lnTo>
                      <a:pt x="176" y="167"/>
                    </a:lnTo>
                    <a:lnTo>
                      <a:pt x="185" y="166"/>
                    </a:lnTo>
                    <a:lnTo>
                      <a:pt x="194" y="166"/>
                    </a:lnTo>
                    <a:lnTo>
                      <a:pt x="204" y="166"/>
                    </a:lnTo>
                    <a:lnTo>
                      <a:pt x="213" y="166"/>
                    </a:lnTo>
                    <a:lnTo>
                      <a:pt x="222" y="166"/>
                    </a:lnTo>
                    <a:lnTo>
                      <a:pt x="232" y="166"/>
                    </a:lnTo>
                    <a:lnTo>
                      <a:pt x="241" y="166"/>
                    </a:lnTo>
                    <a:lnTo>
                      <a:pt x="250" y="165"/>
                    </a:lnTo>
                    <a:lnTo>
                      <a:pt x="259" y="165"/>
                    </a:lnTo>
                    <a:lnTo>
                      <a:pt x="269" y="165"/>
                    </a:lnTo>
                    <a:lnTo>
                      <a:pt x="278" y="165"/>
                    </a:lnTo>
                    <a:lnTo>
                      <a:pt x="287" y="165"/>
                    </a:lnTo>
                    <a:lnTo>
                      <a:pt x="296" y="164"/>
                    </a:lnTo>
                    <a:lnTo>
                      <a:pt x="306" y="164"/>
                    </a:lnTo>
                    <a:lnTo>
                      <a:pt x="315" y="164"/>
                    </a:lnTo>
                    <a:lnTo>
                      <a:pt x="324" y="164"/>
                    </a:lnTo>
                    <a:lnTo>
                      <a:pt x="334" y="164"/>
                    </a:lnTo>
                    <a:lnTo>
                      <a:pt x="343" y="164"/>
                    </a:lnTo>
                    <a:lnTo>
                      <a:pt x="352" y="163"/>
                    </a:lnTo>
                    <a:lnTo>
                      <a:pt x="361" y="163"/>
                    </a:lnTo>
                    <a:lnTo>
                      <a:pt x="371" y="163"/>
                    </a:lnTo>
                    <a:lnTo>
                      <a:pt x="380" y="163"/>
                    </a:lnTo>
                    <a:lnTo>
                      <a:pt x="389" y="163"/>
                    </a:lnTo>
                    <a:lnTo>
                      <a:pt x="399" y="163"/>
                    </a:lnTo>
                    <a:lnTo>
                      <a:pt x="408" y="162"/>
                    </a:lnTo>
                    <a:lnTo>
                      <a:pt x="417" y="162"/>
                    </a:lnTo>
                    <a:lnTo>
                      <a:pt x="426" y="162"/>
                    </a:lnTo>
                    <a:lnTo>
                      <a:pt x="436" y="162"/>
                    </a:lnTo>
                    <a:lnTo>
                      <a:pt x="445" y="161"/>
                    </a:lnTo>
                    <a:lnTo>
                      <a:pt x="454" y="161"/>
                    </a:lnTo>
                    <a:lnTo>
                      <a:pt x="464" y="160"/>
                    </a:lnTo>
                    <a:lnTo>
                      <a:pt x="473" y="160"/>
                    </a:lnTo>
                    <a:lnTo>
                      <a:pt x="482" y="160"/>
                    </a:lnTo>
                    <a:lnTo>
                      <a:pt x="491" y="159"/>
                    </a:lnTo>
                    <a:lnTo>
                      <a:pt x="501" y="159"/>
                    </a:lnTo>
                    <a:lnTo>
                      <a:pt x="510" y="158"/>
                    </a:lnTo>
                    <a:lnTo>
                      <a:pt x="519" y="157"/>
                    </a:lnTo>
                    <a:lnTo>
                      <a:pt x="528" y="156"/>
                    </a:lnTo>
                    <a:lnTo>
                      <a:pt x="538" y="157"/>
                    </a:lnTo>
                    <a:lnTo>
                      <a:pt x="547" y="156"/>
                    </a:lnTo>
                    <a:lnTo>
                      <a:pt x="556" y="156"/>
                    </a:lnTo>
                    <a:lnTo>
                      <a:pt x="566" y="155"/>
                    </a:lnTo>
                    <a:lnTo>
                      <a:pt x="575" y="155"/>
                    </a:lnTo>
                    <a:lnTo>
                      <a:pt x="584" y="154"/>
                    </a:lnTo>
                    <a:lnTo>
                      <a:pt x="593" y="155"/>
                    </a:lnTo>
                    <a:lnTo>
                      <a:pt x="603" y="155"/>
                    </a:lnTo>
                    <a:lnTo>
                      <a:pt x="612" y="154"/>
                    </a:lnTo>
                    <a:lnTo>
                      <a:pt x="621" y="153"/>
                    </a:lnTo>
                    <a:lnTo>
                      <a:pt x="631" y="153"/>
                    </a:lnTo>
                    <a:lnTo>
                      <a:pt x="640" y="155"/>
                    </a:lnTo>
                    <a:lnTo>
                      <a:pt x="649" y="153"/>
                    </a:lnTo>
                    <a:lnTo>
                      <a:pt x="658" y="155"/>
                    </a:lnTo>
                    <a:lnTo>
                      <a:pt x="668" y="154"/>
                    </a:lnTo>
                    <a:lnTo>
                      <a:pt x="677" y="152"/>
                    </a:lnTo>
                    <a:lnTo>
                      <a:pt x="686" y="152"/>
                    </a:lnTo>
                    <a:lnTo>
                      <a:pt x="696" y="151"/>
                    </a:lnTo>
                    <a:lnTo>
                      <a:pt x="705" y="151"/>
                    </a:lnTo>
                    <a:lnTo>
                      <a:pt x="714" y="150"/>
                    </a:lnTo>
                    <a:lnTo>
                      <a:pt x="723" y="149"/>
                    </a:lnTo>
                    <a:lnTo>
                      <a:pt x="733" y="148"/>
                    </a:lnTo>
                    <a:lnTo>
                      <a:pt x="742" y="149"/>
                    </a:lnTo>
                    <a:lnTo>
                      <a:pt x="751" y="150"/>
                    </a:lnTo>
                    <a:lnTo>
                      <a:pt x="760" y="152"/>
                    </a:lnTo>
                    <a:lnTo>
                      <a:pt x="770" y="151"/>
                    </a:lnTo>
                    <a:lnTo>
                      <a:pt x="779" y="150"/>
                    </a:lnTo>
                    <a:lnTo>
                      <a:pt x="788" y="149"/>
                    </a:lnTo>
                    <a:lnTo>
                      <a:pt x="798" y="148"/>
                    </a:lnTo>
                    <a:lnTo>
                      <a:pt x="807" y="147"/>
                    </a:lnTo>
                    <a:lnTo>
                      <a:pt x="816" y="147"/>
                    </a:lnTo>
                    <a:lnTo>
                      <a:pt x="825" y="145"/>
                    </a:lnTo>
                    <a:lnTo>
                      <a:pt x="835" y="145"/>
                    </a:lnTo>
                    <a:lnTo>
                      <a:pt x="844" y="143"/>
                    </a:lnTo>
                    <a:lnTo>
                      <a:pt x="853" y="142"/>
                    </a:lnTo>
                    <a:lnTo>
                      <a:pt x="863" y="142"/>
                    </a:lnTo>
                    <a:lnTo>
                      <a:pt x="872" y="142"/>
                    </a:lnTo>
                    <a:lnTo>
                      <a:pt x="881" y="145"/>
                    </a:lnTo>
                    <a:lnTo>
                      <a:pt x="890" y="143"/>
                    </a:lnTo>
                    <a:lnTo>
                      <a:pt x="900" y="141"/>
                    </a:lnTo>
                    <a:lnTo>
                      <a:pt x="909" y="140"/>
                    </a:lnTo>
                    <a:lnTo>
                      <a:pt x="918" y="140"/>
                    </a:lnTo>
                    <a:lnTo>
                      <a:pt x="928" y="137"/>
                    </a:lnTo>
                    <a:lnTo>
                      <a:pt x="937" y="136"/>
                    </a:lnTo>
                    <a:lnTo>
                      <a:pt x="946" y="135"/>
                    </a:lnTo>
                    <a:lnTo>
                      <a:pt x="955" y="134"/>
                    </a:lnTo>
                    <a:lnTo>
                      <a:pt x="965" y="133"/>
                    </a:lnTo>
                    <a:lnTo>
                      <a:pt x="974" y="131"/>
                    </a:lnTo>
                    <a:lnTo>
                      <a:pt x="983" y="129"/>
                    </a:lnTo>
                    <a:lnTo>
                      <a:pt x="992" y="126"/>
                    </a:lnTo>
                    <a:lnTo>
                      <a:pt x="1002" y="124"/>
                    </a:lnTo>
                    <a:lnTo>
                      <a:pt x="1011" y="122"/>
                    </a:lnTo>
                    <a:lnTo>
                      <a:pt x="1020" y="120"/>
                    </a:lnTo>
                    <a:lnTo>
                      <a:pt x="1030" y="118"/>
                    </a:lnTo>
                    <a:lnTo>
                      <a:pt x="1039" y="115"/>
                    </a:lnTo>
                    <a:lnTo>
                      <a:pt x="1048" y="112"/>
                    </a:lnTo>
                    <a:lnTo>
                      <a:pt x="1057" y="109"/>
                    </a:lnTo>
                    <a:lnTo>
                      <a:pt x="1067" y="109"/>
                    </a:lnTo>
                    <a:lnTo>
                      <a:pt x="1076" y="106"/>
                    </a:lnTo>
                    <a:lnTo>
                      <a:pt x="1085" y="104"/>
                    </a:lnTo>
                    <a:lnTo>
                      <a:pt x="1095" y="101"/>
                    </a:lnTo>
                    <a:lnTo>
                      <a:pt x="1104" y="97"/>
                    </a:lnTo>
                    <a:lnTo>
                      <a:pt x="1113" y="94"/>
                    </a:lnTo>
                    <a:lnTo>
                      <a:pt x="1122" y="91"/>
                    </a:lnTo>
                    <a:lnTo>
                      <a:pt x="1132" y="86"/>
                    </a:lnTo>
                    <a:lnTo>
                      <a:pt x="1141" y="81"/>
                    </a:lnTo>
                    <a:lnTo>
                      <a:pt x="1150" y="81"/>
                    </a:lnTo>
                    <a:lnTo>
                      <a:pt x="1160" y="81"/>
                    </a:lnTo>
                    <a:lnTo>
                      <a:pt x="1169" y="75"/>
                    </a:lnTo>
                    <a:lnTo>
                      <a:pt x="1178" y="72"/>
                    </a:lnTo>
                    <a:lnTo>
                      <a:pt x="1187" y="68"/>
                    </a:lnTo>
                    <a:lnTo>
                      <a:pt x="1197" y="65"/>
                    </a:lnTo>
                    <a:lnTo>
                      <a:pt x="1206" y="65"/>
                    </a:lnTo>
                    <a:lnTo>
                      <a:pt x="1215" y="66"/>
                    </a:lnTo>
                    <a:lnTo>
                      <a:pt x="1224" y="66"/>
                    </a:lnTo>
                    <a:lnTo>
                      <a:pt x="1234" y="66"/>
                    </a:lnTo>
                    <a:lnTo>
                      <a:pt x="1243" y="62"/>
                    </a:lnTo>
                    <a:lnTo>
                      <a:pt x="1252" y="59"/>
                    </a:lnTo>
                    <a:lnTo>
                      <a:pt x="1262" y="57"/>
                    </a:lnTo>
                    <a:lnTo>
                      <a:pt x="1271" y="52"/>
                    </a:lnTo>
                    <a:lnTo>
                      <a:pt x="1280" y="48"/>
                    </a:lnTo>
                    <a:lnTo>
                      <a:pt x="1289" y="46"/>
                    </a:lnTo>
                    <a:lnTo>
                      <a:pt x="1299" y="44"/>
                    </a:lnTo>
                    <a:lnTo>
                      <a:pt x="1308" y="43"/>
                    </a:lnTo>
                    <a:lnTo>
                      <a:pt x="1317" y="43"/>
                    </a:lnTo>
                    <a:lnTo>
                      <a:pt x="1327" y="42"/>
                    </a:lnTo>
                    <a:lnTo>
                      <a:pt x="1336" y="41"/>
                    </a:lnTo>
                    <a:lnTo>
                      <a:pt x="1345" y="38"/>
                    </a:lnTo>
                    <a:lnTo>
                      <a:pt x="1354" y="34"/>
                    </a:lnTo>
                    <a:lnTo>
                      <a:pt x="1364" y="33"/>
                    </a:lnTo>
                    <a:lnTo>
                      <a:pt x="1373" y="32"/>
                    </a:lnTo>
                    <a:lnTo>
                      <a:pt x="1382" y="29"/>
                    </a:lnTo>
                    <a:lnTo>
                      <a:pt x="1392" y="26"/>
                    </a:lnTo>
                    <a:lnTo>
                      <a:pt x="1401" y="26"/>
                    </a:lnTo>
                    <a:lnTo>
                      <a:pt x="1410" y="22"/>
                    </a:lnTo>
                    <a:lnTo>
                      <a:pt x="1419" y="16"/>
                    </a:lnTo>
                    <a:lnTo>
                      <a:pt x="1429" y="8"/>
                    </a:lnTo>
                    <a:lnTo>
                      <a:pt x="1438" y="4"/>
                    </a:lnTo>
                    <a:lnTo>
                      <a:pt x="1447" y="0"/>
                    </a:lnTo>
                    <a:lnTo>
                      <a:pt x="1447" y="4"/>
                    </a:lnTo>
                    <a:lnTo>
                      <a:pt x="1438" y="8"/>
                    </a:lnTo>
                    <a:lnTo>
                      <a:pt x="1429" y="12"/>
                    </a:lnTo>
                    <a:lnTo>
                      <a:pt x="1419" y="20"/>
                    </a:lnTo>
                    <a:lnTo>
                      <a:pt x="1410" y="26"/>
                    </a:lnTo>
                    <a:lnTo>
                      <a:pt x="1401" y="29"/>
                    </a:lnTo>
                    <a:lnTo>
                      <a:pt x="1392" y="30"/>
                    </a:lnTo>
                    <a:lnTo>
                      <a:pt x="1382" y="33"/>
                    </a:lnTo>
                    <a:lnTo>
                      <a:pt x="1373" y="36"/>
                    </a:lnTo>
                    <a:lnTo>
                      <a:pt x="1364" y="36"/>
                    </a:lnTo>
                    <a:lnTo>
                      <a:pt x="1354" y="38"/>
                    </a:lnTo>
                    <a:lnTo>
                      <a:pt x="1345" y="41"/>
                    </a:lnTo>
                    <a:lnTo>
                      <a:pt x="1336" y="44"/>
                    </a:lnTo>
                    <a:lnTo>
                      <a:pt x="1327" y="45"/>
                    </a:lnTo>
                    <a:lnTo>
                      <a:pt x="1317" y="46"/>
                    </a:lnTo>
                    <a:lnTo>
                      <a:pt x="1308" y="46"/>
                    </a:lnTo>
                    <a:lnTo>
                      <a:pt x="1299" y="47"/>
                    </a:lnTo>
                    <a:lnTo>
                      <a:pt x="1289" y="49"/>
                    </a:lnTo>
                    <a:lnTo>
                      <a:pt x="1280" y="51"/>
                    </a:lnTo>
                    <a:lnTo>
                      <a:pt x="1271" y="55"/>
                    </a:lnTo>
                    <a:lnTo>
                      <a:pt x="1262" y="60"/>
                    </a:lnTo>
                    <a:lnTo>
                      <a:pt x="1252" y="62"/>
                    </a:lnTo>
                    <a:lnTo>
                      <a:pt x="1243" y="64"/>
                    </a:lnTo>
                    <a:lnTo>
                      <a:pt x="1234" y="68"/>
                    </a:lnTo>
                    <a:lnTo>
                      <a:pt x="1224" y="69"/>
                    </a:lnTo>
                    <a:lnTo>
                      <a:pt x="1215" y="69"/>
                    </a:lnTo>
                    <a:lnTo>
                      <a:pt x="1206" y="67"/>
                    </a:lnTo>
                    <a:lnTo>
                      <a:pt x="1197" y="67"/>
                    </a:lnTo>
                    <a:lnTo>
                      <a:pt x="1187" y="70"/>
                    </a:lnTo>
                    <a:lnTo>
                      <a:pt x="1178" y="74"/>
                    </a:lnTo>
                    <a:lnTo>
                      <a:pt x="1169" y="77"/>
                    </a:lnTo>
                    <a:lnTo>
                      <a:pt x="1160" y="83"/>
                    </a:lnTo>
                    <a:lnTo>
                      <a:pt x="1150" y="83"/>
                    </a:lnTo>
                    <a:lnTo>
                      <a:pt x="1141" y="83"/>
                    </a:lnTo>
                    <a:lnTo>
                      <a:pt x="1132" y="88"/>
                    </a:lnTo>
                    <a:lnTo>
                      <a:pt x="1122" y="92"/>
                    </a:lnTo>
                    <a:lnTo>
                      <a:pt x="1113" y="95"/>
                    </a:lnTo>
                    <a:lnTo>
                      <a:pt x="1104" y="99"/>
                    </a:lnTo>
                    <a:lnTo>
                      <a:pt x="1095" y="102"/>
                    </a:lnTo>
                    <a:lnTo>
                      <a:pt x="1085" y="106"/>
                    </a:lnTo>
                    <a:lnTo>
                      <a:pt x="1076" y="107"/>
                    </a:lnTo>
                    <a:lnTo>
                      <a:pt x="1067" y="110"/>
                    </a:lnTo>
                    <a:lnTo>
                      <a:pt x="1057" y="110"/>
                    </a:lnTo>
                    <a:lnTo>
                      <a:pt x="1048" y="113"/>
                    </a:lnTo>
                    <a:lnTo>
                      <a:pt x="1039" y="116"/>
                    </a:lnTo>
                    <a:lnTo>
                      <a:pt x="1030" y="119"/>
                    </a:lnTo>
                    <a:lnTo>
                      <a:pt x="1020" y="121"/>
                    </a:lnTo>
                    <a:lnTo>
                      <a:pt x="1011" y="123"/>
                    </a:lnTo>
                    <a:lnTo>
                      <a:pt x="1002" y="125"/>
                    </a:lnTo>
                    <a:lnTo>
                      <a:pt x="992" y="127"/>
                    </a:lnTo>
                    <a:lnTo>
                      <a:pt x="983" y="130"/>
                    </a:lnTo>
                    <a:lnTo>
                      <a:pt x="974" y="132"/>
                    </a:lnTo>
                    <a:lnTo>
                      <a:pt x="965" y="134"/>
                    </a:lnTo>
                    <a:lnTo>
                      <a:pt x="955" y="134"/>
                    </a:lnTo>
                    <a:lnTo>
                      <a:pt x="946" y="136"/>
                    </a:lnTo>
                    <a:lnTo>
                      <a:pt x="937" y="137"/>
                    </a:lnTo>
                    <a:lnTo>
                      <a:pt x="928" y="138"/>
                    </a:lnTo>
                    <a:lnTo>
                      <a:pt x="918" y="141"/>
                    </a:lnTo>
                    <a:lnTo>
                      <a:pt x="909" y="141"/>
                    </a:lnTo>
                    <a:lnTo>
                      <a:pt x="900" y="142"/>
                    </a:lnTo>
                    <a:lnTo>
                      <a:pt x="890" y="144"/>
                    </a:lnTo>
                    <a:lnTo>
                      <a:pt x="881" y="146"/>
                    </a:lnTo>
                    <a:lnTo>
                      <a:pt x="872" y="143"/>
                    </a:lnTo>
                    <a:lnTo>
                      <a:pt x="863" y="142"/>
                    </a:lnTo>
                    <a:lnTo>
                      <a:pt x="853" y="143"/>
                    </a:lnTo>
                    <a:lnTo>
                      <a:pt x="844" y="144"/>
                    </a:lnTo>
                    <a:lnTo>
                      <a:pt x="835" y="146"/>
                    </a:lnTo>
                    <a:lnTo>
                      <a:pt x="825" y="146"/>
                    </a:lnTo>
                    <a:lnTo>
                      <a:pt x="816" y="148"/>
                    </a:lnTo>
                    <a:lnTo>
                      <a:pt x="807" y="147"/>
                    </a:lnTo>
                    <a:lnTo>
                      <a:pt x="798" y="148"/>
                    </a:lnTo>
                    <a:lnTo>
                      <a:pt x="788" y="150"/>
                    </a:lnTo>
                    <a:lnTo>
                      <a:pt x="779" y="151"/>
                    </a:lnTo>
                    <a:lnTo>
                      <a:pt x="770" y="152"/>
                    </a:lnTo>
                    <a:lnTo>
                      <a:pt x="760" y="152"/>
                    </a:lnTo>
                    <a:lnTo>
                      <a:pt x="751" y="151"/>
                    </a:lnTo>
                    <a:lnTo>
                      <a:pt x="742" y="150"/>
                    </a:lnTo>
                    <a:lnTo>
                      <a:pt x="733" y="149"/>
                    </a:lnTo>
                    <a:lnTo>
                      <a:pt x="723" y="149"/>
                    </a:lnTo>
                    <a:lnTo>
                      <a:pt x="714" y="150"/>
                    </a:lnTo>
                    <a:lnTo>
                      <a:pt x="705" y="151"/>
                    </a:lnTo>
                    <a:lnTo>
                      <a:pt x="696" y="151"/>
                    </a:lnTo>
                    <a:lnTo>
                      <a:pt x="686" y="152"/>
                    </a:lnTo>
                    <a:lnTo>
                      <a:pt x="677" y="152"/>
                    </a:lnTo>
                    <a:lnTo>
                      <a:pt x="668" y="154"/>
                    </a:lnTo>
                    <a:lnTo>
                      <a:pt x="658" y="155"/>
                    </a:lnTo>
                    <a:lnTo>
                      <a:pt x="649" y="153"/>
                    </a:lnTo>
                    <a:lnTo>
                      <a:pt x="640" y="155"/>
                    </a:lnTo>
                    <a:lnTo>
                      <a:pt x="631" y="153"/>
                    </a:lnTo>
                    <a:lnTo>
                      <a:pt x="621" y="153"/>
                    </a:lnTo>
                    <a:lnTo>
                      <a:pt x="612" y="154"/>
                    </a:lnTo>
                    <a:lnTo>
                      <a:pt x="603" y="155"/>
                    </a:lnTo>
                    <a:lnTo>
                      <a:pt x="593" y="155"/>
                    </a:lnTo>
                    <a:lnTo>
                      <a:pt x="584" y="154"/>
                    </a:lnTo>
                    <a:lnTo>
                      <a:pt x="575" y="155"/>
                    </a:lnTo>
                    <a:lnTo>
                      <a:pt x="566" y="155"/>
                    </a:lnTo>
                    <a:lnTo>
                      <a:pt x="556" y="156"/>
                    </a:lnTo>
                    <a:lnTo>
                      <a:pt x="547" y="156"/>
                    </a:lnTo>
                    <a:lnTo>
                      <a:pt x="538" y="157"/>
                    </a:lnTo>
                    <a:lnTo>
                      <a:pt x="528" y="156"/>
                    </a:lnTo>
                    <a:lnTo>
                      <a:pt x="519" y="157"/>
                    </a:lnTo>
                    <a:lnTo>
                      <a:pt x="510" y="158"/>
                    </a:lnTo>
                    <a:lnTo>
                      <a:pt x="501" y="159"/>
                    </a:lnTo>
                    <a:lnTo>
                      <a:pt x="491" y="159"/>
                    </a:lnTo>
                    <a:lnTo>
                      <a:pt x="482" y="160"/>
                    </a:lnTo>
                    <a:lnTo>
                      <a:pt x="473" y="160"/>
                    </a:lnTo>
                    <a:lnTo>
                      <a:pt x="464" y="160"/>
                    </a:lnTo>
                    <a:lnTo>
                      <a:pt x="454" y="161"/>
                    </a:lnTo>
                    <a:lnTo>
                      <a:pt x="445" y="161"/>
                    </a:lnTo>
                    <a:lnTo>
                      <a:pt x="436" y="162"/>
                    </a:lnTo>
                    <a:lnTo>
                      <a:pt x="426" y="162"/>
                    </a:lnTo>
                    <a:lnTo>
                      <a:pt x="417" y="162"/>
                    </a:lnTo>
                    <a:lnTo>
                      <a:pt x="408" y="162"/>
                    </a:lnTo>
                    <a:lnTo>
                      <a:pt x="399" y="163"/>
                    </a:lnTo>
                    <a:lnTo>
                      <a:pt x="389" y="163"/>
                    </a:lnTo>
                    <a:lnTo>
                      <a:pt x="380" y="163"/>
                    </a:lnTo>
                    <a:lnTo>
                      <a:pt x="371" y="163"/>
                    </a:lnTo>
                    <a:lnTo>
                      <a:pt x="361" y="163"/>
                    </a:lnTo>
                    <a:lnTo>
                      <a:pt x="352" y="163"/>
                    </a:lnTo>
                    <a:lnTo>
                      <a:pt x="343" y="164"/>
                    </a:lnTo>
                    <a:lnTo>
                      <a:pt x="334" y="164"/>
                    </a:lnTo>
                    <a:lnTo>
                      <a:pt x="324" y="164"/>
                    </a:lnTo>
                    <a:lnTo>
                      <a:pt x="315" y="164"/>
                    </a:lnTo>
                    <a:lnTo>
                      <a:pt x="306" y="164"/>
                    </a:lnTo>
                    <a:lnTo>
                      <a:pt x="296" y="164"/>
                    </a:lnTo>
                    <a:lnTo>
                      <a:pt x="287" y="165"/>
                    </a:lnTo>
                    <a:lnTo>
                      <a:pt x="278" y="165"/>
                    </a:lnTo>
                    <a:lnTo>
                      <a:pt x="269" y="165"/>
                    </a:lnTo>
                    <a:lnTo>
                      <a:pt x="259" y="165"/>
                    </a:lnTo>
                    <a:lnTo>
                      <a:pt x="250" y="165"/>
                    </a:lnTo>
                    <a:lnTo>
                      <a:pt x="241" y="166"/>
                    </a:lnTo>
                    <a:lnTo>
                      <a:pt x="232" y="166"/>
                    </a:lnTo>
                    <a:lnTo>
                      <a:pt x="222" y="166"/>
                    </a:lnTo>
                    <a:lnTo>
                      <a:pt x="213" y="166"/>
                    </a:lnTo>
                    <a:lnTo>
                      <a:pt x="204" y="166"/>
                    </a:lnTo>
                    <a:lnTo>
                      <a:pt x="194" y="166"/>
                    </a:lnTo>
                    <a:lnTo>
                      <a:pt x="185" y="166"/>
                    </a:lnTo>
                    <a:lnTo>
                      <a:pt x="176" y="167"/>
                    </a:lnTo>
                    <a:lnTo>
                      <a:pt x="167" y="167"/>
                    </a:lnTo>
                    <a:lnTo>
                      <a:pt x="157" y="167"/>
                    </a:lnTo>
                    <a:lnTo>
                      <a:pt x="148" y="167"/>
                    </a:lnTo>
                    <a:lnTo>
                      <a:pt x="139" y="167"/>
                    </a:lnTo>
                    <a:lnTo>
                      <a:pt x="129" y="167"/>
                    </a:lnTo>
                    <a:lnTo>
                      <a:pt x="120" y="167"/>
                    </a:lnTo>
                    <a:lnTo>
                      <a:pt x="111" y="167"/>
                    </a:lnTo>
                    <a:lnTo>
                      <a:pt x="102" y="168"/>
                    </a:lnTo>
                    <a:lnTo>
                      <a:pt x="92" y="168"/>
                    </a:lnTo>
                    <a:lnTo>
                      <a:pt x="83" y="168"/>
                    </a:lnTo>
                    <a:lnTo>
                      <a:pt x="74" y="168"/>
                    </a:lnTo>
                    <a:lnTo>
                      <a:pt x="64" y="168"/>
                    </a:lnTo>
                    <a:lnTo>
                      <a:pt x="55" y="168"/>
                    </a:lnTo>
                    <a:lnTo>
                      <a:pt x="46" y="168"/>
                    </a:lnTo>
                    <a:lnTo>
                      <a:pt x="37" y="168"/>
                    </a:lnTo>
                    <a:lnTo>
                      <a:pt x="27" y="168"/>
                    </a:lnTo>
                    <a:lnTo>
                      <a:pt x="18" y="169"/>
                    </a:lnTo>
                    <a:lnTo>
                      <a:pt x="9" y="168"/>
                    </a:lnTo>
                    <a:lnTo>
                      <a:pt x="0" y="168"/>
                    </a:lnTo>
                    <a:close/>
                  </a:path>
                </a:pathLst>
              </a:custGeom>
              <a:solidFill>
                <a:srgbClr val="ffc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4" name="Freeform 44"/>
              <p:cNvSpPr/>
              <p:nvPr/>
            </p:nvSpPr>
            <p:spPr>
              <a:xfrm>
                <a:off x="434160" y="6053760"/>
                <a:ext cx="2310120" cy="413280"/>
              </a:xfrm>
              <a:custGeom>
                <a:avLst/>
                <a:gdLst>
                  <a:gd name="textAreaLeft" fmla="*/ 0 w 2310120"/>
                  <a:gd name="textAreaRight" fmla="*/ 2310480 w 2310120"/>
                  <a:gd name="textAreaTop" fmla="*/ 0 h 413280"/>
                  <a:gd name="textAreaBottom" fmla="*/ 413640 h 413280"/>
                </a:gdLst>
                <a:ahLst/>
                <a:rect l="textAreaLeft" t="textAreaTop" r="textAreaRight" b="textAreaBottom"/>
                <a:pathLst>
                  <a:path w="1447" h="169">
                    <a:moveTo>
                      <a:pt x="0" y="168"/>
                    </a:moveTo>
                    <a:lnTo>
                      <a:pt x="9" y="168"/>
                    </a:lnTo>
                    <a:lnTo>
                      <a:pt x="18" y="169"/>
                    </a:lnTo>
                    <a:lnTo>
                      <a:pt x="27" y="168"/>
                    </a:lnTo>
                    <a:lnTo>
                      <a:pt x="37" y="168"/>
                    </a:lnTo>
                    <a:lnTo>
                      <a:pt x="46" y="168"/>
                    </a:lnTo>
                    <a:lnTo>
                      <a:pt x="55" y="168"/>
                    </a:lnTo>
                    <a:lnTo>
                      <a:pt x="64" y="168"/>
                    </a:lnTo>
                    <a:lnTo>
                      <a:pt x="74" y="168"/>
                    </a:lnTo>
                    <a:lnTo>
                      <a:pt x="83" y="168"/>
                    </a:lnTo>
                    <a:lnTo>
                      <a:pt x="92" y="168"/>
                    </a:lnTo>
                    <a:lnTo>
                      <a:pt x="102" y="168"/>
                    </a:lnTo>
                    <a:lnTo>
                      <a:pt x="111" y="167"/>
                    </a:lnTo>
                    <a:lnTo>
                      <a:pt x="120" y="167"/>
                    </a:lnTo>
                    <a:lnTo>
                      <a:pt x="129" y="167"/>
                    </a:lnTo>
                    <a:lnTo>
                      <a:pt x="139" y="167"/>
                    </a:lnTo>
                    <a:lnTo>
                      <a:pt x="148" y="167"/>
                    </a:lnTo>
                    <a:lnTo>
                      <a:pt x="157" y="167"/>
                    </a:lnTo>
                    <a:lnTo>
                      <a:pt x="167" y="167"/>
                    </a:lnTo>
                    <a:lnTo>
                      <a:pt x="176" y="167"/>
                    </a:lnTo>
                    <a:lnTo>
                      <a:pt x="185" y="166"/>
                    </a:lnTo>
                    <a:lnTo>
                      <a:pt x="194" y="166"/>
                    </a:lnTo>
                    <a:lnTo>
                      <a:pt x="204" y="166"/>
                    </a:lnTo>
                    <a:lnTo>
                      <a:pt x="213" y="166"/>
                    </a:lnTo>
                    <a:lnTo>
                      <a:pt x="222" y="166"/>
                    </a:lnTo>
                    <a:lnTo>
                      <a:pt x="232" y="166"/>
                    </a:lnTo>
                    <a:lnTo>
                      <a:pt x="241" y="166"/>
                    </a:lnTo>
                    <a:lnTo>
                      <a:pt x="250" y="165"/>
                    </a:lnTo>
                    <a:lnTo>
                      <a:pt x="259" y="165"/>
                    </a:lnTo>
                    <a:lnTo>
                      <a:pt x="269" y="165"/>
                    </a:lnTo>
                    <a:lnTo>
                      <a:pt x="278" y="165"/>
                    </a:lnTo>
                    <a:lnTo>
                      <a:pt x="287" y="165"/>
                    </a:lnTo>
                    <a:lnTo>
                      <a:pt x="296" y="164"/>
                    </a:lnTo>
                    <a:lnTo>
                      <a:pt x="306" y="164"/>
                    </a:lnTo>
                    <a:lnTo>
                      <a:pt x="315" y="164"/>
                    </a:lnTo>
                    <a:lnTo>
                      <a:pt x="324" y="164"/>
                    </a:lnTo>
                    <a:lnTo>
                      <a:pt x="334" y="164"/>
                    </a:lnTo>
                    <a:lnTo>
                      <a:pt x="343" y="164"/>
                    </a:lnTo>
                    <a:lnTo>
                      <a:pt x="352" y="163"/>
                    </a:lnTo>
                    <a:lnTo>
                      <a:pt x="361" y="163"/>
                    </a:lnTo>
                    <a:lnTo>
                      <a:pt x="371" y="163"/>
                    </a:lnTo>
                    <a:lnTo>
                      <a:pt x="380" y="163"/>
                    </a:lnTo>
                    <a:lnTo>
                      <a:pt x="389" y="163"/>
                    </a:lnTo>
                    <a:lnTo>
                      <a:pt x="399" y="163"/>
                    </a:lnTo>
                    <a:lnTo>
                      <a:pt x="408" y="162"/>
                    </a:lnTo>
                    <a:lnTo>
                      <a:pt x="417" y="162"/>
                    </a:lnTo>
                    <a:lnTo>
                      <a:pt x="426" y="162"/>
                    </a:lnTo>
                    <a:lnTo>
                      <a:pt x="436" y="162"/>
                    </a:lnTo>
                    <a:lnTo>
                      <a:pt x="445" y="161"/>
                    </a:lnTo>
                    <a:lnTo>
                      <a:pt x="454" y="161"/>
                    </a:lnTo>
                    <a:lnTo>
                      <a:pt x="464" y="160"/>
                    </a:lnTo>
                    <a:lnTo>
                      <a:pt x="473" y="160"/>
                    </a:lnTo>
                    <a:lnTo>
                      <a:pt x="482" y="160"/>
                    </a:lnTo>
                    <a:lnTo>
                      <a:pt x="491" y="159"/>
                    </a:lnTo>
                    <a:lnTo>
                      <a:pt x="501" y="159"/>
                    </a:lnTo>
                    <a:lnTo>
                      <a:pt x="510" y="158"/>
                    </a:lnTo>
                    <a:lnTo>
                      <a:pt x="519" y="157"/>
                    </a:lnTo>
                    <a:lnTo>
                      <a:pt x="528" y="156"/>
                    </a:lnTo>
                    <a:lnTo>
                      <a:pt x="538" y="157"/>
                    </a:lnTo>
                    <a:lnTo>
                      <a:pt x="547" y="156"/>
                    </a:lnTo>
                    <a:lnTo>
                      <a:pt x="556" y="156"/>
                    </a:lnTo>
                    <a:lnTo>
                      <a:pt x="566" y="155"/>
                    </a:lnTo>
                    <a:lnTo>
                      <a:pt x="575" y="155"/>
                    </a:lnTo>
                    <a:lnTo>
                      <a:pt x="584" y="154"/>
                    </a:lnTo>
                    <a:lnTo>
                      <a:pt x="593" y="155"/>
                    </a:lnTo>
                    <a:lnTo>
                      <a:pt x="603" y="155"/>
                    </a:lnTo>
                    <a:lnTo>
                      <a:pt x="612" y="154"/>
                    </a:lnTo>
                    <a:lnTo>
                      <a:pt x="621" y="153"/>
                    </a:lnTo>
                    <a:lnTo>
                      <a:pt x="631" y="153"/>
                    </a:lnTo>
                    <a:lnTo>
                      <a:pt x="640" y="155"/>
                    </a:lnTo>
                    <a:lnTo>
                      <a:pt x="649" y="153"/>
                    </a:lnTo>
                    <a:lnTo>
                      <a:pt x="658" y="155"/>
                    </a:lnTo>
                    <a:lnTo>
                      <a:pt x="668" y="154"/>
                    </a:lnTo>
                    <a:lnTo>
                      <a:pt x="677" y="152"/>
                    </a:lnTo>
                    <a:lnTo>
                      <a:pt x="686" y="152"/>
                    </a:lnTo>
                    <a:lnTo>
                      <a:pt x="696" y="151"/>
                    </a:lnTo>
                    <a:lnTo>
                      <a:pt x="705" y="151"/>
                    </a:lnTo>
                    <a:lnTo>
                      <a:pt x="714" y="150"/>
                    </a:lnTo>
                    <a:lnTo>
                      <a:pt x="723" y="149"/>
                    </a:lnTo>
                    <a:lnTo>
                      <a:pt x="733" y="148"/>
                    </a:lnTo>
                    <a:lnTo>
                      <a:pt x="742" y="149"/>
                    </a:lnTo>
                    <a:lnTo>
                      <a:pt x="751" y="150"/>
                    </a:lnTo>
                    <a:lnTo>
                      <a:pt x="760" y="152"/>
                    </a:lnTo>
                    <a:lnTo>
                      <a:pt x="770" y="151"/>
                    </a:lnTo>
                    <a:lnTo>
                      <a:pt x="779" y="150"/>
                    </a:lnTo>
                    <a:lnTo>
                      <a:pt x="788" y="149"/>
                    </a:lnTo>
                    <a:lnTo>
                      <a:pt x="798" y="148"/>
                    </a:lnTo>
                    <a:lnTo>
                      <a:pt x="807" y="147"/>
                    </a:lnTo>
                    <a:lnTo>
                      <a:pt x="816" y="147"/>
                    </a:lnTo>
                    <a:lnTo>
                      <a:pt x="825" y="145"/>
                    </a:lnTo>
                    <a:lnTo>
                      <a:pt x="835" y="145"/>
                    </a:lnTo>
                    <a:lnTo>
                      <a:pt x="844" y="143"/>
                    </a:lnTo>
                    <a:lnTo>
                      <a:pt x="853" y="142"/>
                    </a:lnTo>
                    <a:lnTo>
                      <a:pt x="863" y="142"/>
                    </a:lnTo>
                    <a:lnTo>
                      <a:pt x="872" y="142"/>
                    </a:lnTo>
                    <a:lnTo>
                      <a:pt x="881" y="145"/>
                    </a:lnTo>
                    <a:lnTo>
                      <a:pt x="890" y="143"/>
                    </a:lnTo>
                    <a:lnTo>
                      <a:pt x="900" y="141"/>
                    </a:lnTo>
                    <a:lnTo>
                      <a:pt x="909" y="140"/>
                    </a:lnTo>
                    <a:lnTo>
                      <a:pt x="918" y="140"/>
                    </a:lnTo>
                    <a:lnTo>
                      <a:pt x="928" y="137"/>
                    </a:lnTo>
                    <a:lnTo>
                      <a:pt x="937" y="136"/>
                    </a:lnTo>
                    <a:lnTo>
                      <a:pt x="946" y="135"/>
                    </a:lnTo>
                    <a:lnTo>
                      <a:pt x="955" y="134"/>
                    </a:lnTo>
                    <a:lnTo>
                      <a:pt x="965" y="133"/>
                    </a:lnTo>
                    <a:lnTo>
                      <a:pt x="974" y="131"/>
                    </a:lnTo>
                    <a:lnTo>
                      <a:pt x="983" y="129"/>
                    </a:lnTo>
                    <a:lnTo>
                      <a:pt x="992" y="126"/>
                    </a:lnTo>
                    <a:lnTo>
                      <a:pt x="1002" y="124"/>
                    </a:lnTo>
                    <a:lnTo>
                      <a:pt x="1011" y="122"/>
                    </a:lnTo>
                    <a:lnTo>
                      <a:pt x="1020" y="120"/>
                    </a:lnTo>
                    <a:lnTo>
                      <a:pt x="1030" y="118"/>
                    </a:lnTo>
                    <a:lnTo>
                      <a:pt x="1039" y="115"/>
                    </a:lnTo>
                    <a:lnTo>
                      <a:pt x="1048" y="112"/>
                    </a:lnTo>
                    <a:lnTo>
                      <a:pt x="1057" y="109"/>
                    </a:lnTo>
                    <a:lnTo>
                      <a:pt x="1067" y="109"/>
                    </a:lnTo>
                    <a:lnTo>
                      <a:pt x="1076" y="106"/>
                    </a:lnTo>
                    <a:lnTo>
                      <a:pt x="1085" y="104"/>
                    </a:lnTo>
                    <a:lnTo>
                      <a:pt x="1095" y="101"/>
                    </a:lnTo>
                    <a:lnTo>
                      <a:pt x="1104" y="97"/>
                    </a:lnTo>
                    <a:lnTo>
                      <a:pt x="1113" y="94"/>
                    </a:lnTo>
                    <a:lnTo>
                      <a:pt x="1122" y="91"/>
                    </a:lnTo>
                    <a:lnTo>
                      <a:pt x="1132" y="86"/>
                    </a:lnTo>
                    <a:lnTo>
                      <a:pt x="1141" y="81"/>
                    </a:lnTo>
                    <a:lnTo>
                      <a:pt x="1150" y="81"/>
                    </a:lnTo>
                    <a:lnTo>
                      <a:pt x="1160" y="81"/>
                    </a:lnTo>
                    <a:lnTo>
                      <a:pt x="1169" y="75"/>
                    </a:lnTo>
                    <a:lnTo>
                      <a:pt x="1178" y="72"/>
                    </a:lnTo>
                    <a:lnTo>
                      <a:pt x="1187" y="68"/>
                    </a:lnTo>
                    <a:lnTo>
                      <a:pt x="1197" y="65"/>
                    </a:lnTo>
                    <a:lnTo>
                      <a:pt x="1206" y="65"/>
                    </a:lnTo>
                    <a:lnTo>
                      <a:pt x="1215" y="66"/>
                    </a:lnTo>
                    <a:lnTo>
                      <a:pt x="1224" y="66"/>
                    </a:lnTo>
                    <a:lnTo>
                      <a:pt x="1234" y="66"/>
                    </a:lnTo>
                    <a:lnTo>
                      <a:pt x="1243" y="62"/>
                    </a:lnTo>
                    <a:lnTo>
                      <a:pt x="1252" y="59"/>
                    </a:lnTo>
                    <a:lnTo>
                      <a:pt x="1262" y="57"/>
                    </a:lnTo>
                    <a:lnTo>
                      <a:pt x="1271" y="52"/>
                    </a:lnTo>
                    <a:lnTo>
                      <a:pt x="1280" y="48"/>
                    </a:lnTo>
                    <a:lnTo>
                      <a:pt x="1289" y="46"/>
                    </a:lnTo>
                    <a:lnTo>
                      <a:pt x="1299" y="44"/>
                    </a:lnTo>
                    <a:lnTo>
                      <a:pt x="1308" y="43"/>
                    </a:lnTo>
                    <a:lnTo>
                      <a:pt x="1317" y="43"/>
                    </a:lnTo>
                    <a:lnTo>
                      <a:pt x="1327" y="42"/>
                    </a:lnTo>
                    <a:lnTo>
                      <a:pt x="1336" y="41"/>
                    </a:lnTo>
                    <a:lnTo>
                      <a:pt x="1345" y="38"/>
                    </a:lnTo>
                    <a:lnTo>
                      <a:pt x="1354" y="34"/>
                    </a:lnTo>
                    <a:lnTo>
                      <a:pt x="1364" y="33"/>
                    </a:lnTo>
                    <a:lnTo>
                      <a:pt x="1373" y="32"/>
                    </a:lnTo>
                    <a:lnTo>
                      <a:pt x="1382" y="29"/>
                    </a:lnTo>
                    <a:lnTo>
                      <a:pt x="1392" y="26"/>
                    </a:lnTo>
                    <a:lnTo>
                      <a:pt x="1401" y="26"/>
                    </a:lnTo>
                    <a:lnTo>
                      <a:pt x="1410" y="22"/>
                    </a:lnTo>
                    <a:lnTo>
                      <a:pt x="1419" y="16"/>
                    </a:lnTo>
                    <a:lnTo>
                      <a:pt x="1429" y="8"/>
                    </a:lnTo>
                    <a:lnTo>
                      <a:pt x="1438" y="4"/>
                    </a:lnTo>
                    <a:lnTo>
                      <a:pt x="1447" y="0"/>
                    </a:lnTo>
                    <a:lnTo>
                      <a:pt x="1447" y="4"/>
                    </a:lnTo>
                    <a:lnTo>
                      <a:pt x="1438" y="8"/>
                    </a:lnTo>
                    <a:lnTo>
                      <a:pt x="1429" y="12"/>
                    </a:lnTo>
                    <a:lnTo>
                      <a:pt x="1419" y="20"/>
                    </a:lnTo>
                    <a:lnTo>
                      <a:pt x="1410" y="26"/>
                    </a:lnTo>
                    <a:lnTo>
                      <a:pt x="1401" y="29"/>
                    </a:lnTo>
                    <a:lnTo>
                      <a:pt x="1392" y="30"/>
                    </a:lnTo>
                    <a:lnTo>
                      <a:pt x="1382" y="33"/>
                    </a:lnTo>
                    <a:lnTo>
                      <a:pt x="1373" y="36"/>
                    </a:lnTo>
                    <a:lnTo>
                      <a:pt x="1364" y="36"/>
                    </a:lnTo>
                    <a:lnTo>
                      <a:pt x="1354" y="38"/>
                    </a:lnTo>
                    <a:lnTo>
                      <a:pt x="1345" y="41"/>
                    </a:lnTo>
                    <a:lnTo>
                      <a:pt x="1336" y="44"/>
                    </a:lnTo>
                    <a:lnTo>
                      <a:pt x="1327" y="45"/>
                    </a:lnTo>
                    <a:lnTo>
                      <a:pt x="1317" y="46"/>
                    </a:lnTo>
                    <a:lnTo>
                      <a:pt x="1308" y="46"/>
                    </a:lnTo>
                    <a:lnTo>
                      <a:pt x="1299" y="47"/>
                    </a:lnTo>
                    <a:lnTo>
                      <a:pt x="1289" y="49"/>
                    </a:lnTo>
                    <a:lnTo>
                      <a:pt x="1280" y="51"/>
                    </a:lnTo>
                    <a:lnTo>
                      <a:pt x="1271" y="55"/>
                    </a:lnTo>
                    <a:lnTo>
                      <a:pt x="1262" y="60"/>
                    </a:lnTo>
                    <a:lnTo>
                      <a:pt x="1252" y="62"/>
                    </a:lnTo>
                    <a:lnTo>
                      <a:pt x="1243" y="64"/>
                    </a:lnTo>
                    <a:lnTo>
                      <a:pt x="1234" y="68"/>
                    </a:lnTo>
                    <a:lnTo>
                      <a:pt x="1224" y="69"/>
                    </a:lnTo>
                    <a:lnTo>
                      <a:pt x="1215" y="69"/>
                    </a:lnTo>
                    <a:lnTo>
                      <a:pt x="1206" y="67"/>
                    </a:lnTo>
                    <a:lnTo>
                      <a:pt x="1197" y="67"/>
                    </a:lnTo>
                    <a:lnTo>
                      <a:pt x="1187" y="70"/>
                    </a:lnTo>
                    <a:lnTo>
                      <a:pt x="1178" y="74"/>
                    </a:lnTo>
                    <a:lnTo>
                      <a:pt x="1169" y="77"/>
                    </a:lnTo>
                    <a:lnTo>
                      <a:pt x="1160" y="83"/>
                    </a:lnTo>
                    <a:lnTo>
                      <a:pt x="1150" y="83"/>
                    </a:lnTo>
                    <a:lnTo>
                      <a:pt x="1141" y="83"/>
                    </a:lnTo>
                    <a:lnTo>
                      <a:pt x="1132" y="88"/>
                    </a:lnTo>
                    <a:lnTo>
                      <a:pt x="1122" y="92"/>
                    </a:lnTo>
                    <a:lnTo>
                      <a:pt x="1113" y="95"/>
                    </a:lnTo>
                    <a:lnTo>
                      <a:pt x="1104" y="99"/>
                    </a:lnTo>
                    <a:lnTo>
                      <a:pt x="1095" y="102"/>
                    </a:lnTo>
                    <a:lnTo>
                      <a:pt x="1085" y="106"/>
                    </a:lnTo>
                    <a:lnTo>
                      <a:pt x="1076" y="107"/>
                    </a:lnTo>
                    <a:lnTo>
                      <a:pt x="1067" y="110"/>
                    </a:lnTo>
                    <a:lnTo>
                      <a:pt x="1057" y="110"/>
                    </a:lnTo>
                    <a:lnTo>
                      <a:pt x="1048" y="113"/>
                    </a:lnTo>
                    <a:lnTo>
                      <a:pt x="1039" y="116"/>
                    </a:lnTo>
                    <a:lnTo>
                      <a:pt x="1030" y="119"/>
                    </a:lnTo>
                    <a:lnTo>
                      <a:pt x="1020" y="121"/>
                    </a:lnTo>
                    <a:lnTo>
                      <a:pt x="1011" y="123"/>
                    </a:lnTo>
                    <a:lnTo>
                      <a:pt x="1002" y="125"/>
                    </a:lnTo>
                    <a:lnTo>
                      <a:pt x="992" y="127"/>
                    </a:lnTo>
                    <a:lnTo>
                      <a:pt x="983" y="130"/>
                    </a:lnTo>
                    <a:lnTo>
                      <a:pt x="974" y="132"/>
                    </a:lnTo>
                    <a:lnTo>
                      <a:pt x="965" y="134"/>
                    </a:lnTo>
                    <a:lnTo>
                      <a:pt x="955" y="134"/>
                    </a:lnTo>
                    <a:lnTo>
                      <a:pt x="946" y="136"/>
                    </a:lnTo>
                    <a:lnTo>
                      <a:pt x="937" y="137"/>
                    </a:lnTo>
                    <a:lnTo>
                      <a:pt x="928" y="138"/>
                    </a:lnTo>
                    <a:lnTo>
                      <a:pt x="918" y="141"/>
                    </a:lnTo>
                    <a:lnTo>
                      <a:pt x="909" y="141"/>
                    </a:lnTo>
                    <a:lnTo>
                      <a:pt x="900" y="142"/>
                    </a:lnTo>
                    <a:lnTo>
                      <a:pt x="890" y="144"/>
                    </a:lnTo>
                    <a:lnTo>
                      <a:pt x="881" y="146"/>
                    </a:lnTo>
                    <a:lnTo>
                      <a:pt x="872" y="143"/>
                    </a:lnTo>
                    <a:lnTo>
                      <a:pt x="863" y="142"/>
                    </a:lnTo>
                    <a:lnTo>
                      <a:pt x="853" y="143"/>
                    </a:lnTo>
                    <a:lnTo>
                      <a:pt x="844" y="144"/>
                    </a:lnTo>
                    <a:lnTo>
                      <a:pt x="835" y="146"/>
                    </a:lnTo>
                    <a:lnTo>
                      <a:pt x="825" y="146"/>
                    </a:lnTo>
                    <a:lnTo>
                      <a:pt x="816" y="148"/>
                    </a:lnTo>
                    <a:lnTo>
                      <a:pt x="807" y="147"/>
                    </a:lnTo>
                    <a:lnTo>
                      <a:pt x="798" y="148"/>
                    </a:lnTo>
                    <a:lnTo>
                      <a:pt x="788" y="150"/>
                    </a:lnTo>
                    <a:lnTo>
                      <a:pt x="779" y="151"/>
                    </a:lnTo>
                    <a:lnTo>
                      <a:pt x="770" y="152"/>
                    </a:lnTo>
                    <a:lnTo>
                      <a:pt x="760" y="152"/>
                    </a:lnTo>
                    <a:lnTo>
                      <a:pt x="751" y="151"/>
                    </a:lnTo>
                    <a:lnTo>
                      <a:pt x="742" y="150"/>
                    </a:lnTo>
                    <a:lnTo>
                      <a:pt x="733" y="149"/>
                    </a:lnTo>
                    <a:lnTo>
                      <a:pt x="723" y="149"/>
                    </a:lnTo>
                    <a:lnTo>
                      <a:pt x="714" y="150"/>
                    </a:lnTo>
                    <a:lnTo>
                      <a:pt x="705" y="151"/>
                    </a:lnTo>
                    <a:lnTo>
                      <a:pt x="696" y="151"/>
                    </a:lnTo>
                    <a:lnTo>
                      <a:pt x="686" y="152"/>
                    </a:lnTo>
                    <a:lnTo>
                      <a:pt x="677" y="152"/>
                    </a:lnTo>
                    <a:lnTo>
                      <a:pt x="668" y="154"/>
                    </a:lnTo>
                    <a:lnTo>
                      <a:pt x="658" y="155"/>
                    </a:lnTo>
                    <a:lnTo>
                      <a:pt x="649" y="153"/>
                    </a:lnTo>
                    <a:lnTo>
                      <a:pt x="640" y="155"/>
                    </a:lnTo>
                    <a:lnTo>
                      <a:pt x="631" y="153"/>
                    </a:lnTo>
                    <a:lnTo>
                      <a:pt x="621" y="153"/>
                    </a:lnTo>
                    <a:lnTo>
                      <a:pt x="612" y="154"/>
                    </a:lnTo>
                    <a:lnTo>
                      <a:pt x="603" y="155"/>
                    </a:lnTo>
                    <a:lnTo>
                      <a:pt x="593" y="155"/>
                    </a:lnTo>
                    <a:lnTo>
                      <a:pt x="584" y="154"/>
                    </a:lnTo>
                    <a:lnTo>
                      <a:pt x="575" y="155"/>
                    </a:lnTo>
                    <a:lnTo>
                      <a:pt x="566" y="155"/>
                    </a:lnTo>
                    <a:lnTo>
                      <a:pt x="556" y="156"/>
                    </a:lnTo>
                    <a:lnTo>
                      <a:pt x="547" y="156"/>
                    </a:lnTo>
                    <a:lnTo>
                      <a:pt x="538" y="157"/>
                    </a:lnTo>
                    <a:lnTo>
                      <a:pt x="528" y="156"/>
                    </a:lnTo>
                    <a:lnTo>
                      <a:pt x="519" y="157"/>
                    </a:lnTo>
                    <a:lnTo>
                      <a:pt x="510" y="158"/>
                    </a:lnTo>
                    <a:lnTo>
                      <a:pt x="501" y="159"/>
                    </a:lnTo>
                    <a:lnTo>
                      <a:pt x="491" y="159"/>
                    </a:lnTo>
                    <a:lnTo>
                      <a:pt x="482" y="160"/>
                    </a:lnTo>
                    <a:lnTo>
                      <a:pt x="473" y="160"/>
                    </a:lnTo>
                    <a:lnTo>
                      <a:pt x="464" y="160"/>
                    </a:lnTo>
                    <a:lnTo>
                      <a:pt x="454" y="161"/>
                    </a:lnTo>
                    <a:lnTo>
                      <a:pt x="445" y="161"/>
                    </a:lnTo>
                    <a:lnTo>
                      <a:pt x="436" y="162"/>
                    </a:lnTo>
                    <a:lnTo>
                      <a:pt x="426" y="162"/>
                    </a:lnTo>
                    <a:lnTo>
                      <a:pt x="417" y="162"/>
                    </a:lnTo>
                    <a:lnTo>
                      <a:pt x="408" y="162"/>
                    </a:lnTo>
                    <a:lnTo>
                      <a:pt x="399" y="163"/>
                    </a:lnTo>
                    <a:lnTo>
                      <a:pt x="389" y="163"/>
                    </a:lnTo>
                    <a:lnTo>
                      <a:pt x="380" y="163"/>
                    </a:lnTo>
                    <a:lnTo>
                      <a:pt x="371" y="163"/>
                    </a:lnTo>
                    <a:lnTo>
                      <a:pt x="361" y="163"/>
                    </a:lnTo>
                    <a:lnTo>
                      <a:pt x="352" y="163"/>
                    </a:lnTo>
                    <a:lnTo>
                      <a:pt x="343" y="164"/>
                    </a:lnTo>
                    <a:lnTo>
                      <a:pt x="334" y="164"/>
                    </a:lnTo>
                    <a:lnTo>
                      <a:pt x="324" y="164"/>
                    </a:lnTo>
                    <a:lnTo>
                      <a:pt x="315" y="164"/>
                    </a:lnTo>
                    <a:lnTo>
                      <a:pt x="306" y="164"/>
                    </a:lnTo>
                    <a:lnTo>
                      <a:pt x="296" y="164"/>
                    </a:lnTo>
                    <a:lnTo>
                      <a:pt x="287" y="165"/>
                    </a:lnTo>
                    <a:lnTo>
                      <a:pt x="278" y="165"/>
                    </a:lnTo>
                    <a:lnTo>
                      <a:pt x="269" y="165"/>
                    </a:lnTo>
                    <a:lnTo>
                      <a:pt x="259" y="165"/>
                    </a:lnTo>
                    <a:lnTo>
                      <a:pt x="250" y="165"/>
                    </a:lnTo>
                    <a:lnTo>
                      <a:pt x="241" y="166"/>
                    </a:lnTo>
                    <a:lnTo>
                      <a:pt x="232" y="166"/>
                    </a:lnTo>
                    <a:lnTo>
                      <a:pt x="222" y="166"/>
                    </a:lnTo>
                    <a:lnTo>
                      <a:pt x="213" y="166"/>
                    </a:lnTo>
                    <a:lnTo>
                      <a:pt x="204" y="166"/>
                    </a:lnTo>
                    <a:lnTo>
                      <a:pt x="194" y="166"/>
                    </a:lnTo>
                    <a:lnTo>
                      <a:pt x="185" y="166"/>
                    </a:lnTo>
                    <a:lnTo>
                      <a:pt x="176" y="167"/>
                    </a:lnTo>
                    <a:lnTo>
                      <a:pt x="167" y="167"/>
                    </a:lnTo>
                    <a:lnTo>
                      <a:pt x="157" y="167"/>
                    </a:lnTo>
                    <a:lnTo>
                      <a:pt x="148" y="167"/>
                    </a:lnTo>
                    <a:lnTo>
                      <a:pt x="139" y="167"/>
                    </a:lnTo>
                    <a:lnTo>
                      <a:pt x="129" y="167"/>
                    </a:lnTo>
                    <a:lnTo>
                      <a:pt x="120" y="167"/>
                    </a:lnTo>
                    <a:lnTo>
                      <a:pt x="111" y="167"/>
                    </a:lnTo>
                    <a:lnTo>
                      <a:pt x="102" y="168"/>
                    </a:lnTo>
                    <a:lnTo>
                      <a:pt x="92" y="168"/>
                    </a:lnTo>
                    <a:lnTo>
                      <a:pt x="83" y="168"/>
                    </a:lnTo>
                    <a:lnTo>
                      <a:pt x="74" y="168"/>
                    </a:lnTo>
                    <a:lnTo>
                      <a:pt x="64" y="168"/>
                    </a:lnTo>
                    <a:lnTo>
                      <a:pt x="55" y="168"/>
                    </a:lnTo>
                    <a:lnTo>
                      <a:pt x="46" y="168"/>
                    </a:lnTo>
                    <a:lnTo>
                      <a:pt x="37" y="168"/>
                    </a:lnTo>
                    <a:lnTo>
                      <a:pt x="27" y="168"/>
                    </a:lnTo>
                    <a:lnTo>
                      <a:pt x="18" y="169"/>
                    </a:lnTo>
                    <a:lnTo>
                      <a:pt x="9" y="168"/>
                    </a:lnTo>
                    <a:lnTo>
                      <a:pt x="0" y="168"/>
                    </a:lnTo>
                    <a:close/>
                  </a:path>
                </a:pathLst>
              </a:custGeom>
              <a:noFill/>
              <a:ln w="3175">
                <a:solidFill>
                  <a:srgbClr val="ffc8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5" name="Freeform 45"/>
              <p:cNvSpPr/>
              <p:nvPr/>
            </p:nvSpPr>
            <p:spPr>
              <a:xfrm>
                <a:off x="434160" y="6063480"/>
                <a:ext cx="2310120" cy="403200"/>
              </a:xfrm>
              <a:custGeom>
                <a:avLst/>
                <a:gdLst>
                  <a:gd name="textAreaLeft" fmla="*/ 0 w 2310120"/>
                  <a:gd name="textAreaRight" fmla="*/ 2310480 w 2310120"/>
                  <a:gd name="textAreaTop" fmla="*/ 0 h 403200"/>
                  <a:gd name="textAreaBottom" fmla="*/ 403560 h 403200"/>
                </a:gdLst>
                <a:ahLst/>
                <a:rect l="textAreaLeft" t="textAreaTop" r="textAreaRight" b="textAreaBottom"/>
                <a:pathLst>
                  <a:path w="1447" h="164">
                    <a:moveTo>
                      <a:pt x="0" y="164"/>
                    </a:moveTo>
                    <a:lnTo>
                      <a:pt x="9" y="164"/>
                    </a:lnTo>
                    <a:lnTo>
                      <a:pt x="18" y="164"/>
                    </a:lnTo>
                    <a:lnTo>
                      <a:pt x="27" y="164"/>
                    </a:lnTo>
                    <a:lnTo>
                      <a:pt x="37" y="164"/>
                    </a:lnTo>
                    <a:lnTo>
                      <a:pt x="46" y="164"/>
                    </a:lnTo>
                    <a:lnTo>
                      <a:pt x="55" y="164"/>
                    </a:lnTo>
                    <a:lnTo>
                      <a:pt x="64" y="164"/>
                    </a:lnTo>
                    <a:lnTo>
                      <a:pt x="74" y="164"/>
                    </a:lnTo>
                    <a:lnTo>
                      <a:pt x="83" y="164"/>
                    </a:lnTo>
                    <a:lnTo>
                      <a:pt x="92" y="163"/>
                    </a:lnTo>
                    <a:lnTo>
                      <a:pt x="102" y="163"/>
                    </a:lnTo>
                    <a:lnTo>
                      <a:pt x="111" y="163"/>
                    </a:lnTo>
                    <a:lnTo>
                      <a:pt x="120" y="163"/>
                    </a:lnTo>
                    <a:lnTo>
                      <a:pt x="129" y="163"/>
                    </a:lnTo>
                    <a:lnTo>
                      <a:pt x="139" y="163"/>
                    </a:lnTo>
                    <a:lnTo>
                      <a:pt x="148" y="163"/>
                    </a:lnTo>
                    <a:lnTo>
                      <a:pt x="157" y="163"/>
                    </a:lnTo>
                    <a:lnTo>
                      <a:pt x="167" y="162"/>
                    </a:lnTo>
                    <a:lnTo>
                      <a:pt x="176" y="162"/>
                    </a:lnTo>
                    <a:lnTo>
                      <a:pt x="185" y="162"/>
                    </a:lnTo>
                    <a:lnTo>
                      <a:pt x="194" y="162"/>
                    </a:lnTo>
                    <a:lnTo>
                      <a:pt x="204" y="162"/>
                    </a:lnTo>
                    <a:lnTo>
                      <a:pt x="213" y="162"/>
                    </a:lnTo>
                    <a:lnTo>
                      <a:pt x="222" y="162"/>
                    </a:lnTo>
                    <a:lnTo>
                      <a:pt x="232" y="161"/>
                    </a:lnTo>
                    <a:lnTo>
                      <a:pt x="241" y="161"/>
                    </a:lnTo>
                    <a:lnTo>
                      <a:pt x="250" y="161"/>
                    </a:lnTo>
                    <a:lnTo>
                      <a:pt x="259" y="161"/>
                    </a:lnTo>
                    <a:lnTo>
                      <a:pt x="269" y="161"/>
                    </a:lnTo>
                    <a:lnTo>
                      <a:pt x="278" y="161"/>
                    </a:lnTo>
                    <a:lnTo>
                      <a:pt x="287" y="160"/>
                    </a:lnTo>
                    <a:lnTo>
                      <a:pt x="296" y="160"/>
                    </a:lnTo>
                    <a:lnTo>
                      <a:pt x="306" y="160"/>
                    </a:lnTo>
                    <a:lnTo>
                      <a:pt x="315" y="160"/>
                    </a:lnTo>
                    <a:lnTo>
                      <a:pt x="324" y="160"/>
                    </a:lnTo>
                    <a:lnTo>
                      <a:pt x="334" y="160"/>
                    </a:lnTo>
                    <a:lnTo>
                      <a:pt x="343" y="160"/>
                    </a:lnTo>
                    <a:lnTo>
                      <a:pt x="352" y="159"/>
                    </a:lnTo>
                    <a:lnTo>
                      <a:pt x="361" y="159"/>
                    </a:lnTo>
                    <a:lnTo>
                      <a:pt x="371" y="159"/>
                    </a:lnTo>
                    <a:lnTo>
                      <a:pt x="380" y="158"/>
                    </a:lnTo>
                    <a:lnTo>
                      <a:pt x="389" y="158"/>
                    </a:lnTo>
                    <a:lnTo>
                      <a:pt x="399" y="158"/>
                    </a:lnTo>
                    <a:lnTo>
                      <a:pt x="408" y="158"/>
                    </a:lnTo>
                    <a:lnTo>
                      <a:pt x="417" y="158"/>
                    </a:lnTo>
                    <a:lnTo>
                      <a:pt x="426" y="158"/>
                    </a:lnTo>
                    <a:lnTo>
                      <a:pt x="436" y="157"/>
                    </a:lnTo>
                    <a:lnTo>
                      <a:pt x="445" y="157"/>
                    </a:lnTo>
                    <a:lnTo>
                      <a:pt x="454" y="156"/>
                    </a:lnTo>
                    <a:lnTo>
                      <a:pt x="464" y="156"/>
                    </a:lnTo>
                    <a:lnTo>
                      <a:pt x="473" y="156"/>
                    </a:lnTo>
                    <a:lnTo>
                      <a:pt x="482" y="156"/>
                    </a:lnTo>
                    <a:lnTo>
                      <a:pt x="491" y="155"/>
                    </a:lnTo>
                    <a:lnTo>
                      <a:pt x="501" y="155"/>
                    </a:lnTo>
                    <a:lnTo>
                      <a:pt x="510" y="154"/>
                    </a:lnTo>
                    <a:lnTo>
                      <a:pt x="519" y="153"/>
                    </a:lnTo>
                    <a:lnTo>
                      <a:pt x="528" y="152"/>
                    </a:lnTo>
                    <a:lnTo>
                      <a:pt x="538" y="153"/>
                    </a:lnTo>
                    <a:lnTo>
                      <a:pt x="547" y="152"/>
                    </a:lnTo>
                    <a:lnTo>
                      <a:pt x="556" y="152"/>
                    </a:lnTo>
                    <a:lnTo>
                      <a:pt x="566" y="151"/>
                    </a:lnTo>
                    <a:lnTo>
                      <a:pt x="575" y="151"/>
                    </a:lnTo>
                    <a:lnTo>
                      <a:pt x="584" y="150"/>
                    </a:lnTo>
                    <a:lnTo>
                      <a:pt x="593" y="151"/>
                    </a:lnTo>
                    <a:lnTo>
                      <a:pt x="603" y="151"/>
                    </a:lnTo>
                    <a:lnTo>
                      <a:pt x="612" y="150"/>
                    </a:lnTo>
                    <a:lnTo>
                      <a:pt x="621" y="149"/>
                    </a:lnTo>
                    <a:lnTo>
                      <a:pt x="631" y="149"/>
                    </a:lnTo>
                    <a:lnTo>
                      <a:pt x="640" y="151"/>
                    </a:lnTo>
                    <a:lnTo>
                      <a:pt x="649" y="149"/>
                    </a:lnTo>
                    <a:lnTo>
                      <a:pt x="658" y="151"/>
                    </a:lnTo>
                    <a:lnTo>
                      <a:pt x="668" y="150"/>
                    </a:lnTo>
                    <a:lnTo>
                      <a:pt x="677" y="148"/>
                    </a:lnTo>
                    <a:lnTo>
                      <a:pt x="686" y="148"/>
                    </a:lnTo>
                    <a:lnTo>
                      <a:pt x="696" y="147"/>
                    </a:lnTo>
                    <a:lnTo>
                      <a:pt x="705" y="147"/>
                    </a:lnTo>
                    <a:lnTo>
                      <a:pt x="714" y="146"/>
                    </a:lnTo>
                    <a:lnTo>
                      <a:pt x="723" y="145"/>
                    </a:lnTo>
                    <a:lnTo>
                      <a:pt x="733" y="145"/>
                    </a:lnTo>
                    <a:lnTo>
                      <a:pt x="742" y="145"/>
                    </a:lnTo>
                    <a:lnTo>
                      <a:pt x="751" y="147"/>
                    </a:lnTo>
                    <a:lnTo>
                      <a:pt x="760" y="148"/>
                    </a:lnTo>
                    <a:lnTo>
                      <a:pt x="770" y="147"/>
                    </a:lnTo>
                    <a:lnTo>
                      <a:pt x="779" y="146"/>
                    </a:lnTo>
                    <a:lnTo>
                      <a:pt x="788" y="146"/>
                    </a:lnTo>
                    <a:lnTo>
                      <a:pt x="798" y="144"/>
                    </a:lnTo>
                    <a:lnTo>
                      <a:pt x="807" y="143"/>
                    </a:lnTo>
                    <a:lnTo>
                      <a:pt x="816" y="143"/>
                    </a:lnTo>
                    <a:lnTo>
                      <a:pt x="825" y="142"/>
                    </a:lnTo>
                    <a:lnTo>
                      <a:pt x="835" y="142"/>
                    </a:lnTo>
                    <a:lnTo>
                      <a:pt x="844" y="139"/>
                    </a:lnTo>
                    <a:lnTo>
                      <a:pt x="853" y="139"/>
                    </a:lnTo>
                    <a:lnTo>
                      <a:pt x="863" y="138"/>
                    </a:lnTo>
                    <a:lnTo>
                      <a:pt x="872" y="139"/>
                    </a:lnTo>
                    <a:lnTo>
                      <a:pt x="881" y="141"/>
                    </a:lnTo>
                    <a:lnTo>
                      <a:pt x="890" y="140"/>
                    </a:lnTo>
                    <a:lnTo>
                      <a:pt x="900" y="138"/>
                    </a:lnTo>
                    <a:lnTo>
                      <a:pt x="909" y="137"/>
                    </a:lnTo>
                    <a:lnTo>
                      <a:pt x="918" y="136"/>
                    </a:lnTo>
                    <a:lnTo>
                      <a:pt x="928" y="134"/>
                    </a:lnTo>
                    <a:lnTo>
                      <a:pt x="937" y="132"/>
                    </a:lnTo>
                    <a:lnTo>
                      <a:pt x="946" y="131"/>
                    </a:lnTo>
                    <a:lnTo>
                      <a:pt x="955" y="130"/>
                    </a:lnTo>
                    <a:lnTo>
                      <a:pt x="965" y="129"/>
                    </a:lnTo>
                    <a:lnTo>
                      <a:pt x="974" y="127"/>
                    </a:lnTo>
                    <a:lnTo>
                      <a:pt x="983" y="126"/>
                    </a:lnTo>
                    <a:lnTo>
                      <a:pt x="992" y="123"/>
                    </a:lnTo>
                    <a:lnTo>
                      <a:pt x="1002" y="121"/>
                    </a:lnTo>
                    <a:lnTo>
                      <a:pt x="1011" y="119"/>
                    </a:lnTo>
                    <a:lnTo>
                      <a:pt x="1020" y="116"/>
                    </a:lnTo>
                    <a:lnTo>
                      <a:pt x="1030" y="115"/>
                    </a:lnTo>
                    <a:lnTo>
                      <a:pt x="1039" y="112"/>
                    </a:lnTo>
                    <a:lnTo>
                      <a:pt x="1048" y="109"/>
                    </a:lnTo>
                    <a:lnTo>
                      <a:pt x="1057" y="106"/>
                    </a:lnTo>
                    <a:lnTo>
                      <a:pt x="1067" y="106"/>
                    </a:lnTo>
                    <a:lnTo>
                      <a:pt x="1076" y="103"/>
                    </a:lnTo>
                    <a:lnTo>
                      <a:pt x="1085" y="102"/>
                    </a:lnTo>
                    <a:lnTo>
                      <a:pt x="1095" y="98"/>
                    </a:lnTo>
                    <a:lnTo>
                      <a:pt x="1104" y="95"/>
                    </a:lnTo>
                    <a:lnTo>
                      <a:pt x="1113" y="91"/>
                    </a:lnTo>
                    <a:lnTo>
                      <a:pt x="1122" y="88"/>
                    </a:lnTo>
                    <a:lnTo>
                      <a:pt x="1132" y="84"/>
                    </a:lnTo>
                    <a:lnTo>
                      <a:pt x="1141" y="79"/>
                    </a:lnTo>
                    <a:lnTo>
                      <a:pt x="1150" y="79"/>
                    </a:lnTo>
                    <a:lnTo>
                      <a:pt x="1160" y="78"/>
                    </a:lnTo>
                    <a:lnTo>
                      <a:pt x="1169" y="73"/>
                    </a:lnTo>
                    <a:lnTo>
                      <a:pt x="1178" y="70"/>
                    </a:lnTo>
                    <a:lnTo>
                      <a:pt x="1187" y="66"/>
                    </a:lnTo>
                    <a:lnTo>
                      <a:pt x="1197" y="63"/>
                    </a:lnTo>
                    <a:lnTo>
                      <a:pt x="1206" y="63"/>
                    </a:lnTo>
                    <a:lnTo>
                      <a:pt x="1215" y="65"/>
                    </a:lnTo>
                    <a:lnTo>
                      <a:pt x="1224" y="65"/>
                    </a:lnTo>
                    <a:lnTo>
                      <a:pt x="1234" y="64"/>
                    </a:lnTo>
                    <a:lnTo>
                      <a:pt x="1243" y="60"/>
                    </a:lnTo>
                    <a:lnTo>
                      <a:pt x="1252" y="58"/>
                    </a:lnTo>
                    <a:lnTo>
                      <a:pt x="1262" y="55"/>
                    </a:lnTo>
                    <a:lnTo>
                      <a:pt x="1271" y="51"/>
                    </a:lnTo>
                    <a:lnTo>
                      <a:pt x="1280" y="47"/>
                    </a:lnTo>
                    <a:lnTo>
                      <a:pt x="1289" y="45"/>
                    </a:lnTo>
                    <a:lnTo>
                      <a:pt x="1299" y="43"/>
                    </a:lnTo>
                    <a:lnTo>
                      <a:pt x="1308" y="42"/>
                    </a:lnTo>
                    <a:lnTo>
                      <a:pt x="1317" y="42"/>
                    </a:lnTo>
                    <a:lnTo>
                      <a:pt x="1327" y="41"/>
                    </a:lnTo>
                    <a:lnTo>
                      <a:pt x="1336" y="40"/>
                    </a:lnTo>
                    <a:lnTo>
                      <a:pt x="1345" y="37"/>
                    </a:lnTo>
                    <a:lnTo>
                      <a:pt x="1354" y="33"/>
                    </a:lnTo>
                    <a:lnTo>
                      <a:pt x="1364" y="32"/>
                    </a:lnTo>
                    <a:lnTo>
                      <a:pt x="1373" y="31"/>
                    </a:lnTo>
                    <a:lnTo>
                      <a:pt x="1382" y="29"/>
                    </a:lnTo>
                    <a:lnTo>
                      <a:pt x="1392" y="26"/>
                    </a:lnTo>
                    <a:lnTo>
                      <a:pt x="1401" y="25"/>
                    </a:lnTo>
                    <a:lnTo>
                      <a:pt x="1410" y="22"/>
                    </a:lnTo>
                    <a:lnTo>
                      <a:pt x="1419" y="16"/>
                    </a:lnTo>
                    <a:lnTo>
                      <a:pt x="1429" y="8"/>
                    </a:lnTo>
                    <a:lnTo>
                      <a:pt x="1438" y="4"/>
                    </a:lnTo>
                    <a:lnTo>
                      <a:pt x="1447" y="0"/>
                    </a:lnTo>
                    <a:lnTo>
                      <a:pt x="1447" y="3"/>
                    </a:lnTo>
                    <a:lnTo>
                      <a:pt x="1438" y="8"/>
                    </a:lnTo>
                    <a:lnTo>
                      <a:pt x="1429" y="12"/>
                    </a:lnTo>
                    <a:lnTo>
                      <a:pt x="1419" y="19"/>
                    </a:lnTo>
                    <a:lnTo>
                      <a:pt x="1410" y="25"/>
                    </a:lnTo>
                    <a:lnTo>
                      <a:pt x="1401" y="29"/>
                    </a:lnTo>
                    <a:lnTo>
                      <a:pt x="1392" y="29"/>
                    </a:lnTo>
                    <a:lnTo>
                      <a:pt x="1382" y="32"/>
                    </a:lnTo>
                    <a:lnTo>
                      <a:pt x="1373" y="35"/>
                    </a:lnTo>
                    <a:lnTo>
                      <a:pt x="1364" y="35"/>
                    </a:lnTo>
                    <a:lnTo>
                      <a:pt x="1354" y="37"/>
                    </a:lnTo>
                    <a:lnTo>
                      <a:pt x="1345" y="40"/>
                    </a:lnTo>
                    <a:lnTo>
                      <a:pt x="1336" y="43"/>
                    </a:lnTo>
                    <a:lnTo>
                      <a:pt x="1327" y="44"/>
                    </a:lnTo>
                    <a:lnTo>
                      <a:pt x="1317" y="45"/>
                    </a:lnTo>
                    <a:lnTo>
                      <a:pt x="1308" y="45"/>
                    </a:lnTo>
                    <a:lnTo>
                      <a:pt x="1299" y="46"/>
                    </a:lnTo>
                    <a:lnTo>
                      <a:pt x="1289" y="48"/>
                    </a:lnTo>
                    <a:lnTo>
                      <a:pt x="1280" y="50"/>
                    </a:lnTo>
                    <a:lnTo>
                      <a:pt x="1271" y="53"/>
                    </a:lnTo>
                    <a:lnTo>
                      <a:pt x="1262" y="58"/>
                    </a:lnTo>
                    <a:lnTo>
                      <a:pt x="1252" y="60"/>
                    </a:lnTo>
                    <a:lnTo>
                      <a:pt x="1243" y="62"/>
                    </a:lnTo>
                    <a:lnTo>
                      <a:pt x="1234" y="65"/>
                    </a:lnTo>
                    <a:lnTo>
                      <a:pt x="1224" y="66"/>
                    </a:lnTo>
                    <a:lnTo>
                      <a:pt x="1215" y="66"/>
                    </a:lnTo>
                    <a:lnTo>
                      <a:pt x="1206" y="64"/>
                    </a:lnTo>
                    <a:lnTo>
                      <a:pt x="1197" y="64"/>
                    </a:lnTo>
                    <a:lnTo>
                      <a:pt x="1187" y="67"/>
                    </a:lnTo>
                    <a:lnTo>
                      <a:pt x="1178" y="71"/>
                    </a:lnTo>
                    <a:lnTo>
                      <a:pt x="1169" y="74"/>
                    </a:lnTo>
                    <a:lnTo>
                      <a:pt x="1160" y="79"/>
                    </a:lnTo>
                    <a:lnTo>
                      <a:pt x="1150" y="79"/>
                    </a:lnTo>
                    <a:lnTo>
                      <a:pt x="1141" y="79"/>
                    </a:lnTo>
                    <a:lnTo>
                      <a:pt x="1132" y="84"/>
                    </a:lnTo>
                    <a:lnTo>
                      <a:pt x="1122" y="88"/>
                    </a:lnTo>
                    <a:lnTo>
                      <a:pt x="1113" y="91"/>
                    </a:lnTo>
                    <a:lnTo>
                      <a:pt x="1104" y="95"/>
                    </a:lnTo>
                    <a:lnTo>
                      <a:pt x="1095" y="98"/>
                    </a:lnTo>
                    <a:lnTo>
                      <a:pt x="1085" y="102"/>
                    </a:lnTo>
                    <a:lnTo>
                      <a:pt x="1076" y="103"/>
                    </a:lnTo>
                    <a:lnTo>
                      <a:pt x="1067" y="106"/>
                    </a:lnTo>
                    <a:lnTo>
                      <a:pt x="1057" y="106"/>
                    </a:lnTo>
                    <a:lnTo>
                      <a:pt x="1048" y="109"/>
                    </a:lnTo>
                    <a:lnTo>
                      <a:pt x="1039" y="112"/>
                    </a:lnTo>
                    <a:lnTo>
                      <a:pt x="1030" y="115"/>
                    </a:lnTo>
                    <a:lnTo>
                      <a:pt x="1020" y="116"/>
                    </a:lnTo>
                    <a:lnTo>
                      <a:pt x="1011" y="119"/>
                    </a:lnTo>
                    <a:lnTo>
                      <a:pt x="1002" y="121"/>
                    </a:lnTo>
                    <a:lnTo>
                      <a:pt x="992" y="123"/>
                    </a:lnTo>
                    <a:lnTo>
                      <a:pt x="983" y="126"/>
                    </a:lnTo>
                    <a:lnTo>
                      <a:pt x="974" y="127"/>
                    </a:lnTo>
                    <a:lnTo>
                      <a:pt x="965" y="129"/>
                    </a:lnTo>
                    <a:lnTo>
                      <a:pt x="955" y="130"/>
                    </a:lnTo>
                    <a:lnTo>
                      <a:pt x="946" y="131"/>
                    </a:lnTo>
                    <a:lnTo>
                      <a:pt x="937" y="132"/>
                    </a:lnTo>
                    <a:lnTo>
                      <a:pt x="928" y="134"/>
                    </a:lnTo>
                    <a:lnTo>
                      <a:pt x="918" y="136"/>
                    </a:lnTo>
                    <a:lnTo>
                      <a:pt x="909" y="137"/>
                    </a:lnTo>
                    <a:lnTo>
                      <a:pt x="900" y="138"/>
                    </a:lnTo>
                    <a:lnTo>
                      <a:pt x="890" y="140"/>
                    </a:lnTo>
                    <a:lnTo>
                      <a:pt x="881" y="141"/>
                    </a:lnTo>
                    <a:lnTo>
                      <a:pt x="872" y="139"/>
                    </a:lnTo>
                    <a:lnTo>
                      <a:pt x="863" y="138"/>
                    </a:lnTo>
                    <a:lnTo>
                      <a:pt x="853" y="139"/>
                    </a:lnTo>
                    <a:lnTo>
                      <a:pt x="844" y="139"/>
                    </a:lnTo>
                    <a:lnTo>
                      <a:pt x="835" y="142"/>
                    </a:lnTo>
                    <a:lnTo>
                      <a:pt x="825" y="142"/>
                    </a:lnTo>
                    <a:lnTo>
                      <a:pt x="816" y="143"/>
                    </a:lnTo>
                    <a:lnTo>
                      <a:pt x="807" y="143"/>
                    </a:lnTo>
                    <a:lnTo>
                      <a:pt x="798" y="144"/>
                    </a:lnTo>
                    <a:lnTo>
                      <a:pt x="788" y="146"/>
                    </a:lnTo>
                    <a:lnTo>
                      <a:pt x="779" y="146"/>
                    </a:lnTo>
                    <a:lnTo>
                      <a:pt x="770" y="147"/>
                    </a:lnTo>
                    <a:lnTo>
                      <a:pt x="760" y="148"/>
                    </a:lnTo>
                    <a:lnTo>
                      <a:pt x="751" y="147"/>
                    </a:lnTo>
                    <a:lnTo>
                      <a:pt x="742" y="145"/>
                    </a:lnTo>
                    <a:lnTo>
                      <a:pt x="733" y="145"/>
                    </a:lnTo>
                    <a:lnTo>
                      <a:pt x="723" y="145"/>
                    </a:lnTo>
                    <a:lnTo>
                      <a:pt x="714" y="146"/>
                    </a:lnTo>
                    <a:lnTo>
                      <a:pt x="705" y="147"/>
                    </a:lnTo>
                    <a:lnTo>
                      <a:pt x="696" y="147"/>
                    </a:lnTo>
                    <a:lnTo>
                      <a:pt x="686" y="148"/>
                    </a:lnTo>
                    <a:lnTo>
                      <a:pt x="677" y="148"/>
                    </a:lnTo>
                    <a:lnTo>
                      <a:pt x="668" y="150"/>
                    </a:lnTo>
                    <a:lnTo>
                      <a:pt x="658" y="151"/>
                    </a:lnTo>
                    <a:lnTo>
                      <a:pt x="649" y="149"/>
                    </a:lnTo>
                    <a:lnTo>
                      <a:pt x="640" y="151"/>
                    </a:lnTo>
                    <a:lnTo>
                      <a:pt x="631" y="149"/>
                    </a:lnTo>
                    <a:lnTo>
                      <a:pt x="621" y="149"/>
                    </a:lnTo>
                    <a:lnTo>
                      <a:pt x="612" y="150"/>
                    </a:lnTo>
                    <a:lnTo>
                      <a:pt x="603" y="151"/>
                    </a:lnTo>
                    <a:lnTo>
                      <a:pt x="593" y="151"/>
                    </a:lnTo>
                    <a:lnTo>
                      <a:pt x="584" y="150"/>
                    </a:lnTo>
                    <a:lnTo>
                      <a:pt x="575" y="151"/>
                    </a:lnTo>
                    <a:lnTo>
                      <a:pt x="566" y="151"/>
                    </a:lnTo>
                    <a:lnTo>
                      <a:pt x="556" y="152"/>
                    </a:lnTo>
                    <a:lnTo>
                      <a:pt x="547" y="152"/>
                    </a:lnTo>
                    <a:lnTo>
                      <a:pt x="538" y="153"/>
                    </a:lnTo>
                    <a:lnTo>
                      <a:pt x="528" y="152"/>
                    </a:lnTo>
                    <a:lnTo>
                      <a:pt x="519" y="153"/>
                    </a:lnTo>
                    <a:lnTo>
                      <a:pt x="510" y="154"/>
                    </a:lnTo>
                    <a:lnTo>
                      <a:pt x="501" y="155"/>
                    </a:lnTo>
                    <a:lnTo>
                      <a:pt x="491" y="155"/>
                    </a:lnTo>
                    <a:lnTo>
                      <a:pt x="482" y="156"/>
                    </a:lnTo>
                    <a:lnTo>
                      <a:pt x="473" y="156"/>
                    </a:lnTo>
                    <a:lnTo>
                      <a:pt x="464" y="156"/>
                    </a:lnTo>
                    <a:lnTo>
                      <a:pt x="454" y="156"/>
                    </a:lnTo>
                    <a:lnTo>
                      <a:pt x="445" y="157"/>
                    </a:lnTo>
                    <a:lnTo>
                      <a:pt x="436" y="157"/>
                    </a:lnTo>
                    <a:lnTo>
                      <a:pt x="426" y="158"/>
                    </a:lnTo>
                    <a:lnTo>
                      <a:pt x="417" y="158"/>
                    </a:lnTo>
                    <a:lnTo>
                      <a:pt x="408" y="158"/>
                    </a:lnTo>
                    <a:lnTo>
                      <a:pt x="399" y="158"/>
                    </a:lnTo>
                    <a:lnTo>
                      <a:pt x="389" y="158"/>
                    </a:lnTo>
                    <a:lnTo>
                      <a:pt x="380" y="158"/>
                    </a:lnTo>
                    <a:lnTo>
                      <a:pt x="371" y="159"/>
                    </a:lnTo>
                    <a:lnTo>
                      <a:pt x="361" y="159"/>
                    </a:lnTo>
                    <a:lnTo>
                      <a:pt x="352" y="159"/>
                    </a:lnTo>
                    <a:lnTo>
                      <a:pt x="343" y="160"/>
                    </a:lnTo>
                    <a:lnTo>
                      <a:pt x="334" y="160"/>
                    </a:lnTo>
                    <a:lnTo>
                      <a:pt x="324" y="160"/>
                    </a:lnTo>
                    <a:lnTo>
                      <a:pt x="315" y="160"/>
                    </a:lnTo>
                    <a:lnTo>
                      <a:pt x="306" y="160"/>
                    </a:lnTo>
                    <a:lnTo>
                      <a:pt x="296" y="160"/>
                    </a:lnTo>
                    <a:lnTo>
                      <a:pt x="287" y="160"/>
                    </a:lnTo>
                    <a:lnTo>
                      <a:pt x="278" y="161"/>
                    </a:lnTo>
                    <a:lnTo>
                      <a:pt x="269" y="161"/>
                    </a:lnTo>
                    <a:lnTo>
                      <a:pt x="259" y="161"/>
                    </a:lnTo>
                    <a:lnTo>
                      <a:pt x="250" y="161"/>
                    </a:lnTo>
                    <a:lnTo>
                      <a:pt x="241" y="161"/>
                    </a:lnTo>
                    <a:lnTo>
                      <a:pt x="232" y="161"/>
                    </a:lnTo>
                    <a:lnTo>
                      <a:pt x="222" y="162"/>
                    </a:lnTo>
                    <a:lnTo>
                      <a:pt x="213" y="162"/>
                    </a:lnTo>
                    <a:lnTo>
                      <a:pt x="204" y="162"/>
                    </a:lnTo>
                    <a:lnTo>
                      <a:pt x="194" y="162"/>
                    </a:lnTo>
                    <a:lnTo>
                      <a:pt x="185" y="162"/>
                    </a:lnTo>
                    <a:lnTo>
                      <a:pt x="176" y="162"/>
                    </a:lnTo>
                    <a:lnTo>
                      <a:pt x="167" y="162"/>
                    </a:lnTo>
                    <a:lnTo>
                      <a:pt x="157" y="163"/>
                    </a:lnTo>
                    <a:lnTo>
                      <a:pt x="148" y="163"/>
                    </a:lnTo>
                    <a:lnTo>
                      <a:pt x="139" y="163"/>
                    </a:lnTo>
                    <a:lnTo>
                      <a:pt x="129" y="163"/>
                    </a:lnTo>
                    <a:lnTo>
                      <a:pt x="120" y="163"/>
                    </a:lnTo>
                    <a:lnTo>
                      <a:pt x="111" y="163"/>
                    </a:lnTo>
                    <a:lnTo>
                      <a:pt x="102" y="163"/>
                    </a:lnTo>
                    <a:lnTo>
                      <a:pt x="92" y="163"/>
                    </a:lnTo>
                    <a:lnTo>
                      <a:pt x="83" y="164"/>
                    </a:lnTo>
                    <a:lnTo>
                      <a:pt x="74" y="164"/>
                    </a:lnTo>
                    <a:lnTo>
                      <a:pt x="64" y="164"/>
                    </a:lnTo>
                    <a:lnTo>
                      <a:pt x="55" y="164"/>
                    </a:lnTo>
                    <a:lnTo>
                      <a:pt x="46" y="164"/>
                    </a:lnTo>
                    <a:lnTo>
                      <a:pt x="37" y="164"/>
                    </a:lnTo>
                    <a:lnTo>
                      <a:pt x="27" y="164"/>
                    </a:lnTo>
                    <a:lnTo>
                      <a:pt x="18" y="164"/>
                    </a:lnTo>
                    <a:lnTo>
                      <a:pt x="9" y="164"/>
                    </a:lnTo>
                    <a:lnTo>
                      <a:pt x="0" y="164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6" name="Freeform 46"/>
              <p:cNvSpPr/>
              <p:nvPr/>
            </p:nvSpPr>
            <p:spPr>
              <a:xfrm>
                <a:off x="434160" y="6063480"/>
                <a:ext cx="2310120" cy="403200"/>
              </a:xfrm>
              <a:custGeom>
                <a:avLst/>
                <a:gdLst>
                  <a:gd name="textAreaLeft" fmla="*/ 0 w 2310120"/>
                  <a:gd name="textAreaRight" fmla="*/ 2310480 w 2310120"/>
                  <a:gd name="textAreaTop" fmla="*/ 0 h 403200"/>
                  <a:gd name="textAreaBottom" fmla="*/ 403560 h 403200"/>
                </a:gdLst>
                <a:ahLst/>
                <a:rect l="textAreaLeft" t="textAreaTop" r="textAreaRight" b="textAreaBottom"/>
                <a:pathLst>
                  <a:path w="1447" h="164">
                    <a:moveTo>
                      <a:pt x="0" y="164"/>
                    </a:moveTo>
                    <a:lnTo>
                      <a:pt x="9" y="164"/>
                    </a:lnTo>
                    <a:lnTo>
                      <a:pt x="18" y="164"/>
                    </a:lnTo>
                    <a:lnTo>
                      <a:pt x="27" y="164"/>
                    </a:lnTo>
                    <a:lnTo>
                      <a:pt x="37" y="164"/>
                    </a:lnTo>
                    <a:lnTo>
                      <a:pt x="46" y="164"/>
                    </a:lnTo>
                    <a:lnTo>
                      <a:pt x="55" y="164"/>
                    </a:lnTo>
                    <a:lnTo>
                      <a:pt x="64" y="164"/>
                    </a:lnTo>
                    <a:lnTo>
                      <a:pt x="74" y="164"/>
                    </a:lnTo>
                    <a:lnTo>
                      <a:pt x="83" y="164"/>
                    </a:lnTo>
                    <a:lnTo>
                      <a:pt x="92" y="163"/>
                    </a:lnTo>
                    <a:lnTo>
                      <a:pt x="102" y="163"/>
                    </a:lnTo>
                    <a:lnTo>
                      <a:pt x="111" y="163"/>
                    </a:lnTo>
                    <a:lnTo>
                      <a:pt x="120" y="163"/>
                    </a:lnTo>
                    <a:lnTo>
                      <a:pt x="129" y="163"/>
                    </a:lnTo>
                    <a:lnTo>
                      <a:pt x="139" y="163"/>
                    </a:lnTo>
                    <a:lnTo>
                      <a:pt x="148" y="163"/>
                    </a:lnTo>
                    <a:lnTo>
                      <a:pt x="157" y="163"/>
                    </a:lnTo>
                    <a:lnTo>
                      <a:pt x="167" y="162"/>
                    </a:lnTo>
                    <a:lnTo>
                      <a:pt x="176" y="162"/>
                    </a:lnTo>
                    <a:lnTo>
                      <a:pt x="185" y="162"/>
                    </a:lnTo>
                    <a:lnTo>
                      <a:pt x="194" y="162"/>
                    </a:lnTo>
                    <a:lnTo>
                      <a:pt x="204" y="162"/>
                    </a:lnTo>
                    <a:lnTo>
                      <a:pt x="213" y="162"/>
                    </a:lnTo>
                    <a:lnTo>
                      <a:pt x="222" y="162"/>
                    </a:lnTo>
                    <a:lnTo>
                      <a:pt x="232" y="161"/>
                    </a:lnTo>
                    <a:lnTo>
                      <a:pt x="241" y="161"/>
                    </a:lnTo>
                    <a:lnTo>
                      <a:pt x="250" y="161"/>
                    </a:lnTo>
                    <a:lnTo>
                      <a:pt x="259" y="161"/>
                    </a:lnTo>
                    <a:lnTo>
                      <a:pt x="269" y="161"/>
                    </a:lnTo>
                    <a:lnTo>
                      <a:pt x="278" y="161"/>
                    </a:lnTo>
                    <a:lnTo>
                      <a:pt x="287" y="160"/>
                    </a:lnTo>
                    <a:lnTo>
                      <a:pt x="296" y="160"/>
                    </a:lnTo>
                    <a:lnTo>
                      <a:pt x="306" y="160"/>
                    </a:lnTo>
                    <a:lnTo>
                      <a:pt x="315" y="160"/>
                    </a:lnTo>
                    <a:lnTo>
                      <a:pt x="324" y="160"/>
                    </a:lnTo>
                    <a:lnTo>
                      <a:pt x="334" y="160"/>
                    </a:lnTo>
                    <a:lnTo>
                      <a:pt x="343" y="160"/>
                    </a:lnTo>
                    <a:lnTo>
                      <a:pt x="352" y="159"/>
                    </a:lnTo>
                    <a:lnTo>
                      <a:pt x="361" y="159"/>
                    </a:lnTo>
                    <a:lnTo>
                      <a:pt x="371" y="159"/>
                    </a:lnTo>
                    <a:lnTo>
                      <a:pt x="380" y="158"/>
                    </a:lnTo>
                    <a:lnTo>
                      <a:pt x="389" y="158"/>
                    </a:lnTo>
                    <a:lnTo>
                      <a:pt x="399" y="158"/>
                    </a:lnTo>
                    <a:lnTo>
                      <a:pt x="408" y="158"/>
                    </a:lnTo>
                    <a:lnTo>
                      <a:pt x="417" y="158"/>
                    </a:lnTo>
                    <a:lnTo>
                      <a:pt x="426" y="158"/>
                    </a:lnTo>
                    <a:lnTo>
                      <a:pt x="436" y="157"/>
                    </a:lnTo>
                    <a:lnTo>
                      <a:pt x="445" y="157"/>
                    </a:lnTo>
                    <a:lnTo>
                      <a:pt x="454" y="156"/>
                    </a:lnTo>
                    <a:lnTo>
                      <a:pt x="464" y="156"/>
                    </a:lnTo>
                    <a:lnTo>
                      <a:pt x="473" y="156"/>
                    </a:lnTo>
                    <a:lnTo>
                      <a:pt x="482" y="156"/>
                    </a:lnTo>
                    <a:lnTo>
                      <a:pt x="491" y="155"/>
                    </a:lnTo>
                    <a:lnTo>
                      <a:pt x="501" y="155"/>
                    </a:lnTo>
                    <a:lnTo>
                      <a:pt x="510" y="154"/>
                    </a:lnTo>
                    <a:lnTo>
                      <a:pt x="519" y="153"/>
                    </a:lnTo>
                    <a:lnTo>
                      <a:pt x="528" y="152"/>
                    </a:lnTo>
                    <a:lnTo>
                      <a:pt x="538" y="153"/>
                    </a:lnTo>
                    <a:lnTo>
                      <a:pt x="547" y="152"/>
                    </a:lnTo>
                    <a:lnTo>
                      <a:pt x="556" y="152"/>
                    </a:lnTo>
                    <a:lnTo>
                      <a:pt x="566" y="151"/>
                    </a:lnTo>
                    <a:lnTo>
                      <a:pt x="575" y="151"/>
                    </a:lnTo>
                    <a:lnTo>
                      <a:pt x="584" y="150"/>
                    </a:lnTo>
                    <a:lnTo>
                      <a:pt x="593" y="151"/>
                    </a:lnTo>
                    <a:lnTo>
                      <a:pt x="603" y="151"/>
                    </a:lnTo>
                    <a:lnTo>
                      <a:pt x="612" y="150"/>
                    </a:lnTo>
                    <a:lnTo>
                      <a:pt x="621" y="149"/>
                    </a:lnTo>
                    <a:lnTo>
                      <a:pt x="631" y="149"/>
                    </a:lnTo>
                    <a:lnTo>
                      <a:pt x="640" y="151"/>
                    </a:lnTo>
                    <a:lnTo>
                      <a:pt x="649" y="149"/>
                    </a:lnTo>
                    <a:lnTo>
                      <a:pt x="658" y="151"/>
                    </a:lnTo>
                    <a:lnTo>
                      <a:pt x="668" y="150"/>
                    </a:lnTo>
                    <a:lnTo>
                      <a:pt x="677" y="148"/>
                    </a:lnTo>
                    <a:lnTo>
                      <a:pt x="686" y="148"/>
                    </a:lnTo>
                    <a:lnTo>
                      <a:pt x="696" y="147"/>
                    </a:lnTo>
                    <a:lnTo>
                      <a:pt x="705" y="147"/>
                    </a:lnTo>
                    <a:lnTo>
                      <a:pt x="714" y="146"/>
                    </a:lnTo>
                    <a:lnTo>
                      <a:pt x="723" y="145"/>
                    </a:lnTo>
                    <a:lnTo>
                      <a:pt x="733" y="145"/>
                    </a:lnTo>
                    <a:lnTo>
                      <a:pt x="742" y="145"/>
                    </a:lnTo>
                    <a:lnTo>
                      <a:pt x="751" y="147"/>
                    </a:lnTo>
                    <a:lnTo>
                      <a:pt x="760" y="148"/>
                    </a:lnTo>
                    <a:lnTo>
                      <a:pt x="770" y="147"/>
                    </a:lnTo>
                    <a:lnTo>
                      <a:pt x="779" y="146"/>
                    </a:lnTo>
                    <a:lnTo>
                      <a:pt x="788" y="146"/>
                    </a:lnTo>
                    <a:lnTo>
                      <a:pt x="798" y="144"/>
                    </a:lnTo>
                    <a:lnTo>
                      <a:pt x="807" y="143"/>
                    </a:lnTo>
                    <a:lnTo>
                      <a:pt x="816" y="143"/>
                    </a:lnTo>
                    <a:lnTo>
                      <a:pt x="825" y="142"/>
                    </a:lnTo>
                    <a:lnTo>
                      <a:pt x="835" y="142"/>
                    </a:lnTo>
                    <a:lnTo>
                      <a:pt x="844" y="139"/>
                    </a:lnTo>
                    <a:lnTo>
                      <a:pt x="853" y="139"/>
                    </a:lnTo>
                    <a:lnTo>
                      <a:pt x="863" y="138"/>
                    </a:lnTo>
                    <a:lnTo>
                      <a:pt x="872" y="139"/>
                    </a:lnTo>
                    <a:lnTo>
                      <a:pt x="881" y="141"/>
                    </a:lnTo>
                    <a:lnTo>
                      <a:pt x="890" y="140"/>
                    </a:lnTo>
                    <a:lnTo>
                      <a:pt x="900" y="138"/>
                    </a:lnTo>
                    <a:lnTo>
                      <a:pt x="909" y="137"/>
                    </a:lnTo>
                    <a:lnTo>
                      <a:pt x="918" y="136"/>
                    </a:lnTo>
                    <a:lnTo>
                      <a:pt x="928" y="134"/>
                    </a:lnTo>
                    <a:lnTo>
                      <a:pt x="937" y="132"/>
                    </a:lnTo>
                    <a:lnTo>
                      <a:pt x="946" y="131"/>
                    </a:lnTo>
                    <a:lnTo>
                      <a:pt x="955" y="130"/>
                    </a:lnTo>
                    <a:lnTo>
                      <a:pt x="965" y="129"/>
                    </a:lnTo>
                    <a:lnTo>
                      <a:pt x="974" y="127"/>
                    </a:lnTo>
                    <a:lnTo>
                      <a:pt x="983" y="126"/>
                    </a:lnTo>
                    <a:lnTo>
                      <a:pt x="992" y="123"/>
                    </a:lnTo>
                    <a:lnTo>
                      <a:pt x="1002" y="121"/>
                    </a:lnTo>
                    <a:lnTo>
                      <a:pt x="1011" y="119"/>
                    </a:lnTo>
                    <a:lnTo>
                      <a:pt x="1020" y="116"/>
                    </a:lnTo>
                    <a:lnTo>
                      <a:pt x="1030" y="115"/>
                    </a:lnTo>
                    <a:lnTo>
                      <a:pt x="1039" y="112"/>
                    </a:lnTo>
                    <a:lnTo>
                      <a:pt x="1048" y="109"/>
                    </a:lnTo>
                    <a:lnTo>
                      <a:pt x="1057" y="106"/>
                    </a:lnTo>
                    <a:lnTo>
                      <a:pt x="1067" y="106"/>
                    </a:lnTo>
                    <a:lnTo>
                      <a:pt x="1076" y="103"/>
                    </a:lnTo>
                    <a:lnTo>
                      <a:pt x="1085" y="102"/>
                    </a:lnTo>
                    <a:lnTo>
                      <a:pt x="1095" y="98"/>
                    </a:lnTo>
                    <a:lnTo>
                      <a:pt x="1104" y="95"/>
                    </a:lnTo>
                    <a:lnTo>
                      <a:pt x="1113" y="91"/>
                    </a:lnTo>
                    <a:lnTo>
                      <a:pt x="1122" y="88"/>
                    </a:lnTo>
                    <a:lnTo>
                      <a:pt x="1132" y="84"/>
                    </a:lnTo>
                    <a:lnTo>
                      <a:pt x="1141" y="79"/>
                    </a:lnTo>
                    <a:lnTo>
                      <a:pt x="1150" y="79"/>
                    </a:lnTo>
                    <a:lnTo>
                      <a:pt x="1160" y="78"/>
                    </a:lnTo>
                    <a:lnTo>
                      <a:pt x="1169" y="73"/>
                    </a:lnTo>
                    <a:lnTo>
                      <a:pt x="1178" y="70"/>
                    </a:lnTo>
                    <a:lnTo>
                      <a:pt x="1187" y="66"/>
                    </a:lnTo>
                    <a:lnTo>
                      <a:pt x="1197" y="63"/>
                    </a:lnTo>
                    <a:lnTo>
                      <a:pt x="1206" y="63"/>
                    </a:lnTo>
                    <a:lnTo>
                      <a:pt x="1215" y="65"/>
                    </a:lnTo>
                    <a:lnTo>
                      <a:pt x="1224" y="65"/>
                    </a:lnTo>
                    <a:lnTo>
                      <a:pt x="1234" y="64"/>
                    </a:lnTo>
                    <a:lnTo>
                      <a:pt x="1243" y="60"/>
                    </a:lnTo>
                    <a:lnTo>
                      <a:pt x="1252" y="58"/>
                    </a:lnTo>
                    <a:lnTo>
                      <a:pt x="1262" y="55"/>
                    </a:lnTo>
                    <a:lnTo>
                      <a:pt x="1271" y="51"/>
                    </a:lnTo>
                    <a:lnTo>
                      <a:pt x="1280" y="47"/>
                    </a:lnTo>
                    <a:lnTo>
                      <a:pt x="1289" y="45"/>
                    </a:lnTo>
                    <a:lnTo>
                      <a:pt x="1299" y="43"/>
                    </a:lnTo>
                    <a:lnTo>
                      <a:pt x="1308" y="42"/>
                    </a:lnTo>
                    <a:lnTo>
                      <a:pt x="1317" y="42"/>
                    </a:lnTo>
                    <a:lnTo>
                      <a:pt x="1327" y="41"/>
                    </a:lnTo>
                    <a:lnTo>
                      <a:pt x="1336" y="40"/>
                    </a:lnTo>
                    <a:lnTo>
                      <a:pt x="1345" y="37"/>
                    </a:lnTo>
                    <a:lnTo>
                      <a:pt x="1354" y="33"/>
                    </a:lnTo>
                    <a:lnTo>
                      <a:pt x="1364" y="32"/>
                    </a:lnTo>
                    <a:lnTo>
                      <a:pt x="1373" y="31"/>
                    </a:lnTo>
                    <a:lnTo>
                      <a:pt x="1382" y="29"/>
                    </a:lnTo>
                    <a:lnTo>
                      <a:pt x="1392" y="26"/>
                    </a:lnTo>
                    <a:lnTo>
                      <a:pt x="1401" y="25"/>
                    </a:lnTo>
                    <a:lnTo>
                      <a:pt x="1410" y="22"/>
                    </a:lnTo>
                    <a:lnTo>
                      <a:pt x="1419" y="16"/>
                    </a:lnTo>
                    <a:lnTo>
                      <a:pt x="1429" y="8"/>
                    </a:lnTo>
                    <a:lnTo>
                      <a:pt x="1438" y="4"/>
                    </a:lnTo>
                    <a:lnTo>
                      <a:pt x="1447" y="0"/>
                    </a:lnTo>
                    <a:lnTo>
                      <a:pt x="1447" y="3"/>
                    </a:lnTo>
                    <a:lnTo>
                      <a:pt x="1438" y="8"/>
                    </a:lnTo>
                    <a:lnTo>
                      <a:pt x="1429" y="12"/>
                    </a:lnTo>
                    <a:lnTo>
                      <a:pt x="1419" y="19"/>
                    </a:lnTo>
                    <a:lnTo>
                      <a:pt x="1410" y="25"/>
                    </a:lnTo>
                    <a:lnTo>
                      <a:pt x="1401" y="29"/>
                    </a:lnTo>
                    <a:lnTo>
                      <a:pt x="1392" y="29"/>
                    </a:lnTo>
                    <a:lnTo>
                      <a:pt x="1382" y="32"/>
                    </a:lnTo>
                    <a:lnTo>
                      <a:pt x="1373" y="35"/>
                    </a:lnTo>
                    <a:lnTo>
                      <a:pt x="1364" y="35"/>
                    </a:lnTo>
                    <a:lnTo>
                      <a:pt x="1354" y="37"/>
                    </a:lnTo>
                    <a:lnTo>
                      <a:pt x="1345" y="40"/>
                    </a:lnTo>
                    <a:lnTo>
                      <a:pt x="1336" y="43"/>
                    </a:lnTo>
                    <a:lnTo>
                      <a:pt x="1327" y="44"/>
                    </a:lnTo>
                    <a:lnTo>
                      <a:pt x="1317" y="45"/>
                    </a:lnTo>
                    <a:lnTo>
                      <a:pt x="1308" y="45"/>
                    </a:lnTo>
                    <a:lnTo>
                      <a:pt x="1299" y="46"/>
                    </a:lnTo>
                    <a:lnTo>
                      <a:pt x="1289" y="48"/>
                    </a:lnTo>
                    <a:lnTo>
                      <a:pt x="1280" y="50"/>
                    </a:lnTo>
                    <a:lnTo>
                      <a:pt x="1271" y="53"/>
                    </a:lnTo>
                    <a:lnTo>
                      <a:pt x="1262" y="58"/>
                    </a:lnTo>
                    <a:lnTo>
                      <a:pt x="1252" y="60"/>
                    </a:lnTo>
                    <a:lnTo>
                      <a:pt x="1243" y="62"/>
                    </a:lnTo>
                    <a:lnTo>
                      <a:pt x="1234" y="65"/>
                    </a:lnTo>
                    <a:lnTo>
                      <a:pt x="1224" y="66"/>
                    </a:lnTo>
                    <a:lnTo>
                      <a:pt x="1215" y="66"/>
                    </a:lnTo>
                    <a:lnTo>
                      <a:pt x="1206" y="64"/>
                    </a:lnTo>
                    <a:lnTo>
                      <a:pt x="1197" y="64"/>
                    </a:lnTo>
                    <a:lnTo>
                      <a:pt x="1187" y="67"/>
                    </a:lnTo>
                    <a:lnTo>
                      <a:pt x="1178" y="71"/>
                    </a:lnTo>
                    <a:lnTo>
                      <a:pt x="1169" y="74"/>
                    </a:lnTo>
                    <a:lnTo>
                      <a:pt x="1160" y="79"/>
                    </a:lnTo>
                    <a:lnTo>
                      <a:pt x="1150" y="79"/>
                    </a:lnTo>
                    <a:lnTo>
                      <a:pt x="1141" y="79"/>
                    </a:lnTo>
                    <a:lnTo>
                      <a:pt x="1132" y="84"/>
                    </a:lnTo>
                    <a:lnTo>
                      <a:pt x="1122" y="88"/>
                    </a:lnTo>
                    <a:lnTo>
                      <a:pt x="1113" y="91"/>
                    </a:lnTo>
                    <a:lnTo>
                      <a:pt x="1104" y="95"/>
                    </a:lnTo>
                    <a:lnTo>
                      <a:pt x="1095" y="98"/>
                    </a:lnTo>
                    <a:lnTo>
                      <a:pt x="1085" y="102"/>
                    </a:lnTo>
                    <a:lnTo>
                      <a:pt x="1076" y="103"/>
                    </a:lnTo>
                    <a:lnTo>
                      <a:pt x="1067" y="106"/>
                    </a:lnTo>
                    <a:lnTo>
                      <a:pt x="1057" y="106"/>
                    </a:lnTo>
                    <a:lnTo>
                      <a:pt x="1048" y="109"/>
                    </a:lnTo>
                    <a:lnTo>
                      <a:pt x="1039" y="112"/>
                    </a:lnTo>
                    <a:lnTo>
                      <a:pt x="1030" y="115"/>
                    </a:lnTo>
                    <a:lnTo>
                      <a:pt x="1020" y="116"/>
                    </a:lnTo>
                    <a:lnTo>
                      <a:pt x="1011" y="119"/>
                    </a:lnTo>
                    <a:lnTo>
                      <a:pt x="1002" y="121"/>
                    </a:lnTo>
                    <a:lnTo>
                      <a:pt x="992" y="123"/>
                    </a:lnTo>
                    <a:lnTo>
                      <a:pt x="983" y="126"/>
                    </a:lnTo>
                    <a:lnTo>
                      <a:pt x="974" y="127"/>
                    </a:lnTo>
                    <a:lnTo>
                      <a:pt x="965" y="129"/>
                    </a:lnTo>
                    <a:lnTo>
                      <a:pt x="955" y="130"/>
                    </a:lnTo>
                    <a:lnTo>
                      <a:pt x="946" y="131"/>
                    </a:lnTo>
                    <a:lnTo>
                      <a:pt x="937" y="132"/>
                    </a:lnTo>
                    <a:lnTo>
                      <a:pt x="928" y="134"/>
                    </a:lnTo>
                    <a:lnTo>
                      <a:pt x="918" y="136"/>
                    </a:lnTo>
                    <a:lnTo>
                      <a:pt x="909" y="137"/>
                    </a:lnTo>
                    <a:lnTo>
                      <a:pt x="900" y="138"/>
                    </a:lnTo>
                    <a:lnTo>
                      <a:pt x="890" y="140"/>
                    </a:lnTo>
                    <a:lnTo>
                      <a:pt x="881" y="141"/>
                    </a:lnTo>
                    <a:lnTo>
                      <a:pt x="872" y="139"/>
                    </a:lnTo>
                    <a:lnTo>
                      <a:pt x="863" y="138"/>
                    </a:lnTo>
                    <a:lnTo>
                      <a:pt x="853" y="139"/>
                    </a:lnTo>
                    <a:lnTo>
                      <a:pt x="844" y="139"/>
                    </a:lnTo>
                    <a:lnTo>
                      <a:pt x="835" y="142"/>
                    </a:lnTo>
                    <a:lnTo>
                      <a:pt x="825" y="142"/>
                    </a:lnTo>
                    <a:lnTo>
                      <a:pt x="816" y="143"/>
                    </a:lnTo>
                    <a:lnTo>
                      <a:pt x="807" y="143"/>
                    </a:lnTo>
                    <a:lnTo>
                      <a:pt x="798" y="144"/>
                    </a:lnTo>
                    <a:lnTo>
                      <a:pt x="788" y="146"/>
                    </a:lnTo>
                    <a:lnTo>
                      <a:pt x="779" y="146"/>
                    </a:lnTo>
                    <a:lnTo>
                      <a:pt x="770" y="147"/>
                    </a:lnTo>
                    <a:lnTo>
                      <a:pt x="760" y="148"/>
                    </a:lnTo>
                    <a:lnTo>
                      <a:pt x="751" y="147"/>
                    </a:lnTo>
                    <a:lnTo>
                      <a:pt x="742" y="145"/>
                    </a:lnTo>
                    <a:lnTo>
                      <a:pt x="733" y="145"/>
                    </a:lnTo>
                    <a:lnTo>
                      <a:pt x="723" y="145"/>
                    </a:lnTo>
                    <a:lnTo>
                      <a:pt x="714" y="146"/>
                    </a:lnTo>
                    <a:lnTo>
                      <a:pt x="705" y="147"/>
                    </a:lnTo>
                    <a:lnTo>
                      <a:pt x="696" y="147"/>
                    </a:lnTo>
                    <a:lnTo>
                      <a:pt x="686" y="148"/>
                    </a:lnTo>
                    <a:lnTo>
                      <a:pt x="677" y="148"/>
                    </a:lnTo>
                    <a:lnTo>
                      <a:pt x="668" y="150"/>
                    </a:lnTo>
                    <a:lnTo>
                      <a:pt x="658" y="151"/>
                    </a:lnTo>
                    <a:lnTo>
                      <a:pt x="649" y="149"/>
                    </a:lnTo>
                    <a:lnTo>
                      <a:pt x="640" y="151"/>
                    </a:lnTo>
                    <a:lnTo>
                      <a:pt x="631" y="149"/>
                    </a:lnTo>
                    <a:lnTo>
                      <a:pt x="621" y="149"/>
                    </a:lnTo>
                    <a:lnTo>
                      <a:pt x="612" y="150"/>
                    </a:lnTo>
                    <a:lnTo>
                      <a:pt x="603" y="151"/>
                    </a:lnTo>
                    <a:lnTo>
                      <a:pt x="593" y="151"/>
                    </a:lnTo>
                    <a:lnTo>
                      <a:pt x="584" y="150"/>
                    </a:lnTo>
                    <a:lnTo>
                      <a:pt x="575" y="151"/>
                    </a:lnTo>
                    <a:lnTo>
                      <a:pt x="566" y="151"/>
                    </a:lnTo>
                    <a:lnTo>
                      <a:pt x="556" y="152"/>
                    </a:lnTo>
                    <a:lnTo>
                      <a:pt x="547" y="152"/>
                    </a:lnTo>
                    <a:lnTo>
                      <a:pt x="538" y="153"/>
                    </a:lnTo>
                    <a:lnTo>
                      <a:pt x="528" y="152"/>
                    </a:lnTo>
                    <a:lnTo>
                      <a:pt x="519" y="153"/>
                    </a:lnTo>
                    <a:lnTo>
                      <a:pt x="510" y="154"/>
                    </a:lnTo>
                    <a:lnTo>
                      <a:pt x="501" y="155"/>
                    </a:lnTo>
                    <a:lnTo>
                      <a:pt x="491" y="155"/>
                    </a:lnTo>
                    <a:lnTo>
                      <a:pt x="482" y="156"/>
                    </a:lnTo>
                    <a:lnTo>
                      <a:pt x="473" y="156"/>
                    </a:lnTo>
                    <a:lnTo>
                      <a:pt x="464" y="156"/>
                    </a:lnTo>
                    <a:lnTo>
                      <a:pt x="454" y="156"/>
                    </a:lnTo>
                    <a:lnTo>
                      <a:pt x="445" y="157"/>
                    </a:lnTo>
                    <a:lnTo>
                      <a:pt x="436" y="157"/>
                    </a:lnTo>
                    <a:lnTo>
                      <a:pt x="426" y="158"/>
                    </a:lnTo>
                    <a:lnTo>
                      <a:pt x="417" y="158"/>
                    </a:lnTo>
                    <a:lnTo>
                      <a:pt x="408" y="158"/>
                    </a:lnTo>
                    <a:lnTo>
                      <a:pt x="399" y="158"/>
                    </a:lnTo>
                    <a:lnTo>
                      <a:pt x="389" y="158"/>
                    </a:lnTo>
                    <a:lnTo>
                      <a:pt x="380" y="158"/>
                    </a:lnTo>
                    <a:lnTo>
                      <a:pt x="371" y="159"/>
                    </a:lnTo>
                    <a:lnTo>
                      <a:pt x="361" y="159"/>
                    </a:lnTo>
                    <a:lnTo>
                      <a:pt x="352" y="159"/>
                    </a:lnTo>
                    <a:lnTo>
                      <a:pt x="343" y="160"/>
                    </a:lnTo>
                    <a:lnTo>
                      <a:pt x="334" y="160"/>
                    </a:lnTo>
                    <a:lnTo>
                      <a:pt x="324" y="160"/>
                    </a:lnTo>
                    <a:lnTo>
                      <a:pt x="315" y="160"/>
                    </a:lnTo>
                    <a:lnTo>
                      <a:pt x="306" y="160"/>
                    </a:lnTo>
                    <a:lnTo>
                      <a:pt x="296" y="160"/>
                    </a:lnTo>
                    <a:lnTo>
                      <a:pt x="287" y="160"/>
                    </a:lnTo>
                    <a:lnTo>
                      <a:pt x="278" y="161"/>
                    </a:lnTo>
                    <a:lnTo>
                      <a:pt x="269" y="161"/>
                    </a:lnTo>
                    <a:lnTo>
                      <a:pt x="259" y="161"/>
                    </a:lnTo>
                    <a:lnTo>
                      <a:pt x="250" y="161"/>
                    </a:lnTo>
                    <a:lnTo>
                      <a:pt x="241" y="161"/>
                    </a:lnTo>
                    <a:lnTo>
                      <a:pt x="232" y="161"/>
                    </a:lnTo>
                    <a:lnTo>
                      <a:pt x="222" y="162"/>
                    </a:lnTo>
                    <a:lnTo>
                      <a:pt x="213" y="162"/>
                    </a:lnTo>
                    <a:lnTo>
                      <a:pt x="204" y="162"/>
                    </a:lnTo>
                    <a:lnTo>
                      <a:pt x="194" y="162"/>
                    </a:lnTo>
                    <a:lnTo>
                      <a:pt x="185" y="162"/>
                    </a:lnTo>
                    <a:lnTo>
                      <a:pt x="176" y="162"/>
                    </a:lnTo>
                    <a:lnTo>
                      <a:pt x="167" y="162"/>
                    </a:lnTo>
                    <a:lnTo>
                      <a:pt x="157" y="163"/>
                    </a:lnTo>
                    <a:lnTo>
                      <a:pt x="148" y="163"/>
                    </a:lnTo>
                    <a:lnTo>
                      <a:pt x="139" y="163"/>
                    </a:lnTo>
                    <a:lnTo>
                      <a:pt x="129" y="163"/>
                    </a:lnTo>
                    <a:lnTo>
                      <a:pt x="120" y="163"/>
                    </a:lnTo>
                    <a:lnTo>
                      <a:pt x="111" y="163"/>
                    </a:lnTo>
                    <a:lnTo>
                      <a:pt x="102" y="163"/>
                    </a:lnTo>
                    <a:lnTo>
                      <a:pt x="92" y="163"/>
                    </a:lnTo>
                    <a:lnTo>
                      <a:pt x="83" y="164"/>
                    </a:lnTo>
                    <a:lnTo>
                      <a:pt x="74" y="164"/>
                    </a:lnTo>
                    <a:lnTo>
                      <a:pt x="64" y="164"/>
                    </a:lnTo>
                    <a:lnTo>
                      <a:pt x="55" y="164"/>
                    </a:lnTo>
                    <a:lnTo>
                      <a:pt x="46" y="164"/>
                    </a:lnTo>
                    <a:lnTo>
                      <a:pt x="37" y="164"/>
                    </a:lnTo>
                    <a:lnTo>
                      <a:pt x="27" y="164"/>
                    </a:lnTo>
                    <a:lnTo>
                      <a:pt x="18" y="164"/>
                    </a:lnTo>
                    <a:lnTo>
                      <a:pt x="9" y="164"/>
                    </a:lnTo>
                    <a:lnTo>
                      <a:pt x="0" y="164"/>
                    </a:lnTo>
                    <a:close/>
                  </a:path>
                </a:pathLst>
              </a:custGeom>
              <a:noFill/>
              <a:ln w="3175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7" name="Freeform 47"/>
              <p:cNvSpPr/>
              <p:nvPr/>
            </p:nvSpPr>
            <p:spPr>
              <a:xfrm>
                <a:off x="434160" y="6073200"/>
                <a:ext cx="2310120" cy="393480"/>
              </a:xfrm>
              <a:custGeom>
                <a:avLst/>
                <a:gdLst>
                  <a:gd name="textAreaLeft" fmla="*/ 0 w 2310120"/>
                  <a:gd name="textAreaRight" fmla="*/ 2310480 w 2310120"/>
                  <a:gd name="textAreaTop" fmla="*/ 0 h 393480"/>
                  <a:gd name="textAreaBottom" fmla="*/ 393840 h 393480"/>
                </a:gdLst>
                <a:ahLst/>
                <a:rect l="textAreaLeft" t="textAreaTop" r="textAreaRight" b="textAreaBottom"/>
                <a:pathLst>
                  <a:path w="1447" h="160">
                    <a:moveTo>
                      <a:pt x="0" y="160"/>
                    </a:moveTo>
                    <a:lnTo>
                      <a:pt x="9" y="160"/>
                    </a:lnTo>
                    <a:lnTo>
                      <a:pt x="18" y="160"/>
                    </a:lnTo>
                    <a:lnTo>
                      <a:pt x="27" y="160"/>
                    </a:lnTo>
                    <a:lnTo>
                      <a:pt x="37" y="160"/>
                    </a:lnTo>
                    <a:lnTo>
                      <a:pt x="46" y="160"/>
                    </a:lnTo>
                    <a:lnTo>
                      <a:pt x="55" y="160"/>
                    </a:lnTo>
                    <a:lnTo>
                      <a:pt x="64" y="160"/>
                    </a:lnTo>
                    <a:lnTo>
                      <a:pt x="74" y="160"/>
                    </a:lnTo>
                    <a:lnTo>
                      <a:pt x="83" y="160"/>
                    </a:lnTo>
                    <a:lnTo>
                      <a:pt x="92" y="160"/>
                    </a:lnTo>
                    <a:lnTo>
                      <a:pt x="102" y="159"/>
                    </a:lnTo>
                    <a:lnTo>
                      <a:pt x="111" y="159"/>
                    </a:lnTo>
                    <a:lnTo>
                      <a:pt x="120" y="159"/>
                    </a:lnTo>
                    <a:lnTo>
                      <a:pt x="129" y="159"/>
                    </a:lnTo>
                    <a:lnTo>
                      <a:pt x="139" y="159"/>
                    </a:lnTo>
                    <a:lnTo>
                      <a:pt x="148" y="159"/>
                    </a:lnTo>
                    <a:lnTo>
                      <a:pt x="157" y="159"/>
                    </a:lnTo>
                    <a:lnTo>
                      <a:pt x="167" y="159"/>
                    </a:lnTo>
                    <a:lnTo>
                      <a:pt x="176" y="158"/>
                    </a:lnTo>
                    <a:lnTo>
                      <a:pt x="185" y="158"/>
                    </a:lnTo>
                    <a:lnTo>
                      <a:pt x="194" y="158"/>
                    </a:lnTo>
                    <a:lnTo>
                      <a:pt x="204" y="158"/>
                    </a:lnTo>
                    <a:lnTo>
                      <a:pt x="213" y="158"/>
                    </a:lnTo>
                    <a:lnTo>
                      <a:pt x="222" y="158"/>
                    </a:lnTo>
                    <a:lnTo>
                      <a:pt x="232" y="158"/>
                    </a:lnTo>
                    <a:lnTo>
                      <a:pt x="241" y="157"/>
                    </a:lnTo>
                    <a:lnTo>
                      <a:pt x="250" y="157"/>
                    </a:lnTo>
                    <a:lnTo>
                      <a:pt x="259" y="157"/>
                    </a:lnTo>
                    <a:lnTo>
                      <a:pt x="269" y="157"/>
                    </a:lnTo>
                    <a:lnTo>
                      <a:pt x="278" y="157"/>
                    </a:lnTo>
                    <a:lnTo>
                      <a:pt x="287" y="157"/>
                    </a:lnTo>
                    <a:lnTo>
                      <a:pt x="296" y="156"/>
                    </a:lnTo>
                    <a:lnTo>
                      <a:pt x="306" y="156"/>
                    </a:lnTo>
                    <a:lnTo>
                      <a:pt x="315" y="156"/>
                    </a:lnTo>
                    <a:lnTo>
                      <a:pt x="324" y="156"/>
                    </a:lnTo>
                    <a:lnTo>
                      <a:pt x="334" y="156"/>
                    </a:lnTo>
                    <a:lnTo>
                      <a:pt x="343" y="156"/>
                    </a:lnTo>
                    <a:lnTo>
                      <a:pt x="352" y="155"/>
                    </a:lnTo>
                    <a:lnTo>
                      <a:pt x="361" y="155"/>
                    </a:lnTo>
                    <a:lnTo>
                      <a:pt x="371" y="155"/>
                    </a:lnTo>
                    <a:lnTo>
                      <a:pt x="380" y="155"/>
                    </a:lnTo>
                    <a:lnTo>
                      <a:pt x="389" y="155"/>
                    </a:lnTo>
                    <a:lnTo>
                      <a:pt x="399" y="155"/>
                    </a:lnTo>
                    <a:lnTo>
                      <a:pt x="408" y="154"/>
                    </a:lnTo>
                    <a:lnTo>
                      <a:pt x="417" y="154"/>
                    </a:lnTo>
                    <a:lnTo>
                      <a:pt x="426" y="154"/>
                    </a:lnTo>
                    <a:lnTo>
                      <a:pt x="436" y="154"/>
                    </a:lnTo>
                    <a:lnTo>
                      <a:pt x="445" y="153"/>
                    </a:lnTo>
                    <a:lnTo>
                      <a:pt x="454" y="153"/>
                    </a:lnTo>
                    <a:lnTo>
                      <a:pt x="464" y="152"/>
                    </a:lnTo>
                    <a:lnTo>
                      <a:pt x="473" y="152"/>
                    </a:lnTo>
                    <a:lnTo>
                      <a:pt x="482" y="152"/>
                    </a:lnTo>
                    <a:lnTo>
                      <a:pt x="491" y="151"/>
                    </a:lnTo>
                    <a:lnTo>
                      <a:pt x="501" y="151"/>
                    </a:lnTo>
                    <a:lnTo>
                      <a:pt x="510" y="150"/>
                    </a:lnTo>
                    <a:lnTo>
                      <a:pt x="519" y="149"/>
                    </a:lnTo>
                    <a:lnTo>
                      <a:pt x="528" y="148"/>
                    </a:lnTo>
                    <a:lnTo>
                      <a:pt x="538" y="149"/>
                    </a:lnTo>
                    <a:lnTo>
                      <a:pt x="547" y="148"/>
                    </a:lnTo>
                    <a:lnTo>
                      <a:pt x="556" y="148"/>
                    </a:lnTo>
                    <a:lnTo>
                      <a:pt x="566" y="147"/>
                    </a:lnTo>
                    <a:lnTo>
                      <a:pt x="575" y="147"/>
                    </a:lnTo>
                    <a:lnTo>
                      <a:pt x="584" y="146"/>
                    </a:lnTo>
                    <a:lnTo>
                      <a:pt x="593" y="147"/>
                    </a:lnTo>
                    <a:lnTo>
                      <a:pt x="603" y="147"/>
                    </a:lnTo>
                    <a:lnTo>
                      <a:pt x="612" y="146"/>
                    </a:lnTo>
                    <a:lnTo>
                      <a:pt x="621" y="145"/>
                    </a:lnTo>
                    <a:lnTo>
                      <a:pt x="631" y="145"/>
                    </a:lnTo>
                    <a:lnTo>
                      <a:pt x="640" y="147"/>
                    </a:lnTo>
                    <a:lnTo>
                      <a:pt x="649" y="145"/>
                    </a:lnTo>
                    <a:lnTo>
                      <a:pt x="658" y="147"/>
                    </a:lnTo>
                    <a:lnTo>
                      <a:pt x="668" y="146"/>
                    </a:lnTo>
                    <a:lnTo>
                      <a:pt x="677" y="144"/>
                    </a:lnTo>
                    <a:lnTo>
                      <a:pt x="686" y="144"/>
                    </a:lnTo>
                    <a:lnTo>
                      <a:pt x="696" y="143"/>
                    </a:lnTo>
                    <a:lnTo>
                      <a:pt x="705" y="143"/>
                    </a:lnTo>
                    <a:lnTo>
                      <a:pt x="714" y="142"/>
                    </a:lnTo>
                    <a:lnTo>
                      <a:pt x="723" y="141"/>
                    </a:lnTo>
                    <a:lnTo>
                      <a:pt x="733" y="141"/>
                    </a:lnTo>
                    <a:lnTo>
                      <a:pt x="742" y="142"/>
                    </a:lnTo>
                    <a:lnTo>
                      <a:pt x="751" y="143"/>
                    </a:lnTo>
                    <a:lnTo>
                      <a:pt x="760" y="144"/>
                    </a:lnTo>
                    <a:lnTo>
                      <a:pt x="770" y="144"/>
                    </a:lnTo>
                    <a:lnTo>
                      <a:pt x="779" y="143"/>
                    </a:lnTo>
                    <a:lnTo>
                      <a:pt x="788" y="142"/>
                    </a:lnTo>
                    <a:lnTo>
                      <a:pt x="798" y="140"/>
                    </a:lnTo>
                    <a:lnTo>
                      <a:pt x="807" y="139"/>
                    </a:lnTo>
                    <a:lnTo>
                      <a:pt x="816" y="140"/>
                    </a:lnTo>
                    <a:lnTo>
                      <a:pt x="825" y="138"/>
                    </a:lnTo>
                    <a:lnTo>
                      <a:pt x="835" y="138"/>
                    </a:lnTo>
                    <a:lnTo>
                      <a:pt x="844" y="135"/>
                    </a:lnTo>
                    <a:lnTo>
                      <a:pt x="853" y="135"/>
                    </a:lnTo>
                    <a:lnTo>
                      <a:pt x="863" y="134"/>
                    </a:lnTo>
                    <a:lnTo>
                      <a:pt x="872" y="135"/>
                    </a:lnTo>
                    <a:lnTo>
                      <a:pt x="881" y="138"/>
                    </a:lnTo>
                    <a:lnTo>
                      <a:pt x="890" y="136"/>
                    </a:lnTo>
                    <a:lnTo>
                      <a:pt x="900" y="134"/>
                    </a:lnTo>
                    <a:lnTo>
                      <a:pt x="909" y="133"/>
                    </a:lnTo>
                    <a:lnTo>
                      <a:pt x="918" y="133"/>
                    </a:lnTo>
                    <a:lnTo>
                      <a:pt x="928" y="130"/>
                    </a:lnTo>
                    <a:lnTo>
                      <a:pt x="937" y="128"/>
                    </a:lnTo>
                    <a:lnTo>
                      <a:pt x="946" y="128"/>
                    </a:lnTo>
                    <a:lnTo>
                      <a:pt x="955" y="126"/>
                    </a:lnTo>
                    <a:lnTo>
                      <a:pt x="965" y="126"/>
                    </a:lnTo>
                    <a:lnTo>
                      <a:pt x="974" y="124"/>
                    </a:lnTo>
                    <a:lnTo>
                      <a:pt x="983" y="122"/>
                    </a:lnTo>
                    <a:lnTo>
                      <a:pt x="992" y="119"/>
                    </a:lnTo>
                    <a:lnTo>
                      <a:pt x="1002" y="117"/>
                    </a:lnTo>
                    <a:lnTo>
                      <a:pt x="1011" y="115"/>
                    </a:lnTo>
                    <a:lnTo>
                      <a:pt x="1020" y="113"/>
                    </a:lnTo>
                    <a:lnTo>
                      <a:pt x="1030" y="111"/>
                    </a:lnTo>
                    <a:lnTo>
                      <a:pt x="1039" y="108"/>
                    </a:lnTo>
                    <a:lnTo>
                      <a:pt x="1048" y="105"/>
                    </a:lnTo>
                    <a:lnTo>
                      <a:pt x="1057" y="102"/>
                    </a:lnTo>
                    <a:lnTo>
                      <a:pt x="1067" y="102"/>
                    </a:lnTo>
                    <a:lnTo>
                      <a:pt x="1076" y="99"/>
                    </a:lnTo>
                    <a:lnTo>
                      <a:pt x="1085" y="98"/>
                    </a:lnTo>
                    <a:lnTo>
                      <a:pt x="1095" y="94"/>
                    </a:lnTo>
                    <a:lnTo>
                      <a:pt x="1104" y="91"/>
                    </a:lnTo>
                    <a:lnTo>
                      <a:pt x="1113" y="88"/>
                    </a:lnTo>
                    <a:lnTo>
                      <a:pt x="1122" y="84"/>
                    </a:lnTo>
                    <a:lnTo>
                      <a:pt x="1132" y="80"/>
                    </a:lnTo>
                    <a:lnTo>
                      <a:pt x="1141" y="75"/>
                    </a:lnTo>
                    <a:lnTo>
                      <a:pt x="1150" y="75"/>
                    </a:lnTo>
                    <a:lnTo>
                      <a:pt x="1160" y="75"/>
                    </a:lnTo>
                    <a:lnTo>
                      <a:pt x="1169" y="70"/>
                    </a:lnTo>
                    <a:lnTo>
                      <a:pt x="1178" y="67"/>
                    </a:lnTo>
                    <a:lnTo>
                      <a:pt x="1187" y="63"/>
                    </a:lnTo>
                    <a:lnTo>
                      <a:pt x="1197" y="60"/>
                    </a:lnTo>
                    <a:lnTo>
                      <a:pt x="1206" y="60"/>
                    </a:lnTo>
                    <a:lnTo>
                      <a:pt x="1215" y="62"/>
                    </a:lnTo>
                    <a:lnTo>
                      <a:pt x="1224" y="62"/>
                    </a:lnTo>
                    <a:lnTo>
                      <a:pt x="1234" y="61"/>
                    </a:lnTo>
                    <a:lnTo>
                      <a:pt x="1243" y="58"/>
                    </a:lnTo>
                    <a:lnTo>
                      <a:pt x="1252" y="56"/>
                    </a:lnTo>
                    <a:lnTo>
                      <a:pt x="1262" y="54"/>
                    </a:lnTo>
                    <a:lnTo>
                      <a:pt x="1271" y="50"/>
                    </a:lnTo>
                    <a:lnTo>
                      <a:pt x="1280" y="46"/>
                    </a:lnTo>
                    <a:lnTo>
                      <a:pt x="1289" y="44"/>
                    </a:lnTo>
                    <a:lnTo>
                      <a:pt x="1299" y="42"/>
                    </a:lnTo>
                    <a:lnTo>
                      <a:pt x="1308" y="41"/>
                    </a:lnTo>
                    <a:lnTo>
                      <a:pt x="1317" y="41"/>
                    </a:lnTo>
                    <a:lnTo>
                      <a:pt x="1327" y="40"/>
                    </a:lnTo>
                    <a:lnTo>
                      <a:pt x="1336" y="39"/>
                    </a:lnTo>
                    <a:lnTo>
                      <a:pt x="1345" y="36"/>
                    </a:lnTo>
                    <a:lnTo>
                      <a:pt x="1354" y="33"/>
                    </a:lnTo>
                    <a:lnTo>
                      <a:pt x="1364" y="32"/>
                    </a:lnTo>
                    <a:lnTo>
                      <a:pt x="1373" y="31"/>
                    </a:lnTo>
                    <a:lnTo>
                      <a:pt x="1382" y="28"/>
                    </a:lnTo>
                    <a:lnTo>
                      <a:pt x="1392" y="25"/>
                    </a:lnTo>
                    <a:lnTo>
                      <a:pt x="1401" y="25"/>
                    </a:lnTo>
                    <a:lnTo>
                      <a:pt x="1410" y="22"/>
                    </a:lnTo>
                    <a:lnTo>
                      <a:pt x="1419" y="16"/>
                    </a:lnTo>
                    <a:lnTo>
                      <a:pt x="1429" y="8"/>
                    </a:lnTo>
                    <a:lnTo>
                      <a:pt x="1438" y="4"/>
                    </a:lnTo>
                    <a:lnTo>
                      <a:pt x="1447" y="0"/>
                    </a:lnTo>
                    <a:lnTo>
                      <a:pt x="1447" y="38"/>
                    </a:lnTo>
                    <a:lnTo>
                      <a:pt x="1438" y="42"/>
                    </a:lnTo>
                    <a:lnTo>
                      <a:pt x="1429" y="45"/>
                    </a:lnTo>
                    <a:lnTo>
                      <a:pt x="1419" y="51"/>
                    </a:lnTo>
                    <a:lnTo>
                      <a:pt x="1410" y="56"/>
                    </a:lnTo>
                    <a:lnTo>
                      <a:pt x="1401" y="58"/>
                    </a:lnTo>
                    <a:lnTo>
                      <a:pt x="1392" y="59"/>
                    </a:lnTo>
                    <a:lnTo>
                      <a:pt x="1382" y="61"/>
                    </a:lnTo>
                    <a:lnTo>
                      <a:pt x="1373" y="62"/>
                    </a:lnTo>
                    <a:lnTo>
                      <a:pt x="1364" y="62"/>
                    </a:lnTo>
                    <a:lnTo>
                      <a:pt x="1354" y="63"/>
                    </a:lnTo>
                    <a:lnTo>
                      <a:pt x="1345" y="66"/>
                    </a:lnTo>
                    <a:lnTo>
                      <a:pt x="1336" y="68"/>
                    </a:lnTo>
                    <a:lnTo>
                      <a:pt x="1327" y="69"/>
                    </a:lnTo>
                    <a:lnTo>
                      <a:pt x="1317" y="69"/>
                    </a:lnTo>
                    <a:lnTo>
                      <a:pt x="1308" y="69"/>
                    </a:lnTo>
                    <a:lnTo>
                      <a:pt x="1299" y="69"/>
                    </a:lnTo>
                    <a:lnTo>
                      <a:pt x="1289" y="70"/>
                    </a:lnTo>
                    <a:lnTo>
                      <a:pt x="1280" y="71"/>
                    </a:lnTo>
                    <a:lnTo>
                      <a:pt x="1271" y="74"/>
                    </a:lnTo>
                    <a:lnTo>
                      <a:pt x="1262" y="77"/>
                    </a:lnTo>
                    <a:lnTo>
                      <a:pt x="1252" y="78"/>
                    </a:lnTo>
                    <a:lnTo>
                      <a:pt x="1243" y="80"/>
                    </a:lnTo>
                    <a:lnTo>
                      <a:pt x="1234" y="82"/>
                    </a:lnTo>
                    <a:lnTo>
                      <a:pt x="1224" y="82"/>
                    </a:lnTo>
                    <a:lnTo>
                      <a:pt x="1215" y="82"/>
                    </a:lnTo>
                    <a:lnTo>
                      <a:pt x="1206" y="80"/>
                    </a:lnTo>
                    <a:lnTo>
                      <a:pt x="1197" y="79"/>
                    </a:lnTo>
                    <a:lnTo>
                      <a:pt x="1187" y="81"/>
                    </a:lnTo>
                    <a:lnTo>
                      <a:pt x="1178" y="84"/>
                    </a:lnTo>
                    <a:lnTo>
                      <a:pt x="1169" y="87"/>
                    </a:lnTo>
                    <a:lnTo>
                      <a:pt x="1160" y="91"/>
                    </a:lnTo>
                    <a:lnTo>
                      <a:pt x="1150" y="92"/>
                    </a:lnTo>
                    <a:lnTo>
                      <a:pt x="1141" y="91"/>
                    </a:lnTo>
                    <a:lnTo>
                      <a:pt x="1132" y="95"/>
                    </a:lnTo>
                    <a:lnTo>
                      <a:pt x="1122" y="99"/>
                    </a:lnTo>
                    <a:lnTo>
                      <a:pt x="1113" y="101"/>
                    </a:lnTo>
                    <a:lnTo>
                      <a:pt x="1104" y="103"/>
                    </a:lnTo>
                    <a:lnTo>
                      <a:pt x="1095" y="106"/>
                    </a:lnTo>
                    <a:lnTo>
                      <a:pt x="1085" y="108"/>
                    </a:lnTo>
                    <a:lnTo>
                      <a:pt x="1076" y="109"/>
                    </a:lnTo>
                    <a:lnTo>
                      <a:pt x="1067" y="111"/>
                    </a:lnTo>
                    <a:lnTo>
                      <a:pt x="1057" y="111"/>
                    </a:lnTo>
                    <a:lnTo>
                      <a:pt x="1048" y="113"/>
                    </a:lnTo>
                    <a:lnTo>
                      <a:pt x="1039" y="115"/>
                    </a:lnTo>
                    <a:lnTo>
                      <a:pt x="1030" y="118"/>
                    </a:lnTo>
                    <a:lnTo>
                      <a:pt x="1020" y="119"/>
                    </a:lnTo>
                    <a:lnTo>
                      <a:pt x="1011" y="121"/>
                    </a:lnTo>
                    <a:lnTo>
                      <a:pt x="1002" y="122"/>
                    </a:lnTo>
                    <a:lnTo>
                      <a:pt x="992" y="124"/>
                    </a:lnTo>
                    <a:lnTo>
                      <a:pt x="983" y="126"/>
                    </a:lnTo>
                    <a:lnTo>
                      <a:pt x="974" y="127"/>
                    </a:lnTo>
                    <a:lnTo>
                      <a:pt x="965" y="129"/>
                    </a:lnTo>
                    <a:lnTo>
                      <a:pt x="955" y="130"/>
                    </a:lnTo>
                    <a:lnTo>
                      <a:pt x="946" y="131"/>
                    </a:lnTo>
                    <a:lnTo>
                      <a:pt x="937" y="132"/>
                    </a:lnTo>
                    <a:lnTo>
                      <a:pt x="928" y="132"/>
                    </a:lnTo>
                    <a:lnTo>
                      <a:pt x="918" y="135"/>
                    </a:lnTo>
                    <a:lnTo>
                      <a:pt x="909" y="135"/>
                    </a:lnTo>
                    <a:lnTo>
                      <a:pt x="900" y="136"/>
                    </a:lnTo>
                    <a:lnTo>
                      <a:pt x="890" y="138"/>
                    </a:lnTo>
                    <a:lnTo>
                      <a:pt x="881" y="139"/>
                    </a:lnTo>
                    <a:lnTo>
                      <a:pt x="872" y="136"/>
                    </a:lnTo>
                    <a:lnTo>
                      <a:pt x="863" y="136"/>
                    </a:lnTo>
                    <a:lnTo>
                      <a:pt x="853" y="136"/>
                    </a:lnTo>
                    <a:lnTo>
                      <a:pt x="844" y="137"/>
                    </a:lnTo>
                    <a:lnTo>
                      <a:pt x="835" y="139"/>
                    </a:lnTo>
                    <a:lnTo>
                      <a:pt x="825" y="139"/>
                    </a:lnTo>
                    <a:lnTo>
                      <a:pt x="816" y="141"/>
                    </a:lnTo>
                    <a:lnTo>
                      <a:pt x="807" y="140"/>
                    </a:lnTo>
                    <a:lnTo>
                      <a:pt x="798" y="141"/>
                    </a:lnTo>
                    <a:lnTo>
                      <a:pt x="788" y="143"/>
                    </a:lnTo>
                    <a:lnTo>
                      <a:pt x="779" y="143"/>
                    </a:lnTo>
                    <a:lnTo>
                      <a:pt x="770" y="144"/>
                    </a:lnTo>
                    <a:lnTo>
                      <a:pt x="760" y="145"/>
                    </a:lnTo>
                    <a:lnTo>
                      <a:pt x="751" y="143"/>
                    </a:lnTo>
                    <a:lnTo>
                      <a:pt x="742" y="142"/>
                    </a:lnTo>
                    <a:lnTo>
                      <a:pt x="733" y="141"/>
                    </a:lnTo>
                    <a:lnTo>
                      <a:pt x="723" y="142"/>
                    </a:lnTo>
                    <a:lnTo>
                      <a:pt x="714" y="143"/>
                    </a:lnTo>
                    <a:lnTo>
                      <a:pt x="705" y="144"/>
                    </a:lnTo>
                    <a:lnTo>
                      <a:pt x="696" y="144"/>
                    </a:lnTo>
                    <a:lnTo>
                      <a:pt x="686" y="144"/>
                    </a:lnTo>
                    <a:lnTo>
                      <a:pt x="677" y="144"/>
                    </a:lnTo>
                    <a:lnTo>
                      <a:pt x="668" y="146"/>
                    </a:lnTo>
                    <a:lnTo>
                      <a:pt x="658" y="147"/>
                    </a:lnTo>
                    <a:lnTo>
                      <a:pt x="649" y="145"/>
                    </a:lnTo>
                    <a:lnTo>
                      <a:pt x="640" y="147"/>
                    </a:lnTo>
                    <a:lnTo>
                      <a:pt x="631" y="146"/>
                    </a:lnTo>
                    <a:lnTo>
                      <a:pt x="621" y="146"/>
                    </a:lnTo>
                    <a:lnTo>
                      <a:pt x="612" y="146"/>
                    </a:lnTo>
                    <a:lnTo>
                      <a:pt x="603" y="147"/>
                    </a:lnTo>
                    <a:lnTo>
                      <a:pt x="593" y="147"/>
                    </a:lnTo>
                    <a:lnTo>
                      <a:pt x="584" y="146"/>
                    </a:lnTo>
                    <a:lnTo>
                      <a:pt x="575" y="147"/>
                    </a:lnTo>
                    <a:lnTo>
                      <a:pt x="566" y="148"/>
                    </a:lnTo>
                    <a:lnTo>
                      <a:pt x="556" y="148"/>
                    </a:lnTo>
                    <a:lnTo>
                      <a:pt x="547" y="148"/>
                    </a:lnTo>
                    <a:lnTo>
                      <a:pt x="538" y="149"/>
                    </a:lnTo>
                    <a:lnTo>
                      <a:pt x="528" y="149"/>
                    </a:lnTo>
                    <a:lnTo>
                      <a:pt x="519" y="150"/>
                    </a:lnTo>
                    <a:lnTo>
                      <a:pt x="510" y="150"/>
                    </a:lnTo>
                    <a:lnTo>
                      <a:pt x="501" y="151"/>
                    </a:lnTo>
                    <a:lnTo>
                      <a:pt x="491" y="151"/>
                    </a:lnTo>
                    <a:lnTo>
                      <a:pt x="482" y="152"/>
                    </a:lnTo>
                    <a:lnTo>
                      <a:pt x="473" y="152"/>
                    </a:lnTo>
                    <a:lnTo>
                      <a:pt x="464" y="152"/>
                    </a:lnTo>
                    <a:lnTo>
                      <a:pt x="454" y="153"/>
                    </a:lnTo>
                    <a:lnTo>
                      <a:pt x="445" y="153"/>
                    </a:lnTo>
                    <a:lnTo>
                      <a:pt x="436" y="154"/>
                    </a:lnTo>
                    <a:lnTo>
                      <a:pt x="426" y="154"/>
                    </a:lnTo>
                    <a:lnTo>
                      <a:pt x="417" y="154"/>
                    </a:lnTo>
                    <a:lnTo>
                      <a:pt x="408" y="154"/>
                    </a:lnTo>
                    <a:lnTo>
                      <a:pt x="399" y="155"/>
                    </a:lnTo>
                    <a:lnTo>
                      <a:pt x="389" y="155"/>
                    </a:lnTo>
                    <a:lnTo>
                      <a:pt x="380" y="155"/>
                    </a:lnTo>
                    <a:lnTo>
                      <a:pt x="371" y="155"/>
                    </a:lnTo>
                    <a:lnTo>
                      <a:pt x="361" y="155"/>
                    </a:lnTo>
                    <a:lnTo>
                      <a:pt x="352" y="155"/>
                    </a:lnTo>
                    <a:lnTo>
                      <a:pt x="343" y="156"/>
                    </a:lnTo>
                    <a:lnTo>
                      <a:pt x="334" y="156"/>
                    </a:lnTo>
                    <a:lnTo>
                      <a:pt x="324" y="156"/>
                    </a:lnTo>
                    <a:lnTo>
                      <a:pt x="315" y="156"/>
                    </a:lnTo>
                    <a:lnTo>
                      <a:pt x="306" y="156"/>
                    </a:lnTo>
                    <a:lnTo>
                      <a:pt x="296" y="156"/>
                    </a:lnTo>
                    <a:lnTo>
                      <a:pt x="287" y="157"/>
                    </a:lnTo>
                    <a:lnTo>
                      <a:pt x="278" y="157"/>
                    </a:lnTo>
                    <a:lnTo>
                      <a:pt x="269" y="157"/>
                    </a:lnTo>
                    <a:lnTo>
                      <a:pt x="259" y="157"/>
                    </a:lnTo>
                    <a:lnTo>
                      <a:pt x="250" y="157"/>
                    </a:lnTo>
                    <a:lnTo>
                      <a:pt x="241" y="157"/>
                    </a:lnTo>
                    <a:lnTo>
                      <a:pt x="232" y="158"/>
                    </a:lnTo>
                    <a:lnTo>
                      <a:pt x="222" y="158"/>
                    </a:lnTo>
                    <a:lnTo>
                      <a:pt x="213" y="158"/>
                    </a:lnTo>
                    <a:lnTo>
                      <a:pt x="204" y="158"/>
                    </a:lnTo>
                    <a:lnTo>
                      <a:pt x="194" y="158"/>
                    </a:lnTo>
                    <a:lnTo>
                      <a:pt x="185" y="158"/>
                    </a:lnTo>
                    <a:lnTo>
                      <a:pt x="176" y="158"/>
                    </a:lnTo>
                    <a:lnTo>
                      <a:pt x="167" y="159"/>
                    </a:lnTo>
                    <a:lnTo>
                      <a:pt x="157" y="159"/>
                    </a:lnTo>
                    <a:lnTo>
                      <a:pt x="148" y="159"/>
                    </a:lnTo>
                    <a:lnTo>
                      <a:pt x="139" y="159"/>
                    </a:lnTo>
                    <a:lnTo>
                      <a:pt x="129" y="159"/>
                    </a:lnTo>
                    <a:lnTo>
                      <a:pt x="120" y="159"/>
                    </a:lnTo>
                    <a:lnTo>
                      <a:pt x="111" y="159"/>
                    </a:lnTo>
                    <a:lnTo>
                      <a:pt x="102" y="159"/>
                    </a:lnTo>
                    <a:lnTo>
                      <a:pt x="92" y="160"/>
                    </a:lnTo>
                    <a:lnTo>
                      <a:pt x="83" y="160"/>
                    </a:lnTo>
                    <a:lnTo>
                      <a:pt x="74" y="160"/>
                    </a:lnTo>
                    <a:lnTo>
                      <a:pt x="64" y="160"/>
                    </a:lnTo>
                    <a:lnTo>
                      <a:pt x="55" y="160"/>
                    </a:lnTo>
                    <a:lnTo>
                      <a:pt x="46" y="160"/>
                    </a:lnTo>
                    <a:lnTo>
                      <a:pt x="37" y="160"/>
                    </a:lnTo>
                    <a:lnTo>
                      <a:pt x="27" y="160"/>
                    </a:lnTo>
                    <a:lnTo>
                      <a:pt x="18" y="160"/>
                    </a:lnTo>
                    <a:lnTo>
                      <a:pt x="9" y="160"/>
                    </a:lnTo>
                    <a:lnTo>
                      <a:pt x="0" y="160"/>
                    </a:lnTo>
                    <a:close/>
                  </a:path>
                </a:pathLst>
              </a:custGeom>
              <a:solidFill>
                <a:srgbClr val="006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8" name="Freeform 48"/>
              <p:cNvSpPr/>
              <p:nvPr/>
            </p:nvSpPr>
            <p:spPr>
              <a:xfrm>
                <a:off x="434160" y="6073200"/>
                <a:ext cx="2310120" cy="393480"/>
              </a:xfrm>
              <a:custGeom>
                <a:avLst/>
                <a:gdLst>
                  <a:gd name="textAreaLeft" fmla="*/ 0 w 2310120"/>
                  <a:gd name="textAreaRight" fmla="*/ 2310480 w 2310120"/>
                  <a:gd name="textAreaTop" fmla="*/ 0 h 393480"/>
                  <a:gd name="textAreaBottom" fmla="*/ 393840 h 393480"/>
                </a:gdLst>
                <a:ahLst/>
                <a:rect l="textAreaLeft" t="textAreaTop" r="textAreaRight" b="textAreaBottom"/>
                <a:pathLst>
                  <a:path w="1447" h="160">
                    <a:moveTo>
                      <a:pt x="0" y="160"/>
                    </a:moveTo>
                    <a:lnTo>
                      <a:pt x="9" y="160"/>
                    </a:lnTo>
                    <a:lnTo>
                      <a:pt x="18" y="160"/>
                    </a:lnTo>
                    <a:lnTo>
                      <a:pt x="27" y="160"/>
                    </a:lnTo>
                    <a:lnTo>
                      <a:pt x="37" y="160"/>
                    </a:lnTo>
                    <a:lnTo>
                      <a:pt x="46" y="160"/>
                    </a:lnTo>
                    <a:lnTo>
                      <a:pt x="55" y="160"/>
                    </a:lnTo>
                    <a:lnTo>
                      <a:pt x="64" y="160"/>
                    </a:lnTo>
                    <a:lnTo>
                      <a:pt x="74" y="160"/>
                    </a:lnTo>
                    <a:lnTo>
                      <a:pt x="83" y="160"/>
                    </a:lnTo>
                    <a:lnTo>
                      <a:pt x="92" y="160"/>
                    </a:lnTo>
                    <a:lnTo>
                      <a:pt x="102" y="159"/>
                    </a:lnTo>
                    <a:lnTo>
                      <a:pt x="111" y="159"/>
                    </a:lnTo>
                    <a:lnTo>
                      <a:pt x="120" y="159"/>
                    </a:lnTo>
                    <a:lnTo>
                      <a:pt x="129" y="159"/>
                    </a:lnTo>
                    <a:lnTo>
                      <a:pt x="139" y="159"/>
                    </a:lnTo>
                    <a:lnTo>
                      <a:pt x="148" y="159"/>
                    </a:lnTo>
                    <a:lnTo>
                      <a:pt x="157" y="159"/>
                    </a:lnTo>
                    <a:lnTo>
                      <a:pt x="167" y="159"/>
                    </a:lnTo>
                    <a:lnTo>
                      <a:pt x="176" y="158"/>
                    </a:lnTo>
                    <a:lnTo>
                      <a:pt x="185" y="158"/>
                    </a:lnTo>
                    <a:lnTo>
                      <a:pt x="194" y="158"/>
                    </a:lnTo>
                    <a:lnTo>
                      <a:pt x="204" y="158"/>
                    </a:lnTo>
                    <a:lnTo>
                      <a:pt x="213" y="158"/>
                    </a:lnTo>
                    <a:lnTo>
                      <a:pt x="222" y="158"/>
                    </a:lnTo>
                    <a:lnTo>
                      <a:pt x="232" y="158"/>
                    </a:lnTo>
                    <a:lnTo>
                      <a:pt x="241" y="157"/>
                    </a:lnTo>
                    <a:lnTo>
                      <a:pt x="250" y="157"/>
                    </a:lnTo>
                    <a:lnTo>
                      <a:pt x="259" y="157"/>
                    </a:lnTo>
                    <a:lnTo>
                      <a:pt x="269" y="157"/>
                    </a:lnTo>
                    <a:lnTo>
                      <a:pt x="278" y="157"/>
                    </a:lnTo>
                    <a:lnTo>
                      <a:pt x="287" y="157"/>
                    </a:lnTo>
                    <a:lnTo>
                      <a:pt x="296" y="156"/>
                    </a:lnTo>
                    <a:lnTo>
                      <a:pt x="306" y="156"/>
                    </a:lnTo>
                    <a:lnTo>
                      <a:pt x="315" y="156"/>
                    </a:lnTo>
                    <a:lnTo>
                      <a:pt x="324" y="156"/>
                    </a:lnTo>
                    <a:lnTo>
                      <a:pt x="334" y="156"/>
                    </a:lnTo>
                    <a:lnTo>
                      <a:pt x="343" y="156"/>
                    </a:lnTo>
                    <a:lnTo>
                      <a:pt x="352" y="155"/>
                    </a:lnTo>
                    <a:lnTo>
                      <a:pt x="361" y="155"/>
                    </a:lnTo>
                    <a:lnTo>
                      <a:pt x="371" y="155"/>
                    </a:lnTo>
                    <a:lnTo>
                      <a:pt x="380" y="155"/>
                    </a:lnTo>
                    <a:lnTo>
                      <a:pt x="389" y="155"/>
                    </a:lnTo>
                    <a:lnTo>
                      <a:pt x="399" y="155"/>
                    </a:lnTo>
                    <a:lnTo>
                      <a:pt x="408" y="154"/>
                    </a:lnTo>
                    <a:lnTo>
                      <a:pt x="417" y="154"/>
                    </a:lnTo>
                    <a:lnTo>
                      <a:pt x="426" y="154"/>
                    </a:lnTo>
                    <a:lnTo>
                      <a:pt x="436" y="154"/>
                    </a:lnTo>
                    <a:lnTo>
                      <a:pt x="445" y="153"/>
                    </a:lnTo>
                    <a:lnTo>
                      <a:pt x="454" y="153"/>
                    </a:lnTo>
                    <a:lnTo>
                      <a:pt x="464" y="152"/>
                    </a:lnTo>
                    <a:lnTo>
                      <a:pt x="473" y="152"/>
                    </a:lnTo>
                    <a:lnTo>
                      <a:pt x="482" y="152"/>
                    </a:lnTo>
                    <a:lnTo>
                      <a:pt x="491" y="151"/>
                    </a:lnTo>
                    <a:lnTo>
                      <a:pt x="501" y="151"/>
                    </a:lnTo>
                    <a:lnTo>
                      <a:pt x="510" y="150"/>
                    </a:lnTo>
                    <a:lnTo>
                      <a:pt x="519" y="149"/>
                    </a:lnTo>
                    <a:lnTo>
                      <a:pt x="528" y="148"/>
                    </a:lnTo>
                    <a:lnTo>
                      <a:pt x="538" y="149"/>
                    </a:lnTo>
                    <a:lnTo>
                      <a:pt x="547" y="148"/>
                    </a:lnTo>
                    <a:lnTo>
                      <a:pt x="556" y="148"/>
                    </a:lnTo>
                    <a:lnTo>
                      <a:pt x="566" y="147"/>
                    </a:lnTo>
                    <a:lnTo>
                      <a:pt x="575" y="147"/>
                    </a:lnTo>
                    <a:lnTo>
                      <a:pt x="584" y="146"/>
                    </a:lnTo>
                    <a:lnTo>
                      <a:pt x="593" y="147"/>
                    </a:lnTo>
                    <a:lnTo>
                      <a:pt x="603" y="147"/>
                    </a:lnTo>
                    <a:lnTo>
                      <a:pt x="612" y="146"/>
                    </a:lnTo>
                    <a:lnTo>
                      <a:pt x="621" y="145"/>
                    </a:lnTo>
                    <a:lnTo>
                      <a:pt x="631" y="145"/>
                    </a:lnTo>
                    <a:lnTo>
                      <a:pt x="640" y="147"/>
                    </a:lnTo>
                    <a:lnTo>
                      <a:pt x="649" y="145"/>
                    </a:lnTo>
                    <a:lnTo>
                      <a:pt x="658" y="147"/>
                    </a:lnTo>
                    <a:lnTo>
                      <a:pt x="668" y="146"/>
                    </a:lnTo>
                    <a:lnTo>
                      <a:pt x="677" y="144"/>
                    </a:lnTo>
                    <a:lnTo>
                      <a:pt x="686" y="144"/>
                    </a:lnTo>
                    <a:lnTo>
                      <a:pt x="696" y="143"/>
                    </a:lnTo>
                    <a:lnTo>
                      <a:pt x="705" y="143"/>
                    </a:lnTo>
                    <a:lnTo>
                      <a:pt x="714" y="142"/>
                    </a:lnTo>
                    <a:lnTo>
                      <a:pt x="723" y="141"/>
                    </a:lnTo>
                    <a:lnTo>
                      <a:pt x="733" y="141"/>
                    </a:lnTo>
                    <a:lnTo>
                      <a:pt x="742" y="142"/>
                    </a:lnTo>
                    <a:lnTo>
                      <a:pt x="751" y="143"/>
                    </a:lnTo>
                    <a:lnTo>
                      <a:pt x="760" y="144"/>
                    </a:lnTo>
                    <a:lnTo>
                      <a:pt x="770" y="144"/>
                    </a:lnTo>
                    <a:lnTo>
                      <a:pt x="779" y="143"/>
                    </a:lnTo>
                    <a:lnTo>
                      <a:pt x="788" y="142"/>
                    </a:lnTo>
                    <a:lnTo>
                      <a:pt x="798" y="140"/>
                    </a:lnTo>
                    <a:lnTo>
                      <a:pt x="807" y="139"/>
                    </a:lnTo>
                    <a:lnTo>
                      <a:pt x="816" y="140"/>
                    </a:lnTo>
                    <a:lnTo>
                      <a:pt x="825" y="138"/>
                    </a:lnTo>
                    <a:lnTo>
                      <a:pt x="835" y="138"/>
                    </a:lnTo>
                    <a:lnTo>
                      <a:pt x="844" y="135"/>
                    </a:lnTo>
                    <a:lnTo>
                      <a:pt x="853" y="135"/>
                    </a:lnTo>
                    <a:lnTo>
                      <a:pt x="863" y="134"/>
                    </a:lnTo>
                    <a:lnTo>
                      <a:pt x="872" y="135"/>
                    </a:lnTo>
                    <a:lnTo>
                      <a:pt x="881" y="138"/>
                    </a:lnTo>
                    <a:lnTo>
                      <a:pt x="890" y="136"/>
                    </a:lnTo>
                    <a:lnTo>
                      <a:pt x="900" y="134"/>
                    </a:lnTo>
                    <a:lnTo>
                      <a:pt x="909" y="133"/>
                    </a:lnTo>
                    <a:lnTo>
                      <a:pt x="918" y="133"/>
                    </a:lnTo>
                    <a:lnTo>
                      <a:pt x="928" y="130"/>
                    </a:lnTo>
                    <a:lnTo>
                      <a:pt x="937" y="128"/>
                    </a:lnTo>
                    <a:lnTo>
                      <a:pt x="946" y="128"/>
                    </a:lnTo>
                    <a:lnTo>
                      <a:pt x="955" y="126"/>
                    </a:lnTo>
                    <a:lnTo>
                      <a:pt x="965" y="126"/>
                    </a:lnTo>
                    <a:lnTo>
                      <a:pt x="974" y="124"/>
                    </a:lnTo>
                    <a:lnTo>
                      <a:pt x="983" y="122"/>
                    </a:lnTo>
                    <a:lnTo>
                      <a:pt x="992" y="119"/>
                    </a:lnTo>
                    <a:lnTo>
                      <a:pt x="1002" y="117"/>
                    </a:lnTo>
                    <a:lnTo>
                      <a:pt x="1011" y="115"/>
                    </a:lnTo>
                    <a:lnTo>
                      <a:pt x="1020" y="113"/>
                    </a:lnTo>
                    <a:lnTo>
                      <a:pt x="1030" y="111"/>
                    </a:lnTo>
                    <a:lnTo>
                      <a:pt x="1039" y="108"/>
                    </a:lnTo>
                    <a:lnTo>
                      <a:pt x="1048" y="105"/>
                    </a:lnTo>
                    <a:lnTo>
                      <a:pt x="1057" y="102"/>
                    </a:lnTo>
                    <a:lnTo>
                      <a:pt x="1067" y="102"/>
                    </a:lnTo>
                    <a:lnTo>
                      <a:pt x="1076" y="99"/>
                    </a:lnTo>
                    <a:lnTo>
                      <a:pt x="1085" y="98"/>
                    </a:lnTo>
                    <a:lnTo>
                      <a:pt x="1095" y="94"/>
                    </a:lnTo>
                    <a:lnTo>
                      <a:pt x="1104" y="91"/>
                    </a:lnTo>
                    <a:lnTo>
                      <a:pt x="1113" y="88"/>
                    </a:lnTo>
                    <a:lnTo>
                      <a:pt x="1122" y="84"/>
                    </a:lnTo>
                    <a:lnTo>
                      <a:pt x="1132" y="80"/>
                    </a:lnTo>
                    <a:lnTo>
                      <a:pt x="1141" y="75"/>
                    </a:lnTo>
                    <a:lnTo>
                      <a:pt x="1150" y="75"/>
                    </a:lnTo>
                    <a:lnTo>
                      <a:pt x="1160" y="75"/>
                    </a:lnTo>
                    <a:lnTo>
                      <a:pt x="1169" y="70"/>
                    </a:lnTo>
                    <a:lnTo>
                      <a:pt x="1178" y="67"/>
                    </a:lnTo>
                    <a:lnTo>
                      <a:pt x="1187" y="63"/>
                    </a:lnTo>
                    <a:lnTo>
                      <a:pt x="1197" y="60"/>
                    </a:lnTo>
                    <a:lnTo>
                      <a:pt x="1206" y="60"/>
                    </a:lnTo>
                    <a:lnTo>
                      <a:pt x="1215" y="62"/>
                    </a:lnTo>
                    <a:lnTo>
                      <a:pt x="1224" y="62"/>
                    </a:lnTo>
                    <a:lnTo>
                      <a:pt x="1234" y="61"/>
                    </a:lnTo>
                    <a:lnTo>
                      <a:pt x="1243" y="58"/>
                    </a:lnTo>
                    <a:lnTo>
                      <a:pt x="1252" y="56"/>
                    </a:lnTo>
                    <a:lnTo>
                      <a:pt x="1262" y="54"/>
                    </a:lnTo>
                    <a:lnTo>
                      <a:pt x="1271" y="50"/>
                    </a:lnTo>
                    <a:lnTo>
                      <a:pt x="1280" y="46"/>
                    </a:lnTo>
                    <a:lnTo>
                      <a:pt x="1289" y="44"/>
                    </a:lnTo>
                    <a:lnTo>
                      <a:pt x="1299" y="42"/>
                    </a:lnTo>
                    <a:lnTo>
                      <a:pt x="1308" y="41"/>
                    </a:lnTo>
                    <a:lnTo>
                      <a:pt x="1317" y="41"/>
                    </a:lnTo>
                    <a:lnTo>
                      <a:pt x="1327" y="40"/>
                    </a:lnTo>
                    <a:lnTo>
                      <a:pt x="1336" y="39"/>
                    </a:lnTo>
                    <a:lnTo>
                      <a:pt x="1345" y="36"/>
                    </a:lnTo>
                    <a:lnTo>
                      <a:pt x="1354" y="33"/>
                    </a:lnTo>
                    <a:lnTo>
                      <a:pt x="1364" y="32"/>
                    </a:lnTo>
                    <a:lnTo>
                      <a:pt x="1373" y="31"/>
                    </a:lnTo>
                    <a:lnTo>
                      <a:pt x="1382" y="28"/>
                    </a:lnTo>
                    <a:lnTo>
                      <a:pt x="1392" y="25"/>
                    </a:lnTo>
                    <a:lnTo>
                      <a:pt x="1401" y="25"/>
                    </a:lnTo>
                    <a:lnTo>
                      <a:pt x="1410" y="22"/>
                    </a:lnTo>
                    <a:lnTo>
                      <a:pt x="1419" y="16"/>
                    </a:lnTo>
                    <a:lnTo>
                      <a:pt x="1429" y="8"/>
                    </a:lnTo>
                    <a:lnTo>
                      <a:pt x="1438" y="4"/>
                    </a:lnTo>
                    <a:lnTo>
                      <a:pt x="1447" y="0"/>
                    </a:lnTo>
                    <a:lnTo>
                      <a:pt x="1447" y="38"/>
                    </a:lnTo>
                    <a:lnTo>
                      <a:pt x="1438" y="42"/>
                    </a:lnTo>
                    <a:lnTo>
                      <a:pt x="1429" y="45"/>
                    </a:lnTo>
                    <a:lnTo>
                      <a:pt x="1419" y="51"/>
                    </a:lnTo>
                    <a:lnTo>
                      <a:pt x="1410" y="56"/>
                    </a:lnTo>
                    <a:lnTo>
                      <a:pt x="1401" y="58"/>
                    </a:lnTo>
                    <a:lnTo>
                      <a:pt x="1392" y="59"/>
                    </a:lnTo>
                    <a:lnTo>
                      <a:pt x="1382" y="61"/>
                    </a:lnTo>
                    <a:lnTo>
                      <a:pt x="1373" y="62"/>
                    </a:lnTo>
                    <a:lnTo>
                      <a:pt x="1364" y="62"/>
                    </a:lnTo>
                    <a:lnTo>
                      <a:pt x="1354" y="63"/>
                    </a:lnTo>
                    <a:lnTo>
                      <a:pt x="1345" y="66"/>
                    </a:lnTo>
                    <a:lnTo>
                      <a:pt x="1336" y="68"/>
                    </a:lnTo>
                    <a:lnTo>
                      <a:pt x="1327" y="69"/>
                    </a:lnTo>
                    <a:lnTo>
                      <a:pt x="1317" y="69"/>
                    </a:lnTo>
                    <a:lnTo>
                      <a:pt x="1308" y="69"/>
                    </a:lnTo>
                    <a:lnTo>
                      <a:pt x="1299" y="69"/>
                    </a:lnTo>
                    <a:lnTo>
                      <a:pt x="1289" y="70"/>
                    </a:lnTo>
                    <a:lnTo>
                      <a:pt x="1280" y="71"/>
                    </a:lnTo>
                    <a:lnTo>
                      <a:pt x="1271" y="74"/>
                    </a:lnTo>
                    <a:lnTo>
                      <a:pt x="1262" y="77"/>
                    </a:lnTo>
                    <a:lnTo>
                      <a:pt x="1252" y="78"/>
                    </a:lnTo>
                    <a:lnTo>
                      <a:pt x="1243" y="80"/>
                    </a:lnTo>
                    <a:lnTo>
                      <a:pt x="1234" y="82"/>
                    </a:lnTo>
                    <a:lnTo>
                      <a:pt x="1224" y="82"/>
                    </a:lnTo>
                    <a:lnTo>
                      <a:pt x="1215" y="82"/>
                    </a:lnTo>
                    <a:lnTo>
                      <a:pt x="1206" y="80"/>
                    </a:lnTo>
                    <a:lnTo>
                      <a:pt x="1197" y="79"/>
                    </a:lnTo>
                    <a:lnTo>
                      <a:pt x="1187" y="81"/>
                    </a:lnTo>
                    <a:lnTo>
                      <a:pt x="1178" y="84"/>
                    </a:lnTo>
                    <a:lnTo>
                      <a:pt x="1169" y="87"/>
                    </a:lnTo>
                    <a:lnTo>
                      <a:pt x="1160" y="91"/>
                    </a:lnTo>
                    <a:lnTo>
                      <a:pt x="1150" y="92"/>
                    </a:lnTo>
                    <a:lnTo>
                      <a:pt x="1141" y="91"/>
                    </a:lnTo>
                    <a:lnTo>
                      <a:pt x="1132" y="95"/>
                    </a:lnTo>
                    <a:lnTo>
                      <a:pt x="1122" y="99"/>
                    </a:lnTo>
                    <a:lnTo>
                      <a:pt x="1113" y="101"/>
                    </a:lnTo>
                    <a:lnTo>
                      <a:pt x="1104" y="103"/>
                    </a:lnTo>
                    <a:lnTo>
                      <a:pt x="1095" y="106"/>
                    </a:lnTo>
                    <a:lnTo>
                      <a:pt x="1085" y="108"/>
                    </a:lnTo>
                    <a:lnTo>
                      <a:pt x="1076" y="109"/>
                    </a:lnTo>
                    <a:lnTo>
                      <a:pt x="1067" y="111"/>
                    </a:lnTo>
                    <a:lnTo>
                      <a:pt x="1057" y="111"/>
                    </a:lnTo>
                    <a:lnTo>
                      <a:pt x="1048" y="113"/>
                    </a:lnTo>
                    <a:lnTo>
                      <a:pt x="1039" y="115"/>
                    </a:lnTo>
                    <a:lnTo>
                      <a:pt x="1030" y="118"/>
                    </a:lnTo>
                    <a:lnTo>
                      <a:pt x="1020" y="119"/>
                    </a:lnTo>
                    <a:lnTo>
                      <a:pt x="1011" y="121"/>
                    </a:lnTo>
                    <a:lnTo>
                      <a:pt x="1002" y="122"/>
                    </a:lnTo>
                    <a:lnTo>
                      <a:pt x="992" y="124"/>
                    </a:lnTo>
                    <a:lnTo>
                      <a:pt x="983" y="126"/>
                    </a:lnTo>
                    <a:lnTo>
                      <a:pt x="974" y="127"/>
                    </a:lnTo>
                    <a:lnTo>
                      <a:pt x="965" y="129"/>
                    </a:lnTo>
                    <a:lnTo>
                      <a:pt x="955" y="130"/>
                    </a:lnTo>
                    <a:lnTo>
                      <a:pt x="946" y="131"/>
                    </a:lnTo>
                    <a:lnTo>
                      <a:pt x="937" y="132"/>
                    </a:lnTo>
                    <a:lnTo>
                      <a:pt x="928" y="132"/>
                    </a:lnTo>
                    <a:lnTo>
                      <a:pt x="918" y="135"/>
                    </a:lnTo>
                    <a:lnTo>
                      <a:pt x="909" y="135"/>
                    </a:lnTo>
                    <a:lnTo>
                      <a:pt x="900" y="136"/>
                    </a:lnTo>
                    <a:lnTo>
                      <a:pt x="890" y="138"/>
                    </a:lnTo>
                    <a:lnTo>
                      <a:pt x="881" y="139"/>
                    </a:lnTo>
                    <a:lnTo>
                      <a:pt x="872" y="136"/>
                    </a:lnTo>
                    <a:lnTo>
                      <a:pt x="863" y="136"/>
                    </a:lnTo>
                    <a:lnTo>
                      <a:pt x="853" y="136"/>
                    </a:lnTo>
                    <a:lnTo>
                      <a:pt x="844" y="137"/>
                    </a:lnTo>
                    <a:lnTo>
                      <a:pt x="835" y="139"/>
                    </a:lnTo>
                    <a:lnTo>
                      <a:pt x="825" y="139"/>
                    </a:lnTo>
                    <a:lnTo>
                      <a:pt x="816" y="141"/>
                    </a:lnTo>
                    <a:lnTo>
                      <a:pt x="807" y="140"/>
                    </a:lnTo>
                    <a:lnTo>
                      <a:pt x="798" y="141"/>
                    </a:lnTo>
                    <a:lnTo>
                      <a:pt x="788" y="143"/>
                    </a:lnTo>
                    <a:lnTo>
                      <a:pt x="779" y="143"/>
                    </a:lnTo>
                    <a:lnTo>
                      <a:pt x="770" y="144"/>
                    </a:lnTo>
                    <a:lnTo>
                      <a:pt x="760" y="145"/>
                    </a:lnTo>
                    <a:lnTo>
                      <a:pt x="751" y="143"/>
                    </a:lnTo>
                    <a:lnTo>
                      <a:pt x="742" y="142"/>
                    </a:lnTo>
                    <a:lnTo>
                      <a:pt x="733" y="141"/>
                    </a:lnTo>
                    <a:lnTo>
                      <a:pt x="723" y="142"/>
                    </a:lnTo>
                    <a:lnTo>
                      <a:pt x="714" y="143"/>
                    </a:lnTo>
                    <a:lnTo>
                      <a:pt x="705" y="144"/>
                    </a:lnTo>
                    <a:lnTo>
                      <a:pt x="696" y="144"/>
                    </a:lnTo>
                    <a:lnTo>
                      <a:pt x="686" y="144"/>
                    </a:lnTo>
                    <a:lnTo>
                      <a:pt x="677" y="144"/>
                    </a:lnTo>
                    <a:lnTo>
                      <a:pt x="668" y="146"/>
                    </a:lnTo>
                    <a:lnTo>
                      <a:pt x="658" y="147"/>
                    </a:lnTo>
                    <a:lnTo>
                      <a:pt x="649" y="145"/>
                    </a:lnTo>
                    <a:lnTo>
                      <a:pt x="640" y="147"/>
                    </a:lnTo>
                    <a:lnTo>
                      <a:pt x="631" y="146"/>
                    </a:lnTo>
                    <a:lnTo>
                      <a:pt x="621" y="146"/>
                    </a:lnTo>
                    <a:lnTo>
                      <a:pt x="612" y="146"/>
                    </a:lnTo>
                    <a:lnTo>
                      <a:pt x="603" y="147"/>
                    </a:lnTo>
                    <a:lnTo>
                      <a:pt x="593" y="147"/>
                    </a:lnTo>
                    <a:lnTo>
                      <a:pt x="584" y="146"/>
                    </a:lnTo>
                    <a:lnTo>
                      <a:pt x="575" y="147"/>
                    </a:lnTo>
                    <a:lnTo>
                      <a:pt x="566" y="148"/>
                    </a:lnTo>
                    <a:lnTo>
                      <a:pt x="556" y="148"/>
                    </a:lnTo>
                    <a:lnTo>
                      <a:pt x="547" y="148"/>
                    </a:lnTo>
                    <a:lnTo>
                      <a:pt x="538" y="149"/>
                    </a:lnTo>
                    <a:lnTo>
                      <a:pt x="528" y="149"/>
                    </a:lnTo>
                    <a:lnTo>
                      <a:pt x="519" y="150"/>
                    </a:lnTo>
                    <a:lnTo>
                      <a:pt x="510" y="150"/>
                    </a:lnTo>
                    <a:lnTo>
                      <a:pt x="501" y="151"/>
                    </a:lnTo>
                    <a:lnTo>
                      <a:pt x="491" y="151"/>
                    </a:lnTo>
                    <a:lnTo>
                      <a:pt x="482" y="152"/>
                    </a:lnTo>
                    <a:lnTo>
                      <a:pt x="473" y="152"/>
                    </a:lnTo>
                    <a:lnTo>
                      <a:pt x="464" y="152"/>
                    </a:lnTo>
                    <a:lnTo>
                      <a:pt x="454" y="153"/>
                    </a:lnTo>
                    <a:lnTo>
                      <a:pt x="445" y="153"/>
                    </a:lnTo>
                    <a:lnTo>
                      <a:pt x="436" y="154"/>
                    </a:lnTo>
                    <a:lnTo>
                      <a:pt x="426" y="154"/>
                    </a:lnTo>
                    <a:lnTo>
                      <a:pt x="417" y="154"/>
                    </a:lnTo>
                    <a:lnTo>
                      <a:pt x="408" y="154"/>
                    </a:lnTo>
                    <a:lnTo>
                      <a:pt x="399" y="155"/>
                    </a:lnTo>
                    <a:lnTo>
                      <a:pt x="389" y="155"/>
                    </a:lnTo>
                    <a:lnTo>
                      <a:pt x="380" y="155"/>
                    </a:lnTo>
                    <a:lnTo>
                      <a:pt x="371" y="155"/>
                    </a:lnTo>
                    <a:lnTo>
                      <a:pt x="361" y="155"/>
                    </a:lnTo>
                    <a:lnTo>
                      <a:pt x="352" y="155"/>
                    </a:lnTo>
                    <a:lnTo>
                      <a:pt x="343" y="156"/>
                    </a:lnTo>
                    <a:lnTo>
                      <a:pt x="334" y="156"/>
                    </a:lnTo>
                    <a:lnTo>
                      <a:pt x="324" y="156"/>
                    </a:lnTo>
                    <a:lnTo>
                      <a:pt x="315" y="156"/>
                    </a:lnTo>
                    <a:lnTo>
                      <a:pt x="306" y="156"/>
                    </a:lnTo>
                    <a:lnTo>
                      <a:pt x="296" y="156"/>
                    </a:lnTo>
                    <a:lnTo>
                      <a:pt x="287" y="157"/>
                    </a:lnTo>
                    <a:lnTo>
                      <a:pt x="278" y="157"/>
                    </a:lnTo>
                    <a:lnTo>
                      <a:pt x="269" y="157"/>
                    </a:lnTo>
                    <a:lnTo>
                      <a:pt x="259" y="157"/>
                    </a:lnTo>
                    <a:lnTo>
                      <a:pt x="250" y="157"/>
                    </a:lnTo>
                    <a:lnTo>
                      <a:pt x="241" y="157"/>
                    </a:lnTo>
                    <a:lnTo>
                      <a:pt x="232" y="158"/>
                    </a:lnTo>
                    <a:lnTo>
                      <a:pt x="222" y="158"/>
                    </a:lnTo>
                    <a:lnTo>
                      <a:pt x="213" y="158"/>
                    </a:lnTo>
                    <a:lnTo>
                      <a:pt x="204" y="158"/>
                    </a:lnTo>
                    <a:lnTo>
                      <a:pt x="194" y="158"/>
                    </a:lnTo>
                    <a:lnTo>
                      <a:pt x="185" y="158"/>
                    </a:lnTo>
                    <a:lnTo>
                      <a:pt x="176" y="158"/>
                    </a:lnTo>
                    <a:lnTo>
                      <a:pt x="167" y="159"/>
                    </a:lnTo>
                    <a:lnTo>
                      <a:pt x="157" y="159"/>
                    </a:lnTo>
                    <a:lnTo>
                      <a:pt x="148" y="159"/>
                    </a:lnTo>
                    <a:lnTo>
                      <a:pt x="139" y="159"/>
                    </a:lnTo>
                    <a:lnTo>
                      <a:pt x="129" y="159"/>
                    </a:lnTo>
                    <a:lnTo>
                      <a:pt x="120" y="159"/>
                    </a:lnTo>
                    <a:lnTo>
                      <a:pt x="111" y="159"/>
                    </a:lnTo>
                    <a:lnTo>
                      <a:pt x="102" y="159"/>
                    </a:lnTo>
                    <a:lnTo>
                      <a:pt x="92" y="160"/>
                    </a:lnTo>
                    <a:lnTo>
                      <a:pt x="83" y="160"/>
                    </a:lnTo>
                    <a:lnTo>
                      <a:pt x="74" y="160"/>
                    </a:lnTo>
                    <a:lnTo>
                      <a:pt x="64" y="160"/>
                    </a:lnTo>
                    <a:lnTo>
                      <a:pt x="55" y="160"/>
                    </a:lnTo>
                    <a:lnTo>
                      <a:pt x="46" y="160"/>
                    </a:lnTo>
                    <a:lnTo>
                      <a:pt x="37" y="160"/>
                    </a:lnTo>
                    <a:lnTo>
                      <a:pt x="27" y="160"/>
                    </a:lnTo>
                    <a:lnTo>
                      <a:pt x="18" y="160"/>
                    </a:lnTo>
                    <a:lnTo>
                      <a:pt x="9" y="160"/>
                    </a:lnTo>
                    <a:lnTo>
                      <a:pt x="0" y="160"/>
                    </a:lnTo>
                    <a:close/>
                  </a:path>
                </a:pathLst>
              </a:custGeom>
              <a:noFill/>
              <a:ln w="3175">
                <a:solidFill>
                  <a:srgbClr val="0064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9" name="Freeform 49"/>
              <p:cNvSpPr/>
              <p:nvPr/>
            </p:nvSpPr>
            <p:spPr>
              <a:xfrm>
                <a:off x="434160" y="6168600"/>
                <a:ext cx="2310120" cy="298080"/>
              </a:xfrm>
              <a:custGeom>
                <a:avLst/>
                <a:gdLst>
                  <a:gd name="textAreaLeft" fmla="*/ 0 w 2310120"/>
                  <a:gd name="textAreaRight" fmla="*/ 2310480 w 2310120"/>
                  <a:gd name="textAreaTop" fmla="*/ 0 h 298080"/>
                  <a:gd name="textAreaBottom" fmla="*/ 298440 h 298080"/>
                </a:gdLst>
                <a:ahLst/>
                <a:rect l="textAreaLeft" t="textAreaTop" r="textAreaRight" b="textAreaBottom"/>
                <a:pathLst>
                  <a:path w="1447" h="122">
                    <a:moveTo>
                      <a:pt x="0" y="122"/>
                    </a:moveTo>
                    <a:lnTo>
                      <a:pt x="9" y="121"/>
                    </a:lnTo>
                    <a:lnTo>
                      <a:pt x="18" y="122"/>
                    </a:lnTo>
                    <a:lnTo>
                      <a:pt x="27" y="122"/>
                    </a:lnTo>
                    <a:lnTo>
                      <a:pt x="37" y="121"/>
                    </a:lnTo>
                    <a:lnTo>
                      <a:pt x="46" y="121"/>
                    </a:lnTo>
                    <a:lnTo>
                      <a:pt x="55" y="121"/>
                    </a:lnTo>
                    <a:lnTo>
                      <a:pt x="64" y="121"/>
                    </a:lnTo>
                    <a:lnTo>
                      <a:pt x="74" y="121"/>
                    </a:lnTo>
                    <a:lnTo>
                      <a:pt x="83" y="121"/>
                    </a:lnTo>
                    <a:lnTo>
                      <a:pt x="92" y="121"/>
                    </a:lnTo>
                    <a:lnTo>
                      <a:pt x="102" y="121"/>
                    </a:lnTo>
                    <a:lnTo>
                      <a:pt x="111" y="121"/>
                    </a:lnTo>
                    <a:lnTo>
                      <a:pt x="120" y="120"/>
                    </a:lnTo>
                    <a:lnTo>
                      <a:pt x="129" y="120"/>
                    </a:lnTo>
                    <a:lnTo>
                      <a:pt x="139" y="120"/>
                    </a:lnTo>
                    <a:lnTo>
                      <a:pt x="148" y="120"/>
                    </a:lnTo>
                    <a:lnTo>
                      <a:pt x="157" y="120"/>
                    </a:lnTo>
                    <a:lnTo>
                      <a:pt x="167" y="120"/>
                    </a:lnTo>
                    <a:lnTo>
                      <a:pt x="176" y="120"/>
                    </a:lnTo>
                    <a:lnTo>
                      <a:pt x="185" y="120"/>
                    </a:lnTo>
                    <a:lnTo>
                      <a:pt x="194" y="119"/>
                    </a:lnTo>
                    <a:lnTo>
                      <a:pt x="204" y="119"/>
                    </a:lnTo>
                    <a:lnTo>
                      <a:pt x="213" y="119"/>
                    </a:lnTo>
                    <a:lnTo>
                      <a:pt x="222" y="119"/>
                    </a:lnTo>
                    <a:lnTo>
                      <a:pt x="232" y="119"/>
                    </a:lnTo>
                    <a:lnTo>
                      <a:pt x="241" y="119"/>
                    </a:lnTo>
                    <a:lnTo>
                      <a:pt x="250" y="119"/>
                    </a:lnTo>
                    <a:lnTo>
                      <a:pt x="259" y="118"/>
                    </a:lnTo>
                    <a:lnTo>
                      <a:pt x="269" y="118"/>
                    </a:lnTo>
                    <a:lnTo>
                      <a:pt x="278" y="118"/>
                    </a:lnTo>
                    <a:lnTo>
                      <a:pt x="287" y="118"/>
                    </a:lnTo>
                    <a:lnTo>
                      <a:pt x="296" y="117"/>
                    </a:lnTo>
                    <a:lnTo>
                      <a:pt x="306" y="117"/>
                    </a:lnTo>
                    <a:lnTo>
                      <a:pt x="315" y="117"/>
                    </a:lnTo>
                    <a:lnTo>
                      <a:pt x="324" y="117"/>
                    </a:lnTo>
                    <a:lnTo>
                      <a:pt x="334" y="117"/>
                    </a:lnTo>
                    <a:lnTo>
                      <a:pt x="343" y="117"/>
                    </a:lnTo>
                    <a:lnTo>
                      <a:pt x="352" y="116"/>
                    </a:lnTo>
                    <a:lnTo>
                      <a:pt x="361" y="116"/>
                    </a:lnTo>
                    <a:lnTo>
                      <a:pt x="371" y="116"/>
                    </a:lnTo>
                    <a:lnTo>
                      <a:pt x="380" y="116"/>
                    </a:lnTo>
                    <a:lnTo>
                      <a:pt x="389" y="116"/>
                    </a:lnTo>
                    <a:lnTo>
                      <a:pt x="399" y="116"/>
                    </a:lnTo>
                    <a:lnTo>
                      <a:pt x="408" y="116"/>
                    </a:lnTo>
                    <a:lnTo>
                      <a:pt x="417" y="115"/>
                    </a:lnTo>
                    <a:lnTo>
                      <a:pt x="426" y="115"/>
                    </a:lnTo>
                    <a:lnTo>
                      <a:pt x="436" y="115"/>
                    </a:lnTo>
                    <a:lnTo>
                      <a:pt x="445" y="114"/>
                    </a:lnTo>
                    <a:lnTo>
                      <a:pt x="454" y="114"/>
                    </a:lnTo>
                    <a:lnTo>
                      <a:pt x="464" y="113"/>
                    </a:lnTo>
                    <a:lnTo>
                      <a:pt x="473" y="113"/>
                    </a:lnTo>
                    <a:lnTo>
                      <a:pt x="482" y="113"/>
                    </a:lnTo>
                    <a:lnTo>
                      <a:pt x="491" y="112"/>
                    </a:lnTo>
                    <a:lnTo>
                      <a:pt x="501" y="112"/>
                    </a:lnTo>
                    <a:lnTo>
                      <a:pt x="510" y="111"/>
                    </a:lnTo>
                    <a:lnTo>
                      <a:pt x="519" y="111"/>
                    </a:lnTo>
                    <a:lnTo>
                      <a:pt x="528" y="110"/>
                    </a:lnTo>
                    <a:lnTo>
                      <a:pt x="538" y="110"/>
                    </a:lnTo>
                    <a:lnTo>
                      <a:pt x="547" y="110"/>
                    </a:lnTo>
                    <a:lnTo>
                      <a:pt x="556" y="109"/>
                    </a:lnTo>
                    <a:lnTo>
                      <a:pt x="566" y="109"/>
                    </a:lnTo>
                    <a:lnTo>
                      <a:pt x="575" y="108"/>
                    </a:lnTo>
                    <a:lnTo>
                      <a:pt x="584" y="107"/>
                    </a:lnTo>
                    <a:lnTo>
                      <a:pt x="593" y="108"/>
                    </a:lnTo>
                    <a:lnTo>
                      <a:pt x="603" y="108"/>
                    </a:lnTo>
                    <a:lnTo>
                      <a:pt x="612" y="107"/>
                    </a:lnTo>
                    <a:lnTo>
                      <a:pt x="621" y="107"/>
                    </a:lnTo>
                    <a:lnTo>
                      <a:pt x="631" y="107"/>
                    </a:lnTo>
                    <a:lnTo>
                      <a:pt x="640" y="108"/>
                    </a:lnTo>
                    <a:lnTo>
                      <a:pt x="649" y="107"/>
                    </a:lnTo>
                    <a:lnTo>
                      <a:pt x="658" y="108"/>
                    </a:lnTo>
                    <a:lnTo>
                      <a:pt x="668" y="107"/>
                    </a:lnTo>
                    <a:lnTo>
                      <a:pt x="677" y="106"/>
                    </a:lnTo>
                    <a:lnTo>
                      <a:pt x="686" y="105"/>
                    </a:lnTo>
                    <a:lnTo>
                      <a:pt x="696" y="105"/>
                    </a:lnTo>
                    <a:lnTo>
                      <a:pt x="705" y="105"/>
                    </a:lnTo>
                    <a:lnTo>
                      <a:pt x="714" y="104"/>
                    </a:lnTo>
                    <a:lnTo>
                      <a:pt x="723" y="103"/>
                    </a:lnTo>
                    <a:lnTo>
                      <a:pt x="733" y="103"/>
                    </a:lnTo>
                    <a:lnTo>
                      <a:pt x="742" y="104"/>
                    </a:lnTo>
                    <a:lnTo>
                      <a:pt x="751" y="105"/>
                    </a:lnTo>
                    <a:lnTo>
                      <a:pt x="760" y="106"/>
                    </a:lnTo>
                    <a:lnTo>
                      <a:pt x="770" y="105"/>
                    </a:lnTo>
                    <a:lnTo>
                      <a:pt x="779" y="104"/>
                    </a:lnTo>
                    <a:lnTo>
                      <a:pt x="788" y="104"/>
                    </a:lnTo>
                    <a:lnTo>
                      <a:pt x="798" y="102"/>
                    </a:lnTo>
                    <a:lnTo>
                      <a:pt x="807" y="101"/>
                    </a:lnTo>
                    <a:lnTo>
                      <a:pt x="816" y="102"/>
                    </a:lnTo>
                    <a:lnTo>
                      <a:pt x="825" y="100"/>
                    </a:lnTo>
                    <a:lnTo>
                      <a:pt x="835" y="100"/>
                    </a:lnTo>
                    <a:lnTo>
                      <a:pt x="844" y="98"/>
                    </a:lnTo>
                    <a:lnTo>
                      <a:pt x="853" y="97"/>
                    </a:lnTo>
                    <a:lnTo>
                      <a:pt x="863" y="97"/>
                    </a:lnTo>
                    <a:lnTo>
                      <a:pt x="872" y="97"/>
                    </a:lnTo>
                    <a:lnTo>
                      <a:pt x="881" y="100"/>
                    </a:lnTo>
                    <a:lnTo>
                      <a:pt x="890" y="99"/>
                    </a:lnTo>
                    <a:lnTo>
                      <a:pt x="900" y="97"/>
                    </a:lnTo>
                    <a:lnTo>
                      <a:pt x="909" y="96"/>
                    </a:lnTo>
                    <a:lnTo>
                      <a:pt x="918" y="96"/>
                    </a:lnTo>
                    <a:lnTo>
                      <a:pt x="928" y="94"/>
                    </a:lnTo>
                    <a:lnTo>
                      <a:pt x="937" y="93"/>
                    </a:lnTo>
                    <a:lnTo>
                      <a:pt x="946" y="92"/>
                    </a:lnTo>
                    <a:lnTo>
                      <a:pt x="955" y="91"/>
                    </a:lnTo>
                    <a:lnTo>
                      <a:pt x="965" y="91"/>
                    </a:lnTo>
                    <a:lnTo>
                      <a:pt x="974" y="89"/>
                    </a:lnTo>
                    <a:lnTo>
                      <a:pt x="983" y="87"/>
                    </a:lnTo>
                    <a:lnTo>
                      <a:pt x="992" y="85"/>
                    </a:lnTo>
                    <a:lnTo>
                      <a:pt x="1002" y="83"/>
                    </a:lnTo>
                    <a:lnTo>
                      <a:pt x="1011" y="82"/>
                    </a:lnTo>
                    <a:lnTo>
                      <a:pt x="1020" y="80"/>
                    </a:lnTo>
                    <a:lnTo>
                      <a:pt x="1030" y="79"/>
                    </a:lnTo>
                    <a:lnTo>
                      <a:pt x="1039" y="76"/>
                    </a:lnTo>
                    <a:lnTo>
                      <a:pt x="1048" y="74"/>
                    </a:lnTo>
                    <a:lnTo>
                      <a:pt x="1057" y="72"/>
                    </a:lnTo>
                    <a:lnTo>
                      <a:pt x="1067" y="72"/>
                    </a:lnTo>
                    <a:lnTo>
                      <a:pt x="1076" y="70"/>
                    </a:lnTo>
                    <a:lnTo>
                      <a:pt x="1085" y="70"/>
                    </a:lnTo>
                    <a:lnTo>
                      <a:pt x="1095" y="67"/>
                    </a:lnTo>
                    <a:lnTo>
                      <a:pt x="1104" y="65"/>
                    </a:lnTo>
                    <a:lnTo>
                      <a:pt x="1113" y="62"/>
                    </a:lnTo>
                    <a:lnTo>
                      <a:pt x="1122" y="60"/>
                    </a:lnTo>
                    <a:lnTo>
                      <a:pt x="1132" y="57"/>
                    </a:lnTo>
                    <a:lnTo>
                      <a:pt x="1141" y="52"/>
                    </a:lnTo>
                    <a:lnTo>
                      <a:pt x="1150" y="53"/>
                    </a:lnTo>
                    <a:lnTo>
                      <a:pt x="1160" y="52"/>
                    </a:lnTo>
                    <a:lnTo>
                      <a:pt x="1169" y="48"/>
                    </a:lnTo>
                    <a:lnTo>
                      <a:pt x="1178" y="45"/>
                    </a:lnTo>
                    <a:lnTo>
                      <a:pt x="1187" y="42"/>
                    </a:lnTo>
                    <a:lnTo>
                      <a:pt x="1197" y="40"/>
                    </a:lnTo>
                    <a:lnTo>
                      <a:pt x="1206" y="41"/>
                    </a:lnTo>
                    <a:lnTo>
                      <a:pt x="1215" y="43"/>
                    </a:lnTo>
                    <a:lnTo>
                      <a:pt x="1224" y="43"/>
                    </a:lnTo>
                    <a:lnTo>
                      <a:pt x="1234" y="43"/>
                    </a:lnTo>
                    <a:lnTo>
                      <a:pt x="1243" y="41"/>
                    </a:lnTo>
                    <a:lnTo>
                      <a:pt x="1252" y="40"/>
                    </a:lnTo>
                    <a:lnTo>
                      <a:pt x="1262" y="38"/>
                    </a:lnTo>
                    <a:lnTo>
                      <a:pt x="1271" y="35"/>
                    </a:lnTo>
                    <a:lnTo>
                      <a:pt x="1280" y="32"/>
                    </a:lnTo>
                    <a:lnTo>
                      <a:pt x="1289" y="31"/>
                    </a:lnTo>
                    <a:lnTo>
                      <a:pt x="1299" y="30"/>
                    </a:lnTo>
                    <a:lnTo>
                      <a:pt x="1308" y="30"/>
                    </a:lnTo>
                    <a:lnTo>
                      <a:pt x="1317" y="30"/>
                    </a:lnTo>
                    <a:lnTo>
                      <a:pt x="1327" y="30"/>
                    </a:lnTo>
                    <a:lnTo>
                      <a:pt x="1336" y="29"/>
                    </a:lnTo>
                    <a:lnTo>
                      <a:pt x="1345" y="27"/>
                    </a:lnTo>
                    <a:lnTo>
                      <a:pt x="1354" y="24"/>
                    </a:lnTo>
                    <a:lnTo>
                      <a:pt x="1364" y="23"/>
                    </a:lnTo>
                    <a:lnTo>
                      <a:pt x="1373" y="23"/>
                    </a:lnTo>
                    <a:lnTo>
                      <a:pt x="1382" y="22"/>
                    </a:lnTo>
                    <a:lnTo>
                      <a:pt x="1392" y="20"/>
                    </a:lnTo>
                    <a:lnTo>
                      <a:pt x="1401" y="20"/>
                    </a:lnTo>
                    <a:lnTo>
                      <a:pt x="1410" y="17"/>
                    </a:lnTo>
                    <a:lnTo>
                      <a:pt x="1419" y="13"/>
                    </a:lnTo>
                    <a:lnTo>
                      <a:pt x="1429" y="6"/>
                    </a:lnTo>
                    <a:lnTo>
                      <a:pt x="1438" y="3"/>
                    </a:lnTo>
                    <a:lnTo>
                      <a:pt x="1447" y="0"/>
                    </a:lnTo>
                    <a:lnTo>
                      <a:pt x="1447" y="64"/>
                    </a:lnTo>
                    <a:lnTo>
                      <a:pt x="1438" y="67"/>
                    </a:lnTo>
                    <a:lnTo>
                      <a:pt x="1429" y="70"/>
                    </a:lnTo>
                    <a:lnTo>
                      <a:pt x="1419" y="74"/>
                    </a:lnTo>
                    <a:lnTo>
                      <a:pt x="1410" y="77"/>
                    </a:lnTo>
                    <a:lnTo>
                      <a:pt x="1401" y="79"/>
                    </a:lnTo>
                    <a:lnTo>
                      <a:pt x="1392" y="79"/>
                    </a:lnTo>
                    <a:lnTo>
                      <a:pt x="1382" y="80"/>
                    </a:lnTo>
                    <a:lnTo>
                      <a:pt x="1373" y="80"/>
                    </a:lnTo>
                    <a:lnTo>
                      <a:pt x="1364" y="80"/>
                    </a:lnTo>
                    <a:lnTo>
                      <a:pt x="1354" y="80"/>
                    </a:lnTo>
                    <a:lnTo>
                      <a:pt x="1345" y="81"/>
                    </a:lnTo>
                    <a:lnTo>
                      <a:pt x="1336" y="82"/>
                    </a:lnTo>
                    <a:lnTo>
                      <a:pt x="1327" y="82"/>
                    </a:lnTo>
                    <a:lnTo>
                      <a:pt x="1317" y="83"/>
                    </a:lnTo>
                    <a:lnTo>
                      <a:pt x="1308" y="82"/>
                    </a:lnTo>
                    <a:lnTo>
                      <a:pt x="1299" y="82"/>
                    </a:lnTo>
                    <a:lnTo>
                      <a:pt x="1289" y="83"/>
                    </a:lnTo>
                    <a:lnTo>
                      <a:pt x="1280" y="83"/>
                    </a:lnTo>
                    <a:lnTo>
                      <a:pt x="1271" y="84"/>
                    </a:lnTo>
                    <a:lnTo>
                      <a:pt x="1262" y="86"/>
                    </a:lnTo>
                    <a:lnTo>
                      <a:pt x="1252" y="86"/>
                    </a:lnTo>
                    <a:lnTo>
                      <a:pt x="1243" y="88"/>
                    </a:lnTo>
                    <a:lnTo>
                      <a:pt x="1234" y="89"/>
                    </a:lnTo>
                    <a:lnTo>
                      <a:pt x="1224" y="90"/>
                    </a:lnTo>
                    <a:lnTo>
                      <a:pt x="1215" y="91"/>
                    </a:lnTo>
                    <a:lnTo>
                      <a:pt x="1206" y="91"/>
                    </a:lnTo>
                    <a:lnTo>
                      <a:pt x="1197" y="92"/>
                    </a:lnTo>
                    <a:lnTo>
                      <a:pt x="1187" y="93"/>
                    </a:lnTo>
                    <a:lnTo>
                      <a:pt x="1178" y="94"/>
                    </a:lnTo>
                    <a:lnTo>
                      <a:pt x="1169" y="95"/>
                    </a:lnTo>
                    <a:lnTo>
                      <a:pt x="1160" y="97"/>
                    </a:lnTo>
                    <a:lnTo>
                      <a:pt x="1150" y="97"/>
                    </a:lnTo>
                    <a:lnTo>
                      <a:pt x="1141" y="98"/>
                    </a:lnTo>
                    <a:lnTo>
                      <a:pt x="1132" y="99"/>
                    </a:lnTo>
                    <a:lnTo>
                      <a:pt x="1122" y="99"/>
                    </a:lnTo>
                    <a:lnTo>
                      <a:pt x="1113" y="98"/>
                    </a:lnTo>
                    <a:lnTo>
                      <a:pt x="1104" y="98"/>
                    </a:lnTo>
                    <a:lnTo>
                      <a:pt x="1095" y="98"/>
                    </a:lnTo>
                    <a:lnTo>
                      <a:pt x="1085" y="98"/>
                    </a:lnTo>
                    <a:lnTo>
                      <a:pt x="1076" y="97"/>
                    </a:lnTo>
                    <a:lnTo>
                      <a:pt x="1067" y="97"/>
                    </a:lnTo>
                    <a:lnTo>
                      <a:pt x="1057" y="95"/>
                    </a:lnTo>
                    <a:lnTo>
                      <a:pt x="1048" y="95"/>
                    </a:lnTo>
                    <a:lnTo>
                      <a:pt x="1039" y="96"/>
                    </a:lnTo>
                    <a:lnTo>
                      <a:pt x="1030" y="97"/>
                    </a:lnTo>
                    <a:lnTo>
                      <a:pt x="1020" y="97"/>
                    </a:lnTo>
                    <a:lnTo>
                      <a:pt x="1011" y="98"/>
                    </a:lnTo>
                    <a:lnTo>
                      <a:pt x="1002" y="98"/>
                    </a:lnTo>
                    <a:lnTo>
                      <a:pt x="992" y="99"/>
                    </a:lnTo>
                    <a:lnTo>
                      <a:pt x="983" y="100"/>
                    </a:lnTo>
                    <a:lnTo>
                      <a:pt x="974" y="101"/>
                    </a:lnTo>
                    <a:lnTo>
                      <a:pt x="965" y="102"/>
                    </a:lnTo>
                    <a:lnTo>
                      <a:pt x="955" y="102"/>
                    </a:lnTo>
                    <a:lnTo>
                      <a:pt x="946" y="102"/>
                    </a:lnTo>
                    <a:lnTo>
                      <a:pt x="937" y="102"/>
                    </a:lnTo>
                    <a:lnTo>
                      <a:pt x="928" y="103"/>
                    </a:lnTo>
                    <a:lnTo>
                      <a:pt x="918" y="104"/>
                    </a:lnTo>
                    <a:lnTo>
                      <a:pt x="909" y="103"/>
                    </a:lnTo>
                    <a:lnTo>
                      <a:pt x="900" y="104"/>
                    </a:lnTo>
                    <a:lnTo>
                      <a:pt x="890" y="105"/>
                    </a:lnTo>
                    <a:lnTo>
                      <a:pt x="881" y="106"/>
                    </a:lnTo>
                    <a:lnTo>
                      <a:pt x="872" y="103"/>
                    </a:lnTo>
                    <a:lnTo>
                      <a:pt x="863" y="102"/>
                    </a:lnTo>
                    <a:lnTo>
                      <a:pt x="853" y="103"/>
                    </a:lnTo>
                    <a:lnTo>
                      <a:pt x="844" y="103"/>
                    </a:lnTo>
                    <a:lnTo>
                      <a:pt x="835" y="104"/>
                    </a:lnTo>
                    <a:lnTo>
                      <a:pt x="825" y="105"/>
                    </a:lnTo>
                    <a:lnTo>
                      <a:pt x="816" y="106"/>
                    </a:lnTo>
                    <a:lnTo>
                      <a:pt x="807" y="105"/>
                    </a:lnTo>
                    <a:lnTo>
                      <a:pt x="798" y="106"/>
                    </a:lnTo>
                    <a:lnTo>
                      <a:pt x="788" y="107"/>
                    </a:lnTo>
                    <a:lnTo>
                      <a:pt x="779" y="108"/>
                    </a:lnTo>
                    <a:lnTo>
                      <a:pt x="770" y="109"/>
                    </a:lnTo>
                    <a:lnTo>
                      <a:pt x="760" y="109"/>
                    </a:lnTo>
                    <a:lnTo>
                      <a:pt x="751" y="108"/>
                    </a:lnTo>
                    <a:lnTo>
                      <a:pt x="742" y="107"/>
                    </a:lnTo>
                    <a:lnTo>
                      <a:pt x="733" y="106"/>
                    </a:lnTo>
                    <a:lnTo>
                      <a:pt x="723" y="105"/>
                    </a:lnTo>
                    <a:lnTo>
                      <a:pt x="714" y="107"/>
                    </a:lnTo>
                    <a:lnTo>
                      <a:pt x="705" y="107"/>
                    </a:lnTo>
                    <a:lnTo>
                      <a:pt x="696" y="107"/>
                    </a:lnTo>
                    <a:lnTo>
                      <a:pt x="686" y="107"/>
                    </a:lnTo>
                    <a:lnTo>
                      <a:pt x="677" y="107"/>
                    </a:lnTo>
                    <a:lnTo>
                      <a:pt x="668" y="109"/>
                    </a:lnTo>
                    <a:lnTo>
                      <a:pt x="658" y="110"/>
                    </a:lnTo>
                    <a:lnTo>
                      <a:pt x="649" y="108"/>
                    </a:lnTo>
                    <a:lnTo>
                      <a:pt x="640" y="109"/>
                    </a:lnTo>
                    <a:lnTo>
                      <a:pt x="631" y="108"/>
                    </a:lnTo>
                    <a:lnTo>
                      <a:pt x="621" y="108"/>
                    </a:lnTo>
                    <a:lnTo>
                      <a:pt x="612" y="108"/>
                    </a:lnTo>
                    <a:lnTo>
                      <a:pt x="603" y="109"/>
                    </a:lnTo>
                    <a:lnTo>
                      <a:pt x="593" y="109"/>
                    </a:lnTo>
                    <a:lnTo>
                      <a:pt x="584" y="108"/>
                    </a:lnTo>
                    <a:lnTo>
                      <a:pt x="575" y="109"/>
                    </a:lnTo>
                    <a:lnTo>
                      <a:pt x="566" y="109"/>
                    </a:lnTo>
                    <a:lnTo>
                      <a:pt x="556" y="110"/>
                    </a:lnTo>
                    <a:lnTo>
                      <a:pt x="547" y="110"/>
                    </a:lnTo>
                    <a:lnTo>
                      <a:pt x="538" y="111"/>
                    </a:lnTo>
                    <a:lnTo>
                      <a:pt x="528" y="110"/>
                    </a:lnTo>
                    <a:lnTo>
                      <a:pt x="519" y="111"/>
                    </a:lnTo>
                    <a:lnTo>
                      <a:pt x="510" y="112"/>
                    </a:lnTo>
                    <a:lnTo>
                      <a:pt x="501" y="112"/>
                    </a:lnTo>
                    <a:lnTo>
                      <a:pt x="491" y="113"/>
                    </a:lnTo>
                    <a:lnTo>
                      <a:pt x="482" y="113"/>
                    </a:lnTo>
                    <a:lnTo>
                      <a:pt x="473" y="113"/>
                    </a:lnTo>
                    <a:lnTo>
                      <a:pt x="464" y="114"/>
                    </a:lnTo>
                    <a:lnTo>
                      <a:pt x="454" y="114"/>
                    </a:lnTo>
                    <a:lnTo>
                      <a:pt x="445" y="115"/>
                    </a:lnTo>
                    <a:lnTo>
                      <a:pt x="436" y="115"/>
                    </a:lnTo>
                    <a:lnTo>
                      <a:pt x="426" y="115"/>
                    </a:lnTo>
                    <a:lnTo>
                      <a:pt x="417" y="115"/>
                    </a:lnTo>
                    <a:lnTo>
                      <a:pt x="408" y="116"/>
                    </a:lnTo>
                    <a:lnTo>
                      <a:pt x="399" y="116"/>
                    </a:lnTo>
                    <a:lnTo>
                      <a:pt x="389" y="116"/>
                    </a:lnTo>
                    <a:lnTo>
                      <a:pt x="380" y="116"/>
                    </a:lnTo>
                    <a:lnTo>
                      <a:pt x="371" y="116"/>
                    </a:lnTo>
                    <a:lnTo>
                      <a:pt x="361" y="116"/>
                    </a:lnTo>
                    <a:lnTo>
                      <a:pt x="352" y="117"/>
                    </a:lnTo>
                    <a:lnTo>
                      <a:pt x="343" y="117"/>
                    </a:lnTo>
                    <a:lnTo>
                      <a:pt x="334" y="117"/>
                    </a:lnTo>
                    <a:lnTo>
                      <a:pt x="324" y="117"/>
                    </a:lnTo>
                    <a:lnTo>
                      <a:pt x="315" y="117"/>
                    </a:lnTo>
                    <a:lnTo>
                      <a:pt x="306" y="117"/>
                    </a:lnTo>
                    <a:lnTo>
                      <a:pt x="296" y="118"/>
                    </a:lnTo>
                    <a:lnTo>
                      <a:pt x="287" y="118"/>
                    </a:lnTo>
                    <a:lnTo>
                      <a:pt x="278" y="118"/>
                    </a:lnTo>
                    <a:lnTo>
                      <a:pt x="269" y="118"/>
                    </a:lnTo>
                    <a:lnTo>
                      <a:pt x="259" y="119"/>
                    </a:lnTo>
                    <a:lnTo>
                      <a:pt x="250" y="119"/>
                    </a:lnTo>
                    <a:lnTo>
                      <a:pt x="241" y="119"/>
                    </a:lnTo>
                    <a:lnTo>
                      <a:pt x="232" y="119"/>
                    </a:lnTo>
                    <a:lnTo>
                      <a:pt x="222" y="119"/>
                    </a:lnTo>
                    <a:lnTo>
                      <a:pt x="213" y="119"/>
                    </a:lnTo>
                    <a:lnTo>
                      <a:pt x="204" y="119"/>
                    </a:lnTo>
                    <a:lnTo>
                      <a:pt x="194" y="119"/>
                    </a:lnTo>
                    <a:lnTo>
                      <a:pt x="185" y="120"/>
                    </a:lnTo>
                    <a:lnTo>
                      <a:pt x="176" y="120"/>
                    </a:lnTo>
                    <a:lnTo>
                      <a:pt x="167" y="120"/>
                    </a:lnTo>
                    <a:lnTo>
                      <a:pt x="157" y="120"/>
                    </a:lnTo>
                    <a:lnTo>
                      <a:pt x="148" y="120"/>
                    </a:lnTo>
                    <a:lnTo>
                      <a:pt x="139" y="120"/>
                    </a:lnTo>
                    <a:lnTo>
                      <a:pt x="129" y="120"/>
                    </a:lnTo>
                    <a:lnTo>
                      <a:pt x="120" y="120"/>
                    </a:lnTo>
                    <a:lnTo>
                      <a:pt x="111" y="121"/>
                    </a:lnTo>
                    <a:lnTo>
                      <a:pt x="102" y="121"/>
                    </a:lnTo>
                    <a:lnTo>
                      <a:pt x="92" y="121"/>
                    </a:lnTo>
                    <a:lnTo>
                      <a:pt x="83" y="121"/>
                    </a:lnTo>
                    <a:lnTo>
                      <a:pt x="74" y="121"/>
                    </a:lnTo>
                    <a:lnTo>
                      <a:pt x="64" y="121"/>
                    </a:lnTo>
                    <a:lnTo>
                      <a:pt x="55" y="121"/>
                    </a:lnTo>
                    <a:lnTo>
                      <a:pt x="46" y="121"/>
                    </a:lnTo>
                    <a:lnTo>
                      <a:pt x="37" y="121"/>
                    </a:lnTo>
                    <a:lnTo>
                      <a:pt x="27" y="122"/>
                    </a:lnTo>
                    <a:lnTo>
                      <a:pt x="18" y="122"/>
                    </a:lnTo>
                    <a:lnTo>
                      <a:pt x="9" y="121"/>
                    </a:lnTo>
                    <a:lnTo>
                      <a:pt x="0" y="122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0" name="Freeform 50"/>
              <p:cNvSpPr/>
              <p:nvPr/>
            </p:nvSpPr>
            <p:spPr>
              <a:xfrm>
                <a:off x="434160" y="6168600"/>
                <a:ext cx="2310120" cy="298080"/>
              </a:xfrm>
              <a:custGeom>
                <a:avLst/>
                <a:gdLst>
                  <a:gd name="textAreaLeft" fmla="*/ 0 w 2310120"/>
                  <a:gd name="textAreaRight" fmla="*/ 2310480 w 2310120"/>
                  <a:gd name="textAreaTop" fmla="*/ 0 h 298080"/>
                  <a:gd name="textAreaBottom" fmla="*/ 298440 h 298080"/>
                </a:gdLst>
                <a:ahLst/>
                <a:rect l="textAreaLeft" t="textAreaTop" r="textAreaRight" b="textAreaBottom"/>
                <a:pathLst>
                  <a:path w="1447" h="122">
                    <a:moveTo>
                      <a:pt x="0" y="122"/>
                    </a:moveTo>
                    <a:lnTo>
                      <a:pt x="9" y="121"/>
                    </a:lnTo>
                    <a:lnTo>
                      <a:pt x="18" y="122"/>
                    </a:lnTo>
                    <a:lnTo>
                      <a:pt x="27" y="122"/>
                    </a:lnTo>
                    <a:lnTo>
                      <a:pt x="37" y="121"/>
                    </a:lnTo>
                    <a:lnTo>
                      <a:pt x="46" y="121"/>
                    </a:lnTo>
                    <a:lnTo>
                      <a:pt x="55" y="121"/>
                    </a:lnTo>
                    <a:lnTo>
                      <a:pt x="64" y="121"/>
                    </a:lnTo>
                    <a:lnTo>
                      <a:pt x="74" y="121"/>
                    </a:lnTo>
                    <a:lnTo>
                      <a:pt x="83" y="121"/>
                    </a:lnTo>
                    <a:lnTo>
                      <a:pt x="92" y="121"/>
                    </a:lnTo>
                    <a:lnTo>
                      <a:pt x="102" y="121"/>
                    </a:lnTo>
                    <a:lnTo>
                      <a:pt x="111" y="121"/>
                    </a:lnTo>
                    <a:lnTo>
                      <a:pt x="120" y="120"/>
                    </a:lnTo>
                    <a:lnTo>
                      <a:pt x="129" y="120"/>
                    </a:lnTo>
                    <a:lnTo>
                      <a:pt x="139" y="120"/>
                    </a:lnTo>
                    <a:lnTo>
                      <a:pt x="148" y="120"/>
                    </a:lnTo>
                    <a:lnTo>
                      <a:pt x="157" y="120"/>
                    </a:lnTo>
                    <a:lnTo>
                      <a:pt x="167" y="120"/>
                    </a:lnTo>
                    <a:lnTo>
                      <a:pt x="176" y="120"/>
                    </a:lnTo>
                    <a:lnTo>
                      <a:pt x="185" y="120"/>
                    </a:lnTo>
                    <a:lnTo>
                      <a:pt x="194" y="119"/>
                    </a:lnTo>
                    <a:lnTo>
                      <a:pt x="204" y="119"/>
                    </a:lnTo>
                    <a:lnTo>
                      <a:pt x="213" y="119"/>
                    </a:lnTo>
                    <a:lnTo>
                      <a:pt x="222" y="119"/>
                    </a:lnTo>
                    <a:lnTo>
                      <a:pt x="232" y="119"/>
                    </a:lnTo>
                    <a:lnTo>
                      <a:pt x="241" y="119"/>
                    </a:lnTo>
                    <a:lnTo>
                      <a:pt x="250" y="119"/>
                    </a:lnTo>
                    <a:lnTo>
                      <a:pt x="259" y="118"/>
                    </a:lnTo>
                    <a:lnTo>
                      <a:pt x="269" y="118"/>
                    </a:lnTo>
                    <a:lnTo>
                      <a:pt x="278" y="118"/>
                    </a:lnTo>
                    <a:lnTo>
                      <a:pt x="287" y="118"/>
                    </a:lnTo>
                    <a:lnTo>
                      <a:pt x="296" y="117"/>
                    </a:lnTo>
                    <a:lnTo>
                      <a:pt x="306" y="117"/>
                    </a:lnTo>
                    <a:lnTo>
                      <a:pt x="315" y="117"/>
                    </a:lnTo>
                    <a:lnTo>
                      <a:pt x="324" y="117"/>
                    </a:lnTo>
                    <a:lnTo>
                      <a:pt x="334" y="117"/>
                    </a:lnTo>
                    <a:lnTo>
                      <a:pt x="343" y="117"/>
                    </a:lnTo>
                    <a:lnTo>
                      <a:pt x="352" y="116"/>
                    </a:lnTo>
                    <a:lnTo>
                      <a:pt x="361" y="116"/>
                    </a:lnTo>
                    <a:lnTo>
                      <a:pt x="371" y="116"/>
                    </a:lnTo>
                    <a:lnTo>
                      <a:pt x="380" y="116"/>
                    </a:lnTo>
                    <a:lnTo>
                      <a:pt x="389" y="116"/>
                    </a:lnTo>
                    <a:lnTo>
                      <a:pt x="399" y="116"/>
                    </a:lnTo>
                    <a:lnTo>
                      <a:pt x="408" y="116"/>
                    </a:lnTo>
                    <a:lnTo>
                      <a:pt x="417" y="115"/>
                    </a:lnTo>
                    <a:lnTo>
                      <a:pt x="426" y="115"/>
                    </a:lnTo>
                    <a:lnTo>
                      <a:pt x="436" y="115"/>
                    </a:lnTo>
                    <a:lnTo>
                      <a:pt x="445" y="114"/>
                    </a:lnTo>
                    <a:lnTo>
                      <a:pt x="454" y="114"/>
                    </a:lnTo>
                    <a:lnTo>
                      <a:pt x="464" y="113"/>
                    </a:lnTo>
                    <a:lnTo>
                      <a:pt x="473" y="113"/>
                    </a:lnTo>
                    <a:lnTo>
                      <a:pt x="482" y="113"/>
                    </a:lnTo>
                    <a:lnTo>
                      <a:pt x="491" y="112"/>
                    </a:lnTo>
                    <a:lnTo>
                      <a:pt x="501" y="112"/>
                    </a:lnTo>
                    <a:lnTo>
                      <a:pt x="510" y="111"/>
                    </a:lnTo>
                    <a:lnTo>
                      <a:pt x="519" y="111"/>
                    </a:lnTo>
                    <a:lnTo>
                      <a:pt x="528" y="110"/>
                    </a:lnTo>
                    <a:lnTo>
                      <a:pt x="538" y="110"/>
                    </a:lnTo>
                    <a:lnTo>
                      <a:pt x="547" y="110"/>
                    </a:lnTo>
                    <a:lnTo>
                      <a:pt x="556" y="109"/>
                    </a:lnTo>
                    <a:lnTo>
                      <a:pt x="566" y="109"/>
                    </a:lnTo>
                    <a:lnTo>
                      <a:pt x="575" y="108"/>
                    </a:lnTo>
                    <a:lnTo>
                      <a:pt x="584" y="107"/>
                    </a:lnTo>
                    <a:lnTo>
                      <a:pt x="593" y="108"/>
                    </a:lnTo>
                    <a:lnTo>
                      <a:pt x="603" y="108"/>
                    </a:lnTo>
                    <a:lnTo>
                      <a:pt x="612" y="107"/>
                    </a:lnTo>
                    <a:lnTo>
                      <a:pt x="621" y="107"/>
                    </a:lnTo>
                    <a:lnTo>
                      <a:pt x="631" y="107"/>
                    </a:lnTo>
                    <a:lnTo>
                      <a:pt x="640" y="108"/>
                    </a:lnTo>
                    <a:lnTo>
                      <a:pt x="649" y="107"/>
                    </a:lnTo>
                    <a:lnTo>
                      <a:pt x="658" y="108"/>
                    </a:lnTo>
                    <a:lnTo>
                      <a:pt x="668" y="107"/>
                    </a:lnTo>
                    <a:lnTo>
                      <a:pt x="677" y="106"/>
                    </a:lnTo>
                    <a:lnTo>
                      <a:pt x="686" y="105"/>
                    </a:lnTo>
                    <a:lnTo>
                      <a:pt x="696" y="105"/>
                    </a:lnTo>
                    <a:lnTo>
                      <a:pt x="705" y="105"/>
                    </a:lnTo>
                    <a:lnTo>
                      <a:pt x="714" y="104"/>
                    </a:lnTo>
                    <a:lnTo>
                      <a:pt x="723" y="103"/>
                    </a:lnTo>
                    <a:lnTo>
                      <a:pt x="733" y="103"/>
                    </a:lnTo>
                    <a:lnTo>
                      <a:pt x="742" y="104"/>
                    </a:lnTo>
                    <a:lnTo>
                      <a:pt x="751" y="105"/>
                    </a:lnTo>
                    <a:lnTo>
                      <a:pt x="760" y="106"/>
                    </a:lnTo>
                    <a:lnTo>
                      <a:pt x="770" y="105"/>
                    </a:lnTo>
                    <a:lnTo>
                      <a:pt x="779" y="104"/>
                    </a:lnTo>
                    <a:lnTo>
                      <a:pt x="788" y="104"/>
                    </a:lnTo>
                    <a:lnTo>
                      <a:pt x="798" y="102"/>
                    </a:lnTo>
                    <a:lnTo>
                      <a:pt x="807" y="101"/>
                    </a:lnTo>
                    <a:lnTo>
                      <a:pt x="816" y="102"/>
                    </a:lnTo>
                    <a:lnTo>
                      <a:pt x="825" y="100"/>
                    </a:lnTo>
                    <a:lnTo>
                      <a:pt x="835" y="100"/>
                    </a:lnTo>
                    <a:lnTo>
                      <a:pt x="844" y="98"/>
                    </a:lnTo>
                    <a:lnTo>
                      <a:pt x="853" y="97"/>
                    </a:lnTo>
                    <a:lnTo>
                      <a:pt x="863" y="97"/>
                    </a:lnTo>
                    <a:lnTo>
                      <a:pt x="872" y="97"/>
                    </a:lnTo>
                    <a:lnTo>
                      <a:pt x="881" y="100"/>
                    </a:lnTo>
                    <a:lnTo>
                      <a:pt x="890" y="99"/>
                    </a:lnTo>
                    <a:lnTo>
                      <a:pt x="900" y="97"/>
                    </a:lnTo>
                    <a:lnTo>
                      <a:pt x="909" y="96"/>
                    </a:lnTo>
                    <a:lnTo>
                      <a:pt x="918" y="96"/>
                    </a:lnTo>
                    <a:lnTo>
                      <a:pt x="928" y="94"/>
                    </a:lnTo>
                    <a:lnTo>
                      <a:pt x="937" y="93"/>
                    </a:lnTo>
                    <a:lnTo>
                      <a:pt x="946" y="92"/>
                    </a:lnTo>
                    <a:lnTo>
                      <a:pt x="955" y="91"/>
                    </a:lnTo>
                    <a:lnTo>
                      <a:pt x="965" y="91"/>
                    </a:lnTo>
                    <a:lnTo>
                      <a:pt x="974" y="89"/>
                    </a:lnTo>
                    <a:lnTo>
                      <a:pt x="983" y="87"/>
                    </a:lnTo>
                    <a:lnTo>
                      <a:pt x="992" y="85"/>
                    </a:lnTo>
                    <a:lnTo>
                      <a:pt x="1002" y="83"/>
                    </a:lnTo>
                    <a:lnTo>
                      <a:pt x="1011" y="82"/>
                    </a:lnTo>
                    <a:lnTo>
                      <a:pt x="1020" y="80"/>
                    </a:lnTo>
                    <a:lnTo>
                      <a:pt x="1030" y="79"/>
                    </a:lnTo>
                    <a:lnTo>
                      <a:pt x="1039" y="76"/>
                    </a:lnTo>
                    <a:lnTo>
                      <a:pt x="1048" y="74"/>
                    </a:lnTo>
                    <a:lnTo>
                      <a:pt x="1057" y="72"/>
                    </a:lnTo>
                    <a:lnTo>
                      <a:pt x="1067" y="72"/>
                    </a:lnTo>
                    <a:lnTo>
                      <a:pt x="1076" y="70"/>
                    </a:lnTo>
                    <a:lnTo>
                      <a:pt x="1085" y="70"/>
                    </a:lnTo>
                    <a:lnTo>
                      <a:pt x="1095" y="67"/>
                    </a:lnTo>
                    <a:lnTo>
                      <a:pt x="1104" y="65"/>
                    </a:lnTo>
                    <a:lnTo>
                      <a:pt x="1113" y="62"/>
                    </a:lnTo>
                    <a:lnTo>
                      <a:pt x="1122" y="60"/>
                    </a:lnTo>
                    <a:lnTo>
                      <a:pt x="1132" y="57"/>
                    </a:lnTo>
                    <a:lnTo>
                      <a:pt x="1141" y="52"/>
                    </a:lnTo>
                    <a:lnTo>
                      <a:pt x="1150" y="53"/>
                    </a:lnTo>
                    <a:lnTo>
                      <a:pt x="1160" y="52"/>
                    </a:lnTo>
                    <a:lnTo>
                      <a:pt x="1169" y="48"/>
                    </a:lnTo>
                    <a:lnTo>
                      <a:pt x="1178" y="45"/>
                    </a:lnTo>
                    <a:lnTo>
                      <a:pt x="1187" y="42"/>
                    </a:lnTo>
                    <a:lnTo>
                      <a:pt x="1197" y="40"/>
                    </a:lnTo>
                    <a:lnTo>
                      <a:pt x="1206" y="41"/>
                    </a:lnTo>
                    <a:lnTo>
                      <a:pt x="1215" y="43"/>
                    </a:lnTo>
                    <a:lnTo>
                      <a:pt x="1224" y="43"/>
                    </a:lnTo>
                    <a:lnTo>
                      <a:pt x="1234" y="43"/>
                    </a:lnTo>
                    <a:lnTo>
                      <a:pt x="1243" y="41"/>
                    </a:lnTo>
                    <a:lnTo>
                      <a:pt x="1252" y="40"/>
                    </a:lnTo>
                    <a:lnTo>
                      <a:pt x="1262" y="38"/>
                    </a:lnTo>
                    <a:lnTo>
                      <a:pt x="1271" y="35"/>
                    </a:lnTo>
                    <a:lnTo>
                      <a:pt x="1280" y="32"/>
                    </a:lnTo>
                    <a:lnTo>
                      <a:pt x="1289" y="31"/>
                    </a:lnTo>
                    <a:lnTo>
                      <a:pt x="1299" y="30"/>
                    </a:lnTo>
                    <a:lnTo>
                      <a:pt x="1308" y="30"/>
                    </a:lnTo>
                    <a:lnTo>
                      <a:pt x="1317" y="30"/>
                    </a:lnTo>
                    <a:lnTo>
                      <a:pt x="1327" y="30"/>
                    </a:lnTo>
                    <a:lnTo>
                      <a:pt x="1336" y="29"/>
                    </a:lnTo>
                    <a:lnTo>
                      <a:pt x="1345" y="27"/>
                    </a:lnTo>
                    <a:lnTo>
                      <a:pt x="1354" y="24"/>
                    </a:lnTo>
                    <a:lnTo>
                      <a:pt x="1364" y="23"/>
                    </a:lnTo>
                    <a:lnTo>
                      <a:pt x="1373" y="23"/>
                    </a:lnTo>
                    <a:lnTo>
                      <a:pt x="1382" y="22"/>
                    </a:lnTo>
                    <a:lnTo>
                      <a:pt x="1392" y="20"/>
                    </a:lnTo>
                    <a:lnTo>
                      <a:pt x="1401" y="20"/>
                    </a:lnTo>
                    <a:lnTo>
                      <a:pt x="1410" y="17"/>
                    </a:lnTo>
                    <a:lnTo>
                      <a:pt x="1419" y="13"/>
                    </a:lnTo>
                    <a:lnTo>
                      <a:pt x="1429" y="6"/>
                    </a:lnTo>
                    <a:lnTo>
                      <a:pt x="1438" y="3"/>
                    </a:lnTo>
                    <a:lnTo>
                      <a:pt x="1447" y="0"/>
                    </a:lnTo>
                    <a:lnTo>
                      <a:pt x="1447" y="64"/>
                    </a:lnTo>
                    <a:lnTo>
                      <a:pt x="1438" y="67"/>
                    </a:lnTo>
                    <a:lnTo>
                      <a:pt x="1429" y="70"/>
                    </a:lnTo>
                    <a:lnTo>
                      <a:pt x="1419" y="74"/>
                    </a:lnTo>
                    <a:lnTo>
                      <a:pt x="1410" y="77"/>
                    </a:lnTo>
                    <a:lnTo>
                      <a:pt x="1401" y="79"/>
                    </a:lnTo>
                    <a:lnTo>
                      <a:pt x="1392" y="79"/>
                    </a:lnTo>
                    <a:lnTo>
                      <a:pt x="1382" y="80"/>
                    </a:lnTo>
                    <a:lnTo>
                      <a:pt x="1373" y="80"/>
                    </a:lnTo>
                    <a:lnTo>
                      <a:pt x="1364" y="80"/>
                    </a:lnTo>
                    <a:lnTo>
                      <a:pt x="1354" y="80"/>
                    </a:lnTo>
                    <a:lnTo>
                      <a:pt x="1345" y="81"/>
                    </a:lnTo>
                    <a:lnTo>
                      <a:pt x="1336" y="82"/>
                    </a:lnTo>
                    <a:lnTo>
                      <a:pt x="1327" y="82"/>
                    </a:lnTo>
                    <a:lnTo>
                      <a:pt x="1317" y="83"/>
                    </a:lnTo>
                    <a:lnTo>
                      <a:pt x="1308" y="82"/>
                    </a:lnTo>
                    <a:lnTo>
                      <a:pt x="1299" y="82"/>
                    </a:lnTo>
                    <a:lnTo>
                      <a:pt x="1289" y="83"/>
                    </a:lnTo>
                    <a:lnTo>
                      <a:pt x="1280" y="83"/>
                    </a:lnTo>
                    <a:lnTo>
                      <a:pt x="1271" y="84"/>
                    </a:lnTo>
                    <a:lnTo>
                      <a:pt x="1262" y="86"/>
                    </a:lnTo>
                    <a:lnTo>
                      <a:pt x="1252" y="86"/>
                    </a:lnTo>
                    <a:lnTo>
                      <a:pt x="1243" y="88"/>
                    </a:lnTo>
                    <a:lnTo>
                      <a:pt x="1234" y="89"/>
                    </a:lnTo>
                    <a:lnTo>
                      <a:pt x="1224" y="90"/>
                    </a:lnTo>
                    <a:lnTo>
                      <a:pt x="1215" y="91"/>
                    </a:lnTo>
                    <a:lnTo>
                      <a:pt x="1206" y="91"/>
                    </a:lnTo>
                    <a:lnTo>
                      <a:pt x="1197" y="92"/>
                    </a:lnTo>
                    <a:lnTo>
                      <a:pt x="1187" y="93"/>
                    </a:lnTo>
                    <a:lnTo>
                      <a:pt x="1178" y="94"/>
                    </a:lnTo>
                    <a:lnTo>
                      <a:pt x="1169" y="95"/>
                    </a:lnTo>
                    <a:lnTo>
                      <a:pt x="1160" y="97"/>
                    </a:lnTo>
                    <a:lnTo>
                      <a:pt x="1150" y="97"/>
                    </a:lnTo>
                    <a:lnTo>
                      <a:pt x="1141" y="98"/>
                    </a:lnTo>
                    <a:lnTo>
                      <a:pt x="1132" y="99"/>
                    </a:lnTo>
                    <a:lnTo>
                      <a:pt x="1122" y="99"/>
                    </a:lnTo>
                    <a:lnTo>
                      <a:pt x="1113" y="98"/>
                    </a:lnTo>
                    <a:lnTo>
                      <a:pt x="1104" y="98"/>
                    </a:lnTo>
                    <a:lnTo>
                      <a:pt x="1095" y="98"/>
                    </a:lnTo>
                    <a:lnTo>
                      <a:pt x="1085" y="98"/>
                    </a:lnTo>
                    <a:lnTo>
                      <a:pt x="1076" y="97"/>
                    </a:lnTo>
                    <a:lnTo>
                      <a:pt x="1067" y="97"/>
                    </a:lnTo>
                    <a:lnTo>
                      <a:pt x="1057" y="95"/>
                    </a:lnTo>
                    <a:lnTo>
                      <a:pt x="1048" y="95"/>
                    </a:lnTo>
                    <a:lnTo>
                      <a:pt x="1039" y="96"/>
                    </a:lnTo>
                    <a:lnTo>
                      <a:pt x="1030" y="97"/>
                    </a:lnTo>
                    <a:lnTo>
                      <a:pt x="1020" y="97"/>
                    </a:lnTo>
                    <a:lnTo>
                      <a:pt x="1011" y="98"/>
                    </a:lnTo>
                    <a:lnTo>
                      <a:pt x="1002" y="98"/>
                    </a:lnTo>
                    <a:lnTo>
                      <a:pt x="992" y="99"/>
                    </a:lnTo>
                    <a:lnTo>
                      <a:pt x="983" y="100"/>
                    </a:lnTo>
                    <a:lnTo>
                      <a:pt x="974" y="101"/>
                    </a:lnTo>
                    <a:lnTo>
                      <a:pt x="965" y="102"/>
                    </a:lnTo>
                    <a:lnTo>
                      <a:pt x="955" y="102"/>
                    </a:lnTo>
                    <a:lnTo>
                      <a:pt x="946" y="102"/>
                    </a:lnTo>
                    <a:lnTo>
                      <a:pt x="937" y="102"/>
                    </a:lnTo>
                    <a:lnTo>
                      <a:pt x="928" y="103"/>
                    </a:lnTo>
                    <a:lnTo>
                      <a:pt x="918" y="104"/>
                    </a:lnTo>
                    <a:lnTo>
                      <a:pt x="909" y="103"/>
                    </a:lnTo>
                    <a:lnTo>
                      <a:pt x="900" y="104"/>
                    </a:lnTo>
                    <a:lnTo>
                      <a:pt x="890" y="105"/>
                    </a:lnTo>
                    <a:lnTo>
                      <a:pt x="881" y="106"/>
                    </a:lnTo>
                    <a:lnTo>
                      <a:pt x="872" y="103"/>
                    </a:lnTo>
                    <a:lnTo>
                      <a:pt x="863" y="102"/>
                    </a:lnTo>
                    <a:lnTo>
                      <a:pt x="853" y="103"/>
                    </a:lnTo>
                    <a:lnTo>
                      <a:pt x="844" y="103"/>
                    </a:lnTo>
                    <a:lnTo>
                      <a:pt x="835" y="104"/>
                    </a:lnTo>
                    <a:lnTo>
                      <a:pt x="825" y="105"/>
                    </a:lnTo>
                    <a:lnTo>
                      <a:pt x="816" y="106"/>
                    </a:lnTo>
                    <a:lnTo>
                      <a:pt x="807" y="105"/>
                    </a:lnTo>
                    <a:lnTo>
                      <a:pt x="798" y="106"/>
                    </a:lnTo>
                    <a:lnTo>
                      <a:pt x="788" y="107"/>
                    </a:lnTo>
                    <a:lnTo>
                      <a:pt x="779" y="108"/>
                    </a:lnTo>
                    <a:lnTo>
                      <a:pt x="770" y="109"/>
                    </a:lnTo>
                    <a:lnTo>
                      <a:pt x="760" y="109"/>
                    </a:lnTo>
                    <a:lnTo>
                      <a:pt x="751" y="108"/>
                    </a:lnTo>
                    <a:lnTo>
                      <a:pt x="742" y="107"/>
                    </a:lnTo>
                    <a:lnTo>
                      <a:pt x="733" y="106"/>
                    </a:lnTo>
                    <a:lnTo>
                      <a:pt x="723" y="105"/>
                    </a:lnTo>
                    <a:lnTo>
                      <a:pt x="714" y="107"/>
                    </a:lnTo>
                    <a:lnTo>
                      <a:pt x="705" y="107"/>
                    </a:lnTo>
                    <a:lnTo>
                      <a:pt x="696" y="107"/>
                    </a:lnTo>
                    <a:lnTo>
                      <a:pt x="686" y="107"/>
                    </a:lnTo>
                    <a:lnTo>
                      <a:pt x="677" y="107"/>
                    </a:lnTo>
                    <a:lnTo>
                      <a:pt x="668" y="109"/>
                    </a:lnTo>
                    <a:lnTo>
                      <a:pt x="658" y="110"/>
                    </a:lnTo>
                    <a:lnTo>
                      <a:pt x="649" y="108"/>
                    </a:lnTo>
                    <a:lnTo>
                      <a:pt x="640" y="109"/>
                    </a:lnTo>
                    <a:lnTo>
                      <a:pt x="631" y="108"/>
                    </a:lnTo>
                    <a:lnTo>
                      <a:pt x="621" y="108"/>
                    </a:lnTo>
                    <a:lnTo>
                      <a:pt x="612" y="108"/>
                    </a:lnTo>
                    <a:lnTo>
                      <a:pt x="603" y="109"/>
                    </a:lnTo>
                    <a:lnTo>
                      <a:pt x="593" y="109"/>
                    </a:lnTo>
                    <a:lnTo>
                      <a:pt x="584" y="108"/>
                    </a:lnTo>
                    <a:lnTo>
                      <a:pt x="575" y="109"/>
                    </a:lnTo>
                    <a:lnTo>
                      <a:pt x="566" y="109"/>
                    </a:lnTo>
                    <a:lnTo>
                      <a:pt x="556" y="110"/>
                    </a:lnTo>
                    <a:lnTo>
                      <a:pt x="547" y="110"/>
                    </a:lnTo>
                    <a:lnTo>
                      <a:pt x="538" y="111"/>
                    </a:lnTo>
                    <a:lnTo>
                      <a:pt x="528" y="110"/>
                    </a:lnTo>
                    <a:lnTo>
                      <a:pt x="519" y="111"/>
                    </a:lnTo>
                    <a:lnTo>
                      <a:pt x="510" y="112"/>
                    </a:lnTo>
                    <a:lnTo>
                      <a:pt x="501" y="112"/>
                    </a:lnTo>
                    <a:lnTo>
                      <a:pt x="491" y="113"/>
                    </a:lnTo>
                    <a:lnTo>
                      <a:pt x="482" y="113"/>
                    </a:lnTo>
                    <a:lnTo>
                      <a:pt x="473" y="113"/>
                    </a:lnTo>
                    <a:lnTo>
                      <a:pt x="464" y="114"/>
                    </a:lnTo>
                    <a:lnTo>
                      <a:pt x="454" y="114"/>
                    </a:lnTo>
                    <a:lnTo>
                      <a:pt x="445" y="115"/>
                    </a:lnTo>
                    <a:lnTo>
                      <a:pt x="436" y="115"/>
                    </a:lnTo>
                    <a:lnTo>
                      <a:pt x="426" y="115"/>
                    </a:lnTo>
                    <a:lnTo>
                      <a:pt x="417" y="115"/>
                    </a:lnTo>
                    <a:lnTo>
                      <a:pt x="408" y="116"/>
                    </a:lnTo>
                    <a:lnTo>
                      <a:pt x="399" y="116"/>
                    </a:lnTo>
                    <a:lnTo>
                      <a:pt x="389" y="116"/>
                    </a:lnTo>
                    <a:lnTo>
                      <a:pt x="380" y="116"/>
                    </a:lnTo>
                    <a:lnTo>
                      <a:pt x="371" y="116"/>
                    </a:lnTo>
                    <a:lnTo>
                      <a:pt x="361" y="116"/>
                    </a:lnTo>
                    <a:lnTo>
                      <a:pt x="352" y="117"/>
                    </a:lnTo>
                    <a:lnTo>
                      <a:pt x="343" y="117"/>
                    </a:lnTo>
                    <a:lnTo>
                      <a:pt x="334" y="117"/>
                    </a:lnTo>
                    <a:lnTo>
                      <a:pt x="324" y="117"/>
                    </a:lnTo>
                    <a:lnTo>
                      <a:pt x="315" y="117"/>
                    </a:lnTo>
                    <a:lnTo>
                      <a:pt x="306" y="117"/>
                    </a:lnTo>
                    <a:lnTo>
                      <a:pt x="296" y="118"/>
                    </a:lnTo>
                    <a:lnTo>
                      <a:pt x="287" y="118"/>
                    </a:lnTo>
                    <a:lnTo>
                      <a:pt x="278" y="118"/>
                    </a:lnTo>
                    <a:lnTo>
                      <a:pt x="269" y="118"/>
                    </a:lnTo>
                    <a:lnTo>
                      <a:pt x="259" y="119"/>
                    </a:lnTo>
                    <a:lnTo>
                      <a:pt x="250" y="119"/>
                    </a:lnTo>
                    <a:lnTo>
                      <a:pt x="241" y="119"/>
                    </a:lnTo>
                    <a:lnTo>
                      <a:pt x="232" y="119"/>
                    </a:lnTo>
                    <a:lnTo>
                      <a:pt x="222" y="119"/>
                    </a:lnTo>
                    <a:lnTo>
                      <a:pt x="213" y="119"/>
                    </a:lnTo>
                    <a:lnTo>
                      <a:pt x="204" y="119"/>
                    </a:lnTo>
                    <a:lnTo>
                      <a:pt x="194" y="119"/>
                    </a:lnTo>
                    <a:lnTo>
                      <a:pt x="185" y="120"/>
                    </a:lnTo>
                    <a:lnTo>
                      <a:pt x="176" y="120"/>
                    </a:lnTo>
                    <a:lnTo>
                      <a:pt x="167" y="120"/>
                    </a:lnTo>
                    <a:lnTo>
                      <a:pt x="157" y="120"/>
                    </a:lnTo>
                    <a:lnTo>
                      <a:pt x="148" y="120"/>
                    </a:lnTo>
                    <a:lnTo>
                      <a:pt x="139" y="120"/>
                    </a:lnTo>
                    <a:lnTo>
                      <a:pt x="129" y="120"/>
                    </a:lnTo>
                    <a:lnTo>
                      <a:pt x="120" y="120"/>
                    </a:lnTo>
                    <a:lnTo>
                      <a:pt x="111" y="121"/>
                    </a:lnTo>
                    <a:lnTo>
                      <a:pt x="102" y="121"/>
                    </a:lnTo>
                    <a:lnTo>
                      <a:pt x="92" y="121"/>
                    </a:lnTo>
                    <a:lnTo>
                      <a:pt x="83" y="121"/>
                    </a:lnTo>
                    <a:lnTo>
                      <a:pt x="74" y="121"/>
                    </a:lnTo>
                    <a:lnTo>
                      <a:pt x="64" y="121"/>
                    </a:lnTo>
                    <a:lnTo>
                      <a:pt x="55" y="121"/>
                    </a:lnTo>
                    <a:lnTo>
                      <a:pt x="46" y="121"/>
                    </a:lnTo>
                    <a:lnTo>
                      <a:pt x="37" y="121"/>
                    </a:lnTo>
                    <a:lnTo>
                      <a:pt x="27" y="122"/>
                    </a:lnTo>
                    <a:lnTo>
                      <a:pt x="18" y="122"/>
                    </a:lnTo>
                    <a:lnTo>
                      <a:pt x="9" y="121"/>
                    </a:lnTo>
                    <a:lnTo>
                      <a:pt x="0" y="122"/>
                    </a:lnTo>
                    <a:close/>
                  </a:path>
                </a:pathLst>
              </a:custGeom>
              <a:noFill/>
              <a:ln w="3175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1" name="Freeform 51"/>
              <p:cNvSpPr/>
              <p:nvPr/>
            </p:nvSpPr>
            <p:spPr>
              <a:xfrm>
                <a:off x="434160" y="6327720"/>
                <a:ext cx="2310120" cy="141480"/>
              </a:xfrm>
              <a:custGeom>
                <a:avLst/>
                <a:gdLst>
                  <a:gd name="textAreaLeft" fmla="*/ 0 w 2310120"/>
                  <a:gd name="textAreaRight" fmla="*/ 2310480 w 2310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1447" h="58">
                    <a:moveTo>
                      <a:pt x="0" y="57"/>
                    </a:moveTo>
                    <a:lnTo>
                      <a:pt x="9" y="57"/>
                    </a:lnTo>
                    <a:lnTo>
                      <a:pt x="18" y="57"/>
                    </a:lnTo>
                    <a:lnTo>
                      <a:pt x="27" y="57"/>
                    </a:lnTo>
                    <a:lnTo>
                      <a:pt x="37" y="57"/>
                    </a:lnTo>
                    <a:lnTo>
                      <a:pt x="46" y="56"/>
                    </a:lnTo>
                    <a:lnTo>
                      <a:pt x="55" y="56"/>
                    </a:lnTo>
                    <a:lnTo>
                      <a:pt x="64" y="56"/>
                    </a:lnTo>
                    <a:lnTo>
                      <a:pt x="74" y="56"/>
                    </a:lnTo>
                    <a:lnTo>
                      <a:pt x="83" y="56"/>
                    </a:lnTo>
                    <a:lnTo>
                      <a:pt x="92" y="56"/>
                    </a:lnTo>
                    <a:lnTo>
                      <a:pt x="102" y="56"/>
                    </a:lnTo>
                    <a:lnTo>
                      <a:pt x="111" y="56"/>
                    </a:lnTo>
                    <a:lnTo>
                      <a:pt x="120" y="56"/>
                    </a:lnTo>
                    <a:lnTo>
                      <a:pt x="129" y="55"/>
                    </a:lnTo>
                    <a:lnTo>
                      <a:pt x="139" y="55"/>
                    </a:lnTo>
                    <a:lnTo>
                      <a:pt x="148" y="55"/>
                    </a:lnTo>
                    <a:lnTo>
                      <a:pt x="157" y="55"/>
                    </a:lnTo>
                    <a:lnTo>
                      <a:pt x="167" y="55"/>
                    </a:lnTo>
                    <a:lnTo>
                      <a:pt x="176" y="55"/>
                    </a:lnTo>
                    <a:lnTo>
                      <a:pt x="185" y="55"/>
                    </a:lnTo>
                    <a:lnTo>
                      <a:pt x="194" y="54"/>
                    </a:lnTo>
                    <a:lnTo>
                      <a:pt x="204" y="54"/>
                    </a:lnTo>
                    <a:lnTo>
                      <a:pt x="213" y="54"/>
                    </a:lnTo>
                    <a:lnTo>
                      <a:pt x="222" y="54"/>
                    </a:lnTo>
                    <a:lnTo>
                      <a:pt x="232" y="54"/>
                    </a:lnTo>
                    <a:lnTo>
                      <a:pt x="241" y="54"/>
                    </a:lnTo>
                    <a:lnTo>
                      <a:pt x="250" y="54"/>
                    </a:lnTo>
                    <a:lnTo>
                      <a:pt x="259" y="54"/>
                    </a:lnTo>
                    <a:lnTo>
                      <a:pt x="269" y="54"/>
                    </a:lnTo>
                    <a:lnTo>
                      <a:pt x="278" y="53"/>
                    </a:lnTo>
                    <a:lnTo>
                      <a:pt x="287" y="53"/>
                    </a:lnTo>
                    <a:lnTo>
                      <a:pt x="296" y="53"/>
                    </a:lnTo>
                    <a:lnTo>
                      <a:pt x="306" y="52"/>
                    </a:lnTo>
                    <a:lnTo>
                      <a:pt x="315" y="52"/>
                    </a:lnTo>
                    <a:lnTo>
                      <a:pt x="324" y="52"/>
                    </a:lnTo>
                    <a:lnTo>
                      <a:pt x="334" y="52"/>
                    </a:lnTo>
                    <a:lnTo>
                      <a:pt x="343" y="52"/>
                    </a:lnTo>
                    <a:lnTo>
                      <a:pt x="352" y="52"/>
                    </a:lnTo>
                    <a:lnTo>
                      <a:pt x="361" y="52"/>
                    </a:lnTo>
                    <a:lnTo>
                      <a:pt x="371" y="51"/>
                    </a:lnTo>
                    <a:lnTo>
                      <a:pt x="380" y="51"/>
                    </a:lnTo>
                    <a:lnTo>
                      <a:pt x="389" y="51"/>
                    </a:lnTo>
                    <a:lnTo>
                      <a:pt x="399" y="51"/>
                    </a:lnTo>
                    <a:lnTo>
                      <a:pt x="408" y="51"/>
                    </a:lnTo>
                    <a:lnTo>
                      <a:pt x="417" y="51"/>
                    </a:lnTo>
                    <a:lnTo>
                      <a:pt x="426" y="50"/>
                    </a:lnTo>
                    <a:lnTo>
                      <a:pt x="436" y="50"/>
                    </a:lnTo>
                    <a:lnTo>
                      <a:pt x="445" y="50"/>
                    </a:lnTo>
                    <a:lnTo>
                      <a:pt x="454" y="49"/>
                    </a:lnTo>
                    <a:lnTo>
                      <a:pt x="464" y="49"/>
                    </a:lnTo>
                    <a:lnTo>
                      <a:pt x="473" y="49"/>
                    </a:lnTo>
                    <a:lnTo>
                      <a:pt x="482" y="48"/>
                    </a:lnTo>
                    <a:lnTo>
                      <a:pt x="491" y="48"/>
                    </a:lnTo>
                    <a:lnTo>
                      <a:pt x="501" y="48"/>
                    </a:lnTo>
                    <a:lnTo>
                      <a:pt x="510" y="47"/>
                    </a:lnTo>
                    <a:lnTo>
                      <a:pt x="519" y="46"/>
                    </a:lnTo>
                    <a:lnTo>
                      <a:pt x="528" y="45"/>
                    </a:lnTo>
                    <a:lnTo>
                      <a:pt x="538" y="46"/>
                    </a:lnTo>
                    <a:lnTo>
                      <a:pt x="547" y="45"/>
                    </a:lnTo>
                    <a:lnTo>
                      <a:pt x="556" y="45"/>
                    </a:lnTo>
                    <a:lnTo>
                      <a:pt x="566" y="45"/>
                    </a:lnTo>
                    <a:lnTo>
                      <a:pt x="575" y="44"/>
                    </a:lnTo>
                    <a:lnTo>
                      <a:pt x="584" y="43"/>
                    </a:lnTo>
                    <a:lnTo>
                      <a:pt x="593" y="44"/>
                    </a:lnTo>
                    <a:lnTo>
                      <a:pt x="603" y="44"/>
                    </a:lnTo>
                    <a:lnTo>
                      <a:pt x="612" y="43"/>
                    </a:lnTo>
                    <a:lnTo>
                      <a:pt x="621" y="43"/>
                    </a:lnTo>
                    <a:lnTo>
                      <a:pt x="631" y="43"/>
                    </a:lnTo>
                    <a:lnTo>
                      <a:pt x="640" y="44"/>
                    </a:lnTo>
                    <a:lnTo>
                      <a:pt x="649" y="43"/>
                    </a:lnTo>
                    <a:lnTo>
                      <a:pt x="658" y="45"/>
                    </a:lnTo>
                    <a:lnTo>
                      <a:pt x="668" y="44"/>
                    </a:lnTo>
                    <a:lnTo>
                      <a:pt x="677" y="42"/>
                    </a:lnTo>
                    <a:lnTo>
                      <a:pt x="686" y="43"/>
                    </a:lnTo>
                    <a:lnTo>
                      <a:pt x="696" y="42"/>
                    </a:lnTo>
                    <a:lnTo>
                      <a:pt x="705" y="43"/>
                    </a:lnTo>
                    <a:lnTo>
                      <a:pt x="714" y="42"/>
                    </a:lnTo>
                    <a:lnTo>
                      <a:pt x="723" y="41"/>
                    </a:lnTo>
                    <a:lnTo>
                      <a:pt x="733" y="41"/>
                    </a:lnTo>
                    <a:lnTo>
                      <a:pt x="742" y="42"/>
                    </a:lnTo>
                    <a:lnTo>
                      <a:pt x="751" y="43"/>
                    </a:lnTo>
                    <a:lnTo>
                      <a:pt x="760" y="44"/>
                    </a:lnTo>
                    <a:lnTo>
                      <a:pt x="770" y="44"/>
                    </a:lnTo>
                    <a:lnTo>
                      <a:pt x="779" y="43"/>
                    </a:lnTo>
                    <a:lnTo>
                      <a:pt x="788" y="42"/>
                    </a:lnTo>
                    <a:lnTo>
                      <a:pt x="798" y="41"/>
                    </a:lnTo>
                    <a:lnTo>
                      <a:pt x="807" y="40"/>
                    </a:lnTo>
                    <a:lnTo>
                      <a:pt x="816" y="41"/>
                    </a:lnTo>
                    <a:lnTo>
                      <a:pt x="825" y="40"/>
                    </a:lnTo>
                    <a:lnTo>
                      <a:pt x="835" y="39"/>
                    </a:lnTo>
                    <a:lnTo>
                      <a:pt x="844" y="38"/>
                    </a:lnTo>
                    <a:lnTo>
                      <a:pt x="853" y="38"/>
                    </a:lnTo>
                    <a:lnTo>
                      <a:pt x="863" y="37"/>
                    </a:lnTo>
                    <a:lnTo>
                      <a:pt x="872" y="38"/>
                    </a:lnTo>
                    <a:lnTo>
                      <a:pt x="881" y="41"/>
                    </a:lnTo>
                    <a:lnTo>
                      <a:pt x="890" y="41"/>
                    </a:lnTo>
                    <a:lnTo>
                      <a:pt x="900" y="39"/>
                    </a:lnTo>
                    <a:lnTo>
                      <a:pt x="909" y="38"/>
                    </a:lnTo>
                    <a:lnTo>
                      <a:pt x="918" y="39"/>
                    </a:lnTo>
                    <a:lnTo>
                      <a:pt x="928" y="38"/>
                    </a:lnTo>
                    <a:lnTo>
                      <a:pt x="937" y="37"/>
                    </a:lnTo>
                    <a:lnTo>
                      <a:pt x="946" y="37"/>
                    </a:lnTo>
                    <a:lnTo>
                      <a:pt x="955" y="37"/>
                    </a:lnTo>
                    <a:lnTo>
                      <a:pt x="965" y="37"/>
                    </a:lnTo>
                    <a:lnTo>
                      <a:pt x="974" y="36"/>
                    </a:lnTo>
                    <a:lnTo>
                      <a:pt x="983" y="35"/>
                    </a:lnTo>
                    <a:lnTo>
                      <a:pt x="992" y="34"/>
                    </a:lnTo>
                    <a:lnTo>
                      <a:pt x="1002" y="34"/>
                    </a:lnTo>
                    <a:lnTo>
                      <a:pt x="1011" y="33"/>
                    </a:lnTo>
                    <a:lnTo>
                      <a:pt x="1020" y="32"/>
                    </a:lnTo>
                    <a:lnTo>
                      <a:pt x="1030" y="32"/>
                    </a:lnTo>
                    <a:lnTo>
                      <a:pt x="1039" y="31"/>
                    </a:lnTo>
                    <a:lnTo>
                      <a:pt x="1048" y="30"/>
                    </a:lnTo>
                    <a:lnTo>
                      <a:pt x="1057" y="30"/>
                    </a:lnTo>
                    <a:lnTo>
                      <a:pt x="1067" y="32"/>
                    </a:lnTo>
                    <a:lnTo>
                      <a:pt x="1076" y="32"/>
                    </a:lnTo>
                    <a:lnTo>
                      <a:pt x="1085" y="33"/>
                    </a:lnTo>
                    <a:lnTo>
                      <a:pt x="1095" y="33"/>
                    </a:lnTo>
                    <a:lnTo>
                      <a:pt x="1104" y="33"/>
                    </a:lnTo>
                    <a:lnTo>
                      <a:pt x="1113" y="33"/>
                    </a:lnTo>
                    <a:lnTo>
                      <a:pt x="1122" y="34"/>
                    </a:lnTo>
                    <a:lnTo>
                      <a:pt x="1132" y="34"/>
                    </a:lnTo>
                    <a:lnTo>
                      <a:pt x="1141" y="33"/>
                    </a:lnTo>
                    <a:lnTo>
                      <a:pt x="1150" y="32"/>
                    </a:lnTo>
                    <a:lnTo>
                      <a:pt x="1160" y="32"/>
                    </a:lnTo>
                    <a:lnTo>
                      <a:pt x="1169" y="31"/>
                    </a:lnTo>
                    <a:lnTo>
                      <a:pt x="1178" y="30"/>
                    </a:lnTo>
                    <a:lnTo>
                      <a:pt x="1187" y="28"/>
                    </a:lnTo>
                    <a:lnTo>
                      <a:pt x="1197" y="27"/>
                    </a:lnTo>
                    <a:lnTo>
                      <a:pt x="1206" y="26"/>
                    </a:lnTo>
                    <a:lnTo>
                      <a:pt x="1215" y="26"/>
                    </a:lnTo>
                    <a:lnTo>
                      <a:pt x="1224" y="25"/>
                    </a:lnTo>
                    <a:lnTo>
                      <a:pt x="1234" y="24"/>
                    </a:lnTo>
                    <a:lnTo>
                      <a:pt x="1243" y="23"/>
                    </a:lnTo>
                    <a:lnTo>
                      <a:pt x="1252" y="21"/>
                    </a:lnTo>
                    <a:lnTo>
                      <a:pt x="1262" y="21"/>
                    </a:lnTo>
                    <a:lnTo>
                      <a:pt x="1271" y="19"/>
                    </a:lnTo>
                    <a:lnTo>
                      <a:pt x="1280" y="18"/>
                    </a:lnTo>
                    <a:lnTo>
                      <a:pt x="1289" y="18"/>
                    </a:lnTo>
                    <a:lnTo>
                      <a:pt x="1299" y="17"/>
                    </a:lnTo>
                    <a:lnTo>
                      <a:pt x="1308" y="17"/>
                    </a:lnTo>
                    <a:lnTo>
                      <a:pt x="1317" y="18"/>
                    </a:lnTo>
                    <a:lnTo>
                      <a:pt x="1327" y="18"/>
                    </a:lnTo>
                    <a:lnTo>
                      <a:pt x="1336" y="17"/>
                    </a:lnTo>
                    <a:lnTo>
                      <a:pt x="1345" y="16"/>
                    </a:lnTo>
                    <a:lnTo>
                      <a:pt x="1354" y="15"/>
                    </a:lnTo>
                    <a:lnTo>
                      <a:pt x="1364" y="15"/>
                    </a:lnTo>
                    <a:lnTo>
                      <a:pt x="1373" y="15"/>
                    </a:lnTo>
                    <a:lnTo>
                      <a:pt x="1382" y="15"/>
                    </a:lnTo>
                    <a:lnTo>
                      <a:pt x="1392" y="14"/>
                    </a:lnTo>
                    <a:lnTo>
                      <a:pt x="1401" y="14"/>
                    </a:lnTo>
                    <a:lnTo>
                      <a:pt x="1410" y="12"/>
                    </a:lnTo>
                    <a:lnTo>
                      <a:pt x="1419" y="9"/>
                    </a:lnTo>
                    <a:lnTo>
                      <a:pt x="1429" y="5"/>
                    </a:lnTo>
                    <a:lnTo>
                      <a:pt x="1438" y="3"/>
                    </a:lnTo>
                    <a:lnTo>
                      <a:pt x="1447" y="0"/>
                    </a:lnTo>
                    <a:lnTo>
                      <a:pt x="1447" y="49"/>
                    </a:lnTo>
                    <a:lnTo>
                      <a:pt x="1438" y="50"/>
                    </a:lnTo>
                    <a:lnTo>
                      <a:pt x="1429" y="50"/>
                    </a:lnTo>
                    <a:lnTo>
                      <a:pt x="1419" y="50"/>
                    </a:lnTo>
                    <a:lnTo>
                      <a:pt x="1410" y="51"/>
                    </a:lnTo>
                    <a:lnTo>
                      <a:pt x="1401" y="51"/>
                    </a:lnTo>
                    <a:lnTo>
                      <a:pt x="1392" y="51"/>
                    </a:lnTo>
                    <a:lnTo>
                      <a:pt x="1382" y="51"/>
                    </a:lnTo>
                    <a:lnTo>
                      <a:pt x="1373" y="51"/>
                    </a:lnTo>
                    <a:lnTo>
                      <a:pt x="1364" y="52"/>
                    </a:lnTo>
                    <a:lnTo>
                      <a:pt x="1354" y="52"/>
                    </a:lnTo>
                    <a:lnTo>
                      <a:pt x="1345" y="52"/>
                    </a:lnTo>
                    <a:lnTo>
                      <a:pt x="1336" y="52"/>
                    </a:lnTo>
                    <a:lnTo>
                      <a:pt x="1327" y="52"/>
                    </a:lnTo>
                    <a:lnTo>
                      <a:pt x="1317" y="52"/>
                    </a:lnTo>
                    <a:lnTo>
                      <a:pt x="1308" y="53"/>
                    </a:lnTo>
                    <a:lnTo>
                      <a:pt x="1299" y="53"/>
                    </a:lnTo>
                    <a:lnTo>
                      <a:pt x="1289" y="53"/>
                    </a:lnTo>
                    <a:lnTo>
                      <a:pt x="1280" y="53"/>
                    </a:lnTo>
                    <a:lnTo>
                      <a:pt x="1271" y="53"/>
                    </a:lnTo>
                    <a:lnTo>
                      <a:pt x="1262" y="54"/>
                    </a:lnTo>
                    <a:lnTo>
                      <a:pt x="1252" y="54"/>
                    </a:lnTo>
                    <a:lnTo>
                      <a:pt x="1243" y="54"/>
                    </a:lnTo>
                    <a:lnTo>
                      <a:pt x="1234" y="55"/>
                    </a:lnTo>
                    <a:lnTo>
                      <a:pt x="1224" y="55"/>
                    </a:lnTo>
                    <a:lnTo>
                      <a:pt x="1215" y="55"/>
                    </a:lnTo>
                    <a:lnTo>
                      <a:pt x="1206" y="55"/>
                    </a:lnTo>
                    <a:lnTo>
                      <a:pt x="1197" y="56"/>
                    </a:lnTo>
                    <a:lnTo>
                      <a:pt x="1187" y="56"/>
                    </a:lnTo>
                    <a:lnTo>
                      <a:pt x="1178" y="56"/>
                    </a:lnTo>
                    <a:lnTo>
                      <a:pt x="1169" y="56"/>
                    </a:lnTo>
                    <a:lnTo>
                      <a:pt x="1160" y="57"/>
                    </a:lnTo>
                    <a:lnTo>
                      <a:pt x="1150" y="57"/>
                    </a:lnTo>
                    <a:lnTo>
                      <a:pt x="1141" y="57"/>
                    </a:lnTo>
                    <a:lnTo>
                      <a:pt x="1132" y="57"/>
                    </a:lnTo>
                    <a:lnTo>
                      <a:pt x="1122" y="57"/>
                    </a:lnTo>
                    <a:lnTo>
                      <a:pt x="1113" y="56"/>
                    </a:lnTo>
                    <a:lnTo>
                      <a:pt x="1104" y="56"/>
                    </a:lnTo>
                    <a:lnTo>
                      <a:pt x="1095" y="56"/>
                    </a:lnTo>
                    <a:lnTo>
                      <a:pt x="1085" y="55"/>
                    </a:lnTo>
                    <a:lnTo>
                      <a:pt x="1076" y="55"/>
                    </a:lnTo>
                    <a:lnTo>
                      <a:pt x="1067" y="55"/>
                    </a:lnTo>
                    <a:lnTo>
                      <a:pt x="1057" y="54"/>
                    </a:lnTo>
                    <a:lnTo>
                      <a:pt x="1048" y="54"/>
                    </a:lnTo>
                    <a:lnTo>
                      <a:pt x="1039" y="53"/>
                    </a:lnTo>
                    <a:lnTo>
                      <a:pt x="1030" y="53"/>
                    </a:lnTo>
                    <a:lnTo>
                      <a:pt x="1020" y="53"/>
                    </a:lnTo>
                    <a:lnTo>
                      <a:pt x="1011" y="53"/>
                    </a:lnTo>
                    <a:lnTo>
                      <a:pt x="1002" y="53"/>
                    </a:lnTo>
                    <a:lnTo>
                      <a:pt x="992" y="53"/>
                    </a:lnTo>
                    <a:lnTo>
                      <a:pt x="983" y="53"/>
                    </a:lnTo>
                    <a:lnTo>
                      <a:pt x="974" y="53"/>
                    </a:lnTo>
                    <a:lnTo>
                      <a:pt x="965" y="53"/>
                    </a:lnTo>
                    <a:lnTo>
                      <a:pt x="955" y="53"/>
                    </a:lnTo>
                    <a:lnTo>
                      <a:pt x="946" y="53"/>
                    </a:lnTo>
                    <a:lnTo>
                      <a:pt x="937" y="53"/>
                    </a:lnTo>
                    <a:lnTo>
                      <a:pt x="928" y="53"/>
                    </a:lnTo>
                    <a:lnTo>
                      <a:pt x="918" y="53"/>
                    </a:lnTo>
                    <a:lnTo>
                      <a:pt x="909" y="53"/>
                    </a:lnTo>
                    <a:lnTo>
                      <a:pt x="900" y="53"/>
                    </a:lnTo>
                    <a:lnTo>
                      <a:pt x="890" y="53"/>
                    </a:lnTo>
                    <a:lnTo>
                      <a:pt x="881" y="53"/>
                    </a:lnTo>
                    <a:lnTo>
                      <a:pt x="872" y="53"/>
                    </a:lnTo>
                    <a:lnTo>
                      <a:pt x="863" y="53"/>
                    </a:lnTo>
                    <a:lnTo>
                      <a:pt x="853" y="53"/>
                    </a:lnTo>
                    <a:lnTo>
                      <a:pt x="844" y="53"/>
                    </a:lnTo>
                    <a:lnTo>
                      <a:pt x="835" y="54"/>
                    </a:lnTo>
                    <a:lnTo>
                      <a:pt x="825" y="54"/>
                    </a:lnTo>
                    <a:lnTo>
                      <a:pt x="816" y="54"/>
                    </a:lnTo>
                    <a:lnTo>
                      <a:pt x="807" y="54"/>
                    </a:lnTo>
                    <a:lnTo>
                      <a:pt x="798" y="54"/>
                    </a:lnTo>
                    <a:lnTo>
                      <a:pt x="788" y="54"/>
                    </a:lnTo>
                    <a:lnTo>
                      <a:pt x="779" y="54"/>
                    </a:lnTo>
                    <a:lnTo>
                      <a:pt x="770" y="54"/>
                    </a:lnTo>
                    <a:lnTo>
                      <a:pt x="760" y="54"/>
                    </a:lnTo>
                    <a:lnTo>
                      <a:pt x="751" y="54"/>
                    </a:lnTo>
                    <a:lnTo>
                      <a:pt x="742" y="54"/>
                    </a:lnTo>
                    <a:lnTo>
                      <a:pt x="733" y="54"/>
                    </a:lnTo>
                    <a:lnTo>
                      <a:pt x="723" y="54"/>
                    </a:lnTo>
                    <a:lnTo>
                      <a:pt x="714" y="54"/>
                    </a:lnTo>
                    <a:lnTo>
                      <a:pt x="705" y="54"/>
                    </a:lnTo>
                    <a:lnTo>
                      <a:pt x="696" y="55"/>
                    </a:lnTo>
                    <a:lnTo>
                      <a:pt x="686" y="55"/>
                    </a:lnTo>
                    <a:lnTo>
                      <a:pt x="677" y="55"/>
                    </a:lnTo>
                    <a:lnTo>
                      <a:pt x="668" y="55"/>
                    </a:lnTo>
                    <a:lnTo>
                      <a:pt x="658" y="55"/>
                    </a:lnTo>
                    <a:lnTo>
                      <a:pt x="649" y="55"/>
                    </a:lnTo>
                    <a:lnTo>
                      <a:pt x="640" y="55"/>
                    </a:lnTo>
                    <a:lnTo>
                      <a:pt x="631" y="55"/>
                    </a:lnTo>
                    <a:lnTo>
                      <a:pt x="621" y="55"/>
                    </a:lnTo>
                    <a:lnTo>
                      <a:pt x="612" y="55"/>
                    </a:lnTo>
                    <a:lnTo>
                      <a:pt x="603" y="55"/>
                    </a:lnTo>
                    <a:lnTo>
                      <a:pt x="593" y="55"/>
                    </a:lnTo>
                    <a:lnTo>
                      <a:pt x="584" y="55"/>
                    </a:lnTo>
                    <a:lnTo>
                      <a:pt x="575" y="55"/>
                    </a:lnTo>
                    <a:lnTo>
                      <a:pt x="566" y="55"/>
                    </a:lnTo>
                    <a:lnTo>
                      <a:pt x="556" y="55"/>
                    </a:lnTo>
                    <a:lnTo>
                      <a:pt x="547" y="55"/>
                    </a:lnTo>
                    <a:lnTo>
                      <a:pt x="538" y="55"/>
                    </a:lnTo>
                    <a:lnTo>
                      <a:pt x="528" y="55"/>
                    </a:lnTo>
                    <a:lnTo>
                      <a:pt x="519" y="56"/>
                    </a:lnTo>
                    <a:lnTo>
                      <a:pt x="510" y="56"/>
                    </a:lnTo>
                    <a:lnTo>
                      <a:pt x="501" y="56"/>
                    </a:lnTo>
                    <a:lnTo>
                      <a:pt x="491" y="56"/>
                    </a:lnTo>
                    <a:lnTo>
                      <a:pt x="482" y="56"/>
                    </a:lnTo>
                    <a:lnTo>
                      <a:pt x="473" y="56"/>
                    </a:lnTo>
                    <a:lnTo>
                      <a:pt x="464" y="56"/>
                    </a:lnTo>
                    <a:lnTo>
                      <a:pt x="454" y="56"/>
                    </a:lnTo>
                    <a:lnTo>
                      <a:pt x="445" y="56"/>
                    </a:lnTo>
                    <a:lnTo>
                      <a:pt x="436" y="56"/>
                    </a:lnTo>
                    <a:lnTo>
                      <a:pt x="426" y="56"/>
                    </a:lnTo>
                    <a:lnTo>
                      <a:pt x="417" y="56"/>
                    </a:lnTo>
                    <a:lnTo>
                      <a:pt x="408" y="56"/>
                    </a:lnTo>
                    <a:lnTo>
                      <a:pt x="399" y="56"/>
                    </a:lnTo>
                    <a:lnTo>
                      <a:pt x="389" y="56"/>
                    </a:lnTo>
                    <a:lnTo>
                      <a:pt x="380" y="56"/>
                    </a:lnTo>
                    <a:lnTo>
                      <a:pt x="371" y="56"/>
                    </a:lnTo>
                    <a:lnTo>
                      <a:pt x="361" y="56"/>
                    </a:lnTo>
                    <a:lnTo>
                      <a:pt x="352" y="56"/>
                    </a:lnTo>
                    <a:lnTo>
                      <a:pt x="343" y="56"/>
                    </a:lnTo>
                    <a:lnTo>
                      <a:pt x="334" y="56"/>
                    </a:lnTo>
                    <a:lnTo>
                      <a:pt x="324" y="56"/>
                    </a:lnTo>
                    <a:lnTo>
                      <a:pt x="315" y="56"/>
                    </a:lnTo>
                    <a:lnTo>
                      <a:pt x="306" y="56"/>
                    </a:lnTo>
                    <a:lnTo>
                      <a:pt x="296" y="56"/>
                    </a:lnTo>
                    <a:lnTo>
                      <a:pt x="287" y="56"/>
                    </a:lnTo>
                    <a:lnTo>
                      <a:pt x="278" y="56"/>
                    </a:lnTo>
                    <a:lnTo>
                      <a:pt x="269" y="56"/>
                    </a:lnTo>
                    <a:lnTo>
                      <a:pt x="259" y="56"/>
                    </a:lnTo>
                    <a:lnTo>
                      <a:pt x="250" y="56"/>
                    </a:lnTo>
                    <a:lnTo>
                      <a:pt x="241" y="56"/>
                    </a:lnTo>
                    <a:lnTo>
                      <a:pt x="232" y="56"/>
                    </a:lnTo>
                    <a:lnTo>
                      <a:pt x="222" y="57"/>
                    </a:lnTo>
                    <a:lnTo>
                      <a:pt x="213" y="57"/>
                    </a:lnTo>
                    <a:lnTo>
                      <a:pt x="204" y="57"/>
                    </a:lnTo>
                    <a:lnTo>
                      <a:pt x="194" y="57"/>
                    </a:lnTo>
                    <a:lnTo>
                      <a:pt x="185" y="57"/>
                    </a:lnTo>
                    <a:lnTo>
                      <a:pt x="176" y="57"/>
                    </a:lnTo>
                    <a:lnTo>
                      <a:pt x="167" y="57"/>
                    </a:lnTo>
                    <a:lnTo>
                      <a:pt x="157" y="57"/>
                    </a:lnTo>
                    <a:lnTo>
                      <a:pt x="148" y="57"/>
                    </a:lnTo>
                    <a:lnTo>
                      <a:pt x="139" y="57"/>
                    </a:lnTo>
                    <a:lnTo>
                      <a:pt x="129" y="57"/>
                    </a:lnTo>
                    <a:lnTo>
                      <a:pt x="120" y="57"/>
                    </a:lnTo>
                    <a:lnTo>
                      <a:pt x="111" y="57"/>
                    </a:lnTo>
                    <a:lnTo>
                      <a:pt x="102" y="57"/>
                    </a:lnTo>
                    <a:lnTo>
                      <a:pt x="92" y="57"/>
                    </a:lnTo>
                    <a:lnTo>
                      <a:pt x="83" y="57"/>
                    </a:lnTo>
                    <a:lnTo>
                      <a:pt x="74" y="57"/>
                    </a:lnTo>
                    <a:lnTo>
                      <a:pt x="64" y="57"/>
                    </a:lnTo>
                    <a:lnTo>
                      <a:pt x="55" y="57"/>
                    </a:lnTo>
                    <a:lnTo>
                      <a:pt x="46" y="57"/>
                    </a:lnTo>
                    <a:lnTo>
                      <a:pt x="37" y="57"/>
                    </a:lnTo>
                    <a:lnTo>
                      <a:pt x="27" y="57"/>
                    </a:lnTo>
                    <a:lnTo>
                      <a:pt x="18" y="58"/>
                    </a:lnTo>
                    <a:lnTo>
                      <a:pt x="9" y="57"/>
                    </a:lnTo>
                    <a:lnTo>
                      <a:pt x="0" y="57"/>
                    </a:lnTo>
                    <a:close/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2" name="Freeform 52"/>
              <p:cNvSpPr/>
              <p:nvPr/>
            </p:nvSpPr>
            <p:spPr>
              <a:xfrm>
                <a:off x="434160" y="6327720"/>
                <a:ext cx="2310120" cy="141480"/>
              </a:xfrm>
              <a:custGeom>
                <a:avLst/>
                <a:gdLst>
                  <a:gd name="textAreaLeft" fmla="*/ 0 w 2310120"/>
                  <a:gd name="textAreaRight" fmla="*/ 2310480 w 2310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1447" h="58">
                    <a:moveTo>
                      <a:pt x="0" y="57"/>
                    </a:moveTo>
                    <a:lnTo>
                      <a:pt x="9" y="57"/>
                    </a:lnTo>
                    <a:lnTo>
                      <a:pt x="18" y="57"/>
                    </a:lnTo>
                    <a:lnTo>
                      <a:pt x="27" y="57"/>
                    </a:lnTo>
                    <a:lnTo>
                      <a:pt x="37" y="57"/>
                    </a:lnTo>
                    <a:lnTo>
                      <a:pt x="46" y="56"/>
                    </a:lnTo>
                    <a:lnTo>
                      <a:pt x="55" y="56"/>
                    </a:lnTo>
                    <a:lnTo>
                      <a:pt x="64" y="56"/>
                    </a:lnTo>
                    <a:lnTo>
                      <a:pt x="74" y="56"/>
                    </a:lnTo>
                    <a:lnTo>
                      <a:pt x="83" y="56"/>
                    </a:lnTo>
                    <a:lnTo>
                      <a:pt x="92" y="56"/>
                    </a:lnTo>
                    <a:lnTo>
                      <a:pt x="102" y="56"/>
                    </a:lnTo>
                    <a:lnTo>
                      <a:pt x="111" y="56"/>
                    </a:lnTo>
                    <a:lnTo>
                      <a:pt x="120" y="56"/>
                    </a:lnTo>
                    <a:lnTo>
                      <a:pt x="129" y="55"/>
                    </a:lnTo>
                    <a:lnTo>
                      <a:pt x="139" y="55"/>
                    </a:lnTo>
                    <a:lnTo>
                      <a:pt x="148" y="55"/>
                    </a:lnTo>
                    <a:lnTo>
                      <a:pt x="157" y="55"/>
                    </a:lnTo>
                    <a:lnTo>
                      <a:pt x="167" y="55"/>
                    </a:lnTo>
                    <a:lnTo>
                      <a:pt x="176" y="55"/>
                    </a:lnTo>
                    <a:lnTo>
                      <a:pt x="185" y="55"/>
                    </a:lnTo>
                    <a:lnTo>
                      <a:pt x="194" y="54"/>
                    </a:lnTo>
                    <a:lnTo>
                      <a:pt x="204" y="54"/>
                    </a:lnTo>
                    <a:lnTo>
                      <a:pt x="213" y="54"/>
                    </a:lnTo>
                    <a:lnTo>
                      <a:pt x="222" y="54"/>
                    </a:lnTo>
                    <a:lnTo>
                      <a:pt x="232" y="54"/>
                    </a:lnTo>
                    <a:lnTo>
                      <a:pt x="241" y="54"/>
                    </a:lnTo>
                    <a:lnTo>
                      <a:pt x="250" y="54"/>
                    </a:lnTo>
                    <a:lnTo>
                      <a:pt x="259" y="54"/>
                    </a:lnTo>
                    <a:lnTo>
                      <a:pt x="269" y="54"/>
                    </a:lnTo>
                    <a:lnTo>
                      <a:pt x="278" y="53"/>
                    </a:lnTo>
                    <a:lnTo>
                      <a:pt x="287" y="53"/>
                    </a:lnTo>
                    <a:lnTo>
                      <a:pt x="296" y="53"/>
                    </a:lnTo>
                    <a:lnTo>
                      <a:pt x="306" y="52"/>
                    </a:lnTo>
                    <a:lnTo>
                      <a:pt x="315" y="52"/>
                    </a:lnTo>
                    <a:lnTo>
                      <a:pt x="324" y="52"/>
                    </a:lnTo>
                    <a:lnTo>
                      <a:pt x="334" y="52"/>
                    </a:lnTo>
                    <a:lnTo>
                      <a:pt x="343" y="52"/>
                    </a:lnTo>
                    <a:lnTo>
                      <a:pt x="352" y="52"/>
                    </a:lnTo>
                    <a:lnTo>
                      <a:pt x="361" y="52"/>
                    </a:lnTo>
                    <a:lnTo>
                      <a:pt x="371" y="51"/>
                    </a:lnTo>
                    <a:lnTo>
                      <a:pt x="380" y="51"/>
                    </a:lnTo>
                    <a:lnTo>
                      <a:pt x="389" y="51"/>
                    </a:lnTo>
                    <a:lnTo>
                      <a:pt x="399" y="51"/>
                    </a:lnTo>
                    <a:lnTo>
                      <a:pt x="408" y="51"/>
                    </a:lnTo>
                    <a:lnTo>
                      <a:pt x="417" y="51"/>
                    </a:lnTo>
                    <a:lnTo>
                      <a:pt x="426" y="50"/>
                    </a:lnTo>
                    <a:lnTo>
                      <a:pt x="436" y="50"/>
                    </a:lnTo>
                    <a:lnTo>
                      <a:pt x="445" y="50"/>
                    </a:lnTo>
                    <a:lnTo>
                      <a:pt x="454" y="49"/>
                    </a:lnTo>
                    <a:lnTo>
                      <a:pt x="464" y="49"/>
                    </a:lnTo>
                    <a:lnTo>
                      <a:pt x="473" y="49"/>
                    </a:lnTo>
                    <a:lnTo>
                      <a:pt x="482" y="48"/>
                    </a:lnTo>
                    <a:lnTo>
                      <a:pt x="491" y="48"/>
                    </a:lnTo>
                    <a:lnTo>
                      <a:pt x="501" y="48"/>
                    </a:lnTo>
                    <a:lnTo>
                      <a:pt x="510" y="47"/>
                    </a:lnTo>
                    <a:lnTo>
                      <a:pt x="519" y="46"/>
                    </a:lnTo>
                    <a:lnTo>
                      <a:pt x="528" y="45"/>
                    </a:lnTo>
                    <a:lnTo>
                      <a:pt x="538" y="46"/>
                    </a:lnTo>
                    <a:lnTo>
                      <a:pt x="547" y="45"/>
                    </a:lnTo>
                    <a:lnTo>
                      <a:pt x="556" y="45"/>
                    </a:lnTo>
                    <a:lnTo>
                      <a:pt x="566" y="45"/>
                    </a:lnTo>
                    <a:lnTo>
                      <a:pt x="575" y="44"/>
                    </a:lnTo>
                    <a:lnTo>
                      <a:pt x="584" y="43"/>
                    </a:lnTo>
                    <a:lnTo>
                      <a:pt x="593" y="44"/>
                    </a:lnTo>
                    <a:lnTo>
                      <a:pt x="603" y="44"/>
                    </a:lnTo>
                    <a:lnTo>
                      <a:pt x="612" y="43"/>
                    </a:lnTo>
                    <a:lnTo>
                      <a:pt x="621" y="43"/>
                    </a:lnTo>
                    <a:lnTo>
                      <a:pt x="631" y="43"/>
                    </a:lnTo>
                    <a:lnTo>
                      <a:pt x="640" y="44"/>
                    </a:lnTo>
                    <a:lnTo>
                      <a:pt x="649" y="43"/>
                    </a:lnTo>
                    <a:lnTo>
                      <a:pt x="658" y="45"/>
                    </a:lnTo>
                    <a:lnTo>
                      <a:pt x="668" y="44"/>
                    </a:lnTo>
                    <a:lnTo>
                      <a:pt x="677" y="42"/>
                    </a:lnTo>
                    <a:lnTo>
                      <a:pt x="686" y="43"/>
                    </a:lnTo>
                    <a:lnTo>
                      <a:pt x="696" y="42"/>
                    </a:lnTo>
                    <a:lnTo>
                      <a:pt x="705" y="43"/>
                    </a:lnTo>
                    <a:lnTo>
                      <a:pt x="714" y="42"/>
                    </a:lnTo>
                    <a:lnTo>
                      <a:pt x="723" y="41"/>
                    </a:lnTo>
                    <a:lnTo>
                      <a:pt x="733" y="41"/>
                    </a:lnTo>
                    <a:lnTo>
                      <a:pt x="742" y="42"/>
                    </a:lnTo>
                    <a:lnTo>
                      <a:pt x="751" y="43"/>
                    </a:lnTo>
                    <a:lnTo>
                      <a:pt x="760" y="44"/>
                    </a:lnTo>
                    <a:lnTo>
                      <a:pt x="770" y="44"/>
                    </a:lnTo>
                    <a:lnTo>
                      <a:pt x="779" y="43"/>
                    </a:lnTo>
                    <a:lnTo>
                      <a:pt x="788" y="42"/>
                    </a:lnTo>
                    <a:lnTo>
                      <a:pt x="798" y="41"/>
                    </a:lnTo>
                    <a:lnTo>
                      <a:pt x="807" y="40"/>
                    </a:lnTo>
                    <a:lnTo>
                      <a:pt x="816" y="41"/>
                    </a:lnTo>
                    <a:lnTo>
                      <a:pt x="825" y="40"/>
                    </a:lnTo>
                    <a:lnTo>
                      <a:pt x="835" y="39"/>
                    </a:lnTo>
                    <a:lnTo>
                      <a:pt x="844" y="38"/>
                    </a:lnTo>
                    <a:lnTo>
                      <a:pt x="853" y="38"/>
                    </a:lnTo>
                    <a:lnTo>
                      <a:pt x="863" y="37"/>
                    </a:lnTo>
                    <a:lnTo>
                      <a:pt x="872" y="38"/>
                    </a:lnTo>
                    <a:lnTo>
                      <a:pt x="881" y="41"/>
                    </a:lnTo>
                    <a:lnTo>
                      <a:pt x="890" y="41"/>
                    </a:lnTo>
                    <a:lnTo>
                      <a:pt x="900" y="39"/>
                    </a:lnTo>
                    <a:lnTo>
                      <a:pt x="909" y="38"/>
                    </a:lnTo>
                    <a:lnTo>
                      <a:pt x="918" y="39"/>
                    </a:lnTo>
                    <a:lnTo>
                      <a:pt x="928" y="38"/>
                    </a:lnTo>
                    <a:lnTo>
                      <a:pt x="937" y="37"/>
                    </a:lnTo>
                    <a:lnTo>
                      <a:pt x="946" y="37"/>
                    </a:lnTo>
                    <a:lnTo>
                      <a:pt x="955" y="37"/>
                    </a:lnTo>
                    <a:lnTo>
                      <a:pt x="965" y="37"/>
                    </a:lnTo>
                    <a:lnTo>
                      <a:pt x="974" y="36"/>
                    </a:lnTo>
                    <a:lnTo>
                      <a:pt x="983" y="35"/>
                    </a:lnTo>
                    <a:lnTo>
                      <a:pt x="992" y="34"/>
                    </a:lnTo>
                    <a:lnTo>
                      <a:pt x="1002" y="34"/>
                    </a:lnTo>
                    <a:lnTo>
                      <a:pt x="1011" y="33"/>
                    </a:lnTo>
                    <a:lnTo>
                      <a:pt x="1020" y="32"/>
                    </a:lnTo>
                    <a:lnTo>
                      <a:pt x="1030" y="32"/>
                    </a:lnTo>
                    <a:lnTo>
                      <a:pt x="1039" y="31"/>
                    </a:lnTo>
                    <a:lnTo>
                      <a:pt x="1048" y="30"/>
                    </a:lnTo>
                    <a:lnTo>
                      <a:pt x="1057" y="30"/>
                    </a:lnTo>
                    <a:lnTo>
                      <a:pt x="1067" y="32"/>
                    </a:lnTo>
                    <a:lnTo>
                      <a:pt x="1076" y="32"/>
                    </a:lnTo>
                    <a:lnTo>
                      <a:pt x="1085" y="33"/>
                    </a:lnTo>
                    <a:lnTo>
                      <a:pt x="1095" y="33"/>
                    </a:lnTo>
                    <a:lnTo>
                      <a:pt x="1104" y="33"/>
                    </a:lnTo>
                    <a:lnTo>
                      <a:pt x="1113" y="33"/>
                    </a:lnTo>
                    <a:lnTo>
                      <a:pt x="1122" y="34"/>
                    </a:lnTo>
                    <a:lnTo>
                      <a:pt x="1132" y="34"/>
                    </a:lnTo>
                    <a:lnTo>
                      <a:pt x="1141" y="33"/>
                    </a:lnTo>
                    <a:lnTo>
                      <a:pt x="1150" y="32"/>
                    </a:lnTo>
                    <a:lnTo>
                      <a:pt x="1160" y="32"/>
                    </a:lnTo>
                    <a:lnTo>
                      <a:pt x="1169" y="31"/>
                    </a:lnTo>
                    <a:lnTo>
                      <a:pt x="1178" y="30"/>
                    </a:lnTo>
                    <a:lnTo>
                      <a:pt x="1187" y="28"/>
                    </a:lnTo>
                    <a:lnTo>
                      <a:pt x="1197" y="27"/>
                    </a:lnTo>
                    <a:lnTo>
                      <a:pt x="1206" y="26"/>
                    </a:lnTo>
                    <a:lnTo>
                      <a:pt x="1215" y="26"/>
                    </a:lnTo>
                    <a:lnTo>
                      <a:pt x="1224" y="25"/>
                    </a:lnTo>
                    <a:lnTo>
                      <a:pt x="1234" y="24"/>
                    </a:lnTo>
                    <a:lnTo>
                      <a:pt x="1243" y="23"/>
                    </a:lnTo>
                    <a:lnTo>
                      <a:pt x="1252" y="21"/>
                    </a:lnTo>
                    <a:lnTo>
                      <a:pt x="1262" y="21"/>
                    </a:lnTo>
                    <a:lnTo>
                      <a:pt x="1271" y="19"/>
                    </a:lnTo>
                    <a:lnTo>
                      <a:pt x="1280" y="18"/>
                    </a:lnTo>
                    <a:lnTo>
                      <a:pt x="1289" y="18"/>
                    </a:lnTo>
                    <a:lnTo>
                      <a:pt x="1299" y="17"/>
                    </a:lnTo>
                    <a:lnTo>
                      <a:pt x="1308" y="17"/>
                    </a:lnTo>
                    <a:lnTo>
                      <a:pt x="1317" y="18"/>
                    </a:lnTo>
                    <a:lnTo>
                      <a:pt x="1327" y="18"/>
                    </a:lnTo>
                    <a:lnTo>
                      <a:pt x="1336" y="17"/>
                    </a:lnTo>
                    <a:lnTo>
                      <a:pt x="1345" y="16"/>
                    </a:lnTo>
                    <a:lnTo>
                      <a:pt x="1354" y="15"/>
                    </a:lnTo>
                    <a:lnTo>
                      <a:pt x="1364" y="15"/>
                    </a:lnTo>
                    <a:lnTo>
                      <a:pt x="1373" y="15"/>
                    </a:lnTo>
                    <a:lnTo>
                      <a:pt x="1382" y="15"/>
                    </a:lnTo>
                    <a:lnTo>
                      <a:pt x="1392" y="14"/>
                    </a:lnTo>
                    <a:lnTo>
                      <a:pt x="1401" y="14"/>
                    </a:lnTo>
                    <a:lnTo>
                      <a:pt x="1410" y="12"/>
                    </a:lnTo>
                    <a:lnTo>
                      <a:pt x="1419" y="9"/>
                    </a:lnTo>
                    <a:lnTo>
                      <a:pt x="1429" y="5"/>
                    </a:lnTo>
                    <a:lnTo>
                      <a:pt x="1438" y="3"/>
                    </a:lnTo>
                    <a:lnTo>
                      <a:pt x="1447" y="0"/>
                    </a:lnTo>
                    <a:lnTo>
                      <a:pt x="1447" y="49"/>
                    </a:lnTo>
                    <a:lnTo>
                      <a:pt x="1438" y="50"/>
                    </a:lnTo>
                    <a:lnTo>
                      <a:pt x="1429" y="50"/>
                    </a:lnTo>
                    <a:lnTo>
                      <a:pt x="1419" y="50"/>
                    </a:lnTo>
                    <a:lnTo>
                      <a:pt x="1410" y="51"/>
                    </a:lnTo>
                    <a:lnTo>
                      <a:pt x="1401" y="51"/>
                    </a:lnTo>
                    <a:lnTo>
                      <a:pt x="1392" y="51"/>
                    </a:lnTo>
                    <a:lnTo>
                      <a:pt x="1382" y="51"/>
                    </a:lnTo>
                    <a:lnTo>
                      <a:pt x="1373" y="51"/>
                    </a:lnTo>
                    <a:lnTo>
                      <a:pt x="1364" y="52"/>
                    </a:lnTo>
                    <a:lnTo>
                      <a:pt x="1354" y="52"/>
                    </a:lnTo>
                    <a:lnTo>
                      <a:pt x="1345" y="52"/>
                    </a:lnTo>
                    <a:lnTo>
                      <a:pt x="1336" y="52"/>
                    </a:lnTo>
                    <a:lnTo>
                      <a:pt x="1327" y="52"/>
                    </a:lnTo>
                    <a:lnTo>
                      <a:pt x="1317" y="52"/>
                    </a:lnTo>
                    <a:lnTo>
                      <a:pt x="1308" y="53"/>
                    </a:lnTo>
                    <a:lnTo>
                      <a:pt x="1299" y="53"/>
                    </a:lnTo>
                    <a:lnTo>
                      <a:pt x="1289" y="53"/>
                    </a:lnTo>
                    <a:lnTo>
                      <a:pt x="1280" y="53"/>
                    </a:lnTo>
                    <a:lnTo>
                      <a:pt x="1271" y="53"/>
                    </a:lnTo>
                    <a:lnTo>
                      <a:pt x="1262" y="54"/>
                    </a:lnTo>
                    <a:lnTo>
                      <a:pt x="1252" y="54"/>
                    </a:lnTo>
                    <a:lnTo>
                      <a:pt x="1243" y="54"/>
                    </a:lnTo>
                    <a:lnTo>
                      <a:pt x="1234" y="55"/>
                    </a:lnTo>
                    <a:lnTo>
                      <a:pt x="1224" y="55"/>
                    </a:lnTo>
                    <a:lnTo>
                      <a:pt x="1215" y="55"/>
                    </a:lnTo>
                    <a:lnTo>
                      <a:pt x="1206" y="55"/>
                    </a:lnTo>
                    <a:lnTo>
                      <a:pt x="1197" y="56"/>
                    </a:lnTo>
                    <a:lnTo>
                      <a:pt x="1187" y="56"/>
                    </a:lnTo>
                    <a:lnTo>
                      <a:pt x="1178" y="56"/>
                    </a:lnTo>
                    <a:lnTo>
                      <a:pt x="1169" y="56"/>
                    </a:lnTo>
                    <a:lnTo>
                      <a:pt x="1160" y="57"/>
                    </a:lnTo>
                    <a:lnTo>
                      <a:pt x="1150" y="57"/>
                    </a:lnTo>
                    <a:lnTo>
                      <a:pt x="1141" y="57"/>
                    </a:lnTo>
                    <a:lnTo>
                      <a:pt x="1132" y="57"/>
                    </a:lnTo>
                    <a:lnTo>
                      <a:pt x="1122" y="57"/>
                    </a:lnTo>
                    <a:lnTo>
                      <a:pt x="1113" y="56"/>
                    </a:lnTo>
                    <a:lnTo>
                      <a:pt x="1104" y="56"/>
                    </a:lnTo>
                    <a:lnTo>
                      <a:pt x="1095" y="56"/>
                    </a:lnTo>
                    <a:lnTo>
                      <a:pt x="1085" y="55"/>
                    </a:lnTo>
                    <a:lnTo>
                      <a:pt x="1076" y="55"/>
                    </a:lnTo>
                    <a:lnTo>
                      <a:pt x="1067" y="55"/>
                    </a:lnTo>
                    <a:lnTo>
                      <a:pt x="1057" y="54"/>
                    </a:lnTo>
                    <a:lnTo>
                      <a:pt x="1048" y="54"/>
                    </a:lnTo>
                    <a:lnTo>
                      <a:pt x="1039" y="53"/>
                    </a:lnTo>
                    <a:lnTo>
                      <a:pt x="1030" y="53"/>
                    </a:lnTo>
                    <a:lnTo>
                      <a:pt x="1020" y="53"/>
                    </a:lnTo>
                    <a:lnTo>
                      <a:pt x="1011" y="53"/>
                    </a:lnTo>
                    <a:lnTo>
                      <a:pt x="1002" y="53"/>
                    </a:lnTo>
                    <a:lnTo>
                      <a:pt x="992" y="53"/>
                    </a:lnTo>
                    <a:lnTo>
                      <a:pt x="983" y="53"/>
                    </a:lnTo>
                    <a:lnTo>
                      <a:pt x="974" y="53"/>
                    </a:lnTo>
                    <a:lnTo>
                      <a:pt x="965" y="53"/>
                    </a:lnTo>
                    <a:lnTo>
                      <a:pt x="955" y="53"/>
                    </a:lnTo>
                    <a:lnTo>
                      <a:pt x="946" y="53"/>
                    </a:lnTo>
                    <a:lnTo>
                      <a:pt x="937" y="53"/>
                    </a:lnTo>
                    <a:lnTo>
                      <a:pt x="928" y="53"/>
                    </a:lnTo>
                    <a:lnTo>
                      <a:pt x="918" y="53"/>
                    </a:lnTo>
                    <a:lnTo>
                      <a:pt x="909" y="53"/>
                    </a:lnTo>
                    <a:lnTo>
                      <a:pt x="900" y="53"/>
                    </a:lnTo>
                    <a:lnTo>
                      <a:pt x="890" y="53"/>
                    </a:lnTo>
                    <a:lnTo>
                      <a:pt x="881" y="53"/>
                    </a:lnTo>
                    <a:lnTo>
                      <a:pt x="872" y="53"/>
                    </a:lnTo>
                    <a:lnTo>
                      <a:pt x="863" y="53"/>
                    </a:lnTo>
                    <a:lnTo>
                      <a:pt x="853" y="53"/>
                    </a:lnTo>
                    <a:lnTo>
                      <a:pt x="844" y="53"/>
                    </a:lnTo>
                    <a:lnTo>
                      <a:pt x="835" y="54"/>
                    </a:lnTo>
                    <a:lnTo>
                      <a:pt x="825" y="54"/>
                    </a:lnTo>
                    <a:lnTo>
                      <a:pt x="816" y="54"/>
                    </a:lnTo>
                    <a:lnTo>
                      <a:pt x="807" y="54"/>
                    </a:lnTo>
                    <a:lnTo>
                      <a:pt x="798" y="54"/>
                    </a:lnTo>
                    <a:lnTo>
                      <a:pt x="788" y="54"/>
                    </a:lnTo>
                    <a:lnTo>
                      <a:pt x="779" y="54"/>
                    </a:lnTo>
                    <a:lnTo>
                      <a:pt x="770" y="54"/>
                    </a:lnTo>
                    <a:lnTo>
                      <a:pt x="760" y="54"/>
                    </a:lnTo>
                    <a:lnTo>
                      <a:pt x="751" y="54"/>
                    </a:lnTo>
                    <a:lnTo>
                      <a:pt x="742" y="54"/>
                    </a:lnTo>
                    <a:lnTo>
                      <a:pt x="733" y="54"/>
                    </a:lnTo>
                    <a:lnTo>
                      <a:pt x="723" y="54"/>
                    </a:lnTo>
                    <a:lnTo>
                      <a:pt x="714" y="54"/>
                    </a:lnTo>
                    <a:lnTo>
                      <a:pt x="705" y="54"/>
                    </a:lnTo>
                    <a:lnTo>
                      <a:pt x="696" y="55"/>
                    </a:lnTo>
                    <a:lnTo>
                      <a:pt x="686" y="55"/>
                    </a:lnTo>
                    <a:lnTo>
                      <a:pt x="677" y="55"/>
                    </a:lnTo>
                    <a:lnTo>
                      <a:pt x="668" y="55"/>
                    </a:lnTo>
                    <a:lnTo>
                      <a:pt x="658" y="55"/>
                    </a:lnTo>
                    <a:lnTo>
                      <a:pt x="649" y="55"/>
                    </a:lnTo>
                    <a:lnTo>
                      <a:pt x="640" y="55"/>
                    </a:lnTo>
                    <a:lnTo>
                      <a:pt x="631" y="55"/>
                    </a:lnTo>
                    <a:lnTo>
                      <a:pt x="621" y="55"/>
                    </a:lnTo>
                    <a:lnTo>
                      <a:pt x="612" y="55"/>
                    </a:lnTo>
                    <a:lnTo>
                      <a:pt x="603" y="55"/>
                    </a:lnTo>
                    <a:lnTo>
                      <a:pt x="593" y="55"/>
                    </a:lnTo>
                    <a:lnTo>
                      <a:pt x="584" y="55"/>
                    </a:lnTo>
                    <a:lnTo>
                      <a:pt x="575" y="55"/>
                    </a:lnTo>
                    <a:lnTo>
                      <a:pt x="566" y="55"/>
                    </a:lnTo>
                    <a:lnTo>
                      <a:pt x="556" y="55"/>
                    </a:lnTo>
                    <a:lnTo>
                      <a:pt x="547" y="55"/>
                    </a:lnTo>
                    <a:lnTo>
                      <a:pt x="538" y="55"/>
                    </a:lnTo>
                    <a:lnTo>
                      <a:pt x="528" y="55"/>
                    </a:lnTo>
                    <a:lnTo>
                      <a:pt x="519" y="56"/>
                    </a:lnTo>
                    <a:lnTo>
                      <a:pt x="510" y="56"/>
                    </a:lnTo>
                    <a:lnTo>
                      <a:pt x="501" y="56"/>
                    </a:lnTo>
                    <a:lnTo>
                      <a:pt x="491" y="56"/>
                    </a:lnTo>
                    <a:lnTo>
                      <a:pt x="482" y="56"/>
                    </a:lnTo>
                    <a:lnTo>
                      <a:pt x="473" y="56"/>
                    </a:lnTo>
                    <a:lnTo>
                      <a:pt x="464" y="56"/>
                    </a:lnTo>
                    <a:lnTo>
                      <a:pt x="454" y="56"/>
                    </a:lnTo>
                    <a:lnTo>
                      <a:pt x="445" y="56"/>
                    </a:lnTo>
                    <a:lnTo>
                      <a:pt x="436" y="56"/>
                    </a:lnTo>
                    <a:lnTo>
                      <a:pt x="426" y="56"/>
                    </a:lnTo>
                    <a:lnTo>
                      <a:pt x="417" y="56"/>
                    </a:lnTo>
                    <a:lnTo>
                      <a:pt x="408" y="56"/>
                    </a:lnTo>
                    <a:lnTo>
                      <a:pt x="399" y="56"/>
                    </a:lnTo>
                    <a:lnTo>
                      <a:pt x="389" y="56"/>
                    </a:lnTo>
                    <a:lnTo>
                      <a:pt x="380" y="56"/>
                    </a:lnTo>
                    <a:lnTo>
                      <a:pt x="371" y="56"/>
                    </a:lnTo>
                    <a:lnTo>
                      <a:pt x="361" y="56"/>
                    </a:lnTo>
                    <a:lnTo>
                      <a:pt x="352" y="56"/>
                    </a:lnTo>
                    <a:lnTo>
                      <a:pt x="343" y="56"/>
                    </a:lnTo>
                    <a:lnTo>
                      <a:pt x="334" y="56"/>
                    </a:lnTo>
                    <a:lnTo>
                      <a:pt x="324" y="56"/>
                    </a:lnTo>
                    <a:lnTo>
                      <a:pt x="315" y="56"/>
                    </a:lnTo>
                    <a:lnTo>
                      <a:pt x="306" y="56"/>
                    </a:lnTo>
                    <a:lnTo>
                      <a:pt x="296" y="56"/>
                    </a:lnTo>
                    <a:lnTo>
                      <a:pt x="287" y="56"/>
                    </a:lnTo>
                    <a:lnTo>
                      <a:pt x="278" y="56"/>
                    </a:lnTo>
                    <a:lnTo>
                      <a:pt x="269" y="56"/>
                    </a:lnTo>
                    <a:lnTo>
                      <a:pt x="259" y="56"/>
                    </a:lnTo>
                    <a:lnTo>
                      <a:pt x="250" y="56"/>
                    </a:lnTo>
                    <a:lnTo>
                      <a:pt x="241" y="56"/>
                    </a:lnTo>
                    <a:lnTo>
                      <a:pt x="232" y="56"/>
                    </a:lnTo>
                    <a:lnTo>
                      <a:pt x="222" y="57"/>
                    </a:lnTo>
                    <a:lnTo>
                      <a:pt x="213" y="57"/>
                    </a:lnTo>
                    <a:lnTo>
                      <a:pt x="204" y="57"/>
                    </a:lnTo>
                    <a:lnTo>
                      <a:pt x="194" y="57"/>
                    </a:lnTo>
                    <a:lnTo>
                      <a:pt x="185" y="57"/>
                    </a:lnTo>
                    <a:lnTo>
                      <a:pt x="176" y="57"/>
                    </a:lnTo>
                    <a:lnTo>
                      <a:pt x="167" y="57"/>
                    </a:lnTo>
                    <a:lnTo>
                      <a:pt x="157" y="57"/>
                    </a:lnTo>
                    <a:lnTo>
                      <a:pt x="148" y="57"/>
                    </a:lnTo>
                    <a:lnTo>
                      <a:pt x="139" y="57"/>
                    </a:lnTo>
                    <a:lnTo>
                      <a:pt x="129" y="57"/>
                    </a:lnTo>
                    <a:lnTo>
                      <a:pt x="120" y="57"/>
                    </a:lnTo>
                    <a:lnTo>
                      <a:pt x="111" y="57"/>
                    </a:lnTo>
                    <a:lnTo>
                      <a:pt x="102" y="57"/>
                    </a:lnTo>
                    <a:lnTo>
                      <a:pt x="92" y="57"/>
                    </a:lnTo>
                    <a:lnTo>
                      <a:pt x="83" y="57"/>
                    </a:lnTo>
                    <a:lnTo>
                      <a:pt x="74" y="57"/>
                    </a:lnTo>
                    <a:lnTo>
                      <a:pt x="64" y="57"/>
                    </a:lnTo>
                    <a:lnTo>
                      <a:pt x="55" y="57"/>
                    </a:lnTo>
                    <a:lnTo>
                      <a:pt x="46" y="57"/>
                    </a:lnTo>
                    <a:lnTo>
                      <a:pt x="37" y="57"/>
                    </a:lnTo>
                    <a:lnTo>
                      <a:pt x="27" y="57"/>
                    </a:lnTo>
                    <a:lnTo>
                      <a:pt x="18" y="58"/>
                    </a:lnTo>
                    <a:lnTo>
                      <a:pt x="9" y="57"/>
                    </a:lnTo>
                    <a:lnTo>
                      <a:pt x="0" y="57"/>
                    </a:lnTo>
                    <a:close/>
                  </a:path>
                </a:pathLst>
              </a:custGeom>
              <a:noFill/>
              <a:ln w="3175">
                <a:solidFill>
                  <a:srgbClr val="20202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3" name="Freeform 53"/>
              <p:cNvSpPr/>
              <p:nvPr/>
            </p:nvSpPr>
            <p:spPr>
              <a:xfrm>
                <a:off x="434160" y="6447600"/>
                <a:ext cx="2310120" cy="46080"/>
              </a:xfrm>
              <a:custGeom>
                <a:avLst/>
                <a:gdLst>
                  <a:gd name="textAreaLeft" fmla="*/ 0 w 2310120"/>
                  <a:gd name="textAreaRight" fmla="*/ 2310480 w 2310120"/>
                  <a:gd name="textAreaTop" fmla="*/ 0 h 46080"/>
                  <a:gd name="textAreaBottom" fmla="*/ 46440 h 46080"/>
                </a:gdLst>
                <a:ahLst/>
                <a:rect l="textAreaLeft" t="textAreaTop" r="textAreaRight" b="textAreaBottom"/>
                <a:pathLst>
                  <a:path w="1447" h="18">
                    <a:moveTo>
                      <a:pt x="0" y="8"/>
                    </a:moveTo>
                    <a:lnTo>
                      <a:pt x="9" y="8"/>
                    </a:lnTo>
                    <a:lnTo>
                      <a:pt x="18" y="8"/>
                    </a:lnTo>
                    <a:lnTo>
                      <a:pt x="27" y="8"/>
                    </a:lnTo>
                    <a:lnTo>
                      <a:pt x="37" y="8"/>
                    </a:lnTo>
                    <a:lnTo>
                      <a:pt x="46" y="8"/>
                    </a:lnTo>
                    <a:lnTo>
                      <a:pt x="55" y="8"/>
                    </a:lnTo>
                    <a:lnTo>
                      <a:pt x="64" y="8"/>
                    </a:lnTo>
                    <a:lnTo>
                      <a:pt x="74" y="8"/>
                    </a:lnTo>
                    <a:lnTo>
                      <a:pt x="83" y="8"/>
                    </a:lnTo>
                    <a:lnTo>
                      <a:pt x="92" y="8"/>
                    </a:lnTo>
                    <a:lnTo>
                      <a:pt x="102" y="7"/>
                    </a:lnTo>
                    <a:lnTo>
                      <a:pt x="111" y="7"/>
                    </a:lnTo>
                    <a:lnTo>
                      <a:pt x="120" y="7"/>
                    </a:lnTo>
                    <a:lnTo>
                      <a:pt x="129" y="7"/>
                    </a:lnTo>
                    <a:lnTo>
                      <a:pt x="139" y="7"/>
                    </a:lnTo>
                    <a:lnTo>
                      <a:pt x="148" y="7"/>
                    </a:lnTo>
                    <a:lnTo>
                      <a:pt x="157" y="7"/>
                    </a:lnTo>
                    <a:lnTo>
                      <a:pt x="167" y="7"/>
                    </a:lnTo>
                    <a:lnTo>
                      <a:pt x="176" y="7"/>
                    </a:lnTo>
                    <a:lnTo>
                      <a:pt x="185" y="7"/>
                    </a:lnTo>
                    <a:lnTo>
                      <a:pt x="194" y="7"/>
                    </a:lnTo>
                    <a:lnTo>
                      <a:pt x="204" y="7"/>
                    </a:lnTo>
                    <a:lnTo>
                      <a:pt x="213" y="7"/>
                    </a:lnTo>
                    <a:lnTo>
                      <a:pt x="222" y="7"/>
                    </a:lnTo>
                    <a:lnTo>
                      <a:pt x="232" y="7"/>
                    </a:lnTo>
                    <a:lnTo>
                      <a:pt x="241" y="7"/>
                    </a:lnTo>
                    <a:lnTo>
                      <a:pt x="250" y="7"/>
                    </a:lnTo>
                    <a:lnTo>
                      <a:pt x="259" y="7"/>
                    </a:lnTo>
                    <a:lnTo>
                      <a:pt x="269" y="7"/>
                    </a:lnTo>
                    <a:lnTo>
                      <a:pt x="278" y="7"/>
                    </a:lnTo>
                    <a:lnTo>
                      <a:pt x="287" y="7"/>
                    </a:lnTo>
                    <a:lnTo>
                      <a:pt x="296" y="7"/>
                    </a:lnTo>
                    <a:lnTo>
                      <a:pt x="306" y="7"/>
                    </a:lnTo>
                    <a:lnTo>
                      <a:pt x="315" y="7"/>
                    </a:lnTo>
                    <a:lnTo>
                      <a:pt x="324" y="7"/>
                    </a:lnTo>
                    <a:lnTo>
                      <a:pt x="334" y="7"/>
                    </a:lnTo>
                    <a:lnTo>
                      <a:pt x="343" y="7"/>
                    </a:lnTo>
                    <a:lnTo>
                      <a:pt x="352" y="6"/>
                    </a:lnTo>
                    <a:lnTo>
                      <a:pt x="361" y="6"/>
                    </a:lnTo>
                    <a:lnTo>
                      <a:pt x="371" y="6"/>
                    </a:lnTo>
                    <a:lnTo>
                      <a:pt x="380" y="6"/>
                    </a:lnTo>
                    <a:lnTo>
                      <a:pt x="389" y="6"/>
                    </a:lnTo>
                    <a:lnTo>
                      <a:pt x="399" y="6"/>
                    </a:lnTo>
                    <a:lnTo>
                      <a:pt x="408" y="6"/>
                    </a:lnTo>
                    <a:lnTo>
                      <a:pt x="417" y="6"/>
                    </a:lnTo>
                    <a:lnTo>
                      <a:pt x="426" y="6"/>
                    </a:lnTo>
                    <a:lnTo>
                      <a:pt x="436" y="6"/>
                    </a:lnTo>
                    <a:lnTo>
                      <a:pt x="445" y="6"/>
                    </a:lnTo>
                    <a:lnTo>
                      <a:pt x="454" y="6"/>
                    </a:lnTo>
                    <a:lnTo>
                      <a:pt x="464" y="6"/>
                    </a:lnTo>
                    <a:lnTo>
                      <a:pt x="473" y="6"/>
                    </a:lnTo>
                    <a:lnTo>
                      <a:pt x="482" y="6"/>
                    </a:lnTo>
                    <a:lnTo>
                      <a:pt x="491" y="6"/>
                    </a:lnTo>
                    <a:lnTo>
                      <a:pt x="501" y="6"/>
                    </a:lnTo>
                    <a:lnTo>
                      <a:pt x="510" y="6"/>
                    </a:lnTo>
                    <a:lnTo>
                      <a:pt x="519" y="6"/>
                    </a:lnTo>
                    <a:lnTo>
                      <a:pt x="528" y="6"/>
                    </a:lnTo>
                    <a:lnTo>
                      <a:pt x="538" y="6"/>
                    </a:lnTo>
                    <a:lnTo>
                      <a:pt x="547" y="6"/>
                    </a:lnTo>
                    <a:lnTo>
                      <a:pt x="556" y="6"/>
                    </a:lnTo>
                    <a:lnTo>
                      <a:pt x="566" y="6"/>
                    </a:lnTo>
                    <a:lnTo>
                      <a:pt x="575" y="6"/>
                    </a:lnTo>
                    <a:lnTo>
                      <a:pt x="584" y="6"/>
                    </a:lnTo>
                    <a:lnTo>
                      <a:pt x="593" y="6"/>
                    </a:lnTo>
                    <a:lnTo>
                      <a:pt x="603" y="5"/>
                    </a:lnTo>
                    <a:lnTo>
                      <a:pt x="612" y="5"/>
                    </a:lnTo>
                    <a:lnTo>
                      <a:pt x="621" y="5"/>
                    </a:lnTo>
                    <a:lnTo>
                      <a:pt x="631" y="5"/>
                    </a:lnTo>
                    <a:lnTo>
                      <a:pt x="640" y="5"/>
                    </a:lnTo>
                    <a:lnTo>
                      <a:pt x="649" y="5"/>
                    </a:lnTo>
                    <a:lnTo>
                      <a:pt x="658" y="5"/>
                    </a:lnTo>
                    <a:lnTo>
                      <a:pt x="668" y="5"/>
                    </a:lnTo>
                    <a:lnTo>
                      <a:pt x="677" y="5"/>
                    </a:lnTo>
                    <a:lnTo>
                      <a:pt x="686" y="5"/>
                    </a:lnTo>
                    <a:lnTo>
                      <a:pt x="696" y="5"/>
                    </a:lnTo>
                    <a:lnTo>
                      <a:pt x="705" y="5"/>
                    </a:lnTo>
                    <a:lnTo>
                      <a:pt x="714" y="5"/>
                    </a:lnTo>
                    <a:lnTo>
                      <a:pt x="723" y="5"/>
                    </a:lnTo>
                    <a:lnTo>
                      <a:pt x="733" y="5"/>
                    </a:lnTo>
                    <a:lnTo>
                      <a:pt x="742" y="5"/>
                    </a:lnTo>
                    <a:lnTo>
                      <a:pt x="751" y="5"/>
                    </a:lnTo>
                    <a:lnTo>
                      <a:pt x="760" y="4"/>
                    </a:lnTo>
                    <a:lnTo>
                      <a:pt x="770" y="4"/>
                    </a:lnTo>
                    <a:lnTo>
                      <a:pt x="779" y="4"/>
                    </a:lnTo>
                    <a:lnTo>
                      <a:pt x="788" y="4"/>
                    </a:lnTo>
                    <a:lnTo>
                      <a:pt x="798" y="4"/>
                    </a:lnTo>
                    <a:lnTo>
                      <a:pt x="807" y="4"/>
                    </a:lnTo>
                    <a:lnTo>
                      <a:pt x="816" y="4"/>
                    </a:lnTo>
                    <a:lnTo>
                      <a:pt x="825" y="4"/>
                    </a:lnTo>
                    <a:lnTo>
                      <a:pt x="835" y="4"/>
                    </a:lnTo>
                    <a:lnTo>
                      <a:pt x="844" y="4"/>
                    </a:lnTo>
                    <a:lnTo>
                      <a:pt x="853" y="4"/>
                    </a:lnTo>
                    <a:lnTo>
                      <a:pt x="863" y="4"/>
                    </a:lnTo>
                    <a:lnTo>
                      <a:pt x="872" y="4"/>
                    </a:lnTo>
                    <a:lnTo>
                      <a:pt x="881" y="4"/>
                    </a:lnTo>
                    <a:lnTo>
                      <a:pt x="890" y="3"/>
                    </a:lnTo>
                    <a:lnTo>
                      <a:pt x="900" y="3"/>
                    </a:lnTo>
                    <a:lnTo>
                      <a:pt x="909" y="3"/>
                    </a:lnTo>
                    <a:lnTo>
                      <a:pt x="918" y="3"/>
                    </a:lnTo>
                    <a:lnTo>
                      <a:pt x="928" y="3"/>
                    </a:lnTo>
                    <a:lnTo>
                      <a:pt x="937" y="3"/>
                    </a:lnTo>
                    <a:lnTo>
                      <a:pt x="946" y="3"/>
                    </a:lnTo>
                    <a:lnTo>
                      <a:pt x="955" y="3"/>
                    </a:lnTo>
                    <a:lnTo>
                      <a:pt x="965" y="3"/>
                    </a:lnTo>
                    <a:lnTo>
                      <a:pt x="974" y="3"/>
                    </a:lnTo>
                    <a:lnTo>
                      <a:pt x="983" y="3"/>
                    </a:lnTo>
                    <a:lnTo>
                      <a:pt x="992" y="3"/>
                    </a:lnTo>
                    <a:lnTo>
                      <a:pt x="1002" y="3"/>
                    </a:lnTo>
                    <a:lnTo>
                      <a:pt x="1011" y="3"/>
                    </a:lnTo>
                    <a:lnTo>
                      <a:pt x="1020" y="4"/>
                    </a:lnTo>
                    <a:lnTo>
                      <a:pt x="1030" y="4"/>
                    </a:lnTo>
                    <a:lnTo>
                      <a:pt x="1039" y="4"/>
                    </a:lnTo>
                    <a:lnTo>
                      <a:pt x="1048" y="4"/>
                    </a:lnTo>
                    <a:lnTo>
                      <a:pt x="1057" y="5"/>
                    </a:lnTo>
                    <a:lnTo>
                      <a:pt x="1067" y="5"/>
                    </a:lnTo>
                    <a:lnTo>
                      <a:pt x="1076" y="5"/>
                    </a:lnTo>
                    <a:lnTo>
                      <a:pt x="1085" y="6"/>
                    </a:lnTo>
                    <a:lnTo>
                      <a:pt x="1095" y="6"/>
                    </a:lnTo>
                    <a:lnTo>
                      <a:pt x="1104" y="6"/>
                    </a:lnTo>
                    <a:lnTo>
                      <a:pt x="1113" y="7"/>
                    </a:lnTo>
                    <a:lnTo>
                      <a:pt x="1122" y="8"/>
                    </a:lnTo>
                    <a:lnTo>
                      <a:pt x="1132" y="7"/>
                    </a:lnTo>
                    <a:lnTo>
                      <a:pt x="1141" y="7"/>
                    </a:lnTo>
                    <a:lnTo>
                      <a:pt x="1150" y="7"/>
                    </a:lnTo>
                    <a:lnTo>
                      <a:pt x="1160" y="7"/>
                    </a:lnTo>
                    <a:lnTo>
                      <a:pt x="1169" y="7"/>
                    </a:lnTo>
                    <a:lnTo>
                      <a:pt x="1178" y="6"/>
                    </a:lnTo>
                    <a:lnTo>
                      <a:pt x="1187" y="6"/>
                    </a:lnTo>
                    <a:lnTo>
                      <a:pt x="1197" y="6"/>
                    </a:lnTo>
                    <a:lnTo>
                      <a:pt x="1206" y="6"/>
                    </a:lnTo>
                    <a:lnTo>
                      <a:pt x="1215" y="5"/>
                    </a:lnTo>
                    <a:lnTo>
                      <a:pt x="1224" y="5"/>
                    </a:lnTo>
                    <a:lnTo>
                      <a:pt x="1234" y="5"/>
                    </a:lnTo>
                    <a:lnTo>
                      <a:pt x="1243" y="4"/>
                    </a:lnTo>
                    <a:lnTo>
                      <a:pt x="1252" y="4"/>
                    </a:lnTo>
                    <a:lnTo>
                      <a:pt x="1262" y="4"/>
                    </a:lnTo>
                    <a:lnTo>
                      <a:pt x="1271" y="4"/>
                    </a:lnTo>
                    <a:lnTo>
                      <a:pt x="1280" y="4"/>
                    </a:lnTo>
                    <a:lnTo>
                      <a:pt x="1289" y="3"/>
                    </a:lnTo>
                    <a:lnTo>
                      <a:pt x="1299" y="3"/>
                    </a:lnTo>
                    <a:lnTo>
                      <a:pt x="1308" y="3"/>
                    </a:lnTo>
                    <a:lnTo>
                      <a:pt x="1317" y="3"/>
                    </a:lnTo>
                    <a:lnTo>
                      <a:pt x="1327" y="3"/>
                    </a:lnTo>
                    <a:lnTo>
                      <a:pt x="1336" y="3"/>
                    </a:lnTo>
                    <a:lnTo>
                      <a:pt x="1345" y="2"/>
                    </a:lnTo>
                    <a:lnTo>
                      <a:pt x="1354" y="2"/>
                    </a:lnTo>
                    <a:lnTo>
                      <a:pt x="1364" y="2"/>
                    </a:lnTo>
                    <a:lnTo>
                      <a:pt x="1373" y="2"/>
                    </a:lnTo>
                    <a:lnTo>
                      <a:pt x="1382" y="2"/>
                    </a:lnTo>
                    <a:lnTo>
                      <a:pt x="1392" y="1"/>
                    </a:lnTo>
                    <a:lnTo>
                      <a:pt x="1401" y="1"/>
                    </a:lnTo>
                    <a:lnTo>
                      <a:pt x="1410" y="1"/>
                    </a:lnTo>
                    <a:lnTo>
                      <a:pt x="1419" y="1"/>
                    </a:lnTo>
                    <a:lnTo>
                      <a:pt x="1429" y="0"/>
                    </a:lnTo>
                    <a:lnTo>
                      <a:pt x="1438" y="0"/>
                    </a:lnTo>
                    <a:lnTo>
                      <a:pt x="1447" y="0"/>
                    </a:lnTo>
                    <a:lnTo>
                      <a:pt x="1447" y="18"/>
                    </a:lnTo>
                    <a:lnTo>
                      <a:pt x="1438" y="18"/>
                    </a:lnTo>
                    <a:lnTo>
                      <a:pt x="1429" y="18"/>
                    </a:lnTo>
                    <a:lnTo>
                      <a:pt x="1419" y="18"/>
                    </a:lnTo>
                    <a:lnTo>
                      <a:pt x="1410" y="18"/>
                    </a:lnTo>
                    <a:lnTo>
                      <a:pt x="1401" y="18"/>
                    </a:lnTo>
                    <a:lnTo>
                      <a:pt x="1392" y="18"/>
                    </a:lnTo>
                    <a:lnTo>
                      <a:pt x="1382" y="18"/>
                    </a:lnTo>
                    <a:lnTo>
                      <a:pt x="1373" y="18"/>
                    </a:lnTo>
                    <a:lnTo>
                      <a:pt x="1364" y="18"/>
                    </a:lnTo>
                    <a:lnTo>
                      <a:pt x="1354" y="18"/>
                    </a:lnTo>
                    <a:lnTo>
                      <a:pt x="1345" y="18"/>
                    </a:lnTo>
                    <a:lnTo>
                      <a:pt x="1336" y="18"/>
                    </a:lnTo>
                    <a:lnTo>
                      <a:pt x="1327" y="18"/>
                    </a:lnTo>
                    <a:lnTo>
                      <a:pt x="1317" y="18"/>
                    </a:lnTo>
                    <a:lnTo>
                      <a:pt x="1308" y="18"/>
                    </a:lnTo>
                    <a:lnTo>
                      <a:pt x="1299" y="18"/>
                    </a:lnTo>
                    <a:lnTo>
                      <a:pt x="1289" y="18"/>
                    </a:lnTo>
                    <a:lnTo>
                      <a:pt x="1280" y="18"/>
                    </a:lnTo>
                    <a:lnTo>
                      <a:pt x="1271" y="18"/>
                    </a:lnTo>
                    <a:lnTo>
                      <a:pt x="1262" y="18"/>
                    </a:lnTo>
                    <a:lnTo>
                      <a:pt x="1252" y="18"/>
                    </a:lnTo>
                    <a:lnTo>
                      <a:pt x="1243" y="18"/>
                    </a:lnTo>
                    <a:lnTo>
                      <a:pt x="1234" y="18"/>
                    </a:lnTo>
                    <a:lnTo>
                      <a:pt x="1224" y="18"/>
                    </a:lnTo>
                    <a:lnTo>
                      <a:pt x="1215" y="18"/>
                    </a:lnTo>
                    <a:lnTo>
                      <a:pt x="1206" y="18"/>
                    </a:lnTo>
                    <a:lnTo>
                      <a:pt x="1197" y="18"/>
                    </a:lnTo>
                    <a:lnTo>
                      <a:pt x="1187" y="18"/>
                    </a:lnTo>
                    <a:lnTo>
                      <a:pt x="1178" y="18"/>
                    </a:lnTo>
                    <a:lnTo>
                      <a:pt x="1169" y="18"/>
                    </a:lnTo>
                    <a:lnTo>
                      <a:pt x="1160" y="18"/>
                    </a:lnTo>
                    <a:lnTo>
                      <a:pt x="1150" y="18"/>
                    </a:lnTo>
                    <a:lnTo>
                      <a:pt x="1141" y="18"/>
                    </a:lnTo>
                    <a:lnTo>
                      <a:pt x="1132" y="18"/>
                    </a:lnTo>
                    <a:lnTo>
                      <a:pt x="1122" y="18"/>
                    </a:lnTo>
                    <a:lnTo>
                      <a:pt x="1113" y="18"/>
                    </a:lnTo>
                    <a:lnTo>
                      <a:pt x="1104" y="18"/>
                    </a:lnTo>
                    <a:lnTo>
                      <a:pt x="1095" y="18"/>
                    </a:lnTo>
                    <a:lnTo>
                      <a:pt x="1085" y="18"/>
                    </a:lnTo>
                    <a:lnTo>
                      <a:pt x="1076" y="18"/>
                    </a:lnTo>
                    <a:lnTo>
                      <a:pt x="1067" y="18"/>
                    </a:lnTo>
                    <a:lnTo>
                      <a:pt x="1057" y="18"/>
                    </a:lnTo>
                    <a:lnTo>
                      <a:pt x="1048" y="18"/>
                    </a:lnTo>
                    <a:lnTo>
                      <a:pt x="1039" y="18"/>
                    </a:lnTo>
                    <a:lnTo>
                      <a:pt x="1030" y="18"/>
                    </a:lnTo>
                    <a:lnTo>
                      <a:pt x="1020" y="18"/>
                    </a:lnTo>
                    <a:lnTo>
                      <a:pt x="1011" y="18"/>
                    </a:lnTo>
                    <a:lnTo>
                      <a:pt x="1002" y="18"/>
                    </a:lnTo>
                    <a:lnTo>
                      <a:pt x="992" y="18"/>
                    </a:lnTo>
                    <a:lnTo>
                      <a:pt x="983" y="18"/>
                    </a:lnTo>
                    <a:lnTo>
                      <a:pt x="974" y="18"/>
                    </a:lnTo>
                    <a:lnTo>
                      <a:pt x="965" y="18"/>
                    </a:lnTo>
                    <a:lnTo>
                      <a:pt x="955" y="18"/>
                    </a:lnTo>
                    <a:lnTo>
                      <a:pt x="946" y="18"/>
                    </a:lnTo>
                    <a:lnTo>
                      <a:pt x="937" y="18"/>
                    </a:lnTo>
                    <a:lnTo>
                      <a:pt x="928" y="18"/>
                    </a:lnTo>
                    <a:lnTo>
                      <a:pt x="918" y="18"/>
                    </a:lnTo>
                    <a:lnTo>
                      <a:pt x="909" y="18"/>
                    </a:lnTo>
                    <a:lnTo>
                      <a:pt x="900" y="18"/>
                    </a:lnTo>
                    <a:lnTo>
                      <a:pt x="890" y="18"/>
                    </a:lnTo>
                    <a:lnTo>
                      <a:pt x="881" y="18"/>
                    </a:lnTo>
                    <a:lnTo>
                      <a:pt x="872" y="18"/>
                    </a:lnTo>
                    <a:lnTo>
                      <a:pt x="863" y="18"/>
                    </a:lnTo>
                    <a:lnTo>
                      <a:pt x="853" y="18"/>
                    </a:lnTo>
                    <a:lnTo>
                      <a:pt x="844" y="18"/>
                    </a:lnTo>
                    <a:lnTo>
                      <a:pt x="835" y="18"/>
                    </a:lnTo>
                    <a:lnTo>
                      <a:pt x="825" y="18"/>
                    </a:lnTo>
                    <a:lnTo>
                      <a:pt x="816" y="18"/>
                    </a:lnTo>
                    <a:lnTo>
                      <a:pt x="807" y="18"/>
                    </a:lnTo>
                    <a:lnTo>
                      <a:pt x="798" y="18"/>
                    </a:lnTo>
                    <a:lnTo>
                      <a:pt x="788" y="18"/>
                    </a:lnTo>
                    <a:lnTo>
                      <a:pt x="779" y="18"/>
                    </a:lnTo>
                    <a:lnTo>
                      <a:pt x="770" y="18"/>
                    </a:lnTo>
                    <a:lnTo>
                      <a:pt x="760" y="18"/>
                    </a:lnTo>
                    <a:lnTo>
                      <a:pt x="751" y="18"/>
                    </a:lnTo>
                    <a:lnTo>
                      <a:pt x="742" y="18"/>
                    </a:lnTo>
                    <a:lnTo>
                      <a:pt x="733" y="18"/>
                    </a:lnTo>
                    <a:lnTo>
                      <a:pt x="723" y="18"/>
                    </a:lnTo>
                    <a:lnTo>
                      <a:pt x="714" y="18"/>
                    </a:lnTo>
                    <a:lnTo>
                      <a:pt x="705" y="18"/>
                    </a:lnTo>
                    <a:lnTo>
                      <a:pt x="696" y="18"/>
                    </a:lnTo>
                    <a:lnTo>
                      <a:pt x="686" y="18"/>
                    </a:lnTo>
                    <a:lnTo>
                      <a:pt x="677" y="18"/>
                    </a:lnTo>
                    <a:lnTo>
                      <a:pt x="668" y="18"/>
                    </a:lnTo>
                    <a:lnTo>
                      <a:pt x="658" y="18"/>
                    </a:lnTo>
                    <a:lnTo>
                      <a:pt x="649" y="18"/>
                    </a:lnTo>
                    <a:lnTo>
                      <a:pt x="640" y="18"/>
                    </a:lnTo>
                    <a:lnTo>
                      <a:pt x="631" y="18"/>
                    </a:lnTo>
                    <a:lnTo>
                      <a:pt x="621" y="18"/>
                    </a:lnTo>
                    <a:lnTo>
                      <a:pt x="612" y="18"/>
                    </a:lnTo>
                    <a:lnTo>
                      <a:pt x="603" y="18"/>
                    </a:lnTo>
                    <a:lnTo>
                      <a:pt x="593" y="18"/>
                    </a:lnTo>
                    <a:lnTo>
                      <a:pt x="584" y="18"/>
                    </a:lnTo>
                    <a:lnTo>
                      <a:pt x="575" y="18"/>
                    </a:lnTo>
                    <a:lnTo>
                      <a:pt x="566" y="18"/>
                    </a:lnTo>
                    <a:lnTo>
                      <a:pt x="556" y="18"/>
                    </a:lnTo>
                    <a:lnTo>
                      <a:pt x="547" y="18"/>
                    </a:lnTo>
                    <a:lnTo>
                      <a:pt x="538" y="18"/>
                    </a:lnTo>
                    <a:lnTo>
                      <a:pt x="528" y="18"/>
                    </a:lnTo>
                    <a:lnTo>
                      <a:pt x="519" y="18"/>
                    </a:lnTo>
                    <a:lnTo>
                      <a:pt x="510" y="18"/>
                    </a:lnTo>
                    <a:lnTo>
                      <a:pt x="501" y="18"/>
                    </a:lnTo>
                    <a:lnTo>
                      <a:pt x="491" y="18"/>
                    </a:lnTo>
                    <a:lnTo>
                      <a:pt x="482" y="18"/>
                    </a:lnTo>
                    <a:lnTo>
                      <a:pt x="473" y="18"/>
                    </a:lnTo>
                    <a:lnTo>
                      <a:pt x="464" y="18"/>
                    </a:lnTo>
                    <a:lnTo>
                      <a:pt x="454" y="18"/>
                    </a:lnTo>
                    <a:lnTo>
                      <a:pt x="445" y="18"/>
                    </a:lnTo>
                    <a:lnTo>
                      <a:pt x="436" y="18"/>
                    </a:lnTo>
                    <a:lnTo>
                      <a:pt x="426" y="18"/>
                    </a:lnTo>
                    <a:lnTo>
                      <a:pt x="417" y="18"/>
                    </a:lnTo>
                    <a:lnTo>
                      <a:pt x="408" y="18"/>
                    </a:lnTo>
                    <a:lnTo>
                      <a:pt x="399" y="18"/>
                    </a:lnTo>
                    <a:lnTo>
                      <a:pt x="389" y="18"/>
                    </a:lnTo>
                    <a:lnTo>
                      <a:pt x="380" y="18"/>
                    </a:lnTo>
                    <a:lnTo>
                      <a:pt x="371" y="18"/>
                    </a:lnTo>
                    <a:lnTo>
                      <a:pt x="361" y="18"/>
                    </a:lnTo>
                    <a:lnTo>
                      <a:pt x="352" y="18"/>
                    </a:lnTo>
                    <a:lnTo>
                      <a:pt x="343" y="18"/>
                    </a:lnTo>
                    <a:lnTo>
                      <a:pt x="334" y="18"/>
                    </a:lnTo>
                    <a:lnTo>
                      <a:pt x="324" y="18"/>
                    </a:lnTo>
                    <a:lnTo>
                      <a:pt x="315" y="18"/>
                    </a:lnTo>
                    <a:lnTo>
                      <a:pt x="306" y="18"/>
                    </a:lnTo>
                    <a:lnTo>
                      <a:pt x="296" y="18"/>
                    </a:lnTo>
                    <a:lnTo>
                      <a:pt x="287" y="18"/>
                    </a:lnTo>
                    <a:lnTo>
                      <a:pt x="278" y="18"/>
                    </a:lnTo>
                    <a:lnTo>
                      <a:pt x="269" y="18"/>
                    </a:lnTo>
                    <a:lnTo>
                      <a:pt x="259" y="18"/>
                    </a:lnTo>
                    <a:lnTo>
                      <a:pt x="250" y="18"/>
                    </a:lnTo>
                    <a:lnTo>
                      <a:pt x="241" y="18"/>
                    </a:lnTo>
                    <a:lnTo>
                      <a:pt x="232" y="18"/>
                    </a:lnTo>
                    <a:lnTo>
                      <a:pt x="222" y="18"/>
                    </a:lnTo>
                    <a:lnTo>
                      <a:pt x="213" y="18"/>
                    </a:lnTo>
                    <a:lnTo>
                      <a:pt x="204" y="18"/>
                    </a:lnTo>
                    <a:lnTo>
                      <a:pt x="194" y="18"/>
                    </a:lnTo>
                    <a:lnTo>
                      <a:pt x="185" y="18"/>
                    </a:lnTo>
                    <a:lnTo>
                      <a:pt x="176" y="18"/>
                    </a:lnTo>
                    <a:lnTo>
                      <a:pt x="167" y="18"/>
                    </a:lnTo>
                    <a:lnTo>
                      <a:pt x="157" y="18"/>
                    </a:lnTo>
                    <a:lnTo>
                      <a:pt x="148" y="18"/>
                    </a:lnTo>
                    <a:lnTo>
                      <a:pt x="139" y="18"/>
                    </a:lnTo>
                    <a:lnTo>
                      <a:pt x="129" y="18"/>
                    </a:lnTo>
                    <a:lnTo>
                      <a:pt x="120" y="18"/>
                    </a:lnTo>
                    <a:lnTo>
                      <a:pt x="111" y="18"/>
                    </a:lnTo>
                    <a:lnTo>
                      <a:pt x="102" y="18"/>
                    </a:lnTo>
                    <a:lnTo>
                      <a:pt x="92" y="18"/>
                    </a:lnTo>
                    <a:lnTo>
                      <a:pt x="83" y="18"/>
                    </a:lnTo>
                    <a:lnTo>
                      <a:pt x="74" y="18"/>
                    </a:lnTo>
                    <a:lnTo>
                      <a:pt x="64" y="18"/>
                    </a:lnTo>
                    <a:lnTo>
                      <a:pt x="55" y="18"/>
                    </a:lnTo>
                    <a:lnTo>
                      <a:pt x="46" y="18"/>
                    </a:lnTo>
                    <a:lnTo>
                      <a:pt x="37" y="18"/>
                    </a:lnTo>
                    <a:lnTo>
                      <a:pt x="27" y="18"/>
                    </a:lnTo>
                    <a:lnTo>
                      <a:pt x="18" y="18"/>
                    </a:lnTo>
                    <a:lnTo>
                      <a:pt x="9" y="18"/>
                    </a:lnTo>
                    <a:lnTo>
                      <a:pt x="0" y="18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4" name="Freeform 54"/>
              <p:cNvSpPr/>
              <p:nvPr/>
            </p:nvSpPr>
            <p:spPr>
              <a:xfrm>
                <a:off x="434160" y="6447600"/>
                <a:ext cx="2310120" cy="46080"/>
              </a:xfrm>
              <a:custGeom>
                <a:avLst/>
                <a:gdLst>
                  <a:gd name="textAreaLeft" fmla="*/ 0 w 2310120"/>
                  <a:gd name="textAreaRight" fmla="*/ 2310480 w 2310120"/>
                  <a:gd name="textAreaTop" fmla="*/ 0 h 46080"/>
                  <a:gd name="textAreaBottom" fmla="*/ 46440 h 46080"/>
                </a:gdLst>
                <a:ahLst/>
                <a:rect l="textAreaLeft" t="textAreaTop" r="textAreaRight" b="textAreaBottom"/>
                <a:pathLst>
                  <a:path w="1447" h="18">
                    <a:moveTo>
                      <a:pt x="0" y="8"/>
                    </a:moveTo>
                    <a:lnTo>
                      <a:pt x="9" y="8"/>
                    </a:lnTo>
                    <a:lnTo>
                      <a:pt x="18" y="8"/>
                    </a:lnTo>
                    <a:lnTo>
                      <a:pt x="27" y="8"/>
                    </a:lnTo>
                    <a:lnTo>
                      <a:pt x="37" y="8"/>
                    </a:lnTo>
                    <a:lnTo>
                      <a:pt x="46" y="8"/>
                    </a:lnTo>
                    <a:lnTo>
                      <a:pt x="55" y="8"/>
                    </a:lnTo>
                    <a:lnTo>
                      <a:pt x="64" y="8"/>
                    </a:lnTo>
                    <a:lnTo>
                      <a:pt x="74" y="8"/>
                    </a:lnTo>
                    <a:lnTo>
                      <a:pt x="83" y="8"/>
                    </a:lnTo>
                    <a:lnTo>
                      <a:pt x="92" y="8"/>
                    </a:lnTo>
                    <a:lnTo>
                      <a:pt x="102" y="7"/>
                    </a:lnTo>
                    <a:lnTo>
                      <a:pt x="111" y="7"/>
                    </a:lnTo>
                    <a:lnTo>
                      <a:pt x="120" y="7"/>
                    </a:lnTo>
                    <a:lnTo>
                      <a:pt x="129" y="7"/>
                    </a:lnTo>
                    <a:lnTo>
                      <a:pt x="139" y="7"/>
                    </a:lnTo>
                    <a:lnTo>
                      <a:pt x="148" y="7"/>
                    </a:lnTo>
                    <a:lnTo>
                      <a:pt x="157" y="7"/>
                    </a:lnTo>
                    <a:lnTo>
                      <a:pt x="167" y="7"/>
                    </a:lnTo>
                    <a:lnTo>
                      <a:pt x="176" y="7"/>
                    </a:lnTo>
                    <a:lnTo>
                      <a:pt x="185" y="7"/>
                    </a:lnTo>
                    <a:lnTo>
                      <a:pt x="194" y="7"/>
                    </a:lnTo>
                    <a:lnTo>
                      <a:pt x="204" y="7"/>
                    </a:lnTo>
                    <a:lnTo>
                      <a:pt x="213" y="7"/>
                    </a:lnTo>
                    <a:lnTo>
                      <a:pt x="222" y="7"/>
                    </a:lnTo>
                    <a:lnTo>
                      <a:pt x="232" y="7"/>
                    </a:lnTo>
                    <a:lnTo>
                      <a:pt x="241" y="7"/>
                    </a:lnTo>
                    <a:lnTo>
                      <a:pt x="250" y="7"/>
                    </a:lnTo>
                    <a:lnTo>
                      <a:pt x="259" y="7"/>
                    </a:lnTo>
                    <a:lnTo>
                      <a:pt x="269" y="7"/>
                    </a:lnTo>
                    <a:lnTo>
                      <a:pt x="278" y="7"/>
                    </a:lnTo>
                    <a:lnTo>
                      <a:pt x="287" y="7"/>
                    </a:lnTo>
                    <a:lnTo>
                      <a:pt x="296" y="7"/>
                    </a:lnTo>
                    <a:lnTo>
                      <a:pt x="306" y="7"/>
                    </a:lnTo>
                    <a:lnTo>
                      <a:pt x="315" y="7"/>
                    </a:lnTo>
                    <a:lnTo>
                      <a:pt x="324" y="7"/>
                    </a:lnTo>
                    <a:lnTo>
                      <a:pt x="334" y="7"/>
                    </a:lnTo>
                    <a:lnTo>
                      <a:pt x="343" y="7"/>
                    </a:lnTo>
                    <a:lnTo>
                      <a:pt x="352" y="6"/>
                    </a:lnTo>
                    <a:lnTo>
                      <a:pt x="361" y="6"/>
                    </a:lnTo>
                    <a:lnTo>
                      <a:pt x="371" y="6"/>
                    </a:lnTo>
                    <a:lnTo>
                      <a:pt x="380" y="6"/>
                    </a:lnTo>
                    <a:lnTo>
                      <a:pt x="389" y="6"/>
                    </a:lnTo>
                    <a:lnTo>
                      <a:pt x="399" y="6"/>
                    </a:lnTo>
                    <a:lnTo>
                      <a:pt x="408" y="6"/>
                    </a:lnTo>
                    <a:lnTo>
                      <a:pt x="417" y="6"/>
                    </a:lnTo>
                    <a:lnTo>
                      <a:pt x="426" y="6"/>
                    </a:lnTo>
                    <a:lnTo>
                      <a:pt x="436" y="6"/>
                    </a:lnTo>
                    <a:lnTo>
                      <a:pt x="445" y="6"/>
                    </a:lnTo>
                    <a:lnTo>
                      <a:pt x="454" y="6"/>
                    </a:lnTo>
                    <a:lnTo>
                      <a:pt x="464" y="6"/>
                    </a:lnTo>
                    <a:lnTo>
                      <a:pt x="473" y="6"/>
                    </a:lnTo>
                    <a:lnTo>
                      <a:pt x="482" y="6"/>
                    </a:lnTo>
                    <a:lnTo>
                      <a:pt x="491" y="6"/>
                    </a:lnTo>
                    <a:lnTo>
                      <a:pt x="501" y="6"/>
                    </a:lnTo>
                    <a:lnTo>
                      <a:pt x="510" y="6"/>
                    </a:lnTo>
                    <a:lnTo>
                      <a:pt x="519" y="6"/>
                    </a:lnTo>
                    <a:lnTo>
                      <a:pt x="528" y="6"/>
                    </a:lnTo>
                    <a:lnTo>
                      <a:pt x="538" y="6"/>
                    </a:lnTo>
                    <a:lnTo>
                      <a:pt x="547" y="6"/>
                    </a:lnTo>
                    <a:lnTo>
                      <a:pt x="556" y="6"/>
                    </a:lnTo>
                    <a:lnTo>
                      <a:pt x="566" y="6"/>
                    </a:lnTo>
                    <a:lnTo>
                      <a:pt x="575" y="6"/>
                    </a:lnTo>
                    <a:lnTo>
                      <a:pt x="584" y="6"/>
                    </a:lnTo>
                    <a:lnTo>
                      <a:pt x="593" y="6"/>
                    </a:lnTo>
                    <a:lnTo>
                      <a:pt x="603" y="5"/>
                    </a:lnTo>
                    <a:lnTo>
                      <a:pt x="612" y="5"/>
                    </a:lnTo>
                    <a:lnTo>
                      <a:pt x="621" y="5"/>
                    </a:lnTo>
                    <a:lnTo>
                      <a:pt x="631" y="5"/>
                    </a:lnTo>
                    <a:lnTo>
                      <a:pt x="640" y="5"/>
                    </a:lnTo>
                    <a:lnTo>
                      <a:pt x="649" y="5"/>
                    </a:lnTo>
                    <a:lnTo>
                      <a:pt x="658" y="5"/>
                    </a:lnTo>
                    <a:lnTo>
                      <a:pt x="668" y="5"/>
                    </a:lnTo>
                    <a:lnTo>
                      <a:pt x="677" y="5"/>
                    </a:lnTo>
                    <a:lnTo>
                      <a:pt x="686" y="5"/>
                    </a:lnTo>
                    <a:lnTo>
                      <a:pt x="696" y="5"/>
                    </a:lnTo>
                    <a:lnTo>
                      <a:pt x="705" y="5"/>
                    </a:lnTo>
                    <a:lnTo>
                      <a:pt x="714" y="5"/>
                    </a:lnTo>
                    <a:lnTo>
                      <a:pt x="723" y="5"/>
                    </a:lnTo>
                    <a:lnTo>
                      <a:pt x="733" y="5"/>
                    </a:lnTo>
                    <a:lnTo>
                      <a:pt x="742" y="5"/>
                    </a:lnTo>
                    <a:lnTo>
                      <a:pt x="751" y="5"/>
                    </a:lnTo>
                    <a:lnTo>
                      <a:pt x="760" y="4"/>
                    </a:lnTo>
                    <a:lnTo>
                      <a:pt x="770" y="4"/>
                    </a:lnTo>
                    <a:lnTo>
                      <a:pt x="779" y="4"/>
                    </a:lnTo>
                    <a:lnTo>
                      <a:pt x="788" y="4"/>
                    </a:lnTo>
                    <a:lnTo>
                      <a:pt x="798" y="4"/>
                    </a:lnTo>
                    <a:lnTo>
                      <a:pt x="807" y="4"/>
                    </a:lnTo>
                    <a:lnTo>
                      <a:pt x="816" y="4"/>
                    </a:lnTo>
                    <a:lnTo>
                      <a:pt x="825" y="4"/>
                    </a:lnTo>
                    <a:lnTo>
                      <a:pt x="835" y="4"/>
                    </a:lnTo>
                    <a:lnTo>
                      <a:pt x="844" y="4"/>
                    </a:lnTo>
                    <a:lnTo>
                      <a:pt x="853" y="4"/>
                    </a:lnTo>
                    <a:lnTo>
                      <a:pt x="863" y="4"/>
                    </a:lnTo>
                    <a:lnTo>
                      <a:pt x="872" y="4"/>
                    </a:lnTo>
                    <a:lnTo>
                      <a:pt x="881" y="4"/>
                    </a:lnTo>
                    <a:lnTo>
                      <a:pt x="890" y="3"/>
                    </a:lnTo>
                    <a:lnTo>
                      <a:pt x="900" y="3"/>
                    </a:lnTo>
                    <a:lnTo>
                      <a:pt x="909" y="3"/>
                    </a:lnTo>
                    <a:lnTo>
                      <a:pt x="918" y="3"/>
                    </a:lnTo>
                    <a:lnTo>
                      <a:pt x="928" y="3"/>
                    </a:lnTo>
                    <a:lnTo>
                      <a:pt x="937" y="3"/>
                    </a:lnTo>
                    <a:lnTo>
                      <a:pt x="946" y="3"/>
                    </a:lnTo>
                    <a:lnTo>
                      <a:pt x="955" y="3"/>
                    </a:lnTo>
                    <a:lnTo>
                      <a:pt x="965" y="3"/>
                    </a:lnTo>
                    <a:lnTo>
                      <a:pt x="974" y="3"/>
                    </a:lnTo>
                    <a:lnTo>
                      <a:pt x="983" y="3"/>
                    </a:lnTo>
                    <a:lnTo>
                      <a:pt x="992" y="3"/>
                    </a:lnTo>
                    <a:lnTo>
                      <a:pt x="1002" y="3"/>
                    </a:lnTo>
                    <a:lnTo>
                      <a:pt x="1011" y="3"/>
                    </a:lnTo>
                    <a:lnTo>
                      <a:pt x="1020" y="4"/>
                    </a:lnTo>
                    <a:lnTo>
                      <a:pt x="1030" y="4"/>
                    </a:lnTo>
                    <a:lnTo>
                      <a:pt x="1039" y="4"/>
                    </a:lnTo>
                    <a:lnTo>
                      <a:pt x="1048" y="4"/>
                    </a:lnTo>
                    <a:lnTo>
                      <a:pt x="1057" y="5"/>
                    </a:lnTo>
                    <a:lnTo>
                      <a:pt x="1067" y="5"/>
                    </a:lnTo>
                    <a:lnTo>
                      <a:pt x="1076" y="5"/>
                    </a:lnTo>
                    <a:lnTo>
                      <a:pt x="1085" y="6"/>
                    </a:lnTo>
                    <a:lnTo>
                      <a:pt x="1095" y="6"/>
                    </a:lnTo>
                    <a:lnTo>
                      <a:pt x="1104" y="6"/>
                    </a:lnTo>
                    <a:lnTo>
                      <a:pt x="1113" y="7"/>
                    </a:lnTo>
                    <a:lnTo>
                      <a:pt x="1122" y="8"/>
                    </a:lnTo>
                    <a:lnTo>
                      <a:pt x="1132" y="7"/>
                    </a:lnTo>
                    <a:lnTo>
                      <a:pt x="1141" y="7"/>
                    </a:lnTo>
                    <a:lnTo>
                      <a:pt x="1150" y="7"/>
                    </a:lnTo>
                    <a:lnTo>
                      <a:pt x="1160" y="7"/>
                    </a:lnTo>
                    <a:lnTo>
                      <a:pt x="1169" y="7"/>
                    </a:lnTo>
                    <a:lnTo>
                      <a:pt x="1178" y="6"/>
                    </a:lnTo>
                    <a:lnTo>
                      <a:pt x="1187" y="6"/>
                    </a:lnTo>
                    <a:lnTo>
                      <a:pt x="1197" y="6"/>
                    </a:lnTo>
                    <a:lnTo>
                      <a:pt x="1206" y="6"/>
                    </a:lnTo>
                    <a:lnTo>
                      <a:pt x="1215" y="5"/>
                    </a:lnTo>
                    <a:lnTo>
                      <a:pt x="1224" y="5"/>
                    </a:lnTo>
                    <a:lnTo>
                      <a:pt x="1234" y="5"/>
                    </a:lnTo>
                    <a:lnTo>
                      <a:pt x="1243" y="4"/>
                    </a:lnTo>
                    <a:lnTo>
                      <a:pt x="1252" y="4"/>
                    </a:lnTo>
                    <a:lnTo>
                      <a:pt x="1262" y="4"/>
                    </a:lnTo>
                    <a:lnTo>
                      <a:pt x="1271" y="4"/>
                    </a:lnTo>
                    <a:lnTo>
                      <a:pt x="1280" y="4"/>
                    </a:lnTo>
                    <a:lnTo>
                      <a:pt x="1289" y="3"/>
                    </a:lnTo>
                    <a:lnTo>
                      <a:pt x="1299" y="3"/>
                    </a:lnTo>
                    <a:lnTo>
                      <a:pt x="1308" y="3"/>
                    </a:lnTo>
                    <a:lnTo>
                      <a:pt x="1317" y="3"/>
                    </a:lnTo>
                    <a:lnTo>
                      <a:pt x="1327" y="3"/>
                    </a:lnTo>
                    <a:lnTo>
                      <a:pt x="1336" y="3"/>
                    </a:lnTo>
                    <a:lnTo>
                      <a:pt x="1345" y="2"/>
                    </a:lnTo>
                    <a:lnTo>
                      <a:pt x="1354" y="2"/>
                    </a:lnTo>
                    <a:lnTo>
                      <a:pt x="1364" y="2"/>
                    </a:lnTo>
                    <a:lnTo>
                      <a:pt x="1373" y="2"/>
                    </a:lnTo>
                    <a:lnTo>
                      <a:pt x="1382" y="2"/>
                    </a:lnTo>
                    <a:lnTo>
                      <a:pt x="1392" y="1"/>
                    </a:lnTo>
                    <a:lnTo>
                      <a:pt x="1401" y="1"/>
                    </a:lnTo>
                    <a:lnTo>
                      <a:pt x="1410" y="1"/>
                    </a:lnTo>
                    <a:lnTo>
                      <a:pt x="1419" y="1"/>
                    </a:lnTo>
                    <a:lnTo>
                      <a:pt x="1429" y="0"/>
                    </a:lnTo>
                    <a:lnTo>
                      <a:pt x="1438" y="0"/>
                    </a:lnTo>
                    <a:lnTo>
                      <a:pt x="1447" y="0"/>
                    </a:lnTo>
                    <a:lnTo>
                      <a:pt x="1447" y="18"/>
                    </a:lnTo>
                    <a:lnTo>
                      <a:pt x="1438" y="18"/>
                    </a:lnTo>
                    <a:lnTo>
                      <a:pt x="1429" y="18"/>
                    </a:lnTo>
                    <a:lnTo>
                      <a:pt x="1419" y="18"/>
                    </a:lnTo>
                    <a:lnTo>
                      <a:pt x="1410" y="18"/>
                    </a:lnTo>
                    <a:lnTo>
                      <a:pt x="1401" y="18"/>
                    </a:lnTo>
                    <a:lnTo>
                      <a:pt x="1392" y="18"/>
                    </a:lnTo>
                    <a:lnTo>
                      <a:pt x="1382" y="18"/>
                    </a:lnTo>
                    <a:lnTo>
                      <a:pt x="1373" y="18"/>
                    </a:lnTo>
                    <a:lnTo>
                      <a:pt x="1364" y="18"/>
                    </a:lnTo>
                    <a:lnTo>
                      <a:pt x="1354" y="18"/>
                    </a:lnTo>
                    <a:lnTo>
                      <a:pt x="1345" y="18"/>
                    </a:lnTo>
                    <a:lnTo>
                      <a:pt x="1336" y="18"/>
                    </a:lnTo>
                    <a:lnTo>
                      <a:pt x="1327" y="18"/>
                    </a:lnTo>
                    <a:lnTo>
                      <a:pt x="1317" y="18"/>
                    </a:lnTo>
                    <a:lnTo>
                      <a:pt x="1308" y="18"/>
                    </a:lnTo>
                    <a:lnTo>
                      <a:pt x="1299" y="18"/>
                    </a:lnTo>
                    <a:lnTo>
                      <a:pt x="1289" y="18"/>
                    </a:lnTo>
                    <a:lnTo>
                      <a:pt x="1280" y="18"/>
                    </a:lnTo>
                    <a:lnTo>
                      <a:pt x="1271" y="18"/>
                    </a:lnTo>
                    <a:lnTo>
                      <a:pt x="1262" y="18"/>
                    </a:lnTo>
                    <a:lnTo>
                      <a:pt x="1252" y="18"/>
                    </a:lnTo>
                    <a:lnTo>
                      <a:pt x="1243" y="18"/>
                    </a:lnTo>
                    <a:lnTo>
                      <a:pt x="1234" y="18"/>
                    </a:lnTo>
                    <a:lnTo>
                      <a:pt x="1224" y="18"/>
                    </a:lnTo>
                    <a:lnTo>
                      <a:pt x="1215" y="18"/>
                    </a:lnTo>
                    <a:lnTo>
                      <a:pt x="1206" y="18"/>
                    </a:lnTo>
                    <a:lnTo>
                      <a:pt x="1197" y="18"/>
                    </a:lnTo>
                    <a:lnTo>
                      <a:pt x="1187" y="18"/>
                    </a:lnTo>
                    <a:lnTo>
                      <a:pt x="1178" y="18"/>
                    </a:lnTo>
                    <a:lnTo>
                      <a:pt x="1169" y="18"/>
                    </a:lnTo>
                    <a:lnTo>
                      <a:pt x="1160" y="18"/>
                    </a:lnTo>
                    <a:lnTo>
                      <a:pt x="1150" y="18"/>
                    </a:lnTo>
                    <a:lnTo>
                      <a:pt x="1141" y="18"/>
                    </a:lnTo>
                    <a:lnTo>
                      <a:pt x="1132" y="18"/>
                    </a:lnTo>
                    <a:lnTo>
                      <a:pt x="1122" y="18"/>
                    </a:lnTo>
                    <a:lnTo>
                      <a:pt x="1113" y="18"/>
                    </a:lnTo>
                    <a:lnTo>
                      <a:pt x="1104" y="18"/>
                    </a:lnTo>
                    <a:lnTo>
                      <a:pt x="1095" y="18"/>
                    </a:lnTo>
                    <a:lnTo>
                      <a:pt x="1085" y="18"/>
                    </a:lnTo>
                    <a:lnTo>
                      <a:pt x="1076" y="18"/>
                    </a:lnTo>
                    <a:lnTo>
                      <a:pt x="1067" y="18"/>
                    </a:lnTo>
                    <a:lnTo>
                      <a:pt x="1057" y="18"/>
                    </a:lnTo>
                    <a:lnTo>
                      <a:pt x="1048" y="18"/>
                    </a:lnTo>
                    <a:lnTo>
                      <a:pt x="1039" y="18"/>
                    </a:lnTo>
                    <a:lnTo>
                      <a:pt x="1030" y="18"/>
                    </a:lnTo>
                    <a:lnTo>
                      <a:pt x="1020" y="18"/>
                    </a:lnTo>
                    <a:lnTo>
                      <a:pt x="1011" y="18"/>
                    </a:lnTo>
                    <a:lnTo>
                      <a:pt x="1002" y="18"/>
                    </a:lnTo>
                    <a:lnTo>
                      <a:pt x="992" y="18"/>
                    </a:lnTo>
                    <a:lnTo>
                      <a:pt x="983" y="18"/>
                    </a:lnTo>
                    <a:lnTo>
                      <a:pt x="974" y="18"/>
                    </a:lnTo>
                    <a:lnTo>
                      <a:pt x="965" y="18"/>
                    </a:lnTo>
                    <a:lnTo>
                      <a:pt x="955" y="18"/>
                    </a:lnTo>
                    <a:lnTo>
                      <a:pt x="946" y="18"/>
                    </a:lnTo>
                    <a:lnTo>
                      <a:pt x="937" y="18"/>
                    </a:lnTo>
                    <a:lnTo>
                      <a:pt x="928" y="18"/>
                    </a:lnTo>
                    <a:lnTo>
                      <a:pt x="918" y="18"/>
                    </a:lnTo>
                    <a:lnTo>
                      <a:pt x="909" y="18"/>
                    </a:lnTo>
                    <a:lnTo>
                      <a:pt x="900" y="18"/>
                    </a:lnTo>
                    <a:lnTo>
                      <a:pt x="890" y="18"/>
                    </a:lnTo>
                    <a:lnTo>
                      <a:pt x="881" y="18"/>
                    </a:lnTo>
                    <a:lnTo>
                      <a:pt x="872" y="18"/>
                    </a:lnTo>
                    <a:lnTo>
                      <a:pt x="863" y="18"/>
                    </a:lnTo>
                    <a:lnTo>
                      <a:pt x="853" y="18"/>
                    </a:lnTo>
                    <a:lnTo>
                      <a:pt x="844" y="18"/>
                    </a:lnTo>
                    <a:lnTo>
                      <a:pt x="835" y="18"/>
                    </a:lnTo>
                    <a:lnTo>
                      <a:pt x="825" y="18"/>
                    </a:lnTo>
                    <a:lnTo>
                      <a:pt x="816" y="18"/>
                    </a:lnTo>
                    <a:lnTo>
                      <a:pt x="807" y="18"/>
                    </a:lnTo>
                    <a:lnTo>
                      <a:pt x="798" y="18"/>
                    </a:lnTo>
                    <a:lnTo>
                      <a:pt x="788" y="18"/>
                    </a:lnTo>
                    <a:lnTo>
                      <a:pt x="779" y="18"/>
                    </a:lnTo>
                    <a:lnTo>
                      <a:pt x="770" y="18"/>
                    </a:lnTo>
                    <a:lnTo>
                      <a:pt x="760" y="18"/>
                    </a:lnTo>
                    <a:lnTo>
                      <a:pt x="751" y="18"/>
                    </a:lnTo>
                    <a:lnTo>
                      <a:pt x="742" y="18"/>
                    </a:lnTo>
                    <a:lnTo>
                      <a:pt x="733" y="18"/>
                    </a:lnTo>
                    <a:lnTo>
                      <a:pt x="723" y="18"/>
                    </a:lnTo>
                    <a:lnTo>
                      <a:pt x="714" y="18"/>
                    </a:lnTo>
                    <a:lnTo>
                      <a:pt x="705" y="18"/>
                    </a:lnTo>
                    <a:lnTo>
                      <a:pt x="696" y="18"/>
                    </a:lnTo>
                    <a:lnTo>
                      <a:pt x="686" y="18"/>
                    </a:lnTo>
                    <a:lnTo>
                      <a:pt x="677" y="18"/>
                    </a:lnTo>
                    <a:lnTo>
                      <a:pt x="668" y="18"/>
                    </a:lnTo>
                    <a:lnTo>
                      <a:pt x="658" y="18"/>
                    </a:lnTo>
                    <a:lnTo>
                      <a:pt x="649" y="18"/>
                    </a:lnTo>
                    <a:lnTo>
                      <a:pt x="640" y="18"/>
                    </a:lnTo>
                    <a:lnTo>
                      <a:pt x="631" y="18"/>
                    </a:lnTo>
                    <a:lnTo>
                      <a:pt x="621" y="18"/>
                    </a:lnTo>
                    <a:lnTo>
                      <a:pt x="612" y="18"/>
                    </a:lnTo>
                    <a:lnTo>
                      <a:pt x="603" y="18"/>
                    </a:lnTo>
                    <a:lnTo>
                      <a:pt x="593" y="18"/>
                    </a:lnTo>
                    <a:lnTo>
                      <a:pt x="584" y="18"/>
                    </a:lnTo>
                    <a:lnTo>
                      <a:pt x="575" y="18"/>
                    </a:lnTo>
                    <a:lnTo>
                      <a:pt x="566" y="18"/>
                    </a:lnTo>
                    <a:lnTo>
                      <a:pt x="556" y="18"/>
                    </a:lnTo>
                    <a:lnTo>
                      <a:pt x="547" y="18"/>
                    </a:lnTo>
                    <a:lnTo>
                      <a:pt x="538" y="18"/>
                    </a:lnTo>
                    <a:lnTo>
                      <a:pt x="528" y="18"/>
                    </a:lnTo>
                    <a:lnTo>
                      <a:pt x="519" y="18"/>
                    </a:lnTo>
                    <a:lnTo>
                      <a:pt x="510" y="18"/>
                    </a:lnTo>
                    <a:lnTo>
                      <a:pt x="501" y="18"/>
                    </a:lnTo>
                    <a:lnTo>
                      <a:pt x="491" y="18"/>
                    </a:lnTo>
                    <a:lnTo>
                      <a:pt x="482" y="18"/>
                    </a:lnTo>
                    <a:lnTo>
                      <a:pt x="473" y="18"/>
                    </a:lnTo>
                    <a:lnTo>
                      <a:pt x="464" y="18"/>
                    </a:lnTo>
                    <a:lnTo>
                      <a:pt x="454" y="18"/>
                    </a:lnTo>
                    <a:lnTo>
                      <a:pt x="445" y="18"/>
                    </a:lnTo>
                    <a:lnTo>
                      <a:pt x="436" y="18"/>
                    </a:lnTo>
                    <a:lnTo>
                      <a:pt x="426" y="18"/>
                    </a:lnTo>
                    <a:lnTo>
                      <a:pt x="417" y="18"/>
                    </a:lnTo>
                    <a:lnTo>
                      <a:pt x="408" y="18"/>
                    </a:lnTo>
                    <a:lnTo>
                      <a:pt x="399" y="18"/>
                    </a:lnTo>
                    <a:lnTo>
                      <a:pt x="389" y="18"/>
                    </a:lnTo>
                    <a:lnTo>
                      <a:pt x="380" y="18"/>
                    </a:lnTo>
                    <a:lnTo>
                      <a:pt x="371" y="18"/>
                    </a:lnTo>
                    <a:lnTo>
                      <a:pt x="361" y="18"/>
                    </a:lnTo>
                    <a:lnTo>
                      <a:pt x="352" y="18"/>
                    </a:lnTo>
                    <a:lnTo>
                      <a:pt x="343" y="18"/>
                    </a:lnTo>
                    <a:lnTo>
                      <a:pt x="334" y="18"/>
                    </a:lnTo>
                    <a:lnTo>
                      <a:pt x="324" y="18"/>
                    </a:lnTo>
                    <a:lnTo>
                      <a:pt x="315" y="18"/>
                    </a:lnTo>
                    <a:lnTo>
                      <a:pt x="306" y="18"/>
                    </a:lnTo>
                    <a:lnTo>
                      <a:pt x="296" y="18"/>
                    </a:lnTo>
                    <a:lnTo>
                      <a:pt x="287" y="18"/>
                    </a:lnTo>
                    <a:lnTo>
                      <a:pt x="278" y="18"/>
                    </a:lnTo>
                    <a:lnTo>
                      <a:pt x="269" y="18"/>
                    </a:lnTo>
                    <a:lnTo>
                      <a:pt x="259" y="18"/>
                    </a:lnTo>
                    <a:lnTo>
                      <a:pt x="250" y="18"/>
                    </a:lnTo>
                    <a:lnTo>
                      <a:pt x="241" y="18"/>
                    </a:lnTo>
                    <a:lnTo>
                      <a:pt x="232" y="18"/>
                    </a:lnTo>
                    <a:lnTo>
                      <a:pt x="222" y="18"/>
                    </a:lnTo>
                    <a:lnTo>
                      <a:pt x="213" y="18"/>
                    </a:lnTo>
                    <a:lnTo>
                      <a:pt x="204" y="18"/>
                    </a:lnTo>
                    <a:lnTo>
                      <a:pt x="194" y="18"/>
                    </a:lnTo>
                    <a:lnTo>
                      <a:pt x="185" y="18"/>
                    </a:lnTo>
                    <a:lnTo>
                      <a:pt x="176" y="18"/>
                    </a:lnTo>
                    <a:lnTo>
                      <a:pt x="167" y="18"/>
                    </a:lnTo>
                    <a:lnTo>
                      <a:pt x="157" y="18"/>
                    </a:lnTo>
                    <a:lnTo>
                      <a:pt x="148" y="18"/>
                    </a:lnTo>
                    <a:lnTo>
                      <a:pt x="139" y="18"/>
                    </a:lnTo>
                    <a:lnTo>
                      <a:pt x="129" y="18"/>
                    </a:lnTo>
                    <a:lnTo>
                      <a:pt x="120" y="18"/>
                    </a:lnTo>
                    <a:lnTo>
                      <a:pt x="111" y="18"/>
                    </a:lnTo>
                    <a:lnTo>
                      <a:pt x="102" y="18"/>
                    </a:lnTo>
                    <a:lnTo>
                      <a:pt x="92" y="18"/>
                    </a:lnTo>
                    <a:lnTo>
                      <a:pt x="83" y="18"/>
                    </a:lnTo>
                    <a:lnTo>
                      <a:pt x="74" y="18"/>
                    </a:lnTo>
                    <a:lnTo>
                      <a:pt x="64" y="18"/>
                    </a:lnTo>
                    <a:lnTo>
                      <a:pt x="55" y="18"/>
                    </a:lnTo>
                    <a:lnTo>
                      <a:pt x="46" y="18"/>
                    </a:lnTo>
                    <a:lnTo>
                      <a:pt x="37" y="18"/>
                    </a:lnTo>
                    <a:lnTo>
                      <a:pt x="27" y="18"/>
                    </a:lnTo>
                    <a:lnTo>
                      <a:pt x="18" y="18"/>
                    </a:lnTo>
                    <a:lnTo>
                      <a:pt x="9" y="18"/>
                    </a:lnTo>
                    <a:lnTo>
                      <a:pt x="0" y="18"/>
                    </a:lnTo>
                    <a:lnTo>
                      <a:pt x="0" y="8"/>
                    </a:lnTo>
                    <a:close/>
                  </a:path>
                </a:pathLst>
              </a:custGeom>
              <a:noFill/>
              <a:ln w="3175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5" name="Freeform 55"/>
              <p:cNvSpPr/>
              <p:nvPr/>
            </p:nvSpPr>
            <p:spPr>
              <a:xfrm>
                <a:off x="485280" y="4223520"/>
                <a:ext cx="1059840" cy="1134720"/>
              </a:xfrm>
              <a:custGeom>
                <a:avLst/>
                <a:gdLst>
                  <a:gd name="textAreaLeft" fmla="*/ 0 w 1059840"/>
                  <a:gd name="textAreaRight" fmla="*/ 1060200 w 1059840"/>
                  <a:gd name="textAreaTop" fmla="*/ 0 h 1134720"/>
                  <a:gd name="textAreaBottom" fmla="*/ 1135080 h 1134720"/>
                </a:gdLst>
                <a:ahLst/>
                <a:rect l="textAreaLeft" t="textAreaTop" r="textAreaRight" b="textAreaBottom"/>
                <a:pathLst>
                  <a:path w="664" h="464">
                    <a:moveTo>
                      <a:pt x="0" y="4"/>
                    </a:moveTo>
                    <a:lnTo>
                      <a:pt x="0" y="460"/>
                    </a:lnTo>
                    <a:cubicBezTo>
                      <a:pt x="0" y="462"/>
                      <a:pt x="1" y="464"/>
                      <a:pt x="4" y="464"/>
                    </a:cubicBezTo>
                    <a:lnTo>
                      <a:pt x="660" y="464"/>
                    </a:lnTo>
                    <a:cubicBezTo>
                      <a:pt x="662" y="464"/>
                      <a:pt x="664" y="462"/>
                      <a:pt x="664" y="460"/>
                    </a:cubicBezTo>
                    <a:lnTo>
                      <a:pt x="664" y="4"/>
                    </a:lnTo>
                    <a:cubicBezTo>
                      <a:pt x="664" y="1"/>
                      <a:pt x="662" y="0"/>
                      <a:pt x="660" y="0"/>
                    </a:cubicBezTo>
                    <a:lnTo>
                      <a:pt x="4" y="0"/>
                    </a:lnTo>
                    <a:cubicBezTo>
                      <a:pt x="1" y="0"/>
                      <a:pt x="0" y="1"/>
                      <a:pt x="0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6" name="Freeform 56"/>
              <p:cNvSpPr/>
              <p:nvPr/>
            </p:nvSpPr>
            <p:spPr>
              <a:xfrm>
                <a:off x="485280" y="4223520"/>
                <a:ext cx="1059840" cy="1134720"/>
              </a:xfrm>
              <a:custGeom>
                <a:avLst/>
                <a:gdLst>
                  <a:gd name="textAreaLeft" fmla="*/ 0 w 1059840"/>
                  <a:gd name="textAreaRight" fmla="*/ 1060200 w 1059840"/>
                  <a:gd name="textAreaTop" fmla="*/ 0 h 1134720"/>
                  <a:gd name="textAreaBottom" fmla="*/ 1135080 h 1134720"/>
                </a:gdLst>
                <a:ahLst/>
                <a:rect l="textAreaLeft" t="textAreaTop" r="textAreaRight" b="textAreaBottom"/>
                <a:pathLst>
                  <a:path w="664" h="464">
                    <a:moveTo>
                      <a:pt x="0" y="4"/>
                    </a:moveTo>
                    <a:lnTo>
                      <a:pt x="0" y="460"/>
                    </a:lnTo>
                    <a:cubicBezTo>
                      <a:pt x="0" y="462"/>
                      <a:pt x="1" y="464"/>
                      <a:pt x="4" y="464"/>
                    </a:cubicBezTo>
                    <a:lnTo>
                      <a:pt x="660" y="464"/>
                    </a:lnTo>
                    <a:cubicBezTo>
                      <a:pt x="662" y="464"/>
                      <a:pt x="664" y="462"/>
                      <a:pt x="664" y="460"/>
                    </a:cubicBezTo>
                    <a:lnTo>
                      <a:pt x="664" y="4"/>
                    </a:lnTo>
                    <a:cubicBezTo>
                      <a:pt x="664" y="1"/>
                      <a:pt x="662" y="0"/>
                      <a:pt x="660" y="0"/>
                    </a:cubicBezTo>
                    <a:lnTo>
                      <a:pt x="4" y="0"/>
                    </a:lnTo>
                    <a:cubicBezTo>
                      <a:pt x="1" y="0"/>
                      <a:pt x="0" y="1"/>
                      <a:pt x="0" y="4"/>
                    </a:cubicBezTo>
                    <a:close/>
                  </a:path>
                </a:pathLst>
              </a:custGeom>
              <a:noFill/>
              <a:ln w="317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7" name="Freeform 57"/>
              <p:cNvSpPr/>
              <p:nvPr/>
            </p:nvSpPr>
            <p:spPr>
              <a:xfrm>
                <a:off x="510840" y="4282200"/>
                <a:ext cx="267840" cy="97560"/>
              </a:xfrm>
              <a:custGeom>
                <a:avLst/>
                <a:gdLst>
                  <a:gd name="textAreaLeft" fmla="*/ 0 w 267840"/>
                  <a:gd name="textAreaRight" fmla="*/ 268200 w 267840"/>
                  <a:gd name="textAreaTop" fmla="*/ 0 h 97560"/>
                  <a:gd name="textAreaBottom" fmla="*/ 97920 h 97560"/>
                </a:gdLst>
                <a:ahLst/>
                <a:rect l="textAreaLeft" t="textAreaTop" r="textAreaRight" b="textAreaBottom"/>
                <a:pathLst>
                  <a:path w="168" h="40">
                    <a:moveTo>
                      <a:pt x="0" y="0"/>
                    </a:moveTo>
                    <a:lnTo>
                      <a:pt x="168" y="0"/>
                    </a:lnTo>
                    <a:lnTo>
                      <a:pt x="168" y="40"/>
                    </a:lnTo>
                    <a:lnTo>
                      <a:pt x="0" y="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8" name="Text Box 58"/>
              <p:cNvSpPr/>
              <p:nvPr/>
            </p:nvSpPr>
            <p:spPr>
              <a:xfrm>
                <a:off x="777240" y="4276080"/>
                <a:ext cx="744840" cy="10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Dialog"/>
                  </a:rPr>
                  <a:t>Other renewables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Freeform 59"/>
              <p:cNvSpPr/>
              <p:nvPr/>
            </p:nvSpPr>
            <p:spPr>
              <a:xfrm>
                <a:off x="510840" y="4458600"/>
                <a:ext cx="267840" cy="97560"/>
              </a:xfrm>
              <a:custGeom>
                <a:avLst/>
                <a:gdLst>
                  <a:gd name="textAreaLeft" fmla="*/ 0 w 267840"/>
                  <a:gd name="textAreaRight" fmla="*/ 268200 w 267840"/>
                  <a:gd name="textAreaTop" fmla="*/ 0 h 97560"/>
                  <a:gd name="textAreaBottom" fmla="*/ 97920 h 97560"/>
                </a:gdLst>
                <a:ahLst/>
                <a:rect l="textAreaLeft" t="textAreaTop" r="textAreaRight" b="textAreaBottom"/>
                <a:pathLst>
                  <a:path w="168" h="40">
                    <a:moveTo>
                      <a:pt x="0" y="0"/>
                    </a:moveTo>
                    <a:lnTo>
                      <a:pt x="168" y="0"/>
                    </a:lnTo>
                    <a:lnTo>
                      <a:pt x="168" y="40"/>
                    </a:lnTo>
                    <a:lnTo>
                      <a:pt x="0" y="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0" name="Text Box 60"/>
              <p:cNvSpPr/>
              <p:nvPr/>
            </p:nvSpPr>
            <p:spPr>
              <a:xfrm>
                <a:off x="789480" y="4452120"/>
                <a:ext cx="324360" cy="10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Dialog"/>
                  </a:rPr>
                  <a:t>Nuclear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Freeform 61"/>
              <p:cNvSpPr/>
              <p:nvPr/>
            </p:nvSpPr>
            <p:spPr>
              <a:xfrm>
                <a:off x="510840" y="4634640"/>
                <a:ext cx="267840" cy="97560"/>
              </a:xfrm>
              <a:custGeom>
                <a:avLst/>
                <a:gdLst>
                  <a:gd name="textAreaLeft" fmla="*/ 0 w 267840"/>
                  <a:gd name="textAreaRight" fmla="*/ 268200 w 267840"/>
                  <a:gd name="textAreaTop" fmla="*/ 0 h 97560"/>
                  <a:gd name="textAreaBottom" fmla="*/ 97920 h 97560"/>
                </a:gdLst>
                <a:ahLst/>
                <a:rect l="textAreaLeft" t="textAreaTop" r="textAreaRight" b="textAreaBottom"/>
                <a:pathLst>
                  <a:path w="168" h="40">
                    <a:moveTo>
                      <a:pt x="0" y="0"/>
                    </a:moveTo>
                    <a:lnTo>
                      <a:pt x="168" y="0"/>
                    </a:lnTo>
                    <a:lnTo>
                      <a:pt x="168" y="40"/>
                    </a:lnTo>
                    <a:lnTo>
                      <a:pt x="0" y="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6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2" name="Text Box 62"/>
              <p:cNvSpPr/>
              <p:nvPr/>
            </p:nvSpPr>
            <p:spPr>
              <a:xfrm>
                <a:off x="795600" y="4628160"/>
                <a:ext cx="158040" cy="10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Dialog"/>
                  </a:rPr>
                  <a:t>Gas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Freeform 63"/>
              <p:cNvSpPr/>
              <p:nvPr/>
            </p:nvSpPr>
            <p:spPr>
              <a:xfrm>
                <a:off x="510840" y="4810680"/>
                <a:ext cx="267840" cy="97560"/>
              </a:xfrm>
              <a:custGeom>
                <a:avLst/>
                <a:gdLst>
                  <a:gd name="textAreaLeft" fmla="*/ 0 w 267840"/>
                  <a:gd name="textAreaRight" fmla="*/ 268200 w 267840"/>
                  <a:gd name="textAreaTop" fmla="*/ 0 h 97560"/>
                  <a:gd name="textAreaBottom" fmla="*/ 97920 h 97560"/>
                </a:gdLst>
                <a:ahLst/>
                <a:rect l="textAreaLeft" t="textAreaTop" r="textAreaRight" b="textAreaBottom"/>
                <a:pathLst>
                  <a:path w="168" h="40">
                    <a:moveTo>
                      <a:pt x="0" y="0"/>
                    </a:moveTo>
                    <a:lnTo>
                      <a:pt x="168" y="0"/>
                    </a:lnTo>
                    <a:lnTo>
                      <a:pt x="168" y="40"/>
                    </a:lnTo>
                    <a:lnTo>
                      <a:pt x="0" y="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4" name="Text Box 64"/>
              <p:cNvSpPr/>
              <p:nvPr/>
            </p:nvSpPr>
            <p:spPr>
              <a:xfrm>
                <a:off x="792000" y="4804560"/>
                <a:ext cx="114480" cy="10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Dialog"/>
                  </a:rPr>
                  <a:t>Oil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Freeform 65"/>
              <p:cNvSpPr/>
              <p:nvPr/>
            </p:nvSpPr>
            <p:spPr>
              <a:xfrm>
                <a:off x="510840" y="4986720"/>
                <a:ext cx="267840" cy="97560"/>
              </a:xfrm>
              <a:custGeom>
                <a:avLst/>
                <a:gdLst>
                  <a:gd name="textAreaLeft" fmla="*/ 0 w 267840"/>
                  <a:gd name="textAreaRight" fmla="*/ 268200 w 267840"/>
                  <a:gd name="textAreaTop" fmla="*/ 0 h 97560"/>
                  <a:gd name="textAreaBottom" fmla="*/ 97920 h 97560"/>
                </a:gdLst>
                <a:ahLst/>
                <a:rect l="textAreaLeft" t="textAreaTop" r="textAreaRight" b="textAreaBottom"/>
                <a:pathLst>
                  <a:path w="168" h="40">
                    <a:moveTo>
                      <a:pt x="0" y="0"/>
                    </a:moveTo>
                    <a:lnTo>
                      <a:pt x="168" y="0"/>
                    </a:lnTo>
                    <a:lnTo>
                      <a:pt x="168" y="40"/>
                    </a:lnTo>
                    <a:lnTo>
                      <a:pt x="0" y="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6" name="Text Box 66"/>
              <p:cNvSpPr/>
              <p:nvPr/>
            </p:nvSpPr>
            <p:spPr>
              <a:xfrm>
                <a:off x="795600" y="4980600"/>
                <a:ext cx="183960" cy="10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Dialog"/>
                  </a:rPr>
                  <a:t>Coal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Freeform 67"/>
              <p:cNvSpPr/>
              <p:nvPr/>
            </p:nvSpPr>
            <p:spPr>
              <a:xfrm>
                <a:off x="510840" y="5163120"/>
                <a:ext cx="267840" cy="97560"/>
              </a:xfrm>
              <a:custGeom>
                <a:avLst/>
                <a:gdLst>
                  <a:gd name="textAreaLeft" fmla="*/ 0 w 267840"/>
                  <a:gd name="textAreaRight" fmla="*/ 268200 w 267840"/>
                  <a:gd name="textAreaTop" fmla="*/ 0 h 97560"/>
                  <a:gd name="textAreaBottom" fmla="*/ 97920 h 97560"/>
                </a:gdLst>
                <a:ahLst/>
                <a:rect l="textAreaLeft" t="textAreaTop" r="textAreaRight" b="textAreaBottom"/>
                <a:pathLst>
                  <a:path w="168" h="40">
                    <a:moveTo>
                      <a:pt x="0" y="0"/>
                    </a:moveTo>
                    <a:lnTo>
                      <a:pt x="168" y="0"/>
                    </a:lnTo>
                    <a:lnTo>
                      <a:pt x="168" y="40"/>
                    </a:lnTo>
                    <a:lnTo>
                      <a:pt x="0" y="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8" name="Text Box 68"/>
              <p:cNvSpPr/>
              <p:nvPr/>
            </p:nvSpPr>
            <p:spPr>
              <a:xfrm>
                <a:off x="800280" y="5156640"/>
                <a:ext cx="353160" cy="10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Dialog"/>
                  </a:rPr>
                  <a:t>Biomass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9" name="TextBox 133"/>
            <p:cNvSpPr/>
            <p:nvPr/>
          </p:nvSpPr>
          <p:spPr>
            <a:xfrm>
              <a:off x="2335320" y="4916520"/>
              <a:ext cx="1751040" cy="6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SP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Sustainabilit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TextBox 134"/>
            <p:cNvSpPr/>
            <p:nvPr/>
          </p:nvSpPr>
          <p:spPr>
            <a:xfrm>
              <a:off x="7021800" y="4596480"/>
              <a:ext cx="1394280" cy="6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SP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equalit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31" name="Picture 8" descr=""/>
            <p:cNvPicPr/>
            <p:nvPr/>
          </p:nvPicPr>
          <p:blipFill>
            <a:blip r:embed="rId1"/>
            <a:stretch/>
          </p:blipFill>
          <p:spPr>
            <a:xfrm>
              <a:off x="465840" y="4165560"/>
              <a:ext cx="187596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2" name="Picture 8" descr=""/>
            <p:cNvPicPr/>
            <p:nvPr/>
          </p:nvPicPr>
          <p:blipFill>
            <a:blip r:embed="rId2"/>
            <a:stretch/>
          </p:blipFill>
          <p:spPr>
            <a:xfrm>
              <a:off x="4921560" y="4166640"/>
              <a:ext cx="1875960" cy="1371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33" name="Group 350"/>
          <p:cNvGrpSpPr/>
          <p:nvPr/>
        </p:nvGrpSpPr>
        <p:grpSpPr>
          <a:xfrm>
            <a:off x="54360" y="696240"/>
            <a:ext cx="8645400" cy="2635560"/>
            <a:chOff x="54360" y="696240"/>
            <a:chExt cx="8645400" cy="2635560"/>
          </a:xfrm>
        </p:grpSpPr>
        <p:grpSp>
          <p:nvGrpSpPr>
            <p:cNvPr id="434" name="Group -1024"/>
            <p:cNvGrpSpPr/>
            <p:nvPr/>
          </p:nvGrpSpPr>
          <p:grpSpPr>
            <a:xfrm>
              <a:off x="4499640" y="696240"/>
              <a:ext cx="4200120" cy="2635560"/>
              <a:chOff x="4499640" y="696240"/>
              <a:chExt cx="4200120" cy="2635560"/>
            </a:xfrm>
          </p:grpSpPr>
          <p:sp>
            <p:nvSpPr>
              <p:cNvPr id="435" name="Freeform 140"/>
              <p:cNvSpPr/>
              <p:nvPr/>
            </p:nvSpPr>
            <p:spPr>
              <a:xfrm>
                <a:off x="4879440" y="778680"/>
                <a:ext cx="3704400" cy="2355480"/>
              </a:xfrm>
              <a:custGeom>
                <a:avLst/>
                <a:gdLst>
                  <a:gd name="textAreaLeft" fmla="*/ 0 w 3704400"/>
                  <a:gd name="textAreaRight" fmla="*/ 3704760 w 3704400"/>
                  <a:gd name="textAreaTop" fmla="*/ 0 h 2355480"/>
                  <a:gd name="textAreaBottom" fmla="*/ 2355840 h 2355480"/>
                </a:gdLst>
                <a:ahLst/>
                <a:rect l="textAreaLeft" t="textAreaTop" r="textAreaRight" b="textAreaBottom"/>
                <a:pathLst>
                  <a:path w="2320" h="960">
                    <a:moveTo>
                      <a:pt x="0" y="0"/>
                    </a:moveTo>
                    <a:lnTo>
                      <a:pt x="2320" y="0"/>
                    </a:lnTo>
                    <a:lnTo>
                      <a:pt x="2320" y="960"/>
                    </a:lnTo>
                    <a:lnTo>
                      <a:pt x="0" y="96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6" name="Text Box 141"/>
              <p:cNvSpPr/>
              <p:nvPr/>
            </p:nvSpPr>
            <p:spPr>
              <a:xfrm>
                <a:off x="4763880" y="3209400"/>
                <a:ext cx="231120" cy="122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Dialog"/>
                  </a:rPr>
                  <a:t>185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Freeform 142"/>
              <p:cNvSpPr/>
              <p:nvPr/>
            </p:nvSpPr>
            <p:spPr>
              <a:xfrm>
                <a:off x="4879440" y="3134520"/>
                <a:ext cx="1080" cy="388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38880"/>
                  <a:gd name="textAreaBottom" fmla="*/ 39240 h 38880"/>
                </a:gdLst>
                <a:ahLst/>
                <a:rect l="textAreaLeft" t="textAreaTop" r="textAreaRight" b="textAreaBottom"/>
                <a:pathLst>
                  <a:path w="0" h="16">
                    <a:moveTo>
                      <a:pt x="0" y="0"/>
                    </a:moveTo>
                    <a:lnTo>
                      <a:pt x="0" y="16"/>
                    </a:lnTo>
                  </a:path>
                </a:pathLst>
              </a:custGeom>
              <a:noFill/>
              <a:ln w="317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8" name="Text Box 143"/>
              <p:cNvSpPr/>
              <p:nvPr/>
            </p:nvSpPr>
            <p:spPr>
              <a:xfrm>
                <a:off x="5504760" y="3209400"/>
                <a:ext cx="231120" cy="122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Dialog"/>
                  </a:rPr>
                  <a:t>190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Freeform 144"/>
              <p:cNvSpPr/>
              <p:nvPr/>
            </p:nvSpPr>
            <p:spPr>
              <a:xfrm>
                <a:off x="5620320" y="3134520"/>
                <a:ext cx="1080" cy="388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38880"/>
                  <a:gd name="textAreaBottom" fmla="*/ 39240 h 38880"/>
                </a:gdLst>
                <a:ahLst/>
                <a:rect l="textAreaLeft" t="textAreaTop" r="textAreaRight" b="textAreaBottom"/>
                <a:pathLst>
                  <a:path w="0" h="16">
                    <a:moveTo>
                      <a:pt x="0" y="0"/>
                    </a:moveTo>
                    <a:lnTo>
                      <a:pt x="0" y="16"/>
                    </a:lnTo>
                  </a:path>
                </a:pathLst>
              </a:custGeom>
              <a:noFill/>
              <a:ln w="317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0" name="Text Box 145"/>
              <p:cNvSpPr/>
              <p:nvPr/>
            </p:nvSpPr>
            <p:spPr>
              <a:xfrm>
                <a:off x="6245640" y="3209400"/>
                <a:ext cx="231120" cy="122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Dialog"/>
                  </a:rPr>
                  <a:t>195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Freeform 146"/>
              <p:cNvSpPr/>
              <p:nvPr/>
            </p:nvSpPr>
            <p:spPr>
              <a:xfrm>
                <a:off x="6361200" y="3134520"/>
                <a:ext cx="1080" cy="388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38880"/>
                  <a:gd name="textAreaBottom" fmla="*/ 39240 h 38880"/>
                </a:gdLst>
                <a:ahLst/>
                <a:rect l="textAreaLeft" t="textAreaTop" r="textAreaRight" b="textAreaBottom"/>
                <a:pathLst>
                  <a:path w="0" h="16">
                    <a:moveTo>
                      <a:pt x="0" y="0"/>
                    </a:moveTo>
                    <a:lnTo>
                      <a:pt x="0" y="16"/>
                    </a:lnTo>
                  </a:path>
                </a:pathLst>
              </a:custGeom>
              <a:noFill/>
              <a:ln w="317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2" name="Text Box 147"/>
              <p:cNvSpPr/>
              <p:nvPr/>
            </p:nvSpPr>
            <p:spPr>
              <a:xfrm>
                <a:off x="6986520" y="3209400"/>
                <a:ext cx="231120" cy="122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Dialog"/>
                  </a:rPr>
                  <a:t>200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Freeform 148"/>
              <p:cNvSpPr/>
              <p:nvPr/>
            </p:nvSpPr>
            <p:spPr>
              <a:xfrm>
                <a:off x="7102080" y="3134520"/>
                <a:ext cx="1080" cy="388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38880"/>
                  <a:gd name="textAreaBottom" fmla="*/ 39240 h 38880"/>
                </a:gdLst>
                <a:ahLst/>
                <a:rect l="textAreaLeft" t="textAreaTop" r="textAreaRight" b="textAreaBottom"/>
                <a:pathLst>
                  <a:path w="0" h="16">
                    <a:moveTo>
                      <a:pt x="0" y="0"/>
                    </a:moveTo>
                    <a:lnTo>
                      <a:pt x="0" y="16"/>
                    </a:lnTo>
                  </a:path>
                </a:pathLst>
              </a:custGeom>
              <a:noFill/>
              <a:ln w="317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4" name="Text Box 149"/>
              <p:cNvSpPr/>
              <p:nvPr/>
            </p:nvSpPr>
            <p:spPr>
              <a:xfrm>
                <a:off x="7727400" y="3209400"/>
                <a:ext cx="231120" cy="122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Dialog"/>
                  </a:rPr>
                  <a:t>205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Freeform 150"/>
              <p:cNvSpPr/>
              <p:nvPr/>
            </p:nvSpPr>
            <p:spPr>
              <a:xfrm>
                <a:off x="7842960" y="3134520"/>
                <a:ext cx="1080" cy="388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38880"/>
                  <a:gd name="textAreaBottom" fmla="*/ 39240 h 38880"/>
                </a:gdLst>
                <a:ahLst/>
                <a:rect l="textAreaLeft" t="textAreaTop" r="textAreaRight" b="textAreaBottom"/>
                <a:pathLst>
                  <a:path w="0" h="16">
                    <a:moveTo>
                      <a:pt x="0" y="0"/>
                    </a:moveTo>
                    <a:lnTo>
                      <a:pt x="0" y="16"/>
                    </a:lnTo>
                  </a:path>
                </a:pathLst>
              </a:custGeom>
              <a:noFill/>
              <a:ln w="317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6" name="Text Box 151"/>
              <p:cNvSpPr/>
              <p:nvPr/>
            </p:nvSpPr>
            <p:spPr>
              <a:xfrm>
                <a:off x="8468640" y="3209400"/>
                <a:ext cx="231120" cy="122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Dialog"/>
                  </a:rPr>
                  <a:t>210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Freeform 152"/>
              <p:cNvSpPr/>
              <p:nvPr/>
            </p:nvSpPr>
            <p:spPr>
              <a:xfrm>
                <a:off x="8583840" y="3134520"/>
                <a:ext cx="1080" cy="388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38880"/>
                  <a:gd name="textAreaBottom" fmla="*/ 39240 h 38880"/>
                </a:gdLst>
                <a:ahLst/>
                <a:rect l="textAreaLeft" t="textAreaTop" r="textAreaRight" b="textAreaBottom"/>
                <a:pathLst>
                  <a:path w="0" h="16">
                    <a:moveTo>
                      <a:pt x="0" y="0"/>
                    </a:moveTo>
                    <a:lnTo>
                      <a:pt x="0" y="16"/>
                    </a:lnTo>
                  </a:path>
                </a:pathLst>
              </a:custGeom>
              <a:noFill/>
              <a:ln w="317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8" name="Text Box 153"/>
              <p:cNvSpPr/>
              <p:nvPr/>
            </p:nvSpPr>
            <p:spPr>
              <a:xfrm rot="16200000">
                <a:off x="4512960" y="1892880"/>
                <a:ext cx="79560" cy="10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Dialog"/>
                  </a:rPr>
                  <a:t>EJ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Text Box 154"/>
              <p:cNvSpPr/>
              <p:nvPr/>
            </p:nvSpPr>
            <p:spPr>
              <a:xfrm>
                <a:off x="4786560" y="3052080"/>
                <a:ext cx="57600" cy="122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Dialog"/>
                  </a:rPr>
                  <a:t>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Freeform 155"/>
              <p:cNvSpPr/>
              <p:nvPr/>
            </p:nvSpPr>
            <p:spPr>
              <a:xfrm>
                <a:off x="4853880" y="3134520"/>
                <a:ext cx="25200" cy="216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2160"/>
                  <a:gd name="textAreaBottom" fmla="*/ 2520 h 2160"/>
                </a:gdLst>
                <a:ahLst/>
                <a:rect l="textAreaLeft" t="textAreaTop" r="textAreaRight" b="textAreaBottom"/>
                <a:pathLst>
                  <a:path w="16" h="0">
                    <a:moveTo>
                      <a:pt x="16" y="0"/>
                    </a:moveTo>
                    <a:lnTo>
                      <a:pt x="0" y="0"/>
                    </a:lnTo>
                  </a:path>
                </a:pathLst>
              </a:custGeom>
              <a:noFill/>
              <a:ln w="317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1" name="Text Box 156"/>
              <p:cNvSpPr/>
              <p:nvPr/>
            </p:nvSpPr>
            <p:spPr>
              <a:xfrm>
                <a:off x="4677480" y="2581200"/>
                <a:ext cx="173520" cy="122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Dialog"/>
                  </a:rPr>
                  <a:t>50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Freeform 157"/>
              <p:cNvSpPr/>
              <p:nvPr/>
            </p:nvSpPr>
            <p:spPr>
              <a:xfrm>
                <a:off x="4853880" y="2663280"/>
                <a:ext cx="25200" cy="216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2160"/>
                  <a:gd name="textAreaBottom" fmla="*/ 2520 h 2160"/>
                </a:gdLst>
                <a:ahLst/>
                <a:rect l="textAreaLeft" t="textAreaTop" r="textAreaRight" b="textAreaBottom"/>
                <a:pathLst>
                  <a:path w="16" h="0">
                    <a:moveTo>
                      <a:pt x="16" y="0"/>
                    </a:moveTo>
                    <a:lnTo>
                      <a:pt x="0" y="0"/>
                    </a:lnTo>
                  </a:path>
                </a:pathLst>
              </a:custGeom>
              <a:noFill/>
              <a:ln w="317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3" name="Text Box 158"/>
              <p:cNvSpPr/>
              <p:nvPr/>
            </p:nvSpPr>
            <p:spPr>
              <a:xfrm>
                <a:off x="4623480" y="2109960"/>
                <a:ext cx="231120" cy="122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Dialog"/>
                  </a:rPr>
                  <a:t>100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Freeform 159"/>
              <p:cNvSpPr/>
              <p:nvPr/>
            </p:nvSpPr>
            <p:spPr>
              <a:xfrm>
                <a:off x="4853880" y="2192040"/>
                <a:ext cx="25200" cy="216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2160"/>
                  <a:gd name="textAreaBottom" fmla="*/ 2520 h 2160"/>
                </a:gdLst>
                <a:ahLst/>
                <a:rect l="textAreaLeft" t="textAreaTop" r="textAreaRight" b="textAreaBottom"/>
                <a:pathLst>
                  <a:path w="16" h="0">
                    <a:moveTo>
                      <a:pt x="16" y="0"/>
                    </a:moveTo>
                    <a:lnTo>
                      <a:pt x="0" y="0"/>
                    </a:lnTo>
                  </a:path>
                </a:pathLst>
              </a:custGeom>
              <a:noFill/>
              <a:ln w="317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5" name="Text Box 160"/>
              <p:cNvSpPr/>
              <p:nvPr/>
            </p:nvSpPr>
            <p:spPr>
              <a:xfrm>
                <a:off x="4623480" y="1638720"/>
                <a:ext cx="231120" cy="122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Dialog"/>
                  </a:rPr>
                  <a:t>150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Freeform 161"/>
              <p:cNvSpPr/>
              <p:nvPr/>
            </p:nvSpPr>
            <p:spPr>
              <a:xfrm>
                <a:off x="4853880" y="1721160"/>
                <a:ext cx="25200" cy="216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2160"/>
                  <a:gd name="textAreaBottom" fmla="*/ 2520 h 2160"/>
                </a:gdLst>
                <a:ahLst/>
                <a:rect l="textAreaLeft" t="textAreaTop" r="textAreaRight" b="textAreaBottom"/>
                <a:pathLst>
                  <a:path w="16" h="0">
                    <a:moveTo>
                      <a:pt x="16" y="0"/>
                    </a:moveTo>
                    <a:lnTo>
                      <a:pt x="0" y="0"/>
                    </a:lnTo>
                  </a:path>
                </a:pathLst>
              </a:custGeom>
              <a:noFill/>
              <a:ln w="317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7" name="Text Box 162"/>
              <p:cNvSpPr/>
              <p:nvPr/>
            </p:nvSpPr>
            <p:spPr>
              <a:xfrm>
                <a:off x="4623480" y="1167480"/>
                <a:ext cx="231120" cy="122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Dialog"/>
                  </a:rPr>
                  <a:t>200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Freeform 163"/>
              <p:cNvSpPr/>
              <p:nvPr/>
            </p:nvSpPr>
            <p:spPr>
              <a:xfrm>
                <a:off x="4853880" y="1249920"/>
                <a:ext cx="25200" cy="216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2160"/>
                  <a:gd name="textAreaBottom" fmla="*/ 2520 h 2160"/>
                </a:gdLst>
                <a:ahLst/>
                <a:rect l="textAreaLeft" t="textAreaTop" r="textAreaRight" b="textAreaBottom"/>
                <a:pathLst>
                  <a:path w="16" h="0">
                    <a:moveTo>
                      <a:pt x="16" y="0"/>
                    </a:moveTo>
                    <a:lnTo>
                      <a:pt x="0" y="0"/>
                    </a:lnTo>
                  </a:path>
                </a:pathLst>
              </a:custGeom>
              <a:noFill/>
              <a:ln w="317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9" name="Text Box 164"/>
              <p:cNvSpPr/>
              <p:nvPr/>
            </p:nvSpPr>
            <p:spPr>
              <a:xfrm>
                <a:off x="4623480" y="696240"/>
                <a:ext cx="231120" cy="122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Dialog"/>
                  </a:rPr>
                  <a:t>250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Freeform 165"/>
              <p:cNvSpPr/>
              <p:nvPr/>
            </p:nvSpPr>
            <p:spPr>
              <a:xfrm>
                <a:off x="4853880" y="778680"/>
                <a:ext cx="25200" cy="216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2160"/>
                  <a:gd name="textAreaBottom" fmla="*/ 2520 h 2160"/>
                </a:gdLst>
                <a:ahLst/>
                <a:rect l="textAreaLeft" t="textAreaTop" r="textAreaRight" b="textAreaBottom"/>
                <a:pathLst>
                  <a:path w="16" h="0">
                    <a:moveTo>
                      <a:pt x="16" y="0"/>
                    </a:moveTo>
                    <a:lnTo>
                      <a:pt x="0" y="0"/>
                    </a:lnTo>
                  </a:path>
                </a:pathLst>
              </a:custGeom>
              <a:noFill/>
              <a:ln w="317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1" name="Freeform 166"/>
              <p:cNvSpPr/>
              <p:nvPr/>
            </p:nvSpPr>
            <p:spPr>
              <a:xfrm>
                <a:off x="4879440" y="778680"/>
                <a:ext cx="3704400" cy="2355480"/>
              </a:xfrm>
              <a:custGeom>
                <a:avLst/>
                <a:gdLst>
                  <a:gd name="textAreaLeft" fmla="*/ 0 w 3704400"/>
                  <a:gd name="textAreaRight" fmla="*/ 3704760 w 3704400"/>
                  <a:gd name="textAreaTop" fmla="*/ 0 h 2355480"/>
                  <a:gd name="textAreaBottom" fmla="*/ 2355840 h 2355480"/>
                </a:gdLst>
                <a:ahLst/>
                <a:rect l="textAreaLeft" t="textAreaTop" r="textAreaRight" b="textAreaBottom"/>
                <a:pathLst>
                  <a:path w="2320" h="960">
                    <a:moveTo>
                      <a:pt x="0" y="0"/>
                    </a:moveTo>
                    <a:lnTo>
                      <a:pt x="2320" y="0"/>
                    </a:lnTo>
                    <a:lnTo>
                      <a:pt x="2320" y="960"/>
                    </a:lnTo>
                    <a:lnTo>
                      <a:pt x="0" y="96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317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2" name="Freeform 167"/>
              <p:cNvSpPr/>
              <p:nvPr/>
            </p:nvSpPr>
            <p:spPr>
              <a:xfrm>
                <a:off x="7175520" y="1929600"/>
                <a:ext cx="1407960" cy="789840"/>
              </a:xfrm>
              <a:custGeom>
                <a:avLst/>
                <a:gdLst>
                  <a:gd name="textAreaLeft" fmla="*/ 0 w 1407960"/>
                  <a:gd name="textAreaRight" fmla="*/ 1408320 w 1407960"/>
                  <a:gd name="textAreaTop" fmla="*/ 0 h 789840"/>
                  <a:gd name="textAreaBottom" fmla="*/ 790200 h 789840"/>
                </a:gdLst>
                <a:ahLst/>
                <a:rect l="textAreaLeft" t="textAreaTop" r="textAreaRight" b="textAreaBottom"/>
                <a:pathLst>
                  <a:path w="881" h="322">
                    <a:moveTo>
                      <a:pt x="0" y="317"/>
                    </a:moveTo>
                    <a:lnTo>
                      <a:pt x="46" y="296"/>
                    </a:lnTo>
                    <a:lnTo>
                      <a:pt x="139" y="244"/>
                    </a:lnTo>
                    <a:lnTo>
                      <a:pt x="231" y="195"/>
                    </a:lnTo>
                    <a:lnTo>
                      <a:pt x="324" y="160"/>
                    </a:lnTo>
                    <a:lnTo>
                      <a:pt x="417" y="133"/>
                    </a:lnTo>
                    <a:lnTo>
                      <a:pt x="510" y="108"/>
                    </a:lnTo>
                    <a:lnTo>
                      <a:pt x="603" y="83"/>
                    </a:lnTo>
                    <a:lnTo>
                      <a:pt x="695" y="57"/>
                    </a:lnTo>
                    <a:lnTo>
                      <a:pt x="788" y="30"/>
                    </a:lnTo>
                    <a:lnTo>
                      <a:pt x="881" y="0"/>
                    </a:lnTo>
                    <a:lnTo>
                      <a:pt x="881" y="13"/>
                    </a:lnTo>
                    <a:lnTo>
                      <a:pt x="788" y="43"/>
                    </a:lnTo>
                    <a:lnTo>
                      <a:pt x="695" y="69"/>
                    </a:lnTo>
                    <a:lnTo>
                      <a:pt x="603" y="95"/>
                    </a:lnTo>
                    <a:lnTo>
                      <a:pt x="510" y="119"/>
                    </a:lnTo>
                    <a:lnTo>
                      <a:pt x="417" y="142"/>
                    </a:lnTo>
                    <a:lnTo>
                      <a:pt x="324" y="169"/>
                    </a:lnTo>
                    <a:lnTo>
                      <a:pt x="231" y="202"/>
                    </a:lnTo>
                    <a:lnTo>
                      <a:pt x="139" y="250"/>
                    </a:lnTo>
                    <a:lnTo>
                      <a:pt x="46" y="301"/>
                    </a:lnTo>
                    <a:lnTo>
                      <a:pt x="0" y="322"/>
                    </a:lnTo>
                    <a:lnTo>
                      <a:pt x="0" y="317"/>
                    </a:lnTo>
                    <a:close/>
                  </a:path>
                </a:pathLst>
              </a:custGeom>
              <a:solidFill>
                <a:srgbClr val="ffc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3" name="Freeform 168"/>
              <p:cNvSpPr/>
              <p:nvPr/>
            </p:nvSpPr>
            <p:spPr>
              <a:xfrm>
                <a:off x="7175520" y="1929600"/>
                <a:ext cx="1407960" cy="789840"/>
              </a:xfrm>
              <a:custGeom>
                <a:avLst/>
                <a:gdLst>
                  <a:gd name="textAreaLeft" fmla="*/ 0 w 1407960"/>
                  <a:gd name="textAreaRight" fmla="*/ 1408320 w 1407960"/>
                  <a:gd name="textAreaTop" fmla="*/ 0 h 789840"/>
                  <a:gd name="textAreaBottom" fmla="*/ 790200 h 789840"/>
                </a:gdLst>
                <a:ahLst/>
                <a:rect l="textAreaLeft" t="textAreaTop" r="textAreaRight" b="textAreaBottom"/>
                <a:pathLst>
                  <a:path w="881" h="322">
                    <a:moveTo>
                      <a:pt x="0" y="317"/>
                    </a:moveTo>
                    <a:lnTo>
                      <a:pt x="46" y="296"/>
                    </a:lnTo>
                    <a:lnTo>
                      <a:pt x="139" y="244"/>
                    </a:lnTo>
                    <a:lnTo>
                      <a:pt x="231" y="195"/>
                    </a:lnTo>
                    <a:lnTo>
                      <a:pt x="324" y="160"/>
                    </a:lnTo>
                    <a:lnTo>
                      <a:pt x="417" y="133"/>
                    </a:lnTo>
                    <a:lnTo>
                      <a:pt x="510" y="108"/>
                    </a:lnTo>
                    <a:lnTo>
                      <a:pt x="603" y="83"/>
                    </a:lnTo>
                    <a:lnTo>
                      <a:pt x="695" y="57"/>
                    </a:lnTo>
                    <a:lnTo>
                      <a:pt x="788" y="30"/>
                    </a:lnTo>
                    <a:lnTo>
                      <a:pt x="881" y="0"/>
                    </a:lnTo>
                    <a:lnTo>
                      <a:pt x="881" y="13"/>
                    </a:lnTo>
                    <a:lnTo>
                      <a:pt x="788" y="43"/>
                    </a:lnTo>
                    <a:lnTo>
                      <a:pt x="695" y="69"/>
                    </a:lnTo>
                    <a:lnTo>
                      <a:pt x="603" y="95"/>
                    </a:lnTo>
                    <a:lnTo>
                      <a:pt x="510" y="119"/>
                    </a:lnTo>
                    <a:lnTo>
                      <a:pt x="417" y="142"/>
                    </a:lnTo>
                    <a:lnTo>
                      <a:pt x="324" y="169"/>
                    </a:lnTo>
                    <a:lnTo>
                      <a:pt x="231" y="202"/>
                    </a:lnTo>
                    <a:lnTo>
                      <a:pt x="139" y="250"/>
                    </a:lnTo>
                    <a:lnTo>
                      <a:pt x="46" y="301"/>
                    </a:lnTo>
                    <a:lnTo>
                      <a:pt x="0" y="322"/>
                    </a:lnTo>
                    <a:lnTo>
                      <a:pt x="0" y="317"/>
                    </a:lnTo>
                    <a:close/>
                  </a:path>
                </a:pathLst>
              </a:custGeom>
              <a:noFill/>
              <a:ln w="3175">
                <a:solidFill>
                  <a:srgbClr val="ffc8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4" name="Freeform 169"/>
              <p:cNvSpPr/>
              <p:nvPr/>
            </p:nvSpPr>
            <p:spPr>
              <a:xfrm>
                <a:off x="7175520" y="1963800"/>
                <a:ext cx="1407960" cy="765360"/>
              </a:xfrm>
              <a:custGeom>
                <a:avLst/>
                <a:gdLst>
                  <a:gd name="textAreaLeft" fmla="*/ 0 w 1407960"/>
                  <a:gd name="textAreaRight" fmla="*/ 1408320 w 1407960"/>
                  <a:gd name="textAreaTop" fmla="*/ 0 h 765360"/>
                  <a:gd name="textAreaBottom" fmla="*/ 765720 h 765360"/>
                </a:gdLst>
                <a:ahLst/>
                <a:rect l="textAreaLeft" t="textAreaTop" r="textAreaRight" b="textAreaBottom"/>
                <a:pathLst>
                  <a:path w="881" h="311">
                    <a:moveTo>
                      <a:pt x="0" y="308"/>
                    </a:moveTo>
                    <a:lnTo>
                      <a:pt x="46" y="287"/>
                    </a:lnTo>
                    <a:lnTo>
                      <a:pt x="139" y="236"/>
                    </a:lnTo>
                    <a:lnTo>
                      <a:pt x="231" y="188"/>
                    </a:lnTo>
                    <a:lnTo>
                      <a:pt x="324" y="155"/>
                    </a:lnTo>
                    <a:lnTo>
                      <a:pt x="417" y="129"/>
                    </a:lnTo>
                    <a:lnTo>
                      <a:pt x="510" y="105"/>
                    </a:lnTo>
                    <a:lnTo>
                      <a:pt x="603" y="81"/>
                    </a:lnTo>
                    <a:lnTo>
                      <a:pt x="695" y="55"/>
                    </a:lnTo>
                    <a:lnTo>
                      <a:pt x="788" y="29"/>
                    </a:lnTo>
                    <a:lnTo>
                      <a:pt x="881" y="0"/>
                    </a:lnTo>
                    <a:lnTo>
                      <a:pt x="881" y="18"/>
                    </a:lnTo>
                    <a:lnTo>
                      <a:pt x="788" y="48"/>
                    </a:lnTo>
                    <a:lnTo>
                      <a:pt x="695" y="73"/>
                    </a:lnTo>
                    <a:lnTo>
                      <a:pt x="603" y="96"/>
                    </a:lnTo>
                    <a:lnTo>
                      <a:pt x="510" y="118"/>
                    </a:lnTo>
                    <a:lnTo>
                      <a:pt x="417" y="139"/>
                    </a:lnTo>
                    <a:lnTo>
                      <a:pt x="324" y="163"/>
                    </a:lnTo>
                    <a:lnTo>
                      <a:pt x="231" y="195"/>
                    </a:lnTo>
                    <a:lnTo>
                      <a:pt x="139" y="242"/>
                    </a:lnTo>
                    <a:lnTo>
                      <a:pt x="46" y="291"/>
                    </a:lnTo>
                    <a:lnTo>
                      <a:pt x="0" y="311"/>
                    </a:lnTo>
                    <a:lnTo>
                      <a:pt x="0" y="308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5" name="Freeform 170"/>
              <p:cNvSpPr/>
              <p:nvPr/>
            </p:nvSpPr>
            <p:spPr>
              <a:xfrm>
                <a:off x="7175520" y="1963800"/>
                <a:ext cx="1407960" cy="765360"/>
              </a:xfrm>
              <a:custGeom>
                <a:avLst/>
                <a:gdLst>
                  <a:gd name="textAreaLeft" fmla="*/ 0 w 1407960"/>
                  <a:gd name="textAreaRight" fmla="*/ 1408320 w 1407960"/>
                  <a:gd name="textAreaTop" fmla="*/ 0 h 765360"/>
                  <a:gd name="textAreaBottom" fmla="*/ 765720 h 765360"/>
                </a:gdLst>
                <a:ahLst/>
                <a:rect l="textAreaLeft" t="textAreaTop" r="textAreaRight" b="textAreaBottom"/>
                <a:pathLst>
                  <a:path w="881" h="311">
                    <a:moveTo>
                      <a:pt x="0" y="308"/>
                    </a:moveTo>
                    <a:lnTo>
                      <a:pt x="46" y="287"/>
                    </a:lnTo>
                    <a:lnTo>
                      <a:pt x="139" y="236"/>
                    </a:lnTo>
                    <a:lnTo>
                      <a:pt x="231" y="188"/>
                    </a:lnTo>
                    <a:lnTo>
                      <a:pt x="324" y="155"/>
                    </a:lnTo>
                    <a:lnTo>
                      <a:pt x="417" y="129"/>
                    </a:lnTo>
                    <a:lnTo>
                      <a:pt x="510" y="105"/>
                    </a:lnTo>
                    <a:lnTo>
                      <a:pt x="603" y="81"/>
                    </a:lnTo>
                    <a:lnTo>
                      <a:pt x="695" y="55"/>
                    </a:lnTo>
                    <a:lnTo>
                      <a:pt x="788" y="29"/>
                    </a:lnTo>
                    <a:lnTo>
                      <a:pt x="881" y="0"/>
                    </a:lnTo>
                    <a:lnTo>
                      <a:pt x="881" y="18"/>
                    </a:lnTo>
                    <a:lnTo>
                      <a:pt x="788" y="48"/>
                    </a:lnTo>
                    <a:lnTo>
                      <a:pt x="695" y="73"/>
                    </a:lnTo>
                    <a:lnTo>
                      <a:pt x="603" y="96"/>
                    </a:lnTo>
                    <a:lnTo>
                      <a:pt x="510" y="118"/>
                    </a:lnTo>
                    <a:lnTo>
                      <a:pt x="417" y="139"/>
                    </a:lnTo>
                    <a:lnTo>
                      <a:pt x="324" y="163"/>
                    </a:lnTo>
                    <a:lnTo>
                      <a:pt x="231" y="195"/>
                    </a:lnTo>
                    <a:lnTo>
                      <a:pt x="139" y="242"/>
                    </a:lnTo>
                    <a:lnTo>
                      <a:pt x="46" y="291"/>
                    </a:lnTo>
                    <a:lnTo>
                      <a:pt x="0" y="311"/>
                    </a:lnTo>
                    <a:lnTo>
                      <a:pt x="0" y="308"/>
                    </a:lnTo>
                    <a:close/>
                  </a:path>
                </a:pathLst>
              </a:custGeom>
              <a:noFill/>
              <a:ln w="3175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6" name="Freeform 171"/>
              <p:cNvSpPr/>
              <p:nvPr/>
            </p:nvSpPr>
            <p:spPr>
              <a:xfrm>
                <a:off x="7175520" y="2008080"/>
                <a:ext cx="1407960" cy="814320"/>
              </a:xfrm>
              <a:custGeom>
                <a:avLst/>
                <a:gdLst>
                  <a:gd name="textAreaLeft" fmla="*/ 0 w 1407960"/>
                  <a:gd name="textAreaRight" fmla="*/ 1408320 w 1407960"/>
                  <a:gd name="textAreaTop" fmla="*/ 0 h 814320"/>
                  <a:gd name="textAreaBottom" fmla="*/ 814680 h 814320"/>
                </a:gdLst>
                <a:ahLst/>
                <a:rect l="textAreaLeft" t="textAreaTop" r="textAreaRight" b="textAreaBottom"/>
                <a:pathLst>
                  <a:path w="881" h="331">
                    <a:moveTo>
                      <a:pt x="0" y="293"/>
                    </a:moveTo>
                    <a:lnTo>
                      <a:pt x="46" y="273"/>
                    </a:lnTo>
                    <a:lnTo>
                      <a:pt x="139" y="223"/>
                    </a:lnTo>
                    <a:lnTo>
                      <a:pt x="231" y="177"/>
                    </a:lnTo>
                    <a:lnTo>
                      <a:pt x="324" y="145"/>
                    </a:lnTo>
                    <a:lnTo>
                      <a:pt x="417" y="121"/>
                    </a:lnTo>
                    <a:lnTo>
                      <a:pt x="510" y="100"/>
                    </a:lnTo>
                    <a:lnTo>
                      <a:pt x="603" y="78"/>
                    </a:lnTo>
                    <a:lnTo>
                      <a:pt x="695" y="54"/>
                    </a:lnTo>
                    <a:lnTo>
                      <a:pt x="788" y="30"/>
                    </a:lnTo>
                    <a:lnTo>
                      <a:pt x="881" y="0"/>
                    </a:lnTo>
                    <a:lnTo>
                      <a:pt x="881" y="88"/>
                    </a:lnTo>
                    <a:lnTo>
                      <a:pt x="788" y="120"/>
                    </a:lnTo>
                    <a:lnTo>
                      <a:pt x="695" y="145"/>
                    </a:lnTo>
                    <a:lnTo>
                      <a:pt x="603" y="168"/>
                    </a:lnTo>
                    <a:lnTo>
                      <a:pt x="510" y="188"/>
                    </a:lnTo>
                    <a:lnTo>
                      <a:pt x="417" y="205"/>
                    </a:lnTo>
                    <a:lnTo>
                      <a:pt x="324" y="220"/>
                    </a:lnTo>
                    <a:lnTo>
                      <a:pt x="231" y="243"/>
                    </a:lnTo>
                    <a:lnTo>
                      <a:pt x="139" y="277"/>
                    </a:lnTo>
                    <a:lnTo>
                      <a:pt x="46" y="315"/>
                    </a:lnTo>
                    <a:lnTo>
                      <a:pt x="0" y="331"/>
                    </a:lnTo>
                    <a:lnTo>
                      <a:pt x="0" y="293"/>
                    </a:lnTo>
                    <a:close/>
                  </a:path>
                </a:pathLst>
              </a:custGeom>
              <a:solidFill>
                <a:srgbClr val="006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7" name="Freeform 172"/>
              <p:cNvSpPr/>
              <p:nvPr/>
            </p:nvSpPr>
            <p:spPr>
              <a:xfrm>
                <a:off x="7175520" y="2008080"/>
                <a:ext cx="1407960" cy="814320"/>
              </a:xfrm>
              <a:custGeom>
                <a:avLst/>
                <a:gdLst>
                  <a:gd name="textAreaLeft" fmla="*/ 0 w 1407960"/>
                  <a:gd name="textAreaRight" fmla="*/ 1408320 w 1407960"/>
                  <a:gd name="textAreaTop" fmla="*/ 0 h 814320"/>
                  <a:gd name="textAreaBottom" fmla="*/ 814680 h 814320"/>
                </a:gdLst>
                <a:ahLst/>
                <a:rect l="textAreaLeft" t="textAreaTop" r="textAreaRight" b="textAreaBottom"/>
                <a:pathLst>
                  <a:path w="881" h="331">
                    <a:moveTo>
                      <a:pt x="0" y="293"/>
                    </a:moveTo>
                    <a:lnTo>
                      <a:pt x="46" y="273"/>
                    </a:lnTo>
                    <a:lnTo>
                      <a:pt x="139" y="223"/>
                    </a:lnTo>
                    <a:lnTo>
                      <a:pt x="231" y="177"/>
                    </a:lnTo>
                    <a:lnTo>
                      <a:pt x="324" y="145"/>
                    </a:lnTo>
                    <a:lnTo>
                      <a:pt x="417" y="121"/>
                    </a:lnTo>
                    <a:lnTo>
                      <a:pt x="510" y="100"/>
                    </a:lnTo>
                    <a:lnTo>
                      <a:pt x="603" y="78"/>
                    </a:lnTo>
                    <a:lnTo>
                      <a:pt x="695" y="54"/>
                    </a:lnTo>
                    <a:lnTo>
                      <a:pt x="788" y="30"/>
                    </a:lnTo>
                    <a:lnTo>
                      <a:pt x="881" y="0"/>
                    </a:lnTo>
                    <a:lnTo>
                      <a:pt x="881" y="88"/>
                    </a:lnTo>
                    <a:lnTo>
                      <a:pt x="788" y="120"/>
                    </a:lnTo>
                    <a:lnTo>
                      <a:pt x="695" y="145"/>
                    </a:lnTo>
                    <a:lnTo>
                      <a:pt x="603" y="168"/>
                    </a:lnTo>
                    <a:lnTo>
                      <a:pt x="510" y="188"/>
                    </a:lnTo>
                    <a:lnTo>
                      <a:pt x="417" y="205"/>
                    </a:lnTo>
                    <a:lnTo>
                      <a:pt x="324" y="220"/>
                    </a:lnTo>
                    <a:lnTo>
                      <a:pt x="231" y="243"/>
                    </a:lnTo>
                    <a:lnTo>
                      <a:pt x="139" y="277"/>
                    </a:lnTo>
                    <a:lnTo>
                      <a:pt x="46" y="315"/>
                    </a:lnTo>
                    <a:lnTo>
                      <a:pt x="0" y="331"/>
                    </a:lnTo>
                    <a:lnTo>
                      <a:pt x="0" y="293"/>
                    </a:lnTo>
                    <a:close/>
                  </a:path>
                </a:pathLst>
              </a:custGeom>
              <a:noFill/>
              <a:ln w="3175">
                <a:solidFill>
                  <a:srgbClr val="0064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8" name="Freeform 173"/>
              <p:cNvSpPr/>
              <p:nvPr/>
            </p:nvSpPr>
            <p:spPr>
              <a:xfrm>
                <a:off x="7175520" y="2226600"/>
                <a:ext cx="1407960" cy="750600"/>
              </a:xfrm>
              <a:custGeom>
                <a:avLst/>
                <a:gdLst>
                  <a:gd name="textAreaLeft" fmla="*/ 0 w 1407960"/>
                  <a:gd name="textAreaRight" fmla="*/ 1408320 w 1407960"/>
                  <a:gd name="textAreaTop" fmla="*/ 0 h 750600"/>
                  <a:gd name="textAreaBottom" fmla="*/ 750960 h 750600"/>
                </a:gdLst>
                <a:ahLst/>
                <a:rect l="textAreaLeft" t="textAreaTop" r="textAreaRight" b="textAreaBottom"/>
                <a:pathLst>
                  <a:path w="881" h="306">
                    <a:moveTo>
                      <a:pt x="0" y="243"/>
                    </a:moveTo>
                    <a:lnTo>
                      <a:pt x="46" y="227"/>
                    </a:lnTo>
                    <a:lnTo>
                      <a:pt x="139" y="189"/>
                    </a:lnTo>
                    <a:lnTo>
                      <a:pt x="231" y="155"/>
                    </a:lnTo>
                    <a:lnTo>
                      <a:pt x="324" y="132"/>
                    </a:lnTo>
                    <a:lnTo>
                      <a:pt x="417" y="116"/>
                    </a:lnTo>
                    <a:lnTo>
                      <a:pt x="510" y="100"/>
                    </a:lnTo>
                    <a:lnTo>
                      <a:pt x="603" y="79"/>
                    </a:lnTo>
                    <a:lnTo>
                      <a:pt x="695" y="56"/>
                    </a:lnTo>
                    <a:lnTo>
                      <a:pt x="788" y="32"/>
                    </a:lnTo>
                    <a:lnTo>
                      <a:pt x="881" y="0"/>
                    </a:lnTo>
                    <a:lnTo>
                      <a:pt x="881" y="66"/>
                    </a:lnTo>
                    <a:lnTo>
                      <a:pt x="788" y="101"/>
                    </a:lnTo>
                    <a:lnTo>
                      <a:pt x="695" y="130"/>
                    </a:lnTo>
                    <a:lnTo>
                      <a:pt x="603" y="160"/>
                    </a:lnTo>
                    <a:lnTo>
                      <a:pt x="510" y="186"/>
                    </a:lnTo>
                    <a:lnTo>
                      <a:pt x="417" y="210"/>
                    </a:lnTo>
                    <a:lnTo>
                      <a:pt x="324" y="230"/>
                    </a:lnTo>
                    <a:lnTo>
                      <a:pt x="231" y="250"/>
                    </a:lnTo>
                    <a:lnTo>
                      <a:pt x="139" y="275"/>
                    </a:lnTo>
                    <a:lnTo>
                      <a:pt x="46" y="296"/>
                    </a:lnTo>
                    <a:lnTo>
                      <a:pt x="0" y="306"/>
                    </a:lnTo>
                    <a:lnTo>
                      <a:pt x="0" y="243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9" name="Freeform 174"/>
              <p:cNvSpPr/>
              <p:nvPr/>
            </p:nvSpPr>
            <p:spPr>
              <a:xfrm>
                <a:off x="7175520" y="2226600"/>
                <a:ext cx="1407960" cy="750600"/>
              </a:xfrm>
              <a:custGeom>
                <a:avLst/>
                <a:gdLst>
                  <a:gd name="textAreaLeft" fmla="*/ 0 w 1407960"/>
                  <a:gd name="textAreaRight" fmla="*/ 1408320 w 1407960"/>
                  <a:gd name="textAreaTop" fmla="*/ 0 h 750600"/>
                  <a:gd name="textAreaBottom" fmla="*/ 750960 h 750600"/>
                </a:gdLst>
                <a:ahLst/>
                <a:rect l="textAreaLeft" t="textAreaTop" r="textAreaRight" b="textAreaBottom"/>
                <a:pathLst>
                  <a:path w="881" h="306">
                    <a:moveTo>
                      <a:pt x="0" y="243"/>
                    </a:moveTo>
                    <a:lnTo>
                      <a:pt x="46" y="227"/>
                    </a:lnTo>
                    <a:lnTo>
                      <a:pt x="139" y="189"/>
                    </a:lnTo>
                    <a:lnTo>
                      <a:pt x="231" y="155"/>
                    </a:lnTo>
                    <a:lnTo>
                      <a:pt x="324" y="132"/>
                    </a:lnTo>
                    <a:lnTo>
                      <a:pt x="417" y="116"/>
                    </a:lnTo>
                    <a:lnTo>
                      <a:pt x="510" y="100"/>
                    </a:lnTo>
                    <a:lnTo>
                      <a:pt x="603" y="79"/>
                    </a:lnTo>
                    <a:lnTo>
                      <a:pt x="695" y="56"/>
                    </a:lnTo>
                    <a:lnTo>
                      <a:pt x="788" y="32"/>
                    </a:lnTo>
                    <a:lnTo>
                      <a:pt x="881" y="0"/>
                    </a:lnTo>
                    <a:lnTo>
                      <a:pt x="881" y="66"/>
                    </a:lnTo>
                    <a:lnTo>
                      <a:pt x="788" y="101"/>
                    </a:lnTo>
                    <a:lnTo>
                      <a:pt x="695" y="130"/>
                    </a:lnTo>
                    <a:lnTo>
                      <a:pt x="603" y="160"/>
                    </a:lnTo>
                    <a:lnTo>
                      <a:pt x="510" y="186"/>
                    </a:lnTo>
                    <a:lnTo>
                      <a:pt x="417" y="210"/>
                    </a:lnTo>
                    <a:lnTo>
                      <a:pt x="324" y="230"/>
                    </a:lnTo>
                    <a:lnTo>
                      <a:pt x="231" y="250"/>
                    </a:lnTo>
                    <a:lnTo>
                      <a:pt x="139" y="275"/>
                    </a:lnTo>
                    <a:lnTo>
                      <a:pt x="46" y="296"/>
                    </a:lnTo>
                    <a:lnTo>
                      <a:pt x="0" y="306"/>
                    </a:lnTo>
                    <a:lnTo>
                      <a:pt x="0" y="243"/>
                    </a:lnTo>
                    <a:close/>
                  </a:path>
                </a:pathLst>
              </a:custGeom>
              <a:noFill/>
              <a:ln w="3175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0" name="Freeform 175"/>
              <p:cNvSpPr/>
              <p:nvPr/>
            </p:nvSpPr>
            <p:spPr>
              <a:xfrm>
                <a:off x="7175520" y="2388600"/>
                <a:ext cx="1407960" cy="701640"/>
              </a:xfrm>
              <a:custGeom>
                <a:avLst/>
                <a:gdLst>
                  <a:gd name="textAreaLeft" fmla="*/ 0 w 1407960"/>
                  <a:gd name="textAreaRight" fmla="*/ 1408320 w 1407960"/>
                  <a:gd name="textAreaTop" fmla="*/ 0 h 701640"/>
                  <a:gd name="textAreaBottom" fmla="*/ 702000 h 701640"/>
                </a:gdLst>
                <a:ahLst/>
                <a:rect l="textAreaLeft" t="textAreaTop" r="textAreaRight" b="textAreaBottom"/>
                <a:pathLst>
                  <a:path w="881" h="285">
                    <a:moveTo>
                      <a:pt x="0" y="240"/>
                    </a:moveTo>
                    <a:lnTo>
                      <a:pt x="46" y="229"/>
                    </a:lnTo>
                    <a:lnTo>
                      <a:pt x="139" y="208"/>
                    </a:lnTo>
                    <a:lnTo>
                      <a:pt x="231" y="184"/>
                    </a:lnTo>
                    <a:lnTo>
                      <a:pt x="324" y="164"/>
                    </a:lnTo>
                    <a:lnTo>
                      <a:pt x="417" y="143"/>
                    </a:lnTo>
                    <a:lnTo>
                      <a:pt x="510" y="120"/>
                    </a:lnTo>
                    <a:lnTo>
                      <a:pt x="603" y="93"/>
                    </a:lnTo>
                    <a:lnTo>
                      <a:pt x="695" y="64"/>
                    </a:lnTo>
                    <a:lnTo>
                      <a:pt x="788" y="35"/>
                    </a:lnTo>
                    <a:lnTo>
                      <a:pt x="881" y="0"/>
                    </a:lnTo>
                    <a:lnTo>
                      <a:pt x="881" y="251"/>
                    </a:lnTo>
                    <a:lnTo>
                      <a:pt x="788" y="256"/>
                    </a:lnTo>
                    <a:lnTo>
                      <a:pt x="695" y="261"/>
                    </a:lnTo>
                    <a:lnTo>
                      <a:pt x="603" y="265"/>
                    </a:lnTo>
                    <a:lnTo>
                      <a:pt x="510" y="268"/>
                    </a:lnTo>
                    <a:lnTo>
                      <a:pt x="417" y="272"/>
                    </a:lnTo>
                    <a:lnTo>
                      <a:pt x="324" y="275"/>
                    </a:lnTo>
                    <a:lnTo>
                      <a:pt x="231" y="278"/>
                    </a:lnTo>
                    <a:lnTo>
                      <a:pt x="139" y="282"/>
                    </a:lnTo>
                    <a:lnTo>
                      <a:pt x="46" y="284"/>
                    </a:lnTo>
                    <a:lnTo>
                      <a:pt x="0" y="285"/>
                    </a:lnTo>
                    <a:lnTo>
                      <a:pt x="0" y="240"/>
                    </a:lnTo>
                    <a:close/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1" name="Freeform 176"/>
              <p:cNvSpPr/>
              <p:nvPr/>
            </p:nvSpPr>
            <p:spPr>
              <a:xfrm>
                <a:off x="7175520" y="2388600"/>
                <a:ext cx="1407960" cy="701640"/>
              </a:xfrm>
              <a:custGeom>
                <a:avLst/>
                <a:gdLst>
                  <a:gd name="textAreaLeft" fmla="*/ 0 w 1407960"/>
                  <a:gd name="textAreaRight" fmla="*/ 1408320 w 1407960"/>
                  <a:gd name="textAreaTop" fmla="*/ 0 h 701640"/>
                  <a:gd name="textAreaBottom" fmla="*/ 702000 h 701640"/>
                </a:gdLst>
                <a:ahLst/>
                <a:rect l="textAreaLeft" t="textAreaTop" r="textAreaRight" b="textAreaBottom"/>
                <a:pathLst>
                  <a:path w="881" h="285">
                    <a:moveTo>
                      <a:pt x="0" y="240"/>
                    </a:moveTo>
                    <a:lnTo>
                      <a:pt x="46" y="229"/>
                    </a:lnTo>
                    <a:lnTo>
                      <a:pt x="139" y="208"/>
                    </a:lnTo>
                    <a:lnTo>
                      <a:pt x="231" y="184"/>
                    </a:lnTo>
                    <a:lnTo>
                      <a:pt x="324" y="164"/>
                    </a:lnTo>
                    <a:lnTo>
                      <a:pt x="417" y="143"/>
                    </a:lnTo>
                    <a:lnTo>
                      <a:pt x="510" y="120"/>
                    </a:lnTo>
                    <a:lnTo>
                      <a:pt x="603" y="93"/>
                    </a:lnTo>
                    <a:lnTo>
                      <a:pt x="695" y="64"/>
                    </a:lnTo>
                    <a:lnTo>
                      <a:pt x="788" y="35"/>
                    </a:lnTo>
                    <a:lnTo>
                      <a:pt x="881" y="0"/>
                    </a:lnTo>
                    <a:lnTo>
                      <a:pt x="881" y="251"/>
                    </a:lnTo>
                    <a:lnTo>
                      <a:pt x="788" y="256"/>
                    </a:lnTo>
                    <a:lnTo>
                      <a:pt x="695" y="261"/>
                    </a:lnTo>
                    <a:lnTo>
                      <a:pt x="603" y="265"/>
                    </a:lnTo>
                    <a:lnTo>
                      <a:pt x="510" y="268"/>
                    </a:lnTo>
                    <a:lnTo>
                      <a:pt x="417" y="272"/>
                    </a:lnTo>
                    <a:lnTo>
                      <a:pt x="324" y="275"/>
                    </a:lnTo>
                    <a:lnTo>
                      <a:pt x="231" y="278"/>
                    </a:lnTo>
                    <a:lnTo>
                      <a:pt x="139" y="282"/>
                    </a:lnTo>
                    <a:lnTo>
                      <a:pt x="46" y="284"/>
                    </a:lnTo>
                    <a:lnTo>
                      <a:pt x="0" y="285"/>
                    </a:lnTo>
                    <a:lnTo>
                      <a:pt x="0" y="240"/>
                    </a:lnTo>
                    <a:close/>
                  </a:path>
                </a:pathLst>
              </a:custGeom>
              <a:noFill/>
              <a:ln w="3175">
                <a:solidFill>
                  <a:srgbClr val="20202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2" name="Freeform 177"/>
              <p:cNvSpPr/>
              <p:nvPr/>
            </p:nvSpPr>
            <p:spPr>
              <a:xfrm>
                <a:off x="7175520" y="3007080"/>
                <a:ext cx="1407960" cy="127080"/>
              </a:xfrm>
              <a:custGeom>
                <a:avLst/>
                <a:gdLst>
                  <a:gd name="textAreaLeft" fmla="*/ 0 w 1407960"/>
                  <a:gd name="textAreaRight" fmla="*/ 1408320 w 1407960"/>
                  <a:gd name="textAreaTop" fmla="*/ 0 h 127080"/>
                  <a:gd name="textAreaBottom" fmla="*/ 127440 h 127080"/>
                </a:gdLst>
                <a:ahLst/>
                <a:rect l="textAreaLeft" t="textAreaTop" r="textAreaRight" b="textAreaBottom"/>
                <a:pathLst>
                  <a:path w="881" h="51">
                    <a:moveTo>
                      <a:pt x="0" y="34"/>
                    </a:moveTo>
                    <a:lnTo>
                      <a:pt x="46" y="33"/>
                    </a:lnTo>
                    <a:lnTo>
                      <a:pt x="139" y="30"/>
                    </a:lnTo>
                    <a:lnTo>
                      <a:pt x="231" y="27"/>
                    </a:lnTo>
                    <a:lnTo>
                      <a:pt x="324" y="24"/>
                    </a:lnTo>
                    <a:lnTo>
                      <a:pt x="417" y="20"/>
                    </a:lnTo>
                    <a:lnTo>
                      <a:pt x="510" y="17"/>
                    </a:lnTo>
                    <a:lnTo>
                      <a:pt x="603" y="13"/>
                    </a:lnTo>
                    <a:lnTo>
                      <a:pt x="695" y="9"/>
                    </a:lnTo>
                    <a:lnTo>
                      <a:pt x="788" y="5"/>
                    </a:lnTo>
                    <a:lnTo>
                      <a:pt x="881" y="0"/>
                    </a:lnTo>
                    <a:lnTo>
                      <a:pt x="881" y="51"/>
                    </a:lnTo>
                    <a:lnTo>
                      <a:pt x="788" y="51"/>
                    </a:lnTo>
                    <a:lnTo>
                      <a:pt x="695" y="51"/>
                    </a:lnTo>
                    <a:lnTo>
                      <a:pt x="603" y="51"/>
                    </a:lnTo>
                    <a:lnTo>
                      <a:pt x="510" y="51"/>
                    </a:lnTo>
                    <a:lnTo>
                      <a:pt x="417" y="51"/>
                    </a:lnTo>
                    <a:lnTo>
                      <a:pt x="324" y="51"/>
                    </a:lnTo>
                    <a:lnTo>
                      <a:pt x="231" y="51"/>
                    </a:lnTo>
                    <a:lnTo>
                      <a:pt x="139" y="51"/>
                    </a:lnTo>
                    <a:lnTo>
                      <a:pt x="46" y="51"/>
                    </a:lnTo>
                    <a:lnTo>
                      <a:pt x="0" y="51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3" name="Freeform 178"/>
              <p:cNvSpPr/>
              <p:nvPr/>
            </p:nvSpPr>
            <p:spPr>
              <a:xfrm>
                <a:off x="7175520" y="3007080"/>
                <a:ext cx="1407960" cy="127080"/>
              </a:xfrm>
              <a:custGeom>
                <a:avLst/>
                <a:gdLst>
                  <a:gd name="textAreaLeft" fmla="*/ 0 w 1407960"/>
                  <a:gd name="textAreaRight" fmla="*/ 1408320 w 1407960"/>
                  <a:gd name="textAreaTop" fmla="*/ 0 h 127080"/>
                  <a:gd name="textAreaBottom" fmla="*/ 127440 h 127080"/>
                </a:gdLst>
                <a:ahLst/>
                <a:rect l="textAreaLeft" t="textAreaTop" r="textAreaRight" b="textAreaBottom"/>
                <a:pathLst>
                  <a:path w="881" h="51">
                    <a:moveTo>
                      <a:pt x="0" y="34"/>
                    </a:moveTo>
                    <a:lnTo>
                      <a:pt x="46" y="33"/>
                    </a:lnTo>
                    <a:lnTo>
                      <a:pt x="139" y="30"/>
                    </a:lnTo>
                    <a:lnTo>
                      <a:pt x="231" y="27"/>
                    </a:lnTo>
                    <a:lnTo>
                      <a:pt x="324" y="24"/>
                    </a:lnTo>
                    <a:lnTo>
                      <a:pt x="417" y="20"/>
                    </a:lnTo>
                    <a:lnTo>
                      <a:pt x="510" y="17"/>
                    </a:lnTo>
                    <a:lnTo>
                      <a:pt x="603" y="13"/>
                    </a:lnTo>
                    <a:lnTo>
                      <a:pt x="695" y="9"/>
                    </a:lnTo>
                    <a:lnTo>
                      <a:pt x="788" y="5"/>
                    </a:lnTo>
                    <a:lnTo>
                      <a:pt x="881" y="0"/>
                    </a:lnTo>
                    <a:lnTo>
                      <a:pt x="881" y="51"/>
                    </a:lnTo>
                    <a:lnTo>
                      <a:pt x="788" y="51"/>
                    </a:lnTo>
                    <a:lnTo>
                      <a:pt x="695" y="51"/>
                    </a:lnTo>
                    <a:lnTo>
                      <a:pt x="603" y="51"/>
                    </a:lnTo>
                    <a:lnTo>
                      <a:pt x="510" y="51"/>
                    </a:lnTo>
                    <a:lnTo>
                      <a:pt x="417" y="51"/>
                    </a:lnTo>
                    <a:lnTo>
                      <a:pt x="324" y="51"/>
                    </a:lnTo>
                    <a:lnTo>
                      <a:pt x="231" y="51"/>
                    </a:lnTo>
                    <a:lnTo>
                      <a:pt x="139" y="51"/>
                    </a:lnTo>
                    <a:lnTo>
                      <a:pt x="46" y="51"/>
                    </a:lnTo>
                    <a:lnTo>
                      <a:pt x="0" y="51"/>
                    </a:lnTo>
                    <a:lnTo>
                      <a:pt x="0" y="34"/>
                    </a:lnTo>
                    <a:close/>
                  </a:path>
                </a:pathLst>
              </a:custGeom>
              <a:noFill/>
              <a:ln w="3175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4" name="Freeform 179"/>
              <p:cNvSpPr/>
              <p:nvPr/>
            </p:nvSpPr>
            <p:spPr>
              <a:xfrm>
                <a:off x="4879440" y="2692800"/>
                <a:ext cx="2310120" cy="414360"/>
              </a:xfrm>
              <a:custGeom>
                <a:avLst/>
                <a:gdLst>
                  <a:gd name="textAreaLeft" fmla="*/ 0 w 2310120"/>
                  <a:gd name="textAreaRight" fmla="*/ 2310480 w 2310120"/>
                  <a:gd name="textAreaTop" fmla="*/ 0 h 414360"/>
                  <a:gd name="textAreaBottom" fmla="*/ 414720 h 414360"/>
                </a:gdLst>
                <a:ahLst/>
                <a:rect l="textAreaLeft" t="textAreaTop" r="textAreaRight" b="textAreaBottom"/>
                <a:pathLst>
                  <a:path w="1447" h="169">
                    <a:moveTo>
                      <a:pt x="0" y="168"/>
                    </a:moveTo>
                    <a:lnTo>
                      <a:pt x="9" y="168"/>
                    </a:lnTo>
                    <a:lnTo>
                      <a:pt x="18" y="169"/>
                    </a:lnTo>
                    <a:lnTo>
                      <a:pt x="27" y="168"/>
                    </a:lnTo>
                    <a:lnTo>
                      <a:pt x="37" y="168"/>
                    </a:lnTo>
                    <a:lnTo>
                      <a:pt x="46" y="168"/>
                    </a:lnTo>
                    <a:lnTo>
                      <a:pt x="55" y="168"/>
                    </a:lnTo>
                    <a:lnTo>
                      <a:pt x="64" y="168"/>
                    </a:lnTo>
                    <a:lnTo>
                      <a:pt x="74" y="168"/>
                    </a:lnTo>
                    <a:lnTo>
                      <a:pt x="83" y="168"/>
                    </a:lnTo>
                    <a:lnTo>
                      <a:pt x="92" y="168"/>
                    </a:lnTo>
                    <a:lnTo>
                      <a:pt x="102" y="168"/>
                    </a:lnTo>
                    <a:lnTo>
                      <a:pt x="111" y="167"/>
                    </a:lnTo>
                    <a:lnTo>
                      <a:pt x="120" y="167"/>
                    </a:lnTo>
                    <a:lnTo>
                      <a:pt x="129" y="167"/>
                    </a:lnTo>
                    <a:lnTo>
                      <a:pt x="139" y="167"/>
                    </a:lnTo>
                    <a:lnTo>
                      <a:pt x="148" y="167"/>
                    </a:lnTo>
                    <a:lnTo>
                      <a:pt x="157" y="167"/>
                    </a:lnTo>
                    <a:lnTo>
                      <a:pt x="167" y="167"/>
                    </a:lnTo>
                    <a:lnTo>
                      <a:pt x="176" y="167"/>
                    </a:lnTo>
                    <a:lnTo>
                      <a:pt x="185" y="166"/>
                    </a:lnTo>
                    <a:lnTo>
                      <a:pt x="194" y="166"/>
                    </a:lnTo>
                    <a:lnTo>
                      <a:pt x="204" y="166"/>
                    </a:lnTo>
                    <a:lnTo>
                      <a:pt x="213" y="166"/>
                    </a:lnTo>
                    <a:lnTo>
                      <a:pt x="222" y="166"/>
                    </a:lnTo>
                    <a:lnTo>
                      <a:pt x="232" y="166"/>
                    </a:lnTo>
                    <a:lnTo>
                      <a:pt x="241" y="166"/>
                    </a:lnTo>
                    <a:lnTo>
                      <a:pt x="250" y="165"/>
                    </a:lnTo>
                    <a:lnTo>
                      <a:pt x="259" y="165"/>
                    </a:lnTo>
                    <a:lnTo>
                      <a:pt x="269" y="165"/>
                    </a:lnTo>
                    <a:lnTo>
                      <a:pt x="278" y="165"/>
                    </a:lnTo>
                    <a:lnTo>
                      <a:pt x="287" y="165"/>
                    </a:lnTo>
                    <a:lnTo>
                      <a:pt x="296" y="164"/>
                    </a:lnTo>
                    <a:lnTo>
                      <a:pt x="306" y="164"/>
                    </a:lnTo>
                    <a:lnTo>
                      <a:pt x="315" y="164"/>
                    </a:lnTo>
                    <a:lnTo>
                      <a:pt x="324" y="164"/>
                    </a:lnTo>
                    <a:lnTo>
                      <a:pt x="334" y="164"/>
                    </a:lnTo>
                    <a:lnTo>
                      <a:pt x="343" y="164"/>
                    </a:lnTo>
                    <a:lnTo>
                      <a:pt x="352" y="163"/>
                    </a:lnTo>
                    <a:lnTo>
                      <a:pt x="361" y="163"/>
                    </a:lnTo>
                    <a:lnTo>
                      <a:pt x="371" y="163"/>
                    </a:lnTo>
                    <a:lnTo>
                      <a:pt x="380" y="163"/>
                    </a:lnTo>
                    <a:lnTo>
                      <a:pt x="389" y="163"/>
                    </a:lnTo>
                    <a:lnTo>
                      <a:pt x="399" y="163"/>
                    </a:lnTo>
                    <a:lnTo>
                      <a:pt x="408" y="162"/>
                    </a:lnTo>
                    <a:lnTo>
                      <a:pt x="417" y="162"/>
                    </a:lnTo>
                    <a:lnTo>
                      <a:pt x="426" y="162"/>
                    </a:lnTo>
                    <a:lnTo>
                      <a:pt x="436" y="162"/>
                    </a:lnTo>
                    <a:lnTo>
                      <a:pt x="445" y="161"/>
                    </a:lnTo>
                    <a:lnTo>
                      <a:pt x="454" y="161"/>
                    </a:lnTo>
                    <a:lnTo>
                      <a:pt x="464" y="160"/>
                    </a:lnTo>
                    <a:lnTo>
                      <a:pt x="473" y="160"/>
                    </a:lnTo>
                    <a:lnTo>
                      <a:pt x="482" y="160"/>
                    </a:lnTo>
                    <a:lnTo>
                      <a:pt x="491" y="159"/>
                    </a:lnTo>
                    <a:lnTo>
                      <a:pt x="501" y="159"/>
                    </a:lnTo>
                    <a:lnTo>
                      <a:pt x="510" y="158"/>
                    </a:lnTo>
                    <a:lnTo>
                      <a:pt x="519" y="157"/>
                    </a:lnTo>
                    <a:lnTo>
                      <a:pt x="528" y="156"/>
                    </a:lnTo>
                    <a:lnTo>
                      <a:pt x="538" y="157"/>
                    </a:lnTo>
                    <a:lnTo>
                      <a:pt x="547" y="156"/>
                    </a:lnTo>
                    <a:lnTo>
                      <a:pt x="556" y="156"/>
                    </a:lnTo>
                    <a:lnTo>
                      <a:pt x="566" y="155"/>
                    </a:lnTo>
                    <a:lnTo>
                      <a:pt x="575" y="155"/>
                    </a:lnTo>
                    <a:lnTo>
                      <a:pt x="584" y="154"/>
                    </a:lnTo>
                    <a:lnTo>
                      <a:pt x="593" y="155"/>
                    </a:lnTo>
                    <a:lnTo>
                      <a:pt x="603" y="155"/>
                    </a:lnTo>
                    <a:lnTo>
                      <a:pt x="612" y="154"/>
                    </a:lnTo>
                    <a:lnTo>
                      <a:pt x="621" y="153"/>
                    </a:lnTo>
                    <a:lnTo>
                      <a:pt x="631" y="153"/>
                    </a:lnTo>
                    <a:lnTo>
                      <a:pt x="640" y="155"/>
                    </a:lnTo>
                    <a:lnTo>
                      <a:pt x="649" y="153"/>
                    </a:lnTo>
                    <a:lnTo>
                      <a:pt x="658" y="155"/>
                    </a:lnTo>
                    <a:lnTo>
                      <a:pt x="668" y="154"/>
                    </a:lnTo>
                    <a:lnTo>
                      <a:pt x="677" y="152"/>
                    </a:lnTo>
                    <a:lnTo>
                      <a:pt x="686" y="152"/>
                    </a:lnTo>
                    <a:lnTo>
                      <a:pt x="696" y="151"/>
                    </a:lnTo>
                    <a:lnTo>
                      <a:pt x="705" y="151"/>
                    </a:lnTo>
                    <a:lnTo>
                      <a:pt x="714" y="150"/>
                    </a:lnTo>
                    <a:lnTo>
                      <a:pt x="723" y="149"/>
                    </a:lnTo>
                    <a:lnTo>
                      <a:pt x="733" y="148"/>
                    </a:lnTo>
                    <a:lnTo>
                      <a:pt x="742" y="149"/>
                    </a:lnTo>
                    <a:lnTo>
                      <a:pt x="751" y="150"/>
                    </a:lnTo>
                    <a:lnTo>
                      <a:pt x="760" y="152"/>
                    </a:lnTo>
                    <a:lnTo>
                      <a:pt x="770" y="151"/>
                    </a:lnTo>
                    <a:lnTo>
                      <a:pt x="779" y="150"/>
                    </a:lnTo>
                    <a:lnTo>
                      <a:pt x="788" y="149"/>
                    </a:lnTo>
                    <a:lnTo>
                      <a:pt x="798" y="148"/>
                    </a:lnTo>
                    <a:lnTo>
                      <a:pt x="807" y="147"/>
                    </a:lnTo>
                    <a:lnTo>
                      <a:pt x="816" y="147"/>
                    </a:lnTo>
                    <a:lnTo>
                      <a:pt x="825" y="145"/>
                    </a:lnTo>
                    <a:lnTo>
                      <a:pt x="835" y="145"/>
                    </a:lnTo>
                    <a:lnTo>
                      <a:pt x="844" y="143"/>
                    </a:lnTo>
                    <a:lnTo>
                      <a:pt x="853" y="142"/>
                    </a:lnTo>
                    <a:lnTo>
                      <a:pt x="863" y="142"/>
                    </a:lnTo>
                    <a:lnTo>
                      <a:pt x="872" y="142"/>
                    </a:lnTo>
                    <a:lnTo>
                      <a:pt x="881" y="145"/>
                    </a:lnTo>
                    <a:lnTo>
                      <a:pt x="890" y="143"/>
                    </a:lnTo>
                    <a:lnTo>
                      <a:pt x="900" y="141"/>
                    </a:lnTo>
                    <a:lnTo>
                      <a:pt x="909" y="140"/>
                    </a:lnTo>
                    <a:lnTo>
                      <a:pt x="918" y="140"/>
                    </a:lnTo>
                    <a:lnTo>
                      <a:pt x="928" y="137"/>
                    </a:lnTo>
                    <a:lnTo>
                      <a:pt x="937" y="136"/>
                    </a:lnTo>
                    <a:lnTo>
                      <a:pt x="946" y="135"/>
                    </a:lnTo>
                    <a:lnTo>
                      <a:pt x="955" y="134"/>
                    </a:lnTo>
                    <a:lnTo>
                      <a:pt x="965" y="133"/>
                    </a:lnTo>
                    <a:lnTo>
                      <a:pt x="974" y="131"/>
                    </a:lnTo>
                    <a:lnTo>
                      <a:pt x="983" y="129"/>
                    </a:lnTo>
                    <a:lnTo>
                      <a:pt x="992" y="126"/>
                    </a:lnTo>
                    <a:lnTo>
                      <a:pt x="1002" y="124"/>
                    </a:lnTo>
                    <a:lnTo>
                      <a:pt x="1011" y="122"/>
                    </a:lnTo>
                    <a:lnTo>
                      <a:pt x="1020" y="120"/>
                    </a:lnTo>
                    <a:lnTo>
                      <a:pt x="1030" y="118"/>
                    </a:lnTo>
                    <a:lnTo>
                      <a:pt x="1039" y="115"/>
                    </a:lnTo>
                    <a:lnTo>
                      <a:pt x="1048" y="112"/>
                    </a:lnTo>
                    <a:lnTo>
                      <a:pt x="1057" y="109"/>
                    </a:lnTo>
                    <a:lnTo>
                      <a:pt x="1067" y="109"/>
                    </a:lnTo>
                    <a:lnTo>
                      <a:pt x="1076" y="106"/>
                    </a:lnTo>
                    <a:lnTo>
                      <a:pt x="1085" y="104"/>
                    </a:lnTo>
                    <a:lnTo>
                      <a:pt x="1095" y="101"/>
                    </a:lnTo>
                    <a:lnTo>
                      <a:pt x="1104" y="97"/>
                    </a:lnTo>
                    <a:lnTo>
                      <a:pt x="1113" y="94"/>
                    </a:lnTo>
                    <a:lnTo>
                      <a:pt x="1122" y="91"/>
                    </a:lnTo>
                    <a:lnTo>
                      <a:pt x="1132" y="86"/>
                    </a:lnTo>
                    <a:lnTo>
                      <a:pt x="1141" y="81"/>
                    </a:lnTo>
                    <a:lnTo>
                      <a:pt x="1150" y="81"/>
                    </a:lnTo>
                    <a:lnTo>
                      <a:pt x="1160" y="81"/>
                    </a:lnTo>
                    <a:lnTo>
                      <a:pt x="1169" y="75"/>
                    </a:lnTo>
                    <a:lnTo>
                      <a:pt x="1178" y="72"/>
                    </a:lnTo>
                    <a:lnTo>
                      <a:pt x="1187" y="68"/>
                    </a:lnTo>
                    <a:lnTo>
                      <a:pt x="1197" y="65"/>
                    </a:lnTo>
                    <a:lnTo>
                      <a:pt x="1206" y="65"/>
                    </a:lnTo>
                    <a:lnTo>
                      <a:pt x="1215" y="66"/>
                    </a:lnTo>
                    <a:lnTo>
                      <a:pt x="1224" y="66"/>
                    </a:lnTo>
                    <a:lnTo>
                      <a:pt x="1234" y="66"/>
                    </a:lnTo>
                    <a:lnTo>
                      <a:pt x="1243" y="62"/>
                    </a:lnTo>
                    <a:lnTo>
                      <a:pt x="1252" y="59"/>
                    </a:lnTo>
                    <a:lnTo>
                      <a:pt x="1262" y="57"/>
                    </a:lnTo>
                    <a:lnTo>
                      <a:pt x="1271" y="52"/>
                    </a:lnTo>
                    <a:lnTo>
                      <a:pt x="1280" y="48"/>
                    </a:lnTo>
                    <a:lnTo>
                      <a:pt x="1289" y="46"/>
                    </a:lnTo>
                    <a:lnTo>
                      <a:pt x="1299" y="44"/>
                    </a:lnTo>
                    <a:lnTo>
                      <a:pt x="1308" y="43"/>
                    </a:lnTo>
                    <a:lnTo>
                      <a:pt x="1317" y="43"/>
                    </a:lnTo>
                    <a:lnTo>
                      <a:pt x="1327" y="42"/>
                    </a:lnTo>
                    <a:lnTo>
                      <a:pt x="1336" y="41"/>
                    </a:lnTo>
                    <a:lnTo>
                      <a:pt x="1345" y="38"/>
                    </a:lnTo>
                    <a:lnTo>
                      <a:pt x="1354" y="34"/>
                    </a:lnTo>
                    <a:lnTo>
                      <a:pt x="1364" y="33"/>
                    </a:lnTo>
                    <a:lnTo>
                      <a:pt x="1373" y="32"/>
                    </a:lnTo>
                    <a:lnTo>
                      <a:pt x="1382" y="29"/>
                    </a:lnTo>
                    <a:lnTo>
                      <a:pt x="1392" y="26"/>
                    </a:lnTo>
                    <a:lnTo>
                      <a:pt x="1401" y="26"/>
                    </a:lnTo>
                    <a:lnTo>
                      <a:pt x="1410" y="22"/>
                    </a:lnTo>
                    <a:lnTo>
                      <a:pt x="1419" y="16"/>
                    </a:lnTo>
                    <a:lnTo>
                      <a:pt x="1429" y="8"/>
                    </a:lnTo>
                    <a:lnTo>
                      <a:pt x="1438" y="4"/>
                    </a:lnTo>
                    <a:lnTo>
                      <a:pt x="1447" y="0"/>
                    </a:lnTo>
                    <a:lnTo>
                      <a:pt x="1447" y="4"/>
                    </a:lnTo>
                    <a:lnTo>
                      <a:pt x="1438" y="8"/>
                    </a:lnTo>
                    <a:lnTo>
                      <a:pt x="1429" y="12"/>
                    </a:lnTo>
                    <a:lnTo>
                      <a:pt x="1419" y="20"/>
                    </a:lnTo>
                    <a:lnTo>
                      <a:pt x="1410" y="26"/>
                    </a:lnTo>
                    <a:lnTo>
                      <a:pt x="1401" y="29"/>
                    </a:lnTo>
                    <a:lnTo>
                      <a:pt x="1392" y="30"/>
                    </a:lnTo>
                    <a:lnTo>
                      <a:pt x="1382" y="33"/>
                    </a:lnTo>
                    <a:lnTo>
                      <a:pt x="1373" y="36"/>
                    </a:lnTo>
                    <a:lnTo>
                      <a:pt x="1364" y="36"/>
                    </a:lnTo>
                    <a:lnTo>
                      <a:pt x="1354" y="38"/>
                    </a:lnTo>
                    <a:lnTo>
                      <a:pt x="1345" y="41"/>
                    </a:lnTo>
                    <a:lnTo>
                      <a:pt x="1336" y="44"/>
                    </a:lnTo>
                    <a:lnTo>
                      <a:pt x="1327" y="45"/>
                    </a:lnTo>
                    <a:lnTo>
                      <a:pt x="1317" y="46"/>
                    </a:lnTo>
                    <a:lnTo>
                      <a:pt x="1308" y="46"/>
                    </a:lnTo>
                    <a:lnTo>
                      <a:pt x="1299" y="47"/>
                    </a:lnTo>
                    <a:lnTo>
                      <a:pt x="1289" y="49"/>
                    </a:lnTo>
                    <a:lnTo>
                      <a:pt x="1280" y="51"/>
                    </a:lnTo>
                    <a:lnTo>
                      <a:pt x="1271" y="55"/>
                    </a:lnTo>
                    <a:lnTo>
                      <a:pt x="1262" y="60"/>
                    </a:lnTo>
                    <a:lnTo>
                      <a:pt x="1252" y="62"/>
                    </a:lnTo>
                    <a:lnTo>
                      <a:pt x="1243" y="64"/>
                    </a:lnTo>
                    <a:lnTo>
                      <a:pt x="1234" y="68"/>
                    </a:lnTo>
                    <a:lnTo>
                      <a:pt x="1224" y="69"/>
                    </a:lnTo>
                    <a:lnTo>
                      <a:pt x="1215" y="69"/>
                    </a:lnTo>
                    <a:lnTo>
                      <a:pt x="1206" y="67"/>
                    </a:lnTo>
                    <a:lnTo>
                      <a:pt x="1197" y="67"/>
                    </a:lnTo>
                    <a:lnTo>
                      <a:pt x="1187" y="70"/>
                    </a:lnTo>
                    <a:lnTo>
                      <a:pt x="1178" y="74"/>
                    </a:lnTo>
                    <a:lnTo>
                      <a:pt x="1169" y="77"/>
                    </a:lnTo>
                    <a:lnTo>
                      <a:pt x="1160" y="83"/>
                    </a:lnTo>
                    <a:lnTo>
                      <a:pt x="1150" y="83"/>
                    </a:lnTo>
                    <a:lnTo>
                      <a:pt x="1141" y="83"/>
                    </a:lnTo>
                    <a:lnTo>
                      <a:pt x="1132" y="88"/>
                    </a:lnTo>
                    <a:lnTo>
                      <a:pt x="1122" y="92"/>
                    </a:lnTo>
                    <a:lnTo>
                      <a:pt x="1113" y="95"/>
                    </a:lnTo>
                    <a:lnTo>
                      <a:pt x="1104" y="99"/>
                    </a:lnTo>
                    <a:lnTo>
                      <a:pt x="1095" y="102"/>
                    </a:lnTo>
                    <a:lnTo>
                      <a:pt x="1085" y="106"/>
                    </a:lnTo>
                    <a:lnTo>
                      <a:pt x="1076" y="107"/>
                    </a:lnTo>
                    <a:lnTo>
                      <a:pt x="1067" y="110"/>
                    </a:lnTo>
                    <a:lnTo>
                      <a:pt x="1057" y="110"/>
                    </a:lnTo>
                    <a:lnTo>
                      <a:pt x="1048" y="113"/>
                    </a:lnTo>
                    <a:lnTo>
                      <a:pt x="1039" y="116"/>
                    </a:lnTo>
                    <a:lnTo>
                      <a:pt x="1030" y="119"/>
                    </a:lnTo>
                    <a:lnTo>
                      <a:pt x="1020" y="121"/>
                    </a:lnTo>
                    <a:lnTo>
                      <a:pt x="1011" y="123"/>
                    </a:lnTo>
                    <a:lnTo>
                      <a:pt x="1002" y="125"/>
                    </a:lnTo>
                    <a:lnTo>
                      <a:pt x="992" y="127"/>
                    </a:lnTo>
                    <a:lnTo>
                      <a:pt x="983" y="130"/>
                    </a:lnTo>
                    <a:lnTo>
                      <a:pt x="974" y="132"/>
                    </a:lnTo>
                    <a:lnTo>
                      <a:pt x="965" y="134"/>
                    </a:lnTo>
                    <a:lnTo>
                      <a:pt x="955" y="134"/>
                    </a:lnTo>
                    <a:lnTo>
                      <a:pt x="946" y="136"/>
                    </a:lnTo>
                    <a:lnTo>
                      <a:pt x="937" y="137"/>
                    </a:lnTo>
                    <a:lnTo>
                      <a:pt x="928" y="138"/>
                    </a:lnTo>
                    <a:lnTo>
                      <a:pt x="918" y="141"/>
                    </a:lnTo>
                    <a:lnTo>
                      <a:pt x="909" y="141"/>
                    </a:lnTo>
                    <a:lnTo>
                      <a:pt x="900" y="142"/>
                    </a:lnTo>
                    <a:lnTo>
                      <a:pt x="890" y="144"/>
                    </a:lnTo>
                    <a:lnTo>
                      <a:pt x="881" y="146"/>
                    </a:lnTo>
                    <a:lnTo>
                      <a:pt x="872" y="143"/>
                    </a:lnTo>
                    <a:lnTo>
                      <a:pt x="863" y="142"/>
                    </a:lnTo>
                    <a:lnTo>
                      <a:pt x="853" y="143"/>
                    </a:lnTo>
                    <a:lnTo>
                      <a:pt x="844" y="144"/>
                    </a:lnTo>
                    <a:lnTo>
                      <a:pt x="835" y="146"/>
                    </a:lnTo>
                    <a:lnTo>
                      <a:pt x="825" y="146"/>
                    </a:lnTo>
                    <a:lnTo>
                      <a:pt x="816" y="148"/>
                    </a:lnTo>
                    <a:lnTo>
                      <a:pt x="807" y="147"/>
                    </a:lnTo>
                    <a:lnTo>
                      <a:pt x="798" y="148"/>
                    </a:lnTo>
                    <a:lnTo>
                      <a:pt x="788" y="150"/>
                    </a:lnTo>
                    <a:lnTo>
                      <a:pt x="779" y="151"/>
                    </a:lnTo>
                    <a:lnTo>
                      <a:pt x="770" y="152"/>
                    </a:lnTo>
                    <a:lnTo>
                      <a:pt x="760" y="152"/>
                    </a:lnTo>
                    <a:lnTo>
                      <a:pt x="751" y="151"/>
                    </a:lnTo>
                    <a:lnTo>
                      <a:pt x="742" y="150"/>
                    </a:lnTo>
                    <a:lnTo>
                      <a:pt x="733" y="149"/>
                    </a:lnTo>
                    <a:lnTo>
                      <a:pt x="723" y="149"/>
                    </a:lnTo>
                    <a:lnTo>
                      <a:pt x="714" y="150"/>
                    </a:lnTo>
                    <a:lnTo>
                      <a:pt x="705" y="151"/>
                    </a:lnTo>
                    <a:lnTo>
                      <a:pt x="696" y="151"/>
                    </a:lnTo>
                    <a:lnTo>
                      <a:pt x="686" y="152"/>
                    </a:lnTo>
                    <a:lnTo>
                      <a:pt x="677" y="152"/>
                    </a:lnTo>
                    <a:lnTo>
                      <a:pt x="668" y="154"/>
                    </a:lnTo>
                    <a:lnTo>
                      <a:pt x="658" y="155"/>
                    </a:lnTo>
                    <a:lnTo>
                      <a:pt x="649" y="153"/>
                    </a:lnTo>
                    <a:lnTo>
                      <a:pt x="640" y="155"/>
                    </a:lnTo>
                    <a:lnTo>
                      <a:pt x="631" y="153"/>
                    </a:lnTo>
                    <a:lnTo>
                      <a:pt x="621" y="153"/>
                    </a:lnTo>
                    <a:lnTo>
                      <a:pt x="612" y="154"/>
                    </a:lnTo>
                    <a:lnTo>
                      <a:pt x="603" y="155"/>
                    </a:lnTo>
                    <a:lnTo>
                      <a:pt x="593" y="155"/>
                    </a:lnTo>
                    <a:lnTo>
                      <a:pt x="584" y="154"/>
                    </a:lnTo>
                    <a:lnTo>
                      <a:pt x="575" y="155"/>
                    </a:lnTo>
                    <a:lnTo>
                      <a:pt x="566" y="155"/>
                    </a:lnTo>
                    <a:lnTo>
                      <a:pt x="556" y="156"/>
                    </a:lnTo>
                    <a:lnTo>
                      <a:pt x="547" y="156"/>
                    </a:lnTo>
                    <a:lnTo>
                      <a:pt x="538" y="157"/>
                    </a:lnTo>
                    <a:lnTo>
                      <a:pt x="528" y="156"/>
                    </a:lnTo>
                    <a:lnTo>
                      <a:pt x="519" y="157"/>
                    </a:lnTo>
                    <a:lnTo>
                      <a:pt x="510" y="158"/>
                    </a:lnTo>
                    <a:lnTo>
                      <a:pt x="501" y="159"/>
                    </a:lnTo>
                    <a:lnTo>
                      <a:pt x="491" y="159"/>
                    </a:lnTo>
                    <a:lnTo>
                      <a:pt x="482" y="160"/>
                    </a:lnTo>
                    <a:lnTo>
                      <a:pt x="473" y="160"/>
                    </a:lnTo>
                    <a:lnTo>
                      <a:pt x="464" y="160"/>
                    </a:lnTo>
                    <a:lnTo>
                      <a:pt x="454" y="161"/>
                    </a:lnTo>
                    <a:lnTo>
                      <a:pt x="445" y="161"/>
                    </a:lnTo>
                    <a:lnTo>
                      <a:pt x="436" y="162"/>
                    </a:lnTo>
                    <a:lnTo>
                      <a:pt x="426" y="162"/>
                    </a:lnTo>
                    <a:lnTo>
                      <a:pt x="417" y="162"/>
                    </a:lnTo>
                    <a:lnTo>
                      <a:pt x="408" y="162"/>
                    </a:lnTo>
                    <a:lnTo>
                      <a:pt x="399" y="163"/>
                    </a:lnTo>
                    <a:lnTo>
                      <a:pt x="389" y="163"/>
                    </a:lnTo>
                    <a:lnTo>
                      <a:pt x="380" y="163"/>
                    </a:lnTo>
                    <a:lnTo>
                      <a:pt x="371" y="163"/>
                    </a:lnTo>
                    <a:lnTo>
                      <a:pt x="361" y="163"/>
                    </a:lnTo>
                    <a:lnTo>
                      <a:pt x="352" y="163"/>
                    </a:lnTo>
                    <a:lnTo>
                      <a:pt x="343" y="164"/>
                    </a:lnTo>
                    <a:lnTo>
                      <a:pt x="334" y="164"/>
                    </a:lnTo>
                    <a:lnTo>
                      <a:pt x="324" y="164"/>
                    </a:lnTo>
                    <a:lnTo>
                      <a:pt x="315" y="164"/>
                    </a:lnTo>
                    <a:lnTo>
                      <a:pt x="306" y="164"/>
                    </a:lnTo>
                    <a:lnTo>
                      <a:pt x="296" y="164"/>
                    </a:lnTo>
                    <a:lnTo>
                      <a:pt x="287" y="165"/>
                    </a:lnTo>
                    <a:lnTo>
                      <a:pt x="278" y="165"/>
                    </a:lnTo>
                    <a:lnTo>
                      <a:pt x="269" y="165"/>
                    </a:lnTo>
                    <a:lnTo>
                      <a:pt x="259" y="165"/>
                    </a:lnTo>
                    <a:lnTo>
                      <a:pt x="250" y="165"/>
                    </a:lnTo>
                    <a:lnTo>
                      <a:pt x="241" y="166"/>
                    </a:lnTo>
                    <a:lnTo>
                      <a:pt x="232" y="166"/>
                    </a:lnTo>
                    <a:lnTo>
                      <a:pt x="222" y="166"/>
                    </a:lnTo>
                    <a:lnTo>
                      <a:pt x="213" y="166"/>
                    </a:lnTo>
                    <a:lnTo>
                      <a:pt x="204" y="166"/>
                    </a:lnTo>
                    <a:lnTo>
                      <a:pt x="194" y="166"/>
                    </a:lnTo>
                    <a:lnTo>
                      <a:pt x="185" y="166"/>
                    </a:lnTo>
                    <a:lnTo>
                      <a:pt x="176" y="167"/>
                    </a:lnTo>
                    <a:lnTo>
                      <a:pt x="167" y="167"/>
                    </a:lnTo>
                    <a:lnTo>
                      <a:pt x="157" y="167"/>
                    </a:lnTo>
                    <a:lnTo>
                      <a:pt x="148" y="167"/>
                    </a:lnTo>
                    <a:lnTo>
                      <a:pt x="139" y="167"/>
                    </a:lnTo>
                    <a:lnTo>
                      <a:pt x="129" y="167"/>
                    </a:lnTo>
                    <a:lnTo>
                      <a:pt x="120" y="167"/>
                    </a:lnTo>
                    <a:lnTo>
                      <a:pt x="111" y="167"/>
                    </a:lnTo>
                    <a:lnTo>
                      <a:pt x="102" y="168"/>
                    </a:lnTo>
                    <a:lnTo>
                      <a:pt x="92" y="168"/>
                    </a:lnTo>
                    <a:lnTo>
                      <a:pt x="83" y="168"/>
                    </a:lnTo>
                    <a:lnTo>
                      <a:pt x="74" y="168"/>
                    </a:lnTo>
                    <a:lnTo>
                      <a:pt x="64" y="168"/>
                    </a:lnTo>
                    <a:lnTo>
                      <a:pt x="55" y="168"/>
                    </a:lnTo>
                    <a:lnTo>
                      <a:pt x="46" y="168"/>
                    </a:lnTo>
                    <a:lnTo>
                      <a:pt x="37" y="168"/>
                    </a:lnTo>
                    <a:lnTo>
                      <a:pt x="27" y="168"/>
                    </a:lnTo>
                    <a:lnTo>
                      <a:pt x="18" y="169"/>
                    </a:lnTo>
                    <a:lnTo>
                      <a:pt x="9" y="168"/>
                    </a:lnTo>
                    <a:lnTo>
                      <a:pt x="0" y="168"/>
                    </a:lnTo>
                    <a:close/>
                  </a:path>
                </a:pathLst>
              </a:custGeom>
              <a:solidFill>
                <a:srgbClr val="ffc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5" name="Freeform 180"/>
              <p:cNvSpPr/>
              <p:nvPr/>
            </p:nvSpPr>
            <p:spPr>
              <a:xfrm>
                <a:off x="4879440" y="2692800"/>
                <a:ext cx="2310120" cy="414360"/>
              </a:xfrm>
              <a:custGeom>
                <a:avLst/>
                <a:gdLst>
                  <a:gd name="textAreaLeft" fmla="*/ 0 w 2310120"/>
                  <a:gd name="textAreaRight" fmla="*/ 2310480 w 2310120"/>
                  <a:gd name="textAreaTop" fmla="*/ 0 h 414360"/>
                  <a:gd name="textAreaBottom" fmla="*/ 414720 h 414360"/>
                </a:gdLst>
                <a:ahLst/>
                <a:rect l="textAreaLeft" t="textAreaTop" r="textAreaRight" b="textAreaBottom"/>
                <a:pathLst>
                  <a:path w="1447" h="169">
                    <a:moveTo>
                      <a:pt x="0" y="168"/>
                    </a:moveTo>
                    <a:lnTo>
                      <a:pt x="9" y="168"/>
                    </a:lnTo>
                    <a:lnTo>
                      <a:pt x="18" y="169"/>
                    </a:lnTo>
                    <a:lnTo>
                      <a:pt x="27" y="168"/>
                    </a:lnTo>
                    <a:lnTo>
                      <a:pt x="37" y="168"/>
                    </a:lnTo>
                    <a:lnTo>
                      <a:pt x="46" y="168"/>
                    </a:lnTo>
                    <a:lnTo>
                      <a:pt x="55" y="168"/>
                    </a:lnTo>
                    <a:lnTo>
                      <a:pt x="64" y="168"/>
                    </a:lnTo>
                    <a:lnTo>
                      <a:pt x="74" y="168"/>
                    </a:lnTo>
                    <a:lnTo>
                      <a:pt x="83" y="168"/>
                    </a:lnTo>
                    <a:lnTo>
                      <a:pt x="92" y="168"/>
                    </a:lnTo>
                    <a:lnTo>
                      <a:pt x="102" y="168"/>
                    </a:lnTo>
                    <a:lnTo>
                      <a:pt x="111" y="167"/>
                    </a:lnTo>
                    <a:lnTo>
                      <a:pt x="120" y="167"/>
                    </a:lnTo>
                    <a:lnTo>
                      <a:pt x="129" y="167"/>
                    </a:lnTo>
                    <a:lnTo>
                      <a:pt x="139" y="167"/>
                    </a:lnTo>
                    <a:lnTo>
                      <a:pt x="148" y="167"/>
                    </a:lnTo>
                    <a:lnTo>
                      <a:pt x="157" y="167"/>
                    </a:lnTo>
                    <a:lnTo>
                      <a:pt x="167" y="167"/>
                    </a:lnTo>
                    <a:lnTo>
                      <a:pt x="176" y="167"/>
                    </a:lnTo>
                    <a:lnTo>
                      <a:pt x="185" y="166"/>
                    </a:lnTo>
                    <a:lnTo>
                      <a:pt x="194" y="166"/>
                    </a:lnTo>
                    <a:lnTo>
                      <a:pt x="204" y="166"/>
                    </a:lnTo>
                    <a:lnTo>
                      <a:pt x="213" y="166"/>
                    </a:lnTo>
                    <a:lnTo>
                      <a:pt x="222" y="166"/>
                    </a:lnTo>
                    <a:lnTo>
                      <a:pt x="232" y="166"/>
                    </a:lnTo>
                    <a:lnTo>
                      <a:pt x="241" y="166"/>
                    </a:lnTo>
                    <a:lnTo>
                      <a:pt x="250" y="165"/>
                    </a:lnTo>
                    <a:lnTo>
                      <a:pt x="259" y="165"/>
                    </a:lnTo>
                    <a:lnTo>
                      <a:pt x="269" y="165"/>
                    </a:lnTo>
                    <a:lnTo>
                      <a:pt x="278" y="165"/>
                    </a:lnTo>
                    <a:lnTo>
                      <a:pt x="287" y="165"/>
                    </a:lnTo>
                    <a:lnTo>
                      <a:pt x="296" y="164"/>
                    </a:lnTo>
                    <a:lnTo>
                      <a:pt x="306" y="164"/>
                    </a:lnTo>
                    <a:lnTo>
                      <a:pt x="315" y="164"/>
                    </a:lnTo>
                    <a:lnTo>
                      <a:pt x="324" y="164"/>
                    </a:lnTo>
                    <a:lnTo>
                      <a:pt x="334" y="164"/>
                    </a:lnTo>
                    <a:lnTo>
                      <a:pt x="343" y="164"/>
                    </a:lnTo>
                    <a:lnTo>
                      <a:pt x="352" y="163"/>
                    </a:lnTo>
                    <a:lnTo>
                      <a:pt x="361" y="163"/>
                    </a:lnTo>
                    <a:lnTo>
                      <a:pt x="371" y="163"/>
                    </a:lnTo>
                    <a:lnTo>
                      <a:pt x="380" y="163"/>
                    </a:lnTo>
                    <a:lnTo>
                      <a:pt x="389" y="163"/>
                    </a:lnTo>
                    <a:lnTo>
                      <a:pt x="399" y="163"/>
                    </a:lnTo>
                    <a:lnTo>
                      <a:pt x="408" y="162"/>
                    </a:lnTo>
                    <a:lnTo>
                      <a:pt x="417" y="162"/>
                    </a:lnTo>
                    <a:lnTo>
                      <a:pt x="426" y="162"/>
                    </a:lnTo>
                    <a:lnTo>
                      <a:pt x="436" y="162"/>
                    </a:lnTo>
                    <a:lnTo>
                      <a:pt x="445" y="161"/>
                    </a:lnTo>
                    <a:lnTo>
                      <a:pt x="454" y="161"/>
                    </a:lnTo>
                    <a:lnTo>
                      <a:pt x="464" y="160"/>
                    </a:lnTo>
                    <a:lnTo>
                      <a:pt x="473" y="160"/>
                    </a:lnTo>
                    <a:lnTo>
                      <a:pt x="482" y="160"/>
                    </a:lnTo>
                    <a:lnTo>
                      <a:pt x="491" y="159"/>
                    </a:lnTo>
                    <a:lnTo>
                      <a:pt x="501" y="159"/>
                    </a:lnTo>
                    <a:lnTo>
                      <a:pt x="510" y="158"/>
                    </a:lnTo>
                    <a:lnTo>
                      <a:pt x="519" y="157"/>
                    </a:lnTo>
                    <a:lnTo>
                      <a:pt x="528" y="156"/>
                    </a:lnTo>
                    <a:lnTo>
                      <a:pt x="538" y="157"/>
                    </a:lnTo>
                    <a:lnTo>
                      <a:pt x="547" y="156"/>
                    </a:lnTo>
                    <a:lnTo>
                      <a:pt x="556" y="156"/>
                    </a:lnTo>
                    <a:lnTo>
                      <a:pt x="566" y="155"/>
                    </a:lnTo>
                    <a:lnTo>
                      <a:pt x="575" y="155"/>
                    </a:lnTo>
                    <a:lnTo>
                      <a:pt x="584" y="154"/>
                    </a:lnTo>
                    <a:lnTo>
                      <a:pt x="593" y="155"/>
                    </a:lnTo>
                    <a:lnTo>
                      <a:pt x="603" y="155"/>
                    </a:lnTo>
                    <a:lnTo>
                      <a:pt x="612" y="154"/>
                    </a:lnTo>
                    <a:lnTo>
                      <a:pt x="621" y="153"/>
                    </a:lnTo>
                    <a:lnTo>
                      <a:pt x="631" y="153"/>
                    </a:lnTo>
                    <a:lnTo>
                      <a:pt x="640" y="155"/>
                    </a:lnTo>
                    <a:lnTo>
                      <a:pt x="649" y="153"/>
                    </a:lnTo>
                    <a:lnTo>
                      <a:pt x="658" y="155"/>
                    </a:lnTo>
                    <a:lnTo>
                      <a:pt x="668" y="154"/>
                    </a:lnTo>
                    <a:lnTo>
                      <a:pt x="677" y="152"/>
                    </a:lnTo>
                    <a:lnTo>
                      <a:pt x="686" y="152"/>
                    </a:lnTo>
                    <a:lnTo>
                      <a:pt x="696" y="151"/>
                    </a:lnTo>
                    <a:lnTo>
                      <a:pt x="705" y="151"/>
                    </a:lnTo>
                    <a:lnTo>
                      <a:pt x="714" y="150"/>
                    </a:lnTo>
                    <a:lnTo>
                      <a:pt x="723" y="149"/>
                    </a:lnTo>
                    <a:lnTo>
                      <a:pt x="733" y="148"/>
                    </a:lnTo>
                    <a:lnTo>
                      <a:pt x="742" y="149"/>
                    </a:lnTo>
                    <a:lnTo>
                      <a:pt x="751" y="150"/>
                    </a:lnTo>
                    <a:lnTo>
                      <a:pt x="760" y="152"/>
                    </a:lnTo>
                    <a:lnTo>
                      <a:pt x="770" y="151"/>
                    </a:lnTo>
                    <a:lnTo>
                      <a:pt x="779" y="150"/>
                    </a:lnTo>
                    <a:lnTo>
                      <a:pt x="788" y="149"/>
                    </a:lnTo>
                    <a:lnTo>
                      <a:pt x="798" y="148"/>
                    </a:lnTo>
                    <a:lnTo>
                      <a:pt x="807" y="147"/>
                    </a:lnTo>
                    <a:lnTo>
                      <a:pt x="816" y="147"/>
                    </a:lnTo>
                    <a:lnTo>
                      <a:pt x="825" y="145"/>
                    </a:lnTo>
                    <a:lnTo>
                      <a:pt x="835" y="145"/>
                    </a:lnTo>
                    <a:lnTo>
                      <a:pt x="844" y="143"/>
                    </a:lnTo>
                    <a:lnTo>
                      <a:pt x="853" y="142"/>
                    </a:lnTo>
                    <a:lnTo>
                      <a:pt x="863" y="142"/>
                    </a:lnTo>
                    <a:lnTo>
                      <a:pt x="872" y="142"/>
                    </a:lnTo>
                    <a:lnTo>
                      <a:pt x="881" y="145"/>
                    </a:lnTo>
                    <a:lnTo>
                      <a:pt x="890" y="143"/>
                    </a:lnTo>
                    <a:lnTo>
                      <a:pt x="900" y="141"/>
                    </a:lnTo>
                    <a:lnTo>
                      <a:pt x="909" y="140"/>
                    </a:lnTo>
                    <a:lnTo>
                      <a:pt x="918" y="140"/>
                    </a:lnTo>
                    <a:lnTo>
                      <a:pt x="928" y="137"/>
                    </a:lnTo>
                    <a:lnTo>
                      <a:pt x="937" y="136"/>
                    </a:lnTo>
                    <a:lnTo>
                      <a:pt x="946" y="135"/>
                    </a:lnTo>
                    <a:lnTo>
                      <a:pt x="955" y="134"/>
                    </a:lnTo>
                    <a:lnTo>
                      <a:pt x="965" y="133"/>
                    </a:lnTo>
                    <a:lnTo>
                      <a:pt x="974" y="131"/>
                    </a:lnTo>
                    <a:lnTo>
                      <a:pt x="983" y="129"/>
                    </a:lnTo>
                    <a:lnTo>
                      <a:pt x="992" y="126"/>
                    </a:lnTo>
                    <a:lnTo>
                      <a:pt x="1002" y="124"/>
                    </a:lnTo>
                    <a:lnTo>
                      <a:pt x="1011" y="122"/>
                    </a:lnTo>
                    <a:lnTo>
                      <a:pt x="1020" y="120"/>
                    </a:lnTo>
                    <a:lnTo>
                      <a:pt x="1030" y="118"/>
                    </a:lnTo>
                    <a:lnTo>
                      <a:pt x="1039" y="115"/>
                    </a:lnTo>
                    <a:lnTo>
                      <a:pt x="1048" y="112"/>
                    </a:lnTo>
                    <a:lnTo>
                      <a:pt x="1057" y="109"/>
                    </a:lnTo>
                    <a:lnTo>
                      <a:pt x="1067" y="109"/>
                    </a:lnTo>
                    <a:lnTo>
                      <a:pt x="1076" y="106"/>
                    </a:lnTo>
                    <a:lnTo>
                      <a:pt x="1085" y="104"/>
                    </a:lnTo>
                    <a:lnTo>
                      <a:pt x="1095" y="101"/>
                    </a:lnTo>
                    <a:lnTo>
                      <a:pt x="1104" y="97"/>
                    </a:lnTo>
                    <a:lnTo>
                      <a:pt x="1113" y="94"/>
                    </a:lnTo>
                    <a:lnTo>
                      <a:pt x="1122" y="91"/>
                    </a:lnTo>
                    <a:lnTo>
                      <a:pt x="1132" y="86"/>
                    </a:lnTo>
                    <a:lnTo>
                      <a:pt x="1141" y="81"/>
                    </a:lnTo>
                    <a:lnTo>
                      <a:pt x="1150" y="81"/>
                    </a:lnTo>
                    <a:lnTo>
                      <a:pt x="1160" y="81"/>
                    </a:lnTo>
                    <a:lnTo>
                      <a:pt x="1169" y="75"/>
                    </a:lnTo>
                    <a:lnTo>
                      <a:pt x="1178" y="72"/>
                    </a:lnTo>
                    <a:lnTo>
                      <a:pt x="1187" y="68"/>
                    </a:lnTo>
                    <a:lnTo>
                      <a:pt x="1197" y="65"/>
                    </a:lnTo>
                    <a:lnTo>
                      <a:pt x="1206" y="65"/>
                    </a:lnTo>
                    <a:lnTo>
                      <a:pt x="1215" y="66"/>
                    </a:lnTo>
                    <a:lnTo>
                      <a:pt x="1224" y="66"/>
                    </a:lnTo>
                    <a:lnTo>
                      <a:pt x="1234" y="66"/>
                    </a:lnTo>
                    <a:lnTo>
                      <a:pt x="1243" y="62"/>
                    </a:lnTo>
                    <a:lnTo>
                      <a:pt x="1252" y="59"/>
                    </a:lnTo>
                    <a:lnTo>
                      <a:pt x="1262" y="57"/>
                    </a:lnTo>
                    <a:lnTo>
                      <a:pt x="1271" y="52"/>
                    </a:lnTo>
                    <a:lnTo>
                      <a:pt x="1280" y="48"/>
                    </a:lnTo>
                    <a:lnTo>
                      <a:pt x="1289" y="46"/>
                    </a:lnTo>
                    <a:lnTo>
                      <a:pt x="1299" y="44"/>
                    </a:lnTo>
                    <a:lnTo>
                      <a:pt x="1308" y="43"/>
                    </a:lnTo>
                    <a:lnTo>
                      <a:pt x="1317" y="43"/>
                    </a:lnTo>
                    <a:lnTo>
                      <a:pt x="1327" y="42"/>
                    </a:lnTo>
                    <a:lnTo>
                      <a:pt x="1336" y="41"/>
                    </a:lnTo>
                    <a:lnTo>
                      <a:pt x="1345" y="38"/>
                    </a:lnTo>
                    <a:lnTo>
                      <a:pt x="1354" y="34"/>
                    </a:lnTo>
                    <a:lnTo>
                      <a:pt x="1364" y="33"/>
                    </a:lnTo>
                    <a:lnTo>
                      <a:pt x="1373" y="32"/>
                    </a:lnTo>
                    <a:lnTo>
                      <a:pt x="1382" y="29"/>
                    </a:lnTo>
                    <a:lnTo>
                      <a:pt x="1392" y="26"/>
                    </a:lnTo>
                    <a:lnTo>
                      <a:pt x="1401" y="26"/>
                    </a:lnTo>
                    <a:lnTo>
                      <a:pt x="1410" y="22"/>
                    </a:lnTo>
                    <a:lnTo>
                      <a:pt x="1419" y="16"/>
                    </a:lnTo>
                    <a:lnTo>
                      <a:pt x="1429" y="8"/>
                    </a:lnTo>
                    <a:lnTo>
                      <a:pt x="1438" y="4"/>
                    </a:lnTo>
                    <a:lnTo>
                      <a:pt x="1447" y="0"/>
                    </a:lnTo>
                    <a:lnTo>
                      <a:pt x="1447" y="4"/>
                    </a:lnTo>
                    <a:lnTo>
                      <a:pt x="1438" y="8"/>
                    </a:lnTo>
                    <a:lnTo>
                      <a:pt x="1429" y="12"/>
                    </a:lnTo>
                    <a:lnTo>
                      <a:pt x="1419" y="20"/>
                    </a:lnTo>
                    <a:lnTo>
                      <a:pt x="1410" y="26"/>
                    </a:lnTo>
                    <a:lnTo>
                      <a:pt x="1401" y="29"/>
                    </a:lnTo>
                    <a:lnTo>
                      <a:pt x="1392" y="30"/>
                    </a:lnTo>
                    <a:lnTo>
                      <a:pt x="1382" y="33"/>
                    </a:lnTo>
                    <a:lnTo>
                      <a:pt x="1373" y="36"/>
                    </a:lnTo>
                    <a:lnTo>
                      <a:pt x="1364" y="36"/>
                    </a:lnTo>
                    <a:lnTo>
                      <a:pt x="1354" y="38"/>
                    </a:lnTo>
                    <a:lnTo>
                      <a:pt x="1345" y="41"/>
                    </a:lnTo>
                    <a:lnTo>
                      <a:pt x="1336" y="44"/>
                    </a:lnTo>
                    <a:lnTo>
                      <a:pt x="1327" y="45"/>
                    </a:lnTo>
                    <a:lnTo>
                      <a:pt x="1317" y="46"/>
                    </a:lnTo>
                    <a:lnTo>
                      <a:pt x="1308" y="46"/>
                    </a:lnTo>
                    <a:lnTo>
                      <a:pt x="1299" y="47"/>
                    </a:lnTo>
                    <a:lnTo>
                      <a:pt x="1289" y="49"/>
                    </a:lnTo>
                    <a:lnTo>
                      <a:pt x="1280" y="51"/>
                    </a:lnTo>
                    <a:lnTo>
                      <a:pt x="1271" y="55"/>
                    </a:lnTo>
                    <a:lnTo>
                      <a:pt x="1262" y="60"/>
                    </a:lnTo>
                    <a:lnTo>
                      <a:pt x="1252" y="62"/>
                    </a:lnTo>
                    <a:lnTo>
                      <a:pt x="1243" y="64"/>
                    </a:lnTo>
                    <a:lnTo>
                      <a:pt x="1234" y="68"/>
                    </a:lnTo>
                    <a:lnTo>
                      <a:pt x="1224" y="69"/>
                    </a:lnTo>
                    <a:lnTo>
                      <a:pt x="1215" y="69"/>
                    </a:lnTo>
                    <a:lnTo>
                      <a:pt x="1206" y="67"/>
                    </a:lnTo>
                    <a:lnTo>
                      <a:pt x="1197" y="67"/>
                    </a:lnTo>
                    <a:lnTo>
                      <a:pt x="1187" y="70"/>
                    </a:lnTo>
                    <a:lnTo>
                      <a:pt x="1178" y="74"/>
                    </a:lnTo>
                    <a:lnTo>
                      <a:pt x="1169" y="77"/>
                    </a:lnTo>
                    <a:lnTo>
                      <a:pt x="1160" y="83"/>
                    </a:lnTo>
                    <a:lnTo>
                      <a:pt x="1150" y="83"/>
                    </a:lnTo>
                    <a:lnTo>
                      <a:pt x="1141" y="83"/>
                    </a:lnTo>
                    <a:lnTo>
                      <a:pt x="1132" y="88"/>
                    </a:lnTo>
                    <a:lnTo>
                      <a:pt x="1122" y="92"/>
                    </a:lnTo>
                    <a:lnTo>
                      <a:pt x="1113" y="95"/>
                    </a:lnTo>
                    <a:lnTo>
                      <a:pt x="1104" y="99"/>
                    </a:lnTo>
                    <a:lnTo>
                      <a:pt x="1095" y="102"/>
                    </a:lnTo>
                    <a:lnTo>
                      <a:pt x="1085" y="106"/>
                    </a:lnTo>
                    <a:lnTo>
                      <a:pt x="1076" y="107"/>
                    </a:lnTo>
                    <a:lnTo>
                      <a:pt x="1067" y="110"/>
                    </a:lnTo>
                    <a:lnTo>
                      <a:pt x="1057" y="110"/>
                    </a:lnTo>
                    <a:lnTo>
                      <a:pt x="1048" y="113"/>
                    </a:lnTo>
                    <a:lnTo>
                      <a:pt x="1039" y="116"/>
                    </a:lnTo>
                    <a:lnTo>
                      <a:pt x="1030" y="119"/>
                    </a:lnTo>
                    <a:lnTo>
                      <a:pt x="1020" y="121"/>
                    </a:lnTo>
                    <a:lnTo>
                      <a:pt x="1011" y="123"/>
                    </a:lnTo>
                    <a:lnTo>
                      <a:pt x="1002" y="125"/>
                    </a:lnTo>
                    <a:lnTo>
                      <a:pt x="992" y="127"/>
                    </a:lnTo>
                    <a:lnTo>
                      <a:pt x="983" y="130"/>
                    </a:lnTo>
                    <a:lnTo>
                      <a:pt x="974" y="132"/>
                    </a:lnTo>
                    <a:lnTo>
                      <a:pt x="965" y="134"/>
                    </a:lnTo>
                    <a:lnTo>
                      <a:pt x="955" y="134"/>
                    </a:lnTo>
                    <a:lnTo>
                      <a:pt x="946" y="136"/>
                    </a:lnTo>
                    <a:lnTo>
                      <a:pt x="937" y="137"/>
                    </a:lnTo>
                    <a:lnTo>
                      <a:pt x="928" y="138"/>
                    </a:lnTo>
                    <a:lnTo>
                      <a:pt x="918" y="141"/>
                    </a:lnTo>
                    <a:lnTo>
                      <a:pt x="909" y="141"/>
                    </a:lnTo>
                    <a:lnTo>
                      <a:pt x="900" y="142"/>
                    </a:lnTo>
                    <a:lnTo>
                      <a:pt x="890" y="144"/>
                    </a:lnTo>
                    <a:lnTo>
                      <a:pt x="881" y="146"/>
                    </a:lnTo>
                    <a:lnTo>
                      <a:pt x="872" y="143"/>
                    </a:lnTo>
                    <a:lnTo>
                      <a:pt x="863" y="142"/>
                    </a:lnTo>
                    <a:lnTo>
                      <a:pt x="853" y="143"/>
                    </a:lnTo>
                    <a:lnTo>
                      <a:pt x="844" y="144"/>
                    </a:lnTo>
                    <a:lnTo>
                      <a:pt x="835" y="146"/>
                    </a:lnTo>
                    <a:lnTo>
                      <a:pt x="825" y="146"/>
                    </a:lnTo>
                    <a:lnTo>
                      <a:pt x="816" y="148"/>
                    </a:lnTo>
                    <a:lnTo>
                      <a:pt x="807" y="147"/>
                    </a:lnTo>
                    <a:lnTo>
                      <a:pt x="798" y="148"/>
                    </a:lnTo>
                    <a:lnTo>
                      <a:pt x="788" y="150"/>
                    </a:lnTo>
                    <a:lnTo>
                      <a:pt x="779" y="151"/>
                    </a:lnTo>
                    <a:lnTo>
                      <a:pt x="770" y="152"/>
                    </a:lnTo>
                    <a:lnTo>
                      <a:pt x="760" y="152"/>
                    </a:lnTo>
                    <a:lnTo>
                      <a:pt x="751" y="151"/>
                    </a:lnTo>
                    <a:lnTo>
                      <a:pt x="742" y="150"/>
                    </a:lnTo>
                    <a:lnTo>
                      <a:pt x="733" y="149"/>
                    </a:lnTo>
                    <a:lnTo>
                      <a:pt x="723" y="149"/>
                    </a:lnTo>
                    <a:lnTo>
                      <a:pt x="714" y="150"/>
                    </a:lnTo>
                    <a:lnTo>
                      <a:pt x="705" y="151"/>
                    </a:lnTo>
                    <a:lnTo>
                      <a:pt x="696" y="151"/>
                    </a:lnTo>
                    <a:lnTo>
                      <a:pt x="686" y="152"/>
                    </a:lnTo>
                    <a:lnTo>
                      <a:pt x="677" y="152"/>
                    </a:lnTo>
                    <a:lnTo>
                      <a:pt x="668" y="154"/>
                    </a:lnTo>
                    <a:lnTo>
                      <a:pt x="658" y="155"/>
                    </a:lnTo>
                    <a:lnTo>
                      <a:pt x="649" y="153"/>
                    </a:lnTo>
                    <a:lnTo>
                      <a:pt x="640" y="155"/>
                    </a:lnTo>
                    <a:lnTo>
                      <a:pt x="631" y="153"/>
                    </a:lnTo>
                    <a:lnTo>
                      <a:pt x="621" y="153"/>
                    </a:lnTo>
                    <a:lnTo>
                      <a:pt x="612" y="154"/>
                    </a:lnTo>
                    <a:lnTo>
                      <a:pt x="603" y="155"/>
                    </a:lnTo>
                    <a:lnTo>
                      <a:pt x="593" y="155"/>
                    </a:lnTo>
                    <a:lnTo>
                      <a:pt x="584" y="154"/>
                    </a:lnTo>
                    <a:lnTo>
                      <a:pt x="575" y="155"/>
                    </a:lnTo>
                    <a:lnTo>
                      <a:pt x="566" y="155"/>
                    </a:lnTo>
                    <a:lnTo>
                      <a:pt x="556" y="156"/>
                    </a:lnTo>
                    <a:lnTo>
                      <a:pt x="547" y="156"/>
                    </a:lnTo>
                    <a:lnTo>
                      <a:pt x="538" y="157"/>
                    </a:lnTo>
                    <a:lnTo>
                      <a:pt x="528" y="156"/>
                    </a:lnTo>
                    <a:lnTo>
                      <a:pt x="519" y="157"/>
                    </a:lnTo>
                    <a:lnTo>
                      <a:pt x="510" y="158"/>
                    </a:lnTo>
                    <a:lnTo>
                      <a:pt x="501" y="159"/>
                    </a:lnTo>
                    <a:lnTo>
                      <a:pt x="491" y="159"/>
                    </a:lnTo>
                    <a:lnTo>
                      <a:pt x="482" y="160"/>
                    </a:lnTo>
                    <a:lnTo>
                      <a:pt x="473" y="160"/>
                    </a:lnTo>
                    <a:lnTo>
                      <a:pt x="464" y="160"/>
                    </a:lnTo>
                    <a:lnTo>
                      <a:pt x="454" y="161"/>
                    </a:lnTo>
                    <a:lnTo>
                      <a:pt x="445" y="161"/>
                    </a:lnTo>
                    <a:lnTo>
                      <a:pt x="436" y="162"/>
                    </a:lnTo>
                    <a:lnTo>
                      <a:pt x="426" y="162"/>
                    </a:lnTo>
                    <a:lnTo>
                      <a:pt x="417" y="162"/>
                    </a:lnTo>
                    <a:lnTo>
                      <a:pt x="408" y="162"/>
                    </a:lnTo>
                    <a:lnTo>
                      <a:pt x="399" y="163"/>
                    </a:lnTo>
                    <a:lnTo>
                      <a:pt x="389" y="163"/>
                    </a:lnTo>
                    <a:lnTo>
                      <a:pt x="380" y="163"/>
                    </a:lnTo>
                    <a:lnTo>
                      <a:pt x="371" y="163"/>
                    </a:lnTo>
                    <a:lnTo>
                      <a:pt x="361" y="163"/>
                    </a:lnTo>
                    <a:lnTo>
                      <a:pt x="352" y="163"/>
                    </a:lnTo>
                    <a:lnTo>
                      <a:pt x="343" y="164"/>
                    </a:lnTo>
                    <a:lnTo>
                      <a:pt x="334" y="164"/>
                    </a:lnTo>
                    <a:lnTo>
                      <a:pt x="324" y="164"/>
                    </a:lnTo>
                    <a:lnTo>
                      <a:pt x="315" y="164"/>
                    </a:lnTo>
                    <a:lnTo>
                      <a:pt x="306" y="164"/>
                    </a:lnTo>
                    <a:lnTo>
                      <a:pt x="296" y="164"/>
                    </a:lnTo>
                    <a:lnTo>
                      <a:pt x="287" y="165"/>
                    </a:lnTo>
                    <a:lnTo>
                      <a:pt x="278" y="165"/>
                    </a:lnTo>
                    <a:lnTo>
                      <a:pt x="269" y="165"/>
                    </a:lnTo>
                    <a:lnTo>
                      <a:pt x="259" y="165"/>
                    </a:lnTo>
                    <a:lnTo>
                      <a:pt x="250" y="165"/>
                    </a:lnTo>
                    <a:lnTo>
                      <a:pt x="241" y="166"/>
                    </a:lnTo>
                    <a:lnTo>
                      <a:pt x="232" y="166"/>
                    </a:lnTo>
                    <a:lnTo>
                      <a:pt x="222" y="166"/>
                    </a:lnTo>
                    <a:lnTo>
                      <a:pt x="213" y="166"/>
                    </a:lnTo>
                    <a:lnTo>
                      <a:pt x="204" y="166"/>
                    </a:lnTo>
                    <a:lnTo>
                      <a:pt x="194" y="166"/>
                    </a:lnTo>
                    <a:lnTo>
                      <a:pt x="185" y="166"/>
                    </a:lnTo>
                    <a:lnTo>
                      <a:pt x="176" y="167"/>
                    </a:lnTo>
                    <a:lnTo>
                      <a:pt x="167" y="167"/>
                    </a:lnTo>
                    <a:lnTo>
                      <a:pt x="157" y="167"/>
                    </a:lnTo>
                    <a:lnTo>
                      <a:pt x="148" y="167"/>
                    </a:lnTo>
                    <a:lnTo>
                      <a:pt x="139" y="167"/>
                    </a:lnTo>
                    <a:lnTo>
                      <a:pt x="129" y="167"/>
                    </a:lnTo>
                    <a:lnTo>
                      <a:pt x="120" y="167"/>
                    </a:lnTo>
                    <a:lnTo>
                      <a:pt x="111" y="167"/>
                    </a:lnTo>
                    <a:lnTo>
                      <a:pt x="102" y="168"/>
                    </a:lnTo>
                    <a:lnTo>
                      <a:pt x="92" y="168"/>
                    </a:lnTo>
                    <a:lnTo>
                      <a:pt x="83" y="168"/>
                    </a:lnTo>
                    <a:lnTo>
                      <a:pt x="74" y="168"/>
                    </a:lnTo>
                    <a:lnTo>
                      <a:pt x="64" y="168"/>
                    </a:lnTo>
                    <a:lnTo>
                      <a:pt x="55" y="168"/>
                    </a:lnTo>
                    <a:lnTo>
                      <a:pt x="46" y="168"/>
                    </a:lnTo>
                    <a:lnTo>
                      <a:pt x="37" y="168"/>
                    </a:lnTo>
                    <a:lnTo>
                      <a:pt x="27" y="168"/>
                    </a:lnTo>
                    <a:lnTo>
                      <a:pt x="18" y="169"/>
                    </a:lnTo>
                    <a:lnTo>
                      <a:pt x="9" y="168"/>
                    </a:lnTo>
                    <a:lnTo>
                      <a:pt x="0" y="168"/>
                    </a:lnTo>
                    <a:close/>
                  </a:path>
                </a:pathLst>
              </a:custGeom>
              <a:noFill/>
              <a:ln w="3175">
                <a:solidFill>
                  <a:srgbClr val="ffc8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6" name="Freeform 181"/>
              <p:cNvSpPr/>
              <p:nvPr/>
            </p:nvSpPr>
            <p:spPr>
              <a:xfrm>
                <a:off x="4879440" y="2702520"/>
                <a:ext cx="2310120" cy="404640"/>
              </a:xfrm>
              <a:custGeom>
                <a:avLst/>
                <a:gdLst>
                  <a:gd name="textAreaLeft" fmla="*/ 0 w 2310120"/>
                  <a:gd name="textAreaRight" fmla="*/ 2310480 w 2310120"/>
                  <a:gd name="textAreaTop" fmla="*/ 0 h 404640"/>
                  <a:gd name="textAreaBottom" fmla="*/ 405000 h 404640"/>
                </a:gdLst>
                <a:ahLst/>
                <a:rect l="textAreaLeft" t="textAreaTop" r="textAreaRight" b="textAreaBottom"/>
                <a:pathLst>
                  <a:path w="1447" h="164">
                    <a:moveTo>
                      <a:pt x="0" y="164"/>
                    </a:moveTo>
                    <a:lnTo>
                      <a:pt x="9" y="164"/>
                    </a:lnTo>
                    <a:lnTo>
                      <a:pt x="18" y="164"/>
                    </a:lnTo>
                    <a:lnTo>
                      <a:pt x="27" y="164"/>
                    </a:lnTo>
                    <a:lnTo>
                      <a:pt x="37" y="164"/>
                    </a:lnTo>
                    <a:lnTo>
                      <a:pt x="46" y="164"/>
                    </a:lnTo>
                    <a:lnTo>
                      <a:pt x="55" y="164"/>
                    </a:lnTo>
                    <a:lnTo>
                      <a:pt x="64" y="164"/>
                    </a:lnTo>
                    <a:lnTo>
                      <a:pt x="74" y="164"/>
                    </a:lnTo>
                    <a:lnTo>
                      <a:pt x="83" y="164"/>
                    </a:lnTo>
                    <a:lnTo>
                      <a:pt x="92" y="163"/>
                    </a:lnTo>
                    <a:lnTo>
                      <a:pt x="102" y="163"/>
                    </a:lnTo>
                    <a:lnTo>
                      <a:pt x="111" y="163"/>
                    </a:lnTo>
                    <a:lnTo>
                      <a:pt x="120" y="163"/>
                    </a:lnTo>
                    <a:lnTo>
                      <a:pt x="129" y="163"/>
                    </a:lnTo>
                    <a:lnTo>
                      <a:pt x="139" y="163"/>
                    </a:lnTo>
                    <a:lnTo>
                      <a:pt x="148" y="163"/>
                    </a:lnTo>
                    <a:lnTo>
                      <a:pt x="157" y="163"/>
                    </a:lnTo>
                    <a:lnTo>
                      <a:pt x="167" y="162"/>
                    </a:lnTo>
                    <a:lnTo>
                      <a:pt x="176" y="162"/>
                    </a:lnTo>
                    <a:lnTo>
                      <a:pt x="185" y="162"/>
                    </a:lnTo>
                    <a:lnTo>
                      <a:pt x="194" y="162"/>
                    </a:lnTo>
                    <a:lnTo>
                      <a:pt x="204" y="162"/>
                    </a:lnTo>
                    <a:lnTo>
                      <a:pt x="213" y="162"/>
                    </a:lnTo>
                    <a:lnTo>
                      <a:pt x="222" y="162"/>
                    </a:lnTo>
                    <a:lnTo>
                      <a:pt x="232" y="161"/>
                    </a:lnTo>
                    <a:lnTo>
                      <a:pt x="241" y="161"/>
                    </a:lnTo>
                    <a:lnTo>
                      <a:pt x="250" y="161"/>
                    </a:lnTo>
                    <a:lnTo>
                      <a:pt x="259" y="161"/>
                    </a:lnTo>
                    <a:lnTo>
                      <a:pt x="269" y="161"/>
                    </a:lnTo>
                    <a:lnTo>
                      <a:pt x="278" y="161"/>
                    </a:lnTo>
                    <a:lnTo>
                      <a:pt x="287" y="160"/>
                    </a:lnTo>
                    <a:lnTo>
                      <a:pt x="296" y="160"/>
                    </a:lnTo>
                    <a:lnTo>
                      <a:pt x="306" y="160"/>
                    </a:lnTo>
                    <a:lnTo>
                      <a:pt x="315" y="160"/>
                    </a:lnTo>
                    <a:lnTo>
                      <a:pt x="324" y="160"/>
                    </a:lnTo>
                    <a:lnTo>
                      <a:pt x="334" y="160"/>
                    </a:lnTo>
                    <a:lnTo>
                      <a:pt x="343" y="160"/>
                    </a:lnTo>
                    <a:lnTo>
                      <a:pt x="352" y="159"/>
                    </a:lnTo>
                    <a:lnTo>
                      <a:pt x="361" y="159"/>
                    </a:lnTo>
                    <a:lnTo>
                      <a:pt x="371" y="159"/>
                    </a:lnTo>
                    <a:lnTo>
                      <a:pt x="380" y="158"/>
                    </a:lnTo>
                    <a:lnTo>
                      <a:pt x="389" y="158"/>
                    </a:lnTo>
                    <a:lnTo>
                      <a:pt x="399" y="158"/>
                    </a:lnTo>
                    <a:lnTo>
                      <a:pt x="408" y="158"/>
                    </a:lnTo>
                    <a:lnTo>
                      <a:pt x="417" y="158"/>
                    </a:lnTo>
                    <a:lnTo>
                      <a:pt x="426" y="158"/>
                    </a:lnTo>
                    <a:lnTo>
                      <a:pt x="436" y="157"/>
                    </a:lnTo>
                    <a:lnTo>
                      <a:pt x="445" y="157"/>
                    </a:lnTo>
                    <a:lnTo>
                      <a:pt x="454" y="156"/>
                    </a:lnTo>
                    <a:lnTo>
                      <a:pt x="464" y="156"/>
                    </a:lnTo>
                    <a:lnTo>
                      <a:pt x="473" y="156"/>
                    </a:lnTo>
                    <a:lnTo>
                      <a:pt x="482" y="156"/>
                    </a:lnTo>
                    <a:lnTo>
                      <a:pt x="491" y="155"/>
                    </a:lnTo>
                    <a:lnTo>
                      <a:pt x="501" y="155"/>
                    </a:lnTo>
                    <a:lnTo>
                      <a:pt x="510" y="154"/>
                    </a:lnTo>
                    <a:lnTo>
                      <a:pt x="519" y="153"/>
                    </a:lnTo>
                    <a:lnTo>
                      <a:pt x="528" y="152"/>
                    </a:lnTo>
                    <a:lnTo>
                      <a:pt x="538" y="153"/>
                    </a:lnTo>
                    <a:lnTo>
                      <a:pt x="547" y="152"/>
                    </a:lnTo>
                    <a:lnTo>
                      <a:pt x="556" y="152"/>
                    </a:lnTo>
                    <a:lnTo>
                      <a:pt x="566" y="151"/>
                    </a:lnTo>
                    <a:lnTo>
                      <a:pt x="575" y="151"/>
                    </a:lnTo>
                    <a:lnTo>
                      <a:pt x="584" y="150"/>
                    </a:lnTo>
                    <a:lnTo>
                      <a:pt x="593" y="151"/>
                    </a:lnTo>
                    <a:lnTo>
                      <a:pt x="603" y="151"/>
                    </a:lnTo>
                    <a:lnTo>
                      <a:pt x="612" y="150"/>
                    </a:lnTo>
                    <a:lnTo>
                      <a:pt x="621" y="149"/>
                    </a:lnTo>
                    <a:lnTo>
                      <a:pt x="631" y="149"/>
                    </a:lnTo>
                    <a:lnTo>
                      <a:pt x="640" y="151"/>
                    </a:lnTo>
                    <a:lnTo>
                      <a:pt x="649" y="149"/>
                    </a:lnTo>
                    <a:lnTo>
                      <a:pt x="658" y="151"/>
                    </a:lnTo>
                    <a:lnTo>
                      <a:pt x="668" y="150"/>
                    </a:lnTo>
                    <a:lnTo>
                      <a:pt x="677" y="148"/>
                    </a:lnTo>
                    <a:lnTo>
                      <a:pt x="686" y="148"/>
                    </a:lnTo>
                    <a:lnTo>
                      <a:pt x="696" y="147"/>
                    </a:lnTo>
                    <a:lnTo>
                      <a:pt x="705" y="147"/>
                    </a:lnTo>
                    <a:lnTo>
                      <a:pt x="714" y="146"/>
                    </a:lnTo>
                    <a:lnTo>
                      <a:pt x="723" y="145"/>
                    </a:lnTo>
                    <a:lnTo>
                      <a:pt x="733" y="145"/>
                    </a:lnTo>
                    <a:lnTo>
                      <a:pt x="742" y="145"/>
                    </a:lnTo>
                    <a:lnTo>
                      <a:pt x="751" y="147"/>
                    </a:lnTo>
                    <a:lnTo>
                      <a:pt x="760" y="148"/>
                    </a:lnTo>
                    <a:lnTo>
                      <a:pt x="770" y="147"/>
                    </a:lnTo>
                    <a:lnTo>
                      <a:pt x="779" y="146"/>
                    </a:lnTo>
                    <a:lnTo>
                      <a:pt x="788" y="146"/>
                    </a:lnTo>
                    <a:lnTo>
                      <a:pt x="798" y="144"/>
                    </a:lnTo>
                    <a:lnTo>
                      <a:pt x="807" y="143"/>
                    </a:lnTo>
                    <a:lnTo>
                      <a:pt x="816" y="143"/>
                    </a:lnTo>
                    <a:lnTo>
                      <a:pt x="825" y="142"/>
                    </a:lnTo>
                    <a:lnTo>
                      <a:pt x="835" y="142"/>
                    </a:lnTo>
                    <a:lnTo>
                      <a:pt x="844" y="139"/>
                    </a:lnTo>
                    <a:lnTo>
                      <a:pt x="853" y="139"/>
                    </a:lnTo>
                    <a:lnTo>
                      <a:pt x="863" y="138"/>
                    </a:lnTo>
                    <a:lnTo>
                      <a:pt x="872" y="139"/>
                    </a:lnTo>
                    <a:lnTo>
                      <a:pt x="881" y="141"/>
                    </a:lnTo>
                    <a:lnTo>
                      <a:pt x="890" y="140"/>
                    </a:lnTo>
                    <a:lnTo>
                      <a:pt x="900" y="138"/>
                    </a:lnTo>
                    <a:lnTo>
                      <a:pt x="909" y="137"/>
                    </a:lnTo>
                    <a:lnTo>
                      <a:pt x="918" y="136"/>
                    </a:lnTo>
                    <a:lnTo>
                      <a:pt x="928" y="134"/>
                    </a:lnTo>
                    <a:lnTo>
                      <a:pt x="937" y="132"/>
                    </a:lnTo>
                    <a:lnTo>
                      <a:pt x="946" y="131"/>
                    </a:lnTo>
                    <a:lnTo>
                      <a:pt x="955" y="130"/>
                    </a:lnTo>
                    <a:lnTo>
                      <a:pt x="965" y="130"/>
                    </a:lnTo>
                    <a:lnTo>
                      <a:pt x="974" y="127"/>
                    </a:lnTo>
                    <a:lnTo>
                      <a:pt x="983" y="126"/>
                    </a:lnTo>
                    <a:lnTo>
                      <a:pt x="992" y="123"/>
                    </a:lnTo>
                    <a:lnTo>
                      <a:pt x="1002" y="121"/>
                    </a:lnTo>
                    <a:lnTo>
                      <a:pt x="1011" y="119"/>
                    </a:lnTo>
                    <a:lnTo>
                      <a:pt x="1020" y="116"/>
                    </a:lnTo>
                    <a:lnTo>
                      <a:pt x="1030" y="115"/>
                    </a:lnTo>
                    <a:lnTo>
                      <a:pt x="1039" y="112"/>
                    </a:lnTo>
                    <a:lnTo>
                      <a:pt x="1048" y="109"/>
                    </a:lnTo>
                    <a:lnTo>
                      <a:pt x="1057" y="106"/>
                    </a:lnTo>
                    <a:lnTo>
                      <a:pt x="1067" y="106"/>
                    </a:lnTo>
                    <a:lnTo>
                      <a:pt x="1076" y="103"/>
                    </a:lnTo>
                    <a:lnTo>
                      <a:pt x="1085" y="102"/>
                    </a:lnTo>
                    <a:lnTo>
                      <a:pt x="1095" y="98"/>
                    </a:lnTo>
                    <a:lnTo>
                      <a:pt x="1104" y="95"/>
                    </a:lnTo>
                    <a:lnTo>
                      <a:pt x="1113" y="91"/>
                    </a:lnTo>
                    <a:lnTo>
                      <a:pt x="1122" y="88"/>
                    </a:lnTo>
                    <a:lnTo>
                      <a:pt x="1132" y="84"/>
                    </a:lnTo>
                    <a:lnTo>
                      <a:pt x="1141" y="79"/>
                    </a:lnTo>
                    <a:lnTo>
                      <a:pt x="1150" y="79"/>
                    </a:lnTo>
                    <a:lnTo>
                      <a:pt x="1160" y="78"/>
                    </a:lnTo>
                    <a:lnTo>
                      <a:pt x="1169" y="73"/>
                    </a:lnTo>
                    <a:lnTo>
                      <a:pt x="1178" y="70"/>
                    </a:lnTo>
                    <a:lnTo>
                      <a:pt x="1187" y="66"/>
                    </a:lnTo>
                    <a:lnTo>
                      <a:pt x="1197" y="63"/>
                    </a:lnTo>
                    <a:lnTo>
                      <a:pt x="1206" y="63"/>
                    </a:lnTo>
                    <a:lnTo>
                      <a:pt x="1215" y="65"/>
                    </a:lnTo>
                    <a:lnTo>
                      <a:pt x="1224" y="65"/>
                    </a:lnTo>
                    <a:lnTo>
                      <a:pt x="1234" y="64"/>
                    </a:lnTo>
                    <a:lnTo>
                      <a:pt x="1243" y="60"/>
                    </a:lnTo>
                    <a:lnTo>
                      <a:pt x="1252" y="58"/>
                    </a:lnTo>
                    <a:lnTo>
                      <a:pt x="1262" y="55"/>
                    </a:lnTo>
                    <a:lnTo>
                      <a:pt x="1271" y="51"/>
                    </a:lnTo>
                    <a:lnTo>
                      <a:pt x="1280" y="47"/>
                    </a:lnTo>
                    <a:lnTo>
                      <a:pt x="1289" y="45"/>
                    </a:lnTo>
                    <a:lnTo>
                      <a:pt x="1299" y="43"/>
                    </a:lnTo>
                    <a:lnTo>
                      <a:pt x="1308" y="42"/>
                    </a:lnTo>
                    <a:lnTo>
                      <a:pt x="1317" y="42"/>
                    </a:lnTo>
                    <a:lnTo>
                      <a:pt x="1327" y="41"/>
                    </a:lnTo>
                    <a:lnTo>
                      <a:pt x="1336" y="40"/>
                    </a:lnTo>
                    <a:lnTo>
                      <a:pt x="1345" y="37"/>
                    </a:lnTo>
                    <a:lnTo>
                      <a:pt x="1354" y="33"/>
                    </a:lnTo>
                    <a:lnTo>
                      <a:pt x="1364" y="32"/>
                    </a:lnTo>
                    <a:lnTo>
                      <a:pt x="1373" y="31"/>
                    </a:lnTo>
                    <a:lnTo>
                      <a:pt x="1382" y="29"/>
                    </a:lnTo>
                    <a:lnTo>
                      <a:pt x="1392" y="26"/>
                    </a:lnTo>
                    <a:lnTo>
                      <a:pt x="1401" y="25"/>
                    </a:lnTo>
                    <a:lnTo>
                      <a:pt x="1410" y="22"/>
                    </a:lnTo>
                    <a:lnTo>
                      <a:pt x="1419" y="16"/>
                    </a:lnTo>
                    <a:lnTo>
                      <a:pt x="1429" y="8"/>
                    </a:lnTo>
                    <a:lnTo>
                      <a:pt x="1438" y="4"/>
                    </a:lnTo>
                    <a:lnTo>
                      <a:pt x="1447" y="0"/>
                    </a:lnTo>
                    <a:lnTo>
                      <a:pt x="1447" y="3"/>
                    </a:lnTo>
                    <a:lnTo>
                      <a:pt x="1438" y="8"/>
                    </a:lnTo>
                    <a:lnTo>
                      <a:pt x="1429" y="12"/>
                    </a:lnTo>
                    <a:lnTo>
                      <a:pt x="1419" y="19"/>
                    </a:lnTo>
                    <a:lnTo>
                      <a:pt x="1410" y="25"/>
                    </a:lnTo>
                    <a:lnTo>
                      <a:pt x="1401" y="29"/>
                    </a:lnTo>
                    <a:lnTo>
                      <a:pt x="1392" y="29"/>
                    </a:lnTo>
                    <a:lnTo>
                      <a:pt x="1382" y="32"/>
                    </a:lnTo>
                    <a:lnTo>
                      <a:pt x="1373" y="35"/>
                    </a:lnTo>
                    <a:lnTo>
                      <a:pt x="1364" y="35"/>
                    </a:lnTo>
                    <a:lnTo>
                      <a:pt x="1354" y="37"/>
                    </a:lnTo>
                    <a:lnTo>
                      <a:pt x="1345" y="40"/>
                    </a:lnTo>
                    <a:lnTo>
                      <a:pt x="1336" y="43"/>
                    </a:lnTo>
                    <a:lnTo>
                      <a:pt x="1327" y="44"/>
                    </a:lnTo>
                    <a:lnTo>
                      <a:pt x="1317" y="45"/>
                    </a:lnTo>
                    <a:lnTo>
                      <a:pt x="1308" y="45"/>
                    </a:lnTo>
                    <a:lnTo>
                      <a:pt x="1299" y="46"/>
                    </a:lnTo>
                    <a:lnTo>
                      <a:pt x="1289" y="48"/>
                    </a:lnTo>
                    <a:lnTo>
                      <a:pt x="1280" y="50"/>
                    </a:lnTo>
                    <a:lnTo>
                      <a:pt x="1271" y="53"/>
                    </a:lnTo>
                    <a:lnTo>
                      <a:pt x="1262" y="58"/>
                    </a:lnTo>
                    <a:lnTo>
                      <a:pt x="1252" y="60"/>
                    </a:lnTo>
                    <a:lnTo>
                      <a:pt x="1243" y="62"/>
                    </a:lnTo>
                    <a:lnTo>
                      <a:pt x="1234" y="65"/>
                    </a:lnTo>
                    <a:lnTo>
                      <a:pt x="1224" y="66"/>
                    </a:lnTo>
                    <a:lnTo>
                      <a:pt x="1215" y="66"/>
                    </a:lnTo>
                    <a:lnTo>
                      <a:pt x="1206" y="64"/>
                    </a:lnTo>
                    <a:lnTo>
                      <a:pt x="1197" y="64"/>
                    </a:lnTo>
                    <a:lnTo>
                      <a:pt x="1187" y="67"/>
                    </a:lnTo>
                    <a:lnTo>
                      <a:pt x="1178" y="71"/>
                    </a:lnTo>
                    <a:lnTo>
                      <a:pt x="1169" y="74"/>
                    </a:lnTo>
                    <a:lnTo>
                      <a:pt x="1160" y="79"/>
                    </a:lnTo>
                    <a:lnTo>
                      <a:pt x="1150" y="79"/>
                    </a:lnTo>
                    <a:lnTo>
                      <a:pt x="1141" y="79"/>
                    </a:lnTo>
                    <a:lnTo>
                      <a:pt x="1132" y="84"/>
                    </a:lnTo>
                    <a:lnTo>
                      <a:pt x="1122" y="88"/>
                    </a:lnTo>
                    <a:lnTo>
                      <a:pt x="1113" y="91"/>
                    </a:lnTo>
                    <a:lnTo>
                      <a:pt x="1104" y="95"/>
                    </a:lnTo>
                    <a:lnTo>
                      <a:pt x="1095" y="98"/>
                    </a:lnTo>
                    <a:lnTo>
                      <a:pt x="1085" y="102"/>
                    </a:lnTo>
                    <a:lnTo>
                      <a:pt x="1076" y="103"/>
                    </a:lnTo>
                    <a:lnTo>
                      <a:pt x="1067" y="106"/>
                    </a:lnTo>
                    <a:lnTo>
                      <a:pt x="1057" y="106"/>
                    </a:lnTo>
                    <a:lnTo>
                      <a:pt x="1048" y="109"/>
                    </a:lnTo>
                    <a:lnTo>
                      <a:pt x="1039" y="112"/>
                    </a:lnTo>
                    <a:lnTo>
                      <a:pt x="1030" y="115"/>
                    </a:lnTo>
                    <a:lnTo>
                      <a:pt x="1020" y="116"/>
                    </a:lnTo>
                    <a:lnTo>
                      <a:pt x="1011" y="119"/>
                    </a:lnTo>
                    <a:lnTo>
                      <a:pt x="1002" y="121"/>
                    </a:lnTo>
                    <a:lnTo>
                      <a:pt x="992" y="123"/>
                    </a:lnTo>
                    <a:lnTo>
                      <a:pt x="983" y="126"/>
                    </a:lnTo>
                    <a:lnTo>
                      <a:pt x="974" y="127"/>
                    </a:lnTo>
                    <a:lnTo>
                      <a:pt x="965" y="130"/>
                    </a:lnTo>
                    <a:lnTo>
                      <a:pt x="955" y="130"/>
                    </a:lnTo>
                    <a:lnTo>
                      <a:pt x="946" y="131"/>
                    </a:lnTo>
                    <a:lnTo>
                      <a:pt x="937" y="132"/>
                    </a:lnTo>
                    <a:lnTo>
                      <a:pt x="928" y="134"/>
                    </a:lnTo>
                    <a:lnTo>
                      <a:pt x="918" y="136"/>
                    </a:lnTo>
                    <a:lnTo>
                      <a:pt x="909" y="137"/>
                    </a:lnTo>
                    <a:lnTo>
                      <a:pt x="900" y="138"/>
                    </a:lnTo>
                    <a:lnTo>
                      <a:pt x="890" y="140"/>
                    </a:lnTo>
                    <a:lnTo>
                      <a:pt x="881" y="141"/>
                    </a:lnTo>
                    <a:lnTo>
                      <a:pt x="872" y="139"/>
                    </a:lnTo>
                    <a:lnTo>
                      <a:pt x="863" y="138"/>
                    </a:lnTo>
                    <a:lnTo>
                      <a:pt x="853" y="139"/>
                    </a:lnTo>
                    <a:lnTo>
                      <a:pt x="844" y="139"/>
                    </a:lnTo>
                    <a:lnTo>
                      <a:pt x="835" y="142"/>
                    </a:lnTo>
                    <a:lnTo>
                      <a:pt x="825" y="142"/>
                    </a:lnTo>
                    <a:lnTo>
                      <a:pt x="816" y="143"/>
                    </a:lnTo>
                    <a:lnTo>
                      <a:pt x="807" y="143"/>
                    </a:lnTo>
                    <a:lnTo>
                      <a:pt x="798" y="144"/>
                    </a:lnTo>
                    <a:lnTo>
                      <a:pt x="788" y="146"/>
                    </a:lnTo>
                    <a:lnTo>
                      <a:pt x="779" y="146"/>
                    </a:lnTo>
                    <a:lnTo>
                      <a:pt x="770" y="147"/>
                    </a:lnTo>
                    <a:lnTo>
                      <a:pt x="760" y="148"/>
                    </a:lnTo>
                    <a:lnTo>
                      <a:pt x="751" y="147"/>
                    </a:lnTo>
                    <a:lnTo>
                      <a:pt x="742" y="145"/>
                    </a:lnTo>
                    <a:lnTo>
                      <a:pt x="733" y="145"/>
                    </a:lnTo>
                    <a:lnTo>
                      <a:pt x="723" y="145"/>
                    </a:lnTo>
                    <a:lnTo>
                      <a:pt x="714" y="146"/>
                    </a:lnTo>
                    <a:lnTo>
                      <a:pt x="705" y="147"/>
                    </a:lnTo>
                    <a:lnTo>
                      <a:pt x="696" y="147"/>
                    </a:lnTo>
                    <a:lnTo>
                      <a:pt x="686" y="148"/>
                    </a:lnTo>
                    <a:lnTo>
                      <a:pt x="677" y="148"/>
                    </a:lnTo>
                    <a:lnTo>
                      <a:pt x="668" y="150"/>
                    </a:lnTo>
                    <a:lnTo>
                      <a:pt x="658" y="151"/>
                    </a:lnTo>
                    <a:lnTo>
                      <a:pt x="649" y="149"/>
                    </a:lnTo>
                    <a:lnTo>
                      <a:pt x="640" y="151"/>
                    </a:lnTo>
                    <a:lnTo>
                      <a:pt x="631" y="149"/>
                    </a:lnTo>
                    <a:lnTo>
                      <a:pt x="621" y="149"/>
                    </a:lnTo>
                    <a:lnTo>
                      <a:pt x="612" y="150"/>
                    </a:lnTo>
                    <a:lnTo>
                      <a:pt x="603" y="151"/>
                    </a:lnTo>
                    <a:lnTo>
                      <a:pt x="593" y="151"/>
                    </a:lnTo>
                    <a:lnTo>
                      <a:pt x="584" y="150"/>
                    </a:lnTo>
                    <a:lnTo>
                      <a:pt x="575" y="151"/>
                    </a:lnTo>
                    <a:lnTo>
                      <a:pt x="566" y="151"/>
                    </a:lnTo>
                    <a:lnTo>
                      <a:pt x="556" y="152"/>
                    </a:lnTo>
                    <a:lnTo>
                      <a:pt x="547" y="152"/>
                    </a:lnTo>
                    <a:lnTo>
                      <a:pt x="538" y="153"/>
                    </a:lnTo>
                    <a:lnTo>
                      <a:pt x="528" y="152"/>
                    </a:lnTo>
                    <a:lnTo>
                      <a:pt x="519" y="153"/>
                    </a:lnTo>
                    <a:lnTo>
                      <a:pt x="510" y="154"/>
                    </a:lnTo>
                    <a:lnTo>
                      <a:pt x="501" y="155"/>
                    </a:lnTo>
                    <a:lnTo>
                      <a:pt x="491" y="155"/>
                    </a:lnTo>
                    <a:lnTo>
                      <a:pt x="482" y="156"/>
                    </a:lnTo>
                    <a:lnTo>
                      <a:pt x="473" y="156"/>
                    </a:lnTo>
                    <a:lnTo>
                      <a:pt x="464" y="156"/>
                    </a:lnTo>
                    <a:lnTo>
                      <a:pt x="454" y="156"/>
                    </a:lnTo>
                    <a:lnTo>
                      <a:pt x="445" y="157"/>
                    </a:lnTo>
                    <a:lnTo>
                      <a:pt x="436" y="157"/>
                    </a:lnTo>
                    <a:lnTo>
                      <a:pt x="426" y="158"/>
                    </a:lnTo>
                    <a:lnTo>
                      <a:pt x="417" y="158"/>
                    </a:lnTo>
                    <a:lnTo>
                      <a:pt x="408" y="158"/>
                    </a:lnTo>
                    <a:lnTo>
                      <a:pt x="399" y="158"/>
                    </a:lnTo>
                    <a:lnTo>
                      <a:pt x="389" y="158"/>
                    </a:lnTo>
                    <a:lnTo>
                      <a:pt x="380" y="158"/>
                    </a:lnTo>
                    <a:lnTo>
                      <a:pt x="371" y="159"/>
                    </a:lnTo>
                    <a:lnTo>
                      <a:pt x="361" y="159"/>
                    </a:lnTo>
                    <a:lnTo>
                      <a:pt x="352" y="159"/>
                    </a:lnTo>
                    <a:lnTo>
                      <a:pt x="343" y="160"/>
                    </a:lnTo>
                    <a:lnTo>
                      <a:pt x="334" y="160"/>
                    </a:lnTo>
                    <a:lnTo>
                      <a:pt x="324" y="160"/>
                    </a:lnTo>
                    <a:lnTo>
                      <a:pt x="315" y="160"/>
                    </a:lnTo>
                    <a:lnTo>
                      <a:pt x="306" y="160"/>
                    </a:lnTo>
                    <a:lnTo>
                      <a:pt x="296" y="160"/>
                    </a:lnTo>
                    <a:lnTo>
                      <a:pt x="287" y="160"/>
                    </a:lnTo>
                    <a:lnTo>
                      <a:pt x="278" y="161"/>
                    </a:lnTo>
                    <a:lnTo>
                      <a:pt x="269" y="161"/>
                    </a:lnTo>
                    <a:lnTo>
                      <a:pt x="259" y="161"/>
                    </a:lnTo>
                    <a:lnTo>
                      <a:pt x="250" y="161"/>
                    </a:lnTo>
                    <a:lnTo>
                      <a:pt x="241" y="161"/>
                    </a:lnTo>
                    <a:lnTo>
                      <a:pt x="232" y="161"/>
                    </a:lnTo>
                    <a:lnTo>
                      <a:pt x="222" y="162"/>
                    </a:lnTo>
                    <a:lnTo>
                      <a:pt x="213" y="162"/>
                    </a:lnTo>
                    <a:lnTo>
                      <a:pt x="204" y="162"/>
                    </a:lnTo>
                    <a:lnTo>
                      <a:pt x="194" y="162"/>
                    </a:lnTo>
                    <a:lnTo>
                      <a:pt x="185" y="162"/>
                    </a:lnTo>
                    <a:lnTo>
                      <a:pt x="176" y="162"/>
                    </a:lnTo>
                    <a:lnTo>
                      <a:pt x="167" y="162"/>
                    </a:lnTo>
                    <a:lnTo>
                      <a:pt x="157" y="163"/>
                    </a:lnTo>
                    <a:lnTo>
                      <a:pt x="148" y="163"/>
                    </a:lnTo>
                    <a:lnTo>
                      <a:pt x="139" y="163"/>
                    </a:lnTo>
                    <a:lnTo>
                      <a:pt x="129" y="163"/>
                    </a:lnTo>
                    <a:lnTo>
                      <a:pt x="120" y="163"/>
                    </a:lnTo>
                    <a:lnTo>
                      <a:pt x="111" y="163"/>
                    </a:lnTo>
                    <a:lnTo>
                      <a:pt x="102" y="163"/>
                    </a:lnTo>
                    <a:lnTo>
                      <a:pt x="92" y="163"/>
                    </a:lnTo>
                    <a:lnTo>
                      <a:pt x="83" y="164"/>
                    </a:lnTo>
                    <a:lnTo>
                      <a:pt x="74" y="164"/>
                    </a:lnTo>
                    <a:lnTo>
                      <a:pt x="64" y="164"/>
                    </a:lnTo>
                    <a:lnTo>
                      <a:pt x="55" y="164"/>
                    </a:lnTo>
                    <a:lnTo>
                      <a:pt x="46" y="164"/>
                    </a:lnTo>
                    <a:lnTo>
                      <a:pt x="37" y="164"/>
                    </a:lnTo>
                    <a:lnTo>
                      <a:pt x="27" y="164"/>
                    </a:lnTo>
                    <a:lnTo>
                      <a:pt x="18" y="164"/>
                    </a:lnTo>
                    <a:lnTo>
                      <a:pt x="9" y="164"/>
                    </a:lnTo>
                    <a:lnTo>
                      <a:pt x="0" y="164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7" name="Freeform 182"/>
              <p:cNvSpPr/>
              <p:nvPr/>
            </p:nvSpPr>
            <p:spPr>
              <a:xfrm>
                <a:off x="4879440" y="2702520"/>
                <a:ext cx="2310120" cy="404640"/>
              </a:xfrm>
              <a:custGeom>
                <a:avLst/>
                <a:gdLst>
                  <a:gd name="textAreaLeft" fmla="*/ 0 w 2310120"/>
                  <a:gd name="textAreaRight" fmla="*/ 2310480 w 2310120"/>
                  <a:gd name="textAreaTop" fmla="*/ 0 h 404640"/>
                  <a:gd name="textAreaBottom" fmla="*/ 405000 h 404640"/>
                </a:gdLst>
                <a:ahLst/>
                <a:rect l="textAreaLeft" t="textAreaTop" r="textAreaRight" b="textAreaBottom"/>
                <a:pathLst>
                  <a:path w="1447" h="164">
                    <a:moveTo>
                      <a:pt x="0" y="164"/>
                    </a:moveTo>
                    <a:lnTo>
                      <a:pt x="9" y="164"/>
                    </a:lnTo>
                    <a:lnTo>
                      <a:pt x="18" y="164"/>
                    </a:lnTo>
                    <a:lnTo>
                      <a:pt x="27" y="164"/>
                    </a:lnTo>
                    <a:lnTo>
                      <a:pt x="37" y="164"/>
                    </a:lnTo>
                    <a:lnTo>
                      <a:pt x="46" y="164"/>
                    </a:lnTo>
                    <a:lnTo>
                      <a:pt x="55" y="164"/>
                    </a:lnTo>
                    <a:lnTo>
                      <a:pt x="64" y="164"/>
                    </a:lnTo>
                    <a:lnTo>
                      <a:pt x="74" y="164"/>
                    </a:lnTo>
                    <a:lnTo>
                      <a:pt x="83" y="164"/>
                    </a:lnTo>
                    <a:lnTo>
                      <a:pt x="92" y="163"/>
                    </a:lnTo>
                    <a:lnTo>
                      <a:pt x="102" y="163"/>
                    </a:lnTo>
                    <a:lnTo>
                      <a:pt x="111" y="163"/>
                    </a:lnTo>
                    <a:lnTo>
                      <a:pt x="120" y="163"/>
                    </a:lnTo>
                    <a:lnTo>
                      <a:pt x="129" y="163"/>
                    </a:lnTo>
                    <a:lnTo>
                      <a:pt x="139" y="163"/>
                    </a:lnTo>
                    <a:lnTo>
                      <a:pt x="148" y="163"/>
                    </a:lnTo>
                    <a:lnTo>
                      <a:pt x="157" y="163"/>
                    </a:lnTo>
                    <a:lnTo>
                      <a:pt x="167" y="162"/>
                    </a:lnTo>
                    <a:lnTo>
                      <a:pt x="176" y="162"/>
                    </a:lnTo>
                    <a:lnTo>
                      <a:pt x="185" y="162"/>
                    </a:lnTo>
                    <a:lnTo>
                      <a:pt x="194" y="162"/>
                    </a:lnTo>
                    <a:lnTo>
                      <a:pt x="204" y="162"/>
                    </a:lnTo>
                    <a:lnTo>
                      <a:pt x="213" y="162"/>
                    </a:lnTo>
                    <a:lnTo>
                      <a:pt x="222" y="162"/>
                    </a:lnTo>
                    <a:lnTo>
                      <a:pt x="232" y="161"/>
                    </a:lnTo>
                    <a:lnTo>
                      <a:pt x="241" y="161"/>
                    </a:lnTo>
                    <a:lnTo>
                      <a:pt x="250" y="161"/>
                    </a:lnTo>
                    <a:lnTo>
                      <a:pt x="259" y="161"/>
                    </a:lnTo>
                    <a:lnTo>
                      <a:pt x="269" y="161"/>
                    </a:lnTo>
                    <a:lnTo>
                      <a:pt x="278" y="161"/>
                    </a:lnTo>
                    <a:lnTo>
                      <a:pt x="287" y="160"/>
                    </a:lnTo>
                    <a:lnTo>
                      <a:pt x="296" y="160"/>
                    </a:lnTo>
                    <a:lnTo>
                      <a:pt x="306" y="160"/>
                    </a:lnTo>
                    <a:lnTo>
                      <a:pt x="315" y="160"/>
                    </a:lnTo>
                    <a:lnTo>
                      <a:pt x="324" y="160"/>
                    </a:lnTo>
                    <a:lnTo>
                      <a:pt x="334" y="160"/>
                    </a:lnTo>
                    <a:lnTo>
                      <a:pt x="343" y="160"/>
                    </a:lnTo>
                    <a:lnTo>
                      <a:pt x="352" y="159"/>
                    </a:lnTo>
                    <a:lnTo>
                      <a:pt x="361" y="159"/>
                    </a:lnTo>
                    <a:lnTo>
                      <a:pt x="371" y="159"/>
                    </a:lnTo>
                    <a:lnTo>
                      <a:pt x="380" y="158"/>
                    </a:lnTo>
                    <a:lnTo>
                      <a:pt x="389" y="158"/>
                    </a:lnTo>
                    <a:lnTo>
                      <a:pt x="399" y="158"/>
                    </a:lnTo>
                    <a:lnTo>
                      <a:pt x="408" y="158"/>
                    </a:lnTo>
                    <a:lnTo>
                      <a:pt x="417" y="158"/>
                    </a:lnTo>
                    <a:lnTo>
                      <a:pt x="426" y="158"/>
                    </a:lnTo>
                    <a:lnTo>
                      <a:pt x="436" y="157"/>
                    </a:lnTo>
                    <a:lnTo>
                      <a:pt x="445" y="157"/>
                    </a:lnTo>
                    <a:lnTo>
                      <a:pt x="454" y="156"/>
                    </a:lnTo>
                    <a:lnTo>
                      <a:pt x="464" y="156"/>
                    </a:lnTo>
                    <a:lnTo>
                      <a:pt x="473" y="156"/>
                    </a:lnTo>
                    <a:lnTo>
                      <a:pt x="482" y="156"/>
                    </a:lnTo>
                    <a:lnTo>
                      <a:pt x="491" y="155"/>
                    </a:lnTo>
                    <a:lnTo>
                      <a:pt x="501" y="155"/>
                    </a:lnTo>
                    <a:lnTo>
                      <a:pt x="510" y="154"/>
                    </a:lnTo>
                    <a:lnTo>
                      <a:pt x="519" y="153"/>
                    </a:lnTo>
                    <a:lnTo>
                      <a:pt x="528" y="152"/>
                    </a:lnTo>
                    <a:lnTo>
                      <a:pt x="538" y="153"/>
                    </a:lnTo>
                    <a:lnTo>
                      <a:pt x="547" y="152"/>
                    </a:lnTo>
                    <a:lnTo>
                      <a:pt x="556" y="152"/>
                    </a:lnTo>
                    <a:lnTo>
                      <a:pt x="566" y="151"/>
                    </a:lnTo>
                    <a:lnTo>
                      <a:pt x="575" y="151"/>
                    </a:lnTo>
                    <a:lnTo>
                      <a:pt x="584" y="150"/>
                    </a:lnTo>
                    <a:lnTo>
                      <a:pt x="593" y="151"/>
                    </a:lnTo>
                    <a:lnTo>
                      <a:pt x="603" y="151"/>
                    </a:lnTo>
                    <a:lnTo>
                      <a:pt x="612" y="150"/>
                    </a:lnTo>
                    <a:lnTo>
                      <a:pt x="621" y="149"/>
                    </a:lnTo>
                    <a:lnTo>
                      <a:pt x="631" y="149"/>
                    </a:lnTo>
                    <a:lnTo>
                      <a:pt x="640" y="151"/>
                    </a:lnTo>
                    <a:lnTo>
                      <a:pt x="649" y="149"/>
                    </a:lnTo>
                    <a:lnTo>
                      <a:pt x="658" y="151"/>
                    </a:lnTo>
                    <a:lnTo>
                      <a:pt x="668" y="150"/>
                    </a:lnTo>
                    <a:lnTo>
                      <a:pt x="677" y="148"/>
                    </a:lnTo>
                    <a:lnTo>
                      <a:pt x="686" y="148"/>
                    </a:lnTo>
                    <a:lnTo>
                      <a:pt x="696" y="147"/>
                    </a:lnTo>
                    <a:lnTo>
                      <a:pt x="705" y="147"/>
                    </a:lnTo>
                    <a:lnTo>
                      <a:pt x="714" y="146"/>
                    </a:lnTo>
                    <a:lnTo>
                      <a:pt x="723" y="145"/>
                    </a:lnTo>
                    <a:lnTo>
                      <a:pt x="733" y="145"/>
                    </a:lnTo>
                    <a:lnTo>
                      <a:pt x="742" y="145"/>
                    </a:lnTo>
                    <a:lnTo>
                      <a:pt x="751" y="147"/>
                    </a:lnTo>
                    <a:lnTo>
                      <a:pt x="760" y="148"/>
                    </a:lnTo>
                    <a:lnTo>
                      <a:pt x="770" y="147"/>
                    </a:lnTo>
                    <a:lnTo>
                      <a:pt x="779" y="146"/>
                    </a:lnTo>
                    <a:lnTo>
                      <a:pt x="788" y="146"/>
                    </a:lnTo>
                    <a:lnTo>
                      <a:pt x="798" y="144"/>
                    </a:lnTo>
                    <a:lnTo>
                      <a:pt x="807" y="143"/>
                    </a:lnTo>
                    <a:lnTo>
                      <a:pt x="816" y="143"/>
                    </a:lnTo>
                    <a:lnTo>
                      <a:pt x="825" y="142"/>
                    </a:lnTo>
                    <a:lnTo>
                      <a:pt x="835" y="142"/>
                    </a:lnTo>
                    <a:lnTo>
                      <a:pt x="844" y="139"/>
                    </a:lnTo>
                    <a:lnTo>
                      <a:pt x="853" y="139"/>
                    </a:lnTo>
                    <a:lnTo>
                      <a:pt x="863" y="138"/>
                    </a:lnTo>
                    <a:lnTo>
                      <a:pt x="872" y="139"/>
                    </a:lnTo>
                    <a:lnTo>
                      <a:pt x="881" y="141"/>
                    </a:lnTo>
                    <a:lnTo>
                      <a:pt x="890" y="140"/>
                    </a:lnTo>
                    <a:lnTo>
                      <a:pt x="900" y="138"/>
                    </a:lnTo>
                    <a:lnTo>
                      <a:pt x="909" y="137"/>
                    </a:lnTo>
                    <a:lnTo>
                      <a:pt x="918" y="136"/>
                    </a:lnTo>
                    <a:lnTo>
                      <a:pt x="928" y="134"/>
                    </a:lnTo>
                    <a:lnTo>
                      <a:pt x="937" y="132"/>
                    </a:lnTo>
                    <a:lnTo>
                      <a:pt x="946" y="131"/>
                    </a:lnTo>
                    <a:lnTo>
                      <a:pt x="955" y="130"/>
                    </a:lnTo>
                    <a:lnTo>
                      <a:pt x="965" y="130"/>
                    </a:lnTo>
                    <a:lnTo>
                      <a:pt x="974" y="127"/>
                    </a:lnTo>
                    <a:lnTo>
                      <a:pt x="983" y="126"/>
                    </a:lnTo>
                    <a:lnTo>
                      <a:pt x="992" y="123"/>
                    </a:lnTo>
                    <a:lnTo>
                      <a:pt x="1002" y="121"/>
                    </a:lnTo>
                    <a:lnTo>
                      <a:pt x="1011" y="119"/>
                    </a:lnTo>
                    <a:lnTo>
                      <a:pt x="1020" y="116"/>
                    </a:lnTo>
                    <a:lnTo>
                      <a:pt x="1030" y="115"/>
                    </a:lnTo>
                    <a:lnTo>
                      <a:pt x="1039" y="112"/>
                    </a:lnTo>
                    <a:lnTo>
                      <a:pt x="1048" y="109"/>
                    </a:lnTo>
                    <a:lnTo>
                      <a:pt x="1057" y="106"/>
                    </a:lnTo>
                    <a:lnTo>
                      <a:pt x="1067" y="106"/>
                    </a:lnTo>
                    <a:lnTo>
                      <a:pt x="1076" y="103"/>
                    </a:lnTo>
                    <a:lnTo>
                      <a:pt x="1085" y="102"/>
                    </a:lnTo>
                    <a:lnTo>
                      <a:pt x="1095" y="98"/>
                    </a:lnTo>
                    <a:lnTo>
                      <a:pt x="1104" y="95"/>
                    </a:lnTo>
                    <a:lnTo>
                      <a:pt x="1113" y="91"/>
                    </a:lnTo>
                    <a:lnTo>
                      <a:pt x="1122" y="88"/>
                    </a:lnTo>
                    <a:lnTo>
                      <a:pt x="1132" y="84"/>
                    </a:lnTo>
                    <a:lnTo>
                      <a:pt x="1141" y="79"/>
                    </a:lnTo>
                    <a:lnTo>
                      <a:pt x="1150" y="79"/>
                    </a:lnTo>
                    <a:lnTo>
                      <a:pt x="1160" y="78"/>
                    </a:lnTo>
                    <a:lnTo>
                      <a:pt x="1169" y="73"/>
                    </a:lnTo>
                    <a:lnTo>
                      <a:pt x="1178" y="70"/>
                    </a:lnTo>
                    <a:lnTo>
                      <a:pt x="1187" y="66"/>
                    </a:lnTo>
                    <a:lnTo>
                      <a:pt x="1197" y="63"/>
                    </a:lnTo>
                    <a:lnTo>
                      <a:pt x="1206" y="63"/>
                    </a:lnTo>
                    <a:lnTo>
                      <a:pt x="1215" y="65"/>
                    </a:lnTo>
                    <a:lnTo>
                      <a:pt x="1224" y="65"/>
                    </a:lnTo>
                    <a:lnTo>
                      <a:pt x="1234" y="64"/>
                    </a:lnTo>
                    <a:lnTo>
                      <a:pt x="1243" y="60"/>
                    </a:lnTo>
                    <a:lnTo>
                      <a:pt x="1252" y="58"/>
                    </a:lnTo>
                    <a:lnTo>
                      <a:pt x="1262" y="55"/>
                    </a:lnTo>
                    <a:lnTo>
                      <a:pt x="1271" y="51"/>
                    </a:lnTo>
                    <a:lnTo>
                      <a:pt x="1280" y="47"/>
                    </a:lnTo>
                    <a:lnTo>
                      <a:pt x="1289" y="45"/>
                    </a:lnTo>
                    <a:lnTo>
                      <a:pt x="1299" y="43"/>
                    </a:lnTo>
                    <a:lnTo>
                      <a:pt x="1308" y="42"/>
                    </a:lnTo>
                    <a:lnTo>
                      <a:pt x="1317" y="42"/>
                    </a:lnTo>
                    <a:lnTo>
                      <a:pt x="1327" y="41"/>
                    </a:lnTo>
                    <a:lnTo>
                      <a:pt x="1336" y="40"/>
                    </a:lnTo>
                    <a:lnTo>
                      <a:pt x="1345" y="37"/>
                    </a:lnTo>
                    <a:lnTo>
                      <a:pt x="1354" y="33"/>
                    </a:lnTo>
                    <a:lnTo>
                      <a:pt x="1364" y="32"/>
                    </a:lnTo>
                    <a:lnTo>
                      <a:pt x="1373" y="31"/>
                    </a:lnTo>
                    <a:lnTo>
                      <a:pt x="1382" y="29"/>
                    </a:lnTo>
                    <a:lnTo>
                      <a:pt x="1392" y="26"/>
                    </a:lnTo>
                    <a:lnTo>
                      <a:pt x="1401" y="25"/>
                    </a:lnTo>
                    <a:lnTo>
                      <a:pt x="1410" y="22"/>
                    </a:lnTo>
                    <a:lnTo>
                      <a:pt x="1419" y="16"/>
                    </a:lnTo>
                    <a:lnTo>
                      <a:pt x="1429" y="8"/>
                    </a:lnTo>
                    <a:lnTo>
                      <a:pt x="1438" y="4"/>
                    </a:lnTo>
                    <a:lnTo>
                      <a:pt x="1447" y="0"/>
                    </a:lnTo>
                    <a:lnTo>
                      <a:pt x="1447" y="3"/>
                    </a:lnTo>
                    <a:lnTo>
                      <a:pt x="1438" y="8"/>
                    </a:lnTo>
                    <a:lnTo>
                      <a:pt x="1429" y="12"/>
                    </a:lnTo>
                    <a:lnTo>
                      <a:pt x="1419" y="19"/>
                    </a:lnTo>
                    <a:lnTo>
                      <a:pt x="1410" y="25"/>
                    </a:lnTo>
                    <a:lnTo>
                      <a:pt x="1401" y="29"/>
                    </a:lnTo>
                    <a:lnTo>
                      <a:pt x="1392" y="29"/>
                    </a:lnTo>
                    <a:lnTo>
                      <a:pt x="1382" y="32"/>
                    </a:lnTo>
                    <a:lnTo>
                      <a:pt x="1373" y="35"/>
                    </a:lnTo>
                    <a:lnTo>
                      <a:pt x="1364" y="35"/>
                    </a:lnTo>
                    <a:lnTo>
                      <a:pt x="1354" y="37"/>
                    </a:lnTo>
                    <a:lnTo>
                      <a:pt x="1345" y="40"/>
                    </a:lnTo>
                    <a:lnTo>
                      <a:pt x="1336" y="43"/>
                    </a:lnTo>
                    <a:lnTo>
                      <a:pt x="1327" y="44"/>
                    </a:lnTo>
                    <a:lnTo>
                      <a:pt x="1317" y="45"/>
                    </a:lnTo>
                    <a:lnTo>
                      <a:pt x="1308" y="45"/>
                    </a:lnTo>
                    <a:lnTo>
                      <a:pt x="1299" y="46"/>
                    </a:lnTo>
                    <a:lnTo>
                      <a:pt x="1289" y="48"/>
                    </a:lnTo>
                    <a:lnTo>
                      <a:pt x="1280" y="50"/>
                    </a:lnTo>
                    <a:lnTo>
                      <a:pt x="1271" y="53"/>
                    </a:lnTo>
                    <a:lnTo>
                      <a:pt x="1262" y="58"/>
                    </a:lnTo>
                    <a:lnTo>
                      <a:pt x="1252" y="60"/>
                    </a:lnTo>
                    <a:lnTo>
                      <a:pt x="1243" y="62"/>
                    </a:lnTo>
                    <a:lnTo>
                      <a:pt x="1234" y="65"/>
                    </a:lnTo>
                    <a:lnTo>
                      <a:pt x="1224" y="66"/>
                    </a:lnTo>
                    <a:lnTo>
                      <a:pt x="1215" y="66"/>
                    </a:lnTo>
                    <a:lnTo>
                      <a:pt x="1206" y="64"/>
                    </a:lnTo>
                    <a:lnTo>
                      <a:pt x="1197" y="64"/>
                    </a:lnTo>
                    <a:lnTo>
                      <a:pt x="1187" y="67"/>
                    </a:lnTo>
                    <a:lnTo>
                      <a:pt x="1178" y="71"/>
                    </a:lnTo>
                    <a:lnTo>
                      <a:pt x="1169" y="74"/>
                    </a:lnTo>
                    <a:lnTo>
                      <a:pt x="1160" y="79"/>
                    </a:lnTo>
                    <a:lnTo>
                      <a:pt x="1150" y="79"/>
                    </a:lnTo>
                    <a:lnTo>
                      <a:pt x="1141" y="79"/>
                    </a:lnTo>
                    <a:lnTo>
                      <a:pt x="1132" y="84"/>
                    </a:lnTo>
                    <a:lnTo>
                      <a:pt x="1122" y="88"/>
                    </a:lnTo>
                    <a:lnTo>
                      <a:pt x="1113" y="91"/>
                    </a:lnTo>
                    <a:lnTo>
                      <a:pt x="1104" y="95"/>
                    </a:lnTo>
                    <a:lnTo>
                      <a:pt x="1095" y="98"/>
                    </a:lnTo>
                    <a:lnTo>
                      <a:pt x="1085" y="102"/>
                    </a:lnTo>
                    <a:lnTo>
                      <a:pt x="1076" y="103"/>
                    </a:lnTo>
                    <a:lnTo>
                      <a:pt x="1067" y="106"/>
                    </a:lnTo>
                    <a:lnTo>
                      <a:pt x="1057" y="106"/>
                    </a:lnTo>
                    <a:lnTo>
                      <a:pt x="1048" y="109"/>
                    </a:lnTo>
                    <a:lnTo>
                      <a:pt x="1039" y="112"/>
                    </a:lnTo>
                    <a:lnTo>
                      <a:pt x="1030" y="115"/>
                    </a:lnTo>
                    <a:lnTo>
                      <a:pt x="1020" y="116"/>
                    </a:lnTo>
                    <a:lnTo>
                      <a:pt x="1011" y="119"/>
                    </a:lnTo>
                    <a:lnTo>
                      <a:pt x="1002" y="121"/>
                    </a:lnTo>
                    <a:lnTo>
                      <a:pt x="992" y="123"/>
                    </a:lnTo>
                    <a:lnTo>
                      <a:pt x="983" y="126"/>
                    </a:lnTo>
                    <a:lnTo>
                      <a:pt x="974" y="127"/>
                    </a:lnTo>
                    <a:lnTo>
                      <a:pt x="965" y="130"/>
                    </a:lnTo>
                    <a:lnTo>
                      <a:pt x="955" y="130"/>
                    </a:lnTo>
                    <a:lnTo>
                      <a:pt x="946" y="131"/>
                    </a:lnTo>
                    <a:lnTo>
                      <a:pt x="937" y="132"/>
                    </a:lnTo>
                    <a:lnTo>
                      <a:pt x="928" y="134"/>
                    </a:lnTo>
                    <a:lnTo>
                      <a:pt x="918" y="136"/>
                    </a:lnTo>
                    <a:lnTo>
                      <a:pt x="909" y="137"/>
                    </a:lnTo>
                    <a:lnTo>
                      <a:pt x="900" y="138"/>
                    </a:lnTo>
                    <a:lnTo>
                      <a:pt x="890" y="140"/>
                    </a:lnTo>
                    <a:lnTo>
                      <a:pt x="881" y="141"/>
                    </a:lnTo>
                    <a:lnTo>
                      <a:pt x="872" y="139"/>
                    </a:lnTo>
                    <a:lnTo>
                      <a:pt x="863" y="138"/>
                    </a:lnTo>
                    <a:lnTo>
                      <a:pt x="853" y="139"/>
                    </a:lnTo>
                    <a:lnTo>
                      <a:pt x="844" y="139"/>
                    </a:lnTo>
                    <a:lnTo>
                      <a:pt x="835" y="142"/>
                    </a:lnTo>
                    <a:lnTo>
                      <a:pt x="825" y="142"/>
                    </a:lnTo>
                    <a:lnTo>
                      <a:pt x="816" y="143"/>
                    </a:lnTo>
                    <a:lnTo>
                      <a:pt x="807" y="143"/>
                    </a:lnTo>
                    <a:lnTo>
                      <a:pt x="798" y="144"/>
                    </a:lnTo>
                    <a:lnTo>
                      <a:pt x="788" y="146"/>
                    </a:lnTo>
                    <a:lnTo>
                      <a:pt x="779" y="146"/>
                    </a:lnTo>
                    <a:lnTo>
                      <a:pt x="770" y="147"/>
                    </a:lnTo>
                    <a:lnTo>
                      <a:pt x="760" y="148"/>
                    </a:lnTo>
                    <a:lnTo>
                      <a:pt x="751" y="147"/>
                    </a:lnTo>
                    <a:lnTo>
                      <a:pt x="742" y="145"/>
                    </a:lnTo>
                    <a:lnTo>
                      <a:pt x="733" y="145"/>
                    </a:lnTo>
                    <a:lnTo>
                      <a:pt x="723" y="145"/>
                    </a:lnTo>
                    <a:lnTo>
                      <a:pt x="714" y="146"/>
                    </a:lnTo>
                    <a:lnTo>
                      <a:pt x="705" y="147"/>
                    </a:lnTo>
                    <a:lnTo>
                      <a:pt x="696" y="147"/>
                    </a:lnTo>
                    <a:lnTo>
                      <a:pt x="686" y="148"/>
                    </a:lnTo>
                    <a:lnTo>
                      <a:pt x="677" y="148"/>
                    </a:lnTo>
                    <a:lnTo>
                      <a:pt x="668" y="150"/>
                    </a:lnTo>
                    <a:lnTo>
                      <a:pt x="658" y="151"/>
                    </a:lnTo>
                    <a:lnTo>
                      <a:pt x="649" y="149"/>
                    </a:lnTo>
                    <a:lnTo>
                      <a:pt x="640" y="151"/>
                    </a:lnTo>
                    <a:lnTo>
                      <a:pt x="631" y="149"/>
                    </a:lnTo>
                    <a:lnTo>
                      <a:pt x="621" y="149"/>
                    </a:lnTo>
                    <a:lnTo>
                      <a:pt x="612" y="150"/>
                    </a:lnTo>
                    <a:lnTo>
                      <a:pt x="603" y="151"/>
                    </a:lnTo>
                    <a:lnTo>
                      <a:pt x="593" y="151"/>
                    </a:lnTo>
                    <a:lnTo>
                      <a:pt x="584" y="150"/>
                    </a:lnTo>
                    <a:lnTo>
                      <a:pt x="575" y="151"/>
                    </a:lnTo>
                    <a:lnTo>
                      <a:pt x="566" y="151"/>
                    </a:lnTo>
                    <a:lnTo>
                      <a:pt x="556" y="152"/>
                    </a:lnTo>
                    <a:lnTo>
                      <a:pt x="547" y="152"/>
                    </a:lnTo>
                    <a:lnTo>
                      <a:pt x="538" y="153"/>
                    </a:lnTo>
                    <a:lnTo>
                      <a:pt x="528" y="152"/>
                    </a:lnTo>
                    <a:lnTo>
                      <a:pt x="519" y="153"/>
                    </a:lnTo>
                    <a:lnTo>
                      <a:pt x="510" y="154"/>
                    </a:lnTo>
                    <a:lnTo>
                      <a:pt x="501" y="155"/>
                    </a:lnTo>
                    <a:lnTo>
                      <a:pt x="491" y="155"/>
                    </a:lnTo>
                    <a:lnTo>
                      <a:pt x="482" y="156"/>
                    </a:lnTo>
                    <a:lnTo>
                      <a:pt x="473" y="156"/>
                    </a:lnTo>
                    <a:lnTo>
                      <a:pt x="464" y="156"/>
                    </a:lnTo>
                    <a:lnTo>
                      <a:pt x="454" y="156"/>
                    </a:lnTo>
                    <a:lnTo>
                      <a:pt x="445" y="157"/>
                    </a:lnTo>
                    <a:lnTo>
                      <a:pt x="436" y="157"/>
                    </a:lnTo>
                    <a:lnTo>
                      <a:pt x="426" y="158"/>
                    </a:lnTo>
                    <a:lnTo>
                      <a:pt x="417" y="158"/>
                    </a:lnTo>
                    <a:lnTo>
                      <a:pt x="408" y="158"/>
                    </a:lnTo>
                    <a:lnTo>
                      <a:pt x="399" y="158"/>
                    </a:lnTo>
                    <a:lnTo>
                      <a:pt x="389" y="158"/>
                    </a:lnTo>
                    <a:lnTo>
                      <a:pt x="380" y="158"/>
                    </a:lnTo>
                    <a:lnTo>
                      <a:pt x="371" y="159"/>
                    </a:lnTo>
                    <a:lnTo>
                      <a:pt x="361" y="159"/>
                    </a:lnTo>
                    <a:lnTo>
                      <a:pt x="352" y="159"/>
                    </a:lnTo>
                    <a:lnTo>
                      <a:pt x="343" y="160"/>
                    </a:lnTo>
                    <a:lnTo>
                      <a:pt x="334" y="160"/>
                    </a:lnTo>
                    <a:lnTo>
                      <a:pt x="324" y="160"/>
                    </a:lnTo>
                    <a:lnTo>
                      <a:pt x="315" y="160"/>
                    </a:lnTo>
                    <a:lnTo>
                      <a:pt x="306" y="160"/>
                    </a:lnTo>
                    <a:lnTo>
                      <a:pt x="296" y="160"/>
                    </a:lnTo>
                    <a:lnTo>
                      <a:pt x="287" y="160"/>
                    </a:lnTo>
                    <a:lnTo>
                      <a:pt x="278" y="161"/>
                    </a:lnTo>
                    <a:lnTo>
                      <a:pt x="269" y="161"/>
                    </a:lnTo>
                    <a:lnTo>
                      <a:pt x="259" y="161"/>
                    </a:lnTo>
                    <a:lnTo>
                      <a:pt x="250" y="161"/>
                    </a:lnTo>
                    <a:lnTo>
                      <a:pt x="241" y="161"/>
                    </a:lnTo>
                    <a:lnTo>
                      <a:pt x="232" y="161"/>
                    </a:lnTo>
                    <a:lnTo>
                      <a:pt x="222" y="162"/>
                    </a:lnTo>
                    <a:lnTo>
                      <a:pt x="213" y="162"/>
                    </a:lnTo>
                    <a:lnTo>
                      <a:pt x="204" y="162"/>
                    </a:lnTo>
                    <a:lnTo>
                      <a:pt x="194" y="162"/>
                    </a:lnTo>
                    <a:lnTo>
                      <a:pt x="185" y="162"/>
                    </a:lnTo>
                    <a:lnTo>
                      <a:pt x="176" y="162"/>
                    </a:lnTo>
                    <a:lnTo>
                      <a:pt x="167" y="162"/>
                    </a:lnTo>
                    <a:lnTo>
                      <a:pt x="157" y="163"/>
                    </a:lnTo>
                    <a:lnTo>
                      <a:pt x="148" y="163"/>
                    </a:lnTo>
                    <a:lnTo>
                      <a:pt x="139" y="163"/>
                    </a:lnTo>
                    <a:lnTo>
                      <a:pt x="129" y="163"/>
                    </a:lnTo>
                    <a:lnTo>
                      <a:pt x="120" y="163"/>
                    </a:lnTo>
                    <a:lnTo>
                      <a:pt x="111" y="163"/>
                    </a:lnTo>
                    <a:lnTo>
                      <a:pt x="102" y="163"/>
                    </a:lnTo>
                    <a:lnTo>
                      <a:pt x="92" y="163"/>
                    </a:lnTo>
                    <a:lnTo>
                      <a:pt x="83" y="164"/>
                    </a:lnTo>
                    <a:lnTo>
                      <a:pt x="74" y="164"/>
                    </a:lnTo>
                    <a:lnTo>
                      <a:pt x="64" y="164"/>
                    </a:lnTo>
                    <a:lnTo>
                      <a:pt x="55" y="164"/>
                    </a:lnTo>
                    <a:lnTo>
                      <a:pt x="46" y="164"/>
                    </a:lnTo>
                    <a:lnTo>
                      <a:pt x="37" y="164"/>
                    </a:lnTo>
                    <a:lnTo>
                      <a:pt x="27" y="164"/>
                    </a:lnTo>
                    <a:lnTo>
                      <a:pt x="18" y="164"/>
                    </a:lnTo>
                    <a:lnTo>
                      <a:pt x="9" y="164"/>
                    </a:lnTo>
                    <a:lnTo>
                      <a:pt x="0" y="164"/>
                    </a:lnTo>
                    <a:close/>
                  </a:path>
                </a:pathLst>
              </a:custGeom>
              <a:noFill/>
              <a:ln w="3175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8" name="Freeform 183"/>
              <p:cNvSpPr/>
              <p:nvPr/>
            </p:nvSpPr>
            <p:spPr>
              <a:xfrm>
                <a:off x="4879440" y="2712600"/>
                <a:ext cx="2310120" cy="394560"/>
              </a:xfrm>
              <a:custGeom>
                <a:avLst/>
                <a:gdLst>
                  <a:gd name="textAreaLeft" fmla="*/ 0 w 2310120"/>
                  <a:gd name="textAreaRight" fmla="*/ 2310480 w 2310120"/>
                  <a:gd name="textAreaTop" fmla="*/ 0 h 394560"/>
                  <a:gd name="textAreaBottom" fmla="*/ 394920 h 394560"/>
                </a:gdLst>
                <a:ahLst/>
                <a:rect l="textAreaLeft" t="textAreaTop" r="textAreaRight" b="textAreaBottom"/>
                <a:pathLst>
                  <a:path w="1447" h="160">
                    <a:moveTo>
                      <a:pt x="0" y="160"/>
                    </a:moveTo>
                    <a:lnTo>
                      <a:pt x="9" y="160"/>
                    </a:lnTo>
                    <a:lnTo>
                      <a:pt x="18" y="160"/>
                    </a:lnTo>
                    <a:lnTo>
                      <a:pt x="27" y="160"/>
                    </a:lnTo>
                    <a:lnTo>
                      <a:pt x="37" y="160"/>
                    </a:lnTo>
                    <a:lnTo>
                      <a:pt x="46" y="160"/>
                    </a:lnTo>
                    <a:lnTo>
                      <a:pt x="55" y="160"/>
                    </a:lnTo>
                    <a:lnTo>
                      <a:pt x="64" y="160"/>
                    </a:lnTo>
                    <a:lnTo>
                      <a:pt x="74" y="160"/>
                    </a:lnTo>
                    <a:lnTo>
                      <a:pt x="83" y="160"/>
                    </a:lnTo>
                    <a:lnTo>
                      <a:pt x="92" y="160"/>
                    </a:lnTo>
                    <a:lnTo>
                      <a:pt x="102" y="159"/>
                    </a:lnTo>
                    <a:lnTo>
                      <a:pt x="111" y="159"/>
                    </a:lnTo>
                    <a:lnTo>
                      <a:pt x="120" y="159"/>
                    </a:lnTo>
                    <a:lnTo>
                      <a:pt x="129" y="159"/>
                    </a:lnTo>
                    <a:lnTo>
                      <a:pt x="139" y="159"/>
                    </a:lnTo>
                    <a:lnTo>
                      <a:pt x="148" y="159"/>
                    </a:lnTo>
                    <a:lnTo>
                      <a:pt x="157" y="159"/>
                    </a:lnTo>
                    <a:lnTo>
                      <a:pt x="167" y="159"/>
                    </a:lnTo>
                    <a:lnTo>
                      <a:pt x="176" y="158"/>
                    </a:lnTo>
                    <a:lnTo>
                      <a:pt x="185" y="158"/>
                    </a:lnTo>
                    <a:lnTo>
                      <a:pt x="194" y="158"/>
                    </a:lnTo>
                    <a:lnTo>
                      <a:pt x="204" y="158"/>
                    </a:lnTo>
                    <a:lnTo>
                      <a:pt x="213" y="158"/>
                    </a:lnTo>
                    <a:lnTo>
                      <a:pt x="222" y="158"/>
                    </a:lnTo>
                    <a:lnTo>
                      <a:pt x="232" y="158"/>
                    </a:lnTo>
                    <a:lnTo>
                      <a:pt x="241" y="157"/>
                    </a:lnTo>
                    <a:lnTo>
                      <a:pt x="250" y="157"/>
                    </a:lnTo>
                    <a:lnTo>
                      <a:pt x="259" y="157"/>
                    </a:lnTo>
                    <a:lnTo>
                      <a:pt x="269" y="157"/>
                    </a:lnTo>
                    <a:lnTo>
                      <a:pt x="278" y="157"/>
                    </a:lnTo>
                    <a:lnTo>
                      <a:pt x="287" y="157"/>
                    </a:lnTo>
                    <a:lnTo>
                      <a:pt x="296" y="156"/>
                    </a:lnTo>
                    <a:lnTo>
                      <a:pt x="306" y="156"/>
                    </a:lnTo>
                    <a:lnTo>
                      <a:pt x="315" y="156"/>
                    </a:lnTo>
                    <a:lnTo>
                      <a:pt x="324" y="156"/>
                    </a:lnTo>
                    <a:lnTo>
                      <a:pt x="334" y="156"/>
                    </a:lnTo>
                    <a:lnTo>
                      <a:pt x="343" y="156"/>
                    </a:lnTo>
                    <a:lnTo>
                      <a:pt x="352" y="155"/>
                    </a:lnTo>
                    <a:lnTo>
                      <a:pt x="361" y="155"/>
                    </a:lnTo>
                    <a:lnTo>
                      <a:pt x="371" y="155"/>
                    </a:lnTo>
                    <a:lnTo>
                      <a:pt x="380" y="155"/>
                    </a:lnTo>
                    <a:lnTo>
                      <a:pt x="389" y="155"/>
                    </a:lnTo>
                    <a:lnTo>
                      <a:pt x="399" y="155"/>
                    </a:lnTo>
                    <a:lnTo>
                      <a:pt x="408" y="154"/>
                    </a:lnTo>
                    <a:lnTo>
                      <a:pt x="417" y="154"/>
                    </a:lnTo>
                    <a:lnTo>
                      <a:pt x="426" y="154"/>
                    </a:lnTo>
                    <a:lnTo>
                      <a:pt x="436" y="154"/>
                    </a:lnTo>
                    <a:lnTo>
                      <a:pt x="445" y="153"/>
                    </a:lnTo>
                    <a:lnTo>
                      <a:pt x="454" y="153"/>
                    </a:lnTo>
                    <a:lnTo>
                      <a:pt x="464" y="152"/>
                    </a:lnTo>
                    <a:lnTo>
                      <a:pt x="473" y="152"/>
                    </a:lnTo>
                    <a:lnTo>
                      <a:pt x="482" y="152"/>
                    </a:lnTo>
                    <a:lnTo>
                      <a:pt x="491" y="151"/>
                    </a:lnTo>
                    <a:lnTo>
                      <a:pt x="501" y="151"/>
                    </a:lnTo>
                    <a:lnTo>
                      <a:pt x="510" y="150"/>
                    </a:lnTo>
                    <a:lnTo>
                      <a:pt x="519" y="149"/>
                    </a:lnTo>
                    <a:lnTo>
                      <a:pt x="528" y="148"/>
                    </a:lnTo>
                    <a:lnTo>
                      <a:pt x="538" y="149"/>
                    </a:lnTo>
                    <a:lnTo>
                      <a:pt x="547" y="148"/>
                    </a:lnTo>
                    <a:lnTo>
                      <a:pt x="556" y="148"/>
                    </a:lnTo>
                    <a:lnTo>
                      <a:pt x="566" y="147"/>
                    </a:lnTo>
                    <a:lnTo>
                      <a:pt x="575" y="147"/>
                    </a:lnTo>
                    <a:lnTo>
                      <a:pt x="584" y="146"/>
                    </a:lnTo>
                    <a:lnTo>
                      <a:pt x="593" y="147"/>
                    </a:lnTo>
                    <a:lnTo>
                      <a:pt x="603" y="147"/>
                    </a:lnTo>
                    <a:lnTo>
                      <a:pt x="612" y="146"/>
                    </a:lnTo>
                    <a:lnTo>
                      <a:pt x="621" y="145"/>
                    </a:lnTo>
                    <a:lnTo>
                      <a:pt x="631" y="145"/>
                    </a:lnTo>
                    <a:lnTo>
                      <a:pt x="640" y="147"/>
                    </a:lnTo>
                    <a:lnTo>
                      <a:pt x="649" y="145"/>
                    </a:lnTo>
                    <a:lnTo>
                      <a:pt x="658" y="147"/>
                    </a:lnTo>
                    <a:lnTo>
                      <a:pt x="668" y="146"/>
                    </a:lnTo>
                    <a:lnTo>
                      <a:pt x="677" y="144"/>
                    </a:lnTo>
                    <a:lnTo>
                      <a:pt x="686" y="144"/>
                    </a:lnTo>
                    <a:lnTo>
                      <a:pt x="696" y="143"/>
                    </a:lnTo>
                    <a:lnTo>
                      <a:pt x="705" y="143"/>
                    </a:lnTo>
                    <a:lnTo>
                      <a:pt x="714" y="142"/>
                    </a:lnTo>
                    <a:lnTo>
                      <a:pt x="723" y="141"/>
                    </a:lnTo>
                    <a:lnTo>
                      <a:pt x="733" y="141"/>
                    </a:lnTo>
                    <a:lnTo>
                      <a:pt x="742" y="142"/>
                    </a:lnTo>
                    <a:lnTo>
                      <a:pt x="751" y="143"/>
                    </a:lnTo>
                    <a:lnTo>
                      <a:pt x="760" y="144"/>
                    </a:lnTo>
                    <a:lnTo>
                      <a:pt x="770" y="144"/>
                    </a:lnTo>
                    <a:lnTo>
                      <a:pt x="779" y="143"/>
                    </a:lnTo>
                    <a:lnTo>
                      <a:pt x="788" y="142"/>
                    </a:lnTo>
                    <a:lnTo>
                      <a:pt x="798" y="140"/>
                    </a:lnTo>
                    <a:lnTo>
                      <a:pt x="807" y="139"/>
                    </a:lnTo>
                    <a:lnTo>
                      <a:pt x="816" y="140"/>
                    </a:lnTo>
                    <a:lnTo>
                      <a:pt x="825" y="138"/>
                    </a:lnTo>
                    <a:lnTo>
                      <a:pt x="835" y="138"/>
                    </a:lnTo>
                    <a:lnTo>
                      <a:pt x="844" y="135"/>
                    </a:lnTo>
                    <a:lnTo>
                      <a:pt x="853" y="135"/>
                    </a:lnTo>
                    <a:lnTo>
                      <a:pt x="863" y="134"/>
                    </a:lnTo>
                    <a:lnTo>
                      <a:pt x="872" y="135"/>
                    </a:lnTo>
                    <a:lnTo>
                      <a:pt x="881" y="138"/>
                    </a:lnTo>
                    <a:lnTo>
                      <a:pt x="890" y="136"/>
                    </a:lnTo>
                    <a:lnTo>
                      <a:pt x="900" y="134"/>
                    </a:lnTo>
                    <a:lnTo>
                      <a:pt x="909" y="133"/>
                    </a:lnTo>
                    <a:lnTo>
                      <a:pt x="918" y="133"/>
                    </a:lnTo>
                    <a:lnTo>
                      <a:pt x="928" y="130"/>
                    </a:lnTo>
                    <a:lnTo>
                      <a:pt x="937" y="128"/>
                    </a:lnTo>
                    <a:lnTo>
                      <a:pt x="946" y="128"/>
                    </a:lnTo>
                    <a:lnTo>
                      <a:pt x="955" y="126"/>
                    </a:lnTo>
                    <a:lnTo>
                      <a:pt x="965" y="126"/>
                    </a:lnTo>
                    <a:lnTo>
                      <a:pt x="974" y="124"/>
                    </a:lnTo>
                    <a:lnTo>
                      <a:pt x="983" y="122"/>
                    </a:lnTo>
                    <a:lnTo>
                      <a:pt x="992" y="119"/>
                    </a:lnTo>
                    <a:lnTo>
                      <a:pt x="1002" y="117"/>
                    </a:lnTo>
                    <a:lnTo>
                      <a:pt x="1011" y="115"/>
                    </a:lnTo>
                    <a:lnTo>
                      <a:pt x="1020" y="113"/>
                    </a:lnTo>
                    <a:lnTo>
                      <a:pt x="1030" y="111"/>
                    </a:lnTo>
                    <a:lnTo>
                      <a:pt x="1039" y="108"/>
                    </a:lnTo>
                    <a:lnTo>
                      <a:pt x="1048" y="105"/>
                    </a:lnTo>
                    <a:lnTo>
                      <a:pt x="1057" y="102"/>
                    </a:lnTo>
                    <a:lnTo>
                      <a:pt x="1067" y="102"/>
                    </a:lnTo>
                    <a:lnTo>
                      <a:pt x="1076" y="99"/>
                    </a:lnTo>
                    <a:lnTo>
                      <a:pt x="1085" y="98"/>
                    </a:lnTo>
                    <a:lnTo>
                      <a:pt x="1095" y="94"/>
                    </a:lnTo>
                    <a:lnTo>
                      <a:pt x="1104" y="91"/>
                    </a:lnTo>
                    <a:lnTo>
                      <a:pt x="1113" y="88"/>
                    </a:lnTo>
                    <a:lnTo>
                      <a:pt x="1122" y="84"/>
                    </a:lnTo>
                    <a:lnTo>
                      <a:pt x="1132" y="80"/>
                    </a:lnTo>
                    <a:lnTo>
                      <a:pt x="1141" y="75"/>
                    </a:lnTo>
                    <a:lnTo>
                      <a:pt x="1150" y="75"/>
                    </a:lnTo>
                    <a:lnTo>
                      <a:pt x="1160" y="75"/>
                    </a:lnTo>
                    <a:lnTo>
                      <a:pt x="1169" y="70"/>
                    </a:lnTo>
                    <a:lnTo>
                      <a:pt x="1178" y="67"/>
                    </a:lnTo>
                    <a:lnTo>
                      <a:pt x="1187" y="63"/>
                    </a:lnTo>
                    <a:lnTo>
                      <a:pt x="1197" y="60"/>
                    </a:lnTo>
                    <a:lnTo>
                      <a:pt x="1206" y="60"/>
                    </a:lnTo>
                    <a:lnTo>
                      <a:pt x="1215" y="62"/>
                    </a:lnTo>
                    <a:lnTo>
                      <a:pt x="1224" y="62"/>
                    </a:lnTo>
                    <a:lnTo>
                      <a:pt x="1234" y="61"/>
                    </a:lnTo>
                    <a:lnTo>
                      <a:pt x="1243" y="58"/>
                    </a:lnTo>
                    <a:lnTo>
                      <a:pt x="1252" y="56"/>
                    </a:lnTo>
                    <a:lnTo>
                      <a:pt x="1262" y="54"/>
                    </a:lnTo>
                    <a:lnTo>
                      <a:pt x="1271" y="50"/>
                    </a:lnTo>
                    <a:lnTo>
                      <a:pt x="1280" y="46"/>
                    </a:lnTo>
                    <a:lnTo>
                      <a:pt x="1289" y="44"/>
                    </a:lnTo>
                    <a:lnTo>
                      <a:pt x="1299" y="42"/>
                    </a:lnTo>
                    <a:lnTo>
                      <a:pt x="1308" y="41"/>
                    </a:lnTo>
                    <a:lnTo>
                      <a:pt x="1317" y="41"/>
                    </a:lnTo>
                    <a:lnTo>
                      <a:pt x="1327" y="40"/>
                    </a:lnTo>
                    <a:lnTo>
                      <a:pt x="1336" y="39"/>
                    </a:lnTo>
                    <a:lnTo>
                      <a:pt x="1345" y="36"/>
                    </a:lnTo>
                    <a:lnTo>
                      <a:pt x="1354" y="33"/>
                    </a:lnTo>
                    <a:lnTo>
                      <a:pt x="1364" y="32"/>
                    </a:lnTo>
                    <a:lnTo>
                      <a:pt x="1373" y="31"/>
                    </a:lnTo>
                    <a:lnTo>
                      <a:pt x="1382" y="28"/>
                    </a:lnTo>
                    <a:lnTo>
                      <a:pt x="1392" y="25"/>
                    </a:lnTo>
                    <a:lnTo>
                      <a:pt x="1401" y="25"/>
                    </a:lnTo>
                    <a:lnTo>
                      <a:pt x="1410" y="22"/>
                    </a:lnTo>
                    <a:lnTo>
                      <a:pt x="1419" y="16"/>
                    </a:lnTo>
                    <a:lnTo>
                      <a:pt x="1429" y="8"/>
                    </a:lnTo>
                    <a:lnTo>
                      <a:pt x="1438" y="4"/>
                    </a:lnTo>
                    <a:lnTo>
                      <a:pt x="1447" y="0"/>
                    </a:lnTo>
                    <a:lnTo>
                      <a:pt x="1447" y="38"/>
                    </a:lnTo>
                    <a:lnTo>
                      <a:pt x="1438" y="42"/>
                    </a:lnTo>
                    <a:lnTo>
                      <a:pt x="1429" y="45"/>
                    </a:lnTo>
                    <a:lnTo>
                      <a:pt x="1419" y="51"/>
                    </a:lnTo>
                    <a:lnTo>
                      <a:pt x="1410" y="56"/>
                    </a:lnTo>
                    <a:lnTo>
                      <a:pt x="1401" y="58"/>
                    </a:lnTo>
                    <a:lnTo>
                      <a:pt x="1392" y="59"/>
                    </a:lnTo>
                    <a:lnTo>
                      <a:pt x="1382" y="61"/>
                    </a:lnTo>
                    <a:lnTo>
                      <a:pt x="1373" y="62"/>
                    </a:lnTo>
                    <a:lnTo>
                      <a:pt x="1364" y="62"/>
                    </a:lnTo>
                    <a:lnTo>
                      <a:pt x="1354" y="63"/>
                    </a:lnTo>
                    <a:lnTo>
                      <a:pt x="1345" y="66"/>
                    </a:lnTo>
                    <a:lnTo>
                      <a:pt x="1336" y="68"/>
                    </a:lnTo>
                    <a:lnTo>
                      <a:pt x="1327" y="69"/>
                    </a:lnTo>
                    <a:lnTo>
                      <a:pt x="1317" y="69"/>
                    </a:lnTo>
                    <a:lnTo>
                      <a:pt x="1308" y="69"/>
                    </a:lnTo>
                    <a:lnTo>
                      <a:pt x="1299" y="69"/>
                    </a:lnTo>
                    <a:lnTo>
                      <a:pt x="1289" y="70"/>
                    </a:lnTo>
                    <a:lnTo>
                      <a:pt x="1280" y="71"/>
                    </a:lnTo>
                    <a:lnTo>
                      <a:pt x="1271" y="74"/>
                    </a:lnTo>
                    <a:lnTo>
                      <a:pt x="1262" y="77"/>
                    </a:lnTo>
                    <a:lnTo>
                      <a:pt x="1252" y="78"/>
                    </a:lnTo>
                    <a:lnTo>
                      <a:pt x="1243" y="80"/>
                    </a:lnTo>
                    <a:lnTo>
                      <a:pt x="1234" y="82"/>
                    </a:lnTo>
                    <a:lnTo>
                      <a:pt x="1224" y="82"/>
                    </a:lnTo>
                    <a:lnTo>
                      <a:pt x="1215" y="82"/>
                    </a:lnTo>
                    <a:lnTo>
                      <a:pt x="1206" y="80"/>
                    </a:lnTo>
                    <a:lnTo>
                      <a:pt x="1197" y="79"/>
                    </a:lnTo>
                    <a:lnTo>
                      <a:pt x="1187" y="81"/>
                    </a:lnTo>
                    <a:lnTo>
                      <a:pt x="1178" y="84"/>
                    </a:lnTo>
                    <a:lnTo>
                      <a:pt x="1169" y="87"/>
                    </a:lnTo>
                    <a:lnTo>
                      <a:pt x="1160" y="91"/>
                    </a:lnTo>
                    <a:lnTo>
                      <a:pt x="1150" y="92"/>
                    </a:lnTo>
                    <a:lnTo>
                      <a:pt x="1141" y="91"/>
                    </a:lnTo>
                    <a:lnTo>
                      <a:pt x="1132" y="95"/>
                    </a:lnTo>
                    <a:lnTo>
                      <a:pt x="1122" y="99"/>
                    </a:lnTo>
                    <a:lnTo>
                      <a:pt x="1113" y="101"/>
                    </a:lnTo>
                    <a:lnTo>
                      <a:pt x="1104" y="103"/>
                    </a:lnTo>
                    <a:lnTo>
                      <a:pt x="1095" y="106"/>
                    </a:lnTo>
                    <a:lnTo>
                      <a:pt x="1085" y="108"/>
                    </a:lnTo>
                    <a:lnTo>
                      <a:pt x="1076" y="109"/>
                    </a:lnTo>
                    <a:lnTo>
                      <a:pt x="1067" y="111"/>
                    </a:lnTo>
                    <a:lnTo>
                      <a:pt x="1057" y="111"/>
                    </a:lnTo>
                    <a:lnTo>
                      <a:pt x="1048" y="113"/>
                    </a:lnTo>
                    <a:lnTo>
                      <a:pt x="1039" y="115"/>
                    </a:lnTo>
                    <a:lnTo>
                      <a:pt x="1030" y="118"/>
                    </a:lnTo>
                    <a:lnTo>
                      <a:pt x="1020" y="119"/>
                    </a:lnTo>
                    <a:lnTo>
                      <a:pt x="1011" y="121"/>
                    </a:lnTo>
                    <a:lnTo>
                      <a:pt x="1002" y="122"/>
                    </a:lnTo>
                    <a:lnTo>
                      <a:pt x="992" y="124"/>
                    </a:lnTo>
                    <a:lnTo>
                      <a:pt x="983" y="126"/>
                    </a:lnTo>
                    <a:lnTo>
                      <a:pt x="974" y="127"/>
                    </a:lnTo>
                    <a:lnTo>
                      <a:pt x="965" y="129"/>
                    </a:lnTo>
                    <a:lnTo>
                      <a:pt x="955" y="130"/>
                    </a:lnTo>
                    <a:lnTo>
                      <a:pt x="946" y="131"/>
                    </a:lnTo>
                    <a:lnTo>
                      <a:pt x="937" y="132"/>
                    </a:lnTo>
                    <a:lnTo>
                      <a:pt x="928" y="132"/>
                    </a:lnTo>
                    <a:lnTo>
                      <a:pt x="918" y="135"/>
                    </a:lnTo>
                    <a:lnTo>
                      <a:pt x="909" y="135"/>
                    </a:lnTo>
                    <a:lnTo>
                      <a:pt x="900" y="136"/>
                    </a:lnTo>
                    <a:lnTo>
                      <a:pt x="890" y="138"/>
                    </a:lnTo>
                    <a:lnTo>
                      <a:pt x="881" y="139"/>
                    </a:lnTo>
                    <a:lnTo>
                      <a:pt x="872" y="136"/>
                    </a:lnTo>
                    <a:lnTo>
                      <a:pt x="863" y="136"/>
                    </a:lnTo>
                    <a:lnTo>
                      <a:pt x="853" y="136"/>
                    </a:lnTo>
                    <a:lnTo>
                      <a:pt x="844" y="137"/>
                    </a:lnTo>
                    <a:lnTo>
                      <a:pt x="835" y="139"/>
                    </a:lnTo>
                    <a:lnTo>
                      <a:pt x="825" y="139"/>
                    </a:lnTo>
                    <a:lnTo>
                      <a:pt x="816" y="141"/>
                    </a:lnTo>
                    <a:lnTo>
                      <a:pt x="807" y="140"/>
                    </a:lnTo>
                    <a:lnTo>
                      <a:pt x="798" y="141"/>
                    </a:lnTo>
                    <a:lnTo>
                      <a:pt x="788" y="143"/>
                    </a:lnTo>
                    <a:lnTo>
                      <a:pt x="779" y="143"/>
                    </a:lnTo>
                    <a:lnTo>
                      <a:pt x="770" y="144"/>
                    </a:lnTo>
                    <a:lnTo>
                      <a:pt x="760" y="145"/>
                    </a:lnTo>
                    <a:lnTo>
                      <a:pt x="751" y="143"/>
                    </a:lnTo>
                    <a:lnTo>
                      <a:pt x="742" y="142"/>
                    </a:lnTo>
                    <a:lnTo>
                      <a:pt x="733" y="141"/>
                    </a:lnTo>
                    <a:lnTo>
                      <a:pt x="723" y="142"/>
                    </a:lnTo>
                    <a:lnTo>
                      <a:pt x="714" y="143"/>
                    </a:lnTo>
                    <a:lnTo>
                      <a:pt x="705" y="144"/>
                    </a:lnTo>
                    <a:lnTo>
                      <a:pt x="696" y="144"/>
                    </a:lnTo>
                    <a:lnTo>
                      <a:pt x="686" y="144"/>
                    </a:lnTo>
                    <a:lnTo>
                      <a:pt x="677" y="144"/>
                    </a:lnTo>
                    <a:lnTo>
                      <a:pt x="668" y="146"/>
                    </a:lnTo>
                    <a:lnTo>
                      <a:pt x="658" y="147"/>
                    </a:lnTo>
                    <a:lnTo>
                      <a:pt x="649" y="145"/>
                    </a:lnTo>
                    <a:lnTo>
                      <a:pt x="640" y="147"/>
                    </a:lnTo>
                    <a:lnTo>
                      <a:pt x="631" y="146"/>
                    </a:lnTo>
                    <a:lnTo>
                      <a:pt x="621" y="146"/>
                    </a:lnTo>
                    <a:lnTo>
                      <a:pt x="612" y="146"/>
                    </a:lnTo>
                    <a:lnTo>
                      <a:pt x="603" y="147"/>
                    </a:lnTo>
                    <a:lnTo>
                      <a:pt x="593" y="147"/>
                    </a:lnTo>
                    <a:lnTo>
                      <a:pt x="584" y="146"/>
                    </a:lnTo>
                    <a:lnTo>
                      <a:pt x="575" y="147"/>
                    </a:lnTo>
                    <a:lnTo>
                      <a:pt x="566" y="148"/>
                    </a:lnTo>
                    <a:lnTo>
                      <a:pt x="556" y="148"/>
                    </a:lnTo>
                    <a:lnTo>
                      <a:pt x="547" y="148"/>
                    </a:lnTo>
                    <a:lnTo>
                      <a:pt x="538" y="149"/>
                    </a:lnTo>
                    <a:lnTo>
                      <a:pt x="528" y="149"/>
                    </a:lnTo>
                    <a:lnTo>
                      <a:pt x="519" y="150"/>
                    </a:lnTo>
                    <a:lnTo>
                      <a:pt x="510" y="150"/>
                    </a:lnTo>
                    <a:lnTo>
                      <a:pt x="501" y="151"/>
                    </a:lnTo>
                    <a:lnTo>
                      <a:pt x="491" y="151"/>
                    </a:lnTo>
                    <a:lnTo>
                      <a:pt x="482" y="152"/>
                    </a:lnTo>
                    <a:lnTo>
                      <a:pt x="473" y="152"/>
                    </a:lnTo>
                    <a:lnTo>
                      <a:pt x="464" y="152"/>
                    </a:lnTo>
                    <a:lnTo>
                      <a:pt x="454" y="153"/>
                    </a:lnTo>
                    <a:lnTo>
                      <a:pt x="445" y="153"/>
                    </a:lnTo>
                    <a:lnTo>
                      <a:pt x="436" y="154"/>
                    </a:lnTo>
                    <a:lnTo>
                      <a:pt x="426" y="154"/>
                    </a:lnTo>
                    <a:lnTo>
                      <a:pt x="417" y="154"/>
                    </a:lnTo>
                    <a:lnTo>
                      <a:pt x="408" y="154"/>
                    </a:lnTo>
                    <a:lnTo>
                      <a:pt x="399" y="155"/>
                    </a:lnTo>
                    <a:lnTo>
                      <a:pt x="389" y="155"/>
                    </a:lnTo>
                    <a:lnTo>
                      <a:pt x="380" y="155"/>
                    </a:lnTo>
                    <a:lnTo>
                      <a:pt x="371" y="155"/>
                    </a:lnTo>
                    <a:lnTo>
                      <a:pt x="361" y="155"/>
                    </a:lnTo>
                    <a:lnTo>
                      <a:pt x="352" y="155"/>
                    </a:lnTo>
                    <a:lnTo>
                      <a:pt x="343" y="156"/>
                    </a:lnTo>
                    <a:lnTo>
                      <a:pt x="334" y="156"/>
                    </a:lnTo>
                    <a:lnTo>
                      <a:pt x="324" y="156"/>
                    </a:lnTo>
                    <a:lnTo>
                      <a:pt x="315" y="156"/>
                    </a:lnTo>
                    <a:lnTo>
                      <a:pt x="306" y="156"/>
                    </a:lnTo>
                    <a:lnTo>
                      <a:pt x="296" y="156"/>
                    </a:lnTo>
                    <a:lnTo>
                      <a:pt x="287" y="157"/>
                    </a:lnTo>
                    <a:lnTo>
                      <a:pt x="278" y="157"/>
                    </a:lnTo>
                    <a:lnTo>
                      <a:pt x="269" y="157"/>
                    </a:lnTo>
                    <a:lnTo>
                      <a:pt x="259" y="157"/>
                    </a:lnTo>
                    <a:lnTo>
                      <a:pt x="250" y="157"/>
                    </a:lnTo>
                    <a:lnTo>
                      <a:pt x="241" y="157"/>
                    </a:lnTo>
                    <a:lnTo>
                      <a:pt x="232" y="158"/>
                    </a:lnTo>
                    <a:lnTo>
                      <a:pt x="222" y="158"/>
                    </a:lnTo>
                    <a:lnTo>
                      <a:pt x="213" y="158"/>
                    </a:lnTo>
                    <a:lnTo>
                      <a:pt x="204" y="158"/>
                    </a:lnTo>
                    <a:lnTo>
                      <a:pt x="194" y="158"/>
                    </a:lnTo>
                    <a:lnTo>
                      <a:pt x="185" y="158"/>
                    </a:lnTo>
                    <a:lnTo>
                      <a:pt x="176" y="158"/>
                    </a:lnTo>
                    <a:lnTo>
                      <a:pt x="167" y="159"/>
                    </a:lnTo>
                    <a:lnTo>
                      <a:pt x="157" y="159"/>
                    </a:lnTo>
                    <a:lnTo>
                      <a:pt x="148" y="159"/>
                    </a:lnTo>
                    <a:lnTo>
                      <a:pt x="139" y="159"/>
                    </a:lnTo>
                    <a:lnTo>
                      <a:pt x="129" y="159"/>
                    </a:lnTo>
                    <a:lnTo>
                      <a:pt x="120" y="159"/>
                    </a:lnTo>
                    <a:lnTo>
                      <a:pt x="111" y="159"/>
                    </a:lnTo>
                    <a:lnTo>
                      <a:pt x="102" y="159"/>
                    </a:lnTo>
                    <a:lnTo>
                      <a:pt x="92" y="160"/>
                    </a:lnTo>
                    <a:lnTo>
                      <a:pt x="83" y="160"/>
                    </a:lnTo>
                    <a:lnTo>
                      <a:pt x="74" y="160"/>
                    </a:lnTo>
                    <a:lnTo>
                      <a:pt x="64" y="160"/>
                    </a:lnTo>
                    <a:lnTo>
                      <a:pt x="55" y="160"/>
                    </a:lnTo>
                    <a:lnTo>
                      <a:pt x="46" y="160"/>
                    </a:lnTo>
                    <a:lnTo>
                      <a:pt x="37" y="160"/>
                    </a:lnTo>
                    <a:lnTo>
                      <a:pt x="27" y="160"/>
                    </a:lnTo>
                    <a:lnTo>
                      <a:pt x="18" y="160"/>
                    </a:lnTo>
                    <a:lnTo>
                      <a:pt x="9" y="160"/>
                    </a:lnTo>
                    <a:lnTo>
                      <a:pt x="0" y="160"/>
                    </a:lnTo>
                    <a:close/>
                  </a:path>
                </a:pathLst>
              </a:custGeom>
              <a:solidFill>
                <a:srgbClr val="006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9" name="Freeform 184"/>
              <p:cNvSpPr/>
              <p:nvPr/>
            </p:nvSpPr>
            <p:spPr>
              <a:xfrm>
                <a:off x="4879440" y="2712600"/>
                <a:ext cx="2310120" cy="394560"/>
              </a:xfrm>
              <a:custGeom>
                <a:avLst/>
                <a:gdLst>
                  <a:gd name="textAreaLeft" fmla="*/ 0 w 2310120"/>
                  <a:gd name="textAreaRight" fmla="*/ 2310480 w 2310120"/>
                  <a:gd name="textAreaTop" fmla="*/ 0 h 394560"/>
                  <a:gd name="textAreaBottom" fmla="*/ 394920 h 394560"/>
                </a:gdLst>
                <a:ahLst/>
                <a:rect l="textAreaLeft" t="textAreaTop" r="textAreaRight" b="textAreaBottom"/>
                <a:pathLst>
                  <a:path w="1447" h="160">
                    <a:moveTo>
                      <a:pt x="0" y="160"/>
                    </a:moveTo>
                    <a:lnTo>
                      <a:pt x="9" y="160"/>
                    </a:lnTo>
                    <a:lnTo>
                      <a:pt x="18" y="160"/>
                    </a:lnTo>
                    <a:lnTo>
                      <a:pt x="27" y="160"/>
                    </a:lnTo>
                    <a:lnTo>
                      <a:pt x="37" y="160"/>
                    </a:lnTo>
                    <a:lnTo>
                      <a:pt x="46" y="160"/>
                    </a:lnTo>
                    <a:lnTo>
                      <a:pt x="55" y="160"/>
                    </a:lnTo>
                    <a:lnTo>
                      <a:pt x="64" y="160"/>
                    </a:lnTo>
                    <a:lnTo>
                      <a:pt x="74" y="160"/>
                    </a:lnTo>
                    <a:lnTo>
                      <a:pt x="83" y="160"/>
                    </a:lnTo>
                    <a:lnTo>
                      <a:pt x="92" y="160"/>
                    </a:lnTo>
                    <a:lnTo>
                      <a:pt x="102" y="159"/>
                    </a:lnTo>
                    <a:lnTo>
                      <a:pt x="111" y="159"/>
                    </a:lnTo>
                    <a:lnTo>
                      <a:pt x="120" y="159"/>
                    </a:lnTo>
                    <a:lnTo>
                      <a:pt x="129" y="159"/>
                    </a:lnTo>
                    <a:lnTo>
                      <a:pt x="139" y="159"/>
                    </a:lnTo>
                    <a:lnTo>
                      <a:pt x="148" y="159"/>
                    </a:lnTo>
                    <a:lnTo>
                      <a:pt x="157" y="159"/>
                    </a:lnTo>
                    <a:lnTo>
                      <a:pt x="167" y="159"/>
                    </a:lnTo>
                    <a:lnTo>
                      <a:pt x="176" y="158"/>
                    </a:lnTo>
                    <a:lnTo>
                      <a:pt x="185" y="158"/>
                    </a:lnTo>
                    <a:lnTo>
                      <a:pt x="194" y="158"/>
                    </a:lnTo>
                    <a:lnTo>
                      <a:pt x="204" y="158"/>
                    </a:lnTo>
                    <a:lnTo>
                      <a:pt x="213" y="158"/>
                    </a:lnTo>
                    <a:lnTo>
                      <a:pt x="222" y="158"/>
                    </a:lnTo>
                    <a:lnTo>
                      <a:pt x="232" y="158"/>
                    </a:lnTo>
                    <a:lnTo>
                      <a:pt x="241" y="157"/>
                    </a:lnTo>
                    <a:lnTo>
                      <a:pt x="250" y="157"/>
                    </a:lnTo>
                    <a:lnTo>
                      <a:pt x="259" y="157"/>
                    </a:lnTo>
                    <a:lnTo>
                      <a:pt x="269" y="157"/>
                    </a:lnTo>
                    <a:lnTo>
                      <a:pt x="278" y="157"/>
                    </a:lnTo>
                    <a:lnTo>
                      <a:pt x="287" y="157"/>
                    </a:lnTo>
                    <a:lnTo>
                      <a:pt x="296" y="156"/>
                    </a:lnTo>
                    <a:lnTo>
                      <a:pt x="306" y="156"/>
                    </a:lnTo>
                    <a:lnTo>
                      <a:pt x="315" y="156"/>
                    </a:lnTo>
                    <a:lnTo>
                      <a:pt x="324" y="156"/>
                    </a:lnTo>
                    <a:lnTo>
                      <a:pt x="334" y="156"/>
                    </a:lnTo>
                    <a:lnTo>
                      <a:pt x="343" y="156"/>
                    </a:lnTo>
                    <a:lnTo>
                      <a:pt x="352" y="155"/>
                    </a:lnTo>
                    <a:lnTo>
                      <a:pt x="361" y="155"/>
                    </a:lnTo>
                    <a:lnTo>
                      <a:pt x="371" y="155"/>
                    </a:lnTo>
                    <a:lnTo>
                      <a:pt x="380" y="155"/>
                    </a:lnTo>
                    <a:lnTo>
                      <a:pt x="389" y="155"/>
                    </a:lnTo>
                    <a:lnTo>
                      <a:pt x="399" y="155"/>
                    </a:lnTo>
                    <a:lnTo>
                      <a:pt x="408" y="154"/>
                    </a:lnTo>
                    <a:lnTo>
                      <a:pt x="417" y="154"/>
                    </a:lnTo>
                    <a:lnTo>
                      <a:pt x="426" y="154"/>
                    </a:lnTo>
                    <a:lnTo>
                      <a:pt x="436" y="154"/>
                    </a:lnTo>
                    <a:lnTo>
                      <a:pt x="445" y="153"/>
                    </a:lnTo>
                    <a:lnTo>
                      <a:pt x="454" y="153"/>
                    </a:lnTo>
                    <a:lnTo>
                      <a:pt x="464" y="152"/>
                    </a:lnTo>
                    <a:lnTo>
                      <a:pt x="473" y="152"/>
                    </a:lnTo>
                    <a:lnTo>
                      <a:pt x="482" y="152"/>
                    </a:lnTo>
                    <a:lnTo>
                      <a:pt x="491" y="151"/>
                    </a:lnTo>
                    <a:lnTo>
                      <a:pt x="501" y="151"/>
                    </a:lnTo>
                    <a:lnTo>
                      <a:pt x="510" y="150"/>
                    </a:lnTo>
                    <a:lnTo>
                      <a:pt x="519" y="149"/>
                    </a:lnTo>
                    <a:lnTo>
                      <a:pt x="528" y="148"/>
                    </a:lnTo>
                    <a:lnTo>
                      <a:pt x="538" y="149"/>
                    </a:lnTo>
                    <a:lnTo>
                      <a:pt x="547" y="148"/>
                    </a:lnTo>
                    <a:lnTo>
                      <a:pt x="556" y="148"/>
                    </a:lnTo>
                    <a:lnTo>
                      <a:pt x="566" y="147"/>
                    </a:lnTo>
                    <a:lnTo>
                      <a:pt x="575" y="147"/>
                    </a:lnTo>
                    <a:lnTo>
                      <a:pt x="584" y="146"/>
                    </a:lnTo>
                    <a:lnTo>
                      <a:pt x="593" y="147"/>
                    </a:lnTo>
                    <a:lnTo>
                      <a:pt x="603" y="147"/>
                    </a:lnTo>
                    <a:lnTo>
                      <a:pt x="612" y="146"/>
                    </a:lnTo>
                    <a:lnTo>
                      <a:pt x="621" y="145"/>
                    </a:lnTo>
                    <a:lnTo>
                      <a:pt x="631" y="145"/>
                    </a:lnTo>
                    <a:lnTo>
                      <a:pt x="640" y="147"/>
                    </a:lnTo>
                    <a:lnTo>
                      <a:pt x="649" y="145"/>
                    </a:lnTo>
                    <a:lnTo>
                      <a:pt x="658" y="147"/>
                    </a:lnTo>
                    <a:lnTo>
                      <a:pt x="668" y="146"/>
                    </a:lnTo>
                    <a:lnTo>
                      <a:pt x="677" y="144"/>
                    </a:lnTo>
                    <a:lnTo>
                      <a:pt x="686" y="144"/>
                    </a:lnTo>
                    <a:lnTo>
                      <a:pt x="696" y="143"/>
                    </a:lnTo>
                    <a:lnTo>
                      <a:pt x="705" y="143"/>
                    </a:lnTo>
                    <a:lnTo>
                      <a:pt x="714" y="142"/>
                    </a:lnTo>
                    <a:lnTo>
                      <a:pt x="723" y="141"/>
                    </a:lnTo>
                    <a:lnTo>
                      <a:pt x="733" y="141"/>
                    </a:lnTo>
                    <a:lnTo>
                      <a:pt x="742" y="142"/>
                    </a:lnTo>
                    <a:lnTo>
                      <a:pt x="751" y="143"/>
                    </a:lnTo>
                    <a:lnTo>
                      <a:pt x="760" y="144"/>
                    </a:lnTo>
                    <a:lnTo>
                      <a:pt x="770" y="144"/>
                    </a:lnTo>
                    <a:lnTo>
                      <a:pt x="779" y="143"/>
                    </a:lnTo>
                    <a:lnTo>
                      <a:pt x="788" y="142"/>
                    </a:lnTo>
                    <a:lnTo>
                      <a:pt x="798" y="140"/>
                    </a:lnTo>
                    <a:lnTo>
                      <a:pt x="807" y="139"/>
                    </a:lnTo>
                    <a:lnTo>
                      <a:pt x="816" y="140"/>
                    </a:lnTo>
                    <a:lnTo>
                      <a:pt x="825" y="138"/>
                    </a:lnTo>
                    <a:lnTo>
                      <a:pt x="835" y="138"/>
                    </a:lnTo>
                    <a:lnTo>
                      <a:pt x="844" y="135"/>
                    </a:lnTo>
                    <a:lnTo>
                      <a:pt x="853" y="135"/>
                    </a:lnTo>
                    <a:lnTo>
                      <a:pt x="863" y="134"/>
                    </a:lnTo>
                    <a:lnTo>
                      <a:pt x="872" y="135"/>
                    </a:lnTo>
                    <a:lnTo>
                      <a:pt x="881" y="138"/>
                    </a:lnTo>
                    <a:lnTo>
                      <a:pt x="890" y="136"/>
                    </a:lnTo>
                    <a:lnTo>
                      <a:pt x="900" y="134"/>
                    </a:lnTo>
                    <a:lnTo>
                      <a:pt x="909" y="133"/>
                    </a:lnTo>
                    <a:lnTo>
                      <a:pt x="918" y="133"/>
                    </a:lnTo>
                    <a:lnTo>
                      <a:pt x="928" y="130"/>
                    </a:lnTo>
                    <a:lnTo>
                      <a:pt x="937" y="128"/>
                    </a:lnTo>
                    <a:lnTo>
                      <a:pt x="946" y="128"/>
                    </a:lnTo>
                    <a:lnTo>
                      <a:pt x="955" y="126"/>
                    </a:lnTo>
                    <a:lnTo>
                      <a:pt x="965" y="126"/>
                    </a:lnTo>
                    <a:lnTo>
                      <a:pt x="974" y="124"/>
                    </a:lnTo>
                    <a:lnTo>
                      <a:pt x="983" y="122"/>
                    </a:lnTo>
                    <a:lnTo>
                      <a:pt x="992" y="119"/>
                    </a:lnTo>
                    <a:lnTo>
                      <a:pt x="1002" y="117"/>
                    </a:lnTo>
                    <a:lnTo>
                      <a:pt x="1011" y="115"/>
                    </a:lnTo>
                    <a:lnTo>
                      <a:pt x="1020" y="113"/>
                    </a:lnTo>
                    <a:lnTo>
                      <a:pt x="1030" y="111"/>
                    </a:lnTo>
                    <a:lnTo>
                      <a:pt x="1039" y="108"/>
                    </a:lnTo>
                    <a:lnTo>
                      <a:pt x="1048" y="105"/>
                    </a:lnTo>
                    <a:lnTo>
                      <a:pt x="1057" y="102"/>
                    </a:lnTo>
                    <a:lnTo>
                      <a:pt x="1067" y="102"/>
                    </a:lnTo>
                    <a:lnTo>
                      <a:pt x="1076" y="99"/>
                    </a:lnTo>
                    <a:lnTo>
                      <a:pt x="1085" y="98"/>
                    </a:lnTo>
                    <a:lnTo>
                      <a:pt x="1095" y="94"/>
                    </a:lnTo>
                    <a:lnTo>
                      <a:pt x="1104" y="91"/>
                    </a:lnTo>
                    <a:lnTo>
                      <a:pt x="1113" y="88"/>
                    </a:lnTo>
                    <a:lnTo>
                      <a:pt x="1122" y="84"/>
                    </a:lnTo>
                    <a:lnTo>
                      <a:pt x="1132" y="80"/>
                    </a:lnTo>
                    <a:lnTo>
                      <a:pt x="1141" y="75"/>
                    </a:lnTo>
                    <a:lnTo>
                      <a:pt x="1150" y="75"/>
                    </a:lnTo>
                    <a:lnTo>
                      <a:pt x="1160" y="75"/>
                    </a:lnTo>
                    <a:lnTo>
                      <a:pt x="1169" y="70"/>
                    </a:lnTo>
                    <a:lnTo>
                      <a:pt x="1178" y="67"/>
                    </a:lnTo>
                    <a:lnTo>
                      <a:pt x="1187" y="63"/>
                    </a:lnTo>
                    <a:lnTo>
                      <a:pt x="1197" y="60"/>
                    </a:lnTo>
                    <a:lnTo>
                      <a:pt x="1206" y="60"/>
                    </a:lnTo>
                    <a:lnTo>
                      <a:pt x="1215" y="62"/>
                    </a:lnTo>
                    <a:lnTo>
                      <a:pt x="1224" y="62"/>
                    </a:lnTo>
                    <a:lnTo>
                      <a:pt x="1234" y="61"/>
                    </a:lnTo>
                    <a:lnTo>
                      <a:pt x="1243" y="58"/>
                    </a:lnTo>
                    <a:lnTo>
                      <a:pt x="1252" y="56"/>
                    </a:lnTo>
                    <a:lnTo>
                      <a:pt x="1262" y="54"/>
                    </a:lnTo>
                    <a:lnTo>
                      <a:pt x="1271" y="50"/>
                    </a:lnTo>
                    <a:lnTo>
                      <a:pt x="1280" y="46"/>
                    </a:lnTo>
                    <a:lnTo>
                      <a:pt x="1289" y="44"/>
                    </a:lnTo>
                    <a:lnTo>
                      <a:pt x="1299" y="42"/>
                    </a:lnTo>
                    <a:lnTo>
                      <a:pt x="1308" y="41"/>
                    </a:lnTo>
                    <a:lnTo>
                      <a:pt x="1317" y="41"/>
                    </a:lnTo>
                    <a:lnTo>
                      <a:pt x="1327" y="40"/>
                    </a:lnTo>
                    <a:lnTo>
                      <a:pt x="1336" y="39"/>
                    </a:lnTo>
                    <a:lnTo>
                      <a:pt x="1345" y="36"/>
                    </a:lnTo>
                    <a:lnTo>
                      <a:pt x="1354" y="33"/>
                    </a:lnTo>
                    <a:lnTo>
                      <a:pt x="1364" y="32"/>
                    </a:lnTo>
                    <a:lnTo>
                      <a:pt x="1373" y="31"/>
                    </a:lnTo>
                    <a:lnTo>
                      <a:pt x="1382" y="28"/>
                    </a:lnTo>
                    <a:lnTo>
                      <a:pt x="1392" y="25"/>
                    </a:lnTo>
                    <a:lnTo>
                      <a:pt x="1401" y="25"/>
                    </a:lnTo>
                    <a:lnTo>
                      <a:pt x="1410" y="22"/>
                    </a:lnTo>
                    <a:lnTo>
                      <a:pt x="1419" y="16"/>
                    </a:lnTo>
                    <a:lnTo>
                      <a:pt x="1429" y="8"/>
                    </a:lnTo>
                    <a:lnTo>
                      <a:pt x="1438" y="4"/>
                    </a:lnTo>
                    <a:lnTo>
                      <a:pt x="1447" y="0"/>
                    </a:lnTo>
                    <a:lnTo>
                      <a:pt x="1447" y="38"/>
                    </a:lnTo>
                    <a:lnTo>
                      <a:pt x="1438" y="42"/>
                    </a:lnTo>
                    <a:lnTo>
                      <a:pt x="1429" y="45"/>
                    </a:lnTo>
                    <a:lnTo>
                      <a:pt x="1419" y="51"/>
                    </a:lnTo>
                    <a:lnTo>
                      <a:pt x="1410" y="56"/>
                    </a:lnTo>
                    <a:lnTo>
                      <a:pt x="1401" y="58"/>
                    </a:lnTo>
                    <a:lnTo>
                      <a:pt x="1392" y="59"/>
                    </a:lnTo>
                    <a:lnTo>
                      <a:pt x="1382" y="61"/>
                    </a:lnTo>
                    <a:lnTo>
                      <a:pt x="1373" y="62"/>
                    </a:lnTo>
                    <a:lnTo>
                      <a:pt x="1364" y="62"/>
                    </a:lnTo>
                    <a:lnTo>
                      <a:pt x="1354" y="63"/>
                    </a:lnTo>
                    <a:lnTo>
                      <a:pt x="1345" y="66"/>
                    </a:lnTo>
                    <a:lnTo>
                      <a:pt x="1336" y="68"/>
                    </a:lnTo>
                    <a:lnTo>
                      <a:pt x="1327" y="69"/>
                    </a:lnTo>
                    <a:lnTo>
                      <a:pt x="1317" y="69"/>
                    </a:lnTo>
                    <a:lnTo>
                      <a:pt x="1308" y="69"/>
                    </a:lnTo>
                    <a:lnTo>
                      <a:pt x="1299" y="69"/>
                    </a:lnTo>
                    <a:lnTo>
                      <a:pt x="1289" y="70"/>
                    </a:lnTo>
                    <a:lnTo>
                      <a:pt x="1280" y="71"/>
                    </a:lnTo>
                    <a:lnTo>
                      <a:pt x="1271" y="74"/>
                    </a:lnTo>
                    <a:lnTo>
                      <a:pt x="1262" y="77"/>
                    </a:lnTo>
                    <a:lnTo>
                      <a:pt x="1252" y="78"/>
                    </a:lnTo>
                    <a:lnTo>
                      <a:pt x="1243" y="80"/>
                    </a:lnTo>
                    <a:lnTo>
                      <a:pt x="1234" y="82"/>
                    </a:lnTo>
                    <a:lnTo>
                      <a:pt x="1224" y="82"/>
                    </a:lnTo>
                    <a:lnTo>
                      <a:pt x="1215" y="82"/>
                    </a:lnTo>
                    <a:lnTo>
                      <a:pt x="1206" y="80"/>
                    </a:lnTo>
                    <a:lnTo>
                      <a:pt x="1197" y="79"/>
                    </a:lnTo>
                    <a:lnTo>
                      <a:pt x="1187" y="81"/>
                    </a:lnTo>
                    <a:lnTo>
                      <a:pt x="1178" y="84"/>
                    </a:lnTo>
                    <a:lnTo>
                      <a:pt x="1169" y="87"/>
                    </a:lnTo>
                    <a:lnTo>
                      <a:pt x="1160" y="91"/>
                    </a:lnTo>
                    <a:lnTo>
                      <a:pt x="1150" y="92"/>
                    </a:lnTo>
                    <a:lnTo>
                      <a:pt x="1141" y="91"/>
                    </a:lnTo>
                    <a:lnTo>
                      <a:pt x="1132" y="95"/>
                    </a:lnTo>
                    <a:lnTo>
                      <a:pt x="1122" y="99"/>
                    </a:lnTo>
                    <a:lnTo>
                      <a:pt x="1113" y="101"/>
                    </a:lnTo>
                    <a:lnTo>
                      <a:pt x="1104" y="103"/>
                    </a:lnTo>
                    <a:lnTo>
                      <a:pt x="1095" y="106"/>
                    </a:lnTo>
                    <a:lnTo>
                      <a:pt x="1085" y="108"/>
                    </a:lnTo>
                    <a:lnTo>
                      <a:pt x="1076" y="109"/>
                    </a:lnTo>
                    <a:lnTo>
                      <a:pt x="1067" y="111"/>
                    </a:lnTo>
                    <a:lnTo>
                      <a:pt x="1057" y="111"/>
                    </a:lnTo>
                    <a:lnTo>
                      <a:pt x="1048" y="113"/>
                    </a:lnTo>
                    <a:lnTo>
                      <a:pt x="1039" y="115"/>
                    </a:lnTo>
                    <a:lnTo>
                      <a:pt x="1030" y="118"/>
                    </a:lnTo>
                    <a:lnTo>
                      <a:pt x="1020" y="119"/>
                    </a:lnTo>
                    <a:lnTo>
                      <a:pt x="1011" y="121"/>
                    </a:lnTo>
                    <a:lnTo>
                      <a:pt x="1002" y="122"/>
                    </a:lnTo>
                    <a:lnTo>
                      <a:pt x="992" y="124"/>
                    </a:lnTo>
                    <a:lnTo>
                      <a:pt x="983" y="126"/>
                    </a:lnTo>
                    <a:lnTo>
                      <a:pt x="974" y="127"/>
                    </a:lnTo>
                    <a:lnTo>
                      <a:pt x="965" y="129"/>
                    </a:lnTo>
                    <a:lnTo>
                      <a:pt x="955" y="130"/>
                    </a:lnTo>
                    <a:lnTo>
                      <a:pt x="946" y="131"/>
                    </a:lnTo>
                    <a:lnTo>
                      <a:pt x="937" y="132"/>
                    </a:lnTo>
                    <a:lnTo>
                      <a:pt x="928" y="132"/>
                    </a:lnTo>
                    <a:lnTo>
                      <a:pt x="918" y="135"/>
                    </a:lnTo>
                    <a:lnTo>
                      <a:pt x="909" y="135"/>
                    </a:lnTo>
                    <a:lnTo>
                      <a:pt x="900" y="136"/>
                    </a:lnTo>
                    <a:lnTo>
                      <a:pt x="890" y="138"/>
                    </a:lnTo>
                    <a:lnTo>
                      <a:pt x="881" y="139"/>
                    </a:lnTo>
                    <a:lnTo>
                      <a:pt x="872" y="136"/>
                    </a:lnTo>
                    <a:lnTo>
                      <a:pt x="863" y="136"/>
                    </a:lnTo>
                    <a:lnTo>
                      <a:pt x="853" y="136"/>
                    </a:lnTo>
                    <a:lnTo>
                      <a:pt x="844" y="137"/>
                    </a:lnTo>
                    <a:lnTo>
                      <a:pt x="835" y="139"/>
                    </a:lnTo>
                    <a:lnTo>
                      <a:pt x="825" y="139"/>
                    </a:lnTo>
                    <a:lnTo>
                      <a:pt x="816" y="141"/>
                    </a:lnTo>
                    <a:lnTo>
                      <a:pt x="807" y="140"/>
                    </a:lnTo>
                    <a:lnTo>
                      <a:pt x="798" y="141"/>
                    </a:lnTo>
                    <a:lnTo>
                      <a:pt x="788" y="143"/>
                    </a:lnTo>
                    <a:lnTo>
                      <a:pt x="779" y="143"/>
                    </a:lnTo>
                    <a:lnTo>
                      <a:pt x="770" y="144"/>
                    </a:lnTo>
                    <a:lnTo>
                      <a:pt x="760" y="145"/>
                    </a:lnTo>
                    <a:lnTo>
                      <a:pt x="751" y="143"/>
                    </a:lnTo>
                    <a:lnTo>
                      <a:pt x="742" y="142"/>
                    </a:lnTo>
                    <a:lnTo>
                      <a:pt x="733" y="141"/>
                    </a:lnTo>
                    <a:lnTo>
                      <a:pt x="723" y="142"/>
                    </a:lnTo>
                    <a:lnTo>
                      <a:pt x="714" y="143"/>
                    </a:lnTo>
                    <a:lnTo>
                      <a:pt x="705" y="144"/>
                    </a:lnTo>
                    <a:lnTo>
                      <a:pt x="696" y="144"/>
                    </a:lnTo>
                    <a:lnTo>
                      <a:pt x="686" y="144"/>
                    </a:lnTo>
                    <a:lnTo>
                      <a:pt x="677" y="144"/>
                    </a:lnTo>
                    <a:lnTo>
                      <a:pt x="668" y="146"/>
                    </a:lnTo>
                    <a:lnTo>
                      <a:pt x="658" y="147"/>
                    </a:lnTo>
                    <a:lnTo>
                      <a:pt x="649" y="145"/>
                    </a:lnTo>
                    <a:lnTo>
                      <a:pt x="640" y="147"/>
                    </a:lnTo>
                    <a:lnTo>
                      <a:pt x="631" y="146"/>
                    </a:lnTo>
                    <a:lnTo>
                      <a:pt x="621" y="146"/>
                    </a:lnTo>
                    <a:lnTo>
                      <a:pt x="612" y="146"/>
                    </a:lnTo>
                    <a:lnTo>
                      <a:pt x="603" y="147"/>
                    </a:lnTo>
                    <a:lnTo>
                      <a:pt x="593" y="147"/>
                    </a:lnTo>
                    <a:lnTo>
                      <a:pt x="584" y="146"/>
                    </a:lnTo>
                    <a:lnTo>
                      <a:pt x="575" y="147"/>
                    </a:lnTo>
                    <a:lnTo>
                      <a:pt x="566" y="148"/>
                    </a:lnTo>
                    <a:lnTo>
                      <a:pt x="556" y="148"/>
                    </a:lnTo>
                    <a:lnTo>
                      <a:pt x="547" y="148"/>
                    </a:lnTo>
                    <a:lnTo>
                      <a:pt x="538" y="149"/>
                    </a:lnTo>
                    <a:lnTo>
                      <a:pt x="528" y="149"/>
                    </a:lnTo>
                    <a:lnTo>
                      <a:pt x="519" y="150"/>
                    </a:lnTo>
                    <a:lnTo>
                      <a:pt x="510" y="150"/>
                    </a:lnTo>
                    <a:lnTo>
                      <a:pt x="501" y="151"/>
                    </a:lnTo>
                    <a:lnTo>
                      <a:pt x="491" y="151"/>
                    </a:lnTo>
                    <a:lnTo>
                      <a:pt x="482" y="152"/>
                    </a:lnTo>
                    <a:lnTo>
                      <a:pt x="473" y="152"/>
                    </a:lnTo>
                    <a:lnTo>
                      <a:pt x="464" y="152"/>
                    </a:lnTo>
                    <a:lnTo>
                      <a:pt x="454" y="153"/>
                    </a:lnTo>
                    <a:lnTo>
                      <a:pt x="445" y="153"/>
                    </a:lnTo>
                    <a:lnTo>
                      <a:pt x="436" y="154"/>
                    </a:lnTo>
                    <a:lnTo>
                      <a:pt x="426" y="154"/>
                    </a:lnTo>
                    <a:lnTo>
                      <a:pt x="417" y="154"/>
                    </a:lnTo>
                    <a:lnTo>
                      <a:pt x="408" y="154"/>
                    </a:lnTo>
                    <a:lnTo>
                      <a:pt x="399" y="155"/>
                    </a:lnTo>
                    <a:lnTo>
                      <a:pt x="389" y="155"/>
                    </a:lnTo>
                    <a:lnTo>
                      <a:pt x="380" y="155"/>
                    </a:lnTo>
                    <a:lnTo>
                      <a:pt x="371" y="155"/>
                    </a:lnTo>
                    <a:lnTo>
                      <a:pt x="361" y="155"/>
                    </a:lnTo>
                    <a:lnTo>
                      <a:pt x="352" y="155"/>
                    </a:lnTo>
                    <a:lnTo>
                      <a:pt x="343" y="156"/>
                    </a:lnTo>
                    <a:lnTo>
                      <a:pt x="334" y="156"/>
                    </a:lnTo>
                    <a:lnTo>
                      <a:pt x="324" y="156"/>
                    </a:lnTo>
                    <a:lnTo>
                      <a:pt x="315" y="156"/>
                    </a:lnTo>
                    <a:lnTo>
                      <a:pt x="306" y="156"/>
                    </a:lnTo>
                    <a:lnTo>
                      <a:pt x="296" y="156"/>
                    </a:lnTo>
                    <a:lnTo>
                      <a:pt x="287" y="157"/>
                    </a:lnTo>
                    <a:lnTo>
                      <a:pt x="278" y="157"/>
                    </a:lnTo>
                    <a:lnTo>
                      <a:pt x="269" y="157"/>
                    </a:lnTo>
                    <a:lnTo>
                      <a:pt x="259" y="157"/>
                    </a:lnTo>
                    <a:lnTo>
                      <a:pt x="250" y="157"/>
                    </a:lnTo>
                    <a:lnTo>
                      <a:pt x="241" y="157"/>
                    </a:lnTo>
                    <a:lnTo>
                      <a:pt x="232" y="158"/>
                    </a:lnTo>
                    <a:lnTo>
                      <a:pt x="222" y="158"/>
                    </a:lnTo>
                    <a:lnTo>
                      <a:pt x="213" y="158"/>
                    </a:lnTo>
                    <a:lnTo>
                      <a:pt x="204" y="158"/>
                    </a:lnTo>
                    <a:lnTo>
                      <a:pt x="194" y="158"/>
                    </a:lnTo>
                    <a:lnTo>
                      <a:pt x="185" y="158"/>
                    </a:lnTo>
                    <a:lnTo>
                      <a:pt x="176" y="158"/>
                    </a:lnTo>
                    <a:lnTo>
                      <a:pt x="167" y="159"/>
                    </a:lnTo>
                    <a:lnTo>
                      <a:pt x="157" y="159"/>
                    </a:lnTo>
                    <a:lnTo>
                      <a:pt x="148" y="159"/>
                    </a:lnTo>
                    <a:lnTo>
                      <a:pt x="139" y="159"/>
                    </a:lnTo>
                    <a:lnTo>
                      <a:pt x="129" y="159"/>
                    </a:lnTo>
                    <a:lnTo>
                      <a:pt x="120" y="159"/>
                    </a:lnTo>
                    <a:lnTo>
                      <a:pt x="111" y="159"/>
                    </a:lnTo>
                    <a:lnTo>
                      <a:pt x="102" y="159"/>
                    </a:lnTo>
                    <a:lnTo>
                      <a:pt x="92" y="160"/>
                    </a:lnTo>
                    <a:lnTo>
                      <a:pt x="83" y="160"/>
                    </a:lnTo>
                    <a:lnTo>
                      <a:pt x="74" y="160"/>
                    </a:lnTo>
                    <a:lnTo>
                      <a:pt x="64" y="160"/>
                    </a:lnTo>
                    <a:lnTo>
                      <a:pt x="55" y="160"/>
                    </a:lnTo>
                    <a:lnTo>
                      <a:pt x="46" y="160"/>
                    </a:lnTo>
                    <a:lnTo>
                      <a:pt x="37" y="160"/>
                    </a:lnTo>
                    <a:lnTo>
                      <a:pt x="27" y="160"/>
                    </a:lnTo>
                    <a:lnTo>
                      <a:pt x="18" y="160"/>
                    </a:lnTo>
                    <a:lnTo>
                      <a:pt x="9" y="160"/>
                    </a:lnTo>
                    <a:lnTo>
                      <a:pt x="0" y="160"/>
                    </a:lnTo>
                    <a:close/>
                  </a:path>
                </a:pathLst>
              </a:custGeom>
              <a:noFill/>
              <a:ln w="3175">
                <a:solidFill>
                  <a:srgbClr val="0064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0" name="Freeform 185"/>
              <p:cNvSpPr/>
              <p:nvPr/>
            </p:nvSpPr>
            <p:spPr>
              <a:xfrm>
                <a:off x="4879440" y="2808000"/>
                <a:ext cx="2310120" cy="299160"/>
              </a:xfrm>
              <a:custGeom>
                <a:avLst/>
                <a:gdLst>
                  <a:gd name="textAreaLeft" fmla="*/ 0 w 2310120"/>
                  <a:gd name="textAreaRight" fmla="*/ 2310480 w 2310120"/>
                  <a:gd name="textAreaTop" fmla="*/ 0 h 299160"/>
                  <a:gd name="textAreaBottom" fmla="*/ 299520 h 299160"/>
                </a:gdLst>
                <a:ahLst/>
                <a:rect l="textAreaLeft" t="textAreaTop" r="textAreaRight" b="textAreaBottom"/>
                <a:pathLst>
                  <a:path w="1447" h="122">
                    <a:moveTo>
                      <a:pt x="0" y="122"/>
                    </a:moveTo>
                    <a:lnTo>
                      <a:pt x="9" y="121"/>
                    </a:lnTo>
                    <a:lnTo>
                      <a:pt x="18" y="122"/>
                    </a:lnTo>
                    <a:lnTo>
                      <a:pt x="27" y="122"/>
                    </a:lnTo>
                    <a:lnTo>
                      <a:pt x="37" y="121"/>
                    </a:lnTo>
                    <a:lnTo>
                      <a:pt x="46" y="121"/>
                    </a:lnTo>
                    <a:lnTo>
                      <a:pt x="55" y="121"/>
                    </a:lnTo>
                    <a:lnTo>
                      <a:pt x="64" y="121"/>
                    </a:lnTo>
                    <a:lnTo>
                      <a:pt x="74" y="121"/>
                    </a:lnTo>
                    <a:lnTo>
                      <a:pt x="83" y="121"/>
                    </a:lnTo>
                    <a:lnTo>
                      <a:pt x="92" y="121"/>
                    </a:lnTo>
                    <a:lnTo>
                      <a:pt x="102" y="121"/>
                    </a:lnTo>
                    <a:lnTo>
                      <a:pt x="111" y="121"/>
                    </a:lnTo>
                    <a:lnTo>
                      <a:pt x="120" y="120"/>
                    </a:lnTo>
                    <a:lnTo>
                      <a:pt x="129" y="120"/>
                    </a:lnTo>
                    <a:lnTo>
                      <a:pt x="139" y="120"/>
                    </a:lnTo>
                    <a:lnTo>
                      <a:pt x="148" y="120"/>
                    </a:lnTo>
                    <a:lnTo>
                      <a:pt x="157" y="120"/>
                    </a:lnTo>
                    <a:lnTo>
                      <a:pt x="167" y="120"/>
                    </a:lnTo>
                    <a:lnTo>
                      <a:pt x="176" y="120"/>
                    </a:lnTo>
                    <a:lnTo>
                      <a:pt x="185" y="120"/>
                    </a:lnTo>
                    <a:lnTo>
                      <a:pt x="194" y="119"/>
                    </a:lnTo>
                    <a:lnTo>
                      <a:pt x="204" y="119"/>
                    </a:lnTo>
                    <a:lnTo>
                      <a:pt x="213" y="119"/>
                    </a:lnTo>
                    <a:lnTo>
                      <a:pt x="222" y="119"/>
                    </a:lnTo>
                    <a:lnTo>
                      <a:pt x="232" y="119"/>
                    </a:lnTo>
                    <a:lnTo>
                      <a:pt x="241" y="119"/>
                    </a:lnTo>
                    <a:lnTo>
                      <a:pt x="250" y="119"/>
                    </a:lnTo>
                    <a:lnTo>
                      <a:pt x="259" y="118"/>
                    </a:lnTo>
                    <a:lnTo>
                      <a:pt x="269" y="118"/>
                    </a:lnTo>
                    <a:lnTo>
                      <a:pt x="278" y="118"/>
                    </a:lnTo>
                    <a:lnTo>
                      <a:pt x="287" y="118"/>
                    </a:lnTo>
                    <a:lnTo>
                      <a:pt x="296" y="117"/>
                    </a:lnTo>
                    <a:lnTo>
                      <a:pt x="306" y="117"/>
                    </a:lnTo>
                    <a:lnTo>
                      <a:pt x="315" y="117"/>
                    </a:lnTo>
                    <a:lnTo>
                      <a:pt x="324" y="117"/>
                    </a:lnTo>
                    <a:lnTo>
                      <a:pt x="334" y="117"/>
                    </a:lnTo>
                    <a:lnTo>
                      <a:pt x="343" y="117"/>
                    </a:lnTo>
                    <a:lnTo>
                      <a:pt x="352" y="116"/>
                    </a:lnTo>
                    <a:lnTo>
                      <a:pt x="361" y="116"/>
                    </a:lnTo>
                    <a:lnTo>
                      <a:pt x="371" y="116"/>
                    </a:lnTo>
                    <a:lnTo>
                      <a:pt x="380" y="116"/>
                    </a:lnTo>
                    <a:lnTo>
                      <a:pt x="389" y="116"/>
                    </a:lnTo>
                    <a:lnTo>
                      <a:pt x="399" y="116"/>
                    </a:lnTo>
                    <a:lnTo>
                      <a:pt x="408" y="116"/>
                    </a:lnTo>
                    <a:lnTo>
                      <a:pt x="417" y="115"/>
                    </a:lnTo>
                    <a:lnTo>
                      <a:pt x="426" y="115"/>
                    </a:lnTo>
                    <a:lnTo>
                      <a:pt x="436" y="115"/>
                    </a:lnTo>
                    <a:lnTo>
                      <a:pt x="445" y="114"/>
                    </a:lnTo>
                    <a:lnTo>
                      <a:pt x="454" y="114"/>
                    </a:lnTo>
                    <a:lnTo>
                      <a:pt x="464" y="113"/>
                    </a:lnTo>
                    <a:lnTo>
                      <a:pt x="473" y="113"/>
                    </a:lnTo>
                    <a:lnTo>
                      <a:pt x="482" y="113"/>
                    </a:lnTo>
                    <a:lnTo>
                      <a:pt x="491" y="112"/>
                    </a:lnTo>
                    <a:lnTo>
                      <a:pt x="501" y="112"/>
                    </a:lnTo>
                    <a:lnTo>
                      <a:pt x="510" y="111"/>
                    </a:lnTo>
                    <a:lnTo>
                      <a:pt x="519" y="111"/>
                    </a:lnTo>
                    <a:lnTo>
                      <a:pt x="528" y="110"/>
                    </a:lnTo>
                    <a:lnTo>
                      <a:pt x="538" y="110"/>
                    </a:lnTo>
                    <a:lnTo>
                      <a:pt x="547" y="110"/>
                    </a:lnTo>
                    <a:lnTo>
                      <a:pt x="556" y="109"/>
                    </a:lnTo>
                    <a:lnTo>
                      <a:pt x="566" y="109"/>
                    </a:lnTo>
                    <a:lnTo>
                      <a:pt x="575" y="108"/>
                    </a:lnTo>
                    <a:lnTo>
                      <a:pt x="584" y="107"/>
                    </a:lnTo>
                    <a:lnTo>
                      <a:pt x="593" y="108"/>
                    </a:lnTo>
                    <a:lnTo>
                      <a:pt x="603" y="108"/>
                    </a:lnTo>
                    <a:lnTo>
                      <a:pt x="612" y="107"/>
                    </a:lnTo>
                    <a:lnTo>
                      <a:pt x="621" y="107"/>
                    </a:lnTo>
                    <a:lnTo>
                      <a:pt x="631" y="107"/>
                    </a:lnTo>
                    <a:lnTo>
                      <a:pt x="640" y="108"/>
                    </a:lnTo>
                    <a:lnTo>
                      <a:pt x="649" y="107"/>
                    </a:lnTo>
                    <a:lnTo>
                      <a:pt x="658" y="108"/>
                    </a:lnTo>
                    <a:lnTo>
                      <a:pt x="668" y="107"/>
                    </a:lnTo>
                    <a:lnTo>
                      <a:pt x="677" y="106"/>
                    </a:lnTo>
                    <a:lnTo>
                      <a:pt x="686" y="105"/>
                    </a:lnTo>
                    <a:lnTo>
                      <a:pt x="696" y="105"/>
                    </a:lnTo>
                    <a:lnTo>
                      <a:pt x="705" y="105"/>
                    </a:lnTo>
                    <a:lnTo>
                      <a:pt x="714" y="104"/>
                    </a:lnTo>
                    <a:lnTo>
                      <a:pt x="723" y="103"/>
                    </a:lnTo>
                    <a:lnTo>
                      <a:pt x="733" y="103"/>
                    </a:lnTo>
                    <a:lnTo>
                      <a:pt x="742" y="104"/>
                    </a:lnTo>
                    <a:lnTo>
                      <a:pt x="751" y="105"/>
                    </a:lnTo>
                    <a:lnTo>
                      <a:pt x="760" y="106"/>
                    </a:lnTo>
                    <a:lnTo>
                      <a:pt x="770" y="105"/>
                    </a:lnTo>
                    <a:lnTo>
                      <a:pt x="779" y="104"/>
                    </a:lnTo>
                    <a:lnTo>
                      <a:pt x="788" y="104"/>
                    </a:lnTo>
                    <a:lnTo>
                      <a:pt x="798" y="102"/>
                    </a:lnTo>
                    <a:lnTo>
                      <a:pt x="807" y="101"/>
                    </a:lnTo>
                    <a:lnTo>
                      <a:pt x="816" y="102"/>
                    </a:lnTo>
                    <a:lnTo>
                      <a:pt x="825" y="100"/>
                    </a:lnTo>
                    <a:lnTo>
                      <a:pt x="835" y="100"/>
                    </a:lnTo>
                    <a:lnTo>
                      <a:pt x="844" y="98"/>
                    </a:lnTo>
                    <a:lnTo>
                      <a:pt x="853" y="97"/>
                    </a:lnTo>
                    <a:lnTo>
                      <a:pt x="863" y="97"/>
                    </a:lnTo>
                    <a:lnTo>
                      <a:pt x="872" y="97"/>
                    </a:lnTo>
                    <a:lnTo>
                      <a:pt x="881" y="100"/>
                    </a:lnTo>
                    <a:lnTo>
                      <a:pt x="890" y="99"/>
                    </a:lnTo>
                    <a:lnTo>
                      <a:pt x="900" y="97"/>
                    </a:lnTo>
                    <a:lnTo>
                      <a:pt x="909" y="96"/>
                    </a:lnTo>
                    <a:lnTo>
                      <a:pt x="918" y="96"/>
                    </a:lnTo>
                    <a:lnTo>
                      <a:pt x="928" y="94"/>
                    </a:lnTo>
                    <a:lnTo>
                      <a:pt x="937" y="93"/>
                    </a:lnTo>
                    <a:lnTo>
                      <a:pt x="946" y="92"/>
                    </a:lnTo>
                    <a:lnTo>
                      <a:pt x="955" y="91"/>
                    </a:lnTo>
                    <a:lnTo>
                      <a:pt x="965" y="91"/>
                    </a:lnTo>
                    <a:lnTo>
                      <a:pt x="974" y="89"/>
                    </a:lnTo>
                    <a:lnTo>
                      <a:pt x="983" y="87"/>
                    </a:lnTo>
                    <a:lnTo>
                      <a:pt x="992" y="85"/>
                    </a:lnTo>
                    <a:lnTo>
                      <a:pt x="1002" y="83"/>
                    </a:lnTo>
                    <a:lnTo>
                      <a:pt x="1011" y="82"/>
                    </a:lnTo>
                    <a:lnTo>
                      <a:pt x="1020" y="80"/>
                    </a:lnTo>
                    <a:lnTo>
                      <a:pt x="1030" y="79"/>
                    </a:lnTo>
                    <a:lnTo>
                      <a:pt x="1039" y="76"/>
                    </a:lnTo>
                    <a:lnTo>
                      <a:pt x="1048" y="74"/>
                    </a:lnTo>
                    <a:lnTo>
                      <a:pt x="1057" y="72"/>
                    </a:lnTo>
                    <a:lnTo>
                      <a:pt x="1067" y="72"/>
                    </a:lnTo>
                    <a:lnTo>
                      <a:pt x="1076" y="70"/>
                    </a:lnTo>
                    <a:lnTo>
                      <a:pt x="1085" y="70"/>
                    </a:lnTo>
                    <a:lnTo>
                      <a:pt x="1095" y="67"/>
                    </a:lnTo>
                    <a:lnTo>
                      <a:pt x="1104" y="65"/>
                    </a:lnTo>
                    <a:lnTo>
                      <a:pt x="1113" y="62"/>
                    </a:lnTo>
                    <a:lnTo>
                      <a:pt x="1122" y="60"/>
                    </a:lnTo>
                    <a:lnTo>
                      <a:pt x="1132" y="57"/>
                    </a:lnTo>
                    <a:lnTo>
                      <a:pt x="1141" y="52"/>
                    </a:lnTo>
                    <a:lnTo>
                      <a:pt x="1150" y="53"/>
                    </a:lnTo>
                    <a:lnTo>
                      <a:pt x="1160" y="52"/>
                    </a:lnTo>
                    <a:lnTo>
                      <a:pt x="1169" y="48"/>
                    </a:lnTo>
                    <a:lnTo>
                      <a:pt x="1178" y="45"/>
                    </a:lnTo>
                    <a:lnTo>
                      <a:pt x="1187" y="42"/>
                    </a:lnTo>
                    <a:lnTo>
                      <a:pt x="1197" y="40"/>
                    </a:lnTo>
                    <a:lnTo>
                      <a:pt x="1206" y="41"/>
                    </a:lnTo>
                    <a:lnTo>
                      <a:pt x="1215" y="43"/>
                    </a:lnTo>
                    <a:lnTo>
                      <a:pt x="1224" y="43"/>
                    </a:lnTo>
                    <a:lnTo>
                      <a:pt x="1234" y="43"/>
                    </a:lnTo>
                    <a:lnTo>
                      <a:pt x="1243" y="41"/>
                    </a:lnTo>
                    <a:lnTo>
                      <a:pt x="1252" y="40"/>
                    </a:lnTo>
                    <a:lnTo>
                      <a:pt x="1262" y="38"/>
                    </a:lnTo>
                    <a:lnTo>
                      <a:pt x="1271" y="35"/>
                    </a:lnTo>
                    <a:lnTo>
                      <a:pt x="1280" y="32"/>
                    </a:lnTo>
                    <a:lnTo>
                      <a:pt x="1289" y="31"/>
                    </a:lnTo>
                    <a:lnTo>
                      <a:pt x="1299" y="30"/>
                    </a:lnTo>
                    <a:lnTo>
                      <a:pt x="1308" y="30"/>
                    </a:lnTo>
                    <a:lnTo>
                      <a:pt x="1317" y="30"/>
                    </a:lnTo>
                    <a:lnTo>
                      <a:pt x="1327" y="30"/>
                    </a:lnTo>
                    <a:lnTo>
                      <a:pt x="1336" y="29"/>
                    </a:lnTo>
                    <a:lnTo>
                      <a:pt x="1345" y="27"/>
                    </a:lnTo>
                    <a:lnTo>
                      <a:pt x="1354" y="24"/>
                    </a:lnTo>
                    <a:lnTo>
                      <a:pt x="1364" y="23"/>
                    </a:lnTo>
                    <a:lnTo>
                      <a:pt x="1373" y="23"/>
                    </a:lnTo>
                    <a:lnTo>
                      <a:pt x="1382" y="22"/>
                    </a:lnTo>
                    <a:lnTo>
                      <a:pt x="1392" y="20"/>
                    </a:lnTo>
                    <a:lnTo>
                      <a:pt x="1401" y="20"/>
                    </a:lnTo>
                    <a:lnTo>
                      <a:pt x="1410" y="17"/>
                    </a:lnTo>
                    <a:lnTo>
                      <a:pt x="1419" y="13"/>
                    </a:lnTo>
                    <a:lnTo>
                      <a:pt x="1429" y="6"/>
                    </a:lnTo>
                    <a:lnTo>
                      <a:pt x="1438" y="3"/>
                    </a:lnTo>
                    <a:lnTo>
                      <a:pt x="1447" y="0"/>
                    </a:lnTo>
                    <a:lnTo>
                      <a:pt x="1447" y="64"/>
                    </a:lnTo>
                    <a:lnTo>
                      <a:pt x="1438" y="67"/>
                    </a:lnTo>
                    <a:lnTo>
                      <a:pt x="1429" y="70"/>
                    </a:lnTo>
                    <a:lnTo>
                      <a:pt x="1419" y="74"/>
                    </a:lnTo>
                    <a:lnTo>
                      <a:pt x="1410" y="77"/>
                    </a:lnTo>
                    <a:lnTo>
                      <a:pt x="1401" y="79"/>
                    </a:lnTo>
                    <a:lnTo>
                      <a:pt x="1392" y="79"/>
                    </a:lnTo>
                    <a:lnTo>
                      <a:pt x="1382" y="80"/>
                    </a:lnTo>
                    <a:lnTo>
                      <a:pt x="1373" y="80"/>
                    </a:lnTo>
                    <a:lnTo>
                      <a:pt x="1364" y="80"/>
                    </a:lnTo>
                    <a:lnTo>
                      <a:pt x="1354" y="80"/>
                    </a:lnTo>
                    <a:lnTo>
                      <a:pt x="1345" y="81"/>
                    </a:lnTo>
                    <a:lnTo>
                      <a:pt x="1336" y="82"/>
                    </a:lnTo>
                    <a:lnTo>
                      <a:pt x="1327" y="82"/>
                    </a:lnTo>
                    <a:lnTo>
                      <a:pt x="1317" y="83"/>
                    </a:lnTo>
                    <a:lnTo>
                      <a:pt x="1308" y="82"/>
                    </a:lnTo>
                    <a:lnTo>
                      <a:pt x="1299" y="82"/>
                    </a:lnTo>
                    <a:lnTo>
                      <a:pt x="1289" y="83"/>
                    </a:lnTo>
                    <a:lnTo>
                      <a:pt x="1280" y="83"/>
                    </a:lnTo>
                    <a:lnTo>
                      <a:pt x="1271" y="84"/>
                    </a:lnTo>
                    <a:lnTo>
                      <a:pt x="1262" y="86"/>
                    </a:lnTo>
                    <a:lnTo>
                      <a:pt x="1252" y="86"/>
                    </a:lnTo>
                    <a:lnTo>
                      <a:pt x="1243" y="88"/>
                    </a:lnTo>
                    <a:lnTo>
                      <a:pt x="1234" y="89"/>
                    </a:lnTo>
                    <a:lnTo>
                      <a:pt x="1224" y="90"/>
                    </a:lnTo>
                    <a:lnTo>
                      <a:pt x="1215" y="91"/>
                    </a:lnTo>
                    <a:lnTo>
                      <a:pt x="1206" y="91"/>
                    </a:lnTo>
                    <a:lnTo>
                      <a:pt x="1197" y="92"/>
                    </a:lnTo>
                    <a:lnTo>
                      <a:pt x="1187" y="93"/>
                    </a:lnTo>
                    <a:lnTo>
                      <a:pt x="1178" y="94"/>
                    </a:lnTo>
                    <a:lnTo>
                      <a:pt x="1169" y="95"/>
                    </a:lnTo>
                    <a:lnTo>
                      <a:pt x="1160" y="97"/>
                    </a:lnTo>
                    <a:lnTo>
                      <a:pt x="1150" y="97"/>
                    </a:lnTo>
                    <a:lnTo>
                      <a:pt x="1141" y="98"/>
                    </a:lnTo>
                    <a:lnTo>
                      <a:pt x="1132" y="99"/>
                    </a:lnTo>
                    <a:lnTo>
                      <a:pt x="1122" y="99"/>
                    </a:lnTo>
                    <a:lnTo>
                      <a:pt x="1113" y="98"/>
                    </a:lnTo>
                    <a:lnTo>
                      <a:pt x="1104" y="98"/>
                    </a:lnTo>
                    <a:lnTo>
                      <a:pt x="1095" y="98"/>
                    </a:lnTo>
                    <a:lnTo>
                      <a:pt x="1085" y="98"/>
                    </a:lnTo>
                    <a:lnTo>
                      <a:pt x="1076" y="97"/>
                    </a:lnTo>
                    <a:lnTo>
                      <a:pt x="1067" y="97"/>
                    </a:lnTo>
                    <a:lnTo>
                      <a:pt x="1057" y="95"/>
                    </a:lnTo>
                    <a:lnTo>
                      <a:pt x="1048" y="95"/>
                    </a:lnTo>
                    <a:lnTo>
                      <a:pt x="1039" y="96"/>
                    </a:lnTo>
                    <a:lnTo>
                      <a:pt x="1030" y="97"/>
                    </a:lnTo>
                    <a:lnTo>
                      <a:pt x="1020" y="97"/>
                    </a:lnTo>
                    <a:lnTo>
                      <a:pt x="1011" y="98"/>
                    </a:lnTo>
                    <a:lnTo>
                      <a:pt x="1002" y="98"/>
                    </a:lnTo>
                    <a:lnTo>
                      <a:pt x="992" y="99"/>
                    </a:lnTo>
                    <a:lnTo>
                      <a:pt x="983" y="100"/>
                    </a:lnTo>
                    <a:lnTo>
                      <a:pt x="974" y="101"/>
                    </a:lnTo>
                    <a:lnTo>
                      <a:pt x="965" y="102"/>
                    </a:lnTo>
                    <a:lnTo>
                      <a:pt x="955" y="102"/>
                    </a:lnTo>
                    <a:lnTo>
                      <a:pt x="946" y="102"/>
                    </a:lnTo>
                    <a:lnTo>
                      <a:pt x="937" y="102"/>
                    </a:lnTo>
                    <a:lnTo>
                      <a:pt x="928" y="103"/>
                    </a:lnTo>
                    <a:lnTo>
                      <a:pt x="918" y="104"/>
                    </a:lnTo>
                    <a:lnTo>
                      <a:pt x="909" y="103"/>
                    </a:lnTo>
                    <a:lnTo>
                      <a:pt x="900" y="104"/>
                    </a:lnTo>
                    <a:lnTo>
                      <a:pt x="890" y="105"/>
                    </a:lnTo>
                    <a:lnTo>
                      <a:pt x="881" y="106"/>
                    </a:lnTo>
                    <a:lnTo>
                      <a:pt x="872" y="103"/>
                    </a:lnTo>
                    <a:lnTo>
                      <a:pt x="863" y="102"/>
                    </a:lnTo>
                    <a:lnTo>
                      <a:pt x="853" y="103"/>
                    </a:lnTo>
                    <a:lnTo>
                      <a:pt x="844" y="103"/>
                    </a:lnTo>
                    <a:lnTo>
                      <a:pt x="835" y="104"/>
                    </a:lnTo>
                    <a:lnTo>
                      <a:pt x="825" y="105"/>
                    </a:lnTo>
                    <a:lnTo>
                      <a:pt x="816" y="106"/>
                    </a:lnTo>
                    <a:lnTo>
                      <a:pt x="807" y="105"/>
                    </a:lnTo>
                    <a:lnTo>
                      <a:pt x="798" y="106"/>
                    </a:lnTo>
                    <a:lnTo>
                      <a:pt x="788" y="107"/>
                    </a:lnTo>
                    <a:lnTo>
                      <a:pt x="779" y="108"/>
                    </a:lnTo>
                    <a:lnTo>
                      <a:pt x="770" y="109"/>
                    </a:lnTo>
                    <a:lnTo>
                      <a:pt x="760" y="109"/>
                    </a:lnTo>
                    <a:lnTo>
                      <a:pt x="751" y="108"/>
                    </a:lnTo>
                    <a:lnTo>
                      <a:pt x="742" y="107"/>
                    </a:lnTo>
                    <a:lnTo>
                      <a:pt x="733" y="106"/>
                    </a:lnTo>
                    <a:lnTo>
                      <a:pt x="723" y="105"/>
                    </a:lnTo>
                    <a:lnTo>
                      <a:pt x="714" y="107"/>
                    </a:lnTo>
                    <a:lnTo>
                      <a:pt x="705" y="107"/>
                    </a:lnTo>
                    <a:lnTo>
                      <a:pt x="696" y="107"/>
                    </a:lnTo>
                    <a:lnTo>
                      <a:pt x="686" y="107"/>
                    </a:lnTo>
                    <a:lnTo>
                      <a:pt x="677" y="107"/>
                    </a:lnTo>
                    <a:lnTo>
                      <a:pt x="668" y="109"/>
                    </a:lnTo>
                    <a:lnTo>
                      <a:pt x="658" y="110"/>
                    </a:lnTo>
                    <a:lnTo>
                      <a:pt x="649" y="108"/>
                    </a:lnTo>
                    <a:lnTo>
                      <a:pt x="640" y="109"/>
                    </a:lnTo>
                    <a:lnTo>
                      <a:pt x="631" y="108"/>
                    </a:lnTo>
                    <a:lnTo>
                      <a:pt x="621" y="108"/>
                    </a:lnTo>
                    <a:lnTo>
                      <a:pt x="612" y="108"/>
                    </a:lnTo>
                    <a:lnTo>
                      <a:pt x="603" y="109"/>
                    </a:lnTo>
                    <a:lnTo>
                      <a:pt x="593" y="109"/>
                    </a:lnTo>
                    <a:lnTo>
                      <a:pt x="584" y="108"/>
                    </a:lnTo>
                    <a:lnTo>
                      <a:pt x="575" y="109"/>
                    </a:lnTo>
                    <a:lnTo>
                      <a:pt x="566" y="109"/>
                    </a:lnTo>
                    <a:lnTo>
                      <a:pt x="556" y="110"/>
                    </a:lnTo>
                    <a:lnTo>
                      <a:pt x="547" y="110"/>
                    </a:lnTo>
                    <a:lnTo>
                      <a:pt x="538" y="111"/>
                    </a:lnTo>
                    <a:lnTo>
                      <a:pt x="528" y="110"/>
                    </a:lnTo>
                    <a:lnTo>
                      <a:pt x="519" y="111"/>
                    </a:lnTo>
                    <a:lnTo>
                      <a:pt x="510" y="112"/>
                    </a:lnTo>
                    <a:lnTo>
                      <a:pt x="501" y="112"/>
                    </a:lnTo>
                    <a:lnTo>
                      <a:pt x="491" y="113"/>
                    </a:lnTo>
                    <a:lnTo>
                      <a:pt x="482" y="113"/>
                    </a:lnTo>
                    <a:lnTo>
                      <a:pt x="473" y="113"/>
                    </a:lnTo>
                    <a:lnTo>
                      <a:pt x="464" y="114"/>
                    </a:lnTo>
                    <a:lnTo>
                      <a:pt x="454" y="114"/>
                    </a:lnTo>
                    <a:lnTo>
                      <a:pt x="445" y="115"/>
                    </a:lnTo>
                    <a:lnTo>
                      <a:pt x="436" y="115"/>
                    </a:lnTo>
                    <a:lnTo>
                      <a:pt x="426" y="115"/>
                    </a:lnTo>
                    <a:lnTo>
                      <a:pt x="417" y="115"/>
                    </a:lnTo>
                    <a:lnTo>
                      <a:pt x="408" y="116"/>
                    </a:lnTo>
                    <a:lnTo>
                      <a:pt x="399" y="116"/>
                    </a:lnTo>
                    <a:lnTo>
                      <a:pt x="389" y="116"/>
                    </a:lnTo>
                    <a:lnTo>
                      <a:pt x="380" y="116"/>
                    </a:lnTo>
                    <a:lnTo>
                      <a:pt x="371" y="116"/>
                    </a:lnTo>
                    <a:lnTo>
                      <a:pt x="361" y="116"/>
                    </a:lnTo>
                    <a:lnTo>
                      <a:pt x="352" y="117"/>
                    </a:lnTo>
                    <a:lnTo>
                      <a:pt x="343" y="117"/>
                    </a:lnTo>
                    <a:lnTo>
                      <a:pt x="334" y="117"/>
                    </a:lnTo>
                    <a:lnTo>
                      <a:pt x="324" y="117"/>
                    </a:lnTo>
                    <a:lnTo>
                      <a:pt x="315" y="117"/>
                    </a:lnTo>
                    <a:lnTo>
                      <a:pt x="306" y="117"/>
                    </a:lnTo>
                    <a:lnTo>
                      <a:pt x="296" y="118"/>
                    </a:lnTo>
                    <a:lnTo>
                      <a:pt x="287" y="118"/>
                    </a:lnTo>
                    <a:lnTo>
                      <a:pt x="278" y="118"/>
                    </a:lnTo>
                    <a:lnTo>
                      <a:pt x="269" y="118"/>
                    </a:lnTo>
                    <a:lnTo>
                      <a:pt x="259" y="119"/>
                    </a:lnTo>
                    <a:lnTo>
                      <a:pt x="250" y="119"/>
                    </a:lnTo>
                    <a:lnTo>
                      <a:pt x="241" y="119"/>
                    </a:lnTo>
                    <a:lnTo>
                      <a:pt x="232" y="119"/>
                    </a:lnTo>
                    <a:lnTo>
                      <a:pt x="222" y="119"/>
                    </a:lnTo>
                    <a:lnTo>
                      <a:pt x="213" y="119"/>
                    </a:lnTo>
                    <a:lnTo>
                      <a:pt x="204" y="119"/>
                    </a:lnTo>
                    <a:lnTo>
                      <a:pt x="194" y="119"/>
                    </a:lnTo>
                    <a:lnTo>
                      <a:pt x="185" y="120"/>
                    </a:lnTo>
                    <a:lnTo>
                      <a:pt x="176" y="120"/>
                    </a:lnTo>
                    <a:lnTo>
                      <a:pt x="167" y="120"/>
                    </a:lnTo>
                    <a:lnTo>
                      <a:pt x="157" y="120"/>
                    </a:lnTo>
                    <a:lnTo>
                      <a:pt x="148" y="120"/>
                    </a:lnTo>
                    <a:lnTo>
                      <a:pt x="139" y="120"/>
                    </a:lnTo>
                    <a:lnTo>
                      <a:pt x="129" y="120"/>
                    </a:lnTo>
                    <a:lnTo>
                      <a:pt x="120" y="120"/>
                    </a:lnTo>
                    <a:lnTo>
                      <a:pt x="111" y="121"/>
                    </a:lnTo>
                    <a:lnTo>
                      <a:pt x="102" y="121"/>
                    </a:lnTo>
                    <a:lnTo>
                      <a:pt x="92" y="121"/>
                    </a:lnTo>
                    <a:lnTo>
                      <a:pt x="83" y="121"/>
                    </a:lnTo>
                    <a:lnTo>
                      <a:pt x="74" y="121"/>
                    </a:lnTo>
                    <a:lnTo>
                      <a:pt x="64" y="121"/>
                    </a:lnTo>
                    <a:lnTo>
                      <a:pt x="55" y="121"/>
                    </a:lnTo>
                    <a:lnTo>
                      <a:pt x="46" y="121"/>
                    </a:lnTo>
                    <a:lnTo>
                      <a:pt x="37" y="121"/>
                    </a:lnTo>
                    <a:lnTo>
                      <a:pt x="27" y="122"/>
                    </a:lnTo>
                    <a:lnTo>
                      <a:pt x="18" y="122"/>
                    </a:lnTo>
                    <a:lnTo>
                      <a:pt x="9" y="121"/>
                    </a:lnTo>
                    <a:lnTo>
                      <a:pt x="0" y="122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1" name="Freeform 186"/>
              <p:cNvSpPr/>
              <p:nvPr/>
            </p:nvSpPr>
            <p:spPr>
              <a:xfrm>
                <a:off x="4879440" y="2808000"/>
                <a:ext cx="2310120" cy="299160"/>
              </a:xfrm>
              <a:custGeom>
                <a:avLst/>
                <a:gdLst>
                  <a:gd name="textAreaLeft" fmla="*/ 0 w 2310120"/>
                  <a:gd name="textAreaRight" fmla="*/ 2310480 w 2310120"/>
                  <a:gd name="textAreaTop" fmla="*/ 0 h 299160"/>
                  <a:gd name="textAreaBottom" fmla="*/ 299520 h 299160"/>
                </a:gdLst>
                <a:ahLst/>
                <a:rect l="textAreaLeft" t="textAreaTop" r="textAreaRight" b="textAreaBottom"/>
                <a:pathLst>
                  <a:path w="1447" h="122">
                    <a:moveTo>
                      <a:pt x="0" y="122"/>
                    </a:moveTo>
                    <a:lnTo>
                      <a:pt x="9" y="121"/>
                    </a:lnTo>
                    <a:lnTo>
                      <a:pt x="18" y="122"/>
                    </a:lnTo>
                    <a:lnTo>
                      <a:pt x="27" y="122"/>
                    </a:lnTo>
                    <a:lnTo>
                      <a:pt x="37" y="121"/>
                    </a:lnTo>
                    <a:lnTo>
                      <a:pt x="46" y="121"/>
                    </a:lnTo>
                    <a:lnTo>
                      <a:pt x="55" y="121"/>
                    </a:lnTo>
                    <a:lnTo>
                      <a:pt x="64" y="121"/>
                    </a:lnTo>
                    <a:lnTo>
                      <a:pt x="74" y="121"/>
                    </a:lnTo>
                    <a:lnTo>
                      <a:pt x="83" y="121"/>
                    </a:lnTo>
                    <a:lnTo>
                      <a:pt x="92" y="121"/>
                    </a:lnTo>
                    <a:lnTo>
                      <a:pt x="102" y="121"/>
                    </a:lnTo>
                    <a:lnTo>
                      <a:pt x="111" y="121"/>
                    </a:lnTo>
                    <a:lnTo>
                      <a:pt x="120" y="120"/>
                    </a:lnTo>
                    <a:lnTo>
                      <a:pt x="129" y="120"/>
                    </a:lnTo>
                    <a:lnTo>
                      <a:pt x="139" y="120"/>
                    </a:lnTo>
                    <a:lnTo>
                      <a:pt x="148" y="120"/>
                    </a:lnTo>
                    <a:lnTo>
                      <a:pt x="157" y="120"/>
                    </a:lnTo>
                    <a:lnTo>
                      <a:pt x="167" y="120"/>
                    </a:lnTo>
                    <a:lnTo>
                      <a:pt x="176" y="120"/>
                    </a:lnTo>
                    <a:lnTo>
                      <a:pt x="185" y="120"/>
                    </a:lnTo>
                    <a:lnTo>
                      <a:pt x="194" y="119"/>
                    </a:lnTo>
                    <a:lnTo>
                      <a:pt x="204" y="119"/>
                    </a:lnTo>
                    <a:lnTo>
                      <a:pt x="213" y="119"/>
                    </a:lnTo>
                    <a:lnTo>
                      <a:pt x="222" y="119"/>
                    </a:lnTo>
                    <a:lnTo>
                      <a:pt x="232" y="119"/>
                    </a:lnTo>
                    <a:lnTo>
                      <a:pt x="241" y="119"/>
                    </a:lnTo>
                    <a:lnTo>
                      <a:pt x="250" y="119"/>
                    </a:lnTo>
                    <a:lnTo>
                      <a:pt x="259" y="118"/>
                    </a:lnTo>
                    <a:lnTo>
                      <a:pt x="269" y="118"/>
                    </a:lnTo>
                    <a:lnTo>
                      <a:pt x="278" y="118"/>
                    </a:lnTo>
                    <a:lnTo>
                      <a:pt x="287" y="118"/>
                    </a:lnTo>
                    <a:lnTo>
                      <a:pt x="296" y="117"/>
                    </a:lnTo>
                    <a:lnTo>
                      <a:pt x="306" y="117"/>
                    </a:lnTo>
                    <a:lnTo>
                      <a:pt x="315" y="117"/>
                    </a:lnTo>
                    <a:lnTo>
                      <a:pt x="324" y="117"/>
                    </a:lnTo>
                    <a:lnTo>
                      <a:pt x="334" y="117"/>
                    </a:lnTo>
                    <a:lnTo>
                      <a:pt x="343" y="117"/>
                    </a:lnTo>
                    <a:lnTo>
                      <a:pt x="352" y="116"/>
                    </a:lnTo>
                    <a:lnTo>
                      <a:pt x="361" y="116"/>
                    </a:lnTo>
                    <a:lnTo>
                      <a:pt x="371" y="116"/>
                    </a:lnTo>
                    <a:lnTo>
                      <a:pt x="380" y="116"/>
                    </a:lnTo>
                    <a:lnTo>
                      <a:pt x="389" y="116"/>
                    </a:lnTo>
                    <a:lnTo>
                      <a:pt x="399" y="116"/>
                    </a:lnTo>
                    <a:lnTo>
                      <a:pt x="408" y="116"/>
                    </a:lnTo>
                    <a:lnTo>
                      <a:pt x="417" y="115"/>
                    </a:lnTo>
                    <a:lnTo>
                      <a:pt x="426" y="115"/>
                    </a:lnTo>
                    <a:lnTo>
                      <a:pt x="436" y="115"/>
                    </a:lnTo>
                    <a:lnTo>
                      <a:pt x="445" y="114"/>
                    </a:lnTo>
                    <a:lnTo>
                      <a:pt x="454" y="114"/>
                    </a:lnTo>
                    <a:lnTo>
                      <a:pt x="464" y="113"/>
                    </a:lnTo>
                    <a:lnTo>
                      <a:pt x="473" y="113"/>
                    </a:lnTo>
                    <a:lnTo>
                      <a:pt x="482" y="113"/>
                    </a:lnTo>
                    <a:lnTo>
                      <a:pt x="491" y="112"/>
                    </a:lnTo>
                    <a:lnTo>
                      <a:pt x="501" y="112"/>
                    </a:lnTo>
                    <a:lnTo>
                      <a:pt x="510" y="111"/>
                    </a:lnTo>
                    <a:lnTo>
                      <a:pt x="519" y="111"/>
                    </a:lnTo>
                    <a:lnTo>
                      <a:pt x="528" y="110"/>
                    </a:lnTo>
                    <a:lnTo>
                      <a:pt x="538" y="110"/>
                    </a:lnTo>
                    <a:lnTo>
                      <a:pt x="547" y="110"/>
                    </a:lnTo>
                    <a:lnTo>
                      <a:pt x="556" y="109"/>
                    </a:lnTo>
                    <a:lnTo>
                      <a:pt x="566" y="109"/>
                    </a:lnTo>
                    <a:lnTo>
                      <a:pt x="575" y="108"/>
                    </a:lnTo>
                    <a:lnTo>
                      <a:pt x="584" y="107"/>
                    </a:lnTo>
                    <a:lnTo>
                      <a:pt x="593" y="108"/>
                    </a:lnTo>
                    <a:lnTo>
                      <a:pt x="603" y="108"/>
                    </a:lnTo>
                    <a:lnTo>
                      <a:pt x="612" y="107"/>
                    </a:lnTo>
                    <a:lnTo>
                      <a:pt x="621" y="107"/>
                    </a:lnTo>
                    <a:lnTo>
                      <a:pt x="631" y="107"/>
                    </a:lnTo>
                    <a:lnTo>
                      <a:pt x="640" y="108"/>
                    </a:lnTo>
                    <a:lnTo>
                      <a:pt x="649" y="107"/>
                    </a:lnTo>
                    <a:lnTo>
                      <a:pt x="658" y="108"/>
                    </a:lnTo>
                    <a:lnTo>
                      <a:pt x="668" y="107"/>
                    </a:lnTo>
                    <a:lnTo>
                      <a:pt x="677" y="106"/>
                    </a:lnTo>
                    <a:lnTo>
                      <a:pt x="686" y="105"/>
                    </a:lnTo>
                    <a:lnTo>
                      <a:pt x="696" y="105"/>
                    </a:lnTo>
                    <a:lnTo>
                      <a:pt x="705" y="105"/>
                    </a:lnTo>
                    <a:lnTo>
                      <a:pt x="714" y="104"/>
                    </a:lnTo>
                    <a:lnTo>
                      <a:pt x="723" y="103"/>
                    </a:lnTo>
                    <a:lnTo>
                      <a:pt x="733" y="103"/>
                    </a:lnTo>
                    <a:lnTo>
                      <a:pt x="742" y="104"/>
                    </a:lnTo>
                    <a:lnTo>
                      <a:pt x="751" y="105"/>
                    </a:lnTo>
                    <a:lnTo>
                      <a:pt x="760" y="106"/>
                    </a:lnTo>
                    <a:lnTo>
                      <a:pt x="770" y="105"/>
                    </a:lnTo>
                    <a:lnTo>
                      <a:pt x="779" y="104"/>
                    </a:lnTo>
                    <a:lnTo>
                      <a:pt x="788" y="104"/>
                    </a:lnTo>
                    <a:lnTo>
                      <a:pt x="798" y="102"/>
                    </a:lnTo>
                    <a:lnTo>
                      <a:pt x="807" y="101"/>
                    </a:lnTo>
                    <a:lnTo>
                      <a:pt x="816" y="102"/>
                    </a:lnTo>
                    <a:lnTo>
                      <a:pt x="825" y="100"/>
                    </a:lnTo>
                    <a:lnTo>
                      <a:pt x="835" y="100"/>
                    </a:lnTo>
                    <a:lnTo>
                      <a:pt x="844" y="98"/>
                    </a:lnTo>
                    <a:lnTo>
                      <a:pt x="853" y="97"/>
                    </a:lnTo>
                    <a:lnTo>
                      <a:pt x="863" y="97"/>
                    </a:lnTo>
                    <a:lnTo>
                      <a:pt x="872" y="97"/>
                    </a:lnTo>
                    <a:lnTo>
                      <a:pt x="881" y="100"/>
                    </a:lnTo>
                    <a:lnTo>
                      <a:pt x="890" y="99"/>
                    </a:lnTo>
                    <a:lnTo>
                      <a:pt x="900" y="97"/>
                    </a:lnTo>
                    <a:lnTo>
                      <a:pt x="909" y="96"/>
                    </a:lnTo>
                    <a:lnTo>
                      <a:pt x="918" y="96"/>
                    </a:lnTo>
                    <a:lnTo>
                      <a:pt x="928" y="94"/>
                    </a:lnTo>
                    <a:lnTo>
                      <a:pt x="937" y="93"/>
                    </a:lnTo>
                    <a:lnTo>
                      <a:pt x="946" y="92"/>
                    </a:lnTo>
                    <a:lnTo>
                      <a:pt x="955" y="91"/>
                    </a:lnTo>
                    <a:lnTo>
                      <a:pt x="965" y="91"/>
                    </a:lnTo>
                    <a:lnTo>
                      <a:pt x="974" y="89"/>
                    </a:lnTo>
                    <a:lnTo>
                      <a:pt x="983" y="87"/>
                    </a:lnTo>
                    <a:lnTo>
                      <a:pt x="992" y="85"/>
                    </a:lnTo>
                    <a:lnTo>
                      <a:pt x="1002" y="83"/>
                    </a:lnTo>
                    <a:lnTo>
                      <a:pt x="1011" y="82"/>
                    </a:lnTo>
                    <a:lnTo>
                      <a:pt x="1020" y="80"/>
                    </a:lnTo>
                    <a:lnTo>
                      <a:pt x="1030" y="79"/>
                    </a:lnTo>
                    <a:lnTo>
                      <a:pt x="1039" y="76"/>
                    </a:lnTo>
                    <a:lnTo>
                      <a:pt x="1048" y="74"/>
                    </a:lnTo>
                    <a:lnTo>
                      <a:pt x="1057" y="72"/>
                    </a:lnTo>
                    <a:lnTo>
                      <a:pt x="1067" y="72"/>
                    </a:lnTo>
                    <a:lnTo>
                      <a:pt x="1076" y="70"/>
                    </a:lnTo>
                    <a:lnTo>
                      <a:pt x="1085" y="70"/>
                    </a:lnTo>
                    <a:lnTo>
                      <a:pt x="1095" y="67"/>
                    </a:lnTo>
                    <a:lnTo>
                      <a:pt x="1104" y="65"/>
                    </a:lnTo>
                    <a:lnTo>
                      <a:pt x="1113" y="62"/>
                    </a:lnTo>
                    <a:lnTo>
                      <a:pt x="1122" y="60"/>
                    </a:lnTo>
                    <a:lnTo>
                      <a:pt x="1132" y="57"/>
                    </a:lnTo>
                    <a:lnTo>
                      <a:pt x="1141" y="52"/>
                    </a:lnTo>
                    <a:lnTo>
                      <a:pt x="1150" y="53"/>
                    </a:lnTo>
                    <a:lnTo>
                      <a:pt x="1160" y="52"/>
                    </a:lnTo>
                    <a:lnTo>
                      <a:pt x="1169" y="48"/>
                    </a:lnTo>
                    <a:lnTo>
                      <a:pt x="1178" y="45"/>
                    </a:lnTo>
                    <a:lnTo>
                      <a:pt x="1187" y="42"/>
                    </a:lnTo>
                    <a:lnTo>
                      <a:pt x="1197" y="40"/>
                    </a:lnTo>
                    <a:lnTo>
                      <a:pt x="1206" y="41"/>
                    </a:lnTo>
                    <a:lnTo>
                      <a:pt x="1215" y="43"/>
                    </a:lnTo>
                    <a:lnTo>
                      <a:pt x="1224" y="43"/>
                    </a:lnTo>
                    <a:lnTo>
                      <a:pt x="1234" y="43"/>
                    </a:lnTo>
                    <a:lnTo>
                      <a:pt x="1243" y="41"/>
                    </a:lnTo>
                    <a:lnTo>
                      <a:pt x="1252" y="40"/>
                    </a:lnTo>
                    <a:lnTo>
                      <a:pt x="1262" y="38"/>
                    </a:lnTo>
                    <a:lnTo>
                      <a:pt x="1271" y="35"/>
                    </a:lnTo>
                    <a:lnTo>
                      <a:pt x="1280" y="32"/>
                    </a:lnTo>
                    <a:lnTo>
                      <a:pt x="1289" y="31"/>
                    </a:lnTo>
                    <a:lnTo>
                      <a:pt x="1299" y="30"/>
                    </a:lnTo>
                    <a:lnTo>
                      <a:pt x="1308" y="30"/>
                    </a:lnTo>
                    <a:lnTo>
                      <a:pt x="1317" y="30"/>
                    </a:lnTo>
                    <a:lnTo>
                      <a:pt x="1327" y="30"/>
                    </a:lnTo>
                    <a:lnTo>
                      <a:pt x="1336" y="29"/>
                    </a:lnTo>
                    <a:lnTo>
                      <a:pt x="1345" y="27"/>
                    </a:lnTo>
                    <a:lnTo>
                      <a:pt x="1354" y="24"/>
                    </a:lnTo>
                    <a:lnTo>
                      <a:pt x="1364" y="23"/>
                    </a:lnTo>
                    <a:lnTo>
                      <a:pt x="1373" y="23"/>
                    </a:lnTo>
                    <a:lnTo>
                      <a:pt x="1382" y="22"/>
                    </a:lnTo>
                    <a:lnTo>
                      <a:pt x="1392" y="20"/>
                    </a:lnTo>
                    <a:lnTo>
                      <a:pt x="1401" y="20"/>
                    </a:lnTo>
                    <a:lnTo>
                      <a:pt x="1410" y="17"/>
                    </a:lnTo>
                    <a:lnTo>
                      <a:pt x="1419" y="13"/>
                    </a:lnTo>
                    <a:lnTo>
                      <a:pt x="1429" y="6"/>
                    </a:lnTo>
                    <a:lnTo>
                      <a:pt x="1438" y="3"/>
                    </a:lnTo>
                    <a:lnTo>
                      <a:pt x="1447" y="0"/>
                    </a:lnTo>
                    <a:lnTo>
                      <a:pt x="1447" y="64"/>
                    </a:lnTo>
                    <a:lnTo>
                      <a:pt x="1438" y="67"/>
                    </a:lnTo>
                    <a:lnTo>
                      <a:pt x="1429" y="70"/>
                    </a:lnTo>
                    <a:lnTo>
                      <a:pt x="1419" y="74"/>
                    </a:lnTo>
                    <a:lnTo>
                      <a:pt x="1410" y="77"/>
                    </a:lnTo>
                    <a:lnTo>
                      <a:pt x="1401" y="79"/>
                    </a:lnTo>
                    <a:lnTo>
                      <a:pt x="1392" y="79"/>
                    </a:lnTo>
                    <a:lnTo>
                      <a:pt x="1382" y="80"/>
                    </a:lnTo>
                    <a:lnTo>
                      <a:pt x="1373" y="80"/>
                    </a:lnTo>
                    <a:lnTo>
                      <a:pt x="1364" y="80"/>
                    </a:lnTo>
                    <a:lnTo>
                      <a:pt x="1354" y="80"/>
                    </a:lnTo>
                    <a:lnTo>
                      <a:pt x="1345" y="81"/>
                    </a:lnTo>
                    <a:lnTo>
                      <a:pt x="1336" y="82"/>
                    </a:lnTo>
                    <a:lnTo>
                      <a:pt x="1327" y="82"/>
                    </a:lnTo>
                    <a:lnTo>
                      <a:pt x="1317" y="83"/>
                    </a:lnTo>
                    <a:lnTo>
                      <a:pt x="1308" y="82"/>
                    </a:lnTo>
                    <a:lnTo>
                      <a:pt x="1299" y="82"/>
                    </a:lnTo>
                    <a:lnTo>
                      <a:pt x="1289" y="83"/>
                    </a:lnTo>
                    <a:lnTo>
                      <a:pt x="1280" y="83"/>
                    </a:lnTo>
                    <a:lnTo>
                      <a:pt x="1271" y="84"/>
                    </a:lnTo>
                    <a:lnTo>
                      <a:pt x="1262" y="86"/>
                    </a:lnTo>
                    <a:lnTo>
                      <a:pt x="1252" y="86"/>
                    </a:lnTo>
                    <a:lnTo>
                      <a:pt x="1243" y="88"/>
                    </a:lnTo>
                    <a:lnTo>
                      <a:pt x="1234" y="89"/>
                    </a:lnTo>
                    <a:lnTo>
                      <a:pt x="1224" y="90"/>
                    </a:lnTo>
                    <a:lnTo>
                      <a:pt x="1215" y="91"/>
                    </a:lnTo>
                    <a:lnTo>
                      <a:pt x="1206" y="91"/>
                    </a:lnTo>
                    <a:lnTo>
                      <a:pt x="1197" y="92"/>
                    </a:lnTo>
                    <a:lnTo>
                      <a:pt x="1187" y="93"/>
                    </a:lnTo>
                    <a:lnTo>
                      <a:pt x="1178" y="94"/>
                    </a:lnTo>
                    <a:lnTo>
                      <a:pt x="1169" y="95"/>
                    </a:lnTo>
                    <a:lnTo>
                      <a:pt x="1160" y="97"/>
                    </a:lnTo>
                    <a:lnTo>
                      <a:pt x="1150" y="97"/>
                    </a:lnTo>
                    <a:lnTo>
                      <a:pt x="1141" y="98"/>
                    </a:lnTo>
                    <a:lnTo>
                      <a:pt x="1132" y="99"/>
                    </a:lnTo>
                    <a:lnTo>
                      <a:pt x="1122" y="99"/>
                    </a:lnTo>
                    <a:lnTo>
                      <a:pt x="1113" y="98"/>
                    </a:lnTo>
                    <a:lnTo>
                      <a:pt x="1104" y="98"/>
                    </a:lnTo>
                    <a:lnTo>
                      <a:pt x="1095" y="98"/>
                    </a:lnTo>
                    <a:lnTo>
                      <a:pt x="1085" y="98"/>
                    </a:lnTo>
                    <a:lnTo>
                      <a:pt x="1076" y="97"/>
                    </a:lnTo>
                    <a:lnTo>
                      <a:pt x="1067" y="97"/>
                    </a:lnTo>
                    <a:lnTo>
                      <a:pt x="1057" y="95"/>
                    </a:lnTo>
                    <a:lnTo>
                      <a:pt x="1048" y="95"/>
                    </a:lnTo>
                    <a:lnTo>
                      <a:pt x="1039" y="96"/>
                    </a:lnTo>
                    <a:lnTo>
                      <a:pt x="1030" y="97"/>
                    </a:lnTo>
                    <a:lnTo>
                      <a:pt x="1020" y="97"/>
                    </a:lnTo>
                    <a:lnTo>
                      <a:pt x="1011" y="98"/>
                    </a:lnTo>
                    <a:lnTo>
                      <a:pt x="1002" y="98"/>
                    </a:lnTo>
                    <a:lnTo>
                      <a:pt x="992" y="99"/>
                    </a:lnTo>
                    <a:lnTo>
                      <a:pt x="983" y="100"/>
                    </a:lnTo>
                    <a:lnTo>
                      <a:pt x="974" y="101"/>
                    </a:lnTo>
                    <a:lnTo>
                      <a:pt x="965" y="102"/>
                    </a:lnTo>
                    <a:lnTo>
                      <a:pt x="955" y="102"/>
                    </a:lnTo>
                    <a:lnTo>
                      <a:pt x="946" y="102"/>
                    </a:lnTo>
                    <a:lnTo>
                      <a:pt x="937" y="102"/>
                    </a:lnTo>
                    <a:lnTo>
                      <a:pt x="928" y="103"/>
                    </a:lnTo>
                    <a:lnTo>
                      <a:pt x="918" y="104"/>
                    </a:lnTo>
                    <a:lnTo>
                      <a:pt x="909" y="103"/>
                    </a:lnTo>
                    <a:lnTo>
                      <a:pt x="900" y="104"/>
                    </a:lnTo>
                    <a:lnTo>
                      <a:pt x="890" y="105"/>
                    </a:lnTo>
                    <a:lnTo>
                      <a:pt x="881" y="106"/>
                    </a:lnTo>
                    <a:lnTo>
                      <a:pt x="872" y="103"/>
                    </a:lnTo>
                    <a:lnTo>
                      <a:pt x="863" y="102"/>
                    </a:lnTo>
                    <a:lnTo>
                      <a:pt x="853" y="103"/>
                    </a:lnTo>
                    <a:lnTo>
                      <a:pt x="844" y="103"/>
                    </a:lnTo>
                    <a:lnTo>
                      <a:pt x="835" y="104"/>
                    </a:lnTo>
                    <a:lnTo>
                      <a:pt x="825" y="105"/>
                    </a:lnTo>
                    <a:lnTo>
                      <a:pt x="816" y="106"/>
                    </a:lnTo>
                    <a:lnTo>
                      <a:pt x="807" y="105"/>
                    </a:lnTo>
                    <a:lnTo>
                      <a:pt x="798" y="106"/>
                    </a:lnTo>
                    <a:lnTo>
                      <a:pt x="788" y="107"/>
                    </a:lnTo>
                    <a:lnTo>
                      <a:pt x="779" y="108"/>
                    </a:lnTo>
                    <a:lnTo>
                      <a:pt x="770" y="109"/>
                    </a:lnTo>
                    <a:lnTo>
                      <a:pt x="760" y="109"/>
                    </a:lnTo>
                    <a:lnTo>
                      <a:pt x="751" y="108"/>
                    </a:lnTo>
                    <a:lnTo>
                      <a:pt x="742" y="107"/>
                    </a:lnTo>
                    <a:lnTo>
                      <a:pt x="733" y="106"/>
                    </a:lnTo>
                    <a:lnTo>
                      <a:pt x="723" y="105"/>
                    </a:lnTo>
                    <a:lnTo>
                      <a:pt x="714" y="107"/>
                    </a:lnTo>
                    <a:lnTo>
                      <a:pt x="705" y="107"/>
                    </a:lnTo>
                    <a:lnTo>
                      <a:pt x="696" y="107"/>
                    </a:lnTo>
                    <a:lnTo>
                      <a:pt x="686" y="107"/>
                    </a:lnTo>
                    <a:lnTo>
                      <a:pt x="677" y="107"/>
                    </a:lnTo>
                    <a:lnTo>
                      <a:pt x="668" y="109"/>
                    </a:lnTo>
                    <a:lnTo>
                      <a:pt x="658" y="110"/>
                    </a:lnTo>
                    <a:lnTo>
                      <a:pt x="649" y="108"/>
                    </a:lnTo>
                    <a:lnTo>
                      <a:pt x="640" y="109"/>
                    </a:lnTo>
                    <a:lnTo>
                      <a:pt x="631" y="108"/>
                    </a:lnTo>
                    <a:lnTo>
                      <a:pt x="621" y="108"/>
                    </a:lnTo>
                    <a:lnTo>
                      <a:pt x="612" y="108"/>
                    </a:lnTo>
                    <a:lnTo>
                      <a:pt x="603" y="109"/>
                    </a:lnTo>
                    <a:lnTo>
                      <a:pt x="593" y="109"/>
                    </a:lnTo>
                    <a:lnTo>
                      <a:pt x="584" y="108"/>
                    </a:lnTo>
                    <a:lnTo>
                      <a:pt x="575" y="109"/>
                    </a:lnTo>
                    <a:lnTo>
                      <a:pt x="566" y="109"/>
                    </a:lnTo>
                    <a:lnTo>
                      <a:pt x="556" y="110"/>
                    </a:lnTo>
                    <a:lnTo>
                      <a:pt x="547" y="110"/>
                    </a:lnTo>
                    <a:lnTo>
                      <a:pt x="538" y="111"/>
                    </a:lnTo>
                    <a:lnTo>
                      <a:pt x="528" y="110"/>
                    </a:lnTo>
                    <a:lnTo>
                      <a:pt x="519" y="111"/>
                    </a:lnTo>
                    <a:lnTo>
                      <a:pt x="510" y="112"/>
                    </a:lnTo>
                    <a:lnTo>
                      <a:pt x="501" y="112"/>
                    </a:lnTo>
                    <a:lnTo>
                      <a:pt x="491" y="113"/>
                    </a:lnTo>
                    <a:lnTo>
                      <a:pt x="482" y="113"/>
                    </a:lnTo>
                    <a:lnTo>
                      <a:pt x="473" y="113"/>
                    </a:lnTo>
                    <a:lnTo>
                      <a:pt x="464" y="114"/>
                    </a:lnTo>
                    <a:lnTo>
                      <a:pt x="454" y="114"/>
                    </a:lnTo>
                    <a:lnTo>
                      <a:pt x="445" y="115"/>
                    </a:lnTo>
                    <a:lnTo>
                      <a:pt x="436" y="115"/>
                    </a:lnTo>
                    <a:lnTo>
                      <a:pt x="426" y="115"/>
                    </a:lnTo>
                    <a:lnTo>
                      <a:pt x="417" y="115"/>
                    </a:lnTo>
                    <a:lnTo>
                      <a:pt x="408" y="116"/>
                    </a:lnTo>
                    <a:lnTo>
                      <a:pt x="399" y="116"/>
                    </a:lnTo>
                    <a:lnTo>
                      <a:pt x="389" y="116"/>
                    </a:lnTo>
                    <a:lnTo>
                      <a:pt x="380" y="116"/>
                    </a:lnTo>
                    <a:lnTo>
                      <a:pt x="371" y="116"/>
                    </a:lnTo>
                    <a:lnTo>
                      <a:pt x="361" y="116"/>
                    </a:lnTo>
                    <a:lnTo>
                      <a:pt x="352" y="117"/>
                    </a:lnTo>
                    <a:lnTo>
                      <a:pt x="343" y="117"/>
                    </a:lnTo>
                    <a:lnTo>
                      <a:pt x="334" y="117"/>
                    </a:lnTo>
                    <a:lnTo>
                      <a:pt x="324" y="117"/>
                    </a:lnTo>
                    <a:lnTo>
                      <a:pt x="315" y="117"/>
                    </a:lnTo>
                    <a:lnTo>
                      <a:pt x="306" y="117"/>
                    </a:lnTo>
                    <a:lnTo>
                      <a:pt x="296" y="118"/>
                    </a:lnTo>
                    <a:lnTo>
                      <a:pt x="287" y="118"/>
                    </a:lnTo>
                    <a:lnTo>
                      <a:pt x="278" y="118"/>
                    </a:lnTo>
                    <a:lnTo>
                      <a:pt x="269" y="118"/>
                    </a:lnTo>
                    <a:lnTo>
                      <a:pt x="259" y="119"/>
                    </a:lnTo>
                    <a:lnTo>
                      <a:pt x="250" y="119"/>
                    </a:lnTo>
                    <a:lnTo>
                      <a:pt x="241" y="119"/>
                    </a:lnTo>
                    <a:lnTo>
                      <a:pt x="232" y="119"/>
                    </a:lnTo>
                    <a:lnTo>
                      <a:pt x="222" y="119"/>
                    </a:lnTo>
                    <a:lnTo>
                      <a:pt x="213" y="119"/>
                    </a:lnTo>
                    <a:lnTo>
                      <a:pt x="204" y="119"/>
                    </a:lnTo>
                    <a:lnTo>
                      <a:pt x="194" y="119"/>
                    </a:lnTo>
                    <a:lnTo>
                      <a:pt x="185" y="120"/>
                    </a:lnTo>
                    <a:lnTo>
                      <a:pt x="176" y="120"/>
                    </a:lnTo>
                    <a:lnTo>
                      <a:pt x="167" y="120"/>
                    </a:lnTo>
                    <a:lnTo>
                      <a:pt x="157" y="120"/>
                    </a:lnTo>
                    <a:lnTo>
                      <a:pt x="148" y="120"/>
                    </a:lnTo>
                    <a:lnTo>
                      <a:pt x="139" y="120"/>
                    </a:lnTo>
                    <a:lnTo>
                      <a:pt x="129" y="120"/>
                    </a:lnTo>
                    <a:lnTo>
                      <a:pt x="120" y="120"/>
                    </a:lnTo>
                    <a:lnTo>
                      <a:pt x="111" y="121"/>
                    </a:lnTo>
                    <a:lnTo>
                      <a:pt x="102" y="121"/>
                    </a:lnTo>
                    <a:lnTo>
                      <a:pt x="92" y="121"/>
                    </a:lnTo>
                    <a:lnTo>
                      <a:pt x="83" y="121"/>
                    </a:lnTo>
                    <a:lnTo>
                      <a:pt x="74" y="121"/>
                    </a:lnTo>
                    <a:lnTo>
                      <a:pt x="64" y="121"/>
                    </a:lnTo>
                    <a:lnTo>
                      <a:pt x="55" y="121"/>
                    </a:lnTo>
                    <a:lnTo>
                      <a:pt x="46" y="121"/>
                    </a:lnTo>
                    <a:lnTo>
                      <a:pt x="37" y="121"/>
                    </a:lnTo>
                    <a:lnTo>
                      <a:pt x="27" y="122"/>
                    </a:lnTo>
                    <a:lnTo>
                      <a:pt x="18" y="122"/>
                    </a:lnTo>
                    <a:lnTo>
                      <a:pt x="9" y="121"/>
                    </a:lnTo>
                    <a:lnTo>
                      <a:pt x="0" y="122"/>
                    </a:lnTo>
                    <a:close/>
                  </a:path>
                </a:pathLst>
              </a:custGeom>
              <a:noFill/>
              <a:ln w="3175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2" name="Freeform 187"/>
              <p:cNvSpPr/>
              <p:nvPr/>
            </p:nvSpPr>
            <p:spPr>
              <a:xfrm>
                <a:off x="4879440" y="2967480"/>
                <a:ext cx="2310120" cy="141840"/>
              </a:xfrm>
              <a:custGeom>
                <a:avLst/>
                <a:gdLst>
                  <a:gd name="textAreaLeft" fmla="*/ 0 w 2310120"/>
                  <a:gd name="textAreaRight" fmla="*/ 2310480 w 2310120"/>
                  <a:gd name="textAreaTop" fmla="*/ 0 h 141840"/>
                  <a:gd name="textAreaBottom" fmla="*/ 142200 h 141840"/>
                </a:gdLst>
                <a:ahLst/>
                <a:rect l="textAreaLeft" t="textAreaTop" r="textAreaRight" b="textAreaBottom"/>
                <a:pathLst>
                  <a:path w="1447" h="58">
                    <a:moveTo>
                      <a:pt x="0" y="57"/>
                    </a:moveTo>
                    <a:lnTo>
                      <a:pt x="9" y="57"/>
                    </a:lnTo>
                    <a:lnTo>
                      <a:pt x="18" y="57"/>
                    </a:lnTo>
                    <a:lnTo>
                      <a:pt x="27" y="57"/>
                    </a:lnTo>
                    <a:lnTo>
                      <a:pt x="37" y="57"/>
                    </a:lnTo>
                    <a:lnTo>
                      <a:pt x="46" y="56"/>
                    </a:lnTo>
                    <a:lnTo>
                      <a:pt x="55" y="56"/>
                    </a:lnTo>
                    <a:lnTo>
                      <a:pt x="64" y="56"/>
                    </a:lnTo>
                    <a:lnTo>
                      <a:pt x="74" y="56"/>
                    </a:lnTo>
                    <a:lnTo>
                      <a:pt x="83" y="56"/>
                    </a:lnTo>
                    <a:lnTo>
                      <a:pt x="92" y="56"/>
                    </a:lnTo>
                    <a:lnTo>
                      <a:pt x="102" y="56"/>
                    </a:lnTo>
                    <a:lnTo>
                      <a:pt x="111" y="56"/>
                    </a:lnTo>
                    <a:lnTo>
                      <a:pt x="120" y="56"/>
                    </a:lnTo>
                    <a:lnTo>
                      <a:pt x="129" y="55"/>
                    </a:lnTo>
                    <a:lnTo>
                      <a:pt x="139" y="55"/>
                    </a:lnTo>
                    <a:lnTo>
                      <a:pt x="148" y="55"/>
                    </a:lnTo>
                    <a:lnTo>
                      <a:pt x="157" y="55"/>
                    </a:lnTo>
                    <a:lnTo>
                      <a:pt x="167" y="55"/>
                    </a:lnTo>
                    <a:lnTo>
                      <a:pt x="176" y="55"/>
                    </a:lnTo>
                    <a:lnTo>
                      <a:pt x="185" y="55"/>
                    </a:lnTo>
                    <a:lnTo>
                      <a:pt x="194" y="54"/>
                    </a:lnTo>
                    <a:lnTo>
                      <a:pt x="204" y="54"/>
                    </a:lnTo>
                    <a:lnTo>
                      <a:pt x="213" y="54"/>
                    </a:lnTo>
                    <a:lnTo>
                      <a:pt x="222" y="54"/>
                    </a:lnTo>
                    <a:lnTo>
                      <a:pt x="232" y="54"/>
                    </a:lnTo>
                    <a:lnTo>
                      <a:pt x="241" y="54"/>
                    </a:lnTo>
                    <a:lnTo>
                      <a:pt x="250" y="54"/>
                    </a:lnTo>
                    <a:lnTo>
                      <a:pt x="259" y="54"/>
                    </a:lnTo>
                    <a:lnTo>
                      <a:pt x="269" y="54"/>
                    </a:lnTo>
                    <a:lnTo>
                      <a:pt x="278" y="53"/>
                    </a:lnTo>
                    <a:lnTo>
                      <a:pt x="287" y="53"/>
                    </a:lnTo>
                    <a:lnTo>
                      <a:pt x="296" y="53"/>
                    </a:lnTo>
                    <a:lnTo>
                      <a:pt x="306" y="52"/>
                    </a:lnTo>
                    <a:lnTo>
                      <a:pt x="315" y="52"/>
                    </a:lnTo>
                    <a:lnTo>
                      <a:pt x="324" y="52"/>
                    </a:lnTo>
                    <a:lnTo>
                      <a:pt x="334" y="52"/>
                    </a:lnTo>
                    <a:lnTo>
                      <a:pt x="343" y="52"/>
                    </a:lnTo>
                    <a:lnTo>
                      <a:pt x="352" y="52"/>
                    </a:lnTo>
                    <a:lnTo>
                      <a:pt x="361" y="52"/>
                    </a:lnTo>
                    <a:lnTo>
                      <a:pt x="371" y="51"/>
                    </a:lnTo>
                    <a:lnTo>
                      <a:pt x="380" y="51"/>
                    </a:lnTo>
                    <a:lnTo>
                      <a:pt x="389" y="51"/>
                    </a:lnTo>
                    <a:lnTo>
                      <a:pt x="399" y="51"/>
                    </a:lnTo>
                    <a:lnTo>
                      <a:pt x="408" y="51"/>
                    </a:lnTo>
                    <a:lnTo>
                      <a:pt x="417" y="51"/>
                    </a:lnTo>
                    <a:lnTo>
                      <a:pt x="426" y="50"/>
                    </a:lnTo>
                    <a:lnTo>
                      <a:pt x="436" y="50"/>
                    </a:lnTo>
                    <a:lnTo>
                      <a:pt x="445" y="50"/>
                    </a:lnTo>
                    <a:lnTo>
                      <a:pt x="454" y="49"/>
                    </a:lnTo>
                    <a:lnTo>
                      <a:pt x="464" y="49"/>
                    </a:lnTo>
                    <a:lnTo>
                      <a:pt x="473" y="49"/>
                    </a:lnTo>
                    <a:lnTo>
                      <a:pt x="482" y="48"/>
                    </a:lnTo>
                    <a:lnTo>
                      <a:pt x="491" y="48"/>
                    </a:lnTo>
                    <a:lnTo>
                      <a:pt x="501" y="48"/>
                    </a:lnTo>
                    <a:lnTo>
                      <a:pt x="510" y="47"/>
                    </a:lnTo>
                    <a:lnTo>
                      <a:pt x="519" y="46"/>
                    </a:lnTo>
                    <a:lnTo>
                      <a:pt x="528" y="45"/>
                    </a:lnTo>
                    <a:lnTo>
                      <a:pt x="538" y="46"/>
                    </a:lnTo>
                    <a:lnTo>
                      <a:pt x="547" y="45"/>
                    </a:lnTo>
                    <a:lnTo>
                      <a:pt x="556" y="45"/>
                    </a:lnTo>
                    <a:lnTo>
                      <a:pt x="566" y="45"/>
                    </a:lnTo>
                    <a:lnTo>
                      <a:pt x="575" y="44"/>
                    </a:lnTo>
                    <a:lnTo>
                      <a:pt x="584" y="43"/>
                    </a:lnTo>
                    <a:lnTo>
                      <a:pt x="593" y="44"/>
                    </a:lnTo>
                    <a:lnTo>
                      <a:pt x="603" y="44"/>
                    </a:lnTo>
                    <a:lnTo>
                      <a:pt x="612" y="43"/>
                    </a:lnTo>
                    <a:lnTo>
                      <a:pt x="621" y="43"/>
                    </a:lnTo>
                    <a:lnTo>
                      <a:pt x="631" y="43"/>
                    </a:lnTo>
                    <a:lnTo>
                      <a:pt x="640" y="44"/>
                    </a:lnTo>
                    <a:lnTo>
                      <a:pt x="649" y="43"/>
                    </a:lnTo>
                    <a:lnTo>
                      <a:pt x="658" y="45"/>
                    </a:lnTo>
                    <a:lnTo>
                      <a:pt x="668" y="44"/>
                    </a:lnTo>
                    <a:lnTo>
                      <a:pt x="677" y="42"/>
                    </a:lnTo>
                    <a:lnTo>
                      <a:pt x="686" y="43"/>
                    </a:lnTo>
                    <a:lnTo>
                      <a:pt x="696" y="42"/>
                    </a:lnTo>
                    <a:lnTo>
                      <a:pt x="705" y="43"/>
                    </a:lnTo>
                    <a:lnTo>
                      <a:pt x="714" y="42"/>
                    </a:lnTo>
                    <a:lnTo>
                      <a:pt x="723" y="41"/>
                    </a:lnTo>
                    <a:lnTo>
                      <a:pt x="733" y="41"/>
                    </a:lnTo>
                    <a:lnTo>
                      <a:pt x="742" y="42"/>
                    </a:lnTo>
                    <a:lnTo>
                      <a:pt x="751" y="43"/>
                    </a:lnTo>
                    <a:lnTo>
                      <a:pt x="760" y="44"/>
                    </a:lnTo>
                    <a:lnTo>
                      <a:pt x="770" y="44"/>
                    </a:lnTo>
                    <a:lnTo>
                      <a:pt x="779" y="43"/>
                    </a:lnTo>
                    <a:lnTo>
                      <a:pt x="788" y="42"/>
                    </a:lnTo>
                    <a:lnTo>
                      <a:pt x="798" y="41"/>
                    </a:lnTo>
                    <a:lnTo>
                      <a:pt x="807" y="40"/>
                    </a:lnTo>
                    <a:lnTo>
                      <a:pt x="816" y="41"/>
                    </a:lnTo>
                    <a:lnTo>
                      <a:pt x="825" y="40"/>
                    </a:lnTo>
                    <a:lnTo>
                      <a:pt x="835" y="39"/>
                    </a:lnTo>
                    <a:lnTo>
                      <a:pt x="844" y="38"/>
                    </a:lnTo>
                    <a:lnTo>
                      <a:pt x="853" y="38"/>
                    </a:lnTo>
                    <a:lnTo>
                      <a:pt x="863" y="37"/>
                    </a:lnTo>
                    <a:lnTo>
                      <a:pt x="872" y="38"/>
                    </a:lnTo>
                    <a:lnTo>
                      <a:pt x="881" y="41"/>
                    </a:lnTo>
                    <a:lnTo>
                      <a:pt x="890" y="41"/>
                    </a:lnTo>
                    <a:lnTo>
                      <a:pt x="900" y="39"/>
                    </a:lnTo>
                    <a:lnTo>
                      <a:pt x="909" y="38"/>
                    </a:lnTo>
                    <a:lnTo>
                      <a:pt x="918" y="39"/>
                    </a:lnTo>
                    <a:lnTo>
                      <a:pt x="928" y="38"/>
                    </a:lnTo>
                    <a:lnTo>
                      <a:pt x="937" y="37"/>
                    </a:lnTo>
                    <a:lnTo>
                      <a:pt x="946" y="37"/>
                    </a:lnTo>
                    <a:lnTo>
                      <a:pt x="955" y="37"/>
                    </a:lnTo>
                    <a:lnTo>
                      <a:pt x="965" y="37"/>
                    </a:lnTo>
                    <a:lnTo>
                      <a:pt x="974" y="36"/>
                    </a:lnTo>
                    <a:lnTo>
                      <a:pt x="983" y="35"/>
                    </a:lnTo>
                    <a:lnTo>
                      <a:pt x="992" y="34"/>
                    </a:lnTo>
                    <a:lnTo>
                      <a:pt x="1002" y="34"/>
                    </a:lnTo>
                    <a:lnTo>
                      <a:pt x="1011" y="33"/>
                    </a:lnTo>
                    <a:lnTo>
                      <a:pt x="1020" y="32"/>
                    </a:lnTo>
                    <a:lnTo>
                      <a:pt x="1030" y="32"/>
                    </a:lnTo>
                    <a:lnTo>
                      <a:pt x="1039" y="31"/>
                    </a:lnTo>
                    <a:lnTo>
                      <a:pt x="1048" y="30"/>
                    </a:lnTo>
                    <a:lnTo>
                      <a:pt x="1057" y="30"/>
                    </a:lnTo>
                    <a:lnTo>
                      <a:pt x="1067" y="32"/>
                    </a:lnTo>
                    <a:lnTo>
                      <a:pt x="1076" y="32"/>
                    </a:lnTo>
                    <a:lnTo>
                      <a:pt x="1085" y="33"/>
                    </a:lnTo>
                    <a:lnTo>
                      <a:pt x="1095" y="33"/>
                    </a:lnTo>
                    <a:lnTo>
                      <a:pt x="1104" y="33"/>
                    </a:lnTo>
                    <a:lnTo>
                      <a:pt x="1113" y="33"/>
                    </a:lnTo>
                    <a:lnTo>
                      <a:pt x="1122" y="34"/>
                    </a:lnTo>
                    <a:lnTo>
                      <a:pt x="1132" y="34"/>
                    </a:lnTo>
                    <a:lnTo>
                      <a:pt x="1141" y="33"/>
                    </a:lnTo>
                    <a:lnTo>
                      <a:pt x="1150" y="32"/>
                    </a:lnTo>
                    <a:lnTo>
                      <a:pt x="1160" y="32"/>
                    </a:lnTo>
                    <a:lnTo>
                      <a:pt x="1169" y="31"/>
                    </a:lnTo>
                    <a:lnTo>
                      <a:pt x="1178" y="30"/>
                    </a:lnTo>
                    <a:lnTo>
                      <a:pt x="1187" y="28"/>
                    </a:lnTo>
                    <a:lnTo>
                      <a:pt x="1197" y="27"/>
                    </a:lnTo>
                    <a:lnTo>
                      <a:pt x="1206" y="26"/>
                    </a:lnTo>
                    <a:lnTo>
                      <a:pt x="1215" y="26"/>
                    </a:lnTo>
                    <a:lnTo>
                      <a:pt x="1224" y="25"/>
                    </a:lnTo>
                    <a:lnTo>
                      <a:pt x="1234" y="24"/>
                    </a:lnTo>
                    <a:lnTo>
                      <a:pt x="1243" y="23"/>
                    </a:lnTo>
                    <a:lnTo>
                      <a:pt x="1252" y="21"/>
                    </a:lnTo>
                    <a:lnTo>
                      <a:pt x="1262" y="21"/>
                    </a:lnTo>
                    <a:lnTo>
                      <a:pt x="1271" y="19"/>
                    </a:lnTo>
                    <a:lnTo>
                      <a:pt x="1280" y="18"/>
                    </a:lnTo>
                    <a:lnTo>
                      <a:pt x="1289" y="18"/>
                    </a:lnTo>
                    <a:lnTo>
                      <a:pt x="1299" y="17"/>
                    </a:lnTo>
                    <a:lnTo>
                      <a:pt x="1308" y="17"/>
                    </a:lnTo>
                    <a:lnTo>
                      <a:pt x="1317" y="18"/>
                    </a:lnTo>
                    <a:lnTo>
                      <a:pt x="1327" y="18"/>
                    </a:lnTo>
                    <a:lnTo>
                      <a:pt x="1336" y="17"/>
                    </a:lnTo>
                    <a:lnTo>
                      <a:pt x="1345" y="16"/>
                    </a:lnTo>
                    <a:lnTo>
                      <a:pt x="1354" y="15"/>
                    </a:lnTo>
                    <a:lnTo>
                      <a:pt x="1364" y="15"/>
                    </a:lnTo>
                    <a:lnTo>
                      <a:pt x="1373" y="15"/>
                    </a:lnTo>
                    <a:lnTo>
                      <a:pt x="1382" y="15"/>
                    </a:lnTo>
                    <a:lnTo>
                      <a:pt x="1392" y="14"/>
                    </a:lnTo>
                    <a:lnTo>
                      <a:pt x="1401" y="14"/>
                    </a:lnTo>
                    <a:lnTo>
                      <a:pt x="1410" y="12"/>
                    </a:lnTo>
                    <a:lnTo>
                      <a:pt x="1419" y="9"/>
                    </a:lnTo>
                    <a:lnTo>
                      <a:pt x="1429" y="5"/>
                    </a:lnTo>
                    <a:lnTo>
                      <a:pt x="1438" y="3"/>
                    </a:lnTo>
                    <a:lnTo>
                      <a:pt x="1447" y="0"/>
                    </a:lnTo>
                    <a:lnTo>
                      <a:pt x="1447" y="49"/>
                    </a:lnTo>
                    <a:lnTo>
                      <a:pt x="1438" y="50"/>
                    </a:lnTo>
                    <a:lnTo>
                      <a:pt x="1429" y="50"/>
                    </a:lnTo>
                    <a:lnTo>
                      <a:pt x="1419" y="50"/>
                    </a:lnTo>
                    <a:lnTo>
                      <a:pt x="1410" y="51"/>
                    </a:lnTo>
                    <a:lnTo>
                      <a:pt x="1401" y="51"/>
                    </a:lnTo>
                    <a:lnTo>
                      <a:pt x="1392" y="51"/>
                    </a:lnTo>
                    <a:lnTo>
                      <a:pt x="1382" y="51"/>
                    </a:lnTo>
                    <a:lnTo>
                      <a:pt x="1373" y="51"/>
                    </a:lnTo>
                    <a:lnTo>
                      <a:pt x="1364" y="52"/>
                    </a:lnTo>
                    <a:lnTo>
                      <a:pt x="1354" y="52"/>
                    </a:lnTo>
                    <a:lnTo>
                      <a:pt x="1345" y="52"/>
                    </a:lnTo>
                    <a:lnTo>
                      <a:pt x="1336" y="52"/>
                    </a:lnTo>
                    <a:lnTo>
                      <a:pt x="1327" y="52"/>
                    </a:lnTo>
                    <a:lnTo>
                      <a:pt x="1317" y="52"/>
                    </a:lnTo>
                    <a:lnTo>
                      <a:pt x="1308" y="53"/>
                    </a:lnTo>
                    <a:lnTo>
                      <a:pt x="1299" y="53"/>
                    </a:lnTo>
                    <a:lnTo>
                      <a:pt x="1289" y="53"/>
                    </a:lnTo>
                    <a:lnTo>
                      <a:pt x="1280" y="53"/>
                    </a:lnTo>
                    <a:lnTo>
                      <a:pt x="1271" y="53"/>
                    </a:lnTo>
                    <a:lnTo>
                      <a:pt x="1262" y="54"/>
                    </a:lnTo>
                    <a:lnTo>
                      <a:pt x="1252" y="54"/>
                    </a:lnTo>
                    <a:lnTo>
                      <a:pt x="1243" y="54"/>
                    </a:lnTo>
                    <a:lnTo>
                      <a:pt x="1234" y="55"/>
                    </a:lnTo>
                    <a:lnTo>
                      <a:pt x="1224" y="55"/>
                    </a:lnTo>
                    <a:lnTo>
                      <a:pt x="1215" y="55"/>
                    </a:lnTo>
                    <a:lnTo>
                      <a:pt x="1206" y="55"/>
                    </a:lnTo>
                    <a:lnTo>
                      <a:pt x="1197" y="56"/>
                    </a:lnTo>
                    <a:lnTo>
                      <a:pt x="1187" y="56"/>
                    </a:lnTo>
                    <a:lnTo>
                      <a:pt x="1178" y="56"/>
                    </a:lnTo>
                    <a:lnTo>
                      <a:pt x="1169" y="56"/>
                    </a:lnTo>
                    <a:lnTo>
                      <a:pt x="1160" y="57"/>
                    </a:lnTo>
                    <a:lnTo>
                      <a:pt x="1150" y="57"/>
                    </a:lnTo>
                    <a:lnTo>
                      <a:pt x="1141" y="57"/>
                    </a:lnTo>
                    <a:lnTo>
                      <a:pt x="1132" y="57"/>
                    </a:lnTo>
                    <a:lnTo>
                      <a:pt x="1122" y="57"/>
                    </a:lnTo>
                    <a:lnTo>
                      <a:pt x="1113" y="56"/>
                    </a:lnTo>
                    <a:lnTo>
                      <a:pt x="1104" y="56"/>
                    </a:lnTo>
                    <a:lnTo>
                      <a:pt x="1095" y="56"/>
                    </a:lnTo>
                    <a:lnTo>
                      <a:pt x="1085" y="55"/>
                    </a:lnTo>
                    <a:lnTo>
                      <a:pt x="1076" y="55"/>
                    </a:lnTo>
                    <a:lnTo>
                      <a:pt x="1067" y="55"/>
                    </a:lnTo>
                    <a:lnTo>
                      <a:pt x="1057" y="54"/>
                    </a:lnTo>
                    <a:lnTo>
                      <a:pt x="1048" y="54"/>
                    </a:lnTo>
                    <a:lnTo>
                      <a:pt x="1039" y="53"/>
                    </a:lnTo>
                    <a:lnTo>
                      <a:pt x="1030" y="53"/>
                    </a:lnTo>
                    <a:lnTo>
                      <a:pt x="1020" y="53"/>
                    </a:lnTo>
                    <a:lnTo>
                      <a:pt x="1011" y="53"/>
                    </a:lnTo>
                    <a:lnTo>
                      <a:pt x="1002" y="53"/>
                    </a:lnTo>
                    <a:lnTo>
                      <a:pt x="992" y="53"/>
                    </a:lnTo>
                    <a:lnTo>
                      <a:pt x="983" y="53"/>
                    </a:lnTo>
                    <a:lnTo>
                      <a:pt x="974" y="53"/>
                    </a:lnTo>
                    <a:lnTo>
                      <a:pt x="965" y="53"/>
                    </a:lnTo>
                    <a:lnTo>
                      <a:pt x="955" y="53"/>
                    </a:lnTo>
                    <a:lnTo>
                      <a:pt x="946" y="53"/>
                    </a:lnTo>
                    <a:lnTo>
                      <a:pt x="937" y="53"/>
                    </a:lnTo>
                    <a:lnTo>
                      <a:pt x="928" y="53"/>
                    </a:lnTo>
                    <a:lnTo>
                      <a:pt x="918" y="53"/>
                    </a:lnTo>
                    <a:lnTo>
                      <a:pt x="909" y="53"/>
                    </a:lnTo>
                    <a:lnTo>
                      <a:pt x="900" y="53"/>
                    </a:lnTo>
                    <a:lnTo>
                      <a:pt x="890" y="53"/>
                    </a:lnTo>
                    <a:lnTo>
                      <a:pt x="881" y="53"/>
                    </a:lnTo>
                    <a:lnTo>
                      <a:pt x="872" y="53"/>
                    </a:lnTo>
                    <a:lnTo>
                      <a:pt x="863" y="53"/>
                    </a:lnTo>
                    <a:lnTo>
                      <a:pt x="853" y="53"/>
                    </a:lnTo>
                    <a:lnTo>
                      <a:pt x="844" y="53"/>
                    </a:lnTo>
                    <a:lnTo>
                      <a:pt x="835" y="54"/>
                    </a:lnTo>
                    <a:lnTo>
                      <a:pt x="825" y="54"/>
                    </a:lnTo>
                    <a:lnTo>
                      <a:pt x="816" y="54"/>
                    </a:lnTo>
                    <a:lnTo>
                      <a:pt x="807" y="54"/>
                    </a:lnTo>
                    <a:lnTo>
                      <a:pt x="798" y="54"/>
                    </a:lnTo>
                    <a:lnTo>
                      <a:pt x="788" y="54"/>
                    </a:lnTo>
                    <a:lnTo>
                      <a:pt x="779" y="54"/>
                    </a:lnTo>
                    <a:lnTo>
                      <a:pt x="770" y="54"/>
                    </a:lnTo>
                    <a:lnTo>
                      <a:pt x="760" y="54"/>
                    </a:lnTo>
                    <a:lnTo>
                      <a:pt x="751" y="54"/>
                    </a:lnTo>
                    <a:lnTo>
                      <a:pt x="742" y="54"/>
                    </a:lnTo>
                    <a:lnTo>
                      <a:pt x="733" y="54"/>
                    </a:lnTo>
                    <a:lnTo>
                      <a:pt x="723" y="54"/>
                    </a:lnTo>
                    <a:lnTo>
                      <a:pt x="714" y="54"/>
                    </a:lnTo>
                    <a:lnTo>
                      <a:pt x="705" y="54"/>
                    </a:lnTo>
                    <a:lnTo>
                      <a:pt x="696" y="55"/>
                    </a:lnTo>
                    <a:lnTo>
                      <a:pt x="686" y="55"/>
                    </a:lnTo>
                    <a:lnTo>
                      <a:pt x="677" y="55"/>
                    </a:lnTo>
                    <a:lnTo>
                      <a:pt x="668" y="55"/>
                    </a:lnTo>
                    <a:lnTo>
                      <a:pt x="658" y="55"/>
                    </a:lnTo>
                    <a:lnTo>
                      <a:pt x="649" y="55"/>
                    </a:lnTo>
                    <a:lnTo>
                      <a:pt x="640" y="55"/>
                    </a:lnTo>
                    <a:lnTo>
                      <a:pt x="631" y="55"/>
                    </a:lnTo>
                    <a:lnTo>
                      <a:pt x="621" y="55"/>
                    </a:lnTo>
                    <a:lnTo>
                      <a:pt x="612" y="55"/>
                    </a:lnTo>
                    <a:lnTo>
                      <a:pt x="603" y="55"/>
                    </a:lnTo>
                    <a:lnTo>
                      <a:pt x="593" y="55"/>
                    </a:lnTo>
                    <a:lnTo>
                      <a:pt x="584" y="55"/>
                    </a:lnTo>
                    <a:lnTo>
                      <a:pt x="575" y="55"/>
                    </a:lnTo>
                    <a:lnTo>
                      <a:pt x="566" y="55"/>
                    </a:lnTo>
                    <a:lnTo>
                      <a:pt x="556" y="55"/>
                    </a:lnTo>
                    <a:lnTo>
                      <a:pt x="547" y="55"/>
                    </a:lnTo>
                    <a:lnTo>
                      <a:pt x="538" y="55"/>
                    </a:lnTo>
                    <a:lnTo>
                      <a:pt x="528" y="55"/>
                    </a:lnTo>
                    <a:lnTo>
                      <a:pt x="519" y="56"/>
                    </a:lnTo>
                    <a:lnTo>
                      <a:pt x="510" y="56"/>
                    </a:lnTo>
                    <a:lnTo>
                      <a:pt x="501" y="56"/>
                    </a:lnTo>
                    <a:lnTo>
                      <a:pt x="491" y="56"/>
                    </a:lnTo>
                    <a:lnTo>
                      <a:pt x="482" y="56"/>
                    </a:lnTo>
                    <a:lnTo>
                      <a:pt x="473" y="56"/>
                    </a:lnTo>
                    <a:lnTo>
                      <a:pt x="464" y="56"/>
                    </a:lnTo>
                    <a:lnTo>
                      <a:pt x="454" y="56"/>
                    </a:lnTo>
                    <a:lnTo>
                      <a:pt x="445" y="56"/>
                    </a:lnTo>
                    <a:lnTo>
                      <a:pt x="436" y="56"/>
                    </a:lnTo>
                    <a:lnTo>
                      <a:pt x="426" y="56"/>
                    </a:lnTo>
                    <a:lnTo>
                      <a:pt x="417" y="56"/>
                    </a:lnTo>
                    <a:lnTo>
                      <a:pt x="408" y="56"/>
                    </a:lnTo>
                    <a:lnTo>
                      <a:pt x="399" y="56"/>
                    </a:lnTo>
                    <a:lnTo>
                      <a:pt x="389" y="56"/>
                    </a:lnTo>
                    <a:lnTo>
                      <a:pt x="380" y="56"/>
                    </a:lnTo>
                    <a:lnTo>
                      <a:pt x="371" y="56"/>
                    </a:lnTo>
                    <a:lnTo>
                      <a:pt x="361" y="56"/>
                    </a:lnTo>
                    <a:lnTo>
                      <a:pt x="352" y="56"/>
                    </a:lnTo>
                    <a:lnTo>
                      <a:pt x="343" y="56"/>
                    </a:lnTo>
                    <a:lnTo>
                      <a:pt x="334" y="56"/>
                    </a:lnTo>
                    <a:lnTo>
                      <a:pt x="324" y="56"/>
                    </a:lnTo>
                    <a:lnTo>
                      <a:pt x="315" y="56"/>
                    </a:lnTo>
                    <a:lnTo>
                      <a:pt x="306" y="56"/>
                    </a:lnTo>
                    <a:lnTo>
                      <a:pt x="296" y="56"/>
                    </a:lnTo>
                    <a:lnTo>
                      <a:pt x="287" y="56"/>
                    </a:lnTo>
                    <a:lnTo>
                      <a:pt x="278" y="56"/>
                    </a:lnTo>
                    <a:lnTo>
                      <a:pt x="269" y="56"/>
                    </a:lnTo>
                    <a:lnTo>
                      <a:pt x="259" y="56"/>
                    </a:lnTo>
                    <a:lnTo>
                      <a:pt x="250" y="56"/>
                    </a:lnTo>
                    <a:lnTo>
                      <a:pt x="241" y="56"/>
                    </a:lnTo>
                    <a:lnTo>
                      <a:pt x="232" y="56"/>
                    </a:lnTo>
                    <a:lnTo>
                      <a:pt x="222" y="57"/>
                    </a:lnTo>
                    <a:lnTo>
                      <a:pt x="213" y="57"/>
                    </a:lnTo>
                    <a:lnTo>
                      <a:pt x="204" y="57"/>
                    </a:lnTo>
                    <a:lnTo>
                      <a:pt x="194" y="57"/>
                    </a:lnTo>
                    <a:lnTo>
                      <a:pt x="185" y="57"/>
                    </a:lnTo>
                    <a:lnTo>
                      <a:pt x="176" y="57"/>
                    </a:lnTo>
                    <a:lnTo>
                      <a:pt x="167" y="57"/>
                    </a:lnTo>
                    <a:lnTo>
                      <a:pt x="157" y="57"/>
                    </a:lnTo>
                    <a:lnTo>
                      <a:pt x="148" y="57"/>
                    </a:lnTo>
                    <a:lnTo>
                      <a:pt x="139" y="57"/>
                    </a:lnTo>
                    <a:lnTo>
                      <a:pt x="129" y="57"/>
                    </a:lnTo>
                    <a:lnTo>
                      <a:pt x="120" y="57"/>
                    </a:lnTo>
                    <a:lnTo>
                      <a:pt x="111" y="57"/>
                    </a:lnTo>
                    <a:lnTo>
                      <a:pt x="102" y="57"/>
                    </a:lnTo>
                    <a:lnTo>
                      <a:pt x="92" y="57"/>
                    </a:lnTo>
                    <a:lnTo>
                      <a:pt x="83" y="57"/>
                    </a:lnTo>
                    <a:lnTo>
                      <a:pt x="74" y="57"/>
                    </a:lnTo>
                    <a:lnTo>
                      <a:pt x="64" y="57"/>
                    </a:lnTo>
                    <a:lnTo>
                      <a:pt x="55" y="57"/>
                    </a:lnTo>
                    <a:lnTo>
                      <a:pt x="46" y="57"/>
                    </a:lnTo>
                    <a:lnTo>
                      <a:pt x="37" y="57"/>
                    </a:lnTo>
                    <a:lnTo>
                      <a:pt x="27" y="57"/>
                    </a:lnTo>
                    <a:lnTo>
                      <a:pt x="18" y="58"/>
                    </a:lnTo>
                    <a:lnTo>
                      <a:pt x="9" y="57"/>
                    </a:lnTo>
                    <a:lnTo>
                      <a:pt x="0" y="57"/>
                    </a:lnTo>
                    <a:close/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3" name="Freeform 188"/>
              <p:cNvSpPr/>
              <p:nvPr/>
            </p:nvSpPr>
            <p:spPr>
              <a:xfrm>
                <a:off x="4879440" y="2967480"/>
                <a:ext cx="2310120" cy="141840"/>
              </a:xfrm>
              <a:custGeom>
                <a:avLst/>
                <a:gdLst>
                  <a:gd name="textAreaLeft" fmla="*/ 0 w 2310120"/>
                  <a:gd name="textAreaRight" fmla="*/ 2310480 w 2310120"/>
                  <a:gd name="textAreaTop" fmla="*/ 0 h 141840"/>
                  <a:gd name="textAreaBottom" fmla="*/ 142200 h 141840"/>
                </a:gdLst>
                <a:ahLst/>
                <a:rect l="textAreaLeft" t="textAreaTop" r="textAreaRight" b="textAreaBottom"/>
                <a:pathLst>
                  <a:path w="1447" h="58">
                    <a:moveTo>
                      <a:pt x="0" y="57"/>
                    </a:moveTo>
                    <a:lnTo>
                      <a:pt x="9" y="57"/>
                    </a:lnTo>
                    <a:lnTo>
                      <a:pt x="18" y="57"/>
                    </a:lnTo>
                    <a:lnTo>
                      <a:pt x="27" y="57"/>
                    </a:lnTo>
                    <a:lnTo>
                      <a:pt x="37" y="57"/>
                    </a:lnTo>
                    <a:lnTo>
                      <a:pt x="46" y="56"/>
                    </a:lnTo>
                    <a:lnTo>
                      <a:pt x="55" y="56"/>
                    </a:lnTo>
                    <a:lnTo>
                      <a:pt x="64" y="56"/>
                    </a:lnTo>
                    <a:lnTo>
                      <a:pt x="74" y="56"/>
                    </a:lnTo>
                    <a:lnTo>
                      <a:pt x="83" y="56"/>
                    </a:lnTo>
                    <a:lnTo>
                      <a:pt x="92" y="56"/>
                    </a:lnTo>
                    <a:lnTo>
                      <a:pt x="102" y="56"/>
                    </a:lnTo>
                    <a:lnTo>
                      <a:pt x="111" y="56"/>
                    </a:lnTo>
                    <a:lnTo>
                      <a:pt x="120" y="56"/>
                    </a:lnTo>
                    <a:lnTo>
                      <a:pt x="129" y="55"/>
                    </a:lnTo>
                    <a:lnTo>
                      <a:pt x="139" y="55"/>
                    </a:lnTo>
                    <a:lnTo>
                      <a:pt x="148" y="55"/>
                    </a:lnTo>
                    <a:lnTo>
                      <a:pt x="157" y="55"/>
                    </a:lnTo>
                    <a:lnTo>
                      <a:pt x="167" y="55"/>
                    </a:lnTo>
                    <a:lnTo>
                      <a:pt x="176" y="55"/>
                    </a:lnTo>
                    <a:lnTo>
                      <a:pt x="185" y="55"/>
                    </a:lnTo>
                    <a:lnTo>
                      <a:pt x="194" y="54"/>
                    </a:lnTo>
                    <a:lnTo>
                      <a:pt x="204" y="54"/>
                    </a:lnTo>
                    <a:lnTo>
                      <a:pt x="213" y="54"/>
                    </a:lnTo>
                    <a:lnTo>
                      <a:pt x="222" y="54"/>
                    </a:lnTo>
                    <a:lnTo>
                      <a:pt x="232" y="54"/>
                    </a:lnTo>
                    <a:lnTo>
                      <a:pt x="241" y="54"/>
                    </a:lnTo>
                    <a:lnTo>
                      <a:pt x="250" y="54"/>
                    </a:lnTo>
                    <a:lnTo>
                      <a:pt x="259" y="54"/>
                    </a:lnTo>
                    <a:lnTo>
                      <a:pt x="269" y="54"/>
                    </a:lnTo>
                    <a:lnTo>
                      <a:pt x="278" y="53"/>
                    </a:lnTo>
                    <a:lnTo>
                      <a:pt x="287" y="53"/>
                    </a:lnTo>
                    <a:lnTo>
                      <a:pt x="296" y="53"/>
                    </a:lnTo>
                    <a:lnTo>
                      <a:pt x="306" y="52"/>
                    </a:lnTo>
                    <a:lnTo>
                      <a:pt x="315" y="52"/>
                    </a:lnTo>
                    <a:lnTo>
                      <a:pt x="324" y="52"/>
                    </a:lnTo>
                    <a:lnTo>
                      <a:pt x="334" y="52"/>
                    </a:lnTo>
                    <a:lnTo>
                      <a:pt x="343" y="52"/>
                    </a:lnTo>
                    <a:lnTo>
                      <a:pt x="352" y="52"/>
                    </a:lnTo>
                    <a:lnTo>
                      <a:pt x="361" y="52"/>
                    </a:lnTo>
                    <a:lnTo>
                      <a:pt x="371" y="51"/>
                    </a:lnTo>
                    <a:lnTo>
                      <a:pt x="380" y="51"/>
                    </a:lnTo>
                    <a:lnTo>
                      <a:pt x="389" y="51"/>
                    </a:lnTo>
                    <a:lnTo>
                      <a:pt x="399" y="51"/>
                    </a:lnTo>
                    <a:lnTo>
                      <a:pt x="408" y="51"/>
                    </a:lnTo>
                    <a:lnTo>
                      <a:pt x="417" y="51"/>
                    </a:lnTo>
                    <a:lnTo>
                      <a:pt x="426" y="50"/>
                    </a:lnTo>
                    <a:lnTo>
                      <a:pt x="436" y="50"/>
                    </a:lnTo>
                    <a:lnTo>
                      <a:pt x="445" y="50"/>
                    </a:lnTo>
                    <a:lnTo>
                      <a:pt x="454" y="49"/>
                    </a:lnTo>
                    <a:lnTo>
                      <a:pt x="464" y="49"/>
                    </a:lnTo>
                    <a:lnTo>
                      <a:pt x="473" y="49"/>
                    </a:lnTo>
                    <a:lnTo>
                      <a:pt x="482" y="48"/>
                    </a:lnTo>
                    <a:lnTo>
                      <a:pt x="491" y="48"/>
                    </a:lnTo>
                    <a:lnTo>
                      <a:pt x="501" y="48"/>
                    </a:lnTo>
                    <a:lnTo>
                      <a:pt x="510" y="47"/>
                    </a:lnTo>
                    <a:lnTo>
                      <a:pt x="519" y="46"/>
                    </a:lnTo>
                    <a:lnTo>
                      <a:pt x="528" y="45"/>
                    </a:lnTo>
                    <a:lnTo>
                      <a:pt x="538" y="46"/>
                    </a:lnTo>
                    <a:lnTo>
                      <a:pt x="547" y="45"/>
                    </a:lnTo>
                    <a:lnTo>
                      <a:pt x="556" y="45"/>
                    </a:lnTo>
                    <a:lnTo>
                      <a:pt x="566" y="45"/>
                    </a:lnTo>
                    <a:lnTo>
                      <a:pt x="575" y="44"/>
                    </a:lnTo>
                    <a:lnTo>
                      <a:pt x="584" y="43"/>
                    </a:lnTo>
                    <a:lnTo>
                      <a:pt x="593" y="44"/>
                    </a:lnTo>
                    <a:lnTo>
                      <a:pt x="603" y="44"/>
                    </a:lnTo>
                    <a:lnTo>
                      <a:pt x="612" y="43"/>
                    </a:lnTo>
                    <a:lnTo>
                      <a:pt x="621" y="43"/>
                    </a:lnTo>
                    <a:lnTo>
                      <a:pt x="631" y="43"/>
                    </a:lnTo>
                    <a:lnTo>
                      <a:pt x="640" y="44"/>
                    </a:lnTo>
                    <a:lnTo>
                      <a:pt x="649" y="43"/>
                    </a:lnTo>
                    <a:lnTo>
                      <a:pt x="658" y="45"/>
                    </a:lnTo>
                    <a:lnTo>
                      <a:pt x="668" y="44"/>
                    </a:lnTo>
                    <a:lnTo>
                      <a:pt x="677" y="42"/>
                    </a:lnTo>
                    <a:lnTo>
                      <a:pt x="686" y="43"/>
                    </a:lnTo>
                    <a:lnTo>
                      <a:pt x="696" y="42"/>
                    </a:lnTo>
                    <a:lnTo>
                      <a:pt x="705" y="43"/>
                    </a:lnTo>
                    <a:lnTo>
                      <a:pt x="714" y="42"/>
                    </a:lnTo>
                    <a:lnTo>
                      <a:pt x="723" y="41"/>
                    </a:lnTo>
                    <a:lnTo>
                      <a:pt x="733" y="41"/>
                    </a:lnTo>
                    <a:lnTo>
                      <a:pt x="742" y="42"/>
                    </a:lnTo>
                    <a:lnTo>
                      <a:pt x="751" y="43"/>
                    </a:lnTo>
                    <a:lnTo>
                      <a:pt x="760" y="44"/>
                    </a:lnTo>
                    <a:lnTo>
                      <a:pt x="770" y="44"/>
                    </a:lnTo>
                    <a:lnTo>
                      <a:pt x="779" y="43"/>
                    </a:lnTo>
                    <a:lnTo>
                      <a:pt x="788" y="42"/>
                    </a:lnTo>
                    <a:lnTo>
                      <a:pt x="798" y="41"/>
                    </a:lnTo>
                    <a:lnTo>
                      <a:pt x="807" y="40"/>
                    </a:lnTo>
                    <a:lnTo>
                      <a:pt x="816" y="41"/>
                    </a:lnTo>
                    <a:lnTo>
                      <a:pt x="825" y="40"/>
                    </a:lnTo>
                    <a:lnTo>
                      <a:pt x="835" y="39"/>
                    </a:lnTo>
                    <a:lnTo>
                      <a:pt x="844" y="38"/>
                    </a:lnTo>
                    <a:lnTo>
                      <a:pt x="853" y="38"/>
                    </a:lnTo>
                    <a:lnTo>
                      <a:pt x="863" y="37"/>
                    </a:lnTo>
                    <a:lnTo>
                      <a:pt x="872" y="38"/>
                    </a:lnTo>
                    <a:lnTo>
                      <a:pt x="881" y="41"/>
                    </a:lnTo>
                    <a:lnTo>
                      <a:pt x="890" y="41"/>
                    </a:lnTo>
                    <a:lnTo>
                      <a:pt x="900" y="39"/>
                    </a:lnTo>
                    <a:lnTo>
                      <a:pt x="909" y="38"/>
                    </a:lnTo>
                    <a:lnTo>
                      <a:pt x="918" y="39"/>
                    </a:lnTo>
                    <a:lnTo>
                      <a:pt x="928" y="38"/>
                    </a:lnTo>
                    <a:lnTo>
                      <a:pt x="937" y="37"/>
                    </a:lnTo>
                    <a:lnTo>
                      <a:pt x="946" y="37"/>
                    </a:lnTo>
                    <a:lnTo>
                      <a:pt x="955" y="37"/>
                    </a:lnTo>
                    <a:lnTo>
                      <a:pt x="965" y="37"/>
                    </a:lnTo>
                    <a:lnTo>
                      <a:pt x="974" y="36"/>
                    </a:lnTo>
                    <a:lnTo>
                      <a:pt x="983" y="35"/>
                    </a:lnTo>
                    <a:lnTo>
                      <a:pt x="992" y="34"/>
                    </a:lnTo>
                    <a:lnTo>
                      <a:pt x="1002" y="34"/>
                    </a:lnTo>
                    <a:lnTo>
                      <a:pt x="1011" y="33"/>
                    </a:lnTo>
                    <a:lnTo>
                      <a:pt x="1020" y="32"/>
                    </a:lnTo>
                    <a:lnTo>
                      <a:pt x="1030" y="32"/>
                    </a:lnTo>
                    <a:lnTo>
                      <a:pt x="1039" y="31"/>
                    </a:lnTo>
                    <a:lnTo>
                      <a:pt x="1048" y="30"/>
                    </a:lnTo>
                    <a:lnTo>
                      <a:pt x="1057" y="30"/>
                    </a:lnTo>
                    <a:lnTo>
                      <a:pt x="1067" y="32"/>
                    </a:lnTo>
                    <a:lnTo>
                      <a:pt x="1076" y="32"/>
                    </a:lnTo>
                    <a:lnTo>
                      <a:pt x="1085" y="33"/>
                    </a:lnTo>
                    <a:lnTo>
                      <a:pt x="1095" y="33"/>
                    </a:lnTo>
                    <a:lnTo>
                      <a:pt x="1104" y="33"/>
                    </a:lnTo>
                    <a:lnTo>
                      <a:pt x="1113" y="33"/>
                    </a:lnTo>
                    <a:lnTo>
                      <a:pt x="1122" y="34"/>
                    </a:lnTo>
                    <a:lnTo>
                      <a:pt x="1132" y="34"/>
                    </a:lnTo>
                    <a:lnTo>
                      <a:pt x="1141" y="33"/>
                    </a:lnTo>
                    <a:lnTo>
                      <a:pt x="1150" y="32"/>
                    </a:lnTo>
                    <a:lnTo>
                      <a:pt x="1160" y="32"/>
                    </a:lnTo>
                    <a:lnTo>
                      <a:pt x="1169" y="31"/>
                    </a:lnTo>
                    <a:lnTo>
                      <a:pt x="1178" y="30"/>
                    </a:lnTo>
                    <a:lnTo>
                      <a:pt x="1187" y="28"/>
                    </a:lnTo>
                    <a:lnTo>
                      <a:pt x="1197" y="27"/>
                    </a:lnTo>
                    <a:lnTo>
                      <a:pt x="1206" y="26"/>
                    </a:lnTo>
                    <a:lnTo>
                      <a:pt x="1215" y="26"/>
                    </a:lnTo>
                    <a:lnTo>
                      <a:pt x="1224" y="25"/>
                    </a:lnTo>
                    <a:lnTo>
                      <a:pt x="1234" y="24"/>
                    </a:lnTo>
                    <a:lnTo>
                      <a:pt x="1243" y="23"/>
                    </a:lnTo>
                    <a:lnTo>
                      <a:pt x="1252" y="21"/>
                    </a:lnTo>
                    <a:lnTo>
                      <a:pt x="1262" y="21"/>
                    </a:lnTo>
                    <a:lnTo>
                      <a:pt x="1271" y="19"/>
                    </a:lnTo>
                    <a:lnTo>
                      <a:pt x="1280" y="18"/>
                    </a:lnTo>
                    <a:lnTo>
                      <a:pt x="1289" y="18"/>
                    </a:lnTo>
                    <a:lnTo>
                      <a:pt x="1299" y="17"/>
                    </a:lnTo>
                    <a:lnTo>
                      <a:pt x="1308" y="17"/>
                    </a:lnTo>
                    <a:lnTo>
                      <a:pt x="1317" y="18"/>
                    </a:lnTo>
                    <a:lnTo>
                      <a:pt x="1327" y="18"/>
                    </a:lnTo>
                    <a:lnTo>
                      <a:pt x="1336" y="17"/>
                    </a:lnTo>
                    <a:lnTo>
                      <a:pt x="1345" y="16"/>
                    </a:lnTo>
                    <a:lnTo>
                      <a:pt x="1354" y="15"/>
                    </a:lnTo>
                    <a:lnTo>
                      <a:pt x="1364" y="15"/>
                    </a:lnTo>
                    <a:lnTo>
                      <a:pt x="1373" y="15"/>
                    </a:lnTo>
                    <a:lnTo>
                      <a:pt x="1382" y="15"/>
                    </a:lnTo>
                    <a:lnTo>
                      <a:pt x="1392" y="14"/>
                    </a:lnTo>
                    <a:lnTo>
                      <a:pt x="1401" y="14"/>
                    </a:lnTo>
                    <a:lnTo>
                      <a:pt x="1410" y="12"/>
                    </a:lnTo>
                    <a:lnTo>
                      <a:pt x="1419" y="9"/>
                    </a:lnTo>
                    <a:lnTo>
                      <a:pt x="1429" y="5"/>
                    </a:lnTo>
                    <a:lnTo>
                      <a:pt x="1438" y="3"/>
                    </a:lnTo>
                    <a:lnTo>
                      <a:pt x="1447" y="0"/>
                    </a:lnTo>
                    <a:lnTo>
                      <a:pt x="1447" y="49"/>
                    </a:lnTo>
                    <a:lnTo>
                      <a:pt x="1438" y="50"/>
                    </a:lnTo>
                    <a:lnTo>
                      <a:pt x="1429" y="50"/>
                    </a:lnTo>
                    <a:lnTo>
                      <a:pt x="1419" y="50"/>
                    </a:lnTo>
                    <a:lnTo>
                      <a:pt x="1410" y="51"/>
                    </a:lnTo>
                    <a:lnTo>
                      <a:pt x="1401" y="51"/>
                    </a:lnTo>
                    <a:lnTo>
                      <a:pt x="1392" y="51"/>
                    </a:lnTo>
                    <a:lnTo>
                      <a:pt x="1382" y="51"/>
                    </a:lnTo>
                    <a:lnTo>
                      <a:pt x="1373" y="51"/>
                    </a:lnTo>
                    <a:lnTo>
                      <a:pt x="1364" y="52"/>
                    </a:lnTo>
                    <a:lnTo>
                      <a:pt x="1354" y="52"/>
                    </a:lnTo>
                    <a:lnTo>
                      <a:pt x="1345" y="52"/>
                    </a:lnTo>
                    <a:lnTo>
                      <a:pt x="1336" y="52"/>
                    </a:lnTo>
                    <a:lnTo>
                      <a:pt x="1327" y="52"/>
                    </a:lnTo>
                    <a:lnTo>
                      <a:pt x="1317" y="52"/>
                    </a:lnTo>
                    <a:lnTo>
                      <a:pt x="1308" y="53"/>
                    </a:lnTo>
                    <a:lnTo>
                      <a:pt x="1299" y="53"/>
                    </a:lnTo>
                    <a:lnTo>
                      <a:pt x="1289" y="53"/>
                    </a:lnTo>
                    <a:lnTo>
                      <a:pt x="1280" y="53"/>
                    </a:lnTo>
                    <a:lnTo>
                      <a:pt x="1271" y="53"/>
                    </a:lnTo>
                    <a:lnTo>
                      <a:pt x="1262" y="54"/>
                    </a:lnTo>
                    <a:lnTo>
                      <a:pt x="1252" y="54"/>
                    </a:lnTo>
                    <a:lnTo>
                      <a:pt x="1243" y="54"/>
                    </a:lnTo>
                    <a:lnTo>
                      <a:pt x="1234" y="55"/>
                    </a:lnTo>
                    <a:lnTo>
                      <a:pt x="1224" y="55"/>
                    </a:lnTo>
                    <a:lnTo>
                      <a:pt x="1215" y="55"/>
                    </a:lnTo>
                    <a:lnTo>
                      <a:pt x="1206" y="55"/>
                    </a:lnTo>
                    <a:lnTo>
                      <a:pt x="1197" y="56"/>
                    </a:lnTo>
                    <a:lnTo>
                      <a:pt x="1187" y="56"/>
                    </a:lnTo>
                    <a:lnTo>
                      <a:pt x="1178" y="56"/>
                    </a:lnTo>
                    <a:lnTo>
                      <a:pt x="1169" y="56"/>
                    </a:lnTo>
                    <a:lnTo>
                      <a:pt x="1160" y="57"/>
                    </a:lnTo>
                    <a:lnTo>
                      <a:pt x="1150" y="57"/>
                    </a:lnTo>
                    <a:lnTo>
                      <a:pt x="1141" y="57"/>
                    </a:lnTo>
                    <a:lnTo>
                      <a:pt x="1132" y="57"/>
                    </a:lnTo>
                    <a:lnTo>
                      <a:pt x="1122" y="57"/>
                    </a:lnTo>
                    <a:lnTo>
                      <a:pt x="1113" y="56"/>
                    </a:lnTo>
                    <a:lnTo>
                      <a:pt x="1104" y="56"/>
                    </a:lnTo>
                    <a:lnTo>
                      <a:pt x="1095" y="56"/>
                    </a:lnTo>
                    <a:lnTo>
                      <a:pt x="1085" y="55"/>
                    </a:lnTo>
                    <a:lnTo>
                      <a:pt x="1076" y="55"/>
                    </a:lnTo>
                    <a:lnTo>
                      <a:pt x="1067" y="55"/>
                    </a:lnTo>
                    <a:lnTo>
                      <a:pt x="1057" y="54"/>
                    </a:lnTo>
                    <a:lnTo>
                      <a:pt x="1048" y="54"/>
                    </a:lnTo>
                    <a:lnTo>
                      <a:pt x="1039" y="53"/>
                    </a:lnTo>
                    <a:lnTo>
                      <a:pt x="1030" y="53"/>
                    </a:lnTo>
                    <a:lnTo>
                      <a:pt x="1020" y="53"/>
                    </a:lnTo>
                    <a:lnTo>
                      <a:pt x="1011" y="53"/>
                    </a:lnTo>
                    <a:lnTo>
                      <a:pt x="1002" y="53"/>
                    </a:lnTo>
                    <a:lnTo>
                      <a:pt x="992" y="53"/>
                    </a:lnTo>
                    <a:lnTo>
                      <a:pt x="983" y="53"/>
                    </a:lnTo>
                    <a:lnTo>
                      <a:pt x="974" y="53"/>
                    </a:lnTo>
                    <a:lnTo>
                      <a:pt x="965" y="53"/>
                    </a:lnTo>
                    <a:lnTo>
                      <a:pt x="955" y="53"/>
                    </a:lnTo>
                    <a:lnTo>
                      <a:pt x="946" y="53"/>
                    </a:lnTo>
                    <a:lnTo>
                      <a:pt x="937" y="53"/>
                    </a:lnTo>
                    <a:lnTo>
                      <a:pt x="928" y="53"/>
                    </a:lnTo>
                    <a:lnTo>
                      <a:pt x="918" y="53"/>
                    </a:lnTo>
                    <a:lnTo>
                      <a:pt x="909" y="53"/>
                    </a:lnTo>
                    <a:lnTo>
                      <a:pt x="900" y="53"/>
                    </a:lnTo>
                    <a:lnTo>
                      <a:pt x="890" y="53"/>
                    </a:lnTo>
                    <a:lnTo>
                      <a:pt x="881" y="53"/>
                    </a:lnTo>
                    <a:lnTo>
                      <a:pt x="872" y="53"/>
                    </a:lnTo>
                    <a:lnTo>
                      <a:pt x="863" y="53"/>
                    </a:lnTo>
                    <a:lnTo>
                      <a:pt x="853" y="53"/>
                    </a:lnTo>
                    <a:lnTo>
                      <a:pt x="844" y="53"/>
                    </a:lnTo>
                    <a:lnTo>
                      <a:pt x="835" y="54"/>
                    </a:lnTo>
                    <a:lnTo>
                      <a:pt x="825" y="54"/>
                    </a:lnTo>
                    <a:lnTo>
                      <a:pt x="816" y="54"/>
                    </a:lnTo>
                    <a:lnTo>
                      <a:pt x="807" y="54"/>
                    </a:lnTo>
                    <a:lnTo>
                      <a:pt x="798" y="54"/>
                    </a:lnTo>
                    <a:lnTo>
                      <a:pt x="788" y="54"/>
                    </a:lnTo>
                    <a:lnTo>
                      <a:pt x="779" y="54"/>
                    </a:lnTo>
                    <a:lnTo>
                      <a:pt x="770" y="54"/>
                    </a:lnTo>
                    <a:lnTo>
                      <a:pt x="760" y="54"/>
                    </a:lnTo>
                    <a:lnTo>
                      <a:pt x="751" y="54"/>
                    </a:lnTo>
                    <a:lnTo>
                      <a:pt x="742" y="54"/>
                    </a:lnTo>
                    <a:lnTo>
                      <a:pt x="733" y="54"/>
                    </a:lnTo>
                    <a:lnTo>
                      <a:pt x="723" y="54"/>
                    </a:lnTo>
                    <a:lnTo>
                      <a:pt x="714" y="54"/>
                    </a:lnTo>
                    <a:lnTo>
                      <a:pt x="705" y="54"/>
                    </a:lnTo>
                    <a:lnTo>
                      <a:pt x="696" y="55"/>
                    </a:lnTo>
                    <a:lnTo>
                      <a:pt x="686" y="55"/>
                    </a:lnTo>
                    <a:lnTo>
                      <a:pt x="677" y="55"/>
                    </a:lnTo>
                    <a:lnTo>
                      <a:pt x="668" y="55"/>
                    </a:lnTo>
                    <a:lnTo>
                      <a:pt x="658" y="55"/>
                    </a:lnTo>
                    <a:lnTo>
                      <a:pt x="649" y="55"/>
                    </a:lnTo>
                    <a:lnTo>
                      <a:pt x="640" y="55"/>
                    </a:lnTo>
                    <a:lnTo>
                      <a:pt x="631" y="55"/>
                    </a:lnTo>
                    <a:lnTo>
                      <a:pt x="621" y="55"/>
                    </a:lnTo>
                    <a:lnTo>
                      <a:pt x="612" y="55"/>
                    </a:lnTo>
                    <a:lnTo>
                      <a:pt x="603" y="55"/>
                    </a:lnTo>
                    <a:lnTo>
                      <a:pt x="593" y="55"/>
                    </a:lnTo>
                    <a:lnTo>
                      <a:pt x="584" y="55"/>
                    </a:lnTo>
                    <a:lnTo>
                      <a:pt x="575" y="55"/>
                    </a:lnTo>
                    <a:lnTo>
                      <a:pt x="566" y="55"/>
                    </a:lnTo>
                    <a:lnTo>
                      <a:pt x="556" y="55"/>
                    </a:lnTo>
                    <a:lnTo>
                      <a:pt x="547" y="55"/>
                    </a:lnTo>
                    <a:lnTo>
                      <a:pt x="538" y="55"/>
                    </a:lnTo>
                    <a:lnTo>
                      <a:pt x="528" y="55"/>
                    </a:lnTo>
                    <a:lnTo>
                      <a:pt x="519" y="56"/>
                    </a:lnTo>
                    <a:lnTo>
                      <a:pt x="510" y="56"/>
                    </a:lnTo>
                    <a:lnTo>
                      <a:pt x="501" y="56"/>
                    </a:lnTo>
                    <a:lnTo>
                      <a:pt x="491" y="56"/>
                    </a:lnTo>
                    <a:lnTo>
                      <a:pt x="482" y="56"/>
                    </a:lnTo>
                    <a:lnTo>
                      <a:pt x="473" y="56"/>
                    </a:lnTo>
                    <a:lnTo>
                      <a:pt x="464" y="56"/>
                    </a:lnTo>
                    <a:lnTo>
                      <a:pt x="454" y="56"/>
                    </a:lnTo>
                    <a:lnTo>
                      <a:pt x="445" y="56"/>
                    </a:lnTo>
                    <a:lnTo>
                      <a:pt x="436" y="56"/>
                    </a:lnTo>
                    <a:lnTo>
                      <a:pt x="426" y="56"/>
                    </a:lnTo>
                    <a:lnTo>
                      <a:pt x="417" y="56"/>
                    </a:lnTo>
                    <a:lnTo>
                      <a:pt x="408" y="56"/>
                    </a:lnTo>
                    <a:lnTo>
                      <a:pt x="399" y="56"/>
                    </a:lnTo>
                    <a:lnTo>
                      <a:pt x="389" y="56"/>
                    </a:lnTo>
                    <a:lnTo>
                      <a:pt x="380" y="56"/>
                    </a:lnTo>
                    <a:lnTo>
                      <a:pt x="371" y="56"/>
                    </a:lnTo>
                    <a:lnTo>
                      <a:pt x="361" y="56"/>
                    </a:lnTo>
                    <a:lnTo>
                      <a:pt x="352" y="56"/>
                    </a:lnTo>
                    <a:lnTo>
                      <a:pt x="343" y="56"/>
                    </a:lnTo>
                    <a:lnTo>
                      <a:pt x="334" y="56"/>
                    </a:lnTo>
                    <a:lnTo>
                      <a:pt x="324" y="56"/>
                    </a:lnTo>
                    <a:lnTo>
                      <a:pt x="315" y="56"/>
                    </a:lnTo>
                    <a:lnTo>
                      <a:pt x="306" y="56"/>
                    </a:lnTo>
                    <a:lnTo>
                      <a:pt x="296" y="56"/>
                    </a:lnTo>
                    <a:lnTo>
                      <a:pt x="287" y="56"/>
                    </a:lnTo>
                    <a:lnTo>
                      <a:pt x="278" y="56"/>
                    </a:lnTo>
                    <a:lnTo>
                      <a:pt x="269" y="56"/>
                    </a:lnTo>
                    <a:lnTo>
                      <a:pt x="259" y="56"/>
                    </a:lnTo>
                    <a:lnTo>
                      <a:pt x="250" y="56"/>
                    </a:lnTo>
                    <a:lnTo>
                      <a:pt x="241" y="56"/>
                    </a:lnTo>
                    <a:lnTo>
                      <a:pt x="232" y="56"/>
                    </a:lnTo>
                    <a:lnTo>
                      <a:pt x="222" y="57"/>
                    </a:lnTo>
                    <a:lnTo>
                      <a:pt x="213" y="57"/>
                    </a:lnTo>
                    <a:lnTo>
                      <a:pt x="204" y="57"/>
                    </a:lnTo>
                    <a:lnTo>
                      <a:pt x="194" y="57"/>
                    </a:lnTo>
                    <a:lnTo>
                      <a:pt x="185" y="57"/>
                    </a:lnTo>
                    <a:lnTo>
                      <a:pt x="176" y="57"/>
                    </a:lnTo>
                    <a:lnTo>
                      <a:pt x="167" y="57"/>
                    </a:lnTo>
                    <a:lnTo>
                      <a:pt x="157" y="57"/>
                    </a:lnTo>
                    <a:lnTo>
                      <a:pt x="148" y="57"/>
                    </a:lnTo>
                    <a:lnTo>
                      <a:pt x="139" y="57"/>
                    </a:lnTo>
                    <a:lnTo>
                      <a:pt x="129" y="57"/>
                    </a:lnTo>
                    <a:lnTo>
                      <a:pt x="120" y="57"/>
                    </a:lnTo>
                    <a:lnTo>
                      <a:pt x="111" y="57"/>
                    </a:lnTo>
                    <a:lnTo>
                      <a:pt x="102" y="57"/>
                    </a:lnTo>
                    <a:lnTo>
                      <a:pt x="92" y="57"/>
                    </a:lnTo>
                    <a:lnTo>
                      <a:pt x="83" y="57"/>
                    </a:lnTo>
                    <a:lnTo>
                      <a:pt x="74" y="57"/>
                    </a:lnTo>
                    <a:lnTo>
                      <a:pt x="64" y="57"/>
                    </a:lnTo>
                    <a:lnTo>
                      <a:pt x="55" y="57"/>
                    </a:lnTo>
                    <a:lnTo>
                      <a:pt x="46" y="57"/>
                    </a:lnTo>
                    <a:lnTo>
                      <a:pt x="37" y="57"/>
                    </a:lnTo>
                    <a:lnTo>
                      <a:pt x="27" y="57"/>
                    </a:lnTo>
                    <a:lnTo>
                      <a:pt x="18" y="58"/>
                    </a:lnTo>
                    <a:lnTo>
                      <a:pt x="9" y="57"/>
                    </a:lnTo>
                    <a:lnTo>
                      <a:pt x="0" y="57"/>
                    </a:lnTo>
                    <a:close/>
                  </a:path>
                </a:pathLst>
              </a:custGeom>
              <a:noFill/>
              <a:ln w="3175">
                <a:solidFill>
                  <a:srgbClr val="20202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4" name="Freeform 189"/>
              <p:cNvSpPr/>
              <p:nvPr/>
            </p:nvSpPr>
            <p:spPr>
              <a:xfrm>
                <a:off x="4879440" y="3087720"/>
                <a:ext cx="2310120" cy="46440"/>
              </a:xfrm>
              <a:custGeom>
                <a:avLst/>
                <a:gdLst>
                  <a:gd name="textAreaLeft" fmla="*/ 0 w 2310120"/>
                  <a:gd name="textAreaRight" fmla="*/ 2310480 w 2310120"/>
                  <a:gd name="textAreaTop" fmla="*/ 0 h 46440"/>
                  <a:gd name="textAreaBottom" fmla="*/ 46800 h 46440"/>
                </a:gdLst>
                <a:ahLst/>
                <a:rect l="textAreaLeft" t="textAreaTop" r="textAreaRight" b="textAreaBottom"/>
                <a:pathLst>
                  <a:path w="1447" h="18">
                    <a:moveTo>
                      <a:pt x="0" y="8"/>
                    </a:moveTo>
                    <a:lnTo>
                      <a:pt x="9" y="8"/>
                    </a:lnTo>
                    <a:lnTo>
                      <a:pt x="18" y="8"/>
                    </a:lnTo>
                    <a:lnTo>
                      <a:pt x="27" y="8"/>
                    </a:lnTo>
                    <a:lnTo>
                      <a:pt x="37" y="8"/>
                    </a:lnTo>
                    <a:lnTo>
                      <a:pt x="46" y="8"/>
                    </a:lnTo>
                    <a:lnTo>
                      <a:pt x="55" y="8"/>
                    </a:lnTo>
                    <a:lnTo>
                      <a:pt x="64" y="8"/>
                    </a:lnTo>
                    <a:lnTo>
                      <a:pt x="74" y="8"/>
                    </a:lnTo>
                    <a:lnTo>
                      <a:pt x="83" y="8"/>
                    </a:lnTo>
                    <a:lnTo>
                      <a:pt x="92" y="8"/>
                    </a:lnTo>
                    <a:lnTo>
                      <a:pt x="102" y="7"/>
                    </a:lnTo>
                    <a:lnTo>
                      <a:pt x="111" y="7"/>
                    </a:lnTo>
                    <a:lnTo>
                      <a:pt x="120" y="7"/>
                    </a:lnTo>
                    <a:lnTo>
                      <a:pt x="129" y="7"/>
                    </a:lnTo>
                    <a:lnTo>
                      <a:pt x="139" y="7"/>
                    </a:lnTo>
                    <a:lnTo>
                      <a:pt x="148" y="7"/>
                    </a:lnTo>
                    <a:lnTo>
                      <a:pt x="157" y="7"/>
                    </a:lnTo>
                    <a:lnTo>
                      <a:pt x="167" y="7"/>
                    </a:lnTo>
                    <a:lnTo>
                      <a:pt x="176" y="7"/>
                    </a:lnTo>
                    <a:lnTo>
                      <a:pt x="185" y="7"/>
                    </a:lnTo>
                    <a:lnTo>
                      <a:pt x="194" y="7"/>
                    </a:lnTo>
                    <a:lnTo>
                      <a:pt x="204" y="7"/>
                    </a:lnTo>
                    <a:lnTo>
                      <a:pt x="213" y="7"/>
                    </a:lnTo>
                    <a:lnTo>
                      <a:pt x="222" y="7"/>
                    </a:lnTo>
                    <a:lnTo>
                      <a:pt x="232" y="7"/>
                    </a:lnTo>
                    <a:lnTo>
                      <a:pt x="241" y="7"/>
                    </a:lnTo>
                    <a:lnTo>
                      <a:pt x="250" y="7"/>
                    </a:lnTo>
                    <a:lnTo>
                      <a:pt x="259" y="7"/>
                    </a:lnTo>
                    <a:lnTo>
                      <a:pt x="269" y="7"/>
                    </a:lnTo>
                    <a:lnTo>
                      <a:pt x="278" y="7"/>
                    </a:lnTo>
                    <a:lnTo>
                      <a:pt x="287" y="7"/>
                    </a:lnTo>
                    <a:lnTo>
                      <a:pt x="296" y="7"/>
                    </a:lnTo>
                    <a:lnTo>
                      <a:pt x="306" y="7"/>
                    </a:lnTo>
                    <a:lnTo>
                      <a:pt x="315" y="7"/>
                    </a:lnTo>
                    <a:lnTo>
                      <a:pt x="324" y="7"/>
                    </a:lnTo>
                    <a:lnTo>
                      <a:pt x="334" y="7"/>
                    </a:lnTo>
                    <a:lnTo>
                      <a:pt x="343" y="7"/>
                    </a:lnTo>
                    <a:lnTo>
                      <a:pt x="352" y="6"/>
                    </a:lnTo>
                    <a:lnTo>
                      <a:pt x="361" y="6"/>
                    </a:lnTo>
                    <a:lnTo>
                      <a:pt x="371" y="6"/>
                    </a:lnTo>
                    <a:lnTo>
                      <a:pt x="380" y="6"/>
                    </a:lnTo>
                    <a:lnTo>
                      <a:pt x="389" y="6"/>
                    </a:lnTo>
                    <a:lnTo>
                      <a:pt x="399" y="6"/>
                    </a:lnTo>
                    <a:lnTo>
                      <a:pt x="408" y="6"/>
                    </a:lnTo>
                    <a:lnTo>
                      <a:pt x="417" y="6"/>
                    </a:lnTo>
                    <a:lnTo>
                      <a:pt x="426" y="6"/>
                    </a:lnTo>
                    <a:lnTo>
                      <a:pt x="436" y="6"/>
                    </a:lnTo>
                    <a:lnTo>
                      <a:pt x="445" y="6"/>
                    </a:lnTo>
                    <a:lnTo>
                      <a:pt x="454" y="6"/>
                    </a:lnTo>
                    <a:lnTo>
                      <a:pt x="464" y="6"/>
                    </a:lnTo>
                    <a:lnTo>
                      <a:pt x="473" y="6"/>
                    </a:lnTo>
                    <a:lnTo>
                      <a:pt x="482" y="6"/>
                    </a:lnTo>
                    <a:lnTo>
                      <a:pt x="491" y="6"/>
                    </a:lnTo>
                    <a:lnTo>
                      <a:pt x="501" y="6"/>
                    </a:lnTo>
                    <a:lnTo>
                      <a:pt x="510" y="6"/>
                    </a:lnTo>
                    <a:lnTo>
                      <a:pt x="519" y="6"/>
                    </a:lnTo>
                    <a:lnTo>
                      <a:pt x="528" y="6"/>
                    </a:lnTo>
                    <a:lnTo>
                      <a:pt x="538" y="6"/>
                    </a:lnTo>
                    <a:lnTo>
                      <a:pt x="547" y="6"/>
                    </a:lnTo>
                    <a:lnTo>
                      <a:pt x="556" y="6"/>
                    </a:lnTo>
                    <a:lnTo>
                      <a:pt x="566" y="6"/>
                    </a:lnTo>
                    <a:lnTo>
                      <a:pt x="575" y="6"/>
                    </a:lnTo>
                    <a:lnTo>
                      <a:pt x="584" y="6"/>
                    </a:lnTo>
                    <a:lnTo>
                      <a:pt x="593" y="6"/>
                    </a:lnTo>
                    <a:lnTo>
                      <a:pt x="603" y="5"/>
                    </a:lnTo>
                    <a:lnTo>
                      <a:pt x="612" y="5"/>
                    </a:lnTo>
                    <a:lnTo>
                      <a:pt x="621" y="5"/>
                    </a:lnTo>
                    <a:lnTo>
                      <a:pt x="631" y="5"/>
                    </a:lnTo>
                    <a:lnTo>
                      <a:pt x="640" y="5"/>
                    </a:lnTo>
                    <a:lnTo>
                      <a:pt x="649" y="5"/>
                    </a:lnTo>
                    <a:lnTo>
                      <a:pt x="658" y="5"/>
                    </a:lnTo>
                    <a:lnTo>
                      <a:pt x="668" y="5"/>
                    </a:lnTo>
                    <a:lnTo>
                      <a:pt x="677" y="5"/>
                    </a:lnTo>
                    <a:lnTo>
                      <a:pt x="686" y="5"/>
                    </a:lnTo>
                    <a:lnTo>
                      <a:pt x="696" y="5"/>
                    </a:lnTo>
                    <a:lnTo>
                      <a:pt x="705" y="5"/>
                    </a:lnTo>
                    <a:lnTo>
                      <a:pt x="714" y="5"/>
                    </a:lnTo>
                    <a:lnTo>
                      <a:pt x="723" y="5"/>
                    </a:lnTo>
                    <a:lnTo>
                      <a:pt x="733" y="5"/>
                    </a:lnTo>
                    <a:lnTo>
                      <a:pt x="742" y="5"/>
                    </a:lnTo>
                    <a:lnTo>
                      <a:pt x="751" y="5"/>
                    </a:lnTo>
                    <a:lnTo>
                      <a:pt x="760" y="4"/>
                    </a:lnTo>
                    <a:lnTo>
                      <a:pt x="770" y="4"/>
                    </a:lnTo>
                    <a:lnTo>
                      <a:pt x="779" y="4"/>
                    </a:lnTo>
                    <a:lnTo>
                      <a:pt x="788" y="4"/>
                    </a:lnTo>
                    <a:lnTo>
                      <a:pt x="798" y="4"/>
                    </a:lnTo>
                    <a:lnTo>
                      <a:pt x="807" y="4"/>
                    </a:lnTo>
                    <a:lnTo>
                      <a:pt x="816" y="4"/>
                    </a:lnTo>
                    <a:lnTo>
                      <a:pt x="825" y="4"/>
                    </a:lnTo>
                    <a:lnTo>
                      <a:pt x="835" y="4"/>
                    </a:lnTo>
                    <a:lnTo>
                      <a:pt x="844" y="4"/>
                    </a:lnTo>
                    <a:lnTo>
                      <a:pt x="853" y="4"/>
                    </a:lnTo>
                    <a:lnTo>
                      <a:pt x="863" y="4"/>
                    </a:lnTo>
                    <a:lnTo>
                      <a:pt x="872" y="4"/>
                    </a:lnTo>
                    <a:lnTo>
                      <a:pt x="881" y="4"/>
                    </a:lnTo>
                    <a:lnTo>
                      <a:pt x="890" y="3"/>
                    </a:lnTo>
                    <a:lnTo>
                      <a:pt x="900" y="3"/>
                    </a:lnTo>
                    <a:lnTo>
                      <a:pt x="909" y="3"/>
                    </a:lnTo>
                    <a:lnTo>
                      <a:pt x="918" y="3"/>
                    </a:lnTo>
                    <a:lnTo>
                      <a:pt x="928" y="3"/>
                    </a:lnTo>
                    <a:lnTo>
                      <a:pt x="937" y="3"/>
                    </a:lnTo>
                    <a:lnTo>
                      <a:pt x="946" y="3"/>
                    </a:lnTo>
                    <a:lnTo>
                      <a:pt x="955" y="3"/>
                    </a:lnTo>
                    <a:lnTo>
                      <a:pt x="965" y="3"/>
                    </a:lnTo>
                    <a:lnTo>
                      <a:pt x="974" y="3"/>
                    </a:lnTo>
                    <a:lnTo>
                      <a:pt x="983" y="3"/>
                    </a:lnTo>
                    <a:lnTo>
                      <a:pt x="992" y="3"/>
                    </a:lnTo>
                    <a:lnTo>
                      <a:pt x="1002" y="3"/>
                    </a:lnTo>
                    <a:lnTo>
                      <a:pt x="1011" y="3"/>
                    </a:lnTo>
                    <a:lnTo>
                      <a:pt x="1020" y="4"/>
                    </a:lnTo>
                    <a:lnTo>
                      <a:pt x="1030" y="4"/>
                    </a:lnTo>
                    <a:lnTo>
                      <a:pt x="1039" y="4"/>
                    </a:lnTo>
                    <a:lnTo>
                      <a:pt x="1048" y="4"/>
                    </a:lnTo>
                    <a:lnTo>
                      <a:pt x="1057" y="5"/>
                    </a:lnTo>
                    <a:lnTo>
                      <a:pt x="1067" y="5"/>
                    </a:lnTo>
                    <a:lnTo>
                      <a:pt x="1076" y="5"/>
                    </a:lnTo>
                    <a:lnTo>
                      <a:pt x="1085" y="6"/>
                    </a:lnTo>
                    <a:lnTo>
                      <a:pt x="1095" y="6"/>
                    </a:lnTo>
                    <a:lnTo>
                      <a:pt x="1104" y="6"/>
                    </a:lnTo>
                    <a:lnTo>
                      <a:pt x="1113" y="7"/>
                    </a:lnTo>
                    <a:lnTo>
                      <a:pt x="1122" y="8"/>
                    </a:lnTo>
                    <a:lnTo>
                      <a:pt x="1132" y="7"/>
                    </a:lnTo>
                    <a:lnTo>
                      <a:pt x="1141" y="7"/>
                    </a:lnTo>
                    <a:lnTo>
                      <a:pt x="1150" y="7"/>
                    </a:lnTo>
                    <a:lnTo>
                      <a:pt x="1160" y="7"/>
                    </a:lnTo>
                    <a:lnTo>
                      <a:pt x="1169" y="7"/>
                    </a:lnTo>
                    <a:lnTo>
                      <a:pt x="1178" y="6"/>
                    </a:lnTo>
                    <a:lnTo>
                      <a:pt x="1187" y="6"/>
                    </a:lnTo>
                    <a:lnTo>
                      <a:pt x="1197" y="6"/>
                    </a:lnTo>
                    <a:lnTo>
                      <a:pt x="1206" y="6"/>
                    </a:lnTo>
                    <a:lnTo>
                      <a:pt x="1215" y="5"/>
                    </a:lnTo>
                    <a:lnTo>
                      <a:pt x="1224" y="5"/>
                    </a:lnTo>
                    <a:lnTo>
                      <a:pt x="1234" y="5"/>
                    </a:lnTo>
                    <a:lnTo>
                      <a:pt x="1243" y="4"/>
                    </a:lnTo>
                    <a:lnTo>
                      <a:pt x="1252" y="4"/>
                    </a:lnTo>
                    <a:lnTo>
                      <a:pt x="1262" y="4"/>
                    </a:lnTo>
                    <a:lnTo>
                      <a:pt x="1271" y="4"/>
                    </a:lnTo>
                    <a:lnTo>
                      <a:pt x="1280" y="4"/>
                    </a:lnTo>
                    <a:lnTo>
                      <a:pt x="1289" y="3"/>
                    </a:lnTo>
                    <a:lnTo>
                      <a:pt x="1299" y="3"/>
                    </a:lnTo>
                    <a:lnTo>
                      <a:pt x="1308" y="3"/>
                    </a:lnTo>
                    <a:lnTo>
                      <a:pt x="1317" y="3"/>
                    </a:lnTo>
                    <a:lnTo>
                      <a:pt x="1327" y="3"/>
                    </a:lnTo>
                    <a:lnTo>
                      <a:pt x="1336" y="3"/>
                    </a:lnTo>
                    <a:lnTo>
                      <a:pt x="1345" y="2"/>
                    </a:lnTo>
                    <a:lnTo>
                      <a:pt x="1354" y="2"/>
                    </a:lnTo>
                    <a:lnTo>
                      <a:pt x="1364" y="2"/>
                    </a:lnTo>
                    <a:lnTo>
                      <a:pt x="1373" y="2"/>
                    </a:lnTo>
                    <a:lnTo>
                      <a:pt x="1382" y="2"/>
                    </a:lnTo>
                    <a:lnTo>
                      <a:pt x="1392" y="1"/>
                    </a:lnTo>
                    <a:lnTo>
                      <a:pt x="1401" y="1"/>
                    </a:lnTo>
                    <a:lnTo>
                      <a:pt x="1410" y="1"/>
                    </a:lnTo>
                    <a:lnTo>
                      <a:pt x="1419" y="1"/>
                    </a:lnTo>
                    <a:lnTo>
                      <a:pt x="1429" y="0"/>
                    </a:lnTo>
                    <a:lnTo>
                      <a:pt x="1438" y="0"/>
                    </a:lnTo>
                    <a:lnTo>
                      <a:pt x="1447" y="0"/>
                    </a:lnTo>
                    <a:lnTo>
                      <a:pt x="1447" y="18"/>
                    </a:lnTo>
                    <a:lnTo>
                      <a:pt x="1438" y="18"/>
                    </a:lnTo>
                    <a:lnTo>
                      <a:pt x="1429" y="18"/>
                    </a:lnTo>
                    <a:lnTo>
                      <a:pt x="1419" y="18"/>
                    </a:lnTo>
                    <a:lnTo>
                      <a:pt x="1410" y="18"/>
                    </a:lnTo>
                    <a:lnTo>
                      <a:pt x="1401" y="18"/>
                    </a:lnTo>
                    <a:lnTo>
                      <a:pt x="1392" y="18"/>
                    </a:lnTo>
                    <a:lnTo>
                      <a:pt x="1382" y="18"/>
                    </a:lnTo>
                    <a:lnTo>
                      <a:pt x="1373" y="18"/>
                    </a:lnTo>
                    <a:lnTo>
                      <a:pt x="1364" y="18"/>
                    </a:lnTo>
                    <a:lnTo>
                      <a:pt x="1354" y="18"/>
                    </a:lnTo>
                    <a:lnTo>
                      <a:pt x="1345" y="18"/>
                    </a:lnTo>
                    <a:lnTo>
                      <a:pt x="1336" y="18"/>
                    </a:lnTo>
                    <a:lnTo>
                      <a:pt x="1327" y="18"/>
                    </a:lnTo>
                    <a:lnTo>
                      <a:pt x="1317" y="18"/>
                    </a:lnTo>
                    <a:lnTo>
                      <a:pt x="1308" y="18"/>
                    </a:lnTo>
                    <a:lnTo>
                      <a:pt x="1299" y="18"/>
                    </a:lnTo>
                    <a:lnTo>
                      <a:pt x="1289" y="18"/>
                    </a:lnTo>
                    <a:lnTo>
                      <a:pt x="1280" y="18"/>
                    </a:lnTo>
                    <a:lnTo>
                      <a:pt x="1271" y="18"/>
                    </a:lnTo>
                    <a:lnTo>
                      <a:pt x="1262" y="18"/>
                    </a:lnTo>
                    <a:lnTo>
                      <a:pt x="1252" y="18"/>
                    </a:lnTo>
                    <a:lnTo>
                      <a:pt x="1243" y="18"/>
                    </a:lnTo>
                    <a:lnTo>
                      <a:pt x="1234" y="18"/>
                    </a:lnTo>
                    <a:lnTo>
                      <a:pt x="1224" y="18"/>
                    </a:lnTo>
                    <a:lnTo>
                      <a:pt x="1215" y="18"/>
                    </a:lnTo>
                    <a:lnTo>
                      <a:pt x="1206" y="18"/>
                    </a:lnTo>
                    <a:lnTo>
                      <a:pt x="1197" y="18"/>
                    </a:lnTo>
                    <a:lnTo>
                      <a:pt x="1187" y="18"/>
                    </a:lnTo>
                    <a:lnTo>
                      <a:pt x="1178" y="18"/>
                    </a:lnTo>
                    <a:lnTo>
                      <a:pt x="1169" y="18"/>
                    </a:lnTo>
                    <a:lnTo>
                      <a:pt x="1160" y="18"/>
                    </a:lnTo>
                    <a:lnTo>
                      <a:pt x="1150" y="18"/>
                    </a:lnTo>
                    <a:lnTo>
                      <a:pt x="1141" y="18"/>
                    </a:lnTo>
                    <a:lnTo>
                      <a:pt x="1132" y="18"/>
                    </a:lnTo>
                    <a:lnTo>
                      <a:pt x="1122" y="18"/>
                    </a:lnTo>
                    <a:lnTo>
                      <a:pt x="1113" y="18"/>
                    </a:lnTo>
                    <a:lnTo>
                      <a:pt x="1104" y="18"/>
                    </a:lnTo>
                    <a:lnTo>
                      <a:pt x="1095" y="18"/>
                    </a:lnTo>
                    <a:lnTo>
                      <a:pt x="1085" y="18"/>
                    </a:lnTo>
                    <a:lnTo>
                      <a:pt x="1076" y="18"/>
                    </a:lnTo>
                    <a:lnTo>
                      <a:pt x="1067" y="18"/>
                    </a:lnTo>
                    <a:lnTo>
                      <a:pt x="1057" y="18"/>
                    </a:lnTo>
                    <a:lnTo>
                      <a:pt x="1048" y="18"/>
                    </a:lnTo>
                    <a:lnTo>
                      <a:pt x="1039" y="18"/>
                    </a:lnTo>
                    <a:lnTo>
                      <a:pt x="1030" y="18"/>
                    </a:lnTo>
                    <a:lnTo>
                      <a:pt x="1020" y="18"/>
                    </a:lnTo>
                    <a:lnTo>
                      <a:pt x="1011" y="18"/>
                    </a:lnTo>
                    <a:lnTo>
                      <a:pt x="1002" y="18"/>
                    </a:lnTo>
                    <a:lnTo>
                      <a:pt x="992" y="18"/>
                    </a:lnTo>
                    <a:lnTo>
                      <a:pt x="983" y="18"/>
                    </a:lnTo>
                    <a:lnTo>
                      <a:pt x="974" y="18"/>
                    </a:lnTo>
                    <a:lnTo>
                      <a:pt x="965" y="18"/>
                    </a:lnTo>
                    <a:lnTo>
                      <a:pt x="955" y="18"/>
                    </a:lnTo>
                    <a:lnTo>
                      <a:pt x="946" y="18"/>
                    </a:lnTo>
                    <a:lnTo>
                      <a:pt x="937" y="18"/>
                    </a:lnTo>
                    <a:lnTo>
                      <a:pt x="928" y="18"/>
                    </a:lnTo>
                    <a:lnTo>
                      <a:pt x="918" y="18"/>
                    </a:lnTo>
                    <a:lnTo>
                      <a:pt x="909" y="18"/>
                    </a:lnTo>
                    <a:lnTo>
                      <a:pt x="900" y="18"/>
                    </a:lnTo>
                    <a:lnTo>
                      <a:pt x="890" y="18"/>
                    </a:lnTo>
                    <a:lnTo>
                      <a:pt x="881" y="18"/>
                    </a:lnTo>
                    <a:lnTo>
                      <a:pt x="872" y="18"/>
                    </a:lnTo>
                    <a:lnTo>
                      <a:pt x="863" y="18"/>
                    </a:lnTo>
                    <a:lnTo>
                      <a:pt x="853" y="18"/>
                    </a:lnTo>
                    <a:lnTo>
                      <a:pt x="844" y="18"/>
                    </a:lnTo>
                    <a:lnTo>
                      <a:pt x="835" y="18"/>
                    </a:lnTo>
                    <a:lnTo>
                      <a:pt x="825" y="18"/>
                    </a:lnTo>
                    <a:lnTo>
                      <a:pt x="816" y="18"/>
                    </a:lnTo>
                    <a:lnTo>
                      <a:pt x="807" y="18"/>
                    </a:lnTo>
                    <a:lnTo>
                      <a:pt x="798" y="18"/>
                    </a:lnTo>
                    <a:lnTo>
                      <a:pt x="788" y="18"/>
                    </a:lnTo>
                    <a:lnTo>
                      <a:pt x="779" y="18"/>
                    </a:lnTo>
                    <a:lnTo>
                      <a:pt x="770" y="18"/>
                    </a:lnTo>
                    <a:lnTo>
                      <a:pt x="760" y="18"/>
                    </a:lnTo>
                    <a:lnTo>
                      <a:pt x="751" y="18"/>
                    </a:lnTo>
                    <a:lnTo>
                      <a:pt x="742" y="18"/>
                    </a:lnTo>
                    <a:lnTo>
                      <a:pt x="733" y="18"/>
                    </a:lnTo>
                    <a:lnTo>
                      <a:pt x="723" y="18"/>
                    </a:lnTo>
                    <a:lnTo>
                      <a:pt x="714" y="18"/>
                    </a:lnTo>
                    <a:lnTo>
                      <a:pt x="705" y="18"/>
                    </a:lnTo>
                    <a:lnTo>
                      <a:pt x="696" y="18"/>
                    </a:lnTo>
                    <a:lnTo>
                      <a:pt x="686" y="18"/>
                    </a:lnTo>
                    <a:lnTo>
                      <a:pt x="677" y="18"/>
                    </a:lnTo>
                    <a:lnTo>
                      <a:pt x="668" y="18"/>
                    </a:lnTo>
                    <a:lnTo>
                      <a:pt x="658" y="18"/>
                    </a:lnTo>
                    <a:lnTo>
                      <a:pt x="649" y="18"/>
                    </a:lnTo>
                    <a:lnTo>
                      <a:pt x="640" y="18"/>
                    </a:lnTo>
                    <a:lnTo>
                      <a:pt x="631" y="18"/>
                    </a:lnTo>
                    <a:lnTo>
                      <a:pt x="621" y="18"/>
                    </a:lnTo>
                    <a:lnTo>
                      <a:pt x="612" y="18"/>
                    </a:lnTo>
                    <a:lnTo>
                      <a:pt x="603" y="18"/>
                    </a:lnTo>
                    <a:lnTo>
                      <a:pt x="593" y="18"/>
                    </a:lnTo>
                    <a:lnTo>
                      <a:pt x="584" y="18"/>
                    </a:lnTo>
                    <a:lnTo>
                      <a:pt x="575" y="18"/>
                    </a:lnTo>
                    <a:lnTo>
                      <a:pt x="566" y="18"/>
                    </a:lnTo>
                    <a:lnTo>
                      <a:pt x="556" y="18"/>
                    </a:lnTo>
                    <a:lnTo>
                      <a:pt x="547" y="18"/>
                    </a:lnTo>
                    <a:lnTo>
                      <a:pt x="538" y="18"/>
                    </a:lnTo>
                    <a:lnTo>
                      <a:pt x="528" y="18"/>
                    </a:lnTo>
                    <a:lnTo>
                      <a:pt x="519" y="18"/>
                    </a:lnTo>
                    <a:lnTo>
                      <a:pt x="510" y="18"/>
                    </a:lnTo>
                    <a:lnTo>
                      <a:pt x="501" y="18"/>
                    </a:lnTo>
                    <a:lnTo>
                      <a:pt x="491" y="18"/>
                    </a:lnTo>
                    <a:lnTo>
                      <a:pt x="482" y="18"/>
                    </a:lnTo>
                    <a:lnTo>
                      <a:pt x="473" y="18"/>
                    </a:lnTo>
                    <a:lnTo>
                      <a:pt x="464" y="18"/>
                    </a:lnTo>
                    <a:lnTo>
                      <a:pt x="454" y="18"/>
                    </a:lnTo>
                    <a:lnTo>
                      <a:pt x="445" y="18"/>
                    </a:lnTo>
                    <a:lnTo>
                      <a:pt x="436" y="18"/>
                    </a:lnTo>
                    <a:lnTo>
                      <a:pt x="426" y="18"/>
                    </a:lnTo>
                    <a:lnTo>
                      <a:pt x="417" y="18"/>
                    </a:lnTo>
                    <a:lnTo>
                      <a:pt x="408" y="18"/>
                    </a:lnTo>
                    <a:lnTo>
                      <a:pt x="399" y="18"/>
                    </a:lnTo>
                    <a:lnTo>
                      <a:pt x="389" y="18"/>
                    </a:lnTo>
                    <a:lnTo>
                      <a:pt x="380" y="18"/>
                    </a:lnTo>
                    <a:lnTo>
                      <a:pt x="371" y="18"/>
                    </a:lnTo>
                    <a:lnTo>
                      <a:pt x="361" y="18"/>
                    </a:lnTo>
                    <a:lnTo>
                      <a:pt x="352" y="18"/>
                    </a:lnTo>
                    <a:lnTo>
                      <a:pt x="343" y="18"/>
                    </a:lnTo>
                    <a:lnTo>
                      <a:pt x="334" y="18"/>
                    </a:lnTo>
                    <a:lnTo>
                      <a:pt x="324" y="18"/>
                    </a:lnTo>
                    <a:lnTo>
                      <a:pt x="315" y="18"/>
                    </a:lnTo>
                    <a:lnTo>
                      <a:pt x="306" y="18"/>
                    </a:lnTo>
                    <a:lnTo>
                      <a:pt x="296" y="18"/>
                    </a:lnTo>
                    <a:lnTo>
                      <a:pt x="287" y="18"/>
                    </a:lnTo>
                    <a:lnTo>
                      <a:pt x="278" y="18"/>
                    </a:lnTo>
                    <a:lnTo>
                      <a:pt x="269" y="18"/>
                    </a:lnTo>
                    <a:lnTo>
                      <a:pt x="259" y="18"/>
                    </a:lnTo>
                    <a:lnTo>
                      <a:pt x="250" y="18"/>
                    </a:lnTo>
                    <a:lnTo>
                      <a:pt x="241" y="18"/>
                    </a:lnTo>
                    <a:lnTo>
                      <a:pt x="232" y="18"/>
                    </a:lnTo>
                    <a:lnTo>
                      <a:pt x="222" y="18"/>
                    </a:lnTo>
                    <a:lnTo>
                      <a:pt x="213" y="18"/>
                    </a:lnTo>
                    <a:lnTo>
                      <a:pt x="204" y="18"/>
                    </a:lnTo>
                    <a:lnTo>
                      <a:pt x="194" y="18"/>
                    </a:lnTo>
                    <a:lnTo>
                      <a:pt x="185" y="18"/>
                    </a:lnTo>
                    <a:lnTo>
                      <a:pt x="176" y="18"/>
                    </a:lnTo>
                    <a:lnTo>
                      <a:pt x="167" y="18"/>
                    </a:lnTo>
                    <a:lnTo>
                      <a:pt x="157" y="18"/>
                    </a:lnTo>
                    <a:lnTo>
                      <a:pt x="148" y="18"/>
                    </a:lnTo>
                    <a:lnTo>
                      <a:pt x="139" y="18"/>
                    </a:lnTo>
                    <a:lnTo>
                      <a:pt x="129" y="18"/>
                    </a:lnTo>
                    <a:lnTo>
                      <a:pt x="120" y="18"/>
                    </a:lnTo>
                    <a:lnTo>
                      <a:pt x="111" y="18"/>
                    </a:lnTo>
                    <a:lnTo>
                      <a:pt x="102" y="18"/>
                    </a:lnTo>
                    <a:lnTo>
                      <a:pt x="92" y="18"/>
                    </a:lnTo>
                    <a:lnTo>
                      <a:pt x="83" y="18"/>
                    </a:lnTo>
                    <a:lnTo>
                      <a:pt x="74" y="18"/>
                    </a:lnTo>
                    <a:lnTo>
                      <a:pt x="64" y="18"/>
                    </a:lnTo>
                    <a:lnTo>
                      <a:pt x="55" y="18"/>
                    </a:lnTo>
                    <a:lnTo>
                      <a:pt x="46" y="18"/>
                    </a:lnTo>
                    <a:lnTo>
                      <a:pt x="37" y="18"/>
                    </a:lnTo>
                    <a:lnTo>
                      <a:pt x="27" y="18"/>
                    </a:lnTo>
                    <a:lnTo>
                      <a:pt x="18" y="18"/>
                    </a:lnTo>
                    <a:lnTo>
                      <a:pt x="9" y="18"/>
                    </a:lnTo>
                    <a:lnTo>
                      <a:pt x="0" y="18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5" name="Freeform 190"/>
              <p:cNvSpPr/>
              <p:nvPr/>
            </p:nvSpPr>
            <p:spPr>
              <a:xfrm>
                <a:off x="4879440" y="3087720"/>
                <a:ext cx="2310120" cy="46440"/>
              </a:xfrm>
              <a:custGeom>
                <a:avLst/>
                <a:gdLst>
                  <a:gd name="textAreaLeft" fmla="*/ 0 w 2310120"/>
                  <a:gd name="textAreaRight" fmla="*/ 2310480 w 2310120"/>
                  <a:gd name="textAreaTop" fmla="*/ 0 h 46440"/>
                  <a:gd name="textAreaBottom" fmla="*/ 46800 h 46440"/>
                </a:gdLst>
                <a:ahLst/>
                <a:rect l="textAreaLeft" t="textAreaTop" r="textAreaRight" b="textAreaBottom"/>
                <a:pathLst>
                  <a:path w="1447" h="18">
                    <a:moveTo>
                      <a:pt x="0" y="8"/>
                    </a:moveTo>
                    <a:lnTo>
                      <a:pt x="9" y="8"/>
                    </a:lnTo>
                    <a:lnTo>
                      <a:pt x="18" y="8"/>
                    </a:lnTo>
                    <a:lnTo>
                      <a:pt x="27" y="8"/>
                    </a:lnTo>
                    <a:lnTo>
                      <a:pt x="37" y="8"/>
                    </a:lnTo>
                    <a:lnTo>
                      <a:pt x="46" y="8"/>
                    </a:lnTo>
                    <a:lnTo>
                      <a:pt x="55" y="8"/>
                    </a:lnTo>
                    <a:lnTo>
                      <a:pt x="64" y="8"/>
                    </a:lnTo>
                    <a:lnTo>
                      <a:pt x="74" y="8"/>
                    </a:lnTo>
                    <a:lnTo>
                      <a:pt x="83" y="8"/>
                    </a:lnTo>
                    <a:lnTo>
                      <a:pt x="92" y="8"/>
                    </a:lnTo>
                    <a:lnTo>
                      <a:pt x="102" y="7"/>
                    </a:lnTo>
                    <a:lnTo>
                      <a:pt x="111" y="7"/>
                    </a:lnTo>
                    <a:lnTo>
                      <a:pt x="120" y="7"/>
                    </a:lnTo>
                    <a:lnTo>
                      <a:pt x="129" y="7"/>
                    </a:lnTo>
                    <a:lnTo>
                      <a:pt x="139" y="7"/>
                    </a:lnTo>
                    <a:lnTo>
                      <a:pt x="148" y="7"/>
                    </a:lnTo>
                    <a:lnTo>
                      <a:pt x="157" y="7"/>
                    </a:lnTo>
                    <a:lnTo>
                      <a:pt x="167" y="7"/>
                    </a:lnTo>
                    <a:lnTo>
                      <a:pt x="176" y="7"/>
                    </a:lnTo>
                    <a:lnTo>
                      <a:pt x="185" y="7"/>
                    </a:lnTo>
                    <a:lnTo>
                      <a:pt x="194" y="7"/>
                    </a:lnTo>
                    <a:lnTo>
                      <a:pt x="204" y="7"/>
                    </a:lnTo>
                    <a:lnTo>
                      <a:pt x="213" y="7"/>
                    </a:lnTo>
                    <a:lnTo>
                      <a:pt x="222" y="7"/>
                    </a:lnTo>
                    <a:lnTo>
                      <a:pt x="232" y="7"/>
                    </a:lnTo>
                    <a:lnTo>
                      <a:pt x="241" y="7"/>
                    </a:lnTo>
                    <a:lnTo>
                      <a:pt x="250" y="7"/>
                    </a:lnTo>
                    <a:lnTo>
                      <a:pt x="259" y="7"/>
                    </a:lnTo>
                    <a:lnTo>
                      <a:pt x="269" y="7"/>
                    </a:lnTo>
                    <a:lnTo>
                      <a:pt x="278" y="7"/>
                    </a:lnTo>
                    <a:lnTo>
                      <a:pt x="287" y="7"/>
                    </a:lnTo>
                    <a:lnTo>
                      <a:pt x="296" y="7"/>
                    </a:lnTo>
                    <a:lnTo>
                      <a:pt x="306" y="7"/>
                    </a:lnTo>
                    <a:lnTo>
                      <a:pt x="315" y="7"/>
                    </a:lnTo>
                    <a:lnTo>
                      <a:pt x="324" y="7"/>
                    </a:lnTo>
                    <a:lnTo>
                      <a:pt x="334" y="7"/>
                    </a:lnTo>
                    <a:lnTo>
                      <a:pt x="343" y="7"/>
                    </a:lnTo>
                    <a:lnTo>
                      <a:pt x="352" y="6"/>
                    </a:lnTo>
                    <a:lnTo>
                      <a:pt x="361" y="6"/>
                    </a:lnTo>
                    <a:lnTo>
                      <a:pt x="371" y="6"/>
                    </a:lnTo>
                    <a:lnTo>
                      <a:pt x="380" y="6"/>
                    </a:lnTo>
                    <a:lnTo>
                      <a:pt x="389" y="6"/>
                    </a:lnTo>
                    <a:lnTo>
                      <a:pt x="399" y="6"/>
                    </a:lnTo>
                    <a:lnTo>
                      <a:pt x="408" y="6"/>
                    </a:lnTo>
                    <a:lnTo>
                      <a:pt x="417" y="6"/>
                    </a:lnTo>
                    <a:lnTo>
                      <a:pt x="426" y="6"/>
                    </a:lnTo>
                    <a:lnTo>
                      <a:pt x="436" y="6"/>
                    </a:lnTo>
                    <a:lnTo>
                      <a:pt x="445" y="6"/>
                    </a:lnTo>
                    <a:lnTo>
                      <a:pt x="454" y="6"/>
                    </a:lnTo>
                    <a:lnTo>
                      <a:pt x="464" y="6"/>
                    </a:lnTo>
                    <a:lnTo>
                      <a:pt x="473" y="6"/>
                    </a:lnTo>
                    <a:lnTo>
                      <a:pt x="482" y="6"/>
                    </a:lnTo>
                    <a:lnTo>
                      <a:pt x="491" y="6"/>
                    </a:lnTo>
                    <a:lnTo>
                      <a:pt x="501" y="6"/>
                    </a:lnTo>
                    <a:lnTo>
                      <a:pt x="510" y="6"/>
                    </a:lnTo>
                    <a:lnTo>
                      <a:pt x="519" y="6"/>
                    </a:lnTo>
                    <a:lnTo>
                      <a:pt x="528" y="6"/>
                    </a:lnTo>
                    <a:lnTo>
                      <a:pt x="538" y="6"/>
                    </a:lnTo>
                    <a:lnTo>
                      <a:pt x="547" y="6"/>
                    </a:lnTo>
                    <a:lnTo>
                      <a:pt x="556" y="6"/>
                    </a:lnTo>
                    <a:lnTo>
                      <a:pt x="566" y="6"/>
                    </a:lnTo>
                    <a:lnTo>
                      <a:pt x="575" y="6"/>
                    </a:lnTo>
                    <a:lnTo>
                      <a:pt x="584" y="6"/>
                    </a:lnTo>
                    <a:lnTo>
                      <a:pt x="593" y="6"/>
                    </a:lnTo>
                    <a:lnTo>
                      <a:pt x="603" y="5"/>
                    </a:lnTo>
                    <a:lnTo>
                      <a:pt x="612" y="5"/>
                    </a:lnTo>
                    <a:lnTo>
                      <a:pt x="621" y="5"/>
                    </a:lnTo>
                    <a:lnTo>
                      <a:pt x="631" y="5"/>
                    </a:lnTo>
                    <a:lnTo>
                      <a:pt x="640" y="5"/>
                    </a:lnTo>
                    <a:lnTo>
                      <a:pt x="649" y="5"/>
                    </a:lnTo>
                    <a:lnTo>
                      <a:pt x="658" y="5"/>
                    </a:lnTo>
                    <a:lnTo>
                      <a:pt x="668" y="5"/>
                    </a:lnTo>
                    <a:lnTo>
                      <a:pt x="677" y="5"/>
                    </a:lnTo>
                    <a:lnTo>
                      <a:pt x="686" y="5"/>
                    </a:lnTo>
                    <a:lnTo>
                      <a:pt x="696" y="5"/>
                    </a:lnTo>
                    <a:lnTo>
                      <a:pt x="705" y="5"/>
                    </a:lnTo>
                    <a:lnTo>
                      <a:pt x="714" y="5"/>
                    </a:lnTo>
                    <a:lnTo>
                      <a:pt x="723" y="5"/>
                    </a:lnTo>
                    <a:lnTo>
                      <a:pt x="733" y="5"/>
                    </a:lnTo>
                    <a:lnTo>
                      <a:pt x="742" y="5"/>
                    </a:lnTo>
                    <a:lnTo>
                      <a:pt x="751" y="5"/>
                    </a:lnTo>
                    <a:lnTo>
                      <a:pt x="760" y="4"/>
                    </a:lnTo>
                    <a:lnTo>
                      <a:pt x="770" y="4"/>
                    </a:lnTo>
                    <a:lnTo>
                      <a:pt x="779" y="4"/>
                    </a:lnTo>
                    <a:lnTo>
                      <a:pt x="788" y="4"/>
                    </a:lnTo>
                    <a:lnTo>
                      <a:pt x="798" y="4"/>
                    </a:lnTo>
                    <a:lnTo>
                      <a:pt x="807" y="4"/>
                    </a:lnTo>
                    <a:lnTo>
                      <a:pt x="816" y="4"/>
                    </a:lnTo>
                    <a:lnTo>
                      <a:pt x="825" y="4"/>
                    </a:lnTo>
                    <a:lnTo>
                      <a:pt x="835" y="4"/>
                    </a:lnTo>
                    <a:lnTo>
                      <a:pt x="844" y="4"/>
                    </a:lnTo>
                    <a:lnTo>
                      <a:pt x="853" y="4"/>
                    </a:lnTo>
                    <a:lnTo>
                      <a:pt x="863" y="4"/>
                    </a:lnTo>
                    <a:lnTo>
                      <a:pt x="872" y="4"/>
                    </a:lnTo>
                    <a:lnTo>
                      <a:pt x="881" y="4"/>
                    </a:lnTo>
                    <a:lnTo>
                      <a:pt x="890" y="3"/>
                    </a:lnTo>
                    <a:lnTo>
                      <a:pt x="900" y="3"/>
                    </a:lnTo>
                    <a:lnTo>
                      <a:pt x="909" y="3"/>
                    </a:lnTo>
                    <a:lnTo>
                      <a:pt x="918" y="3"/>
                    </a:lnTo>
                    <a:lnTo>
                      <a:pt x="928" y="3"/>
                    </a:lnTo>
                    <a:lnTo>
                      <a:pt x="937" y="3"/>
                    </a:lnTo>
                    <a:lnTo>
                      <a:pt x="946" y="3"/>
                    </a:lnTo>
                    <a:lnTo>
                      <a:pt x="955" y="3"/>
                    </a:lnTo>
                    <a:lnTo>
                      <a:pt x="965" y="3"/>
                    </a:lnTo>
                    <a:lnTo>
                      <a:pt x="974" y="3"/>
                    </a:lnTo>
                    <a:lnTo>
                      <a:pt x="983" y="3"/>
                    </a:lnTo>
                    <a:lnTo>
                      <a:pt x="992" y="3"/>
                    </a:lnTo>
                    <a:lnTo>
                      <a:pt x="1002" y="3"/>
                    </a:lnTo>
                    <a:lnTo>
                      <a:pt x="1011" y="3"/>
                    </a:lnTo>
                    <a:lnTo>
                      <a:pt x="1020" y="4"/>
                    </a:lnTo>
                    <a:lnTo>
                      <a:pt x="1030" y="4"/>
                    </a:lnTo>
                    <a:lnTo>
                      <a:pt x="1039" y="4"/>
                    </a:lnTo>
                    <a:lnTo>
                      <a:pt x="1048" y="4"/>
                    </a:lnTo>
                    <a:lnTo>
                      <a:pt x="1057" y="5"/>
                    </a:lnTo>
                    <a:lnTo>
                      <a:pt x="1067" y="5"/>
                    </a:lnTo>
                    <a:lnTo>
                      <a:pt x="1076" y="5"/>
                    </a:lnTo>
                    <a:lnTo>
                      <a:pt x="1085" y="6"/>
                    </a:lnTo>
                    <a:lnTo>
                      <a:pt x="1095" y="6"/>
                    </a:lnTo>
                    <a:lnTo>
                      <a:pt x="1104" y="6"/>
                    </a:lnTo>
                    <a:lnTo>
                      <a:pt x="1113" y="7"/>
                    </a:lnTo>
                    <a:lnTo>
                      <a:pt x="1122" y="8"/>
                    </a:lnTo>
                    <a:lnTo>
                      <a:pt x="1132" y="7"/>
                    </a:lnTo>
                    <a:lnTo>
                      <a:pt x="1141" y="7"/>
                    </a:lnTo>
                    <a:lnTo>
                      <a:pt x="1150" y="7"/>
                    </a:lnTo>
                    <a:lnTo>
                      <a:pt x="1160" y="7"/>
                    </a:lnTo>
                    <a:lnTo>
                      <a:pt x="1169" y="7"/>
                    </a:lnTo>
                    <a:lnTo>
                      <a:pt x="1178" y="6"/>
                    </a:lnTo>
                    <a:lnTo>
                      <a:pt x="1187" y="6"/>
                    </a:lnTo>
                    <a:lnTo>
                      <a:pt x="1197" y="6"/>
                    </a:lnTo>
                    <a:lnTo>
                      <a:pt x="1206" y="6"/>
                    </a:lnTo>
                    <a:lnTo>
                      <a:pt x="1215" y="5"/>
                    </a:lnTo>
                    <a:lnTo>
                      <a:pt x="1224" y="5"/>
                    </a:lnTo>
                    <a:lnTo>
                      <a:pt x="1234" y="5"/>
                    </a:lnTo>
                    <a:lnTo>
                      <a:pt x="1243" y="4"/>
                    </a:lnTo>
                    <a:lnTo>
                      <a:pt x="1252" y="4"/>
                    </a:lnTo>
                    <a:lnTo>
                      <a:pt x="1262" y="4"/>
                    </a:lnTo>
                    <a:lnTo>
                      <a:pt x="1271" y="4"/>
                    </a:lnTo>
                    <a:lnTo>
                      <a:pt x="1280" y="4"/>
                    </a:lnTo>
                    <a:lnTo>
                      <a:pt x="1289" y="3"/>
                    </a:lnTo>
                    <a:lnTo>
                      <a:pt x="1299" y="3"/>
                    </a:lnTo>
                    <a:lnTo>
                      <a:pt x="1308" y="3"/>
                    </a:lnTo>
                    <a:lnTo>
                      <a:pt x="1317" y="3"/>
                    </a:lnTo>
                    <a:lnTo>
                      <a:pt x="1327" y="3"/>
                    </a:lnTo>
                    <a:lnTo>
                      <a:pt x="1336" y="3"/>
                    </a:lnTo>
                    <a:lnTo>
                      <a:pt x="1345" y="2"/>
                    </a:lnTo>
                    <a:lnTo>
                      <a:pt x="1354" y="2"/>
                    </a:lnTo>
                    <a:lnTo>
                      <a:pt x="1364" y="2"/>
                    </a:lnTo>
                    <a:lnTo>
                      <a:pt x="1373" y="2"/>
                    </a:lnTo>
                    <a:lnTo>
                      <a:pt x="1382" y="2"/>
                    </a:lnTo>
                    <a:lnTo>
                      <a:pt x="1392" y="1"/>
                    </a:lnTo>
                    <a:lnTo>
                      <a:pt x="1401" y="1"/>
                    </a:lnTo>
                    <a:lnTo>
                      <a:pt x="1410" y="1"/>
                    </a:lnTo>
                    <a:lnTo>
                      <a:pt x="1419" y="1"/>
                    </a:lnTo>
                    <a:lnTo>
                      <a:pt x="1429" y="0"/>
                    </a:lnTo>
                    <a:lnTo>
                      <a:pt x="1438" y="0"/>
                    </a:lnTo>
                    <a:lnTo>
                      <a:pt x="1447" y="0"/>
                    </a:lnTo>
                    <a:lnTo>
                      <a:pt x="1447" y="18"/>
                    </a:lnTo>
                    <a:lnTo>
                      <a:pt x="1438" y="18"/>
                    </a:lnTo>
                    <a:lnTo>
                      <a:pt x="1429" y="18"/>
                    </a:lnTo>
                    <a:lnTo>
                      <a:pt x="1419" y="18"/>
                    </a:lnTo>
                    <a:lnTo>
                      <a:pt x="1410" y="18"/>
                    </a:lnTo>
                    <a:lnTo>
                      <a:pt x="1401" y="18"/>
                    </a:lnTo>
                    <a:lnTo>
                      <a:pt x="1392" y="18"/>
                    </a:lnTo>
                    <a:lnTo>
                      <a:pt x="1382" y="18"/>
                    </a:lnTo>
                    <a:lnTo>
                      <a:pt x="1373" y="18"/>
                    </a:lnTo>
                    <a:lnTo>
                      <a:pt x="1364" y="18"/>
                    </a:lnTo>
                    <a:lnTo>
                      <a:pt x="1354" y="18"/>
                    </a:lnTo>
                    <a:lnTo>
                      <a:pt x="1345" y="18"/>
                    </a:lnTo>
                    <a:lnTo>
                      <a:pt x="1336" y="18"/>
                    </a:lnTo>
                    <a:lnTo>
                      <a:pt x="1327" y="18"/>
                    </a:lnTo>
                    <a:lnTo>
                      <a:pt x="1317" y="18"/>
                    </a:lnTo>
                    <a:lnTo>
                      <a:pt x="1308" y="18"/>
                    </a:lnTo>
                    <a:lnTo>
                      <a:pt x="1299" y="18"/>
                    </a:lnTo>
                    <a:lnTo>
                      <a:pt x="1289" y="18"/>
                    </a:lnTo>
                    <a:lnTo>
                      <a:pt x="1280" y="18"/>
                    </a:lnTo>
                    <a:lnTo>
                      <a:pt x="1271" y="18"/>
                    </a:lnTo>
                    <a:lnTo>
                      <a:pt x="1262" y="18"/>
                    </a:lnTo>
                    <a:lnTo>
                      <a:pt x="1252" y="18"/>
                    </a:lnTo>
                    <a:lnTo>
                      <a:pt x="1243" y="18"/>
                    </a:lnTo>
                    <a:lnTo>
                      <a:pt x="1234" y="18"/>
                    </a:lnTo>
                    <a:lnTo>
                      <a:pt x="1224" y="18"/>
                    </a:lnTo>
                    <a:lnTo>
                      <a:pt x="1215" y="18"/>
                    </a:lnTo>
                    <a:lnTo>
                      <a:pt x="1206" y="18"/>
                    </a:lnTo>
                    <a:lnTo>
                      <a:pt x="1197" y="18"/>
                    </a:lnTo>
                    <a:lnTo>
                      <a:pt x="1187" y="18"/>
                    </a:lnTo>
                    <a:lnTo>
                      <a:pt x="1178" y="18"/>
                    </a:lnTo>
                    <a:lnTo>
                      <a:pt x="1169" y="18"/>
                    </a:lnTo>
                    <a:lnTo>
                      <a:pt x="1160" y="18"/>
                    </a:lnTo>
                    <a:lnTo>
                      <a:pt x="1150" y="18"/>
                    </a:lnTo>
                    <a:lnTo>
                      <a:pt x="1141" y="18"/>
                    </a:lnTo>
                    <a:lnTo>
                      <a:pt x="1132" y="18"/>
                    </a:lnTo>
                    <a:lnTo>
                      <a:pt x="1122" y="18"/>
                    </a:lnTo>
                    <a:lnTo>
                      <a:pt x="1113" y="18"/>
                    </a:lnTo>
                    <a:lnTo>
                      <a:pt x="1104" y="18"/>
                    </a:lnTo>
                    <a:lnTo>
                      <a:pt x="1095" y="18"/>
                    </a:lnTo>
                    <a:lnTo>
                      <a:pt x="1085" y="18"/>
                    </a:lnTo>
                    <a:lnTo>
                      <a:pt x="1076" y="18"/>
                    </a:lnTo>
                    <a:lnTo>
                      <a:pt x="1067" y="18"/>
                    </a:lnTo>
                    <a:lnTo>
                      <a:pt x="1057" y="18"/>
                    </a:lnTo>
                    <a:lnTo>
                      <a:pt x="1048" y="18"/>
                    </a:lnTo>
                    <a:lnTo>
                      <a:pt x="1039" y="18"/>
                    </a:lnTo>
                    <a:lnTo>
                      <a:pt x="1030" y="18"/>
                    </a:lnTo>
                    <a:lnTo>
                      <a:pt x="1020" y="18"/>
                    </a:lnTo>
                    <a:lnTo>
                      <a:pt x="1011" y="18"/>
                    </a:lnTo>
                    <a:lnTo>
                      <a:pt x="1002" y="18"/>
                    </a:lnTo>
                    <a:lnTo>
                      <a:pt x="992" y="18"/>
                    </a:lnTo>
                    <a:lnTo>
                      <a:pt x="983" y="18"/>
                    </a:lnTo>
                    <a:lnTo>
                      <a:pt x="974" y="18"/>
                    </a:lnTo>
                    <a:lnTo>
                      <a:pt x="965" y="18"/>
                    </a:lnTo>
                    <a:lnTo>
                      <a:pt x="955" y="18"/>
                    </a:lnTo>
                    <a:lnTo>
                      <a:pt x="946" y="18"/>
                    </a:lnTo>
                    <a:lnTo>
                      <a:pt x="937" y="18"/>
                    </a:lnTo>
                    <a:lnTo>
                      <a:pt x="928" y="18"/>
                    </a:lnTo>
                    <a:lnTo>
                      <a:pt x="918" y="18"/>
                    </a:lnTo>
                    <a:lnTo>
                      <a:pt x="909" y="18"/>
                    </a:lnTo>
                    <a:lnTo>
                      <a:pt x="900" y="18"/>
                    </a:lnTo>
                    <a:lnTo>
                      <a:pt x="890" y="18"/>
                    </a:lnTo>
                    <a:lnTo>
                      <a:pt x="881" y="18"/>
                    </a:lnTo>
                    <a:lnTo>
                      <a:pt x="872" y="18"/>
                    </a:lnTo>
                    <a:lnTo>
                      <a:pt x="863" y="18"/>
                    </a:lnTo>
                    <a:lnTo>
                      <a:pt x="853" y="18"/>
                    </a:lnTo>
                    <a:lnTo>
                      <a:pt x="844" y="18"/>
                    </a:lnTo>
                    <a:lnTo>
                      <a:pt x="835" y="18"/>
                    </a:lnTo>
                    <a:lnTo>
                      <a:pt x="825" y="18"/>
                    </a:lnTo>
                    <a:lnTo>
                      <a:pt x="816" y="18"/>
                    </a:lnTo>
                    <a:lnTo>
                      <a:pt x="807" y="18"/>
                    </a:lnTo>
                    <a:lnTo>
                      <a:pt x="798" y="18"/>
                    </a:lnTo>
                    <a:lnTo>
                      <a:pt x="788" y="18"/>
                    </a:lnTo>
                    <a:lnTo>
                      <a:pt x="779" y="18"/>
                    </a:lnTo>
                    <a:lnTo>
                      <a:pt x="770" y="18"/>
                    </a:lnTo>
                    <a:lnTo>
                      <a:pt x="760" y="18"/>
                    </a:lnTo>
                    <a:lnTo>
                      <a:pt x="751" y="18"/>
                    </a:lnTo>
                    <a:lnTo>
                      <a:pt x="742" y="18"/>
                    </a:lnTo>
                    <a:lnTo>
                      <a:pt x="733" y="18"/>
                    </a:lnTo>
                    <a:lnTo>
                      <a:pt x="723" y="18"/>
                    </a:lnTo>
                    <a:lnTo>
                      <a:pt x="714" y="18"/>
                    </a:lnTo>
                    <a:lnTo>
                      <a:pt x="705" y="18"/>
                    </a:lnTo>
                    <a:lnTo>
                      <a:pt x="696" y="18"/>
                    </a:lnTo>
                    <a:lnTo>
                      <a:pt x="686" y="18"/>
                    </a:lnTo>
                    <a:lnTo>
                      <a:pt x="677" y="18"/>
                    </a:lnTo>
                    <a:lnTo>
                      <a:pt x="668" y="18"/>
                    </a:lnTo>
                    <a:lnTo>
                      <a:pt x="658" y="18"/>
                    </a:lnTo>
                    <a:lnTo>
                      <a:pt x="649" y="18"/>
                    </a:lnTo>
                    <a:lnTo>
                      <a:pt x="640" y="18"/>
                    </a:lnTo>
                    <a:lnTo>
                      <a:pt x="631" y="18"/>
                    </a:lnTo>
                    <a:lnTo>
                      <a:pt x="621" y="18"/>
                    </a:lnTo>
                    <a:lnTo>
                      <a:pt x="612" y="18"/>
                    </a:lnTo>
                    <a:lnTo>
                      <a:pt x="603" y="18"/>
                    </a:lnTo>
                    <a:lnTo>
                      <a:pt x="593" y="18"/>
                    </a:lnTo>
                    <a:lnTo>
                      <a:pt x="584" y="18"/>
                    </a:lnTo>
                    <a:lnTo>
                      <a:pt x="575" y="18"/>
                    </a:lnTo>
                    <a:lnTo>
                      <a:pt x="566" y="18"/>
                    </a:lnTo>
                    <a:lnTo>
                      <a:pt x="556" y="18"/>
                    </a:lnTo>
                    <a:lnTo>
                      <a:pt x="547" y="18"/>
                    </a:lnTo>
                    <a:lnTo>
                      <a:pt x="538" y="18"/>
                    </a:lnTo>
                    <a:lnTo>
                      <a:pt x="528" y="18"/>
                    </a:lnTo>
                    <a:lnTo>
                      <a:pt x="519" y="18"/>
                    </a:lnTo>
                    <a:lnTo>
                      <a:pt x="510" y="18"/>
                    </a:lnTo>
                    <a:lnTo>
                      <a:pt x="501" y="18"/>
                    </a:lnTo>
                    <a:lnTo>
                      <a:pt x="491" y="18"/>
                    </a:lnTo>
                    <a:lnTo>
                      <a:pt x="482" y="18"/>
                    </a:lnTo>
                    <a:lnTo>
                      <a:pt x="473" y="18"/>
                    </a:lnTo>
                    <a:lnTo>
                      <a:pt x="464" y="18"/>
                    </a:lnTo>
                    <a:lnTo>
                      <a:pt x="454" y="18"/>
                    </a:lnTo>
                    <a:lnTo>
                      <a:pt x="445" y="18"/>
                    </a:lnTo>
                    <a:lnTo>
                      <a:pt x="436" y="18"/>
                    </a:lnTo>
                    <a:lnTo>
                      <a:pt x="426" y="18"/>
                    </a:lnTo>
                    <a:lnTo>
                      <a:pt x="417" y="18"/>
                    </a:lnTo>
                    <a:lnTo>
                      <a:pt x="408" y="18"/>
                    </a:lnTo>
                    <a:lnTo>
                      <a:pt x="399" y="18"/>
                    </a:lnTo>
                    <a:lnTo>
                      <a:pt x="389" y="18"/>
                    </a:lnTo>
                    <a:lnTo>
                      <a:pt x="380" y="18"/>
                    </a:lnTo>
                    <a:lnTo>
                      <a:pt x="371" y="18"/>
                    </a:lnTo>
                    <a:lnTo>
                      <a:pt x="361" y="18"/>
                    </a:lnTo>
                    <a:lnTo>
                      <a:pt x="352" y="18"/>
                    </a:lnTo>
                    <a:lnTo>
                      <a:pt x="343" y="18"/>
                    </a:lnTo>
                    <a:lnTo>
                      <a:pt x="334" y="18"/>
                    </a:lnTo>
                    <a:lnTo>
                      <a:pt x="324" y="18"/>
                    </a:lnTo>
                    <a:lnTo>
                      <a:pt x="315" y="18"/>
                    </a:lnTo>
                    <a:lnTo>
                      <a:pt x="306" y="18"/>
                    </a:lnTo>
                    <a:lnTo>
                      <a:pt x="296" y="18"/>
                    </a:lnTo>
                    <a:lnTo>
                      <a:pt x="287" y="18"/>
                    </a:lnTo>
                    <a:lnTo>
                      <a:pt x="278" y="18"/>
                    </a:lnTo>
                    <a:lnTo>
                      <a:pt x="269" y="18"/>
                    </a:lnTo>
                    <a:lnTo>
                      <a:pt x="259" y="18"/>
                    </a:lnTo>
                    <a:lnTo>
                      <a:pt x="250" y="18"/>
                    </a:lnTo>
                    <a:lnTo>
                      <a:pt x="241" y="18"/>
                    </a:lnTo>
                    <a:lnTo>
                      <a:pt x="232" y="18"/>
                    </a:lnTo>
                    <a:lnTo>
                      <a:pt x="222" y="18"/>
                    </a:lnTo>
                    <a:lnTo>
                      <a:pt x="213" y="18"/>
                    </a:lnTo>
                    <a:lnTo>
                      <a:pt x="204" y="18"/>
                    </a:lnTo>
                    <a:lnTo>
                      <a:pt x="194" y="18"/>
                    </a:lnTo>
                    <a:lnTo>
                      <a:pt x="185" y="18"/>
                    </a:lnTo>
                    <a:lnTo>
                      <a:pt x="176" y="18"/>
                    </a:lnTo>
                    <a:lnTo>
                      <a:pt x="167" y="18"/>
                    </a:lnTo>
                    <a:lnTo>
                      <a:pt x="157" y="18"/>
                    </a:lnTo>
                    <a:lnTo>
                      <a:pt x="148" y="18"/>
                    </a:lnTo>
                    <a:lnTo>
                      <a:pt x="139" y="18"/>
                    </a:lnTo>
                    <a:lnTo>
                      <a:pt x="129" y="18"/>
                    </a:lnTo>
                    <a:lnTo>
                      <a:pt x="120" y="18"/>
                    </a:lnTo>
                    <a:lnTo>
                      <a:pt x="111" y="18"/>
                    </a:lnTo>
                    <a:lnTo>
                      <a:pt x="102" y="18"/>
                    </a:lnTo>
                    <a:lnTo>
                      <a:pt x="92" y="18"/>
                    </a:lnTo>
                    <a:lnTo>
                      <a:pt x="83" y="18"/>
                    </a:lnTo>
                    <a:lnTo>
                      <a:pt x="74" y="18"/>
                    </a:lnTo>
                    <a:lnTo>
                      <a:pt x="64" y="18"/>
                    </a:lnTo>
                    <a:lnTo>
                      <a:pt x="55" y="18"/>
                    </a:lnTo>
                    <a:lnTo>
                      <a:pt x="46" y="18"/>
                    </a:lnTo>
                    <a:lnTo>
                      <a:pt x="37" y="18"/>
                    </a:lnTo>
                    <a:lnTo>
                      <a:pt x="27" y="18"/>
                    </a:lnTo>
                    <a:lnTo>
                      <a:pt x="18" y="18"/>
                    </a:lnTo>
                    <a:lnTo>
                      <a:pt x="9" y="18"/>
                    </a:lnTo>
                    <a:lnTo>
                      <a:pt x="0" y="18"/>
                    </a:lnTo>
                    <a:lnTo>
                      <a:pt x="0" y="8"/>
                    </a:lnTo>
                    <a:close/>
                  </a:path>
                </a:pathLst>
              </a:custGeom>
              <a:noFill/>
              <a:ln w="3175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6" name="Freeform 191"/>
              <p:cNvSpPr/>
              <p:nvPr/>
            </p:nvSpPr>
            <p:spPr>
              <a:xfrm>
                <a:off x="4930560" y="857160"/>
                <a:ext cx="1059840" cy="1138320"/>
              </a:xfrm>
              <a:custGeom>
                <a:avLst/>
                <a:gdLst>
                  <a:gd name="textAreaLeft" fmla="*/ 0 w 1059840"/>
                  <a:gd name="textAreaRight" fmla="*/ 1060200 w 1059840"/>
                  <a:gd name="textAreaTop" fmla="*/ 0 h 1138320"/>
                  <a:gd name="textAreaBottom" fmla="*/ 1138680 h 1138320"/>
                </a:gdLst>
                <a:ahLst/>
                <a:rect l="textAreaLeft" t="textAreaTop" r="textAreaRight" b="textAreaBottom"/>
                <a:pathLst>
                  <a:path w="664" h="464">
                    <a:moveTo>
                      <a:pt x="0" y="4"/>
                    </a:moveTo>
                    <a:lnTo>
                      <a:pt x="0" y="460"/>
                    </a:lnTo>
                    <a:cubicBezTo>
                      <a:pt x="0" y="462"/>
                      <a:pt x="1" y="464"/>
                      <a:pt x="4" y="464"/>
                    </a:cubicBezTo>
                    <a:lnTo>
                      <a:pt x="660" y="464"/>
                    </a:lnTo>
                    <a:cubicBezTo>
                      <a:pt x="662" y="464"/>
                      <a:pt x="664" y="462"/>
                      <a:pt x="664" y="460"/>
                    </a:cubicBezTo>
                    <a:lnTo>
                      <a:pt x="664" y="4"/>
                    </a:lnTo>
                    <a:cubicBezTo>
                      <a:pt x="664" y="1"/>
                      <a:pt x="662" y="0"/>
                      <a:pt x="660" y="0"/>
                    </a:cubicBezTo>
                    <a:lnTo>
                      <a:pt x="4" y="0"/>
                    </a:lnTo>
                    <a:cubicBezTo>
                      <a:pt x="1" y="0"/>
                      <a:pt x="0" y="1"/>
                      <a:pt x="0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7" name="Freeform 192"/>
              <p:cNvSpPr/>
              <p:nvPr/>
            </p:nvSpPr>
            <p:spPr>
              <a:xfrm>
                <a:off x="4930560" y="857160"/>
                <a:ext cx="1059840" cy="1138320"/>
              </a:xfrm>
              <a:custGeom>
                <a:avLst/>
                <a:gdLst>
                  <a:gd name="textAreaLeft" fmla="*/ 0 w 1059840"/>
                  <a:gd name="textAreaRight" fmla="*/ 1060200 w 1059840"/>
                  <a:gd name="textAreaTop" fmla="*/ 0 h 1138320"/>
                  <a:gd name="textAreaBottom" fmla="*/ 1138680 h 1138320"/>
                </a:gdLst>
                <a:ahLst/>
                <a:rect l="textAreaLeft" t="textAreaTop" r="textAreaRight" b="textAreaBottom"/>
                <a:pathLst>
                  <a:path w="664" h="464">
                    <a:moveTo>
                      <a:pt x="0" y="4"/>
                    </a:moveTo>
                    <a:lnTo>
                      <a:pt x="0" y="460"/>
                    </a:lnTo>
                    <a:cubicBezTo>
                      <a:pt x="0" y="462"/>
                      <a:pt x="1" y="464"/>
                      <a:pt x="4" y="464"/>
                    </a:cubicBezTo>
                    <a:lnTo>
                      <a:pt x="660" y="464"/>
                    </a:lnTo>
                    <a:cubicBezTo>
                      <a:pt x="662" y="464"/>
                      <a:pt x="664" y="462"/>
                      <a:pt x="664" y="460"/>
                    </a:cubicBezTo>
                    <a:lnTo>
                      <a:pt x="664" y="4"/>
                    </a:lnTo>
                    <a:cubicBezTo>
                      <a:pt x="664" y="1"/>
                      <a:pt x="662" y="0"/>
                      <a:pt x="660" y="0"/>
                    </a:cubicBezTo>
                    <a:lnTo>
                      <a:pt x="4" y="0"/>
                    </a:lnTo>
                    <a:cubicBezTo>
                      <a:pt x="1" y="0"/>
                      <a:pt x="0" y="1"/>
                      <a:pt x="0" y="4"/>
                    </a:cubicBezTo>
                    <a:close/>
                  </a:path>
                </a:pathLst>
              </a:custGeom>
              <a:noFill/>
              <a:ln w="317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8" name="Freeform 193"/>
              <p:cNvSpPr/>
              <p:nvPr/>
            </p:nvSpPr>
            <p:spPr>
              <a:xfrm>
                <a:off x="4956120" y="916200"/>
                <a:ext cx="267840" cy="97920"/>
              </a:xfrm>
              <a:custGeom>
                <a:avLst/>
                <a:gdLst>
                  <a:gd name="textAreaLeft" fmla="*/ 0 w 267840"/>
                  <a:gd name="textAreaRight" fmla="*/ 268200 w 267840"/>
                  <a:gd name="textAreaTop" fmla="*/ 0 h 97920"/>
                  <a:gd name="textAreaBottom" fmla="*/ 98280 h 97920"/>
                </a:gdLst>
                <a:ahLst/>
                <a:rect l="textAreaLeft" t="textAreaTop" r="textAreaRight" b="textAreaBottom"/>
                <a:pathLst>
                  <a:path w="168" h="40">
                    <a:moveTo>
                      <a:pt x="0" y="0"/>
                    </a:moveTo>
                    <a:lnTo>
                      <a:pt x="168" y="0"/>
                    </a:lnTo>
                    <a:lnTo>
                      <a:pt x="168" y="40"/>
                    </a:lnTo>
                    <a:lnTo>
                      <a:pt x="0" y="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9" name="Text Box 194"/>
              <p:cNvSpPr/>
              <p:nvPr/>
            </p:nvSpPr>
            <p:spPr>
              <a:xfrm>
                <a:off x="5222160" y="909720"/>
                <a:ext cx="744840" cy="10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Dialog"/>
                  </a:rPr>
                  <a:t>Other renewables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Freeform 195"/>
              <p:cNvSpPr/>
              <p:nvPr/>
            </p:nvSpPr>
            <p:spPr>
              <a:xfrm>
                <a:off x="4956120" y="1092960"/>
                <a:ext cx="267840" cy="97920"/>
              </a:xfrm>
              <a:custGeom>
                <a:avLst/>
                <a:gdLst>
                  <a:gd name="textAreaLeft" fmla="*/ 0 w 267840"/>
                  <a:gd name="textAreaRight" fmla="*/ 268200 w 267840"/>
                  <a:gd name="textAreaTop" fmla="*/ 0 h 97920"/>
                  <a:gd name="textAreaBottom" fmla="*/ 98280 h 97920"/>
                </a:gdLst>
                <a:ahLst/>
                <a:rect l="textAreaLeft" t="textAreaTop" r="textAreaRight" b="textAreaBottom"/>
                <a:pathLst>
                  <a:path w="168" h="40">
                    <a:moveTo>
                      <a:pt x="0" y="0"/>
                    </a:moveTo>
                    <a:lnTo>
                      <a:pt x="168" y="0"/>
                    </a:lnTo>
                    <a:lnTo>
                      <a:pt x="168" y="40"/>
                    </a:lnTo>
                    <a:lnTo>
                      <a:pt x="0" y="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1" name="Text Box 196"/>
              <p:cNvSpPr/>
              <p:nvPr/>
            </p:nvSpPr>
            <p:spPr>
              <a:xfrm>
                <a:off x="5234400" y="1086480"/>
                <a:ext cx="324360" cy="10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Dialog"/>
                  </a:rPr>
                  <a:t>Nuclear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Freeform 197"/>
              <p:cNvSpPr/>
              <p:nvPr/>
            </p:nvSpPr>
            <p:spPr>
              <a:xfrm>
                <a:off x="4956120" y="1269360"/>
                <a:ext cx="267840" cy="97920"/>
              </a:xfrm>
              <a:custGeom>
                <a:avLst/>
                <a:gdLst>
                  <a:gd name="textAreaLeft" fmla="*/ 0 w 267840"/>
                  <a:gd name="textAreaRight" fmla="*/ 268200 w 267840"/>
                  <a:gd name="textAreaTop" fmla="*/ 0 h 97920"/>
                  <a:gd name="textAreaBottom" fmla="*/ 98280 h 97920"/>
                </a:gdLst>
                <a:ahLst/>
                <a:rect l="textAreaLeft" t="textAreaTop" r="textAreaRight" b="textAreaBottom"/>
                <a:pathLst>
                  <a:path w="168" h="40">
                    <a:moveTo>
                      <a:pt x="0" y="0"/>
                    </a:moveTo>
                    <a:lnTo>
                      <a:pt x="168" y="0"/>
                    </a:lnTo>
                    <a:lnTo>
                      <a:pt x="168" y="40"/>
                    </a:lnTo>
                    <a:lnTo>
                      <a:pt x="0" y="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6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3" name="Text Box 198"/>
              <p:cNvSpPr/>
              <p:nvPr/>
            </p:nvSpPr>
            <p:spPr>
              <a:xfrm>
                <a:off x="5240520" y="1263240"/>
                <a:ext cx="158040" cy="10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Dialog"/>
                  </a:rPr>
                  <a:t>Gas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Freeform 199"/>
              <p:cNvSpPr/>
              <p:nvPr/>
            </p:nvSpPr>
            <p:spPr>
              <a:xfrm>
                <a:off x="4956120" y="1446120"/>
                <a:ext cx="267840" cy="97920"/>
              </a:xfrm>
              <a:custGeom>
                <a:avLst/>
                <a:gdLst>
                  <a:gd name="textAreaLeft" fmla="*/ 0 w 267840"/>
                  <a:gd name="textAreaRight" fmla="*/ 268200 w 267840"/>
                  <a:gd name="textAreaTop" fmla="*/ 0 h 97920"/>
                  <a:gd name="textAreaBottom" fmla="*/ 98280 h 97920"/>
                </a:gdLst>
                <a:ahLst/>
                <a:rect l="textAreaLeft" t="textAreaTop" r="textAreaRight" b="textAreaBottom"/>
                <a:pathLst>
                  <a:path w="168" h="40">
                    <a:moveTo>
                      <a:pt x="0" y="0"/>
                    </a:moveTo>
                    <a:lnTo>
                      <a:pt x="168" y="0"/>
                    </a:lnTo>
                    <a:lnTo>
                      <a:pt x="168" y="40"/>
                    </a:lnTo>
                    <a:lnTo>
                      <a:pt x="0" y="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5" name="Text Box 200"/>
              <p:cNvSpPr/>
              <p:nvPr/>
            </p:nvSpPr>
            <p:spPr>
              <a:xfrm>
                <a:off x="5236920" y="1440000"/>
                <a:ext cx="114480" cy="10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Dialog"/>
                  </a:rPr>
                  <a:t>Oil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Freeform 201"/>
              <p:cNvSpPr/>
              <p:nvPr/>
            </p:nvSpPr>
            <p:spPr>
              <a:xfrm>
                <a:off x="4956120" y="1622880"/>
                <a:ext cx="267840" cy="97920"/>
              </a:xfrm>
              <a:custGeom>
                <a:avLst/>
                <a:gdLst>
                  <a:gd name="textAreaLeft" fmla="*/ 0 w 267840"/>
                  <a:gd name="textAreaRight" fmla="*/ 268200 w 267840"/>
                  <a:gd name="textAreaTop" fmla="*/ 0 h 97920"/>
                  <a:gd name="textAreaBottom" fmla="*/ 98280 h 97920"/>
                </a:gdLst>
                <a:ahLst/>
                <a:rect l="textAreaLeft" t="textAreaTop" r="textAreaRight" b="textAreaBottom"/>
                <a:pathLst>
                  <a:path w="168" h="40">
                    <a:moveTo>
                      <a:pt x="0" y="0"/>
                    </a:moveTo>
                    <a:lnTo>
                      <a:pt x="168" y="0"/>
                    </a:lnTo>
                    <a:lnTo>
                      <a:pt x="168" y="40"/>
                    </a:lnTo>
                    <a:lnTo>
                      <a:pt x="0" y="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7" name="Text Box 202"/>
              <p:cNvSpPr/>
              <p:nvPr/>
            </p:nvSpPr>
            <p:spPr>
              <a:xfrm>
                <a:off x="5240520" y="1616760"/>
                <a:ext cx="183960" cy="10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Dialog"/>
                  </a:rPr>
                  <a:t>Coal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Freeform 203"/>
              <p:cNvSpPr/>
              <p:nvPr/>
            </p:nvSpPr>
            <p:spPr>
              <a:xfrm>
                <a:off x="4956120" y="1799640"/>
                <a:ext cx="267840" cy="97920"/>
              </a:xfrm>
              <a:custGeom>
                <a:avLst/>
                <a:gdLst>
                  <a:gd name="textAreaLeft" fmla="*/ 0 w 267840"/>
                  <a:gd name="textAreaRight" fmla="*/ 268200 w 267840"/>
                  <a:gd name="textAreaTop" fmla="*/ 0 h 97920"/>
                  <a:gd name="textAreaBottom" fmla="*/ 98280 h 97920"/>
                </a:gdLst>
                <a:ahLst/>
                <a:rect l="textAreaLeft" t="textAreaTop" r="textAreaRight" b="textAreaBottom"/>
                <a:pathLst>
                  <a:path w="168" h="40">
                    <a:moveTo>
                      <a:pt x="0" y="0"/>
                    </a:moveTo>
                    <a:lnTo>
                      <a:pt x="168" y="0"/>
                    </a:lnTo>
                    <a:lnTo>
                      <a:pt x="168" y="40"/>
                    </a:lnTo>
                    <a:lnTo>
                      <a:pt x="0" y="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9" name="Text Box 204"/>
              <p:cNvSpPr/>
              <p:nvPr/>
            </p:nvSpPr>
            <p:spPr>
              <a:xfrm>
                <a:off x="5245200" y="1793160"/>
                <a:ext cx="353160" cy="10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Dialog"/>
                  </a:rPr>
                  <a:t>Biomass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0" name="Group -1024"/>
            <p:cNvGrpSpPr/>
            <p:nvPr/>
          </p:nvGrpSpPr>
          <p:grpSpPr>
            <a:xfrm>
              <a:off x="54360" y="696240"/>
              <a:ext cx="4200120" cy="2635560"/>
              <a:chOff x="54360" y="696240"/>
              <a:chExt cx="4200120" cy="2635560"/>
            </a:xfrm>
          </p:grpSpPr>
          <p:sp>
            <p:nvSpPr>
              <p:cNvPr id="501" name="Freeform 276"/>
              <p:cNvSpPr/>
              <p:nvPr/>
            </p:nvSpPr>
            <p:spPr>
              <a:xfrm>
                <a:off x="434520" y="778680"/>
                <a:ext cx="3704400" cy="2355480"/>
              </a:xfrm>
              <a:custGeom>
                <a:avLst/>
                <a:gdLst>
                  <a:gd name="textAreaLeft" fmla="*/ 0 w 3704400"/>
                  <a:gd name="textAreaRight" fmla="*/ 3704760 w 3704400"/>
                  <a:gd name="textAreaTop" fmla="*/ 0 h 2355480"/>
                  <a:gd name="textAreaBottom" fmla="*/ 2355840 h 2355480"/>
                </a:gdLst>
                <a:ahLst/>
                <a:rect l="textAreaLeft" t="textAreaTop" r="textAreaRight" b="textAreaBottom"/>
                <a:pathLst>
                  <a:path w="2320" h="960">
                    <a:moveTo>
                      <a:pt x="0" y="0"/>
                    </a:moveTo>
                    <a:lnTo>
                      <a:pt x="2320" y="0"/>
                    </a:lnTo>
                    <a:lnTo>
                      <a:pt x="2320" y="960"/>
                    </a:lnTo>
                    <a:lnTo>
                      <a:pt x="0" y="96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2" name="Text Box 277"/>
              <p:cNvSpPr/>
              <p:nvPr/>
            </p:nvSpPr>
            <p:spPr>
              <a:xfrm>
                <a:off x="318960" y="3209400"/>
                <a:ext cx="231120" cy="122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Dialog"/>
                  </a:rPr>
                  <a:t>185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Freeform 278"/>
              <p:cNvSpPr/>
              <p:nvPr/>
            </p:nvSpPr>
            <p:spPr>
              <a:xfrm>
                <a:off x="434520" y="3134520"/>
                <a:ext cx="1080" cy="388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38880"/>
                  <a:gd name="textAreaBottom" fmla="*/ 39240 h 38880"/>
                </a:gdLst>
                <a:ahLst/>
                <a:rect l="textAreaLeft" t="textAreaTop" r="textAreaRight" b="textAreaBottom"/>
                <a:pathLst>
                  <a:path w="0" h="16">
                    <a:moveTo>
                      <a:pt x="0" y="0"/>
                    </a:moveTo>
                    <a:lnTo>
                      <a:pt x="0" y="16"/>
                    </a:lnTo>
                  </a:path>
                </a:pathLst>
              </a:custGeom>
              <a:noFill/>
              <a:ln w="317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4" name="Text Box 279"/>
              <p:cNvSpPr/>
              <p:nvPr/>
            </p:nvSpPr>
            <p:spPr>
              <a:xfrm>
                <a:off x="1059840" y="3209400"/>
                <a:ext cx="231120" cy="122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Dialog"/>
                  </a:rPr>
                  <a:t>190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Freeform 280"/>
              <p:cNvSpPr/>
              <p:nvPr/>
            </p:nvSpPr>
            <p:spPr>
              <a:xfrm>
                <a:off x="1175400" y="3134520"/>
                <a:ext cx="1080" cy="388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38880"/>
                  <a:gd name="textAreaBottom" fmla="*/ 39240 h 38880"/>
                </a:gdLst>
                <a:ahLst/>
                <a:rect l="textAreaLeft" t="textAreaTop" r="textAreaRight" b="textAreaBottom"/>
                <a:pathLst>
                  <a:path w="0" h="16">
                    <a:moveTo>
                      <a:pt x="0" y="0"/>
                    </a:moveTo>
                    <a:lnTo>
                      <a:pt x="0" y="16"/>
                    </a:lnTo>
                  </a:path>
                </a:pathLst>
              </a:custGeom>
              <a:noFill/>
              <a:ln w="317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6" name="Text Box 281"/>
              <p:cNvSpPr/>
              <p:nvPr/>
            </p:nvSpPr>
            <p:spPr>
              <a:xfrm>
                <a:off x="1800720" y="3209400"/>
                <a:ext cx="231120" cy="122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Dialog"/>
                  </a:rPr>
                  <a:t>195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Freeform 282"/>
              <p:cNvSpPr/>
              <p:nvPr/>
            </p:nvSpPr>
            <p:spPr>
              <a:xfrm>
                <a:off x="1916280" y="3134520"/>
                <a:ext cx="1080" cy="388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38880"/>
                  <a:gd name="textAreaBottom" fmla="*/ 39240 h 38880"/>
                </a:gdLst>
                <a:ahLst/>
                <a:rect l="textAreaLeft" t="textAreaTop" r="textAreaRight" b="textAreaBottom"/>
                <a:pathLst>
                  <a:path w="0" h="16">
                    <a:moveTo>
                      <a:pt x="0" y="0"/>
                    </a:moveTo>
                    <a:lnTo>
                      <a:pt x="0" y="16"/>
                    </a:lnTo>
                  </a:path>
                </a:pathLst>
              </a:custGeom>
              <a:noFill/>
              <a:ln w="317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8" name="Text Box 283"/>
              <p:cNvSpPr/>
              <p:nvPr/>
            </p:nvSpPr>
            <p:spPr>
              <a:xfrm>
                <a:off x="2541600" y="3209400"/>
                <a:ext cx="231120" cy="122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Dialog"/>
                  </a:rPr>
                  <a:t>200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Freeform 284"/>
              <p:cNvSpPr/>
              <p:nvPr/>
            </p:nvSpPr>
            <p:spPr>
              <a:xfrm>
                <a:off x="2657160" y="3134520"/>
                <a:ext cx="1080" cy="388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38880"/>
                  <a:gd name="textAreaBottom" fmla="*/ 39240 h 38880"/>
                </a:gdLst>
                <a:ahLst/>
                <a:rect l="textAreaLeft" t="textAreaTop" r="textAreaRight" b="textAreaBottom"/>
                <a:pathLst>
                  <a:path w="0" h="16">
                    <a:moveTo>
                      <a:pt x="0" y="0"/>
                    </a:moveTo>
                    <a:lnTo>
                      <a:pt x="0" y="16"/>
                    </a:lnTo>
                  </a:path>
                </a:pathLst>
              </a:custGeom>
              <a:noFill/>
              <a:ln w="317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0" name="Text Box 285"/>
              <p:cNvSpPr/>
              <p:nvPr/>
            </p:nvSpPr>
            <p:spPr>
              <a:xfrm>
                <a:off x="3282480" y="3209400"/>
                <a:ext cx="231120" cy="122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Dialog"/>
                  </a:rPr>
                  <a:t>205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Freeform 286"/>
              <p:cNvSpPr/>
              <p:nvPr/>
            </p:nvSpPr>
            <p:spPr>
              <a:xfrm>
                <a:off x="3398040" y="3134520"/>
                <a:ext cx="1080" cy="388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38880"/>
                  <a:gd name="textAreaBottom" fmla="*/ 39240 h 38880"/>
                </a:gdLst>
                <a:ahLst/>
                <a:rect l="textAreaLeft" t="textAreaTop" r="textAreaRight" b="textAreaBottom"/>
                <a:pathLst>
                  <a:path w="0" h="16">
                    <a:moveTo>
                      <a:pt x="0" y="0"/>
                    </a:moveTo>
                    <a:lnTo>
                      <a:pt x="0" y="16"/>
                    </a:lnTo>
                  </a:path>
                </a:pathLst>
              </a:custGeom>
              <a:noFill/>
              <a:ln w="317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2" name="Text Box 287"/>
              <p:cNvSpPr/>
              <p:nvPr/>
            </p:nvSpPr>
            <p:spPr>
              <a:xfrm>
                <a:off x="4023360" y="3209400"/>
                <a:ext cx="231120" cy="122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Dialog"/>
                  </a:rPr>
                  <a:t>210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Freeform 288"/>
              <p:cNvSpPr/>
              <p:nvPr/>
            </p:nvSpPr>
            <p:spPr>
              <a:xfrm>
                <a:off x="4138920" y="3134520"/>
                <a:ext cx="1080" cy="388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38880"/>
                  <a:gd name="textAreaBottom" fmla="*/ 39240 h 38880"/>
                </a:gdLst>
                <a:ahLst/>
                <a:rect l="textAreaLeft" t="textAreaTop" r="textAreaRight" b="textAreaBottom"/>
                <a:pathLst>
                  <a:path w="0" h="16">
                    <a:moveTo>
                      <a:pt x="0" y="0"/>
                    </a:moveTo>
                    <a:lnTo>
                      <a:pt x="0" y="16"/>
                    </a:lnTo>
                  </a:path>
                </a:pathLst>
              </a:custGeom>
              <a:noFill/>
              <a:ln w="317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4" name="Text Box 289"/>
              <p:cNvSpPr/>
              <p:nvPr/>
            </p:nvSpPr>
            <p:spPr>
              <a:xfrm rot="16200000">
                <a:off x="67680" y="1892880"/>
                <a:ext cx="79560" cy="10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Dialog"/>
                  </a:rPr>
                  <a:t>EJ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Text Box 290"/>
              <p:cNvSpPr/>
              <p:nvPr/>
            </p:nvSpPr>
            <p:spPr>
              <a:xfrm>
                <a:off x="341640" y="3052080"/>
                <a:ext cx="57600" cy="122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Dialog"/>
                  </a:rPr>
                  <a:t>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Freeform 291"/>
              <p:cNvSpPr/>
              <p:nvPr/>
            </p:nvSpPr>
            <p:spPr>
              <a:xfrm>
                <a:off x="408960" y="3134520"/>
                <a:ext cx="25200" cy="216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2160"/>
                  <a:gd name="textAreaBottom" fmla="*/ 2520 h 2160"/>
                </a:gdLst>
                <a:ahLst/>
                <a:rect l="textAreaLeft" t="textAreaTop" r="textAreaRight" b="textAreaBottom"/>
                <a:pathLst>
                  <a:path w="16" h="0">
                    <a:moveTo>
                      <a:pt x="16" y="0"/>
                    </a:moveTo>
                    <a:lnTo>
                      <a:pt x="0" y="0"/>
                    </a:lnTo>
                  </a:path>
                </a:pathLst>
              </a:custGeom>
              <a:noFill/>
              <a:ln w="317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7" name="Text Box 292"/>
              <p:cNvSpPr/>
              <p:nvPr/>
            </p:nvSpPr>
            <p:spPr>
              <a:xfrm>
                <a:off x="232560" y="2581200"/>
                <a:ext cx="173520" cy="122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Dialog"/>
                  </a:rPr>
                  <a:t>50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Freeform 293"/>
              <p:cNvSpPr/>
              <p:nvPr/>
            </p:nvSpPr>
            <p:spPr>
              <a:xfrm>
                <a:off x="408960" y="2663280"/>
                <a:ext cx="25200" cy="216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2160"/>
                  <a:gd name="textAreaBottom" fmla="*/ 2520 h 2160"/>
                </a:gdLst>
                <a:ahLst/>
                <a:rect l="textAreaLeft" t="textAreaTop" r="textAreaRight" b="textAreaBottom"/>
                <a:pathLst>
                  <a:path w="16" h="0">
                    <a:moveTo>
                      <a:pt x="16" y="0"/>
                    </a:moveTo>
                    <a:lnTo>
                      <a:pt x="0" y="0"/>
                    </a:lnTo>
                  </a:path>
                </a:pathLst>
              </a:custGeom>
              <a:noFill/>
              <a:ln w="317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9" name="Text Box 294"/>
              <p:cNvSpPr/>
              <p:nvPr/>
            </p:nvSpPr>
            <p:spPr>
              <a:xfrm>
                <a:off x="178200" y="2109960"/>
                <a:ext cx="231120" cy="122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Dialog"/>
                  </a:rPr>
                  <a:t>100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Freeform 295"/>
              <p:cNvSpPr/>
              <p:nvPr/>
            </p:nvSpPr>
            <p:spPr>
              <a:xfrm>
                <a:off x="408960" y="2192040"/>
                <a:ext cx="25200" cy="216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2160"/>
                  <a:gd name="textAreaBottom" fmla="*/ 2520 h 2160"/>
                </a:gdLst>
                <a:ahLst/>
                <a:rect l="textAreaLeft" t="textAreaTop" r="textAreaRight" b="textAreaBottom"/>
                <a:pathLst>
                  <a:path w="16" h="0">
                    <a:moveTo>
                      <a:pt x="16" y="0"/>
                    </a:moveTo>
                    <a:lnTo>
                      <a:pt x="0" y="0"/>
                    </a:lnTo>
                  </a:path>
                </a:pathLst>
              </a:custGeom>
              <a:noFill/>
              <a:ln w="317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1" name="Text Box 296"/>
              <p:cNvSpPr/>
              <p:nvPr/>
            </p:nvSpPr>
            <p:spPr>
              <a:xfrm>
                <a:off x="178200" y="1638720"/>
                <a:ext cx="231120" cy="122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Dialog"/>
                  </a:rPr>
                  <a:t>150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Freeform 297"/>
              <p:cNvSpPr/>
              <p:nvPr/>
            </p:nvSpPr>
            <p:spPr>
              <a:xfrm>
                <a:off x="408960" y="1721160"/>
                <a:ext cx="25200" cy="216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2160"/>
                  <a:gd name="textAreaBottom" fmla="*/ 2520 h 2160"/>
                </a:gdLst>
                <a:ahLst/>
                <a:rect l="textAreaLeft" t="textAreaTop" r="textAreaRight" b="textAreaBottom"/>
                <a:pathLst>
                  <a:path w="16" h="0">
                    <a:moveTo>
                      <a:pt x="16" y="0"/>
                    </a:moveTo>
                    <a:lnTo>
                      <a:pt x="0" y="0"/>
                    </a:lnTo>
                  </a:path>
                </a:pathLst>
              </a:custGeom>
              <a:noFill/>
              <a:ln w="317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3" name="Text Box 298"/>
              <p:cNvSpPr/>
              <p:nvPr/>
            </p:nvSpPr>
            <p:spPr>
              <a:xfrm>
                <a:off x="178200" y="1167480"/>
                <a:ext cx="231120" cy="122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Dialog"/>
                  </a:rPr>
                  <a:t>200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Freeform 299"/>
              <p:cNvSpPr/>
              <p:nvPr/>
            </p:nvSpPr>
            <p:spPr>
              <a:xfrm>
                <a:off x="408960" y="1249920"/>
                <a:ext cx="25200" cy="216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2160"/>
                  <a:gd name="textAreaBottom" fmla="*/ 2520 h 2160"/>
                </a:gdLst>
                <a:ahLst/>
                <a:rect l="textAreaLeft" t="textAreaTop" r="textAreaRight" b="textAreaBottom"/>
                <a:pathLst>
                  <a:path w="16" h="0">
                    <a:moveTo>
                      <a:pt x="16" y="0"/>
                    </a:moveTo>
                    <a:lnTo>
                      <a:pt x="0" y="0"/>
                    </a:lnTo>
                  </a:path>
                </a:pathLst>
              </a:custGeom>
              <a:noFill/>
              <a:ln w="317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5" name="Text Box 300"/>
              <p:cNvSpPr/>
              <p:nvPr/>
            </p:nvSpPr>
            <p:spPr>
              <a:xfrm>
                <a:off x="178200" y="696240"/>
                <a:ext cx="231120" cy="122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Dialog"/>
                  </a:rPr>
                  <a:t>250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Freeform 301"/>
              <p:cNvSpPr/>
              <p:nvPr/>
            </p:nvSpPr>
            <p:spPr>
              <a:xfrm>
                <a:off x="408960" y="778680"/>
                <a:ext cx="25200" cy="216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2160"/>
                  <a:gd name="textAreaBottom" fmla="*/ 2520 h 2160"/>
                </a:gdLst>
                <a:ahLst/>
                <a:rect l="textAreaLeft" t="textAreaTop" r="textAreaRight" b="textAreaBottom"/>
                <a:pathLst>
                  <a:path w="16" h="0">
                    <a:moveTo>
                      <a:pt x="16" y="0"/>
                    </a:moveTo>
                    <a:lnTo>
                      <a:pt x="0" y="0"/>
                    </a:lnTo>
                  </a:path>
                </a:pathLst>
              </a:custGeom>
              <a:noFill/>
              <a:ln w="317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7" name="Freeform 302"/>
              <p:cNvSpPr/>
              <p:nvPr/>
            </p:nvSpPr>
            <p:spPr>
              <a:xfrm>
                <a:off x="434520" y="778680"/>
                <a:ext cx="3704400" cy="2355480"/>
              </a:xfrm>
              <a:custGeom>
                <a:avLst/>
                <a:gdLst>
                  <a:gd name="textAreaLeft" fmla="*/ 0 w 3704400"/>
                  <a:gd name="textAreaRight" fmla="*/ 3704760 w 3704400"/>
                  <a:gd name="textAreaTop" fmla="*/ 0 h 2355480"/>
                  <a:gd name="textAreaBottom" fmla="*/ 2355840 h 2355480"/>
                </a:gdLst>
                <a:ahLst/>
                <a:rect l="textAreaLeft" t="textAreaTop" r="textAreaRight" b="textAreaBottom"/>
                <a:pathLst>
                  <a:path w="2320" h="960">
                    <a:moveTo>
                      <a:pt x="0" y="0"/>
                    </a:moveTo>
                    <a:lnTo>
                      <a:pt x="2320" y="0"/>
                    </a:lnTo>
                    <a:lnTo>
                      <a:pt x="2320" y="960"/>
                    </a:lnTo>
                    <a:lnTo>
                      <a:pt x="0" y="96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317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8" name="Freeform 303"/>
              <p:cNvSpPr/>
              <p:nvPr/>
            </p:nvSpPr>
            <p:spPr>
              <a:xfrm>
                <a:off x="2730600" y="1323360"/>
                <a:ext cx="1407960" cy="1381320"/>
              </a:xfrm>
              <a:custGeom>
                <a:avLst/>
                <a:gdLst>
                  <a:gd name="textAreaLeft" fmla="*/ 0 w 1407960"/>
                  <a:gd name="textAreaRight" fmla="*/ 1408320 w 1407960"/>
                  <a:gd name="textAreaTop" fmla="*/ 0 h 1381320"/>
                  <a:gd name="textAreaBottom" fmla="*/ 1381680 h 1381320"/>
                </a:gdLst>
                <a:ahLst/>
                <a:rect l="textAreaLeft" t="textAreaTop" r="textAreaRight" b="textAreaBottom"/>
                <a:pathLst>
                  <a:path w="881" h="563">
                    <a:moveTo>
                      <a:pt x="0" y="558"/>
                    </a:moveTo>
                    <a:lnTo>
                      <a:pt x="46" y="539"/>
                    </a:lnTo>
                    <a:lnTo>
                      <a:pt x="139" y="485"/>
                    </a:lnTo>
                    <a:lnTo>
                      <a:pt x="232" y="420"/>
                    </a:lnTo>
                    <a:lnTo>
                      <a:pt x="324" y="346"/>
                    </a:lnTo>
                    <a:lnTo>
                      <a:pt x="417" y="257"/>
                    </a:lnTo>
                    <a:lnTo>
                      <a:pt x="510" y="163"/>
                    </a:lnTo>
                    <a:lnTo>
                      <a:pt x="603" y="91"/>
                    </a:lnTo>
                    <a:lnTo>
                      <a:pt x="696" y="32"/>
                    </a:lnTo>
                    <a:lnTo>
                      <a:pt x="788" y="6"/>
                    </a:lnTo>
                    <a:lnTo>
                      <a:pt x="881" y="0"/>
                    </a:lnTo>
                    <a:lnTo>
                      <a:pt x="881" y="81"/>
                    </a:lnTo>
                    <a:lnTo>
                      <a:pt x="788" y="60"/>
                    </a:lnTo>
                    <a:lnTo>
                      <a:pt x="696" y="65"/>
                    </a:lnTo>
                    <a:lnTo>
                      <a:pt x="603" y="112"/>
                    </a:lnTo>
                    <a:lnTo>
                      <a:pt x="510" y="175"/>
                    </a:lnTo>
                    <a:lnTo>
                      <a:pt x="417" y="265"/>
                    </a:lnTo>
                    <a:lnTo>
                      <a:pt x="324" y="352"/>
                    </a:lnTo>
                    <a:lnTo>
                      <a:pt x="232" y="427"/>
                    </a:lnTo>
                    <a:lnTo>
                      <a:pt x="139" y="492"/>
                    </a:lnTo>
                    <a:lnTo>
                      <a:pt x="46" y="545"/>
                    </a:lnTo>
                    <a:lnTo>
                      <a:pt x="0" y="563"/>
                    </a:lnTo>
                    <a:lnTo>
                      <a:pt x="0" y="558"/>
                    </a:lnTo>
                    <a:close/>
                  </a:path>
                </a:pathLst>
              </a:custGeom>
              <a:solidFill>
                <a:srgbClr val="ffc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9" name="Freeform 304"/>
              <p:cNvSpPr/>
              <p:nvPr/>
            </p:nvSpPr>
            <p:spPr>
              <a:xfrm>
                <a:off x="2730600" y="1323360"/>
                <a:ext cx="1407960" cy="1381320"/>
              </a:xfrm>
              <a:custGeom>
                <a:avLst/>
                <a:gdLst>
                  <a:gd name="textAreaLeft" fmla="*/ 0 w 1407960"/>
                  <a:gd name="textAreaRight" fmla="*/ 1408320 w 1407960"/>
                  <a:gd name="textAreaTop" fmla="*/ 0 h 1381320"/>
                  <a:gd name="textAreaBottom" fmla="*/ 1381680 h 1381320"/>
                </a:gdLst>
                <a:ahLst/>
                <a:rect l="textAreaLeft" t="textAreaTop" r="textAreaRight" b="textAreaBottom"/>
                <a:pathLst>
                  <a:path w="881" h="563">
                    <a:moveTo>
                      <a:pt x="0" y="558"/>
                    </a:moveTo>
                    <a:lnTo>
                      <a:pt x="46" y="539"/>
                    </a:lnTo>
                    <a:lnTo>
                      <a:pt x="139" y="485"/>
                    </a:lnTo>
                    <a:lnTo>
                      <a:pt x="232" y="420"/>
                    </a:lnTo>
                    <a:lnTo>
                      <a:pt x="324" y="346"/>
                    </a:lnTo>
                    <a:lnTo>
                      <a:pt x="417" y="257"/>
                    </a:lnTo>
                    <a:lnTo>
                      <a:pt x="510" y="163"/>
                    </a:lnTo>
                    <a:lnTo>
                      <a:pt x="603" y="91"/>
                    </a:lnTo>
                    <a:lnTo>
                      <a:pt x="696" y="32"/>
                    </a:lnTo>
                    <a:lnTo>
                      <a:pt x="788" y="6"/>
                    </a:lnTo>
                    <a:lnTo>
                      <a:pt x="881" y="0"/>
                    </a:lnTo>
                    <a:lnTo>
                      <a:pt x="881" y="81"/>
                    </a:lnTo>
                    <a:lnTo>
                      <a:pt x="788" y="60"/>
                    </a:lnTo>
                    <a:lnTo>
                      <a:pt x="696" y="65"/>
                    </a:lnTo>
                    <a:lnTo>
                      <a:pt x="603" y="112"/>
                    </a:lnTo>
                    <a:lnTo>
                      <a:pt x="510" y="175"/>
                    </a:lnTo>
                    <a:lnTo>
                      <a:pt x="417" y="265"/>
                    </a:lnTo>
                    <a:lnTo>
                      <a:pt x="324" y="352"/>
                    </a:lnTo>
                    <a:lnTo>
                      <a:pt x="232" y="427"/>
                    </a:lnTo>
                    <a:lnTo>
                      <a:pt x="139" y="492"/>
                    </a:lnTo>
                    <a:lnTo>
                      <a:pt x="46" y="545"/>
                    </a:lnTo>
                    <a:lnTo>
                      <a:pt x="0" y="563"/>
                    </a:lnTo>
                    <a:lnTo>
                      <a:pt x="0" y="558"/>
                    </a:lnTo>
                    <a:close/>
                  </a:path>
                </a:pathLst>
              </a:custGeom>
              <a:noFill/>
              <a:ln w="3175">
                <a:solidFill>
                  <a:srgbClr val="ffc8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30" name="Freeform 305"/>
              <p:cNvSpPr/>
              <p:nvPr/>
            </p:nvSpPr>
            <p:spPr>
              <a:xfrm>
                <a:off x="2730600" y="1473120"/>
                <a:ext cx="1407960" cy="1241280"/>
              </a:xfrm>
              <a:custGeom>
                <a:avLst/>
                <a:gdLst>
                  <a:gd name="textAreaLeft" fmla="*/ 0 w 1407960"/>
                  <a:gd name="textAreaRight" fmla="*/ 1408320 w 1407960"/>
                  <a:gd name="textAreaTop" fmla="*/ 0 h 1241280"/>
                  <a:gd name="textAreaBottom" fmla="*/ 1241640 h 1241280"/>
                </a:gdLst>
                <a:ahLst/>
                <a:rect l="textAreaLeft" t="textAreaTop" r="textAreaRight" b="textAreaBottom"/>
                <a:pathLst>
                  <a:path w="881" h="506">
                    <a:moveTo>
                      <a:pt x="0" y="502"/>
                    </a:moveTo>
                    <a:lnTo>
                      <a:pt x="46" y="484"/>
                    </a:lnTo>
                    <a:lnTo>
                      <a:pt x="139" y="431"/>
                    </a:lnTo>
                    <a:lnTo>
                      <a:pt x="232" y="366"/>
                    </a:lnTo>
                    <a:lnTo>
                      <a:pt x="324" y="291"/>
                    </a:lnTo>
                    <a:lnTo>
                      <a:pt x="417" y="204"/>
                    </a:lnTo>
                    <a:lnTo>
                      <a:pt x="510" y="114"/>
                    </a:lnTo>
                    <a:lnTo>
                      <a:pt x="603" y="51"/>
                    </a:lnTo>
                    <a:lnTo>
                      <a:pt x="696" y="5"/>
                    </a:lnTo>
                    <a:lnTo>
                      <a:pt x="788" y="0"/>
                    </a:lnTo>
                    <a:lnTo>
                      <a:pt x="881" y="20"/>
                    </a:lnTo>
                    <a:lnTo>
                      <a:pt x="881" y="42"/>
                    </a:lnTo>
                    <a:lnTo>
                      <a:pt x="788" y="14"/>
                    </a:lnTo>
                    <a:lnTo>
                      <a:pt x="696" y="12"/>
                    </a:lnTo>
                    <a:lnTo>
                      <a:pt x="603" y="55"/>
                    </a:lnTo>
                    <a:lnTo>
                      <a:pt x="510" y="116"/>
                    </a:lnTo>
                    <a:lnTo>
                      <a:pt x="417" y="204"/>
                    </a:lnTo>
                    <a:lnTo>
                      <a:pt x="324" y="292"/>
                    </a:lnTo>
                    <a:lnTo>
                      <a:pt x="232" y="367"/>
                    </a:lnTo>
                    <a:lnTo>
                      <a:pt x="139" y="433"/>
                    </a:lnTo>
                    <a:lnTo>
                      <a:pt x="46" y="487"/>
                    </a:lnTo>
                    <a:lnTo>
                      <a:pt x="0" y="506"/>
                    </a:lnTo>
                    <a:lnTo>
                      <a:pt x="0" y="502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31" name="Freeform 306"/>
              <p:cNvSpPr/>
              <p:nvPr/>
            </p:nvSpPr>
            <p:spPr>
              <a:xfrm>
                <a:off x="2730600" y="1473120"/>
                <a:ext cx="1407960" cy="1241280"/>
              </a:xfrm>
              <a:custGeom>
                <a:avLst/>
                <a:gdLst>
                  <a:gd name="textAreaLeft" fmla="*/ 0 w 1407960"/>
                  <a:gd name="textAreaRight" fmla="*/ 1408320 w 1407960"/>
                  <a:gd name="textAreaTop" fmla="*/ 0 h 1241280"/>
                  <a:gd name="textAreaBottom" fmla="*/ 1241640 h 1241280"/>
                </a:gdLst>
                <a:ahLst/>
                <a:rect l="textAreaLeft" t="textAreaTop" r="textAreaRight" b="textAreaBottom"/>
                <a:pathLst>
                  <a:path w="881" h="506">
                    <a:moveTo>
                      <a:pt x="0" y="502"/>
                    </a:moveTo>
                    <a:lnTo>
                      <a:pt x="46" y="484"/>
                    </a:lnTo>
                    <a:lnTo>
                      <a:pt x="139" y="431"/>
                    </a:lnTo>
                    <a:lnTo>
                      <a:pt x="232" y="366"/>
                    </a:lnTo>
                    <a:lnTo>
                      <a:pt x="324" y="291"/>
                    </a:lnTo>
                    <a:lnTo>
                      <a:pt x="417" y="204"/>
                    </a:lnTo>
                    <a:lnTo>
                      <a:pt x="510" y="114"/>
                    </a:lnTo>
                    <a:lnTo>
                      <a:pt x="603" y="51"/>
                    </a:lnTo>
                    <a:lnTo>
                      <a:pt x="696" y="5"/>
                    </a:lnTo>
                    <a:lnTo>
                      <a:pt x="788" y="0"/>
                    </a:lnTo>
                    <a:lnTo>
                      <a:pt x="881" y="20"/>
                    </a:lnTo>
                    <a:lnTo>
                      <a:pt x="881" y="42"/>
                    </a:lnTo>
                    <a:lnTo>
                      <a:pt x="788" y="14"/>
                    </a:lnTo>
                    <a:lnTo>
                      <a:pt x="696" y="12"/>
                    </a:lnTo>
                    <a:lnTo>
                      <a:pt x="603" y="55"/>
                    </a:lnTo>
                    <a:lnTo>
                      <a:pt x="510" y="116"/>
                    </a:lnTo>
                    <a:lnTo>
                      <a:pt x="417" y="204"/>
                    </a:lnTo>
                    <a:lnTo>
                      <a:pt x="324" y="292"/>
                    </a:lnTo>
                    <a:lnTo>
                      <a:pt x="232" y="367"/>
                    </a:lnTo>
                    <a:lnTo>
                      <a:pt x="139" y="433"/>
                    </a:lnTo>
                    <a:lnTo>
                      <a:pt x="46" y="487"/>
                    </a:lnTo>
                    <a:lnTo>
                      <a:pt x="0" y="506"/>
                    </a:lnTo>
                    <a:lnTo>
                      <a:pt x="0" y="502"/>
                    </a:lnTo>
                    <a:close/>
                  </a:path>
                </a:pathLst>
              </a:custGeom>
              <a:noFill/>
              <a:ln w="3175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32" name="Freeform 307"/>
              <p:cNvSpPr/>
              <p:nvPr/>
            </p:nvSpPr>
            <p:spPr>
              <a:xfrm>
                <a:off x="2730600" y="1505160"/>
                <a:ext cx="1407960" cy="1302840"/>
              </a:xfrm>
              <a:custGeom>
                <a:avLst/>
                <a:gdLst>
                  <a:gd name="textAreaLeft" fmla="*/ 0 w 1407960"/>
                  <a:gd name="textAreaRight" fmla="*/ 1408320 w 1407960"/>
                  <a:gd name="textAreaTop" fmla="*/ 0 h 1302840"/>
                  <a:gd name="textAreaBottom" fmla="*/ 1303200 h 1302840"/>
                </a:gdLst>
                <a:ahLst/>
                <a:rect l="textAreaLeft" t="textAreaTop" r="textAreaRight" b="textAreaBottom"/>
                <a:pathLst>
                  <a:path w="881" h="531">
                    <a:moveTo>
                      <a:pt x="0" y="493"/>
                    </a:moveTo>
                    <a:lnTo>
                      <a:pt x="46" y="475"/>
                    </a:lnTo>
                    <a:lnTo>
                      <a:pt x="139" y="421"/>
                    </a:lnTo>
                    <a:lnTo>
                      <a:pt x="232" y="354"/>
                    </a:lnTo>
                    <a:lnTo>
                      <a:pt x="324" y="280"/>
                    </a:lnTo>
                    <a:lnTo>
                      <a:pt x="417" y="192"/>
                    </a:lnTo>
                    <a:lnTo>
                      <a:pt x="510" y="103"/>
                    </a:lnTo>
                    <a:lnTo>
                      <a:pt x="603" y="42"/>
                    </a:lnTo>
                    <a:lnTo>
                      <a:pt x="696" y="0"/>
                    </a:lnTo>
                    <a:lnTo>
                      <a:pt x="788" y="1"/>
                    </a:lnTo>
                    <a:lnTo>
                      <a:pt x="881" y="29"/>
                    </a:lnTo>
                    <a:lnTo>
                      <a:pt x="881" y="183"/>
                    </a:lnTo>
                    <a:lnTo>
                      <a:pt x="788" y="182"/>
                    </a:lnTo>
                    <a:lnTo>
                      <a:pt x="696" y="193"/>
                    </a:lnTo>
                    <a:lnTo>
                      <a:pt x="603" y="243"/>
                    </a:lnTo>
                    <a:lnTo>
                      <a:pt x="510" y="306"/>
                    </a:lnTo>
                    <a:lnTo>
                      <a:pt x="417" y="379"/>
                    </a:lnTo>
                    <a:lnTo>
                      <a:pt x="324" y="441"/>
                    </a:lnTo>
                    <a:lnTo>
                      <a:pt x="232" y="472"/>
                    </a:lnTo>
                    <a:lnTo>
                      <a:pt x="139" y="495"/>
                    </a:lnTo>
                    <a:lnTo>
                      <a:pt x="46" y="521"/>
                    </a:lnTo>
                    <a:lnTo>
                      <a:pt x="0" y="531"/>
                    </a:lnTo>
                    <a:lnTo>
                      <a:pt x="0" y="493"/>
                    </a:lnTo>
                    <a:close/>
                  </a:path>
                </a:pathLst>
              </a:custGeom>
              <a:solidFill>
                <a:srgbClr val="006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33" name="Freeform 308"/>
              <p:cNvSpPr/>
              <p:nvPr/>
            </p:nvSpPr>
            <p:spPr>
              <a:xfrm>
                <a:off x="2730600" y="1505160"/>
                <a:ext cx="1407960" cy="1302840"/>
              </a:xfrm>
              <a:custGeom>
                <a:avLst/>
                <a:gdLst>
                  <a:gd name="textAreaLeft" fmla="*/ 0 w 1407960"/>
                  <a:gd name="textAreaRight" fmla="*/ 1408320 w 1407960"/>
                  <a:gd name="textAreaTop" fmla="*/ 0 h 1302840"/>
                  <a:gd name="textAreaBottom" fmla="*/ 1303200 h 1302840"/>
                </a:gdLst>
                <a:ahLst/>
                <a:rect l="textAreaLeft" t="textAreaTop" r="textAreaRight" b="textAreaBottom"/>
                <a:pathLst>
                  <a:path w="881" h="531">
                    <a:moveTo>
                      <a:pt x="0" y="493"/>
                    </a:moveTo>
                    <a:lnTo>
                      <a:pt x="46" y="475"/>
                    </a:lnTo>
                    <a:lnTo>
                      <a:pt x="139" y="421"/>
                    </a:lnTo>
                    <a:lnTo>
                      <a:pt x="232" y="354"/>
                    </a:lnTo>
                    <a:lnTo>
                      <a:pt x="324" y="280"/>
                    </a:lnTo>
                    <a:lnTo>
                      <a:pt x="417" y="192"/>
                    </a:lnTo>
                    <a:lnTo>
                      <a:pt x="510" y="103"/>
                    </a:lnTo>
                    <a:lnTo>
                      <a:pt x="603" y="42"/>
                    </a:lnTo>
                    <a:lnTo>
                      <a:pt x="696" y="0"/>
                    </a:lnTo>
                    <a:lnTo>
                      <a:pt x="788" y="1"/>
                    </a:lnTo>
                    <a:lnTo>
                      <a:pt x="881" y="29"/>
                    </a:lnTo>
                    <a:lnTo>
                      <a:pt x="881" y="183"/>
                    </a:lnTo>
                    <a:lnTo>
                      <a:pt x="788" y="182"/>
                    </a:lnTo>
                    <a:lnTo>
                      <a:pt x="696" y="193"/>
                    </a:lnTo>
                    <a:lnTo>
                      <a:pt x="603" y="243"/>
                    </a:lnTo>
                    <a:lnTo>
                      <a:pt x="510" y="306"/>
                    </a:lnTo>
                    <a:lnTo>
                      <a:pt x="417" y="379"/>
                    </a:lnTo>
                    <a:lnTo>
                      <a:pt x="324" y="441"/>
                    </a:lnTo>
                    <a:lnTo>
                      <a:pt x="232" y="472"/>
                    </a:lnTo>
                    <a:lnTo>
                      <a:pt x="139" y="495"/>
                    </a:lnTo>
                    <a:lnTo>
                      <a:pt x="46" y="521"/>
                    </a:lnTo>
                    <a:lnTo>
                      <a:pt x="0" y="531"/>
                    </a:lnTo>
                    <a:lnTo>
                      <a:pt x="0" y="493"/>
                    </a:lnTo>
                    <a:close/>
                  </a:path>
                </a:pathLst>
              </a:custGeom>
              <a:noFill/>
              <a:ln w="3175">
                <a:solidFill>
                  <a:srgbClr val="0064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34" name="Freeform 309"/>
              <p:cNvSpPr/>
              <p:nvPr/>
            </p:nvSpPr>
            <p:spPr>
              <a:xfrm>
                <a:off x="2730600" y="1951560"/>
                <a:ext cx="1407960" cy="1013040"/>
              </a:xfrm>
              <a:custGeom>
                <a:avLst/>
                <a:gdLst>
                  <a:gd name="textAreaLeft" fmla="*/ 0 w 1407960"/>
                  <a:gd name="textAreaRight" fmla="*/ 1408320 w 1407960"/>
                  <a:gd name="textAreaTop" fmla="*/ 0 h 1013040"/>
                  <a:gd name="textAreaBottom" fmla="*/ 1013400 h 1013040"/>
                </a:gdLst>
                <a:ahLst/>
                <a:rect l="textAreaLeft" t="textAreaTop" r="textAreaRight" b="textAreaBottom"/>
                <a:pathLst>
                  <a:path w="881" h="413">
                    <a:moveTo>
                      <a:pt x="0" y="349"/>
                    </a:moveTo>
                    <a:lnTo>
                      <a:pt x="46" y="339"/>
                    </a:lnTo>
                    <a:lnTo>
                      <a:pt x="139" y="313"/>
                    </a:lnTo>
                    <a:lnTo>
                      <a:pt x="232" y="290"/>
                    </a:lnTo>
                    <a:lnTo>
                      <a:pt x="324" y="259"/>
                    </a:lnTo>
                    <a:lnTo>
                      <a:pt x="417" y="197"/>
                    </a:lnTo>
                    <a:lnTo>
                      <a:pt x="510" y="124"/>
                    </a:lnTo>
                    <a:lnTo>
                      <a:pt x="603" y="61"/>
                    </a:lnTo>
                    <a:lnTo>
                      <a:pt x="696" y="11"/>
                    </a:lnTo>
                    <a:lnTo>
                      <a:pt x="788" y="0"/>
                    </a:lnTo>
                    <a:lnTo>
                      <a:pt x="881" y="1"/>
                    </a:lnTo>
                    <a:lnTo>
                      <a:pt x="881" y="79"/>
                    </a:lnTo>
                    <a:lnTo>
                      <a:pt x="788" y="96"/>
                    </a:lnTo>
                    <a:lnTo>
                      <a:pt x="696" y="116"/>
                    </a:lnTo>
                    <a:lnTo>
                      <a:pt x="603" y="171"/>
                    </a:lnTo>
                    <a:lnTo>
                      <a:pt x="510" y="251"/>
                    </a:lnTo>
                    <a:lnTo>
                      <a:pt x="417" y="336"/>
                    </a:lnTo>
                    <a:lnTo>
                      <a:pt x="324" y="394"/>
                    </a:lnTo>
                    <a:lnTo>
                      <a:pt x="232" y="412"/>
                    </a:lnTo>
                    <a:lnTo>
                      <a:pt x="139" y="409"/>
                    </a:lnTo>
                    <a:lnTo>
                      <a:pt x="46" y="409"/>
                    </a:lnTo>
                    <a:lnTo>
                      <a:pt x="0" y="413"/>
                    </a:lnTo>
                    <a:lnTo>
                      <a:pt x="0" y="349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35" name="Freeform 310"/>
              <p:cNvSpPr/>
              <p:nvPr/>
            </p:nvSpPr>
            <p:spPr>
              <a:xfrm>
                <a:off x="2730600" y="1951560"/>
                <a:ext cx="1407960" cy="1013040"/>
              </a:xfrm>
              <a:custGeom>
                <a:avLst/>
                <a:gdLst>
                  <a:gd name="textAreaLeft" fmla="*/ 0 w 1407960"/>
                  <a:gd name="textAreaRight" fmla="*/ 1408320 w 1407960"/>
                  <a:gd name="textAreaTop" fmla="*/ 0 h 1013040"/>
                  <a:gd name="textAreaBottom" fmla="*/ 1013400 h 1013040"/>
                </a:gdLst>
                <a:ahLst/>
                <a:rect l="textAreaLeft" t="textAreaTop" r="textAreaRight" b="textAreaBottom"/>
                <a:pathLst>
                  <a:path w="881" h="413">
                    <a:moveTo>
                      <a:pt x="0" y="349"/>
                    </a:moveTo>
                    <a:lnTo>
                      <a:pt x="46" y="339"/>
                    </a:lnTo>
                    <a:lnTo>
                      <a:pt x="139" y="313"/>
                    </a:lnTo>
                    <a:lnTo>
                      <a:pt x="232" y="290"/>
                    </a:lnTo>
                    <a:lnTo>
                      <a:pt x="324" y="259"/>
                    </a:lnTo>
                    <a:lnTo>
                      <a:pt x="417" y="197"/>
                    </a:lnTo>
                    <a:lnTo>
                      <a:pt x="510" y="124"/>
                    </a:lnTo>
                    <a:lnTo>
                      <a:pt x="603" y="61"/>
                    </a:lnTo>
                    <a:lnTo>
                      <a:pt x="696" y="11"/>
                    </a:lnTo>
                    <a:lnTo>
                      <a:pt x="788" y="0"/>
                    </a:lnTo>
                    <a:lnTo>
                      <a:pt x="881" y="1"/>
                    </a:lnTo>
                    <a:lnTo>
                      <a:pt x="881" y="79"/>
                    </a:lnTo>
                    <a:lnTo>
                      <a:pt x="788" y="96"/>
                    </a:lnTo>
                    <a:lnTo>
                      <a:pt x="696" y="116"/>
                    </a:lnTo>
                    <a:lnTo>
                      <a:pt x="603" y="171"/>
                    </a:lnTo>
                    <a:lnTo>
                      <a:pt x="510" y="251"/>
                    </a:lnTo>
                    <a:lnTo>
                      <a:pt x="417" y="336"/>
                    </a:lnTo>
                    <a:lnTo>
                      <a:pt x="324" y="394"/>
                    </a:lnTo>
                    <a:lnTo>
                      <a:pt x="232" y="412"/>
                    </a:lnTo>
                    <a:lnTo>
                      <a:pt x="139" y="409"/>
                    </a:lnTo>
                    <a:lnTo>
                      <a:pt x="46" y="409"/>
                    </a:lnTo>
                    <a:lnTo>
                      <a:pt x="0" y="413"/>
                    </a:lnTo>
                    <a:lnTo>
                      <a:pt x="0" y="349"/>
                    </a:lnTo>
                    <a:close/>
                  </a:path>
                </a:pathLst>
              </a:custGeom>
              <a:noFill/>
              <a:ln w="3175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36" name="Freeform 311"/>
              <p:cNvSpPr/>
              <p:nvPr/>
            </p:nvSpPr>
            <p:spPr>
              <a:xfrm>
                <a:off x="2730600" y="2145600"/>
                <a:ext cx="1407960" cy="944280"/>
              </a:xfrm>
              <a:custGeom>
                <a:avLst/>
                <a:gdLst>
                  <a:gd name="textAreaLeft" fmla="*/ 0 w 1407960"/>
                  <a:gd name="textAreaRight" fmla="*/ 1408320 w 1407960"/>
                  <a:gd name="textAreaTop" fmla="*/ 0 h 944280"/>
                  <a:gd name="textAreaBottom" fmla="*/ 944640 h 944280"/>
                </a:gdLst>
                <a:ahLst/>
                <a:rect l="textAreaLeft" t="textAreaTop" r="textAreaRight" b="textAreaBottom"/>
                <a:pathLst>
                  <a:path w="881" h="385">
                    <a:moveTo>
                      <a:pt x="0" y="334"/>
                    </a:moveTo>
                    <a:lnTo>
                      <a:pt x="46" y="330"/>
                    </a:lnTo>
                    <a:lnTo>
                      <a:pt x="139" y="330"/>
                    </a:lnTo>
                    <a:lnTo>
                      <a:pt x="232" y="333"/>
                    </a:lnTo>
                    <a:lnTo>
                      <a:pt x="324" y="315"/>
                    </a:lnTo>
                    <a:lnTo>
                      <a:pt x="417" y="257"/>
                    </a:lnTo>
                    <a:lnTo>
                      <a:pt x="510" y="172"/>
                    </a:lnTo>
                    <a:lnTo>
                      <a:pt x="603" y="92"/>
                    </a:lnTo>
                    <a:lnTo>
                      <a:pt x="696" y="37"/>
                    </a:lnTo>
                    <a:lnTo>
                      <a:pt x="788" y="17"/>
                    </a:lnTo>
                    <a:lnTo>
                      <a:pt x="881" y="0"/>
                    </a:lnTo>
                    <a:lnTo>
                      <a:pt x="881" y="364"/>
                    </a:lnTo>
                    <a:lnTo>
                      <a:pt x="788" y="370"/>
                    </a:lnTo>
                    <a:lnTo>
                      <a:pt x="696" y="375"/>
                    </a:lnTo>
                    <a:lnTo>
                      <a:pt x="603" y="378"/>
                    </a:lnTo>
                    <a:lnTo>
                      <a:pt x="510" y="381"/>
                    </a:lnTo>
                    <a:lnTo>
                      <a:pt x="417" y="384"/>
                    </a:lnTo>
                    <a:lnTo>
                      <a:pt x="324" y="385"/>
                    </a:lnTo>
                    <a:lnTo>
                      <a:pt x="232" y="381"/>
                    </a:lnTo>
                    <a:lnTo>
                      <a:pt x="139" y="377"/>
                    </a:lnTo>
                    <a:lnTo>
                      <a:pt x="46" y="379"/>
                    </a:lnTo>
                    <a:lnTo>
                      <a:pt x="0" y="381"/>
                    </a:lnTo>
                    <a:lnTo>
                      <a:pt x="0" y="334"/>
                    </a:lnTo>
                    <a:close/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37" name="Freeform 312"/>
              <p:cNvSpPr/>
              <p:nvPr/>
            </p:nvSpPr>
            <p:spPr>
              <a:xfrm>
                <a:off x="2730600" y="2145600"/>
                <a:ext cx="1407960" cy="944280"/>
              </a:xfrm>
              <a:custGeom>
                <a:avLst/>
                <a:gdLst>
                  <a:gd name="textAreaLeft" fmla="*/ 0 w 1407960"/>
                  <a:gd name="textAreaRight" fmla="*/ 1408320 w 1407960"/>
                  <a:gd name="textAreaTop" fmla="*/ 0 h 944280"/>
                  <a:gd name="textAreaBottom" fmla="*/ 944640 h 944280"/>
                </a:gdLst>
                <a:ahLst/>
                <a:rect l="textAreaLeft" t="textAreaTop" r="textAreaRight" b="textAreaBottom"/>
                <a:pathLst>
                  <a:path w="881" h="385">
                    <a:moveTo>
                      <a:pt x="0" y="334"/>
                    </a:moveTo>
                    <a:lnTo>
                      <a:pt x="46" y="330"/>
                    </a:lnTo>
                    <a:lnTo>
                      <a:pt x="139" y="330"/>
                    </a:lnTo>
                    <a:lnTo>
                      <a:pt x="232" y="333"/>
                    </a:lnTo>
                    <a:lnTo>
                      <a:pt x="324" y="315"/>
                    </a:lnTo>
                    <a:lnTo>
                      <a:pt x="417" y="257"/>
                    </a:lnTo>
                    <a:lnTo>
                      <a:pt x="510" y="172"/>
                    </a:lnTo>
                    <a:lnTo>
                      <a:pt x="603" y="92"/>
                    </a:lnTo>
                    <a:lnTo>
                      <a:pt x="696" y="37"/>
                    </a:lnTo>
                    <a:lnTo>
                      <a:pt x="788" y="17"/>
                    </a:lnTo>
                    <a:lnTo>
                      <a:pt x="881" y="0"/>
                    </a:lnTo>
                    <a:lnTo>
                      <a:pt x="881" y="364"/>
                    </a:lnTo>
                    <a:lnTo>
                      <a:pt x="788" y="370"/>
                    </a:lnTo>
                    <a:lnTo>
                      <a:pt x="696" y="375"/>
                    </a:lnTo>
                    <a:lnTo>
                      <a:pt x="603" y="378"/>
                    </a:lnTo>
                    <a:lnTo>
                      <a:pt x="510" y="381"/>
                    </a:lnTo>
                    <a:lnTo>
                      <a:pt x="417" y="384"/>
                    </a:lnTo>
                    <a:lnTo>
                      <a:pt x="324" y="385"/>
                    </a:lnTo>
                    <a:lnTo>
                      <a:pt x="232" y="381"/>
                    </a:lnTo>
                    <a:lnTo>
                      <a:pt x="139" y="377"/>
                    </a:lnTo>
                    <a:lnTo>
                      <a:pt x="46" y="379"/>
                    </a:lnTo>
                    <a:lnTo>
                      <a:pt x="0" y="381"/>
                    </a:lnTo>
                    <a:lnTo>
                      <a:pt x="0" y="334"/>
                    </a:lnTo>
                    <a:close/>
                  </a:path>
                </a:pathLst>
              </a:custGeom>
              <a:noFill/>
              <a:ln w="3175">
                <a:solidFill>
                  <a:srgbClr val="20202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38" name="Freeform 313"/>
              <p:cNvSpPr/>
              <p:nvPr/>
            </p:nvSpPr>
            <p:spPr>
              <a:xfrm>
                <a:off x="2730600" y="3038760"/>
                <a:ext cx="1407960" cy="95400"/>
              </a:xfrm>
              <a:custGeom>
                <a:avLst/>
                <a:gdLst>
                  <a:gd name="textAreaLeft" fmla="*/ 0 w 1407960"/>
                  <a:gd name="textAreaRight" fmla="*/ 1408320 w 14079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881" h="38">
                    <a:moveTo>
                      <a:pt x="0" y="17"/>
                    </a:moveTo>
                    <a:lnTo>
                      <a:pt x="46" y="15"/>
                    </a:lnTo>
                    <a:lnTo>
                      <a:pt x="139" y="13"/>
                    </a:lnTo>
                    <a:lnTo>
                      <a:pt x="232" y="17"/>
                    </a:lnTo>
                    <a:lnTo>
                      <a:pt x="324" y="20"/>
                    </a:lnTo>
                    <a:lnTo>
                      <a:pt x="417" y="19"/>
                    </a:lnTo>
                    <a:lnTo>
                      <a:pt x="510" y="17"/>
                    </a:lnTo>
                    <a:lnTo>
                      <a:pt x="603" y="14"/>
                    </a:lnTo>
                    <a:lnTo>
                      <a:pt x="696" y="11"/>
                    </a:lnTo>
                    <a:lnTo>
                      <a:pt x="788" y="6"/>
                    </a:lnTo>
                    <a:lnTo>
                      <a:pt x="881" y="0"/>
                    </a:lnTo>
                    <a:lnTo>
                      <a:pt x="881" y="38"/>
                    </a:lnTo>
                    <a:lnTo>
                      <a:pt x="788" y="38"/>
                    </a:lnTo>
                    <a:lnTo>
                      <a:pt x="696" y="38"/>
                    </a:lnTo>
                    <a:lnTo>
                      <a:pt x="603" y="38"/>
                    </a:lnTo>
                    <a:lnTo>
                      <a:pt x="510" y="38"/>
                    </a:lnTo>
                    <a:lnTo>
                      <a:pt x="417" y="38"/>
                    </a:lnTo>
                    <a:lnTo>
                      <a:pt x="324" y="38"/>
                    </a:lnTo>
                    <a:lnTo>
                      <a:pt x="232" y="38"/>
                    </a:lnTo>
                    <a:lnTo>
                      <a:pt x="139" y="38"/>
                    </a:lnTo>
                    <a:lnTo>
                      <a:pt x="46" y="38"/>
                    </a:lnTo>
                    <a:lnTo>
                      <a:pt x="0" y="38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39" name="Freeform 314"/>
              <p:cNvSpPr/>
              <p:nvPr/>
            </p:nvSpPr>
            <p:spPr>
              <a:xfrm>
                <a:off x="2730600" y="3038760"/>
                <a:ext cx="1407960" cy="95400"/>
              </a:xfrm>
              <a:custGeom>
                <a:avLst/>
                <a:gdLst>
                  <a:gd name="textAreaLeft" fmla="*/ 0 w 1407960"/>
                  <a:gd name="textAreaRight" fmla="*/ 1408320 w 14079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881" h="38">
                    <a:moveTo>
                      <a:pt x="0" y="17"/>
                    </a:moveTo>
                    <a:lnTo>
                      <a:pt x="46" y="15"/>
                    </a:lnTo>
                    <a:lnTo>
                      <a:pt x="139" y="13"/>
                    </a:lnTo>
                    <a:lnTo>
                      <a:pt x="232" y="17"/>
                    </a:lnTo>
                    <a:lnTo>
                      <a:pt x="324" y="20"/>
                    </a:lnTo>
                    <a:lnTo>
                      <a:pt x="417" y="19"/>
                    </a:lnTo>
                    <a:lnTo>
                      <a:pt x="510" y="17"/>
                    </a:lnTo>
                    <a:lnTo>
                      <a:pt x="603" y="14"/>
                    </a:lnTo>
                    <a:lnTo>
                      <a:pt x="696" y="11"/>
                    </a:lnTo>
                    <a:lnTo>
                      <a:pt x="788" y="6"/>
                    </a:lnTo>
                    <a:lnTo>
                      <a:pt x="881" y="0"/>
                    </a:lnTo>
                    <a:lnTo>
                      <a:pt x="881" y="38"/>
                    </a:lnTo>
                    <a:lnTo>
                      <a:pt x="788" y="38"/>
                    </a:lnTo>
                    <a:lnTo>
                      <a:pt x="696" y="38"/>
                    </a:lnTo>
                    <a:lnTo>
                      <a:pt x="603" y="38"/>
                    </a:lnTo>
                    <a:lnTo>
                      <a:pt x="510" y="38"/>
                    </a:lnTo>
                    <a:lnTo>
                      <a:pt x="417" y="38"/>
                    </a:lnTo>
                    <a:lnTo>
                      <a:pt x="324" y="38"/>
                    </a:lnTo>
                    <a:lnTo>
                      <a:pt x="232" y="38"/>
                    </a:lnTo>
                    <a:lnTo>
                      <a:pt x="139" y="38"/>
                    </a:lnTo>
                    <a:lnTo>
                      <a:pt x="46" y="38"/>
                    </a:lnTo>
                    <a:lnTo>
                      <a:pt x="0" y="38"/>
                    </a:lnTo>
                    <a:lnTo>
                      <a:pt x="0" y="17"/>
                    </a:lnTo>
                    <a:close/>
                  </a:path>
                </a:pathLst>
              </a:custGeom>
              <a:noFill/>
              <a:ln w="3175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0" name="Freeform 315"/>
              <p:cNvSpPr/>
              <p:nvPr/>
            </p:nvSpPr>
            <p:spPr>
              <a:xfrm>
                <a:off x="434520" y="2692800"/>
                <a:ext cx="2310120" cy="414360"/>
              </a:xfrm>
              <a:custGeom>
                <a:avLst/>
                <a:gdLst>
                  <a:gd name="textAreaLeft" fmla="*/ 0 w 2310120"/>
                  <a:gd name="textAreaRight" fmla="*/ 2310480 w 2310120"/>
                  <a:gd name="textAreaTop" fmla="*/ 0 h 414360"/>
                  <a:gd name="textAreaBottom" fmla="*/ 414720 h 414360"/>
                </a:gdLst>
                <a:ahLst/>
                <a:rect l="textAreaLeft" t="textAreaTop" r="textAreaRight" b="textAreaBottom"/>
                <a:pathLst>
                  <a:path w="1447" h="169">
                    <a:moveTo>
                      <a:pt x="0" y="168"/>
                    </a:moveTo>
                    <a:lnTo>
                      <a:pt x="9" y="168"/>
                    </a:lnTo>
                    <a:lnTo>
                      <a:pt x="18" y="169"/>
                    </a:lnTo>
                    <a:lnTo>
                      <a:pt x="27" y="168"/>
                    </a:lnTo>
                    <a:lnTo>
                      <a:pt x="37" y="168"/>
                    </a:lnTo>
                    <a:lnTo>
                      <a:pt x="46" y="168"/>
                    </a:lnTo>
                    <a:lnTo>
                      <a:pt x="55" y="168"/>
                    </a:lnTo>
                    <a:lnTo>
                      <a:pt x="64" y="168"/>
                    </a:lnTo>
                    <a:lnTo>
                      <a:pt x="74" y="168"/>
                    </a:lnTo>
                    <a:lnTo>
                      <a:pt x="83" y="168"/>
                    </a:lnTo>
                    <a:lnTo>
                      <a:pt x="92" y="168"/>
                    </a:lnTo>
                    <a:lnTo>
                      <a:pt x="102" y="168"/>
                    </a:lnTo>
                    <a:lnTo>
                      <a:pt x="111" y="167"/>
                    </a:lnTo>
                    <a:lnTo>
                      <a:pt x="120" y="167"/>
                    </a:lnTo>
                    <a:lnTo>
                      <a:pt x="129" y="167"/>
                    </a:lnTo>
                    <a:lnTo>
                      <a:pt x="139" y="167"/>
                    </a:lnTo>
                    <a:lnTo>
                      <a:pt x="148" y="167"/>
                    </a:lnTo>
                    <a:lnTo>
                      <a:pt x="157" y="167"/>
                    </a:lnTo>
                    <a:lnTo>
                      <a:pt x="167" y="167"/>
                    </a:lnTo>
                    <a:lnTo>
                      <a:pt x="176" y="167"/>
                    </a:lnTo>
                    <a:lnTo>
                      <a:pt x="185" y="166"/>
                    </a:lnTo>
                    <a:lnTo>
                      <a:pt x="194" y="166"/>
                    </a:lnTo>
                    <a:lnTo>
                      <a:pt x="204" y="166"/>
                    </a:lnTo>
                    <a:lnTo>
                      <a:pt x="213" y="166"/>
                    </a:lnTo>
                    <a:lnTo>
                      <a:pt x="222" y="166"/>
                    </a:lnTo>
                    <a:lnTo>
                      <a:pt x="232" y="166"/>
                    </a:lnTo>
                    <a:lnTo>
                      <a:pt x="241" y="166"/>
                    </a:lnTo>
                    <a:lnTo>
                      <a:pt x="250" y="165"/>
                    </a:lnTo>
                    <a:lnTo>
                      <a:pt x="259" y="165"/>
                    </a:lnTo>
                    <a:lnTo>
                      <a:pt x="269" y="165"/>
                    </a:lnTo>
                    <a:lnTo>
                      <a:pt x="278" y="165"/>
                    </a:lnTo>
                    <a:lnTo>
                      <a:pt x="287" y="165"/>
                    </a:lnTo>
                    <a:lnTo>
                      <a:pt x="296" y="164"/>
                    </a:lnTo>
                    <a:lnTo>
                      <a:pt x="306" y="164"/>
                    </a:lnTo>
                    <a:lnTo>
                      <a:pt x="315" y="164"/>
                    </a:lnTo>
                    <a:lnTo>
                      <a:pt x="324" y="164"/>
                    </a:lnTo>
                    <a:lnTo>
                      <a:pt x="334" y="164"/>
                    </a:lnTo>
                    <a:lnTo>
                      <a:pt x="343" y="164"/>
                    </a:lnTo>
                    <a:lnTo>
                      <a:pt x="352" y="163"/>
                    </a:lnTo>
                    <a:lnTo>
                      <a:pt x="361" y="163"/>
                    </a:lnTo>
                    <a:lnTo>
                      <a:pt x="371" y="163"/>
                    </a:lnTo>
                    <a:lnTo>
                      <a:pt x="380" y="163"/>
                    </a:lnTo>
                    <a:lnTo>
                      <a:pt x="389" y="163"/>
                    </a:lnTo>
                    <a:lnTo>
                      <a:pt x="399" y="163"/>
                    </a:lnTo>
                    <a:lnTo>
                      <a:pt x="408" y="162"/>
                    </a:lnTo>
                    <a:lnTo>
                      <a:pt x="417" y="162"/>
                    </a:lnTo>
                    <a:lnTo>
                      <a:pt x="426" y="162"/>
                    </a:lnTo>
                    <a:lnTo>
                      <a:pt x="436" y="162"/>
                    </a:lnTo>
                    <a:lnTo>
                      <a:pt x="445" y="161"/>
                    </a:lnTo>
                    <a:lnTo>
                      <a:pt x="454" y="161"/>
                    </a:lnTo>
                    <a:lnTo>
                      <a:pt x="464" y="160"/>
                    </a:lnTo>
                    <a:lnTo>
                      <a:pt x="473" y="160"/>
                    </a:lnTo>
                    <a:lnTo>
                      <a:pt x="482" y="160"/>
                    </a:lnTo>
                    <a:lnTo>
                      <a:pt x="491" y="159"/>
                    </a:lnTo>
                    <a:lnTo>
                      <a:pt x="501" y="159"/>
                    </a:lnTo>
                    <a:lnTo>
                      <a:pt x="510" y="158"/>
                    </a:lnTo>
                    <a:lnTo>
                      <a:pt x="519" y="157"/>
                    </a:lnTo>
                    <a:lnTo>
                      <a:pt x="528" y="156"/>
                    </a:lnTo>
                    <a:lnTo>
                      <a:pt x="538" y="157"/>
                    </a:lnTo>
                    <a:lnTo>
                      <a:pt x="547" y="156"/>
                    </a:lnTo>
                    <a:lnTo>
                      <a:pt x="556" y="156"/>
                    </a:lnTo>
                    <a:lnTo>
                      <a:pt x="566" y="155"/>
                    </a:lnTo>
                    <a:lnTo>
                      <a:pt x="575" y="155"/>
                    </a:lnTo>
                    <a:lnTo>
                      <a:pt x="584" y="154"/>
                    </a:lnTo>
                    <a:lnTo>
                      <a:pt x="593" y="155"/>
                    </a:lnTo>
                    <a:lnTo>
                      <a:pt x="603" y="155"/>
                    </a:lnTo>
                    <a:lnTo>
                      <a:pt x="612" y="154"/>
                    </a:lnTo>
                    <a:lnTo>
                      <a:pt x="621" y="153"/>
                    </a:lnTo>
                    <a:lnTo>
                      <a:pt x="631" y="153"/>
                    </a:lnTo>
                    <a:lnTo>
                      <a:pt x="640" y="155"/>
                    </a:lnTo>
                    <a:lnTo>
                      <a:pt x="649" y="153"/>
                    </a:lnTo>
                    <a:lnTo>
                      <a:pt x="658" y="155"/>
                    </a:lnTo>
                    <a:lnTo>
                      <a:pt x="668" y="154"/>
                    </a:lnTo>
                    <a:lnTo>
                      <a:pt x="677" y="152"/>
                    </a:lnTo>
                    <a:lnTo>
                      <a:pt x="686" y="152"/>
                    </a:lnTo>
                    <a:lnTo>
                      <a:pt x="696" y="151"/>
                    </a:lnTo>
                    <a:lnTo>
                      <a:pt x="705" y="151"/>
                    </a:lnTo>
                    <a:lnTo>
                      <a:pt x="714" y="150"/>
                    </a:lnTo>
                    <a:lnTo>
                      <a:pt x="723" y="149"/>
                    </a:lnTo>
                    <a:lnTo>
                      <a:pt x="733" y="148"/>
                    </a:lnTo>
                    <a:lnTo>
                      <a:pt x="742" y="149"/>
                    </a:lnTo>
                    <a:lnTo>
                      <a:pt x="751" y="150"/>
                    </a:lnTo>
                    <a:lnTo>
                      <a:pt x="760" y="152"/>
                    </a:lnTo>
                    <a:lnTo>
                      <a:pt x="770" y="151"/>
                    </a:lnTo>
                    <a:lnTo>
                      <a:pt x="779" y="150"/>
                    </a:lnTo>
                    <a:lnTo>
                      <a:pt x="788" y="149"/>
                    </a:lnTo>
                    <a:lnTo>
                      <a:pt x="798" y="148"/>
                    </a:lnTo>
                    <a:lnTo>
                      <a:pt x="807" y="147"/>
                    </a:lnTo>
                    <a:lnTo>
                      <a:pt x="816" y="147"/>
                    </a:lnTo>
                    <a:lnTo>
                      <a:pt x="825" y="145"/>
                    </a:lnTo>
                    <a:lnTo>
                      <a:pt x="835" y="145"/>
                    </a:lnTo>
                    <a:lnTo>
                      <a:pt x="844" y="143"/>
                    </a:lnTo>
                    <a:lnTo>
                      <a:pt x="853" y="142"/>
                    </a:lnTo>
                    <a:lnTo>
                      <a:pt x="863" y="142"/>
                    </a:lnTo>
                    <a:lnTo>
                      <a:pt x="872" y="142"/>
                    </a:lnTo>
                    <a:lnTo>
                      <a:pt x="881" y="145"/>
                    </a:lnTo>
                    <a:lnTo>
                      <a:pt x="890" y="143"/>
                    </a:lnTo>
                    <a:lnTo>
                      <a:pt x="900" y="141"/>
                    </a:lnTo>
                    <a:lnTo>
                      <a:pt x="909" y="140"/>
                    </a:lnTo>
                    <a:lnTo>
                      <a:pt x="918" y="140"/>
                    </a:lnTo>
                    <a:lnTo>
                      <a:pt x="928" y="137"/>
                    </a:lnTo>
                    <a:lnTo>
                      <a:pt x="937" y="136"/>
                    </a:lnTo>
                    <a:lnTo>
                      <a:pt x="946" y="135"/>
                    </a:lnTo>
                    <a:lnTo>
                      <a:pt x="955" y="134"/>
                    </a:lnTo>
                    <a:lnTo>
                      <a:pt x="965" y="133"/>
                    </a:lnTo>
                    <a:lnTo>
                      <a:pt x="974" y="131"/>
                    </a:lnTo>
                    <a:lnTo>
                      <a:pt x="983" y="129"/>
                    </a:lnTo>
                    <a:lnTo>
                      <a:pt x="992" y="126"/>
                    </a:lnTo>
                    <a:lnTo>
                      <a:pt x="1002" y="124"/>
                    </a:lnTo>
                    <a:lnTo>
                      <a:pt x="1011" y="122"/>
                    </a:lnTo>
                    <a:lnTo>
                      <a:pt x="1020" y="120"/>
                    </a:lnTo>
                    <a:lnTo>
                      <a:pt x="1030" y="118"/>
                    </a:lnTo>
                    <a:lnTo>
                      <a:pt x="1039" y="115"/>
                    </a:lnTo>
                    <a:lnTo>
                      <a:pt x="1048" y="112"/>
                    </a:lnTo>
                    <a:lnTo>
                      <a:pt x="1057" y="109"/>
                    </a:lnTo>
                    <a:lnTo>
                      <a:pt x="1067" y="109"/>
                    </a:lnTo>
                    <a:lnTo>
                      <a:pt x="1076" y="106"/>
                    </a:lnTo>
                    <a:lnTo>
                      <a:pt x="1085" y="104"/>
                    </a:lnTo>
                    <a:lnTo>
                      <a:pt x="1095" y="101"/>
                    </a:lnTo>
                    <a:lnTo>
                      <a:pt x="1104" y="97"/>
                    </a:lnTo>
                    <a:lnTo>
                      <a:pt x="1113" y="94"/>
                    </a:lnTo>
                    <a:lnTo>
                      <a:pt x="1122" y="91"/>
                    </a:lnTo>
                    <a:lnTo>
                      <a:pt x="1132" y="86"/>
                    </a:lnTo>
                    <a:lnTo>
                      <a:pt x="1141" y="81"/>
                    </a:lnTo>
                    <a:lnTo>
                      <a:pt x="1150" y="81"/>
                    </a:lnTo>
                    <a:lnTo>
                      <a:pt x="1160" y="81"/>
                    </a:lnTo>
                    <a:lnTo>
                      <a:pt x="1169" y="75"/>
                    </a:lnTo>
                    <a:lnTo>
                      <a:pt x="1178" y="72"/>
                    </a:lnTo>
                    <a:lnTo>
                      <a:pt x="1187" y="68"/>
                    </a:lnTo>
                    <a:lnTo>
                      <a:pt x="1197" y="65"/>
                    </a:lnTo>
                    <a:lnTo>
                      <a:pt x="1206" y="65"/>
                    </a:lnTo>
                    <a:lnTo>
                      <a:pt x="1215" y="66"/>
                    </a:lnTo>
                    <a:lnTo>
                      <a:pt x="1224" y="66"/>
                    </a:lnTo>
                    <a:lnTo>
                      <a:pt x="1234" y="66"/>
                    </a:lnTo>
                    <a:lnTo>
                      <a:pt x="1243" y="62"/>
                    </a:lnTo>
                    <a:lnTo>
                      <a:pt x="1252" y="59"/>
                    </a:lnTo>
                    <a:lnTo>
                      <a:pt x="1262" y="57"/>
                    </a:lnTo>
                    <a:lnTo>
                      <a:pt x="1271" y="52"/>
                    </a:lnTo>
                    <a:lnTo>
                      <a:pt x="1280" y="48"/>
                    </a:lnTo>
                    <a:lnTo>
                      <a:pt x="1289" y="46"/>
                    </a:lnTo>
                    <a:lnTo>
                      <a:pt x="1299" y="44"/>
                    </a:lnTo>
                    <a:lnTo>
                      <a:pt x="1308" y="43"/>
                    </a:lnTo>
                    <a:lnTo>
                      <a:pt x="1317" y="43"/>
                    </a:lnTo>
                    <a:lnTo>
                      <a:pt x="1327" y="42"/>
                    </a:lnTo>
                    <a:lnTo>
                      <a:pt x="1336" y="41"/>
                    </a:lnTo>
                    <a:lnTo>
                      <a:pt x="1345" y="38"/>
                    </a:lnTo>
                    <a:lnTo>
                      <a:pt x="1354" y="34"/>
                    </a:lnTo>
                    <a:lnTo>
                      <a:pt x="1364" y="33"/>
                    </a:lnTo>
                    <a:lnTo>
                      <a:pt x="1373" y="32"/>
                    </a:lnTo>
                    <a:lnTo>
                      <a:pt x="1382" y="29"/>
                    </a:lnTo>
                    <a:lnTo>
                      <a:pt x="1392" y="26"/>
                    </a:lnTo>
                    <a:lnTo>
                      <a:pt x="1401" y="26"/>
                    </a:lnTo>
                    <a:lnTo>
                      <a:pt x="1410" y="22"/>
                    </a:lnTo>
                    <a:lnTo>
                      <a:pt x="1419" y="16"/>
                    </a:lnTo>
                    <a:lnTo>
                      <a:pt x="1429" y="8"/>
                    </a:lnTo>
                    <a:lnTo>
                      <a:pt x="1438" y="4"/>
                    </a:lnTo>
                    <a:lnTo>
                      <a:pt x="1447" y="0"/>
                    </a:lnTo>
                    <a:lnTo>
                      <a:pt x="1447" y="4"/>
                    </a:lnTo>
                    <a:lnTo>
                      <a:pt x="1438" y="8"/>
                    </a:lnTo>
                    <a:lnTo>
                      <a:pt x="1429" y="12"/>
                    </a:lnTo>
                    <a:lnTo>
                      <a:pt x="1419" y="20"/>
                    </a:lnTo>
                    <a:lnTo>
                      <a:pt x="1410" y="26"/>
                    </a:lnTo>
                    <a:lnTo>
                      <a:pt x="1401" y="29"/>
                    </a:lnTo>
                    <a:lnTo>
                      <a:pt x="1392" y="30"/>
                    </a:lnTo>
                    <a:lnTo>
                      <a:pt x="1382" y="33"/>
                    </a:lnTo>
                    <a:lnTo>
                      <a:pt x="1373" y="36"/>
                    </a:lnTo>
                    <a:lnTo>
                      <a:pt x="1364" y="36"/>
                    </a:lnTo>
                    <a:lnTo>
                      <a:pt x="1354" y="38"/>
                    </a:lnTo>
                    <a:lnTo>
                      <a:pt x="1345" y="41"/>
                    </a:lnTo>
                    <a:lnTo>
                      <a:pt x="1336" y="44"/>
                    </a:lnTo>
                    <a:lnTo>
                      <a:pt x="1327" y="45"/>
                    </a:lnTo>
                    <a:lnTo>
                      <a:pt x="1317" y="46"/>
                    </a:lnTo>
                    <a:lnTo>
                      <a:pt x="1308" y="46"/>
                    </a:lnTo>
                    <a:lnTo>
                      <a:pt x="1299" y="47"/>
                    </a:lnTo>
                    <a:lnTo>
                      <a:pt x="1289" y="49"/>
                    </a:lnTo>
                    <a:lnTo>
                      <a:pt x="1280" y="51"/>
                    </a:lnTo>
                    <a:lnTo>
                      <a:pt x="1271" y="55"/>
                    </a:lnTo>
                    <a:lnTo>
                      <a:pt x="1262" y="60"/>
                    </a:lnTo>
                    <a:lnTo>
                      <a:pt x="1252" y="62"/>
                    </a:lnTo>
                    <a:lnTo>
                      <a:pt x="1243" y="64"/>
                    </a:lnTo>
                    <a:lnTo>
                      <a:pt x="1234" y="68"/>
                    </a:lnTo>
                    <a:lnTo>
                      <a:pt x="1224" y="69"/>
                    </a:lnTo>
                    <a:lnTo>
                      <a:pt x="1215" y="69"/>
                    </a:lnTo>
                    <a:lnTo>
                      <a:pt x="1206" y="67"/>
                    </a:lnTo>
                    <a:lnTo>
                      <a:pt x="1197" y="67"/>
                    </a:lnTo>
                    <a:lnTo>
                      <a:pt x="1187" y="70"/>
                    </a:lnTo>
                    <a:lnTo>
                      <a:pt x="1178" y="74"/>
                    </a:lnTo>
                    <a:lnTo>
                      <a:pt x="1169" y="77"/>
                    </a:lnTo>
                    <a:lnTo>
                      <a:pt x="1160" y="83"/>
                    </a:lnTo>
                    <a:lnTo>
                      <a:pt x="1150" y="83"/>
                    </a:lnTo>
                    <a:lnTo>
                      <a:pt x="1141" y="83"/>
                    </a:lnTo>
                    <a:lnTo>
                      <a:pt x="1132" y="88"/>
                    </a:lnTo>
                    <a:lnTo>
                      <a:pt x="1122" y="92"/>
                    </a:lnTo>
                    <a:lnTo>
                      <a:pt x="1113" y="95"/>
                    </a:lnTo>
                    <a:lnTo>
                      <a:pt x="1104" y="99"/>
                    </a:lnTo>
                    <a:lnTo>
                      <a:pt x="1095" y="102"/>
                    </a:lnTo>
                    <a:lnTo>
                      <a:pt x="1085" y="106"/>
                    </a:lnTo>
                    <a:lnTo>
                      <a:pt x="1076" y="107"/>
                    </a:lnTo>
                    <a:lnTo>
                      <a:pt x="1067" y="110"/>
                    </a:lnTo>
                    <a:lnTo>
                      <a:pt x="1057" y="110"/>
                    </a:lnTo>
                    <a:lnTo>
                      <a:pt x="1048" y="113"/>
                    </a:lnTo>
                    <a:lnTo>
                      <a:pt x="1039" y="116"/>
                    </a:lnTo>
                    <a:lnTo>
                      <a:pt x="1030" y="119"/>
                    </a:lnTo>
                    <a:lnTo>
                      <a:pt x="1020" y="121"/>
                    </a:lnTo>
                    <a:lnTo>
                      <a:pt x="1011" y="123"/>
                    </a:lnTo>
                    <a:lnTo>
                      <a:pt x="1002" y="125"/>
                    </a:lnTo>
                    <a:lnTo>
                      <a:pt x="992" y="127"/>
                    </a:lnTo>
                    <a:lnTo>
                      <a:pt x="983" y="130"/>
                    </a:lnTo>
                    <a:lnTo>
                      <a:pt x="974" y="132"/>
                    </a:lnTo>
                    <a:lnTo>
                      <a:pt x="965" y="134"/>
                    </a:lnTo>
                    <a:lnTo>
                      <a:pt x="955" y="134"/>
                    </a:lnTo>
                    <a:lnTo>
                      <a:pt x="946" y="136"/>
                    </a:lnTo>
                    <a:lnTo>
                      <a:pt x="937" y="137"/>
                    </a:lnTo>
                    <a:lnTo>
                      <a:pt x="928" y="138"/>
                    </a:lnTo>
                    <a:lnTo>
                      <a:pt x="918" y="141"/>
                    </a:lnTo>
                    <a:lnTo>
                      <a:pt x="909" y="141"/>
                    </a:lnTo>
                    <a:lnTo>
                      <a:pt x="900" y="142"/>
                    </a:lnTo>
                    <a:lnTo>
                      <a:pt x="890" y="144"/>
                    </a:lnTo>
                    <a:lnTo>
                      <a:pt x="881" y="146"/>
                    </a:lnTo>
                    <a:lnTo>
                      <a:pt x="872" y="143"/>
                    </a:lnTo>
                    <a:lnTo>
                      <a:pt x="863" y="142"/>
                    </a:lnTo>
                    <a:lnTo>
                      <a:pt x="853" y="143"/>
                    </a:lnTo>
                    <a:lnTo>
                      <a:pt x="844" y="144"/>
                    </a:lnTo>
                    <a:lnTo>
                      <a:pt x="835" y="146"/>
                    </a:lnTo>
                    <a:lnTo>
                      <a:pt x="825" y="146"/>
                    </a:lnTo>
                    <a:lnTo>
                      <a:pt x="816" y="148"/>
                    </a:lnTo>
                    <a:lnTo>
                      <a:pt x="807" y="147"/>
                    </a:lnTo>
                    <a:lnTo>
                      <a:pt x="798" y="148"/>
                    </a:lnTo>
                    <a:lnTo>
                      <a:pt x="788" y="150"/>
                    </a:lnTo>
                    <a:lnTo>
                      <a:pt x="779" y="151"/>
                    </a:lnTo>
                    <a:lnTo>
                      <a:pt x="770" y="152"/>
                    </a:lnTo>
                    <a:lnTo>
                      <a:pt x="760" y="152"/>
                    </a:lnTo>
                    <a:lnTo>
                      <a:pt x="751" y="151"/>
                    </a:lnTo>
                    <a:lnTo>
                      <a:pt x="742" y="150"/>
                    </a:lnTo>
                    <a:lnTo>
                      <a:pt x="733" y="149"/>
                    </a:lnTo>
                    <a:lnTo>
                      <a:pt x="723" y="149"/>
                    </a:lnTo>
                    <a:lnTo>
                      <a:pt x="714" y="150"/>
                    </a:lnTo>
                    <a:lnTo>
                      <a:pt x="705" y="151"/>
                    </a:lnTo>
                    <a:lnTo>
                      <a:pt x="696" y="151"/>
                    </a:lnTo>
                    <a:lnTo>
                      <a:pt x="686" y="152"/>
                    </a:lnTo>
                    <a:lnTo>
                      <a:pt x="677" y="152"/>
                    </a:lnTo>
                    <a:lnTo>
                      <a:pt x="668" y="154"/>
                    </a:lnTo>
                    <a:lnTo>
                      <a:pt x="658" y="155"/>
                    </a:lnTo>
                    <a:lnTo>
                      <a:pt x="649" y="153"/>
                    </a:lnTo>
                    <a:lnTo>
                      <a:pt x="640" y="155"/>
                    </a:lnTo>
                    <a:lnTo>
                      <a:pt x="631" y="153"/>
                    </a:lnTo>
                    <a:lnTo>
                      <a:pt x="621" y="153"/>
                    </a:lnTo>
                    <a:lnTo>
                      <a:pt x="612" y="154"/>
                    </a:lnTo>
                    <a:lnTo>
                      <a:pt x="603" y="155"/>
                    </a:lnTo>
                    <a:lnTo>
                      <a:pt x="593" y="155"/>
                    </a:lnTo>
                    <a:lnTo>
                      <a:pt x="584" y="154"/>
                    </a:lnTo>
                    <a:lnTo>
                      <a:pt x="575" y="155"/>
                    </a:lnTo>
                    <a:lnTo>
                      <a:pt x="566" y="155"/>
                    </a:lnTo>
                    <a:lnTo>
                      <a:pt x="556" y="156"/>
                    </a:lnTo>
                    <a:lnTo>
                      <a:pt x="547" y="156"/>
                    </a:lnTo>
                    <a:lnTo>
                      <a:pt x="538" y="157"/>
                    </a:lnTo>
                    <a:lnTo>
                      <a:pt x="528" y="156"/>
                    </a:lnTo>
                    <a:lnTo>
                      <a:pt x="519" y="157"/>
                    </a:lnTo>
                    <a:lnTo>
                      <a:pt x="510" y="158"/>
                    </a:lnTo>
                    <a:lnTo>
                      <a:pt x="501" y="159"/>
                    </a:lnTo>
                    <a:lnTo>
                      <a:pt x="491" y="159"/>
                    </a:lnTo>
                    <a:lnTo>
                      <a:pt x="482" y="160"/>
                    </a:lnTo>
                    <a:lnTo>
                      <a:pt x="473" y="160"/>
                    </a:lnTo>
                    <a:lnTo>
                      <a:pt x="464" y="160"/>
                    </a:lnTo>
                    <a:lnTo>
                      <a:pt x="454" y="161"/>
                    </a:lnTo>
                    <a:lnTo>
                      <a:pt x="445" y="161"/>
                    </a:lnTo>
                    <a:lnTo>
                      <a:pt x="436" y="162"/>
                    </a:lnTo>
                    <a:lnTo>
                      <a:pt x="426" y="162"/>
                    </a:lnTo>
                    <a:lnTo>
                      <a:pt x="417" y="162"/>
                    </a:lnTo>
                    <a:lnTo>
                      <a:pt x="408" y="162"/>
                    </a:lnTo>
                    <a:lnTo>
                      <a:pt x="399" y="163"/>
                    </a:lnTo>
                    <a:lnTo>
                      <a:pt x="389" y="163"/>
                    </a:lnTo>
                    <a:lnTo>
                      <a:pt x="380" y="163"/>
                    </a:lnTo>
                    <a:lnTo>
                      <a:pt x="371" y="163"/>
                    </a:lnTo>
                    <a:lnTo>
                      <a:pt x="361" y="163"/>
                    </a:lnTo>
                    <a:lnTo>
                      <a:pt x="352" y="163"/>
                    </a:lnTo>
                    <a:lnTo>
                      <a:pt x="343" y="164"/>
                    </a:lnTo>
                    <a:lnTo>
                      <a:pt x="334" y="164"/>
                    </a:lnTo>
                    <a:lnTo>
                      <a:pt x="324" y="164"/>
                    </a:lnTo>
                    <a:lnTo>
                      <a:pt x="315" y="164"/>
                    </a:lnTo>
                    <a:lnTo>
                      <a:pt x="306" y="164"/>
                    </a:lnTo>
                    <a:lnTo>
                      <a:pt x="296" y="164"/>
                    </a:lnTo>
                    <a:lnTo>
                      <a:pt x="287" y="165"/>
                    </a:lnTo>
                    <a:lnTo>
                      <a:pt x="278" y="165"/>
                    </a:lnTo>
                    <a:lnTo>
                      <a:pt x="269" y="165"/>
                    </a:lnTo>
                    <a:lnTo>
                      <a:pt x="259" y="165"/>
                    </a:lnTo>
                    <a:lnTo>
                      <a:pt x="250" y="165"/>
                    </a:lnTo>
                    <a:lnTo>
                      <a:pt x="241" y="166"/>
                    </a:lnTo>
                    <a:lnTo>
                      <a:pt x="232" y="166"/>
                    </a:lnTo>
                    <a:lnTo>
                      <a:pt x="222" y="166"/>
                    </a:lnTo>
                    <a:lnTo>
                      <a:pt x="213" y="166"/>
                    </a:lnTo>
                    <a:lnTo>
                      <a:pt x="204" y="166"/>
                    </a:lnTo>
                    <a:lnTo>
                      <a:pt x="194" y="166"/>
                    </a:lnTo>
                    <a:lnTo>
                      <a:pt x="185" y="166"/>
                    </a:lnTo>
                    <a:lnTo>
                      <a:pt x="176" y="167"/>
                    </a:lnTo>
                    <a:lnTo>
                      <a:pt x="167" y="167"/>
                    </a:lnTo>
                    <a:lnTo>
                      <a:pt x="157" y="167"/>
                    </a:lnTo>
                    <a:lnTo>
                      <a:pt x="148" y="167"/>
                    </a:lnTo>
                    <a:lnTo>
                      <a:pt x="139" y="167"/>
                    </a:lnTo>
                    <a:lnTo>
                      <a:pt x="129" y="167"/>
                    </a:lnTo>
                    <a:lnTo>
                      <a:pt x="120" y="167"/>
                    </a:lnTo>
                    <a:lnTo>
                      <a:pt x="111" y="167"/>
                    </a:lnTo>
                    <a:lnTo>
                      <a:pt x="102" y="168"/>
                    </a:lnTo>
                    <a:lnTo>
                      <a:pt x="92" y="168"/>
                    </a:lnTo>
                    <a:lnTo>
                      <a:pt x="83" y="168"/>
                    </a:lnTo>
                    <a:lnTo>
                      <a:pt x="74" y="168"/>
                    </a:lnTo>
                    <a:lnTo>
                      <a:pt x="64" y="168"/>
                    </a:lnTo>
                    <a:lnTo>
                      <a:pt x="55" y="168"/>
                    </a:lnTo>
                    <a:lnTo>
                      <a:pt x="46" y="168"/>
                    </a:lnTo>
                    <a:lnTo>
                      <a:pt x="37" y="168"/>
                    </a:lnTo>
                    <a:lnTo>
                      <a:pt x="27" y="168"/>
                    </a:lnTo>
                    <a:lnTo>
                      <a:pt x="18" y="169"/>
                    </a:lnTo>
                    <a:lnTo>
                      <a:pt x="9" y="168"/>
                    </a:lnTo>
                    <a:lnTo>
                      <a:pt x="0" y="168"/>
                    </a:lnTo>
                    <a:close/>
                  </a:path>
                </a:pathLst>
              </a:custGeom>
              <a:solidFill>
                <a:srgbClr val="ffc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1" name="Freeform 316"/>
              <p:cNvSpPr/>
              <p:nvPr/>
            </p:nvSpPr>
            <p:spPr>
              <a:xfrm>
                <a:off x="434520" y="2692800"/>
                <a:ext cx="2310120" cy="414360"/>
              </a:xfrm>
              <a:custGeom>
                <a:avLst/>
                <a:gdLst>
                  <a:gd name="textAreaLeft" fmla="*/ 0 w 2310120"/>
                  <a:gd name="textAreaRight" fmla="*/ 2310480 w 2310120"/>
                  <a:gd name="textAreaTop" fmla="*/ 0 h 414360"/>
                  <a:gd name="textAreaBottom" fmla="*/ 414720 h 414360"/>
                </a:gdLst>
                <a:ahLst/>
                <a:rect l="textAreaLeft" t="textAreaTop" r="textAreaRight" b="textAreaBottom"/>
                <a:pathLst>
                  <a:path w="1447" h="169">
                    <a:moveTo>
                      <a:pt x="0" y="168"/>
                    </a:moveTo>
                    <a:lnTo>
                      <a:pt x="9" y="168"/>
                    </a:lnTo>
                    <a:lnTo>
                      <a:pt x="18" y="169"/>
                    </a:lnTo>
                    <a:lnTo>
                      <a:pt x="27" y="168"/>
                    </a:lnTo>
                    <a:lnTo>
                      <a:pt x="37" y="168"/>
                    </a:lnTo>
                    <a:lnTo>
                      <a:pt x="46" y="168"/>
                    </a:lnTo>
                    <a:lnTo>
                      <a:pt x="55" y="168"/>
                    </a:lnTo>
                    <a:lnTo>
                      <a:pt x="64" y="168"/>
                    </a:lnTo>
                    <a:lnTo>
                      <a:pt x="74" y="168"/>
                    </a:lnTo>
                    <a:lnTo>
                      <a:pt x="83" y="168"/>
                    </a:lnTo>
                    <a:lnTo>
                      <a:pt x="92" y="168"/>
                    </a:lnTo>
                    <a:lnTo>
                      <a:pt x="102" y="168"/>
                    </a:lnTo>
                    <a:lnTo>
                      <a:pt x="111" y="167"/>
                    </a:lnTo>
                    <a:lnTo>
                      <a:pt x="120" y="167"/>
                    </a:lnTo>
                    <a:lnTo>
                      <a:pt x="129" y="167"/>
                    </a:lnTo>
                    <a:lnTo>
                      <a:pt x="139" y="167"/>
                    </a:lnTo>
                    <a:lnTo>
                      <a:pt x="148" y="167"/>
                    </a:lnTo>
                    <a:lnTo>
                      <a:pt x="157" y="167"/>
                    </a:lnTo>
                    <a:lnTo>
                      <a:pt x="167" y="167"/>
                    </a:lnTo>
                    <a:lnTo>
                      <a:pt x="176" y="167"/>
                    </a:lnTo>
                    <a:lnTo>
                      <a:pt x="185" y="166"/>
                    </a:lnTo>
                    <a:lnTo>
                      <a:pt x="194" y="166"/>
                    </a:lnTo>
                    <a:lnTo>
                      <a:pt x="204" y="166"/>
                    </a:lnTo>
                    <a:lnTo>
                      <a:pt x="213" y="166"/>
                    </a:lnTo>
                    <a:lnTo>
                      <a:pt x="222" y="166"/>
                    </a:lnTo>
                    <a:lnTo>
                      <a:pt x="232" y="166"/>
                    </a:lnTo>
                    <a:lnTo>
                      <a:pt x="241" y="166"/>
                    </a:lnTo>
                    <a:lnTo>
                      <a:pt x="250" y="165"/>
                    </a:lnTo>
                    <a:lnTo>
                      <a:pt x="259" y="165"/>
                    </a:lnTo>
                    <a:lnTo>
                      <a:pt x="269" y="165"/>
                    </a:lnTo>
                    <a:lnTo>
                      <a:pt x="278" y="165"/>
                    </a:lnTo>
                    <a:lnTo>
                      <a:pt x="287" y="165"/>
                    </a:lnTo>
                    <a:lnTo>
                      <a:pt x="296" y="164"/>
                    </a:lnTo>
                    <a:lnTo>
                      <a:pt x="306" y="164"/>
                    </a:lnTo>
                    <a:lnTo>
                      <a:pt x="315" y="164"/>
                    </a:lnTo>
                    <a:lnTo>
                      <a:pt x="324" y="164"/>
                    </a:lnTo>
                    <a:lnTo>
                      <a:pt x="334" y="164"/>
                    </a:lnTo>
                    <a:lnTo>
                      <a:pt x="343" y="164"/>
                    </a:lnTo>
                    <a:lnTo>
                      <a:pt x="352" y="163"/>
                    </a:lnTo>
                    <a:lnTo>
                      <a:pt x="361" y="163"/>
                    </a:lnTo>
                    <a:lnTo>
                      <a:pt x="371" y="163"/>
                    </a:lnTo>
                    <a:lnTo>
                      <a:pt x="380" y="163"/>
                    </a:lnTo>
                    <a:lnTo>
                      <a:pt x="389" y="163"/>
                    </a:lnTo>
                    <a:lnTo>
                      <a:pt x="399" y="163"/>
                    </a:lnTo>
                    <a:lnTo>
                      <a:pt x="408" y="162"/>
                    </a:lnTo>
                    <a:lnTo>
                      <a:pt x="417" y="162"/>
                    </a:lnTo>
                    <a:lnTo>
                      <a:pt x="426" y="162"/>
                    </a:lnTo>
                    <a:lnTo>
                      <a:pt x="436" y="162"/>
                    </a:lnTo>
                    <a:lnTo>
                      <a:pt x="445" y="161"/>
                    </a:lnTo>
                    <a:lnTo>
                      <a:pt x="454" y="161"/>
                    </a:lnTo>
                    <a:lnTo>
                      <a:pt x="464" y="160"/>
                    </a:lnTo>
                    <a:lnTo>
                      <a:pt x="473" y="160"/>
                    </a:lnTo>
                    <a:lnTo>
                      <a:pt x="482" y="160"/>
                    </a:lnTo>
                    <a:lnTo>
                      <a:pt x="491" y="159"/>
                    </a:lnTo>
                    <a:lnTo>
                      <a:pt x="501" y="159"/>
                    </a:lnTo>
                    <a:lnTo>
                      <a:pt x="510" y="158"/>
                    </a:lnTo>
                    <a:lnTo>
                      <a:pt x="519" y="157"/>
                    </a:lnTo>
                    <a:lnTo>
                      <a:pt x="528" y="156"/>
                    </a:lnTo>
                    <a:lnTo>
                      <a:pt x="538" y="157"/>
                    </a:lnTo>
                    <a:lnTo>
                      <a:pt x="547" y="156"/>
                    </a:lnTo>
                    <a:lnTo>
                      <a:pt x="556" y="156"/>
                    </a:lnTo>
                    <a:lnTo>
                      <a:pt x="566" y="155"/>
                    </a:lnTo>
                    <a:lnTo>
                      <a:pt x="575" y="155"/>
                    </a:lnTo>
                    <a:lnTo>
                      <a:pt x="584" y="154"/>
                    </a:lnTo>
                    <a:lnTo>
                      <a:pt x="593" y="155"/>
                    </a:lnTo>
                    <a:lnTo>
                      <a:pt x="603" y="155"/>
                    </a:lnTo>
                    <a:lnTo>
                      <a:pt x="612" y="154"/>
                    </a:lnTo>
                    <a:lnTo>
                      <a:pt x="621" y="153"/>
                    </a:lnTo>
                    <a:lnTo>
                      <a:pt x="631" y="153"/>
                    </a:lnTo>
                    <a:lnTo>
                      <a:pt x="640" y="155"/>
                    </a:lnTo>
                    <a:lnTo>
                      <a:pt x="649" y="153"/>
                    </a:lnTo>
                    <a:lnTo>
                      <a:pt x="658" y="155"/>
                    </a:lnTo>
                    <a:lnTo>
                      <a:pt x="668" y="154"/>
                    </a:lnTo>
                    <a:lnTo>
                      <a:pt x="677" y="152"/>
                    </a:lnTo>
                    <a:lnTo>
                      <a:pt x="686" y="152"/>
                    </a:lnTo>
                    <a:lnTo>
                      <a:pt x="696" y="151"/>
                    </a:lnTo>
                    <a:lnTo>
                      <a:pt x="705" y="151"/>
                    </a:lnTo>
                    <a:lnTo>
                      <a:pt x="714" y="150"/>
                    </a:lnTo>
                    <a:lnTo>
                      <a:pt x="723" y="149"/>
                    </a:lnTo>
                    <a:lnTo>
                      <a:pt x="733" y="148"/>
                    </a:lnTo>
                    <a:lnTo>
                      <a:pt x="742" y="149"/>
                    </a:lnTo>
                    <a:lnTo>
                      <a:pt x="751" y="150"/>
                    </a:lnTo>
                    <a:lnTo>
                      <a:pt x="760" y="152"/>
                    </a:lnTo>
                    <a:lnTo>
                      <a:pt x="770" y="151"/>
                    </a:lnTo>
                    <a:lnTo>
                      <a:pt x="779" y="150"/>
                    </a:lnTo>
                    <a:lnTo>
                      <a:pt x="788" y="149"/>
                    </a:lnTo>
                    <a:lnTo>
                      <a:pt x="798" y="148"/>
                    </a:lnTo>
                    <a:lnTo>
                      <a:pt x="807" y="147"/>
                    </a:lnTo>
                    <a:lnTo>
                      <a:pt x="816" y="147"/>
                    </a:lnTo>
                    <a:lnTo>
                      <a:pt x="825" y="145"/>
                    </a:lnTo>
                    <a:lnTo>
                      <a:pt x="835" y="145"/>
                    </a:lnTo>
                    <a:lnTo>
                      <a:pt x="844" y="143"/>
                    </a:lnTo>
                    <a:lnTo>
                      <a:pt x="853" y="142"/>
                    </a:lnTo>
                    <a:lnTo>
                      <a:pt x="863" y="142"/>
                    </a:lnTo>
                    <a:lnTo>
                      <a:pt x="872" y="142"/>
                    </a:lnTo>
                    <a:lnTo>
                      <a:pt x="881" y="145"/>
                    </a:lnTo>
                    <a:lnTo>
                      <a:pt x="890" y="143"/>
                    </a:lnTo>
                    <a:lnTo>
                      <a:pt x="900" y="141"/>
                    </a:lnTo>
                    <a:lnTo>
                      <a:pt x="909" y="140"/>
                    </a:lnTo>
                    <a:lnTo>
                      <a:pt x="918" y="140"/>
                    </a:lnTo>
                    <a:lnTo>
                      <a:pt x="928" y="137"/>
                    </a:lnTo>
                    <a:lnTo>
                      <a:pt x="937" y="136"/>
                    </a:lnTo>
                    <a:lnTo>
                      <a:pt x="946" y="135"/>
                    </a:lnTo>
                    <a:lnTo>
                      <a:pt x="955" y="134"/>
                    </a:lnTo>
                    <a:lnTo>
                      <a:pt x="965" y="133"/>
                    </a:lnTo>
                    <a:lnTo>
                      <a:pt x="974" y="131"/>
                    </a:lnTo>
                    <a:lnTo>
                      <a:pt x="983" y="129"/>
                    </a:lnTo>
                    <a:lnTo>
                      <a:pt x="992" y="126"/>
                    </a:lnTo>
                    <a:lnTo>
                      <a:pt x="1002" y="124"/>
                    </a:lnTo>
                    <a:lnTo>
                      <a:pt x="1011" y="122"/>
                    </a:lnTo>
                    <a:lnTo>
                      <a:pt x="1020" y="120"/>
                    </a:lnTo>
                    <a:lnTo>
                      <a:pt x="1030" y="118"/>
                    </a:lnTo>
                    <a:lnTo>
                      <a:pt x="1039" y="115"/>
                    </a:lnTo>
                    <a:lnTo>
                      <a:pt x="1048" y="112"/>
                    </a:lnTo>
                    <a:lnTo>
                      <a:pt x="1057" y="109"/>
                    </a:lnTo>
                    <a:lnTo>
                      <a:pt x="1067" y="109"/>
                    </a:lnTo>
                    <a:lnTo>
                      <a:pt x="1076" y="106"/>
                    </a:lnTo>
                    <a:lnTo>
                      <a:pt x="1085" y="104"/>
                    </a:lnTo>
                    <a:lnTo>
                      <a:pt x="1095" y="101"/>
                    </a:lnTo>
                    <a:lnTo>
                      <a:pt x="1104" y="97"/>
                    </a:lnTo>
                    <a:lnTo>
                      <a:pt x="1113" y="94"/>
                    </a:lnTo>
                    <a:lnTo>
                      <a:pt x="1122" y="91"/>
                    </a:lnTo>
                    <a:lnTo>
                      <a:pt x="1132" y="86"/>
                    </a:lnTo>
                    <a:lnTo>
                      <a:pt x="1141" y="81"/>
                    </a:lnTo>
                    <a:lnTo>
                      <a:pt x="1150" y="81"/>
                    </a:lnTo>
                    <a:lnTo>
                      <a:pt x="1160" y="81"/>
                    </a:lnTo>
                    <a:lnTo>
                      <a:pt x="1169" y="75"/>
                    </a:lnTo>
                    <a:lnTo>
                      <a:pt x="1178" y="72"/>
                    </a:lnTo>
                    <a:lnTo>
                      <a:pt x="1187" y="68"/>
                    </a:lnTo>
                    <a:lnTo>
                      <a:pt x="1197" y="65"/>
                    </a:lnTo>
                    <a:lnTo>
                      <a:pt x="1206" y="65"/>
                    </a:lnTo>
                    <a:lnTo>
                      <a:pt x="1215" y="66"/>
                    </a:lnTo>
                    <a:lnTo>
                      <a:pt x="1224" y="66"/>
                    </a:lnTo>
                    <a:lnTo>
                      <a:pt x="1234" y="66"/>
                    </a:lnTo>
                    <a:lnTo>
                      <a:pt x="1243" y="62"/>
                    </a:lnTo>
                    <a:lnTo>
                      <a:pt x="1252" y="59"/>
                    </a:lnTo>
                    <a:lnTo>
                      <a:pt x="1262" y="57"/>
                    </a:lnTo>
                    <a:lnTo>
                      <a:pt x="1271" y="52"/>
                    </a:lnTo>
                    <a:lnTo>
                      <a:pt x="1280" y="48"/>
                    </a:lnTo>
                    <a:lnTo>
                      <a:pt x="1289" y="46"/>
                    </a:lnTo>
                    <a:lnTo>
                      <a:pt x="1299" y="44"/>
                    </a:lnTo>
                    <a:lnTo>
                      <a:pt x="1308" y="43"/>
                    </a:lnTo>
                    <a:lnTo>
                      <a:pt x="1317" y="43"/>
                    </a:lnTo>
                    <a:lnTo>
                      <a:pt x="1327" y="42"/>
                    </a:lnTo>
                    <a:lnTo>
                      <a:pt x="1336" y="41"/>
                    </a:lnTo>
                    <a:lnTo>
                      <a:pt x="1345" y="38"/>
                    </a:lnTo>
                    <a:lnTo>
                      <a:pt x="1354" y="34"/>
                    </a:lnTo>
                    <a:lnTo>
                      <a:pt x="1364" y="33"/>
                    </a:lnTo>
                    <a:lnTo>
                      <a:pt x="1373" y="32"/>
                    </a:lnTo>
                    <a:lnTo>
                      <a:pt x="1382" y="29"/>
                    </a:lnTo>
                    <a:lnTo>
                      <a:pt x="1392" y="26"/>
                    </a:lnTo>
                    <a:lnTo>
                      <a:pt x="1401" y="26"/>
                    </a:lnTo>
                    <a:lnTo>
                      <a:pt x="1410" y="22"/>
                    </a:lnTo>
                    <a:lnTo>
                      <a:pt x="1419" y="16"/>
                    </a:lnTo>
                    <a:lnTo>
                      <a:pt x="1429" y="8"/>
                    </a:lnTo>
                    <a:lnTo>
                      <a:pt x="1438" y="4"/>
                    </a:lnTo>
                    <a:lnTo>
                      <a:pt x="1447" y="0"/>
                    </a:lnTo>
                    <a:lnTo>
                      <a:pt x="1447" y="4"/>
                    </a:lnTo>
                    <a:lnTo>
                      <a:pt x="1438" y="8"/>
                    </a:lnTo>
                    <a:lnTo>
                      <a:pt x="1429" y="12"/>
                    </a:lnTo>
                    <a:lnTo>
                      <a:pt x="1419" y="20"/>
                    </a:lnTo>
                    <a:lnTo>
                      <a:pt x="1410" y="26"/>
                    </a:lnTo>
                    <a:lnTo>
                      <a:pt x="1401" y="29"/>
                    </a:lnTo>
                    <a:lnTo>
                      <a:pt x="1392" y="30"/>
                    </a:lnTo>
                    <a:lnTo>
                      <a:pt x="1382" y="33"/>
                    </a:lnTo>
                    <a:lnTo>
                      <a:pt x="1373" y="36"/>
                    </a:lnTo>
                    <a:lnTo>
                      <a:pt x="1364" y="36"/>
                    </a:lnTo>
                    <a:lnTo>
                      <a:pt x="1354" y="38"/>
                    </a:lnTo>
                    <a:lnTo>
                      <a:pt x="1345" y="41"/>
                    </a:lnTo>
                    <a:lnTo>
                      <a:pt x="1336" y="44"/>
                    </a:lnTo>
                    <a:lnTo>
                      <a:pt x="1327" y="45"/>
                    </a:lnTo>
                    <a:lnTo>
                      <a:pt x="1317" y="46"/>
                    </a:lnTo>
                    <a:lnTo>
                      <a:pt x="1308" y="46"/>
                    </a:lnTo>
                    <a:lnTo>
                      <a:pt x="1299" y="47"/>
                    </a:lnTo>
                    <a:lnTo>
                      <a:pt x="1289" y="49"/>
                    </a:lnTo>
                    <a:lnTo>
                      <a:pt x="1280" y="51"/>
                    </a:lnTo>
                    <a:lnTo>
                      <a:pt x="1271" y="55"/>
                    </a:lnTo>
                    <a:lnTo>
                      <a:pt x="1262" y="60"/>
                    </a:lnTo>
                    <a:lnTo>
                      <a:pt x="1252" y="62"/>
                    </a:lnTo>
                    <a:lnTo>
                      <a:pt x="1243" y="64"/>
                    </a:lnTo>
                    <a:lnTo>
                      <a:pt x="1234" y="68"/>
                    </a:lnTo>
                    <a:lnTo>
                      <a:pt x="1224" y="69"/>
                    </a:lnTo>
                    <a:lnTo>
                      <a:pt x="1215" y="69"/>
                    </a:lnTo>
                    <a:lnTo>
                      <a:pt x="1206" y="67"/>
                    </a:lnTo>
                    <a:lnTo>
                      <a:pt x="1197" y="67"/>
                    </a:lnTo>
                    <a:lnTo>
                      <a:pt x="1187" y="70"/>
                    </a:lnTo>
                    <a:lnTo>
                      <a:pt x="1178" y="74"/>
                    </a:lnTo>
                    <a:lnTo>
                      <a:pt x="1169" y="77"/>
                    </a:lnTo>
                    <a:lnTo>
                      <a:pt x="1160" y="83"/>
                    </a:lnTo>
                    <a:lnTo>
                      <a:pt x="1150" y="83"/>
                    </a:lnTo>
                    <a:lnTo>
                      <a:pt x="1141" y="83"/>
                    </a:lnTo>
                    <a:lnTo>
                      <a:pt x="1132" y="88"/>
                    </a:lnTo>
                    <a:lnTo>
                      <a:pt x="1122" y="92"/>
                    </a:lnTo>
                    <a:lnTo>
                      <a:pt x="1113" y="95"/>
                    </a:lnTo>
                    <a:lnTo>
                      <a:pt x="1104" y="99"/>
                    </a:lnTo>
                    <a:lnTo>
                      <a:pt x="1095" y="102"/>
                    </a:lnTo>
                    <a:lnTo>
                      <a:pt x="1085" y="106"/>
                    </a:lnTo>
                    <a:lnTo>
                      <a:pt x="1076" y="107"/>
                    </a:lnTo>
                    <a:lnTo>
                      <a:pt x="1067" y="110"/>
                    </a:lnTo>
                    <a:lnTo>
                      <a:pt x="1057" y="110"/>
                    </a:lnTo>
                    <a:lnTo>
                      <a:pt x="1048" y="113"/>
                    </a:lnTo>
                    <a:lnTo>
                      <a:pt x="1039" y="116"/>
                    </a:lnTo>
                    <a:lnTo>
                      <a:pt x="1030" y="119"/>
                    </a:lnTo>
                    <a:lnTo>
                      <a:pt x="1020" y="121"/>
                    </a:lnTo>
                    <a:lnTo>
                      <a:pt x="1011" y="123"/>
                    </a:lnTo>
                    <a:lnTo>
                      <a:pt x="1002" y="125"/>
                    </a:lnTo>
                    <a:lnTo>
                      <a:pt x="992" y="127"/>
                    </a:lnTo>
                    <a:lnTo>
                      <a:pt x="983" y="130"/>
                    </a:lnTo>
                    <a:lnTo>
                      <a:pt x="974" y="132"/>
                    </a:lnTo>
                    <a:lnTo>
                      <a:pt x="965" y="134"/>
                    </a:lnTo>
                    <a:lnTo>
                      <a:pt x="955" y="134"/>
                    </a:lnTo>
                    <a:lnTo>
                      <a:pt x="946" y="136"/>
                    </a:lnTo>
                    <a:lnTo>
                      <a:pt x="937" y="137"/>
                    </a:lnTo>
                    <a:lnTo>
                      <a:pt x="928" y="138"/>
                    </a:lnTo>
                    <a:lnTo>
                      <a:pt x="918" y="141"/>
                    </a:lnTo>
                    <a:lnTo>
                      <a:pt x="909" y="141"/>
                    </a:lnTo>
                    <a:lnTo>
                      <a:pt x="900" y="142"/>
                    </a:lnTo>
                    <a:lnTo>
                      <a:pt x="890" y="144"/>
                    </a:lnTo>
                    <a:lnTo>
                      <a:pt x="881" y="146"/>
                    </a:lnTo>
                    <a:lnTo>
                      <a:pt x="872" y="143"/>
                    </a:lnTo>
                    <a:lnTo>
                      <a:pt x="863" y="142"/>
                    </a:lnTo>
                    <a:lnTo>
                      <a:pt x="853" y="143"/>
                    </a:lnTo>
                    <a:lnTo>
                      <a:pt x="844" y="144"/>
                    </a:lnTo>
                    <a:lnTo>
                      <a:pt x="835" y="146"/>
                    </a:lnTo>
                    <a:lnTo>
                      <a:pt x="825" y="146"/>
                    </a:lnTo>
                    <a:lnTo>
                      <a:pt x="816" y="148"/>
                    </a:lnTo>
                    <a:lnTo>
                      <a:pt x="807" y="147"/>
                    </a:lnTo>
                    <a:lnTo>
                      <a:pt x="798" y="148"/>
                    </a:lnTo>
                    <a:lnTo>
                      <a:pt x="788" y="150"/>
                    </a:lnTo>
                    <a:lnTo>
                      <a:pt x="779" y="151"/>
                    </a:lnTo>
                    <a:lnTo>
                      <a:pt x="770" y="152"/>
                    </a:lnTo>
                    <a:lnTo>
                      <a:pt x="760" y="152"/>
                    </a:lnTo>
                    <a:lnTo>
                      <a:pt x="751" y="151"/>
                    </a:lnTo>
                    <a:lnTo>
                      <a:pt x="742" y="150"/>
                    </a:lnTo>
                    <a:lnTo>
                      <a:pt x="733" y="149"/>
                    </a:lnTo>
                    <a:lnTo>
                      <a:pt x="723" y="149"/>
                    </a:lnTo>
                    <a:lnTo>
                      <a:pt x="714" y="150"/>
                    </a:lnTo>
                    <a:lnTo>
                      <a:pt x="705" y="151"/>
                    </a:lnTo>
                    <a:lnTo>
                      <a:pt x="696" y="151"/>
                    </a:lnTo>
                    <a:lnTo>
                      <a:pt x="686" y="152"/>
                    </a:lnTo>
                    <a:lnTo>
                      <a:pt x="677" y="152"/>
                    </a:lnTo>
                    <a:lnTo>
                      <a:pt x="668" y="154"/>
                    </a:lnTo>
                    <a:lnTo>
                      <a:pt x="658" y="155"/>
                    </a:lnTo>
                    <a:lnTo>
                      <a:pt x="649" y="153"/>
                    </a:lnTo>
                    <a:lnTo>
                      <a:pt x="640" y="155"/>
                    </a:lnTo>
                    <a:lnTo>
                      <a:pt x="631" y="153"/>
                    </a:lnTo>
                    <a:lnTo>
                      <a:pt x="621" y="153"/>
                    </a:lnTo>
                    <a:lnTo>
                      <a:pt x="612" y="154"/>
                    </a:lnTo>
                    <a:lnTo>
                      <a:pt x="603" y="155"/>
                    </a:lnTo>
                    <a:lnTo>
                      <a:pt x="593" y="155"/>
                    </a:lnTo>
                    <a:lnTo>
                      <a:pt x="584" y="154"/>
                    </a:lnTo>
                    <a:lnTo>
                      <a:pt x="575" y="155"/>
                    </a:lnTo>
                    <a:lnTo>
                      <a:pt x="566" y="155"/>
                    </a:lnTo>
                    <a:lnTo>
                      <a:pt x="556" y="156"/>
                    </a:lnTo>
                    <a:lnTo>
                      <a:pt x="547" y="156"/>
                    </a:lnTo>
                    <a:lnTo>
                      <a:pt x="538" y="157"/>
                    </a:lnTo>
                    <a:lnTo>
                      <a:pt x="528" y="156"/>
                    </a:lnTo>
                    <a:lnTo>
                      <a:pt x="519" y="157"/>
                    </a:lnTo>
                    <a:lnTo>
                      <a:pt x="510" y="158"/>
                    </a:lnTo>
                    <a:lnTo>
                      <a:pt x="501" y="159"/>
                    </a:lnTo>
                    <a:lnTo>
                      <a:pt x="491" y="159"/>
                    </a:lnTo>
                    <a:lnTo>
                      <a:pt x="482" y="160"/>
                    </a:lnTo>
                    <a:lnTo>
                      <a:pt x="473" y="160"/>
                    </a:lnTo>
                    <a:lnTo>
                      <a:pt x="464" y="160"/>
                    </a:lnTo>
                    <a:lnTo>
                      <a:pt x="454" y="161"/>
                    </a:lnTo>
                    <a:lnTo>
                      <a:pt x="445" y="161"/>
                    </a:lnTo>
                    <a:lnTo>
                      <a:pt x="436" y="162"/>
                    </a:lnTo>
                    <a:lnTo>
                      <a:pt x="426" y="162"/>
                    </a:lnTo>
                    <a:lnTo>
                      <a:pt x="417" y="162"/>
                    </a:lnTo>
                    <a:lnTo>
                      <a:pt x="408" y="162"/>
                    </a:lnTo>
                    <a:lnTo>
                      <a:pt x="399" y="163"/>
                    </a:lnTo>
                    <a:lnTo>
                      <a:pt x="389" y="163"/>
                    </a:lnTo>
                    <a:lnTo>
                      <a:pt x="380" y="163"/>
                    </a:lnTo>
                    <a:lnTo>
                      <a:pt x="371" y="163"/>
                    </a:lnTo>
                    <a:lnTo>
                      <a:pt x="361" y="163"/>
                    </a:lnTo>
                    <a:lnTo>
                      <a:pt x="352" y="163"/>
                    </a:lnTo>
                    <a:lnTo>
                      <a:pt x="343" y="164"/>
                    </a:lnTo>
                    <a:lnTo>
                      <a:pt x="334" y="164"/>
                    </a:lnTo>
                    <a:lnTo>
                      <a:pt x="324" y="164"/>
                    </a:lnTo>
                    <a:lnTo>
                      <a:pt x="315" y="164"/>
                    </a:lnTo>
                    <a:lnTo>
                      <a:pt x="306" y="164"/>
                    </a:lnTo>
                    <a:lnTo>
                      <a:pt x="296" y="164"/>
                    </a:lnTo>
                    <a:lnTo>
                      <a:pt x="287" y="165"/>
                    </a:lnTo>
                    <a:lnTo>
                      <a:pt x="278" y="165"/>
                    </a:lnTo>
                    <a:lnTo>
                      <a:pt x="269" y="165"/>
                    </a:lnTo>
                    <a:lnTo>
                      <a:pt x="259" y="165"/>
                    </a:lnTo>
                    <a:lnTo>
                      <a:pt x="250" y="165"/>
                    </a:lnTo>
                    <a:lnTo>
                      <a:pt x="241" y="166"/>
                    </a:lnTo>
                    <a:lnTo>
                      <a:pt x="232" y="166"/>
                    </a:lnTo>
                    <a:lnTo>
                      <a:pt x="222" y="166"/>
                    </a:lnTo>
                    <a:lnTo>
                      <a:pt x="213" y="166"/>
                    </a:lnTo>
                    <a:lnTo>
                      <a:pt x="204" y="166"/>
                    </a:lnTo>
                    <a:lnTo>
                      <a:pt x="194" y="166"/>
                    </a:lnTo>
                    <a:lnTo>
                      <a:pt x="185" y="166"/>
                    </a:lnTo>
                    <a:lnTo>
                      <a:pt x="176" y="167"/>
                    </a:lnTo>
                    <a:lnTo>
                      <a:pt x="167" y="167"/>
                    </a:lnTo>
                    <a:lnTo>
                      <a:pt x="157" y="167"/>
                    </a:lnTo>
                    <a:lnTo>
                      <a:pt x="148" y="167"/>
                    </a:lnTo>
                    <a:lnTo>
                      <a:pt x="139" y="167"/>
                    </a:lnTo>
                    <a:lnTo>
                      <a:pt x="129" y="167"/>
                    </a:lnTo>
                    <a:lnTo>
                      <a:pt x="120" y="167"/>
                    </a:lnTo>
                    <a:lnTo>
                      <a:pt x="111" y="167"/>
                    </a:lnTo>
                    <a:lnTo>
                      <a:pt x="102" y="168"/>
                    </a:lnTo>
                    <a:lnTo>
                      <a:pt x="92" y="168"/>
                    </a:lnTo>
                    <a:lnTo>
                      <a:pt x="83" y="168"/>
                    </a:lnTo>
                    <a:lnTo>
                      <a:pt x="74" y="168"/>
                    </a:lnTo>
                    <a:lnTo>
                      <a:pt x="64" y="168"/>
                    </a:lnTo>
                    <a:lnTo>
                      <a:pt x="55" y="168"/>
                    </a:lnTo>
                    <a:lnTo>
                      <a:pt x="46" y="168"/>
                    </a:lnTo>
                    <a:lnTo>
                      <a:pt x="37" y="168"/>
                    </a:lnTo>
                    <a:lnTo>
                      <a:pt x="27" y="168"/>
                    </a:lnTo>
                    <a:lnTo>
                      <a:pt x="18" y="169"/>
                    </a:lnTo>
                    <a:lnTo>
                      <a:pt x="9" y="168"/>
                    </a:lnTo>
                    <a:lnTo>
                      <a:pt x="0" y="168"/>
                    </a:lnTo>
                    <a:close/>
                  </a:path>
                </a:pathLst>
              </a:custGeom>
              <a:noFill/>
              <a:ln w="3175">
                <a:solidFill>
                  <a:srgbClr val="ffc8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2" name="Freeform 317"/>
              <p:cNvSpPr/>
              <p:nvPr/>
            </p:nvSpPr>
            <p:spPr>
              <a:xfrm>
                <a:off x="434520" y="2702520"/>
                <a:ext cx="2310120" cy="404640"/>
              </a:xfrm>
              <a:custGeom>
                <a:avLst/>
                <a:gdLst>
                  <a:gd name="textAreaLeft" fmla="*/ 0 w 2310120"/>
                  <a:gd name="textAreaRight" fmla="*/ 2310480 w 2310120"/>
                  <a:gd name="textAreaTop" fmla="*/ 0 h 404640"/>
                  <a:gd name="textAreaBottom" fmla="*/ 405000 h 404640"/>
                </a:gdLst>
                <a:ahLst/>
                <a:rect l="textAreaLeft" t="textAreaTop" r="textAreaRight" b="textAreaBottom"/>
                <a:pathLst>
                  <a:path w="1447" h="164">
                    <a:moveTo>
                      <a:pt x="0" y="164"/>
                    </a:moveTo>
                    <a:lnTo>
                      <a:pt x="9" y="164"/>
                    </a:lnTo>
                    <a:lnTo>
                      <a:pt x="18" y="164"/>
                    </a:lnTo>
                    <a:lnTo>
                      <a:pt x="27" y="164"/>
                    </a:lnTo>
                    <a:lnTo>
                      <a:pt x="37" y="164"/>
                    </a:lnTo>
                    <a:lnTo>
                      <a:pt x="46" y="164"/>
                    </a:lnTo>
                    <a:lnTo>
                      <a:pt x="55" y="164"/>
                    </a:lnTo>
                    <a:lnTo>
                      <a:pt x="64" y="164"/>
                    </a:lnTo>
                    <a:lnTo>
                      <a:pt x="74" y="164"/>
                    </a:lnTo>
                    <a:lnTo>
                      <a:pt x="83" y="164"/>
                    </a:lnTo>
                    <a:lnTo>
                      <a:pt x="92" y="163"/>
                    </a:lnTo>
                    <a:lnTo>
                      <a:pt x="102" y="163"/>
                    </a:lnTo>
                    <a:lnTo>
                      <a:pt x="111" y="163"/>
                    </a:lnTo>
                    <a:lnTo>
                      <a:pt x="120" y="163"/>
                    </a:lnTo>
                    <a:lnTo>
                      <a:pt x="129" y="163"/>
                    </a:lnTo>
                    <a:lnTo>
                      <a:pt x="139" y="163"/>
                    </a:lnTo>
                    <a:lnTo>
                      <a:pt x="148" y="163"/>
                    </a:lnTo>
                    <a:lnTo>
                      <a:pt x="157" y="163"/>
                    </a:lnTo>
                    <a:lnTo>
                      <a:pt x="167" y="162"/>
                    </a:lnTo>
                    <a:lnTo>
                      <a:pt x="176" y="162"/>
                    </a:lnTo>
                    <a:lnTo>
                      <a:pt x="185" y="162"/>
                    </a:lnTo>
                    <a:lnTo>
                      <a:pt x="194" y="162"/>
                    </a:lnTo>
                    <a:lnTo>
                      <a:pt x="204" y="162"/>
                    </a:lnTo>
                    <a:lnTo>
                      <a:pt x="213" y="162"/>
                    </a:lnTo>
                    <a:lnTo>
                      <a:pt x="222" y="162"/>
                    </a:lnTo>
                    <a:lnTo>
                      <a:pt x="232" y="161"/>
                    </a:lnTo>
                    <a:lnTo>
                      <a:pt x="241" y="161"/>
                    </a:lnTo>
                    <a:lnTo>
                      <a:pt x="250" y="161"/>
                    </a:lnTo>
                    <a:lnTo>
                      <a:pt x="259" y="161"/>
                    </a:lnTo>
                    <a:lnTo>
                      <a:pt x="269" y="161"/>
                    </a:lnTo>
                    <a:lnTo>
                      <a:pt x="278" y="161"/>
                    </a:lnTo>
                    <a:lnTo>
                      <a:pt x="287" y="160"/>
                    </a:lnTo>
                    <a:lnTo>
                      <a:pt x="296" y="160"/>
                    </a:lnTo>
                    <a:lnTo>
                      <a:pt x="306" y="160"/>
                    </a:lnTo>
                    <a:lnTo>
                      <a:pt x="315" y="160"/>
                    </a:lnTo>
                    <a:lnTo>
                      <a:pt x="324" y="160"/>
                    </a:lnTo>
                    <a:lnTo>
                      <a:pt x="334" y="160"/>
                    </a:lnTo>
                    <a:lnTo>
                      <a:pt x="343" y="160"/>
                    </a:lnTo>
                    <a:lnTo>
                      <a:pt x="352" y="159"/>
                    </a:lnTo>
                    <a:lnTo>
                      <a:pt x="361" y="159"/>
                    </a:lnTo>
                    <a:lnTo>
                      <a:pt x="371" y="159"/>
                    </a:lnTo>
                    <a:lnTo>
                      <a:pt x="380" y="158"/>
                    </a:lnTo>
                    <a:lnTo>
                      <a:pt x="389" y="158"/>
                    </a:lnTo>
                    <a:lnTo>
                      <a:pt x="399" y="158"/>
                    </a:lnTo>
                    <a:lnTo>
                      <a:pt x="408" y="158"/>
                    </a:lnTo>
                    <a:lnTo>
                      <a:pt x="417" y="158"/>
                    </a:lnTo>
                    <a:lnTo>
                      <a:pt x="426" y="158"/>
                    </a:lnTo>
                    <a:lnTo>
                      <a:pt x="436" y="157"/>
                    </a:lnTo>
                    <a:lnTo>
                      <a:pt x="445" y="157"/>
                    </a:lnTo>
                    <a:lnTo>
                      <a:pt x="454" y="156"/>
                    </a:lnTo>
                    <a:lnTo>
                      <a:pt x="464" y="156"/>
                    </a:lnTo>
                    <a:lnTo>
                      <a:pt x="473" y="156"/>
                    </a:lnTo>
                    <a:lnTo>
                      <a:pt x="482" y="156"/>
                    </a:lnTo>
                    <a:lnTo>
                      <a:pt x="491" y="155"/>
                    </a:lnTo>
                    <a:lnTo>
                      <a:pt x="501" y="155"/>
                    </a:lnTo>
                    <a:lnTo>
                      <a:pt x="510" y="154"/>
                    </a:lnTo>
                    <a:lnTo>
                      <a:pt x="519" y="153"/>
                    </a:lnTo>
                    <a:lnTo>
                      <a:pt x="528" y="152"/>
                    </a:lnTo>
                    <a:lnTo>
                      <a:pt x="538" y="153"/>
                    </a:lnTo>
                    <a:lnTo>
                      <a:pt x="547" y="152"/>
                    </a:lnTo>
                    <a:lnTo>
                      <a:pt x="556" y="152"/>
                    </a:lnTo>
                    <a:lnTo>
                      <a:pt x="566" y="151"/>
                    </a:lnTo>
                    <a:lnTo>
                      <a:pt x="575" y="151"/>
                    </a:lnTo>
                    <a:lnTo>
                      <a:pt x="584" y="150"/>
                    </a:lnTo>
                    <a:lnTo>
                      <a:pt x="593" y="151"/>
                    </a:lnTo>
                    <a:lnTo>
                      <a:pt x="603" y="151"/>
                    </a:lnTo>
                    <a:lnTo>
                      <a:pt x="612" y="150"/>
                    </a:lnTo>
                    <a:lnTo>
                      <a:pt x="621" y="149"/>
                    </a:lnTo>
                    <a:lnTo>
                      <a:pt x="631" y="149"/>
                    </a:lnTo>
                    <a:lnTo>
                      <a:pt x="640" y="151"/>
                    </a:lnTo>
                    <a:lnTo>
                      <a:pt x="649" y="149"/>
                    </a:lnTo>
                    <a:lnTo>
                      <a:pt x="658" y="151"/>
                    </a:lnTo>
                    <a:lnTo>
                      <a:pt x="668" y="150"/>
                    </a:lnTo>
                    <a:lnTo>
                      <a:pt x="677" y="148"/>
                    </a:lnTo>
                    <a:lnTo>
                      <a:pt x="686" y="148"/>
                    </a:lnTo>
                    <a:lnTo>
                      <a:pt x="696" y="147"/>
                    </a:lnTo>
                    <a:lnTo>
                      <a:pt x="705" y="147"/>
                    </a:lnTo>
                    <a:lnTo>
                      <a:pt x="714" y="146"/>
                    </a:lnTo>
                    <a:lnTo>
                      <a:pt x="723" y="145"/>
                    </a:lnTo>
                    <a:lnTo>
                      <a:pt x="733" y="145"/>
                    </a:lnTo>
                    <a:lnTo>
                      <a:pt x="742" y="145"/>
                    </a:lnTo>
                    <a:lnTo>
                      <a:pt x="751" y="147"/>
                    </a:lnTo>
                    <a:lnTo>
                      <a:pt x="760" y="148"/>
                    </a:lnTo>
                    <a:lnTo>
                      <a:pt x="770" y="147"/>
                    </a:lnTo>
                    <a:lnTo>
                      <a:pt x="779" y="146"/>
                    </a:lnTo>
                    <a:lnTo>
                      <a:pt x="788" y="146"/>
                    </a:lnTo>
                    <a:lnTo>
                      <a:pt x="798" y="144"/>
                    </a:lnTo>
                    <a:lnTo>
                      <a:pt x="807" y="143"/>
                    </a:lnTo>
                    <a:lnTo>
                      <a:pt x="816" y="143"/>
                    </a:lnTo>
                    <a:lnTo>
                      <a:pt x="825" y="142"/>
                    </a:lnTo>
                    <a:lnTo>
                      <a:pt x="835" y="142"/>
                    </a:lnTo>
                    <a:lnTo>
                      <a:pt x="844" y="139"/>
                    </a:lnTo>
                    <a:lnTo>
                      <a:pt x="853" y="139"/>
                    </a:lnTo>
                    <a:lnTo>
                      <a:pt x="863" y="138"/>
                    </a:lnTo>
                    <a:lnTo>
                      <a:pt x="872" y="139"/>
                    </a:lnTo>
                    <a:lnTo>
                      <a:pt x="881" y="141"/>
                    </a:lnTo>
                    <a:lnTo>
                      <a:pt x="890" y="140"/>
                    </a:lnTo>
                    <a:lnTo>
                      <a:pt x="900" y="138"/>
                    </a:lnTo>
                    <a:lnTo>
                      <a:pt x="909" y="137"/>
                    </a:lnTo>
                    <a:lnTo>
                      <a:pt x="918" y="136"/>
                    </a:lnTo>
                    <a:lnTo>
                      <a:pt x="928" y="134"/>
                    </a:lnTo>
                    <a:lnTo>
                      <a:pt x="937" y="132"/>
                    </a:lnTo>
                    <a:lnTo>
                      <a:pt x="946" y="131"/>
                    </a:lnTo>
                    <a:lnTo>
                      <a:pt x="955" y="130"/>
                    </a:lnTo>
                    <a:lnTo>
                      <a:pt x="965" y="130"/>
                    </a:lnTo>
                    <a:lnTo>
                      <a:pt x="974" y="127"/>
                    </a:lnTo>
                    <a:lnTo>
                      <a:pt x="983" y="126"/>
                    </a:lnTo>
                    <a:lnTo>
                      <a:pt x="992" y="123"/>
                    </a:lnTo>
                    <a:lnTo>
                      <a:pt x="1002" y="121"/>
                    </a:lnTo>
                    <a:lnTo>
                      <a:pt x="1011" y="119"/>
                    </a:lnTo>
                    <a:lnTo>
                      <a:pt x="1020" y="116"/>
                    </a:lnTo>
                    <a:lnTo>
                      <a:pt x="1030" y="115"/>
                    </a:lnTo>
                    <a:lnTo>
                      <a:pt x="1039" y="112"/>
                    </a:lnTo>
                    <a:lnTo>
                      <a:pt x="1048" y="109"/>
                    </a:lnTo>
                    <a:lnTo>
                      <a:pt x="1057" y="106"/>
                    </a:lnTo>
                    <a:lnTo>
                      <a:pt x="1067" y="106"/>
                    </a:lnTo>
                    <a:lnTo>
                      <a:pt x="1076" y="103"/>
                    </a:lnTo>
                    <a:lnTo>
                      <a:pt x="1085" y="102"/>
                    </a:lnTo>
                    <a:lnTo>
                      <a:pt x="1095" y="98"/>
                    </a:lnTo>
                    <a:lnTo>
                      <a:pt x="1104" y="95"/>
                    </a:lnTo>
                    <a:lnTo>
                      <a:pt x="1113" y="91"/>
                    </a:lnTo>
                    <a:lnTo>
                      <a:pt x="1122" y="88"/>
                    </a:lnTo>
                    <a:lnTo>
                      <a:pt x="1132" y="84"/>
                    </a:lnTo>
                    <a:lnTo>
                      <a:pt x="1141" y="79"/>
                    </a:lnTo>
                    <a:lnTo>
                      <a:pt x="1150" y="79"/>
                    </a:lnTo>
                    <a:lnTo>
                      <a:pt x="1160" y="78"/>
                    </a:lnTo>
                    <a:lnTo>
                      <a:pt x="1169" y="73"/>
                    </a:lnTo>
                    <a:lnTo>
                      <a:pt x="1178" y="70"/>
                    </a:lnTo>
                    <a:lnTo>
                      <a:pt x="1187" y="66"/>
                    </a:lnTo>
                    <a:lnTo>
                      <a:pt x="1197" y="63"/>
                    </a:lnTo>
                    <a:lnTo>
                      <a:pt x="1206" y="63"/>
                    </a:lnTo>
                    <a:lnTo>
                      <a:pt x="1215" y="65"/>
                    </a:lnTo>
                    <a:lnTo>
                      <a:pt x="1224" y="65"/>
                    </a:lnTo>
                    <a:lnTo>
                      <a:pt x="1234" y="64"/>
                    </a:lnTo>
                    <a:lnTo>
                      <a:pt x="1243" y="60"/>
                    </a:lnTo>
                    <a:lnTo>
                      <a:pt x="1252" y="58"/>
                    </a:lnTo>
                    <a:lnTo>
                      <a:pt x="1262" y="55"/>
                    </a:lnTo>
                    <a:lnTo>
                      <a:pt x="1271" y="51"/>
                    </a:lnTo>
                    <a:lnTo>
                      <a:pt x="1280" y="47"/>
                    </a:lnTo>
                    <a:lnTo>
                      <a:pt x="1289" y="45"/>
                    </a:lnTo>
                    <a:lnTo>
                      <a:pt x="1299" y="43"/>
                    </a:lnTo>
                    <a:lnTo>
                      <a:pt x="1308" y="42"/>
                    </a:lnTo>
                    <a:lnTo>
                      <a:pt x="1317" y="42"/>
                    </a:lnTo>
                    <a:lnTo>
                      <a:pt x="1327" y="41"/>
                    </a:lnTo>
                    <a:lnTo>
                      <a:pt x="1336" y="40"/>
                    </a:lnTo>
                    <a:lnTo>
                      <a:pt x="1345" y="37"/>
                    </a:lnTo>
                    <a:lnTo>
                      <a:pt x="1354" y="33"/>
                    </a:lnTo>
                    <a:lnTo>
                      <a:pt x="1364" y="32"/>
                    </a:lnTo>
                    <a:lnTo>
                      <a:pt x="1373" y="31"/>
                    </a:lnTo>
                    <a:lnTo>
                      <a:pt x="1382" y="29"/>
                    </a:lnTo>
                    <a:lnTo>
                      <a:pt x="1392" y="26"/>
                    </a:lnTo>
                    <a:lnTo>
                      <a:pt x="1401" y="25"/>
                    </a:lnTo>
                    <a:lnTo>
                      <a:pt x="1410" y="22"/>
                    </a:lnTo>
                    <a:lnTo>
                      <a:pt x="1419" y="16"/>
                    </a:lnTo>
                    <a:lnTo>
                      <a:pt x="1429" y="8"/>
                    </a:lnTo>
                    <a:lnTo>
                      <a:pt x="1438" y="4"/>
                    </a:lnTo>
                    <a:lnTo>
                      <a:pt x="1447" y="0"/>
                    </a:lnTo>
                    <a:lnTo>
                      <a:pt x="1447" y="3"/>
                    </a:lnTo>
                    <a:lnTo>
                      <a:pt x="1438" y="8"/>
                    </a:lnTo>
                    <a:lnTo>
                      <a:pt x="1429" y="12"/>
                    </a:lnTo>
                    <a:lnTo>
                      <a:pt x="1419" y="19"/>
                    </a:lnTo>
                    <a:lnTo>
                      <a:pt x="1410" y="25"/>
                    </a:lnTo>
                    <a:lnTo>
                      <a:pt x="1401" y="29"/>
                    </a:lnTo>
                    <a:lnTo>
                      <a:pt x="1392" y="29"/>
                    </a:lnTo>
                    <a:lnTo>
                      <a:pt x="1382" y="32"/>
                    </a:lnTo>
                    <a:lnTo>
                      <a:pt x="1373" y="35"/>
                    </a:lnTo>
                    <a:lnTo>
                      <a:pt x="1364" y="35"/>
                    </a:lnTo>
                    <a:lnTo>
                      <a:pt x="1354" y="37"/>
                    </a:lnTo>
                    <a:lnTo>
                      <a:pt x="1345" y="40"/>
                    </a:lnTo>
                    <a:lnTo>
                      <a:pt x="1336" y="43"/>
                    </a:lnTo>
                    <a:lnTo>
                      <a:pt x="1327" y="44"/>
                    </a:lnTo>
                    <a:lnTo>
                      <a:pt x="1317" y="45"/>
                    </a:lnTo>
                    <a:lnTo>
                      <a:pt x="1308" y="45"/>
                    </a:lnTo>
                    <a:lnTo>
                      <a:pt x="1299" y="46"/>
                    </a:lnTo>
                    <a:lnTo>
                      <a:pt x="1289" y="48"/>
                    </a:lnTo>
                    <a:lnTo>
                      <a:pt x="1280" y="50"/>
                    </a:lnTo>
                    <a:lnTo>
                      <a:pt x="1271" y="53"/>
                    </a:lnTo>
                    <a:lnTo>
                      <a:pt x="1262" y="58"/>
                    </a:lnTo>
                    <a:lnTo>
                      <a:pt x="1252" y="60"/>
                    </a:lnTo>
                    <a:lnTo>
                      <a:pt x="1243" y="62"/>
                    </a:lnTo>
                    <a:lnTo>
                      <a:pt x="1234" y="65"/>
                    </a:lnTo>
                    <a:lnTo>
                      <a:pt x="1224" y="66"/>
                    </a:lnTo>
                    <a:lnTo>
                      <a:pt x="1215" y="66"/>
                    </a:lnTo>
                    <a:lnTo>
                      <a:pt x="1206" y="64"/>
                    </a:lnTo>
                    <a:lnTo>
                      <a:pt x="1197" y="64"/>
                    </a:lnTo>
                    <a:lnTo>
                      <a:pt x="1187" y="67"/>
                    </a:lnTo>
                    <a:lnTo>
                      <a:pt x="1178" y="71"/>
                    </a:lnTo>
                    <a:lnTo>
                      <a:pt x="1169" y="74"/>
                    </a:lnTo>
                    <a:lnTo>
                      <a:pt x="1160" y="79"/>
                    </a:lnTo>
                    <a:lnTo>
                      <a:pt x="1150" y="79"/>
                    </a:lnTo>
                    <a:lnTo>
                      <a:pt x="1141" y="79"/>
                    </a:lnTo>
                    <a:lnTo>
                      <a:pt x="1132" y="84"/>
                    </a:lnTo>
                    <a:lnTo>
                      <a:pt x="1122" y="88"/>
                    </a:lnTo>
                    <a:lnTo>
                      <a:pt x="1113" y="91"/>
                    </a:lnTo>
                    <a:lnTo>
                      <a:pt x="1104" y="95"/>
                    </a:lnTo>
                    <a:lnTo>
                      <a:pt x="1095" y="98"/>
                    </a:lnTo>
                    <a:lnTo>
                      <a:pt x="1085" y="102"/>
                    </a:lnTo>
                    <a:lnTo>
                      <a:pt x="1076" y="103"/>
                    </a:lnTo>
                    <a:lnTo>
                      <a:pt x="1067" y="106"/>
                    </a:lnTo>
                    <a:lnTo>
                      <a:pt x="1057" y="106"/>
                    </a:lnTo>
                    <a:lnTo>
                      <a:pt x="1048" y="109"/>
                    </a:lnTo>
                    <a:lnTo>
                      <a:pt x="1039" y="112"/>
                    </a:lnTo>
                    <a:lnTo>
                      <a:pt x="1030" y="115"/>
                    </a:lnTo>
                    <a:lnTo>
                      <a:pt x="1020" y="116"/>
                    </a:lnTo>
                    <a:lnTo>
                      <a:pt x="1011" y="119"/>
                    </a:lnTo>
                    <a:lnTo>
                      <a:pt x="1002" y="121"/>
                    </a:lnTo>
                    <a:lnTo>
                      <a:pt x="992" y="123"/>
                    </a:lnTo>
                    <a:lnTo>
                      <a:pt x="983" y="126"/>
                    </a:lnTo>
                    <a:lnTo>
                      <a:pt x="974" y="127"/>
                    </a:lnTo>
                    <a:lnTo>
                      <a:pt x="965" y="130"/>
                    </a:lnTo>
                    <a:lnTo>
                      <a:pt x="955" y="130"/>
                    </a:lnTo>
                    <a:lnTo>
                      <a:pt x="946" y="131"/>
                    </a:lnTo>
                    <a:lnTo>
                      <a:pt x="937" y="132"/>
                    </a:lnTo>
                    <a:lnTo>
                      <a:pt x="928" y="134"/>
                    </a:lnTo>
                    <a:lnTo>
                      <a:pt x="918" y="136"/>
                    </a:lnTo>
                    <a:lnTo>
                      <a:pt x="909" y="137"/>
                    </a:lnTo>
                    <a:lnTo>
                      <a:pt x="900" y="138"/>
                    </a:lnTo>
                    <a:lnTo>
                      <a:pt x="890" y="140"/>
                    </a:lnTo>
                    <a:lnTo>
                      <a:pt x="881" y="141"/>
                    </a:lnTo>
                    <a:lnTo>
                      <a:pt x="872" y="139"/>
                    </a:lnTo>
                    <a:lnTo>
                      <a:pt x="863" y="138"/>
                    </a:lnTo>
                    <a:lnTo>
                      <a:pt x="853" y="139"/>
                    </a:lnTo>
                    <a:lnTo>
                      <a:pt x="844" y="139"/>
                    </a:lnTo>
                    <a:lnTo>
                      <a:pt x="835" y="142"/>
                    </a:lnTo>
                    <a:lnTo>
                      <a:pt x="825" y="142"/>
                    </a:lnTo>
                    <a:lnTo>
                      <a:pt x="816" y="143"/>
                    </a:lnTo>
                    <a:lnTo>
                      <a:pt x="807" y="143"/>
                    </a:lnTo>
                    <a:lnTo>
                      <a:pt x="798" y="144"/>
                    </a:lnTo>
                    <a:lnTo>
                      <a:pt x="788" y="146"/>
                    </a:lnTo>
                    <a:lnTo>
                      <a:pt x="779" y="146"/>
                    </a:lnTo>
                    <a:lnTo>
                      <a:pt x="770" y="147"/>
                    </a:lnTo>
                    <a:lnTo>
                      <a:pt x="760" y="148"/>
                    </a:lnTo>
                    <a:lnTo>
                      <a:pt x="751" y="147"/>
                    </a:lnTo>
                    <a:lnTo>
                      <a:pt x="742" y="145"/>
                    </a:lnTo>
                    <a:lnTo>
                      <a:pt x="733" y="145"/>
                    </a:lnTo>
                    <a:lnTo>
                      <a:pt x="723" y="145"/>
                    </a:lnTo>
                    <a:lnTo>
                      <a:pt x="714" y="146"/>
                    </a:lnTo>
                    <a:lnTo>
                      <a:pt x="705" y="147"/>
                    </a:lnTo>
                    <a:lnTo>
                      <a:pt x="696" y="147"/>
                    </a:lnTo>
                    <a:lnTo>
                      <a:pt x="686" y="148"/>
                    </a:lnTo>
                    <a:lnTo>
                      <a:pt x="677" y="148"/>
                    </a:lnTo>
                    <a:lnTo>
                      <a:pt x="668" y="150"/>
                    </a:lnTo>
                    <a:lnTo>
                      <a:pt x="658" y="151"/>
                    </a:lnTo>
                    <a:lnTo>
                      <a:pt x="649" y="149"/>
                    </a:lnTo>
                    <a:lnTo>
                      <a:pt x="640" y="151"/>
                    </a:lnTo>
                    <a:lnTo>
                      <a:pt x="631" y="149"/>
                    </a:lnTo>
                    <a:lnTo>
                      <a:pt x="621" y="149"/>
                    </a:lnTo>
                    <a:lnTo>
                      <a:pt x="612" y="150"/>
                    </a:lnTo>
                    <a:lnTo>
                      <a:pt x="603" y="151"/>
                    </a:lnTo>
                    <a:lnTo>
                      <a:pt x="593" y="151"/>
                    </a:lnTo>
                    <a:lnTo>
                      <a:pt x="584" y="150"/>
                    </a:lnTo>
                    <a:lnTo>
                      <a:pt x="575" y="151"/>
                    </a:lnTo>
                    <a:lnTo>
                      <a:pt x="566" y="151"/>
                    </a:lnTo>
                    <a:lnTo>
                      <a:pt x="556" y="152"/>
                    </a:lnTo>
                    <a:lnTo>
                      <a:pt x="547" y="152"/>
                    </a:lnTo>
                    <a:lnTo>
                      <a:pt x="538" y="153"/>
                    </a:lnTo>
                    <a:lnTo>
                      <a:pt x="528" y="152"/>
                    </a:lnTo>
                    <a:lnTo>
                      <a:pt x="519" y="153"/>
                    </a:lnTo>
                    <a:lnTo>
                      <a:pt x="510" y="154"/>
                    </a:lnTo>
                    <a:lnTo>
                      <a:pt x="501" y="155"/>
                    </a:lnTo>
                    <a:lnTo>
                      <a:pt x="491" y="155"/>
                    </a:lnTo>
                    <a:lnTo>
                      <a:pt x="482" y="156"/>
                    </a:lnTo>
                    <a:lnTo>
                      <a:pt x="473" y="156"/>
                    </a:lnTo>
                    <a:lnTo>
                      <a:pt x="464" y="156"/>
                    </a:lnTo>
                    <a:lnTo>
                      <a:pt x="454" y="156"/>
                    </a:lnTo>
                    <a:lnTo>
                      <a:pt x="445" y="157"/>
                    </a:lnTo>
                    <a:lnTo>
                      <a:pt x="436" y="157"/>
                    </a:lnTo>
                    <a:lnTo>
                      <a:pt x="426" y="158"/>
                    </a:lnTo>
                    <a:lnTo>
                      <a:pt x="417" y="158"/>
                    </a:lnTo>
                    <a:lnTo>
                      <a:pt x="408" y="158"/>
                    </a:lnTo>
                    <a:lnTo>
                      <a:pt x="399" y="158"/>
                    </a:lnTo>
                    <a:lnTo>
                      <a:pt x="389" y="158"/>
                    </a:lnTo>
                    <a:lnTo>
                      <a:pt x="380" y="158"/>
                    </a:lnTo>
                    <a:lnTo>
                      <a:pt x="371" y="159"/>
                    </a:lnTo>
                    <a:lnTo>
                      <a:pt x="361" y="159"/>
                    </a:lnTo>
                    <a:lnTo>
                      <a:pt x="352" y="159"/>
                    </a:lnTo>
                    <a:lnTo>
                      <a:pt x="343" y="160"/>
                    </a:lnTo>
                    <a:lnTo>
                      <a:pt x="334" y="160"/>
                    </a:lnTo>
                    <a:lnTo>
                      <a:pt x="324" y="160"/>
                    </a:lnTo>
                    <a:lnTo>
                      <a:pt x="315" y="160"/>
                    </a:lnTo>
                    <a:lnTo>
                      <a:pt x="306" y="160"/>
                    </a:lnTo>
                    <a:lnTo>
                      <a:pt x="296" y="160"/>
                    </a:lnTo>
                    <a:lnTo>
                      <a:pt x="287" y="160"/>
                    </a:lnTo>
                    <a:lnTo>
                      <a:pt x="278" y="161"/>
                    </a:lnTo>
                    <a:lnTo>
                      <a:pt x="269" y="161"/>
                    </a:lnTo>
                    <a:lnTo>
                      <a:pt x="259" y="161"/>
                    </a:lnTo>
                    <a:lnTo>
                      <a:pt x="250" y="161"/>
                    </a:lnTo>
                    <a:lnTo>
                      <a:pt x="241" y="161"/>
                    </a:lnTo>
                    <a:lnTo>
                      <a:pt x="232" y="161"/>
                    </a:lnTo>
                    <a:lnTo>
                      <a:pt x="222" y="162"/>
                    </a:lnTo>
                    <a:lnTo>
                      <a:pt x="213" y="162"/>
                    </a:lnTo>
                    <a:lnTo>
                      <a:pt x="204" y="162"/>
                    </a:lnTo>
                    <a:lnTo>
                      <a:pt x="194" y="162"/>
                    </a:lnTo>
                    <a:lnTo>
                      <a:pt x="185" y="162"/>
                    </a:lnTo>
                    <a:lnTo>
                      <a:pt x="176" y="162"/>
                    </a:lnTo>
                    <a:lnTo>
                      <a:pt x="167" y="162"/>
                    </a:lnTo>
                    <a:lnTo>
                      <a:pt x="157" y="163"/>
                    </a:lnTo>
                    <a:lnTo>
                      <a:pt x="148" y="163"/>
                    </a:lnTo>
                    <a:lnTo>
                      <a:pt x="139" y="163"/>
                    </a:lnTo>
                    <a:lnTo>
                      <a:pt x="129" y="163"/>
                    </a:lnTo>
                    <a:lnTo>
                      <a:pt x="120" y="163"/>
                    </a:lnTo>
                    <a:lnTo>
                      <a:pt x="111" y="163"/>
                    </a:lnTo>
                    <a:lnTo>
                      <a:pt x="102" y="163"/>
                    </a:lnTo>
                    <a:lnTo>
                      <a:pt x="92" y="163"/>
                    </a:lnTo>
                    <a:lnTo>
                      <a:pt x="83" y="164"/>
                    </a:lnTo>
                    <a:lnTo>
                      <a:pt x="74" y="164"/>
                    </a:lnTo>
                    <a:lnTo>
                      <a:pt x="64" y="164"/>
                    </a:lnTo>
                    <a:lnTo>
                      <a:pt x="55" y="164"/>
                    </a:lnTo>
                    <a:lnTo>
                      <a:pt x="46" y="164"/>
                    </a:lnTo>
                    <a:lnTo>
                      <a:pt x="37" y="164"/>
                    </a:lnTo>
                    <a:lnTo>
                      <a:pt x="27" y="164"/>
                    </a:lnTo>
                    <a:lnTo>
                      <a:pt x="18" y="164"/>
                    </a:lnTo>
                    <a:lnTo>
                      <a:pt x="9" y="164"/>
                    </a:lnTo>
                    <a:lnTo>
                      <a:pt x="0" y="164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3" name="Freeform 318"/>
              <p:cNvSpPr/>
              <p:nvPr/>
            </p:nvSpPr>
            <p:spPr>
              <a:xfrm>
                <a:off x="434520" y="2702520"/>
                <a:ext cx="2310120" cy="404640"/>
              </a:xfrm>
              <a:custGeom>
                <a:avLst/>
                <a:gdLst>
                  <a:gd name="textAreaLeft" fmla="*/ 0 w 2310120"/>
                  <a:gd name="textAreaRight" fmla="*/ 2310480 w 2310120"/>
                  <a:gd name="textAreaTop" fmla="*/ 0 h 404640"/>
                  <a:gd name="textAreaBottom" fmla="*/ 405000 h 404640"/>
                </a:gdLst>
                <a:ahLst/>
                <a:rect l="textAreaLeft" t="textAreaTop" r="textAreaRight" b="textAreaBottom"/>
                <a:pathLst>
                  <a:path w="1447" h="164">
                    <a:moveTo>
                      <a:pt x="0" y="164"/>
                    </a:moveTo>
                    <a:lnTo>
                      <a:pt x="9" y="164"/>
                    </a:lnTo>
                    <a:lnTo>
                      <a:pt x="18" y="164"/>
                    </a:lnTo>
                    <a:lnTo>
                      <a:pt x="27" y="164"/>
                    </a:lnTo>
                    <a:lnTo>
                      <a:pt x="37" y="164"/>
                    </a:lnTo>
                    <a:lnTo>
                      <a:pt x="46" y="164"/>
                    </a:lnTo>
                    <a:lnTo>
                      <a:pt x="55" y="164"/>
                    </a:lnTo>
                    <a:lnTo>
                      <a:pt x="64" y="164"/>
                    </a:lnTo>
                    <a:lnTo>
                      <a:pt x="74" y="164"/>
                    </a:lnTo>
                    <a:lnTo>
                      <a:pt x="83" y="164"/>
                    </a:lnTo>
                    <a:lnTo>
                      <a:pt x="92" y="163"/>
                    </a:lnTo>
                    <a:lnTo>
                      <a:pt x="102" y="163"/>
                    </a:lnTo>
                    <a:lnTo>
                      <a:pt x="111" y="163"/>
                    </a:lnTo>
                    <a:lnTo>
                      <a:pt x="120" y="163"/>
                    </a:lnTo>
                    <a:lnTo>
                      <a:pt x="129" y="163"/>
                    </a:lnTo>
                    <a:lnTo>
                      <a:pt x="139" y="163"/>
                    </a:lnTo>
                    <a:lnTo>
                      <a:pt x="148" y="163"/>
                    </a:lnTo>
                    <a:lnTo>
                      <a:pt x="157" y="163"/>
                    </a:lnTo>
                    <a:lnTo>
                      <a:pt x="167" y="162"/>
                    </a:lnTo>
                    <a:lnTo>
                      <a:pt x="176" y="162"/>
                    </a:lnTo>
                    <a:lnTo>
                      <a:pt x="185" y="162"/>
                    </a:lnTo>
                    <a:lnTo>
                      <a:pt x="194" y="162"/>
                    </a:lnTo>
                    <a:lnTo>
                      <a:pt x="204" y="162"/>
                    </a:lnTo>
                    <a:lnTo>
                      <a:pt x="213" y="162"/>
                    </a:lnTo>
                    <a:lnTo>
                      <a:pt x="222" y="162"/>
                    </a:lnTo>
                    <a:lnTo>
                      <a:pt x="232" y="161"/>
                    </a:lnTo>
                    <a:lnTo>
                      <a:pt x="241" y="161"/>
                    </a:lnTo>
                    <a:lnTo>
                      <a:pt x="250" y="161"/>
                    </a:lnTo>
                    <a:lnTo>
                      <a:pt x="259" y="161"/>
                    </a:lnTo>
                    <a:lnTo>
                      <a:pt x="269" y="161"/>
                    </a:lnTo>
                    <a:lnTo>
                      <a:pt x="278" y="161"/>
                    </a:lnTo>
                    <a:lnTo>
                      <a:pt x="287" y="160"/>
                    </a:lnTo>
                    <a:lnTo>
                      <a:pt x="296" y="160"/>
                    </a:lnTo>
                    <a:lnTo>
                      <a:pt x="306" y="160"/>
                    </a:lnTo>
                    <a:lnTo>
                      <a:pt x="315" y="160"/>
                    </a:lnTo>
                    <a:lnTo>
                      <a:pt x="324" y="160"/>
                    </a:lnTo>
                    <a:lnTo>
                      <a:pt x="334" y="160"/>
                    </a:lnTo>
                    <a:lnTo>
                      <a:pt x="343" y="160"/>
                    </a:lnTo>
                    <a:lnTo>
                      <a:pt x="352" y="159"/>
                    </a:lnTo>
                    <a:lnTo>
                      <a:pt x="361" y="159"/>
                    </a:lnTo>
                    <a:lnTo>
                      <a:pt x="371" y="159"/>
                    </a:lnTo>
                    <a:lnTo>
                      <a:pt x="380" y="158"/>
                    </a:lnTo>
                    <a:lnTo>
                      <a:pt x="389" y="158"/>
                    </a:lnTo>
                    <a:lnTo>
                      <a:pt x="399" y="158"/>
                    </a:lnTo>
                    <a:lnTo>
                      <a:pt x="408" y="158"/>
                    </a:lnTo>
                    <a:lnTo>
                      <a:pt x="417" y="158"/>
                    </a:lnTo>
                    <a:lnTo>
                      <a:pt x="426" y="158"/>
                    </a:lnTo>
                    <a:lnTo>
                      <a:pt x="436" y="157"/>
                    </a:lnTo>
                    <a:lnTo>
                      <a:pt x="445" y="157"/>
                    </a:lnTo>
                    <a:lnTo>
                      <a:pt x="454" y="156"/>
                    </a:lnTo>
                    <a:lnTo>
                      <a:pt x="464" y="156"/>
                    </a:lnTo>
                    <a:lnTo>
                      <a:pt x="473" y="156"/>
                    </a:lnTo>
                    <a:lnTo>
                      <a:pt x="482" y="156"/>
                    </a:lnTo>
                    <a:lnTo>
                      <a:pt x="491" y="155"/>
                    </a:lnTo>
                    <a:lnTo>
                      <a:pt x="501" y="155"/>
                    </a:lnTo>
                    <a:lnTo>
                      <a:pt x="510" y="154"/>
                    </a:lnTo>
                    <a:lnTo>
                      <a:pt x="519" y="153"/>
                    </a:lnTo>
                    <a:lnTo>
                      <a:pt x="528" y="152"/>
                    </a:lnTo>
                    <a:lnTo>
                      <a:pt x="538" y="153"/>
                    </a:lnTo>
                    <a:lnTo>
                      <a:pt x="547" y="152"/>
                    </a:lnTo>
                    <a:lnTo>
                      <a:pt x="556" y="152"/>
                    </a:lnTo>
                    <a:lnTo>
                      <a:pt x="566" y="151"/>
                    </a:lnTo>
                    <a:lnTo>
                      <a:pt x="575" y="151"/>
                    </a:lnTo>
                    <a:lnTo>
                      <a:pt x="584" y="150"/>
                    </a:lnTo>
                    <a:lnTo>
                      <a:pt x="593" y="151"/>
                    </a:lnTo>
                    <a:lnTo>
                      <a:pt x="603" y="151"/>
                    </a:lnTo>
                    <a:lnTo>
                      <a:pt x="612" y="150"/>
                    </a:lnTo>
                    <a:lnTo>
                      <a:pt x="621" y="149"/>
                    </a:lnTo>
                    <a:lnTo>
                      <a:pt x="631" y="149"/>
                    </a:lnTo>
                    <a:lnTo>
                      <a:pt x="640" y="151"/>
                    </a:lnTo>
                    <a:lnTo>
                      <a:pt x="649" y="149"/>
                    </a:lnTo>
                    <a:lnTo>
                      <a:pt x="658" y="151"/>
                    </a:lnTo>
                    <a:lnTo>
                      <a:pt x="668" y="150"/>
                    </a:lnTo>
                    <a:lnTo>
                      <a:pt x="677" y="148"/>
                    </a:lnTo>
                    <a:lnTo>
                      <a:pt x="686" y="148"/>
                    </a:lnTo>
                    <a:lnTo>
                      <a:pt x="696" y="147"/>
                    </a:lnTo>
                    <a:lnTo>
                      <a:pt x="705" y="147"/>
                    </a:lnTo>
                    <a:lnTo>
                      <a:pt x="714" y="146"/>
                    </a:lnTo>
                    <a:lnTo>
                      <a:pt x="723" y="145"/>
                    </a:lnTo>
                    <a:lnTo>
                      <a:pt x="733" y="145"/>
                    </a:lnTo>
                    <a:lnTo>
                      <a:pt x="742" y="145"/>
                    </a:lnTo>
                    <a:lnTo>
                      <a:pt x="751" y="147"/>
                    </a:lnTo>
                    <a:lnTo>
                      <a:pt x="760" y="148"/>
                    </a:lnTo>
                    <a:lnTo>
                      <a:pt x="770" y="147"/>
                    </a:lnTo>
                    <a:lnTo>
                      <a:pt x="779" y="146"/>
                    </a:lnTo>
                    <a:lnTo>
                      <a:pt x="788" y="146"/>
                    </a:lnTo>
                    <a:lnTo>
                      <a:pt x="798" y="144"/>
                    </a:lnTo>
                    <a:lnTo>
                      <a:pt x="807" y="143"/>
                    </a:lnTo>
                    <a:lnTo>
                      <a:pt x="816" y="143"/>
                    </a:lnTo>
                    <a:lnTo>
                      <a:pt x="825" y="142"/>
                    </a:lnTo>
                    <a:lnTo>
                      <a:pt x="835" y="142"/>
                    </a:lnTo>
                    <a:lnTo>
                      <a:pt x="844" y="139"/>
                    </a:lnTo>
                    <a:lnTo>
                      <a:pt x="853" y="139"/>
                    </a:lnTo>
                    <a:lnTo>
                      <a:pt x="863" y="138"/>
                    </a:lnTo>
                    <a:lnTo>
                      <a:pt x="872" y="139"/>
                    </a:lnTo>
                    <a:lnTo>
                      <a:pt x="881" y="141"/>
                    </a:lnTo>
                    <a:lnTo>
                      <a:pt x="890" y="140"/>
                    </a:lnTo>
                    <a:lnTo>
                      <a:pt x="900" y="138"/>
                    </a:lnTo>
                    <a:lnTo>
                      <a:pt x="909" y="137"/>
                    </a:lnTo>
                    <a:lnTo>
                      <a:pt x="918" y="136"/>
                    </a:lnTo>
                    <a:lnTo>
                      <a:pt x="928" y="134"/>
                    </a:lnTo>
                    <a:lnTo>
                      <a:pt x="937" y="132"/>
                    </a:lnTo>
                    <a:lnTo>
                      <a:pt x="946" y="131"/>
                    </a:lnTo>
                    <a:lnTo>
                      <a:pt x="955" y="130"/>
                    </a:lnTo>
                    <a:lnTo>
                      <a:pt x="965" y="130"/>
                    </a:lnTo>
                    <a:lnTo>
                      <a:pt x="974" y="127"/>
                    </a:lnTo>
                    <a:lnTo>
                      <a:pt x="983" y="126"/>
                    </a:lnTo>
                    <a:lnTo>
                      <a:pt x="992" y="123"/>
                    </a:lnTo>
                    <a:lnTo>
                      <a:pt x="1002" y="121"/>
                    </a:lnTo>
                    <a:lnTo>
                      <a:pt x="1011" y="119"/>
                    </a:lnTo>
                    <a:lnTo>
                      <a:pt x="1020" y="116"/>
                    </a:lnTo>
                    <a:lnTo>
                      <a:pt x="1030" y="115"/>
                    </a:lnTo>
                    <a:lnTo>
                      <a:pt x="1039" y="112"/>
                    </a:lnTo>
                    <a:lnTo>
                      <a:pt x="1048" y="109"/>
                    </a:lnTo>
                    <a:lnTo>
                      <a:pt x="1057" y="106"/>
                    </a:lnTo>
                    <a:lnTo>
                      <a:pt x="1067" y="106"/>
                    </a:lnTo>
                    <a:lnTo>
                      <a:pt x="1076" y="103"/>
                    </a:lnTo>
                    <a:lnTo>
                      <a:pt x="1085" y="102"/>
                    </a:lnTo>
                    <a:lnTo>
                      <a:pt x="1095" y="98"/>
                    </a:lnTo>
                    <a:lnTo>
                      <a:pt x="1104" y="95"/>
                    </a:lnTo>
                    <a:lnTo>
                      <a:pt x="1113" y="91"/>
                    </a:lnTo>
                    <a:lnTo>
                      <a:pt x="1122" y="88"/>
                    </a:lnTo>
                    <a:lnTo>
                      <a:pt x="1132" y="84"/>
                    </a:lnTo>
                    <a:lnTo>
                      <a:pt x="1141" y="79"/>
                    </a:lnTo>
                    <a:lnTo>
                      <a:pt x="1150" y="79"/>
                    </a:lnTo>
                    <a:lnTo>
                      <a:pt x="1160" y="78"/>
                    </a:lnTo>
                    <a:lnTo>
                      <a:pt x="1169" y="73"/>
                    </a:lnTo>
                    <a:lnTo>
                      <a:pt x="1178" y="70"/>
                    </a:lnTo>
                    <a:lnTo>
                      <a:pt x="1187" y="66"/>
                    </a:lnTo>
                    <a:lnTo>
                      <a:pt x="1197" y="63"/>
                    </a:lnTo>
                    <a:lnTo>
                      <a:pt x="1206" y="63"/>
                    </a:lnTo>
                    <a:lnTo>
                      <a:pt x="1215" y="65"/>
                    </a:lnTo>
                    <a:lnTo>
                      <a:pt x="1224" y="65"/>
                    </a:lnTo>
                    <a:lnTo>
                      <a:pt x="1234" y="64"/>
                    </a:lnTo>
                    <a:lnTo>
                      <a:pt x="1243" y="60"/>
                    </a:lnTo>
                    <a:lnTo>
                      <a:pt x="1252" y="58"/>
                    </a:lnTo>
                    <a:lnTo>
                      <a:pt x="1262" y="55"/>
                    </a:lnTo>
                    <a:lnTo>
                      <a:pt x="1271" y="51"/>
                    </a:lnTo>
                    <a:lnTo>
                      <a:pt x="1280" y="47"/>
                    </a:lnTo>
                    <a:lnTo>
                      <a:pt x="1289" y="45"/>
                    </a:lnTo>
                    <a:lnTo>
                      <a:pt x="1299" y="43"/>
                    </a:lnTo>
                    <a:lnTo>
                      <a:pt x="1308" y="42"/>
                    </a:lnTo>
                    <a:lnTo>
                      <a:pt x="1317" y="42"/>
                    </a:lnTo>
                    <a:lnTo>
                      <a:pt x="1327" y="41"/>
                    </a:lnTo>
                    <a:lnTo>
                      <a:pt x="1336" y="40"/>
                    </a:lnTo>
                    <a:lnTo>
                      <a:pt x="1345" y="37"/>
                    </a:lnTo>
                    <a:lnTo>
                      <a:pt x="1354" y="33"/>
                    </a:lnTo>
                    <a:lnTo>
                      <a:pt x="1364" y="32"/>
                    </a:lnTo>
                    <a:lnTo>
                      <a:pt x="1373" y="31"/>
                    </a:lnTo>
                    <a:lnTo>
                      <a:pt x="1382" y="29"/>
                    </a:lnTo>
                    <a:lnTo>
                      <a:pt x="1392" y="26"/>
                    </a:lnTo>
                    <a:lnTo>
                      <a:pt x="1401" y="25"/>
                    </a:lnTo>
                    <a:lnTo>
                      <a:pt x="1410" y="22"/>
                    </a:lnTo>
                    <a:lnTo>
                      <a:pt x="1419" y="16"/>
                    </a:lnTo>
                    <a:lnTo>
                      <a:pt x="1429" y="8"/>
                    </a:lnTo>
                    <a:lnTo>
                      <a:pt x="1438" y="4"/>
                    </a:lnTo>
                    <a:lnTo>
                      <a:pt x="1447" y="0"/>
                    </a:lnTo>
                    <a:lnTo>
                      <a:pt x="1447" y="3"/>
                    </a:lnTo>
                    <a:lnTo>
                      <a:pt x="1438" y="8"/>
                    </a:lnTo>
                    <a:lnTo>
                      <a:pt x="1429" y="12"/>
                    </a:lnTo>
                    <a:lnTo>
                      <a:pt x="1419" y="19"/>
                    </a:lnTo>
                    <a:lnTo>
                      <a:pt x="1410" y="25"/>
                    </a:lnTo>
                    <a:lnTo>
                      <a:pt x="1401" y="29"/>
                    </a:lnTo>
                    <a:lnTo>
                      <a:pt x="1392" y="29"/>
                    </a:lnTo>
                    <a:lnTo>
                      <a:pt x="1382" y="32"/>
                    </a:lnTo>
                    <a:lnTo>
                      <a:pt x="1373" y="35"/>
                    </a:lnTo>
                    <a:lnTo>
                      <a:pt x="1364" y="35"/>
                    </a:lnTo>
                    <a:lnTo>
                      <a:pt x="1354" y="37"/>
                    </a:lnTo>
                    <a:lnTo>
                      <a:pt x="1345" y="40"/>
                    </a:lnTo>
                    <a:lnTo>
                      <a:pt x="1336" y="43"/>
                    </a:lnTo>
                    <a:lnTo>
                      <a:pt x="1327" y="44"/>
                    </a:lnTo>
                    <a:lnTo>
                      <a:pt x="1317" y="45"/>
                    </a:lnTo>
                    <a:lnTo>
                      <a:pt x="1308" y="45"/>
                    </a:lnTo>
                    <a:lnTo>
                      <a:pt x="1299" y="46"/>
                    </a:lnTo>
                    <a:lnTo>
                      <a:pt x="1289" y="48"/>
                    </a:lnTo>
                    <a:lnTo>
                      <a:pt x="1280" y="50"/>
                    </a:lnTo>
                    <a:lnTo>
                      <a:pt x="1271" y="53"/>
                    </a:lnTo>
                    <a:lnTo>
                      <a:pt x="1262" y="58"/>
                    </a:lnTo>
                    <a:lnTo>
                      <a:pt x="1252" y="60"/>
                    </a:lnTo>
                    <a:lnTo>
                      <a:pt x="1243" y="62"/>
                    </a:lnTo>
                    <a:lnTo>
                      <a:pt x="1234" y="65"/>
                    </a:lnTo>
                    <a:lnTo>
                      <a:pt x="1224" y="66"/>
                    </a:lnTo>
                    <a:lnTo>
                      <a:pt x="1215" y="66"/>
                    </a:lnTo>
                    <a:lnTo>
                      <a:pt x="1206" y="64"/>
                    </a:lnTo>
                    <a:lnTo>
                      <a:pt x="1197" y="64"/>
                    </a:lnTo>
                    <a:lnTo>
                      <a:pt x="1187" y="67"/>
                    </a:lnTo>
                    <a:lnTo>
                      <a:pt x="1178" y="71"/>
                    </a:lnTo>
                    <a:lnTo>
                      <a:pt x="1169" y="74"/>
                    </a:lnTo>
                    <a:lnTo>
                      <a:pt x="1160" y="79"/>
                    </a:lnTo>
                    <a:lnTo>
                      <a:pt x="1150" y="79"/>
                    </a:lnTo>
                    <a:lnTo>
                      <a:pt x="1141" y="79"/>
                    </a:lnTo>
                    <a:lnTo>
                      <a:pt x="1132" y="84"/>
                    </a:lnTo>
                    <a:lnTo>
                      <a:pt x="1122" y="88"/>
                    </a:lnTo>
                    <a:lnTo>
                      <a:pt x="1113" y="91"/>
                    </a:lnTo>
                    <a:lnTo>
                      <a:pt x="1104" y="95"/>
                    </a:lnTo>
                    <a:lnTo>
                      <a:pt x="1095" y="98"/>
                    </a:lnTo>
                    <a:lnTo>
                      <a:pt x="1085" y="102"/>
                    </a:lnTo>
                    <a:lnTo>
                      <a:pt x="1076" y="103"/>
                    </a:lnTo>
                    <a:lnTo>
                      <a:pt x="1067" y="106"/>
                    </a:lnTo>
                    <a:lnTo>
                      <a:pt x="1057" y="106"/>
                    </a:lnTo>
                    <a:lnTo>
                      <a:pt x="1048" y="109"/>
                    </a:lnTo>
                    <a:lnTo>
                      <a:pt x="1039" y="112"/>
                    </a:lnTo>
                    <a:lnTo>
                      <a:pt x="1030" y="115"/>
                    </a:lnTo>
                    <a:lnTo>
                      <a:pt x="1020" y="116"/>
                    </a:lnTo>
                    <a:lnTo>
                      <a:pt x="1011" y="119"/>
                    </a:lnTo>
                    <a:lnTo>
                      <a:pt x="1002" y="121"/>
                    </a:lnTo>
                    <a:lnTo>
                      <a:pt x="992" y="123"/>
                    </a:lnTo>
                    <a:lnTo>
                      <a:pt x="983" y="126"/>
                    </a:lnTo>
                    <a:lnTo>
                      <a:pt x="974" y="127"/>
                    </a:lnTo>
                    <a:lnTo>
                      <a:pt x="965" y="130"/>
                    </a:lnTo>
                    <a:lnTo>
                      <a:pt x="955" y="130"/>
                    </a:lnTo>
                    <a:lnTo>
                      <a:pt x="946" y="131"/>
                    </a:lnTo>
                    <a:lnTo>
                      <a:pt x="937" y="132"/>
                    </a:lnTo>
                    <a:lnTo>
                      <a:pt x="928" y="134"/>
                    </a:lnTo>
                    <a:lnTo>
                      <a:pt x="918" y="136"/>
                    </a:lnTo>
                    <a:lnTo>
                      <a:pt x="909" y="137"/>
                    </a:lnTo>
                    <a:lnTo>
                      <a:pt x="900" y="138"/>
                    </a:lnTo>
                    <a:lnTo>
                      <a:pt x="890" y="140"/>
                    </a:lnTo>
                    <a:lnTo>
                      <a:pt x="881" y="141"/>
                    </a:lnTo>
                    <a:lnTo>
                      <a:pt x="872" y="139"/>
                    </a:lnTo>
                    <a:lnTo>
                      <a:pt x="863" y="138"/>
                    </a:lnTo>
                    <a:lnTo>
                      <a:pt x="853" y="139"/>
                    </a:lnTo>
                    <a:lnTo>
                      <a:pt x="844" y="139"/>
                    </a:lnTo>
                    <a:lnTo>
                      <a:pt x="835" y="142"/>
                    </a:lnTo>
                    <a:lnTo>
                      <a:pt x="825" y="142"/>
                    </a:lnTo>
                    <a:lnTo>
                      <a:pt x="816" y="143"/>
                    </a:lnTo>
                    <a:lnTo>
                      <a:pt x="807" y="143"/>
                    </a:lnTo>
                    <a:lnTo>
                      <a:pt x="798" y="144"/>
                    </a:lnTo>
                    <a:lnTo>
                      <a:pt x="788" y="146"/>
                    </a:lnTo>
                    <a:lnTo>
                      <a:pt x="779" y="146"/>
                    </a:lnTo>
                    <a:lnTo>
                      <a:pt x="770" y="147"/>
                    </a:lnTo>
                    <a:lnTo>
                      <a:pt x="760" y="148"/>
                    </a:lnTo>
                    <a:lnTo>
                      <a:pt x="751" y="147"/>
                    </a:lnTo>
                    <a:lnTo>
                      <a:pt x="742" y="145"/>
                    </a:lnTo>
                    <a:lnTo>
                      <a:pt x="733" y="145"/>
                    </a:lnTo>
                    <a:lnTo>
                      <a:pt x="723" y="145"/>
                    </a:lnTo>
                    <a:lnTo>
                      <a:pt x="714" y="146"/>
                    </a:lnTo>
                    <a:lnTo>
                      <a:pt x="705" y="147"/>
                    </a:lnTo>
                    <a:lnTo>
                      <a:pt x="696" y="147"/>
                    </a:lnTo>
                    <a:lnTo>
                      <a:pt x="686" y="148"/>
                    </a:lnTo>
                    <a:lnTo>
                      <a:pt x="677" y="148"/>
                    </a:lnTo>
                    <a:lnTo>
                      <a:pt x="668" y="150"/>
                    </a:lnTo>
                    <a:lnTo>
                      <a:pt x="658" y="151"/>
                    </a:lnTo>
                    <a:lnTo>
                      <a:pt x="649" y="149"/>
                    </a:lnTo>
                    <a:lnTo>
                      <a:pt x="640" y="151"/>
                    </a:lnTo>
                    <a:lnTo>
                      <a:pt x="631" y="149"/>
                    </a:lnTo>
                    <a:lnTo>
                      <a:pt x="621" y="149"/>
                    </a:lnTo>
                    <a:lnTo>
                      <a:pt x="612" y="150"/>
                    </a:lnTo>
                    <a:lnTo>
                      <a:pt x="603" y="151"/>
                    </a:lnTo>
                    <a:lnTo>
                      <a:pt x="593" y="151"/>
                    </a:lnTo>
                    <a:lnTo>
                      <a:pt x="584" y="150"/>
                    </a:lnTo>
                    <a:lnTo>
                      <a:pt x="575" y="151"/>
                    </a:lnTo>
                    <a:lnTo>
                      <a:pt x="566" y="151"/>
                    </a:lnTo>
                    <a:lnTo>
                      <a:pt x="556" y="152"/>
                    </a:lnTo>
                    <a:lnTo>
                      <a:pt x="547" y="152"/>
                    </a:lnTo>
                    <a:lnTo>
                      <a:pt x="538" y="153"/>
                    </a:lnTo>
                    <a:lnTo>
                      <a:pt x="528" y="152"/>
                    </a:lnTo>
                    <a:lnTo>
                      <a:pt x="519" y="153"/>
                    </a:lnTo>
                    <a:lnTo>
                      <a:pt x="510" y="154"/>
                    </a:lnTo>
                    <a:lnTo>
                      <a:pt x="501" y="155"/>
                    </a:lnTo>
                    <a:lnTo>
                      <a:pt x="491" y="155"/>
                    </a:lnTo>
                    <a:lnTo>
                      <a:pt x="482" y="156"/>
                    </a:lnTo>
                    <a:lnTo>
                      <a:pt x="473" y="156"/>
                    </a:lnTo>
                    <a:lnTo>
                      <a:pt x="464" y="156"/>
                    </a:lnTo>
                    <a:lnTo>
                      <a:pt x="454" y="156"/>
                    </a:lnTo>
                    <a:lnTo>
                      <a:pt x="445" y="157"/>
                    </a:lnTo>
                    <a:lnTo>
                      <a:pt x="436" y="157"/>
                    </a:lnTo>
                    <a:lnTo>
                      <a:pt x="426" y="158"/>
                    </a:lnTo>
                    <a:lnTo>
                      <a:pt x="417" y="158"/>
                    </a:lnTo>
                    <a:lnTo>
                      <a:pt x="408" y="158"/>
                    </a:lnTo>
                    <a:lnTo>
                      <a:pt x="399" y="158"/>
                    </a:lnTo>
                    <a:lnTo>
                      <a:pt x="389" y="158"/>
                    </a:lnTo>
                    <a:lnTo>
                      <a:pt x="380" y="158"/>
                    </a:lnTo>
                    <a:lnTo>
                      <a:pt x="371" y="159"/>
                    </a:lnTo>
                    <a:lnTo>
                      <a:pt x="361" y="159"/>
                    </a:lnTo>
                    <a:lnTo>
                      <a:pt x="352" y="159"/>
                    </a:lnTo>
                    <a:lnTo>
                      <a:pt x="343" y="160"/>
                    </a:lnTo>
                    <a:lnTo>
                      <a:pt x="334" y="160"/>
                    </a:lnTo>
                    <a:lnTo>
                      <a:pt x="324" y="160"/>
                    </a:lnTo>
                    <a:lnTo>
                      <a:pt x="315" y="160"/>
                    </a:lnTo>
                    <a:lnTo>
                      <a:pt x="306" y="160"/>
                    </a:lnTo>
                    <a:lnTo>
                      <a:pt x="296" y="160"/>
                    </a:lnTo>
                    <a:lnTo>
                      <a:pt x="287" y="160"/>
                    </a:lnTo>
                    <a:lnTo>
                      <a:pt x="278" y="161"/>
                    </a:lnTo>
                    <a:lnTo>
                      <a:pt x="269" y="161"/>
                    </a:lnTo>
                    <a:lnTo>
                      <a:pt x="259" y="161"/>
                    </a:lnTo>
                    <a:lnTo>
                      <a:pt x="250" y="161"/>
                    </a:lnTo>
                    <a:lnTo>
                      <a:pt x="241" y="161"/>
                    </a:lnTo>
                    <a:lnTo>
                      <a:pt x="232" y="161"/>
                    </a:lnTo>
                    <a:lnTo>
                      <a:pt x="222" y="162"/>
                    </a:lnTo>
                    <a:lnTo>
                      <a:pt x="213" y="162"/>
                    </a:lnTo>
                    <a:lnTo>
                      <a:pt x="204" y="162"/>
                    </a:lnTo>
                    <a:lnTo>
                      <a:pt x="194" y="162"/>
                    </a:lnTo>
                    <a:lnTo>
                      <a:pt x="185" y="162"/>
                    </a:lnTo>
                    <a:lnTo>
                      <a:pt x="176" y="162"/>
                    </a:lnTo>
                    <a:lnTo>
                      <a:pt x="167" y="162"/>
                    </a:lnTo>
                    <a:lnTo>
                      <a:pt x="157" y="163"/>
                    </a:lnTo>
                    <a:lnTo>
                      <a:pt x="148" y="163"/>
                    </a:lnTo>
                    <a:lnTo>
                      <a:pt x="139" y="163"/>
                    </a:lnTo>
                    <a:lnTo>
                      <a:pt x="129" y="163"/>
                    </a:lnTo>
                    <a:lnTo>
                      <a:pt x="120" y="163"/>
                    </a:lnTo>
                    <a:lnTo>
                      <a:pt x="111" y="163"/>
                    </a:lnTo>
                    <a:lnTo>
                      <a:pt x="102" y="163"/>
                    </a:lnTo>
                    <a:lnTo>
                      <a:pt x="92" y="163"/>
                    </a:lnTo>
                    <a:lnTo>
                      <a:pt x="83" y="164"/>
                    </a:lnTo>
                    <a:lnTo>
                      <a:pt x="74" y="164"/>
                    </a:lnTo>
                    <a:lnTo>
                      <a:pt x="64" y="164"/>
                    </a:lnTo>
                    <a:lnTo>
                      <a:pt x="55" y="164"/>
                    </a:lnTo>
                    <a:lnTo>
                      <a:pt x="46" y="164"/>
                    </a:lnTo>
                    <a:lnTo>
                      <a:pt x="37" y="164"/>
                    </a:lnTo>
                    <a:lnTo>
                      <a:pt x="27" y="164"/>
                    </a:lnTo>
                    <a:lnTo>
                      <a:pt x="18" y="164"/>
                    </a:lnTo>
                    <a:lnTo>
                      <a:pt x="9" y="164"/>
                    </a:lnTo>
                    <a:lnTo>
                      <a:pt x="0" y="164"/>
                    </a:lnTo>
                    <a:close/>
                  </a:path>
                </a:pathLst>
              </a:custGeom>
              <a:noFill/>
              <a:ln w="3175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4" name="Freeform 319"/>
              <p:cNvSpPr/>
              <p:nvPr/>
            </p:nvSpPr>
            <p:spPr>
              <a:xfrm>
                <a:off x="434520" y="2712600"/>
                <a:ext cx="2310120" cy="394560"/>
              </a:xfrm>
              <a:custGeom>
                <a:avLst/>
                <a:gdLst>
                  <a:gd name="textAreaLeft" fmla="*/ 0 w 2310120"/>
                  <a:gd name="textAreaRight" fmla="*/ 2310480 w 2310120"/>
                  <a:gd name="textAreaTop" fmla="*/ 0 h 394560"/>
                  <a:gd name="textAreaBottom" fmla="*/ 394920 h 394560"/>
                </a:gdLst>
                <a:ahLst/>
                <a:rect l="textAreaLeft" t="textAreaTop" r="textAreaRight" b="textAreaBottom"/>
                <a:pathLst>
                  <a:path w="1447" h="160">
                    <a:moveTo>
                      <a:pt x="0" y="160"/>
                    </a:moveTo>
                    <a:lnTo>
                      <a:pt x="9" y="160"/>
                    </a:lnTo>
                    <a:lnTo>
                      <a:pt x="18" y="160"/>
                    </a:lnTo>
                    <a:lnTo>
                      <a:pt x="27" y="160"/>
                    </a:lnTo>
                    <a:lnTo>
                      <a:pt x="37" y="160"/>
                    </a:lnTo>
                    <a:lnTo>
                      <a:pt x="46" y="160"/>
                    </a:lnTo>
                    <a:lnTo>
                      <a:pt x="55" y="160"/>
                    </a:lnTo>
                    <a:lnTo>
                      <a:pt x="64" y="160"/>
                    </a:lnTo>
                    <a:lnTo>
                      <a:pt x="74" y="160"/>
                    </a:lnTo>
                    <a:lnTo>
                      <a:pt x="83" y="160"/>
                    </a:lnTo>
                    <a:lnTo>
                      <a:pt x="92" y="160"/>
                    </a:lnTo>
                    <a:lnTo>
                      <a:pt x="102" y="159"/>
                    </a:lnTo>
                    <a:lnTo>
                      <a:pt x="111" y="159"/>
                    </a:lnTo>
                    <a:lnTo>
                      <a:pt x="120" y="159"/>
                    </a:lnTo>
                    <a:lnTo>
                      <a:pt x="129" y="159"/>
                    </a:lnTo>
                    <a:lnTo>
                      <a:pt x="139" y="159"/>
                    </a:lnTo>
                    <a:lnTo>
                      <a:pt x="148" y="159"/>
                    </a:lnTo>
                    <a:lnTo>
                      <a:pt x="157" y="159"/>
                    </a:lnTo>
                    <a:lnTo>
                      <a:pt x="167" y="159"/>
                    </a:lnTo>
                    <a:lnTo>
                      <a:pt x="176" y="158"/>
                    </a:lnTo>
                    <a:lnTo>
                      <a:pt x="185" y="158"/>
                    </a:lnTo>
                    <a:lnTo>
                      <a:pt x="194" y="158"/>
                    </a:lnTo>
                    <a:lnTo>
                      <a:pt x="204" y="158"/>
                    </a:lnTo>
                    <a:lnTo>
                      <a:pt x="213" y="158"/>
                    </a:lnTo>
                    <a:lnTo>
                      <a:pt x="222" y="158"/>
                    </a:lnTo>
                    <a:lnTo>
                      <a:pt x="232" y="158"/>
                    </a:lnTo>
                    <a:lnTo>
                      <a:pt x="241" y="157"/>
                    </a:lnTo>
                    <a:lnTo>
                      <a:pt x="250" y="157"/>
                    </a:lnTo>
                    <a:lnTo>
                      <a:pt x="259" y="157"/>
                    </a:lnTo>
                    <a:lnTo>
                      <a:pt x="269" y="157"/>
                    </a:lnTo>
                    <a:lnTo>
                      <a:pt x="278" y="157"/>
                    </a:lnTo>
                    <a:lnTo>
                      <a:pt x="287" y="157"/>
                    </a:lnTo>
                    <a:lnTo>
                      <a:pt x="296" y="156"/>
                    </a:lnTo>
                    <a:lnTo>
                      <a:pt x="306" y="156"/>
                    </a:lnTo>
                    <a:lnTo>
                      <a:pt x="315" y="156"/>
                    </a:lnTo>
                    <a:lnTo>
                      <a:pt x="324" y="156"/>
                    </a:lnTo>
                    <a:lnTo>
                      <a:pt x="334" y="156"/>
                    </a:lnTo>
                    <a:lnTo>
                      <a:pt x="343" y="156"/>
                    </a:lnTo>
                    <a:lnTo>
                      <a:pt x="352" y="155"/>
                    </a:lnTo>
                    <a:lnTo>
                      <a:pt x="361" y="155"/>
                    </a:lnTo>
                    <a:lnTo>
                      <a:pt x="371" y="155"/>
                    </a:lnTo>
                    <a:lnTo>
                      <a:pt x="380" y="155"/>
                    </a:lnTo>
                    <a:lnTo>
                      <a:pt x="389" y="155"/>
                    </a:lnTo>
                    <a:lnTo>
                      <a:pt x="399" y="155"/>
                    </a:lnTo>
                    <a:lnTo>
                      <a:pt x="408" y="154"/>
                    </a:lnTo>
                    <a:lnTo>
                      <a:pt x="417" y="154"/>
                    </a:lnTo>
                    <a:lnTo>
                      <a:pt x="426" y="154"/>
                    </a:lnTo>
                    <a:lnTo>
                      <a:pt x="436" y="154"/>
                    </a:lnTo>
                    <a:lnTo>
                      <a:pt x="445" y="153"/>
                    </a:lnTo>
                    <a:lnTo>
                      <a:pt x="454" y="153"/>
                    </a:lnTo>
                    <a:lnTo>
                      <a:pt x="464" y="152"/>
                    </a:lnTo>
                    <a:lnTo>
                      <a:pt x="473" y="152"/>
                    </a:lnTo>
                    <a:lnTo>
                      <a:pt x="482" y="152"/>
                    </a:lnTo>
                    <a:lnTo>
                      <a:pt x="491" y="151"/>
                    </a:lnTo>
                    <a:lnTo>
                      <a:pt x="501" y="151"/>
                    </a:lnTo>
                    <a:lnTo>
                      <a:pt x="510" y="150"/>
                    </a:lnTo>
                    <a:lnTo>
                      <a:pt x="519" y="149"/>
                    </a:lnTo>
                    <a:lnTo>
                      <a:pt x="528" y="148"/>
                    </a:lnTo>
                    <a:lnTo>
                      <a:pt x="538" y="149"/>
                    </a:lnTo>
                    <a:lnTo>
                      <a:pt x="547" y="148"/>
                    </a:lnTo>
                    <a:lnTo>
                      <a:pt x="556" y="148"/>
                    </a:lnTo>
                    <a:lnTo>
                      <a:pt x="566" y="147"/>
                    </a:lnTo>
                    <a:lnTo>
                      <a:pt x="575" y="147"/>
                    </a:lnTo>
                    <a:lnTo>
                      <a:pt x="584" y="146"/>
                    </a:lnTo>
                    <a:lnTo>
                      <a:pt x="593" y="147"/>
                    </a:lnTo>
                    <a:lnTo>
                      <a:pt x="603" y="147"/>
                    </a:lnTo>
                    <a:lnTo>
                      <a:pt x="612" y="146"/>
                    </a:lnTo>
                    <a:lnTo>
                      <a:pt x="621" y="145"/>
                    </a:lnTo>
                    <a:lnTo>
                      <a:pt x="631" y="145"/>
                    </a:lnTo>
                    <a:lnTo>
                      <a:pt x="640" y="147"/>
                    </a:lnTo>
                    <a:lnTo>
                      <a:pt x="649" y="145"/>
                    </a:lnTo>
                    <a:lnTo>
                      <a:pt x="658" y="147"/>
                    </a:lnTo>
                    <a:lnTo>
                      <a:pt x="668" y="146"/>
                    </a:lnTo>
                    <a:lnTo>
                      <a:pt x="677" y="144"/>
                    </a:lnTo>
                    <a:lnTo>
                      <a:pt x="686" y="144"/>
                    </a:lnTo>
                    <a:lnTo>
                      <a:pt x="696" y="143"/>
                    </a:lnTo>
                    <a:lnTo>
                      <a:pt x="705" y="143"/>
                    </a:lnTo>
                    <a:lnTo>
                      <a:pt x="714" y="142"/>
                    </a:lnTo>
                    <a:lnTo>
                      <a:pt x="723" y="141"/>
                    </a:lnTo>
                    <a:lnTo>
                      <a:pt x="733" y="141"/>
                    </a:lnTo>
                    <a:lnTo>
                      <a:pt x="742" y="142"/>
                    </a:lnTo>
                    <a:lnTo>
                      <a:pt x="751" y="143"/>
                    </a:lnTo>
                    <a:lnTo>
                      <a:pt x="760" y="144"/>
                    </a:lnTo>
                    <a:lnTo>
                      <a:pt x="770" y="144"/>
                    </a:lnTo>
                    <a:lnTo>
                      <a:pt x="779" y="143"/>
                    </a:lnTo>
                    <a:lnTo>
                      <a:pt x="788" y="142"/>
                    </a:lnTo>
                    <a:lnTo>
                      <a:pt x="798" y="140"/>
                    </a:lnTo>
                    <a:lnTo>
                      <a:pt x="807" y="139"/>
                    </a:lnTo>
                    <a:lnTo>
                      <a:pt x="816" y="140"/>
                    </a:lnTo>
                    <a:lnTo>
                      <a:pt x="825" y="138"/>
                    </a:lnTo>
                    <a:lnTo>
                      <a:pt x="835" y="138"/>
                    </a:lnTo>
                    <a:lnTo>
                      <a:pt x="844" y="135"/>
                    </a:lnTo>
                    <a:lnTo>
                      <a:pt x="853" y="135"/>
                    </a:lnTo>
                    <a:lnTo>
                      <a:pt x="863" y="134"/>
                    </a:lnTo>
                    <a:lnTo>
                      <a:pt x="872" y="135"/>
                    </a:lnTo>
                    <a:lnTo>
                      <a:pt x="881" y="138"/>
                    </a:lnTo>
                    <a:lnTo>
                      <a:pt x="890" y="136"/>
                    </a:lnTo>
                    <a:lnTo>
                      <a:pt x="900" y="134"/>
                    </a:lnTo>
                    <a:lnTo>
                      <a:pt x="909" y="133"/>
                    </a:lnTo>
                    <a:lnTo>
                      <a:pt x="918" y="133"/>
                    </a:lnTo>
                    <a:lnTo>
                      <a:pt x="928" y="130"/>
                    </a:lnTo>
                    <a:lnTo>
                      <a:pt x="937" y="128"/>
                    </a:lnTo>
                    <a:lnTo>
                      <a:pt x="946" y="128"/>
                    </a:lnTo>
                    <a:lnTo>
                      <a:pt x="955" y="126"/>
                    </a:lnTo>
                    <a:lnTo>
                      <a:pt x="965" y="126"/>
                    </a:lnTo>
                    <a:lnTo>
                      <a:pt x="974" y="124"/>
                    </a:lnTo>
                    <a:lnTo>
                      <a:pt x="983" y="122"/>
                    </a:lnTo>
                    <a:lnTo>
                      <a:pt x="992" y="119"/>
                    </a:lnTo>
                    <a:lnTo>
                      <a:pt x="1002" y="117"/>
                    </a:lnTo>
                    <a:lnTo>
                      <a:pt x="1011" y="115"/>
                    </a:lnTo>
                    <a:lnTo>
                      <a:pt x="1020" y="113"/>
                    </a:lnTo>
                    <a:lnTo>
                      <a:pt x="1030" y="111"/>
                    </a:lnTo>
                    <a:lnTo>
                      <a:pt x="1039" y="108"/>
                    </a:lnTo>
                    <a:lnTo>
                      <a:pt x="1048" y="105"/>
                    </a:lnTo>
                    <a:lnTo>
                      <a:pt x="1057" y="102"/>
                    </a:lnTo>
                    <a:lnTo>
                      <a:pt x="1067" y="102"/>
                    </a:lnTo>
                    <a:lnTo>
                      <a:pt x="1076" y="99"/>
                    </a:lnTo>
                    <a:lnTo>
                      <a:pt x="1085" y="98"/>
                    </a:lnTo>
                    <a:lnTo>
                      <a:pt x="1095" y="94"/>
                    </a:lnTo>
                    <a:lnTo>
                      <a:pt x="1104" y="91"/>
                    </a:lnTo>
                    <a:lnTo>
                      <a:pt x="1113" y="88"/>
                    </a:lnTo>
                    <a:lnTo>
                      <a:pt x="1122" y="84"/>
                    </a:lnTo>
                    <a:lnTo>
                      <a:pt x="1132" y="80"/>
                    </a:lnTo>
                    <a:lnTo>
                      <a:pt x="1141" y="75"/>
                    </a:lnTo>
                    <a:lnTo>
                      <a:pt x="1150" y="75"/>
                    </a:lnTo>
                    <a:lnTo>
                      <a:pt x="1160" y="75"/>
                    </a:lnTo>
                    <a:lnTo>
                      <a:pt x="1169" y="70"/>
                    </a:lnTo>
                    <a:lnTo>
                      <a:pt x="1178" y="67"/>
                    </a:lnTo>
                    <a:lnTo>
                      <a:pt x="1187" y="63"/>
                    </a:lnTo>
                    <a:lnTo>
                      <a:pt x="1197" y="60"/>
                    </a:lnTo>
                    <a:lnTo>
                      <a:pt x="1206" y="60"/>
                    </a:lnTo>
                    <a:lnTo>
                      <a:pt x="1215" y="62"/>
                    </a:lnTo>
                    <a:lnTo>
                      <a:pt x="1224" y="62"/>
                    </a:lnTo>
                    <a:lnTo>
                      <a:pt x="1234" y="61"/>
                    </a:lnTo>
                    <a:lnTo>
                      <a:pt x="1243" y="58"/>
                    </a:lnTo>
                    <a:lnTo>
                      <a:pt x="1252" y="56"/>
                    </a:lnTo>
                    <a:lnTo>
                      <a:pt x="1262" y="54"/>
                    </a:lnTo>
                    <a:lnTo>
                      <a:pt x="1271" y="50"/>
                    </a:lnTo>
                    <a:lnTo>
                      <a:pt x="1280" y="46"/>
                    </a:lnTo>
                    <a:lnTo>
                      <a:pt x="1289" y="44"/>
                    </a:lnTo>
                    <a:lnTo>
                      <a:pt x="1299" y="42"/>
                    </a:lnTo>
                    <a:lnTo>
                      <a:pt x="1308" y="41"/>
                    </a:lnTo>
                    <a:lnTo>
                      <a:pt x="1317" y="41"/>
                    </a:lnTo>
                    <a:lnTo>
                      <a:pt x="1327" y="40"/>
                    </a:lnTo>
                    <a:lnTo>
                      <a:pt x="1336" y="39"/>
                    </a:lnTo>
                    <a:lnTo>
                      <a:pt x="1345" y="36"/>
                    </a:lnTo>
                    <a:lnTo>
                      <a:pt x="1354" y="33"/>
                    </a:lnTo>
                    <a:lnTo>
                      <a:pt x="1364" y="32"/>
                    </a:lnTo>
                    <a:lnTo>
                      <a:pt x="1373" y="31"/>
                    </a:lnTo>
                    <a:lnTo>
                      <a:pt x="1382" y="28"/>
                    </a:lnTo>
                    <a:lnTo>
                      <a:pt x="1392" y="25"/>
                    </a:lnTo>
                    <a:lnTo>
                      <a:pt x="1401" y="25"/>
                    </a:lnTo>
                    <a:lnTo>
                      <a:pt x="1410" y="22"/>
                    </a:lnTo>
                    <a:lnTo>
                      <a:pt x="1419" y="16"/>
                    </a:lnTo>
                    <a:lnTo>
                      <a:pt x="1429" y="8"/>
                    </a:lnTo>
                    <a:lnTo>
                      <a:pt x="1438" y="4"/>
                    </a:lnTo>
                    <a:lnTo>
                      <a:pt x="1447" y="0"/>
                    </a:lnTo>
                    <a:lnTo>
                      <a:pt x="1447" y="38"/>
                    </a:lnTo>
                    <a:lnTo>
                      <a:pt x="1438" y="42"/>
                    </a:lnTo>
                    <a:lnTo>
                      <a:pt x="1429" y="45"/>
                    </a:lnTo>
                    <a:lnTo>
                      <a:pt x="1419" y="51"/>
                    </a:lnTo>
                    <a:lnTo>
                      <a:pt x="1410" y="56"/>
                    </a:lnTo>
                    <a:lnTo>
                      <a:pt x="1401" y="58"/>
                    </a:lnTo>
                    <a:lnTo>
                      <a:pt x="1392" y="59"/>
                    </a:lnTo>
                    <a:lnTo>
                      <a:pt x="1382" y="61"/>
                    </a:lnTo>
                    <a:lnTo>
                      <a:pt x="1373" y="62"/>
                    </a:lnTo>
                    <a:lnTo>
                      <a:pt x="1364" y="62"/>
                    </a:lnTo>
                    <a:lnTo>
                      <a:pt x="1354" y="63"/>
                    </a:lnTo>
                    <a:lnTo>
                      <a:pt x="1345" y="66"/>
                    </a:lnTo>
                    <a:lnTo>
                      <a:pt x="1336" y="68"/>
                    </a:lnTo>
                    <a:lnTo>
                      <a:pt x="1327" y="69"/>
                    </a:lnTo>
                    <a:lnTo>
                      <a:pt x="1317" y="69"/>
                    </a:lnTo>
                    <a:lnTo>
                      <a:pt x="1308" y="69"/>
                    </a:lnTo>
                    <a:lnTo>
                      <a:pt x="1299" y="69"/>
                    </a:lnTo>
                    <a:lnTo>
                      <a:pt x="1289" y="70"/>
                    </a:lnTo>
                    <a:lnTo>
                      <a:pt x="1280" y="71"/>
                    </a:lnTo>
                    <a:lnTo>
                      <a:pt x="1271" y="74"/>
                    </a:lnTo>
                    <a:lnTo>
                      <a:pt x="1262" y="77"/>
                    </a:lnTo>
                    <a:lnTo>
                      <a:pt x="1252" y="78"/>
                    </a:lnTo>
                    <a:lnTo>
                      <a:pt x="1243" y="80"/>
                    </a:lnTo>
                    <a:lnTo>
                      <a:pt x="1234" y="82"/>
                    </a:lnTo>
                    <a:lnTo>
                      <a:pt x="1224" y="82"/>
                    </a:lnTo>
                    <a:lnTo>
                      <a:pt x="1215" y="82"/>
                    </a:lnTo>
                    <a:lnTo>
                      <a:pt x="1206" y="80"/>
                    </a:lnTo>
                    <a:lnTo>
                      <a:pt x="1197" y="79"/>
                    </a:lnTo>
                    <a:lnTo>
                      <a:pt x="1187" y="81"/>
                    </a:lnTo>
                    <a:lnTo>
                      <a:pt x="1178" y="84"/>
                    </a:lnTo>
                    <a:lnTo>
                      <a:pt x="1169" y="87"/>
                    </a:lnTo>
                    <a:lnTo>
                      <a:pt x="1160" y="91"/>
                    </a:lnTo>
                    <a:lnTo>
                      <a:pt x="1150" y="92"/>
                    </a:lnTo>
                    <a:lnTo>
                      <a:pt x="1141" y="91"/>
                    </a:lnTo>
                    <a:lnTo>
                      <a:pt x="1132" y="95"/>
                    </a:lnTo>
                    <a:lnTo>
                      <a:pt x="1122" y="99"/>
                    </a:lnTo>
                    <a:lnTo>
                      <a:pt x="1113" y="101"/>
                    </a:lnTo>
                    <a:lnTo>
                      <a:pt x="1104" y="103"/>
                    </a:lnTo>
                    <a:lnTo>
                      <a:pt x="1095" y="106"/>
                    </a:lnTo>
                    <a:lnTo>
                      <a:pt x="1085" y="108"/>
                    </a:lnTo>
                    <a:lnTo>
                      <a:pt x="1076" y="109"/>
                    </a:lnTo>
                    <a:lnTo>
                      <a:pt x="1067" y="111"/>
                    </a:lnTo>
                    <a:lnTo>
                      <a:pt x="1057" y="111"/>
                    </a:lnTo>
                    <a:lnTo>
                      <a:pt x="1048" y="113"/>
                    </a:lnTo>
                    <a:lnTo>
                      <a:pt x="1039" y="115"/>
                    </a:lnTo>
                    <a:lnTo>
                      <a:pt x="1030" y="118"/>
                    </a:lnTo>
                    <a:lnTo>
                      <a:pt x="1020" y="119"/>
                    </a:lnTo>
                    <a:lnTo>
                      <a:pt x="1011" y="121"/>
                    </a:lnTo>
                    <a:lnTo>
                      <a:pt x="1002" y="122"/>
                    </a:lnTo>
                    <a:lnTo>
                      <a:pt x="992" y="124"/>
                    </a:lnTo>
                    <a:lnTo>
                      <a:pt x="983" y="126"/>
                    </a:lnTo>
                    <a:lnTo>
                      <a:pt x="974" y="127"/>
                    </a:lnTo>
                    <a:lnTo>
                      <a:pt x="965" y="129"/>
                    </a:lnTo>
                    <a:lnTo>
                      <a:pt x="955" y="130"/>
                    </a:lnTo>
                    <a:lnTo>
                      <a:pt x="946" y="131"/>
                    </a:lnTo>
                    <a:lnTo>
                      <a:pt x="937" y="132"/>
                    </a:lnTo>
                    <a:lnTo>
                      <a:pt x="928" y="132"/>
                    </a:lnTo>
                    <a:lnTo>
                      <a:pt x="918" y="135"/>
                    </a:lnTo>
                    <a:lnTo>
                      <a:pt x="909" y="135"/>
                    </a:lnTo>
                    <a:lnTo>
                      <a:pt x="900" y="136"/>
                    </a:lnTo>
                    <a:lnTo>
                      <a:pt x="890" y="138"/>
                    </a:lnTo>
                    <a:lnTo>
                      <a:pt x="881" y="139"/>
                    </a:lnTo>
                    <a:lnTo>
                      <a:pt x="872" y="136"/>
                    </a:lnTo>
                    <a:lnTo>
                      <a:pt x="863" y="136"/>
                    </a:lnTo>
                    <a:lnTo>
                      <a:pt x="853" y="136"/>
                    </a:lnTo>
                    <a:lnTo>
                      <a:pt x="844" y="137"/>
                    </a:lnTo>
                    <a:lnTo>
                      <a:pt x="835" y="139"/>
                    </a:lnTo>
                    <a:lnTo>
                      <a:pt x="825" y="139"/>
                    </a:lnTo>
                    <a:lnTo>
                      <a:pt x="816" y="141"/>
                    </a:lnTo>
                    <a:lnTo>
                      <a:pt x="807" y="140"/>
                    </a:lnTo>
                    <a:lnTo>
                      <a:pt x="798" y="141"/>
                    </a:lnTo>
                    <a:lnTo>
                      <a:pt x="788" y="143"/>
                    </a:lnTo>
                    <a:lnTo>
                      <a:pt x="779" y="143"/>
                    </a:lnTo>
                    <a:lnTo>
                      <a:pt x="770" y="144"/>
                    </a:lnTo>
                    <a:lnTo>
                      <a:pt x="760" y="145"/>
                    </a:lnTo>
                    <a:lnTo>
                      <a:pt x="751" y="143"/>
                    </a:lnTo>
                    <a:lnTo>
                      <a:pt x="742" y="142"/>
                    </a:lnTo>
                    <a:lnTo>
                      <a:pt x="733" y="141"/>
                    </a:lnTo>
                    <a:lnTo>
                      <a:pt x="723" y="142"/>
                    </a:lnTo>
                    <a:lnTo>
                      <a:pt x="714" y="143"/>
                    </a:lnTo>
                    <a:lnTo>
                      <a:pt x="705" y="144"/>
                    </a:lnTo>
                    <a:lnTo>
                      <a:pt x="696" y="144"/>
                    </a:lnTo>
                    <a:lnTo>
                      <a:pt x="686" y="144"/>
                    </a:lnTo>
                    <a:lnTo>
                      <a:pt x="677" y="144"/>
                    </a:lnTo>
                    <a:lnTo>
                      <a:pt x="668" y="146"/>
                    </a:lnTo>
                    <a:lnTo>
                      <a:pt x="658" y="147"/>
                    </a:lnTo>
                    <a:lnTo>
                      <a:pt x="649" y="145"/>
                    </a:lnTo>
                    <a:lnTo>
                      <a:pt x="640" y="147"/>
                    </a:lnTo>
                    <a:lnTo>
                      <a:pt x="631" y="146"/>
                    </a:lnTo>
                    <a:lnTo>
                      <a:pt x="621" y="146"/>
                    </a:lnTo>
                    <a:lnTo>
                      <a:pt x="612" y="146"/>
                    </a:lnTo>
                    <a:lnTo>
                      <a:pt x="603" y="147"/>
                    </a:lnTo>
                    <a:lnTo>
                      <a:pt x="593" y="147"/>
                    </a:lnTo>
                    <a:lnTo>
                      <a:pt x="584" y="146"/>
                    </a:lnTo>
                    <a:lnTo>
                      <a:pt x="575" y="147"/>
                    </a:lnTo>
                    <a:lnTo>
                      <a:pt x="566" y="148"/>
                    </a:lnTo>
                    <a:lnTo>
                      <a:pt x="556" y="148"/>
                    </a:lnTo>
                    <a:lnTo>
                      <a:pt x="547" y="148"/>
                    </a:lnTo>
                    <a:lnTo>
                      <a:pt x="538" y="149"/>
                    </a:lnTo>
                    <a:lnTo>
                      <a:pt x="528" y="149"/>
                    </a:lnTo>
                    <a:lnTo>
                      <a:pt x="519" y="150"/>
                    </a:lnTo>
                    <a:lnTo>
                      <a:pt x="510" y="150"/>
                    </a:lnTo>
                    <a:lnTo>
                      <a:pt x="501" y="151"/>
                    </a:lnTo>
                    <a:lnTo>
                      <a:pt x="491" y="151"/>
                    </a:lnTo>
                    <a:lnTo>
                      <a:pt x="482" y="152"/>
                    </a:lnTo>
                    <a:lnTo>
                      <a:pt x="473" y="152"/>
                    </a:lnTo>
                    <a:lnTo>
                      <a:pt x="464" y="152"/>
                    </a:lnTo>
                    <a:lnTo>
                      <a:pt x="454" y="153"/>
                    </a:lnTo>
                    <a:lnTo>
                      <a:pt x="445" y="153"/>
                    </a:lnTo>
                    <a:lnTo>
                      <a:pt x="436" y="154"/>
                    </a:lnTo>
                    <a:lnTo>
                      <a:pt x="426" y="154"/>
                    </a:lnTo>
                    <a:lnTo>
                      <a:pt x="417" y="154"/>
                    </a:lnTo>
                    <a:lnTo>
                      <a:pt x="408" y="154"/>
                    </a:lnTo>
                    <a:lnTo>
                      <a:pt x="399" y="155"/>
                    </a:lnTo>
                    <a:lnTo>
                      <a:pt x="389" y="155"/>
                    </a:lnTo>
                    <a:lnTo>
                      <a:pt x="380" y="155"/>
                    </a:lnTo>
                    <a:lnTo>
                      <a:pt x="371" y="155"/>
                    </a:lnTo>
                    <a:lnTo>
                      <a:pt x="361" y="155"/>
                    </a:lnTo>
                    <a:lnTo>
                      <a:pt x="352" y="155"/>
                    </a:lnTo>
                    <a:lnTo>
                      <a:pt x="343" y="156"/>
                    </a:lnTo>
                    <a:lnTo>
                      <a:pt x="334" y="156"/>
                    </a:lnTo>
                    <a:lnTo>
                      <a:pt x="324" y="156"/>
                    </a:lnTo>
                    <a:lnTo>
                      <a:pt x="315" y="156"/>
                    </a:lnTo>
                    <a:lnTo>
                      <a:pt x="306" y="156"/>
                    </a:lnTo>
                    <a:lnTo>
                      <a:pt x="296" y="156"/>
                    </a:lnTo>
                    <a:lnTo>
                      <a:pt x="287" y="157"/>
                    </a:lnTo>
                    <a:lnTo>
                      <a:pt x="278" y="157"/>
                    </a:lnTo>
                    <a:lnTo>
                      <a:pt x="269" y="157"/>
                    </a:lnTo>
                    <a:lnTo>
                      <a:pt x="259" y="157"/>
                    </a:lnTo>
                    <a:lnTo>
                      <a:pt x="250" y="157"/>
                    </a:lnTo>
                    <a:lnTo>
                      <a:pt x="241" y="157"/>
                    </a:lnTo>
                    <a:lnTo>
                      <a:pt x="232" y="158"/>
                    </a:lnTo>
                    <a:lnTo>
                      <a:pt x="222" y="158"/>
                    </a:lnTo>
                    <a:lnTo>
                      <a:pt x="213" y="158"/>
                    </a:lnTo>
                    <a:lnTo>
                      <a:pt x="204" y="158"/>
                    </a:lnTo>
                    <a:lnTo>
                      <a:pt x="194" y="158"/>
                    </a:lnTo>
                    <a:lnTo>
                      <a:pt x="185" y="158"/>
                    </a:lnTo>
                    <a:lnTo>
                      <a:pt x="176" y="158"/>
                    </a:lnTo>
                    <a:lnTo>
                      <a:pt x="167" y="159"/>
                    </a:lnTo>
                    <a:lnTo>
                      <a:pt x="157" y="159"/>
                    </a:lnTo>
                    <a:lnTo>
                      <a:pt x="148" y="159"/>
                    </a:lnTo>
                    <a:lnTo>
                      <a:pt x="139" y="159"/>
                    </a:lnTo>
                    <a:lnTo>
                      <a:pt x="129" y="159"/>
                    </a:lnTo>
                    <a:lnTo>
                      <a:pt x="120" y="159"/>
                    </a:lnTo>
                    <a:lnTo>
                      <a:pt x="111" y="159"/>
                    </a:lnTo>
                    <a:lnTo>
                      <a:pt x="102" y="159"/>
                    </a:lnTo>
                    <a:lnTo>
                      <a:pt x="92" y="160"/>
                    </a:lnTo>
                    <a:lnTo>
                      <a:pt x="83" y="160"/>
                    </a:lnTo>
                    <a:lnTo>
                      <a:pt x="74" y="160"/>
                    </a:lnTo>
                    <a:lnTo>
                      <a:pt x="64" y="160"/>
                    </a:lnTo>
                    <a:lnTo>
                      <a:pt x="55" y="160"/>
                    </a:lnTo>
                    <a:lnTo>
                      <a:pt x="46" y="160"/>
                    </a:lnTo>
                    <a:lnTo>
                      <a:pt x="37" y="160"/>
                    </a:lnTo>
                    <a:lnTo>
                      <a:pt x="27" y="160"/>
                    </a:lnTo>
                    <a:lnTo>
                      <a:pt x="18" y="160"/>
                    </a:lnTo>
                    <a:lnTo>
                      <a:pt x="9" y="160"/>
                    </a:lnTo>
                    <a:lnTo>
                      <a:pt x="0" y="160"/>
                    </a:lnTo>
                    <a:close/>
                  </a:path>
                </a:pathLst>
              </a:custGeom>
              <a:solidFill>
                <a:srgbClr val="006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5" name="Freeform 320"/>
              <p:cNvSpPr/>
              <p:nvPr/>
            </p:nvSpPr>
            <p:spPr>
              <a:xfrm>
                <a:off x="434520" y="2712600"/>
                <a:ext cx="2310120" cy="394560"/>
              </a:xfrm>
              <a:custGeom>
                <a:avLst/>
                <a:gdLst>
                  <a:gd name="textAreaLeft" fmla="*/ 0 w 2310120"/>
                  <a:gd name="textAreaRight" fmla="*/ 2310480 w 2310120"/>
                  <a:gd name="textAreaTop" fmla="*/ 0 h 394560"/>
                  <a:gd name="textAreaBottom" fmla="*/ 394920 h 394560"/>
                </a:gdLst>
                <a:ahLst/>
                <a:rect l="textAreaLeft" t="textAreaTop" r="textAreaRight" b="textAreaBottom"/>
                <a:pathLst>
                  <a:path w="1447" h="160">
                    <a:moveTo>
                      <a:pt x="0" y="160"/>
                    </a:moveTo>
                    <a:lnTo>
                      <a:pt x="9" y="160"/>
                    </a:lnTo>
                    <a:lnTo>
                      <a:pt x="18" y="160"/>
                    </a:lnTo>
                    <a:lnTo>
                      <a:pt x="27" y="160"/>
                    </a:lnTo>
                    <a:lnTo>
                      <a:pt x="37" y="160"/>
                    </a:lnTo>
                    <a:lnTo>
                      <a:pt x="46" y="160"/>
                    </a:lnTo>
                    <a:lnTo>
                      <a:pt x="55" y="160"/>
                    </a:lnTo>
                    <a:lnTo>
                      <a:pt x="64" y="160"/>
                    </a:lnTo>
                    <a:lnTo>
                      <a:pt x="74" y="160"/>
                    </a:lnTo>
                    <a:lnTo>
                      <a:pt x="83" y="160"/>
                    </a:lnTo>
                    <a:lnTo>
                      <a:pt x="92" y="160"/>
                    </a:lnTo>
                    <a:lnTo>
                      <a:pt x="102" y="159"/>
                    </a:lnTo>
                    <a:lnTo>
                      <a:pt x="111" y="159"/>
                    </a:lnTo>
                    <a:lnTo>
                      <a:pt x="120" y="159"/>
                    </a:lnTo>
                    <a:lnTo>
                      <a:pt x="129" y="159"/>
                    </a:lnTo>
                    <a:lnTo>
                      <a:pt x="139" y="159"/>
                    </a:lnTo>
                    <a:lnTo>
                      <a:pt x="148" y="159"/>
                    </a:lnTo>
                    <a:lnTo>
                      <a:pt x="157" y="159"/>
                    </a:lnTo>
                    <a:lnTo>
                      <a:pt x="167" y="159"/>
                    </a:lnTo>
                    <a:lnTo>
                      <a:pt x="176" y="158"/>
                    </a:lnTo>
                    <a:lnTo>
                      <a:pt x="185" y="158"/>
                    </a:lnTo>
                    <a:lnTo>
                      <a:pt x="194" y="158"/>
                    </a:lnTo>
                    <a:lnTo>
                      <a:pt x="204" y="158"/>
                    </a:lnTo>
                    <a:lnTo>
                      <a:pt x="213" y="158"/>
                    </a:lnTo>
                    <a:lnTo>
                      <a:pt x="222" y="158"/>
                    </a:lnTo>
                    <a:lnTo>
                      <a:pt x="232" y="158"/>
                    </a:lnTo>
                    <a:lnTo>
                      <a:pt x="241" y="157"/>
                    </a:lnTo>
                    <a:lnTo>
                      <a:pt x="250" y="157"/>
                    </a:lnTo>
                    <a:lnTo>
                      <a:pt x="259" y="157"/>
                    </a:lnTo>
                    <a:lnTo>
                      <a:pt x="269" y="157"/>
                    </a:lnTo>
                    <a:lnTo>
                      <a:pt x="278" y="157"/>
                    </a:lnTo>
                    <a:lnTo>
                      <a:pt x="287" y="157"/>
                    </a:lnTo>
                    <a:lnTo>
                      <a:pt x="296" y="156"/>
                    </a:lnTo>
                    <a:lnTo>
                      <a:pt x="306" y="156"/>
                    </a:lnTo>
                    <a:lnTo>
                      <a:pt x="315" y="156"/>
                    </a:lnTo>
                    <a:lnTo>
                      <a:pt x="324" y="156"/>
                    </a:lnTo>
                    <a:lnTo>
                      <a:pt x="334" y="156"/>
                    </a:lnTo>
                    <a:lnTo>
                      <a:pt x="343" y="156"/>
                    </a:lnTo>
                    <a:lnTo>
                      <a:pt x="352" y="155"/>
                    </a:lnTo>
                    <a:lnTo>
                      <a:pt x="361" y="155"/>
                    </a:lnTo>
                    <a:lnTo>
                      <a:pt x="371" y="155"/>
                    </a:lnTo>
                    <a:lnTo>
                      <a:pt x="380" y="155"/>
                    </a:lnTo>
                    <a:lnTo>
                      <a:pt x="389" y="155"/>
                    </a:lnTo>
                    <a:lnTo>
                      <a:pt x="399" y="155"/>
                    </a:lnTo>
                    <a:lnTo>
                      <a:pt x="408" y="154"/>
                    </a:lnTo>
                    <a:lnTo>
                      <a:pt x="417" y="154"/>
                    </a:lnTo>
                    <a:lnTo>
                      <a:pt x="426" y="154"/>
                    </a:lnTo>
                    <a:lnTo>
                      <a:pt x="436" y="154"/>
                    </a:lnTo>
                    <a:lnTo>
                      <a:pt x="445" y="153"/>
                    </a:lnTo>
                    <a:lnTo>
                      <a:pt x="454" y="153"/>
                    </a:lnTo>
                    <a:lnTo>
                      <a:pt x="464" y="152"/>
                    </a:lnTo>
                    <a:lnTo>
                      <a:pt x="473" y="152"/>
                    </a:lnTo>
                    <a:lnTo>
                      <a:pt x="482" y="152"/>
                    </a:lnTo>
                    <a:lnTo>
                      <a:pt x="491" y="151"/>
                    </a:lnTo>
                    <a:lnTo>
                      <a:pt x="501" y="151"/>
                    </a:lnTo>
                    <a:lnTo>
                      <a:pt x="510" y="150"/>
                    </a:lnTo>
                    <a:lnTo>
                      <a:pt x="519" y="149"/>
                    </a:lnTo>
                    <a:lnTo>
                      <a:pt x="528" y="148"/>
                    </a:lnTo>
                    <a:lnTo>
                      <a:pt x="538" y="149"/>
                    </a:lnTo>
                    <a:lnTo>
                      <a:pt x="547" y="148"/>
                    </a:lnTo>
                    <a:lnTo>
                      <a:pt x="556" y="148"/>
                    </a:lnTo>
                    <a:lnTo>
                      <a:pt x="566" y="147"/>
                    </a:lnTo>
                    <a:lnTo>
                      <a:pt x="575" y="147"/>
                    </a:lnTo>
                    <a:lnTo>
                      <a:pt x="584" y="146"/>
                    </a:lnTo>
                    <a:lnTo>
                      <a:pt x="593" y="147"/>
                    </a:lnTo>
                    <a:lnTo>
                      <a:pt x="603" y="147"/>
                    </a:lnTo>
                    <a:lnTo>
                      <a:pt x="612" y="146"/>
                    </a:lnTo>
                    <a:lnTo>
                      <a:pt x="621" y="145"/>
                    </a:lnTo>
                    <a:lnTo>
                      <a:pt x="631" y="145"/>
                    </a:lnTo>
                    <a:lnTo>
                      <a:pt x="640" y="147"/>
                    </a:lnTo>
                    <a:lnTo>
                      <a:pt x="649" y="145"/>
                    </a:lnTo>
                    <a:lnTo>
                      <a:pt x="658" y="147"/>
                    </a:lnTo>
                    <a:lnTo>
                      <a:pt x="668" y="146"/>
                    </a:lnTo>
                    <a:lnTo>
                      <a:pt x="677" y="144"/>
                    </a:lnTo>
                    <a:lnTo>
                      <a:pt x="686" y="144"/>
                    </a:lnTo>
                    <a:lnTo>
                      <a:pt x="696" y="143"/>
                    </a:lnTo>
                    <a:lnTo>
                      <a:pt x="705" y="143"/>
                    </a:lnTo>
                    <a:lnTo>
                      <a:pt x="714" y="142"/>
                    </a:lnTo>
                    <a:lnTo>
                      <a:pt x="723" y="141"/>
                    </a:lnTo>
                    <a:lnTo>
                      <a:pt x="733" y="141"/>
                    </a:lnTo>
                    <a:lnTo>
                      <a:pt x="742" y="142"/>
                    </a:lnTo>
                    <a:lnTo>
                      <a:pt x="751" y="143"/>
                    </a:lnTo>
                    <a:lnTo>
                      <a:pt x="760" y="144"/>
                    </a:lnTo>
                    <a:lnTo>
                      <a:pt x="770" y="144"/>
                    </a:lnTo>
                    <a:lnTo>
                      <a:pt x="779" y="143"/>
                    </a:lnTo>
                    <a:lnTo>
                      <a:pt x="788" y="142"/>
                    </a:lnTo>
                    <a:lnTo>
                      <a:pt x="798" y="140"/>
                    </a:lnTo>
                    <a:lnTo>
                      <a:pt x="807" y="139"/>
                    </a:lnTo>
                    <a:lnTo>
                      <a:pt x="816" y="140"/>
                    </a:lnTo>
                    <a:lnTo>
                      <a:pt x="825" y="138"/>
                    </a:lnTo>
                    <a:lnTo>
                      <a:pt x="835" y="138"/>
                    </a:lnTo>
                    <a:lnTo>
                      <a:pt x="844" y="135"/>
                    </a:lnTo>
                    <a:lnTo>
                      <a:pt x="853" y="135"/>
                    </a:lnTo>
                    <a:lnTo>
                      <a:pt x="863" y="134"/>
                    </a:lnTo>
                    <a:lnTo>
                      <a:pt x="872" y="135"/>
                    </a:lnTo>
                    <a:lnTo>
                      <a:pt x="881" y="138"/>
                    </a:lnTo>
                    <a:lnTo>
                      <a:pt x="890" y="136"/>
                    </a:lnTo>
                    <a:lnTo>
                      <a:pt x="900" y="134"/>
                    </a:lnTo>
                    <a:lnTo>
                      <a:pt x="909" y="133"/>
                    </a:lnTo>
                    <a:lnTo>
                      <a:pt x="918" y="133"/>
                    </a:lnTo>
                    <a:lnTo>
                      <a:pt x="928" y="130"/>
                    </a:lnTo>
                    <a:lnTo>
                      <a:pt x="937" y="128"/>
                    </a:lnTo>
                    <a:lnTo>
                      <a:pt x="946" y="128"/>
                    </a:lnTo>
                    <a:lnTo>
                      <a:pt x="955" y="126"/>
                    </a:lnTo>
                    <a:lnTo>
                      <a:pt x="965" y="126"/>
                    </a:lnTo>
                    <a:lnTo>
                      <a:pt x="974" y="124"/>
                    </a:lnTo>
                    <a:lnTo>
                      <a:pt x="983" y="122"/>
                    </a:lnTo>
                    <a:lnTo>
                      <a:pt x="992" y="119"/>
                    </a:lnTo>
                    <a:lnTo>
                      <a:pt x="1002" y="117"/>
                    </a:lnTo>
                    <a:lnTo>
                      <a:pt x="1011" y="115"/>
                    </a:lnTo>
                    <a:lnTo>
                      <a:pt x="1020" y="113"/>
                    </a:lnTo>
                    <a:lnTo>
                      <a:pt x="1030" y="111"/>
                    </a:lnTo>
                    <a:lnTo>
                      <a:pt x="1039" y="108"/>
                    </a:lnTo>
                    <a:lnTo>
                      <a:pt x="1048" y="105"/>
                    </a:lnTo>
                    <a:lnTo>
                      <a:pt x="1057" y="102"/>
                    </a:lnTo>
                    <a:lnTo>
                      <a:pt x="1067" y="102"/>
                    </a:lnTo>
                    <a:lnTo>
                      <a:pt x="1076" y="99"/>
                    </a:lnTo>
                    <a:lnTo>
                      <a:pt x="1085" y="98"/>
                    </a:lnTo>
                    <a:lnTo>
                      <a:pt x="1095" y="94"/>
                    </a:lnTo>
                    <a:lnTo>
                      <a:pt x="1104" y="91"/>
                    </a:lnTo>
                    <a:lnTo>
                      <a:pt x="1113" y="88"/>
                    </a:lnTo>
                    <a:lnTo>
                      <a:pt x="1122" y="84"/>
                    </a:lnTo>
                    <a:lnTo>
                      <a:pt x="1132" y="80"/>
                    </a:lnTo>
                    <a:lnTo>
                      <a:pt x="1141" y="75"/>
                    </a:lnTo>
                    <a:lnTo>
                      <a:pt x="1150" y="75"/>
                    </a:lnTo>
                    <a:lnTo>
                      <a:pt x="1160" y="75"/>
                    </a:lnTo>
                    <a:lnTo>
                      <a:pt x="1169" y="70"/>
                    </a:lnTo>
                    <a:lnTo>
                      <a:pt x="1178" y="67"/>
                    </a:lnTo>
                    <a:lnTo>
                      <a:pt x="1187" y="63"/>
                    </a:lnTo>
                    <a:lnTo>
                      <a:pt x="1197" y="60"/>
                    </a:lnTo>
                    <a:lnTo>
                      <a:pt x="1206" y="60"/>
                    </a:lnTo>
                    <a:lnTo>
                      <a:pt x="1215" y="62"/>
                    </a:lnTo>
                    <a:lnTo>
                      <a:pt x="1224" y="62"/>
                    </a:lnTo>
                    <a:lnTo>
                      <a:pt x="1234" y="61"/>
                    </a:lnTo>
                    <a:lnTo>
                      <a:pt x="1243" y="58"/>
                    </a:lnTo>
                    <a:lnTo>
                      <a:pt x="1252" y="56"/>
                    </a:lnTo>
                    <a:lnTo>
                      <a:pt x="1262" y="54"/>
                    </a:lnTo>
                    <a:lnTo>
                      <a:pt x="1271" y="50"/>
                    </a:lnTo>
                    <a:lnTo>
                      <a:pt x="1280" y="46"/>
                    </a:lnTo>
                    <a:lnTo>
                      <a:pt x="1289" y="44"/>
                    </a:lnTo>
                    <a:lnTo>
                      <a:pt x="1299" y="42"/>
                    </a:lnTo>
                    <a:lnTo>
                      <a:pt x="1308" y="41"/>
                    </a:lnTo>
                    <a:lnTo>
                      <a:pt x="1317" y="41"/>
                    </a:lnTo>
                    <a:lnTo>
                      <a:pt x="1327" y="40"/>
                    </a:lnTo>
                    <a:lnTo>
                      <a:pt x="1336" y="39"/>
                    </a:lnTo>
                    <a:lnTo>
                      <a:pt x="1345" y="36"/>
                    </a:lnTo>
                    <a:lnTo>
                      <a:pt x="1354" y="33"/>
                    </a:lnTo>
                    <a:lnTo>
                      <a:pt x="1364" y="32"/>
                    </a:lnTo>
                    <a:lnTo>
                      <a:pt x="1373" y="31"/>
                    </a:lnTo>
                    <a:lnTo>
                      <a:pt x="1382" y="28"/>
                    </a:lnTo>
                    <a:lnTo>
                      <a:pt x="1392" y="25"/>
                    </a:lnTo>
                    <a:lnTo>
                      <a:pt x="1401" y="25"/>
                    </a:lnTo>
                    <a:lnTo>
                      <a:pt x="1410" y="22"/>
                    </a:lnTo>
                    <a:lnTo>
                      <a:pt x="1419" y="16"/>
                    </a:lnTo>
                    <a:lnTo>
                      <a:pt x="1429" y="8"/>
                    </a:lnTo>
                    <a:lnTo>
                      <a:pt x="1438" y="4"/>
                    </a:lnTo>
                    <a:lnTo>
                      <a:pt x="1447" y="0"/>
                    </a:lnTo>
                    <a:lnTo>
                      <a:pt x="1447" y="38"/>
                    </a:lnTo>
                    <a:lnTo>
                      <a:pt x="1438" y="42"/>
                    </a:lnTo>
                    <a:lnTo>
                      <a:pt x="1429" y="45"/>
                    </a:lnTo>
                    <a:lnTo>
                      <a:pt x="1419" y="51"/>
                    </a:lnTo>
                    <a:lnTo>
                      <a:pt x="1410" y="56"/>
                    </a:lnTo>
                    <a:lnTo>
                      <a:pt x="1401" y="58"/>
                    </a:lnTo>
                    <a:lnTo>
                      <a:pt x="1392" y="59"/>
                    </a:lnTo>
                    <a:lnTo>
                      <a:pt x="1382" y="61"/>
                    </a:lnTo>
                    <a:lnTo>
                      <a:pt x="1373" y="62"/>
                    </a:lnTo>
                    <a:lnTo>
                      <a:pt x="1364" y="62"/>
                    </a:lnTo>
                    <a:lnTo>
                      <a:pt x="1354" y="63"/>
                    </a:lnTo>
                    <a:lnTo>
                      <a:pt x="1345" y="66"/>
                    </a:lnTo>
                    <a:lnTo>
                      <a:pt x="1336" y="68"/>
                    </a:lnTo>
                    <a:lnTo>
                      <a:pt x="1327" y="69"/>
                    </a:lnTo>
                    <a:lnTo>
                      <a:pt x="1317" y="69"/>
                    </a:lnTo>
                    <a:lnTo>
                      <a:pt x="1308" y="69"/>
                    </a:lnTo>
                    <a:lnTo>
                      <a:pt x="1299" y="69"/>
                    </a:lnTo>
                    <a:lnTo>
                      <a:pt x="1289" y="70"/>
                    </a:lnTo>
                    <a:lnTo>
                      <a:pt x="1280" y="71"/>
                    </a:lnTo>
                    <a:lnTo>
                      <a:pt x="1271" y="74"/>
                    </a:lnTo>
                    <a:lnTo>
                      <a:pt x="1262" y="77"/>
                    </a:lnTo>
                    <a:lnTo>
                      <a:pt x="1252" y="78"/>
                    </a:lnTo>
                    <a:lnTo>
                      <a:pt x="1243" y="80"/>
                    </a:lnTo>
                    <a:lnTo>
                      <a:pt x="1234" y="82"/>
                    </a:lnTo>
                    <a:lnTo>
                      <a:pt x="1224" y="82"/>
                    </a:lnTo>
                    <a:lnTo>
                      <a:pt x="1215" y="82"/>
                    </a:lnTo>
                    <a:lnTo>
                      <a:pt x="1206" y="80"/>
                    </a:lnTo>
                    <a:lnTo>
                      <a:pt x="1197" y="79"/>
                    </a:lnTo>
                    <a:lnTo>
                      <a:pt x="1187" y="81"/>
                    </a:lnTo>
                    <a:lnTo>
                      <a:pt x="1178" y="84"/>
                    </a:lnTo>
                    <a:lnTo>
                      <a:pt x="1169" y="87"/>
                    </a:lnTo>
                    <a:lnTo>
                      <a:pt x="1160" y="91"/>
                    </a:lnTo>
                    <a:lnTo>
                      <a:pt x="1150" y="92"/>
                    </a:lnTo>
                    <a:lnTo>
                      <a:pt x="1141" y="91"/>
                    </a:lnTo>
                    <a:lnTo>
                      <a:pt x="1132" y="95"/>
                    </a:lnTo>
                    <a:lnTo>
                      <a:pt x="1122" y="99"/>
                    </a:lnTo>
                    <a:lnTo>
                      <a:pt x="1113" y="101"/>
                    </a:lnTo>
                    <a:lnTo>
                      <a:pt x="1104" y="103"/>
                    </a:lnTo>
                    <a:lnTo>
                      <a:pt x="1095" y="106"/>
                    </a:lnTo>
                    <a:lnTo>
                      <a:pt x="1085" y="108"/>
                    </a:lnTo>
                    <a:lnTo>
                      <a:pt x="1076" y="109"/>
                    </a:lnTo>
                    <a:lnTo>
                      <a:pt x="1067" y="111"/>
                    </a:lnTo>
                    <a:lnTo>
                      <a:pt x="1057" y="111"/>
                    </a:lnTo>
                    <a:lnTo>
                      <a:pt x="1048" y="113"/>
                    </a:lnTo>
                    <a:lnTo>
                      <a:pt x="1039" y="115"/>
                    </a:lnTo>
                    <a:lnTo>
                      <a:pt x="1030" y="118"/>
                    </a:lnTo>
                    <a:lnTo>
                      <a:pt x="1020" y="119"/>
                    </a:lnTo>
                    <a:lnTo>
                      <a:pt x="1011" y="121"/>
                    </a:lnTo>
                    <a:lnTo>
                      <a:pt x="1002" y="122"/>
                    </a:lnTo>
                    <a:lnTo>
                      <a:pt x="992" y="124"/>
                    </a:lnTo>
                    <a:lnTo>
                      <a:pt x="983" y="126"/>
                    </a:lnTo>
                    <a:lnTo>
                      <a:pt x="974" y="127"/>
                    </a:lnTo>
                    <a:lnTo>
                      <a:pt x="965" y="129"/>
                    </a:lnTo>
                    <a:lnTo>
                      <a:pt x="955" y="130"/>
                    </a:lnTo>
                    <a:lnTo>
                      <a:pt x="946" y="131"/>
                    </a:lnTo>
                    <a:lnTo>
                      <a:pt x="937" y="132"/>
                    </a:lnTo>
                    <a:lnTo>
                      <a:pt x="928" y="132"/>
                    </a:lnTo>
                    <a:lnTo>
                      <a:pt x="918" y="135"/>
                    </a:lnTo>
                    <a:lnTo>
                      <a:pt x="909" y="135"/>
                    </a:lnTo>
                    <a:lnTo>
                      <a:pt x="900" y="136"/>
                    </a:lnTo>
                    <a:lnTo>
                      <a:pt x="890" y="138"/>
                    </a:lnTo>
                    <a:lnTo>
                      <a:pt x="881" y="139"/>
                    </a:lnTo>
                    <a:lnTo>
                      <a:pt x="872" y="136"/>
                    </a:lnTo>
                    <a:lnTo>
                      <a:pt x="863" y="136"/>
                    </a:lnTo>
                    <a:lnTo>
                      <a:pt x="853" y="136"/>
                    </a:lnTo>
                    <a:lnTo>
                      <a:pt x="844" y="137"/>
                    </a:lnTo>
                    <a:lnTo>
                      <a:pt x="835" y="139"/>
                    </a:lnTo>
                    <a:lnTo>
                      <a:pt x="825" y="139"/>
                    </a:lnTo>
                    <a:lnTo>
                      <a:pt x="816" y="141"/>
                    </a:lnTo>
                    <a:lnTo>
                      <a:pt x="807" y="140"/>
                    </a:lnTo>
                    <a:lnTo>
                      <a:pt x="798" y="141"/>
                    </a:lnTo>
                    <a:lnTo>
                      <a:pt x="788" y="143"/>
                    </a:lnTo>
                    <a:lnTo>
                      <a:pt x="779" y="143"/>
                    </a:lnTo>
                    <a:lnTo>
                      <a:pt x="770" y="144"/>
                    </a:lnTo>
                    <a:lnTo>
                      <a:pt x="760" y="145"/>
                    </a:lnTo>
                    <a:lnTo>
                      <a:pt x="751" y="143"/>
                    </a:lnTo>
                    <a:lnTo>
                      <a:pt x="742" y="142"/>
                    </a:lnTo>
                    <a:lnTo>
                      <a:pt x="733" y="141"/>
                    </a:lnTo>
                    <a:lnTo>
                      <a:pt x="723" y="142"/>
                    </a:lnTo>
                    <a:lnTo>
                      <a:pt x="714" y="143"/>
                    </a:lnTo>
                    <a:lnTo>
                      <a:pt x="705" y="144"/>
                    </a:lnTo>
                    <a:lnTo>
                      <a:pt x="696" y="144"/>
                    </a:lnTo>
                    <a:lnTo>
                      <a:pt x="686" y="144"/>
                    </a:lnTo>
                    <a:lnTo>
                      <a:pt x="677" y="144"/>
                    </a:lnTo>
                    <a:lnTo>
                      <a:pt x="668" y="146"/>
                    </a:lnTo>
                    <a:lnTo>
                      <a:pt x="658" y="147"/>
                    </a:lnTo>
                    <a:lnTo>
                      <a:pt x="649" y="145"/>
                    </a:lnTo>
                    <a:lnTo>
                      <a:pt x="640" y="147"/>
                    </a:lnTo>
                    <a:lnTo>
                      <a:pt x="631" y="146"/>
                    </a:lnTo>
                    <a:lnTo>
                      <a:pt x="621" y="146"/>
                    </a:lnTo>
                    <a:lnTo>
                      <a:pt x="612" y="146"/>
                    </a:lnTo>
                    <a:lnTo>
                      <a:pt x="603" y="147"/>
                    </a:lnTo>
                    <a:lnTo>
                      <a:pt x="593" y="147"/>
                    </a:lnTo>
                    <a:lnTo>
                      <a:pt x="584" y="146"/>
                    </a:lnTo>
                    <a:lnTo>
                      <a:pt x="575" y="147"/>
                    </a:lnTo>
                    <a:lnTo>
                      <a:pt x="566" y="148"/>
                    </a:lnTo>
                    <a:lnTo>
                      <a:pt x="556" y="148"/>
                    </a:lnTo>
                    <a:lnTo>
                      <a:pt x="547" y="148"/>
                    </a:lnTo>
                    <a:lnTo>
                      <a:pt x="538" y="149"/>
                    </a:lnTo>
                    <a:lnTo>
                      <a:pt x="528" y="149"/>
                    </a:lnTo>
                    <a:lnTo>
                      <a:pt x="519" y="150"/>
                    </a:lnTo>
                    <a:lnTo>
                      <a:pt x="510" y="150"/>
                    </a:lnTo>
                    <a:lnTo>
                      <a:pt x="501" y="151"/>
                    </a:lnTo>
                    <a:lnTo>
                      <a:pt x="491" y="151"/>
                    </a:lnTo>
                    <a:lnTo>
                      <a:pt x="482" y="152"/>
                    </a:lnTo>
                    <a:lnTo>
                      <a:pt x="473" y="152"/>
                    </a:lnTo>
                    <a:lnTo>
                      <a:pt x="464" y="152"/>
                    </a:lnTo>
                    <a:lnTo>
                      <a:pt x="454" y="153"/>
                    </a:lnTo>
                    <a:lnTo>
                      <a:pt x="445" y="153"/>
                    </a:lnTo>
                    <a:lnTo>
                      <a:pt x="436" y="154"/>
                    </a:lnTo>
                    <a:lnTo>
                      <a:pt x="426" y="154"/>
                    </a:lnTo>
                    <a:lnTo>
                      <a:pt x="417" y="154"/>
                    </a:lnTo>
                    <a:lnTo>
                      <a:pt x="408" y="154"/>
                    </a:lnTo>
                    <a:lnTo>
                      <a:pt x="399" y="155"/>
                    </a:lnTo>
                    <a:lnTo>
                      <a:pt x="389" y="155"/>
                    </a:lnTo>
                    <a:lnTo>
                      <a:pt x="380" y="155"/>
                    </a:lnTo>
                    <a:lnTo>
                      <a:pt x="371" y="155"/>
                    </a:lnTo>
                    <a:lnTo>
                      <a:pt x="361" y="155"/>
                    </a:lnTo>
                    <a:lnTo>
                      <a:pt x="352" y="155"/>
                    </a:lnTo>
                    <a:lnTo>
                      <a:pt x="343" y="156"/>
                    </a:lnTo>
                    <a:lnTo>
                      <a:pt x="334" y="156"/>
                    </a:lnTo>
                    <a:lnTo>
                      <a:pt x="324" y="156"/>
                    </a:lnTo>
                    <a:lnTo>
                      <a:pt x="315" y="156"/>
                    </a:lnTo>
                    <a:lnTo>
                      <a:pt x="306" y="156"/>
                    </a:lnTo>
                    <a:lnTo>
                      <a:pt x="296" y="156"/>
                    </a:lnTo>
                    <a:lnTo>
                      <a:pt x="287" y="157"/>
                    </a:lnTo>
                    <a:lnTo>
                      <a:pt x="278" y="157"/>
                    </a:lnTo>
                    <a:lnTo>
                      <a:pt x="269" y="157"/>
                    </a:lnTo>
                    <a:lnTo>
                      <a:pt x="259" y="157"/>
                    </a:lnTo>
                    <a:lnTo>
                      <a:pt x="250" y="157"/>
                    </a:lnTo>
                    <a:lnTo>
                      <a:pt x="241" y="157"/>
                    </a:lnTo>
                    <a:lnTo>
                      <a:pt x="232" y="158"/>
                    </a:lnTo>
                    <a:lnTo>
                      <a:pt x="222" y="158"/>
                    </a:lnTo>
                    <a:lnTo>
                      <a:pt x="213" y="158"/>
                    </a:lnTo>
                    <a:lnTo>
                      <a:pt x="204" y="158"/>
                    </a:lnTo>
                    <a:lnTo>
                      <a:pt x="194" y="158"/>
                    </a:lnTo>
                    <a:lnTo>
                      <a:pt x="185" y="158"/>
                    </a:lnTo>
                    <a:lnTo>
                      <a:pt x="176" y="158"/>
                    </a:lnTo>
                    <a:lnTo>
                      <a:pt x="167" y="159"/>
                    </a:lnTo>
                    <a:lnTo>
                      <a:pt x="157" y="159"/>
                    </a:lnTo>
                    <a:lnTo>
                      <a:pt x="148" y="159"/>
                    </a:lnTo>
                    <a:lnTo>
                      <a:pt x="139" y="159"/>
                    </a:lnTo>
                    <a:lnTo>
                      <a:pt x="129" y="159"/>
                    </a:lnTo>
                    <a:lnTo>
                      <a:pt x="120" y="159"/>
                    </a:lnTo>
                    <a:lnTo>
                      <a:pt x="111" y="159"/>
                    </a:lnTo>
                    <a:lnTo>
                      <a:pt x="102" y="159"/>
                    </a:lnTo>
                    <a:lnTo>
                      <a:pt x="92" y="160"/>
                    </a:lnTo>
                    <a:lnTo>
                      <a:pt x="83" y="160"/>
                    </a:lnTo>
                    <a:lnTo>
                      <a:pt x="74" y="160"/>
                    </a:lnTo>
                    <a:lnTo>
                      <a:pt x="64" y="160"/>
                    </a:lnTo>
                    <a:lnTo>
                      <a:pt x="55" y="160"/>
                    </a:lnTo>
                    <a:lnTo>
                      <a:pt x="46" y="160"/>
                    </a:lnTo>
                    <a:lnTo>
                      <a:pt x="37" y="160"/>
                    </a:lnTo>
                    <a:lnTo>
                      <a:pt x="27" y="160"/>
                    </a:lnTo>
                    <a:lnTo>
                      <a:pt x="18" y="160"/>
                    </a:lnTo>
                    <a:lnTo>
                      <a:pt x="9" y="160"/>
                    </a:lnTo>
                    <a:lnTo>
                      <a:pt x="0" y="160"/>
                    </a:lnTo>
                    <a:close/>
                  </a:path>
                </a:pathLst>
              </a:custGeom>
              <a:noFill/>
              <a:ln w="3175">
                <a:solidFill>
                  <a:srgbClr val="0064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6" name="Freeform 321"/>
              <p:cNvSpPr/>
              <p:nvPr/>
            </p:nvSpPr>
            <p:spPr>
              <a:xfrm>
                <a:off x="434520" y="2808000"/>
                <a:ext cx="2310120" cy="299160"/>
              </a:xfrm>
              <a:custGeom>
                <a:avLst/>
                <a:gdLst>
                  <a:gd name="textAreaLeft" fmla="*/ 0 w 2310120"/>
                  <a:gd name="textAreaRight" fmla="*/ 2310480 w 2310120"/>
                  <a:gd name="textAreaTop" fmla="*/ 0 h 299160"/>
                  <a:gd name="textAreaBottom" fmla="*/ 299520 h 299160"/>
                </a:gdLst>
                <a:ahLst/>
                <a:rect l="textAreaLeft" t="textAreaTop" r="textAreaRight" b="textAreaBottom"/>
                <a:pathLst>
                  <a:path w="1447" h="122">
                    <a:moveTo>
                      <a:pt x="0" y="122"/>
                    </a:moveTo>
                    <a:lnTo>
                      <a:pt x="9" y="121"/>
                    </a:lnTo>
                    <a:lnTo>
                      <a:pt x="18" y="122"/>
                    </a:lnTo>
                    <a:lnTo>
                      <a:pt x="27" y="122"/>
                    </a:lnTo>
                    <a:lnTo>
                      <a:pt x="37" y="121"/>
                    </a:lnTo>
                    <a:lnTo>
                      <a:pt x="46" y="121"/>
                    </a:lnTo>
                    <a:lnTo>
                      <a:pt x="55" y="121"/>
                    </a:lnTo>
                    <a:lnTo>
                      <a:pt x="64" y="121"/>
                    </a:lnTo>
                    <a:lnTo>
                      <a:pt x="74" y="121"/>
                    </a:lnTo>
                    <a:lnTo>
                      <a:pt x="83" y="121"/>
                    </a:lnTo>
                    <a:lnTo>
                      <a:pt x="92" y="121"/>
                    </a:lnTo>
                    <a:lnTo>
                      <a:pt x="102" y="121"/>
                    </a:lnTo>
                    <a:lnTo>
                      <a:pt x="111" y="121"/>
                    </a:lnTo>
                    <a:lnTo>
                      <a:pt x="120" y="120"/>
                    </a:lnTo>
                    <a:lnTo>
                      <a:pt x="129" y="120"/>
                    </a:lnTo>
                    <a:lnTo>
                      <a:pt x="139" y="120"/>
                    </a:lnTo>
                    <a:lnTo>
                      <a:pt x="148" y="120"/>
                    </a:lnTo>
                    <a:lnTo>
                      <a:pt x="157" y="120"/>
                    </a:lnTo>
                    <a:lnTo>
                      <a:pt x="167" y="120"/>
                    </a:lnTo>
                    <a:lnTo>
                      <a:pt x="176" y="120"/>
                    </a:lnTo>
                    <a:lnTo>
                      <a:pt x="185" y="120"/>
                    </a:lnTo>
                    <a:lnTo>
                      <a:pt x="194" y="119"/>
                    </a:lnTo>
                    <a:lnTo>
                      <a:pt x="204" y="119"/>
                    </a:lnTo>
                    <a:lnTo>
                      <a:pt x="213" y="119"/>
                    </a:lnTo>
                    <a:lnTo>
                      <a:pt x="222" y="119"/>
                    </a:lnTo>
                    <a:lnTo>
                      <a:pt x="232" y="119"/>
                    </a:lnTo>
                    <a:lnTo>
                      <a:pt x="241" y="119"/>
                    </a:lnTo>
                    <a:lnTo>
                      <a:pt x="250" y="119"/>
                    </a:lnTo>
                    <a:lnTo>
                      <a:pt x="259" y="118"/>
                    </a:lnTo>
                    <a:lnTo>
                      <a:pt x="269" y="118"/>
                    </a:lnTo>
                    <a:lnTo>
                      <a:pt x="278" y="118"/>
                    </a:lnTo>
                    <a:lnTo>
                      <a:pt x="287" y="118"/>
                    </a:lnTo>
                    <a:lnTo>
                      <a:pt x="296" y="117"/>
                    </a:lnTo>
                    <a:lnTo>
                      <a:pt x="306" y="117"/>
                    </a:lnTo>
                    <a:lnTo>
                      <a:pt x="315" y="117"/>
                    </a:lnTo>
                    <a:lnTo>
                      <a:pt x="324" y="117"/>
                    </a:lnTo>
                    <a:lnTo>
                      <a:pt x="334" y="117"/>
                    </a:lnTo>
                    <a:lnTo>
                      <a:pt x="343" y="117"/>
                    </a:lnTo>
                    <a:lnTo>
                      <a:pt x="352" y="116"/>
                    </a:lnTo>
                    <a:lnTo>
                      <a:pt x="361" y="116"/>
                    </a:lnTo>
                    <a:lnTo>
                      <a:pt x="371" y="116"/>
                    </a:lnTo>
                    <a:lnTo>
                      <a:pt x="380" y="116"/>
                    </a:lnTo>
                    <a:lnTo>
                      <a:pt x="389" y="116"/>
                    </a:lnTo>
                    <a:lnTo>
                      <a:pt x="399" y="116"/>
                    </a:lnTo>
                    <a:lnTo>
                      <a:pt x="408" y="116"/>
                    </a:lnTo>
                    <a:lnTo>
                      <a:pt x="417" y="115"/>
                    </a:lnTo>
                    <a:lnTo>
                      <a:pt x="426" y="115"/>
                    </a:lnTo>
                    <a:lnTo>
                      <a:pt x="436" y="115"/>
                    </a:lnTo>
                    <a:lnTo>
                      <a:pt x="445" y="114"/>
                    </a:lnTo>
                    <a:lnTo>
                      <a:pt x="454" y="114"/>
                    </a:lnTo>
                    <a:lnTo>
                      <a:pt x="464" y="113"/>
                    </a:lnTo>
                    <a:lnTo>
                      <a:pt x="473" y="113"/>
                    </a:lnTo>
                    <a:lnTo>
                      <a:pt x="482" y="113"/>
                    </a:lnTo>
                    <a:lnTo>
                      <a:pt x="491" y="112"/>
                    </a:lnTo>
                    <a:lnTo>
                      <a:pt x="501" y="112"/>
                    </a:lnTo>
                    <a:lnTo>
                      <a:pt x="510" y="111"/>
                    </a:lnTo>
                    <a:lnTo>
                      <a:pt x="519" y="111"/>
                    </a:lnTo>
                    <a:lnTo>
                      <a:pt x="528" y="110"/>
                    </a:lnTo>
                    <a:lnTo>
                      <a:pt x="538" y="110"/>
                    </a:lnTo>
                    <a:lnTo>
                      <a:pt x="547" y="110"/>
                    </a:lnTo>
                    <a:lnTo>
                      <a:pt x="556" y="109"/>
                    </a:lnTo>
                    <a:lnTo>
                      <a:pt x="566" y="109"/>
                    </a:lnTo>
                    <a:lnTo>
                      <a:pt x="575" y="108"/>
                    </a:lnTo>
                    <a:lnTo>
                      <a:pt x="584" y="107"/>
                    </a:lnTo>
                    <a:lnTo>
                      <a:pt x="593" y="108"/>
                    </a:lnTo>
                    <a:lnTo>
                      <a:pt x="603" y="108"/>
                    </a:lnTo>
                    <a:lnTo>
                      <a:pt x="612" y="107"/>
                    </a:lnTo>
                    <a:lnTo>
                      <a:pt x="621" y="107"/>
                    </a:lnTo>
                    <a:lnTo>
                      <a:pt x="631" y="107"/>
                    </a:lnTo>
                    <a:lnTo>
                      <a:pt x="640" y="108"/>
                    </a:lnTo>
                    <a:lnTo>
                      <a:pt x="649" y="107"/>
                    </a:lnTo>
                    <a:lnTo>
                      <a:pt x="658" y="108"/>
                    </a:lnTo>
                    <a:lnTo>
                      <a:pt x="668" y="107"/>
                    </a:lnTo>
                    <a:lnTo>
                      <a:pt x="677" y="106"/>
                    </a:lnTo>
                    <a:lnTo>
                      <a:pt x="686" y="105"/>
                    </a:lnTo>
                    <a:lnTo>
                      <a:pt x="696" y="105"/>
                    </a:lnTo>
                    <a:lnTo>
                      <a:pt x="705" y="105"/>
                    </a:lnTo>
                    <a:lnTo>
                      <a:pt x="714" y="104"/>
                    </a:lnTo>
                    <a:lnTo>
                      <a:pt x="723" y="103"/>
                    </a:lnTo>
                    <a:lnTo>
                      <a:pt x="733" y="103"/>
                    </a:lnTo>
                    <a:lnTo>
                      <a:pt x="742" y="104"/>
                    </a:lnTo>
                    <a:lnTo>
                      <a:pt x="751" y="105"/>
                    </a:lnTo>
                    <a:lnTo>
                      <a:pt x="760" y="106"/>
                    </a:lnTo>
                    <a:lnTo>
                      <a:pt x="770" y="105"/>
                    </a:lnTo>
                    <a:lnTo>
                      <a:pt x="779" y="104"/>
                    </a:lnTo>
                    <a:lnTo>
                      <a:pt x="788" y="104"/>
                    </a:lnTo>
                    <a:lnTo>
                      <a:pt x="798" y="102"/>
                    </a:lnTo>
                    <a:lnTo>
                      <a:pt x="807" y="101"/>
                    </a:lnTo>
                    <a:lnTo>
                      <a:pt x="816" y="102"/>
                    </a:lnTo>
                    <a:lnTo>
                      <a:pt x="825" y="100"/>
                    </a:lnTo>
                    <a:lnTo>
                      <a:pt x="835" y="100"/>
                    </a:lnTo>
                    <a:lnTo>
                      <a:pt x="844" y="98"/>
                    </a:lnTo>
                    <a:lnTo>
                      <a:pt x="853" y="97"/>
                    </a:lnTo>
                    <a:lnTo>
                      <a:pt x="863" y="97"/>
                    </a:lnTo>
                    <a:lnTo>
                      <a:pt x="872" y="97"/>
                    </a:lnTo>
                    <a:lnTo>
                      <a:pt x="881" y="100"/>
                    </a:lnTo>
                    <a:lnTo>
                      <a:pt x="890" y="99"/>
                    </a:lnTo>
                    <a:lnTo>
                      <a:pt x="900" y="97"/>
                    </a:lnTo>
                    <a:lnTo>
                      <a:pt x="909" y="96"/>
                    </a:lnTo>
                    <a:lnTo>
                      <a:pt x="918" y="96"/>
                    </a:lnTo>
                    <a:lnTo>
                      <a:pt x="928" y="94"/>
                    </a:lnTo>
                    <a:lnTo>
                      <a:pt x="937" y="93"/>
                    </a:lnTo>
                    <a:lnTo>
                      <a:pt x="946" y="92"/>
                    </a:lnTo>
                    <a:lnTo>
                      <a:pt x="955" y="91"/>
                    </a:lnTo>
                    <a:lnTo>
                      <a:pt x="965" y="91"/>
                    </a:lnTo>
                    <a:lnTo>
                      <a:pt x="974" y="89"/>
                    </a:lnTo>
                    <a:lnTo>
                      <a:pt x="983" y="87"/>
                    </a:lnTo>
                    <a:lnTo>
                      <a:pt x="992" y="85"/>
                    </a:lnTo>
                    <a:lnTo>
                      <a:pt x="1002" y="83"/>
                    </a:lnTo>
                    <a:lnTo>
                      <a:pt x="1011" y="82"/>
                    </a:lnTo>
                    <a:lnTo>
                      <a:pt x="1020" y="80"/>
                    </a:lnTo>
                    <a:lnTo>
                      <a:pt x="1030" y="79"/>
                    </a:lnTo>
                    <a:lnTo>
                      <a:pt x="1039" y="76"/>
                    </a:lnTo>
                    <a:lnTo>
                      <a:pt x="1048" y="74"/>
                    </a:lnTo>
                    <a:lnTo>
                      <a:pt x="1057" y="72"/>
                    </a:lnTo>
                    <a:lnTo>
                      <a:pt x="1067" y="72"/>
                    </a:lnTo>
                    <a:lnTo>
                      <a:pt x="1076" y="70"/>
                    </a:lnTo>
                    <a:lnTo>
                      <a:pt x="1085" y="70"/>
                    </a:lnTo>
                    <a:lnTo>
                      <a:pt x="1095" y="67"/>
                    </a:lnTo>
                    <a:lnTo>
                      <a:pt x="1104" y="65"/>
                    </a:lnTo>
                    <a:lnTo>
                      <a:pt x="1113" y="62"/>
                    </a:lnTo>
                    <a:lnTo>
                      <a:pt x="1122" y="60"/>
                    </a:lnTo>
                    <a:lnTo>
                      <a:pt x="1132" y="57"/>
                    </a:lnTo>
                    <a:lnTo>
                      <a:pt x="1141" y="52"/>
                    </a:lnTo>
                    <a:lnTo>
                      <a:pt x="1150" y="53"/>
                    </a:lnTo>
                    <a:lnTo>
                      <a:pt x="1160" y="52"/>
                    </a:lnTo>
                    <a:lnTo>
                      <a:pt x="1169" y="48"/>
                    </a:lnTo>
                    <a:lnTo>
                      <a:pt x="1178" y="45"/>
                    </a:lnTo>
                    <a:lnTo>
                      <a:pt x="1187" y="42"/>
                    </a:lnTo>
                    <a:lnTo>
                      <a:pt x="1197" y="40"/>
                    </a:lnTo>
                    <a:lnTo>
                      <a:pt x="1206" y="41"/>
                    </a:lnTo>
                    <a:lnTo>
                      <a:pt x="1215" y="43"/>
                    </a:lnTo>
                    <a:lnTo>
                      <a:pt x="1224" y="43"/>
                    </a:lnTo>
                    <a:lnTo>
                      <a:pt x="1234" y="43"/>
                    </a:lnTo>
                    <a:lnTo>
                      <a:pt x="1243" y="41"/>
                    </a:lnTo>
                    <a:lnTo>
                      <a:pt x="1252" y="40"/>
                    </a:lnTo>
                    <a:lnTo>
                      <a:pt x="1262" y="38"/>
                    </a:lnTo>
                    <a:lnTo>
                      <a:pt x="1271" y="35"/>
                    </a:lnTo>
                    <a:lnTo>
                      <a:pt x="1280" y="32"/>
                    </a:lnTo>
                    <a:lnTo>
                      <a:pt x="1289" y="31"/>
                    </a:lnTo>
                    <a:lnTo>
                      <a:pt x="1299" y="30"/>
                    </a:lnTo>
                    <a:lnTo>
                      <a:pt x="1308" y="30"/>
                    </a:lnTo>
                    <a:lnTo>
                      <a:pt x="1317" y="30"/>
                    </a:lnTo>
                    <a:lnTo>
                      <a:pt x="1327" y="30"/>
                    </a:lnTo>
                    <a:lnTo>
                      <a:pt x="1336" y="29"/>
                    </a:lnTo>
                    <a:lnTo>
                      <a:pt x="1345" y="27"/>
                    </a:lnTo>
                    <a:lnTo>
                      <a:pt x="1354" y="24"/>
                    </a:lnTo>
                    <a:lnTo>
                      <a:pt x="1364" y="23"/>
                    </a:lnTo>
                    <a:lnTo>
                      <a:pt x="1373" y="23"/>
                    </a:lnTo>
                    <a:lnTo>
                      <a:pt x="1382" y="22"/>
                    </a:lnTo>
                    <a:lnTo>
                      <a:pt x="1392" y="20"/>
                    </a:lnTo>
                    <a:lnTo>
                      <a:pt x="1401" y="20"/>
                    </a:lnTo>
                    <a:lnTo>
                      <a:pt x="1410" y="17"/>
                    </a:lnTo>
                    <a:lnTo>
                      <a:pt x="1419" y="13"/>
                    </a:lnTo>
                    <a:lnTo>
                      <a:pt x="1429" y="6"/>
                    </a:lnTo>
                    <a:lnTo>
                      <a:pt x="1438" y="3"/>
                    </a:lnTo>
                    <a:lnTo>
                      <a:pt x="1447" y="0"/>
                    </a:lnTo>
                    <a:lnTo>
                      <a:pt x="1447" y="64"/>
                    </a:lnTo>
                    <a:lnTo>
                      <a:pt x="1438" y="67"/>
                    </a:lnTo>
                    <a:lnTo>
                      <a:pt x="1429" y="70"/>
                    </a:lnTo>
                    <a:lnTo>
                      <a:pt x="1419" y="74"/>
                    </a:lnTo>
                    <a:lnTo>
                      <a:pt x="1410" y="77"/>
                    </a:lnTo>
                    <a:lnTo>
                      <a:pt x="1401" y="79"/>
                    </a:lnTo>
                    <a:lnTo>
                      <a:pt x="1392" y="79"/>
                    </a:lnTo>
                    <a:lnTo>
                      <a:pt x="1382" y="80"/>
                    </a:lnTo>
                    <a:lnTo>
                      <a:pt x="1373" y="80"/>
                    </a:lnTo>
                    <a:lnTo>
                      <a:pt x="1364" y="80"/>
                    </a:lnTo>
                    <a:lnTo>
                      <a:pt x="1354" y="80"/>
                    </a:lnTo>
                    <a:lnTo>
                      <a:pt x="1345" y="81"/>
                    </a:lnTo>
                    <a:lnTo>
                      <a:pt x="1336" y="82"/>
                    </a:lnTo>
                    <a:lnTo>
                      <a:pt x="1327" y="82"/>
                    </a:lnTo>
                    <a:lnTo>
                      <a:pt x="1317" y="83"/>
                    </a:lnTo>
                    <a:lnTo>
                      <a:pt x="1308" y="82"/>
                    </a:lnTo>
                    <a:lnTo>
                      <a:pt x="1299" y="82"/>
                    </a:lnTo>
                    <a:lnTo>
                      <a:pt x="1289" y="83"/>
                    </a:lnTo>
                    <a:lnTo>
                      <a:pt x="1280" y="83"/>
                    </a:lnTo>
                    <a:lnTo>
                      <a:pt x="1271" y="84"/>
                    </a:lnTo>
                    <a:lnTo>
                      <a:pt x="1262" y="86"/>
                    </a:lnTo>
                    <a:lnTo>
                      <a:pt x="1252" y="86"/>
                    </a:lnTo>
                    <a:lnTo>
                      <a:pt x="1243" y="88"/>
                    </a:lnTo>
                    <a:lnTo>
                      <a:pt x="1234" y="89"/>
                    </a:lnTo>
                    <a:lnTo>
                      <a:pt x="1224" y="90"/>
                    </a:lnTo>
                    <a:lnTo>
                      <a:pt x="1215" y="91"/>
                    </a:lnTo>
                    <a:lnTo>
                      <a:pt x="1206" y="91"/>
                    </a:lnTo>
                    <a:lnTo>
                      <a:pt x="1197" y="92"/>
                    </a:lnTo>
                    <a:lnTo>
                      <a:pt x="1187" y="93"/>
                    </a:lnTo>
                    <a:lnTo>
                      <a:pt x="1178" y="94"/>
                    </a:lnTo>
                    <a:lnTo>
                      <a:pt x="1169" y="95"/>
                    </a:lnTo>
                    <a:lnTo>
                      <a:pt x="1160" y="97"/>
                    </a:lnTo>
                    <a:lnTo>
                      <a:pt x="1150" y="97"/>
                    </a:lnTo>
                    <a:lnTo>
                      <a:pt x="1141" y="98"/>
                    </a:lnTo>
                    <a:lnTo>
                      <a:pt x="1132" y="99"/>
                    </a:lnTo>
                    <a:lnTo>
                      <a:pt x="1122" y="99"/>
                    </a:lnTo>
                    <a:lnTo>
                      <a:pt x="1113" y="98"/>
                    </a:lnTo>
                    <a:lnTo>
                      <a:pt x="1104" y="98"/>
                    </a:lnTo>
                    <a:lnTo>
                      <a:pt x="1095" y="98"/>
                    </a:lnTo>
                    <a:lnTo>
                      <a:pt x="1085" y="98"/>
                    </a:lnTo>
                    <a:lnTo>
                      <a:pt x="1076" y="97"/>
                    </a:lnTo>
                    <a:lnTo>
                      <a:pt x="1067" y="97"/>
                    </a:lnTo>
                    <a:lnTo>
                      <a:pt x="1057" y="95"/>
                    </a:lnTo>
                    <a:lnTo>
                      <a:pt x="1048" y="95"/>
                    </a:lnTo>
                    <a:lnTo>
                      <a:pt x="1039" y="96"/>
                    </a:lnTo>
                    <a:lnTo>
                      <a:pt x="1030" y="97"/>
                    </a:lnTo>
                    <a:lnTo>
                      <a:pt x="1020" y="97"/>
                    </a:lnTo>
                    <a:lnTo>
                      <a:pt x="1011" y="98"/>
                    </a:lnTo>
                    <a:lnTo>
                      <a:pt x="1002" y="98"/>
                    </a:lnTo>
                    <a:lnTo>
                      <a:pt x="992" y="99"/>
                    </a:lnTo>
                    <a:lnTo>
                      <a:pt x="983" y="100"/>
                    </a:lnTo>
                    <a:lnTo>
                      <a:pt x="974" y="101"/>
                    </a:lnTo>
                    <a:lnTo>
                      <a:pt x="965" y="102"/>
                    </a:lnTo>
                    <a:lnTo>
                      <a:pt x="955" y="102"/>
                    </a:lnTo>
                    <a:lnTo>
                      <a:pt x="946" y="102"/>
                    </a:lnTo>
                    <a:lnTo>
                      <a:pt x="937" y="102"/>
                    </a:lnTo>
                    <a:lnTo>
                      <a:pt x="928" y="103"/>
                    </a:lnTo>
                    <a:lnTo>
                      <a:pt x="918" y="104"/>
                    </a:lnTo>
                    <a:lnTo>
                      <a:pt x="909" y="103"/>
                    </a:lnTo>
                    <a:lnTo>
                      <a:pt x="900" y="104"/>
                    </a:lnTo>
                    <a:lnTo>
                      <a:pt x="890" y="105"/>
                    </a:lnTo>
                    <a:lnTo>
                      <a:pt x="881" y="106"/>
                    </a:lnTo>
                    <a:lnTo>
                      <a:pt x="872" y="103"/>
                    </a:lnTo>
                    <a:lnTo>
                      <a:pt x="863" y="102"/>
                    </a:lnTo>
                    <a:lnTo>
                      <a:pt x="853" y="103"/>
                    </a:lnTo>
                    <a:lnTo>
                      <a:pt x="844" y="103"/>
                    </a:lnTo>
                    <a:lnTo>
                      <a:pt x="835" y="104"/>
                    </a:lnTo>
                    <a:lnTo>
                      <a:pt x="825" y="105"/>
                    </a:lnTo>
                    <a:lnTo>
                      <a:pt x="816" y="106"/>
                    </a:lnTo>
                    <a:lnTo>
                      <a:pt x="807" y="105"/>
                    </a:lnTo>
                    <a:lnTo>
                      <a:pt x="798" y="106"/>
                    </a:lnTo>
                    <a:lnTo>
                      <a:pt x="788" y="107"/>
                    </a:lnTo>
                    <a:lnTo>
                      <a:pt x="779" y="108"/>
                    </a:lnTo>
                    <a:lnTo>
                      <a:pt x="770" y="109"/>
                    </a:lnTo>
                    <a:lnTo>
                      <a:pt x="760" y="109"/>
                    </a:lnTo>
                    <a:lnTo>
                      <a:pt x="751" y="108"/>
                    </a:lnTo>
                    <a:lnTo>
                      <a:pt x="742" y="107"/>
                    </a:lnTo>
                    <a:lnTo>
                      <a:pt x="733" y="106"/>
                    </a:lnTo>
                    <a:lnTo>
                      <a:pt x="723" y="105"/>
                    </a:lnTo>
                    <a:lnTo>
                      <a:pt x="714" y="107"/>
                    </a:lnTo>
                    <a:lnTo>
                      <a:pt x="705" y="107"/>
                    </a:lnTo>
                    <a:lnTo>
                      <a:pt x="696" y="107"/>
                    </a:lnTo>
                    <a:lnTo>
                      <a:pt x="686" y="107"/>
                    </a:lnTo>
                    <a:lnTo>
                      <a:pt x="677" y="107"/>
                    </a:lnTo>
                    <a:lnTo>
                      <a:pt x="668" y="109"/>
                    </a:lnTo>
                    <a:lnTo>
                      <a:pt x="658" y="110"/>
                    </a:lnTo>
                    <a:lnTo>
                      <a:pt x="649" y="108"/>
                    </a:lnTo>
                    <a:lnTo>
                      <a:pt x="640" y="109"/>
                    </a:lnTo>
                    <a:lnTo>
                      <a:pt x="631" y="108"/>
                    </a:lnTo>
                    <a:lnTo>
                      <a:pt x="621" y="108"/>
                    </a:lnTo>
                    <a:lnTo>
                      <a:pt x="612" y="108"/>
                    </a:lnTo>
                    <a:lnTo>
                      <a:pt x="603" y="109"/>
                    </a:lnTo>
                    <a:lnTo>
                      <a:pt x="593" y="109"/>
                    </a:lnTo>
                    <a:lnTo>
                      <a:pt x="584" y="108"/>
                    </a:lnTo>
                    <a:lnTo>
                      <a:pt x="575" y="109"/>
                    </a:lnTo>
                    <a:lnTo>
                      <a:pt x="566" y="109"/>
                    </a:lnTo>
                    <a:lnTo>
                      <a:pt x="556" y="110"/>
                    </a:lnTo>
                    <a:lnTo>
                      <a:pt x="547" y="110"/>
                    </a:lnTo>
                    <a:lnTo>
                      <a:pt x="538" y="111"/>
                    </a:lnTo>
                    <a:lnTo>
                      <a:pt x="528" y="110"/>
                    </a:lnTo>
                    <a:lnTo>
                      <a:pt x="519" y="111"/>
                    </a:lnTo>
                    <a:lnTo>
                      <a:pt x="510" y="112"/>
                    </a:lnTo>
                    <a:lnTo>
                      <a:pt x="501" y="112"/>
                    </a:lnTo>
                    <a:lnTo>
                      <a:pt x="491" y="113"/>
                    </a:lnTo>
                    <a:lnTo>
                      <a:pt x="482" y="113"/>
                    </a:lnTo>
                    <a:lnTo>
                      <a:pt x="473" y="113"/>
                    </a:lnTo>
                    <a:lnTo>
                      <a:pt x="464" y="114"/>
                    </a:lnTo>
                    <a:lnTo>
                      <a:pt x="454" y="114"/>
                    </a:lnTo>
                    <a:lnTo>
                      <a:pt x="445" y="115"/>
                    </a:lnTo>
                    <a:lnTo>
                      <a:pt x="436" y="115"/>
                    </a:lnTo>
                    <a:lnTo>
                      <a:pt x="426" y="115"/>
                    </a:lnTo>
                    <a:lnTo>
                      <a:pt x="417" y="115"/>
                    </a:lnTo>
                    <a:lnTo>
                      <a:pt x="408" y="116"/>
                    </a:lnTo>
                    <a:lnTo>
                      <a:pt x="399" y="116"/>
                    </a:lnTo>
                    <a:lnTo>
                      <a:pt x="389" y="116"/>
                    </a:lnTo>
                    <a:lnTo>
                      <a:pt x="380" y="116"/>
                    </a:lnTo>
                    <a:lnTo>
                      <a:pt x="371" y="116"/>
                    </a:lnTo>
                    <a:lnTo>
                      <a:pt x="361" y="116"/>
                    </a:lnTo>
                    <a:lnTo>
                      <a:pt x="352" y="117"/>
                    </a:lnTo>
                    <a:lnTo>
                      <a:pt x="343" y="117"/>
                    </a:lnTo>
                    <a:lnTo>
                      <a:pt x="334" y="117"/>
                    </a:lnTo>
                    <a:lnTo>
                      <a:pt x="324" y="117"/>
                    </a:lnTo>
                    <a:lnTo>
                      <a:pt x="315" y="117"/>
                    </a:lnTo>
                    <a:lnTo>
                      <a:pt x="306" y="117"/>
                    </a:lnTo>
                    <a:lnTo>
                      <a:pt x="296" y="118"/>
                    </a:lnTo>
                    <a:lnTo>
                      <a:pt x="287" y="118"/>
                    </a:lnTo>
                    <a:lnTo>
                      <a:pt x="278" y="118"/>
                    </a:lnTo>
                    <a:lnTo>
                      <a:pt x="269" y="118"/>
                    </a:lnTo>
                    <a:lnTo>
                      <a:pt x="259" y="119"/>
                    </a:lnTo>
                    <a:lnTo>
                      <a:pt x="250" y="119"/>
                    </a:lnTo>
                    <a:lnTo>
                      <a:pt x="241" y="119"/>
                    </a:lnTo>
                    <a:lnTo>
                      <a:pt x="232" y="119"/>
                    </a:lnTo>
                    <a:lnTo>
                      <a:pt x="222" y="119"/>
                    </a:lnTo>
                    <a:lnTo>
                      <a:pt x="213" y="119"/>
                    </a:lnTo>
                    <a:lnTo>
                      <a:pt x="204" y="119"/>
                    </a:lnTo>
                    <a:lnTo>
                      <a:pt x="194" y="119"/>
                    </a:lnTo>
                    <a:lnTo>
                      <a:pt x="185" y="120"/>
                    </a:lnTo>
                    <a:lnTo>
                      <a:pt x="176" y="120"/>
                    </a:lnTo>
                    <a:lnTo>
                      <a:pt x="167" y="120"/>
                    </a:lnTo>
                    <a:lnTo>
                      <a:pt x="157" y="120"/>
                    </a:lnTo>
                    <a:lnTo>
                      <a:pt x="148" y="120"/>
                    </a:lnTo>
                    <a:lnTo>
                      <a:pt x="139" y="120"/>
                    </a:lnTo>
                    <a:lnTo>
                      <a:pt x="129" y="120"/>
                    </a:lnTo>
                    <a:lnTo>
                      <a:pt x="120" y="120"/>
                    </a:lnTo>
                    <a:lnTo>
                      <a:pt x="111" y="121"/>
                    </a:lnTo>
                    <a:lnTo>
                      <a:pt x="102" y="121"/>
                    </a:lnTo>
                    <a:lnTo>
                      <a:pt x="92" y="121"/>
                    </a:lnTo>
                    <a:lnTo>
                      <a:pt x="83" y="121"/>
                    </a:lnTo>
                    <a:lnTo>
                      <a:pt x="74" y="121"/>
                    </a:lnTo>
                    <a:lnTo>
                      <a:pt x="64" y="121"/>
                    </a:lnTo>
                    <a:lnTo>
                      <a:pt x="55" y="121"/>
                    </a:lnTo>
                    <a:lnTo>
                      <a:pt x="46" y="121"/>
                    </a:lnTo>
                    <a:lnTo>
                      <a:pt x="37" y="121"/>
                    </a:lnTo>
                    <a:lnTo>
                      <a:pt x="27" y="122"/>
                    </a:lnTo>
                    <a:lnTo>
                      <a:pt x="18" y="122"/>
                    </a:lnTo>
                    <a:lnTo>
                      <a:pt x="9" y="121"/>
                    </a:lnTo>
                    <a:lnTo>
                      <a:pt x="0" y="122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7" name="Freeform 322"/>
              <p:cNvSpPr/>
              <p:nvPr/>
            </p:nvSpPr>
            <p:spPr>
              <a:xfrm>
                <a:off x="434520" y="2808000"/>
                <a:ext cx="2310120" cy="299160"/>
              </a:xfrm>
              <a:custGeom>
                <a:avLst/>
                <a:gdLst>
                  <a:gd name="textAreaLeft" fmla="*/ 0 w 2310120"/>
                  <a:gd name="textAreaRight" fmla="*/ 2310480 w 2310120"/>
                  <a:gd name="textAreaTop" fmla="*/ 0 h 299160"/>
                  <a:gd name="textAreaBottom" fmla="*/ 299520 h 299160"/>
                </a:gdLst>
                <a:ahLst/>
                <a:rect l="textAreaLeft" t="textAreaTop" r="textAreaRight" b="textAreaBottom"/>
                <a:pathLst>
                  <a:path w="1447" h="122">
                    <a:moveTo>
                      <a:pt x="0" y="122"/>
                    </a:moveTo>
                    <a:lnTo>
                      <a:pt x="9" y="121"/>
                    </a:lnTo>
                    <a:lnTo>
                      <a:pt x="18" y="122"/>
                    </a:lnTo>
                    <a:lnTo>
                      <a:pt x="27" y="122"/>
                    </a:lnTo>
                    <a:lnTo>
                      <a:pt x="37" y="121"/>
                    </a:lnTo>
                    <a:lnTo>
                      <a:pt x="46" y="121"/>
                    </a:lnTo>
                    <a:lnTo>
                      <a:pt x="55" y="121"/>
                    </a:lnTo>
                    <a:lnTo>
                      <a:pt x="64" y="121"/>
                    </a:lnTo>
                    <a:lnTo>
                      <a:pt x="74" y="121"/>
                    </a:lnTo>
                    <a:lnTo>
                      <a:pt x="83" y="121"/>
                    </a:lnTo>
                    <a:lnTo>
                      <a:pt x="92" y="121"/>
                    </a:lnTo>
                    <a:lnTo>
                      <a:pt x="102" y="121"/>
                    </a:lnTo>
                    <a:lnTo>
                      <a:pt x="111" y="121"/>
                    </a:lnTo>
                    <a:lnTo>
                      <a:pt x="120" y="120"/>
                    </a:lnTo>
                    <a:lnTo>
                      <a:pt x="129" y="120"/>
                    </a:lnTo>
                    <a:lnTo>
                      <a:pt x="139" y="120"/>
                    </a:lnTo>
                    <a:lnTo>
                      <a:pt x="148" y="120"/>
                    </a:lnTo>
                    <a:lnTo>
                      <a:pt x="157" y="120"/>
                    </a:lnTo>
                    <a:lnTo>
                      <a:pt x="167" y="120"/>
                    </a:lnTo>
                    <a:lnTo>
                      <a:pt x="176" y="120"/>
                    </a:lnTo>
                    <a:lnTo>
                      <a:pt x="185" y="120"/>
                    </a:lnTo>
                    <a:lnTo>
                      <a:pt x="194" y="119"/>
                    </a:lnTo>
                    <a:lnTo>
                      <a:pt x="204" y="119"/>
                    </a:lnTo>
                    <a:lnTo>
                      <a:pt x="213" y="119"/>
                    </a:lnTo>
                    <a:lnTo>
                      <a:pt x="222" y="119"/>
                    </a:lnTo>
                    <a:lnTo>
                      <a:pt x="232" y="119"/>
                    </a:lnTo>
                    <a:lnTo>
                      <a:pt x="241" y="119"/>
                    </a:lnTo>
                    <a:lnTo>
                      <a:pt x="250" y="119"/>
                    </a:lnTo>
                    <a:lnTo>
                      <a:pt x="259" y="118"/>
                    </a:lnTo>
                    <a:lnTo>
                      <a:pt x="269" y="118"/>
                    </a:lnTo>
                    <a:lnTo>
                      <a:pt x="278" y="118"/>
                    </a:lnTo>
                    <a:lnTo>
                      <a:pt x="287" y="118"/>
                    </a:lnTo>
                    <a:lnTo>
                      <a:pt x="296" y="117"/>
                    </a:lnTo>
                    <a:lnTo>
                      <a:pt x="306" y="117"/>
                    </a:lnTo>
                    <a:lnTo>
                      <a:pt x="315" y="117"/>
                    </a:lnTo>
                    <a:lnTo>
                      <a:pt x="324" y="117"/>
                    </a:lnTo>
                    <a:lnTo>
                      <a:pt x="334" y="117"/>
                    </a:lnTo>
                    <a:lnTo>
                      <a:pt x="343" y="117"/>
                    </a:lnTo>
                    <a:lnTo>
                      <a:pt x="352" y="116"/>
                    </a:lnTo>
                    <a:lnTo>
                      <a:pt x="361" y="116"/>
                    </a:lnTo>
                    <a:lnTo>
                      <a:pt x="371" y="116"/>
                    </a:lnTo>
                    <a:lnTo>
                      <a:pt x="380" y="116"/>
                    </a:lnTo>
                    <a:lnTo>
                      <a:pt x="389" y="116"/>
                    </a:lnTo>
                    <a:lnTo>
                      <a:pt x="399" y="116"/>
                    </a:lnTo>
                    <a:lnTo>
                      <a:pt x="408" y="116"/>
                    </a:lnTo>
                    <a:lnTo>
                      <a:pt x="417" y="115"/>
                    </a:lnTo>
                    <a:lnTo>
                      <a:pt x="426" y="115"/>
                    </a:lnTo>
                    <a:lnTo>
                      <a:pt x="436" y="115"/>
                    </a:lnTo>
                    <a:lnTo>
                      <a:pt x="445" y="114"/>
                    </a:lnTo>
                    <a:lnTo>
                      <a:pt x="454" y="114"/>
                    </a:lnTo>
                    <a:lnTo>
                      <a:pt x="464" y="113"/>
                    </a:lnTo>
                    <a:lnTo>
                      <a:pt x="473" y="113"/>
                    </a:lnTo>
                    <a:lnTo>
                      <a:pt x="482" y="113"/>
                    </a:lnTo>
                    <a:lnTo>
                      <a:pt x="491" y="112"/>
                    </a:lnTo>
                    <a:lnTo>
                      <a:pt x="501" y="112"/>
                    </a:lnTo>
                    <a:lnTo>
                      <a:pt x="510" y="111"/>
                    </a:lnTo>
                    <a:lnTo>
                      <a:pt x="519" y="111"/>
                    </a:lnTo>
                    <a:lnTo>
                      <a:pt x="528" y="110"/>
                    </a:lnTo>
                    <a:lnTo>
                      <a:pt x="538" y="110"/>
                    </a:lnTo>
                    <a:lnTo>
                      <a:pt x="547" y="110"/>
                    </a:lnTo>
                    <a:lnTo>
                      <a:pt x="556" y="109"/>
                    </a:lnTo>
                    <a:lnTo>
                      <a:pt x="566" y="109"/>
                    </a:lnTo>
                    <a:lnTo>
                      <a:pt x="575" y="108"/>
                    </a:lnTo>
                    <a:lnTo>
                      <a:pt x="584" y="107"/>
                    </a:lnTo>
                    <a:lnTo>
                      <a:pt x="593" y="108"/>
                    </a:lnTo>
                    <a:lnTo>
                      <a:pt x="603" y="108"/>
                    </a:lnTo>
                    <a:lnTo>
                      <a:pt x="612" y="107"/>
                    </a:lnTo>
                    <a:lnTo>
                      <a:pt x="621" y="107"/>
                    </a:lnTo>
                    <a:lnTo>
                      <a:pt x="631" y="107"/>
                    </a:lnTo>
                    <a:lnTo>
                      <a:pt x="640" y="108"/>
                    </a:lnTo>
                    <a:lnTo>
                      <a:pt x="649" y="107"/>
                    </a:lnTo>
                    <a:lnTo>
                      <a:pt x="658" y="108"/>
                    </a:lnTo>
                    <a:lnTo>
                      <a:pt x="668" y="107"/>
                    </a:lnTo>
                    <a:lnTo>
                      <a:pt x="677" y="106"/>
                    </a:lnTo>
                    <a:lnTo>
                      <a:pt x="686" y="105"/>
                    </a:lnTo>
                    <a:lnTo>
                      <a:pt x="696" y="105"/>
                    </a:lnTo>
                    <a:lnTo>
                      <a:pt x="705" y="105"/>
                    </a:lnTo>
                    <a:lnTo>
                      <a:pt x="714" y="104"/>
                    </a:lnTo>
                    <a:lnTo>
                      <a:pt x="723" y="103"/>
                    </a:lnTo>
                    <a:lnTo>
                      <a:pt x="733" y="103"/>
                    </a:lnTo>
                    <a:lnTo>
                      <a:pt x="742" y="104"/>
                    </a:lnTo>
                    <a:lnTo>
                      <a:pt x="751" y="105"/>
                    </a:lnTo>
                    <a:lnTo>
                      <a:pt x="760" y="106"/>
                    </a:lnTo>
                    <a:lnTo>
                      <a:pt x="770" y="105"/>
                    </a:lnTo>
                    <a:lnTo>
                      <a:pt x="779" y="104"/>
                    </a:lnTo>
                    <a:lnTo>
                      <a:pt x="788" y="104"/>
                    </a:lnTo>
                    <a:lnTo>
                      <a:pt x="798" y="102"/>
                    </a:lnTo>
                    <a:lnTo>
                      <a:pt x="807" y="101"/>
                    </a:lnTo>
                    <a:lnTo>
                      <a:pt x="816" y="102"/>
                    </a:lnTo>
                    <a:lnTo>
                      <a:pt x="825" y="100"/>
                    </a:lnTo>
                    <a:lnTo>
                      <a:pt x="835" y="100"/>
                    </a:lnTo>
                    <a:lnTo>
                      <a:pt x="844" y="98"/>
                    </a:lnTo>
                    <a:lnTo>
                      <a:pt x="853" y="97"/>
                    </a:lnTo>
                    <a:lnTo>
                      <a:pt x="863" y="97"/>
                    </a:lnTo>
                    <a:lnTo>
                      <a:pt x="872" y="97"/>
                    </a:lnTo>
                    <a:lnTo>
                      <a:pt x="881" y="100"/>
                    </a:lnTo>
                    <a:lnTo>
                      <a:pt x="890" y="99"/>
                    </a:lnTo>
                    <a:lnTo>
                      <a:pt x="900" y="97"/>
                    </a:lnTo>
                    <a:lnTo>
                      <a:pt x="909" y="96"/>
                    </a:lnTo>
                    <a:lnTo>
                      <a:pt x="918" y="96"/>
                    </a:lnTo>
                    <a:lnTo>
                      <a:pt x="928" y="94"/>
                    </a:lnTo>
                    <a:lnTo>
                      <a:pt x="937" y="93"/>
                    </a:lnTo>
                    <a:lnTo>
                      <a:pt x="946" y="92"/>
                    </a:lnTo>
                    <a:lnTo>
                      <a:pt x="955" y="91"/>
                    </a:lnTo>
                    <a:lnTo>
                      <a:pt x="965" y="91"/>
                    </a:lnTo>
                    <a:lnTo>
                      <a:pt x="974" y="89"/>
                    </a:lnTo>
                    <a:lnTo>
                      <a:pt x="983" y="87"/>
                    </a:lnTo>
                    <a:lnTo>
                      <a:pt x="992" y="85"/>
                    </a:lnTo>
                    <a:lnTo>
                      <a:pt x="1002" y="83"/>
                    </a:lnTo>
                    <a:lnTo>
                      <a:pt x="1011" y="82"/>
                    </a:lnTo>
                    <a:lnTo>
                      <a:pt x="1020" y="80"/>
                    </a:lnTo>
                    <a:lnTo>
                      <a:pt x="1030" y="79"/>
                    </a:lnTo>
                    <a:lnTo>
                      <a:pt x="1039" y="76"/>
                    </a:lnTo>
                    <a:lnTo>
                      <a:pt x="1048" y="74"/>
                    </a:lnTo>
                    <a:lnTo>
                      <a:pt x="1057" y="72"/>
                    </a:lnTo>
                    <a:lnTo>
                      <a:pt x="1067" y="72"/>
                    </a:lnTo>
                    <a:lnTo>
                      <a:pt x="1076" y="70"/>
                    </a:lnTo>
                    <a:lnTo>
                      <a:pt x="1085" y="70"/>
                    </a:lnTo>
                    <a:lnTo>
                      <a:pt x="1095" y="67"/>
                    </a:lnTo>
                    <a:lnTo>
                      <a:pt x="1104" y="65"/>
                    </a:lnTo>
                    <a:lnTo>
                      <a:pt x="1113" y="62"/>
                    </a:lnTo>
                    <a:lnTo>
                      <a:pt x="1122" y="60"/>
                    </a:lnTo>
                    <a:lnTo>
                      <a:pt x="1132" y="57"/>
                    </a:lnTo>
                    <a:lnTo>
                      <a:pt x="1141" y="52"/>
                    </a:lnTo>
                    <a:lnTo>
                      <a:pt x="1150" y="53"/>
                    </a:lnTo>
                    <a:lnTo>
                      <a:pt x="1160" y="52"/>
                    </a:lnTo>
                    <a:lnTo>
                      <a:pt x="1169" y="48"/>
                    </a:lnTo>
                    <a:lnTo>
                      <a:pt x="1178" y="45"/>
                    </a:lnTo>
                    <a:lnTo>
                      <a:pt x="1187" y="42"/>
                    </a:lnTo>
                    <a:lnTo>
                      <a:pt x="1197" y="40"/>
                    </a:lnTo>
                    <a:lnTo>
                      <a:pt x="1206" y="41"/>
                    </a:lnTo>
                    <a:lnTo>
                      <a:pt x="1215" y="43"/>
                    </a:lnTo>
                    <a:lnTo>
                      <a:pt x="1224" y="43"/>
                    </a:lnTo>
                    <a:lnTo>
                      <a:pt x="1234" y="43"/>
                    </a:lnTo>
                    <a:lnTo>
                      <a:pt x="1243" y="41"/>
                    </a:lnTo>
                    <a:lnTo>
                      <a:pt x="1252" y="40"/>
                    </a:lnTo>
                    <a:lnTo>
                      <a:pt x="1262" y="38"/>
                    </a:lnTo>
                    <a:lnTo>
                      <a:pt x="1271" y="35"/>
                    </a:lnTo>
                    <a:lnTo>
                      <a:pt x="1280" y="32"/>
                    </a:lnTo>
                    <a:lnTo>
                      <a:pt x="1289" y="31"/>
                    </a:lnTo>
                    <a:lnTo>
                      <a:pt x="1299" y="30"/>
                    </a:lnTo>
                    <a:lnTo>
                      <a:pt x="1308" y="30"/>
                    </a:lnTo>
                    <a:lnTo>
                      <a:pt x="1317" y="30"/>
                    </a:lnTo>
                    <a:lnTo>
                      <a:pt x="1327" y="30"/>
                    </a:lnTo>
                    <a:lnTo>
                      <a:pt x="1336" y="29"/>
                    </a:lnTo>
                    <a:lnTo>
                      <a:pt x="1345" y="27"/>
                    </a:lnTo>
                    <a:lnTo>
                      <a:pt x="1354" y="24"/>
                    </a:lnTo>
                    <a:lnTo>
                      <a:pt x="1364" y="23"/>
                    </a:lnTo>
                    <a:lnTo>
                      <a:pt x="1373" y="23"/>
                    </a:lnTo>
                    <a:lnTo>
                      <a:pt x="1382" y="22"/>
                    </a:lnTo>
                    <a:lnTo>
                      <a:pt x="1392" y="20"/>
                    </a:lnTo>
                    <a:lnTo>
                      <a:pt x="1401" y="20"/>
                    </a:lnTo>
                    <a:lnTo>
                      <a:pt x="1410" y="17"/>
                    </a:lnTo>
                    <a:lnTo>
                      <a:pt x="1419" y="13"/>
                    </a:lnTo>
                    <a:lnTo>
                      <a:pt x="1429" y="6"/>
                    </a:lnTo>
                    <a:lnTo>
                      <a:pt x="1438" y="3"/>
                    </a:lnTo>
                    <a:lnTo>
                      <a:pt x="1447" y="0"/>
                    </a:lnTo>
                    <a:lnTo>
                      <a:pt x="1447" y="64"/>
                    </a:lnTo>
                    <a:lnTo>
                      <a:pt x="1438" y="67"/>
                    </a:lnTo>
                    <a:lnTo>
                      <a:pt x="1429" y="70"/>
                    </a:lnTo>
                    <a:lnTo>
                      <a:pt x="1419" y="74"/>
                    </a:lnTo>
                    <a:lnTo>
                      <a:pt x="1410" y="77"/>
                    </a:lnTo>
                    <a:lnTo>
                      <a:pt x="1401" y="79"/>
                    </a:lnTo>
                    <a:lnTo>
                      <a:pt x="1392" y="79"/>
                    </a:lnTo>
                    <a:lnTo>
                      <a:pt x="1382" y="80"/>
                    </a:lnTo>
                    <a:lnTo>
                      <a:pt x="1373" y="80"/>
                    </a:lnTo>
                    <a:lnTo>
                      <a:pt x="1364" y="80"/>
                    </a:lnTo>
                    <a:lnTo>
                      <a:pt x="1354" y="80"/>
                    </a:lnTo>
                    <a:lnTo>
                      <a:pt x="1345" y="81"/>
                    </a:lnTo>
                    <a:lnTo>
                      <a:pt x="1336" y="82"/>
                    </a:lnTo>
                    <a:lnTo>
                      <a:pt x="1327" y="82"/>
                    </a:lnTo>
                    <a:lnTo>
                      <a:pt x="1317" y="83"/>
                    </a:lnTo>
                    <a:lnTo>
                      <a:pt x="1308" y="82"/>
                    </a:lnTo>
                    <a:lnTo>
                      <a:pt x="1299" y="82"/>
                    </a:lnTo>
                    <a:lnTo>
                      <a:pt x="1289" y="83"/>
                    </a:lnTo>
                    <a:lnTo>
                      <a:pt x="1280" y="83"/>
                    </a:lnTo>
                    <a:lnTo>
                      <a:pt x="1271" y="84"/>
                    </a:lnTo>
                    <a:lnTo>
                      <a:pt x="1262" y="86"/>
                    </a:lnTo>
                    <a:lnTo>
                      <a:pt x="1252" y="86"/>
                    </a:lnTo>
                    <a:lnTo>
                      <a:pt x="1243" y="88"/>
                    </a:lnTo>
                    <a:lnTo>
                      <a:pt x="1234" y="89"/>
                    </a:lnTo>
                    <a:lnTo>
                      <a:pt x="1224" y="90"/>
                    </a:lnTo>
                    <a:lnTo>
                      <a:pt x="1215" y="91"/>
                    </a:lnTo>
                    <a:lnTo>
                      <a:pt x="1206" y="91"/>
                    </a:lnTo>
                    <a:lnTo>
                      <a:pt x="1197" y="92"/>
                    </a:lnTo>
                    <a:lnTo>
                      <a:pt x="1187" y="93"/>
                    </a:lnTo>
                    <a:lnTo>
                      <a:pt x="1178" y="94"/>
                    </a:lnTo>
                    <a:lnTo>
                      <a:pt x="1169" y="95"/>
                    </a:lnTo>
                    <a:lnTo>
                      <a:pt x="1160" y="97"/>
                    </a:lnTo>
                    <a:lnTo>
                      <a:pt x="1150" y="97"/>
                    </a:lnTo>
                    <a:lnTo>
                      <a:pt x="1141" y="98"/>
                    </a:lnTo>
                    <a:lnTo>
                      <a:pt x="1132" y="99"/>
                    </a:lnTo>
                    <a:lnTo>
                      <a:pt x="1122" y="99"/>
                    </a:lnTo>
                    <a:lnTo>
                      <a:pt x="1113" y="98"/>
                    </a:lnTo>
                    <a:lnTo>
                      <a:pt x="1104" y="98"/>
                    </a:lnTo>
                    <a:lnTo>
                      <a:pt x="1095" y="98"/>
                    </a:lnTo>
                    <a:lnTo>
                      <a:pt x="1085" y="98"/>
                    </a:lnTo>
                    <a:lnTo>
                      <a:pt x="1076" y="97"/>
                    </a:lnTo>
                    <a:lnTo>
                      <a:pt x="1067" y="97"/>
                    </a:lnTo>
                    <a:lnTo>
                      <a:pt x="1057" y="95"/>
                    </a:lnTo>
                    <a:lnTo>
                      <a:pt x="1048" y="95"/>
                    </a:lnTo>
                    <a:lnTo>
                      <a:pt x="1039" y="96"/>
                    </a:lnTo>
                    <a:lnTo>
                      <a:pt x="1030" y="97"/>
                    </a:lnTo>
                    <a:lnTo>
                      <a:pt x="1020" y="97"/>
                    </a:lnTo>
                    <a:lnTo>
                      <a:pt x="1011" y="98"/>
                    </a:lnTo>
                    <a:lnTo>
                      <a:pt x="1002" y="98"/>
                    </a:lnTo>
                    <a:lnTo>
                      <a:pt x="992" y="99"/>
                    </a:lnTo>
                    <a:lnTo>
                      <a:pt x="983" y="100"/>
                    </a:lnTo>
                    <a:lnTo>
                      <a:pt x="974" y="101"/>
                    </a:lnTo>
                    <a:lnTo>
                      <a:pt x="965" y="102"/>
                    </a:lnTo>
                    <a:lnTo>
                      <a:pt x="955" y="102"/>
                    </a:lnTo>
                    <a:lnTo>
                      <a:pt x="946" y="102"/>
                    </a:lnTo>
                    <a:lnTo>
                      <a:pt x="937" y="102"/>
                    </a:lnTo>
                    <a:lnTo>
                      <a:pt x="928" y="103"/>
                    </a:lnTo>
                    <a:lnTo>
                      <a:pt x="918" y="104"/>
                    </a:lnTo>
                    <a:lnTo>
                      <a:pt x="909" y="103"/>
                    </a:lnTo>
                    <a:lnTo>
                      <a:pt x="900" y="104"/>
                    </a:lnTo>
                    <a:lnTo>
                      <a:pt x="890" y="105"/>
                    </a:lnTo>
                    <a:lnTo>
                      <a:pt x="881" y="106"/>
                    </a:lnTo>
                    <a:lnTo>
                      <a:pt x="872" y="103"/>
                    </a:lnTo>
                    <a:lnTo>
                      <a:pt x="863" y="102"/>
                    </a:lnTo>
                    <a:lnTo>
                      <a:pt x="853" y="103"/>
                    </a:lnTo>
                    <a:lnTo>
                      <a:pt x="844" y="103"/>
                    </a:lnTo>
                    <a:lnTo>
                      <a:pt x="835" y="104"/>
                    </a:lnTo>
                    <a:lnTo>
                      <a:pt x="825" y="105"/>
                    </a:lnTo>
                    <a:lnTo>
                      <a:pt x="816" y="106"/>
                    </a:lnTo>
                    <a:lnTo>
                      <a:pt x="807" y="105"/>
                    </a:lnTo>
                    <a:lnTo>
                      <a:pt x="798" y="106"/>
                    </a:lnTo>
                    <a:lnTo>
                      <a:pt x="788" y="107"/>
                    </a:lnTo>
                    <a:lnTo>
                      <a:pt x="779" y="108"/>
                    </a:lnTo>
                    <a:lnTo>
                      <a:pt x="770" y="109"/>
                    </a:lnTo>
                    <a:lnTo>
                      <a:pt x="760" y="109"/>
                    </a:lnTo>
                    <a:lnTo>
                      <a:pt x="751" y="108"/>
                    </a:lnTo>
                    <a:lnTo>
                      <a:pt x="742" y="107"/>
                    </a:lnTo>
                    <a:lnTo>
                      <a:pt x="733" y="106"/>
                    </a:lnTo>
                    <a:lnTo>
                      <a:pt x="723" y="105"/>
                    </a:lnTo>
                    <a:lnTo>
                      <a:pt x="714" y="107"/>
                    </a:lnTo>
                    <a:lnTo>
                      <a:pt x="705" y="107"/>
                    </a:lnTo>
                    <a:lnTo>
                      <a:pt x="696" y="107"/>
                    </a:lnTo>
                    <a:lnTo>
                      <a:pt x="686" y="107"/>
                    </a:lnTo>
                    <a:lnTo>
                      <a:pt x="677" y="107"/>
                    </a:lnTo>
                    <a:lnTo>
                      <a:pt x="668" y="109"/>
                    </a:lnTo>
                    <a:lnTo>
                      <a:pt x="658" y="110"/>
                    </a:lnTo>
                    <a:lnTo>
                      <a:pt x="649" y="108"/>
                    </a:lnTo>
                    <a:lnTo>
                      <a:pt x="640" y="109"/>
                    </a:lnTo>
                    <a:lnTo>
                      <a:pt x="631" y="108"/>
                    </a:lnTo>
                    <a:lnTo>
                      <a:pt x="621" y="108"/>
                    </a:lnTo>
                    <a:lnTo>
                      <a:pt x="612" y="108"/>
                    </a:lnTo>
                    <a:lnTo>
                      <a:pt x="603" y="109"/>
                    </a:lnTo>
                    <a:lnTo>
                      <a:pt x="593" y="109"/>
                    </a:lnTo>
                    <a:lnTo>
                      <a:pt x="584" y="108"/>
                    </a:lnTo>
                    <a:lnTo>
                      <a:pt x="575" y="109"/>
                    </a:lnTo>
                    <a:lnTo>
                      <a:pt x="566" y="109"/>
                    </a:lnTo>
                    <a:lnTo>
                      <a:pt x="556" y="110"/>
                    </a:lnTo>
                    <a:lnTo>
                      <a:pt x="547" y="110"/>
                    </a:lnTo>
                    <a:lnTo>
                      <a:pt x="538" y="111"/>
                    </a:lnTo>
                    <a:lnTo>
                      <a:pt x="528" y="110"/>
                    </a:lnTo>
                    <a:lnTo>
                      <a:pt x="519" y="111"/>
                    </a:lnTo>
                    <a:lnTo>
                      <a:pt x="510" y="112"/>
                    </a:lnTo>
                    <a:lnTo>
                      <a:pt x="501" y="112"/>
                    </a:lnTo>
                    <a:lnTo>
                      <a:pt x="491" y="113"/>
                    </a:lnTo>
                    <a:lnTo>
                      <a:pt x="482" y="113"/>
                    </a:lnTo>
                    <a:lnTo>
                      <a:pt x="473" y="113"/>
                    </a:lnTo>
                    <a:lnTo>
                      <a:pt x="464" y="114"/>
                    </a:lnTo>
                    <a:lnTo>
                      <a:pt x="454" y="114"/>
                    </a:lnTo>
                    <a:lnTo>
                      <a:pt x="445" y="115"/>
                    </a:lnTo>
                    <a:lnTo>
                      <a:pt x="436" y="115"/>
                    </a:lnTo>
                    <a:lnTo>
                      <a:pt x="426" y="115"/>
                    </a:lnTo>
                    <a:lnTo>
                      <a:pt x="417" y="115"/>
                    </a:lnTo>
                    <a:lnTo>
                      <a:pt x="408" y="116"/>
                    </a:lnTo>
                    <a:lnTo>
                      <a:pt x="399" y="116"/>
                    </a:lnTo>
                    <a:lnTo>
                      <a:pt x="389" y="116"/>
                    </a:lnTo>
                    <a:lnTo>
                      <a:pt x="380" y="116"/>
                    </a:lnTo>
                    <a:lnTo>
                      <a:pt x="371" y="116"/>
                    </a:lnTo>
                    <a:lnTo>
                      <a:pt x="361" y="116"/>
                    </a:lnTo>
                    <a:lnTo>
                      <a:pt x="352" y="117"/>
                    </a:lnTo>
                    <a:lnTo>
                      <a:pt x="343" y="117"/>
                    </a:lnTo>
                    <a:lnTo>
                      <a:pt x="334" y="117"/>
                    </a:lnTo>
                    <a:lnTo>
                      <a:pt x="324" y="117"/>
                    </a:lnTo>
                    <a:lnTo>
                      <a:pt x="315" y="117"/>
                    </a:lnTo>
                    <a:lnTo>
                      <a:pt x="306" y="117"/>
                    </a:lnTo>
                    <a:lnTo>
                      <a:pt x="296" y="118"/>
                    </a:lnTo>
                    <a:lnTo>
                      <a:pt x="287" y="118"/>
                    </a:lnTo>
                    <a:lnTo>
                      <a:pt x="278" y="118"/>
                    </a:lnTo>
                    <a:lnTo>
                      <a:pt x="269" y="118"/>
                    </a:lnTo>
                    <a:lnTo>
                      <a:pt x="259" y="119"/>
                    </a:lnTo>
                    <a:lnTo>
                      <a:pt x="250" y="119"/>
                    </a:lnTo>
                    <a:lnTo>
                      <a:pt x="241" y="119"/>
                    </a:lnTo>
                    <a:lnTo>
                      <a:pt x="232" y="119"/>
                    </a:lnTo>
                    <a:lnTo>
                      <a:pt x="222" y="119"/>
                    </a:lnTo>
                    <a:lnTo>
                      <a:pt x="213" y="119"/>
                    </a:lnTo>
                    <a:lnTo>
                      <a:pt x="204" y="119"/>
                    </a:lnTo>
                    <a:lnTo>
                      <a:pt x="194" y="119"/>
                    </a:lnTo>
                    <a:lnTo>
                      <a:pt x="185" y="120"/>
                    </a:lnTo>
                    <a:lnTo>
                      <a:pt x="176" y="120"/>
                    </a:lnTo>
                    <a:lnTo>
                      <a:pt x="167" y="120"/>
                    </a:lnTo>
                    <a:lnTo>
                      <a:pt x="157" y="120"/>
                    </a:lnTo>
                    <a:lnTo>
                      <a:pt x="148" y="120"/>
                    </a:lnTo>
                    <a:lnTo>
                      <a:pt x="139" y="120"/>
                    </a:lnTo>
                    <a:lnTo>
                      <a:pt x="129" y="120"/>
                    </a:lnTo>
                    <a:lnTo>
                      <a:pt x="120" y="120"/>
                    </a:lnTo>
                    <a:lnTo>
                      <a:pt x="111" y="121"/>
                    </a:lnTo>
                    <a:lnTo>
                      <a:pt x="102" y="121"/>
                    </a:lnTo>
                    <a:lnTo>
                      <a:pt x="92" y="121"/>
                    </a:lnTo>
                    <a:lnTo>
                      <a:pt x="83" y="121"/>
                    </a:lnTo>
                    <a:lnTo>
                      <a:pt x="74" y="121"/>
                    </a:lnTo>
                    <a:lnTo>
                      <a:pt x="64" y="121"/>
                    </a:lnTo>
                    <a:lnTo>
                      <a:pt x="55" y="121"/>
                    </a:lnTo>
                    <a:lnTo>
                      <a:pt x="46" y="121"/>
                    </a:lnTo>
                    <a:lnTo>
                      <a:pt x="37" y="121"/>
                    </a:lnTo>
                    <a:lnTo>
                      <a:pt x="27" y="122"/>
                    </a:lnTo>
                    <a:lnTo>
                      <a:pt x="18" y="122"/>
                    </a:lnTo>
                    <a:lnTo>
                      <a:pt x="9" y="121"/>
                    </a:lnTo>
                    <a:lnTo>
                      <a:pt x="0" y="122"/>
                    </a:lnTo>
                    <a:close/>
                  </a:path>
                </a:pathLst>
              </a:custGeom>
              <a:noFill/>
              <a:ln w="3175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8" name="Freeform 323"/>
              <p:cNvSpPr/>
              <p:nvPr/>
            </p:nvSpPr>
            <p:spPr>
              <a:xfrm>
                <a:off x="434520" y="2967480"/>
                <a:ext cx="2310120" cy="141840"/>
              </a:xfrm>
              <a:custGeom>
                <a:avLst/>
                <a:gdLst>
                  <a:gd name="textAreaLeft" fmla="*/ 0 w 2310120"/>
                  <a:gd name="textAreaRight" fmla="*/ 2310480 w 2310120"/>
                  <a:gd name="textAreaTop" fmla="*/ 0 h 141840"/>
                  <a:gd name="textAreaBottom" fmla="*/ 142200 h 141840"/>
                </a:gdLst>
                <a:ahLst/>
                <a:rect l="textAreaLeft" t="textAreaTop" r="textAreaRight" b="textAreaBottom"/>
                <a:pathLst>
                  <a:path w="1447" h="58">
                    <a:moveTo>
                      <a:pt x="0" y="57"/>
                    </a:moveTo>
                    <a:lnTo>
                      <a:pt x="9" y="57"/>
                    </a:lnTo>
                    <a:lnTo>
                      <a:pt x="18" y="57"/>
                    </a:lnTo>
                    <a:lnTo>
                      <a:pt x="27" y="57"/>
                    </a:lnTo>
                    <a:lnTo>
                      <a:pt x="37" y="57"/>
                    </a:lnTo>
                    <a:lnTo>
                      <a:pt x="46" y="56"/>
                    </a:lnTo>
                    <a:lnTo>
                      <a:pt x="55" y="56"/>
                    </a:lnTo>
                    <a:lnTo>
                      <a:pt x="64" y="56"/>
                    </a:lnTo>
                    <a:lnTo>
                      <a:pt x="74" y="56"/>
                    </a:lnTo>
                    <a:lnTo>
                      <a:pt x="83" y="56"/>
                    </a:lnTo>
                    <a:lnTo>
                      <a:pt x="92" y="56"/>
                    </a:lnTo>
                    <a:lnTo>
                      <a:pt x="102" y="56"/>
                    </a:lnTo>
                    <a:lnTo>
                      <a:pt x="111" y="56"/>
                    </a:lnTo>
                    <a:lnTo>
                      <a:pt x="120" y="56"/>
                    </a:lnTo>
                    <a:lnTo>
                      <a:pt x="129" y="55"/>
                    </a:lnTo>
                    <a:lnTo>
                      <a:pt x="139" y="55"/>
                    </a:lnTo>
                    <a:lnTo>
                      <a:pt x="148" y="55"/>
                    </a:lnTo>
                    <a:lnTo>
                      <a:pt x="157" y="55"/>
                    </a:lnTo>
                    <a:lnTo>
                      <a:pt x="167" y="55"/>
                    </a:lnTo>
                    <a:lnTo>
                      <a:pt x="176" y="55"/>
                    </a:lnTo>
                    <a:lnTo>
                      <a:pt x="185" y="55"/>
                    </a:lnTo>
                    <a:lnTo>
                      <a:pt x="194" y="54"/>
                    </a:lnTo>
                    <a:lnTo>
                      <a:pt x="204" y="54"/>
                    </a:lnTo>
                    <a:lnTo>
                      <a:pt x="213" y="54"/>
                    </a:lnTo>
                    <a:lnTo>
                      <a:pt x="222" y="54"/>
                    </a:lnTo>
                    <a:lnTo>
                      <a:pt x="232" y="54"/>
                    </a:lnTo>
                    <a:lnTo>
                      <a:pt x="241" y="54"/>
                    </a:lnTo>
                    <a:lnTo>
                      <a:pt x="250" y="54"/>
                    </a:lnTo>
                    <a:lnTo>
                      <a:pt x="259" y="54"/>
                    </a:lnTo>
                    <a:lnTo>
                      <a:pt x="269" y="54"/>
                    </a:lnTo>
                    <a:lnTo>
                      <a:pt x="278" y="53"/>
                    </a:lnTo>
                    <a:lnTo>
                      <a:pt x="287" y="53"/>
                    </a:lnTo>
                    <a:lnTo>
                      <a:pt x="296" y="53"/>
                    </a:lnTo>
                    <a:lnTo>
                      <a:pt x="306" y="52"/>
                    </a:lnTo>
                    <a:lnTo>
                      <a:pt x="315" y="52"/>
                    </a:lnTo>
                    <a:lnTo>
                      <a:pt x="324" y="52"/>
                    </a:lnTo>
                    <a:lnTo>
                      <a:pt x="334" y="52"/>
                    </a:lnTo>
                    <a:lnTo>
                      <a:pt x="343" y="52"/>
                    </a:lnTo>
                    <a:lnTo>
                      <a:pt x="352" y="52"/>
                    </a:lnTo>
                    <a:lnTo>
                      <a:pt x="361" y="52"/>
                    </a:lnTo>
                    <a:lnTo>
                      <a:pt x="371" y="51"/>
                    </a:lnTo>
                    <a:lnTo>
                      <a:pt x="380" y="51"/>
                    </a:lnTo>
                    <a:lnTo>
                      <a:pt x="389" y="51"/>
                    </a:lnTo>
                    <a:lnTo>
                      <a:pt x="399" y="51"/>
                    </a:lnTo>
                    <a:lnTo>
                      <a:pt x="408" y="51"/>
                    </a:lnTo>
                    <a:lnTo>
                      <a:pt x="417" y="51"/>
                    </a:lnTo>
                    <a:lnTo>
                      <a:pt x="426" y="50"/>
                    </a:lnTo>
                    <a:lnTo>
                      <a:pt x="436" y="50"/>
                    </a:lnTo>
                    <a:lnTo>
                      <a:pt x="445" y="50"/>
                    </a:lnTo>
                    <a:lnTo>
                      <a:pt x="454" y="49"/>
                    </a:lnTo>
                    <a:lnTo>
                      <a:pt x="464" y="49"/>
                    </a:lnTo>
                    <a:lnTo>
                      <a:pt x="473" y="49"/>
                    </a:lnTo>
                    <a:lnTo>
                      <a:pt x="482" y="48"/>
                    </a:lnTo>
                    <a:lnTo>
                      <a:pt x="491" y="48"/>
                    </a:lnTo>
                    <a:lnTo>
                      <a:pt x="501" y="48"/>
                    </a:lnTo>
                    <a:lnTo>
                      <a:pt x="510" y="47"/>
                    </a:lnTo>
                    <a:lnTo>
                      <a:pt x="519" y="46"/>
                    </a:lnTo>
                    <a:lnTo>
                      <a:pt x="528" y="45"/>
                    </a:lnTo>
                    <a:lnTo>
                      <a:pt x="538" y="46"/>
                    </a:lnTo>
                    <a:lnTo>
                      <a:pt x="547" y="45"/>
                    </a:lnTo>
                    <a:lnTo>
                      <a:pt x="556" y="45"/>
                    </a:lnTo>
                    <a:lnTo>
                      <a:pt x="566" y="45"/>
                    </a:lnTo>
                    <a:lnTo>
                      <a:pt x="575" y="44"/>
                    </a:lnTo>
                    <a:lnTo>
                      <a:pt x="584" y="43"/>
                    </a:lnTo>
                    <a:lnTo>
                      <a:pt x="593" y="44"/>
                    </a:lnTo>
                    <a:lnTo>
                      <a:pt x="603" y="44"/>
                    </a:lnTo>
                    <a:lnTo>
                      <a:pt x="612" y="43"/>
                    </a:lnTo>
                    <a:lnTo>
                      <a:pt x="621" y="43"/>
                    </a:lnTo>
                    <a:lnTo>
                      <a:pt x="631" y="43"/>
                    </a:lnTo>
                    <a:lnTo>
                      <a:pt x="640" y="44"/>
                    </a:lnTo>
                    <a:lnTo>
                      <a:pt x="649" y="43"/>
                    </a:lnTo>
                    <a:lnTo>
                      <a:pt x="658" y="45"/>
                    </a:lnTo>
                    <a:lnTo>
                      <a:pt x="668" y="44"/>
                    </a:lnTo>
                    <a:lnTo>
                      <a:pt x="677" y="42"/>
                    </a:lnTo>
                    <a:lnTo>
                      <a:pt x="686" y="43"/>
                    </a:lnTo>
                    <a:lnTo>
                      <a:pt x="696" y="42"/>
                    </a:lnTo>
                    <a:lnTo>
                      <a:pt x="705" y="43"/>
                    </a:lnTo>
                    <a:lnTo>
                      <a:pt x="714" y="42"/>
                    </a:lnTo>
                    <a:lnTo>
                      <a:pt x="723" y="41"/>
                    </a:lnTo>
                    <a:lnTo>
                      <a:pt x="733" y="41"/>
                    </a:lnTo>
                    <a:lnTo>
                      <a:pt x="742" y="42"/>
                    </a:lnTo>
                    <a:lnTo>
                      <a:pt x="751" y="43"/>
                    </a:lnTo>
                    <a:lnTo>
                      <a:pt x="760" y="44"/>
                    </a:lnTo>
                    <a:lnTo>
                      <a:pt x="770" y="44"/>
                    </a:lnTo>
                    <a:lnTo>
                      <a:pt x="779" y="43"/>
                    </a:lnTo>
                    <a:lnTo>
                      <a:pt x="788" y="42"/>
                    </a:lnTo>
                    <a:lnTo>
                      <a:pt x="798" y="41"/>
                    </a:lnTo>
                    <a:lnTo>
                      <a:pt x="807" y="40"/>
                    </a:lnTo>
                    <a:lnTo>
                      <a:pt x="816" y="41"/>
                    </a:lnTo>
                    <a:lnTo>
                      <a:pt x="825" y="40"/>
                    </a:lnTo>
                    <a:lnTo>
                      <a:pt x="835" y="39"/>
                    </a:lnTo>
                    <a:lnTo>
                      <a:pt x="844" y="38"/>
                    </a:lnTo>
                    <a:lnTo>
                      <a:pt x="853" y="38"/>
                    </a:lnTo>
                    <a:lnTo>
                      <a:pt x="863" y="37"/>
                    </a:lnTo>
                    <a:lnTo>
                      <a:pt x="872" y="38"/>
                    </a:lnTo>
                    <a:lnTo>
                      <a:pt x="881" y="41"/>
                    </a:lnTo>
                    <a:lnTo>
                      <a:pt x="890" y="41"/>
                    </a:lnTo>
                    <a:lnTo>
                      <a:pt x="900" y="39"/>
                    </a:lnTo>
                    <a:lnTo>
                      <a:pt x="909" y="38"/>
                    </a:lnTo>
                    <a:lnTo>
                      <a:pt x="918" y="39"/>
                    </a:lnTo>
                    <a:lnTo>
                      <a:pt x="928" y="38"/>
                    </a:lnTo>
                    <a:lnTo>
                      <a:pt x="937" y="37"/>
                    </a:lnTo>
                    <a:lnTo>
                      <a:pt x="946" y="37"/>
                    </a:lnTo>
                    <a:lnTo>
                      <a:pt x="955" y="37"/>
                    </a:lnTo>
                    <a:lnTo>
                      <a:pt x="965" y="37"/>
                    </a:lnTo>
                    <a:lnTo>
                      <a:pt x="974" y="36"/>
                    </a:lnTo>
                    <a:lnTo>
                      <a:pt x="983" y="35"/>
                    </a:lnTo>
                    <a:lnTo>
                      <a:pt x="992" y="34"/>
                    </a:lnTo>
                    <a:lnTo>
                      <a:pt x="1002" y="34"/>
                    </a:lnTo>
                    <a:lnTo>
                      <a:pt x="1011" y="33"/>
                    </a:lnTo>
                    <a:lnTo>
                      <a:pt x="1020" y="32"/>
                    </a:lnTo>
                    <a:lnTo>
                      <a:pt x="1030" y="32"/>
                    </a:lnTo>
                    <a:lnTo>
                      <a:pt x="1039" y="31"/>
                    </a:lnTo>
                    <a:lnTo>
                      <a:pt x="1048" y="30"/>
                    </a:lnTo>
                    <a:lnTo>
                      <a:pt x="1057" y="30"/>
                    </a:lnTo>
                    <a:lnTo>
                      <a:pt x="1067" y="32"/>
                    </a:lnTo>
                    <a:lnTo>
                      <a:pt x="1076" y="32"/>
                    </a:lnTo>
                    <a:lnTo>
                      <a:pt x="1085" y="33"/>
                    </a:lnTo>
                    <a:lnTo>
                      <a:pt x="1095" y="33"/>
                    </a:lnTo>
                    <a:lnTo>
                      <a:pt x="1104" y="33"/>
                    </a:lnTo>
                    <a:lnTo>
                      <a:pt x="1113" y="33"/>
                    </a:lnTo>
                    <a:lnTo>
                      <a:pt x="1122" y="34"/>
                    </a:lnTo>
                    <a:lnTo>
                      <a:pt x="1132" y="34"/>
                    </a:lnTo>
                    <a:lnTo>
                      <a:pt x="1141" y="33"/>
                    </a:lnTo>
                    <a:lnTo>
                      <a:pt x="1150" y="32"/>
                    </a:lnTo>
                    <a:lnTo>
                      <a:pt x="1160" y="32"/>
                    </a:lnTo>
                    <a:lnTo>
                      <a:pt x="1169" y="31"/>
                    </a:lnTo>
                    <a:lnTo>
                      <a:pt x="1178" y="30"/>
                    </a:lnTo>
                    <a:lnTo>
                      <a:pt x="1187" y="28"/>
                    </a:lnTo>
                    <a:lnTo>
                      <a:pt x="1197" y="27"/>
                    </a:lnTo>
                    <a:lnTo>
                      <a:pt x="1206" y="26"/>
                    </a:lnTo>
                    <a:lnTo>
                      <a:pt x="1215" y="26"/>
                    </a:lnTo>
                    <a:lnTo>
                      <a:pt x="1224" y="25"/>
                    </a:lnTo>
                    <a:lnTo>
                      <a:pt x="1234" y="24"/>
                    </a:lnTo>
                    <a:lnTo>
                      <a:pt x="1243" y="23"/>
                    </a:lnTo>
                    <a:lnTo>
                      <a:pt x="1252" y="21"/>
                    </a:lnTo>
                    <a:lnTo>
                      <a:pt x="1262" y="21"/>
                    </a:lnTo>
                    <a:lnTo>
                      <a:pt x="1271" y="19"/>
                    </a:lnTo>
                    <a:lnTo>
                      <a:pt x="1280" y="18"/>
                    </a:lnTo>
                    <a:lnTo>
                      <a:pt x="1289" y="18"/>
                    </a:lnTo>
                    <a:lnTo>
                      <a:pt x="1299" y="17"/>
                    </a:lnTo>
                    <a:lnTo>
                      <a:pt x="1308" y="17"/>
                    </a:lnTo>
                    <a:lnTo>
                      <a:pt x="1317" y="18"/>
                    </a:lnTo>
                    <a:lnTo>
                      <a:pt x="1327" y="18"/>
                    </a:lnTo>
                    <a:lnTo>
                      <a:pt x="1336" y="17"/>
                    </a:lnTo>
                    <a:lnTo>
                      <a:pt x="1345" y="16"/>
                    </a:lnTo>
                    <a:lnTo>
                      <a:pt x="1354" y="15"/>
                    </a:lnTo>
                    <a:lnTo>
                      <a:pt x="1364" y="15"/>
                    </a:lnTo>
                    <a:lnTo>
                      <a:pt x="1373" y="15"/>
                    </a:lnTo>
                    <a:lnTo>
                      <a:pt x="1382" y="15"/>
                    </a:lnTo>
                    <a:lnTo>
                      <a:pt x="1392" y="14"/>
                    </a:lnTo>
                    <a:lnTo>
                      <a:pt x="1401" y="14"/>
                    </a:lnTo>
                    <a:lnTo>
                      <a:pt x="1410" y="12"/>
                    </a:lnTo>
                    <a:lnTo>
                      <a:pt x="1419" y="9"/>
                    </a:lnTo>
                    <a:lnTo>
                      <a:pt x="1429" y="5"/>
                    </a:lnTo>
                    <a:lnTo>
                      <a:pt x="1438" y="3"/>
                    </a:lnTo>
                    <a:lnTo>
                      <a:pt x="1447" y="0"/>
                    </a:lnTo>
                    <a:lnTo>
                      <a:pt x="1447" y="49"/>
                    </a:lnTo>
                    <a:lnTo>
                      <a:pt x="1438" y="50"/>
                    </a:lnTo>
                    <a:lnTo>
                      <a:pt x="1429" y="50"/>
                    </a:lnTo>
                    <a:lnTo>
                      <a:pt x="1419" y="50"/>
                    </a:lnTo>
                    <a:lnTo>
                      <a:pt x="1410" y="51"/>
                    </a:lnTo>
                    <a:lnTo>
                      <a:pt x="1401" y="51"/>
                    </a:lnTo>
                    <a:lnTo>
                      <a:pt x="1392" y="51"/>
                    </a:lnTo>
                    <a:lnTo>
                      <a:pt x="1382" y="51"/>
                    </a:lnTo>
                    <a:lnTo>
                      <a:pt x="1373" y="51"/>
                    </a:lnTo>
                    <a:lnTo>
                      <a:pt x="1364" y="52"/>
                    </a:lnTo>
                    <a:lnTo>
                      <a:pt x="1354" y="52"/>
                    </a:lnTo>
                    <a:lnTo>
                      <a:pt x="1345" y="52"/>
                    </a:lnTo>
                    <a:lnTo>
                      <a:pt x="1336" y="52"/>
                    </a:lnTo>
                    <a:lnTo>
                      <a:pt x="1327" y="52"/>
                    </a:lnTo>
                    <a:lnTo>
                      <a:pt x="1317" y="52"/>
                    </a:lnTo>
                    <a:lnTo>
                      <a:pt x="1308" y="53"/>
                    </a:lnTo>
                    <a:lnTo>
                      <a:pt x="1299" y="53"/>
                    </a:lnTo>
                    <a:lnTo>
                      <a:pt x="1289" y="53"/>
                    </a:lnTo>
                    <a:lnTo>
                      <a:pt x="1280" y="53"/>
                    </a:lnTo>
                    <a:lnTo>
                      <a:pt x="1271" y="53"/>
                    </a:lnTo>
                    <a:lnTo>
                      <a:pt x="1262" y="54"/>
                    </a:lnTo>
                    <a:lnTo>
                      <a:pt x="1252" y="54"/>
                    </a:lnTo>
                    <a:lnTo>
                      <a:pt x="1243" y="54"/>
                    </a:lnTo>
                    <a:lnTo>
                      <a:pt x="1234" y="55"/>
                    </a:lnTo>
                    <a:lnTo>
                      <a:pt x="1224" y="55"/>
                    </a:lnTo>
                    <a:lnTo>
                      <a:pt x="1215" y="55"/>
                    </a:lnTo>
                    <a:lnTo>
                      <a:pt x="1206" y="55"/>
                    </a:lnTo>
                    <a:lnTo>
                      <a:pt x="1197" y="56"/>
                    </a:lnTo>
                    <a:lnTo>
                      <a:pt x="1187" y="56"/>
                    </a:lnTo>
                    <a:lnTo>
                      <a:pt x="1178" y="56"/>
                    </a:lnTo>
                    <a:lnTo>
                      <a:pt x="1169" y="56"/>
                    </a:lnTo>
                    <a:lnTo>
                      <a:pt x="1160" y="57"/>
                    </a:lnTo>
                    <a:lnTo>
                      <a:pt x="1150" y="57"/>
                    </a:lnTo>
                    <a:lnTo>
                      <a:pt x="1141" y="57"/>
                    </a:lnTo>
                    <a:lnTo>
                      <a:pt x="1132" y="57"/>
                    </a:lnTo>
                    <a:lnTo>
                      <a:pt x="1122" y="57"/>
                    </a:lnTo>
                    <a:lnTo>
                      <a:pt x="1113" y="56"/>
                    </a:lnTo>
                    <a:lnTo>
                      <a:pt x="1104" y="56"/>
                    </a:lnTo>
                    <a:lnTo>
                      <a:pt x="1095" y="56"/>
                    </a:lnTo>
                    <a:lnTo>
                      <a:pt x="1085" y="55"/>
                    </a:lnTo>
                    <a:lnTo>
                      <a:pt x="1076" y="55"/>
                    </a:lnTo>
                    <a:lnTo>
                      <a:pt x="1067" y="55"/>
                    </a:lnTo>
                    <a:lnTo>
                      <a:pt x="1057" y="54"/>
                    </a:lnTo>
                    <a:lnTo>
                      <a:pt x="1048" y="54"/>
                    </a:lnTo>
                    <a:lnTo>
                      <a:pt x="1039" y="53"/>
                    </a:lnTo>
                    <a:lnTo>
                      <a:pt x="1030" y="53"/>
                    </a:lnTo>
                    <a:lnTo>
                      <a:pt x="1020" y="53"/>
                    </a:lnTo>
                    <a:lnTo>
                      <a:pt x="1011" y="53"/>
                    </a:lnTo>
                    <a:lnTo>
                      <a:pt x="1002" y="53"/>
                    </a:lnTo>
                    <a:lnTo>
                      <a:pt x="992" y="53"/>
                    </a:lnTo>
                    <a:lnTo>
                      <a:pt x="983" y="53"/>
                    </a:lnTo>
                    <a:lnTo>
                      <a:pt x="974" y="53"/>
                    </a:lnTo>
                    <a:lnTo>
                      <a:pt x="965" y="53"/>
                    </a:lnTo>
                    <a:lnTo>
                      <a:pt x="955" y="53"/>
                    </a:lnTo>
                    <a:lnTo>
                      <a:pt x="946" y="53"/>
                    </a:lnTo>
                    <a:lnTo>
                      <a:pt x="937" y="53"/>
                    </a:lnTo>
                    <a:lnTo>
                      <a:pt x="928" y="53"/>
                    </a:lnTo>
                    <a:lnTo>
                      <a:pt x="918" y="53"/>
                    </a:lnTo>
                    <a:lnTo>
                      <a:pt x="909" y="53"/>
                    </a:lnTo>
                    <a:lnTo>
                      <a:pt x="900" y="53"/>
                    </a:lnTo>
                    <a:lnTo>
                      <a:pt x="890" y="53"/>
                    </a:lnTo>
                    <a:lnTo>
                      <a:pt x="881" y="53"/>
                    </a:lnTo>
                    <a:lnTo>
                      <a:pt x="872" y="53"/>
                    </a:lnTo>
                    <a:lnTo>
                      <a:pt x="863" y="53"/>
                    </a:lnTo>
                    <a:lnTo>
                      <a:pt x="853" y="53"/>
                    </a:lnTo>
                    <a:lnTo>
                      <a:pt x="844" y="53"/>
                    </a:lnTo>
                    <a:lnTo>
                      <a:pt x="835" y="54"/>
                    </a:lnTo>
                    <a:lnTo>
                      <a:pt x="825" y="54"/>
                    </a:lnTo>
                    <a:lnTo>
                      <a:pt x="816" y="54"/>
                    </a:lnTo>
                    <a:lnTo>
                      <a:pt x="807" y="54"/>
                    </a:lnTo>
                    <a:lnTo>
                      <a:pt x="798" y="54"/>
                    </a:lnTo>
                    <a:lnTo>
                      <a:pt x="788" y="54"/>
                    </a:lnTo>
                    <a:lnTo>
                      <a:pt x="779" y="54"/>
                    </a:lnTo>
                    <a:lnTo>
                      <a:pt x="770" y="54"/>
                    </a:lnTo>
                    <a:lnTo>
                      <a:pt x="760" y="54"/>
                    </a:lnTo>
                    <a:lnTo>
                      <a:pt x="751" y="54"/>
                    </a:lnTo>
                    <a:lnTo>
                      <a:pt x="742" y="54"/>
                    </a:lnTo>
                    <a:lnTo>
                      <a:pt x="733" y="54"/>
                    </a:lnTo>
                    <a:lnTo>
                      <a:pt x="723" y="54"/>
                    </a:lnTo>
                    <a:lnTo>
                      <a:pt x="714" y="54"/>
                    </a:lnTo>
                    <a:lnTo>
                      <a:pt x="705" y="54"/>
                    </a:lnTo>
                    <a:lnTo>
                      <a:pt x="696" y="55"/>
                    </a:lnTo>
                    <a:lnTo>
                      <a:pt x="686" y="55"/>
                    </a:lnTo>
                    <a:lnTo>
                      <a:pt x="677" y="55"/>
                    </a:lnTo>
                    <a:lnTo>
                      <a:pt x="668" y="55"/>
                    </a:lnTo>
                    <a:lnTo>
                      <a:pt x="658" y="55"/>
                    </a:lnTo>
                    <a:lnTo>
                      <a:pt x="649" y="55"/>
                    </a:lnTo>
                    <a:lnTo>
                      <a:pt x="640" y="55"/>
                    </a:lnTo>
                    <a:lnTo>
                      <a:pt x="631" y="55"/>
                    </a:lnTo>
                    <a:lnTo>
                      <a:pt x="621" y="55"/>
                    </a:lnTo>
                    <a:lnTo>
                      <a:pt x="612" y="55"/>
                    </a:lnTo>
                    <a:lnTo>
                      <a:pt x="603" y="55"/>
                    </a:lnTo>
                    <a:lnTo>
                      <a:pt x="593" y="55"/>
                    </a:lnTo>
                    <a:lnTo>
                      <a:pt x="584" y="55"/>
                    </a:lnTo>
                    <a:lnTo>
                      <a:pt x="575" y="55"/>
                    </a:lnTo>
                    <a:lnTo>
                      <a:pt x="566" y="55"/>
                    </a:lnTo>
                    <a:lnTo>
                      <a:pt x="556" y="55"/>
                    </a:lnTo>
                    <a:lnTo>
                      <a:pt x="547" y="55"/>
                    </a:lnTo>
                    <a:lnTo>
                      <a:pt x="538" y="55"/>
                    </a:lnTo>
                    <a:lnTo>
                      <a:pt x="528" y="55"/>
                    </a:lnTo>
                    <a:lnTo>
                      <a:pt x="519" y="56"/>
                    </a:lnTo>
                    <a:lnTo>
                      <a:pt x="510" y="56"/>
                    </a:lnTo>
                    <a:lnTo>
                      <a:pt x="501" y="56"/>
                    </a:lnTo>
                    <a:lnTo>
                      <a:pt x="491" y="56"/>
                    </a:lnTo>
                    <a:lnTo>
                      <a:pt x="482" y="56"/>
                    </a:lnTo>
                    <a:lnTo>
                      <a:pt x="473" y="56"/>
                    </a:lnTo>
                    <a:lnTo>
                      <a:pt x="464" y="56"/>
                    </a:lnTo>
                    <a:lnTo>
                      <a:pt x="454" y="56"/>
                    </a:lnTo>
                    <a:lnTo>
                      <a:pt x="445" y="56"/>
                    </a:lnTo>
                    <a:lnTo>
                      <a:pt x="436" y="56"/>
                    </a:lnTo>
                    <a:lnTo>
                      <a:pt x="426" y="56"/>
                    </a:lnTo>
                    <a:lnTo>
                      <a:pt x="417" y="56"/>
                    </a:lnTo>
                    <a:lnTo>
                      <a:pt x="408" y="56"/>
                    </a:lnTo>
                    <a:lnTo>
                      <a:pt x="399" y="56"/>
                    </a:lnTo>
                    <a:lnTo>
                      <a:pt x="389" y="56"/>
                    </a:lnTo>
                    <a:lnTo>
                      <a:pt x="380" y="56"/>
                    </a:lnTo>
                    <a:lnTo>
                      <a:pt x="371" y="56"/>
                    </a:lnTo>
                    <a:lnTo>
                      <a:pt x="361" y="56"/>
                    </a:lnTo>
                    <a:lnTo>
                      <a:pt x="352" y="56"/>
                    </a:lnTo>
                    <a:lnTo>
                      <a:pt x="343" y="56"/>
                    </a:lnTo>
                    <a:lnTo>
                      <a:pt x="334" y="56"/>
                    </a:lnTo>
                    <a:lnTo>
                      <a:pt x="324" y="56"/>
                    </a:lnTo>
                    <a:lnTo>
                      <a:pt x="315" y="56"/>
                    </a:lnTo>
                    <a:lnTo>
                      <a:pt x="306" y="56"/>
                    </a:lnTo>
                    <a:lnTo>
                      <a:pt x="296" y="56"/>
                    </a:lnTo>
                    <a:lnTo>
                      <a:pt x="287" y="56"/>
                    </a:lnTo>
                    <a:lnTo>
                      <a:pt x="278" y="56"/>
                    </a:lnTo>
                    <a:lnTo>
                      <a:pt x="269" y="56"/>
                    </a:lnTo>
                    <a:lnTo>
                      <a:pt x="259" y="56"/>
                    </a:lnTo>
                    <a:lnTo>
                      <a:pt x="250" y="56"/>
                    </a:lnTo>
                    <a:lnTo>
                      <a:pt x="241" y="56"/>
                    </a:lnTo>
                    <a:lnTo>
                      <a:pt x="232" y="56"/>
                    </a:lnTo>
                    <a:lnTo>
                      <a:pt x="222" y="57"/>
                    </a:lnTo>
                    <a:lnTo>
                      <a:pt x="213" y="57"/>
                    </a:lnTo>
                    <a:lnTo>
                      <a:pt x="204" y="57"/>
                    </a:lnTo>
                    <a:lnTo>
                      <a:pt x="194" y="57"/>
                    </a:lnTo>
                    <a:lnTo>
                      <a:pt x="185" y="57"/>
                    </a:lnTo>
                    <a:lnTo>
                      <a:pt x="176" y="57"/>
                    </a:lnTo>
                    <a:lnTo>
                      <a:pt x="167" y="57"/>
                    </a:lnTo>
                    <a:lnTo>
                      <a:pt x="157" y="57"/>
                    </a:lnTo>
                    <a:lnTo>
                      <a:pt x="148" y="57"/>
                    </a:lnTo>
                    <a:lnTo>
                      <a:pt x="139" y="57"/>
                    </a:lnTo>
                    <a:lnTo>
                      <a:pt x="129" y="57"/>
                    </a:lnTo>
                    <a:lnTo>
                      <a:pt x="120" y="57"/>
                    </a:lnTo>
                    <a:lnTo>
                      <a:pt x="111" y="57"/>
                    </a:lnTo>
                    <a:lnTo>
                      <a:pt x="102" y="57"/>
                    </a:lnTo>
                    <a:lnTo>
                      <a:pt x="92" y="57"/>
                    </a:lnTo>
                    <a:lnTo>
                      <a:pt x="83" y="57"/>
                    </a:lnTo>
                    <a:lnTo>
                      <a:pt x="74" y="57"/>
                    </a:lnTo>
                    <a:lnTo>
                      <a:pt x="64" y="57"/>
                    </a:lnTo>
                    <a:lnTo>
                      <a:pt x="55" y="57"/>
                    </a:lnTo>
                    <a:lnTo>
                      <a:pt x="46" y="57"/>
                    </a:lnTo>
                    <a:lnTo>
                      <a:pt x="37" y="57"/>
                    </a:lnTo>
                    <a:lnTo>
                      <a:pt x="27" y="57"/>
                    </a:lnTo>
                    <a:lnTo>
                      <a:pt x="18" y="58"/>
                    </a:lnTo>
                    <a:lnTo>
                      <a:pt x="9" y="57"/>
                    </a:lnTo>
                    <a:lnTo>
                      <a:pt x="0" y="57"/>
                    </a:lnTo>
                    <a:close/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9" name="Freeform 324"/>
              <p:cNvSpPr/>
              <p:nvPr/>
            </p:nvSpPr>
            <p:spPr>
              <a:xfrm>
                <a:off x="434520" y="2967480"/>
                <a:ext cx="2310120" cy="141840"/>
              </a:xfrm>
              <a:custGeom>
                <a:avLst/>
                <a:gdLst>
                  <a:gd name="textAreaLeft" fmla="*/ 0 w 2310120"/>
                  <a:gd name="textAreaRight" fmla="*/ 2310480 w 2310120"/>
                  <a:gd name="textAreaTop" fmla="*/ 0 h 141840"/>
                  <a:gd name="textAreaBottom" fmla="*/ 142200 h 141840"/>
                </a:gdLst>
                <a:ahLst/>
                <a:rect l="textAreaLeft" t="textAreaTop" r="textAreaRight" b="textAreaBottom"/>
                <a:pathLst>
                  <a:path w="1447" h="58">
                    <a:moveTo>
                      <a:pt x="0" y="57"/>
                    </a:moveTo>
                    <a:lnTo>
                      <a:pt x="9" y="57"/>
                    </a:lnTo>
                    <a:lnTo>
                      <a:pt x="18" y="57"/>
                    </a:lnTo>
                    <a:lnTo>
                      <a:pt x="27" y="57"/>
                    </a:lnTo>
                    <a:lnTo>
                      <a:pt x="37" y="57"/>
                    </a:lnTo>
                    <a:lnTo>
                      <a:pt x="46" y="56"/>
                    </a:lnTo>
                    <a:lnTo>
                      <a:pt x="55" y="56"/>
                    </a:lnTo>
                    <a:lnTo>
                      <a:pt x="64" y="56"/>
                    </a:lnTo>
                    <a:lnTo>
                      <a:pt x="74" y="56"/>
                    </a:lnTo>
                    <a:lnTo>
                      <a:pt x="83" y="56"/>
                    </a:lnTo>
                    <a:lnTo>
                      <a:pt x="92" y="56"/>
                    </a:lnTo>
                    <a:lnTo>
                      <a:pt x="102" y="56"/>
                    </a:lnTo>
                    <a:lnTo>
                      <a:pt x="111" y="56"/>
                    </a:lnTo>
                    <a:lnTo>
                      <a:pt x="120" y="56"/>
                    </a:lnTo>
                    <a:lnTo>
                      <a:pt x="129" y="55"/>
                    </a:lnTo>
                    <a:lnTo>
                      <a:pt x="139" y="55"/>
                    </a:lnTo>
                    <a:lnTo>
                      <a:pt x="148" y="55"/>
                    </a:lnTo>
                    <a:lnTo>
                      <a:pt x="157" y="55"/>
                    </a:lnTo>
                    <a:lnTo>
                      <a:pt x="167" y="55"/>
                    </a:lnTo>
                    <a:lnTo>
                      <a:pt x="176" y="55"/>
                    </a:lnTo>
                    <a:lnTo>
                      <a:pt x="185" y="55"/>
                    </a:lnTo>
                    <a:lnTo>
                      <a:pt x="194" y="54"/>
                    </a:lnTo>
                    <a:lnTo>
                      <a:pt x="204" y="54"/>
                    </a:lnTo>
                    <a:lnTo>
                      <a:pt x="213" y="54"/>
                    </a:lnTo>
                    <a:lnTo>
                      <a:pt x="222" y="54"/>
                    </a:lnTo>
                    <a:lnTo>
                      <a:pt x="232" y="54"/>
                    </a:lnTo>
                    <a:lnTo>
                      <a:pt x="241" y="54"/>
                    </a:lnTo>
                    <a:lnTo>
                      <a:pt x="250" y="54"/>
                    </a:lnTo>
                    <a:lnTo>
                      <a:pt x="259" y="54"/>
                    </a:lnTo>
                    <a:lnTo>
                      <a:pt x="269" y="54"/>
                    </a:lnTo>
                    <a:lnTo>
                      <a:pt x="278" y="53"/>
                    </a:lnTo>
                    <a:lnTo>
                      <a:pt x="287" y="53"/>
                    </a:lnTo>
                    <a:lnTo>
                      <a:pt x="296" y="53"/>
                    </a:lnTo>
                    <a:lnTo>
                      <a:pt x="306" y="52"/>
                    </a:lnTo>
                    <a:lnTo>
                      <a:pt x="315" y="52"/>
                    </a:lnTo>
                    <a:lnTo>
                      <a:pt x="324" y="52"/>
                    </a:lnTo>
                    <a:lnTo>
                      <a:pt x="334" y="52"/>
                    </a:lnTo>
                    <a:lnTo>
                      <a:pt x="343" y="52"/>
                    </a:lnTo>
                    <a:lnTo>
                      <a:pt x="352" y="52"/>
                    </a:lnTo>
                    <a:lnTo>
                      <a:pt x="361" y="52"/>
                    </a:lnTo>
                    <a:lnTo>
                      <a:pt x="371" y="51"/>
                    </a:lnTo>
                    <a:lnTo>
                      <a:pt x="380" y="51"/>
                    </a:lnTo>
                    <a:lnTo>
                      <a:pt x="389" y="51"/>
                    </a:lnTo>
                    <a:lnTo>
                      <a:pt x="399" y="51"/>
                    </a:lnTo>
                    <a:lnTo>
                      <a:pt x="408" y="51"/>
                    </a:lnTo>
                    <a:lnTo>
                      <a:pt x="417" y="51"/>
                    </a:lnTo>
                    <a:lnTo>
                      <a:pt x="426" y="50"/>
                    </a:lnTo>
                    <a:lnTo>
                      <a:pt x="436" y="50"/>
                    </a:lnTo>
                    <a:lnTo>
                      <a:pt x="445" y="50"/>
                    </a:lnTo>
                    <a:lnTo>
                      <a:pt x="454" y="49"/>
                    </a:lnTo>
                    <a:lnTo>
                      <a:pt x="464" y="49"/>
                    </a:lnTo>
                    <a:lnTo>
                      <a:pt x="473" y="49"/>
                    </a:lnTo>
                    <a:lnTo>
                      <a:pt x="482" y="48"/>
                    </a:lnTo>
                    <a:lnTo>
                      <a:pt x="491" y="48"/>
                    </a:lnTo>
                    <a:lnTo>
                      <a:pt x="501" y="48"/>
                    </a:lnTo>
                    <a:lnTo>
                      <a:pt x="510" y="47"/>
                    </a:lnTo>
                    <a:lnTo>
                      <a:pt x="519" y="46"/>
                    </a:lnTo>
                    <a:lnTo>
                      <a:pt x="528" y="45"/>
                    </a:lnTo>
                    <a:lnTo>
                      <a:pt x="538" y="46"/>
                    </a:lnTo>
                    <a:lnTo>
                      <a:pt x="547" y="45"/>
                    </a:lnTo>
                    <a:lnTo>
                      <a:pt x="556" y="45"/>
                    </a:lnTo>
                    <a:lnTo>
                      <a:pt x="566" y="45"/>
                    </a:lnTo>
                    <a:lnTo>
                      <a:pt x="575" y="44"/>
                    </a:lnTo>
                    <a:lnTo>
                      <a:pt x="584" y="43"/>
                    </a:lnTo>
                    <a:lnTo>
                      <a:pt x="593" y="44"/>
                    </a:lnTo>
                    <a:lnTo>
                      <a:pt x="603" y="44"/>
                    </a:lnTo>
                    <a:lnTo>
                      <a:pt x="612" y="43"/>
                    </a:lnTo>
                    <a:lnTo>
                      <a:pt x="621" y="43"/>
                    </a:lnTo>
                    <a:lnTo>
                      <a:pt x="631" y="43"/>
                    </a:lnTo>
                    <a:lnTo>
                      <a:pt x="640" y="44"/>
                    </a:lnTo>
                    <a:lnTo>
                      <a:pt x="649" y="43"/>
                    </a:lnTo>
                    <a:lnTo>
                      <a:pt x="658" y="45"/>
                    </a:lnTo>
                    <a:lnTo>
                      <a:pt x="668" y="44"/>
                    </a:lnTo>
                    <a:lnTo>
                      <a:pt x="677" y="42"/>
                    </a:lnTo>
                    <a:lnTo>
                      <a:pt x="686" y="43"/>
                    </a:lnTo>
                    <a:lnTo>
                      <a:pt x="696" y="42"/>
                    </a:lnTo>
                    <a:lnTo>
                      <a:pt x="705" y="43"/>
                    </a:lnTo>
                    <a:lnTo>
                      <a:pt x="714" y="42"/>
                    </a:lnTo>
                    <a:lnTo>
                      <a:pt x="723" y="41"/>
                    </a:lnTo>
                    <a:lnTo>
                      <a:pt x="733" y="41"/>
                    </a:lnTo>
                    <a:lnTo>
                      <a:pt x="742" y="42"/>
                    </a:lnTo>
                    <a:lnTo>
                      <a:pt x="751" y="43"/>
                    </a:lnTo>
                    <a:lnTo>
                      <a:pt x="760" y="44"/>
                    </a:lnTo>
                    <a:lnTo>
                      <a:pt x="770" y="44"/>
                    </a:lnTo>
                    <a:lnTo>
                      <a:pt x="779" y="43"/>
                    </a:lnTo>
                    <a:lnTo>
                      <a:pt x="788" y="42"/>
                    </a:lnTo>
                    <a:lnTo>
                      <a:pt x="798" y="41"/>
                    </a:lnTo>
                    <a:lnTo>
                      <a:pt x="807" y="40"/>
                    </a:lnTo>
                    <a:lnTo>
                      <a:pt x="816" y="41"/>
                    </a:lnTo>
                    <a:lnTo>
                      <a:pt x="825" y="40"/>
                    </a:lnTo>
                    <a:lnTo>
                      <a:pt x="835" y="39"/>
                    </a:lnTo>
                    <a:lnTo>
                      <a:pt x="844" y="38"/>
                    </a:lnTo>
                    <a:lnTo>
                      <a:pt x="853" y="38"/>
                    </a:lnTo>
                    <a:lnTo>
                      <a:pt x="863" y="37"/>
                    </a:lnTo>
                    <a:lnTo>
                      <a:pt x="872" y="38"/>
                    </a:lnTo>
                    <a:lnTo>
                      <a:pt x="881" y="41"/>
                    </a:lnTo>
                    <a:lnTo>
                      <a:pt x="890" y="41"/>
                    </a:lnTo>
                    <a:lnTo>
                      <a:pt x="900" y="39"/>
                    </a:lnTo>
                    <a:lnTo>
                      <a:pt x="909" y="38"/>
                    </a:lnTo>
                    <a:lnTo>
                      <a:pt x="918" y="39"/>
                    </a:lnTo>
                    <a:lnTo>
                      <a:pt x="928" y="38"/>
                    </a:lnTo>
                    <a:lnTo>
                      <a:pt x="937" y="37"/>
                    </a:lnTo>
                    <a:lnTo>
                      <a:pt x="946" y="37"/>
                    </a:lnTo>
                    <a:lnTo>
                      <a:pt x="955" y="37"/>
                    </a:lnTo>
                    <a:lnTo>
                      <a:pt x="965" y="37"/>
                    </a:lnTo>
                    <a:lnTo>
                      <a:pt x="974" y="36"/>
                    </a:lnTo>
                    <a:lnTo>
                      <a:pt x="983" y="35"/>
                    </a:lnTo>
                    <a:lnTo>
                      <a:pt x="992" y="34"/>
                    </a:lnTo>
                    <a:lnTo>
                      <a:pt x="1002" y="34"/>
                    </a:lnTo>
                    <a:lnTo>
                      <a:pt x="1011" y="33"/>
                    </a:lnTo>
                    <a:lnTo>
                      <a:pt x="1020" y="32"/>
                    </a:lnTo>
                    <a:lnTo>
                      <a:pt x="1030" y="32"/>
                    </a:lnTo>
                    <a:lnTo>
                      <a:pt x="1039" y="31"/>
                    </a:lnTo>
                    <a:lnTo>
                      <a:pt x="1048" y="30"/>
                    </a:lnTo>
                    <a:lnTo>
                      <a:pt x="1057" y="30"/>
                    </a:lnTo>
                    <a:lnTo>
                      <a:pt x="1067" y="32"/>
                    </a:lnTo>
                    <a:lnTo>
                      <a:pt x="1076" y="32"/>
                    </a:lnTo>
                    <a:lnTo>
                      <a:pt x="1085" y="33"/>
                    </a:lnTo>
                    <a:lnTo>
                      <a:pt x="1095" y="33"/>
                    </a:lnTo>
                    <a:lnTo>
                      <a:pt x="1104" y="33"/>
                    </a:lnTo>
                    <a:lnTo>
                      <a:pt x="1113" y="33"/>
                    </a:lnTo>
                    <a:lnTo>
                      <a:pt x="1122" y="34"/>
                    </a:lnTo>
                    <a:lnTo>
                      <a:pt x="1132" y="34"/>
                    </a:lnTo>
                    <a:lnTo>
                      <a:pt x="1141" y="33"/>
                    </a:lnTo>
                    <a:lnTo>
                      <a:pt x="1150" y="32"/>
                    </a:lnTo>
                    <a:lnTo>
                      <a:pt x="1160" y="32"/>
                    </a:lnTo>
                    <a:lnTo>
                      <a:pt x="1169" y="31"/>
                    </a:lnTo>
                    <a:lnTo>
                      <a:pt x="1178" y="30"/>
                    </a:lnTo>
                    <a:lnTo>
                      <a:pt x="1187" y="28"/>
                    </a:lnTo>
                    <a:lnTo>
                      <a:pt x="1197" y="27"/>
                    </a:lnTo>
                    <a:lnTo>
                      <a:pt x="1206" y="26"/>
                    </a:lnTo>
                    <a:lnTo>
                      <a:pt x="1215" y="26"/>
                    </a:lnTo>
                    <a:lnTo>
                      <a:pt x="1224" y="25"/>
                    </a:lnTo>
                    <a:lnTo>
                      <a:pt x="1234" y="24"/>
                    </a:lnTo>
                    <a:lnTo>
                      <a:pt x="1243" y="23"/>
                    </a:lnTo>
                    <a:lnTo>
                      <a:pt x="1252" y="21"/>
                    </a:lnTo>
                    <a:lnTo>
                      <a:pt x="1262" y="21"/>
                    </a:lnTo>
                    <a:lnTo>
                      <a:pt x="1271" y="19"/>
                    </a:lnTo>
                    <a:lnTo>
                      <a:pt x="1280" y="18"/>
                    </a:lnTo>
                    <a:lnTo>
                      <a:pt x="1289" y="18"/>
                    </a:lnTo>
                    <a:lnTo>
                      <a:pt x="1299" y="17"/>
                    </a:lnTo>
                    <a:lnTo>
                      <a:pt x="1308" y="17"/>
                    </a:lnTo>
                    <a:lnTo>
                      <a:pt x="1317" y="18"/>
                    </a:lnTo>
                    <a:lnTo>
                      <a:pt x="1327" y="18"/>
                    </a:lnTo>
                    <a:lnTo>
                      <a:pt x="1336" y="17"/>
                    </a:lnTo>
                    <a:lnTo>
                      <a:pt x="1345" y="16"/>
                    </a:lnTo>
                    <a:lnTo>
                      <a:pt x="1354" y="15"/>
                    </a:lnTo>
                    <a:lnTo>
                      <a:pt x="1364" y="15"/>
                    </a:lnTo>
                    <a:lnTo>
                      <a:pt x="1373" y="15"/>
                    </a:lnTo>
                    <a:lnTo>
                      <a:pt x="1382" y="15"/>
                    </a:lnTo>
                    <a:lnTo>
                      <a:pt x="1392" y="14"/>
                    </a:lnTo>
                    <a:lnTo>
                      <a:pt x="1401" y="14"/>
                    </a:lnTo>
                    <a:lnTo>
                      <a:pt x="1410" y="12"/>
                    </a:lnTo>
                    <a:lnTo>
                      <a:pt x="1419" y="9"/>
                    </a:lnTo>
                    <a:lnTo>
                      <a:pt x="1429" y="5"/>
                    </a:lnTo>
                    <a:lnTo>
                      <a:pt x="1438" y="3"/>
                    </a:lnTo>
                    <a:lnTo>
                      <a:pt x="1447" y="0"/>
                    </a:lnTo>
                    <a:lnTo>
                      <a:pt x="1447" y="49"/>
                    </a:lnTo>
                    <a:lnTo>
                      <a:pt x="1438" y="50"/>
                    </a:lnTo>
                    <a:lnTo>
                      <a:pt x="1429" y="50"/>
                    </a:lnTo>
                    <a:lnTo>
                      <a:pt x="1419" y="50"/>
                    </a:lnTo>
                    <a:lnTo>
                      <a:pt x="1410" y="51"/>
                    </a:lnTo>
                    <a:lnTo>
                      <a:pt x="1401" y="51"/>
                    </a:lnTo>
                    <a:lnTo>
                      <a:pt x="1392" y="51"/>
                    </a:lnTo>
                    <a:lnTo>
                      <a:pt x="1382" y="51"/>
                    </a:lnTo>
                    <a:lnTo>
                      <a:pt x="1373" y="51"/>
                    </a:lnTo>
                    <a:lnTo>
                      <a:pt x="1364" y="52"/>
                    </a:lnTo>
                    <a:lnTo>
                      <a:pt x="1354" y="52"/>
                    </a:lnTo>
                    <a:lnTo>
                      <a:pt x="1345" y="52"/>
                    </a:lnTo>
                    <a:lnTo>
                      <a:pt x="1336" y="52"/>
                    </a:lnTo>
                    <a:lnTo>
                      <a:pt x="1327" y="52"/>
                    </a:lnTo>
                    <a:lnTo>
                      <a:pt x="1317" y="52"/>
                    </a:lnTo>
                    <a:lnTo>
                      <a:pt x="1308" y="53"/>
                    </a:lnTo>
                    <a:lnTo>
                      <a:pt x="1299" y="53"/>
                    </a:lnTo>
                    <a:lnTo>
                      <a:pt x="1289" y="53"/>
                    </a:lnTo>
                    <a:lnTo>
                      <a:pt x="1280" y="53"/>
                    </a:lnTo>
                    <a:lnTo>
                      <a:pt x="1271" y="53"/>
                    </a:lnTo>
                    <a:lnTo>
                      <a:pt x="1262" y="54"/>
                    </a:lnTo>
                    <a:lnTo>
                      <a:pt x="1252" y="54"/>
                    </a:lnTo>
                    <a:lnTo>
                      <a:pt x="1243" y="54"/>
                    </a:lnTo>
                    <a:lnTo>
                      <a:pt x="1234" y="55"/>
                    </a:lnTo>
                    <a:lnTo>
                      <a:pt x="1224" y="55"/>
                    </a:lnTo>
                    <a:lnTo>
                      <a:pt x="1215" y="55"/>
                    </a:lnTo>
                    <a:lnTo>
                      <a:pt x="1206" y="55"/>
                    </a:lnTo>
                    <a:lnTo>
                      <a:pt x="1197" y="56"/>
                    </a:lnTo>
                    <a:lnTo>
                      <a:pt x="1187" y="56"/>
                    </a:lnTo>
                    <a:lnTo>
                      <a:pt x="1178" y="56"/>
                    </a:lnTo>
                    <a:lnTo>
                      <a:pt x="1169" y="56"/>
                    </a:lnTo>
                    <a:lnTo>
                      <a:pt x="1160" y="57"/>
                    </a:lnTo>
                    <a:lnTo>
                      <a:pt x="1150" y="57"/>
                    </a:lnTo>
                    <a:lnTo>
                      <a:pt x="1141" y="57"/>
                    </a:lnTo>
                    <a:lnTo>
                      <a:pt x="1132" y="57"/>
                    </a:lnTo>
                    <a:lnTo>
                      <a:pt x="1122" y="57"/>
                    </a:lnTo>
                    <a:lnTo>
                      <a:pt x="1113" y="56"/>
                    </a:lnTo>
                    <a:lnTo>
                      <a:pt x="1104" y="56"/>
                    </a:lnTo>
                    <a:lnTo>
                      <a:pt x="1095" y="56"/>
                    </a:lnTo>
                    <a:lnTo>
                      <a:pt x="1085" y="55"/>
                    </a:lnTo>
                    <a:lnTo>
                      <a:pt x="1076" y="55"/>
                    </a:lnTo>
                    <a:lnTo>
                      <a:pt x="1067" y="55"/>
                    </a:lnTo>
                    <a:lnTo>
                      <a:pt x="1057" y="54"/>
                    </a:lnTo>
                    <a:lnTo>
                      <a:pt x="1048" y="54"/>
                    </a:lnTo>
                    <a:lnTo>
                      <a:pt x="1039" y="53"/>
                    </a:lnTo>
                    <a:lnTo>
                      <a:pt x="1030" y="53"/>
                    </a:lnTo>
                    <a:lnTo>
                      <a:pt x="1020" y="53"/>
                    </a:lnTo>
                    <a:lnTo>
                      <a:pt x="1011" y="53"/>
                    </a:lnTo>
                    <a:lnTo>
                      <a:pt x="1002" y="53"/>
                    </a:lnTo>
                    <a:lnTo>
                      <a:pt x="992" y="53"/>
                    </a:lnTo>
                    <a:lnTo>
                      <a:pt x="983" y="53"/>
                    </a:lnTo>
                    <a:lnTo>
                      <a:pt x="974" y="53"/>
                    </a:lnTo>
                    <a:lnTo>
                      <a:pt x="965" y="53"/>
                    </a:lnTo>
                    <a:lnTo>
                      <a:pt x="955" y="53"/>
                    </a:lnTo>
                    <a:lnTo>
                      <a:pt x="946" y="53"/>
                    </a:lnTo>
                    <a:lnTo>
                      <a:pt x="937" y="53"/>
                    </a:lnTo>
                    <a:lnTo>
                      <a:pt x="928" y="53"/>
                    </a:lnTo>
                    <a:lnTo>
                      <a:pt x="918" y="53"/>
                    </a:lnTo>
                    <a:lnTo>
                      <a:pt x="909" y="53"/>
                    </a:lnTo>
                    <a:lnTo>
                      <a:pt x="900" y="53"/>
                    </a:lnTo>
                    <a:lnTo>
                      <a:pt x="890" y="53"/>
                    </a:lnTo>
                    <a:lnTo>
                      <a:pt x="881" y="53"/>
                    </a:lnTo>
                    <a:lnTo>
                      <a:pt x="872" y="53"/>
                    </a:lnTo>
                    <a:lnTo>
                      <a:pt x="863" y="53"/>
                    </a:lnTo>
                    <a:lnTo>
                      <a:pt x="853" y="53"/>
                    </a:lnTo>
                    <a:lnTo>
                      <a:pt x="844" y="53"/>
                    </a:lnTo>
                    <a:lnTo>
                      <a:pt x="835" y="54"/>
                    </a:lnTo>
                    <a:lnTo>
                      <a:pt x="825" y="54"/>
                    </a:lnTo>
                    <a:lnTo>
                      <a:pt x="816" y="54"/>
                    </a:lnTo>
                    <a:lnTo>
                      <a:pt x="807" y="54"/>
                    </a:lnTo>
                    <a:lnTo>
                      <a:pt x="798" y="54"/>
                    </a:lnTo>
                    <a:lnTo>
                      <a:pt x="788" y="54"/>
                    </a:lnTo>
                    <a:lnTo>
                      <a:pt x="779" y="54"/>
                    </a:lnTo>
                    <a:lnTo>
                      <a:pt x="770" y="54"/>
                    </a:lnTo>
                    <a:lnTo>
                      <a:pt x="760" y="54"/>
                    </a:lnTo>
                    <a:lnTo>
                      <a:pt x="751" y="54"/>
                    </a:lnTo>
                    <a:lnTo>
                      <a:pt x="742" y="54"/>
                    </a:lnTo>
                    <a:lnTo>
                      <a:pt x="733" y="54"/>
                    </a:lnTo>
                    <a:lnTo>
                      <a:pt x="723" y="54"/>
                    </a:lnTo>
                    <a:lnTo>
                      <a:pt x="714" y="54"/>
                    </a:lnTo>
                    <a:lnTo>
                      <a:pt x="705" y="54"/>
                    </a:lnTo>
                    <a:lnTo>
                      <a:pt x="696" y="55"/>
                    </a:lnTo>
                    <a:lnTo>
                      <a:pt x="686" y="55"/>
                    </a:lnTo>
                    <a:lnTo>
                      <a:pt x="677" y="55"/>
                    </a:lnTo>
                    <a:lnTo>
                      <a:pt x="668" y="55"/>
                    </a:lnTo>
                    <a:lnTo>
                      <a:pt x="658" y="55"/>
                    </a:lnTo>
                    <a:lnTo>
                      <a:pt x="649" y="55"/>
                    </a:lnTo>
                    <a:lnTo>
                      <a:pt x="640" y="55"/>
                    </a:lnTo>
                    <a:lnTo>
                      <a:pt x="631" y="55"/>
                    </a:lnTo>
                    <a:lnTo>
                      <a:pt x="621" y="55"/>
                    </a:lnTo>
                    <a:lnTo>
                      <a:pt x="612" y="55"/>
                    </a:lnTo>
                    <a:lnTo>
                      <a:pt x="603" y="55"/>
                    </a:lnTo>
                    <a:lnTo>
                      <a:pt x="593" y="55"/>
                    </a:lnTo>
                    <a:lnTo>
                      <a:pt x="584" y="55"/>
                    </a:lnTo>
                    <a:lnTo>
                      <a:pt x="575" y="55"/>
                    </a:lnTo>
                    <a:lnTo>
                      <a:pt x="566" y="55"/>
                    </a:lnTo>
                    <a:lnTo>
                      <a:pt x="556" y="55"/>
                    </a:lnTo>
                    <a:lnTo>
                      <a:pt x="547" y="55"/>
                    </a:lnTo>
                    <a:lnTo>
                      <a:pt x="538" y="55"/>
                    </a:lnTo>
                    <a:lnTo>
                      <a:pt x="528" y="55"/>
                    </a:lnTo>
                    <a:lnTo>
                      <a:pt x="519" y="56"/>
                    </a:lnTo>
                    <a:lnTo>
                      <a:pt x="510" y="56"/>
                    </a:lnTo>
                    <a:lnTo>
                      <a:pt x="501" y="56"/>
                    </a:lnTo>
                    <a:lnTo>
                      <a:pt x="491" y="56"/>
                    </a:lnTo>
                    <a:lnTo>
                      <a:pt x="482" y="56"/>
                    </a:lnTo>
                    <a:lnTo>
                      <a:pt x="473" y="56"/>
                    </a:lnTo>
                    <a:lnTo>
                      <a:pt x="464" y="56"/>
                    </a:lnTo>
                    <a:lnTo>
                      <a:pt x="454" y="56"/>
                    </a:lnTo>
                    <a:lnTo>
                      <a:pt x="445" y="56"/>
                    </a:lnTo>
                    <a:lnTo>
                      <a:pt x="436" y="56"/>
                    </a:lnTo>
                    <a:lnTo>
                      <a:pt x="426" y="56"/>
                    </a:lnTo>
                    <a:lnTo>
                      <a:pt x="417" y="56"/>
                    </a:lnTo>
                    <a:lnTo>
                      <a:pt x="408" y="56"/>
                    </a:lnTo>
                    <a:lnTo>
                      <a:pt x="399" y="56"/>
                    </a:lnTo>
                    <a:lnTo>
                      <a:pt x="389" y="56"/>
                    </a:lnTo>
                    <a:lnTo>
                      <a:pt x="380" y="56"/>
                    </a:lnTo>
                    <a:lnTo>
                      <a:pt x="371" y="56"/>
                    </a:lnTo>
                    <a:lnTo>
                      <a:pt x="361" y="56"/>
                    </a:lnTo>
                    <a:lnTo>
                      <a:pt x="352" y="56"/>
                    </a:lnTo>
                    <a:lnTo>
                      <a:pt x="343" y="56"/>
                    </a:lnTo>
                    <a:lnTo>
                      <a:pt x="334" y="56"/>
                    </a:lnTo>
                    <a:lnTo>
                      <a:pt x="324" y="56"/>
                    </a:lnTo>
                    <a:lnTo>
                      <a:pt x="315" y="56"/>
                    </a:lnTo>
                    <a:lnTo>
                      <a:pt x="306" y="56"/>
                    </a:lnTo>
                    <a:lnTo>
                      <a:pt x="296" y="56"/>
                    </a:lnTo>
                    <a:lnTo>
                      <a:pt x="287" y="56"/>
                    </a:lnTo>
                    <a:lnTo>
                      <a:pt x="278" y="56"/>
                    </a:lnTo>
                    <a:lnTo>
                      <a:pt x="269" y="56"/>
                    </a:lnTo>
                    <a:lnTo>
                      <a:pt x="259" y="56"/>
                    </a:lnTo>
                    <a:lnTo>
                      <a:pt x="250" y="56"/>
                    </a:lnTo>
                    <a:lnTo>
                      <a:pt x="241" y="56"/>
                    </a:lnTo>
                    <a:lnTo>
                      <a:pt x="232" y="56"/>
                    </a:lnTo>
                    <a:lnTo>
                      <a:pt x="222" y="57"/>
                    </a:lnTo>
                    <a:lnTo>
                      <a:pt x="213" y="57"/>
                    </a:lnTo>
                    <a:lnTo>
                      <a:pt x="204" y="57"/>
                    </a:lnTo>
                    <a:lnTo>
                      <a:pt x="194" y="57"/>
                    </a:lnTo>
                    <a:lnTo>
                      <a:pt x="185" y="57"/>
                    </a:lnTo>
                    <a:lnTo>
                      <a:pt x="176" y="57"/>
                    </a:lnTo>
                    <a:lnTo>
                      <a:pt x="167" y="57"/>
                    </a:lnTo>
                    <a:lnTo>
                      <a:pt x="157" y="57"/>
                    </a:lnTo>
                    <a:lnTo>
                      <a:pt x="148" y="57"/>
                    </a:lnTo>
                    <a:lnTo>
                      <a:pt x="139" y="57"/>
                    </a:lnTo>
                    <a:lnTo>
                      <a:pt x="129" y="57"/>
                    </a:lnTo>
                    <a:lnTo>
                      <a:pt x="120" y="57"/>
                    </a:lnTo>
                    <a:lnTo>
                      <a:pt x="111" y="57"/>
                    </a:lnTo>
                    <a:lnTo>
                      <a:pt x="102" y="57"/>
                    </a:lnTo>
                    <a:lnTo>
                      <a:pt x="92" y="57"/>
                    </a:lnTo>
                    <a:lnTo>
                      <a:pt x="83" y="57"/>
                    </a:lnTo>
                    <a:lnTo>
                      <a:pt x="74" y="57"/>
                    </a:lnTo>
                    <a:lnTo>
                      <a:pt x="64" y="57"/>
                    </a:lnTo>
                    <a:lnTo>
                      <a:pt x="55" y="57"/>
                    </a:lnTo>
                    <a:lnTo>
                      <a:pt x="46" y="57"/>
                    </a:lnTo>
                    <a:lnTo>
                      <a:pt x="37" y="57"/>
                    </a:lnTo>
                    <a:lnTo>
                      <a:pt x="27" y="57"/>
                    </a:lnTo>
                    <a:lnTo>
                      <a:pt x="18" y="58"/>
                    </a:lnTo>
                    <a:lnTo>
                      <a:pt x="9" y="57"/>
                    </a:lnTo>
                    <a:lnTo>
                      <a:pt x="0" y="57"/>
                    </a:lnTo>
                    <a:close/>
                  </a:path>
                </a:pathLst>
              </a:custGeom>
              <a:noFill/>
              <a:ln w="3175">
                <a:solidFill>
                  <a:srgbClr val="20202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0" name="Freeform 325"/>
              <p:cNvSpPr/>
              <p:nvPr/>
            </p:nvSpPr>
            <p:spPr>
              <a:xfrm>
                <a:off x="434520" y="3087720"/>
                <a:ext cx="2310120" cy="46440"/>
              </a:xfrm>
              <a:custGeom>
                <a:avLst/>
                <a:gdLst>
                  <a:gd name="textAreaLeft" fmla="*/ 0 w 2310120"/>
                  <a:gd name="textAreaRight" fmla="*/ 2310480 w 2310120"/>
                  <a:gd name="textAreaTop" fmla="*/ 0 h 46440"/>
                  <a:gd name="textAreaBottom" fmla="*/ 46800 h 46440"/>
                </a:gdLst>
                <a:ahLst/>
                <a:rect l="textAreaLeft" t="textAreaTop" r="textAreaRight" b="textAreaBottom"/>
                <a:pathLst>
                  <a:path w="1447" h="18">
                    <a:moveTo>
                      <a:pt x="0" y="8"/>
                    </a:moveTo>
                    <a:lnTo>
                      <a:pt x="9" y="8"/>
                    </a:lnTo>
                    <a:lnTo>
                      <a:pt x="18" y="8"/>
                    </a:lnTo>
                    <a:lnTo>
                      <a:pt x="27" y="8"/>
                    </a:lnTo>
                    <a:lnTo>
                      <a:pt x="37" y="8"/>
                    </a:lnTo>
                    <a:lnTo>
                      <a:pt x="46" y="8"/>
                    </a:lnTo>
                    <a:lnTo>
                      <a:pt x="55" y="8"/>
                    </a:lnTo>
                    <a:lnTo>
                      <a:pt x="64" y="8"/>
                    </a:lnTo>
                    <a:lnTo>
                      <a:pt x="74" y="8"/>
                    </a:lnTo>
                    <a:lnTo>
                      <a:pt x="83" y="8"/>
                    </a:lnTo>
                    <a:lnTo>
                      <a:pt x="92" y="8"/>
                    </a:lnTo>
                    <a:lnTo>
                      <a:pt x="102" y="7"/>
                    </a:lnTo>
                    <a:lnTo>
                      <a:pt x="111" y="7"/>
                    </a:lnTo>
                    <a:lnTo>
                      <a:pt x="120" y="7"/>
                    </a:lnTo>
                    <a:lnTo>
                      <a:pt x="129" y="7"/>
                    </a:lnTo>
                    <a:lnTo>
                      <a:pt x="139" y="7"/>
                    </a:lnTo>
                    <a:lnTo>
                      <a:pt x="148" y="7"/>
                    </a:lnTo>
                    <a:lnTo>
                      <a:pt x="157" y="7"/>
                    </a:lnTo>
                    <a:lnTo>
                      <a:pt x="167" y="7"/>
                    </a:lnTo>
                    <a:lnTo>
                      <a:pt x="176" y="7"/>
                    </a:lnTo>
                    <a:lnTo>
                      <a:pt x="185" y="7"/>
                    </a:lnTo>
                    <a:lnTo>
                      <a:pt x="194" y="7"/>
                    </a:lnTo>
                    <a:lnTo>
                      <a:pt x="204" y="7"/>
                    </a:lnTo>
                    <a:lnTo>
                      <a:pt x="213" y="7"/>
                    </a:lnTo>
                    <a:lnTo>
                      <a:pt x="222" y="7"/>
                    </a:lnTo>
                    <a:lnTo>
                      <a:pt x="232" y="7"/>
                    </a:lnTo>
                    <a:lnTo>
                      <a:pt x="241" y="7"/>
                    </a:lnTo>
                    <a:lnTo>
                      <a:pt x="250" y="7"/>
                    </a:lnTo>
                    <a:lnTo>
                      <a:pt x="259" y="7"/>
                    </a:lnTo>
                    <a:lnTo>
                      <a:pt x="269" y="7"/>
                    </a:lnTo>
                    <a:lnTo>
                      <a:pt x="278" y="7"/>
                    </a:lnTo>
                    <a:lnTo>
                      <a:pt x="287" y="7"/>
                    </a:lnTo>
                    <a:lnTo>
                      <a:pt x="296" y="7"/>
                    </a:lnTo>
                    <a:lnTo>
                      <a:pt x="306" y="7"/>
                    </a:lnTo>
                    <a:lnTo>
                      <a:pt x="315" y="7"/>
                    </a:lnTo>
                    <a:lnTo>
                      <a:pt x="324" y="7"/>
                    </a:lnTo>
                    <a:lnTo>
                      <a:pt x="334" y="7"/>
                    </a:lnTo>
                    <a:lnTo>
                      <a:pt x="343" y="7"/>
                    </a:lnTo>
                    <a:lnTo>
                      <a:pt x="352" y="6"/>
                    </a:lnTo>
                    <a:lnTo>
                      <a:pt x="361" y="6"/>
                    </a:lnTo>
                    <a:lnTo>
                      <a:pt x="371" y="6"/>
                    </a:lnTo>
                    <a:lnTo>
                      <a:pt x="380" y="6"/>
                    </a:lnTo>
                    <a:lnTo>
                      <a:pt x="389" y="6"/>
                    </a:lnTo>
                    <a:lnTo>
                      <a:pt x="399" y="6"/>
                    </a:lnTo>
                    <a:lnTo>
                      <a:pt x="408" y="6"/>
                    </a:lnTo>
                    <a:lnTo>
                      <a:pt x="417" y="6"/>
                    </a:lnTo>
                    <a:lnTo>
                      <a:pt x="426" y="6"/>
                    </a:lnTo>
                    <a:lnTo>
                      <a:pt x="436" y="6"/>
                    </a:lnTo>
                    <a:lnTo>
                      <a:pt x="445" y="6"/>
                    </a:lnTo>
                    <a:lnTo>
                      <a:pt x="454" y="6"/>
                    </a:lnTo>
                    <a:lnTo>
                      <a:pt x="464" y="6"/>
                    </a:lnTo>
                    <a:lnTo>
                      <a:pt x="473" y="6"/>
                    </a:lnTo>
                    <a:lnTo>
                      <a:pt x="482" y="6"/>
                    </a:lnTo>
                    <a:lnTo>
                      <a:pt x="491" y="6"/>
                    </a:lnTo>
                    <a:lnTo>
                      <a:pt x="501" y="6"/>
                    </a:lnTo>
                    <a:lnTo>
                      <a:pt x="510" y="6"/>
                    </a:lnTo>
                    <a:lnTo>
                      <a:pt x="519" y="6"/>
                    </a:lnTo>
                    <a:lnTo>
                      <a:pt x="528" y="6"/>
                    </a:lnTo>
                    <a:lnTo>
                      <a:pt x="538" y="6"/>
                    </a:lnTo>
                    <a:lnTo>
                      <a:pt x="547" y="6"/>
                    </a:lnTo>
                    <a:lnTo>
                      <a:pt x="556" y="6"/>
                    </a:lnTo>
                    <a:lnTo>
                      <a:pt x="566" y="6"/>
                    </a:lnTo>
                    <a:lnTo>
                      <a:pt x="575" y="6"/>
                    </a:lnTo>
                    <a:lnTo>
                      <a:pt x="584" y="6"/>
                    </a:lnTo>
                    <a:lnTo>
                      <a:pt x="593" y="6"/>
                    </a:lnTo>
                    <a:lnTo>
                      <a:pt x="603" y="5"/>
                    </a:lnTo>
                    <a:lnTo>
                      <a:pt x="612" y="5"/>
                    </a:lnTo>
                    <a:lnTo>
                      <a:pt x="621" y="5"/>
                    </a:lnTo>
                    <a:lnTo>
                      <a:pt x="631" y="5"/>
                    </a:lnTo>
                    <a:lnTo>
                      <a:pt x="640" y="5"/>
                    </a:lnTo>
                    <a:lnTo>
                      <a:pt x="649" y="5"/>
                    </a:lnTo>
                    <a:lnTo>
                      <a:pt x="658" y="5"/>
                    </a:lnTo>
                    <a:lnTo>
                      <a:pt x="668" y="5"/>
                    </a:lnTo>
                    <a:lnTo>
                      <a:pt x="677" y="5"/>
                    </a:lnTo>
                    <a:lnTo>
                      <a:pt x="686" y="5"/>
                    </a:lnTo>
                    <a:lnTo>
                      <a:pt x="696" y="5"/>
                    </a:lnTo>
                    <a:lnTo>
                      <a:pt x="705" y="5"/>
                    </a:lnTo>
                    <a:lnTo>
                      <a:pt x="714" y="5"/>
                    </a:lnTo>
                    <a:lnTo>
                      <a:pt x="723" y="5"/>
                    </a:lnTo>
                    <a:lnTo>
                      <a:pt x="733" y="5"/>
                    </a:lnTo>
                    <a:lnTo>
                      <a:pt x="742" y="5"/>
                    </a:lnTo>
                    <a:lnTo>
                      <a:pt x="751" y="5"/>
                    </a:lnTo>
                    <a:lnTo>
                      <a:pt x="760" y="4"/>
                    </a:lnTo>
                    <a:lnTo>
                      <a:pt x="770" y="4"/>
                    </a:lnTo>
                    <a:lnTo>
                      <a:pt x="779" y="4"/>
                    </a:lnTo>
                    <a:lnTo>
                      <a:pt x="788" y="4"/>
                    </a:lnTo>
                    <a:lnTo>
                      <a:pt x="798" y="4"/>
                    </a:lnTo>
                    <a:lnTo>
                      <a:pt x="807" y="4"/>
                    </a:lnTo>
                    <a:lnTo>
                      <a:pt x="816" y="4"/>
                    </a:lnTo>
                    <a:lnTo>
                      <a:pt x="825" y="4"/>
                    </a:lnTo>
                    <a:lnTo>
                      <a:pt x="835" y="4"/>
                    </a:lnTo>
                    <a:lnTo>
                      <a:pt x="844" y="4"/>
                    </a:lnTo>
                    <a:lnTo>
                      <a:pt x="853" y="4"/>
                    </a:lnTo>
                    <a:lnTo>
                      <a:pt x="863" y="4"/>
                    </a:lnTo>
                    <a:lnTo>
                      <a:pt x="872" y="4"/>
                    </a:lnTo>
                    <a:lnTo>
                      <a:pt x="881" y="4"/>
                    </a:lnTo>
                    <a:lnTo>
                      <a:pt x="890" y="3"/>
                    </a:lnTo>
                    <a:lnTo>
                      <a:pt x="900" y="3"/>
                    </a:lnTo>
                    <a:lnTo>
                      <a:pt x="909" y="3"/>
                    </a:lnTo>
                    <a:lnTo>
                      <a:pt x="918" y="3"/>
                    </a:lnTo>
                    <a:lnTo>
                      <a:pt x="928" y="3"/>
                    </a:lnTo>
                    <a:lnTo>
                      <a:pt x="937" y="3"/>
                    </a:lnTo>
                    <a:lnTo>
                      <a:pt x="946" y="3"/>
                    </a:lnTo>
                    <a:lnTo>
                      <a:pt x="955" y="3"/>
                    </a:lnTo>
                    <a:lnTo>
                      <a:pt x="965" y="3"/>
                    </a:lnTo>
                    <a:lnTo>
                      <a:pt x="974" y="3"/>
                    </a:lnTo>
                    <a:lnTo>
                      <a:pt x="983" y="3"/>
                    </a:lnTo>
                    <a:lnTo>
                      <a:pt x="992" y="3"/>
                    </a:lnTo>
                    <a:lnTo>
                      <a:pt x="1002" y="3"/>
                    </a:lnTo>
                    <a:lnTo>
                      <a:pt x="1011" y="3"/>
                    </a:lnTo>
                    <a:lnTo>
                      <a:pt x="1020" y="4"/>
                    </a:lnTo>
                    <a:lnTo>
                      <a:pt x="1030" y="4"/>
                    </a:lnTo>
                    <a:lnTo>
                      <a:pt x="1039" y="4"/>
                    </a:lnTo>
                    <a:lnTo>
                      <a:pt x="1048" y="4"/>
                    </a:lnTo>
                    <a:lnTo>
                      <a:pt x="1057" y="5"/>
                    </a:lnTo>
                    <a:lnTo>
                      <a:pt x="1067" y="5"/>
                    </a:lnTo>
                    <a:lnTo>
                      <a:pt x="1076" y="5"/>
                    </a:lnTo>
                    <a:lnTo>
                      <a:pt x="1085" y="6"/>
                    </a:lnTo>
                    <a:lnTo>
                      <a:pt x="1095" y="6"/>
                    </a:lnTo>
                    <a:lnTo>
                      <a:pt x="1104" y="6"/>
                    </a:lnTo>
                    <a:lnTo>
                      <a:pt x="1113" y="7"/>
                    </a:lnTo>
                    <a:lnTo>
                      <a:pt x="1122" y="8"/>
                    </a:lnTo>
                    <a:lnTo>
                      <a:pt x="1132" y="7"/>
                    </a:lnTo>
                    <a:lnTo>
                      <a:pt x="1141" y="7"/>
                    </a:lnTo>
                    <a:lnTo>
                      <a:pt x="1150" y="7"/>
                    </a:lnTo>
                    <a:lnTo>
                      <a:pt x="1160" y="7"/>
                    </a:lnTo>
                    <a:lnTo>
                      <a:pt x="1169" y="7"/>
                    </a:lnTo>
                    <a:lnTo>
                      <a:pt x="1178" y="6"/>
                    </a:lnTo>
                    <a:lnTo>
                      <a:pt x="1187" y="6"/>
                    </a:lnTo>
                    <a:lnTo>
                      <a:pt x="1197" y="6"/>
                    </a:lnTo>
                    <a:lnTo>
                      <a:pt x="1206" y="6"/>
                    </a:lnTo>
                    <a:lnTo>
                      <a:pt x="1215" y="5"/>
                    </a:lnTo>
                    <a:lnTo>
                      <a:pt x="1224" y="5"/>
                    </a:lnTo>
                    <a:lnTo>
                      <a:pt x="1234" y="5"/>
                    </a:lnTo>
                    <a:lnTo>
                      <a:pt x="1243" y="4"/>
                    </a:lnTo>
                    <a:lnTo>
                      <a:pt x="1252" y="4"/>
                    </a:lnTo>
                    <a:lnTo>
                      <a:pt x="1262" y="4"/>
                    </a:lnTo>
                    <a:lnTo>
                      <a:pt x="1271" y="4"/>
                    </a:lnTo>
                    <a:lnTo>
                      <a:pt x="1280" y="4"/>
                    </a:lnTo>
                    <a:lnTo>
                      <a:pt x="1289" y="3"/>
                    </a:lnTo>
                    <a:lnTo>
                      <a:pt x="1299" y="3"/>
                    </a:lnTo>
                    <a:lnTo>
                      <a:pt x="1308" y="3"/>
                    </a:lnTo>
                    <a:lnTo>
                      <a:pt x="1317" y="3"/>
                    </a:lnTo>
                    <a:lnTo>
                      <a:pt x="1327" y="3"/>
                    </a:lnTo>
                    <a:lnTo>
                      <a:pt x="1336" y="3"/>
                    </a:lnTo>
                    <a:lnTo>
                      <a:pt x="1345" y="2"/>
                    </a:lnTo>
                    <a:lnTo>
                      <a:pt x="1354" y="2"/>
                    </a:lnTo>
                    <a:lnTo>
                      <a:pt x="1364" y="2"/>
                    </a:lnTo>
                    <a:lnTo>
                      <a:pt x="1373" y="2"/>
                    </a:lnTo>
                    <a:lnTo>
                      <a:pt x="1382" y="2"/>
                    </a:lnTo>
                    <a:lnTo>
                      <a:pt x="1392" y="1"/>
                    </a:lnTo>
                    <a:lnTo>
                      <a:pt x="1401" y="1"/>
                    </a:lnTo>
                    <a:lnTo>
                      <a:pt x="1410" y="1"/>
                    </a:lnTo>
                    <a:lnTo>
                      <a:pt x="1419" y="1"/>
                    </a:lnTo>
                    <a:lnTo>
                      <a:pt x="1429" y="0"/>
                    </a:lnTo>
                    <a:lnTo>
                      <a:pt x="1438" y="0"/>
                    </a:lnTo>
                    <a:lnTo>
                      <a:pt x="1447" y="0"/>
                    </a:lnTo>
                    <a:lnTo>
                      <a:pt x="1447" y="18"/>
                    </a:lnTo>
                    <a:lnTo>
                      <a:pt x="1438" y="18"/>
                    </a:lnTo>
                    <a:lnTo>
                      <a:pt x="1429" y="18"/>
                    </a:lnTo>
                    <a:lnTo>
                      <a:pt x="1419" y="18"/>
                    </a:lnTo>
                    <a:lnTo>
                      <a:pt x="1410" y="18"/>
                    </a:lnTo>
                    <a:lnTo>
                      <a:pt x="1401" y="18"/>
                    </a:lnTo>
                    <a:lnTo>
                      <a:pt x="1392" y="18"/>
                    </a:lnTo>
                    <a:lnTo>
                      <a:pt x="1382" y="18"/>
                    </a:lnTo>
                    <a:lnTo>
                      <a:pt x="1373" y="18"/>
                    </a:lnTo>
                    <a:lnTo>
                      <a:pt x="1364" y="18"/>
                    </a:lnTo>
                    <a:lnTo>
                      <a:pt x="1354" y="18"/>
                    </a:lnTo>
                    <a:lnTo>
                      <a:pt x="1345" y="18"/>
                    </a:lnTo>
                    <a:lnTo>
                      <a:pt x="1336" y="18"/>
                    </a:lnTo>
                    <a:lnTo>
                      <a:pt x="1327" y="18"/>
                    </a:lnTo>
                    <a:lnTo>
                      <a:pt x="1317" y="18"/>
                    </a:lnTo>
                    <a:lnTo>
                      <a:pt x="1308" y="18"/>
                    </a:lnTo>
                    <a:lnTo>
                      <a:pt x="1299" y="18"/>
                    </a:lnTo>
                    <a:lnTo>
                      <a:pt x="1289" y="18"/>
                    </a:lnTo>
                    <a:lnTo>
                      <a:pt x="1280" y="18"/>
                    </a:lnTo>
                    <a:lnTo>
                      <a:pt x="1271" y="18"/>
                    </a:lnTo>
                    <a:lnTo>
                      <a:pt x="1262" y="18"/>
                    </a:lnTo>
                    <a:lnTo>
                      <a:pt x="1252" y="18"/>
                    </a:lnTo>
                    <a:lnTo>
                      <a:pt x="1243" y="18"/>
                    </a:lnTo>
                    <a:lnTo>
                      <a:pt x="1234" y="18"/>
                    </a:lnTo>
                    <a:lnTo>
                      <a:pt x="1224" y="18"/>
                    </a:lnTo>
                    <a:lnTo>
                      <a:pt x="1215" y="18"/>
                    </a:lnTo>
                    <a:lnTo>
                      <a:pt x="1206" y="18"/>
                    </a:lnTo>
                    <a:lnTo>
                      <a:pt x="1197" y="18"/>
                    </a:lnTo>
                    <a:lnTo>
                      <a:pt x="1187" y="18"/>
                    </a:lnTo>
                    <a:lnTo>
                      <a:pt x="1178" y="18"/>
                    </a:lnTo>
                    <a:lnTo>
                      <a:pt x="1169" y="18"/>
                    </a:lnTo>
                    <a:lnTo>
                      <a:pt x="1160" y="18"/>
                    </a:lnTo>
                    <a:lnTo>
                      <a:pt x="1150" y="18"/>
                    </a:lnTo>
                    <a:lnTo>
                      <a:pt x="1141" y="18"/>
                    </a:lnTo>
                    <a:lnTo>
                      <a:pt x="1132" y="18"/>
                    </a:lnTo>
                    <a:lnTo>
                      <a:pt x="1122" y="18"/>
                    </a:lnTo>
                    <a:lnTo>
                      <a:pt x="1113" y="18"/>
                    </a:lnTo>
                    <a:lnTo>
                      <a:pt x="1104" y="18"/>
                    </a:lnTo>
                    <a:lnTo>
                      <a:pt x="1095" y="18"/>
                    </a:lnTo>
                    <a:lnTo>
                      <a:pt x="1085" y="18"/>
                    </a:lnTo>
                    <a:lnTo>
                      <a:pt x="1076" y="18"/>
                    </a:lnTo>
                    <a:lnTo>
                      <a:pt x="1067" y="18"/>
                    </a:lnTo>
                    <a:lnTo>
                      <a:pt x="1057" y="18"/>
                    </a:lnTo>
                    <a:lnTo>
                      <a:pt x="1048" y="18"/>
                    </a:lnTo>
                    <a:lnTo>
                      <a:pt x="1039" y="18"/>
                    </a:lnTo>
                    <a:lnTo>
                      <a:pt x="1030" y="18"/>
                    </a:lnTo>
                    <a:lnTo>
                      <a:pt x="1020" y="18"/>
                    </a:lnTo>
                    <a:lnTo>
                      <a:pt x="1011" y="18"/>
                    </a:lnTo>
                    <a:lnTo>
                      <a:pt x="1002" y="18"/>
                    </a:lnTo>
                    <a:lnTo>
                      <a:pt x="992" y="18"/>
                    </a:lnTo>
                    <a:lnTo>
                      <a:pt x="983" y="18"/>
                    </a:lnTo>
                    <a:lnTo>
                      <a:pt x="974" y="18"/>
                    </a:lnTo>
                    <a:lnTo>
                      <a:pt x="965" y="18"/>
                    </a:lnTo>
                    <a:lnTo>
                      <a:pt x="955" y="18"/>
                    </a:lnTo>
                    <a:lnTo>
                      <a:pt x="946" y="18"/>
                    </a:lnTo>
                    <a:lnTo>
                      <a:pt x="937" y="18"/>
                    </a:lnTo>
                    <a:lnTo>
                      <a:pt x="928" y="18"/>
                    </a:lnTo>
                    <a:lnTo>
                      <a:pt x="918" y="18"/>
                    </a:lnTo>
                    <a:lnTo>
                      <a:pt x="909" y="18"/>
                    </a:lnTo>
                    <a:lnTo>
                      <a:pt x="900" y="18"/>
                    </a:lnTo>
                    <a:lnTo>
                      <a:pt x="890" y="18"/>
                    </a:lnTo>
                    <a:lnTo>
                      <a:pt x="881" y="18"/>
                    </a:lnTo>
                    <a:lnTo>
                      <a:pt x="872" y="18"/>
                    </a:lnTo>
                    <a:lnTo>
                      <a:pt x="863" y="18"/>
                    </a:lnTo>
                    <a:lnTo>
                      <a:pt x="853" y="18"/>
                    </a:lnTo>
                    <a:lnTo>
                      <a:pt x="844" y="18"/>
                    </a:lnTo>
                    <a:lnTo>
                      <a:pt x="835" y="18"/>
                    </a:lnTo>
                    <a:lnTo>
                      <a:pt x="825" y="18"/>
                    </a:lnTo>
                    <a:lnTo>
                      <a:pt x="816" y="18"/>
                    </a:lnTo>
                    <a:lnTo>
                      <a:pt x="807" y="18"/>
                    </a:lnTo>
                    <a:lnTo>
                      <a:pt x="798" y="18"/>
                    </a:lnTo>
                    <a:lnTo>
                      <a:pt x="788" y="18"/>
                    </a:lnTo>
                    <a:lnTo>
                      <a:pt x="779" y="18"/>
                    </a:lnTo>
                    <a:lnTo>
                      <a:pt x="770" y="18"/>
                    </a:lnTo>
                    <a:lnTo>
                      <a:pt x="760" y="18"/>
                    </a:lnTo>
                    <a:lnTo>
                      <a:pt x="751" y="18"/>
                    </a:lnTo>
                    <a:lnTo>
                      <a:pt x="742" y="18"/>
                    </a:lnTo>
                    <a:lnTo>
                      <a:pt x="733" y="18"/>
                    </a:lnTo>
                    <a:lnTo>
                      <a:pt x="723" y="18"/>
                    </a:lnTo>
                    <a:lnTo>
                      <a:pt x="714" y="18"/>
                    </a:lnTo>
                    <a:lnTo>
                      <a:pt x="705" y="18"/>
                    </a:lnTo>
                    <a:lnTo>
                      <a:pt x="696" y="18"/>
                    </a:lnTo>
                    <a:lnTo>
                      <a:pt x="686" y="18"/>
                    </a:lnTo>
                    <a:lnTo>
                      <a:pt x="677" y="18"/>
                    </a:lnTo>
                    <a:lnTo>
                      <a:pt x="668" y="18"/>
                    </a:lnTo>
                    <a:lnTo>
                      <a:pt x="658" y="18"/>
                    </a:lnTo>
                    <a:lnTo>
                      <a:pt x="649" y="18"/>
                    </a:lnTo>
                    <a:lnTo>
                      <a:pt x="640" y="18"/>
                    </a:lnTo>
                    <a:lnTo>
                      <a:pt x="631" y="18"/>
                    </a:lnTo>
                    <a:lnTo>
                      <a:pt x="621" y="18"/>
                    </a:lnTo>
                    <a:lnTo>
                      <a:pt x="612" y="18"/>
                    </a:lnTo>
                    <a:lnTo>
                      <a:pt x="603" y="18"/>
                    </a:lnTo>
                    <a:lnTo>
                      <a:pt x="593" y="18"/>
                    </a:lnTo>
                    <a:lnTo>
                      <a:pt x="584" y="18"/>
                    </a:lnTo>
                    <a:lnTo>
                      <a:pt x="575" y="18"/>
                    </a:lnTo>
                    <a:lnTo>
                      <a:pt x="566" y="18"/>
                    </a:lnTo>
                    <a:lnTo>
                      <a:pt x="556" y="18"/>
                    </a:lnTo>
                    <a:lnTo>
                      <a:pt x="547" y="18"/>
                    </a:lnTo>
                    <a:lnTo>
                      <a:pt x="538" y="18"/>
                    </a:lnTo>
                    <a:lnTo>
                      <a:pt x="528" y="18"/>
                    </a:lnTo>
                    <a:lnTo>
                      <a:pt x="519" y="18"/>
                    </a:lnTo>
                    <a:lnTo>
                      <a:pt x="510" y="18"/>
                    </a:lnTo>
                    <a:lnTo>
                      <a:pt x="501" y="18"/>
                    </a:lnTo>
                    <a:lnTo>
                      <a:pt x="491" y="18"/>
                    </a:lnTo>
                    <a:lnTo>
                      <a:pt x="482" y="18"/>
                    </a:lnTo>
                    <a:lnTo>
                      <a:pt x="473" y="18"/>
                    </a:lnTo>
                    <a:lnTo>
                      <a:pt x="464" y="18"/>
                    </a:lnTo>
                    <a:lnTo>
                      <a:pt x="454" y="18"/>
                    </a:lnTo>
                    <a:lnTo>
                      <a:pt x="445" y="18"/>
                    </a:lnTo>
                    <a:lnTo>
                      <a:pt x="436" y="18"/>
                    </a:lnTo>
                    <a:lnTo>
                      <a:pt x="426" y="18"/>
                    </a:lnTo>
                    <a:lnTo>
                      <a:pt x="417" y="18"/>
                    </a:lnTo>
                    <a:lnTo>
                      <a:pt x="408" y="18"/>
                    </a:lnTo>
                    <a:lnTo>
                      <a:pt x="399" y="18"/>
                    </a:lnTo>
                    <a:lnTo>
                      <a:pt x="389" y="18"/>
                    </a:lnTo>
                    <a:lnTo>
                      <a:pt x="380" y="18"/>
                    </a:lnTo>
                    <a:lnTo>
                      <a:pt x="371" y="18"/>
                    </a:lnTo>
                    <a:lnTo>
                      <a:pt x="361" y="18"/>
                    </a:lnTo>
                    <a:lnTo>
                      <a:pt x="352" y="18"/>
                    </a:lnTo>
                    <a:lnTo>
                      <a:pt x="343" y="18"/>
                    </a:lnTo>
                    <a:lnTo>
                      <a:pt x="334" y="18"/>
                    </a:lnTo>
                    <a:lnTo>
                      <a:pt x="324" y="18"/>
                    </a:lnTo>
                    <a:lnTo>
                      <a:pt x="315" y="18"/>
                    </a:lnTo>
                    <a:lnTo>
                      <a:pt x="306" y="18"/>
                    </a:lnTo>
                    <a:lnTo>
                      <a:pt x="296" y="18"/>
                    </a:lnTo>
                    <a:lnTo>
                      <a:pt x="287" y="18"/>
                    </a:lnTo>
                    <a:lnTo>
                      <a:pt x="278" y="18"/>
                    </a:lnTo>
                    <a:lnTo>
                      <a:pt x="269" y="18"/>
                    </a:lnTo>
                    <a:lnTo>
                      <a:pt x="259" y="18"/>
                    </a:lnTo>
                    <a:lnTo>
                      <a:pt x="250" y="18"/>
                    </a:lnTo>
                    <a:lnTo>
                      <a:pt x="241" y="18"/>
                    </a:lnTo>
                    <a:lnTo>
                      <a:pt x="232" y="18"/>
                    </a:lnTo>
                    <a:lnTo>
                      <a:pt x="222" y="18"/>
                    </a:lnTo>
                    <a:lnTo>
                      <a:pt x="213" y="18"/>
                    </a:lnTo>
                    <a:lnTo>
                      <a:pt x="204" y="18"/>
                    </a:lnTo>
                    <a:lnTo>
                      <a:pt x="194" y="18"/>
                    </a:lnTo>
                    <a:lnTo>
                      <a:pt x="185" y="18"/>
                    </a:lnTo>
                    <a:lnTo>
                      <a:pt x="176" y="18"/>
                    </a:lnTo>
                    <a:lnTo>
                      <a:pt x="167" y="18"/>
                    </a:lnTo>
                    <a:lnTo>
                      <a:pt x="157" y="18"/>
                    </a:lnTo>
                    <a:lnTo>
                      <a:pt x="148" y="18"/>
                    </a:lnTo>
                    <a:lnTo>
                      <a:pt x="139" y="18"/>
                    </a:lnTo>
                    <a:lnTo>
                      <a:pt x="129" y="18"/>
                    </a:lnTo>
                    <a:lnTo>
                      <a:pt x="120" y="18"/>
                    </a:lnTo>
                    <a:lnTo>
                      <a:pt x="111" y="18"/>
                    </a:lnTo>
                    <a:lnTo>
                      <a:pt x="102" y="18"/>
                    </a:lnTo>
                    <a:lnTo>
                      <a:pt x="92" y="18"/>
                    </a:lnTo>
                    <a:lnTo>
                      <a:pt x="83" y="18"/>
                    </a:lnTo>
                    <a:lnTo>
                      <a:pt x="74" y="18"/>
                    </a:lnTo>
                    <a:lnTo>
                      <a:pt x="64" y="18"/>
                    </a:lnTo>
                    <a:lnTo>
                      <a:pt x="55" y="18"/>
                    </a:lnTo>
                    <a:lnTo>
                      <a:pt x="46" y="18"/>
                    </a:lnTo>
                    <a:lnTo>
                      <a:pt x="37" y="18"/>
                    </a:lnTo>
                    <a:lnTo>
                      <a:pt x="27" y="18"/>
                    </a:lnTo>
                    <a:lnTo>
                      <a:pt x="18" y="18"/>
                    </a:lnTo>
                    <a:lnTo>
                      <a:pt x="9" y="18"/>
                    </a:lnTo>
                    <a:lnTo>
                      <a:pt x="0" y="18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1" name="Freeform 326"/>
              <p:cNvSpPr/>
              <p:nvPr/>
            </p:nvSpPr>
            <p:spPr>
              <a:xfrm>
                <a:off x="434520" y="3087720"/>
                <a:ext cx="2310120" cy="46440"/>
              </a:xfrm>
              <a:custGeom>
                <a:avLst/>
                <a:gdLst>
                  <a:gd name="textAreaLeft" fmla="*/ 0 w 2310120"/>
                  <a:gd name="textAreaRight" fmla="*/ 2310480 w 2310120"/>
                  <a:gd name="textAreaTop" fmla="*/ 0 h 46440"/>
                  <a:gd name="textAreaBottom" fmla="*/ 46800 h 46440"/>
                </a:gdLst>
                <a:ahLst/>
                <a:rect l="textAreaLeft" t="textAreaTop" r="textAreaRight" b="textAreaBottom"/>
                <a:pathLst>
                  <a:path w="1447" h="18">
                    <a:moveTo>
                      <a:pt x="0" y="8"/>
                    </a:moveTo>
                    <a:lnTo>
                      <a:pt x="9" y="8"/>
                    </a:lnTo>
                    <a:lnTo>
                      <a:pt x="18" y="8"/>
                    </a:lnTo>
                    <a:lnTo>
                      <a:pt x="27" y="8"/>
                    </a:lnTo>
                    <a:lnTo>
                      <a:pt x="37" y="8"/>
                    </a:lnTo>
                    <a:lnTo>
                      <a:pt x="46" y="8"/>
                    </a:lnTo>
                    <a:lnTo>
                      <a:pt x="55" y="8"/>
                    </a:lnTo>
                    <a:lnTo>
                      <a:pt x="64" y="8"/>
                    </a:lnTo>
                    <a:lnTo>
                      <a:pt x="74" y="8"/>
                    </a:lnTo>
                    <a:lnTo>
                      <a:pt x="83" y="8"/>
                    </a:lnTo>
                    <a:lnTo>
                      <a:pt x="92" y="8"/>
                    </a:lnTo>
                    <a:lnTo>
                      <a:pt x="102" y="7"/>
                    </a:lnTo>
                    <a:lnTo>
                      <a:pt x="111" y="7"/>
                    </a:lnTo>
                    <a:lnTo>
                      <a:pt x="120" y="7"/>
                    </a:lnTo>
                    <a:lnTo>
                      <a:pt x="129" y="7"/>
                    </a:lnTo>
                    <a:lnTo>
                      <a:pt x="139" y="7"/>
                    </a:lnTo>
                    <a:lnTo>
                      <a:pt x="148" y="7"/>
                    </a:lnTo>
                    <a:lnTo>
                      <a:pt x="157" y="7"/>
                    </a:lnTo>
                    <a:lnTo>
                      <a:pt x="167" y="7"/>
                    </a:lnTo>
                    <a:lnTo>
                      <a:pt x="176" y="7"/>
                    </a:lnTo>
                    <a:lnTo>
                      <a:pt x="185" y="7"/>
                    </a:lnTo>
                    <a:lnTo>
                      <a:pt x="194" y="7"/>
                    </a:lnTo>
                    <a:lnTo>
                      <a:pt x="204" y="7"/>
                    </a:lnTo>
                    <a:lnTo>
                      <a:pt x="213" y="7"/>
                    </a:lnTo>
                    <a:lnTo>
                      <a:pt x="222" y="7"/>
                    </a:lnTo>
                    <a:lnTo>
                      <a:pt x="232" y="7"/>
                    </a:lnTo>
                    <a:lnTo>
                      <a:pt x="241" y="7"/>
                    </a:lnTo>
                    <a:lnTo>
                      <a:pt x="250" y="7"/>
                    </a:lnTo>
                    <a:lnTo>
                      <a:pt x="259" y="7"/>
                    </a:lnTo>
                    <a:lnTo>
                      <a:pt x="269" y="7"/>
                    </a:lnTo>
                    <a:lnTo>
                      <a:pt x="278" y="7"/>
                    </a:lnTo>
                    <a:lnTo>
                      <a:pt x="287" y="7"/>
                    </a:lnTo>
                    <a:lnTo>
                      <a:pt x="296" y="7"/>
                    </a:lnTo>
                    <a:lnTo>
                      <a:pt x="306" y="7"/>
                    </a:lnTo>
                    <a:lnTo>
                      <a:pt x="315" y="7"/>
                    </a:lnTo>
                    <a:lnTo>
                      <a:pt x="324" y="7"/>
                    </a:lnTo>
                    <a:lnTo>
                      <a:pt x="334" y="7"/>
                    </a:lnTo>
                    <a:lnTo>
                      <a:pt x="343" y="7"/>
                    </a:lnTo>
                    <a:lnTo>
                      <a:pt x="352" y="6"/>
                    </a:lnTo>
                    <a:lnTo>
                      <a:pt x="361" y="6"/>
                    </a:lnTo>
                    <a:lnTo>
                      <a:pt x="371" y="6"/>
                    </a:lnTo>
                    <a:lnTo>
                      <a:pt x="380" y="6"/>
                    </a:lnTo>
                    <a:lnTo>
                      <a:pt x="389" y="6"/>
                    </a:lnTo>
                    <a:lnTo>
                      <a:pt x="399" y="6"/>
                    </a:lnTo>
                    <a:lnTo>
                      <a:pt x="408" y="6"/>
                    </a:lnTo>
                    <a:lnTo>
                      <a:pt x="417" y="6"/>
                    </a:lnTo>
                    <a:lnTo>
                      <a:pt x="426" y="6"/>
                    </a:lnTo>
                    <a:lnTo>
                      <a:pt x="436" y="6"/>
                    </a:lnTo>
                    <a:lnTo>
                      <a:pt x="445" y="6"/>
                    </a:lnTo>
                    <a:lnTo>
                      <a:pt x="454" y="6"/>
                    </a:lnTo>
                    <a:lnTo>
                      <a:pt x="464" y="6"/>
                    </a:lnTo>
                    <a:lnTo>
                      <a:pt x="473" y="6"/>
                    </a:lnTo>
                    <a:lnTo>
                      <a:pt x="482" y="6"/>
                    </a:lnTo>
                    <a:lnTo>
                      <a:pt x="491" y="6"/>
                    </a:lnTo>
                    <a:lnTo>
                      <a:pt x="501" y="6"/>
                    </a:lnTo>
                    <a:lnTo>
                      <a:pt x="510" y="6"/>
                    </a:lnTo>
                    <a:lnTo>
                      <a:pt x="519" y="6"/>
                    </a:lnTo>
                    <a:lnTo>
                      <a:pt x="528" y="6"/>
                    </a:lnTo>
                    <a:lnTo>
                      <a:pt x="538" y="6"/>
                    </a:lnTo>
                    <a:lnTo>
                      <a:pt x="547" y="6"/>
                    </a:lnTo>
                    <a:lnTo>
                      <a:pt x="556" y="6"/>
                    </a:lnTo>
                    <a:lnTo>
                      <a:pt x="566" y="6"/>
                    </a:lnTo>
                    <a:lnTo>
                      <a:pt x="575" y="6"/>
                    </a:lnTo>
                    <a:lnTo>
                      <a:pt x="584" y="6"/>
                    </a:lnTo>
                    <a:lnTo>
                      <a:pt x="593" y="6"/>
                    </a:lnTo>
                    <a:lnTo>
                      <a:pt x="603" y="5"/>
                    </a:lnTo>
                    <a:lnTo>
                      <a:pt x="612" y="5"/>
                    </a:lnTo>
                    <a:lnTo>
                      <a:pt x="621" y="5"/>
                    </a:lnTo>
                    <a:lnTo>
                      <a:pt x="631" y="5"/>
                    </a:lnTo>
                    <a:lnTo>
                      <a:pt x="640" y="5"/>
                    </a:lnTo>
                    <a:lnTo>
                      <a:pt x="649" y="5"/>
                    </a:lnTo>
                    <a:lnTo>
                      <a:pt x="658" y="5"/>
                    </a:lnTo>
                    <a:lnTo>
                      <a:pt x="668" y="5"/>
                    </a:lnTo>
                    <a:lnTo>
                      <a:pt x="677" y="5"/>
                    </a:lnTo>
                    <a:lnTo>
                      <a:pt x="686" y="5"/>
                    </a:lnTo>
                    <a:lnTo>
                      <a:pt x="696" y="5"/>
                    </a:lnTo>
                    <a:lnTo>
                      <a:pt x="705" y="5"/>
                    </a:lnTo>
                    <a:lnTo>
                      <a:pt x="714" y="5"/>
                    </a:lnTo>
                    <a:lnTo>
                      <a:pt x="723" y="5"/>
                    </a:lnTo>
                    <a:lnTo>
                      <a:pt x="733" y="5"/>
                    </a:lnTo>
                    <a:lnTo>
                      <a:pt x="742" y="5"/>
                    </a:lnTo>
                    <a:lnTo>
                      <a:pt x="751" y="5"/>
                    </a:lnTo>
                    <a:lnTo>
                      <a:pt x="760" y="4"/>
                    </a:lnTo>
                    <a:lnTo>
                      <a:pt x="770" y="4"/>
                    </a:lnTo>
                    <a:lnTo>
                      <a:pt x="779" y="4"/>
                    </a:lnTo>
                    <a:lnTo>
                      <a:pt x="788" y="4"/>
                    </a:lnTo>
                    <a:lnTo>
                      <a:pt x="798" y="4"/>
                    </a:lnTo>
                    <a:lnTo>
                      <a:pt x="807" y="4"/>
                    </a:lnTo>
                    <a:lnTo>
                      <a:pt x="816" y="4"/>
                    </a:lnTo>
                    <a:lnTo>
                      <a:pt x="825" y="4"/>
                    </a:lnTo>
                    <a:lnTo>
                      <a:pt x="835" y="4"/>
                    </a:lnTo>
                    <a:lnTo>
                      <a:pt x="844" y="4"/>
                    </a:lnTo>
                    <a:lnTo>
                      <a:pt x="853" y="4"/>
                    </a:lnTo>
                    <a:lnTo>
                      <a:pt x="863" y="4"/>
                    </a:lnTo>
                    <a:lnTo>
                      <a:pt x="872" y="4"/>
                    </a:lnTo>
                    <a:lnTo>
                      <a:pt x="881" y="4"/>
                    </a:lnTo>
                    <a:lnTo>
                      <a:pt x="890" y="3"/>
                    </a:lnTo>
                    <a:lnTo>
                      <a:pt x="900" y="3"/>
                    </a:lnTo>
                    <a:lnTo>
                      <a:pt x="909" y="3"/>
                    </a:lnTo>
                    <a:lnTo>
                      <a:pt x="918" y="3"/>
                    </a:lnTo>
                    <a:lnTo>
                      <a:pt x="928" y="3"/>
                    </a:lnTo>
                    <a:lnTo>
                      <a:pt x="937" y="3"/>
                    </a:lnTo>
                    <a:lnTo>
                      <a:pt x="946" y="3"/>
                    </a:lnTo>
                    <a:lnTo>
                      <a:pt x="955" y="3"/>
                    </a:lnTo>
                    <a:lnTo>
                      <a:pt x="965" y="3"/>
                    </a:lnTo>
                    <a:lnTo>
                      <a:pt x="974" y="3"/>
                    </a:lnTo>
                    <a:lnTo>
                      <a:pt x="983" y="3"/>
                    </a:lnTo>
                    <a:lnTo>
                      <a:pt x="992" y="3"/>
                    </a:lnTo>
                    <a:lnTo>
                      <a:pt x="1002" y="3"/>
                    </a:lnTo>
                    <a:lnTo>
                      <a:pt x="1011" y="3"/>
                    </a:lnTo>
                    <a:lnTo>
                      <a:pt x="1020" y="4"/>
                    </a:lnTo>
                    <a:lnTo>
                      <a:pt x="1030" y="4"/>
                    </a:lnTo>
                    <a:lnTo>
                      <a:pt x="1039" y="4"/>
                    </a:lnTo>
                    <a:lnTo>
                      <a:pt x="1048" y="4"/>
                    </a:lnTo>
                    <a:lnTo>
                      <a:pt x="1057" y="5"/>
                    </a:lnTo>
                    <a:lnTo>
                      <a:pt x="1067" y="5"/>
                    </a:lnTo>
                    <a:lnTo>
                      <a:pt x="1076" y="5"/>
                    </a:lnTo>
                    <a:lnTo>
                      <a:pt x="1085" y="6"/>
                    </a:lnTo>
                    <a:lnTo>
                      <a:pt x="1095" y="6"/>
                    </a:lnTo>
                    <a:lnTo>
                      <a:pt x="1104" y="6"/>
                    </a:lnTo>
                    <a:lnTo>
                      <a:pt x="1113" y="7"/>
                    </a:lnTo>
                    <a:lnTo>
                      <a:pt x="1122" y="8"/>
                    </a:lnTo>
                    <a:lnTo>
                      <a:pt x="1132" y="7"/>
                    </a:lnTo>
                    <a:lnTo>
                      <a:pt x="1141" y="7"/>
                    </a:lnTo>
                    <a:lnTo>
                      <a:pt x="1150" y="7"/>
                    </a:lnTo>
                    <a:lnTo>
                      <a:pt x="1160" y="7"/>
                    </a:lnTo>
                    <a:lnTo>
                      <a:pt x="1169" y="7"/>
                    </a:lnTo>
                    <a:lnTo>
                      <a:pt x="1178" y="6"/>
                    </a:lnTo>
                    <a:lnTo>
                      <a:pt x="1187" y="6"/>
                    </a:lnTo>
                    <a:lnTo>
                      <a:pt x="1197" y="6"/>
                    </a:lnTo>
                    <a:lnTo>
                      <a:pt x="1206" y="6"/>
                    </a:lnTo>
                    <a:lnTo>
                      <a:pt x="1215" y="5"/>
                    </a:lnTo>
                    <a:lnTo>
                      <a:pt x="1224" y="5"/>
                    </a:lnTo>
                    <a:lnTo>
                      <a:pt x="1234" y="5"/>
                    </a:lnTo>
                    <a:lnTo>
                      <a:pt x="1243" y="4"/>
                    </a:lnTo>
                    <a:lnTo>
                      <a:pt x="1252" y="4"/>
                    </a:lnTo>
                    <a:lnTo>
                      <a:pt x="1262" y="4"/>
                    </a:lnTo>
                    <a:lnTo>
                      <a:pt x="1271" y="4"/>
                    </a:lnTo>
                    <a:lnTo>
                      <a:pt x="1280" y="4"/>
                    </a:lnTo>
                    <a:lnTo>
                      <a:pt x="1289" y="3"/>
                    </a:lnTo>
                    <a:lnTo>
                      <a:pt x="1299" y="3"/>
                    </a:lnTo>
                    <a:lnTo>
                      <a:pt x="1308" y="3"/>
                    </a:lnTo>
                    <a:lnTo>
                      <a:pt x="1317" y="3"/>
                    </a:lnTo>
                    <a:lnTo>
                      <a:pt x="1327" y="3"/>
                    </a:lnTo>
                    <a:lnTo>
                      <a:pt x="1336" y="3"/>
                    </a:lnTo>
                    <a:lnTo>
                      <a:pt x="1345" y="2"/>
                    </a:lnTo>
                    <a:lnTo>
                      <a:pt x="1354" y="2"/>
                    </a:lnTo>
                    <a:lnTo>
                      <a:pt x="1364" y="2"/>
                    </a:lnTo>
                    <a:lnTo>
                      <a:pt x="1373" y="2"/>
                    </a:lnTo>
                    <a:lnTo>
                      <a:pt x="1382" y="2"/>
                    </a:lnTo>
                    <a:lnTo>
                      <a:pt x="1392" y="1"/>
                    </a:lnTo>
                    <a:lnTo>
                      <a:pt x="1401" y="1"/>
                    </a:lnTo>
                    <a:lnTo>
                      <a:pt x="1410" y="1"/>
                    </a:lnTo>
                    <a:lnTo>
                      <a:pt x="1419" y="1"/>
                    </a:lnTo>
                    <a:lnTo>
                      <a:pt x="1429" y="0"/>
                    </a:lnTo>
                    <a:lnTo>
                      <a:pt x="1438" y="0"/>
                    </a:lnTo>
                    <a:lnTo>
                      <a:pt x="1447" y="0"/>
                    </a:lnTo>
                    <a:lnTo>
                      <a:pt x="1447" y="18"/>
                    </a:lnTo>
                    <a:lnTo>
                      <a:pt x="1438" y="18"/>
                    </a:lnTo>
                    <a:lnTo>
                      <a:pt x="1429" y="18"/>
                    </a:lnTo>
                    <a:lnTo>
                      <a:pt x="1419" y="18"/>
                    </a:lnTo>
                    <a:lnTo>
                      <a:pt x="1410" y="18"/>
                    </a:lnTo>
                    <a:lnTo>
                      <a:pt x="1401" y="18"/>
                    </a:lnTo>
                    <a:lnTo>
                      <a:pt x="1392" y="18"/>
                    </a:lnTo>
                    <a:lnTo>
                      <a:pt x="1382" y="18"/>
                    </a:lnTo>
                    <a:lnTo>
                      <a:pt x="1373" y="18"/>
                    </a:lnTo>
                    <a:lnTo>
                      <a:pt x="1364" y="18"/>
                    </a:lnTo>
                    <a:lnTo>
                      <a:pt x="1354" y="18"/>
                    </a:lnTo>
                    <a:lnTo>
                      <a:pt x="1345" y="18"/>
                    </a:lnTo>
                    <a:lnTo>
                      <a:pt x="1336" y="18"/>
                    </a:lnTo>
                    <a:lnTo>
                      <a:pt x="1327" y="18"/>
                    </a:lnTo>
                    <a:lnTo>
                      <a:pt x="1317" y="18"/>
                    </a:lnTo>
                    <a:lnTo>
                      <a:pt x="1308" y="18"/>
                    </a:lnTo>
                    <a:lnTo>
                      <a:pt x="1299" y="18"/>
                    </a:lnTo>
                    <a:lnTo>
                      <a:pt x="1289" y="18"/>
                    </a:lnTo>
                    <a:lnTo>
                      <a:pt x="1280" y="18"/>
                    </a:lnTo>
                    <a:lnTo>
                      <a:pt x="1271" y="18"/>
                    </a:lnTo>
                    <a:lnTo>
                      <a:pt x="1262" y="18"/>
                    </a:lnTo>
                    <a:lnTo>
                      <a:pt x="1252" y="18"/>
                    </a:lnTo>
                    <a:lnTo>
                      <a:pt x="1243" y="18"/>
                    </a:lnTo>
                    <a:lnTo>
                      <a:pt x="1234" y="18"/>
                    </a:lnTo>
                    <a:lnTo>
                      <a:pt x="1224" y="18"/>
                    </a:lnTo>
                    <a:lnTo>
                      <a:pt x="1215" y="18"/>
                    </a:lnTo>
                    <a:lnTo>
                      <a:pt x="1206" y="18"/>
                    </a:lnTo>
                    <a:lnTo>
                      <a:pt x="1197" y="18"/>
                    </a:lnTo>
                    <a:lnTo>
                      <a:pt x="1187" y="18"/>
                    </a:lnTo>
                    <a:lnTo>
                      <a:pt x="1178" y="18"/>
                    </a:lnTo>
                    <a:lnTo>
                      <a:pt x="1169" y="18"/>
                    </a:lnTo>
                    <a:lnTo>
                      <a:pt x="1160" y="18"/>
                    </a:lnTo>
                    <a:lnTo>
                      <a:pt x="1150" y="18"/>
                    </a:lnTo>
                    <a:lnTo>
                      <a:pt x="1141" y="18"/>
                    </a:lnTo>
                    <a:lnTo>
                      <a:pt x="1132" y="18"/>
                    </a:lnTo>
                    <a:lnTo>
                      <a:pt x="1122" y="18"/>
                    </a:lnTo>
                    <a:lnTo>
                      <a:pt x="1113" y="18"/>
                    </a:lnTo>
                    <a:lnTo>
                      <a:pt x="1104" y="18"/>
                    </a:lnTo>
                    <a:lnTo>
                      <a:pt x="1095" y="18"/>
                    </a:lnTo>
                    <a:lnTo>
                      <a:pt x="1085" y="18"/>
                    </a:lnTo>
                    <a:lnTo>
                      <a:pt x="1076" y="18"/>
                    </a:lnTo>
                    <a:lnTo>
                      <a:pt x="1067" y="18"/>
                    </a:lnTo>
                    <a:lnTo>
                      <a:pt x="1057" y="18"/>
                    </a:lnTo>
                    <a:lnTo>
                      <a:pt x="1048" y="18"/>
                    </a:lnTo>
                    <a:lnTo>
                      <a:pt x="1039" y="18"/>
                    </a:lnTo>
                    <a:lnTo>
                      <a:pt x="1030" y="18"/>
                    </a:lnTo>
                    <a:lnTo>
                      <a:pt x="1020" y="18"/>
                    </a:lnTo>
                    <a:lnTo>
                      <a:pt x="1011" y="18"/>
                    </a:lnTo>
                    <a:lnTo>
                      <a:pt x="1002" y="18"/>
                    </a:lnTo>
                    <a:lnTo>
                      <a:pt x="992" y="18"/>
                    </a:lnTo>
                    <a:lnTo>
                      <a:pt x="983" y="18"/>
                    </a:lnTo>
                    <a:lnTo>
                      <a:pt x="974" y="18"/>
                    </a:lnTo>
                    <a:lnTo>
                      <a:pt x="965" y="18"/>
                    </a:lnTo>
                    <a:lnTo>
                      <a:pt x="955" y="18"/>
                    </a:lnTo>
                    <a:lnTo>
                      <a:pt x="946" y="18"/>
                    </a:lnTo>
                    <a:lnTo>
                      <a:pt x="937" y="18"/>
                    </a:lnTo>
                    <a:lnTo>
                      <a:pt x="928" y="18"/>
                    </a:lnTo>
                    <a:lnTo>
                      <a:pt x="918" y="18"/>
                    </a:lnTo>
                    <a:lnTo>
                      <a:pt x="909" y="18"/>
                    </a:lnTo>
                    <a:lnTo>
                      <a:pt x="900" y="18"/>
                    </a:lnTo>
                    <a:lnTo>
                      <a:pt x="890" y="18"/>
                    </a:lnTo>
                    <a:lnTo>
                      <a:pt x="881" y="18"/>
                    </a:lnTo>
                    <a:lnTo>
                      <a:pt x="872" y="18"/>
                    </a:lnTo>
                    <a:lnTo>
                      <a:pt x="863" y="18"/>
                    </a:lnTo>
                    <a:lnTo>
                      <a:pt x="853" y="18"/>
                    </a:lnTo>
                    <a:lnTo>
                      <a:pt x="844" y="18"/>
                    </a:lnTo>
                    <a:lnTo>
                      <a:pt x="835" y="18"/>
                    </a:lnTo>
                    <a:lnTo>
                      <a:pt x="825" y="18"/>
                    </a:lnTo>
                    <a:lnTo>
                      <a:pt x="816" y="18"/>
                    </a:lnTo>
                    <a:lnTo>
                      <a:pt x="807" y="18"/>
                    </a:lnTo>
                    <a:lnTo>
                      <a:pt x="798" y="18"/>
                    </a:lnTo>
                    <a:lnTo>
                      <a:pt x="788" y="18"/>
                    </a:lnTo>
                    <a:lnTo>
                      <a:pt x="779" y="18"/>
                    </a:lnTo>
                    <a:lnTo>
                      <a:pt x="770" y="18"/>
                    </a:lnTo>
                    <a:lnTo>
                      <a:pt x="760" y="18"/>
                    </a:lnTo>
                    <a:lnTo>
                      <a:pt x="751" y="18"/>
                    </a:lnTo>
                    <a:lnTo>
                      <a:pt x="742" y="18"/>
                    </a:lnTo>
                    <a:lnTo>
                      <a:pt x="733" y="18"/>
                    </a:lnTo>
                    <a:lnTo>
                      <a:pt x="723" y="18"/>
                    </a:lnTo>
                    <a:lnTo>
                      <a:pt x="714" y="18"/>
                    </a:lnTo>
                    <a:lnTo>
                      <a:pt x="705" y="18"/>
                    </a:lnTo>
                    <a:lnTo>
                      <a:pt x="696" y="18"/>
                    </a:lnTo>
                    <a:lnTo>
                      <a:pt x="686" y="18"/>
                    </a:lnTo>
                    <a:lnTo>
                      <a:pt x="677" y="18"/>
                    </a:lnTo>
                    <a:lnTo>
                      <a:pt x="668" y="18"/>
                    </a:lnTo>
                    <a:lnTo>
                      <a:pt x="658" y="18"/>
                    </a:lnTo>
                    <a:lnTo>
                      <a:pt x="649" y="18"/>
                    </a:lnTo>
                    <a:lnTo>
                      <a:pt x="640" y="18"/>
                    </a:lnTo>
                    <a:lnTo>
                      <a:pt x="631" y="18"/>
                    </a:lnTo>
                    <a:lnTo>
                      <a:pt x="621" y="18"/>
                    </a:lnTo>
                    <a:lnTo>
                      <a:pt x="612" y="18"/>
                    </a:lnTo>
                    <a:lnTo>
                      <a:pt x="603" y="18"/>
                    </a:lnTo>
                    <a:lnTo>
                      <a:pt x="593" y="18"/>
                    </a:lnTo>
                    <a:lnTo>
                      <a:pt x="584" y="18"/>
                    </a:lnTo>
                    <a:lnTo>
                      <a:pt x="575" y="18"/>
                    </a:lnTo>
                    <a:lnTo>
                      <a:pt x="566" y="18"/>
                    </a:lnTo>
                    <a:lnTo>
                      <a:pt x="556" y="18"/>
                    </a:lnTo>
                    <a:lnTo>
                      <a:pt x="547" y="18"/>
                    </a:lnTo>
                    <a:lnTo>
                      <a:pt x="538" y="18"/>
                    </a:lnTo>
                    <a:lnTo>
                      <a:pt x="528" y="18"/>
                    </a:lnTo>
                    <a:lnTo>
                      <a:pt x="519" y="18"/>
                    </a:lnTo>
                    <a:lnTo>
                      <a:pt x="510" y="18"/>
                    </a:lnTo>
                    <a:lnTo>
                      <a:pt x="501" y="18"/>
                    </a:lnTo>
                    <a:lnTo>
                      <a:pt x="491" y="18"/>
                    </a:lnTo>
                    <a:lnTo>
                      <a:pt x="482" y="18"/>
                    </a:lnTo>
                    <a:lnTo>
                      <a:pt x="473" y="18"/>
                    </a:lnTo>
                    <a:lnTo>
                      <a:pt x="464" y="18"/>
                    </a:lnTo>
                    <a:lnTo>
                      <a:pt x="454" y="18"/>
                    </a:lnTo>
                    <a:lnTo>
                      <a:pt x="445" y="18"/>
                    </a:lnTo>
                    <a:lnTo>
                      <a:pt x="436" y="18"/>
                    </a:lnTo>
                    <a:lnTo>
                      <a:pt x="426" y="18"/>
                    </a:lnTo>
                    <a:lnTo>
                      <a:pt x="417" y="18"/>
                    </a:lnTo>
                    <a:lnTo>
                      <a:pt x="408" y="18"/>
                    </a:lnTo>
                    <a:lnTo>
                      <a:pt x="399" y="18"/>
                    </a:lnTo>
                    <a:lnTo>
                      <a:pt x="389" y="18"/>
                    </a:lnTo>
                    <a:lnTo>
                      <a:pt x="380" y="18"/>
                    </a:lnTo>
                    <a:lnTo>
                      <a:pt x="371" y="18"/>
                    </a:lnTo>
                    <a:lnTo>
                      <a:pt x="361" y="18"/>
                    </a:lnTo>
                    <a:lnTo>
                      <a:pt x="352" y="18"/>
                    </a:lnTo>
                    <a:lnTo>
                      <a:pt x="343" y="18"/>
                    </a:lnTo>
                    <a:lnTo>
                      <a:pt x="334" y="18"/>
                    </a:lnTo>
                    <a:lnTo>
                      <a:pt x="324" y="18"/>
                    </a:lnTo>
                    <a:lnTo>
                      <a:pt x="315" y="18"/>
                    </a:lnTo>
                    <a:lnTo>
                      <a:pt x="306" y="18"/>
                    </a:lnTo>
                    <a:lnTo>
                      <a:pt x="296" y="18"/>
                    </a:lnTo>
                    <a:lnTo>
                      <a:pt x="287" y="18"/>
                    </a:lnTo>
                    <a:lnTo>
                      <a:pt x="278" y="18"/>
                    </a:lnTo>
                    <a:lnTo>
                      <a:pt x="269" y="18"/>
                    </a:lnTo>
                    <a:lnTo>
                      <a:pt x="259" y="18"/>
                    </a:lnTo>
                    <a:lnTo>
                      <a:pt x="250" y="18"/>
                    </a:lnTo>
                    <a:lnTo>
                      <a:pt x="241" y="18"/>
                    </a:lnTo>
                    <a:lnTo>
                      <a:pt x="232" y="18"/>
                    </a:lnTo>
                    <a:lnTo>
                      <a:pt x="222" y="18"/>
                    </a:lnTo>
                    <a:lnTo>
                      <a:pt x="213" y="18"/>
                    </a:lnTo>
                    <a:lnTo>
                      <a:pt x="204" y="18"/>
                    </a:lnTo>
                    <a:lnTo>
                      <a:pt x="194" y="18"/>
                    </a:lnTo>
                    <a:lnTo>
                      <a:pt x="185" y="18"/>
                    </a:lnTo>
                    <a:lnTo>
                      <a:pt x="176" y="18"/>
                    </a:lnTo>
                    <a:lnTo>
                      <a:pt x="167" y="18"/>
                    </a:lnTo>
                    <a:lnTo>
                      <a:pt x="157" y="18"/>
                    </a:lnTo>
                    <a:lnTo>
                      <a:pt x="148" y="18"/>
                    </a:lnTo>
                    <a:lnTo>
                      <a:pt x="139" y="18"/>
                    </a:lnTo>
                    <a:lnTo>
                      <a:pt x="129" y="18"/>
                    </a:lnTo>
                    <a:lnTo>
                      <a:pt x="120" y="18"/>
                    </a:lnTo>
                    <a:lnTo>
                      <a:pt x="111" y="18"/>
                    </a:lnTo>
                    <a:lnTo>
                      <a:pt x="102" y="18"/>
                    </a:lnTo>
                    <a:lnTo>
                      <a:pt x="92" y="18"/>
                    </a:lnTo>
                    <a:lnTo>
                      <a:pt x="83" y="18"/>
                    </a:lnTo>
                    <a:lnTo>
                      <a:pt x="74" y="18"/>
                    </a:lnTo>
                    <a:lnTo>
                      <a:pt x="64" y="18"/>
                    </a:lnTo>
                    <a:lnTo>
                      <a:pt x="55" y="18"/>
                    </a:lnTo>
                    <a:lnTo>
                      <a:pt x="46" y="18"/>
                    </a:lnTo>
                    <a:lnTo>
                      <a:pt x="37" y="18"/>
                    </a:lnTo>
                    <a:lnTo>
                      <a:pt x="27" y="18"/>
                    </a:lnTo>
                    <a:lnTo>
                      <a:pt x="18" y="18"/>
                    </a:lnTo>
                    <a:lnTo>
                      <a:pt x="9" y="18"/>
                    </a:lnTo>
                    <a:lnTo>
                      <a:pt x="0" y="18"/>
                    </a:lnTo>
                    <a:lnTo>
                      <a:pt x="0" y="8"/>
                    </a:lnTo>
                    <a:close/>
                  </a:path>
                </a:pathLst>
              </a:custGeom>
              <a:noFill/>
              <a:ln w="3175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2" name="Freeform 327"/>
              <p:cNvSpPr/>
              <p:nvPr/>
            </p:nvSpPr>
            <p:spPr>
              <a:xfrm>
                <a:off x="485280" y="857160"/>
                <a:ext cx="1059840" cy="1138320"/>
              </a:xfrm>
              <a:custGeom>
                <a:avLst/>
                <a:gdLst>
                  <a:gd name="textAreaLeft" fmla="*/ 0 w 1059840"/>
                  <a:gd name="textAreaRight" fmla="*/ 1060200 w 1059840"/>
                  <a:gd name="textAreaTop" fmla="*/ 0 h 1138320"/>
                  <a:gd name="textAreaBottom" fmla="*/ 1138680 h 1138320"/>
                </a:gdLst>
                <a:ahLst/>
                <a:rect l="textAreaLeft" t="textAreaTop" r="textAreaRight" b="textAreaBottom"/>
                <a:pathLst>
                  <a:path w="664" h="464">
                    <a:moveTo>
                      <a:pt x="0" y="4"/>
                    </a:moveTo>
                    <a:lnTo>
                      <a:pt x="0" y="460"/>
                    </a:lnTo>
                    <a:cubicBezTo>
                      <a:pt x="0" y="462"/>
                      <a:pt x="1" y="464"/>
                      <a:pt x="4" y="464"/>
                    </a:cubicBezTo>
                    <a:lnTo>
                      <a:pt x="660" y="464"/>
                    </a:lnTo>
                    <a:cubicBezTo>
                      <a:pt x="662" y="464"/>
                      <a:pt x="664" y="462"/>
                      <a:pt x="664" y="460"/>
                    </a:cubicBezTo>
                    <a:lnTo>
                      <a:pt x="664" y="4"/>
                    </a:lnTo>
                    <a:cubicBezTo>
                      <a:pt x="664" y="1"/>
                      <a:pt x="662" y="0"/>
                      <a:pt x="660" y="0"/>
                    </a:cubicBezTo>
                    <a:lnTo>
                      <a:pt x="4" y="0"/>
                    </a:lnTo>
                    <a:cubicBezTo>
                      <a:pt x="1" y="0"/>
                      <a:pt x="0" y="1"/>
                      <a:pt x="0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3" name="Freeform 328"/>
              <p:cNvSpPr/>
              <p:nvPr/>
            </p:nvSpPr>
            <p:spPr>
              <a:xfrm>
                <a:off x="485280" y="857160"/>
                <a:ext cx="1059840" cy="1138320"/>
              </a:xfrm>
              <a:custGeom>
                <a:avLst/>
                <a:gdLst>
                  <a:gd name="textAreaLeft" fmla="*/ 0 w 1059840"/>
                  <a:gd name="textAreaRight" fmla="*/ 1060200 w 1059840"/>
                  <a:gd name="textAreaTop" fmla="*/ 0 h 1138320"/>
                  <a:gd name="textAreaBottom" fmla="*/ 1138680 h 1138320"/>
                </a:gdLst>
                <a:ahLst/>
                <a:rect l="textAreaLeft" t="textAreaTop" r="textAreaRight" b="textAreaBottom"/>
                <a:pathLst>
                  <a:path w="664" h="464">
                    <a:moveTo>
                      <a:pt x="0" y="4"/>
                    </a:moveTo>
                    <a:lnTo>
                      <a:pt x="0" y="460"/>
                    </a:lnTo>
                    <a:cubicBezTo>
                      <a:pt x="0" y="462"/>
                      <a:pt x="1" y="464"/>
                      <a:pt x="4" y="464"/>
                    </a:cubicBezTo>
                    <a:lnTo>
                      <a:pt x="660" y="464"/>
                    </a:lnTo>
                    <a:cubicBezTo>
                      <a:pt x="662" y="464"/>
                      <a:pt x="664" y="462"/>
                      <a:pt x="664" y="460"/>
                    </a:cubicBezTo>
                    <a:lnTo>
                      <a:pt x="664" y="4"/>
                    </a:lnTo>
                    <a:cubicBezTo>
                      <a:pt x="664" y="1"/>
                      <a:pt x="662" y="0"/>
                      <a:pt x="660" y="0"/>
                    </a:cubicBezTo>
                    <a:lnTo>
                      <a:pt x="4" y="0"/>
                    </a:lnTo>
                    <a:cubicBezTo>
                      <a:pt x="1" y="0"/>
                      <a:pt x="0" y="1"/>
                      <a:pt x="0" y="4"/>
                    </a:cubicBezTo>
                    <a:close/>
                  </a:path>
                </a:pathLst>
              </a:custGeom>
              <a:noFill/>
              <a:ln w="317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4" name="Freeform 329"/>
              <p:cNvSpPr/>
              <p:nvPr/>
            </p:nvSpPr>
            <p:spPr>
              <a:xfrm>
                <a:off x="510840" y="916200"/>
                <a:ext cx="267840" cy="97920"/>
              </a:xfrm>
              <a:custGeom>
                <a:avLst/>
                <a:gdLst>
                  <a:gd name="textAreaLeft" fmla="*/ 0 w 267840"/>
                  <a:gd name="textAreaRight" fmla="*/ 268200 w 267840"/>
                  <a:gd name="textAreaTop" fmla="*/ 0 h 97920"/>
                  <a:gd name="textAreaBottom" fmla="*/ 98280 h 97920"/>
                </a:gdLst>
                <a:ahLst/>
                <a:rect l="textAreaLeft" t="textAreaTop" r="textAreaRight" b="textAreaBottom"/>
                <a:pathLst>
                  <a:path w="168" h="40">
                    <a:moveTo>
                      <a:pt x="0" y="0"/>
                    </a:moveTo>
                    <a:lnTo>
                      <a:pt x="168" y="0"/>
                    </a:lnTo>
                    <a:lnTo>
                      <a:pt x="168" y="40"/>
                    </a:lnTo>
                    <a:lnTo>
                      <a:pt x="0" y="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5" name="Text Box 330"/>
              <p:cNvSpPr/>
              <p:nvPr/>
            </p:nvSpPr>
            <p:spPr>
              <a:xfrm>
                <a:off x="777240" y="909720"/>
                <a:ext cx="744840" cy="10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Dialog"/>
                  </a:rPr>
                  <a:t>Other renewables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Freeform 331"/>
              <p:cNvSpPr/>
              <p:nvPr/>
            </p:nvSpPr>
            <p:spPr>
              <a:xfrm>
                <a:off x="510840" y="1092960"/>
                <a:ext cx="267840" cy="97920"/>
              </a:xfrm>
              <a:custGeom>
                <a:avLst/>
                <a:gdLst>
                  <a:gd name="textAreaLeft" fmla="*/ 0 w 267840"/>
                  <a:gd name="textAreaRight" fmla="*/ 268200 w 267840"/>
                  <a:gd name="textAreaTop" fmla="*/ 0 h 97920"/>
                  <a:gd name="textAreaBottom" fmla="*/ 98280 h 97920"/>
                </a:gdLst>
                <a:ahLst/>
                <a:rect l="textAreaLeft" t="textAreaTop" r="textAreaRight" b="textAreaBottom"/>
                <a:pathLst>
                  <a:path w="168" h="40">
                    <a:moveTo>
                      <a:pt x="0" y="0"/>
                    </a:moveTo>
                    <a:lnTo>
                      <a:pt x="168" y="0"/>
                    </a:lnTo>
                    <a:lnTo>
                      <a:pt x="168" y="40"/>
                    </a:lnTo>
                    <a:lnTo>
                      <a:pt x="0" y="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7" name="Text Box 332"/>
              <p:cNvSpPr/>
              <p:nvPr/>
            </p:nvSpPr>
            <p:spPr>
              <a:xfrm>
                <a:off x="789480" y="1086480"/>
                <a:ext cx="324360" cy="10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Dialog"/>
                  </a:rPr>
                  <a:t>Nuclear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" name="Freeform 333"/>
              <p:cNvSpPr/>
              <p:nvPr/>
            </p:nvSpPr>
            <p:spPr>
              <a:xfrm>
                <a:off x="510840" y="1269360"/>
                <a:ext cx="267840" cy="97920"/>
              </a:xfrm>
              <a:custGeom>
                <a:avLst/>
                <a:gdLst>
                  <a:gd name="textAreaLeft" fmla="*/ 0 w 267840"/>
                  <a:gd name="textAreaRight" fmla="*/ 268200 w 267840"/>
                  <a:gd name="textAreaTop" fmla="*/ 0 h 97920"/>
                  <a:gd name="textAreaBottom" fmla="*/ 98280 h 97920"/>
                </a:gdLst>
                <a:ahLst/>
                <a:rect l="textAreaLeft" t="textAreaTop" r="textAreaRight" b="textAreaBottom"/>
                <a:pathLst>
                  <a:path w="168" h="40">
                    <a:moveTo>
                      <a:pt x="0" y="0"/>
                    </a:moveTo>
                    <a:lnTo>
                      <a:pt x="168" y="0"/>
                    </a:lnTo>
                    <a:lnTo>
                      <a:pt x="168" y="40"/>
                    </a:lnTo>
                    <a:lnTo>
                      <a:pt x="0" y="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6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9" name="Text Box 334"/>
              <p:cNvSpPr/>
              <p:nvPr/>
            </p:nvSpPr>
            <p:spPr>
              <a:xfrm>
                <a:off x="795600" y="1263240"/>
                <a:ext cx="158040" cy="10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Dialog"/>
                  </a:rPr>
                  <a:t>Gas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Freeform 335"/>
              <p:cNvSpPr/>
              <p:nvPr/>
            </p:nvSpPr>
            <p:spPr>
              <a:xfrm>
                <a:off x="510840" y="1446120"/>
                <a:ext cx="267840" cy="97920"/>
              </a:xfrm>
              <a:custGeom>
                <a:avLst/>
                <a:gdLst>
                  <a:gd name="textAreaLeft" fmla="*/ 0 w 267840"/>
                  <a:gd name="textAreaRight" fmla="*/ 268200 w 267840"/>
                  <a:gd name="textAreaTop" fmla="*/ 0 h 97920"/>
                  <a:gd name="textAreaBottom" fmla="*/ 98280 h 97920"/>
                </a:gdLst>
                <a:ahLst/>
                <a:rect l="textAreaLeft" t="textAreaTop" r="textAreaRight" b="textAreaBottom"/>
                <a:pathLst>
                  <a:path w="168" h="40">
                    <a:moveTo>
                      <a:pt x="0" y="0"/>
                    </a:moveTo>
                    <a:lnTo>
                      <a:pt x="168" y="0"/>
                    </a:lnTo>
                    <a:lnTo>
                      <a:pt x="168" y="40"/>
                    </a:lnTo>
                    <a:lnTo>
                      <a:pt x="0" y="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1" name="Text Box 336"/>
              <p:cNvSpPr/>
              <p:nvPr/>
            </p:nvSpPr>
            <p:spPr>
              <a:xfrm>
                <a:off x="792000" y="1440000"/>
                <a:ext cx="114480" cy="10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Dialog"/>
                  </a:rPr>
                  <a:t>Oil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Freeform 337"/>
              <p:cNvSpPr/>
              <p:nvPr/>
            </p:nvSpPr>
            <p:spPr>
              <a:xfrm>
                <a:off x="510840" y="1622880"/>
                <a:ext cx="267840" cy="97920"/>
              </a:xfrm>
              <a:custGeom>
                <a:avLst/>
                <a:gdLst>
                  <a:gd name="textAreaLeft" fmla="*/ 0 w 267840"/>
                  <a:gd name="textAreaRight" fmla="*/ 268200 w 267840"/>
                  <a:gd name="textAreaTop" fmla="*/ 0 h 97920"/>
                  <a:gd name="textAreaBottom" fmla="*/ 98280 h 97920"/>
                </a:gdLst>
                <a:ahLst/>
                <a:rect l="textAreaLeft" t="textAreaTop" r="textAreaRight" b="textAreaBottom"/>
                <a:pathLst>
                  <a:path w="168" h="40">
                    <a:moveTo>
                      <a:pt x="0" y="0"/>
                    </a:moveTo>
                    <a:lnTo>
                      <a:pt x="168" y="0"/>
                    </a:lnTo>
                    <a:lnTo>
                      <a:pt x="168" y="40"/>
                    </a:lnTo>
                    <a:lnTo>
                      <a:pt x="0" y="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3" name="Text Box 338"/>
              <p:cNvSpPr/>
              <p:nvPr/>
            </p:nvSpPr>
            <p:spPr>
              <a:xfrm>
                <a:off x="795600" y="1616760"/>
                <a:ext cx="183960" cy="10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Dialog"/>
                  </a:rPr>
                  <a:t>Coal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Freeform 339"/>
              <p:cNvSpPr/>
              <p:nvPr/>
            </p:nvSpPr>
            <p:spPr>
              <a:xfrm>
                <a:off x="510840" y="1799640"/>
                <a:ext cx="267840" cy="97920"/>
              </a:xfrm>
              <a:custGeom>
                <a:avLst/>
                <a:gdLst>
                  <a:gd name="textAreaLeft" fmla="*/ 0 w 267840"/>
                  <a:gd name="textAreaRight" fmla="*/ 268200 w 267840"/>
                  <a:gd name="textAreaTop" fmla="*/ 0 h 97920"/>
                  <a:gd name="textAreaBottom" fmla="*/ 98280 h 97920"/>
                </a:gdLst>
                <a:ahLst/>
                <a:rect l="textAreaLeft" t="textAreaTop" r="textAreaRight" b="textAreaBottom"/>
                <a:pathLst>
                  <a:path w="168" h="40">
                    <a:moveTo>
                      <a:pt x="0" y="0"/>
                    </a:moveTo>
                    <a:lnTo>
                      <a:pt x="168" y="0"/>
                    </a:lnTo>
                    <a:lnTo>
                      <a:pt x="168" y="40"/>
                    </a:lnTo>
                    <a:lnTo>
                      <a:pt x="0" y="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5" name="Text Box 340"/>
              <p:cNvSpPr/>
              <p:nvPr/>
            </p:nvSpPr>
            <p:spPr>
              <a:xfrm>
                <a:off x="800280" y="1793160"/>
                <a:ext cx="353160" cy="10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Dialog"/>
                  </a:rPr>
                  <a:t>Biomass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6" name="TextBox 274"/>
            <p:cNvSpPr/>
            <p:nvPr/>
          </p:nvSpPr>
          <p:spPr>
            <a:xfrm>
              <a:off x="6706800" y="1221840"/>
              <a:ext cx="1983960" cy="6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SP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Regional rivalr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67" name="Picture 8" descr=""/>
            <p:cNvPicPr/>
            <p:nvPr/>
          </p:nvPicPr>
          <p:blipFill>
            <a:blip r:embed="rId3"/>
            <a:stretch/>
          </p:blipFill>
          <p:spPr>
            <a:xfrm>
              <a:off x="4918320" y="810720"/>
              <a:ext cx="187596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8" name="TextBox 276"/>
            <p:cNvSpPr/>
            <p:nvPr/>
          </p:nvSpPr>
          <p:spPr>
            <a:xfrm>
              <a:off x="2316960" y="856440"/>
              <a:ext cx="1656360" cy="91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SP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Fossil-fueled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rowth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69" name="Picture 8" descr=""/>
            <p:cNvPicPr/>
            <p:nvPr/>
          </p:nvPicPr>
          <p:blipFill>
            <a:blip r:embed="rId4"/>
            <a:stretch/>
          </p:blipFill>
          <p:spPr>
            <a:xfrm>
              <a:off x="474480" y="810720"/>
              <a:ext cx="1875960" cy="1371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70" name="Group 351"/>
          <p:cNvGrpSpPr/>
          <p:nvPr/>
        </p:nvGrpSpPr>
        <p:grpSpPr>
          <a:xfrm>
            <a:off x="2340360" y="2372760"/>
            <a:ext cx="4200120" cy="2635200"/>
            <a:chOff x="2340360" y="2372760"/>
            <a:chExt cx="4200120" cy="2635200"/>
          </a:xfrm>
        </p:grpSpPr>
        <p:grpSp>
          <p:nvGrpSpPr>
            <p:cNvPr id="571" name="Group -1024"/>
            <p:cNvGrpSpPr/>
            <p:nvPr/>
          </p:nvGrpSpPr>
          <p:grpSpPr>
            <a:xfrm>
              <a:off x="2340360" y="2372760"/>
              <a:ext cx="4200120" cy="2635200"/>
              <a:chOff x="2340360" y="2372760"/>
              <a:chExt cx="4200120" cy="2635200"/>
            </a:xfrm>
          </p:grpSpPr>
          <p:sp>
            <p:nvSpPr>
              <p:cNvPr id="572" name="Freeform 72"/>
              <p:cNvSpPr/>
              <p:nvPr/>
            </p:nvSpPr>
            <p:spPr>
              <a:xfrm>
                <a:off x="2720520" y="2455200"/>
                <a:ext cx="3704400" cy="2355480"/>
              </a:xfrm>
              <a:custGeom>
                <a:avLst/>
                <a:gdLst>
                  <a:gd name="textAreaLeft" fmla="*/ 0 w 3704400"/>
                  <a:gd name="textAreaRight" fmla="*/ 3704760 w 3704400"/>
                  <a:gd name="textAreaTop" fmla="*/ 0 h 2355480"/>
                  <a:gd name="textAreaBottom" fmla="*/ 2355840 h 2355480"/>
                </a:gdLst>
                <a:ahLst/>
                <a:rect l="textAreaLeft" t="textAreaTop" r="textAreaRight" b="textAreaBottom"/>
                <a:pathLst>
                  <a:path w="2320" h="960">
                    <a:moveTo>
                      <a:pt x="0" y="0"/>
                    </a:moveTo>
                    <a:lnTo>
                      <a:pt x="2320" y="0"/>
                    </a:lnTo>
                    <a:lnTo>
                      <a:pt x="2320" y="960"/>
                    </a:lnTo>
                    <a:lnTo>
                      <a:pt x="0" y="96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3" name="Text Box 73"/>
              <p:cNvSpPr/>
              <p:nvPr/>
            </p:nvSpPr>
            <p:spPr>
              <a:xfrm>
                <a:off x="2604960" y="4885560"/>
                <a:ext cx="231120" cy="122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Dialog"/>
                  </a:rPr>
                  <a:t>185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Freeform 74"/>
              <p:cNvSpPr/>
              <p:nvPr/>
            </p:nvSpPr>
            <p:spPr>
              <a:xfrm>
                <a:off x="2720520" y="4811040"/>
                <a:ext cx="1080" cy="388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38880"/>
                  <a:gd name="textAreaBottom" fmla="*/ 39240 h 38880"/>
                </a:gdLst>
                <a:ahLst/>
                <a:rect l="textAreaLeft" t="textAreaTop" r="textAreaRight" b="textAreaBottom"/>
                <a:pathLst>
                  <a:path w="0" h="16">
                    <a:moveTo>
                      <a:pt x="0" y="0"/>
                    </a:moveTo>
                    <a:lnTo>
                      <a:pt x="0" y="16"/>
                    </a:lnTo>
                  </a:path>
                </a:pathLst>
              </a:custGeom>
              <a:noFill/>
              <a:ln w="317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5" name="Text Box 75"/>
              <p:cNvSpPr/>
              <p:nvPr/>
            </p:nvSpPr>
            <p:spPr>
              <a:xfrm>
                <a:off x="3345840" y="4885560"/>
                <a:ext cx="231120" cy="122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Dialog"/>
                  </a:rPr>
                  <a:t>190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Freeform 76"/>
              <p:cNvSpPr/>
              <p:nvPr/>
            </p:nvSpPr>
            <p:spPr>
              <a:xfrm>
                <a:off x="3461400" y="4811040"/>
                <a:ext cx="1080" cy="388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38880"/>
                  <a:gd name="textAreaBottom" fmla="*/ 39240 h 38880"/>
                </a:gdLst>
                <a:ahLst/>
                <a:rect l="textAreaLeft" t="textAreaTop" r="textAreaRight" b="textAreaBottom"/>
                <a:pathLst>
                  <a:path w="0" h="16">
                    <a:moveTo>
                      <a:pt x="0" y="0"/>
                    </a:moveTo>
                    <a:lnTo>
                      <a:pt x="0" y="16"/>
                    </a:lnTo>
                  </a:path>
                </a:pathLst>
              </a:custGeom>
              <a:noFill/>
              <a:ln w="317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7" name="Text Box 77"/>
              <p:cNvSpPr/>
              <p:nvPr/>
            </p:nvSpPr>
            <p:spPr>
              <a:xfrm>
                <a:off x="4086720" y="4885560"/>
                <a:ext cx="231120" cy="122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Dialog"/>
                  </a:rPr>
                  <a:t>195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Freeform 78"/>
              <p:cNvSpPr/>
              <p:nvPr/>
            </p:nvSpPr>
            <p:spPr>
              <a:xfrm>
                <a:off x="4202280" y="4811040"/>
                <a:ext cx="1080" cy="388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38880"/>
                  <a:gd name="textAreaBottom" fmla="*/ 39240 h 38880"/>
                </a:gdLst>
                <a:ahLst/>
                <a:rect l="textAreaLeft" t="textAreaTop" r="textAreaRight" b="textAreaBottom"/>
                <a:pathLst>
                  <a:path w="0" h="16">
                    <a:moveTo>
                      <a:pt x="0" y="0"/>
                    </a:moveTo>
                    <a:lnTo>
                      <a:pt x="0" y="16"/>
                    </a:lnTo>
                  </a:path>
                </a:pathLst>
              </a:custGeom>
              <a:noFill/>
              <a:ln w="317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9" name="Text Box 79"/>
              <p:cNvSpPr/>
              <p:nvPr/>
            </p:nvSpPr>
            <p:spPr>
              <a:xfrm>
                <a:off x="4827600" y="4885560"/>
                <a:ext cx="231120" cy="122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Dialog"/>
                  </a:rPr>
                  <a:t>200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Freeform 80"/>
              <p:cNvSpPr/>
              <p:nvPr/>
            </p:nvSpPr>
            <p:spPr>
              <a:xfrm>
                <a:off x="4943160" y="4811040"/>
                <a:ext cx="1080" cy="388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38880"/>
                  <a:gd name="textAreaBottom" fmla="*/ 39240 h 38880"/>
                </a:gdLst>
                <a:ahLst/>
                <a:rect l="textAreaLeft" t="textAreaTop" r="textAreaRight" b="textAreaBottom"/>
                <a:pathLst>
                  <a:path w="0" h="16">
                    <a:moveTo>
                      <a:pt x="0" y="0"/>
                    </a:moveTo>
                    <a:lnTo>
                      <a:pt x="0" y="16"/>
                    </a:lnTo>
                  </a:path>
                </a:pathLst>
              </a:custGeom>
              <a:noFill/>
              <a:ln w="317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1" name="Text Box 81"/>
              <p:cNvSpPr/>
              <p:nvPr/>
            </p:nvSpPr>
            <p:spPr>
              <a:xfrm>
                <a:off x="5568480" y="4885560"/>
                <a:ext cx="231120" cy="122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Dialog"/>
                  </a:rPr>
                  <a:t>205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Freeform 82"/>
              <p:cNvSpPr/>
              <p:nvPr/>
            </p:nvSpPr>
            <p:spPr>
              <a:xfrm>
                <a:off x="5684040" y="4811040"/>
                <a:ext cx="1080" cy="388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38880"/>
                  <a:gd name="textAreaBottom" fmla="*/ 39240 h 38880"/>
                </a:gdLst>
                <a:ahLst/>
                <a:rect l="textAreaLeft" t="textAreaTop" r="textAreaRight" b="textAreaBottom"/>
                <a:pathLst>
                  <a:path w="0" h="16">
                    <a:moveTo>
                      <a:pt x="0" y="0"/>
                    </a:moveTo>
                    <a:lnTo>
                      <a:pt x="0" y="16"/>
                    </a:lnTo>
                  </a:path>
                </a:pathLst>
              </a:custGeom>
              <a:noFill/>
              <a:ln w="317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3" name="Text Box 83"/>
              <p:cNvSpPr/>
              <p:nvPr/>
            </p:nvSpPr>
            <p:spPr>
              <a:xfrm>
                <a:off x="6309360" y="4885560"/>
                <a:ext cx="231120" cy="122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Dialog"/>
                  </a:rPr>
                  <a:t>210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Freeform 84"/>
              <p:cNvSpPr/>
              <p:nvPr/>
            </p:nvSpPr>
            <p:spPr>
              <a:xfrm>
                <a:off x="6424920" y="4811040"/>
                <a:ext cx="1080" cy="388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38880"/>
                  <a:gd name="textAreaBottom" fmla="*/ 39240 h 38880"/>
                </a:gdLst>
                <a:ahLst/>
                <a:rect l="textAreaLeft" t="textAreaTop" r="textAreaRight" b="textAreaBottom"/>
                <a:pathLst>
                  <a:path w="0" h="16">
                    <a:moveTo>
                      <a:pt x="0" y="0"/>
                    </a:moveTo>
                    <a:lnTo>
                      <a:pt x="0" y="16"/>
                    </a:lnTo>
                  </a:path>
                </a:pathLst>
              </a:custGeom>
              <a:noFill/>
              <a:ln w="317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5" name="Text Box 85"/>
              <p:cNvSpPr/>
              <p:nvPr/>
            </p:nvSpPr>
            <p:spPr>
              <a:xfrm rot="16200000">
                <a:off x="2353680" y="3569400"/>
                <a:ext cx="79560" cy="10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Dialog"/>
                  </a:rPr>
                  <a:t>EJ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Text Box 86"/>
              <p:cNvSpPr/>
              <p:nvPr/>
            </p:nvSpPr>
            <p:spPr>
              <a:xfrm>
                <a:off x="2627640" y="4728600"/>
                <a:ext cx="57600" cy="122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Dialog"/>
                  </a:rPr>
                  <a:t>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Freeform 87"/>
              <p:cNvSpPr/>
              <p:nvPr/>
            </p:nvSpPr>
            <p:spPr>
              <a:xfrm>
                <a:off x="2694960" y="4811040"/>
                <a:ext cx="25200" cy="216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2160"/>
                  <a:gd name="textAreaBottom" fmla="*/ 2520 h 2160"/>
                </a:gdLst>
                <a:ahLst/>
                <a:rect l="textAreaLeft" t="textAreaTop" r="textAreaRight" b="textAreaBottom"/>
                <a:pathLst>
                  <a:path w="16" h="0">
                    <a:moveTo>
                      <a:pt x="16" y="0"/>
                    </a:moveTo>
                    <a:lnTo>
                      <a:pt x="0" y="0"/>
                    </a:lnTo>
                  </a:path>
                </a:pathLst>
              </a:custGeom>
              <a:noFill/>
              <a:ln w="317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8" name="Text Box 88"/>
              <p:cNvSpPr/>
              <p:nvPr/>
            </p:nvSpPr>
            <p:spPr>
              <a:xfrm>
                <a:off x="2518560" y="4257360"/>
                <a:ext cx="173520" cy="122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Dialog"/>
                  </a:rPr>
                  <a:t>50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Freeform 89"/>
              <p:cNvSpPr/>
              <p:nvPr/>
            </p:nvSpPr>
            <p:spPr>
              <a:xfrm>
                <a:off x="2694960" y="4339800"/>
                <a:ext cx="25200" cy="216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2160"/>
                  <a:gd name="textAreaBottom" fmla="*/ 2520 h 2160"/>
                </a:gdLst>
                <a:ahLst/>
                <a:rect l="textAreaLeft" t="textAreaTop" r="textAreaRight" b="textAreaBottom"/>
                <a:pathLst>
                  <a:path w="16" h="0">
                    <a:moveTo>
                      <a:pt x="16" y="0"/>
                    </a:moveTo>
                    <a:lnTo>
                      <a:pt x="0" y="0"/>
                    </a:lnTo>
                  </a:path>
                </a:pathLst>
              </a:custGeom>
              <a:noFill/>
              <a:ln w="317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0" name="Text Box 90"/>
              <p:cNvSpPr/>
              <p:nvPr/>
            </p:nvSpPr>
            <p:spPr>
              <a:xfrm>
                <a:off x="2464200" y="3786120"/>
                <a:ext cx="231120" cy="122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Dialog"/>
                  </a:rPr>
                  <a:t>100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Freeform 91"/>
              <p:cNvSpPr/>
              <p:nvPr/>
            </p:nvSpPr>
            <p:spPr>
              <a:xfrm>
                <a:off x="2694960" y="3868560"/>
                <a:ext cx="25200" cy="216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2160"/>
                  <a:gd name="textAreaBottom" fmla="*/ 2520 h 2160"/>
                </a:gdLst>
                <a:ahLst/>
                <a:rect l="textAreaLeft" t="textAreaTop" r="textAreaRight" b="textAreaBottom"/>
                <a:pathLst>
                  <a:path w="16" h="0">
                    <a:moveTo>
                      <a:pt x="16" y="0"/>
                    </a:moveTo>
                    <a:lnTo>
                      <a:pt x="0" y="0"/>
                    </a:lnTo>
                  </a:path>
                </a:pathLst>
              </a:custGeom>
              <a:noFill/>
              <a:ln w="317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2" name="Text Box 92"/>
              <p:cNvSpPr/>
              <p:nvPr/>
            </p:nvSpPr>
            <p:spPr>
              <a:xfrm>
                <a:off x="2464200" y="3315240"/>
                <a:ext cx="231120" cy="122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Dialog"/>
                  </a:rPr>
                  <a:t>150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Freeform 93"/>
              <p:cNvSpPr/>
              <p:nvPr/>
            </p:nvSpPr>
            <p:spPr>
              <a:xfrm>
                <a:off x="2694960" y="3397320"/>
                <a:ext cx="25200" cy="216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2160"/>
                  <a:gd name="textAreaBottom" fmla="*/ 2520 h 2160"/>
                </a:gdLst>
                <a:ahLst/>
                <a:rect l="textAreaLeft" t="textAreaTop" r="textAreaRight" b="textAreaBottom"/>
                <a:pathLst>
                  <a:path w="16" h="0">
                    <a:moveTo>
                      <a:pt x="16" y="0"/>
                    </a:moveTo>
                    <a:lnTo>
                      <a:pt x="0" y="0"/>
                    </a:lnTo>
                  </a:path>
                </a:pathLst>
              </a:custGeom>
              <a:noFill/>
              <a:ln w="317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4" name="Text Box 94"/>
              <p:cNvSpPr/>
              <p:nvPr/>
            </p:nvSpPr>
            <p:spPr>
              <a:xfrm>
                <a:off x="2464200" y="2844000"/>
                <a:ext cx="231120" cy="122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Dialog"/>
                  </a:rPr>
                  <a:t>200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Freeform 95"/>
              <p:cNvSpPr/>
              <p:nvPr/>
            </p:nvSpPr>
            <p:spPr>
              <a:xfrm>
                <a:off x="2694960" y="2926080"/>
                <a:ext cx="25200" cy="216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2160"/>
                  <a:gd name="textAreaBottom" fmla="*/ 2520 h 2160"/>
                </a:gdLst>
                <a:ahLst/>
                <a:rect l="textAreaLeft" t="textAreaTop" r="textAreaRight" b="textAreaBottom"/>
                <a:pathLst>
                  <a:path w="16" h="0">
                    <a:moveTo>
                      <a:pt x="16" y="0"/>
                    </a:moveTo>
                    <a:lnTo>
                      <a:pt x="0" y="0"/>
                    </a:lnTo>
                  </a:path>
                </a:pathLst>
              </a:custGeom>
              <a:noFill/>
              <a:ln w="317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6" name="Text Box 96"/>
              <p:cNvSpPr/>
              <p:nvPr/>
            </p:nvSpPr>
            <p:spPr>
              <a:xfrm>
                <a:off x="2464200" y="2372760"/>
                <a:ext cx="231120" cy="122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Dialog"/>
                  </a:rPr>
                  <a:t>250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" name="Freeform 97"/>
              <p:cNvSpPr/>
              <p:nvPr/>
            </p:nvSpPr>
            <p:spPr>
              <a:xfrm>
                <a:off x="2694960" y="2455200"/>
                <a:ext cx="25200" cy="216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2160"/>
                  <a:gd name="textAreaBottom" fmla="*/ 2520 h 2160"/>
                </a:gdLst>
                <a:ahLst/>
                <a:rect l="textAreaLeft" t="textAreaTop" r="textAreaRight" b="textAreaBottom"/>
                <a:pathLst>
                  <a:path w="16" h="0">
                    <a:moveTo>
                      <a:pt x="16" y="0"/>
                    </a:moveTo>
                    <a:lnTo>
                      <a:pt x="0" y="0"/>
                    </a:lnTo>
                  </a:path>
                </a:pathLst>
              </a:custGeom>
              <a:noFill/>
              <a:ln w="317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8" name="Freeform 98"/>
              <p:cNvSpPr/>
              <p:nvPr/>
            </p:nvSpPr>
            <p:spPr>
              <a:xfrm>
                <a:off x="2720520" y="2455200"/>
                <a:ext cx="3704400" cy="2355480"/>
              </a:xfrm>
              <a:custGeom>
                <a:avLst/>
                <a:gdLst>
                  <a:gd name="textAreaLeft" fmla="*/ 0 w 3704400"/>
                  <a:gd name="textAreaRight" fmla="*/ 3704760 w 3704400"/>
                  <a:gd name="textAreaTop" fmla="*/ 0 h 2355480"/>
                  <a:gd name="textAreaBottom" fmla="*/ 2355840 h 2355480"/>
                </a:gdLst>
                <a:ahLst/>
                <a:rect l="textAreaLeft" t="textAreaTop" r="textAreaRight" b="textAreaBottom"/>
                <a:pathLst>
                  <a:path w="2320" h="960">
                    <a:moveTo>
                      <a:pt x="0" y="0"/>
                    </a:moveTo>
                    <a:lnTo>
                      <a:pt x="2320" y="0"/>
                    </a:lnTo>
                    <a:lnTo>
                      <a:pt x="2320" y="960"/>
                    </a:lnTo>
                    <a:lnTo>
                      <a:pt x="0" y="96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317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9" name="Freeform 99"/>
              <p:cNvSpPr/>
              <p:nvPr/>
            </p:nvSpPr>
            <p:spPr>
              <a:xfrm>
                <a:off x="5016600" y="3488040"/>
                <a:ext cx="1407960" cy="897840"/>
              </a:xfrm>
              <a:custGeom>
                <a:avLst/>
                <a:gdLst>
                  <a:gd name="textAreaLeft" fmla="*/ 0 w 1407960"/>
                  <a:gd name="textAreaRight" fmla="*/ 1408320 w 1407960"/>
                  <a:gd name="textAreaTop" fmla="*/ 0 h 897840"/>
                  <a:gd name="textAreaBottom" fmla="*/ 898200 h 897840"/>
                </a:gdLst>
                <a:ahLst/>
                <a:rect l="textAreaLeft" t="textAreaTop" r="textAreaRight" b="textAreaBottom"/>
                <a:pathLst>
                  <a:path w="881" h="365">
                    <a:moveTo>
                      <a:pt x="0" y="361"/>
                    </a:moveTo>
                    <a:lnTo>
                      <a:pt x="46" y="347"/>
                    </a:lnTo>
                    <a:lnTo>
                      <a:pt x="139" y="316"/>
                    </a:lnTo>
                    <a:lnTo>
                      <a:pt x="231" y="282"/>
                    </a:lnTo>
                    <a:lnTo>
                      <a:pt x="324" y="250"/>
                    </a:lnTo>
                    <a:lnTo>
                      <a:pt x="417" y="213"/>
                    </a:lnTo>
                    <a:lnTo>
                      <a:pt x="510" y="175"/>
                    </a:lnTo>
                    <a:lnTo>
                      <a:pt x="603" y="141"/>
                    </a:lnTo>
                    <a:lnTo>
                      <a:pt x="695" y="102"/>
                    </a:lnTo>
                    <a:lnTo>
                      <a:pt x="788" y="54"/>
                    </a:lnTo>
                    <a:lnTo>
                      <a:pt x="881" y="0"/>
                    </a:lnTo>
                    <a:lnTo>
                      <a:pt x="881" y="62"/>
                    </a:lnTo>
                    <a:lnTo>
                      <a:pt x="788" y="113"/>
                    </a:lnTo>
                    <a:lnTo>
                      <a:pt x="695" y="155"/>
                    </a:lnTo>
                    <a:lnTo>
                      <a:pt x="603" y="186"/>
                    </a:lnTo>
                    <a:lnTo>
                      <a:pt x="510" y="213"/>
                    </a:lnTo>
                    <a:lnTo>
                      <a:pt x="417" y="244"/>
                    </a:lnTo>
                    <a:lnTo>
                      <a:pt x="324" y="275"/>
                    </a:lnTo>
                    <a:lnTo>
                      <a:pt x="231" y="299"/>
                    </a:lnTo>
                    <a:lnTo>
                      <a:pt x="139" y="328"/>
                    </a:lnTo>
                    <a:lnTo>
                      <a:pt x="46" y="354"/>
                    </a:lnTo>
                    <a:lnTo>
                      <a:pt x="0" y="365"/>
                    </a:lnTo>
                    <a:lnTo>
                      <a:pt x="0" y="361"/>
                    </a:lnTo>
                    <a:close/>
                  </a:path>
                </a:pathLst>
              </a:custGeom>
              <a:solidFill>
                <a:srgbClr val="ffc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0" name="Freeform 100"/>
              <p:cNvSpPr/>
              <p:nvPr/>
            </p:nvSpPr>
            <p:spPr>
              <a:xfrm>
                <a:off x="5016600" y="3488040"/>
                <a:ext cx="1407960" cy="897840"/>
              </a:xfrm>
              <a:custGeom>
                <a:avLst/>
                <a:gdLst>
                  <a:gd name="textAreaLeft" fmla="*/ 0 w 1407960"/>
                  <a:gd name="textAreaRight" fmla="*/ 1408320 w 1407960"/>
                  <a:gd name="textAreaTop" fmla="*/ 0 h 897840"/>
                  <a:gd name="textAreaBottom" fmla="*/ 898200 h 897840"/>
                </a:gdLst>
                <a:ahLst/>
                <a:rect l="textAreaLeft" t="textAreaTop" r="textAreaRight" b="textAreaBottom"/>
                <a:pathLst>
                  <a:path w="881" h="365">
                    <a:moveTo>
                      <a:pt x="0" y="361"/>
                    </a:moveTo>
                    <a:lnTo>
                      <a:pt x="46" y="347"/>
                    </a:lnTo>
                    <a:lnTo>
                      <a:pt x="139" y="316"/>
                    </a:lnTo>
                    <a:lnTo>
                      <a:pt x="231" y="282"/>
                    </a:lnTo>
                    <a:lnTo>
                      <a:pt x="324" y="250"/>
                    </a:lnTo>
                    <a:lnTo>
                      <a:pt x="417" y="213"/>
                    </a:lnTo>
                    <a:lnTo>
                      <a:pt x="510" y="175"/>
                    </a:lnTo>
                    <a:lnTo>
                      <a:pt x="603" y="141"/>
                    </a:lnTo>
                    <a:lnTo>
                      <a:pt x="695" y="102"/>
                    </a:lnTo>
                    <a:lnTo>
                      <a:pt x="788" y="54"/>
                    </a:lnTo>
                    <a:lnTo>
                      <a:pt x="881" y="0"/>
                    </a:lnTo>
                    <a:lnTo>
                      <a:pt x="881" y="62"/>
                    </a:lnTo>
                    <a:lnTo>
                      <a:pt x="788" y="113"/>
                    </a:lnTo>
                    <a:lnTo>
                      <a:pt x="695" y="155"/>
                    </a:lnTo>
                    <a:lnTo>
                      <a:pt x="603" y="186"/>
                    </a:lnTo>
                    <a:lnTo>
                      <a:pt x="510" y="213"/>
                    </a:lnTo>
                    <a:lnTo>
                      <a:pt x="417" y="244"/>
                    </a:lnTo>
                    <a:lnTo>
                      <a:pt x="324" y="275"/>
                    </a:lnTo>
                    <a:lnTo>
                      <a:pt x="231" y="299"/>
                    </a:lnTo>
                    <a:lnTo>
                      <a:pt x="139" y="328"/>
                    </a:lnTo>
                    <a:lnTo>
                      <a:pt x="46" y="354"/>
                    </a:lnTo>
                    <a:lnTo>
                      <a:pt x="0" y="365"/>
                    </a:lnTo>
                    <a:lnTo>
                      <a:pt x="0" y="361"/>
                    </a:lnTo>
                    <a:close/>
                  </a:path>
                </a:pathLst>
              </a:custGeom>
              <a:noFill/>
              <a:ln w="3175">
                <a:solidFill>
                  <a:srgbClr val="ffc8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1" name="Freeform 101"/>
              <p:cNvSpPr/>
              <p:nvPr/>
            </p:nvSpPr>
            <p:spPr>
              <a:xfrm>
                <a:off x="5016600" y="3642840"/>
                <a:ext cx="1407960" cy="753120"/>
              </a:xfrm>
              <a:custGeom>
                <a:avLst/>
                <a:gdLst>
                  <a:gd name="textAreaLeft" fmla="*/ 0 w 1407960"/>
                  <a:gd name="textAreaRight" fmla="*/ 1408320 w 1407960"/>
                  <a:gd name="textAreaTop" fmla="*/ 0 h 753120"/>
                  <a:gd name="textAreaBottom" fmla="*/ 753480 h 753120"/>
                </a:gdLst>
                <a:ahLst/>
                <a:rect l="textAreaLeft" t="textAreaTop" r="textAreaRight" b="textAreaBottom"/>
                <a:pathLst>
                  <a:path w="881" h="306">
                    <a:moveTo>
                      <a:pt x="0" y="302"/>
                    </a:moveTo>
                    <a:lnTo>
                      <a:pt x="46" y="291"/>
                    </a:lnTo>
                    <a:lnTo>
                      <a:pt x="139" y="265"/>
                    </a:lnTo>
                    <a:lnTo>
                      <a:pt x="231" y="236"/>
                    </a:lnTo>
                    <a:lnTo>
                      <a:pt x="324" y="213"/>
                    </a:lnTo>
                    <a:lnTo>
                      <a:pt x="417" y="182"/>
                    </a:lnTo>
                    <a:lnTo>
                      <a:pt x="510" y="150"/>
                    </a:lnTo>
                    <a:lnTo>
                      <a:pt x="603" y="123"/>
                    </a:lnTo>
                    <a:lnTo>
                      <a:pt x="695" y="93"/>
                    </a:lnTo>
                    <a:lnTo>
                      <a:pt x="788" y="51"/>
                    </a:lnTo>
                    <a:lnTo>
                      <a:pt x="881" y="0"/>
                    </a:lnTo>
                    <a:lnTo>
                      <a:pt x="788" y="51"/>
                    </a:lnTo>
                    <a:lnTo>
                      <a:pt x="695" y="93"/>
                    </a:lnTo>
                    <a:lnTo>
                      <a:pt x="603" y="124"/>
                    </a:lnTo>
                    <a:lnTo>
                      <a:pt x="510" y="151"/>
                    </a:lnTo>
                    <a:lnTo>
                      <a:pt x="417" y="183"/>
                    </a:lnTo>
                    <a:lnTo>
                      <a:pt x="324" y="215"/>
                    </a:lnTo>
                    <a:lnTo>
                      <a:pt x="231" y="241"/>
                    </a:lnTo>
                    <a:lnTo>
                      <a:pt x="139" y="270"/>
                    </a:lnTo>
                    <a:lnTo>
                      <a:pt x="46" y="295"/>
                    </a:lnTo>
                    <a:lnTo>
                      <a:pt x="0" y="306"/>
                    </a:lnTo>
                    <a:lnTo>
                      <a:pt x="0" y="302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2" name="Freeform 102"/>
              <p:cNvSpPr/>
              <p:nvPr/>
            </p:nvSpPr>
            <p:spPr>
              <a:xfrm>
                <a:off x="5016600" y="3642840"/>
                <a:ext cx="1407960" cy="753120"/>
              </a:xfrm>
              <a:custGeom>
                <a:avLst/>
                <a:gdLst>
                  <a:gd name="textAreaLeft" fmla="*/ 0 w 1407960"/>
                  <a:gd name="textAreaRight" fmla="*/ 1408320 w 1407960"/>
                  <a:gd name="textAreaTop" fmla="*/ 0 h 753120"/>
                  <a:gd name="textAreaBottom" fmla="*/ 753480 h 753120"/>
                </a:gdLst>
                <a:ahLst/>
                <a:rect l="textAreaLeft" t="textAreaTop" r="textAreaRight" b="textAreaBottom"/>
                <a:pathLst>
                  <a:path w="881" h="306">
                    <a:moveTo>
                      <a:pt x="0" y="302"/>
                    </a:moveTo>
                    <a:lnTo>
                      <a:pt x="46" y="291"/>
                    </a:lnTo>
                    <a:lnTo>
                      <a:pt x="139" y="265"/>
                    </a:lnTo>
                    <a:lnTo>
                      <a:pt x="231" y="236"/>
                    </a:lnTo>
                    <a:lnTo>
                      <a:pt x="324" y="213"/>
                    </a:lnTo>
                    <a:lnTo>
                      <a:pt x="417" y="182"/>
                    </a:lnTo>
                    <a:lnTo>
                      <a:pt x="510" y="150"/>
                    </a:lnTo>
                    <a:lnTo>
                      <a:pt x="603" y="123"/>
                    </a:lnTo>
                    <a:lnTo>
                      <a:pt x="695" y="93"/>
                    </a:lnTo>
                    <a:lnTo>
                      <a:pt x="788" y="51"/>
                    </a:lnTo>
                    <a:lnTo>
                      <a:pt x="881" y="0"/>
                    </a:lnTo>
                    <a:lnTo>
                      <a:pt x="788" y="51"/>
                    </a:lnTo>
                    <a:lnTo>
                      <a:pt x="695" y="93"/>
                    </a:lnTo>
                    <a:lnTo>
                      <a:pt x="603" y="124"/>
                    </a:lnTo>
                    <a:lnTo>
                      <a:pt x="510" y="151"/>
                    </a:lnTo>
                    <a:lnTo>
                      <a:pt x="417" y="183"/>
                    </a:lnTo>
                    <a:lnTo>
                      <a:pt x="324" y="215"/>
                    </a:lnTo>
                    <a:lnTo>
                      <a:pt x="231" y="241"/>
                    </a:lnTo>
                    <a:lnTo>
                      <a:pt x="139" y="270"/>
                    </a:lnTo>
                    <a:lnTo>
                      <a:pt x="46" y="295"/>
                    </a:lnTo>
                    <a:lnTo>
                      <a:pt x="0" y="306"/>
                    </a:lnTo>
                    <a:lnTo>
                      <a:pt x="0" y="302"/>
                    </a:lnTo>
                    <a:close/>
                  </a:path>
                </a:pathLst>
              </a:custGeom>
              <a:noFill/>
              <a:ln w="3175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3" name="Freeform 103"/>
              <p:cNvSpPr/>
              <p:nvPr/>
            </p:nvSpPr>
            <p:spPr>
              <a:xfrm>
                <a:off x="5016600" y="3642840"/>
                <a:ext cx="1407960" cy="846360"/>
              </a:xfrm>
              <a:custGeom>
                <a:avLst/>
                <a:gdLst>
                  <a:gd name="textAreaLeft" fmla="*/ 0 w 1407960"/>
                  <a:gd name="textAreaRight" fmla="*/ 1408320 w 140796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881" h="345">
                    <a:moveTo>
                      <a:pt x="0" y="306"/>
                    </a:moveTo>
                    <a:lnTo>
                      <a:pt x="46" y="295"/>
                    </a:lnTo>
                    <a:lnTo>
                      <a:pt x="139" y="269"/>
                    </a:lnTo>
                    <a:lnTo>
                      <a:pt x="231" y="240"/>
                    </a:lnTo>
                    <a:lnTo>
                      <a:pt x="324" y="215"/>
                    </a:lnTo>
                    <a:lnTo>
                      <a:pt x="417" y="183"/>
                    </a:lnTo>
                    <a:lnTo>
                      <a:pt x="510" y="151"/>
                    </a:lnTo>
                    <a:lnTo>
                      <a:pt x="603" y="124"/>
                    </a:lnTo>
                    <a:lnTo>
                      <a:pt x="695" y="93"/>
                    </a:lnTo>
                    <a:lnTo>
                      <a:pt x="788" y="51"/>
                    </a:lnTo>
                    <a:lnTo>
                      <a:pt x="881" y="0"/>
                    </a:lnTo>
                    <a:lnTo>
                      <a:pt x="881" y="155"/>
                    </a:lnTo>
                    <a:lnTo>
                      <a:pt x="788" y="184"/>
                    </a:lnTo>
                    <a:lnTo>
                      <a:pt x="695" y="215"/>
                    </a:lnTo>
                    <a:lnTo>
                      <a:pt x="603" y="243"/>
                    </a:lnTo>
                    <a:lnTo>
                      <a:pt x="510" y="254"/>
                    </a:lnTo>
                    <a:lnTo>
                      <a:pt x="417" y="273"/>
                    </a:lnTo>
                    <a:lnTo>
                      <a:pt x="324" y="290"/>
                    </a:lnTo>
                    <a:lnTo>
                      <a:pt x="231" y="298"/>
                    </a:lnTo>
                    <a:lnTo>
                      <a:pt x="139" y="314"/>
                    </a:lnTo>
                    <a:lnTo>
                      <a:pt x="46" y="336"/>
                    </a:lnTo>
                    <a:lnTo>
                      <a:pt x="0" y="345"/>
                    </a:lnTo>
                    <a:lnTo>
                      <a:pt x="0" y="306"/>
                    </a:lnTo>
                    <a:close/>
                  </a:path>
                </a:pathLst>
              </a:custGeom>
              <a:solidFill>
                <a:srgbClr val="006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4" name="Freeform 104"/>
              <p:cNvSpPr/>
              <p:nvPr/>
            </p:nvSpPr>
            <p:spPr>
              <a:xfrm>
                <a:off x="5016600" y="3642840"/>
                <a:ext cx="1407960" cy="846360"/>
              </a:xfrm>
              <a:custGeom>
                <a:avLst/>
                <a:gdLst>
                  <a:gd name="textAreaLeft" fmla="*/ 0 w 1407960"/>
                  <a:gd name="textAreaRight" fmla="*/ 1408320 w 140796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881" h="345">
                    <a:moveTo>
                      <a:pt x="0" y="306"/>
                    </a:moveTo>
                    <a:lnTo>
                      <a:pt x="46" y="295"/>
                    </a:lnTo>
                    <a:lnTo>
                      <a:pt x="139" y="269"/>
                    </a:lnTo>
                    <a:lnTo>
                      <a:pt x="231" y="240"/>
                    </a:lnTo>
                    <a:lnTo>
                      <a:pt x="324" y="215"/>
                    </a:lnTo>
                    <a:lnTo>
                      <a:pt x="417" y="183"/>
                    </a:lnTo>
                    <a:lnTo>
                      <a:pt x="510" y="151"/>
                    </a:lnTo>
                    <a:lnTo>
                      <a:pt x="603" y="124"/>
                    </a:lnTo>
                    <a:lnTo>
                      <a:pt x="695" y="93"/>
                    </a:lnTo>
                    <a:lnTo>
                      <a:pt x="788" y="51"/>
                    </a:lnTo>
                    <a:lnTo>
                      <a:pt x="881" y="0"/>
                    </a:lnTo>
                    <a:lnTo>
                      <a:pt x="881" y="155"/>
                    </a:lnTo>
                    <a:lnTo>
                      <a:pt x="788" y="184"/>
                    </a:lnTo>
                    <a:lnTo>
                      <a:pt x="695" y="215"/>
                    </a:lnTo>
                    <a:lnTo>
                      <a:pt x="603" y="243"/>
                    </a:lnTo>
                    <a:lnTo>
                      <a:pt x="510" y="254"/>
                    </a:lnTo>
                    <a:lnTo>
                      <a:pt x="417" y="273"/>
                    </a:lnTo>
                    <a:lnTo>
                      <a:pt x="324" y="290"/>
                    </a:lnTo>
                    <a:lnTo>
                      <a:pt x="231" y="298"/>
                    </a:lnTo>
                    <a:lnTo>
                      <a:pt x="139" y="314"/>
                    </a:lnTo>
                    <a:lnTo>
                      <a:pt x="46" y="336"/>
                    </a:lnTo>
                    <a:lnTo>
                      <a:pt x="0" y="345"/>
                    </a:lnTo>
                    <a:lnTo>
                      <a:pt x="0" y="306"/>
                    </a:lnTo>
                    <a:close/>
                  </a:path>
                </a:pathLst>
              </a:custGeom>
              <a:noFill/>
              <a:ln w="3175">
                <a:solidFill>
                  <a:srgbClr val="0064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5" name="Freeform 105"/>
              <p:cNvSpPr/>
              <p:nvPr/>
            </p:nvSpPr>
            <p:spPr>
              <a:xfrm>
                <a:off x="5016600" y="4025520"/>
                <a:ext cx="1407960" cy="622800"/>
              </a:xfrm>
              <a:custGeom>
                <a:avLst/>
                <a:gdLst>
                  <a:gd name="textAreaLeft" fmla="*/ 0 w 1407960"/>
                  <a:gd name="textAreaRight" fmla="*/ 1408320 w 1407960"/>
                  <a:gd name="textAreaTop" fmla="*/ 0 h 622800"/>
                  <a:gd name="textAreaBottom" fmla="*/ 623160 h 622800"/>
                </a:gdLst>
                <a:ahLst/>
                <a:rect l="textAreaLeft" t="textAreaTop" r="textAreaRight" b="textAreaBottom"/>
                <a:pathLst>
                  <a:path w="881" h="254">
                    <a:moveTo>
                      <a:pt x="0" y="189"/>
                    </a:moveTo>
                    <a:lnTo>
                      <a:pt x="46" y="180"/>
                    </a:lnTo>
                    <a:lnTo>
                      <a:pt x="139" y="159"/>
                    </a:lnTo>
                    <a:lnTo>
                      <a:pt x="231" y="142"/>
                    </a:lnTo>
                    <a:lnTo>
                      <a:pt x="324" y="134"/>
                    </a:lnTo>
                    <a:lnTo>
                      <a:pt x="417" y="118"/>
                    </a:lnTo>
                    <a:lnTo>
                      <a:pt x="510" y="98"/>
                    </a:lnTo>
                    <a:lnTo>
                      <a:pt x="603" y="87"/>
                    </a:lnTo>
                    <a:lnTo>
                      <a:pt x="695" y="59"/>
                    </a:lnTo>
                    <a:lnTo>
                      <a:pt x="788" y="28"/>
                    </a:lnTo>
                    <a:lnTo>
                      <a:pt x="881" y="0"/>
                    </a:lnTo>
                    <a:lnTo>
                      <a:pt x="881" y="97"/>
                    </a:lnTo>
                    <a:lnTo>
                      <a:pt x="788" y="120"/>
                    </a:lnTo>
                    <a:lnTo>
                      <a:pt x="695" y="148"/>
                    </a:lnTo>
                    <a:lnTo>
                      <a:pt x="603" y="183"/>
                    </a:lnTo>
                    <a:lnTo>
                      <a:pt x="510" y="202"/>
                    </a:lnTo>
                    <a:lnTo>
                      <a:pt x="417" y="220"/>
                    </a:lnTo>
                    <a:lnTo>
                      <a:pt x="324" y="230"/>
                    </a:lnTo>
                    <a:lnTo>
                      <a:pt x="231" y="232"/>
                    </a:lnTo>
                    <a:lnTo>
                      <a:pt x="139" y="239"/>
                    </a:lnTo>
                    <a:lnTo>
                      <a:pt x="46" y="244"/>
                    </a:lnTo>
                    <a:lnTo>
                      <a:pt x="0" y="254"/>
                    </a:lnTo>
                    <a:lnTo>
                      <a:pt x="0" y="189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6" name="Freeform 106"/>
              <p:cNvSpPr/>
              <p:nvPr/>
            </p:nvSpPr>
            <p:spPr>
              <a:xfrm>
                <a:off x="5016600" y="4025520"/>
                <a:ext cx="1407960" cy="622800"/>
              </a:xfrm>
              <a:custGeom>
                <a:avLst/>
                <a:gdLst>
                  <a:gd name="textAreaLeft" fmla="*/ 0 w 1407960"/>
                  <a:gd name="textAreaRight" fmla="*/ 1408320 w 1407960"/>
                  <a:gd name="textAreaTop" fmla="*/ 0 h 622800"/>
                  <a:gd name="textAreaBottom" fmla="*/ 623160 h 622800"/>
                </a:gdLst>
                <a:ahLst/>
                <a:rect l="textAreaLeft" t="textAreaTop" r="textAreaRight" b="textAreaBottom"/>
                <a:pathLst>
                  <a:path w="881" h="254">
                    <a:moveTo>
                      <a:pt x="0" y="189"/>
                    </a:moveTo>
                    <a:lnTo>
                      <a:pt x="46" y="180"/>
                    </a:lnTo>
                    <a:lnTo>
                      <a:pt x="139" y="159"/>
                    </a:lnTo>
                    <a:lnTo>
                      <a:pt x="231" y="142"/>
                    </a:lnTo>
                    <a:lnTo>
                      <a:pt x="324" y="134"/>
                    </a:lnTo>
                    <a:lnTo>
                      <a:pt x="417" y="118"/>
                    </a:lnTo>
                    <a:lnTo>
                      <a:pt x="510" y="98"/>
                    </a:lnTo>
                    <a:lnTo>
                      <a:pt x="603" y="87"/>
                    </a:lnTo>
                    <a:lnTo>
                      <a:pt x="695" y="59"/>
                    </a:lnTo>
                    <a:lnTo>
                      <a:pt x="788" y="28"/>
                    </a:lnTo>
                    <a:lnTo>
                      <a:pt x="881" y="0"/>
                    </a:lnTo>
                    <a:lnTo>
                      <a:pt x="881" y="97"/>
                    </a:lnTo>
                    <a:lnTo>
                      <a:pt x="788" y="120"/>
                    </a:lnTo>
                    <a:lnTo>
                      <a:pt x="695" y="148"/>
                    </a:lnTo>
                    <a:lnTo>
                      <a:pt x="603" y="183"/>
                    </a:lnTo>
                    <a:lnTo>
                      <a:pt x="510" y="202"/>
                    </a:lnTo>
                    <a:lnTo>
                      <a:pt x="417" y="220"/>
                    </a:lnTo>
                    <a:lnTo>
                      <a:pt x="324" y="230"/>
                    </a:lnTo>
                    <a:lnTo>
                      <a:pt x="231" y="232"/>
                    </a:lnTo>
                    <a:lnTo>
                      <a:pt x="139" y="239"/>
                    </a:lnTo>
                    <a:lnTo>
                      <a:pt x="46" y="244"/>
                    </a:lnTo>
                    <a:lnTo>
                      <a:pt x="0" y="254"/>
                    </a:lnTo>
                    <a:lnTo>
                      <a:pt x="0" y="189"/>
                    </a:lnTo>
                    <a:close/>
                  </a:path>
                </a:pathLst>
              </a:custGeom>
              <a:noFill/>
              <a:ln w="3175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7" name="Freeform 107"/>
              <p:cNvSpPr/>
              <p:nvPr/>
            </p:nvSpPr>
            <p:spPr>
              <a:xfrm>
                <a:off x="5016600" y="4263840"/>
                <a:ext cx="1407960" cy="500400"/>
              </a:xfrm>
              <a:custGeom>
                <a:avLst/>
                <a:gdLst>
                  <a:gd name="textAreaLeft" fmla="*/ 0 w 1407960"/>
                  <a:gd name="textAreaRight" fmla="*/ 1408320 w 1407960"/>
                  <a:gd name="textAreaTop" fmla="*/ 0 h 500400"/>
                  <a:gd name="textAreaBottom" fmla="*/ 500760 h 500400"/>
                </a:gdLst>
                <a:ahLst/>
                <a:rect l="textAreaLeft" t="textAreaTop" r="textAreaRight" b="textAreaBottom"/>
                <a:pathLst>
                  <a:path w="881" h="203">
                    <a:moveTo>
                      <a:pt x="0" y="156"/>
                    </a:moveTo>
                    <a:lnTo>
                      <a:pt x="46" y="147"/>
                    </a:lnTo>
                    <a:lnTo>
                      <a:pt x="139" y="142"/>
                    </a:lnTo>
                    <a:lnTo>
                      <a:pt x="231" y="134"/>
                    </a:lnTo>
                    <a:lnTo>
                      <a:pt x="324" y="133"/>
                    </a:lnTo>
                    <a:lnTo>
                      <a:pt x="417" y="123"/>
                    </a:lnTo>
                    <a:lnTo>
                      <a:pt x="510" y="104"/>
                    </a:lnTo>
                    <a:lnTo>
                      <a:pt x="603" y="86"/>
                    </a:lnTo>
                    <a:lnTo>
                      <a:pt x="695" y="50"/>
                    </a:lnTo>
                    <a:lnTo>
                      <a:pt x="788" y="22"/>
                    </a:lnTo>
                    <a:lnTo>
                      <a:pt x="881" y="0"/>
                    </a:lnTo>
                    <a:lnTo>
                      <a:pt x="881" y="197"/>
                    </a:lnTo>
                    <a:lnTo>
                      <a:pt x="788" y="199"/>
                    </a:lnTo>
                    <a:lnTo>
                      <a:pt x="695" y="198"/>
                    </a:lnTo>
                    <a:lnTo>
                      <a:pt x="603" y="197"/>
                    </a:lnTo>
                    <a:lnTo>
                      <a:pt x="510" y="198"/>
                    </a:lnTo>
                    <a:lnTo>
                      <a:pt x="417" y="199"/>
                    </a:lnTo>
                    <a:lnTo>
                      <a:pt x="324" y="199"/>
                    </a:lnTo>
                    <a:lnTo>
                      <a:pt x="231" y="199"/>
                    </a:lnTo>
                    <a:lnTo>
                      <a:pt x="139" y="199"/>
                    </a:lnTo>
                    <a:lnTo>
                      <a:pt x="46" y="201"/>
                    </a:lnTo>
                    <a:lnTo>
                      <a:pt x="0" y="203"/>
                    </a:lnTo>
                    <a:lnTo>
                      <a:pt x="0" y="156"/>
                    </a:lnTo>
                    <a:close/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8" name="Freeform 108"/>
              <p:cNvSpPr/>
              <p:nvPr/>
            </p:nvSpPr>
            <p:spPr>
              <a:xfrm>
                <a:off x="5016600" y="4263840"/>
                <a:ext cx="1407960" cy="500400"/>
              </a:xfrm>
              <a:custGeom>
                <a:avLst/>
                <a:gdLst>
                  <a:gd name="textAreaLeft" fmla="*/ 0 w 1407960"/>
                  <a:gd name="textAreaRight" fmla="*/ 1408320 w 1407960"/>
                  <a:gd name="textAreaTop" fmla="*/ 0 h 500400"/>
                  <a:gd name="textAreaBottom" fmla="*/ 500760 h 500400"/>
                </a:gdLst>
                <a:ahLst/>
                <a:rect l="textAreaLeft" t="textAreaTop" r="textAreaRight" b="textAreaBottom"/>
                <a:pathLst>
                  <a:path w="881" h="203">
                    <a:moveTo>
                      <a:pt x="0" y="156"/>
                    </a:moveTo>
                    <a:lnTo>
                      <a:pt x="46" y="147"/>
                    </a:lnTo>
                    <a:lnTo>
                      <a:pt x="139" y="142"/>
                    </a:lnTo>
                    <a:lnTo>
                      <a:pt x="231" y="134"/>
                    </a:lnTo>
                    <a:lnTo>
                      <a:pt x="324" y="133"/>
                    </a:lnTo>
                    <a:lnTo>
                      <a:pt x="417" y="123"/>
                    </a:lnTo>
                    <a:lnTo>
                      <a:pt x="510" y="104"/>
                    </a:lnTo>
                    <a:lnTo>
                      <a:pt x="603" y="86"/>
                    </a:lnTo>
                    <a:lnTo>
                      <a:pt x="695" y="50"/>
                    </a:lnTo>
                    <a:lnTo>
                      <a:pt x="788" y="22"/>
                    </a:lnTo>
                    <a:lnTo>
                      <a:pt x="881" y="0"/>
                    </a:lnTo>
                    <a:lnTo>
                      <a:pt x="881" y="197"/>
                    </a:lnTo>
                    <a:lnTo>
                      <a:pt x="788" y="199"/>
                    </a:lnTo>
                    <a:lnTo>
                      <a:pt x="695" y="198"/>
                    </a:lnTo>
                    <a:lnTo>
                      <a:pt x="603" y="197"/>
                    </a:lnTo>
                    <a:lnTo>
                      <a:pt x="510" y="198"/>
                    </a:lnTo>
                    <a:lnTo>
                      <a:pt x="417" y="199"/>
                    </a:lnTo>
                    <a:lnTo>
                      <a:pt x="324" y="199"/>
                    </a:lnTo>
                    <a:lnTo>
                      <a:pt x="231" y="199"/>
                    </a:lnTo>
                    <a:lnTo>
                      <a:pt x="139" y="199"/>
                    </a:lnTo>
                    <a:lnTo>
                      <a:pt x="46" y="201"/>
                    </a:lnTo>
                    <a:lnTo>
                      <a:pt x="0" y="203"/>
                    </a:lnTo>
                    <a:lnTo>
                      <a:pt x="0" y="156"/>
                    </a:lnTo>
                    <a:close/>
                  </a:path>
                </a:pathLst>
              </a:custGeom>
              <a:noFill/>
              <a:ln w="3175">
                <a:solidFill>
                  <a:srgbClr val="20202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9" name="Freeform 109"/>
              <p:cNvSpPr/>
              <p:nvPr/>
            </p:nvSpPr>
            <p:spPr>
              <a:xfrm>
                <a:off x="5016600" y="4746960"/>
                <a:ext cx="1407960" cy="63360"/>
              </a:xfrm>
              <a:custGeom>
                <a:avLst/>
                <a:gdLst>
                  <a:gd name="textAreaLeft" fmla="*/ 0 w 1407960"/>
                  <a:gd name="textAreaRight" fmla="*/ 1408320 w 1407960"/>
                  <a:gd name="textAreaTop" fmla="*/ 0 h 63360"/>
                  <a:gd name="textAreaBottom" fmla="*/ 63720 h 63360"/>
                </a:gdLst>
                <a:ahLst/>
                <a:rect l="textAreaLeft" t="textAreaTop" r="textAreaRight" b="textAreaBottom"/>
                <a:pathLst>
                  <a:path w="881" h="25">
                    <a:moveTo>
                      <a:pt x="0" y="6"/>
                    </a:moveTo>
                    <a:lnTo>
                      <a:pt x="46" y="4"/>
                    </a:lnTo>
                    <a:lnTo>
                      <a:pt x="139" y="2"/>
                    </a:lnTo>
                    <a:lnTo>
                      <a:pt x="231" y="2"/>
                    </a:lnTo>
                    <a:lnTo>
                      <a:pt x="324" y="2"/>
                    </a:lnTo>
                    <a:lnTo>
                      <a:pt x="417" y="2"/>
                    </a:lnTo>
                    <a:lnTo>
                      <a:pt x="510" y="1"/>
                    </a:lnTo>
                    <a:lnTo>
                      <a:pt x="603" y="0"/>
                    </a:lnTo>
                    <a:lnTo>
                      <a:pt x="695" y="1"/>
                    </a:lnTo>
                    <a:lnTo>
                      <a:pt x="788" y="2"/>
                    </a:lnTo>
                    <a:lnTo>
                      <a:pt x="881" y="0"/>
                    </a:lnTo>
                    <a:lnTo>
                      <a:pt x="881" y="25"/>
                    </a:lnTo>
                    <a:lnTo>
                      <a:pt x="788" y="25"/>
                    </a:lnTo>
                    <a:lnTo>
                      <a:pt x="695" y="25"/>
                    </a:lnTo>
                    <a:lnTo>
                      <a:pt x="603" y="25"/>
                    </a:lnTo>
                    <a:lnTo>
                      <a:pt x="510" y="25"/>
                    </a:lnTo>
                    <a:lnTo>
                      <a:pt x="417" y="25"/>
                    </a:lnTo>
                    <a:lnTo>
                      <a:pt x="324" y="25"/>
                    </a:lnTo>
                    <a:lnTo>
                      <a:pt x="231" y="25"/>
                    </a:lnTo>
                    <a:lnTo>
                      <a:pt x="139" y="25"/>
                    </a:lnTo>
                    <a:lnTo>
                      <a:pt x="46" y="25"/>
                    </a:lnTo>
                    <a:lnTo>
                      <a:pt x="0" y="25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0" name="Freeform 110"/>
              <p:cNvSpPr/>
              <p:nvPr/>
            </p:nvSpPr>
            <p:spPr>
              <a:xfrm>
                <a:off x="5016600" y="4746960"/>
                <a:ext cx="1407960" cy="63360"/>
              </a:xfrm>
              <a:custGeom>
                <a:avLst/>
                <a:gdLst>
                  <a:gd name="textAreaLeft" fmla="*/ 0 w 1407960"/>
                  <a:gd name="textAreaRight" fmla="*/ 1408320 w 1407960"/>
                  <a:gd name="textAreaTop" fmla="*/ 0 h 63360"/>
                  <a:gd name="textAreaBottom" fmla="*/ 63720 h 63360"/>
                </a:gdLst>
                <a:ahLst/>
                <a:rect l="textAreaLeft" t="textAreaTop" r="textAreaRight" b="textAreaBottom"/>
                <a:pathLst>
                  <a:path w="881" h="25">
                    <a:moveTo>
                      <a:pt x="0" y="6"/>
                    </a:moveTo>
                    <a:lnTo>
                      <a:pt x="46" y="4"/>
                    </a:lnTo>
                    <a:lnTo>
                      <a:pt x="139" y="2"/>
                    </a:lnTo>
                    <a:lnTo>
                      <a:pt x="231" y="2"/>
                    </a:lnTo>
                    <a:lnTo>
                      <a:pt x="324" y="2"/>
                    </a:lnTo>
                    <a:lnTo>
                      <a:pt x="417" y="2"/>
                    </a:lnTo>
                    <a:lnTo>
                      <a:pt x="510" y="1"/>
                    </a:lnTo>
                    <a:lnTo>
                      <a:pt x="603" y="0"/>
                    </a:lnTo>
                    <a:lnTo>
                      <a:pt x="695" y="1"/>
                    </a:lnTo>
                    <a:lnTo>
                      <a:pt x="788" y="2"/>
                    </a:lnTo>
                    <a:lnTo>
                      <a:pt x="881" y="0"/>
                    </a:lnTo>
                    <a:lnTo>
                      <a:pt x="881" y="25"/>
                    </a:lnTo>
                    <a:lnTo>
                      <a:pt x="788" y="25"/>
                    </a:lnTo>
                    <a:lnTo>
                      <a:pt x="695" y="25"/>
                    </a:lnTo>
                    <a:lnTo>
                      <a:pt x="603" y="25"/>
                    </a:lnTo>
                    <a:lnTo>
                      <a:pt x="510" y="25"/>
                    </a:lnTo>
                    <a:lnTo>
                      <a:pt x="417" y="25"/>
                    </a:lnTo>
                    <a:lnTo>
                      <a:pt x="324" y="25"/>
                    </a:lnTo>
                    <a:lnTo>
                      <a:pt x="231" y="25"/>
                    </a:lnTo>
                    <a:lnTo>
                      <a:pt x="139" y="25"/>
                    </a:lnTo>
                    <a:lnTo>
                      <a:pt x="46" y="25"/>
                    </a:lnTo>
                    <a:lnTo>
                      <a:pt x="0" y="25"/>
                    </a:lnTo>
                    <a:lnTo>
                      <a:pt x="0" y="6"/>
                    </a:lnTo>
                    <a:close/>
                  </a:path>
                </a:pathLst>
              </a:custGeom>
              <a:noFill/>
              <a:ln w="3175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1" name="Freeform 111"/>
              <p:cNvSpPr/>
              <p:nvPr/>
            </p:nvSpPr>
            <p:spPr>
              <a:xfrm>
                <a:off x="2720520" y="4369320"/>
                <a:ext cx="2310120" cy="414360"/>
              </a:xfrm>
              <a:custGeom>
                <a:avLst/>
                <a:gdLst>
                  <a:gd name="textAreaLeft" fmla="*/ 0 w 2310120"/>
                  <a:gd name="textAreaRight" fmla="*/ 2310480 w 2310120"/>
                  <a:gd name="textAreaTop" fmla="*/ 0 h 414360"/>
                  <a:gd name="textAreaBottom" fmla="*/ 414720 h 414360"/>
                </a:gdLst>
                <a:ahLst/>
                <a:rect l="textAreaLeft" t="textAreaTop" r="textAreaRight" b="textAreaBottom"/>
                <a:pathLst>
                  <a:path w="1447" h="169">
                    <a:moveTo>
                      <a:pt x="0" y="168"/>
                    </a:moveTo>
                    <a:lnTo>
                      <a:pt x="9" y="168"/>
                    </a:lnTo>
                    <a:lnTo>
                      <a:pt x="18" y="169"/>
                    </a:lnTo>
                    <a:lnTo>
                      <a:pt x="27" y="168"/>
                    </a:lnTo>
                    <a:lnTo>
                      <a:pt x="37" y="168"/>
                    </a:lnTo>
                    <a:lnTo>
                      <a:pt x="46" y="168"/>
                    </a:lnTo>
                    <a:lnTo>
                      <a:pt x="55" y="168"/>
                    </a:lnTo>
                    <a:lnTo>
                      <a:pt x="64" y="168"/>
                    </a:lnTo>
                    <a:lnTo>
                      <a:pt x="74" y="168"/>
                    </a:lnTo>
                    <a:lnTo>
                      <a:pt x="83" y="168"/>
                    </a:lnTo>
                    <a:lnTo>
                      <a:pt x="92" y="168"/>
                    </a:lnTo>
                    <a:lnTo>
                      <a:pt x="102" y="168"/>
                    </a:lnTo>
                    <a:lnTo>
                      <a:pt x="111" y="167"/>
                    </a:lnTo>
                    <a:lnTo>
                      <a:pt x="120" y="167"/>
                    </a:lnTo>
                    <a:lnTo>
                      <a:pt x="129" y="167"/>
                    </a:lnTo>
                    <a:lnTo>
                      <a:pt x="139" y="167"/>
                    </a:lnTo>
                    <a:lnTo>
                      <a:pt x="148" y="167"/>
                    </a:lnTo>
                    <a:lnTo>
                      <a:pt x="157" y="167"/>
                    </a:lnTo>
                    <a:lnTo>
                      <a:pt x="167" y="167"/>
                    </a:lnTo>
                    <a:lnTo>
                      <a:pt x="176" y="167"/>
                    </a:lnTo>
                    <a:lnTo>
                      <a:pt x="185" y="166"/>
                    </a:lnTo>
                    <a:lnTo>
                      <a:pt x="194" y="166"/>
                    </a:lnTo>
                    <a:lnTo>
                      <a:pt x="204" y="166"/>
                    </a:lnTo>
                    <a:lnTo>
                      <a:pt x="213" y="166"/>
                    </a:lnTo>
                    <a:lnTo>
                      <a:pt x="222" y="166"/>
                    </a:lnTo>
                    <a:lnTo>
                      <a:pt x="232" y="166"/>
                    </a:lnTo>
                    <a:lnTo>
                      <a:pt x="241" y="166"/>
                    </a:lnTo>
                    <a:lnTo>
                      <a:pt x="250" y="165"/>
                    </a:lnTo>
                    <a:lnTo>
                      <a:pt x="259" y="165"/>
                    </a:lnTo>
                    <a:lnTo>
                      <a:pt x="269" y="165"/>
                    </a:lnTo>
                    <a:lnTo>
                      <a:pt x="278" y="165"/>
                    </a:lnTo>
                    <a:lnTo>
                      <a:pt x="287" y="165"/>
                    </a:lnTo>
                    <a:lnTo>
                      <a:pt x="296" y="164"/>
                    </a:lnTo>
                    <a:lnTo>
                      <a:pt x="306" y="164"/>
                    </a:lnTo>
                    <a:lnTo>
                      <a:pt x="315" y="164"/>
                    </a:lnTo>
                    <a:lnTo>
                      <a:pt x="324" y="164"/>
                    </a:lnTo>
                    <a:lnTo>
                      <a:pt x="334" y="164"/>
                    </a:lnTo>
                    <a:lnTo>
                      <a:pt x="343" y="164"/>
                    </a:lnTo>
                    <a:lnTo>
                      <a:pt x="352" y="163"/>
                    </a:lnTo>
                    <a:lnTo>
                      <a:pt x="361" y="163"/>
                    </a:lnTo>
                    <a:lnTo>
                      <a:pt x="371" y="163"/>
                    </a:lnTo>
                    <a:lnTo>
                      <a:pt x="380" y="163"/>
                    </a:lnTo>
                    <a:lnTo>
                      <a:pt x="389" y="163"/>
                    </a:lnTo>
                    <a:lnTo>
                      <a:pt x="399" y="163"/>
                    </a:lnTo>
                    <a:lnTo>
                      <a:pt x="408" y="162"/>
                    </a:lnTo>
                    <a:lnTo>
                      <a:pt x="417" y="162"/>
                    </a:lnTo>
                    <a:lnTo>
                      <a:pt x="426" y="162"/>
                    </a:lnTo>
                    <a:lnTo>
                      <a:pt x="436" y="162"/>
                    </a:lnTo>
                    <a:lnTo>
                      <a:pt x="445" y="161"/>
                    </a:lnTo>
                    <a:lnTo>
                      <a:pt x="454" y="161"/>
                    </a:lnTo>
                    <a:lnTo>
                      <a:pt x="464" y="160"/>
                    </a:lnTo>
                    <a:lnTo>
                      <a:pt x="473" y="160"/>
                    </a:lnTo>
                    <a:lnTo>
                      <a:pt x="482" y="160"/>
                    </a:lnTo>
                    <a:lnTo>
                      <a:pt x="491" y="159"/>
                    </a:lnTo>
                    <a:lnTo>
                      <a:pt x="501" y="159"/>
                    </a:lnTo>
                    <a:lnTo>
                      <a:pt x="510" y="158"/>
                    </a:lnTo>
                    <a:lnTo>
                      <a:pt x="519" y="157"/>
                    </a:lnTo>
                    <a:lnTo>
                      <a:pt x="528" y="156"/>
                    </a:lnTo>
                    <a:lnTo>
                      <a:pt x="538" y="157"/>
                    </a:lnTo>
                    <a:lnTo>
                      <a:pt x="547" y="156"/>
                    </a:lnTo>
                    <a:lnTo>
                      <a:pt x="556" y="156"/>
                    </a:lnTo>
                    <a:lnTo>
                      <a:pt x="566" y="155"/>
                    </a:lnTo>
                    <a:lnTo>
                      <a:pt x="575" y="155"/>
                    </a:lnTo>
                    <a:lnTo>
                      <a:pt x="584" y="154"/>
                    </a:lnTo>
                    <a:lnTo>
                      <a:pt x="593" y="155"/>
                    </a:lnTo>
                    <a:lnTo>
                      <a:pt x="603" y="155"/>
                    </a:lnTo>
                    <a:lnTo>
                      <a:pt x="612" y="154"/>
                    </a:lnTo>
                    <a:lnTo>
                      <a:pt x="621" y="153"/>
                    </a:lnTo>
                    <a:lnTo>
                      <a:pt x="631" y="153"/>
                    </a:lnTo>
                    <a:lnTo>
                      <a:pt x="640" y="155"/>
                    </a:lnTo>
                    <a:lnTo>
                      <a:pt x="649" y="153"/>
                    </a:lnTo>
                    <a:lnTo>
                      <a:pt x="658" y="155"/>
                    </a:lnTo>
                    <a:lnTo>
                      <a:pt x="668" y="154"/>
                    </a:lnTo>
                    <a:lnTo>
                      <a:pt x="677" y="152"/>
                    </a:lnTo>
                    <a:lnTo>
                      <a:pt x="686" y="152"/>
                    </a:lnTo>
                    <a:lnTo>
                      <a:pt x="696" y="151"/>
                    </a:lnTo>
                    <a:lnTo>
                      <a:pt x="705" y="151"/>
                    </a:lnTo>
                    <a:lnTo>
                      <a:pt x="714" y="150"/>
                    </a:lnTo>
                    <a:lnTo>
                      <a:pt x="723" y="149"/>
                    </a:lnTo>
                    <a:lnTo>
                      <a:pt x="733" y="148"/>
                    </a:lnTo>
                    <a:lnTo>
                      <a:pt x="742" y="149"/>
                    </a:lnTo>
                    <a:lnTo>
                      <a:pt x="751" y="150"/>
                    </a:lnTo>
                    <a:lnTo>
                      <a:pt x="760" y="152"/>
                    </a:lnTo>
                    <a:lnTo>
                      <a:pt x="770" y="151"/>
                    </a:lnTo>
                    <a:lnTo>
                      <a:pt x="779" y="150"/>
                    </a:lnTo>
                    <a:lnTo>
                      <a:pt x="788" y="149"/>
                    </a:lnTo>
                    <a:lnTo>
                      <a:pt x="798" y="148"/>
                    </a:lnTo>
                    <a:lnTo>
                      <a:pt x="807" y="147"/>
                    </a:lnTo>
                    <a:lnTo>
                      <a:pt x="816" y="147"/>
                    </a:lnTo>
                    <a:lnTo>
                      <a:pt x="825" y="145"/>
                    </a:lnTo>
                    <a:lnTo>
                      <a:pt x="835" y="145"/>
                    </a:lnTo>
                    <a:lnTo>
                      <a:pt x="844" y="143"/>
                    </a:lnTo>
                    <a:lnTo>
                      <a:pt x="853" y="142"/>
                    </a:lnTo>
                    <a:lnTo>
                      <a:pt x="863" y="142"/>
                    </a:lnTo>
                    <a:lnTo>
                      <a:pt x="872" y="142"/>
                    </a:lnTo>
                    <a:lnTo>
                      <a:pt x="881" y="145"/>
                    </a:lnTo>
                    <a:lnTo>
                      <a:pt x="890" y="143"/>
                    </a:lnTo>
                    <a:lnTo>
                      <a:pt x="900" y="141"/>
                    </a:lnTo>
                    <a:lnTo>
                      <a:pt x="909" y="140"/>
                    </a:lnTo>
                    <a:lnTo>
                      <a:pt x="918" y="140"/>
                    </a:lnTo>
                    <a:lnTo>
                      <a:pt x="928" y="137"/>
                    </a:lnTo>
                    <a:lnTo>
                      <a:pt x="937" y="136"/>
                    </a:lnTo>
                    <a:lnTo>
                      <a:pt x="946" y="135"/>
                    </a:lnTo>
                    <a:lnTo>
                      <a:pt x="955" y="134"/>
                    </a:lnTo>
                    <a:lnTo>
                      <a:pt x="965" y="133"/>
                    </a:lnTo>
                    <a:lnTo>
                      <a:pt x="974" y="131"/>
                    </a:lnTo>
                    <a:lnTo>
                      <a:pt x="983" y="129"/>
                    </a:lnTo>
                    <a:lnTo>
                      <a:pt x="992" y="126"/>
                    </a:lnTo>
                    <a:lnTo>
                      <a:pt x="1002" y="124"/>
                    </a:lnTo>
                    <a:lnTo>
                      <a:pt x="1011" y="122"/>
                    </a:lnTo>
                    <a:lnTo>
                      <a:pt x="1020" y="120"/>
                    </a:lnTo>
                    <a:lnTo>
                      <a:pt x="1030" y="118"/>
                    </a:lnTo>
                    <a:lnTo>
                      <a:pt x="1039" y="115"/>
                    </a:lnTo>
                    <a:lnTo>
                      <a:pt x="1048" y="112"/>
                    </a:lnTo>
                    <a:lnTo>
                      <a:pt x="1057" y="109"/>
                    </a:lnTo>
                    <a:lnTo>
                      <a:pt x="1067" y="109"/>
                    </a:lnTo>
                    <a:lnTo>
                      <a:pt x="1076" y="106"/>
                    </a:lnTo>
                    <a:lnTo>
                      <a:pt x="1085" y="104"/>
                    </a:lnTo>
                    <a:lnTo>
                      <a:pt x="1095" y="101"/>
                    </a:lnTo>
                    <a:lnTo>
                      <a:pt x="1104" y="97"/>
                    </a:lnTo>
                    <a:lnTo>
                      <a:pt x="1113" y="94"/>
                    </a:lnTo>
                    <a:lnTo>
                      <a:pt x="1122" y="91"/>
                    </a:lnTo>
                    <a:lnTo>
                      <a:pt x="1132" y="86"/>
                    </a:lnTo>
                    <a:lnTo>
                      <a:pt x="1141" y="81"/>
                    </a:lnTo>
                    <a:lnTo>
                      <a:pt x="1150" y="81"/>
                    </a:lnTo>
                    <a:lnTo>
                      <a:pt x="1160" y="81"/>
                    </a:lnTo>
                    <a:lnTo>
                      <a:pt x="1169" y="75"/>
                    </a:lnTo>
                    <a:lnTo>
                      <a:pt x="1178" y="72"/>
                    </a:lnTo>
                    <a:lnTo>
                      <a:pt x="1187" y="68"/>
                    </a:lnTo>
                    <a:lnTo>
                      <a:pt x="1197" y="65"/>
                    </a:lnTo>
                    <a:lnTo>
                      <a:pt x="1206" y="65"/>
                    </a:lnTo>
                    <a:lnTo>
                      <a:pt x="1215" y="66"/>
                    </a:lnTo>
                    <a:lnTo>
                      <a:pt x="1224" y="66"/>
                    </a:lnTo>
                    <a:lnTo>
                      <a:pt x="1234" y="66"/>
                    </a:lnTo>
                    <a:lnTo>
                      <a:pt x="1243" y="62"/>
                    </a:lnTo>
                    <a:lnTo>
                      <a:pt x="1252" y="59"/>
                    </a:lnTo>
                    <a:lnTo>
                      <a:pt x="1262" y="57"/>
                    </a:lnTo>
                    <a:lnTo>
                      <a:pt x="1271" y="52"/>
                    </a:lnTo>
                    <a:lnTo>
                      <a:pt x="1280" y="48"/>
                    </a:lnTo>
                    <a:lnTo>
                      <a:pt x="1289" y="46"/>
                    </a:lnTo>
                    <a:lnTo>
                      <a:pt x="1299" y="44"/>
                    </a:lnTo>
                    <a:lnTo>
                      <a:pt x="1308" y="43"/>
                    </a:lnTo>
                    <a:lnTo>
                      <a:pt x="1317" y="43"/>
                    </a:lnTo>
                    <a:lnTo>
                      <a:pt x="1327" y="42"/>
                    </a:lnTo>
                    <a:lnTo>
                      <a:pt x="1336" y="41"/>
                    </a:lnTo>
                    <a:lnTo>
                      <a:pt x="1345" y="38"/>
                    </a:lnTo>
                    <a:lnTo>
                      <a:pt x="1354" y="34"/>
                    </a:lnTo>
                    <a:lnTo>
                      <a:pt x="1364" y="33"/>
                    </a:lnTo>
                    <a:lnTo>
                      <a:pt x="1373" y="32"/>
                    </a:lnTo>
                    <a:lnTo>
                      <a:pt x="1382" y="29"/>
                    </a:lnTo>
                    <a:lnTo>
                      <a:pt x="1392" y="26"/>
                    </a:lnTo>
                    <a:lnTo>
                      <a:pt x="1401" y="26"/>
                    </a:lnTo>
                    <a:lnTo>
                      <a:pt x="1410" y="22"/>
                    </a:lnTo>
                    <a:lnTo>
                      <a:pt x="1419" y="16"/>
                    </a:lnTo>
                    <a:lnTo>
                      <a:pt x="1429" y="8"/>
                    </a:lnTo>
                    <a:lnTo>
                      <a:pt x="1438" y="4"/>
                    </a:lnTo>
                    <a:lnTo>
                      <a:pt x="1447" y="0"/>
                    </a:lnTo>
                    <a:lnTo>
                      <a:pt x="1447" y="4"/>
                    </a:lnTo>
                    <a:lnTo>
                      <a:pt x="1438" y="8"/>
                    </a:lnTo>
                    <a:lnTo>
                      <a:pt x="1429" y="12"/>
                    </a:lnTo>
                    <a:lnTo>
                      <a:pt x="1419" y="20"/>
                    </a:lnTo>
                    <a:lnTo>
                      <a:pt x="1410" y="26"/>
                    </a:lnTo>
                    <a:lnTo>
                      <a:pt x="1401" y="29"/>
                    </a:lnTo>
                    <a:lnTo>
                      <a:pt x="1392" y="30"/>
                    </a:lnTo>
                    <a:lnTo>
                      <a:pt x="1382" y="33"/>
                    </a:lnTo>
                    <a:lnTo>
                      <a:pt x="1373" y="36"/>
                    </a:lnTo>
                    <a:lnTo>
                      <a:pt x="1364" y="36"/>
                    </a:lnTo>
                    <a:lnTo>
                      <a:pt x="1354" y="38"/>
                    </a:lnTo>
                    <a:lnTo>
                      <a:pt x="1345" y="41"/>
                    </a:lnTo>
                    <a:lnTo>
                      <a:pt x="1336" y="44"/>
                    </a:lnTo>
                    <a:lnTo>
                      <a:pt x="1327" y="45"/>
                    </a:lnTo>
                    <a:lnTo>
                      <a:pt x="1317" y="46"/>
                    </a:lnTo>
                    <a:lnTo>
                      <a:pt x="1308" y="46"/>
                    </a:lnTo>
                    <a:lnTo>
                      <a:pt x="1299" y="47"/>
                    </a:lnTo>
                    <a:lnTo>
                      <a:pt x="1289" y="49"/>
                    </a:lnTo>
                    <a:lnTo>
                      <a:pt x="1280" y="51"/>
                    </a:lnTo>
                    <a:lnTo>
                      <a:pt x="1271" y="55"/>
                    </a:lnTo>
                    <a:lnTo>
                      <a:pt x="1262" y="60"/>
                    </a:lnTo>
                    <a:lnTo>
                      <a:pt x="1252" y="62"/>
                    </a:lnTo>
                    <a:lnTo>
                      <a:pt x="1243" y="64"/>
                    </a:lnTo>
                    <a:lnTo>
                      <a:pt x="1234" y="68"/>
                    </a:lnTo>
                    <a:lnTo>
                      <a:pt x="1224" y="69"/>
                    </a:lnTo>
                    <a:lnTo>
                      <a:pt x="1215" y="69"/>
                    </a:lnTo>
                    <a:lnTo>
                      <a:pt x="1206" y="67"/>
                    </a:lnTo>
                    <a:lnTo>
                      <a:pt x="1197" y="67"/>
                    </a:lnTo>
                    <a:lnTo>
                      <a:pt x="1187" y="70"/>
                    </a:lnTo>
                    <a:lnTo>
                      <a:pt x="1178" y="74"/>
                    </a:lnTo>
                    <a:lnTo>
                      <a:pt x="1169" y="77"/>
                    </a:lnTo>
                    <a:lnTo>
                      <a:pt x="1160" y="83"/>
                    </a:lnTo>
                    <a:lnTo>
                      <a:pt x="1150" y="83"/>
                    </a:lnTo>
                    <a:lnTo>
                      <a:pt x="1141" y="83"/>
                    </a:lnTo>
                    <a:lnTo>
                      <a:pt x="1132" y="88"/>
                    </a:lnTo>
                    <a:lnTo>
                      <a:pt x="1122" y="92"/>
                    </a:lnTo>
                    <a:lnTo>
                      <a:pt x="1113" y="95"/>
                    </a:lnTo>
                    <a:lnTo>
                      <a:pt x="1104" y="99"/>
                    </a:lnTo>
                    <a:lnTo>
                      <a:pt x="1095" y="102"/>
                    </a:lnTo>
                    <a:lnTo>
                      <a:pt x="1085" y="106"/>
                    </a:lnTo>
                    <a:lnTo>
                      <a:pt x="1076" y="107"/>
                    </a:lnTo>
                    <a:lnTo>
                      <a:pt x="1067" y="110"/>
                    </a:lnTo>
                    <a:lnTo>
                      <a:pt x="1057" y="110"/>
                    </a:lnTo>
                    <a:lnTo>
                      <a:pt x="1048" y="113"/>
                    </a:lnTo>
                    <a:lnTo>
                      <a:pt x="1039" y="116"/>
                    </a:lnTo>
                    <a:lnTo>
                      <a:pt x="1030" y="119"/>
                    </a:lnTo>
                    <a:lnTo>
                      <a:pt x="1020" y="121"/>
                    </a:lnTo>
                    <a:lnTo>
                      <a:pt x="1011" y="123"/>
                    </a:lnTo>
                    <a:lnTo>
                      <a:pt x="1002" y="125"/>
                    </a:lnTo>
                    <a:lnTo>
                      <a:pt x="992" y="127"/>
                    </a:lnTo>
                    <a:lnTo>
                      <a:pt x="983" y="130"/>
                    </a:lnTo>
                    <a:lnTo>
                      <a:pt x="974" y="132"/>
                    </a:lnTo>
                    <a:lnTo>
                      <a:pt x="965" y="134"/>
                    </a:lnTo>
                    <a:lnTo>
                      <a:pt x="955" y="134"/>
                    </a:lnTo>
                    <a:lnTo>
                      <a:pt x="946" y="136"/>
                    </a:lnTo>
                    <a:lnTo>
                      <a:pt x="937" y="137"/>
                    </a:lnTo>
                    <a:lnTo>
                      <a:pt x="928" y="138"/>
                    </a:lnTo>
                    <a:lnTo>
                      <a:pt x="918" y="141"/>
                    </a:lnTo>
                    <a:lnTo>
                      <a:pt x="909" y="141"/>
                    </a:lnTo>
                    <a:lnTo>
                      <a:pt x="900" y="142"/>
                    </a:lnTo>
                    <a:lnTo>
                      <a:pt x="890" y="144"/>
                    </a:lnTo>
                    <a:lnTo>
                      <a:pt x="881" y="146"/>
                    </a:lnTo>
                    <a:lnTo>
                      <a:pt x="872" y="143"/>
                    </a:lnTo>
                    <a:lnTo>
                      <a:pt x="863" y="142"/>
                    </a:lnTo>
                    <a:lnTo>
                      <a:pt x="853" y="143"/>
                    </a:lnTo>
                    <a:lnTo>
                      <a:pt x="844" y="144"/>
                    </a:lnTo>
                    <a:lnTo>
                      <a:pt x="835" y="146"/>
                    </a:lnTo>
                    <a:lnTo>
                      <a:pt x="825" y="146"/>
                    </a:lnTo>
                    <a:lnTo>
                      <a:pt x="816" y="148"/>
                    </a:lnTo>
                    <a:lnTo>
                      <a:pt x="807" y="147"/>
                    </a:lnTo>
                    <a:lnTo>
                      <a:pt x="798" y="148"/>
                    </a:lnTo>
                    <a:lnTo>
                      <a:pt x="788" y="150"/>
                    </a:lnTo>
                    <a:lnTo>
                      <a:pt x="779" y="151"/>
                    </a:lnTo>
                    <a:lnTo>
                      <a:pt x="770" y="152"/>
                    </a:lnTo>
                    <a:lnTo>
                      <a:pt x="760" y="152"/>
                    </a:lnTo>
                    <a:lnTo>
                      <a:pt x="751" y="151"/>
                    </a:lnTo>
                    <a:lnTo>
                      <a:pt x="742" y="150"/>
                    </a:lnTo>
                    <a:lnTo>
                      <a:pt x="733" y="149"/>
                    </a:lnTo>
                    <a:lnTo>
                      <a:pt x="723" y="149"/>
                    </a:lnTo>
                    <a:lnTo>
                      <a:pt x="714" y="150"/>
                    </a:lnTo>
                    <a:lnTo>
                      <a:pt x="705" y="151"/>
                    </a:lnTo>
                    <a:lnTo>
                      <a:pt x="696" y="151"/>
                    </a:lnTo>
                    <a:lnTo>
                      <a:pt x="686" y="152"/>
                    </a:lnTo>
                    <a:lnTo>
                      <a:pt x="677" y="152"/>
                    </a:lnTo>
                    <a:lnTo>
                      <a:pt x="668" y="154"/>
                    </a:lnTo>
                    <a:lnTo>
                      <a:pt x="658" y="155"/>
                    </a:lnTo>
                    <a:lnTo>
                      <a:pt x="649" y="153"/>
                    </a:lnTo>
                    <a:lnTo>
                      <a:pt x="640" y="155"/>
                    </a:lnTo>
                    <a:lnTo>
                      <a:pt x="631" y="153"/>
                    </a:lnTo>
                    <a:lnTo>
                      <a:pt x="621" y="153"/>
                    </a:lnTo>
                    <a:lnTo>
                      <a:pt x="612" y="154"/>
                    </a:lnTo>
                    <a:lnTo>
                      <a:pt x="603" y="155"/>
                    </a:lnTo>
                    <a:lnTo>
                      <a:pt x="593" y="155"/>
                    </a:lnTo>
                    <a:lnTo>
                      <a:pt x="584" y="154"/>
                    </a:lnTo>
                    <a:lnTo>
                      <a:pt x="575" y="155"/>
                    </a:lnTo>
                    <a:lnTo>
                      <a:pt x="566" y="155"/>
                    </a:lnTo>
                    <a:lnTo>
                      <a:pt x="556" y="156"/>
                    </a:lnTo>
                    <a:lnTo>
                      <a:pt x="547" y="156"/>
                    </a:lnTo>
                    <a:lnTo>
                      <a:pt x="538" y="157"/>
                    </a:lnTo>
                    <a:lnTo>
                      <a:pt x="528" y="156"/>
                    </a:lnTo>
                    <a:lnTo>
                      <a:pt x="519" y="157"/>
                    </a:lnTo>
                    <a:lnTo>
                      <a:pt x="510" y="158"/>
                    </a:lnTo>
                    <a:lnTo>
                      <a:pt x="501" y="159"/>
                    </a:lnTo>
                    <a:lnTo>
                      <a:pt x="491" y="159"/>
                    </a:lnTo>
                    <a:lnTo>
                      <a:pt x="482" y="160"/>
                    </a:lnTo>
                    <a:lnTo>
                      <a:pt x="473" y="160"/>
                    </a:lnTo>
                    <a:lnTo>
                      <a:pt x="464" y="160"/>
                    </a:lnTo>
                    <a:lnTo>
                      <a:pt x="454" y="161"/>
                    </a:lnTo>
                    <a:lnTo>
                      <a:pt x="445" y="161"/>
                    </a:lnTo>
                    <a:lnTo>
                      <a:pt x="436" y="162"/>
                    </a:lnTo>
                    <a:lnTo>
                      <a:pt x="426" y="162"/>
                    </a:lnTo>
                    <a:lnTo>
                      <a:pt x="417" y="162"/>
                    </a:lnTo>
                    <a:lnTo>
                      <a:pt x="408" y="162"/>
                    </a:lnTo>
                    <a:lnTo>
                      <a:pt x="399" y="163"/>
                    </a:lnTo>
                    <a:lnTo>
                      <a:pt x="389" y="163"/>
                    </a:lnTo>
                    <a:lnTo>
                      <a:pt x="380" y="163"/>
                    </a:lnTo>
                    <a:lnTo>
                      <a:pt x="371" y="163"/>
                    </a:lnTo>
                    <a:lnTo>
                      <a:pt x="361" y="163"/>
                    </a:lnTo>
                    <a:lnTo>
                      <a:pt x="352" y="163"/>
                    </a:lnTo>
                    <a:lnTo>
                      <a:pt x="343" y="164"/>
                    </a:lnTo>
                    <a:lnTo>
                      <a:pt x="334" y="164"/>
                    </a:lnTo>
                    <a:lnTo>
                      <a:pt x="324" y="164"/>
                    </a:lnTo>
                    <a:lnTo>
                      <a:pt x="315" y="164"/>
                    </a:lnTo>
                    <a:lnTo>
                      <a:pt x="306" y="164"/>
                    </a:lnTo>
                    <a:lnTo>
                      <a:pt x="296" y="164"/>
                    </a:lnTo>
                    <a:lnTo>
                      <a:pt x="287" y="165"/>
                    </a:lnTo>
                    <a:lnTo>
                      <a:pt x="278" y="165"/>
                    </a:lnTo>
                    <a:lnTo>
                      <a:pt x="269" y="165"/>
                    </a:lnTo>
                    <a:lnTo>
                      <a:pt x="259" y="165"/>
                    </a:lnTo>
                    <a:lnTo>
                      <a:pt x="250" y="165"/>
                    </a:lnTo>
                    <a:lnTo>
                      <a:pt x="241" y="166"/>
                    </a:lnTo>
                    <a:lnTo>
                      <a:pt x="232" y="166"/>
                    </a:lnTo>
                    <a:lnTo>
                      <a:pt x="222" y="166"/>
                    </a:lnTo>
                    <a:lnTo>
                      <a:pt x="213" y="166"/>
                    </a:lnTo>
                    <a:lnTo>
                      <a:pt x="204" y="166"/>
                    </a:lnTo>
                    <a:lnTo>
                      <a:pt x="194" y="166"/>
                    </a:lnTo>
                    <a:lnTo>
                      <a:pt x="185" y="166"/>
                    </a:lnTo>
                    <a:lnTo>
                      <a:pt x="176" y="167"/>
                    </a:lnTo>
                    <a:lnTo>
                      <a:pt x="167" y="167"/>
                    </a:lnTo>
                    <a:lnTo>
                      <a:pt x="157" y="167"/>
                    </a:lnTo>
                    <a:lnTo>
                      <a:pt x="148" y="167"/>
                    </a:lnTo>
                    <a:lnTo>
                      <a:pt x="139" y="167"/>
                    </a:lnTo>
                    <a:lnTo>
                      <a:pt x="129" y="167"/>
                    </a:lnTo>
                    <a:lnTo>
                      <a:pt x="120" y="167"/>
                    </a:lnTo>
                    <a:lnTo>
                      <a:pt x="111" y="167"/>
                    </a:lnTo>
                    <a:lnTo>
                      <a:pt x="102" y="168"/>
                    </a:lnTo>
                    <a:lnTo>
                      <a:pt x="92" y="168"/>
                    </a:lnTo>
                    <a:lnTo>
                      <a:pt x="83" y="168"/>
                    </a:lnTo>
                    <a:lnTo>
                      <a:pt x="74" y="168"/>
                    </a:lnTo>
                    <a:lnTo>
                      <a:pt x="64" y="168"/>
                    </a:lnTo>
                    <a:lnTo>
                      <a:pt x="55" y="168"/>
                    </a:lnTo>
                    <a:lnTo>
                      <a:pt x="46" y="168"/>
                    </a:lnTo>
                    <a:lnTo>
                      <a:pt x="37" y="168"/>
                    </a:lnTo>
                    <a:lnTo>
                      <a:pt x="27" y="168"/>
                    </a:lnTo>
                    <a:lnTo>
                      <a:pt x="18" y="169"/>
                    </a:lnTo>
                    <a:lnTo>
                      <a:pt x="9" y="168"/>
                    </a:lnTo>
                    <a:lnTo>
                      <a:pt x="0" y="168"/>
                    </a:lnTo>
                    <a:close/>
                  </a:path>
                </a:pathLst>
              </a:custGeom>
              <a:solidFill>
                <a:srgbClr val="ffc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2" name="Freeform 112"/>
              <p:cNvSpPr/>
              <p:nvPr/>
            </p:nvSpPr>
            <p:spPr>
              <a:xfrm>
                <a:off x="2720520" y="4369320"/>
                <a:ext cx="2310120" cy="414360"/>
              </a:xfrm>
              <a:custGeom>
                <a:avLst/>
                <a:gdLst>
                  <a:gd name="textAreaLeft" fmla="*/ 0 w 2310120"/>
                  <a:gd name="textAreaRight" fmla="*/ 2310480 w 2310120"/>
                  <a:gd name="textAreaTop" fmla="*/ 0 h 414360"/>
                  <a:gd name="textAreaBottom" fmla="*/ 414720 h 414360"/>
                </a:gdLst>
                <a:ahLst/>
                <a:rect l="textAreaLeft" t="textAreaTop" r="textAreaRight" b="textAreaBottom"/>
                <a:pathLst>
                  <a:path w="1447" h="169">
                    <a:moveTo>
                      <a:pt x="0" y="168"/>
                    </a:moveTo>
                    <a:lnTo>
                      <a:pt x="9" y="168"/>
                    </a:lnTo>
                    <a:lnTo>
                      <a:pt x="18" y="169"/>
                    </a:lnTo>
                    <a:lnTo>
                      <a:pt x="27" y="168"/>
                    </a:lnTo>
                    <a:lnTo>
                      <a:pt x="37" y="168"/>
                    </a:lnTo>
                    <a:lnTo>
                      <a:pt x="46" y="168"/>
                    </a:lnTo>
                    <a:lnTo>
                      <a:pt x="55" y="168"/>
                    </a:lnTo>
                    <a:lnTo>
                      <a:pt x="64" y="168"/>
                    </a:lnTo>
                    <a:lnTo>
                      <a:pt x="74" y="168"/>
                    </a:lnTo>
                    <a:lnTo>
                      <a:pt x="83" y="168"/>
                    </a:lnTo>
                    <a:lnTo>
                      <a:pt x="92" y="168"/>
                    </a:lnTo>
                    <a:lnTo>
                      <a:pt x="102" y="168"/>
                    </a:lnTo>
                    <a:lnTo>
                      <a:pt x="111" y="167"/>
                    </a:lnTo>
                    <a:lnTo>
                      <a:pt x="120" y="167"/>
                    </a:lnTo>
                    <a:lnTo>
                      <a:pt x="129" y="167"/>
                    </a:lnTo>
                    <a:lnTo>
                      <a:pt x="139" y="167"/>
                    </a:lnTo>
                    <a:lnTo>
                      <a:pt x="148" y="167"/>
                    </a:lnTo>
                    <a:lnTo>
                      <a:pt x="157" y="167"/>
                    </a:lnTo>
                    <a:lnTo>
                      <a:pt x="167" y="167"/>
                    </a:lnTo>
                    <a:lnTo>
                      <a:pt x="176" y="167"/>
                    </a:lnTo>
                    <a:lnTo>
                      <a:pt x="185" y="166"/>
                    </a:lnTo>
                    <a:lnTo>
                      <a:pt x="194" y="166"/>
                    </a:lnTo>
                    <a:lnTo>
                      <a:pt x="204" y="166"/>
                    </a:lnTo>
                    <a:lnTo>
                      <a:pt x="213" y="166"/>
                    </a:lnTo>
                    <a:lnTo>
                      <a:pt x="222" y="166"/>
                    </a:lnTo>
                    <a:lnTo>
                      <a:pt x="232" y="166"/>
                    </a:lnTo>
                    <a:lnTo>
                      <a:pt x="241" y="166"/>
                    </a:lnTo>
                    <a:lnTo>
                      <a:pt x="250" y="165"/>
                    </a:lnTo>
                    <a:lnTo>
                      <a:pt x="259" y="165"/>
                    </a:lnTo>
                    <a:lnTo>
                      <a:pt x="269" y="165"/>
                    </a:lnTo>
                    <a:lnTo>
                      <a:pt x="278" y="165"/>
                    </a:lnTo>
                    <a:lnTo>
                      <a:pt x="287" y="165"/>
                    </a:lnTo>
                    <a:lnTo>
                      <a:pt x="296" y="164"/>
                    </a:lnTo>
                    <a:lnTo>
                      <a:pt x="306" y="164"/>
                    </a:lnTo>
                    <a:lnTo>
                      <a:pt x="315" y="164"/>
                    </a:lnTo>
                    <a:lnTo>
                      <a:pt x="324" y="164"/>
                    </a:lnTo>
                    <a:lnTo>
                      <a:pt x="334" y="164"/>
                    </a:lnTo>
                    <a:lnTo>
                      <a:pt x="343" y="164"/>
                    </a:lnTo>
                    <a:lnTo>
                      <a:pt x="352" y="163"/>
                    </a:lnTo>
                    <a:lnTo>
                      <a:pt x="361" y="163"/>
                    </a:lnTo>
                    <a:lnTo>
                      <a:pt x="371" y="163"/>
                    </a:lnTo>
                    <a:lnTo>
                      <a:pt x="380" y="163"/>
                    </a:lnTo>
                    <a:lnTo>
                      <a:pt x="389" y="163"/>
                    </a:lnTo>
                    <a:lnTo>
                      <a:pt x="399" y="163"/>
                    </a:lnTo>
                    <a:lnTo>
                      <a:pt x="408" y="162"/>
                    </a:lnTo>
                    <a:lnTo>
                      <a:pt x="417" y="162"/>
                    </a:lnTo>
                    <a:lnTo>
                      <a:pt x="426" y="162"/>
                    </a:lnTo>
                    <a:lnTo>
                      <a:pt x="436" y="162"/>
                    </a:lnTo>
                    <a:lnTo>
                      <a:pt x="445" y="161"/>
                    </a:lnTo>
                    <a:lnTo>
                      <a:pt x="454" y="161"/>
                    </a:lnTo>
                    <a:lnTo>
                      <a:pt x="464" y="160"/>
                    </a:lnTo>
                    <a:lnTo>
                      <a:pt x="473" y="160"/>
                    </a:lnTo>
                    <a:lnTo>
                      <a:pt x="482" y="160"/>
                    </a:lnTo>
                    <a:lnTo>
                      <a:pt x="491" y="159"/>
                    </a:lnTo>
                    <a:lnTo>
                      <a:pt x="501" y="159"/>
                    </a:lnTo>
                    <a:lnTo>
                      <a:pt x="510" y="158"/>
                    </a:lnTo>
                    <a:lnTo>
                      <a:pt x="519" y="157"/>
                    </a:lnTo>
                    <a:lnTo>
                      <a:pt x="528" y="156"/>
                    </a:lnTo>
                    <a:lnTo>
                      <a:pt x="538" y="157"/>
                    </a:lnTo>
                    <a:lnTo>
                      <a:pt x="547" y="156"/>
                    </a:lnTo>
                    <a:lnTo>
                      <a:pt x="556" y="156"/>
                    </a:lnTo>
                    <a:lnTo>
                      <a:pt x="566" y="155"/>
                    </a:lnTo>
                    <a:lnTo>
                      <a:pt x="575" y="155"/>
                    </a:lnTo>
                    <a:lnTo>
                      <a:pt x="584" y="154"/>
                    </a:lnTo>
                    <a:lnTo>
                      <a:pt x="593" y="155"/>
                    </a:lnTo>
                    <a:lnTo>
                      <a:pt x="603" y="155"/>
                    </a:lnTo>
                    <a:lnTo>
                      <a:pt x="612" y="154"/>
                    </a:lnTo>
                    <a:lnTo>
                      <a:pt x="621" y="153"/>
                    </a:lnTo>
                    <a:lnTo>
                      <a:pt x="631" y="153"/>
                    </a:lnTo>
                    <a:lnTo>
                      <a:pt x="640" y="155"/>
                    </a:lnTo>
                    <a:lnTo>
                      <a:pt x="649" y="153"/>
                    </a:lnTo>
                    <a:lnTo>
                      <a:pt x="658" y="155"/>
                    </a:lnTo>
                    <a:lnTo>
                      <a:pt x="668" y="154"/>
                    </a:lnTo>
                    <a:lnTo>
                      <a:pt x="677" y="152"/>
                    </a:lnTo>
                    <a:lnTo>
                      <a:pt x="686" y="152"/>
                    </a:lnTo>
                    <a:lnTo>
                      <a:pt x="696" y="151"/>
                    </a:lnTo>
                    <a:lnTo>
                      <a:pt x="705" y="151"/>
                    </a:lnTo>
                    <a:lnTo>
                      <a:pt x="714" y="150"/>
                    </a:lnTo>
                    <a:lnTo>
                      <a:pt x="723" y="149"/>
                    </a:lnTo>
                    <a:lnTo>
                      <a:pt x="733" y="148"/>
                    </a:lnTo>
                    <a:lnTo>
                      <a:pt x="742" y="149"/>
                    </a:lnTo>
                    <a:lnTo>
                      <a:pt x="751" y="150"/>
                    </a:lnTo>
                    <a:lnTo>
                      <a:pt x="760" y="152"/>
                    </a:lnTo>
                    <a:lnTo>
                      <a:pt x="770" y="151"/>
                    </a:lnTo>
                    <a:lnTo>
                      <a:pt x="779" y="150"/>
                    </a:lnTo>
                    <a:lnTo>
                      <a:pt x="788" y="149"/>
                    </a:lnTo>
                    <a:lnTo>
                      <a:pt x="798" y="148"/>
                    </a:lnTo>
                    <a:lnTo>
                      <a:pt x="807" y="147"/>
                    </a:lnTo>
                    <a:lnTo>
                      <a:pt x="816" y="147"/>
                    </a:lnTo>
                    <a:lnTo>
                      <a:pt x="825" y="145"/>
                    </a:lnTo>
                    <a:lnTo>
                      <a:pt x="835" y="145"/>
                    </a:lnTo>
                    <a:lnTo>
                      <a:pt x="844" y="143"/>
                    </a:lnTo>
                    <a:lnTo>
                      <a:pt x="853" y="142"/>
                    </a:lnTo>
                    <a:lnTo>
                      <a:pt x="863" y="142"/>
                    </a:lnTo>
                    <a:lnTo>
                      <a:pt x="872" y="142"/>
                    </a:lnTo>
                    <a:lnTo>
                      <a:pt x="881" y="145"/>
                    </a:lnTo>
                    <a:lnTo>
                      <a:pt x="890" y="143"/>
                    </a:lnTo>
                    <a:lnTo>
                      <a:pt x="900" y="141"/>
                    </a:lnTo>
                    <a:lnTo>
                      <a:pt x="909" y="140"/>
                    </a:lnTo>
                    <a:lnTo>
                      <a:pt x="918" y="140"/>
                    </a:lnTo>
                    <a:lnTo>
                      <a:pt x="928" y="137"/>
                    </a:lnTo>
                    <a:lnTo>
                      <a:pt x="937" y="136"/>
                    </a:lnTo>
                    <a:lnTo>
                      <a:pt x="946" y="135"/>
                    </a:lnTo>
                    <a:lnTo>
                      <a:pt x="955" y="134"/>
                    </a:lnTo>
                    <a:lnTo>
                      <a:pt x="965" y="133"/>
                    </a:lnTo>
                    <a:lnTo>
                      <a:pt x="974" y="131"/>
                    </a:lnTo>
                    <a:lnTo>
                      <a:pt x="983" y="129"/>
                    </a:lnTo>
                    <a:lnTo>
                      <a:pt x="992" y="126"/>
                    </a:lnTo>
                    <a:lnTo>
                      <a:pt x="1002" y="124"/>
                    </a:lnTo>
                    <a:lnTo>
                      <a:pt x="1011" y="122"/>
                    </a:lnTo>
                    <a:lnTo>
                      <a:pt x="1020" y="120"/>
                    </a:lnTo>
                    <a:lnTo>
                      <a:pt x="1030" y="118"/>
                    </a:lnTo>
                    <a:lnTo>
                      <a:pt x="1039" y="115"/>
                    </a:lnTo>
                    <a:lnTo>
                      <a:pt x="1048" y="112"/>
                    </a:lnTo>
                    <a:lnTo>
                      <a:pt x="1057" y="109"/>
                    </a:lnTo>
                    <a:lnTo>
                      <a:pt x="1067" y="109"/>
                    </a:lnTo>
                    <a:lnTo>
                      <a:pt x="1076" y="106"/>
                    </a:lnTo>
                    <a:lnTo>
                      <a:pt x="1085" y="104"/>
                    </a:lnTo>
                    <a:lnTo>
                      <a:pt x="1095" y="101"/>
                    </a:lnTo>
                    <a:lnTo>
                      <a:pt x="1104" y="97"/>
                    </a:lnTo>
                    <a:lnTo>
                      <a:pt x="1113" y="94"/>
                    </a:lnTo>
                    <a:lnTo>
                      <a:pt x="1122" y="91"/>
                    </a:lnTo>
                    <a:lnTo>
                      <a:pt x="1132" y="86"/>
                    </a:lnTo>
                    <a:lnTo>
                      <a:pt x="1141" y="81"/>
                    </a:lnTo>
                    <a:lnTo>
                      <a:pt x="1150" y="81"/>
                    </a:lnTo>
                    <a:lnTo>
                      <a:pt x="1160" y="81"/>
                    </a:lnTo>
                    <a:lnTo>
                      <a:pt x="1169" y="75"/>
                    </a:lnTo>
                    <a:lnTo>
                      <a:pt x="1178" y="72"/>
                    </a:lnTo>
                    <a:lnTo>
                      <a:pt x="1187" y="68"/>
                    </a:lnTo>
                    <a:lnTo>
                      <a:pt x="1197" y="65"/>
                    </a:lnTo>
                    <a:lnTo>
                      <a:pt x="1206" y="65"/>
                    </a:lnTo>
                    <a:lnTo>
                      <a:pt x="1215" y="66"/>
                    </a:lnTo>
                    <a:lnTo>
                      <a:pt x="1224" y="66"/>
                    </a:lnTo>
                    <a:lnTo>
                      <a:pt x="1234" y="66"/>
                    </a:lnTo>
                    <a:lnTo>
                      <a:pt x="1243" y="62"/>
                    </a:lnTo>
                    <a:lnTo>
                      <a:pt x="1252" y="59"/>
                    </a:lnTo>
                    <a:lnTo>
                      <a:pt x="1262" y="57"/>
                    </a:lnTo>
                    <a:lnTo>
                      <a:pt x="1271" y="52"/>
                    </a:lnTo>
                    <a:lnTo>
                      <a:pt x="1280" y="48"/>
                    </a:lnTo>
                    <a:lnTo>
                      <a:pt x="1289" y="46"/>
                    </a:lnTo>
                    <a:lnTo>
                      <a:pt x="1299" y="44"/>
                    </a:lnTo>
                    <a:lnTo>
                      <a:pt x="1308" y="43"/>
                    </a:lnTo>
                    <a:lnTo>
                      <a:pt x="1317" y="43"/>
                    </a:lnTo>
                    <a:lnTo>
                      <a:pt x="1327" y="42"/>
                    </a:lnTo>
                    <a:lnTo>
                      <a:pt x="1336" y="41"/>
                    </a:lnTo>
                    <a:lnTo>
                      <a:pt x="1345" y="38"/>
                    </a:lnTo>
                    <a:lnTo>
                      <a:pt x="1354" y="34"/>
                    </a:lnTo>
                    <a:lnTo>
                      <a:pt x="1364" y="33"/>
                    </a:lnTo>
                    <a:lnTo>
                      <a:pt x="1373" y="32"/>
                    </a:lnTo>
                    <a:lnTo>
                      <a:pt x="1382" y="29"/>
                    </a:lnTo>
                    <a:lnTo>
                      <a:pt x="1392" y="26"/>
                    </a:lnTo>
                    <a:lnTo>
                      <a:pt x="1401" y="26"/>
                    </a:lnTo>
                    <a:lnTo>
                      <a:pt x="1410" y="22"/>
                    </a:lnTo>
                    <a:lnTo>
                      <a:pt x="1419" y="16"/>
                    </a:lnTo>
                    <a:lnTo>
                      <a:pt x="1429" y="8"/>
                    </a:lnTo>
                    <a:lnTo>
                      <a:pt x="1438" y="4"/>
                    </a:lnTo>
                    <a:lnTo>
                      <a:pt x="1447" y="0"/>
                    </a:lnTo>
                    <a:lnTo>
                      <a:pt x="1447" y="4"/>
                    </a:lnTo>
                    <a:lnTo>
                      <a:pt x="1438" y="8"/>
                    </a:lnTo>
                    <a:lnTo>
                      <a:pt x="1429" y="12"/>
                    </a:lnTo>
                    <a:lnTo>
                      <a:pt x="1419" y="20"/>
                    </a:lnTo>
                    <a:lnTo>
                      <a:pt x="1410" y="26"/>
                    </a:lnTo>
                    <a:lnTo>
                      <a:pt x="1401" y="29"/>
                    </a:lnTo>
                    <a:lnTo>
                      <a:pt x="1392" y="30"/>
                    </a:lnTo>
                    <a:lnTo>
                      <a:pt x="1382" y="33"/>
                    </a:lnTo>
                    <a:lnTo>
                      <a:pt x="1373" y="36"/>
                    </a:lnTo>
                    <a:lnTo>
                      <a:pt x="1364" y="36"/>
                    </a:lnTo>
                    <a:lnTo>
                      <a:pt x="1354" y="38"/>
                    </a:lnTo>
                    <a:lnTo>
                      <a:pt x="1345" y="41"/>
                    </a:lnTo>
                    <a:lnTo>
                      <a:pt x="1336" y="44"/>
                    </a:lnTo>
                    <a:lnTo>
                      <a:pt x="1327" y="45"/>
                    </a:lnTo>
                    <a:lnTo>
                      <a:pt x="1317" y="46"/>
                    </a:lnTo>
                    <a:lnTo>
                      <a:pt x="1308" y="46"/>
                    </a:lnTo>
                    <a:lnTo>
                      <a:pt x="1299" y="47"/>
                    </a:lnTo>
                    <a:lnTo>
                      <a:pt x="1289" y="49"/>
                    </a:lnTo>
                    <a:lnTo>
                      <a:pt x="1280" y="51"/>
                    </a:lnTo>
                    <a:lnTo>
                      <a:pt x="1271" y="55"/>
                    </a:lnTo>
                    <a:lnTo>
                      <a:pt x="1262" y="60"/>
                    </a:lnTo>
                    <a:lnTo>
                      <a:pt x="1252" y="62"/>
                    </a:lnTo>
                    <a:lnTo>
                      <a:pt x="1243" y="64"/>
                    </a:lnTo>
                    <a:lnTo>
                      <a:pt x="1234" y="68"/>
                    </a:lnTo>
                    <a:lnTo>
                      <a:pt x="1224" y="69"/>
                    </a:lnTo>
                    <a:lnTo>
                      <a:pt x="1215" y="69"/>
                    </a:lnTo>
                    <a:lnTo>
                      <a:pt x="1206" y="67"/>
                    </a:lnTo>
                    <a:lnTo>
                      <a:pt x="1197" y="67"/>
                    </a:lnTo>
                    <a:lnTo>
                      <a:pt x="1187" y="70"/>
                    </a:lnTo>
                    <a:lnTo>
                      <a:pt x="1178" y="74"/>
                    </a:lnTo>
                    <a:lnTo>
                      <a:pt x="1169" y="77"/>
                    </a:lnTo>
                    <a:lnTo>
                      <a:pt x="1160" y="83"/>
                    </a:lnTo>
                    <a:lnTo>
                      <a:pt x="1150" y="83"/>
                    </a:lnTo>
                    <a:lnTo>
                      <a:pt x="1141" y="83"/>
                    </a:lnTo>
                    <a:lnTo>
                      <a:pt x="1132" y="88"/>
                    </a:lnTo>
                    <a:lnTo>
                      <a:pt x="1122" y="92"/>
                    </a:lnTo>
                    <a:lnTo>
                      <a:pt x="1113" y="95"/>
                    </a:lnTo>
                    <a:lnTo>
                      <a:pt x="1104" y="99"/>
                    </a:lnTo>
                    <a:lnTo>
                      <a:pt x="1095" y="102"/>
                    </a:lnTo>
                    <a:lnTo>
                      <a:pt x="1085" y="106"/>
                    </a:lnTo>
                    <a:lnTo>
                      <a:pt x="1076" y="107"/>
                    </a:lnTo>
                    <a:lnTo>
                      <a:pt x="1067" y="110"/>
                    </a:lnTo>
                    <a:lnTo>
                      <a:pt x="1057" y="110"/>
                    </a:lnTo>
                    <a:lnTo>
                      <a:pt x="1048" y="113"/>
                    </a:lnTo>
                    <a:lnTo>
                      <a:pt x="1039" y="116"/>
                    </a:lnTo>
                    <a:lnTo>
                      <a:pt x="1030" y="119"/>
                    </a:lnTo>
                    <a:lnTo>
                      <a:pt x="1020" y="121"/>
                    </a:lnTo>
                    <a:lnTo>
                      <a:pt x="1011" y="123"/>
                    </a:lnTo>
                    <a:lnTo>
                      <a:pt x="1002" y="125"/>
                    </a:lnTo>
                    <a:lnTo>
                      <a:pt x="992" y="127"/>
                    </a:lnTo>
                    <a:lnTo>
                      <a:pt x="983" y="130"/>
                    </a:lnTo>
                    <a:lnTo>
                      <a:pt x="974" y="132"/>
                    </a:lnTo>
                    <a:lnTo>
                      <a:pt x="965" y="134"/>
                    </a:lnTo>
                    <a:lnTo>
                      <a:pt x="955" y="134"/>
                    </a:lnTo>
                    <a:lnTo>
                      <a:pt x="946" y="136"/>
                    </a:lnTo>
                    <a:lnTo>
                      <a:pt x="937" y="137"/>
                    </a:lnTo>
                    <a:lnTo>
                      <a:pt x="928" y="138"/>
                    </a:lnTo>
                    <a:lnTo>
                      <a:pt x="918" y="141"/>
                    </a:lnTo>
                    <a:lnTo>
                      <a:pt x="909" y="141"/>
                    </a:lnTo>
                    <a:lnTo>
                      <a:pt x="900" y="142"/>
                    </a:lnTo>
                    <a:lnTo>
                      <a:pt x="890" y="144"/>
                    </a:lnTo>
                    <a:lnTo>
                      <a:pt x="881" y="146"/>
                    </a:lnTo>
                    <a:lnTo>
                      <a:pt x="872" y="143"/>
                    </a:lnTo>
                    <a:lnTo>
                      <a:pt x="863" y="142"/>
                    </a:lnTo>
                    <a:lnTo>
                      <a:pt x="853" y="143"/>
                    </a:lnTo>
                    <a:lnTo>
                      <a:pt x="844" y="144"/>
                    </a:lnTo>
                    <a:lnTo>
                      <a:pt x="835" y="146"/>
                    </a:lnTo>
                    <a:lnTo>
                      <a:pt x="825" y="146"/>
                    </a:lnTo>
                    <a:lnTo>
                      <a:pt x="816" y="148"/>
                    </a:lnTo>
                    <a:lnTo>
                      <a:pt x="807" y="147"/>
                    </a:lnTo>
                    <a:lnTo>
                      <a:pt x="798" y="148"/>
                    </a:lnTo>
                    <a:lnTo>
                      <a:pt x="788" y="150"/>
                    </a:lnTo>
                    <a:lnTo>
                      <a:pt x="779" y="151"/>
                    </a:lnTo>
                    <a:lnTo>
                      <a:pt x="770" y="152"/>
                    </a:lnTo>
                    <a:lnTo>
                      <a:pt x="760" y="152"/>
                    </a:lnTo>
                    <a:lnTo>
                      <a:pt x="751" y="151"/>
                    </a:lnTo>
                    <a:lnTo>
                      <a:pt x="742" y="150"/>
                    </a:lnTo>
                    <a:lnTo>
                      <a:pt x="733" y="149"/>
                    </a:lnTo>
                    <a:lnTo>
                      <a:pt x="723" y="149"/>
                    </a:lnTo>
                    <a:lnTo>
                      <a:pt x="714" y="150"/>
                    </a:lnTo>
                    <a:lnTo>
                      <a:pt x="705" y="151"/>
                    </a:lnTo>
                    <a:lnTo>
                      <a:pt x="696" y="151"/>
                    </a:lnTo>
                    <a:lnTo>
                      <a:pt x="686" y="152"/>
                    </a:lnTo>
                    <a:lnTo>
                      <a:pt x="677" y="152"/>
                    </a:lnTo>
                    <a:lnTo>
                      <a:pt x="668" y="154"/>
                    </a:lnTo>
                    <a:lnTo>
                      <a:pt x="658" y="155"/>
                    </a:lnTo>
                    <a:lnTo>
                      <a:pt x="649" y="153"/>
                    </a:lnTo>
                    <a:lnTo>
                      <a:pt x="640" y="155"/>
                    </a:lnTo>
                    <a:lnTo>
                      <a:pt x="631" y="153"/>
                    </a:lnTo>
                    <a:lnTo>
                      <a:pt x="621" y="153"/>
                    </a:lnTo>
                    <a:lnTo>
                      <a:pt x="612" y="154"/>
                    </a:lnTo>
                    <a:lnTo>
                      <a:pt x="603" y="155"/>
                    </a:lnTo>
                    <a:lnTo>
                      <a:pt x="593" y="155"/>
                    </a:lnTo>
                    <a:lnTo>
                      <a:pt x="584" y="154"/>
                    </a:lnTo>
                    <a:lnTo>
                      <a:pt x="575" y="155"/>
                    </a:lnTo>
                    <a:lnTo>
                      <a:pt x="566" y="155"/>
                    </a:lnTo>
                    <a:lnTo>
                      <a:pt x="556" y="156"/>
                    </a:lnTo>
                    <a:lnTo>
                      <a:pt x="547" y="156"/>
                    </a:lnTo>
                    <a:lnTo>
                      <a:pt x="538" y="157"/>
                    </a:lnTo>
                    <a:lnTo>
                      <a:pt x="528" y="156"/>
                    </a:lnTo>
                    <a:lnTo>
                      <a:pt x="519" y="157"/>
                    </a:lnTo>
                    <a:lnTo>
                      <a:pt x="510" y="158"/>
                    </a:lnTo>
                    <a:lnTo>
                      <a:pt x="501" y="159"/>
                    </a:lnTo>
                    <a:lnTo>
                      <a:pt x="491" y="159"/>
                    </a:lnTo>
                    <a:lnTo>
                      <a:pt x="482" y="160"/>
                    </a:lnTo>
                    <a:lnTo>
                      <a:pt x="473" y="160"/>
                    </a:lnTo>
                    <a:lnTo>
                      <a:pt x="464" y="160"/>
                    </a:lnTo>
                    <a:lnTo>
                      <a:pt x="454" y="161"/>
                    </a:lnTo>
                    <a:lnTo>
                      <a:pt x="445" y="161"/>
                    </a:lnTo>
                    <a:lnTo>
                      <a:pt x="436" y="162"/>
                    </a:lnTo>
                    <a:lnTo>
                      <a:pt x="426" y="162"/>
                    </a:lnTo>
                    <a:lnTo>
                      <a:pt x="417" y="162"/>
                    </a:lnTo>
                    <a:lnTo>
                      <a:pt x="408" y="162"/>
                    </a:lnTo>
                    <a:lnTo>
                      <a:pt x="399" y="163"/>
                    </a:lnTo>
                    <a:lnTo>
                      <a:pt x="389" y="163"/>
                    </a:lnTo>
                    <a:lnTo>
                      <a:pt x="380" y="163"/>
                    </a:lnTo>
                    <a:lnTo>
                      <a:pt x="371" y="163"/>
                    </a:lnTo>
                    <a:lnTo>
                      <a:pt x="361" y="163"/>
                    </a:lnTo>
                    <a:lnTo>
                      <a:pt x="352" y="163"/>
                    </a:lnTo>
                    <a:lnTo>
                      <a:pt x="343" y="164"/>
                    </a:lnTo>
                    <a:lnTo>
                      <a:pt x="334" y="164"/>
                    </a:lnTo>
                    <a:lnTo>
                      <a:pt x="324" y="164"/>
                    </a:lnTo>
                    <a:lnTo>
                      <a:pt x="315" y="164"/>
                    </a:lnTo>
                    <a:lnTo>
                      <a:pt x="306" y="164"/>
                    </a:lnTo>
                    <a:lnTo>
                      <a:pt x="296" y="164"/>
                    </a:lnTo>
                    <a:lnTo>
                      <a:pt x="287" y="165"/>
                    </a:lnTo>
                    <a:lnTo>
                      <a:pt x="278" y="165"/>
                    </a:lnTo>
                    <a:lnTo>
                      <a:pt x="269" y="165"/>
                    </a:lnTo>
                    <a:lnTo>
                      <a:pt x="259" y="165"/>
                    </a:lnTo>
                    <a:lnTo>
                      <a:pt x="250" y="165"/>
                    </a:lnTo>
                    <a:lnTo>
                      <a:pt x="241" y="166"/>
                    </a:lnTo>
                    <a:lnTo>
                      <a:pt x="232" y="166"/>
                    </a:lnTo>
                    <a:lnTo>
                      <a:pt x="222" y="166"/>
                    </a:lnTo>
                    <a:lnTo>
                      <a:pt x="213" y="166"/>
                    </a:lnTo>
                    <a:lnTo>
                      <a:pt x="204" y="166"/>
                    </a:lnTo>
                    <a:lnTo>
                      <a:pt x="194" y="166"/>
                    </a:lnTo>
                    <a:lnTo>
                      <a:pt x="185" y="166"/>
                    </a:lnTo>
                    <a:lnTo>
                      <a:pt x="176" y="167"/>
                    </a:lnTo>
                    <a:lnTo>
                      <a:pt x="167" y="167"/>
                    </a:lnTo>
                    <a:lnTo>
                      <a:pt x="157" y="167"/>
                    </a:lnTo>
                    <a:lnTo>
                      <a:pt x="148" y="167"/>
                    </a:lnTo>
                    <a:lnTo>
                      <a:pt x="139" y="167"/>
                    </a:lnTo>
                    <a:lnTo>
                      <a:pt x="129" y="167"/>
                    </a:lnTo>
                    <a:lnTo>
                      <a:pt x="120" y="167"/>
                    </a:lnTo>
                    <a:lnTo>
                      <a:pt x="111" y="167"/>
                    </a:lnTo>
                    <a:lnTo>
                      <a:pt x="102" y="168"/>
                    </a:lnTo>
                    <a:lnTo>
                      <a:pt x="92" y="168"/>
                    </a:lnTo>
                    <a:lnTo>
                      <a:pt x="83" y="168"/>
                    </a:lnTo>
                    <a:lnTo>
                      <a:pt x="74" y="168"/>
                    </a:lnTo>
                    <a:lnTo>
                      <a:pt x="64" y="168"/>
                    </a:lnTo>
                    <a:lnTo>
                      <a:pt x="55" y="168"/>
                    </a:lnTo>
                    <a:lnTo>
                      <a:pt x="46" y="168"/>
                    </a:lnTo>
                    <a:lnTo>
                      <a:pt x="37" y="168"/>
                    </a:lnTo>
                    <a:lnTo>
                      <a:pt x="27" y="168"/>
                    </a:lnTo>
                    <a:lnTo>
                      <a:pt x="18" y="169"/>
                    </a:lnTo>
                    <a:lnTo>
                      <a:pt x="9" y="168"/>
                    </a:lnTo>
                    <a:lnTo>
                      <a:pt x="0" y="168"/>
                    </a:lnTo>
                    <a:close/>
                  </a:path>
                </a:pathLst>
              </a:custGeom>
              <a:noFill/>
              <a:ln w="3175">
                <a:solidFill>
                  <a:srgbClr val="ffc8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3" name="Freeform 113"/>
              <p:cNvSpPr/>
              <p:nvPr/>
            </p:nvSpPr>
            <p:spPr>
              <a:xfrm>
                <a:off x="2720520" y="4379040"/>
                <a:ext cx="2310120" cy="404640"/>
              </a:xfrm>
              <a:custGeom>
                <a:avLst/>
                <a:gdLst>
                  <a:gd name="textAreaLeft" fmla="*/ 0 w 2310120"/>
                  <a:gd name="textAreaRight" fmla="*/ 2310480 w 2310120"/>
                  <a:gd name="textAreaTop" fmla="*/ 0 h 404640"/>
                  <a:gd name="textAreaBottom" fmla="*/ 405000 h 404640"/>
                </a:gdLst>
                <a:ahLst/>
                <a:rect l="textAreaLeft" t="textAreaTop" r="textAreaRight" b="textAreaBottom"/>
                <a:pathLst>
                  <a:path w="1447" h="164">
                    <a:moveTo>
                      <a:pt x="0" y="164"/>
                    </a:moveTo>
                    <a:lnTo>
                      <a:pt x="9" y="164"/>
                    </a:lnTo>
                    <a:lnTo>
                      <a:pt x="18" y="164"/>
                    </a:lnTo>
                    <a:lnTo>
                      <a:pt x="27" y="164"/>
                    </a:lnTo>
                    <a:lnTo>
                      <a:pt x="37" y="164"/>
                    </a:lnTo>
                    <a:lnTo>
                      <a:pt x="46" y="164"/>
                    </a:lnTo>
                    <a:lnTo>
                      <a:pt x="55" y="164"/>
                    </a:lnTo>
                    <a:lnTo>
                      <a:pt x="64" y="164"/>
                    </a:lnTo>
                    <a:lnTo>
                      <a:pt x="74" y="164"/>
                    </a:lnTo>
                    <a:lnTo>
                      <a:pt x="83" y="164"/>
                    </a:lnTo>
                    <a:lnTo>
                      <a:pt x="92" y="163"/>
                    </a:lnTo>
                    <a:lnTo>
                      <a:pt x="102" y="163"/>
                    </a:lnTo>
                    <a:lnTo>
                      <a:pt x="111" y="163"/>
                    </a:lnTo>
                    <a:lnTo>
                      <a:pt x="120" y="163"/>
                    </a:lnTo>
                    <a:lnTo>
                      <a:pt x="129" y="163"/>
                    </a:lnTo>
                    <a:lnTo>
                      <a:pt x="139" y="163"/>
                    </a:lnTo>
                    <a:lnTo>
                      <a:pt x="148" y="163"/>
                    </a:lnTo>
                    <a:lnTo>
                      <a:pt x="157" y="163"/>
                    </a:lnTo>
                    <a:lnTo>
                      <a:pt x="167" y="162"/>
                    </a:lnTo>
                    <a:lnTo>
                      <a:pt x="176" y="162"/>
                    </a:lnTo>
                    <a:lnTo>
                      <a:pt x="185" y="162"/>
                    </a:lnTo>
                    <a:lnTo>
                      <a:pt x="194" y="162"/>
                    </a:lnTo>
                    <a:lnTo>
                      <a:pt x="204" y="162"/>
                    </a:lnTo>
                    <a:lnTo>
                      <a:pt x="213" y="162"/>
                    </a:lnTo>
                    <a:lnTo>
                      <a:pt x="222" y="162"/>
                    </a:lnTo>
                    <a:lnTo>
                      <a:pt x="232" y="161"/>
                    </a:lnTo>
                    <a:lnTo>
                      <a:pt x="241" y="161"/>
                    </a:lnTo>
                    <a:lnTo>
                      <a:pt x="250" y="161"/>
                    </a:lnTo>
                    <a:lnTo>
                      <a:pt x="259" y="161"/>
                    </a:lnTo>
                    <a:lnTo>
                      <a:pt x="269" y="161"/>
                    </a:lnTo>
                    <a:lnTo>
                      <a:pt x="278" y="161"/>
                    </a:lnTo>
                    <a:lnTo>
                      <a:pt x="287" y="160"/>
                    </a:lnTo>
                    <a:lnTo>
                      <a:pt x="296" y="160"/>
                    </a:lnTo>
                    <a:lnTo>
                      <a:pt x="306" y="160"/>
                    </a:lnTo>
                    <a:lnTo>
                      <a:pt x="315" y="160"/>
                    </a:lnTo>
                    <a:lnTo>
                      <a:pt x="324" y="160"/>
                    </a:lnTo>
                    <a:lnTo>
                      <a:pt x="334" y="160"/>
                    </a:lnTo>
                    <a:lnTo>
                      <a:pt x="343" y="160"/>
                    </a:lnTo>
                    <a:lnTo>
                      <a:pt x="352" y="159"/>
                    </a:lnTo>
                    <a:lnTo>
                      <a:pt x="361" y="159"/>
                    </a:lnTo>
                    <a:lnTo>
                      <a:pt x="371" y="159"/>
                    </a:lnTo>
                    <a:lnTo>
                      <a:pt x="380" y="158"/>
                    </a:lnTo>
                    <a:lnTo>
                      <a:pt x="389" y="158"/>
                    </a:lnTo>
                    <a:lnTo>
                      <a:pt x="399" y="158"/>
                    </a:lnTo>
                    <a:lnTo>
                      <a:pt x="408" y="158"/>
                    </a:lnTo>
                    <a:lnTo>
                      <a:pt x="417" y="158"/>
                    </a:lnTo>
                    <a:lnTo>
                      <a:pt x="426" y="158"/>
                    </a:lnTo>
                    <a:lnTo>
                      <a:pt x="436" y="157"/>
                    </a:lnTo>
                    <a:lnTo>
                      <a:pt x="445" y="157"/>
                    </a:lnTo>
                    <a:lnTo>
                      <a:pt x="454" y="156"/>
                    </a:lnTo>
                    <a:lnTo>
                      <a:pt x="464" y="156"/>
                    </a:lnTo>
                    <a:lnTo>
                      <a:pt x="473" y="156"/>
                    </a:lnTo>
                    <a:lnTo>
                      <a:pt x="482" y="156"/>
                    </a:lnTo>
                    <a:lnTo>
                      <a:pt x="491" y="155"/>
                    </a:lnTo>
                    <a:lnTo>
                      <a:pt x="501" y="155"/>
                    </a:lnTo>
                    <a:lnTo>
                      <a:pt x="510" y="154"/>
                    </a:lnTo>
                    <a:lnTo>
                      <a:pt x="519" y="153"/>
                    </a:lnTo>
                    <a:lnTo>
                      <a:pt x="528" y="152"/>
                    </a:lnTo>
                    <a:lnTo>
                      <a:pt x="538" y="153"/>
                    </a:lnTo>
                    <a:lnTo>
                      <a:pt x="547" y="152"/>
                    </a:lnTo>
                    <a:lnTo>
                      <a:pt x="556" y="152"/>
                    </a:lnTo>
                    <a:lnTo>
                      <a:pt x="566" y="151"/>
                    </a:lnTo>
                    <a:lnTo>
                      <a:pt x="575" y="151"/>
                    </a:lnTo>
                    <a:lnTo>
                      <a:pt x="584" y="150"/>
                    </a:lnTo>
                    <a:lnTo>
                      <a:pt x="593" y="151"/>
                    </a:lnTo>
                    <a:lnTo>
                      <a:pt x="603" y="151"/>
                    </a:lnTo>
                    <a:lnTo>
                      <a:pt x="612" y="150"/>
                    </a:lnTo>
                    <a:lnTo>
                      <a:pt x="621" y="149"/>
                    </a:lnTo>
                    <a:lnTo>
                      <a:pt x="631" y="149"/>
                    </a:lnTo>
                    <a:lnTo>
                      <a:pt x="640" y="151"/>
                    </a:lnTo>
                    <a:lnTo>
                      <a:pt x="649" y="149"/>
                    </a:lnTo>
                    <a:lnTo>
                      <a:pt x="658" y="151"/>
                    </a:lnTo>
                    <a:lnTo>
                      <a:pt x="668" y="150"/>
                    </a:lnTo>
                    <a:lnTo>
                      <a:pt x="677" y="148"/>
                    </a:lnTo>
                    <a:lnTo>
                      <a:pt x="686" y="148"/>
                    </a:lnTo>
                    <a:lnTo>
                      <a:pt x="696" y="147"/>
                    </a:lnTo>
                    <a:lnTo>
                      <a:pt x="705" y="147"/>
                    </a:lnTo>
                    <a:lnTo>
                      <a:pt x="714" y="146"/>
                    </a:lnTo>
                    <a:lnTo>
                      <a:pt x="723" y="145"/>
                    </a:lnTo>
                    <a:lnTo>
                      <a:pt x="733" y="145"/>
                    </a:lnTo>
                    <a:lnTo>
                      <a:pt x="742" y="145"/>
                    </a:lnTo>
                    <a:lnTo>
                      <a:pt x="751" y="147"/>
                    </a:lnTo>
                    <a:lnTo>
                      <a:pt x="760" y="148"/>
                    </a:lnTo>
                    <a:lnTo>
                      <a:pt x="770" y="147"/>
                    </a:lnTo>
                    <a:lnTo>
                      <a:pt x="779" y="146"/>
                    </a:lnTo>
                    <a:lnTo>
                      <a:pt x="788" y="146"/>
                    </a:lnTo>
                    <a:lnTo>
                      <a:pt x="798" y="144"/>
                    </a:lnTo>
                    <a:lnTo>
                      <a:pt x="807" y="143"/>
                    </a:lnTo>
                    <a:lnTo>
                      <a:pt x="816" y="143"/>
                    </a:lnTo>
                    <a:lnTo>
                      <a:pt x="825" y="142"/>
                    </a:lnTo>
                    <a:lnTo>
                      <a:pt x="835" y="142"/>
                    </a:lnTo>
                    <a:lnTo>
                      <a:pt x="844" y="139"/>
                    </a:lnTo>
                    <a:lnTo>
                      <a:pt x="853" y="139"/>
                    </a:lnTo>
                    <a:lnTo>
                      <a:pt x="863" y="138"/>
                    </a:lnTo>
                    <a:lnTo>
                      <a:pt x="872" y="139"/>
                    </a:lnTo>
                    <a:lnTo>
                      <a:pt x="881" y="141"/>
                    </a:lnTo>
                    <a:lnTo>
                      <a:pt x="890" y="140"/>
                    </a:lnTo>
                    <a:lnTo>
                      <a:pt x="900" y="138"/>
                    </a:lnTo>
                    <a:lnTo>
                      <a:pt x="909" y="137"/>
                    </a:lnTo>
                    <a:lnTo>
                      <a:pt x="918" y="136"/>
                    </a:lnTo>
                    <a:lnTo>
                      <a:pt x="928" y="134"/>
                    </a:lnTo>
                    <a:lnTo>
                      <a:pt x="937" y="132"/>
                    </a:lnTo>
                    <a:lnTo>
                      <a:pt x="946" y="131"/>
                    </a:lnTo>
                    <a:lnTo>
                      <a:pt x="955" y="130"/>
                    </a:lnTo>
                    <a:lnTo>
                      <a:pt x="965" y="130"/>
                    </a:lnTo>
                    <a:lnTo>
                      <a:pt x="974" y="127"/>
                    </a:lnTo>
                    <a:lnTo>
                      <a:pt x="983" y="126"/>
                    </a:lnTo>
                    <a:lnTo>
                      <a:pt x="992" y="123"/>
                    </a:lnTo>
                    <a:lnTo>
                      <a:pt x="1002" y="121"/>
                    </a:lnTo>
                    <a:lnTo>
                      <a:pt x="1011" y="119"/>
                    </a:lnTo>
                    <a:lnTo>
                      <a:pt x="1020" y="116"/>
                    </a:lnTo>
                    <a:lnTo>
                      <a:pt x="1030" y="115"/>
                    </a:lnTo>
                    <a:lnTo>
                      <a:pt x="1039" y="112"/>
                    </a:lnTo>
                    <a:lnTo>
                      <a:pt x="1048" y="109"/>
                    </a:lnTo>
                    <a:lnTo>
                      <a:pt x="1057" y="106"/>
                    </a:lnTo>
                    <a:lnTo>
                      <a:pt x="1067" y="106"/>
                    </a:lnTo>
                    <a:lnTo>
                      <a:pt x="1076" y="103"/>
                    </a:lnTo>
                    <a:lnTo>
                      <a:pt x="1085" y="102"/>
                    </a:lnTo>
                    <a:lnTo>
                      <a:pt x="1095" y="98"/>
                    </a:lnTo>
                    <a:lnTo>
                      <a:pt x="1104" y="95"/>
                    </a:lnTo>
                    <a:lnTo>
                      <a:pt x="1113" y="91"/>
                    </a:lnTo>
                    <a:lnTo>
                      <a:pt x="1122" y="88"/>
                    </a:lnTo>
                    <a:lnTo>
                      <a:pt x="1132" y="84"/>
                    </a:lnTo>
                    <a:lnTo>
                      <a:pt x="1141" y="79"/>
                    </a:lnTo>
                    <a:lnTo>
                      <a:pt x="1150" y="79"/>
                    </a:lnTo>
                    <a:lnTo>
                      <a:pt x="1160" y="78"/>
                    </a:lnTo>
                    <a:lnTo>
                      <a:pt x="1169" y="73"/>
                    </a:lnTo>
                    <a:lnTo>
                      <a:pt x="1178" y="70"/>
                    </a:lnTo>
                    <a:lnTo>
                      <a:pt x="1187" y="66"/>
                    </a:lnTo>
                    <a:lnTo>
                      <a:pt x="1197" y="63"/>
                    </a:lnTo>
                    <a:lnTo>
                      <a:pt x="1206" y="63"/>
                    </a:lnTo>
                    <a:lnTo>
                      <a:pt x="1215" y="65"/>
                    </a:lnTo>
                    <a:lnTo>
                      <a:pt x="1224" y="65"/>
                    </a:lnTo>
                    <a:lnTo>
                      <a:pt x="1234" y="64"/>
                    </a:lnTo>
                    <a:lnTo>
                      <a:pt x="1243" y="60"/>
                    </a:lnTo>
                    <a:lnTo>
                      <a:pt x="1252" y="58"/>
                    </a:lnTo>
                    <a:lnTo>
                      <a:pt x="1262" y="55"/>
                    </a:lnTo>
                    <a:lnTo>
                      <a:pt x="1271" y="51"/>
                    </a:lnTo>
                    <a:lnTo>
                      <a:pt x="1280" y="47"/>
                    </a:lnTo>
                    <a:lnTo>
                      <a:pt x="1289" y="45"/>
                    </a:lnTo>
                    <a:lnTo>
                      <a:pt x="1299" y="43"/>
                    </a:lnTo>
                    <a:lnTo>
                      <a:pt x="1308" y="42"/>
                    </a:lnTo>
                    <a:lnTo>
                      <a:pt x="1317" y="42"/>
                    </a:lnTo>
                    <a:lnTo>
                      <a:pt x="1327" y="41"/>
                    </a:lnTo>
                    <a:lnTo>
                      <a:pt x="1336" y="40"/>
                    </a:lnTo>
                    <a:lnTo>
                      <a:pt x="1345" y="37"/>
                    </a:lnTo>
                    <a:lnTo>
                      <a:pt x="1354" y="33"/>
                    </a:lnTo>
                    <a:lnTo>
                      <a:pt x="1364" y="32"/>
                    </a:lnTo>
                    <a:lnTo>
                      <a:pt x="1373" y="31"/>
                    </a:lnTo>
                    <a:lnTo>
                      <a:pt x="1382" y="29"/>
                    </a:lnTo>
                    <a:lnTo>
                      <a:pt x="1392" y="26"/>
                    </a:lnTo>
                    <a:lnTo>
                      <a:pt x="1401" y="25"/>
                    </a:lnTo>
                    <a:lnTo>
                      <a:pt x="1410" y="22"/>
                    </a:lnTo>
                    <a:lnTo>
                      <a:pt x="1419" y="16"/>
                    </a:lnTo>
                    <a:lnTo>
                      <a:pt x="1429" y="8"/>
                    </a:lnTo>
                    <a:lnTo>
                      <a:pt x="1438" y="4"/>
                    </a:lnTo>
                    <a:lnTo>
                      <a:pt x="1447" y="0"/>
                    </a:lnTo>
                    <a:lnTo>
                      <a:pt x="1447" y="3"/>
                    </a:lnTo>
                    <a:lnTo>
                      <a:pt x="1438" y="8"/>
                    </a:lnTo>
                    <a:lnTo>
                      <a:pt x="1429" y="12"/>
                    </a:lnTo>
                    <a:lnTo>
                      <a:pt x="1419" y="19"/>
                    </a:lnTo>
                    <a:lnTo>
                      <a:pt x="1410" y="25"/>
                    </a:lnTo>
                    <a:lnTo>
                      <a:pt x="1401" y="29"/>
                    </a:lnTo>
                    <a:lnTo>
                      <a:pt x="1392" y="29"/>
                    </a:lnTo>
                    <a:lnTo>
                      <a:pt x="1382" y="32"/>
                    </a:lnTo>
                    <a:lnTo>
                      <a:pt x="1373" y="35"/>
                    </a:lnTo>
                    <a:lnTo>
                      <a:pt x="1364" y="35"/>
                    </a:lnTo>
                    <a:lnTo>
                      <a:pt x="1354" y="37"/>
                    </a:lnTo>
                    <a:lnTo>
                      <a:pt x="1345" y="40"/>
                    </a:lnTo>
                    <a:lnTo>
                      <a:pt x="1336" y="43"/>
                    </a:lnTo>
                    <a:lnTo>
                      <a:pt x="1327" y="44"/>
                    </a:lnTo>
                    <a:lnTo>
                      <a:pt x="1317" y="45"/>
                    </a:lnTo>
                    <a:lnTo>
                      <a:pt x="1308" y="45"/>
                    </a:lnTo>
                    <a:lnTo>
                      <a:pt x="1299" y="46"/>
                    </a:lnTo>
                    <a:lnTo>
                      <a:pt x="1289" y="48"/>
                    </a:lnTo>
                    <a:lnTo>
                      <a:pt x="1280" y="50"/>
                    </a:lnTo>
                    <a:lnTo>
                      <a:pt x="1271" y="53"/>
                    </a:lnTo>
                    <a:lnTo>
                      <a:pt x="1262" y="58"/>
                    </a:lnTo>
                    <a:lnTo>
                      <a:pt x="1252" y="60"/>
                    </a:lnTo>
                    <a:lnTo>
                      <a:pt x="1243" y="62"/>
                    </a:lnTo>
                    <a:lnTo>
                      <a:pt x="1234" y="65"/>
                    </a:lnTo>
                    <a:lnTo>
                      <a:pt x="1224" y="66"/>
                    </a:lnTo>
                    <a:lnTo>
                      <a:pt x="1215" y="66"/>
                    </a:lnTo>
                    <a:lnTo>
                      <a:pt x="1206" y="64"/>
                    </a:lnTo>
                    <a:lnTo>
                      <a:pt x="1197" y="64"/>
                    </a:lnTo>
                    <a:lnTo>
                      <a:pt x="1187" y="67"/>
                    </a:lnTo>
                    <a:lnTo>
                      <a:pt x="1178" y="71"/>
                    </a:lnTo>
                    <a:lnTo>
                      <a:pt x="1169" y="74"/>
                    </a:lnTo>
                    <a:lnTo>
                      <a:pt x="1160" y="79"/>
                    </a:lnTo>
                    <a:lnTo>
                      <a:pt x="1150" y="79"/>
                    </a:lnTo>
                    <a:lnTo>
                      <a:pt x="1141" y="79"/>
                    </a:lnTo>
                    <a:lnTo>
                      <a:pt x="1132" y="84"/>
                    </a:lnTo>
                    <a:lnTo>
                      <a:pt x="1122" y="88"/>
                    </a:lnTo>
                    <a:lnTo>
                      <a:pt x="1113" y="91"/>
                    </a:lnTo>
                    <a:lnTo>
                      <a:pt x="1104" y="95"/>
                    </a:lnTo>
                    <a:lnTo>
                      <a:pt x="1095" y="98"/>
                    </a:lnTo>
                    <a:lnTo>
                      <a:pt x="1085" y="102"/>
                    </a:lnTo>
                    <a:lnTo>
                      <a:pt x="1076" y="103"/>
                    </a:lnTo>
                    <a:lnTo>
                      <a:pt x="1067" y="106"/>
                    </a:lnTo>
                    <a:lnTo>
                      <a:pt x="1057" y="106"/>
                    </a:lnTo>
                    <a:lnTo>
                      <a:pt x="1048" y="109"/>
                    </a:lnTo>
                    <a:lnTo>
                      <a:pt x="1039" y="112"/>
                    </a:lnTo>
                    <a:lnTo>
                      <a:pt x="1030" y="115"/>
                    </a:lnTo>
                    <a:lnTo>
                      <a:pt x="1020" y="116"/>
                    </a:lnTo>
                    <a:lnTo>
                      <a:pt x="1011" y="119"/>
                    </a:lnTo>
                    <a:lnTo>
                      <a:pt x="1002" y="121"/>
                    </a:lnTo>
                    <a:lnTo>
                      <a:pt x="992" y="123"/>
                    </a:lnTo>
                    <a:lnTo>
                      <a:pt x="983" y="126"/>
                    </a:lnTo>
                    <a:lnTo>
                      <a:pt x="974" y="127"/>
                    </a:lnTo>
                    <a:lnTo>
                      <a:pt x="965" y="130"/>
                    </a:lnTo>
                    <a:lnTo>
                      <a:pt x="955" y="130"/>
                    </a:lnTo>
                    <a:lnTo>
                      <a:pt x="946" y="131"/>
                    </a:lnTo>
                    <a:lnTo>
                      <a:pt x="937" y="132"/>
                    </a:lnTo>
                    <a:lnTo>
                      <a:pt x="928" y="134"/>
                    </a:lnTo>
                    <a:lnTo>
                      <a:pt x="918" y="136"/>
                    </a:lnTo>
                    <a:lnTo>
                      <a:pt x="909" y="137"/>
                    </a:lnTo>
                    <a:lnTo>
                      <a:pt x="900" y="138"/>
                    </a:lnTo>
                    <a:lnTo>
                      <a:pt x="890" y="140"/>
                    </a:lnTo>
                    <a:lnTo>
                      <a:pt x="881" y="141"/>
                    </a:lnTo>
                    <a:lnTo>
                      <a:pt x="872" y="139"/>
                    </a:lnTo>
                    <a:lnTo>
                      <a:pt x="863" y="138"/>
                    </a:lnTo>
                    <a:lnTo>
                      <a:pt x="853" y="139"/>
                    </a:lnTo>
                    <a:lnTo>
                      <a:pt x="844" y="139"/>
                    </a:lnTo>
                    <a:lnTo>
                      <a:pt x="835" y="142"/>
                    </a:lnTo>
                    <a:lnTo>
                      <a:pt x="825" y="142"/>
                    </a:lnTo>
                    <a:lnTo>
                      <a:pt x="816" y="143"/>
                    </a:lnTo>
                    <a:lnTo>
                      <a:pt x="807" y="143"/>
                    </a:lnTo>
                    <a:lnTo>
                      <a:pt x="798" y="144"/>
                    </a:lnTo>
                    <a:lnTo>
                      <a:pt x="788" y="146"/>
                    </a:lnTo>
                    <a:lnTo>
                      <a:pt x="779" y="146"/>
                    </a:lnTo>
                    <a:lnTo>
                      <a:pt x="770" y="147"/>
                    </a:lnTo>
                    <a:lnTo>
                      <a:pt x="760" y="148"/>
                    </a:lnTo>
                    <a:lnTo>
                      <a:pt x="751" y="147"/>
                    </a:lnTo>
                    <a:lnTo>
                      <a:pt x="742" y="145"/>
                    </a:lnTo>
                    <a:lnTo>
                      <a:pt x="733" y="145"/>
                    </a:lnTo>
                    <a:lnTo>
                      <a:pt x="723" y="145"/>
                    </a:lnTo>
                    <a:lnTo>
                      <a:pt x="714" y="146"/>
                    </a:lnTo>
                    <a:lnTo>
                      <a:pt x="705" y="147"/>
                    </a:lnTo>
                    <a:lnTo>
                      <a:pt x="696" y="147"/>
                    </a:lnTo>
                    <a:lnTo>
                      <a:pt x="686" y="148"/>
                    </a:lnTo>
                    <a:lnTo>
                      <a:pt x="677" y="148"/>
                    </a:lnTo>
                    <a:lnTo>
                      <a:pt x="668" y="150"/>
                    </a:lnTo>
                    <a:lnTo>
                      <a:pt x="658" y="151"/>
                    </a:lnTo>
                    <a:lnTo>
                      <a:pt x="649" y="149"/>
                    </a:lnTo>
                    <a:lnTo>
                      <a:pt x="640" y="151"/>
                    </a:lnTo>
                    <a:lnTo>
                      <a:pt x="631" y="149"/>
                    </a:lnTo>
                    <a:lnTo>
                      <a:pt x="621" y="149"/>
                    </a:lnTo>
                    <a:lnTo>
                      <a:pt x="612" y="150"/>
                    </a:lnTo>
                    <a:lnTo>
                      <a:pt x="603" y="151"/>
                    </a:lnTo>
                    <a:lnTo>
                      <a:pt x="593" y="151"/>
                    </a:lnTo>
                    <a:lnTo>
                      <a:pt x="584" y="150"/>
                    </a:lnTo>
                    <a:lnTo>
                      <a:pt x="575" y="151"/>
                    </a:lnTo>
                    <a:lnTo>
                      <a:pt x="566" y="151"/>
                    </a:lnTo>
                    <a:lnTo>
                      <a:pt x="556" y="152"/>
                    </a:lnTo>
                    <a:lnTo>
                      <a:pt x="547" y="152"/>
                    </a:lnTo>
                    <a:lnTo>
                      <a:pt x="538" y="153"/>
                    </a:lnTo>
                    <a:lnTo>
                      <a:pt x="528" y="152"/>
                    </a:lnTo>
                    <a:lnTo>
                      <a:pt x="519" y="153"/>
                    </a:lnTo>
                    <a:lnTo>
                      <a:pt x="510" y="154"/>
                    </a:lnTo>
                    <a:lnTo>
                      <a:pt x="501" y="155"/>
                    </a:lnTo>
                    <a:lnTo>
                      <a:pt x="491" y="155"/>
                    </a:lnTo>
                    <a:lnTo>
                      <a:pt x="482" y="156"/>
                    </a:lnTo>
                    <a:lnTo>
                      <a:pt x="473" y="156"/>
                    </a:lnTo>
                    <a:lnTo>
                      <a:pt x="464" y="156"/>
                    </a:lnTo>
                    <a:lnTo>
                      <a:pt x="454" y="156"/>
                    </a:lnTo>
                    <a:lnTo>
                      <a:pt x="445" y="157"/>
                    </a:lnTo>
                    <a:lnTo>
                      <a:pt x="436" y="157"/>
                    </a:lnTo>
                    <a:lnTo>
                      <a:pt x="426" y="158"/>
                    </a:lnTo>
                    <a:lnTo>
                      <a:pt x="417" y="158"/>
                    </a:lnTo>
                    <a:lnTo>
                      <a:pt x="408" y="158"/>
                    </a:lnTo>
                    <a:lnTo>
                      <a:pt x="399" y="158"/>
                    </a:lnTo>
                    <a:lnTo>
                      <a:pt x="389" y="158"/>
                    </a:lnTo>
                    <a:lnTo>
                      <a:pt x="380" y="158"/>
                    </a:lnTo>
                    <a:lnTo>
                      <a:pt x="371" y="159"/>
                    </a:lnTo>
                    <a:lnTo>
                      <a:pt x="361" y="159"/>
                    </a:lnTo>
                    <a:lnTo>
                      <a:pt x="352" y="159"/>
                    </a:lnTo>
                    <a:lnTo>
                      <a:pt x="343" y="160"/>
                    </a:lnTo>
                    <a:lnTo>
                      <a:pt x="334" y="160"/>
                    </a:lnTo>
                    <a:lnTo>
                      <a:pt x="324" y="160"/>
                    </a:lnTo>
                    <a:lnTo>
                      <a:pt x="315" y="160"/>
                    </a:lnTo>
                    <a:lnTo>
                      <a:pt x="306" y="160"/>
                    </a:lnTo>
                    <a:lnTo>
                      <a:pt x="296" y="160"/>
                    </a:lnTo>
                    <a:lnTo>
                      <a:pt x="287" y="160"/>
                    </a:lnTo>
                    <a:lnTo>
                      <a:pt x="278" y="161"/>
                    </a:lnTo>
                    <a:lnTo>
                      <a:pt x="269" y="161"/>
                    </a:lnTo>
                    <a:lnTo>
                      <a:pt x="259" y="161"/>
                    </a:lnTo>
                    <a:lnTo>
                      <a:pt x="250" y="161"/>
                    </a:lnTo>
                    <a:lnTo>
                      <a:pt x="241" y="161"/>
                    </a:lnTo>
                    <a:lnTo>
                      <a:pt x="232" y="161"/>
                    </a:lnTo>
                    <a:lnTo>
                      <a:pt x="222" y="162"/>
                    </a:lnTo>
                    <a:lnTo>
                      <a:pt x="213" y="162"/>
                    </a:lnTo>
                    <a:lnTo>
                      <a:pt x="204" y="162"/>
                    </a:lnTo>
                    <a:lnTo>
                      <a:pt x="194" y="162"/>
                    </a:lnTo>
                    <a:lnTo>
                      <a:pt x="185" y="162"/>
                    </a:lnTo>
                    <a:lnTo>
                      <a:pt x="176" y="162"/>
                    </a:lnTo>
                    <a:lnTo>
                      <a:pt x="167" y="162"/>
                    </a:lnTo>
                    <a:lnTo>
                      <a:pt x="157" y="163"/>
                    </a:lnTo>
                    <a:lnTo>
                      <a:pt x="148" y="163"/>
                    </a:lnTo>
                    <a:lnTo>
                      <a:pt x="139" y="163"/>
                    </a:lnTo>
                    <a:lnTo>
                      <a:pt x="129" y="163"/>
                    </a:lnTo>
                    <a:lnTo>
                      <a:pt x="120" y="163"/>
                    </a:lnTo>
                    <a:lnTo>
                      <a:pt x="111" y="163"/>
                    </a:lnTo>
                    <a:lnTo>
                      <a:pt x="102" y="163"/>
                    </a:lnTo>
                    <a:lnTo>
                      <a:pt x="92" y="163"/>
                    </a:lnTo>
                    <a:lnTo>
                      <a:pt x="83" y="164"/>
                    </a:lnTo>
                    <a:lnTo>
                      <a:pt x="74" y="164"/>
                    </a:lnTo>
                    <a:lnTo>
                      <a:pt x="64" y="164"/>
                    </a:lnTo>
                    <a:lnTo>
                      <a:pt x="55" y="164"/>
                    </a:lnTo>
                    <a:lnTo>
                      <a:pt x="46" y="164"/>
                    </a:lnTo>
                    <a:lnTo>
                      <a:pt x="37" y="164"/>
                    </a:lnTo>
                    <a:lnTo>
                      <a:pt x="27" y="164"/>
                    </a:lnTo>
                    <a:lnTo>
                      <a:pt x="18" y="164"/>
                    </a:lnTo>
                    <a:lnTo>
                      <a:pt x="9" y="164"/>
                    </a:lnTo>
                    <a:lnTo>
                      <a:pt x="0" y="164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4" name="Freeform 114"/>
              <p:cNvSpPr/>
              <p:nvPr/>
            </p:nvSpPr>
            <p:spPr>
              <a:xfrm>
                <a:off x="2720520" y="4379040"/>
                <a:ext cx="2310120" cy="404640"/>
              </a:xfrm>
              <a:custGeom>
                <a:avLst/>
                <a:gdLst>
                  <a:gd name="textAreaLeft" fmla="*/ 0 w 2310120"/>
                  <a:gd name="textAreaRight" fmla="*/ 2310480 w 2310120"/>
                  <a:gd name="textAreaTop" fmla="*/ 0 h 404640"/>
                  <a:gd name="textAreaBottom" fmla="*/ 405000 h 404640"/>
                </a:gdLst>
                <a:ahLst/>
                <a:rect l="textAreaLeft" t="textAreaTop" r="textAreaRight" b="textAreaBottom"/>
                <a:pathLst>
                  <a:path w="1447" h="164">
                    <a:moveTo>
                      <a:pt x="0" y="164"/>
                    </a:moveTo>
                    <a:lnTo>
                      <a:pt x="9" y="164"/>
                    </a:lnTo>
                    <a:lnTo>
                      <a:pt x="18" y="164"/>
                    </a:lnTo>
                    <a:lnTo>
                      <a:pt x="27" y="164"/>
                    </a:lnTo>
                    <a:lnTo>
                      <a:pt x="37" y="164"/>
                    </a:lnTo>
                    <a:lnTo>
                      <a:pt x="46" y="164"/>
                    </a:lnTo>
                    <a:lnTo>
                      <a:pt x="55" y="164"/>
                    </a:lnTo>
                    <a:lnTo>
                      <a:pt x="64" y="164"/>
                    </a:lnTo>
                    <a:lnTo>
                      <a:pt x="74" y="164"/>
                    </a:lnTo>
                    <a:lnTo>
                      <a:pt x="83" y="164"/>
                    </a:lnTo>
                    <a:lnTo>
                      <a:pt x="92" y="163"/>
                    </a:lnTo>
                    <a:lnTo>
                      <a:pt x="102" y="163"/>
                    </a:lnTo>
                    <a:lnTo>
                      <a:pt x="111" y="163"/>
                    </a:lnTo>
                    <a:lnTo>
                      <a:pt x="120" y="163"/>
                    </a:lnTo>
                    <a:lnTo>
                      <a:pt x="129" y="163"/>
                    </a:lnTo>
                    <a:lnTo>
                      <a:pt x="139" y="163"/>
                    </a:lnTo>
                    <a:lnTo>
                      <a:pt x="148" y="163"/>
                    </a:lnTo>
                    <a:lnTo>
                      <a:pt x="157" y="163"/>
                    </a:lnTo>
                    <a:lnTo>
                      <a:pt x="167" y="162"/>
                    </a:lnTo>
                    <a:lnTo>
                      <a:pt x="176" y="162"/>
                    </a:lnTo>
                    <a:lnTo>
                      <a:pt x="185" y="162"/>
                    </a:lnTo>
                    <a:lnTo>
                      <a:pt x="194" y="162"/>
                    </a:lnTo>
                    <a:lnTo>
                      <a:pt x="204" y="162"/>
                    </a:lnTo>
                    <a:lnTo>
                      <a:pt x="213" y="162"/>
                    </a:lnTo>
                    <a:lnTo>
                      <a:pt x="222" y="162"/>
                    </a:lnTo>
                    <a:lnTo>
                      <a:pt x="232" y="161"/>
                    </a:lnTo>
                    <a:lnTo>
                      <a:pt x="241" y="161"/>
                    </a:lnTo>
                    <a:lnTo>
                      <a:pt x="250" y="161"/>
                    </a:lnTo>
                    <a:lnTo>
                      <a:pt x="259" y="161"/>
                    </a:lnTo>
                    <a:lnTo>
                      <a:pt x="269" y="161"/>
                    </a:lnTo>
                    <a:lnTo>
                      <a:pt x="278" y="161"/>
                    </a:lnTo>
                    <a:lnTo>
                      <a:pt x="287" y="160"/>
                    </a:lnTo>
                    <a:lnTo>
                      <a:pt x="296" y="160"/>
                    </a:lnTo>
                    <a:lnTo>
                      <a:pt x="306" y="160"/>
                    </a:lnTo>
                    <a:lnTo>
                      <a:pt x="315" y="160"/>
                    </a:lnTo>
                    <a:lnTo>
                      <a:pt x="324" y="160"/>
                    </a:lnTo>
                    <a:lnTo>
                      <a:pt x="334" y="160"/>
                    </a:lnTo>
                    <a:lnTo>
                      <a:pt x="343" y="160"/>
                    </a:lnTo>
                    <a:lnTo>
                      <a:pt x="352" y="159"/>
                    </a:lnTo>
                    <a:lnTo>
                      <a:pt x="361" y="159"/>
                    </a:lnTo>
                    <a:lnTo>
                      <a:pt x="371" y="159"/>
                    </a:lnTo>
                    <a:lnTo>
                      <a:pt x="380" y="158"/>
                    </a:lnTo>
                    <a:lnTo>
                      <a:pt x="389" y="158"/>
                    </a:lnTo>
                    <a:lnTo>
                      <a:pt x="399" y="158"/>
                    </a:lnTo>
                    <a:lnTo>
                      <a:pt x="408" y="158"/>
                    </a:lnTo>
                    <a:lnTo>
                      <a:pt x="417" y="158"/>
                    </a:lnTo>
                    <a:lnTo>
                      <a:pt x="426" y="158"/>
                    </a:lnTo>
                    <a:lnTo>
                      <a:pt x="436" y="157"/>
                    </a:lnTo>
                    <a:lnTo>
                      <a:pt x="445" y="157"/>
                    </a:lnTo>
                    <a:lnTo>
                      <a:pt x="454" y="156"/>
                    </a:lnTo>
                    <a:lnTo>
                      <a:pt x="464" y="156"/>
                    </a:lnTo>
                    <a:lnTo>
                      <a:pt x="473" y="156"/>
                    </a:lnTo>
                    <a:lnTo>
                      <a:pt x="482" y="156"/>
                    </a:lnTo>
                    <a:lnTo>
                      <a:pt x="491" y="155"/>
                    </a:lnTo>
                    <a:lnTo>
                      <a:pt x="501" y="155"/>
                    </a:lnTo>
                    <a:lnTo>
                      <a:pt x="510" y="154"/>
                    </a:lnTo>
                    <a:lnTo>
                      <a:pt x="519" y="153"/>
                    </a:lnTo>
                    <a:lnTo>
                      <a:pt x="528" y="152"/>
                    </a:lnTo>
                    <a:lnTo>
                      <a:pt x="538" y="153"/>
                    </a:lnTo>
                    <a:lnTo>
                      <a:pt x="547" y="152"/>
                    </a:lnTo>
                    <a:lnTo>
                      <a:pt x="556" y="152"/>
                    </a:lnTo>
                    <a:lnTo>
                      <a:pt x="566" y="151"/>
                    </a:lnTo>
                    <a:lnTo>
                      <a:pt x="575" y="151"/>
                    </a:lnTo>
                    <a:lnTo>
                      <a:pt x="584" y="150"/>
                    </a:lnTo>
                    <a:lnTo>
                      <a:pt x="593" y="151"/>
                    </a:lnTo>
                    <a:lnTo>
                      <a:pt x="603" y="151"/>
                    </a:lnTo>
                    <a:lnTo>
                      <a:pt x="612" y="150"/>
                    </a:lnTo>
                    <a:lnTo>
                      <a:pt x="621" y="149"/>
                    </a:lnTo>
                    <a:lnTo>
                      <a:pt x="631" y="149"/>
                    </a:lnTo>
                    <a:lnTo>
                      <a:pt x="640" y="151"/>
                    </a:lnTo>
                    <a:lnTo>
                      <a:pt x="649" y="149"/>
                    </a:lnTo>
                    <a:lnTo>
                      <a:pt x="658" y="151"/>
                    </a:lnTo>
                    <a:lnTo>
                      <a:pt x="668" y="150"/>
                    </a:lnTo>
                    <a:lnTo>
                      <a:pt x="677" y="148"/>
                    </a:lnTo>
                    <a:lnTo>
                      <a:pt x="686" y="148"/>
                    </a:lnTo>
                    <a:lnTo>
                      <a:pt x="696" y="147"/>
                    </a:lnTo>
                    <a:lnTo>
                      <a:pt x="705" y="147"/>
                    </a:lnTo>
                    <a:lnTo>
                      <a:pt x="714" y="146"/>
                    </a:lnTo>
                    <a:lnTo>
                      <a:pt x="723" y="145"/>
                    </a:lnTo>
                    <a:lnTo>
                      <a:pt x="733" y="145"/>
                    </a:lnTo>
                    <a:lnTo>
                      <a:pt x="742" y="145"/>
                    </a:lnTo>
                    <a:lnTo>
                      <a:pt x="751" y="147"/>
                    </a:lnTo>
                    <a:lnTo>
                      <a:pt x="760" y="148"/>
                    </a:lnTo>
                    <a:lnTo>
                      <a:pt x="770" y="147"/>
                    </a:lnTo>
                    <a:lnTo>
                      <a:pt x="779" y="146"/>
                    </a:lnTo>
                    <a:lnTo>
                      <a:pt x="788" y="146"/>
                    </a:lnTo>
                    <a:lnTo>
                      <a:pt x="798" y="144"/>
                    </a:lnTo>
                    <a:lnTo>
                      <a:pt x="807" y="143"/>
                    </a:lnTo>
                    <a:lnTo>
                      <a:pt x="816" y="143"/>
                    </a:lnTo>
                    <a:lnTo>
                      <a:pt x="825" y="142"/>
                    </a:lnTo>
                    <a:lnTo>
                      <a:pt x="835" y="142"/>
                    </a:lnTo>
                    <a:lnTo>
                      <a:pt x="844" y="139"/>
                    </a:lnTo>
                    <a:lnTo>
                      <a:pt x="853" y="139"/>
                    </a:lnTo>
                    <a:lnTo>
                      <a:pt x="863" y="138"/>
                    </a:lnTo>
                    <a:lnTo>
                      <a:pt x="872" y="139"/>
                    </a:lnTo>
                    <a:lnTo>
                      <a:pt x="881" y="141"/>
                    </a:lnTo>
                    <a:lnTo>
                      <a:pt x="890" y="140"/>
                    </a:lnTo>
                    <a:lnTo>
                      <a:pt x="900" y="138"/>
                    </a:lnTo>
                    <a:lnTo>
                      <a:pt x="909" y="137"/>
                    </a:lnTo>
                    <a:lnTo>
                      <a:pt x="918" y="136"/>
                    </a:lnTo>
                    <a:lnTo>
                      <a:pt x="928" y="134"/>
                    </a:lnTo>
                    <a:lnTo>
                      <a:pt x="937" y="132"/>
                    </a:lnTo>
                    <a:lnTo>
                      <a:pt x="946" y="131"/>
                    </a:lnTo>
                    <a:lnTo>
                      <a:pt x="955" y="130"/>
                    </a:lnTo>
                    <a:lnTo>
                      <a:pt x="965" y="130"/>
                    </a:lnTo>
                    <a:lnTo>
                      <a:pt x="974" y="127"/>
                    </a:lnTo>
                    <a:lnTo>
                      <a:pt x="983" y="126"/>
                    </a:lnTo>
                    <a:lnTo>
                      <a:pt x="992" y="123"/>
                    </a:lnTo>
                    <a:lnTo>
                      <a:pt x="1002" y="121"/>
                    </a:lnTo>
                    <a:lnTo>
                      <a:pt x="1011" y="119"/>
                    </a:lnTo>
                    <a:lnTo>
                      <a:pt x="1020" y="116"/>
                    </a:lnTo>
                    <a:lnTo>
                      <a:pt x="1030" y="115"/>
                    </a:lnTo>
                    <a:lnTo>
                      <a:pt x="1039" y="112"/>
                    </a:lnTo>
                    <a:lnTo>
                      <a:pt x="1048" y="109"/>
                    </a:lnTo>
                    <a:lnTo>
                      <a:pt x="1057" y="106"/>
                    </a:lnTo>
                    <a:lnTo>
                      <a:pt x="1067" y="106"/>
                    </a:lnTo>
                    <a:lnTo>
                      <a:pt x="1076" y="103"/>
                    </a:lnTo>
                    <a:lnTo>
                      <a:pt x="1085" y="102"/>
                    </a:lnTo>
                    <a:lnTo>
                      <a:pt x="1095" y="98"/>
                    </a:lnTo>
                    <a:lnTo>
                      <a:pt x="1104" y="95"/>
                    </a:lnTo>
                    <a:lnTo>
                      <a:pt x="1113" y="91"/>
                    </a:lnTo>
                    <a:lnTo>
                      <a:pt x="1122" y="88"/>
                    </a:lnTo>
                    <a:lnTo>
                      <a:pt x="1132" y="84"/>
                    </a:lnTo>
                    <a:lnTo>
                      <a:pt x="1141" y="79"/>
                    </a:lnTo>
                    <a:lnTo>
                      <a:pt x="1150" y="79"/>
                    </a:lnTo>
                    <a:lnTo>
                      <a:pt x="1160" y="78"/>
                    </a:lnTo>
                    <a:lnTo>
                      <a:pt x="1169" y="73"/>
                    </a:lnTo>
                    <a:lnTo>
                      <a:pt x="1178" y="70"/>
                    </a:lnTo>
                    <a:lnTo>
                      <a:pt x="1187" y="66"/>
                    </a:lnTo>
                    <a:lnTo>
                      <a:pt x="1197" y="63"/>
                    </a:lnTo>
                    <a:lnTo>
                      <a:pt x="1206" y="63"/>
                    </a:lnTo>
                    <a:lnTo>
                      <a:pt x="1215" y="65"/>
                    </a:lnTo>
                    <a:lnTo>
                      <a:pt x="1224" y="65"/>
                    </a:lnTo>
                    <a:lnTo>
                      <a:pt x="1234" y="64"/>
                    </a:lnTo>
                    <a:lnTo>
                      <a:pt x="1243" y="60"/>
                    </a:lnTo>
                    <a:lnTo>
                      <a:pt x="1252" y="58"/>
                    </a:lnTo>
                    <a:lnTo>
                      <a:pt x="1262" y="55"/>
                    </a:lnTo>
                    <a:lnTo>
                      <a:pt x="1271" y="51"/>
                    </a:lnTo>
                    <a:lnTo>
                      <a:pt x="1280" y="47"/>
                    </a:lnTo>
                    <a:lnTo>
                      <a:pt x="1289" y="45"/>
                    </a:lnTo>
                    <a:lnTo>
                      <a:pt x="1299" y="43"/>
                    </a:lnTo>
                    <a:lnTo>
                      <a:pt x="1308" y="42"/>
                    </a:lnTo>
                    <a:lnTo>
                      <a:pt x="1317" y="42"/>
                    </a:lnTo>
                    <a:lnTo>
                      <a:pt x="1327" y="41"/>
                    </a:lnTo>
                    <a:lnTo>
                      <a:pt x="1336" y="40"/>
                    </a:lnTo>
                    <a:lnTo>
                      <a:pt x="1345" y="37"/>
                    </a:lnTo>
                    <a:lnTo>
                      <a:pt x="1354" y="33"/>
                    </a:lnTo>
                    <a:lnTo>
                      <a:pt x="1364" y="32"/>
                    </a:lnTo>
                    <a:lnTo>
                      <a:pt x="1373" y="31"/>
                    </a:lnTo>
                    <a:lnTo>
                      <a:pt x="1382" y="29"/>
                    </a:lnTo>
                    <a:lnTo>
                      <a:pt x="1392" y="26"/>
                    </a:lnTo>
                    <a:lnTo>
                      <a:pt x="1401" y="25"/>
                    </a:lnTo>
                    <a:lnTo>
                      <a:pt x="1410" y="22"/>
                    </a:lnTo>
                    <a:lnTo>
                      <a:pt x="1419" y="16"/>
                    </a:lnTo>
                    <a:lnTo>
                      <a:pt x="1429" y="8"/>
                    </a:lnTo>
                    <a:lnTo>
                      <a:pt x="1438" y="4"/>
                    </a:lnTo>
                    <a:lnTo>
                      <a:pt x="1447" y="0"/>
                    </a:lnTo>
                    <a:lnTo>
                      <a:pt x="1447" y="3"/>
                    </a:lnTo>
                    <a:lnTo>
                      <a:pt x="1438" y="8"/>
                    </a:lnTo>
                    <a:lnTo>
                      <a:pt x="1429" y="12"/>
                    </a:lnTo>
                    <a:lnTo>
                      <a:pt x="1419" y="19"/>
                    </a:lnTo>
                    <a:lnTo>
                      <a:pt x="1410" y="25"/>
                    </a:lnTo>
                    <a:lnTo>
                      <a:pt x="1401" y="29"/>
                    </a:lnTo>
                    <a:lnTo>
                      <a:pt x="1392" y="29"/>
                    </a:lnTo>
                    <a:lnTo>
                      <a:pt x="1382" y="32"/>
                    </a:lnTo>
                    <a:lnTo>
                      <a:pt x="1373" y="35"/>
                    </a:lnTo>
                    <a:lnTo>
                      <a:pt x="1364" y="35"/>
                    </a:lnTo>
                    <a:lnTo>
                      <a:pt x="1354" y="37"/>
                    </a:lnTo>
                    <a:lnTo>
                      <a:pt x="1345" y="40"/>
                    </a:lnTo>
                    <a:lnTo>
                      <a:pt x="1336" y="43"/>
                    </a:lnTo>
                    <a:lnTo>
                      <a:pt x="1327" y="44"/>
                    </a:lnTo>
                    <a:lnTo>
                      <a:pt x="1317" y="45"/>
                    </a:lnTo>
                    <a:lnTo>
                      <a:pt x="1308" y="45"/>
                    </a:lnTo>
                    <a:lnTo>
                      <a:pt x="1299" y="46"/>
                    </a:lnTo>
                    <a:lnTo>
                      <a:pt x="1289" y="48"/>
                    </a:lnTo>
                    <a:lnTo>
                      <a:pt x="1280" y="50"/>
                    </a:lnTo>
                    <a:lnTo>
                      <a:pt x="1271" y="53"/>
                    </a:lnTo>
                    <a:lnTo>
                      <a:pt x="1262" y="58"/>
                    </a:lnTo>
                    <a:lnTo>
                      <a:pt x="1252" y="60"/>
                    </a:lnTo>
                    <a:lnTo>
                      <a:pt x="1243" y="62"/>
                    </a:lnTo>
                    <a:lnTo>
                      <a:pt x="1234" y="65"/>
                    </a:lnTo>
                    <a:lnTo>
                      <a:pt x="1224" y="66"/>
                    </a:lnTo>
                    <a:lnTo>
                      <a:pt x="1215" y="66"/>
                    </a:lnTo>
                    <a:lnTo>
                      <a:pt x="1206" y="64"/>
                    </a:lnTo>
                    <a:lnTo>
                      <a:pt x="1197" y="64"/>
                    </a:lnTo>
                    <a:lnTo>
                      <a:pt x="1187" y="67"/>
                    </a:lnTo>
                    <a:lnTo>
                      <a:pt x="1178" y="71"/>
                    </a:lnTo>
                    <a:lnTo>
                      <a:pt x="1169" y="74"/>
                    </a:lnTo>
                    <a:lnTo>
                      <a:pt x="1160" y="79"/>
                    </a:lnTo>
                    <a:lnTo>
                      <a:pt x="1150" y="79"/>
                    </a:lnTo>
                    <a:lnTo>
                      <a:pt x="1141" y="79"/>
                    </a:lnTo>
                    <a:lnTo>
                      <a:pt x="1132" y="84"/>
                    </a:lnTo>
                    <a:lnTo>
                      <a:pt x="1122" y="88"/>
                    </a:lnTo>
                    <a:lnTo>
                      <a:pt x="1113" y="91"/>
                    </a:lnTo>
                    <a:lnTo>
                      <a:pt x="1104" y="95"/>
                    </a:lnTo>
                    <a:lnTo>
                      <a:pt x="1095" y="98"/>
                    </a:lnTo>
                    <a:lnTo>
                      <a:pt x="1085" y="102"/>
                    </a:lnTo>
                    <a:lnTo>
                      <a:pt x="1076" y="103"/>
                    </a:lnTo>
                    <a:lnTo>
                      <a:pt x="1067" y="106"/>
                    </a:lnTo>
                    <a:lnTo>
                      <a:pt x="1057" y="106"/>
                    </a:lnTo>
                    <a:lnTo>
                      <a:pt x="1048" y="109"/>
                    </a:lnTo>
                    <a:lnTo>
                      <a:pt x="1039" y="112"/>
                    </a:lnTo>
                    <a:lnTo>
                      <a:pt x="1030" y="115"/>
                    </a:lnTo>
                    <a:lnTo>
                      <a:pt x="1020" y="116"/>
                    </a:lnTo>
                    <a:lnTo>
                      <a:pt x="1011" y="119"/>
                    </a:lnTo>
                    <a:lnTo>
                      <a:pt x="1002" y="121"/>
                    </a:lnTo>
                    <a:lnTo>
                      <a:pt x="992" y="123"/>
                    </a:lnTo>
                    <a:lnTo>
                      <a:pt x="983" y="126"/>
                    </a:lnTo>
                    <a:lnTo>
                      <a:pt x="974" y="127"/>
                    </a:lnTo>
                    <a:lnTo>
                      <a:pt x="965" y="130"/>
                    </a:lnTo>
                    <a:lnTo>
                      <a:pt x="955" y="130"/>
                    </a:lnTo>
                    <a:lnTo>
                      <a:pt x="946" y="131"/>
                    </a:lnTo>
                    <a:lnTo>
                      <a:pt x="937" y="132"/>
                    </a:lnTo>
                    <a:lnTo>
                      <a:pt x="928" y="134"/>
                    </a:lnTo>
                    <a:lnTo>
                      <a:pt x="918" y="136"/>
                    </a:lnTo>
                    <a:lnTo>
                      <a:pt x="909" y="137"/>
                    </a:lnTo>
                    <a:lnTo>
                      <a:pt x="900" y="138"/>
                    </a:lnTo>
                    <a:lnTo>
                      <a:pt x="890" y="140"/>
                    </a:lnTo>
                    <a:lnTo>
                      <a:pt x="881" y="141"/>
                    </a:lnTo>
                    <a:lnTo>
                      <a:pt x="872" y="139"/>
                    </a:lnTo>
                    <a:lnTo>
                      <a:pt x="863" y="138"/>
                    </a:lnTo>
                    <a:lnTo>
                      <a:pt x="853" y="139"/>
                    </a:lnTo>
                    <a:lnTo>
                      <a:pt x="844" y="139"/>
                    </a:lnTo>
                    <a:lnTo>
                      <a:pt x="835" y="142"/>
                    </a:lnTo>
                    <a:lnTo>
                      <a:pt x="825" y="142"/>
                    </a:lnTo>
                    <a:lnTo>
                      <a:pt x="816" y="143"/>
                    </a:lnTo>
                    <a:lnTo>
                      <a:pt x="807" y="143"/>
                    </a:lnTo>
                    <a:lnTo>
                      <a:pt x="798" y="144"/>
                    </a:lnTo>
                    <a:lnTo>
                      <a:pt x="788" y="146"/>
                    </a:lnTo>
                    <a:lnTo>
                      <a:pt x="779" y="146"/>
                    </a:lnTo>
                    <a:lnTo>
                      <a:pt x="770" y="147"/>
                    </a:lnTo>
                    <a:lnTo>
                      <a:pt x="760" y="148"/>
                    </a:lnTo>
                    <a:lnTo>
                      <a:pt x="751" y="147"/>
                    </a:lnTo>
                    <a:lnTo>
                      <a:pt x="742" y="145"/>
                    </a:lnTo>
                    <a:lnTo>
                      <a:pt x="733" y="145"/>
                    </a:lnTo>
                    <a:lnTo>
                      <a:pt x="723" y="145"/>
                    </a:lnTo>
                    <a:lnTo>
                      <a:pt x="714" y="146"/>
                    </a:lnTo>
                    <a:lnTo>
                      <a:pt x="705" y="147"/>
                    </a:lnTo>
                    <a:lnTo>
                      <a:pt x="696" y="147"/>
                    </a:lnTo>
                    <a:lnTo>
                      <a:pt x="686" y="148"/>
                    </a:lnTo>
                    <a:lnTo>
                      <a:pt x="677" y="148"/>
                    </a:lnTo>
                    <a:lnTo>
                      <a:pt x="668" y="150"/>
                    </a:lnTo>
                    <a:lnTo>
                      <a:pt x="658" y="151"/>
                    </a:lnTo>
                    <a:lnTo>
                      <a:pt x="649" y="149"/>
                    </a:lnTo>
                    <a:lnTo>
                      <a:pt x="640" y="151"/>
                    </a:lnTo>
                    <a:lnTo>
                      <a:pt x="631" y="149"/>
                    </a:lnTo>
                    <a:lnTo>
                      <a:pt x="621" y="149"/>
                    </a:lnTo>
                    <a:lnTo>
                      <a:pt x="612" y="150"/>
                    </a:lnTo>
                    <a:lnTo>
                      <a:pt x="603" y="151"/>
                    </a:lnTo>
                    <a:lnTo>
                      <a:pt x="593" y="151"/>
                    </a:lnTo>
                    <a:lnTo>
                      <a:pt x="584" y="150"/>
                    </a:lnTo>
                    <a:lnTo>
                      <a:pt x="575" y="151"/>
                    </a:lnTo>
                    <a:lnTo>
                      <a:pt x="566" y="151"/>
                    </a:lnTo>
                    <a:lnTo>
                      <a:pt x="556" y="152"/>
                    </a:lnTo>
                    <a:lnTo>
                      <a:pt x="547" y="152"/>
                    </a:lnTo>
                    <a:lnTo>
                      <a:pt x="538" y="153"/>
                    </a:lnTo>
                    <a:lnTo>
                      <a:pt x="528" y="152"/>
                    </a:lnTo>
                    <a:lnTo>
                      <a:pt x="519" y="153"/>
                    </a:lnTo>
                    <a:lnTo>
                      <a:pt x="510" y="154"/>
                    </a:lnTo>
                    <a:lnTo>
                      <a:pt x="501" y="155"/>
                    </a:lnTo>
                    <a:lnTo>
                      <a:pt x="491" y="155"/>
                    </a:lnTo>
                    <a:lnTo>
                      <a:pt x="482" y="156"/>
                    </a:lnTo>
                    <a:lnTo>
                      <a:pt x="473" y="156"/>
                    </a:lnTo>
                    <a:lnTo>
                      <a:pt x="464" y="156"/>
                    </a:lnTo>
                    <a:lnTo>
                      <a:pt x="454" y="156"/>
                    </a:lnTo>
                    <a:lnTo>
                      <a:pt x="445" y="157"/>
                    </a:lnTo>
                    <a:lnTo>
                      <a:pt x="436" y="157"/>
                    </a:lnTo>
                    <a:lnTo>
                      <a:pt x="426" y="158"/>
                    </a:lnTo>
                    <a:lnTo>
                      <a:pt x="417" y="158"/>
                    </a:lnTo>
                    <a:lnTo>
                      <a:pt x="408" y="158"/>
                    </a:lnTo>
                    <a:lnTo>
                      <a:pt x="399" y="158"/>
                    </a:lnTo>
                    <a:lnTo>
                      <a:pt x="389" y="158"/>
                    </a:lnTo>
                    <a:lnTo>
                      <a:pt x="380" y="158"/>
                    </a:lnTo>
                    <a:lnTo>
                      <a:pt x="371" y="159"/>
                    </a:lnTo>
                    <a:lnTo>
                      <a:pt x="361" y="159"/>
                    </a:lnTo>
                    <a:lnTo>
                      <a:pt x="352" y="159"/>
                    </a:lnTo>
                    <a:lnTo>
                      <a:pt x="343" y="160"/>
                    </a:lnTo>
                    <a:lnTo>
                      <a:pt x="334" y="160"/>
                    </a:lnTo>
                    <a:lnTo>
                      <a:pt x="324" y="160"/>
                    </a:lnTo>
                    <a:lnTo>
                      <a:pt x="315" y="160"/>
                    </a:lnTo>
                    <a:lnTo>
                      <a:pt x="306" y="160"/>
                    </a:lnTo>
                    <a:lnTo>
                      <a:pt x="296" y="160"/>
                    </a:lnTo>
                    <a:lnTo>
                      <a:pt x="287" y="160"/>
                    </a:lnTo>
                    <a:lnTo>
                      <a:pt x="278" y="161"/>
                    </a:lnTo>
                    <a:lnTo>
                      <a:pt x="269" y="161"/>
                    </a:lnTo>
                    <a:lnTo>
                      <a:pt x="259" y="161"/>
                    </a:lnTo>
                    <a:lnTo>
                      <a:pt x="250" y="161"/>
                    </a:lnTo>
                    <a:lnTo>
                      <a:pt x="241" y="161"/>
                    </a:lnTo>
                    <a:lnTo>
                      <a:pt x="232" y="161"/>
                    </a:lnTo>
                    <a:lnTo>
                      <a:pt x="222" y="162"/>
                    </a:lnTo>
                    <a:lnTo>
                      <a:pt x="213" y="162"/>
                    </a:lnTo>
                    <a:lnTo>
                      <a:pt x="204" y="162"/>
                    </a:lnTo>
                    <a:lnTo>
                      <a:pt x="194" y="162"/>
                    </a:lnTo>
                    <a:lnTo>
                      <a:pt x="185" y="162"/>
                    </a:lnTo>
                    <a:lnTo>
                      <a:pt x="176" y="162"/>
                    </a:lnTo>
                    <a:lnTo>
                      <a:pt x="167" y="162"/>
                    </a:lnTo>
                    <a:lnTo>
                      <a:pt x="157" y="163"/>
                    </a:lnTo>
                    <a:lnTo>
                      <a:pt x="148" y="163"/>
                    </a:lnTo>
                    <a:lnTo>
                      <a:pt x="139" y="163"/>
                    </a:lnTo>
                    <a:lnTo>
                      <a:pt x="129" y="163"/>
                    </a:lnTo>
                    <a:lnTo>
                      <a:pt x="120" y="163"/>
                    </a:lnTo>
                    <a:lnTo>
                      <a:pt x="111" y="163"/>
                    </a:lnTo>
                    <a:lnTo>
                      <a:pt x="102" y="163"/>
                    </a:lnTo>
                    <a:lnTo>
                      <a:pt x="92" y="163"/>
                    </a:lnTo>
                    <a:lnTo>
                      <a:pt x="83" y="164"/>
                    </a:lnTo>
                    <a:lnTo>
                      <a:pt x="74" y="164"/>
                    </a:lnTo>
                    <a:lnTo>
                      <a:pt x="64" y="164"/>
                    </a:lnTo>
                    <a:lnTo>
                      <a:pt x="55" y="164"/>
                    </a:lnTo>
                    <a:lnTo>
                      <a:pt x="46" y="164"/>
                    </a:lnTo>
                    <a:lnTo>
                      <a:pt x="37" y="164"/>
                    </a:lnTo>
                    <a:lnTo>
                      <a:pt x="27" y="164"/>
                    </a:lnTo>
                    <a:lnTo>
                      <a:pt x="18" y="164"/>
                    </a:lnTo>
                    <a:lnTo>
                      <a:pt x="9" y="164"/>
                    </a:lnTo>
                    <a:lnTo>
                      <a:pt x="0" y="164"/>
                    </a:lnTo>
                    <a:close/>
                  </a:path>
                </a:pathLst>
              </a:custGeom>
              <a:noFill/>
              <a:ln w="3175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5" name="Freeform 115"/>
              <p:cNvSpPr/>
              <p:nvPr/>
            </p:nvSpPr>
            <p:spPr>
              <a:xfrm>
                <a:off x="2720520" y="4388760"/>
                <a:ext cx="2310120" cy="394560"/>
              </a:xfrm>
              <a:custGeom>
                <a:avLst/>
                <a:gdLst>
                  <a:gd name="textAreaLeft" fmla="*/ 0 w 2310120"/>
                  <a:gd name="textAreaRight" fmla="*/ 2310480 w 2310120"/>
                  <a:gd name="textAreaTop" fmla="*/ 0 h 394560"/>
                  <a:gd name="textAreaBottom" fmla="*/ 394920 h 394560"/>
                </a:gdLst>
                <a:ahLst/>
                <a:rect l="textAreaLeft" t="textAreaTop" r="textAreaRight" b="textAreaBottom"/>
                <a:pathLst>
                  <a:path w="1447" h="160">
                    <a:moveTo>
                      <a:pt x="0" y="160"/>
                    </a:moveTo>
                    <a:lnTo>
                      <a:pt x="9" y="160"/>
                    </a:lnTo>
                    <a:lnTo>
                      <a:pt x="18" y="160"/>
                    </a:lnTo>
                    <a:lnTo>
                      <a:pt x="27" y="160"/>
                    </a:lnTo>
                    <a:lnTo>
                      <a:pt x="37" y="160"/>
                    </a:lnTo>
                    <a:lnTo>
                      <a:pt x="46" y="160"/>
                    </a:lnTo>
                    <a:lnTo>
                      <a:pt x="55" y="160"/>
                    </a:lnTo>
                    <a:lnTo>
                      <a:pt x="64" y="160"/>
                    </a:lnTo>
                    <a:lnTo>
                      <a:pt x="74" y="160"/>
                    </a:lnTo>
                    <a:lnTo>
                      <a:pt x="83" y="160"/>
                    </a:lnTo>
                    <a:lnTo>
                      <a:pt x="92" y="160"/>
                    </a:lnTo>
                    <a:lnTo>
                      <a:pt x="102" y="159"/>
                    </a:lnTo>
                    <a:lnTo>
                      <a:pt x="111" y="159"/>
                    </a:lnTo>
                    <a:lnTo>
                      <a:pt x="120" y="159"/>
                    </a:lnTo>
                    <a:lnTo>
                      <a:pt x="129" y="159"/>
                    </a:lnTo>
                    <a:lnTo>
                      <a:pt x="139" y="159"/>
                    </a:lnTo>
                    <a:lnTo>
                      <a:pt x="148" y="159"/>
                    </a:lnTo>
                    <a:lnTo>
                      <a:pt x="157" y="159"/>
                    </a:lnTo>
                    <a:lnTo>
                      <a:pt x="167" y="159"/>
                    </a:lnTo>
                    <a:lnTo>
                      <a:pt x="176" y="158"/>
                    </a:lnTo>
                    <a:lnTo>
                      <a:pt x="185" y="158"/>
                    </a:lnTo>
                    <a:lnTo>
                      <a:pt x="194" y="158"/>
                    </a:lnTo>
                    <a:lnTo>
                      <a:pt x="204" y="158"/>
                    </a:lnTo>
                    <a:lnTo>
                      <a:pt x="213" y="158"/>
                    </a:lnTo>
                    <a:lnTo>
                      <a:pt x="222" y="158"/>
                    </a:lnTo>
                    <a:lnTo>
                      <a:pt x="232" y="158"/>
                    </a:lnTo>
                    <a:lnTo>
                      <a:pt x="241" y="157"/>
                    </a:lnTo>
                    <a:lnTo>
                      <a:pt x="250" y="157"/>
                    </a:lnTo>
                    <a:lnTo>
                      <a:pt x="259" y="157"/>
                    </a:lnTo>
                    <a:lnTo>
                      <a:pt x="269" y="157"/>
                    </a:lnTo>
                    <a:lnTo>
                      <a:pt x="278" y="157"/>
                    </a:lnTo>
                    <a:lnTo>
                      <a:pt x="287" y="157"/>
                    </a:lnTo>
                    <a:lnTo>
                      <a:pt x="296" y="156"/>
                    </a:lnTo>
                    <a:lnTo>
                      <a:pt x="306" y="156"/>
                    </a:lnTo>
                    <a:lnTo>
                      <a:pt x="315" y="156"/>
                    </a:lnTo>
                    <a:lnTo>
                      <a:pt x="324" y="156"/>
                    </a:lnTo>
                    <a:lnTo>
                      <a:pt x="334" y="156"/>
                    </a:lnTo>
                    <a:lnTo>
                      <a:pt x="343" y="156"/>
                    </a:lnTo>
                    <a:lnTo>
                      <a:pt x="352" y="155"/>
                    </a:lnTo>
                    <a:lnTo>
                      <a:pt x="361" y="155"/>
                    </a:lnTo>
                    <a:lnTo>
                      <a:pt x="371" y="155"/>
                    </a:lnTo>
                    <a:lnTo>
                      <a:pt x="380" y="155"/>
                    </a:lnTo>
                    <a:lnTo>
                      <a:pt x="389" y="155"/>
                    </a:lnTo>
                    <a:lnTo>
                      <a:pt x="399" y="155"/>
                    </a:lnTo>
                    <a:lnTo>
                      <a:pt x="408" y="154"/>
                    </a:lnTo>
                    <a:lnTo>
                      <a:pt x="417" y="154"/>
                    </a:lnTo>
                    <a:lnTo>
                      <a:pt x="426" y="154"/>
                    </a:lnTo>
                    <a:lnTo>
                      <a:pt x="436" y="154"/>
                    </a:lnTo>
                    <a:lnTo>
                      <a:pt x="445" y="153"/>
                    </a:lnTo>
                    <a:lnTo>
                      <a:pt x="454" y="153"/>
                    </a:lnTo>
                    <a:lnTo>
                      <a:pt x="464" y="152"/>
                    </a:lnTo>
                    <a:lnTo>
                      <a:pt x="473" y="152"/>
                    </a:lnTo>
                    <a:lnTo>
                      <a:pt x="482" y="152"/>
                    </a:lnTo>
                    <a:lnTo>
                      <a:pt x="491" y="151"/>
                    </a:lnTo>
                    <a:lnTo>
                      <a:pt x="501" y="151"/>
                    </a:lnTo>
                    <a:lnTo>
                      <a:pt x="510" y="150"/>
                    </a:lnTo>
                    <a:lnTo>
                      <a:pt x="519" y="149"/>
                    </a:lnTo>
                    <a:lnTo>
                      <a:pt x="528" y="148"/>
                    </a:lnTo>
                    <a:lnTo>
                      <a:pt x="538" y="149"/>
                    </a:lnTo>
                    <a:lnTo>
                      <a:pt x="547" y="148"/>
                    </a:lnTo>
                    <a:lnTo>
                      <a:pt x="556" y="148"/>
                    </a:lnTo>
                    <a:lnTo>
                      <a:pt x="566" y="147"/>
                    </a:lnTo>
                    <a:lnTo>
                      <a:pt x="575" y="147"/>
                    </a:lnTo>
                    <a:lnTo>
                      <a:pt x="584" y="146"/>
                    </a:lnTo>
                    <a:lnTo>
                      <a:pt x="593" y="147"/>
                    </a:lnTo>
                    <a:lnTo>
                      <a:pt x="603" y="147"/>
                    </a:lnTo>
                    <a:lnTo>
                      <a:pt x="612" y="146"/>
                    </a:lnTo>
                    <a:lnTo>
                      <a:pt x="621" y="145"/>
                    </a:lnTo>
                    <a:lnTo>
                      <a:pt x="631" y="145"/>
                    </a:lnTo>
                    <a:lnTo>
                      <a:pt x="640" y="147"/>
                    </a:lnTo>
                    <a:lnTo>
                      <a:pt x="649" y="145"/>
                    </a:lnTo>
                    <a:lnTo>
                      <a:pt x="658" y="147"/>
                    </a:lnTo>
                    <a:lnTo>
                      <a:pt x="668" y="146"/>
                    </a:lnTo>
                    <a:lnTo>
                      <a:pt x="677" y="144"/>
                    </a:lnTo>
                    <a:lnTo>
                      <a:pt x="686" y="144"/>
                    </a:lnTo>
                    <a:lnTo>
                      <a:pt x="696" y="143"/>
                    </a:lnTo>
                    <a:lnTo>
                      <a:pt x="705" y="143"/>
                    </a:lnTo>
                    <a:lnTo>
                      <a:pt x="714" y="142"/>
                    </a:lnTo>
                    <a:lnTo>
                      <a:pt x="723" y="141"/>
                    </a:lnTo>
                    <a:lnTo>
                      <a:pt x="733" y="141"/>
                    </a:lnTo>
                    <a:lnTo>
                      <a:pt x="742" y="142"/>
                    </a:lnTo>
                    <a:lnTo>
                      <a:pt x="751" y="143"/>
                    </a:lnTo>
                    <a:lnTo>
                      <a:pt x="760" y="144"/>
                    </a:lnTo>
                    <a:lnTo>
                      <a:pt x="770" y="144"/>
                    </a:lnTo>
                    <a:lnTo>
                      <a:pt x="779" y="143"/>
                    </a:lnTo>
                    <a:lnTo>
                      <a:pt x="788" y="142"/>
                    </a:lnTo>
                    <a:lnTo>
                      <a:pt x="798" y="140"/>
                    </a:lnTo>
                    <a:lnTo>
                      <a:pt x="807" y="139"/>
                    </a:lnTo>
                    <a:lnTo>
                      <a:pt x="816" y="140"/>
                    </a:lnTo>
                    <a:lnTo>
                      <a:pt x="825" y="138"/>
                    </a:lnTo>
                    <a:lnTo>
                      <a:pt x="835" y="138"/>
                    </a:lnTo>
                    <a:lnTo>
                      <a:pt x="844" y="135"/>
                    </a:lnTo>
                    <a:lnTo>
                      <a:pt x="853" y="135"/>
                    </a:lnTo>
                    <a:lnTo>
                      <a:pt x="863" y="134"/>
                    </a:lnTo>
                    <a:lnTo>
                      <a:pt x="872" y="135"/>
                    </a:lnTo>
                    <a:lnTo>
                      <a:pt x="881" y="138"/>
                    </a:lnTo>
                    <a:lnTo>
                      <a:pt x="890" y="136"/>
                    </a:lnTo>
                    <a:lnTo>
                      <a:pt x="900" y="134"/>
                    </a:lnTo>
                    <a:lnTo>
                      <a:pt x="909" y="133"/>
                    </a:lnTo>
                    <a:lnTo>
                      <a:pt x="918" y="133"/>
                    </a:lnTo>
                    <a:lnTo>
                      <a:pt x="928" y="130"/>
                    </a:lnTo>
                    <a:lnTo>
                      <a:pt x="937" y="128"/>
                    </a:lnTo>
                    <a:lnTo>
                      <a:pt x="946" y="128"/>
                    </a:lnTo>
                    <a:lnTo>
                      <a:pt x="955" y="126"/>
                    </a:lnTo>
                    <a:lnTo>
                      <a:pt x="965" y="126"/>
                    </a:lnTo>
                    <a:lnTo>
                      <a:pt x="974" y="124"/>
                    </a:lnTo>
                    <a:lnTo>
                      <a:pt x="983" y="122"/>
                    </a:lnTo>
                    <a:lnTo>
                      <a:pt x="992" y="119"/>
                    </a:lnTo>
                    <a:lnTo>
                      <a:pt x="1002" y="117"/>
                    </a:lnTo>
                    <a:lnTo>
                      <a:pt x="1011" y="115"/>
                    </a:lnTo>
                    <a:lnTo>
                      <a:pt x="1020" y="113"/>
                    </a:lnTo>
                    <a:lnTo>
                      <a:pt x="1030" y="111"/>
                    </a:lnTo>
                    <a:lnTo>
                      <a:pt x="1039" y="108"/>
                    </a:lnTo>
                    <a:lnTo>
                      <a:pt x="1048" y="105"/>
                    </a:lnTo>
                    <a:lnTo>
                      <a:pt x="1057" y="102"/>
                    </a:lnTo>
                    <a:lnTo>
                      <a:pt x="1067" y="102"/>
                    </a:lnTo>
                    <a:lnTo>
                      <a:pt x="1076" y="99"/>
                    </a:lnTo>
                    <a:lnTo>
                      <a:pt x="1085" y="98"/>
                    </a:lnTo>
                    <a:lnTo>
                      <a:pt x="1095" y="94"/>
                    </a:lnTo>
                    <a:lnTo>
                      <a:pt x="1104" y="91"/>
                    </a:lnTo>
                    <a:lnTo>
                      <a:pt x="1113" y="88"/>
                    </a:lnTo>
                    <a:lnTo>
                      <a:pt x="1122" y="84"/>
                    </a:lnTo>
                    <a:lnTo>
                      <a:pt x="1132" y="80"/>
                    </a:lnTo>
                    <a:lnTo>
                      <a:pt x="1141" y="75"/>
                    </a:lnTo>
                    <a:lnTo>
                      <a:pt x="1150" y="75"/>
                    </a:lnTo>
                    <a:lnTo>
                      <a:pt x="1160" y="75"/>
                    </a:lnTo>
                    <a:lnTo>
                      <a:pt x="1169" y="70"/>
                    </a:lnTo>
                    <a:lnTo>
                      <a:pt x="1178" y="67"/>
                    </a:lnTo>
                    <a:lnTo>
                      <a:pt x="1187" y="63"/>
                    </a:lnTo>
                    <a:lnTo>
                      <a:pt x="1197" y="60"/>
                    </a:lnTo>
                    <a:lnTo>
                      <a:pt x="1206" y="60"/>
                    </a:lnTo>
                    <a:lnTo>
                      <a:pt x="1215" y="62"/>
                    </a:lnTo>
                    <a:lnTo>
                      <a:pt x="1224" y="62"/>
                    </a:lnTo>
                    <a:lnTo>
                      <a:pt x="1234" y="61"/>
                    </a:lnTo>
                    <a:lnTo>
                      <a:pt x="1243" y="58"/>
                    </a:lnTo>
                    <a:lnTo>
                      <a:pt x="1252" y="56"/>
                    </a:lnTo>
                    <a:lnTo>
                      <a:pt x="1262" y="54"/>
                    </a:lnTo>
                    <a:lnTo>
                      <a:pt x="1271" y="50"/>
                    </a:lnTo>
                    <a:lnTo>
                      <a:pt x="1280" y="46"/>
                    </a:lnTo>
                    <a:lnTo>
                      <a:pt x="1289" y="44"/>
                    </a:lnTo>
                    <a:lnTo>
                      <a:pt x="1299" y="42"/>
                    </a:lnTo>
                    <a:lnTo>
                      <a:pt x="1308" y="41"/>
                    </a:lnTo>
                    <a:lnTo>
                      <a:pt x="1317" y="41"/>
                    </a:lnTo>
                    <a:lnTo>
                      <a:pt x="1327" y="40"/>
                    </a:lnTo>
                    <a:lnTo>
                      <a:pt x="1336" y="39"/>
                    </a:lnTo>
                    <a:lnTo>
                      <a:pt x="1345" y="36"/>
                    </a:lnTo>
                    <a:lnTo>
                      <a:pt x="1354" y="33"/>
                    </a:lnTo>
                    <a:lnTo>
                      <a:pt x="1364" y="32"/>
                    </a:lnTo>
                    <a:lnTo>
                      <a:pt x="1373" y="31"/>
                    </a:lnTo>
                    <a:lnTo>
                      <a:pt x="1382" y="28"/>
                    </a:lnTo>
                    <a:lnTo>
                      <a:pt x="1392" y="25"/>
                    </a:lnTo>
                    <a:lnTo>
                      <a:pt x="1401" y="25"/>
                    </a:lnTo>
                    <a:lnTo>
                      <a:pt x="1410" y="22"/>
                    </a:lnTo>
                    <a:lnTo>
                      <a:pt x="1419" y="16"/>
                    </a:lnTo>
                    <a:lnTo>
                      <a:pt x="1429" y="8"/>
                    </a:lnTo>
                    <a:lnTo>
                      <a:pt x="1438" y="4"/>
                    </a:lnTo>
                    <a:lnTo>
                      <a:pt x="1447" y="0"/>
                    </a:lnTo>
                    <a:lnTo>
                      <a:pt x="1447" y="38"/>
                    </a:lnTo>
                    <a:lnTo>
                      <a:pt x="1438" y="42"/>
                    </a:lnTo>
                    <a:lnTo>
                      <a:pt x="1429" y="45"/>
                    </a:lnTo>
                    <a:lnTo>
                      <a:pt x="1419" y="51"/>
                    </a:lnTo>
                    <a:lnTo>
                      <a:pt x="1410" y="56"/>
                    </a:lnTo>
                    <a:lnTo>
                      <a:pt x="1401" y="58"/>
                    </a:lnTo>
                    <a:lnTo>
                      <a:pt x="1392" y="59"/>
                    </a:lnTo>
                    <a:lnTo>
                      <a:pt x="1382" y="61"/>
                    </a:lnTo>
                    <a:lnTo>
                      <a:pt x="1373" y="62"/>
                    </a:lnTo>
                    <a:lnTo>
                      <a:pt x="1364" y="62"/>
                    </a:lnTo>
                    <a:lnTo>
                      <a:pt x="1354" y="63"/>
                    </a:lnTo>
                    <a:lnTo>
                      <a:pt x="1345" y="66"/>
                    </a:lnTo>
                    <a:lnTo>
                      <a:pt x="1336" y="68"/>
                    </a:lnTo>
                    <a:lnTo>
                      <a:pt x="1327" y="69"/>
                    </a:lnTo>
                    <a:lnTo>
                      <a:pt x="1317" y="69"/>
                    </a:lnTo>
                    <a:lnTo>
                      <a:pt x="1308" y="69"/>
                    </a:lnTo>
                    <a:lnTo>
                      <a:pt x="1299" y="69"/>
                    </a:lnTo>
                    <a:lnTo>
                      <a:pt x="1289" y="70"/>
                    </a:lnTo>
                    <a:lnTo>
                      <a:pt x="1280" y="71"/>
                    </a:lnTo>
                    <a:lnTo>
                      <a:pt x="1271" y="74"/>
                    </a:lnTo>
                    <a:lnTo>
                      <a:pt x="1262" y="77"/>
                    </a:lnTo>
                    <a:lnTo>
                      <a:pt x="1252" y="78"/>
                    </a:lnTo>
                    <a:lnTo>
                      <a:pt x="1243" y="80"/>
                    </a:lnTo>
                    <a:lnTo>
                      <a:pt x="1234" y="82"/>
                    </a:lnTo>
                    <a:lnTo>
                      <a:pt x="1224" y="82"/>
                    </a:lnTo>
                    <a:lnTo>
                      <a:pt x="1215" y="82"/>
                    </a:lnTo>
                    <a:lnTo>
                      <a:pt x="1206" y="80"/>
                    </a:lnTo>
                    <a:lnTo>
                      <a:pt x="1197" y="79"/>
                    </a:lnTo>
                    <a:lnTo>
                      <a:pt x="1187" y="81"/>
                    </a:lnTo>
                    <a:lnTo>
                      <a:pt x="1178" y="84"/>
                    </a:lnTo>
                    <a:lnTo>
                      <a:pt x="1169" y="87"/>
                    </a:lnTo>
                    <a:lnTo>
                      <a:pt x="1160" y="91"/>
                    </a:lnTo>
                    <a:lnTo>
                      <a:pt x="1150" y="92"/>
                    </a:lnTo>
                    <a:lnTo>
                      <a:pt x="1141" y="91"/>
                    </a:lnTo>
                    <a:lnTo>
                      <a:pt x="1132" y="95"/>
                    </a:lnTo>
                    <a:lnTo>
                      <a:pt x="1122" y="99"/>
                    </a:lnTo>
                    <a:lnTo>
                      <a:pt x="1113" y="101"/>
                    </a:lnTo>
                    <a:lnTo>
                      <a:pt x="1104" y="103"/>
                    </a:lnTo>
                    <a:lnTo>
                      <a:pt x="1095" y="106"/>
                    </a:lnTo>
                    <a:lnTo>
                      <a:pt x="1085" y="108"/>
                    </a:lnTo>
                    <a:lnTo>
                      <a:pt x="1076" y="109"/>
                    </a:lnTo>
                    <a:lnTo>
                      <a:pt x="1067" y="111"/>
                    </a:lnTo>
                    <a:lnTo>
                      <a:pt x="1057" y="111"/>
                    </a:lnTo>
                    <a:lnTo>
                      <a:pt x="1048" y="113"/>
                    </a:lnTo>
                    <a:lnTo>
                      <a:pt x="1039" y="115"/>
                    </a:lnTo>
                    <a:lnTo>
                      <a:pt x="1030" y="118"/>
                    </a:lnTo>
                    <a:lnTo>
                      <a:pt x="1020" y="119"/>
                    </a:lnTo>
                    <a:lnTo>
                      <a:pt x="1011" y="121"/>
                    </a:lnTo>
                    <a:lnTo>
                      <a:pt x="1002" y="122"/>
                    </a:lnTo>
                    <a:lnTo>
                      <a:pt x="992" y="124"/>
                    </a:lnTo>
                    <a:lnTo>
                      <a:pt x="983" y="126"/>
                    </a:lnTo>
                    <a:lnTo>
                      <a:pt x="974" y="127"/>
                    </a:lnTo>
                    <a:lnTo>
                      <a:pt x="965" y="129"/>
                    </a:lnTo>
                    <a:lnTo>
                      <a:pt x="955" y="130"/>
                    </a:lnTo>
                    <a:lnTo>
                      <a:pt x="946" y="131"/>
                    </a:lnTo>
                    <a:lnTo>
                      <a:pt x="937" y="132"/>
                    </a:lnTo>
                    <a:lnTo>
                      <a:pt x="928" y="132"/>
                    </a:lnTo>
                    <a:lnTo>
                      <a:pt x="918" y="135"/>
                    </a:lnTo>
                    <a:lnTo>
                      <a:pt x="909" y="135"/>
                    </a:lnTo>
                    <a:lnTo>
                      <a:pt x="900" y="136"/>
                    </a:lnTo>
                    <a:lnTo>
                      <a:pt x="890" y="138"/>
                    </a:lnTo>
                    <a:lnTo>
                      <a:pt x="881" y="139"/>
                    </a:lnTo>
                    <a:lnTo>
                      <a:pt x="872" y="136"/>
                    </a:lnTo>
                    <a:lnTo>
                      <a:pt x="863" y="136"/>
                    </a:lnTo>
                    <a:lnTo>
                      <a:pt x="853" y="136"/>
                    </a:lnTo>
                    <a:lnTo>
                      <a:pt x="844" y="137"/>
                    </a:lnTo>
                    <a:lnTo>
                      <a:pt x="835" y="139"/>
                    </a:lnTo>
                    <a:lnTo>
                      <a:pt x="825" y="139"/>
                    </a:lnTo>
                    <a:lnTo>
                      <a:pt x="816" y="141"/>
                    </a:lnTo>
                    <a:lnTo>
                      <a:pt x="807" y="140"/>
                    </a:lnTo>
                    <a:lnTo>
                      <a:pt x="798" y="141"/>
                    </a:lnTo>
                    <a:lnTo>
                      <a:pt x="788" y="143"/>
                    </a:lnTo>
                    <a:lnTo>
                      <a:pt x="779" y="143"/>
                    </a:lnTo>
                    <a:lnTo>
                      <a:pt x="770" y="144"/>
                    </a:lnTo>
                    <a:lnTo>
                      <a:pt x="760" y="145"/>
                    </a:lnTo>
                    <a:lnTo>
                      <a:pt x="751" y="143"/>
                    </a:lnTo>
                    <a:lnTo>
                      <a:pt x="742" y="142"/>
                    </a:lnTo>
                    <a:lnTo>
                      <a:pt x="733" y="141"/>
                    </a:lnTo>
                    <a:lnTo>
                      <a:pt x="723" y="142"/>
                    </a:lnTo>
                    <a:lnTo>
                      <a:pt x="714" y="143"/>
                    </a:lnTo>
                    <a:lnTo>
                      <a:pt x="705" y="144"/>
                    </a:lnTo>
                    <a:lnTo>
                      <a:pt x="696" y="144"/>
                    </a:lnTo>
                    <a:lnTo>
                      <a:pt x="686" y="144"/>
                    </a:lnTo>
                    <a:lnTo>
                      <a:pt x="677" y="144"/>
                    </a:lnTo>
                    <a:lnTo>
                      <a:pt x="668" y="146"/>
                    </a:lnTo>
                    <a:lnTo>
                      <a:pt x="658" y="147"/>
                    </a:lnTo>
                    <a:lnTo>
                      <a:pt x="649" y="145"/>
                    </a:lnTo>
                    <a:lnTo>
                      <a:pt x="640" y="147"/>
                    </a:lnTo>
                    <a:lnTo>
                      <a:pt x="631" y="146"/>
                    </a:lnTo>
                    <a:lnTo>
                      <a:pt x="621" y="146"/>
                    </a:lnTo>
                    <a:lnTo>
                      <a:pt x="612" y="146"/>
                    </a:lnTo>
                    <a:lnTo>
                      <a:pt x="603" y="147"/>
                    </a:lnTo>
                    <a:lnTo>
                      <a:pt x="593" y="147"/>
                    </a:lnTo>
                    <a:lnTo>
                      <a:pt x="584" y="146"/>
                    </a:lnTo>
                    <a:lnTo>
                      <a:pt x="575" y="147"/>
                    </a:lnTo>
                    <a:lnTo>
                      <a:pt x="566" y="148"/>
                    </a:lnTo>
                    <a:lnTo>
                      <a:pt x="556" y="148"/>
                    </a:lnTo>
                    <a:lnTo>
                      <a:pt x="547" y="148"/>
                    </a:lnTo>
                    <a:lnTo>
                      <a:pt x="538" y="149"/>
                    </a:lnTo>
                    <a:lnTo>
                      <a:pt x="528" y="149"/>
                    </a:lnTo>
                    <a:lnTo>
                      <a:pt x="519" y="150"/>
                    </a:lnTo>
                    <a:lnTo>
                      <a:pt x="510" y="150"/>
                    </a:lnTo>
                    <a:lnTo>
                      <a:pt x="501" y="151"/>
                    </a:lnTo>
                    <a:lnTo>
                      <a:pt x="491" y="151"/>
                    </a:lnTo>
                    <a:lnTo>
                      <a:pt x="482" y="152"/>
                    </a:lnTo>
                    <a:lnTo>
                      <a:pt x="473" y="152"/>
                    </a:lnTo>
                    <a:lnTo>
                      <a:pt x="464" y="152"/>
                    </a:lnTo>
                    <a:lnTo>
                      <a:pt x="454" y="153"/>
                    </a:lnTo>
                    <a:lnTo>
                      <a:pt x="445" y="153"/>
                    </a:lnTo>
                    <a:lnTo>
                      <a:pt x="436" y="154"/>
                    </a:lnTo>
                    <a:lnTo>
                      <a:pt x="426" y="154"/>
                    </a:lnTo>
                    <a:lnTo>
                      <a:pt x="417" y="154"/>
                    </a:lnTo>
                    <a:lnTo>
                      <a:pt x="408" y="154"/>
                    </a:lnTo>
                    <a:lnTo>
                      <a:pt x="399" y="155"/>
                    </a:lnTo>
                    <a:lnTo>
                      <a:pt x="389" y="155"/>
                    </a:lnTo>
                    <a:lnTo>
                      <a:pt x="380" y="155"/>
                    </a:lnTo>
                    <a:lnTo>
                      <a:pt x="371" y="155"/>
                    </a:lnTo>
                    <a:lnTo>
                      <a:pt x="361" y="155"/>
                    </a:lnTo>
                    <a:lnTo>
                      <a:pt x="352" y="155"/>
                    </a:lnTo>
                    <a:lnTo>
                      <a:pt x="343" y="156"/>
                    </a:lnTo>
                    <a:lnTo>
                      <a:pt x="334" y="156"/>
                    </a:lnTo>
                    <a:lnTo>
                      <a:pt x="324" y="156"/>
                    </a:lnTo>
                    <a:lnTo>
                      <a:pt x="315" y="156"/>
                    </a:lnTo>
                    <a:lnTo>
                      <a:pt x="306" y="156"/>
                    </a:lnTo>
                    <a:lnTo>
                      <a:pt x="296" y="156"/>
                    </a:lnTo>
                    <a:lnTo>
                      <a:pt x="287" y="157"/>
                    </a:lnTo>
                    <a:lnTo>
                      <a:pt x="278" y="157"/>
                    </a:lnTo>
                    <a:lnTo>
                      <a:pt x="269" y="157"/>
                    </a:lnTo>
                    <a:lnTo>
                      <a:pt x="259" y="157"/>
                    </a:lnTo>
                    <a:lnTo>
                      <a:pt x="250" y="157"/>
                    </a:lnTo>
                    <a:lnTo>
                      <a:pt x="241" y="157"/>
                    </a:lnTo>
                    <a:lnTo>
                      <a:pt x="232" y="158"/>
                    </a:lnTo>
                    <a:lnTo>
                      <a:pt x="222" y="158"/>
                    </a:lnTo>
                    <a:lnTo>
                      <a:pt x="213" y="158"/>
                    </a:lnTo>
                    <a:lnTo>
                      <a:pt x="204" y="158"/>
                    </a:lnTo>
                    <a:lnTo>
                      <a:pt x="194" y="158"/>
                    </a:lnTo>
                    <a:lnTo>
                      <a:pt x="185" y="158"/>
                    </a:lnTo>
                    <a:lnTo>
                      <a:pt x="176" y="158"/>
                    </a:lnTo>
                    <a:lnTo>
                      <a:pt x="167" y="159"/>
                    </a:lnTo>
                    <a:lnTo>
                      <a:pt x="157" y="159"/>
                    </a:lnTo>
                    <a:lnTo>
                      <a:pt x="148" y="159"/>
                    </a:lnTo>
                    <a:lnTo>
                      <a:pt x="139" y="159"/>
                    </a:lnTo>
                    <a:lnTo>
                      <a:pt x="129" y="159"/>
                    </a:lnTo>
                    <a:lnTo>
                      <a:pt x="120" y="159"/>
                    </a:lnTo>
                    <a:lnTo>
                      <a:pt x="111" y="159"/>
                    </a:lnTo>
                    <a:lnTo>
                      <a:pt x="102" y="159"/>
                    </a:lnTo>
                    <a:lnTo>
                      <a:pt x="92" y="160"/>
                    </a:lnTo>
                    <a:lnTo>
                      <a:pt x="83" y="160"/>
                    </a:lnTo>
                    <a:lnTo>
                      <a:pt x="74" y="160"/>
                    </a:lnTo>
                    <a:lnTo>
                      <a:pt x="64" y="160"/>
                    </a:lnTo>
                    <a:lnTo>
                      <a:pt x="55" y="160"/>
                    </a:lnTo>
                    <a:lnTo>
                      <a:pt x="46" y="160"/>
                    </a:lnTo>
                    <a:lnTo>
                      <a:pt x="37" y="160"/>
                    </a:lnTo>
                    <a:lnTo>
                      <a:pt x="27" y="160"/>
                    </a:lnTo>
                    <a:lnTo>
                      <a:pt x="18" y="160"/>
                    </a:lnTo>
                    <a:lnTo>
                      <a:pt x="9" y="160"/>
                    </a:lnTo>
                    <a:lnTo>
                      <a:pt x="0" y="160"/>
                    </a:lnTo>
                    <a:close/>
                  </a:path>
                </a:pathLst>
              </a:custGeom>
              <a:solidFill>
                <a:srgbClr val="006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6" name="Freeform 116"/>
              <p:cNvSpPr/>
              <p:nvPr/>
            </p:nvSpPr>
            <p:spPr>
              <a:xfrm>
                <a:off x="2720520" y="4388760"/>
                <a:ext cx="2310120" cy="394560"/>
              </a:xfrm>
              <a:custGeom>
                <a:avLst/>
                <a:gdLst>
                  <a:gd name="textAreaLeft" fmla="*/ 0 w 2310120"/>
                  <a:gd name="textAreaRight" fmla="*/ 2310480 w 2310120"/>
                  <a:gd name="textAreaTop" fmla="*/ 0 h 394560"/>
                  <a:gd name="textAreaBottom" fmla="*/ 394920 h 394560"/>
                </a:gdLst>
                <a:ahLst/>
                <a:rect l="textAreaLeft" t="textAreaTop" r="textAreaRight" b="textAreaBottom"/>
                <a:pathLst>
                  <a:path w="1447" h="160">
                    <a:moveTo>
                      <a:pt x="0" y="160"/>
                    </a:moveTo>
                    <a:lnTo>
                      <a:pt x="9" y="160"/>
                    </a:lnTo>
                    <a:lnTo>
                      <a:pt x="18" y="160"/>
                    </a:lnTo>
                    <a:lnTo>
                      <a:pt x="27" y="160"/>
                    </a:lnTo>
                    <a:lnTo>
                      <a:pt x="37" y="160"/>
                    </a:lnTo>
                    <a:lnTo>
                      <a:pt x="46" y="160"/>
                    </a:lnTo>
                    <a:lnTo>
                      <a:pt x="55" y="160"/>
                    </a:lnTo>
                    <a:lnTo>
                      <a:pt x="64" y="160"/>
                    </a:lnTo>
                    <a:lnTo>
                      <a:pt x="74" y="160"/>
                    </a:lnTo>
                    <a:lnTo>
                      <a:pt x="83" y="160"/>
                    </a:lnTo>
                    <a:lnTo>
                      <a:pt x="92" y="160"/>
                    </a:lnTo>
                    <a:lnTo>
                      <a:pt x="102" y="159"/>
                    </a:lnTo>
                    <a:lnTo>
                      <a:pt x="111" y="159"/>
                    </a:lnTo>
                    <a:lnTo>
                      <a:pt x="120" y="159"/>
                    </a:lnTo>
                    <a:lnTo>
                      <a:pt x="129" y="159"/>
                    </a:lnTo>
                    <a:lnTo>
                      <a:pt x="139" y="159"/>
                    </a:lnTo>
                    <a:lnTo>
                      <a:pt x="148" y="159"/>
                    </a:lnTo>
                    <a:lnTo>
                      <a:pt x="157" y="159"/>
                    </a:lnTo>
                    <a:lnTo>
                      <a:pt x="167" y="159"/>
                    </a:lnTo>
                    <a:lnTo>
                      <a:pt x="176" y="158"/>
                    </a:lnTo>
                    <a:lnTo>
                      <a:pt x="185" y="158"/>
                    </a:lnTo>
                    <a:lnTo>
                      <a:pt x="194" y="158"/>
                    </a:lnTo>
                    <a:lnTo>
                      <a:pt x="204" y="158"/>
                    </a:lnTo>
                    <a:lnTo>
                      <a:pt x="213" y="158"/>
                    </a:lnTo>
                    <a:lnTo>
                      <a:pt x="222" y="158"/>
                    </a:lnTo>
                    <a:lnTo>
                      <a:pt x="232" y="158"/>
                    </a:lnTo>
                    <a:lnTo>
                      <a:pt x="241" y="157"/>
                    </a:lnTo>
                    <a:lnTo>
                      <a:pt x="250" y="157"/>
                    </a:lnTo>
                    <a:lnTo>
                      <a:pt x="259" y="157"/>
                    </a:lnTo>
                    <a:lnTo>
                      <a:pt x="269" y="157"/>
                    </a:lnTo>
                    <a:lnTo>
                      <a:pt x="278" y="157"/>
                    </a:lnTo>
                    <a:lnTo>
                      <a:pt x="287" y="157"/>
                    </a:lnTo>
                    <a:lnTo>
                      <a:pt x="296" y="156"/>
                    </a:lnTo>
                    <a:lnTo>
                      <a:pt x="306" y="156"/>
                    </a:lnTo>
                    <a:lnTo>
                      <a:pt x="315" y="156"/>
                    </a:lnTo>
                    <a:lnTo>
                      <a:pt x="324" y="156"/>
                    </a:lnTo>
                    <a:lnTo>
                      <a:pt x="334" y="156"/>
                    </a:lnTo>
                    <a:lnTo>
                      <a:pt x="343" y="156"/>
                    </a:lnTo>
                    <a:lnTo>
                      <a:pt x="352" y="155"/>
                    </a:lnTo>
                    <a:lnTo>
                      <a:pt x="361" y="155"/>
                    </a:lnTo>
                    <a:lnTo>
                      <a:pt x="371" y="155"/>
                    </a:lnTo>
                    <a:lnTo>
                      <a:pt x="380" y="155"/>
                    </a:lnTo>
                    <a:lnTo>
                      <a:pt x="389" y="155"/>
                    </a:lnTo>
                    <a:lnTo>
                      <a:pt x="399" y="155"/>
                    </a:lnTo>
                    <a:lnTo>
                      <a:pt x="408" y="154"/>
                    </a:lnTo>
                    <a:lnTo>
                      <a:pt x="417" y="154"/>
                    </a:lnTo>
                    <a:lnTo>
                      <a:pt x="426" y="154"/>
                    </a:lnTo>
                    <a:lnTo>
                      <a:pt x="436" y="154"/>
                    </a:lnTo>
                    <a:lnTo>
                      <a:pt x="445" y="153"/>
                    </a:lnTo>
                    <a:lnTo>
                      <a:pt x="454" y="153"/>
                    </a:lnTo>
                    <a:lnTo>
                      <a:pt x="464" y="152"/>
                    </a:lnTo>
                    <a:lnTo>
                      <a:pt x="473" y="152"/>
                    </a:lnTo>
                    <a:lnTo>
                      <a:pt x="482" y="152"/>
                    </a:lnTo>
                    <a:lnTo>
                      <a:pt x="491" y="151"/>
                    </a:lnTo>
                    <a:lnTo>
                      <a:pt x="501" y="151"/>
                    </a:lnTo>
                    <a:lnTo>
                      <a:pt x="510" y="150"/>
                    </a:lnTo>
                    <a:lnTo>
                      <a:pt x="519" y="149"/>
                    </a:lnTo>
                    <a:lnTo>
                      <a:pt x="528" y="148"/>
                    </a:lnTo>
                    <a:lnTo>
                      <a:pt x="538" y="149"/>
                    </a:lnTo>
                    <a:lnTo>
                      <a:pt x="547" y="148"/>
                    </a:lnTo>
                    <a:lnTo>
                      <a:pt x="556" y="148"/>
                    </a:lnTo>
                    <a:lnTo>
                      <a:pt x="566" y="147"/>
                    </a:lnTo>
                    <a:lnTo>
                      <a:pt x="575" y="147"/>
                    </a:lnTo>
                    <a:lnTo>
                      <a:pt x="584" y="146"/>
                    </a:lnTo>
                    <a:lnTo>
                      <a:pt x="593" y="147"/>
                    </a:lnTo>
                    <a:lnTo>
                      <a:pt x="603" y="147"/>
                    </a:lnTo>
                    <a:lnTo>
                      <a:pt x="612" y="146"/>
                    </a:lnTo>
                    <a:lnTo>
                      <a:pt x="621" y="145"/>
                    </a:lnTo>
                    <a:lnTo>
                      <a:pt x="631" y="145"/>
                    </a:lnTo>
                    <a:lnTo>
                      <a:pt x="640" y="147"/>
                    </a:lnTo>
                    <a:lnTo>
                      <a:pt x="649" y="145"/>
                    </a:lnTo>
                    <a:lnTo>
                      <a:pt x="658" y="147"/>
                    </a:lnTo>
                    <a:lnTo>
                      <a:pt x="668" y="146"/>
                    </a:lnTo>
                    <a:lnTo>
                      <a:pt x="677" y="144"/>
                    </a:lnTo>
                    <a:lnTo>
                      <a:pt x="686" y="144"/>
                    </a:lnTo>
                    <a:lnTo>
                      <a:pt x="696" y="143"/>
                    </a:lnTo>
                    <a:lnTo>
                      <a:pt x="705" y="143"/>
                    </a:lnTo>
                    <a:lnTo>
                      <a:pt x="714" y="142"/>
                    </a:lnTo>
                    <a:lnTo>
                      <a:pt x="723" y="141"/>
                    </a:lnTo>
                    <a:lnTo>
                      <a:pt x="733" y="141"/>
                    </a:lnTo>
                    <a:lnTo>
                      <a:pt x="742" y="142"/>
                    </a:lnTo>
                    <a:lnTo>
                      <a:pt x="751" y="143"/>
                    </a:lnTo>
                    <a:lnTo>
                      <a:pt x="760" y="144"/>
                    </a:lnTo>
                    <a:lnTo>
                      <a:pt x="770" y="144"/>
                    </a:lnTo>
                    <a:lnTo>
                      <a:pt x="779" y="143"/>
                    </a:lnTo>
                    <a:lnTo>
                      <a:pt x="788" y="142"/>
                    </a:lnTo>
                    <a:lnTo>
                      <a:pt x="798" y="140"/>
                    </a:lnTo>
                    <a:lnTo>
                      <a:pt x="807" y="139"/>
                    </a:lnTo>
                    <a:lnTo>
                      <a:pt x="816" y="140"/>
                    </a:lnTo>
                    <a:lnTo>
                      <a:pt x="825" y="138"/>
                    </a:lnTo>
                    <a:lnTo>
                      <a:pt x="835" y="138"/>
                    </a:lnTo>
                    <a:lnTo>
                      <a:pt x="844" y="135"/>
                    </a:lnTo>
                    <a:lnTo>
                      <a:pt x="853" y="135"/>
                    </a:lnTo>
                    <a:lnTo>
                      <a:pt x="863" y="134"/>
                    </a:lnTo>
                    <a:lnTo>
                      <a:pt x="872" y="135"/>
                    </a:lnTo>
                    <a:lnTo>
                      <a:pt x="881" y="138"/>
                    </a:lnTo>
                    <a:lnTo>
                      <a:pt x="890" y="136"/>
                    </a:lnTo>
                    <a:lnTo>
                      <a:pt x="900" y="134"/>
                    </a:lnTo>
                    <a:lnTo>
                      <a:pt x="909" y="133"/>
                    </a:lnTo>
                    <a:lnTo>
                      <a:pt x="918" y="133"/>
                    </a:lnTo>
                    <a:lnTo>
                      <a:pt x="928" y="130"/>
                    </a:lnTo>
                    <a:lnTo>
                      <a:pt x="937" y="128"/>
                    </a:lnTo>
                    <a:lnTo>
                      <a:pt x="946" y="128"/>
                    </a:lnTo>
                    <a:lnTo>
                      <a:pt x="955" y="126"/>
                    </a:lnTo>
                    <a:lnTo>
                      <a:pt x="965" y="126"/>
                    </a:lnTo>
                    <a:lnTo>
                      <a:pt x="974" y="124"/>
                    </a:lnTo>
                    <a:lnTo>
                      <a:pt x="983" y="122"/>
                    </a:lnTo>
                    <a:lnTo>
                      <a:pt x="992" y="119"/>
                    </a:lnTo>
                    <a:lnTo>
                      <a:pt x="1002" y="117"/>
                    </a:lnTo>
                    <a:lnTo>
                      <a:pt x="1011" y="115"/>
                    </a:lnTo>
                    <a:lnTo>
                      <a:pt x="1020" y="113"/>
                    </a:lnTo>
                    <a:lnTo>
                      <a:pt x="1030" y="111"/>
                    </a:lnTo>
                    <a:lnTo>
                      <a:pt x="1039" y="108"/>
                    </a:lnTo>
                    <a:lnTo>
                      <a:pt x="1048" y="105"/>
                    </a:lnTo>
                    <a:lnTo>
                      <a:pt x="1057" y="102"/>
                    </a:lnTo>
                    <a:lnTo>
                      <a:pt x="1067" y="102"/>
                    </a:lnTo>
                    <a:lnTo>
                      <a:pt x="1076" y="99"/>
                    </a:lnTo>
                    <a:lnTo>
                      <a:pt x="1085" y="98"/>
                    </a:lnTo>
                    <a:lnTo>
                      <a:pt x="1095" y="94"/>
                    </a:lnTo>
                    <a:lnTo>
                      <a:pt x="1104" y="91"/>
                    </a:lnTo>
                    <a:lnTo>
                      <a:pt x="1113" y="88"/>
                    </a:lnTo>
                    <a:lnTo>
                      <a:pt x="1122" y="84"/>
                    </a:lnTo>
                    <a:lnTo>
                      <a:pt x="1132" y="80"/>
                    </a:lnTo>
                    <a:lnTo>
                      <a:pt x="1141" y="75"/>
                    </a:lnTo>
                    <a:lnTo>
                      <a:pt x="1150" y="75"/>
                    </a:lnTo>
                    <a:lnTo>
                      <a:pt x="1160" y="75"/>
                    </a:lnTo>
                    <a:lnTo>
                      <a:pt x="1169" y="70"/>
                    </a:lnTo>
                    <a:lnTo>
                      <a:pt x="1178" y="67"/>
                    </a:lnTo>
                    <a:lnTo>
                      <a:pt x="1187" y="63"/>
                    </a:lnTo>
                    <a:lnTo>
                      <a:pt x="1197" y="60"/>
                    </a:lnTo>
                    <a:lnTo>
                      <a:pt x="1206" y="60"/>
                    </a:lnTo>
                    <a:lnTo>
                      <a:pt x="1215" y="62"/>
                    </a:lnTo>
                    <a:lnTo>
                      <a:pt x="1224" y="62"/>
                    </a:lnTo>
                    <a:lnTo>
                      <a:pt x="1234" y="61"/>
                    </a:lnTo>
                    <a:lnTo>
                      <a:pt x="1243" y="58"/>
                    </a:lnTo>
                    <a:lnTo>
                      <a:pt x="1252" y="56"/>
                    </a:lnTo>
                    <a:lnTo>
                      <a:pt x="1262" y="54"/>
                    </a:lnTo>
                    <a:lnTo>
                      <a:pt x="1271" y="50"/>
                    </a:lnTo>
                    <a:lnTo>
                      <a:pt x="1280" y="46"/>
                    </a:lnTo>
                    <a:lnTo>
                      <a:pt x="1289" y="44"/>
                    </a:lnTo>
                    <a:lnTo>
                      <a:pt x="1299" y="42"/>
                    </a:lnTo>
                    <a:lnTo>
                      <a:pt x="1308" y="41"/>
                    </a:lnTo>
                    <a:lnTo>
                      <a:pt x="1317" y="41"/>
                    </a:lnTo>
                    <a:lnTo>
                      <a:pt x="1327" y="40"/>
                    </a:lnTo>
                    <a:lnTo>
                      <a:pt x="1336" y="39"/>
                    </a:lnTo>
                    <a:lnTo>
                      <a:pt x="1345" y="36"/>
                    </a:lnTo>
                    <a:lnTo>
                      <a:pt x="1354" y="33"/>
                    </a:lnTo>
                    <a:lnTo>
                      <a:pt x="1364" y="32"/>
                    </a:lnTo>
                    <a:lnTo>
                      <a:pt x="1373" y="31"/>
                    </a:lnTo>
                    <a:lnTo>
                      <a:pt x="1382" y="28"/>
                    </a:lnTo>
                    <a:lnTo>
                      <a:pt x="1392" y="25"/>
                    </a:lnTo>
                    <a:lnTo>
                      <a:pt x="1401" y="25"/>
                    </a:lnTo>
                    <a:lnTo>
                      <a:pt x="1410" y="22"/>
                    </a:lnTo>
                    <a:lnTo>
                      <a:pt x="1419" y="16"/>
                    </a:lnTo>
                    <a:lnTo>
                      <a:pt x="1429" y="8"/>
                    </a:lnTo>
                    <a:lnTo>
                      <a:pt x="1438" y="4"/>
                    </a:lnTo>
                    <a:lnTo>
                      <a:pt x="1447" y="0"/>
                    </a:lnTo>
                    <a:lnTo>
                      <a:pt x="1447" y="38"/>
                    </a:lnTo>
                    <a:lnTo>
                      <a:pt x="1438" y="42"/>
                    </a:lnTo>
                    <a:lnTo>
                      <a:pt x="1429" y="45"/>
                    </a:lnTo>
                    <a:lnTo>
                      <a:pt x="1419" y="51"/>
                    </a:lnTo>
                    <a:lnTo>
                      <a:pt x="1410" y="56"/>
                    </a:lnTo>
                    <a:lnTo>
                      <a:pt x="1401" y="58"/>
                    </a:lnTo>
                    <a:lnTo>
                      <a:pt x="1392" y="59"/>
                    </a:lnTo>
                    <a:lnTo>
                      <a:pt x="1382" y="61"/>
                    </a:lnTo>
                    <a:lnTo>
                      <a:pt x="1373" y="62"/>
                    </a:lnTo>
                    <a:lnTo>
                      <a:pt x="1364" y="62"/>
                    </a:lnTo>
                    <a:lnTo>
                      <a:pt x="1354" y="63"/>
                    </a:lnTo>
                    <a:lnTo>
                      <a:pt x="1345" y="66"/>
                    </a:lnTo>
                    <a:lnTo>
                      <a:pt x="1336" y="68"/>
                    </a:lnTo>
                    <a:lnTo>
                      <a:pt x="1327" y="69"/>
                    </a:lnTo>
                    <a:lnTo>
                      <a:pt x="1317" y="69"/>
                    </a:lnTo>
                    <a:lnTo>
                      <a:pt x="1308" y="69"/>
                    </a:lnTo>
                    <a:lnTo>
                      <a:pt x="1299" y="69"/>
                    </a:lnTo>
                    <a:lnTo>
                      <a:pt x="1289" y="70"/>
                    </a:lnTo>
                    <a:lnTo>
                      <a:pt x="1280" y="71"/>
                    </a:lnTo>
                    <a:lnTo>
                      <a:pt x="1271" y="74"/>
                    </a:lnTo>
                    <a:lnTo>
                      <a:pt x="1262" y="77"/>
                    </a:lnTo>
                    <a:lnTo>
                      <a:pt x="1252" y="78"/>
                    </a:lnTo>
                    <a:lnTo>
                      <a:pt x="1243" y="80"/>
                    </a:lnTo>
                    <a:lnTo>
                      <a:pt x="1234" y="82"/>
                    </a:lnTo>
                    <a:lnTo>
                      <a:pt x="1224" y="82"/>
                    </a:lnTo>
                    <a:lnTo>
                      <a:pt x="1215" y="82"/>
                    </a:lnTo>
                    <a:lnTo>
                      <a:pt x="1206" y="80"/>
                    </a:lnTo>
                    <a:lnTo>
                      <a:pt x="1197" y="79"/>
                    </a:lnTo>
                    <a:lnTo>
                      <a:pt x="1187" y="81"/>
                    </a:lnTo>
                    <a:lnTo>
                      <a:pt x="1178" y="84"/>
                    </a:lnTo>
                    <a:lnTo>
                      <a:pt x="1169" y="87"/>
                    </a:lnTo>
                    <a:lnTo>
                      <a:pt x="1160" y="91"/>
                    </a:lnTo>
                    <a:lnTo>
                      <a:pt x="1150" y="92"/>
                    </a:lnTo>
                    <a:lnTo>
                      <a:pt x="1141" y="91"/>
                    </a:lnTo>
                    <a:lnTo>
                      <a:pt x="1132" y="95"/>
                    </a:lnTo>
                    <a:lnTo>
                      <a:pt x="1122" y="99"/>
                    </a:lnTo>
                    <a:lnTo>
                      <a:pt x="1113" y="101"/>
                    </a:lnTo>
                    <a:lnTo>
                      <a:pt x="1104" y="103"/>
                    </a:lnTo>
                    <a:lnTo>
                      <a:pt x="1095" y="106"/>
                    </a:lnTo>
                    <a:lnTo>
                      <a:pt x="1085" y="108"/>
                    </a:lnTo>
                    <a:lnTo>
                      <a:pt x="1076" y="109"/>
                    </a:lnTo>
                    <a:lnTo>
                      <a:pt x="1067" y="111"/>
                    </a:lnTo>
                    <a:lnTo>
                      <a:pt x="1057" y="111"/>
                    </a:lnTo>
                    <a:lnTo>
                      <a:pt x="1048" y="113"/>
                    </a:lnTo>
                    <a:lnTo>
                      <a:pt x="1039" y="115"/>
                    </a:lnTo>
                    <a:lnTo>
                      <a:pt x="1030" y="118"/>
                    </a:lnTo>
                    <a:lnTo>
                      <a:pt x="1020" y="119"/>
                    </a:lnTo>
                    <a:lnTo>
                      <a:pt x="1011" y="121"/>
                    </a:lnTo>
                    <a:lnTo>
                      <a:pt x="1002" y="122"/>
                    </a:lnTo>
                    <a:lnTo>
                      <a:pt x="992" y="124"/>
                    </a:lnTo>
                    <a:lnTo>
                      <a:pt x="983" y="126"/>
                    </a:lnTo>
                    <a:lnTo>
                      <a:pt x="974" y="127"/>
                    </a:lnTo>
                    <a:lnTo>
                      <a:pt x="965" y="129"/>
                    </a:lnTo>
                    <a:lnTo>
                      <a:pt x="955" y="130"/>
                    </a:lnTo>
                    <a:lnTo>
                      <a:pt x="946" y="131"/>
                    </a:lnTo>
                    <a:lnTo>
                      <a:pt x="937" y="132"/>
                    </a:lnTo>
                    <a:lnTo>
                      <a:pt x="928" y="132"/>
                    </a:lnTo>
                    <a:lnTo>
                      <a:pt x="918" y="135"/>
                    </a:lnTo>
                    <a:lnTo>
                      <a:pt x="909" y="135"/>
                    </a:lnTo>
                    <a:lnTo>
                      <a:pt x="900" y="136"/>
                    </a:lnTo>
                    <a:lnTo>
                      <a:pt x="890" y="138"/>
                    </a:lnTo>
                    <a:lnTo>
                      <a:pt x="881" y="139"/>
                    </a:lnTo>
                    <a:lnTo>
                      <a:pt x="872" y="136"/>
                    </a:lnTo>
                    <a:lnTo>
                      <a:pt x="863" y="136"/>
                    </a:lnTo>
                    <a:lnTo>
                      <a:pt x="853" y="136"/>
                    </a:lnTo>
                    <a:lnTo>
                      <a:pt x="844" y="137"/>
                    </a:lnTo>
                    <a:lnTo>
                      <a:pt x="835" y="139"/>
                    </a:lnTo>
                    <a:lnTo>
                      <a:pt x="825" y="139"/>
                    </a:lnTo>
                    <a:lnTo>
                      <a:pt x="816" y="141"/>
                    </a:lnTo>
                    <a:lnTo>
                      <a:pt x="807" y="140"/>
                    </a:lnTo>
                    <a:lnTo>
                      <a:pt x="798" y="141"/>
                    </a:lnTo>
                    <a:lnTo>
                      <a:pt x="788" y="143"/>
                    </a:lnTo>
                    <a:lnTo>
                      <a:pt x="779" y="143"/>
                    </a:lnTo>
                    <a:lnTo>
                      <a:pt x="770" y="144"/>
                    </a:lnTo>
                    <a:lnTo>
                      <a:pt x="760" y="145"/>
                    </a:lnTo>
                    <a:lnTo>
                      <a:pt x="751" y="143"/>
                    </a:lnTo>
                    <a:lnTo>
                      <a:pt x="742" y="142"/>
                    </a:lnTo>
                    <a:lnTo>
                      <a:pt x="733" y="141"/>
                    </a:lnTo>
                    <a:lnTo>
                      <a:pt x="723" y="142"/>
                    </a:lnTo>
                    <a:lnTo>
                      <a:pt x="714" y="143"/>
                    </a:lnTo>
                    <a:lnTo>
                      <a:pt x="705" y="144"/>
                    </a:lnTo>
                    <a:lnTo>
                      <a:pt x="696" y="144"/>
                    </a:lnTo>
                    <a:lnTo>
                      <a:pt x="686" y="144"/>
                    </a:lnTo>
                    <a:lnTo>
                      <a:pt x="677" y="144"/>
                    </a:lnTo>
                    <a:lnTo>
                      <a:pt x="668" y="146"/>
                    </a:lnTo>
                    <a:lnTo>
                      <a:pt x="658" y="147"/>
                    </a:lnTo>
                    <a:lnTo>
                      <a:pt x="649" y="145"/>
                    </a:lnTo>
                    <a:lnTo>
                      <a:pt x="640" y="147"/>
                    </a:lnTo>
                    <a:lnTo>
                      <a:pt x="631" y="146"/>
                    </a:lnTo>
                    <a:lnTo>
                      <a:pt x="621" y="146"/>
                    </a:lnTo>
                    <a:lnTo>
                      <a:pt x="612" y="146"/>
                    </a:lnTo>
                    <a:lnTo>
                      <a:pt x="603" y="147"/>
                    </a:lnTo>
                    <a:lnTo>
                      <a:pt x="593" y="147"/>
                    </a:lnTo>
                    <a:lnTo>
                      <a:pt x="584" y="146"/>
                    </a:lnTo>
                    <a:lnTo>
                      <a:pt x="575" y="147"/>
                    </a:lnTo>
                    <a:lnTo>
                      <a:pt x="566" y="148"/>
                    </a:lnTo>
                    <a:lnTo>
                      <a:pt x="556" y="148"/>
                    </a:lnTo>
                    <a:lnTo>
                      <a:pt x="547" y="148"/>
                    </a:lnTo>
                    <a:lnTo>
                      <a:pt x="538" y="149"/>
                    </a:lnTo>
                    <a:lnTo>
                      <a:pt x="528" y="149"/>
                    </a:lnTo>
                    <a:lnTo>
                      <a:pt x="519" y="150"/>
                    </a:lnTo>
                    <a:lnTo>
                      <a:pt x="510" y="150"/>
                    </a:lnTo>
                    <a:lnTo>
                      <a:pt x="501" y="151"/>
                    </a:lnTo>
                    <a:lnTo>
                      <a:pt x="491" y="151"/>
                    </a:lnTo>
                    <a:lnTo>
                      <a:pt x="482" y="152"/>
                    </a:lnTo>
                    <a:lnTo>
                      <a:pt x="473" y="152"/>
                    </a:lnTo>
                    <a:lnTo>
                      <a:pt x="464" y="152"/>
                    </a:lnTo>
                    <a:lnTo>
                      <a:pt x="454" y="153"/>
                    </a:lnTo>
                    <a:lnTo>
                      <a:pt x="445" y="153"/>
                    </a:lnTo>
                    <a:lnTo>
                      <a:pt x="436" y="154"/>
                    </a:lnTo>
                    <a:lnTo>
                      <a:pt x="426" y="154"/>
                    </a:lnTo>
                    <a:lnTo>
                      <a:pt x="417" y="154"/>
                    </a:lnTo>
                    <a:lnTo>
                      <a:pt x="408" y="154"/>
                    </a:lnTo>
                    <a:lnTo>
                      <a:pt x="399" y="155"/>
                    </a:lnTo>
                    <a:lnTo>
                      <a:pt x="389" y="155"/>
                    </a:lnTo>
                    <a:lnTo>
                      <a:pt x="380" y="155"/>
                    </a:lnTo>
                    <a:lnTo>
                      <a:pt x="371" y="155"/>
                    </a:lnTo>
                    <a:lnTo>
                      <a:pt x="361" y="155"/>
                    </a:lnTo>
                    <a:lnTo>
                      <a:pt x="352" y="155"/>
                    </a:lnTo>
                    <a:lnTo>
                      <a:pt x="343" y="156"/>
                    </a:lnTo>
                    <a:lnTo>
                      <a:pt x="334" y="156"/>
                    </a:lnTo>
                    <a:lnTo>
                      <a:pt x="324" y="156"/>
                    </a:lnTo>
                    <a:lnTo>
                      <a:pt x="315" y="156"/>
                    </a:lnTo>
                    <a:lnTo>
                      <a:pt x="306" y="156"/>
                    </a:lnTo>
                    <a:lnTo>
                      <a:pt x="296" y="156"/>
                    </a:lnTo>
                    <a:lnTo>
                      <a:pt x="287" y="157"/>
                    </a:lnTo>
                    <a:lnTo>
                      <a:pt x="278" y="157"/>
                    </a:lnTo>
                    <a:lnTo>
                      <a:pt x="269" y="157"/>
                    </a:lnTo>
                    <a:lnTo>
                      <a:pt x="259" y="157"/>
                    </a:lnTo>
                    <a:lnTo>
                      <a:pt x="250" y="157"/>
                    </a:lnTo>
                    <a:lnTo>
                      <a:pt x="241" y="157"/>
                    </a:lnTo>
                    <a:lnTo>
                      <a:pt x="232" y="158"/>
                    </a:lnTo>
                    <a:lnTo>
                      <a:pt x="222" y="158"/>
                    </a:lnTo>
                    <a:lnTo>
                      <a:pt x="213" y="158"/>
                    </a:lnTo>
                    <a:lnTo>
                      <a:pt x="204" y="158"/>
                    </a:lnTo>
                    <a:lnTo>
                      <a:pt x="194" y="158"/>
                    </a:lnTo>
                    <a:lnTo>
                      <a:pt x="185" y="158"/>
                    </a:lnTo>
                    <a:lnTo>
                      <a:pt x="176" y="158"/>
                    </a:lnTo>
                    <a:lnTo>
                      <a:pt x="167" y="159"/>
                    </a:lnTo>
                    <a:lnTo>
                      <a:pt x="157" y="159"/>
                    </a:lnTo>
                    <a:lnTo>
                      <a:pt x="148" y="159"/>
                    </a:lnTo>
                    <a:lnTo>
                      <a:pt x="139" y="159"/>
                    </a:lnTo>
                    <a:lnTo>
                      <a:pt x="129" y="159"/>
                    </a:lnTo>
                    <a:lnTo>
                      <a:pt x="120" y="159"/>
                    </a:lnTo>
                    <a:lnTo>
                      <a:pt x="111" y="159"/>
                    </a:lnTo>
                    <a:lnTo>
                      <a:pt x="102" y="159"/>
                    </a:lnTo>
                    <a:lnTo>
                      <a:pt x="92" y="160"/>
                    </a:lnTo>
                    <a:lnTo>
                      <a:pt x="83" y="160"/>
                    </a:lnTo>
                    <a:lnTo>
                      <a:pt x="74" y="160"/>
                    </a:lnTo>
                    <a:lnTo>
                      <a:pt x="64" y="160"/>
                    </a:lnTo>
                    <a:lnTo>
                      <a:pt x="55" y="160"/>
                    </a:lnTo>
                    <a:lnTo>
                      <a:pt x="46" y="160"/>
                    </a:lnTo>
                    <a:lnTo>
                      <a:pt x="37" y="160"/>
                    </a:lnTo>
                    <a:lnTo>
                      <a:pt x="27" y="160"/>
                    </a:lnTo>
                    <a:lnTo>
                      <a:pt x="18" y="160"/>
                    </a:lnTo>
                    <a:lnTo>
                      <a:pt x="9" y="160"/>
                    </a:lnTo>
                    <a:lnTo>
                      <a:pt x="0" y="160"/>
                    </a:lnTo>
                    <a:close/>
                  </a:path>
                </a:pathLst>
              </a:custGeom>
              <a:noFill/>
              <a:ln w="3175">
                <a:solidFill>
                  <a:srgbClr val="0064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7" name="Freeform 117"/>
              <p:cNvSpPr/>
              <p:nvPr/>
            </p:nvSpPr>
            <p:spPr>
              <a:xfrm>
                <a:off x="2720520" y="4484520"/>
                <a:ext cx="2310120" cy="299160"/>
              </a:xfrm>
              <a:custGeom>
                <a:avLst/>
                <a:gdLst>
                  <a:gd name="textAreaLeft" fmla="*/ 0 w 2310120"/>
                  <a:gd name="textAreaRight" fmla="*/ 2310480 w 2310120"/>
                  <a:gd name="textAreaTop" fmla="*/ 0 h 299160"/>
                  <a:gd name="textAreaBottom" fmla="*/ 299520 h 299160"/>
                </a:gdLst>
                <a:ahLst/>
                <a:rect l="textAreaLeft" t="textAreaTop" r="textAreaRight" b="textAreaBottom"/>
                <a:pathLst>
                  <a:path w="1447" h="122">
                    <a:moveTo>
                      <a:pt x="0" y="122"/>
                    </a:moveTo>
                    <a:lnTo>
                      <a:pt x="9" y="121"/>
                    </a:lnTo>
                    <a:lnTo>
                      <a:pt x="18" y="122"/>
                    </a:lnTo>
                    <a:lnTo>
                      <a:pt x="27" y="122"/>
                    </a:lnTo>
                    <a:lnTo>
                      <a:pt x="37" y="121"/>
                    </a:lnTo>
                    <a:lnTo>
                      <a:pt x="46" y="121"/>
                    </a:lnTo>
                    <a:lnTo>
                      <a:pt x="55" y="121"/>
                    </a:lnTo>
                    <a:lnTo>
                      <a:pt x="64" y="121"/>
                    </a:lnTo>
                    <a:lnTo>
                      <a:pt x="74" y="121"/>
                    </a:lnTo>
                    <a:lnTo>
                      <a:pt x="83" y="121"/>
                    </a:lnTo>
                    <a:lnTo>
                      <a:pt x="92" y="121"/>
                    </a:lnTo>
                    <a:lnTo>
                      <a:pt x="102" y="121"/>
                    </a:lnTo>
                    <a:lnTo>
                      <a:pt x="111" y="121"/>
                    </a:lnTo>
                    <a:lnTo>
                      <a:pt x="120" y="120"/>
                    </a:lnTo>
                    <a:lnTo>
                      <a:pt x="129" y="120"/>
                    </a:lnTo>
                    <a:lnTo>
                      <a:pt x="139" y="120"/>
                    </a:lnTo>
                    <a:lnTo>
                      <a:pt x="148" y="120"/>
                    </a:lnTo>
                    <a:lnTo>
                      <a:pt x="157" y="120"/>
                    </a:lnTo>
                    <a:lnTo>
                      <a:pt x="167" y="120"/>
                    </a:lnTo>
                    <a:lnTo>
                      <a:pt x="176" y="120"/>
                    </a:lnTo>
                    <a:lnTo>
                      <a:pt x="185" y="120"/>
                    </a:lnTo>
                    <a:lnTo>
                      <a:pt x="194" y="119"/>
                    </a:lnTo>
                    <a:lnTo>
                      <a:pt x="204" y="119"/>
                    </a:lnTo>
                    <a:lnTo>
                      <a:pt x="213" y="119"/>
                    </a:lnTo>
                    <a:lnTo>
                      <a:pt x="222" y="119"/>
                    </a:lnTo>
                    <a:lnTo>
                      <a:pt x="232" y="119"/>
                    </a:lnTo>
                    <a:lnTo>
                      <a:pt x="241" y="119"/>
                    </a:lnTo>
                    <a:lnTo>
                      <a:pt x="250" y="119"/>
                    </a:lnTo>
                    <a:lnTo>
                      <a:pt x="259" y="118"/>
                    </a:lnTo>
                    <a:lnTo>
                      <a:pt x="269" y="118"/>
                    </a:lnTo>
                    <a:lnTo>
                      <a:pt x="278" y="118"/>
                    </a:lnTo>
                    <a:lnTo>
                      <a:pt x="287" y="118"/>
                    </a:lnTo>
                    <a:lnTo>
                      <a:pt x="296" y="117"/>
                    </a:lnTo>
                    <a:lnTo>
                      <a:pt x="306" y="117"/>
                    </a:lnTo>
                    <a:lnTo>
                      <a:pt x="315" y="117"/>
                    </a:lnTo>
                    <a:lnTo>
                      <a:pt x="324" y="117"/>
                    </a:lnTo>
                    <a:lnTo>
                      <a:pt x="334" y="117"/>
                    </a:lnTo>
                    <a:lnTo>
                      <a:pt x="343" y="117"/>
                    </a:lnTo>
                    <a:lnTo>
                      <a:pt x="352" y="116"/>
                    </a:lnTo>
                    <a:lnTo>
                      <a:pt x="361" y="116"/>
                    </a:lnTo>
                    <a:lnTo>
                      <a:pt x="371" y="116"/>
                    </a:lnTo>
                    <a:lnTo>
                      <a:pt x="380" y="116"/>
                    </a:lnTo>
                    <a:lnTo>
                      <a:pt x="389" y="116"/>
                    </a:lnTo>
                    <a:lnTo>
                      <a:pt x="399" y="116"/>
                    </a:lnTo>
                    <a:lnTo>
                      <a:pt x="408" y="116"/>
                    </a:lnTo>
                    <a:lnTo>
                      <a:pt x="417" y="115"/>
                    </a:lnTo>
                    <a:lnTo>
                      <a:pt x="426" y="115"/>
                    </a:lnTo>
                    <a:lnTo>
                      <a:pt x="436" y="115"/>
                    </a:lnTo>
                    <a:lnTo>
                      <a:pt x="445" y="114"/>
                    </a:lnTo>
                    <a:lnTo>
                      <a:pt x="454" y="114"/>
                    </a:lnTo>
                    <a:lnTo>
                      <a:pt x="464" y="113"/>
                    </a:lnTo>
                    <a:lnTo>
                      <a:pt x="473" y="113"/>
                    </a:lnTo>
                    <a:lnTo>
                      <a:pt x="482" y="113"/>
                    </a:lnTo>
                    <a:lnTo>
                      <a:pt x="491" y="112"/>
                    </a:lnTo>
                    <a:lnTo>
                      <a:pt x="501" y="112"/>
                    </a:lnTo>
                    <a:lnTo>
                      <a:pt x="510" y="111"/>
                    </a:lnTo>
                    <a:lnTo>
                      <a:pt x="519" y="111"/>
                    </a:lnTo>
                    <a:lnTo>
                      <a:pt x="528" y="110"/>
                    </a:lnTo>
                    <a:lnTo>
                      <a:pt x="538" y="110"/>
                    </a:lnTo>
                    <a:lnTo>
                      <a:pt x="547" y="110"/>
                    </a:lnTo>
                    <a:lnTo>
                      <a:pt x="556" y="109"/>
                    </a:lnTo>
                    <a:lnTo>
                      <a:pt x="566" y="109"/>
                    </a:lnTo>
                    <a:lnTo>
                      <a:pt x="575" y="108"/>
                    </a:lnTo>
                    <a:lnTo>
                      <a:pt x="584" y="107"/>
                    </a:lnTo>
                    <a:lnTo>
                      <a:pt x="593" y="108"/>
                    </a:lnTo>
                    <a:lnTo>
                      <a:pt x="603" y="108"/>
                    </a:lnTo>
                    <a:lnTo>
                      <a:pt x="612" y="107"/>
                    </a:lnTo>
                    <a:lnTo>
                      <a:pt x="621" y="107"/>
                    </a:lnTo>
                    <a:lnTo>
                      <a:pt x="631" y="107"/>
                    </a:lnTo>
                    <a:lnTo>
                      <a:pt x="640" y="108"/>
                    </a:lnTo>
                    <a:lnTo>
                      <a:pt x="649" y="107"/>
                    </a:lnTo>
                    <a:lnTo>
                      <a:pt x="658" y="108"/>
                    </a:lnTo>
                    <a:lnTo>
                      <a:pt x="668" y="107"/>
                    </a:lnTo>
                    <a:lnTo>
                      <a:pt x="677" y="106"/>
                    </a:lnTo>
                    <a:lnTo>
                      <a:pt x="686" y="105"/>
                    </a:lnTo>
                    <a:lnTo>
                      <a:pt x="696" y="105"/>
                    </a:lnTo>
                    <a:lnTo>
                      <a:pt x="705" y="105"/>
                    </a:lnTo>
                    <a:lnTo>
                      <a:pt x="714" y="104"/>
                    </a:lnTo>
                    <a:lnTo>
                      <a:pt x="723" y="103"/>
                    </a:lnTo>
                    <a:lnTo>
                      <a:pt x="733" y="103"/>
                    </a:lnTo>
                    <a:lnTo>
                      <a:pt x="742" y="104"/>
                    </a:lnTo>
                    <a:lnTo>
                      <a:pt x="751" y="105"/>
                    </a:lnTo>
                    <a:lnTo>
                      <a:pt x="760" y="106"/>
                    </a:lnTo>
                    <a:lnTo>
                      <a:pt x="770" y="105"/>
                    </a:lnTo>
                    <a:lnTo>
                      <a:pt x="779" y="104"/>
                    </a:lnTo>
                    <a:lnTo>
                      <a:pt x="788" y="104"/>
                    </a:lnTo>
                    <a:lnTo>
                      <a:pt x="798" y="102"/>
                    </a:lnTo>
                    <a:lnTo>
                      <a:pt x="807" y="101"/>
                    </a:lnTo>
                    <a:lnTo>
                      <a:pt x="816" y="102"/>
                    </a:lnTo>
                    <a:lnTo>
                      <a:pt x="825" y="100"/>
                    </a:lnTo>
                    <a:lnTo>
                      <a:pt x="835" y="100"/>
                    </a:lnTo>
                    <a:lnTo>
                      <a:pt x="844" y="98"/>
                    </a:lnTo>
                    <a:lnTo>
                      <a:pt x="853" y="97"/>
                    </a:lnTo>
                    <a:lnTo>
                      <a:pt x="863" y="97"/>
                    </a:lnTo>
                    <a:lnTo>
                      <a:pt x="872" y="97"/>
                    </a:lnTo>
                    <a:lnTo>
                      <a:pt x="881" y="100"/>
                    </a:lnTo>
                    <a:lnTo>
                      <a:pt x="890" y="99"/>
                    </a:lnTo>
                    <a:lnTo>
                      <a:pt x="900" y="97"/>
                    </a:lnTo>
                    <a:lnTo>
                      <a:pt x="909" y="96"/>
                    </a:lnTo>
                    <a:lnTo>
                      <a:pt x="918" y="96"/>
                    </a:lnTo>
                    <a:lnTo>
                      <a:pt x="928" y="94"/>
                    </a:lnTo>
                    <a:lnTo>
                      <a:pt x="937" y="93"/>
                    </a:lnTo>
                    <a:lnTo>
                      <a:pt x="946" y="92"/>
                    </a:lnTo>
                    <a:lnTo>
                      <a:pt x="955" y="91"/>
                    </a:lnTo>
                    <a:lnTo>
                      <a:pt x="965" y="91"/>
                    </a:lnTo>
                    <a:lnTo>
                      <a:pt x="974" y="89"/>
                    </a:lnTo>
                    <a:lnTo>
                      <a:pt x="983" y="87"/>
                    </a:lnTo>
                    <a:lnTo>
                      <a:pt x="992" y="85"/>
                    </a:lnTo>
                    <a:lnTo>
                      <a:pt x="1002" y="83"/>
                    </a:lnTo>
                    <a:lnTo>
                      <a:pt x="1011" y="82"/>
                    </a:lnTo>
                    <a:lnTo>
                      <a:pt x="1020" y="80"/>
                    </a:lnTo>
                    <a:lnTo>
                      <a:pt x="1030" y="79"/>
                    </a:lnTo>
                    <a:lnTo>
                      <a:pt x="1039" y="76"/>
                    </a:lnTo>
                    <a:lnTo>
                      <a:pt x="1048" y="74"/>
                    </a:lnTo>
                    <a:lnTo>
                      <a:pt x="1057" y="72"/>
                    </a:lnTo>
                    <a:lnTo>
                      <a:pt x="1067" y="72"/>
                    </a:lnTo>
                    <a:lnTo>
                      <a:pt x="1076" y="70"/>
                    </a:lnTo>
                    <a:lnTo>
                      <a:pt x="1085" y="70"/>
                    </a:lnTo>
                    <a:lnTo>
                      <a:pt x="1095" y="67"/>
                    </a:lnTo>
                    <a:lnTo>
                      <a:pt x="1104" y="65"/>
                    </a:lnTo>
                    <a:lnTo>
                      <a:pt x="1113" y="62"/>
                    </a:lnTo>
                    <a:lnTo>
                      <a:pt x="1122" y="60"/>
                    </a:lnTo>
                    <a:lnTo>
                      <a:pt x="1132" y="57"/>
                    </a:lnTo>
                    <a:lnTo>
                      <a:pt x="1141" y="52"/>
                    </a:lnTo>
                    <a:lnTo>
                      <a:pt x="1150" y="53"/>
                    </a:lnTo>
                    <a:lnTo>
                      <a:pt x="1160" y="52"/>
                    </a:lnTo>
                    <a:lnTo>
                      <a:pt x="1169" y="48"/>
                    </a:lnTo>
                    <a:lnTo>
                      <a:pt x="1178" y="45"/>
                    </a:lnTo>
                    <a:lnTo>
                      <a:pt x="1187" y="42"/>
                    </a:lnTo>
                    <a:lnTo>
                      <a:pt x="1197" y="40"/>
                    </a:lnTo>
                    <a:lnTo>
                      <a:pt x="1206" y="41"/>
                    </a:lnTo>
                    <a:lnTo>
                      <a:pt x="1215" y="43"/>
                    </a:lnTo>
                    <a:lnTo>
                      <a:pt x="1224" y="43"/>
                    </a:lnTo>
                    <a:lnTo>
                      <a:pt x="1234" y="43"/>
                    </a:lnTo>
                    <a:lnTo>
                      <a:pt x="1243" y="41"/>
                    </a:lnTo>
                    <a:lnTo>
                      <a:pt x="1252" y="40"/>
                    </a:lnTo>
                    <a:lnTo>
                      <a:pt x="1262" y="38"/>
                    </a:lnTo>
                    <a:lnTo>
                      <a:pt x="1271" y="35"/>
                    </a:lnTo>
                    <a:lnTo>
                      <a:pt x="1280" y="32"/>
                    </a:lnTo>
                    <a:lnTo>
                      <a:pt x="1289" y="31"/>
                    </a:lnTo>
                    <a:lnTo>
                      <a:pt x="1299" y="30"/>
                    </a:lnTo>
                    <a:lnTo>
                      <a:pt x="1308" y="30"/>
                    </a:lnTo>
                    <a:lnTo>
                      <a:pt x="1317" y="30"/>
                    </a:lnTo>
                    <a:lnTo>
                      <a:pt x="1327" y="30"/>
                    </a:lnTo>
                    <a:lnTo>
                      <a:pt x="1336" y="29"/>
                    </a:lnTo>
                    <a:lnTo>
                      <a:pt x="1345" y="27"/>
                    </a:lnTo>
                    <a:lnTo>
                      <a:pt x="1354" y="24"/>
                    </a:lnTo>
                    <a:lnTo>
                      <a:pt x="1364" y="23"/>
                    </a:lnTo>
                    <a:lnTo>
                      <a:pt x="1373" y="23"/>
                    </a:lnTo>
                    <a:lnTo>
                      <a:pt x="1382" y="22"/>
                    </a:lnTo>
                    <a:lnTo>
                      <a:pt x="1392" y="20"/>
                    </a:lnTo>
                    <a:lnTo>
                      <a:pt x="1401" y="20"/>
                    </a:lnTo>
                    <a:lnTo>
                      <a:pt x="1410" y="17"/>
                    </a:lnTo>
                    <a:lnTo>
                      <a:pt x="1419" y="13"/>
                    </a:lnTo>
                    <a:lnTo>
                      <a:pt x="1429" y="6"/>
                    </a:lnTo>
                    <a:lnTo>
                      <a:pt x="1438" y="3"/>
                    </a:lnTo>
                    <a:lnTo>
                      <a:pt x="1447" y="0"/>
                    </a:lnTo>
                    <a:lnTo>
                      <a:pt x="1447" y="64"/>
                    </a:lnTo>
                    <a:lnTo>
                      <a:pt x="1438" y="67"/>
                    </a:lnTo>
                    <a:lnTo>
                      <a:pt x="1429" y="70"/>
                    </a:lnTo>
                    <a:lnTo>
                      <a:pt x="1419" y="74"/>
                    </a:lnTo>
                    <a:lnTo>
                      <a:pt x="1410" y="77"/>
                    </a:lnTo>
                    <a:lnTo>
                      <a:pt x="1401" y="79"/>
                    </a:lnTo>
                    <a:lnTo>
                      <a:pt x="1392" y="79"/>
                    </a:lnTo>
                    <a:lnTo>
                      <a:pt x="1382" y="80"/>
                    </a:lnTo>
                    <a:lnTo>
                      <a:pt x="1373" y="80"/>
                    </a:lnTo>
                    <a:lnTo>
                      <a:pt x="1364" y="80"/>
                    </a:lnTo>
                    <a:lnTo>
                      <a:pt x="1354" y="80"/>
                    </a:lnTo>
                    <a:lnTo>
                      <a:pt x="1345" y="81"/>
                    </a:lnTo>
                    <a:lnTo>
                      <a:pt x="1336" y="82"/>
                    </a:lnTo>
                    <a:lnTo>
                      <a:pt x="1327" y="82"/>
                    </a:lnTo>
                    <a:lnTo>
                      <a:pt x="1317" y="83"/>
                    </a:lnTo>
                    <a:lnTo>
                      <a:pt x="1308" y="82"/>
                    </a:lnTo>
                    <a:lnTo>
                      <a:pt x="1299" y="82"/>
                    </a:lnTo>
                    <a:lnTo>
                      <a:pt x="1289" y="83"/>
                    </a:lnTo>
                    <a:lnTo>
                      <a:pt x="1280" y="83"/>
                    </a:lnTo>
                    <a:lnTo>
                      <a:pt x="1271" y="84"/>
                    </a:lnTo>
                    <a:lnTo>
                      <a:pt x="1262" y="86"/>
                    </a:lnTo>
                    <a:lnTo>
                      <a:pt x="1252" y="86"/>
                    </a:lnTo>
                    <a:lnTo>
                      <a:pt x="1243" y="88"/>
                    </a:lnTo>
                    <a:lnTo>
                      <a:pt x="1234" y="89"/>
                    </a:lnTo>
                    <a:lnTo>
                      <a:pt x="1224" y="90"/>
                    </a:lnTo>
                    <a:lnTo>
                      <a:pt x="1215" y="91"/>
                    </a:lnTo>
                    <a:lnTo>
                      <a:pt x="1206" y="91"/>
                    </a:lnTo>
                    <a:lnTo>
                      <a:pt x="1197" y="92"/>
                    </a:lnTo>
                    <a:lnTo>
                      <a:pt x="1187" y="93"/>
                    </a:lnTo>
                    <a:lnTo>
                      <a:pt x="1178" y="94"/>
                    </a:lnTo>
                    <a:lnTo>
                      <a:pt x="1169" y="95"/>
                    </a:lnTo>
                    <a:lnTo>
                      <a:pt x="1160" y="97"/>
                    </a:lnTo>
                    <a:lnTo>
                      <a:pt x="1150" y="97"/>
                    </a:lnTo>
                    <a:lnTo>
                      <a:pt x="1141" y="98"/>
                    </a:lnTo>
                    <a:lnTo>
                      <a:pt x="1132" y="99"/>
                    </a:lnTo>
                    <a:lnTo>
                      <a:pt x="1122" y="99"/>
                    </a:lnTo>
                    <a:lnTo>
                      <a:pt x="1113" y="98"/>
                    </a:lnTo>
                    <a:lnTo>
                      <a:pt x="1104" y="98"/>
                    </a:lnTo>
                    <a:lnTo>
                      <a:pt x="1095" y="98"/>
                    </a:lnTo>
                    <a:lnTo>
                      <a:pt x="1085" y="98"/>
                    </a:lnTo>
                    <a:lnTo>
                      <a:pt x="1076" y="97"/>
                    </a:lnTo>
                    <a:lnTo>
                      <a:pt x="1067" y="97"/>
                    </a:lnTo>
                    <a:lnTo>
                      <a:pt x="1057" y="95"/>
                    </a:lnTo>
                    <a:lnTo>
                      <a:pt x="1048" y="95"/>
                    </a:lnTo>
                    <a:lnTo>
                      <a:pt x="1039" y="96"/>
                    </a:lnTo>
                    <a:lnTo>
                      <a:pt x="1030" y="97"/>
                    </a:lnTo>
                    <a:lnTo>
                      <a:pt x="1020" y="97"/>
                    </a:lnTo>
                    <a:lnTo>
                      <a:pt x="1011" y="98"/>
                    </a:lnTo>
                    <a:lnTo>
                      <a:pt x="1002" y="98"/>
                    </a:lnTo>
                    <a:lnTo>
                      <a:pt x="992" y="99"/>
                    </a:lnTo>
                    <a:lnTo>
                      <a:pt x="983" y="100"/>
                    </a:lnTo>
                    <a:lnTo>
                      <a:pt x="974" y="101"/>
                    </a:lnTo>
                    <a:lnTo>
                      <a:pt x="965" y="102"/>
                    </a:lnTo>
                    <a:lnTo>
                      <a:pt x="955" y="102"/>
                    </a:lnTo>
                    <a:lnTo>
                      <a:pt x="946" y="102"/>
                    </a:lnTo>
                    <a:lnTo>
                      <a:pt x="937" y="102"/>
                    </a:lnTo>
                    <a:lnTo>
                      <a:pt x="928" y="103"/>
                    </a:lnTo>
                    <a:lnTo>
                      <a:pt x="918" y="104"/>
                    </a:lnTo>
                    <a:lnTo>
                      <a:pt x="909" y="103"/>
                    </a:lnTo>
                    <a:lnTo>
                      <a:pt x="900" y="104"/>
                    </a:lnTo>
                    <a:lnTo>
                      <a:pt x="890" y="105"/>
                    </a:lnTo>
                    <a:lnTo>
                      <a:pt x="881" y="106"/>
                    </a:lnTo>
                    <a:lnTo>
                      <a:pt x="872" y="103"/>
                    </a:lnTo>
                    <a:lnTo>
                      <a:pt x="863" y="102"/>
                    </a:lnTo>
                    <a:lnTo>
                      <a:pt x="853" y="103"/>
                    </a:lnTo>
                    <a:lnTo>
                      <a:pt x="844" y="103"/>
                    </a:lnTo>
                    <a:lnTo>
                      <a:pt x="835" y="104"/>
                    </a:lnTo>
                    <a:lnTo>
                      <a:pt x="825" y="105"/>
                    </a:lnTo>
                    <a:lnTo>
                      <a:pt x="816" y="106"/>
                    </a:lnTo>
                    <a:lnTo>
                      <a:pt x="807" y="105"/>
                    </a:lnTo>
                    <a:lnTo>
                      <a:pt x="798" y="106"/>
                    </a:lnTo>
                    <a:lnTo>
                      <a:pt x="788" y="107"/>
                    </a:lnTo>
                    <a:lnTo>
                      <a:pt x="779" y="108"/>
                    </a:lnTo>
                    <a:lnTo>
                      <a:pt x="770" y="109"/>
                    </a:lnTo>
                    <a:lnTo>
                      <a:pt x="760" y="109"/>
                    </a:lnTo>
                    <a:lnTo>
                      <a:pt x="751" y="108"/>
                    </a:lnTo>
                    <a:lnTo>
                      <a:pt x="742" y="107"/>
                    </a:lnTo>
                    <a:lnTo>
                      <a:pt x="733" y="106"/>
                    </a:lnTo>
                    <a:lnTo>
                      <a:pt x="723" y="105"/>
                    </a:lnTo>
                    <a:lnTo>
                      <a:pt x="714" y="107"/>
                    </a:lnTo>
                    <a:lnTo>
                      <a:pt x="705" y="107"/>
                    </a:lnTo>
                    <a:lnTo>
                      <a:pt x="696" y="107"/>
                    </a:lnTo>
                    <a:lnTo>
                      <a:pt x="686" y="107"/>
                    </a:lnTo>
                    <a:lnTo>
                      <a:pt x="677" y="107"/>
                    </a:lnTo>
                    <a:lnTo>
                      <a:pt x="668" y="109"/>
                    </a:lnTo>
                    <a:lnTo>
                      <a:pt x="658" y="110"/>
                    </a:lnTo>
                    <a:lnTo>
                      <a:pt x="649" y="108"/>
                    </a:lnTo>
                    <a:lnTo>
                      <a:pt x="640" y="109"/>
                    </a:lnTo>
                    <a:lnTo>
                      <a:pt x="631" y="108"/>
                    </a:lnTo>
                    <a:lnTo>
                      <a:pt x="621" y="108"/>
                    </a:lnTo>
                    <a:lnTo>
                      <a:pt x="612" y="108"/>
                    </a:lnTo>
                    <a:lnTo>
                      <a:pt x="603" y="109"/>
                    </a:lnTo>
                    <a:lnTo>
                      <a:pt x="593" y="109"/>
                    </a:lnTo>
                    <a:lnTo>
                      <a:pt x="584" y="108"/>
                    </a:lnTo>
                    <a:lnTo>
                      <a:pt x="575" y="109"/>
                    </a:lnTo>
                    <a:lnTo>
                      <a:pt x="566" y="109"/>
                    </a:lnTo>
                    <a:lnTo>
                      <a:pt x="556" y="110"/>
                    </a:lnTo>
                    <a:lnTo>
                      <a:pt x="547" y="110"/>
                    </a:lnTo>
                    <a:lnTo>
                      <a:pt x="538" y="111"/>
                    </a:lnTo>
                    <a:lnTo>
                      <a:pt x="528" y="110"/>
                    </a:lnTo>
                    <a:lnTo>
                      <a:pt x="519" y="111"/>
                    </a:lnTo>
                    <a:lnTo>
                      <a:pt x="510" y="112"/>
                    </a:lnTo>
                    <a:lnTo>
                      <a:pt x="501" y="112"/>
                    </a:lnTo>
                    <a:lnTo>
                      <a:pt x="491" y="113"/>
                    </a:lnTo>
                    <a:lnTo>
                      <a:pt x="482" y="113"/>
                    </a:lnTo>
                    <a:lnTo>
                      <a:pt x="473" y="113"/>
                    </a:lnTo>
                    <a:lnTo>
                      <a:pt x="464" y="114"/>
                    </a:lnTo>
                    <a:lnTo>
                      <a:pt x="454" y="114"/>
                    </a:lnTo>
                    <a:lnTo>
                      <a:pt x="445" y="115"/>
                    </a:lnTo>
                    <a:lnTo>
                      <a:pt x="436" y="115"/>
                    </a:lnTo>
                    <a:lnTo>
                      <a:pt x="426" y="115"/>
                    </a:lnTo>
                    <a:lnTo>
                      <a:pt x="417" y="115"/>
                    </a:lnTo>
                    <a:lnTo>
                      <a:pt x="408" y="116"/>
                    </a:lnTo>
                    <a:lnTo>
                      <a:pt x="399" y="116"/>
                    </a:lnTo>
                    <a:lnTo>
                      <a:pt x="389" y="116"/>
                    </a:lnTo>
                    <a:lnTo>
                      <a:pt x="380" y="116"/>
                    </a:lnTo>
                    <a:lnTo>
                      <a:pt x="371" y="116"/>
                    </a:lnTo>
                    <a:lnTo>
                      <a:pt x="361" y="116"/>
                    </a:lnTo>
                    <a:lnTo>
                      <a:pt x="352" y="117"/>
                    </a:lnTo>
                    <a:lnTo>
                      <a:pt x="343" y="117"/>
                    </a:lnTo>
                    <a:lnTo>
                      <a:pt x="334" y="117"/>
                    </a:lnTo>
                    <a:lnTo>
                      <a:pt x="324" y="117"/>
                    </a:lnTo>
                    <a:lnTo>
                      <a:pt x="315" y="117"/>
                    </a:lnTo>
                    <a:lnTo>
                      <a:pt x="306" y="117"/>
                    </a:lnTo>
                    <a:lnTo>
                      <a:pt x="296" y="118"/>
                    </a:lnTo>
                    <a:lnTo>
                      <a:pt x="287" y="118"/>
                    </a:lnTo>
                    <a:lnTo>
                      <a:pt x="278" y="118"/>
                    </a:lnTo>
                    <a:lnTo>
                      <a:pt x="269" y="118"/>
                    </a:lnTo>
                    <a:lnTo>
                      <a:pt x="259" y="119"/>
                    </a:lnTo>
                    <a:lnTo>
                      <a:pt x="250" y="119"/>
                    </a:lnTo>
                    <a:lnTo>
                      <a:pt x="241" y="119"/>
                    </a:lnTo>
                    <a:lnTo>
                      <a:pt x="232" y="119"/>
                    </a:lnTo>
                    <a:lnTo>
                      <a:pt x="222" y="119"/>
                    </a:lnTo>
                    <a:lnTo>
                      <a:pt x="213" y="119"/>
                    </a:lnTo>
                    <a:lnTo>
                      <a:pt x="204" y="119"/>
                    </a:lnTo>
                    <a:lnTo>
                      <a:pt x="194" y="119"/>
                    </a:lnTo>
                    <a:lnTo>
                      <a:pt x="185" y="120"/>
                    </a:lnTo>
                    <a:lnTo>
                      <a:pt x="176" y="120"/>
                    </a:lnTo>
                    <a:lnTo>
                      <a:pt x="167" y="120"/>
                    </a:lnTo>
                    <a:lnTo>
                      <a:pt x="157" y="120"/>
                    </a:lnTo>
                    <a:lnTo>
                      <a:pt x="148" y="120"/>
                    </a:lnTo>
                    <a:lnTo>
                      <a:pt x="139" y="120"/>
                    </a:lnTo>
                    <a:lnTo>
                      <a:pt x="129" y="120"/>
                    </a:lnTo>
                    <a:lnTo>
                      <a:pt x="120" y="120"/>
                    </a:lnTo>
                    <a:lnTo>
                      <a:pt x="111" y="121"/>
                    </a:lnTo>
                    <a:lnTo>
                      <a:pt x="102" y="121"/>
                    </a:lnTo>
                    <a:lnTo>
                      <a:pt x="92" y="121"/>
                    </a:lnTo>
                    <a:lnTo>
                      <a:pt x="83" y="121"/>
                    </a:lnTo>
                    <a:lnTo>
                      <a:pt x="74" y="121"/>
                    </a:lnTo>
                    <a:lnTo>
                      <a:pt x="64" y="121"/>
                    </a:lnTo>
                    <a:lnTo>
                      <a:pt x="55" y="121"/>
                    </a:lnTo>
                    <a:lnTo>
                      <a:pt x="46" y="121"/>
                    </a:lnTo>
                    <a:lnTo>
                      <a:pt x="37" y="121"/>
                    </a:lnTo>
                    <a:lnTo>
                      <a:pt x="27" y="122"/>
                    </a:lnTo>
                    <a:lnTo>
                      <a:pt x="18" y="122"/>
                    </a:lnTo>
                    <a:lnTo>
                      <a:pt x="9" y="121"/>
                    </a:lnTo>
                    <a:lnTo>
                      <a:pt x="0" y="122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8" name="Freeform 118"/>
              <p:cNvSpPr/>
              <p:nvPr/>
            </p:nvSpPr>
            <p:spPr>
              <a:xfrm>
                <a:off x="2720520" y="4484520"/>
                <a:ext cx="2310120" cy="299160"/>
              </a:xfrm>
              <a:custGeom>
                <a:avLst/>
                <a:gdLst>
                  <a:gd name="textAreaLeft" fmla="*/ 0 w 2310120"/>
                  <a:gd name="textAreaRight" fmla="*/ 2310480 w 2310120"/>
                  <a:gd name="textAreaTop" fmla="*/ 0 h 299160"/>
                  <a:gd name="textAreaBottom" fmla="*/ 299520 h 299160"/>
                </a:gdLst>
                <a:ahLst/>
                <a:rect l="textAreaLeft" t="textAreaTop" r="textAreaRight" b="textAreaBottom"/>
                <a:pathLst>
                  <a:path w="1447" h="122">
                    <a:moveTo>
                      <a:pt x="0" y="122"/>
                    </a:moveTo>
                    <a:lnTo>
                      <a:pt x="9" y="121"/>
                    </a:lnTo>
                    <a:lnTo>
                      <a:pt x="18" y="122"/>
                    </a:lnTo>
                    <a:lnTo>
                      <a:pt x="27" y="122"/>
                    </a:lnTo>
                    <a:lnTo>
                      <a:pt x="37" y="121"/>
                    </a:lnTo>
                    <a:lnTo>
                      <a:pt x="46" y="121"/>
                    </a:lnTo>
                    <a:lnTo>
                      <a:pt x="55" y="121"/>
                    </a:lnTo>
                    <a:lnTo>
                      <a:pt x="64" y="121"/>
                    </a:lnTo>
                    <a:lnTo>
                      <a:pt x="74" y="121"/>
                    </a:lnTo>
                    <a:lnTo>
                      <a:pt x="83" y="121"/>
                    </a:lnTo>
                    <a:lnTo>
                      <a:pt x="92" y="121"/>
                    </a:lnTo>
                    <a:lnTo>
                      <a:pt x="102" y="121"/>
                    </a:lnTo>
                    <a:lnTo>
                      <a:pt x="111" y="121"/>
                    </a:lnTo>
                    <a:lnTo>
                      <a:pt x="120" y="120"/>
                    </a:lnTo>
                    <a:lnTo>
                      <a:pt x="129" y="120"/>
                    </a:lnTo>
                    <a:lnTo>
                      <a:pt x="139" y="120"/>
                    </a:lnTo>
                    <a:lnTo>
                      <a:pt x="148" y="120"/>
                    </a:lnTo>
                    <a:lnTo>
                      <a:pt x="157" y="120"/>
                    </a:lnTo>
                    <a:lnTo>
                      <a:pt x="167" y="120"/>
                    </a:lnTo>
                    <a:lnTo>
                      <a:pt x="176" y="120"/>
                    </a:lnTo>
                    <a:lnTo>
                      <a:pt x="185" y="120"/>
                    </a:lnTo>
                    <a:lnTo>
                      <a:pt x="194" y="119"/>
                    </a:lnTo>
                    <a:lnTo>
                      <a:pt x="204" y="119"/>
                    </a:lnTo>
                    <a:lnTo>
                      <a:pt x="213" y="119"/>
                    </a:lnTo>
                    <a:lnTo>
                      <a:pt x="222" y="119"/>
                    </a:lnTo>
                    <a:lnTo>
                      <a:pt x="232" y="119"/>
                    </a:lnTo>
                    <a:lnTo>
                      <a:pt x="241" y="119"/>
                    </a:lnTo>
                    <a:lnTo>
                      <a:pt x="250" y="119"/>
                    </a:lnTo>
                    <a:lnTo>
                      <a:pt x="259" y="118"/>
                    </a:lnTo>
                    <a:lnTo>
                      <a:pt x="269" y="118"/>
                    </a:lnTo>
                    <a:lnTo>
                      <a:pt x="278" y="118"/>
                    </a:lnTo>
                    <a:lnTo>
                      <a:pt x="287" y="118"/>
                    </a:lnTo>
                    <a:lnTo>
                      <a:pt x="296" y="117"/>
                    </a:lnTo>
                    <a:lnTo>
                      <a:pt x="306" y="117"/>
                    </a:lnTo>
                    <a:lnTo>
                      <a:pt x="315" y="117"/>
                    </a:lnTo>
                    <a:lnTo>
                      <a:pt x="324" y="117"/>
                    </a:lnTo>
                    <a:lnTo>
                      <a:pt x="334" y="117"/>
                    </a:lnTo>
                    <a:lnTo>
                      <a:pt x="343" y="117"/>
                    </a:lnTo>
                    <a:lnTo>
                      <a:pt x="352" y="116"/>
                    </a:lnTo>
                    <a:lnTo>
                      <a:pt x="361" y="116"/>
                    </a:lnTo>
                    <a:lnTo>
                      <a:pt x="371" y="116"/>
                    </a:lnTo>
                    <a:lnTo>
                      <a:pt x="380" y="116"/>
                    </a:lnTo>
                    <a:lnTo>
                      <a:pt x="389" y="116"/>
                    </a:lnTo>
                    <a:lnTo>
                      <a:pt x="399" y="116"/>
                    </a:lnTo>
                    <a:lnTo>
                      <a:pt x="408" y="116"/>
                    </a:lnTo>
                    <a:lnTo>
                      <a:pt x="417" y="115"/>
                    </a:lnTo>
                    <a:lnTo>
                      <a:pt x="426" y="115"/>
                    </a:lnTo>
                    <a:lnTo>
                      <a:pt x="436" y="115"/>
                    </a:lnTo>
                    <a:lnTo>
                      <a:pt x="445" y="114"/>
                    </a:lnTo>
                    <a:lnTo>
                      <a:pt x="454" y="114"/>
                    </a:lnTo>
                    <a:lnTo>
                      <a:pt x="464" y="113"/>
                    </a:lnTo>
                    <a:lnTo>
                      <a:pt x="473" y="113"/>
                    </a:lnTo>
                    <a:lnTo>
                      <a:pt x="482" y="113"/>
                    </a:lnTo>
                    <a:lnTo>
                      <a:pt x="491" y="112"/>
                    </a:lnTo>
                    <a:lnTo>
                      <a:pt x="501" y="112"/>
                    </a:lnTo>
                    <a:lnTo>
                      <a:pt x="510" y="111"/>
                    </a:lnTo>
                    <a:lnTo>
                      <a:pt x="519" y="111"/>
                    </a:lnTo>
                    <a:lnTo>
                      <a:pt x="528" y="110"/>
                    </a:lnTo>
                    <a:lnTo>
                      <a:pt x="538" y="110"/>
                    </a:lnTo>
                    <a:lnTo>
                      <a:pt x="547" y="110"/>
                    </a:lnTo>
                    <a:lnTo>
                      <a:pt x="556" y="109"/>
                    </a:lnTo>
                    <a:lnTo>
                      <a:pt x="566" y="109"/>
                    </a:lnTo>
                    <a:lnTo>
                      <a:pt x="575" y="108"/>
                    </a:lnTo>
                    <a:lnTo>
                      <a:pt x="584" y="107"/>
                    </a:lnTo>
                    <a:lnTo>
                      <a:pt x="593" y="108"/>
                    </a:lnTo>
                    <a:lnTo>
                      <a:pt x="603" y="108"/>
                    </a:lnTo>
                    <a:lnTo>
                      <a:pt x="612" y="107"/>
                    </a:lnTo>
                    <a:lnTo>
                      <a:pt x="621" y="107"/>
                    </a:lnTo>
                    <a:lnTo>
                      <a:pt x="631" y="107"/>
                    </a:lnTo>
                    <a:lnTo>
                      <a:pt x="640" y="108"/>
                    </a:lnTo>
                    <a:lnTo>
                      <a:pt x="649" y="107"/>
                    </a:lnTo>
                    <a:lnTo>
                      <a:pt x="658" y="108"/>
                    </a:lnTo>
                    <a:lnTo>
                      <a:pt x="668" y="107"/>
                    </a:lnTo>
                    <a:lnTo>
                      <a:pt x="677" y="106"/>
                    </a:lnTo>
                    <a:lnTo>
                      <a:pt x="686" y="105"/>
                    </a:lnTo>
                    <a:lnTo>
                      <a:pt x="696" y="105"/>
                    </a:lnTo>
                    <a:lnTo>
                      <a:pt x="705" y="105"/>
                    </a:lnTo>
                    <a:lnTo>
                      <a:pt x="714" y="104"/>
                    </a:lnTo>
                    <a:lnTo>
                      <a:pt x="723" y="103"/>
                    </a:lnTo>
                    <a:lnTo>
                      <a:pt x="733" y="103"/>
                    </a:lnTo>
                    <a:lnTo>
                      <a:pt x="742" y="104"/>
                    </a:lnTo>
                    <a:lnTo>
                      <a:pt x="751" y="105"/>
                    </a:lnTo>
                    <a:lnTo>
                      <a:pt x="760" y="106"/>
                    </a:lnTo>
                    <a:lnTo>
                      <a:pt x="770" y="105"/>
                    </a:lnTo>
                    <a:lnTo>
                      <a:pt x="779" y="104"/>
                    </a:lnTo>
                    <a:lnTo>
                      <a:pt x="788" y="104"/>
                    </a:lnTo>
                    <a:lnTo>
                      <a:pt x="798" y="102"/>
                    </a:lnTo>
                    <a:lnTo>
                      <a:pt x="807" y="101"/>
                    </a:lnTo>
                    <a:lnTo>
                      <a:pt x="816" y="102"/>
                    </a:lnTo>
                    <a:lnTo>
                      <a:pt x="825" y="100"/>
                    </a:lnTo>
                    <a:lnTo>
                      <a:pt x="835" y="100"/>
                    </a:lnTo>
                    <a:lnTo>
                      <a:pt x="844" y="98"/>
                    </a:lnTo>
                    <a:lnTo>
                      <a:pt x="853" y="97"/>
                    </a:lnTo>
                    <a:lnTo>
                      <a:pt x="863" y="97"/>
                    </a:lnTo>
                    <a:lnTo>
                      <a:pt x="872" y="97"/>
                    </a:lnTo>
                    <a:lnTo>
                      <a:pt x="881" y="100"/>
                    </a:lnTo>
                    <a:lnTo>
                      <a:pt x="890" y="99"/>
                    </a:lnTo>
                    <a:lnTo>
                      <a:pt x="900" y="97"/>
                    </a:lnTo>
                    <a:lnTo>
                      <a:pt x="909" y="96"/>
                    </a:lnTo>
                    <a:lnTo>
                      <a:pt x="918" y="96"/>
                    </a:lnTo>
                    <a:lnTo>
                      <a:pt x="928" y="94"/>
                    </a:lnTo>
                    <a:lnTo>
                      <a:pt x="937" y="93"/>
                    </a:lnTo>
                    <a:lnTo>
                      <a:pt x="946" y="92"/>
                    </a:lnTo>
                    <a:lnTo>
                      <a:pt x="955" y="91"/>
                    </a:lnTo>
                    <a:lnTo>
                      <a:pt x="965" y="91"/>
                    </a:lnTo>
                    <a:lnTo>
                      <a:pt x="974" y="89"/>
                    </a:lnTo>
                    <a:lnTo>
                      <a:pt x="983" y="87"/>
                    </a:lnTo>
                    <a:lnTo>
                      <a:pt x="992" y="85"/>
                    </a:lnTo>
                    <a:lnTo>
                      <a:pt x="1002" y="83"/>
                    </a:lnTo>
                    <a:lnTo>
                      <a:pt x="1011" y="82"/>
                    </a:lnTo>
                    <a:lnTo>
                      <a:pt x="1020" y="80"/>
                    </a:lnTo>
                    <a:lnTo>
                      <a:pt x="1030" y="79"/>
                    </a:lnTo>
                    <a:lnTo>
                      <a:pt x="1039" y="76"/>
                    </a:lnTo>
                    <a:lnTo>
                      <a:pt x="1048" y="74"/>
                    </a:lnTo>
                    <a:lnTo>
                      <a:pt x="1057" y="72"/>
                    </a:lnTo>
                    <a:lnTo>
                      <a:pt x="1067" y="72"/>
                    </a:lnTo>
                    <a:lnTo>
                      <a:pt x="1076" y="70"/>
                    </a:lnTo>
                    <a:lnTo>
                      <a:pt x="1085" y="70"/>
                    </a:lnTo>
                    <a:lnTo>
                      <a:pt x="1095" y="67"/>
                    </a:lnTo>
                    <a:lnTo>
                      <a:pt x="1104" y="65"/>
                    </a:lnTo>
                    <a:lnTo>
                      <a:pt x="1113" y="62"/>
                    </a:lnTo>
                    <a:lnTo>
                      <a:pt x="1122" y="60"/>
                    </a:lnTo>
                    <a:lnTo>
                      <a:pt x="1132" y="57"/>
                    </a:lnTo>
                    <a:lnTo>
                      <a:pt x="1141" y="52"/>
                    </a:lnTo>
                    <a:lnTo>
                      <a:pt x="1150" y="53"/>
                    </a:lnTo>
                    <a:lnTo>
                      <a:pt x="1160" y="52"/>
                    </a:lnTo>
                    <a:lnTo>
                      <a:pt x="1169" y="48"/>
                    </a:lnTo>
                    <a:lnTo>
                      <a:pt x="1178" y="45"/>
                    </a:lnTo>
                    <a:lnTo>
                      <a:pt x="1187" y="42"/>
                    </a:lnTo>
                    <a:lnTo>
                      <a:pt x="1197" y="40"/>
                    </a:lnTo>
                    <a:lnTo>
                      <a:pt x="1206" y="41"/>
                    </a:lnTo>
                    <a:lnTo>
                      <a:pt x="1215" y="43"/>
                    </a:lnTo>
                    <a:lnTo>
                      <a:pt x="1224" y="43"/>
                    </a:lnTo>
                    <a:lnTo>
                      <a:pt x="1234" y="43"/>
                    </a:lnTo>
                    <a:lnTo>
                      <a:pt x="1243" y="41"/>
                    </a:lnTo>
                    <a:lnTo>
                      <a:pt x="1252" y="40"/>
                    </a:lnTo>
                    <a:lnTo>
                      <a:pt x="1262" y="38"/>
                    </a:lnTo>
                    <a:lnTo>
                      <a:pt x="1271" y="35"/>
                    </a:lnTo>
                    <a:lnTo>
                      <a:pt x="1280" y="32"/>
                    </a:lnTo>
                    <a:lnTo>
                      <a:pt x="1289" y="31"/>
                    </a:lnTo>
                    <a:lnTo>
                      <a:pt x="1299" y="30"/>
                    </a:lnTo>
                    <a:lnTo>
                      <a:pt x="1308" y="30"/>
                    </a:lnTo>
                    <a:lnTo>
                      <a:pt x="1317" y="30"/>
                    </a:lnTo>
                    <a:lnTo>
                      <a:pt x="1327" y="30"/>
                    </a:lnTo>
                    <a:lnTo>
                      <a:pt x="1336" y="29"/>
                    </a:lnTo>
                    <a:lnTo>
                      <a:pt x="1345" y="27"/>
                    </a:lnTo>
                    <a:lnTo>
                      <a:pt x="1354" y="24"/>
                    </a:lnTo>
                    <a:lnTo>
                      <a:pt x="1364" y="23"/>
                    </a:lnTo>
                    <a:lnTo>
                      <a:pt x="1373" y="23"/>
                    </a:lnTo>
                    <a:lnTo>
                      <a:pt x="1382" y="22"/>
                    </a:lnTo>
                    <a:lnTo>
                      <a:pt x="1392" y="20"/>
                    </a:lnTo>
                    <a:lnTo>
                      <a:pt x="1401" y="20"/>
                    </a:lnTo>
                    <a:lnTo>
                      <a:pt x="1410" y="17"/>
                    </a:lnTo>
                    <a:lnTo>
                      <a:pt x="1419" y="13"/>
                    </a:lnTo>
                    <a:lnTo>
                      <a:pt x="1429" y="6"/>
                    </a:lnTo>
                    <a:lnTo>
                      <a:pt x="1438" y="3"/>
                    </a:lnTo>
                    <a:lnTo>
                      <a:pt x="1447" y="0"/>
                    </a:lnTo>
                    <a:lnTo>
                      <a:pt x="1447" y="64"/>
                    </a:lnTo>
                    <a:lnTo>
                      <a:pt x="1438" y="67"/>
                    </a:lnTo>
                    <a:lnTo>
                      <a:pt x="1429" y="70"/>
                    </a:lnTo>
                    <a:lnTo>
                      <a:pt x="1419" y="74"/>
                    </a:lnTo>
                    <a:lnTo>
                      <a:pt x="1410" y="77"/>
                    </a:lnTo>
                    <a:lnTo>
                      <a:pt x="1401" y="79"/>
                    </a:lnTo>
                    <a:lnTo>
                      <a:pt x="1392" y="79"/>
                    </a:lnTo>
                    <a:lnTo>
                      <a:pt x="1382" y="80"/>
                    </a:lnTo>
                    <a:lnTo>
                      <a:pt x="1373" y="80"/>
                    </a:lnTo>
                    <a:lnTo>
                      <a:pt x="1364" y="80"/>
                    </a:lnTo>
                    <a:lnTo>
                      <a:pt x="1354" y="80"/>
                    </a:lnTo>
                    <a:lnTo>
                      <a:pt x="1345" y="81"/>
                    </a:lnTo>
                    <a:lnTo>
                      <a:pt x="1336" y="82"/>
                    </a:lnTo>
                    <a:lnTo>
                      <a:pt x="1327" y="82"/>
                    </a:lnTo>
                    <a:lnTo>
                      <a:pt x="1317" y="83"/>
                    </a:lnTo>
                    <a:lnTo>
                      <a:pt x="1308" y="82"/>
                    </a:lnTo>
                    <a:lnTo>
                      <a:pt x="1299" y="82"/>
                    </a:lnTo>
                    <a:lnTo>
                      <a:pt x="1289" y="83"/>
                    </a:lnTo>
                    <a:lnTo>
                      <a:pt x="1280" y="83"/>
                    </a:lnTo>
                    <a:lnTo>
                      <a:pt x="1271" y="84"/>
                    </a:lnTo>
                    <a:lnTo>
                      <a:pt x="1262" y="86"/>
                    </a:lnTo>
                    <a:lnTo>
                      <a:pt x="1252" y="86"/>
                    </a:lnTo>
                    <a:lnTo>
                      <a:pt x="1243" y="88"/>
                    </a:lnTo>
                    <a:lnTo>
                      <a:pt x="1234" y="89"/>
                    </a:lnTo>
                    <a:lnTo>
                      <a:pt x="1224" y="90"/>
                    </a:lnTo>
                    <a:lnTo>
                      <a:pt x="1215" y="91"/>
                    </a:lnTo>
                    <a:lnTo>
                      <a:pt x="1206" y="91"/>
                    </a:lnTo>
                    <a:lnTo>
                      <a:pt x="1197" y="92"/>
                    </a:lnTo>
                    <a:lnTo>
                      <a:pt x="1187" y="93"/>
                    </a:lnTo>
                    <a:lnTo>
                      <a:pt x="1178" y="94"/>
                    </a:lnTo>
                    <a:lnTo>
                      <a:pt x="1169" y="95"/>
                    </a:lnTo>
                    <a:lnTo>
                      <a:pt x="1160" y="97"/>
                    </a:lnTo>
                    <a:lnTo>
                      <a:pt x="1150" y="97"/>
                    </a:lnTo>
                    <a:lnTo>
                      <a:pt x="1141" y="98"/>
                    </a:lnTo>
                    <a:lnTo>
                      <a:pt x="1132" y="99"/>
                    </a:lnTo>
                    <a:lnTo>
                      <a:pt x="1122" y="99"/>
                    </a:lnTo>
                    <a:lnTo>
                      <a:pt x="1113" y="98"/>
                    </a:lnTo>
                    <a:lnTo>
                      <a:pt x="1104" y="98"/>
                    </a:lnTo>
                    <a:lnTo>
                      <a:pt x="1095" y="98"/>
                    </a:lnTo>
                    <a:lnTo>
                      <a:pt x="1085" y="98"/>
                    </a:lnTo>
                    <a:lnTo>
                      <a:pt x="1076" y="97"/>
                    </a:lnTo>
                    <a:lnTo>
                      <a:pt x="1067" y="97"/>
                    </a:lnTo>
                    <a:lnTo>
                      <a:pt x="1057" y="95"/>
                    </a:lnTo>
                    <a:lnTo>
                      <a:pt x="1048" y="95"/>
                    </a:lnTo>
                    <a:lnTo>
                      <a:pt x="1039" y="96"/>
                    </a:lnTo>
                    <a:lnTo>
                      <a:pt x="1030" y="97"/>
                    </a:lnTo>
                    <a:lnTo>
                      <a:pt x="1020" y="97"/>
                    </a:lnTo>
                    <a:lnTo>
                      <a:pt x="1011" y="98"/>
                    </a:lnTo>
                    <a:lnTo>
                      <a:pt x="1002" y="98"/>
                    </a:lnTo>
                    <a:lnTo>
                      <a:pt x="992" y="99"/>
                    </a:lnTo>
                    <a:lnTo>
                      <a:pt x="983" y="100"/>
                    </a:lnTo>
                    <a:lnTo>
                      <a:pt x="974" y="101"/>
                    </a:lnTo>
                    <a:lnTo>
                      <a:pt x="965" y="102"/>
                    </a:lnTo>
                    <a:lnTo>
                      <a:pt x="955" y="102"/>
                    </a:lnTo>
                    <a:lnTo>
                      <a:pt x="946" y="102"/>
                    </a:lnTo>
                    <a:lnTo>
                      <a:pt x="937" y="102"/>
                    </a:lnTo>
                    <a:lnTo>
                      <a:pt x="928" y="103"/>
                    </a:lnTo>
                    <a:lnTo>
                      <a:pt x="918" y="104"/>
                    </a:lnTo>
                    <a:lnTo>
                      <a:pt x="909" y="103"/>
                    </a:lnTo>
                    <a:lnTo>
                      <a:pt x="900" y="104"/>
                    </a:lnTo>
                    <a:lnTo>
                      <a:pt x="890" y="105"/>
                    </a:lnTo>
                    <a:lnTo>
                      <a:pt x="881" y="106"/>
                    </a:lnTo>
                    <a:lnTo>
                      <a:pt x="872" y="103"/>
                    </a:lnTo>
                    <a:lnTo>
                      <a:pt x="863" y="102"/>
                    </a:lnTo>
                    <a:lnTo>
                      <a:pt x="853" y="103"/>
                    </a:lnTo>
                    <a:lnTo>
                      <a:pt x="844" y="103"/>
                    </a:lnTo>
                    <a:lnTo>
                      <a:pt x="835" y="104"/>
                    </a:lnTo>
                    <a:lnTo>
                      <a:pt x="825" y="105"/>
                    </a:lnTo>
                    <a:lnTo>
                      <a:pt x="816" y="106"/>
                    </a:lnTo>
                    <a:lnTo>
                      <a:pt x="807" y="105"/>
                    </a:lnTo>
                    <a:lnTo>
                      <a:pt x="798" y="106"/>
                    </a:lnTo>
                    <a:lnTo>
                      <a:pt x="788" y="107"/>
                    </a:lnTo>
                    <a:lnTo>
                      <a:pt x="779" y="108"/>
                    </a:lnTo>
                    <a:lnTo>
                      <a:pt x="770" y="109"/>
                    </a:lnTo>
                    <a:lnTo>
                      <a:pt x="760" y="109"/>
                    </a:lnTo>
                    <a:lnTo>
                      <a:pt x="751" y="108"/>
                    </a:lnTo>
                    <a:lnTo>
                      <a:pt x="742" y="107"/>
                    </a:lnTo>
                    <a:lnTo>
                      <a:pt x="733" y="106"/>
                    </a:lnTo>
                    <a:lnTo>
                      <a:pt x="723" y="105"/>
                    </a:lnTo>
                    <a:lnTo>
                      <a:pt x="714" y="107"/>
                    </a:lnTo>
                    <a:lnTo>
                      <a:pt x="705" y="107"/>
                    </a:lnTo>
                    <a:lnTo>
                      <a:pt x="696" y="107"/>
                    </a:lnTo>
                    <a:lnTo>
                      <a:pt x="686" y="107"/>
                    </a:lnTo>
                    <a:lnTo>
                      <a:pt x="677" y="107"/>
                    </a:lnTo>
                    <a:lnTo>
                      <a:pt x="668" y="109"/>
                    </a:lnTo>
                    <a:lnTo>
                      <a:pt x="658" y="110"/>
                    </a:lnTo>
                    <a:lnTo>
                      <a:pt x="649" y="108"/>
                    </a:lnTo>
                    <a:lnTo>
                      <a:pt x="640" y="109"/>
                    </a:lnTo>
                    <a:lnTo>
                      <a:pt x="631" y="108"/>
                    </a:lnTo>
                    <a:lnTo>
                      <a:pt x="621" y="108"/>
                    </a:lnTo>
                    <a:lnTo>
                      <a:pt x="612" y="108"/>
                    </a:lnTo>
                    <a:lnTo>
                      <a:pt x="603" y="109"/>
                    </a:lnTo>
                    <a:lnTo>
                      <a:pt x="593" y="109"/>
                    </a:lnTo>
                    <a:lnTo>
                      <a:pt x="584" y="108"/>
                    </a:lnTo>
                    <a:lnTo>
                      <a:pt x="575" y="109"/>
                    </a:lnTo>
                    <a:lnTo>
                      <a:pt x="566" y="109"/>
                    </a:lnTo>
                    <a:lnTo>
                      <a:pt x="556" y="110"/>
                    </a:lnTo>
                    <a:lnTo>
                      <a:pt x="547" y="110"/>
                    </a:lnTo>
                    <a:lnTo>
                      <a:pt x="538" y="111"/>
                    </a:lnTo>
                    <a:lnTo>
                      <a:pt x="528" y="110"/>
                    </a:lnTo>
                    <a:lnTo>
                      <a:pt x="519" y="111"/>
                    </a:lnTo>
                    <a:lnTo>
                      <a:pt x="510" y="112"/>
                    </a:lnTo>
                    <a:lnTo>
                      <a:pt x="501" y="112"/>
                    </a:lnTo>
                    <a:lnTo>
                      <a:pt x="491" y="113"/>
                    </a:lnTo>
                    <a:lnTo>
                      <a:pt x="482" y="113"/>
                    </a:lnTo>
                    <a:lnTo>
                      <a:pt x="473" y="113"/>
                    </a:lnTo>
                    <a:lnTo>
                      <a:pt x="464" y="114"/>
                    </a:lnTo>
                    <a:lnTo>
                      <a:pt x="454" y="114"/>
                    </a:lnTo>
                    <a:lnTo>
                      <a:pt x="445" y="115"/>
                    </a:lnTo>
                    <a:lnTo>
                      <a:pt x="436" y="115"/>
                    </a:lnTo>
                    <a:lnTo>
                      <a:pt x="426" y="115"/>
                    </a:lnTo>
                    <a:lnTo>
                      <a:pt x="417" y="115"/>
                    </a:lnTo>
                    <a:lnTo>
                      <a:pt x="408" y="116"/>
                    </a:lnTo>
                    <a:lnTo>
                      <a:pt x="399" y="116"/>
                    </a:lnTo>
                    <a:lnTo>
                      <a:pt x="389" y="116"/>
                    </a:lnTo>
                    <a:lnTo>
                      <a:pt x="380" y="116"/>
                    </a:lnTo>
                    <a:lnTo>
                      <a:pt x="371" y="116"/>
                    </a:lnTo>
                    <a:lnTo>
                      <a:pt x="361" y="116"/>
                    </a:lnTo>
                    <a:lnTo>
                      <a:pt x="352" y="117"/>
                    </a:lnTo>
                    <a:lnTo>
                      <a:pt x="343" y="117"/>
                    </a:lnTo>
                    <a:lnTo>
                      <a:pt x="334" y="117"/>
                    </a:lnTo>
                    <a:lnTo>
                      <a:pt x="324" y="117"/>
                    </a:lnTo>
                    <a:lnTo>
                      <a:pt x="315" y="117"/>
                    </a:lnTo>
                    <a:lnTo>
                      <a:pt x="306" y="117"/>
                    </a:lnTo>
                    <a:lnTo>
                      <a:pt x="296" y="118"/>
                    </a:lnTo>
                    <a:lnTo>
                      <a:pt x="287" y="118"/>
                    </a:lnTo>
                    <a:lnTo>
                      <a:pt x="278" y="118"/>
                    </a:lnTo>
                    <a:lnTo>
                      <a:pt x="269" y="118"/>
                    </a:lnTo>
                    <a:lnTo>
                      <a:pt x="259" y="119"/>
                    </a:lnTo>
                    <a:lnTo>
                      <a:pt x="250" y="119"/>
                    </a:lnTo>
                    <a:lnTo>
                      <a:pt x="241" y="119"/>
                    </a:lnTo>
                    <a:lnTo>
                      <a:pt x="232" y="119"/>
                    </a:lnTo>
                    <a:lnTo>
                      <a:pt x="222" y="119"/>
                    </a:lnTo>
                    <a:lnTo>
                      <a:pt x="213" y="119"/>
                    </a:lnTo>
                    <a:lnTo>
                      <a:pt x="204" y="119"/>
                    </a:lnTo>
                    <a:lnTo>
                      <a:pt x="194" y="119"/>
                    </a:lnTo>
                    <a:lnTo>
                      <a:pt x="185" y="120"/>
                    </a:lnTo>
                    <a:lnTo>
                      <a:pt x="176" y="120"/>
                    </a:lnTo>
                    <a:lnTo>
                      <a:pt x="167" y="120"/>
                    </a:lnTo>
                    <a:lnTo>
                      <a:pt x="157" y="120"/>
                    </a:lnTo>
                    <a:lnTo>
                      <a:pt x="148" y="120"/>
                    </a:lnTo>
                    <a:lnTo>
                      <a:pt x="139" y="120"/>
                    </a:lnTo>
                    <a:lnTo>
                      <a:pt x="129" y="120"/>
                    </a:lnTo>
                    <a:lnTo>
                      <a:pt x="120" y="120"/>
                    </a:lnTo>
                    <a:lnTo>
                      <a:pt x="111" y="121"/>
                    </a:lnTo>
                    <a:lnTo>
                      <a:pt x="102" y="121"/>
                    </a:lnTo>
                    <a:lnTo>
                      <a:pt x="92" y="121"/>
                    </a:lnTo>
                    <a:lnTo>
                      <a:pt x="83" y="121"/>
                    </a:lnTo>
                    <a:lnTo>
                      <a:pt x="74" y="121"/>
                    </a:lnTo>
                    <a:lnTo>
                      <a:pt x="64" y="121"/>
                    </a:lnTo>
                    <a:lnTo>
                      <a:pt x="55" y="121"/>
                    </a:lnTo>
                    <a:lnTo>
                      <a:pt x="46" y="121"/>
                    </a:lnTo>
                    <a:lnTo>
                      <a:pt x="37" y="121"/>
                    </a:lnTo>
                    <a:lnTo>
                      <a:pt x="27" y="122"/>
                    </a:lnTo>
                    <a:lnTo>
                      <a:pt x="18" y="122"/>
                    </a:lnTo>
                    <a:lnTo>
                      <a:pt x="9" y="121"/>
                    </a:lnTo>
                    <a:lnTo>
                      <a:pt x="0" y="122"/>
                    </a:lnTo>
                    <a:close/>
                  </a:path>
                </a:pathLst>
              </a:custGeom>
              <a:noFill/>
              <a:ln w="3175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9" name="Freeform 119"/>
              <p:cNvSpPr/>
              <p:nvPr/>
            </p:nvSpPr>
            <p:spPr>
              <a:xfrm>
                <a:off x="2720520" y="4644000"/>
                <a:ext cx="2310120" cy="141840"/>
              </a:xfrm>
              <a:custGeom>
                <a:avLst/>
                <a:gdLst>
                  <a:gd name="textAreaLeft" fmla="*/ 0 w 2310120"/>
                  <a:gd name="textAreaRight" fmla="*/ 2310480 w 2310120"/>
                  <a:gd name="textAreaTop" fmla="*/ 0 h 141840"/>
                  <a:gd name="textAreaBottom" fmla="*/ 142200 h 141840"/>
                </a:gdLst>
                <a:ahLst/>
                <a:rect l="textAreaLeft" t="textAreaTop" r="textAreaRight" b="textAreaBottom"/>
                <a:pathLst>
                  <a:path w="1447" h="58">
                    <a:moveTo>
                      <a:pt x="0" y="57"/>
                    </a:moveTo>
                    <a:lnTo>
                      <a:pt x="9" y="57"/>
                    </a:lnTo>
                    <a:lnTo>
                      <a:pt x="18" y="57"/>
                    </a:lnTo>
                    <a:lnTo>
                      <a:pt x="27" y="57"/>
                    </a:lnTo>
                    <a:lnTo>
                      <a:pt x="37" y="57"/>
                    </a:lnTo>
                    <a:lnTo>
                      <a:pt x="46" y="56"/>
                    </a:lnTo>
                    <a:lnTo>
                      <a:pt x="55" y="56"/>
                    </a:lnTo>
                    <a:lnTo>
                      <a:pt x="64" y="56"/>
                    </a:lnTo>
                    <a:lnTo>
                      <a:pt x="74" y="56"/>
                    </a:lnTo>
                    <a:lnTo>
                      <a:pt x="83" y="56"/>
                    </a:lnTo>
                    <a:lnTo>
                      <a:pt x="92" y="56"/>
                    </a:lnTo>
                    <a:lnTo>
                      <a:pt x="102" y="56"/>
                    </a:lnTo>
                    <a:lnTo>
                      <a:pt x="111" y="56"/>
                    </a:lnTo>
                    <a:lnTo>
                      <a:pt x="120" y="56"/>
                    </a:lnTo>
                    <a:lnTo>
                      <a:pt x="129" y="55"/>
                    </a:lnTo>
                    <a:lnTo>
                      <a:pt x="139" y="55"/>
                    </a:lnTo>
                    <a:lnTo>
                      <a:pt x="148" y="55"/>
                    </a:lnTo>
                    <a:lnTo>
                      <a:pt x="157" y="55"/>
                    </a:lnTo>
                    <a:lnTo>
                      <a:pt x="167" y="55"/>
                    </a:lnTo>
                    <a:lnTo>
                      <a:pt x="176" y="55"/>
                    </a:lnTo>
                    <a:lnTo>
                      <a:pt x="185" y="55"/>
                    </a:lnTo>
                    <a:lnTo>
                      <a:pt x="194" y="54"/>
                    </a:lnTo>
                    <a:lnTo>
                      <a:pt x="204" y="54"/>
                    </a:lnTo>
                    <a:lnTo>
                      <a:pt x="213" y="54"/>
                    </a:lnTo>
                    <a:lnTo>
                      <a:pt x="222" y="54"/>
                    </a:lnTo>
                    <a:lnTo>
                      <a:pt x="232" y="54"/>
                    </a:lnTo>
                    <a:lnTo>
                      <a:pt x="241" y="54"/>
                    </a:lnTo>
                    <a:lnTo>
                      <a:pt x="250" y="54"/>
                    </a:lnTo>
                    <a:lnTo>
                      <a:pt x="259" y="54"/>
                    </a:lnTo>
                    <a:lnTo>
                      <a:pt x="269" y="54"/>
                    </a:lnTo>
                    <a:lnTo>
                      <a:pt x="278" y="53"/>
                    </a:lnTo>
                    <a:lnTo>
                      <a:pt x="287" y="53"/>
                    </a:lnTo>
                    <a:lnTo>
                      <a:pt x="296" y="53"/>
                    </a:lnTo>
                    <a:lnTo>
                      <a:pt x="306" y="52"/>
                    </a:lnTo>
                    <a:lnTo>
                      <a:pt x="315" y="52"/>
                    </a:lnTo>
                    <a:lnTo>
                      <a:pt x="324" y="52"/>
                    </a:lnTo>
                    <a:lnTo>
                      <a:pt x="334" y="52"/>
                    </a:lnTo>
                    <a:lnTo>
                      <a:pt x="343" y="52"/>
                    </a:lnTo>
                    <a:lnTo>
                      <a:pt x="352" y="52"/>
                    </a:lnTo>
                    <a:lnTo>
                      <a:pt x="361" y="52"/>
                    </a:lnTo>
                    <a:lnTo>
                      <a:pt x="371" y="51"/>
                    </a:lnTo>
                    <a:lnTo>
                      <a:pt x="380" y="51"/>
                    </a:lnTo>
                    <a:lnTo>
                      <a:pt x="389" y="51"/>
                    </a:lnTo>
                    <a:lnTo>
                      <a:pt x="399" y="51"/>
                    </a:lnTo>
                    <a:lnTo>
                      <a:pt x="408" y="51"/>
                    </a:lnTo>
                    <a:lnTo>
                      <a:pt x="417" y="51"/>
                    </a:lnTo>
                    <a:lnTo>
                      <a:pt x="426" y="50"/>
                    </a:lnTo>
                    <a:lnTo>
                      <a:pt x="436" y="50"/>
                    </a:lnTo>
                    <a:lnTo>
                      <a:pt x="445" y="50"/>
                    </a:lnTo>
                    <a:lnTo>
                      <a:pt x="454" y="49"/>
                    </a:lnTo>
                    <a:lnTo>
                      <a:pt x="464" y="49"/>
                    </a:lnTo>
                    <a:lnTo>
                      <a:pt x="473" y="49"/>
                    </a:lnTo>
                    <a:lnTo>
                      <a:pt x="482" y="48"/>
                    </a:lnTo>
                    <a:lnTo>
                      <a:pt x="491" y="48"/>
                    </a:lnTo>
                    <a:lnTo>
                      <a:pt x="501" y="48"/>
                    </a:lnTo>
                    <a:lnTo>
                      <a:pt x="510" y="47"/>
                    </a:lnTo>
                    <a:lnTo>
                      <a:pt x="519" y="46"/>
                    </a:lnTo>
                    <a:lnTo>
                      <a:pt x="528" y="45"/>
                    </a:lnTo>
                    <a:lnTo>
                      <a:pt x="538" y="46"/>
                    </a:lnTo>
                    <a:lnTo>
                      <a:pt x="547" y="45"/>
                    </a:lnTo>
                    <a:lnTo>
                      <a:pt x="556" y="45"/>
                    </a:lnTo>
                    <a:lnTo>
                      <a:pt x="566" y="45"/>
                    </a:lnTo>
                    <a:lnTo>
                      <a:pt x="575" y="44"/>
                    </a:lnTo>
                    <a:lnTo>
                      <a:pt x="584" y="43"/>
                    </a:lnTo>
                    <a:lnTo>
                      <a:pt x="593" y="44"/>
                    </a:lnTo>
                    <a:lnTo>
                      <a:pt x="603" y="44"/>
                    </a:lnTo>
                    <a:lnTo>
                      <a:pt x="612" y="43"/>
                    </a:lnTo>
                    <a:lnTo>
                      <a:pt x="621" y="43"/>
                    </a:lnTo>
                    <a:lnTo>
                      <a:pt x="631" y="43"/>
                    </a:lnTo>
                    <a:lnTo>
                      <a:pt x="640" y="44"/>
                    </a:lnTo>
                    <a:lnTo>
                      <a:pt x="649" y="43"/>
                    </a:lnTo>
                    <a:lnTo>
                      <a:pt x="658" y="45"/>
                    </a:lnTo>
                    <a:lnTo>
                      <a:pt x="668" y="44"/>
                    </a:lnTo>
                    <a:lnTo>
                      <a:pt x="677" y="42"/>
                    </a:lnTo>
                    <a:lnTo>
                      <a:pt x="686" y="43"/>
                    </a:lnTo>
                    <a:lnTo>
                      <a:pt x="696" y="42"/>
                    </a:lnTo>
                    <a:lnTo>
                      <a:pt x="705" y="43"/>
                    </a:lnTo>
                    <a:lnTo>
                      <a:pt x="714" y="42"/>
                    </a:lnTo>
                    <a:lnTo>
                      <a:pt x="723" y="41"/>
                    </a:lnTo>
                    <a:lnTo>
                      <a:pt x="733" y="41"/>
                    </a:lnTo>
                    <a:lnTo>
                      <a:pt x="742" y="42"/>
                    </a:lnTo>
                    <a:lnTo>
                      <a:pt x="751" y="43"/>
                    </a:lnTo>
                    <a:lnTo>
                      <a:pt x="760" y="44"/>
                    </a:lnTo>
                    <a:lnTo>
                      <a:pt x="770" y="44"/>
                    </a:lnTo>
                    <a:lnTo>
                      <a:pt x="779" y="43"/>
                    </a:lnTo>
                    <a:lnTo>
                      <a:pt x="788" y="42"/>
                    </a:lnTo>
                    <a:lnTo>
                      <a:pt x="798" y="41"/>
                    </a:lnTo>
                    <a:lnTo>
                      <a:pt x="807" y="40"/>
                    </a:lnTo>
                    <a:lnTo>
                      <a:pt x="816" y="41"/>
                    </a:lnTo>
                    <a:lnTo>
                      <a:pt x="825" y="40"/>
                    </a:lnTo>
                    <a:lnTo>
                      <a:pt x="835" y="39"/>
                    </a:lnTo>
                    <a:lnTo>
                      <a:pt x="844" y="38"/>
                    </a:lnTo>
                    <a:lnTo>
                      <a:pt x="853" y="38"/>
                    </a:lnTo>
                    <a:lnTo>
                      <a:pt x="863" y="37"/>
                    </a:lnTo>
                    <a:lnTo>
                      <a:pt x="872" y="38"/>
                    </a:lnTo>
                    <a:lnTo>
                      <a:pt x="881" y="41"/>
                    </a:lnTo>
                    <a:lnTo>
                      <a:pt x="890" y="41"/>
                    </a:lnTo>
                    <a:lnTo>
                      <a:pt x="900" y="39"/>
                    </a:lnTo>
                    <a:lnTo>
                      <a:pt x="909" y="38"/>
                    </a:lnTo>
                    <a:lnTo>
                      <a:pt x="918" y="39"/>
                    </a:lnTo>
                    <a:lnTo>
                      <a:pt x="928" y="38"/>
                    </a:lnTo>
                    <a:lnTo>
                      <a:pt x="937" y="37"/>
                    </a:lnTo>
                    <a:lnTo>
                      <a:pt x="946" y="37"/>
                    </a:lnTo>
                    <a:lnTo>
                      <a:pt x="955" y="37"/>
                    </a:lnTo>
                    <a:lnTo>
                      <a:pt x="965" y="37"/>
                    </a:lnTo>
                    <a:lnTo>
                      <a:pt x="974" y="36"/>
                    </a:lnTo>
                    <a:lnTo>
                      <a:pt x="983" y="35"/>
                    </a:lnTo>
                    <a:lnTo>
                      <a:pt x="992" y="34"/>
                    </a:lnTo>
                    <a:lnTo>
                      <a:pt x="1002" y="34"/>
                    </a:lnTo>
                    <a:lnTo>
                      <a:pt x="1011" y="33"/>
                    </a:lnTo>
                    <a:lnTo>
                      <a:pt x="1020" y="32"/>
                    </a:lnTo>
                    <a:lnTo>
                      <a:pt x="1030" y="32"/>
                    </a:lnTo>
                    <a:lnTo>
                      <a:pt x="1039" y="31"/>
                    </a:lnTo>
                    <a:lnTo>
                      <a:pt x="1048" y="30"/>
                    </a:lnTo>
                    <a:lnTo>
                      <a:pt x="1057" y="30"/>
                    </a:lnTo>
                    <a:lnTo>
                      <a:pt x="1067" y="32"/>
                    </a:lnTo>
                    <a:lnTo>
                      <a:pt x="1076" y="32"/>
                    </a:lnTo>
                    <a:lnTo>
                      <a:pt x="1085" y="33"/>
                    </a:lnTo>
                    <a:lnTo>
                      <a:pt x="1095" y="33"/>
                    </a:lnTo>
                    <a:lnTo>
                      <a:pt x="1104" y="33"/>
                    </a:lnTo>
                    <a:lnTo>
                      <a:pt x="1113" y="33"/>
                    </a:lnTo>
                    <a:lnTo>
                      <a:pt x="1122" y="34"/>
                    </a:lnTo>
                    <a:lnTo>
                      <a:pt x="1132" y="34"/>
                    </a:lnTo>
                    <a:lnTo>
                      <a:pt x="1141" y="33"/>
                    </a:lnTo>
                    <a:lnTo>
                      <a:pt x="1150" y="32"/>
                    </a:lnTo>
                    <a:lnTo>
                      <a:pt x="1160" y="32"/>
                    </a:lnTo>
                    <a:lnTo>
                      <a:pt x="1169" y="31"/>
                    </a:lnTo>
                    <a:lnTo>
                      <a:pt x="1178" y="30"/>
                    </a:lnTo>
                    <a:lnTo>
                      <a:pt x="1187" y="28"/>
                    </a:lnTo>
                    <a:lnTo>
                      <a:pt x="1197" y="27"/>
                    </a:lnTo>
                    <a:lnTo>
                      <a:pt x="1206" y="26"/>
                    </a:lnTo>
                    <a:lnTo>
                      <a:pt x="1215" y="26"/>
                    </a:lnTo>
                    <a:lnTo>
                      <a:pt x="1224" y="25"/>
                    </a:lnTo>
                    <a:lnTo>
                      <a:pt x="1234" y="24"/>
                    </a:lnTo>
                    <a:lnTo>
                      <a:pt x="1243" y="23"/>
                    </a:lnTo>
                    <a:lnTo>
                      <a:pt x="1252" y="21"/>
                    </a:lnTo>
                    <a:lnTo>
                      <a:pt x="1262" y="21"/>
                    </a:lnTo>
                    <a:lnTo>
                      <a:pt x="1271" y="19"/>
                    </a:lnTo>
                    <a:lnTo>
                      <a:pt x="1280" y="18"/>
                    </a:lnTo>
                    <a:lnTo>
                      <a:pt x="1289" y="18"/>
                    </a:lnTo>
                    <a:lnTo>
                      <a:pt x="1299" y="17"/>
                    </a:lnTo>
                    <a:lnTo>
                      <a:pt x="1308" y="17"/>
                    </a:lnTo>
                    <a:lnTo>
                      <a:pt x="1317" y="18"/>
                    </a:lnTo>
                    <a:lnTo>
                      <a:pt x="1327" y="18"/>
                    </a:lnTo>
                    <a:lnTo>
                      <a:pt x="1336" y="17"/>
                    </a:lnTo>
                    <a:lnTo>
                      <a:pt x="1345" y="16"/>
                    </a:lnTo>
                    <a:lnTo>
                      <a:pt x="1354" y="15"/>
                    </a:lnTo>
                    <a:lnTo>
                      <a:pt x="1364" y="15"/>
                    </a:lnTo>
                    <a:lnTo>
                      <a:pt x="1373" y="15"/>
                    </a:lnTo>
                    <a:lnTo>
                      <a:pt x="1382" y="15"/>
                    </a:lnTo>
                    <a:lnTo>
                      <a:pt x="1392" y="14"/>
                    </a:lnTo>
                    <a:lnTo>
                      <a:pt x="1401" y="14"/>
                    </a:lnTo>
                    <a:lnTo>
                      <a:pt x="1410" y="12"/>
                    </a:lnTo>
                    <a:lnTo>
                      <a:pt x="1419" y="9"/>
                    </a:lnTo>
                    <a:lnTo>
                      <a:pt x="1429" y="5"/>
                    </a:lnTo>
                    <a:lnTo>
                      <a:pt x="1438" y="3"/>
                    </a:lnTo>
                    <a:lnTo>
                      <a:pt x="1447" y="0"/>
                    </a:lnTo>
                    <a:lnTo>
                      <a:pt x="1447" y="49"/>
                    </a:lnTo>
                    <a:lnTo>
                      <a:pt x="1438" y="50"/>
                    </a:lnTo>
                    <a:lnTo>
                      <a:pt x="1429" y="50"/>
                    </a:lnTo>
                    <a:lnTo>
                      <a:pt x="1419" y="50"/>
                    </a:lnTo>
                    <a:lnTo>
                      <a:pt x="1410" y="51"/>
                    </a:lnTo>
                    <a:lnTo>
                      <a:pt x="1401" y="51"/>
                    </a:lnTo>
                    <a:lnTo>
                      <a:pt x="1392" y="51"/>
                    </a:lnTo>
                    <a:lnTo>
                      <a:pt x="1382" y="51"/>
                    </a:lnTo>
                    <a:lnTo>
                      <a:pt x="1373" y="51"/>
                    </a:lnTo>
                    <a:lnTo>
                      <a:pt x="1364" y="52"/>
                    </a:lnTo>
                    <a:lnTo>
                      <a:pt x="1354" y="52"/>
                    </a:lnTo>
                    <a:lnTo>
                      <a:pt x="1345" y="52"/>
                    </a:lnTo>
                    <a:lnTo>
                      <a:pt x="1336" y="52"/>
                    </a:lnTo>
                    <a:lnTo>
                      <a:pt x="1327" y="52"/>
                    </a:lnTo>
                    <a:lnTo>
                      <a:pt x="1317" y="52"/>
                    </a:lnTo>
                    <a:lnTo>
                      <a:pt x="1308" y="53"/>
                    </a:lnTo>
                    <a:lnTo>
                      <a:pt x="1299" y="53"/>
                    </a:lnTo>
                    <a:lnTo>
                      <a:pt x="1289" y="53"/>
                    </a:lnTo>
                    <a:lnTo>
                      <a:pt x="1280" y="53"/>
                    </a:lnTo>
                    <a:lnTo>
                      <a:pt x="1271" y="53"/>
                    </a:lnTo>
                    <a:lnTo>
                      <a:pt x="1262" y="54"/>
                    </a:lnTo>
                    <a:lnTo>
                      <a:pt x="1252" y="54"/>
                    </a:lnTo>
                    <a:lnTo>
                      <a:pt x="1243" y="54"/>
                    </a:lnTo>
                    <a:lnTo>
                      <a:pt x="1234" y="55"/>
                    </a:lnTo>
                    <a:lnTo>
                      <a:pt x="1224" y="55"/>
                    </a:lnTo>
                    <a:lnTo>
                      <a:pt x="1215" y="55"/>
                    </a:lnTo>
                    <a:lnTo>
                      <a:pt x="1206" y="55"/>
                    </a:lnTo>
                    <a:lnTo>
                      <a:pt x="1197" y="56"/>
                    </a:lnTo>
                    <a:lnTo>
                      <a:pt x="1187" y="56"/>
                    </a:lnTo>
                    <a:lnTo>
                      <a:pt x="1178" y="56"/>
                    </a:lnTo>
                    <a:lnTo>
                      <a:pt x="1169" y="56"/>
                    </a:lnTo>
                    <a:lnTo>
                      <a:pt x="1160" y="57"/>
                    </a:lnTo>
                    <a:lnTo>
                      <a:pt x="1150" y="57"/>
                    </a:lnTo>
                    <a:lnTo>
                      <a:pt x="1141" y="57"/>
                    </a:lnTo>
                    <a:lnTo>
                      <a:pt x="1132" y="57"/>
                    </a:lnTo>
                    <a:lnTo>
                      <a:pt x="1122" y="57"/>
                    </a:lnTo>
                    <a:lnTo>
                      <a:pt x="1113" y="56"/>
                    </a:lnTo>
                    <a:lnTo>
                      <a:pt x="1104" y="56"/>
                    </a:lnTo>
                    <a:lnTo>
                      <a:pt x="1095" y="56"/>
                    </a:lnTo>
                    <a:lnTo>
                      <a:pt x="1085" y="55"/>
                    </a:lnTo>
                    <a:lnTo>
                      <a:pt x="1076" y="55"/>
                    </a:lnTo>
                    <a:lnTo>
                      <a:pt x="1067" y="55"/>
                    </a:lnTo>
                    <a:lnTo>
                      <a:pt x="1057" y="54"/>
                    </a:lnTo>
                    <a:lnTo>
                      <a:pt x="1048" y="54"/>
                    </a:lnTo>
                    <a:lnTo>
                      <a:pt x="1039" y="53"/>
                    </a:lnTo>
                    <a:lnTo>
                      <a:pt x="1030" y="53"/>
                    </a:lnTo>
                    <a:lnTo>
                      <a:pt x="1020" y="53"/>
                    </a:lnTo>
                    <a:lnTo>
                      <a:pt x="1011" y="53"/>
                    </a:lnTo>
                    <a:lnTo>
                      <a:pt x="1002" y="53"/>
                    </a:lnTo>
                    <a:lnTo>
                      <a:pt x="992" y="53"/>
                    </a:lnTo>
                    <a:lnTo>
                      <a:pt x="983" y="53"/>
                    </a:lnTo>
                    <a:lnTo>
                      <a:pt x="974" y="53"/>
                    </a:lnTo>
                    <a:lnTo>
                      <a:pt x="965" y="53"/>
                    </a:lnTo>
                    <a:lnTo>
                      <a:pt x="955" y="53"/>
                    </a:lnTo>
                    <a:lnTo>
                      <a:pt x="946" y="53"/>
                    </a:lnTo>
                    <a:lnTo>
                      <a:pt x="937" y="53"/>
                    </a:lnTo>
                    <a:lnTo>
                      <a:pt x="928" y="53"/>
                    </a:lnTo>
                    <a:lnTo>
                      <a:pt x="918" y="53"/>
                    </a:lnTo>
                    <a:lnTo>
                      <a:pt x="909" y="53"/>
                    </a:lnTo>
                    <a:lnTo>
                      <a:pt x="900" y="53"/>
                    </a:lnTo>
                    <a:lnTo>
                      <a:pt x="890" y="53"/>
                    </a:lnTo>
                    <a:lnTo>
                      <a:pt x="881" y="53"/>
                    </a:lnTo>
                    <a:lnTo>
                      <a:pt x="872" y="53"/>
                    </a:lnTo>
                    <a:lnTo>
                      <a:pt x="863" y="53"/>
                    </a:lnTo>
                    <a:lnTo>
                      <a:pt x="853" y="53"/>
                    </a:lnTo>
                    <a:lnTo>
                      <a:pt x="844" y="53"/>
                    </a:lnTo>
                    <a:lnTo>
                      <a:pt x="835" y="54"/>
                    </a:lnTo>
                    <a:lnTo>
                      <a:pt x="825" y="54"/>
                    </a:lnTo>
                    <a:lnTo>
                      <a:pt x="816" y="54"/>
                    </a:lnTo>
                    <a:lnTo>
                      <a:pt x="807" y="54"/>
                    </a:lnTo>
                    <a:lnTo>
                      <a:pt x="798" y="54"/>
                    </a:lnTo>
                    <a:lnTo>
                      <a:pt x="788" y="54"/>
                    </a:lnTo>
                    <a:lnTo>
                      <a:pt x="779" y="54"/>
                    </a:lnTo>
                    <a:lnTo>
                      <a:pt x="770" y="54"/>
                    </a:lnTo>
                    <a:lnTo>
                      <a:pt x="760" y="54"/>
                    </a:lnTo>
                    <a:lnTo>
                      <a:pt x="751" y="54"/>
                    </a:lnTo>
                    <a:lnTo>
                      <a:pt x="742" y="54"/>
                    </a:lnTo>
                    <a:lnTo>
                      <a:pt x="733" y="54"/>
                    </a:lnTo>
                    <a:lnTo>
                      <a:pt x="723" y="54"/>
                    </a:lnTo>
                    <a:lnTo>
                      <a:pt x="714" y="54"/>
                    </a:lnTo>
                    <a:lnTo>
                      <a:pt x="705" y="54"/>
                    </a:lnTo>
                    <a:lnTo>
                      <a:pt x="696" y="55"/>
                    </a:lnTo>
                    <a:lnTo>
                      <a:pt x="686" y="55"/>
                    </a:lnTo>
                    <a:lnTo>
                      <a:pt x="677" y="55"/>
                    </a:lnTo>
                    <a:lnTo>
                      <a:pt x="668" y="55"/>
                    </a:lnTo>
                    <a:lnTo>
                      <a:pt x="658" y="55"/>
                    </a:lnTo>
                    <a:lnTo>
                      <a:pt x="649" y="55"/>
                    </a:lnTo>
                    <a:lnTo>
                      <a:pt x="640" y="55"/>
                    </a:lnTo>
                    <a:lnTo>
                      <a:pt x="631" y="55"/>
                    </a:lnTo>
                    <a:lnTo>
                      <a:pt x="621" y="55"/>
                    </a:lnTo>
                    <a:lnTo>
                      <a:pt x="612" y="55"/>
                    </a:lnTo>
                    <a:lnTo>
                      <a:pt x="603" y="55"/>
                    </a:lnTo>
                    <a:lnTo>
                      <a:pt x="593" y="55"/>
                    </a:lnTo>
                    <a:lnTo>
                      <a:pt x="584" y="55"/>
                    </a:lnTo>
                    <a:lnTo>
                      <a:pt x="575" y="55"/>
                    </a:lnTo>
                    <a:lnTo>
                      <a:pt x="566" y="55"/>
                    </a:lnTo>
                    <a:lnTo>
                      <a:pt x="556" y="55"/>
                    </a:lnTo>
                    <a:lnTo>
                      <a:pt x="547" y="55"/>
                    </a:lnTo>
                    <a:lnTo>
                      <a:pt x="538" y="55"/>
                    </a:lnTo>
                    <a:lnTo>
                      <a:pt x="528" y="55"/>
                    </a:lnTo>
                    <a:lnTo>
                      <a:pt x="519" y="56"/>
                    </a:lnTo>
                    <a:lnTo>
                      <a:pt x="510" y="56"/>
                    </a:lnTo>
                    <a:lnTo>
                      <a:pt x="501" y="56"/>
                    </a:lnTo>
                    <a:lnTo>
                      <a:pt x="491" y="56"/>
                    </a:lnTo>
                    <a:lnTo>
                      <a:pt x="482" y="56"/>
                    </a:lnTo>
                    <a:lnTo>
                      <a:pt x="473" y="56"/>
                    </a:lnTo>
                    <a:lnTo>
                      <a:pt x="464" y="56"/>
                    </a:lnTo>
                    <a:lnTo>
                      <a:pt x="454" y="56"/>
                    </a:lnTo>
                    <a:lnTo>
                      <a:pt x="445" y="56"/>
                    </a:lnTo>
                    <a:lnTo>
                      <a:pt x="436" y="56"/>
                    </a:lnTo>
                    <a:lnTo>
                      <a:pt x="426" y="56"/>
                    </a:lnTo>
                    <a:lnTo>
                      <a:pt x="417" y="56"/>
                    </a:lnTo>
                    <a:lnTo>
                      <a:pt x="408" y="56"/>
                    </a:lnTo>
                    <a:lnTo>
                      <a:pt x="399" y="56"/>
                    </a:lnTo>
                    <a:lnTo>
                      <a:pt x="389" y="56"/>
                    </a:lnTo>
                    <a:lnTo>
                      <a:pt x="380" y="56"/>
                    </a:lnTo>
                    <a:lnTo>
                      <a:pt x="371" y="56"/>
                    </a:lnTo>
                    <a:lnTo>
                      <a:pt x="361" y="56"/>
                    </a:lnTo>
                    <a:lnTo>
                      <a:pt x="352" y="56"/>
                    </a:lnTo>
                    <a:lnTo>
                      <a:pt x="343" y="56"/>
                    </a:lnTo>
                    <a:lnTo>
                      <a:pt x="334" y="56"/>
                    </a:lnTo>
                    <a:lnTo>
                      <a:pt x="324" y="56"/>
                    </a:lnTo>
                    <a:lnTo>
                      <a:pt x="315" y="56"/>
                    </a:lnTo>
                    <a:lnTo>
                      <a:pt x="306" y="56"/>
                    </a:lnTo>
                    <a:lnTo>
                      <a:pt x="296" y="56"/>
                    </a:lnTo>
                    <a:lnTo>
                      <a:pt x="287" y="56"/>
                    </a:lnTo>
                    <a:lnTo>
                      <a:pt x="278" y="56"/>
                    </a:lnTo>
                    <a:lnTo>
                      <a:pt x="269" y="56"/>
                    </a:lnTo>
                    <a:lnTo>
                      <a:pt x="259" y="56"/>
                    </a:lnTo>
                    <a:lnTo>
                      <a:pt x="250" y="56"/>
                    </a:lnTo>
                    <a:lnTo>
                      <a:pt x="241" y="56"/>
                    </a:lnTo>
                    <a:lnTo>
                      <a:pt x="232" y="56"/>
                    </a:lnTo>
                    <a:lnTo>
                      <a:pt x="222" y="57"/>
                    </a:lnTo>
                    <a:lnTo>
                      <a:pt x="213" y="57"/>
                    </a:lnTo>
                    <a:lnTo>
                      <a:pt x="204" y="57"/>
                    </a:lnTo>
                    <a:lnTo>
                      <a:pt x="194" y="57"/>
                    </a:lnTo>
                    <a:lnTo>
                      <a:pt x="185" y="57"/>
                    </a:lnTo>
                    <a:lnTo>
                      <a:pt x="176" y="57"/>
                    </a:lnTo>
                    <a:lnTo>
                      <a:pt x="167" y="57"/>
                    </a:lnTo>
                    <a:lnTo>
                      <a:pt x="157" y="57"/>
                    </a:lnTo>
                    <a:lnTo>
                      <a:pt x="148" y="57"/>
                    </a:lnTo>
                    <a:lnTo>
                      <a:pt x="139" y="57"/>
                    </a:lnTo>
                    <a:lnTo>
                      <a:pt x="129" y="57"/>
                    </a:lnTo>
                    <a:lnTo>
                      <a:pt x="120" y="57"/>
                    </a:lnTo>
                    <a:lnTo>
                      <a:pt x="111" y="57"/>
                    </a:lnTo>
                    <a:lnTo>
                      <a:pt x="102" y="57"/>
                    </a:lnTo>
                    <a:lnTo>
                      <a:pt x="92" y="57"/>
                    </a:lnTo>
                    <a:lnTo>
                      <a:pt x="83" y="57"/>
                    </a:lnTo>
                    <a:lnTo>
                      <a:pt x="74" y="57"/>
                    </a:lnTo>
                    <a:lnTo>
                      <a:pt x="64" y="57"/>
                    </a:lnTo>
                    <a:lnTo>
                      <a:pt x="55" y="57"/>
                    </a:lnTo>
                    <a:lnTo>
                      <a:pt x="46" y="57"/>
                    </a:lnTo>
                    <a:lnTo>
                      <a:pt x="37" y="57"/>
                    </a:lnTo>
                    <a:lnTo>
                      <a:pt x="27" y="57"/>
                    </a:lnTo>
                    <a:lnTo>
                      <a:pt x="18" y="58"/>
                    </a:lnTo>
                    <a:lnTo>
                      <a:pt x="9" y="57"/>
                    </a:lnTo>
                    <a:lnTo>
                      <a:pt x="0" y="57"/>
                    </a:lnTo>
                    <a:close/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0" name="Freeform 120"/>
              <p:cNvSpPr/>
              <p:nvPr/>
            </p:nvSpPr>
            <p:spPr>
              <a:xfrm>
                <a:off x="2720520" y="4644000"/>
                <a:ext cx="2310120" cy="141840"/>
              </a:xfrm>
              <a:custGeom>
                <a:avLst/>
                <a:gdLst>
                  <a:gd name="textAreaLeft" fmla="*/ 0 w 2310120"/>
                  <a:gd name="textAreaRight" fmla="*/ 2310480 w 2310120"/>
                  <a:gd name="textAreaTop" fmla="*/ 0 h 141840"/>
                  <a:gd name="textAreaBottom" fmla="*/ 142200 h 141840"/>
                </a:gdLst>
                <a:ahLst/>
                <a:rect l="textAreaLeft" t="textAreaTop" r="textAreaRight" b="textAreaBottom"/>
                <a:pathLst>
                  <a:path w="1447" h="58">
                    <a:moveTo>
                      <a:pt x="0" y="57"/>
                    </a:moveTo>
                    <a:lnTo>
                      <a:pt x="9" y="57"/>
                    </a:lnTo>
                    <a:lnTo>
                      <a:pt x="18" y="57"/>
                    </a:lnTo>
                    <a:lnTo>
                      <a:pt x="27" y="57"/>
                    </a:lnTo>
                    <a:lnTo>
                      <a:pt x="37" y="57"/>
                    </a:lnTo>
                    <a:lnTo>
                      <a:pt x="46" y="56"/>
                    </a:lnTo>
                    <a:lnTo>
                      <a:pt x="55" y="56"/>
                    </a:lnTo>
                    <a:lnTo>
                      <a:pt x="64" y="56"/>
                    </a:lnTo>
                    <a:lnTo>
                      <a:pt x="74" y="56"/>
                    </a:lnTo>
                    <a:lnTo>
                      <a:pt x="83" y="56"/>
                    </a:lnTo>
                    <a:lnTo>
                      <a:pt x="92" y="56"/>
                    </a:lnTo>
                    <a:lnTo>
                      <a:pt x="102" y="56"/>
                    </a:lnTo>
                    <a:lnTo>
                      <a:pt x="111" y="56"/>
                    </a:lnTo>
                    <a:lnTo>
                      <a:pt x="120" y="56"/>
                    </a:lnTo>
                    <a:lnTo>
                      <a:pt x="129" y="55"/>
                    </a:lnTo>
                    <a:lnTo>
                      <a:pt x="139" y="55"/>
                    </a:lnTo>
                    <a:lnTo>
                      <a:pt x="148" y="55"/>
                    </a:lnTo>
                    <a:lnTo>
                      <a:pt x="157" y="55"/>
                    </a:lnTo>
                    <a:lnTo>
                      <a:pt x="167" y="55"/>
                    </a:lnTo>
                    <a:lnTo>
                      <a:pt x="176" y="55"/>
                    </a:lnTo>
                    <a:lnTo>
                      <a:pt x="185" y="55"/>
                    </a:lnTo>
                    <a:lnTo>
                      <a:pt x="194" y="54"/>
                    </a:lnTo>
                    <a:lnTo>
                      <a:pt x="204" y="54"/>
                    </a:lnTo>
                    <a:lnTo>
                      <a:pt x="213" y="54"/>
                    </a:lnTo>
                    <a:lnTo>
                      <a:pt x="222" y="54"/>
                    </a:lnTo>
                    <a:lnTo>
                      <a:pt x="232" y="54"/>
                    </a:lnTo>
                    <a:lnTo>
                      <a:pt x="241" y="54"/>
                    </a:lnTo>
                    <a:lnTo>
                      <a:pt x="250" y="54"/>
                    </a:lnTo>
                    <a:lnTo>
                      <a:pt x="259" y="54"/>
                    </a:lnTo>
                    <a:lnTo>
                      <a:pt x="269" y="54"/>
                    </a:lnTo>
                    <a:lnTo>
                      <a:pt x="278" y="53"/>
                    </a:lnTo>
                    <a:lnTo>
                      <a:pt x="287" y="53"/>
                    </a:lnTo>
                    <a:lnTo>
                      <a:pt x="296" y="53"/>
                    </a:lnTo>
                    <a:lnTo>
                      <a:pt x="306" y="52"/>
                    </a:lnTo>
                    <a:lnTo>
                      <a:pt x="315" y="52"/>
                    </a:lnTo>
                    <a:lnTo>
                      <a:pt x="324" y="52"/>
                    </a:lnTo>
                    <a:lnTo>
                      <a:pt x="334" y="52"/>
                    </a:lnTo>
                    <a:lnTo>
                      <a:pt x="343" y="52"/>
                    </a:lnTo>
                    <a:lnTo>
                      <a:pt x="352" y="52"/>
                    </a:lnTo>
                    <a:lnTo>
                      <a:pt x="361" y="52"/>
                    </a:lnTo>
                    <a:lnTo>
                      <a:pt x="371" y="51"/>
                    </a:lnTo>
                    <a:lnTo>
                      <a:pt x="380" y="51"/>
                    </a:lnTo>
                    <a:lnTo>
                      <a:pt x="389" y="51"/>
                    </a:lnTo>
                    <a:lnTo>
                      <a:pt x="399" y="51"/>
                    </a:lnTo>
                    <a:lnTo>
                      <a:pt x="408" y="51"/>
                    </a:lnTo>
                    <a:lnTo>
                      <a:pt x="417" y="51"/>
                    </a:lnTo>
                    <a:lnTo>
                      <a:pt x="426" y="50"/>
                    </a:lnTo>
                    <a:lnTo>
                      <a:pt x="436" y="50"/>
                    </a:lnTo>
                    <a:lnTo>
                      <a:pt x="445" y="50"/>
                    </a:lnTo>
                    <a:lnTo>
                      <a:pt x="454" y="49"/>
                    </a:lnTo>
                    <a:lnTo>
                      <a:pt x="464" y="49"/>
                    </a:lnTo>
                    <a:lnTo>
                      <a:pt x="473" y="49"/>
                    </a:lnTo>
                    <a:lnTo>
                      <a:pt x="482" y="48"/>
                    </a:lnTo>
                    <a:lnTo>
                      <a:pt x="491" y="48"/>
                    </a:lnTo>
                    <a:lnTo>
                      <a:pt x="501" y="48"/>
                    </a:lnTo>
                    <a:lnTo>
                      <a:pt x="510" y="47"/>
                    </a:lnTo>
                    <a:lnTo>
                      <a:pt x="519" y="46"/>
                    </a:lnTo>
                    <a:lnTo>
                      <a:pt x="528" y="45"/>
                    </a:lnTo>
                    <a:lnTo>
                      <a:pt x="538" y="46"/>
                    </a:lnTo>
                    <a:lnTo>
                      <a:pt x="547" y="45"/>
                    </a:lnTo>
                    <a:lnTo>
                      <a:pt x="556" y="45"/>
                    </a:lnTo>
                    <a:lnTo>
                      <a:pt x="566" y="45"/>
                    </a:lnTo>
                    <a:lnTo>
                      <a:pt x="575" y="44"/>
                    </a:lnTo>
                    <a:lnTo>
                      <a:pt x="584" y="43"/>
                    </a:lnTo>
                    <a:lnTo>
                      <a:pt x="593" y="44"/>
                    </a:lnTo>
                    <a:lnTo>
                      <a:pt x="603" y="44"/>
                    </a:lnTo>
                    <a:lnTo>
                      <a:pt x="612" y="43"/>
                    </a:lnTo>
                    <a:lnTo>
                      <a:pt x="621" y="43"/>
                    </a:lnTo>
                    <a:lnTo>
                      <a:pt x="631" y="43"/>
                    </a:lnTo>
                    <a:lnTo>
                      <a:pt x="640" y="44"/>
                    </a:lnTo>
                    <a:lnTo>
                      <a:pt x="649" y="43"/>
                    </a:lnTo>
                    <a:lnTo>
                      <a:pt x="658" y="45"/>
                    </a:lnTo>
                    <a:lnTo>
                      <a:pt x="668" y="44"/>
                    </a:lnTo>
                    <a:lnTo>
                      <a:pt x="677" y="42"/>
                    </a:lnTo>
                    <a:lnTo>
                      <a:pt x="686" y="43"/>
                    </a:lnTo>
                    <a:lnTo>
                      <a:pt x="696" y="42"/>
                    </a:lnTo>
                    <a:lnTo>
                      <a:pt x="705" y="43"/>
                    </a:lnTo>
                    <a:lnTo>
                      <a:pt x="714" y="42"/>
                    </a:lnTo>
                    <a:lnTo>
                      <a:pt x="723" y="41"/>
                    </a:lnTo>
                    <a:lnTo>
                      <a:pt x="733" y="41"/>
                    </a:lnTo>
                    <a:lnTo>
                      <a:pt x="742" y="42"/>
                    </a:lnTo>
                    <a:lnTo>
                      <a:pt x="751" y="43"/>
                    </a:lnTo>
                    <a:lnTo>
                      <a:pt x="760" y="44"/>
                    </a:lnTo>
                    <a:lnTo>
                      <a:pt x="770" y="44"/>
                    </a:lnTo>
                    <a:lnTo>
                      <a:pt x="779" y="43"/>
                    </a:lnTo>
                    <a:lnTo>
                      <a:pt x="788" y="42"/>
                    </a:lnTo>
                    <a:lnTo>
                      <a:pt x="798" y="41"/>
                    </a:lnTo>
                    <a:lnTo>
                      <a:pt x="807" y="40"/>
                    </a:lnTo>
                    <a:lnTo>
                      <a:pt x="816" y="41"/>
                    </a:lnTo>
                    <a:lnTo>
                      <a:pt x="825" y="40"/>
                    </a:lnTo>
                    <a:lnTo>
                      <a:pt x="835" y="39"/>
                    </a:lnTo>
                    <a:lnTo>
                      <a:pt x="844" y="38"/>
                    </a:lnTo>
                    <a:lnTo>
                      <a:pt x="853" y="38"/>
                    </a:lnTo>
                    <a:lnTo>
                      <a:pt x="863" y="37"/>
                    </a:lnTo>
                    <a:lnTo>
                      <a:pt x="872" y="38"/>
                    </a:lnTo>
                    <a:lnTo>
                      <a:pt x="881" y="41"/>
                    </a:lnTo>
                    <a:lnTo>
                      <a:pt x="890" y="41"/>
                    </a:lnTo>
                    <a:lnTo>
                      <a:pt x="900" y="39"/>
                    </a:lnTo>
                    <a:lnTo>
                      <a:pt x="909" y="38"/>
                    </a:lnTo>
                    <a:lnTo>
                      <a:pt x="918" y="39"/>
                    </a:lnTo>
                    <a:lnTo>
                      <a:pt x="928" y="38"/>
                    </a:lnTo>
                    <a:lnTo>
                      <a:pt x="937" y="37"/>
                    </a:lnTo>
                    <a:lnTo>
                      <a:pt x="946" y="37"/>
                    </a:lnTo>
                    <a:lnTo>
                      <a:pt x="955" y="37"/>
                    </a:lnTo>
                    <a:lnTo>
                      <a:pt x="965" y="37"/>
                    </a:lnTo>
                    <a:lnTo>
                      <a:pt x="974" y="36"/>
                    </a:lnTo>
                    <a:lnTo>
                      <a:pt x="983" y="35"/>
                    </a:lnTo>
                    <a:lnTo>
                      <a:pt x="992" y="34"/>
                    </a:lnTo>
                    <a:lnTo>
                      <a:pt x="1002" y="34"/>
                    </a:lnTo>
                    <a:lnTo>
                      <a:pt x="1011" y="33"/>
                    </a:lnTo>
                    <a:lnTo>
                      <a:pt x="1020" y="32"/>
                    </a:lnTo>
                    <a:lnTo>
                      <a:pt x="1030" y="32"/>
                    </a:lnTo>
                    <a:lnTo>
                      <a:pt x="1039" y="31"/>
                    </a:lnTo>
                    <a:lnTo>
                      <a:pt x="1048" y="30"/>
                    </a:lnTo>
                    <a:lnTo>
                      <a:pt x="1057" y="30"/>
                    </a:lnTo>
                    <a:lnTo>
                      <a:pt x="1067" y="32"/>
                    </a:lnTo>
                    <a:lnTo>
                      <a:pt x="1076" y="32"/>
                    </a:lnTo>
                    <a:lnTo>
                      <a:pt x="1085" y="33"/>
                    </a:lnTo>
                    <a:lnTo>
                      <a:pt x="1095" y="33"/>
                    </a:lnTo>
                    <a:lnTo>
                      <a:pt x="1104" y="33"/>
                    </a:lnTo>
                    <a:lnTo>
                      <a:pt x="1113" y="33"/>
                    </a:lnTo>
                    <a:lnTo>
                      <a:pt x="1122" y="34"/>
                    </a:lnTo>
                    <a:lnTo>
                      <a:pt x="1132" y="34"/>
                    </a:lnTo>
                    <a:lnTo>
                      <a:pt x="1141" y="33"/>
                    </a:lnTo>
                    <a:lnTo>
                      <a:pt x="1150" y="32"/>
                    </a:lnTo>
                    <a:lnTo>
                      <a:pt x="1160" y="32"/>
                    </a:lnTo>
                    <a:lnTo>
                      <a:pt x="1169" y="31"/>
                    </a:lnTo>
                    <a:lnTo>
                      <a:pt x="1178" y="30"/>
                    </a:lnTo>
                    <a:lnTo>
                      <a:pt x="1187" y="28"/>
                    </a:lnTo>
                    <a:lnTo>
                      <a:pt x="1197" y="27"/>
                    </a:lnTo>
                    <a:lnTo>
                      <a:pt x="1206" y="26"/>
                    </a:lnTo>
                    <a:lnTo>
                      <a:pt x="1215" y="26"/>
                    </a:lnTo>
                    <a:lnTo>
                      <a:pt x="1224" y="25"/>
                    </a:lnTo>
                    <a:lnTo>
                      <a:pt x="1234" y="24"/>
                    </a:lnTo>
                    <a:lnTo>
                      <a:pt x="1243" y="23"/>
                    </a:lnTo>
                    <a:lnTo>
                      <a:pt x="1252" y="21"/>
                    </a:lnTo>
                    <a:lnTo>
                      <a:pt x="1262" y="21"/>
                    </a:lnTo>
                    <a:lnTo>
                      <a:pt x="1271" y="19"/>
                    </a:lnTo>
                    <a:lnTo>
                      <a:pt x="1280" y="18"/>
                    </a:lnTo>
                    <a:lnTo>
                      <a:pt x="1289" y="18"/>
                    </a:lnTo>
                    <a:lnTo>
                      <a:pt x="1299" y="17"/>
                    </a:lnTo>
                    <a:lnTo>
                      <a:pt x="1308" y="17"/>
                    </a:lnTo>
                    <a:lnTo>
                      <a:pt x="1317" y="18"/>
                    </a:lnTo>
                    <a:lnTo>
                      <a:pt x="1327" y="18"/>
                    </a:lnTo>
                    <a:lnTo>
                      <a:pt x="1336" y="17"/>
                    </a:lnTo>
                    <a:lnTo>
                      <a:pt x="1345" y="16"/>
                    </a:lnTo>
                    <a:lnTo>
                      <a:pt x="1354" y="15"/>
                    </a:lnTo>
                    <a:lnTo>
                      <a:pt x="1364" y="15"/>
                    </a:lnTo>
                    <a:lnTo>
                      <a:pt x="1373" y="15"/>
                    </a:lnTo>
                    <a:lnTo>
                      <a:pt x="1382" y="15"/>
                    </a:lnTo>
                    <a:lnTo>
                      <a:pt x="1392" y="14"/>
                    </a:lnTo>
                    <a:lnTo>
                      <a:pt x="1401" y="14"/>
                    </a:lnTo>
                    <a:lnTo>
                      <a:pt x="1410" y="12"/>
                    </a:lnTo>
                    <a:lnTo>
                      <a:pt x="1419" y="9"/>
                    </a:lnTo>
                    <a:lnTo>
                      <a:pt x="1429" y="5"/>
                    </a:lnTo>
                    <a:lnTo>
                      <a:pt x="1438" y="3"/>
                    </a:lnTo>
                    <a:lnTo>
                      <a:pt x="1447" y="0"/>
                    </a:lnTo>
                    <a:lnTo>
                      <a:pt x="1447" y="49"/>
                    </a:lnTo>
                    <a:lnTo>
                      <a:pt x="1438" y="50"/>
                    </a:lnTo>
                    <a:lnTo>
                      <a:pt x="1429" y="50"/>
                    </a:lnTo>
                    <a:lnTo>
                      <a:pt x="1419" y="50"/>
                    </a:lnTo>
                    <a:lnTo>
                      <a:pt x="1410" y="51"/>
                    </a:lnTo>
                    <a:lnTo>
                      <a:pt x="1401" y="51"/>
                    </a:lnTo>
                    <a:lnTo>
                      <a:pt x="1392" y="51"/>
                    </a:lnTo>
                    <a:lnTo>
                      <a:pt x="1382" y="51"/>
                    </a:lnTo>
                    <a:lnTo>
                      <a:pt x="1373" y="51"/>
                    </a:lnTo>
                    <a:lnTo>
                      <a:pt x="1364" y="52"/>
                    </a:lnTo>
                    <a:lnTo>
                      <a:pt x="1354" y="52"/>
                    </a:lnTo>
                    <a:lnTo>
                      <a:pt x="1345" y="52"/>
                    </a:lnTo>
                    <a:lnTo>
                      <a:pt x="1336" y="52"/>
                    </a:lnTo>
                    <a:lnTo>
                      <a:pt x="1327" y="52"/>
                    </a:lnTo>
                    <a:lnTo>
                      <a:pt x="1317" y="52"/>
                    </a:lnTo>
                    <a:lnTo>
                      <a:pt x="1308" y="53"/>
                    </a:lnTo>
                    <a:lnTo>
                      <a:pt x="1299" y="53"/>
                    </a:lnTo>
                    <a:lnTo>
                      <a:pt x="1289" y="53"/>
                    </a:lnTo>
                    <a:lnTo>
                      <a:pt x="1280" y="53"/>
                    </a:lnTo>
                    <a:lnTo>
                      <a:pt x="1271" y="53"/>
                    </a:lnTo>
                    <a:lnTo>
                      <a:pt x="1262" y="54"/>
                    </a:lnTo>
                    <a:lnTo>
                      <a:pt x="1252" y="54"/>
                    </a:lnTo>
                    <a:lnTo>
                      <a:pt x="1243" y="54"/>
                    </a:lnTo>
                    <a:lnTo>
                      <a:pt x="1234" y="55"/>
                    </a:lnTo>
                    <a:lnTo>
                      <a:pt x="1224" y="55"/>
                    </a:lnTo>
                    <a:lnTo>
                      <a:pt x="1215" y="55"/>
                    </a:lnTo>
                    <a:lnTo>
                      <a:pt x="1206" y="55"/>
                    </a:lnTo>
                    <a:lnTo>
                      <a:pt x="1197" y="56"/>
                    </a:lnTo>
                    <a:lnTo>
                      <a:pt x="1187" y="56"/>
                    </a:lnTo>
                    <a:lnTo>
                      <a:pt x="1178" y="56"/>
                    </a:lnTo>
                    <a:lnTo>
                      <a:pt x="1169" y="56"/>
                    </a:lnTo>
                    <a:lnTo>
                      <a:pt x="1160" y="57"/>
                    </a:lnTo>
                    <a:lnTo>
                      <a:pt x="1150" y="57"/>
                    </a:lnTo>
                    <a:lnTo>
                      <a:pt x="1141" y="57"/>
                    </a:lnTo>
                    <a:lnTo>
                      <a:pt x="1132" y="57"/>
                    </a:lnTo>
                    <a:lnTo>
                      <a:pt x="1122" y="57"/>
                    </a:lnTo>
                    <a:lnTo>
                      <a:pt x="1113" y="56"/>
                    </a:lnTo>
                    <a:lnTo>
                      <a:pt x="1104" y="56"/>
                    </a:lnTo>
                    <a:lnTo>
                      <a:pt x="1095" y="56"/>
                    </a:lnTo>
                    <a:lnTo>
                      <a:pt x="1085" y="55"/>
                    </a:lnTo>
                    <a:lnTo>
                      <a:pt x="1076" y="55"/>
                    </a:lnTo>
                    <a:lnTo>
                      <a:pt x="1067" y="55"/>
                    </a:lnTo>
                    <a:lnTo>
                      <a:pt x="1057" y="54"/>
                    </a:lnTo>
                    <a:lnTo>
                      <a:pt x="1048" y="54"/>
                    </a:lnTo>
                    <a:lnTo>
                      <a:pt x="1039" y="53"/>
                    </a:lnTo>
                    <a:lnTo>
                      <a:pt x="1030" y="53"/>
                    </a:lnTo>
                    <a:lnTo>
                      <a:pt x="1020" y="53"/>
                    </a:lnTo>
                    <a:lnTo>
                      <a:pt x="1011" y="53"/>
                    </a:lnTo>
                    <a:lnTo>
                      <a:pt x="1002" y="53"/>
                    </a:lnTo>
                    <a:lnTo>
                      <a:pt x="992" y="53"/>
                    </a:lnTo>
                    <a:lnTo>
                      <a:pt x="983" y="53"/>
                    </a:lnTo>
                    <a:lnTo>
                      <a:pt x="974" y="53"/>
                    </a:lnTo>
                    <a:lnTo>
                      <a:pt x="965" y="53"/>
                    </a:lnTo>
                    <a:lnTo>
                      <a:pt x="955" y="53"/>
                    </a:lnTo>
                    <a:lnTo>
                      <a:pt x="946" y="53"/>
                    </a:lnTo>
                    <a:lnTo>
                      <a:pt x="937" y="53"/>
                    </a:lnTo>
                    <a:lnTo>
                      <a:pt x="928" y="53"/>
                    </a:lnTo>
                    <a:lnTo>
                      <a:pt x="918" y="53"/>
                    </a:lnTo>
                    <a:lnTo>
                      <a:pt x="909" y="53"/>
                    </a:lnTo>
                    <a:lnTo>
                      <a:pt x="900" y="53"/>
                    </a:lnTo>
                    <a:lnTo>
                      <a:pt x="890" y="53"/>
                    </a:lnTo>
                    <a:lnTo>
                      <a:pt x="881" y="53"/>
                    </a:lnTo>
                    <a:lnTo>
                      <a:pt x="872" y="53"/>
                    </a:lnTo>
                    <a:lnTo>
                      <a:pt x="863" y="53"/>
                    </a:lnTo>
                    <a:lnTo>
                      <a:pt x="853" y="53"/>
                    </a:lnTo>
                    <a:lnTo>
                      <a:pt x="844" y="53"/>
                    </a:lnTo>
                    <a:lnTo>
                      <a:pt x="835" y="54"/>
                    </a:lnTo>
                    <a:lnTo>
                      <a:pt x="825" y="54"/>
                    </a:lnTo>
                    <a:lnTo>
                      <a:pt x="816" y="54"/>
                    </a:lnTo>
                    <a:lnTo>
                      <a:pt x="807" y="54"/>
                    </a:lnTo>
                    <a:lnTo>
                      <a:pt x="798" y="54"/>
                    </a:lnTo>
                    <a:lnTo>
                      <a:pt x="788" y="54"/>
                    </a:lnTo>
                    <a:lnTo>
                      <a:pt x="779" y="54"/>
                    </a:lnTo>
                    <a:lnTo>
                      <a:pt x="770" y="54"/>
                    </a:lnTo>
                    <a:lnTo>
                      <a:pt x="760" y="54"/>
                    </a:lnTo>
                    <a:lnTo>
                      <a:pt x="751" y="54"/>
                    </a:lnTo>
                    <a:lnTo>
                      <a:pt x="742" y="54"/>
                    </a:lnTo>
                    <a:lnTo>
                      <a:pt x="733" y="54"/>
                    </a:lnTo>
                    <a:lnTo>
                      <a:pt x="723" y="54"/>
                    </a:lnTo>
                    <a:lnTo>
                      <a:pt x="714" y="54"/>
                    </a:lnTo>
                    <a:lnTo>
                      <a:pt x="705" y="54"/>
                    </a:lnTo>
                    <a:lnTo>
                      <a:pt x="696" y="55"/>
                    </a:lnTo>
                    <a:lnTo>
                      <a:pt x="686" y="55"/>
                    </a:lnTo>
                    <a:lnTo>
                      <a:pt x="677" y="55"/>
                    </a:lnTo>
                    <a:lnTo>
                      <a:pt x="668" y="55"/>
                    </a:lnTo>
                    <a:lnTo>
                      <a:pt x="658" y="55"/>
                    </a:lnTo>
                    <a:lnTo>
                      <a:pt x="649" y="55"/>
                    </a:lnTo>
                    <a:lnTo>
                      <a:pt x="640" y="55"/>
                    </a:lnTo>
                    <a:lnTo>
                      <a:pt x="631" y="55"/>
                    </a:lnTo>
                    <a:lnTo>
                      <a:pt x="621" y="55"/>
                    </a:lnTo>
                    <a:lnTo>
                      <a:pt x="612" y="55"/>
                    </a:lnTo>
                    <a:lnTo>
                      <a:pt x="603" y="55"/>
                    </a:lnTo>
                    <a:lnTo>
                      <a:pt x="593" y="55"/>
                    </a:lnTo>
                    <a:lnTo>
                      <a:pt x="584" y="55"/>
                    </a:lnTo>
                    <a:lnTo>
                      <a:pt x="575" y="55"/>
                    </a:lnTo>
                    <a:lnTo>
                      <a:pt x="566" y="55"/>
                    </a:lnTo>
                    <a:lnTo>
                      <a:pt x="556" y="55"/>
                    </a:lnTo>
                    <a:lnTo>
                      <a:pt x="547" y="55"/>
                    </a:lnTo>
                    <a:lnTo>
                      <a:pt x="538" y="55"/>
                    </a:lnTo>
                    <a:lnTo>
                      <a:pt x="528" y="55"/>
                    </a:lnTo>
                    <a:lnTo>
                      <a:pt x="519" y="56"/>
                    </a:lnTo>
                    <a:lnTo>
                      <a:pt x="510" y="56"/>
                    </a:lnTo>
                    <a:lnTo>
                      <a:pt x="501" y="56"/>
                    </a:lnTo>
                    <a:lnTo>
                      <a:pt x="491" y="56"/>
                    </a:lnTo>
                    <a:lnTo>
                      <a:pt x="482" y="56"/>
                    </a:lnTo>
                    <a:lnTo>
                      <a:pt x="473" y="56"/>
                    </a:lnTo>
                    <a:lnTo>
                      <a:pt x="464" y="56"/>
                    </a:lnTo>
                    <a:lnTo>
                      <a:pt x="454" y="56"/>
                    </a:lnTo>
                    <a:lnTo>
                      <a:pt x="445" y="56"/>
                    </a:lnTo>
                    <a:lnTo>
                      <a:pt x="436" y="56"/>
                    </a:lnTo>
                    <a:lnTo>
                      <a:pt x="426" y="56"/>
                    </a:lnTo>
                    <a:lnTo>
                      <a:pt x="417" y="56"/>
                    </a:lnTo>
                    <a:lnTo>
                      <a:pt x="408" y="56"/>
                    </a:lnTo>
                    <a:lnTo>
                      <a:pt x="399" y="56"/>
                    </a:lnTo>
                    <a:lnTo>
                      <a:pt x="389" y="56"/>
                    </a:lnTo>
                    <a:lnTo>
                      <a:pt x="380" y="56"/>
                    </a:lnTo>
                    <a:lnTo>
                      <a:pt x="371" y="56"/>
                    </a:lnTo>
                    <a:lnTo>
                      <a:pt x="361" y="56"/>
                    </a:lnTo>
                    <a:lnTo>
                      <a:pt x="352" y="56"/>
                    </a:lnTo>
                    <a:lnTo>
                      <a:pt x="343" y="56"/>
                    </a:lnTo>
                    <a:lnTo>
                      <a:pt x="334" y="56"/>
                    </a:lnTo>
                    <a:lnTo>
                      <a:pt x="324" y="56"/>
                    </a:lnTo>
                    <a:lnTo>
                      <a:pt x="315" y="56"/>
                    </a:lnTo>
                    <a:lnTo>
                      <a:pt x="306" y="56"/>
                    </a:lnTo>
                    <a:lnTo>
                      <a:pt x="296" y="56"/>
                    </a:lnTo>
                    <a:lnTo>
                      <a:pt x="287" y="56"/>
                    </a:lnTo>
                    <a:lnTo>
                      <a:pt x="278" y="56"/>
                    </a:lnTo>
                    <a:lnTo>
                      <a:pt x="269" y="56"/>
                    </a:lnTo>
                    <a:lnTo>
                      <a:pt x="259" y="56"/>
                    </a:lnTo>
                    <a:lnTo>
                      <a:pt x="250" y="56"/>
                    </a:lnTo>
                    <a:lnTo>
                      <a:pt x="241" y="56"/>
                    </a:lnTo>
                    <a:lnTo>
                      <a:pt x="232" y="56"/>
                    </a:lnTo>
                    <a:lnTo>
                      <a:pt x="222" y="57"/>
                    </a:lnTo>
                    <a:lnTo>
                      <a:pt x="213" y="57"/>
                    </a:lnTo>
                    <a:lnTo>
                      <a:pt x="204" y="57"/>
                    </a:lnTo>
                    <a:lnTo>
                      <a:pt x="194" y="57"/>
                    </a:lnTo>
                    <a:lnTo>
                      <a:pt x="185" y="57"/>
                    </a:lnTo>
                    <a:lnTo>
                      <a:pt x="176" y="57"/>
                    </a:lnTo>
                    <a:lnTo>
                      <a:pt x="167" y="57"/>
                    </a:lnTo>
                    <a:lnTo>
                      <a:pt x="157" y="57"/>
                    </a:lnTo>
                    <a:lnTo>
                      <a:pt x="148" y="57"/>
                    </a:lnTo>
                    <a:lnTo>
                      <a:pt x="139" y="57"/>
                    </a:lnTo>
                    <a:lnTo>
                      <a:pt x="129" y="57"/>
                    </a:lnTo>
                    <a:lnTo>
                      <a:pt x="120" y="57"/>
                    </a:lnTo>
                    <a:lnTo>
                      <a:pt x="111" y="57"/>
                    </a:lnTo>
                    <a:lnTo>
                      <a:pt x="102" y="57"/>
                    </a:lnTo>
                    <a:lnTo>
                      <a:pt x="92" y="57"/>
                    </a:lnTo>
                    <a:lnTo>
                      <a:pt x="83" y="57"/>
                    </a:lnTo>
                    <a:lnTo>
                      <a:pt x="74" y="57"/>
                    </a:lnTo>
                    <a:lnTo>
                      <a:pt x="64" y="57"/>
                    </a:lnTo>
                    <a:lnTo>
                      <a:pt x="55" y="57"/>
                    </a:lnTo>
                    <a:lnTo>
                      <a:pt x="46" y="57"/>
                    </a:lnTo>
                    <a:lnTo>
                      <a:pt x="37" y="57"/>
                    </a:lnTo>
                    <a:lnTo>
                      <a:pt x="27" y="57"/>
                    </a:lnTo>
                    <a:lnTo>
                      <a:pt x="18" y="58"/>
                    </a:lnTo>
                    <a:lnTo>
                      <a:pt x="9" y="57"/>
                    </a:lnTo>
                    <a:lnTo>
                      <a:pt x="0" y="57"/>
                    </a:lnTo>
                    <a:close/>
                  </a:path>
                </a:pathLst>
              </a:custGeom>
              <a:noFill/>
              <a:ln w="3175">
                <a:solidFill>
                  <a:srgbClr val="20202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1" name="Freeform 121"/>
              <p:cNvSpPr/>
              <p:nvPr/>
            </p:nvSpPr>
            <p:spPr>
              <a:xfrm>
                <a:off x="2720520" y="4764240"/>
                <a:ext cx="2310120" cy="46440"/>
              </a:xfrm>
              <a:custGeom>
                <a:avLst/>
                <a:gdLst>
                  <a:gd name="textAreaLeft" fmla="*/ 0 w 2310120"/>
                  <a:gd name="textAreaRight" fmla="*/ 2310480 w 2310120"/>
                  <a:gd name="textAreaTop" fmla="*/ 0 h 46440"/>
                  <a:gd name="textAreaBottom" fmla="*/ 46800 h 46440"/>
                </a:gdLst>
                <a:ahLst/>
                <a:rect l="textAreaLeft" t="textAreaTop" r="textAreaRight" b="textAreaBottom"/>
                <a:pathLst>
                  <a:path w="1447" h="18">
                    <a:moveTo>
                      <a:pt x="0" y="8"/>
                    </a:moveTo>
                    <a:lnTo>
                      <a:pt x="9" y="8"/>
                    </a:lnTo>
                    <a:lnTo>
                      <a:pt x="18" y="8"/>
                    </a:lnTo>
                    <a:lnTo>
                      <a:pt x="27" y="8"/>
                    </a:lnTo>
                    <a:lnTo>
                      <a:pt x="37" y="8"/>
                    </a:lnTo>
                    <a:lnTo>
                      <a:pt x="46" y="8"/>
                    </a:lnTo>
                    <a:lnTo>
                      <a:pt x="55" y="8"/>
                    </a:lnTo>
                    <a:lnTo>
                      <a:pt x="64" y="8"/>
                    </a:lnTo>
                    <a:lnTo>
                      <a:pt x="74" y="8"/>
                    </a:lnTo>
                    <a:lnTo>
                      <a:pt x="83" y="8"/>
                    </a:lnTo>
                    <a:lnTo>
                      <a:pt x="92" y="8"/>
                    </a:lnTo>
                    <a:lnTo>
                      <a:pt x="102" y="7"/>
                    </a:lnTo>
                    <a:lnTo>
                      <a:pt x="111" y="7"/>
                    </a:lnTo>
                    <a:lnTo>
                      <a:pt x="120" y="7"/>
                    </a:lnTo>
                    <a:lnTo>
                      <a:pt x="129" y="7"/>
                    </a:lnTo>
                    <a:lnTo>
                      <a:pt x="139" y="7"/>
                    </a:lnTo>
                    <a:lnTo>
                      <a:pt x="148" y="7"/>
                    </a:lnTo>
                    <a:lnTo>
                      <a:pt x="157" y="7"/>
                    </a:lnTo>
                    <a:lnTo>
                      <a:pt x="167" y="7"/>
                    </a:lnTo>
                    <a:lnTo>
                      <a:pt x="176" y="7"/>
                    </a:lnTo>
                    <a:lnTo>
                      <a:pt x="185" y="7"/>
                    </a:lnTo>
                    <a:lnTo>
                      <a:pt x="194" y="7"/>
                    </a:lnTo>
                    <a:lnTo>
                      <a:pt x="204" y="7"/>
                    </a:lnTo>
                    <a:lnTo>
                      <a:pt x="213" y="7"/>
                    </a:lnTo>
                    <a:lnTo>
                      <a:pt x="222" y="7"/>
                    </a:lnTo>
                    <a:lnTo>
                      <a:pt x="232" y="7"/>
                    </a:lnTo>
                    <a:lnTo>
                      <a:pt x="241" y="7"/>
                    </a:lnTo>
                    <a:lnTo>
                      <a:pt x="250" y="7"/>
                    </a:lnTo>
                    <a:lnTo>
                      <a:pt x="259" y="7"/>
                    </a:lnTo>
                    <a:lnTo>
                      <a:pt x="269" y="7"/>
                    </a:lnTo>
                    <a:lnTo>
                      <a:pt x="278" y="7"/>
                    </a:lnTo>
                    <a:lnTo>
                      <a:pt x="287" y="7"/>
                    </a:lnTo>
                    <a:lnTo>
                      <a:pt x="296" y="7"/>
                    </a:lnTo>
                    <a:lnTo>
                      <a:pt x="306" y="7"/>
                    </a:lnTo>
                    <a:lnTo>
                      <a:pt x="315" y="7"/>
                    </a:lnTo>
                    <a:lnTo>
                      <a:pt x="324" y="7"/>
                    </a:lnTo>
                    <a:lnTo>
                      <a:pt x="334" y="7"/>
                    </a:lnTo>
                    <a:lnTo>
                      <a:pt x="343" y="7"/>
                    </a:lnTo>
                    <a:lnTo>
                      <a:pt x="352" y="6"/>
                    </a:lnTo>
                    <a:lnTo>
                      <a:pt x="361" y="6"/>
                    </a:lnTo>
                    <a:lnTo>
                      <a:pt x="371" y="6"/>
                    </a:lnTo>
                    <a:lnTo>
                      <a:pt x="380" y="6"/>
                    </a:lnTo>
                    <a:lnTo>
                      <a:pt x="389" y="6"/>
                    </a:lnTo>
                    <a:lnTo>
                      <a:pt x="399" y="6"/>
                    </a:lnTo>
                    <a:lnTo>
                      <a:pt x="408" y="6"/>
                    </a:lnTo>
                    <a:lnTo>
                      <a:pt x="417" y="6"/>
                    </a:lnTo>
                    <a:lnTo>
                      <a:pt x="426" y="6"/>
                    </a:lnTo>
                    <a:lnTo>
                      <a:pt x="436" y="6"/>
                    </a:lnTo>
                    <a:lnTo>
                      <a:pt x="445" y="6"/>
                    </a:lnTo>
                    <a:lnTo>
                      <a:pt x="454" y="6"/>
                    </a:lnTo>
                    <a:lnTo>
                      <a:pt x="464" y="6"/>
                    </a:lnTo>
                    <a:lnTo>
                      <a:pt x="473" y="6"/>
                    </a:lnTo>
                    <a:lnTo>
                      <a:pt x="482" y="6"/>
                    </a:lnTo>
                    <a:lnTo>
                      <a:pt x="491" y="6"/>
                    </a:lnTo>
                    <a:lnTo>
                      <a:pt x="501" y="6"/>
                    </a:lnTo>
                    <a:lnTo>
                      <a:pt x="510" y="6"/>
                    </a:lnTo>
                    <a:lnTo>
                      <a:pt x="519" y="6"/>
                    </a:lnTo>
                    <a:lnTo>
                      <a:pt x="528" y="6"/>
                    </a:lnTo>
                    <a:lnTo>
                      <a:pt x="538" y="6"/>
                    </a:lnTo>
                    <a:lnTo>
                      <a:pt x="547" y="6"/>
                    </a:lnTo>
                    <a:lnTo>
                      <a:pt x="556" y="6"/>
                    </a:lnTo>
                    <a:lnTo>
                      <a:pt x="566" y="6"/>
                    </a:lnTo>
                    <a:lnTo>
                      <a:pt x="575" y="6"/>
                    </a:lnTo>
                    <a:lnTo>
                      <a:pt x="584" y="6"/>
                    </a:lnTo>
                    <a:lnTo>
                      <a:pt x="593" y="6"/>
                    </a:lnTo>
                    <a:lnTo>
                      <a:pt x="603" y="5"/>
                    </a:lnTo>
                    <a:lnTo>
                      <a:pt x="612" y="5"/>
                    </a:lnTo>
                    <a:lnTo>
                      <a:pt x="621" y="5"/>
                    </a:lnTo>
                    <a:lnTo>
                      <a:pt x="631" y="5"/>
                    </a:lnTo>
                    <a:lnTo>
                      <a:pt x="640" y="5"/>
                    </a:lnTo>
                    <a:lnTo>
                      <a:pt x="649" y="5"/>
                    </a:lnTo>
                    <a:lnTo>
                      <a:pt x="658" y="5"/>
                    </a:lnTo>
                    <a:lnTo>
                      <a:pt x="668" y="5"/>
                    </a:lnTo>
                    <a:lnTo>
                      <a:pt x="677" y="5"/>
                    </a:lnTo>
                    <a:lnTo>
                      <a:pt x="686" y="5"/>
                    </a:lnTo>
                    <a:lnTo>
                      <a:pt x="696" y="5"/>
                    </a:lnTo>
                    <a:lnTo>
                      <a:pt x="705" y="5"/>
                    </a:lnTo>
                    <a:lnTo>
                      <a:pt x="714" y="5"/>
                    </a:lnTo>
                    <a:lnTo>
                      <a:pt x="723" y="5"/>
                    </a:lnTo>
                    <a:lnTo>
                      <a:pt x="733" y="5"/>
                    </a:lnTo>
                    <a:lnTo>
                      <a:pt x="742" y="5"/>
                    </a:lnTo>
                    <a:lnTo>
                      <a:pt x="751" y="5"/>
                    </a:lnTo>
                    <a:lnTo>
                      <a:pt x="760" y="4"/>
                    </a:lnTo>
                    <a:lnTo>
                      <a:pt x="770" y="4"/>
                    </a:lnTo>
                    <a:lnTo>
                      <a:pt x="779" y="4"/>
                    </a:lnTo>
                    <a:lnTo>
                      <a:pt x="788" y="4"/>
                    </a:lnTo>
                    <a:lnTo>
                      <a:pt x="798" y="4"/>
                    </a:lnTo>
                    <a:lnTo>
                      <a:pt x="807" y="4"/>
                    </a:lnTo>
                    <a:lnTo>
                      <a:pt x="816" y="4"/>
                    </a:lnTo>
                    <a:lnTo>
                      <a:pt x="825" y="4"/>
                    </a:lnTo>
                    <a:lnTo>
                      <a:pt x="835" y="4"/>
                    </a:lnTo>
                    <a:lnTo>
                      <a:pt x="844" y="4"/>
                    </a:lnTo>
                    <a:lnTo>
                      <a:pt x="853" y="4"/>
                    </a:lnTo>
                    <a:lnTo>
                      <a:pt x="863" y="4"/>
                    </a:lnTo>
                    <a:lnTo>
                      <a:pt x="872" y="4"/>
                    </a:lnTo>
                    <a:lnTo>
                      <a:pt x="881" y="4"/>
                    </a:lnTo>
                    <a:lnTo>
                      <a:pt x="890" y="3"/>
                    </a:lnTo>
                    <a:lnTo>
                      <a:pt x="900" y="3"/>
                    </a:lnTo>
                    <a:lnTo>
                      <a:pt x="909" y="3"/>
                    </a:lnTo>
                    <a:lnTo>
                      <a:pt x="918" y="3"/>
                    </a:lnTo>
                    <a:lnTo>
                      <a:pt x="928" y="3"/>
                    </a:lnTo>
                    <a:lnTo>
                      <a:pt x="937" y="3"/>
                    </a:lnTo>
                    <a:lnTo>
                      <a:pt x="946" y="3"/>
                    </a:lnTo>
                    <a:lnTo>
                      <a:pt x="955" y="3"/>
                    </a:lnTo>
                    <a:lnTo>
                      <a:pt x="965" y="3"/>
                    </a:lnTo>
                    <a:lnTo>
                      <a:pt x="974" y="3"/>
                    </a:lnTo>
                    <a:lnTo>
                      <a:pt x="983" y="3"/>
                    </a:lnTo>
                    <a:lnTo>
                      <a:pt x="992" y="3"/>
                    </a:lnTo>
                    <a:lnTo>
                      <a:pt x="1002" y="3"/>
                    </a:lnTo>
                    <a:lnTo>
                      <a:pt x="1011" y="3"/>
                    </a:lnTo>
                    <a:lnTo>
                      <a:pt x="1020" y="4"/>
                    </a:lnTo>
                    <a:lnTo>
                      <a:pt x="1030" y="4"/>
                    </a:lnTo>
                    <a:lnTo>
                      <a:pt x="1039" y="4"/>
                    </a:lnTo>
                    <a:lnTo>
                      <a:pt x="1048" y="4"/>
                    </a:lnTo>
                    <a:lnTo>
                      <a:pt x="1057" y="5"/>
                    </a:lnTo>
                    <a:lnTo>
                      <a:pt x="1067" y="5"/>
                    </a:lnTo>
                    <a:lnTo>
                      <a:pt x="1076" y="5"/>
                    </a:lnTo>
                    <a:lnTo>
                      <a:pt x="1085" y="6"/>
                    </a:lnTo>
                    <a:lnTo>
                      <a:pt x="1095" y="6"/>
                    </a:lnTo>
                    <a:lnTo>
                      <a:pt x="1104" y="6"/>
                    </a:lnTo>
                    <a:lnTo>
                      <a:pt x="1113" y="7"/>
                    </a:lnTo>
                    <a:lnTo>
                      <a:pt x="1122" y="8"/>
                    </a:lnTo>
                    <a:lnTo>
                      <a:pt x="1132" y="7"/>
                    </a:lnTo>
                    <a:lnTo>
                      <a:pt x="1141" y="7"/>
                    </a:lnTo>
                    <a:lnTo>
                      <a:pt x="1150" y="7"/>
                    </a:lnTo>
                    <a:lnTo>
                      <a:pt x="1160" y="7"/>
                    </a:lnTo>
                    <a:lnTo>
                      <a:pt x="1169" y="7"/>
                    </a:lnTo>
                    <a:lnTo>
                      <a:pt x="1178" y="6"/>
                    </a:lnTo>
                    <a:lnTo>
                      <a:pt x="1187" y="6"/>
                    </a:lnTo>
                    <a:lnTo>
                      <a:pt x="1197" y="6"/>
                    </a:lnTo>
                    <a:lnTo>
                      <a:pt x="1206" y="6"/>
                    </a:lnTo>
                    <a:lnTo>
                      <a:pt x="1215" y="5"/>
                    </a:lnTo>
                    <a:lnTo>
                      <a:pt x="1224" y="5"/>
                    </a:lnTo>
                    <a:lnTo>
                      <a:pt x="1234" y="5"/>
                    </a:lnTo>
                    <a:lnTo>
                      <a:pt x="1243" y="4"/>
                    </a:lnTo>
                    <a:lnTo>
                      <a:pt x="1252" y="4"/>
                    </a:lnTo>
                    <a:lnTo>
                      <a:pt x="1262" y="4"/>
                    </a:lnTo>
                    <a:lnTo>
                      <a:pt x="1271" y="4"/>
                    </a:lnTo>
                    <a:lnTo>
                      <a:pt x="1280" y="4"/>
                    </a:lnTo>
                    <a:lnTo>
                      <a:pt x="1289" y="3"/>
                    </a:lnTo>
                    <a:lnTo>
                      <a:pt x="1299" y="3"/>
                    </a:lnTo>
                    <a:lnTo>
                      <a:pt x="1308" y="3"/>
                    </a:lnTo>
                    <a:lnTo>
                      <a:pt x="1317" y="3"/>
                    </a:lnTo>
                    <a:lnTo>
                      <a:pt x="1327" y="3"/>
                    </a:lnTo>
                    <a:lnTo>
                      <a:pt x="1336" y="3"/>
                    </a:lnTo>
                    <a:lnTo>
                      <a:pt x="1345" y="2"/>
                    </a:lnTo>
                    <a:lnTo>
                      <a:pt x="1354" y="2"/>
                    </a:lnTo>
                    <a:lnTo>
                      <a:pt x="1364" y="2"/>
                    </a:lnTo>
                    <a:lnTo>
                      <a:pt x="1373" y="2"/>
                    </a:lnTo>
                    <a:lnTo>
                      <a:pt x="1382" y="2"/>
                    </a:lnTo>
                    <a:lnTo>
                      <a:pt x="1392" y="1"/>
                    </a:lnTo>
                    <a:lnTo>
                      <a:pt x="1401" y="1"/>
                    </a:lnTo>
                    <a:lnTo>
                      <a:pt x="1410" y="1"/>
                    </a:lnTo>
                    <a:lnTo>
                      <a:pt x="1419" y="1"/>
                    </a:lnTo>
                    <a:lnTo>
                      <a:pt x="1429" y="0"/>
                    </a:lnTo>
                    <a:lnTo>
                      <a:pt x="1438" y="0"/>
                    </a:lnTo>
                    <a:lnTo>
                      <a:pt x="1447" y="0"/>
                    </a:lnTo>
                    <a:lnTo>
                      <a:pt x="1447" y="18"/>
                    </a:lnTo>
                    <a:lnTo>
                      <a:pt x="1438" y="18"/>
                    </a:lnTo>
                    <a:lnTo>
                      <a:pt x="1429" y="18"/>
                    </a:lnTo>
                    <a:lnTo>
                      <a:pt x="1419" y="18"/>
                    </a:lnTo>
                    <a:lnTo>
                      <a:pt x="1410" y="18"/>
                    </a:lnTo>
                    <a:lnTo>
                      <a:pt x="1401" y="18"/>
                    </a:lnTo>
                    <a:lnTo>
                      <a:pt x="1392" y="18"/>
                    </a:lnTo>
                    <a:lnTo>
                      <a:pt x="1382" y="18"/>
                    </a:lnTo>
                    <a:lnTo>
                      <a:pt x="1373" y="18"/>
                    </a:lnTo>
                    <a:lnTo>
                      <a:pt x="1364" y="18"/>
                    </a:lnTo>
                    <a:lnTo>
                      <a:pt x="1354" y="18"/>
                    </a:lnTo>
                    <a:lnTo>
                      <a:pt x="1345" y="18"/>
                    </a:lnTo>
                    <a:lnTo>
                      <a:pt x="1336" y="18"/>
                    </a:lnTo>
                    <a:lnTo>
                      <a:pt x="1327" y="18"/>
                    </a:lnTo>
                    <a:lnTo>
                      <a:pt x="1317" y="18"/>
                    </a:lnTo>
                    <a:lnTo>
                      <a:pt x="1308" y="18"/>
                    </a:lnTo>
                    <a:lnTo>
                      <a:pt x="1299" y="18"/>
                    </a:lnTo>
                    <a:lnTo>
                      <a:pt x="1289" y="18"/>
                    </a:lnTo>
                    <a:lnTo>
                      <a:pt x="1280" y="18"/>
                    </a:lnTo>
                    <a:lnTo>
                      <a:pt x="1271" y="18"/>
                    </a:lnTo>
                    <a:lnTo>
                      <a:pt x="1262" y="18"/>
                    </a:lnTo>
                    <a:lnTo>
                      <a:pt x="1252" y="18"/>
                    </a:lnTo>
                    <a:lnTo>
                      <a:pt x="1243" y="18"/>
                    </a:lnTo>
                    <a:lnTo>
                      <a:pt x="1234" y="18"/>
                    </a:lnTo>
                    <a:lnTo>
                      <a:pt x="1224" y="18"/>
                    </a:lnTo>
                    <a:lnTo>
                      <a:pt x="1215" y="18"/>
                    </a:lnTo>
                    <a:lnTo>
                      <a:pt x="1206" y="18"/>
                    </a:lnTo>
                    <a:lnTo>
                      <a:pt x="1197" y="18"/>
                    </a:lnTo>
                    <a:lnTo>
                      <a:pt x="1187" y="18"/>
                    </a:lnTo>
                    <a:lnTo>
                      <a:pt x="1178" y="18"/>
                    </a:lnTo>
                    <a:lnTo>
                      <a:pt x="1169" y="18"/>
                    </a:lnTo>
                    <a:lnTo>
                      <a:pt x="1160" y="18"/>
                    </a:lnTo>
                    <a:lnTo>
                      <a:pt x="1150" y="18"/>
                    </a:lnTo>
                    <a:lnTo>
                      <a:pt x="1141" y="18"/>
                    </a:lnTo>
                    <a:lnTo>
                      <a:pt x="1132" y="18"/>
                    </a:lnTo>
                    <a:lnTo>
                      <a:pt x="1122" y="18"/>
                    </a:lnTo>
                    <a:lnTo>
                      <a:pt x="1113" y="18"/>
                    </a:lnTo>
                    <a:lnTo>
                      <a:pt x="1104" y="18"/>
                    </a:lnTo>
                    <a:lnTo>
                      <a:pt x="1095" y="18"/>
                    </a:lnTo>
                    <a:lnTo>
                      <a:pt x="1085" y="18"/>
                    </a:lnTo>
                    <a:lnTo>
                      <a:pt x="1076" y="18"/>
                    </a:lnTo>
                    <a:lnTo>
                      <a:pt x="1067" y="18"/>
                    </a:lnTo>
                    <a:lnTo>
                      <a:pt x="1057" y="18"/>
                    </a:lnTo>
                    <a:lnTo>
                      <a:pt x="1048" y="18"/>
                    </a:lnTo>
                    <a:lnTo>
                      <a:pt x="1039" y="18"/>
                    </a:lnTo>
                    <a:lnTo>
                      <a:pt x="1030" y="18"/>
                    </a:lnTo>
                    <a:lnTo>
                      <a:pt x="1020" y="18"/>
                    </a:lnTo>
                    <a:lnTo>
                      <a:pt x="1011" y="18"/>
                    </a:lnTo>
                    <a:lnTo>
                      <a:pt x="1002" y="18"/>
                    </a:lnTo>
                    <a:lnTo>
                      <a:pt x="992" y="18"/>
                    </a:lnTo>
                    <a:lnTo>
                      <a:pt x="983" y="18"/>
                    </a:lnTo>
                    <a:lnTo>
                      <a:pt x="974" y="18"/>
                    </a:lnTo>
                    <a:lnTo>
                      <a:pt x="965" y="18"/>
                    </a:lnTo>
                    <a:lnTo>
                      <a:pt x="955" y="18"/>
                    </a:lnTo>
                    <a:lnTo>
                      <a:pt x="946" y="18"/>
                    </a:lnTo>
                    <a:lnTo>
                      <a:pt x="937" y="18"/>
                    </a:lnTo>
                    <a:lnTo>
                      <a:pt x="928" y="18"/>
                    </a:lnTo>
                    <a:lnTo>
                      <a:pt x="918" y="18"/>
                    </a:lnTo>
                    <a:lnTo>
                      <a:pt x="909" y="18"/>
                    </a:lnTo>
                    <a:lnTo>
                      <a:pt x="900" y="18"/>
                    </a:lnTo>
                    <a:lnTo>
                      <a:pt x="890" y="18"/>
                    </a:lnTo>
                    <a:lnTo>
                      <a:pt x="881" y="18"/>
                    </a:lnTo>
                    <a:lnTo>
                      <a:pt x="872" y="18"/>
                    </a:lnTo>
                    <a:lnTo>
                      <a:pt x="863" y="18"/>
                    </a:lnTo>
                    <a:lnTo>
                      <a:pt x="853" y="18"/>
                    </a:lnTo>
                    <a:lnTo>
                      <a:pt x="844" y="18"/>
                    </a:lnTo>
                    <a:lnTo>
                      <a:pt x="835" y="18"/>
                    </a:lnTo>
                    <a:lnTo>
                      <a:pt x="825" y="18"/>
                    </a:lnTo>
                    <a:lnTo>
                      <a:pt x="816" y="18"/>
                    </a:lnTo>
                    <a:lnTo>
                      <a:pt x="807" y="18"/>
                    </a:lnTo>
                    <a:lnTo>
                      <a:pt x="798" y="18"/>
                    </a:lnTo>
                    <a:lnTo>
                      <a:pt x="788" y="18"/>
                    </a:lnTo>
                    <a:lnTo>
                      <a:pt x="779" y="18"/>
                    </a:lnTo>
                    <a:lnTo>
                      <a:pt x="770" y="18"/>
                    </a:lnTo>
                    <a:lnTo>
                      <a:pt x="760" y="18"/>
                    </a:lnTo>
                    <a:lnTo>
                      <a:pt x="751" y="18"/>
                    </a:lnTo>
                    <a:lnTo>
                      <a:pt x="742" y="18"/>
                    </a:lnTo>
                    <a:lnTo>
                      <a:pt x="733" y="18"/>
                    </a:lnTo>
                    <a:lnTo>
                      <a:pt x="723" y="18"/>
                    </a:lnTo>
                    <a:lnTo>
                      <a:pt x="714" y="18"/>
                    </a:lnTo>
                    <a:lnTo>
                      <a:pt x="705" y="18"/>
                    </a:lnTo>
                    <a:lnTo>
                      <a:pt x="696" y="18"/>
                    </a:lnTo>
                    <a:lnTo>
                      <a:pt x="686" y="18"/>
                    </a:lnTo>
                    <a:lnTo>
                      <a:pt x="677" y="18"/>
                    </a:lnTo>
                    <a:lnTo>
                      <a:pt x="668" y="18"/>
                    </a:lnTo>
                    <a:lnTo>
                      <a:pt x="658" y="18"/>
                    </a:lnTo>
                    <a:lnTo>
                      <a:pt x="649" y="18"/>
                    </a:lnTo>
                    <a:lnTo>
                      <a:pt x="640" y="18"/>
                    </a:lnTo>
                    <a:lnTo>
                      <a:pt x="631" y="18"/>
                    </a:lnTo>
                    <a:lnTo>
                      <a:pt x="621" y="18"/>
                    </a:lnTo>
                    <a:lnTo>
                      <a:pt x="612" y="18"/>
                    </a:lnTo>
                    <a:lnTo>
                      <a:pt x="603" y="18"/>
                    </a:lnTo>
                    <a:lnTo>
                      <a:pt x="593" y="18"/>
                    </a:lnTo>
                    <a:lnTo>
                      <a:pt x="584" y="18"/>
                    </a:lnTo>
                    <a:lnTo>
                      <a:pt x="575" y="18"/>
                    </a:lnTo>
                    <a:lnTo>
                      <a:pt x="566" y="18"/>
                    </a:lnTo>
                    <a:lnTo>
                      <a:pt x="556" y="18"/>
                    </a:lnTo>
                    <a:lnTo>
                      <a:pt x="547" y="18"/>
                    </a:lnTo>
                    <a:lnTo>
                      <a:pt x="538" y="18"/>
                    </a:lnTo>
                    <a:lnTo>
                      <a:pt x="528" y="18"/>
                    </a:lnTo>
                    <a:lnTo>
                      <a:pt x="519" y="18"/>
                    </a:lnTo>
                    <a:lnTo>
                      <a:pt x="510" y="18"/>
                    </a:lnTo>
                    <a:lnTo>
                      <a:pt x="501" y="18"/>
                    </a:lnTo>
                    <a:lnTo>
                      <a:pt x="491" y="18"/>
                    </a:lnTo>
                    <a:lnTo>
                      <a:pt x="482" y="18"/>
                    </a:lnTo>
                    <a:lnTo>
                      <a:pt x="473" y="18"/>
                    </a:lnTo>
                    <a:lnTo>
                      <a:pt x="464" y="18"/>
                    </a:lnTo>
                    <a:lnTo>
                      <a:pt x="454" y="18"/>
                    </a:lnTo>
                    <a:lnTo>
                      <a:pt x="445" y="18"/>
                    </a:lnTo>
                    <a:lnTo>
                      <a:pt x="436" y="18"/>
                    </a:lnTo>
                    <a:lnTo>
                      <a:pt x="426" y="18"/>
                    </a:lnTo>
                    <a:lnTo>
                      <a:pt x="417" y="18"/>
                    </a:lnTo>
                    <a:lnTo>
                      <a:pt x="408" y="18"/>
                    </a:lnTo>
                    <a:lnTo>
                      <a:pt x="399" y="18"/>
                    </a:lnTo>
                    <a:lnTo>
                      <a:pt x="389" y="18"/>
                    </a:lnTo>
                    <a:lnTo>
                      <a:pt x="380" y="18"/>
                    </a:lnTo>
                    <a:lnTo>
                      <a:pt x="371" y="18"/>
                    </a:lnTo>
                    <a:lnTo>
                      <a:pt x="361" y="18"/>
                    </a:lnTo>
                    <a:lnTo>
                      <a:pt x="352" y="18"/>
                    </a:lnTo>
                    <a:lnTo>
                      <a:pt x="343" y="18"/>
                    </a:lnTo>
                    <a:lnTo>
                      <a:pt x="334" y="18"/>
                    </a:lnTo>
                    <a:lnTo>
                      <a:pt x="324" y="18"/>
                    </a:lnTo>
                    <a:lnTo>
                      <a:pt x="315" y="18"/>
                    </a:lnTo>
                    <a:lnTo>
                      <a:pt x="306" y="18"/>
                    </a:lnTo>
                    <a:lnTo>
                      <a:pt x="296" y="18"/>
                    </a:lnTo>
                    <a:lnTo>
                      <a:pt x="287" y="18"/>
                    </a:lnTo>
                    <a:lnTo>
                      <a:pt x="278" y="18"/>
                    </a:lnTo>
                    <a:lnTo>
                      <a:pt x="269" y="18"/>
                    </a:lnTo>
                    <a:lnTo>
                      <a:pt x="259" y="18"/>
                    </a:lnTo>
                    <a:lnTo>
                      <a:pt x="250" y="18"/>
                    </a:lnTo>
                    <a:lnTo>
                      <a:pt x="241" y="18"/>
                    </a:lnTo>
                    <a:lnTo>
                      <a:pt x="232" y="18"/>
                    </a:lnTo>
                    <a:lnTo>
                      <a:pt x="222" y="18"/>
                    </a:lnTo>
                    <a:lnTo>
                      <a:pt x="213" y="18"/>
                    </a:lnTo>
                    <a:lnTo>
                      <a:pt x="204" y="18"/>
                    </a:lnTo>
                    <a:lnTo>
                      <a:pt x="194" y="18"/>
                    </a:lnTo>
                    <a:lnTo>
                      <a:pt x="185" y="18"/>
                    </a:lnTo>
                    <a:lnTo>
                      <a:pt x="176" y="18"/>
                    </a:lnTo>
                    <a:lnTo>
                      <a:pt x="167" y="18"/>
                    </a:lnTo>
                    <a:lnTo>
                      <a:pt x="157" y="18"/>
                    </a:lnTo>
                    <a:lnTo>
                      <a:pt x="148" y="18"/>
                    </a:lnTo>
                    <a:lnTo>
                      <a:pt x="139" y="18"/>
                    </a:lnTo>
                    <a:lnTo>
                      <a:pt x="129" y="18"/>
                    </a:lnTo>
                    <a:lnTo>
                      <a:pt x="120" y="18"/>
                    </a:lnTo>
                    <a:lnTo>
                      <a:pt x="111" y="18"/>
                    </a:lnTo>
                    <a:lnTo>
                      <a:pt x="102" y="18"/>
                    </a:lnTo>
                    <a:lnTo>
                      <a:pt x="92" y="18"/>
                    </a:lnTo>
                    <a:lnTo>
                      <a:pt x="83" y="18"/>
                    </a:lnTo>
                    <a:lnTo>
                      <a:pt x="74" y="18"/>
                    </a:lnTo>
                    <a:lnTo>
                      <a:pt x="64" y="18"/>
                    </a:lnTo>
                    <a:lnTo>
                      <a:pt x="55" y="18"/>
                    </a:lnTo>
                    <a:lnTo>
                      <a:pt x="46" y="18"/>
                    </a:lnTo>
                    <a:lnTo>
                      <a:pt x="37" y="18"/>
                    </a:lnTo>
                    <a:lnTo>
                      <a:pt x="27" y="18"/>
                    </a:lnTo>
                    <a:lnTo>
                      <a:pt x="18" y="18"/>
                    </a:lnTo>
                    <a:lnTo>
                      <a:pt x="9" y="18"/>
                    </a:lnTo>
                    <a:lnTo>
                      <a:pt x="0" y="18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2" name="Freeform 122"/>
              <p:cNvSpPr/>
              <p:nvPr/>
            </p:nvSpPr>
            <p:spPr>
              <a:xfrm>
                <a:off x="2720520" y="4764240"/>
                <a:ext cx="2310120" cy="46440"/>
              </a:xfrm>
              <a:custGeom>
                <a:avLst/>
                <a:gdLst>
                  <a:gd name="textAreaLeft" fmla="*/ 0 w 2310120"/>
                  <a:gd name="textAreaRight" fmla="*/ 2310480 w 2310120"/>
                  <a:gd name="textAreaTop" fmla="*/ 0 h 46440"/>
                  <a:gd name="textAreaBottom" fmla="*/ 46800 h 46440"/>
                </a:gdLst>
                <a:ahLst/>
                <a:rect l="textAreaLeft" t="textAreaTop" r="textAreaRight" b="textAreaBottom"/>
                <a:pathLst>
                  <a:path w="1447" h="18">
                    <a:moveTo>
                      <a:pt x="0" y="8"/>
                    </a:moveTo>
                    <a:lnTo>
                      <a:pt x="9" y="8"/>
                    </a:lnTo>
                    <a:lnTo>
                      <a:pt x="18" y="8"/>
                    </a:lnTo>
                    <a:lnTo>
                      <a:pt x="27" y="8"/>
                    </a:lnTo>
                    <a:lnTo>
                      <a:pt x="37" y="8"/>
                    </a:lnTo>
                    <a:lnTo>
                      <a:pt x="46" y="8"/>
                    </a:lnTo>
                    <a:lnTo>
                      <a:pt x="55" y="8"/>
                    </a:lnTo>
                    <a:lnTo>
                      <a:pt x="64" y="8"/>
                    </a:lnTo>
                    <a:lnTo>
                      <a:pt x="74" y="8"/>
                    </a:lnTo>
                    <a:lnTo>
                      <a:pt x="83" y="8"/>
                    </a:lnTo>
                    <a:lnTo>
                      <a:pt x="92" y="8"/>
                    </a:lnTo>
                    <a:lnTo>
                      <a:pt x="102" y="7"/>
                    </a:lnTo>
                    <a:lnTo>
                      <a:pt x="111" y="7"/>
                    </a:lnTo>
                    <a:lnTo>
                      <a:pt x="120" y="7"/>
                    </a:lnTo>
                    <a:lnTo>
                      <a:pt x="129" y="7"/>
                    </a:lnTo>
                    <a:lnTo>
                      <a:pt x="139" y="7"/>
                    </a:lnTo>
                    <a:lnTo>
                      <a:pt x="148" y="7"/>
                    </a:lnTo>
                    <a:lnTo>
                      <a:pt x="157" y="7"/>
                    </a:lnTo>
                    <a:lnTo>
                      <a:pt x="167" y="7"/>
                    </a:lnTo>
                    <a:lnTo>
                      <a:pt x="176" y="7"/>
                    </a:lnTo>
                    <a:lnTo>
                      <a:pt x="185" y="7"/>
                    </a:lnTo>
                    <a:lnTo>
                      <a:pt x="194" y="7"/>
                    </a:lnTo>
                    <a:lnTo>
                      <a:pt x="204" y="7"/>
                    </a:lnTo>
                    <a:lnTo>
                      <a:pt x="213" y="7"/>
                    </a:lnTo>
                    <a:lnTo>
                      <a:pt x="222" y="7"/>
                    </a:lnTo>
                    <a:lnTo>
                      <a:pt x="232" y="7"/>
                    </a:lnTo>
                    <a:lnTo>
                      <a:pt x="241" y="7"/>
                    </a:lnTo>
                    <a:lnTo>
                      <a:pt x="250" y="7"/>
                    </a:lnTo>
                    <a:lnTo>
                      <a:pt x="259" y="7"/>
                    </a:lnTo>
                    <a:lnTo>
                      <a:pt x="269" y="7"/>
                    </a:lnTo>
                    <a:lnTo>
                      <a:pt x="278" y="7"/>
                    </a:lnTo>
                    <a:lnTo>
                      <a:pt x="287" y="7"/>
                    </a:lnTo>
                    <a:lnTo>
                      <a:pt x="296" y="7"/>
                    </a:lnTo>
                    <a:lnTo>
                      <a:pt x="306" y="7"/>
                    </a:lnTo>
                    <a:lnTo>
                      <a:pt x="315" y="7"/>
                    </a:lnTo>
                    <a:lnTo>
                      <a:pt x="324" y="7"/>
                    </a:lnTo>
                    <a:lnTo>
                      <a:pt x="334" y="7"/>
                    </a:lnTo>
                    <a:lnTo>
                      <a:pt x="343" y="7"/>
                    </a:lnTo>
                    <a:lnTo>
                      <a:pt x="352" y="6"/>
                    </a:lnTo>
                    <a:lnTo>
                      <a:pt x="361" y="6"/>
                    </a:lnTo>
                    <a:lnTo>
                      <a:pt x="371" y="6"/>
                    </a:lnTo>
                    <a:lnTo>
                      <a:pt x="380" y="6"/>
                    </a:lnTo>
                    <a:lnTo>
                      <a:pt x="389" y="6"/>
                    </a:lnTo>
                    <a:lnTo>
                      <a:pt x="399" y="6"/>
                    </a:lnTo>
                    <a:lnTo>
                      <a:pt x="408" y="6"/>
                    </a:lnTo>
                    <a:lnTo>
                      <a:pt x="417" y="6"/>
                    </a:lnTo>
                    <a:lnTo>
                      <a:pt x="426" y="6"/>
                    </a:lnTo>
                    <a:lnTo>
                      <a:pt x="436" y="6"/>
                    </a:lnTo>
                    <a:lnTo>
                      <a:pt x="445" y="6"/>
                    </a:lnTo>
                    <a:lnTo>
                      <a:pt x="454" y="6"/>
                    </a:lnTo>
                    <a:lnTo>
                      <a:pt x="464" y="6"/>
                    </a:lnTo>
                    <a:lnTo>
                      <a:pt x="473" y="6"/>
                    </a:lnTo>
                    <a:lnTo>
                      <a:pt x="482" y="6"/>
                    </a:lnTo>
                    <a:lnTo>
                      <a:pt x="491" y="6"/>
                    </a:lnTo>
                    <a:lnTo>
                      <a:pt x="501" y="6"/>
                    </a:lnTo>
                    <a:lnTo>
                      <a:pt x="510" y="6"/>
                    </a:lnTo>
                    <a:lnTo>
                      <a:pt x="519" y="6"/>
                    </a:lnTo>
                    <a:lnTo>
                      <a:pt x="528" y="6"/>
                    </a:lnTo>
                    <a:lnTo>
                      <a:pt x="538" y="6"/>
                    </a:lnTo>
                    <a:lnTo>
                      <a:pt x="547" y="6"/>
                    </a:lnTo>
                    <a:lnTo>
                      <a:pt x="556" y="6"/>
                    </a:lnTo>
                    <a:lnTo>
                      <a:pt x="566" y="6"/>
                    </a:lnTo>
                    <a:lnTo>
                      <a:pt x="575" y="6"/>
                    </a:lnTo>
                    <a:lnTo>
                      <a:pt x="584" y="6"/>
                    </a:lnTo>
                    <a:lnTo>
                      <a:pt x="593" y="6"/>
                    </a:lnTo>
                    <a:lnTo>
                      <a:pt x="603" y="5"/>
                    </a:lnTo>
                    <a:lnTo>
                      <a:pt x="612" y="5"/>
                    </a:lnTo>
                    <a:lnTo>
                      <a:pt x="621" y="5"/>
                    </a:lnTo>
                    <a:lnTo>
                      <a:pt x="631" y="5"/>
                    </a:lnTo>
                    <a:lnTo>
                      <a:pt x="640" y="5"/>
                    </a:lnTo>
                    <a:lnTo>
                      <a:pt x="649" y="5"/>
                    </a:lnTo>
                    <a:lnTo>
                      <a:pt x="658" y="5"/>
                    </a:lnTo>
                    <a:lnTo>
                      <a:pt x="668" y="5"/>
                    </a:lnTo>
                    <a:lnTo>
                      <a:pt x="677" y="5"/>
                    </a:lnTo>
                    <a:lnTo>
                      <a:pt x="686" y="5"/>
                    </a:lnTo>
                    <a:lnTo>
                      <a:pt x="696" y="5"/>
                    </a:lnTo>
                    <a:lnTo>
                      <a:pt x="705" y="5"/>
                    </a:lnTo>
                    <a:lnTo>
                      <a:pt x="714" y="5"/>
                    </a:lnTo>
                    <a:lnTo>
                      <a:pt x="723" y="5"/>
                    </a:lnTo>
                    <a:lnTo>
                      <a:pt x="733" y="5"/>
                    </a:lnTo>
                    <a:lnTo>
                      <a:pt x="742" y="5"/>
                    </a:lnTo>
                    <a:lnTo>
                      <a:pt x="751" y="5"/>
                    </a:lnTo>
                    <a:lnTo>
                      <a:pt x="760" y="4"/>
                    </a:lnTo>
                    <a:lnTo>
                      <a:pt x="770" y="4"/>
                    </a:lnTo>
                    <a:lnTo>
                      <a:pt x="779" y="4"/>
                    </a:lnTo>
                    <a:lnTo>
                      <a:pt x="788" y="4"/>
                    </a:lnTo>
                    <a:lnTo>
                      <a:pt x="798" y="4"/>
                    </a:lnTo>
                    <a:lnTo>
                      <a:pt x="807" y="4"/>
                    </a:lnTo>
                    <a:lnTo>
                      <a:pt x="816" y="4"/>
                    </a:lnTo>
                    <a:lnTo>
                      <a:pt x="825" y="4"/>
                    </a:lnTo>
                    <a:lnTo>
                      <a:pt x="835" y="4"/>
                    </a:lnTo>
                    <a:lnTo>
                      <a:pt x="844" y="4"/>
                    </a:lnTo>
                    <a:lnTo>
                      <a:pt x="853" y="4"/>
                    </a:lnTo>
                    <a:lnTo>
                      <a:pt x="863" y="4"/>
                    </a:lnTo>
                    <a:lnTo>
                      <a:pt x="872" y="4"/>
                    </a:lnTo>
                    <a:lnTo>
                      <a:pt x="881" y="4"/>
                    </a:lnTo>
                    <a:lnTo>
                      <a:pt x="890" y="3"/>
                    </a:lnTo>
                    <a:lnTo>
                      <a:pt x="900" y="3"/>
                    </a:lnTo>
                    <a:lnTo>
                      <a:pt x="909" y="3"/>
                    </a:lnTo>
                    <a:lnTo>
                      <a:pt x="918" y="3"/>
                    </a:lnTo>
                    <a:lnTo>
                      <a:pt x="928" y="3"/>
                    </a:lnTo>
                    <a:lnTo>
                      <a:pt x="937" y="3"/>
                    </a:lnTo>
                    <a:lnTo>
                      <a:pt x="946" y="3"/>
                    </a:lnTo>
                    <a:lnTo>
                      <a:pt x="955" y="3"/>
                    </a:lnTo>
                    <a:lnTo>
                      <a:pt x="965" y="3"/>
                    </a:lnTo>
                    <a:lnTo>
                      <a:pt x="974" y="3"/>
                    </a:lnTo>
                    <a:lnTo>
                      <a:pt x="983" y="3"/>
                    </a:lnTo>
                    <a:lnTo>
                      <a:pt x="992" y="3"/>
                    </a:lnTo>
                    <a:lnTo>
                      <a:pt x="1002" y="3"/>
                    </a:lnTo>
                    <a:lnTo>
                      <a:pt x="1011" y="3"/>
                    </a:lnTo>
                    <a:lnTo>
                      <a:pt x="1020" y="4"/>
                    </a:lnTo>
                    <a:lnTo>
                      <a:pt x="1030" y="4"/>
                    </a:lnTo>
                    <a:lnTo>
                      <a:pt x="1039" y="4"/>
                    </a:lnTo>
                    <a:lnTo>
                      <a:pt x="1048" y="4"/>
                    </a:lnTo>
                    <a:lnTo>
                      <a:pt x="1057" y="5"/>
                    </a:lnTo>
                    <a:lnTo>
                      <a:pt x="1067" y="5"/>
                    </a:lnTo>
                    <a:lnTo>
                      <a:pt x="1076" y="5"/>
                    </a:lnTo>
                    <a:lnTo>
                      <a:pt x="1085" y="6"/>
                    </a:lnTo>
                    <a:lnTo>
                      <a:pt x="1095" y="6"/>
                    </a:lnTo>
                    <a:lnTo>
                      <a:pt x="1104" y="6"/>
                    </a:lnTo>
                    <a:lnTo>
                      <a:pt x="1113" y="7"/>
                    </a:lnTo>
                    <a:lnTo>
                      <a:pt x="1122" y="8"/>
                    </a:lnTo>
                    <a:lnTo>
                      <a:pt x="1132" y="7"/>
                    </a:lnTo>
                    <a:lnTo>
                      <a:pt x="1141" y="7"/>
                    </a:lnTo>
                    <a:lnTo>
                      <a:pt x="1150" y="7"/>
                    </a:lnTo>
                    <a:lnTo>
                      <a:pt x="1160" y="7"/>
                    </a:lnTo>
                    <a:lnTo>
                      <a:pt x="1169" y="7"/>
                    </a:lnTo>
                    <a:lnTo>
                      <a:pt x="1178" y="6"/>
                    </a:lnTo>
                    <a:lnTo>
                      <a:pt x="1187" y="6"/>
                    </a:lnTo>
                    <a:lnTo>
                      <a:pt x="1197" y="6"/>
                    </a:lnTo>
                    <a:lnTo>
                      <a:pt x="1206" y="6"/>
                    </a:lnTo>
                    <a:lnTo>
                      <a:pt x="1215" y="5"/>
                    </a:lnTo>
                    <a:lnTo>
                      <a:pt x="1224" y="5"/>
                    </a:lnTo>
                    <a:lnTo>
                      <a:pt x="1234" y="5"/>
                    </a:lnTo>
                    <a:lnTo>
                      <a:pt x="1243" y="4"/>
                    </a:lnTo>
                    <a:lnTo>
                      <a:pt x="1252" y="4"/>
                    </a:lnTo>
                    <a:lnTo>
                      <a:pt x="1262" y="4"/>
                    </a:lnTo>
                    <a:lnTo>
                      <a:pt x="1271" y="4"/>
                    </a:lnTo>
                    <a:lnTo>
                      <a:pt x="1280" y="4"/>
                    </a:lnTo>
                    <a:lnTo>
                      <a:pt x="1289" y="3"/>
                    </a:lnTo>
                    <a:lnTo>
                      <a:pt x="1299" y="3"/>
                    </a:lnTo>
                    <a:lnTo>
                      <a:pt x="1308" y="3"/>
                    </a:lnTo>
                    <a:lnTo>
                      <a:pt x="1317" y="3"/>
                    </a:lnTo>
                    <a:lnTo>
                      <a:pt x="1327" y="3"/>
                    </a:lnTo>
                    <a:lnTo>
                      <a:pt x="1336" y="3"/>
                    </a:lnTo>
                    <a:lnTo>
                      <a:pt x="1345" y="2"/>
                    </a:lnTo>
                    <a:lnTo>
                      <a:pt x="1354" y="2"/>
                    </a:lnTo>
                    <a:lnTo>
                      <a:pt x="1364" y="2"/>
                    </a:lnTo>
                    <a:lnTo>
                      <a:pt x="1373" y="2"/>
                    </a:lnTo>
                    <a:lnTo>
                      <a:pt x="1382" y="2"/>
                    </a:lnTo>
                    <a:lnTo>
                      <a:pt x="1392" y="1"/>
                    </a:lnTo>
                    <a:lnTo>
                      <a:pt x="1401" y="1"/>
                    </a:lnTo>
                    <a:lnTo>
                      <a:pt x="1410" y="1"/>
                    </a:lnTo>
                    <a:lnTo>
                      <a:pt x="1419" y="1"/>
                    </a:lnTo>
                    <a:lnTo>
                      <a:pt x="1429" y="0"/>
                    </a:lnTo>
                    <a:lnTo>
                      <a:pt x="1438" y="0"/>
                    </a:lnTo>
                    <a:lnTo>
                      <a:pt x="1447" y="0"/>
                    </a:lnTo>
                    <a:lnTo>
                      <a:pt x="1447" y="18"/>
                    </a:lnTo>
                    <a:lnTo>
                      <a:pt x="1438" y="18"/>
                    </a:lnTo>
                    <a:lnTo>
                      <a:pt x="1429" y="18"/>
                    </a:lnTo>
                    <a:lnTo>
                      <a:pt x="1419" y="18"/>
                    </a:lnTo>
                    <a:lnTo>
                      <a:pt x="1410" y="18"/>
                    </a:lnTo>
                    <a:lnTo>
                      <a:pt x="1401" y="18"/>
                    </a:lnTo>
                    <a:lnTo>
                      <a:pt x="1392" y="18"/>
                    </a:lnTo>
                    <a:lnTo>
                      <a:pt x="1382" y="18"/>
                    </a:lnTo>
                    <a:lnTo>
                      <a:pt x="1373" y="18"/>
                    </a:lnTo>
                    <a:lnTo>
                      <a:pt x="1364" y="18"/>
                    </a:lnTo>
                    <a:lnTo>
                      <a:pt x="1354" y="18"/>
                    </a:lnTo>
                    <a:lnTo>
                      <a:pt x="1345" y="18"/>
                    </a:lnTo>
                    <a:lnTo>
                      <a:pt x="1336" y="18"/>
                    </a:lnTo>
                    <a:lnTo>
                      <a:pt x="1327" y="18"/>
                    </a:lnTo>
                    <a:lnTo>
                      <a:pt x="1317" y="18"/>
                    </a:lnTo>
                    <a:lnTo>
                      <a:pt x="1308" y="18"/>
                    </a:lnTo>
                    <a:lnTo>
                      <a:pt x="1299" y="18"/>
                    </a:lnTo>
                    <a:lnTo>
                      <a:pt x="1289" y="18"/>
                    </a:lnTo>
                    <a:lnTo>
                      <a:pt x="1280" y="18"/>
                    </a:lnTo>
                    <a:lnTo>
                      <a:pt x="1271" y="18"/>
                    </a:lnTo>
                    <a:lnTo>
                      <a:pt x="1262" y="18"/>
                    </a:lnTo>
                    <a:lnTo>
                      <a:pt x="1252" y="18"/>
                    </a:lnTo>
                    <a:lnTo>
                      <a:pt x="1243" y="18"/>
                    </a:lnTo>
                    <a:lnTo>
                      <a:pt x="1234" y="18"/>
                    </a:lnTo>
                    <a:lnTo>
                      <a:pt x="1224" y="18"/>
                    </a:lnTo>
                    <a:lnTo>
                      <a:pt x="1215" y="18"/>
                    </a:lnTo>
                    <a:lnTo>
                      <a:pt x="1206" y="18"/>
                    </a:lnTo>
                    <a:lnTo>
                      <a:pt x="1197" y="18"/>
                    </a:lnTo>
                    <a:lnTo>
                      <a:pt x="1187" y="18"/>
                    </a:lnTo>
                    <a:lnTo>
                      <a:pt x="1178" y="18"/>
                    </a:lnTo>
                    <a:lnTo>
                      <a:pt x="1169" y="18"/>
                    </a:lnTo>
                    <a:lnTo>
                      <a:pt x="1160" y="18"/>
                    </a:lnTo>
                    <a:lnTo>
                      <a:pt x="1150" y="18"/>
                    </a:lnTo>
                    <a:lnTo>
                      <a:pt x="1141" y="18"/>
                    </a:lnTo>
                    <a:lnTo>
                      <a:pt x="1132" y="18"/>
                    </a:lnTo>
                    <a:lnTo>
                      <a:pt x="1122" y="18"/>
                    </a:lnTo>
                    <a:lnTo>
                      <a:pt x="1113" y="18"/>
                    </a:lnTo>
                    <a:lnTo>
                      <a:pt x="1104" y="18"/>
                    </a:lnTo>
                    <a:lnTo>
                      <a:pt x="1095" y="18"/>
                    </a:lnTo>
                    <a:lnTo>
                      <a:pt x="1085" y="18"/>
                    </a:lnTo>
                    <a:lnTo>
                      <a:pt x="1076" y="18"/>
                    </a:lnTo>
                    <a:lnTo>
                      <a:pt x="1067" y="18"/>
                    </a:lnTo>
                    <a:lnTo>
                      <a:pt x="1057" y="18"/>
                    </a:lnTo>
                    <a:lnTo>
                      <a:pt x="1048" y="18"/>
                    </a:lnTo>
                    <a:lnTo>
                      <a:pt x="1039" y="18"/>
                    </a:lnTo>
                    <a:lnTo>
                      <a:pt x="1030" y="18"/>
                    </a:lnTo>
                    <a:lnTo>
                      <a:pt x="1020" y="18"/>
                    </a:lnTo>
                    <a:lnTo>
                      <a:pt x="1011" y="18"/>
                    </a:lnTo>
                    <a:lnTo>
                      <a:pt x="1002" y="18"/>
                    </a:lnTo>
                    <a:lnTo>
                      <a:pt x="992" y="18"/>
                    </a:lnTo>
                    <a:lnTo>
                      <a:pt x="983" y="18"/>
                    </a:lnTo>
                    <a:lnTo>
                      <a:pt x="974" y="18"/>
                    </a:lnTo>
                    <a:lnTo>
                      <a:pt x="965" y="18"/>
                    </a:lnTo>
                    <a:lnTo>
                      <a:pt x="955" y="18"/>
                    </a:lnTo>
                    <a:lnTo>
                      <a:pt x="946" y="18"/>
                    </a:lnTo>
                    <a:lnTo>
                      <a:pt x="937" y="18"/>
                    </a:lnTo>
                    <a:lnTo>
                      <a:pt x="928" y="18"/>
                    </a:lnTo>
                    <a:lnTo>
                      <a:pt x="918" y="18"/>
                    </a:lnTo>
                    <a:lnTo>
                      <a:pt x="909" y="18"/>
                    </a:lnTo>
                    <a:lnTo>
                      <a:pt x="900" y="18"/>
                    </a:lnTo>
                    <a:lnTo>
                      <a:pt x="890" y="18"/>
                    </a:lnTo>
                    <a:lnTo>
                      <a:pt x="881" y="18"/>
                    </a:lnTo>
                    <a:lnTo>
                      <a:pt x="872" y="18"/>
                    </a:lnTo>
                    <a:lnTo>
                      <a:pt x="863" y="18"/>
                    </a:lnTo>
                    <a:lnTo>
                      <a:pt x="853" y="18"/>
                    </a:lnTo>
                    <a:lnTo>
                      <a:pt x="844" y="18"/>
                    </a:lnTo>
                    <a:lnTo>
                      <a:pt x="835" y="18"/>
                    </a:lnTo>
                    <a:lnTo>
                      <a:pt x="825" y="18"/>
                    </a:lnTo>
                    <a:lnTo>
                      <a:pt x="816" y="18"/>
                    </a:lnTo>
                    <a:lnTo>
                      <a:pt x="807" y="18"/>
                    </a:lnTo>
                    <a:lnTo>
                      <a:pt x="798" y="18"/>
                    </a:lnTo>
                    <a:lnTo>
                      <a:pt x="788" y="18"/>
                    </a:lnTo>
                    <a:lnTo>
                      <a:pt x="779" y="18"/>
                    </a:lnTo>
                    <a:lnTo>
                      <a:pt x="770" y="18"/>
                    </a:lnTo>
                    <a:lnTo>
                      <a:pt x="760" y="18"/>
                    </a:lnTo>
                    <a:lnTo>
                      <a:pt x="751" y="18"/>
                    </a:lnTo>
                    <a:lnTo>
                      <a:pt x="742" y="18"/>
                    </a:lnTo>
                    <a:lnTo>
                      <a:pt x="733" y="18"/>
                    </a:lnTo>
                    <a:lnTo>
                      <a:pt x="723" y="18"/>
                    </a:lnTo>
                    <a:lnTo>
                      <a:pt x="714" y="18"/>
                    </a:lnTo>
                    <a:lnTo>
                      <a:pt x="705" y="18"/>
                    </a:lnTo>
                    <a:lnTo>
                      <a:pt x="696" y="18"/>
                    </a:lnTo>
                    <a:lnTo>
                      <a:pt x="686" y="18"/>
                    </a:lnTo>
                    <a:lnTo>
                      <a:pt x="677" y="18"/>
                    </a:lnTo>
                    <a:lnTo>
                      <a:pt x="668" y="18"/>
                    </a:lnTo>
                    <a:lnTo>
                      <a:pt x="658" y="18"/>
                    </a:lnTo>
                    <a:lnTo>
                      <a:pt x="649" y="18"/>
                    </a:lnTo>
                    <a:lnTo>
                      <a:pt x="640" y="18"/>
                    </a:lnTo>
                    <a:lnTo>
                      <a:pt x="631" y="18"/>
                    </a:lnTo>
                    <a:lnTo>
                      <a:pt x="621" y="18"/>
                    </a:lnTo>
                    <a:lnTo>
                      <a:pt x="612" y="18"/>
                    </a:lnTo>
                    <a:lnTo>
                      <a:pt x="603" y="18"/>
                    </a:lnTo>
                    <a:lnTo>
                      <a:pt x="593" y="18"/>
                    </a:lnTo>
                    <a:lnTo>
                      <a:pt x="584" y="18"/>
                    </a:lnTo>
                    <a:lnTo>
                      <a:pt x="575" y="18"/>
                    </a:lnTo>
                    <a:lnTo>
                      <a:pt x="566" y="18"/>
                    </a:lnTo>
                    <a:lnTo>
                      <a:pt x="556" y="18"/>
                    </a:lnTo>
                    <a:lnTo>
                      <a:pt x="547" y="18"/>
                    </a:lnTo>
                    <a:lnTo>
                      <a:pt x="538" y="18"/>
                    </a:lnTo>
                    <a:lnTo>
                      <a:pt x="528" y="18"/>
                    </a:lnTo>
                    <a:lnTo>
                      <a:pt x="519" y="18"/>
                    </a:lnTo>
                    <a:lnTo>
                      <a:pt x="510" y="18"/>
                    </a:lnTo>
                    <a:lnTo>
                      <a:pt x="501" y="18"/>
                    </a:lnTo>
                    <a:lnTo>
                      <a:pt x="491" y="18"/>
                    </a:lnTo>
                    <a:lnTo>
                      <a:pt x="482" y="18"/>
                    </a:lnTo>
                    <a:lnTo>
                      <a:pt x="473" y="18"/>
                    </a:lnTo>
                    <a:lnTo>
                      <a:pt x="464" y="18"/>
                    </a:lnTo>
                    <a:lnTo>
                      <a:pt x="454" y="18"/>
                    </a:lnTo>
                    <a:lnTo>
                      <a:pt x="445" y="18"/>
                    </a:lnTo>
                    <a:lnTo>
                      <a:pt x="436" y="18"/>
                    </a:lnTo>
                    <a:lnTo>
                      <a:pt x="426" y="18"/>
                    </a:lnTo>
                    <a:lnTo>
                      <a:pt x="417" y="18"/>
                    </a:lnTo>
                    <a:lnTo>
                      <a:pt x="408" y="18"/>
                    </a:lnTo>
                    <a:lnTo>
                      <a:pt x="399" y="18"/>
                    </a:lnTo>
                    <a:lnTo>
                      <a:pt x="389" y="18"/>
                    </a:lnTo>
                    <a:lnTo>
                      <a:pt x="380" y="18"/>
                    </a:lnTo>
                    <a:lnTo>
                      <a:pt x="371" y="18"/>
                    </a:lnTo>
                    <a:lnTo>
                      <a:pt x="361" y="18"/>
                    </a:lnTo>
                    <a:lnTo>
                      <a:pt x="352" y="18"/>
                    </a:lnTo>
                    <a:lnTo>
                      <a:pt x="343" y="18"/>
                    </a:lnTo>
                    <a:lnTo>
                      <a:pt x="334" y="18"/>
                    </a:lnTo>
                    <a:lnTo>
                      <a:pt x="324" y="18"/>
                    </a:lnTo>
                    <a:lnTo>
                      <a:pt x="315" y="18"/>
                    </a:lnTo>
                    <a:lnTo>
                      <a:pt x="306" y="18"/>
                    </a:lnTo>
                    <a:lnTo>
                      <a:pt x="296" y="18"/>
                    </a:lnTo>
                    <a:lnTo>
                      <a:pt x="287" y="18"/>
                    </a:lnTo>
                    <a:lnTo>
                      <a:pt x="278" y="18"/>
                    </a:lnTo>
                    <a:lnTo>
                      <a:pt x="269" y="18"/>
                    </a:lnTo>
                    <a:lnTo>
                      <a:pt x="259" y="18"/>
                    </a:lnTo>
                    <a:lnTo>
                      <a:pt x="250" y="18"/>
                    </a:lnTo>
                    <a:lnTo>
                      <a:pt x="241" y="18"/>
                    </a:lnTo>
                    <a:lnTo>
                      <a:pt x="232" y="18"/>
                    </a:lnTo>
                    <a:lnTo>
                      <a:pt x="222" y="18"/>
                    </a:lnTo>
                    <a:lnTo>
                      <a:pt x="213" y="18"/>
                    </a:lnTo>
                    <a:lnTo>
                      <a:pt x="204" y="18"/>
                    </a:lnTo>
                    <a:lnTo>
                      <a:pt x="194" y="18"/>
                    </a:lnTo>
                    <a:lnTo>
                      <a:pt x="185" y="18"/>
                    </a:lnTo>
                    <a:lnTo>
                      <a:pt x="176" y="18"/>
                    </a:lnTo>
                    <a:lnTo>
                      <a:pt x="167" y="18"/>
                    </a:lnTo>
                    <a:lnTo>
                      <a:pt x="157" y="18"/>
                    </a:lnTo>
                    <a:lnTo>
                      <a:pt x="148" y="18"/>
                    </a:lnTo>
                    <a:lnTo>
                      <a:pt x="139" y="18"/>
                    </a:lnTo>
                    <a:lnTo>
                      <a:pt x="129" y="18"/>
                    </a:lnTo>
                    <a:lnTo>
                      <a:pt x="120" y="18"/>
                    </a:lnTo>
                    <a:lnTo>
                      <a:pt x="111" y="18"/>
                    </a:lnTo>
                    <a:lnTo>
                      <a:pt x="102" y="18"/>
                    </a:lnTo>
                    <a:lnTo>
                      <a:pt x="92" y="18"/>
                    </a:lnTo>
                    <a:lnTo>
                      <a:pt x="83" y="18"/>
                    </a:lnTo>
                    <a:lnTo>
                      <a:pt x="74" y="18"/>
                    </a:lnTo>
                    <a:lnTo>
                      <a:pt x="64" y="18"/>
                    </a:lnTo>
                    <a:lnTo>
                      <a:pt x="55" y="18"/>
                    </a:lnTo>
                    <a:lnTo>
                      <a:pt x="46" y="18"/>
                    </a:lnTo>
                    <a:lnTo>
                      <a:pt x="37" y="18"/>
                    </a:lnTo>
                    <a:lnTo>
                      <a:pt x="27" y="18"/>
                    </a:lnTo>
                    <a:lnTo>
                      <a:pt x="18" y="18"/>
                    </a:lnTo>
                    <a:lnTo>
                      <a:pt x="9" y="18"/>
                    </a:lnTo>
                    <a:lnTo>
                      <a:pt x="0" y="18"/>
                    </a:lnTo>
                    <a:lnTo>
                      <a:pt x="0" y="8"/>
                    </a:lnTo>
                    <a:close/>
                  </a:path>
                </a:pathLst>
              </a:custGeom>
              <a:noFill/>
              <a:ln w="3175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3" name="Freeform 123"/>
              <p:cNvSpPr/>
              <p:nvPr/>
            </p:nvSpPr>
            <p:spPr>
              <a:xfrm>
                <a:off x="2771280" y="2533680"/>
                <a:ext cx="1059840" cy="1138320"/>
              </a:xfrm>
              <a:custGeom>
                <a:avLst/>
                <a:gdLst>
                  <a:gd name="textAreaLeft" fmla="*/ 0 w 1059840"/>
                  <a:gd name="textAreaRight" fmla="*/ 1060200 w 1059840"/>
                  <a:gd name="textAreaTop" fmla="*/ 0 h 1138320"/>
                  <a:gd name="textAreaBottom" fmla="*/ 1138680 h 1138320"/>
                </a:gdLst>
                <a:ahLst/>
                <a:rect l="textAreaLeft" t="textAreaTop" r="textAreaRight" b="textAreaBottom"/>
                <a:pathLst>
                  <a:path w="664" h="464">
                    <a:moveTo>
                      <a:pt x="0" y="4"/>
                    </a:moveTo>
                    <a:lnTo>
                      <a:pt x="0" y="460"/>
                    </a:lnTo>
                    <a:cubicBezTo>
                      <a:pt x="0" y="462"/>
                      <a:pt x="1" y="464"/>
                      <a:pt x="4" y="464"/>
                    </a:cubicBezTo>
                    <a:lnTo>
                      <a:pt x="660" y="464"/>
                    </a:lnTo>
                    <a:cubicBezTo>
                      <a:pt x="662" y="464"/>
                      <a:pt x="664" y="462"/>
                      <a:pt x="664" y="460"/>
                    </a:cubicBezTo>
                    <a:lnTo>
                      <a:pt x="664" y="4"/>
                    </a:lnTo>
                    <a:cubicBezTo>
                      <a:pt x="664" y="1"/>
                      <a:pt x="662" y="0"/>
                      <a:pt x="660" y="0"/>
                    </a:cubicBezTo>
                    <a:lnTo>
                      <a:pt x="4" y="0"/>
                    </a:lnTo>
                    <a:cubicBezTo>
                      <a:pt x="1" y="0"/>
                      <a:pt x="0" y="1"/>
                      <a:pt x="0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4" name="Freeform 124"/>
              <p:cNvSpPr/>
              <p:nvPr/>
            </p:nvSpPr>
            <p:spPr>
              <a:xfrm>
                <a:off x="2771280" y="2533680"/>
                <a:ext cx="1059840" cy="1138320"/>
              </a:xfrm>
              <a:custGeom>
                <a:avLst/>
                <a:gdLst>
                  <a:gd name="textAreaLeft" fmla="*/ 0 w 1059840"/>
                  <a:gd name="textAreaRight" fmla="*/ 1060200 w 1059840"/>
                  <a:gd name="textAreaTop" fmla="*/ 0 h 1138320"/>
                  <a:gd name="textAreaBottom" fmla="*/ 1138680 h 1138320"/>
                </a:gdLst>
                <a:ahLst/>
                <a:rect l="textAreaLeft" t="textAreaTop" r="textAreaRight" b="textAreaBottom"/>
                <a:pathLst>
                  <a:path w="664" h="464">
                    <a:moveTo>
                      <a:pt x="0" y="4"/>
                    </a:moveTo>
                    <a:lnTo>
                      <a:pt x="0" y="460"/>
                    </a:lnTo>
                    <a:cubicBezTo>
                      <a:pt x="0" y="462"/>
                      <a:pt x="1" y="464"/>
                      <a:pt x="4" y="464"/>
                    </a:cubicBezTo>
                    <a:lnTo>
                      <a:pt x="660" y="464"/>
                    </a:lnTo>
                    <a:cubicBezTo>
                      <a:pt x="662" y="464"/>
                      <a:pt x="664" y="462"/>
                      <a:pt x="664" y="460"/>
                    </a:cubicBezTo>
                    <a:lnTo>
                      <a:pt x="664" y="4"/>
                    </a:lnTo>
                    <a:cubicBezTo>
                      <a:pt x="664" y="1"/>
                      <a:pt x="662" y="0"/>
                      <a:pt x="660" y="0"/>
                    </a:cubicBezTo>
                    <a:lnTo>
                      <a:pt x="4" y="0"/>
                    </a:lnTo>
                    <a:cubicBezTo>
                      <a:pt x="1" y="0"/>
                      <a:pt x="0" y="1"/>
                      <a:pt x="0" y="4"/>
                    </a:cubicBezTo>
                    <a:close/>
                  </a:path>
                </a:pathLst>
              </a:custGeom>
              <a:noFill/>
              <a:ln w="317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5" name="Freeform 125"/>
              <p:cNvSpPr/>
              <p:nvPr/>
            </p:nvSpPr>
            <p:spPr>
              <a:xfrm>
                <a:off x="2796840" y="2592360"/>
                <a:ext cx="267840" cy="97920"/>
              </a:xfrm>
              <a:custGeom>
                <a:avLst/>
                <a:gdLst>
                  <a:gd name="textAreaLeft" fmla="*/ 0 w 267840"/>
                  <a:gd name="textAreaRight" fmla="*/ 268200 w 267840"/>
                  <a:gd name="textAreaTop" fmla="*/ 0 h 97920"/>
                  <a:gd name="textAreaBottom" fmla="*/ 98280 h 97920"/>
                </a:gdLst>
                <a:ahLst/>
                <a:rect l="textAreaLeft" t="textAreaTop" r="textAreaRight" b="textAreaBottom"/>
                <a:pathLst>
                  <a:path w="168" h="40">
                    <a:moveTo>
                      <a:pt x="0" y="0"/>
                    </a:moveTo>
                    <a:lnTo>
                      <a:pt x="168" y="0"/>
                    </a:lnTo>
                    <a:lnTo>
                      <a:pt x="168" y="40"/>
                    </a:lnTo>
                    <a:lnTo>
                      <a:pt x="0" y="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6" name="Text Box 126"/>
              <p:cNvSpPr/>
              <p:nvPr/>
            </p:nvSpPr>
            <p:spPr>
              <a:xfrm>
                <a:off x="3063240" y="2586240"/>
                <a:ext cx="744840" cy="10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Dialog"/>
                  </a:rPr>
                  <a:t>Other renewables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Freeform 127"/>
              <p:cNvSpPr/>
              <p:nvPr/>
            </p:nvSpPr>
            <p:spPr>
              <a:xfrm>
                <a:off x="2796840" y="2769120"/>
                <a:ext cx="267840" cy="97920"/>
              </a:xfrm>
              <a:custGeom>
                <a:avLst/>
                <a:gdLst>
                  <a:gd name="textAreaLeft" fmla="*/ 0 w 267840"/>
                  <a:gd name="textAreaRight" fmla="*/ 268200 w 267840"/>
                  <a:gd name="textAreaTop" fmla="*/ 0 h 97920"/>
                  <a:gd name="textAreaBottom" fmla="*/ 98280 h 97920"/>
                </a:gdLst>
                <a:ahLst/>
                <a:rect l="textAreaLeft" t="textAreaTop" r="textAreaRight" b="textAreaBottom"/>
                <a:pathLst>
                  <a:path w="168" h="40">
                    <a:moveTo>
                      <a:pt x="0" y="0"/>
                    </a:moveTo>
                    <a:lnTo>
                      <a:pt x="168" y="0"/>
                    </a:lnTo>
                    <a:lnTo>
                      <a:pt x="168" y="40"/>
                    </a:lnTo>
                    <a:lnTo>
                      <a:pt x="0" y="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8" name="Text Box 128"/>
              <p:cNvSpPr/>
              <p:nvPr/>
            </p:nvSpPr>
            <p:spPr>
              <a:xfrm>
                <a:off x="3075480" y="2763000"/>
                <a:ext cx="324360" cy="10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Dialog"/>
                  </a:rPr>
                  <a:t>Nuclear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Freeform 129"/>
              <p:cNvSpPr/>
              <p:nvPr/>
            </p:nvSpPr>
            <p:spPr>
              <a:xfrm>
                <a:off x="2796840" y="2945880"/>
                <a:ext cx="267840" cy="97920"/>
              </a:xfrm>
              <a:custGeom>
                <a:avLst/>
                <a:gdLst>
                  <a:gd name="textAreaLeft" fmla="*/ 0 w 267840"/>
                  <a:gd name="textAreaRight" fmla="*/ 268200 w 267840"/>
                  <a:gd name="textAreaTop" fmla="*/ 0 h 97920"/>
                  <a:gd name="textAreaBottom" fmla="*/ 98280 h 97920"/>
                </a:gdLst>
                <a:ahLst/>
                <a:rect l="textAreaLeft" t="textAreaTop" r="textAreaRight" b="textAreaBottom"/>
                <a:pathLst>
                  <a:path w="168" h="40">
                    <a:moveTo>
                      <a:pt x="0" y="0"/>
                    </a:moveTo>
                    <a:lnTo>
                      <a:pt x="168" y="0"/>
                    </a:lnTo>
                    <a:lnTo>
                      <a:pt x="168" y="40"/>
                    </a:lnTo>
                    <a:lnTo>
                      <a:pt x="0" y="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6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0" name="Text Box 130"/>
              <p:cNvSpPr/>
              <p:nvPr/>
            </p:nvSpPr>
            <p:spPr>
              <a:xfrm>
                <a:off x="3081600" y="2939760"/>
                <a:ext cx="158040" cy="10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Dialog"/>
                  </a:rPr>
                  <a:t>Gas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Freeform 131"/>
              <p:cNvSpPr/>
              <p:nvPr/>
            </p:nvSpPr>
            <p:spPr>
              <a:xfrm>
                <a:off x="2796840" y="3122640"/>
                <a:ext cx="267840" cy="97920"/>
              </a:xfrm>
              <a:custGeom>
                <a:avLst/>
                <a:gdLst>
                  <a:gd name="textAreaLeft" fmla="*/ 0 w 267840"/>
                  <a:gd name="textAreaRight" fmla="*/ 268200 w 267840"/>
                  <a:gd name="textAreaTop" fmla="*/ 0 h 97920"/>
                  <a:gd name="textAreaBottom" fmla="*/ 98280 h 97920"/>
                </a:gdLst>
                <a:ahLst/>
                <a:rect l="textAreaLeft" t="textAreaTop" r="textAreaRight" b="textAreaBottom"/>
                <a:pathLst>
                  <a:path w="168" h="40">
                    <a:moveTo>
                      <a:pt x="0" y="0"/>
                    </a:moveTo>
                    <a:lnTo>
                      <a:pt x="168" y="0"/>
                    </a:lnTo>
                    <a:lnTo>
                      <a:pt x="168" y="40"/>
                    </a:lnTo>
                    <a:lnTo>
                      <a:pt x="0" y="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2" name="Text Box 132"/>
              <p:cNvSpPr/>
              <p:nvPr/>
            </p:nvSpPr>
            <p:spPr>
              <a:xfrm>
                <a:off x="3078000" y="3116520"/>
                <a:ext cx="114480" cy="10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Dialog"/>
                  </a:rPr>
                  <a:t>Oil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Freeform 133"/>
              <p:cNvSpPr/>
              <p:nvPr/>
            </p:nvSpPr>
            <p:spPr>
              <a:xfrm>
                <a:off x="2796840" y="3299400"/>
                <a:ext cx="267840" cy="97920"/>
              </a:xfrm>
              <a:custGeom>
                <a:avLst/>
                <a:gdLst>
                  <a:gd name="textAreaLeft" fmla="*/ 0 w 267840"/>
                  <a:gd name="textAreaRight" fmla="*/ 268200 w 267840"/>
                  <a:gd name="textAreaTop" fmla="*/ 0 h 97920"/>
                  <a:gd name="textAreaBottom" fmla="*/ 98280 h 97920"/>
                </a:gdLst>
                <a:ahLst/>
                <a:rect l="textAreaLeft" t="textAreaTop" r="textAreaRight" b="textAreaBottom"/>
                <a:pathLst>
                  <a:path w="168" h="40">
                    <a:moveTo>
                      <a:pt x="0" y="0"/>
                    </a:moveTo>
                    <a:lnTo>
                      <a:pt x="168" y="0"/>
                    </a:lnTo>
                    <a:lnTo>
                      <a:pt x="168" y="40"/>
                    </a:lnTo>
                    <a:lnTo>
                      <a:pt x="0" y="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4" name="Text Box 134"/>
              <p:cNvSpPr/>
              <p:nvPr/>
            </p:nvSpPr>
            <p:spPr>
              <a:xfrm>
                <a:off x="3081600" y="3292920"/>
                <a:ext cx="183960" cy="10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Dialog"/>
                  </a:rPr>
                  <a:t>Coal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Freeform 135"/>
              <p:cNvSpPr/>
              <p:nvPr/>
            </p:nvSpPr>
            <p:spPr>
              <a:xfrm>
                <a:off x="2796840" y="3475800"/>
                <a:ext cx="267840" cy="97920"/>
              </a:xfrm>
              <a:custGeom>
                <a:avLst/>
                <a:gdLst>
                  <a:gd name="textAreaLeft" fmla="*/ 0 w 267840"/>
                  <a:gd name="textAreaRight" fmla="*/ 268200 w 267840"/>
                  <a:gd name="textAreaTop" fmla="*/ 0 h 97920"/>
                  <a:gd name="textAreaBottom" fmla="*/ 98280 h 97920"/>
                </a:gdLst>
                <a:ahLst/>
                <a:rect l="textAreaLeft" t="textAreaTop" r="textAreaRight" b="textAreaBottom"/>
                <a:pathLst>
                  <a:path w="168" h="40">
                    <a:moveTo>
                      <a:pt x="0" y="0"/>
                    </a:moveTo>
                    <a:lnTo>
                      <a:pt x="168" y="0"/>
                    </a:lnTo>
                    <a:lnTo>
                      <a:pt x="168" y="40"/>
                    </a:lnTo>
                    <a:lnTo>
                      <a:pt x="0" y="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6" name="Text Box 136"/>
              <p:cNvSpPr/>
              <p:nvPr/>
            </p:nvSpPr>
            <p:spPr>
              <a:xfrm>
                <a:off x="3086280" y="3469680"/>
                <a:ext cx="353160" cy="10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Dialog"/>
                  </a:rPr>
                  <a:t>Biomass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7" name="TextBox 346"/>
            <p:cNvSpPr/>
            <p:nvPr/>
          </p:nvSpPr>
          <p:spPr>
            <a:xfrm>
              <a:off x="4654440" y="2604600"/>
              <a:ext cx="1679040" cy="91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SP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Middle of the    road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38" name="Picture 8" descr=""/>
            <p:cNvPicPr/>
            <p:nvPr/>
          </p:nvPicPr>
          <p:blipFill>
            <a:blip r:embed="rId5"/>
            <a:stretch/>
          </p:blipFill>
          <p:spPr>
            <a:xfrm>
              <a:off x="2752560" y="2487240"/>
              <a:ext cx="1875960" cy="1371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9" name="Title 31"/>
          <p:cNvSpPr/>
          <p:nvPr/>
        </p:nvSpPr>
        <p:spPr>
          <a:xfrm>
            <a:off x="457200" y="0"/>
            <a:ext cx="8229240" cy="68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SPs (Energy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0" name="Group 87"/>
          <p:cNvGrpSpPr/>
          <p:nvPr/>
        </p:nvGrpSpPr>
        <p:grpSpPr>
          <a:xfrm>
            <a:off x="1547640" y="1523880"/>
            <a:ext cx="6695640" cy="4267080"/>
            <a:chOff x="1547640" y="1523880"/>
            <a:chExt cx="6695640" cy="4267080"/>
          </a:xfrm>
        </p:grpSpPr>
        <p:grpSp>
          <p:nvGrpSpPr>
            <p:cNvPr id="641" name="Group 86"/>
            <p:cNvGrpSpPr/>
            <p:nvPr/>
          </p:nvGrpSpPr>
          <p:grpSpPr>
            <a:xfrm>
              <a:off x="1547640" y="2365200"/>
              <a:ext cx="1119240" cy="3351240"/>
              <a:chOff x="1547640" y="2365200"/>
              <a:chExt cx="1119240" cy="3351240"/>
            </a:xfrm>
          </p:grpSpPr>
          <p:grpSp>
            <p:nvGrpSpPr>
              <p:cNvPr id="642" name="Group 45"/>
              <p:cNvGrpSpPr/>
              <p:nvPr/>
            </p:nvGrpSpPr>
            <p:grpSpPr>
              <a:xfrm>
                <a:off x="1547640" y="2365200"/>
                <a:ext cx="1083600" cy="3351240"/>
                <a:chOff x="1547640" y="2365200"/>
                <a:chExt cx="1083600" cy="3351240"/>
              </a:xfrm>
            </p:grpSpPr>
            <p:sp>
              <p:nvSpPr>
                <p:cNvPr id="643" name="TextBox 13"/>
                <p:cNvSpPr/>
                <p:nvPr/>
              </p:nvSpPr>
              <p:spPr>
                <a:xfrm rot="16200000">
                  <a:off x="607680" y="3812400"/>
                  <a:ext cx="2551680" cy="39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t">
                  <a:spAutoFit/>
                </a:bodyPr>
                <a:p>
                  <a:pPr>
                    <a:lnSpc>
                      <a:spcPct val="100000"/>
                    </a:lnSpc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Verdana"/>
                    </a:rPr>
                    <a:t>Forcing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Verdana"/>
                    </a:rPr>
                    <a:t> level (W/m</a:t>
                  </a:r>
                  <a:r>
                    <a:rPr b="1" lang="en-US" sz="1800" spc="-1" strike="noStrike" baseline="30000">
                      <a:solidFill>
                        <a:srgbClr val="000000"/>
                      </a:solidFill>
                      <a:latin typeface="Verdana"/>
                    </a:rPr>
                    <a:t>2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Verdana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4" name="TextBox 14"/>
                <p:cNvSpPr/>
                <p:nvPr/>
              </p:nvSpPr>
              <p:spPr>
                <a:xfrm>
                  <a:off x="2085840" y="2514600"/>
                  <a:ext cx="545400" cy="39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t">
                  <a:spAutoFit/>
                </a:bodyPr>
                <a:p>
                  <a:pPr>
                    <a:lnSpc>
                      <a:spcPct val="100000"/>
                    </a:lnSpc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Verdana"/>
                    </a:rPr>
                    <a:t>8.5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5" name="TextBox 15"/>
                <p:cNvSpPr/>
                <p:nvPr/>
              </p:nvSpPr>
              <p:spPr>
                <a:xfrm>
                  <a:off x="2066400" y="3638520"/>
                  <a:ext cx="545400" cy="39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t">
                  <a:spAutoFit/>
                </a:bodyPr>
                <a:p>
                  <a:pPr>
                    <a:lnSpc>
                      <a:spcPct val="100000"/>
                    </a:lnSpc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Verdana"/>
                    </a:rPr>
                    <a:t>6.0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6" name="TextBox 16"/>
                <p:cNvSpPr/>
                <p:nvPr/>
              </p:nvSpPr>
              <p:spPr>
                <a:xfrm>
                  <a:off x="2066400" y="4267080"/>
                  <a:ext cx="545400" cy="39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t">
                  <a:spAutoFit/>
                </a:bodyPr>
                <a:p>
                  <a:pPr>
                    <a:lnSpc>
                      <a:spcPct val="100000"/>
                    </a:lnSpc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Verdana"/>
                    </a:rPr>
                    <a:t>4.5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7" name="TextBox 17"/>
                <p:cNvSpPr/>
                <p:nvPr/>
              </p:nvSpPr>
              <p:spPr>
                <a:xfrm>
                  <a:off x="2066400" y="5162400"/>
                  <a:ext cx="545400" cy="39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t">
                  <a:spAutoFit/>
                </a:bodyPr>
                <a:p>
                  <a:pPr>
                    <a:lnSpc>
                      <a:spcPct val="100000"/>
                    </a:lnSpc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Verdana"/>
                    </a:rPr>
                    <a:t>2.6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cxnSp>
              <p:nvCxnSpPr>
                <p:cNvPr id="648" name="Straight Arrow Connector 44"/>
                <p:cNvCxnSpPr/>
                <p:nvPr/>
              </p:nvCxnSpPr>
              <p:spPr>
                <a:xfrm flipV="1">
                  <a:off x="1547640" y="2365200"/>
                  <a:ext cx="1800" cy="3351600"/>
                </a:xfrm>
                <a:prstGeom prst="straightConnector1">
                  <a:avLst/>
                </a:prstGeom>
                <a:ln w="19050">
                  <a:solidFill>
                    <a:srgbClr val="000000"/>
                  </a:solidFill>
                  <a:round/>
                  <a:tailEnd len="med" type="arrow" w="med"/>
                </a:ln>
              </p:spPr>
            </p:cxnSp>
          </p:grpSp>
          <p:grpSp>
            <p:nvGrpSpPr>
              <p:cNvPr id="649" name="Group 66"/>
              <p:cNvGrpSpPr/>
              <p:nvPr/>
            </p:nvGrpSpPr>
            <p:grpSpPr>
              <a:xfrm>
                <a:off x="2590560" y="2514600"/>
                <a:ext cx="76320" cy="3047760"/>
                <a:chOff x="2590560" y="2514600"/>
                <a:chExt cx="76320" cy="3047760"/>
              </a:xfrm>
            </p:grpSpPr>
            <p:grpSp>
              <p:nvGrpSpPr>
                <p:cNvPr id="650" name="Group 45"/>
                <p:cNvGrpSpPr/>
                <p:nvPr/>
              </p:nvGrpSpPr>
              <p:grpSpPr>
                <a:xfrm>
                  <a:off x="2590560" y="5127480"/>
                  <a:ext cx="76320" cy="434880"/>
                  <a:chOff x="2590560" y="5127480"/>
                  <a:chExt cx="76320" cy="434880"/>
                </a:xfrm>
              </p:grpSpPr>
              <p:cxnSp>
                <p:nvCxnSpPr>
                  <p:cNvPr id="651" name="Straight Connector 41"/>
                  <p:cNvCxnSpPr/>
                  <p:nvPr/>
                </p:nvCxnSpPr>
                <p:spPr>
                  <a:xfrm>
                    <a:off x="2666880" y="5127480"/>
                    <a:ext cx="360" cy="435240"/>
                  </a:xfrm>
                  <a:prstGeom prst="straightConnector1">
                    <a:avLst/>
                  </a:prstGeom>
                  <a:ln>
                    <a:solidFill>
                      <a:srgbClr val="000000"/>
                    </a:solidFill>
                    <a:round/>
                  </a:ln>
                </p:spPr>
              </p:cxnSp>
              <p:cxnSp>
                <p:nvCxnSpPr>
                  <p:cNvPr id="652" name="Straight Connector 43"/>
                  <p:cNvCxnSpPr/>
                  <p:nvPr/>
                </p:nvCxnSpPr>
                <p:spPr>
                  <a:xfrm flipH="1">
                    <a:off x="2590560" y="5562360"/>
                    <a:ext cx="76680" cy="360"/>
                  </a:xfrm>
                  <a:prstGeom prst="straightConnector1">
                    <a:avLst/>
                  </a:prstGeom>
                  <a:ln>
                    <a:solidFill>
                      <a:srgbClr val="000000"/>
                    </a:solidFill>
                    <a:round/>
                  </a:ln>
                </p:spPr>
              </p:cxnSp>
            </p:grpSp>
            <p:grpSp>
              <p:nvGrpSpPr>
                <p:cNvPr id="653" name="Group 46"/>
                <p:cNvGrpSpPr/>
                <p:nvPr/>
              </p:nvGrpSpPr>
              <p:grpSpPr>
                <a:xfrm>
                  <a:off x="2590560" y="4690800"/>
                  <a:ext cx="76320" cy="436680"/>
                  <a:chOff x="2590560" y="4690800"/>
                  <a:chExt cx="76320" cy="436680"/>
                </a:xfrm>
              </p:grpSpPr>
              <p:cxnSp>
                <p:nvCxnSpPr>
                  <p:cNvPr id="654" name="Straight Connector 47"/>
                  <p:cNvCxnSpPr/>
                  <p:nvPr/>
                </p:nvCxnSpPr>
                <p:spPr>
                  <a:xfrm>
                    <a:off x="2666880" y="4690800"/>
                    <a:ext cx="360" cy="437040"/>
                  </a:xfrm>
                  <a:prstGeom prst="straightConnector1">
                    <a:avLst/>
                  </a:prstGeom>
                  <a:ln>
                    <a:solidFill>
                      <a:srgbClr val="000000"/>
                    </a:solidFill>
                    <a:round/>
                  </a:ln>
                </p:spPr>
              </p:cxnSp>
              <p:cxnSp>
                <p:nvCxnSpPr>
                  <p:cNvPr id="655" name="Straight Connector 48"/>
                  <p:cNvCxnSpPr/>
                  <p:nvPr/>
                </p:nvCxnSpPr>
                <p:spPr>
                  <a:xfrm flipH="1">
                    <a:off x="2590560" y="5127480"/>
                    <a:ext cx="76680" cy="360"/>
                  </a:xfrm>
                  <a:prstGeom prst="straightConnector1">
                    <a:avLst/>
                  </a:prstGeom>
                  <a:ln>
                    <a:solidFill>
                      <a:srgbClr val="000000"/>
                    </a:solidFill>
                    <a:round/>
                  </a:ln>
                </p:spPr>
              </p:cxnSp>
            </p:grpSp>
            <p:grpSp>
              <p:nvGrpSpPr>
                <p:cNvPr id="656" name="Group 49"/>
                <p:cNvGrpSpPr/>
                <p:nvPr/>
              </p:nvGrpSpPr>
              <p:grpSpPr>
                <a:xfrm>
                  <a:off x="2590560" y="4255920"/>
                  <a:ext cx="76320" cy="434880"/>
                  <a:chOff x="2590560" y="4255920"/>
                  <a:chExt cx="76320" cy="434880"/>
                </a:xfrm>
              </p:grpSpPr>
              <p:cxnSp>
                <p:nvCxnSpPr>
                  <p:cNvPr id="657" name="Straight Connector 50"/>
                  <p:cNvCxnSpPr/>
                  <p:nvPr/>
                </p:nvCxnSpPr>
                <p:spPr>
                  <a:xfrm>
                    <a:off x="2666880" y="4255920"/>
                    <a:ext cx="360" cy="435240"/>
                  </a:xfrm>
                  <a:prstGeom prst="straightConnector1">
                    <a:avLst/>
                  </a:prstGeom>
                  <a:ln>
                    <a:solidFill>
                      <a:srgbClr val="000000"/>
                    </a:solidFill>
                    <a:round/>
                  </a:ln>
                </p:spPr>
              </p:cxnSp>
              <p:cxnSp>
                <p:nvCxnSpPr>
                  <p:cNvPr id="658" name="Straight Connector 51"/>
                  <p:cNvCxnSpPr/>
                  <p:nvPr/>
                </p:nvCxnSpPr>
                <p:spPr>
                  <a:xfrm flipH="1">
                    <a:off x="2590560" y="4690800"/>
                    <a:ext cx="76680" cy="360"/>
                  </a:xfrm>
                  <a:prstGeom prst="straightConnector1">
                    <a:avLst/>
                  </a:prstGeom>
                  <a:ln>
                    <a:solidFill>
                      <a:srgbClr val="000000"/>
                    </a:solidFill>
                    <a:round/>
                  </a:ln>
                </p:spPr>
              </p:cxnSp>
            </p:grpSp>
            <p:grpSp>
              <p:nvGrpSpPr>
                <p:cNvPr id="659" name="Group 52"/>
                <p:cNvGrpSpPr/>
                <p:nvPr/>
              </p:nvGrpSpPr>
              <p:grpSpPr>
                <a:xfrm>
                  <a:off x="2590560" y="3821040"/>
                  <a:ext cx="76320" cy="434880"/>
                  <a:chOff x="2590560" y="3821040"/>
                  <a:chExt cx="76320" cy="434880"/>
                </a:xfrm>
              </p:grpSpPr>
              <p:cxnSp>
                <p:nvCxnSpPr>
                  <p:cNvPr id="660" name="Straight Connector 53"/>
                  <p:cNvCxnSpPr/>
                  <p:nvPr/>
                </p:nvCxnSpPr>
                <p:spPr>
                  <a:xfrm>
                    <a:off x="2666880" y="3821040"/>
                    <a:ext cx="360" cy="435240"/>
                  </a:xfrm>
                  <a:prstGeom prst="straightConnector1">
                    <a:avLst/>
                  </a:prstGeom>
                  <a:ln>
                    <a:solidFill>
                      <a:srgbClr val="000000"/>
                    </a:solidFill>
                    <a:round/>
                  </a:ln>
                </p:spPr>
              </p:cxnSp>
              <p:cxnSp>
                <p:nvCxnSpPr>
                  <p:cNvPr id="661" name="Straight Connector 54"/>
                  <p:cNvCxnSpPr/>
                  <p:nvPr/>
                </p:nvCxnSpPr>
                <p:spPr>
                  <a:xfrm flipH="1">
                    <a:off x="2590560" y="4255920"/>
                    <a:ext cx="76680" cy="360"/>
                  </a:xfrm>
                  <a:prstGeom prst="straightConnector1">
                    <a:avLst/>
                  </a:prstGeom>
                  <a:ln>
                    <a:solidFill>
                      <a:srgbClr val="000000"/>
                    </a:solidFill>
                    <a:round/>
                  </a:ln>
                </p:spPr>
              </p:cxnSp>
            </p:grpSp>
            <p:grpSp>
              <p:nvGrpSpPr>
                <p:cNvPr id="662" name="Group 55"/>
                <p:cNvGrpSpPr/>
                <p:nvPr/>
              </p:nvGrpSpPr>
              <p:grpSpPr>
                <a:xfrm>
                  <a:off x="2590560" y="3385800"/>
                  <a:ext cx="76320" cy="435240"/>
                  <a:chOff x="2590560" y="3385800"/>
                  <a:chExt cx="76320" cy="435240"/>
                </a:xfrm>
              </p:grpSpPr>
              <p:cxnSp>
                <p:nvCxnSpPr>
                  <p:cNvPr id="663" name="Straight Connector 56"/>
                  <p:cNvCxnSpPr/>
                  <p:nvPr/>
                </p:nvCxnSpPr>
                <p:spPr>
                  <a:xfrm>
                    <a:off x="2666880" y="3385800"/>
                    <a:ext cx="360" cy="435600"/>
                  </a:xfrm>
                  <a:prstGeom prst="straightConnector1">
                    <a:avLst/>
                  </a:prstGeom>
                  <a:ln>
                    <a:solidFill>
                      <a:srgbClr val="000000"/>
                    </a:solidFill>
                    <a:round/>
                  </a:ln>
                </p:spPr>
              </p:cxnSp>
              <p:cxnSp>
                <p:nvCxnSpPr>
                  <p:cNvPr id="664" name="Straight Connector 57"/>
                  <p:cNvCxnSpPr/>
                  <p:nvPr/>
                </p:nvCxnSpPr>
                <p:spPr>
                  <a:xfrm flipH="1">
                    <a:off x="2590560" y="3821040"/>
                    <a:ext cx="76680" cy="360"/>
                  </a:xfrm>
                  <a:prstGeom prst="straightConnector1">
                    <a:avLst/>
                  </a:prstGeom>
                  <a:ln>
                    <a:solidFill>
                      <a:srgbClr val="000000"/>
                    </a:solidFill>
                    <a:round/>
                  </a:ln>
                </p:spPr>
              </p:cxnSp>
            </p:grpSp>
            <p:grpSp>
              <p:nvGrpSpPr>
                <p:cNvPr id="665" name="Group 58"/>
                <p:cNvGrpSpPr/>
                <p:nvPr/>
              </p:nvGrpSpPr>
              <p:grpSpPr>
                <a:xfrm>
                  <a:off x="2590560" y="2949480"/>
                  <a:ext cx="76320" cy="436320"/>
                  <a:chOff x="2590560" y="2949480"/>
                  <a:chExt cx="76320" cy="436320"/>
                </a:xfrm>
              </p:grpSpPr>
              <p:cxnSp>
                <p:nvCxnSpPr>
                  <p:cNvPr id="666" name="Straight Connector 59"/>
                  <p:cNvCxnSpPr/>
                  <p:nvPr/>
                </p:nvCxnSpPr>
                <p:spPr>
                  <a:xfrm>
                    <a:off x="2666880" y="2949480"/>
                    <a:ext cx="360" cy="436680"/>
                  </a:xfrm>
                  <a:prstGeom prst="straightConnector1">
                    <a:avLst/>
                  </a:prstGeom>
                  <a:ln>
                    <a:solidFill>
                      <a:srgbClr val="000000"/>
                    </a:solidFill>
                    <a:round/>
                  </a:ln>
                </p:spPr>
              </p:cxnSp>
              <p:cxnSp>
                <p:nvCxnSpPr>
                  <p:cNvPr id="667" name="Straight Connector 60"/>
                  <p:cNvCxnSpPr/>
                  <p:nvPr/>
                </p:nvCxnSpPr>
                <p:spPr>
                  <a:xfrm flipH="1">
                    <a:off x="2590560" y="3385800"/>
                    <a:ext cx="76680" cy="360"/>
                  </a:xfrm>
                  <a:prstGeom prst="straightConnector1">
                    <a:avLst/>
                  </a:prstGeom>
                  <a:ln>
                    <a:solidFill>
                      <a:srgbClr val="000000"/>
                    </a:solidFill>
                    <a:round/>
                  </a:ln>
                </p:spPr>
              </p:cxnSp>
            </p:grpSp>
            <p:grpSp>
              <p:nvGrpSpPr>
                <p:cNvPr id="668" name="Group 65"/>
                <p:cNvGrpSpPr/>
                <p:nvPr/>
              </p:nvGrpSpPr>
              <p:grpSpPr>
                <a:xfrm>
                  <a:off x="2590560" y="2514600"/>
                  <a:ext cx="76320" cy="434880"/>
                  <a:chOff x="2590560" y="2514600"/>
                  <a:chExt cx="76320" cy="434880"/>
                </a:xfrm>
              </p:grpSpPr>
              <p:grpSp>
                <p:nvGrpSpPr>
                  <p:cNvPr id="669" name="Group 61"/>
                  <p:cNvGrpSpPr/>
                  <p:nvPr/>
                </p:nvGrpSpPr>
                <p:grpSpPr>
                  <a:xfrm>
                    <a:off x="2590560" y="2514600"/>
                    <a:ext cx="76320" cy="434880"/>
                    <a:chOff x="2590560" y="2514600"/>
                    <a:chExt cx="76320" cy="434880"/>
                  </a:xfrm>
                </p:grpSpPr>
                <p:cxnSp>
                  <p:nvCxnSpPr>
                    <p:cNvPr id="670" name="Straight Connector 62"/>
                    <p:cNvCxnSpPr/>
                    <p:nvPr/>
                  </p:nvCxnSpPr>
                  <p:spPr>
                    <a:xfrm>
                      <a:off x="2666880" y="2514600"/>
                      <a:ext cx="360" cy="435240"/>
                    </a:xfrm>
                    <a:prstGeom prst="straightConnector1">
                      <a:avLst/>
                    </a:prstGeom>
                    <a:ln>
                      <a:solidFill>
                        <a:srgbClr val="000000"/>
                      </a:solidFill>
                      <a:round/>
                    </a:ln>
                  </p:spPr>
                </p:cxnSp>
                <p:cxnSp>
                  <p:nvCxnSpPr>
                    <p:cNvPr id="671" name="Straight Connector 63"/>
                    <p:cNvCxnSpPr/>
                    <p:nvPr/>
                  </p:nvCxnSpPr>
                  <p:spPr>
                    <a:xfrm flipH="1">
                      <a:off x="2590560" y="2949480"/>
                      <a:ext cx="76680" cy="360"/>
                    </a:xfrm>
                    <a:prstGeom prst="straightConnector1">
                      <a:avLst/>
                    </a:prstGeom>
                    <a:ln>
                      <a:solidFill>
                        <a:srgbClr val="000000"/>
                      </a:solidFill>
                      <a:round/>
                    </a:ln>
                  </p:spPr>
                </p:cxnSp>
              </p:grpSp>
              <p:cxnSp>
                <p:nvCxnSpPr>
                  <p:cNvPr id="672" name="Straight Connector 64"/>
                  <p:cNvCxnSpPr/>
                  <p:nvPr/>
                </p:nvCxnSpPr>
                <p:spPr>
                  <a:xfrm flipH="1">
                    <a:off x="2590560" y="2514600"/>
                    <a:ext cx="76680" cy="360"/>
                  </a:xfrm>
                  <a:prstGeom prst="straightConnector1">
                    <a:avLst/>
                  </a:prstGeom>
                  <a:ln>
                    <a:solidFill>
                      <a:srgbClr val="000000"/>
                    </a:solidFill>
                    <a:round/>
                  </a:ln>
                </p:spPr>
              </p:cxnSp>
            </p:grpSp>
          </p:grpSp>
        </p:grpSp>
        <p:grpSp>
          <p:nvGrpSpPr>
            <p:cNvPr id="673" name="Group 84"/>
            <p:cNvGrpSpPr/>
            <p:nvPr/>
          </p:nvGrpSpPr>
          <p:grpSpPr>
            <a:xfrm>
              <a:off x="2744640" y="2286000"/>
              <a:ext cx="5498640" cy="3504960"/>
              <a:chOff x="2744640" y="2286000"/>
              <a:chExt cx="5498640" cy="3504960"/>
            </a:xfrm>
          </p:grpSpPr>
          <p:sp>
            <p:nvSpPr>
              <p:cNvPr id="674" name="Rectangle 2"/>
              <p:cNvSpPr/>
              <p:nvPr/>
            </p:nvSpPr>
            <p:spPr>
              <a:xfrm>
                <a:off x="2744640" y="2286000"/>
                <a:ext cx="5498640" cy="3504960"/>
              </a:xfrm>
              <a:prstGeom prst="rect">
                <a:avLst/>
              </a:prstGeom>
              <a:solidFill>
                <a:schemeClr val="bg1">
                  <a:lumMod val="75000"/>
                </a:schemeClr>
              </a:solidFill>
              <a:ln>
                <a:solidFill>
                  <a:srgbClr val="000000"/>
                </a:solidFill>
                <a:round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675" name="Rectangle 32"/>
              <p:cNvSpPr/>
              <p:nvPr/>
            </p:nvSpPr>
            <p:spPr>
              <a:xfrm>
                <a:off x="2897280" y="4267080"/>
                <a:ext cx="914040" cy="380520"/>
              </a:xfrm>
              <a:prstGeom prst="rect">
                <a:avLst/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676" name="Rectangle 33"/>
              <p:cNvSpPr/>
              <p:nvPr/>
            </p:nvSpPr>
            <p:spPr>
              <a:xfrm>
                <a:off x="3963960" y="4267080"/>
                <a:ext cx="914040" cy="380520"/>
              </a:xfrm>
              <a:prstGeom prst="rect">
                <a:avLst/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677" name="Rectangle 34"/>
              <p:cNvSpPr/>
              <p:nvPr/>
            </p:nvSpPr>
            <p:spPr>
              <a:xfrm>
                <a:off x="5030640" y="4267080"/>
                <a:ext cx="914040" cy="380520"/>
              </a:xfrm>
              <a:prstGeom prst="rect">
                <a:avLst/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678" name="Rectangle 35"/>
              <p:cNvSpPr/>
              <p:nvPr/>
            </p:nvSpPr>
            <p:spPr>
              <a:xfrm>
                <a:off x="6095880" y="4267080"/>
                <a:ext cx="914040" cy="380520"/>
              </a:xfrm>
              <a:prstGeom prst="rect">
                <a:avLst/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679" name="Rectangle 71"/>
              <p:cNvSpPr/>
              <p:nvPr/>
            </p:nvSpPr>
            <p:spPr>
              <a:xfrm>
                <a:off x="2895480" y="5181480"/>
                <a:ext cx="914040" cy="380520"/>
              </a:xfrm>
              <a:prstGeom prst="rect">
                <a:avLst/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680" name="Rectangle 72"/>
              <p:cNvSpPr/>
              <p:nvPr/>
            </p:nvSpPr>
            <p:spPr>
              <a:xfrm>
                <a:off x="3962520" y="5181480"/>
                <a:ext cx="914040" cy="380520"/>
              </a:xfrm>
              <a:prstGeom prst="rect">
                <a:avLst/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681" name="Rectangle 73"/>
              <p:cNvSpPr/>
              <p:nvPr/>
            </p:nvSpPr>
            <p:spPr>
              <a:xfrm>
                <a:off x="5029200" y="5181480"/>
                <a:ext cx="914040" cy="380520"/>
              </a:xfrm>
              <a:prstGeom prst="rect">
                <a:avLst/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682" name="Rectangle 74"/>
              <p:cNvSpPr/>
              <p:nvPr/>
            </p:nvSpPr>
            <p:spPr>
              <a:xfrm>
                <a:off x="6095880" y="5181480"/>
                <a:ext cx="914040" cy="380520"/>
              </a:xfrm>
              <a:prstGeom prst="rect">
                <a:avLst/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683" name="Rectangle 75"/>
              <p:cNvSpPr/>
              <p:nvPr/>
            </p:nvSpPr>
            <p:spPr>
              <a:xfrm>
                <a:off x="2895480" y="3657600"/>
                <a:ext cx="914040" cy="380520"/>
              </a:xfrm>
              <a:prstGeom prst="rect">
                <a:avLst/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684" name="Rectangle 76"/>
              <p:cNvSpPr/>
              <p:nvPr/>
            </p:nvSpPr>
            <p:spPr>
              <a:xfrm>
                <a:off x="3962520" y="3657600"/>
                <a:ext cx="914040" cy="380520"/>
              </a:xfrm>
              <a:prstGeom prst="rect">
                <a:avLst/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685" name="Rectangle 77"/>
              <p:cNvSpPr/>
              <p:nvPr/>
            </p:nvSpPr>
            <p:spPr>
              <a:xfrm>
                <a:off x="5029200" y="3657600"/>
                <a:ext cx="914040" cy="380520"/>
              </a:xfrm>
              <a:prstGeom prst="rect">
                <a:avLst/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686" name="Rectangle 78"/>
              <p:cNvSpPr/>
              <p:nvPr/>
            </p:nvSpPr>
            <p:spPr>
              <a:xfrm>
                <a:off x="6095880" y="3657600"/>
                <a:ext cx="914040" cy="380520"/>
              </a:xfrm>
              <a:prstGeom prst="rect">
                <a:avLst/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687" name="Rectangle 79"/>
              <p:cNvSpPr/>
              <p:nvPr/>
            </p:nvSpPr>
            <p:spPr>
              <a:xfrm>
                <a:off x="2895480" y="2514600"/>
                <a:ext cx="914040" cy="380520"/>
              </a:xfrm>
              <a:prstGeom prst="rect">
                <a:avLst/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688" name="Rectangle 80"/>
              <p:cNvSpPr/>
              <p:nvPr/>
            </p:nvSpPr>
            <p:spPr>
              <a:xfrm>
                <a:off x="3962520" y="2514600"/>
                <a:ext cx="914040" cy="380520"/>
              </a:xfrm>
              <a:prstGeom prst="rect">
                <a:avLst/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689" name="Rectangle 81"/>
              <p:cNvSpPr/>
              <p:nvPr/>
            </p:nvSpPr>
            <p:spPr>
              <a:xfrm>
                <a:off x="5029200" y="2514600"/>
                <a:ext cx="914040" cy="380520"/>
              </a:xfrm>
              <a:prstGeom prst="rect">
                <a:avLst/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690" name="Rectangle 82"/>
              <p:cNvSpPr/>
              <p:nvPr/>
            </p:nvSpPr>
            <p:spPr>
              <a:xfrm>
                <a:off x="6095880" y="2514600"/>
                <a:ext cx="914040" cy="380520"/>
              </a:xfrm>
              <a:prstGeom prst="rect">
                <a:avLst/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691" name="Rectangle 61"/>
              <p:cNvSpPr/>
              <p:nvPr/>
            </p:nvSpPr>
            <p:spPr>
              <a:xfrm>
                <a:off x="7184880" y="4245120"/>
                <a:ext cx="914040" cy="380520"/>
              </a:xfrm>
              <a:prstGeom prst="rect">
                <a:avLst/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692" name="Rectangle 65"/>
              <p:cNvSpPr/>
              <p:nvPr/>
            </p:nvSpPr>
            <p:spPr>
              <a:xfrm>
                <a:off x="7184880" y="5159520"/>
                <a:ext cx="914040" cy="380520"/>
              </a:xfrm>
              <a:prstGeom prst="rect">
                <a:avLst/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693" name="Rectangle 66"/>
              <p:cNvSpPr/>
              <p:nvPr/>
            </p:nvSpPr>
            <p:spPr>
              <a:xfrm>
                <a:off x="7184880" y="3635280"/>
                <a:ext cx="914040" cy="380520"/>
              </a:xfrm>
              <a:prstGeom prst="rect">
                <a:avLst/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694" name="Rectangle 67"/>
              <p:cNvSpPr/>
              <p:nvPr/>
            </p:nvSpPr>
            <p:spPr>
              <a:xfrm>
                <a:off x="7184880" y="2492280"/>
                <a:ext cx="914040" cy="380520"/>
              </a:xfrm>
              <a:prstGeom prst="rect">
                <a:avLst/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695" name="Group 85"/>
            <p:cNvGrpSpPr/>
            <p:nvPr/>
          </p:nvGrpSpPr>
          <p:grpSpPr>
            <a:xfrm>
              <a:off x="2952000" y="1523880"/>
              <a:ext cx="5038560" cy="787680"/>
              <a:chOff x="2952000" y="1523880"/>
              <a:chExt cx="5038560" cy="787680"/>
            </a:xfrm>
          </p:grpSpPr>
          <p:sp>
            <p:nvSpPr>
              <p:cNvPr id="696" name="TextBox 18"/>
              <p:cNvSpPr/>
              <p:nvPr/>
            </p:nvSpPr>
            <p:spPr>
              <a:xfrm>
                <a:off x="2952000" y="1905120"/>
                <a:ext cx="766440" cy="39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Verdana"/>
                  </a:rPr>
                  <a:t>SSP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" name="TextBox 19"/>
              <p:cNvSpPr/>
              <p:nvPr/>
            </p:nvSpPr>
            <p:spPr>
              <a:xfrm>
                <a:off x="3960000" y="1905120"/>
                <a:ext cx="766440" cy="39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Verdana"/>
                  </a:rPr>
                  <a:t>SSP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" name="TextBox 20"/>
              <p:cNvSpPr/>
              <p:nvPr/>
            </p:nvSpPr>
            <p:spPr>
              <a:xfrm>
                <a:off x="5040000" y="1905120"/>
                <a:ext cx="766440" cy="39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Verdana"/>
                  </a:rPr>
                  <a:t>SSP3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" name="TextBox 68"/>
              <p:cNvSpPr/>
              <p:nvPr/>
            </p:nvSpPr>
            <p:spPr>
              <a:xfrm>
                <a:off x="3571920" y="1523880"/>
                <a:ext cx="4398120" cy="39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Verdana"/>
                  </a:rPr>
                  <a:t>Shared Socio-economic Pathway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TextBox 69"/>
              <p:cNvSpPr/>
              <p:nvPr/>
            </p:nvSpPr>
            <p:spPr>
              <a:xfrm>
                <a:off x="6120720" y="1917000"/>
                <a:ext cx="767880" cy="39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Verdana"/>
                  </a:rPr>
                  <a:t>SSP4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" name="TextBox 70"/>
              <p:cNvSpPr/>
              <p:nvPr/>
            </p:nvSpPr>
            <p:spPr>
              <a:xfrm>
                <a:off x="7222680" y="1917000"/>
                <a:ext cx="767880" cy="39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Verdana"/>
                  </a:rPr>
                  <a:t>SSP5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02" name="Title 1"/>
          <p:cNvSpPr/>
          <p:nvPr/>
        </p:nvSpPr>
        <p:spPr>
          <a:xfrm>
            <a:off x="534960" y="0"/>
            <a:ext cx="7772040" cy="60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Scenario Matrix Archite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3" name="Picture 2" descr=""/>
          <p:cNvPicPr/>
          <p:nvPr/>
        </p:nvPicPr>
        <p:blipFill>
          <a:blip r:embed="rId1"/>
          <a:stretch/>
        </p:blipFill>
        <p:spPr>
          <a:xfrm>
            <a:off x="5360400" y="1147680"/>
            <a:ext cx="3665880" cy="2639880"/>
          </a:xfrm>
          <a:prstGeom prst="rect">
            <a:avLst/>
          </a:prstGeom>
          <a:ln w="0">
            <a:noFill/>
          </a:ln>
        </p:spPr>
      </p:pic>
      <p:pic>
        <p:nvPicPr>
          <p:cNvPr id="704" name="Picture 7" descr=""/>
          <p:cNvPicPr/>
          <p:nvPr/>
        </p:nvPicPr>
        <p:blipFill>
          <a:blip r:embed="rId2"/>
          <a:stretch/>
        </p:blipFill>
        <p:spPr>
          <a:xfrm>
            <a:off x="5307840" y="4016520"/>
            <a:ext cx="3757320" cy="2812320"/>
          </a:xfrm>
          <a:prstGeom prst="rect">
            <a:avLst/>
          </a:prstGeom>
          <a:ln w="0">
            <a:noFill/>
          </a:ln>
        </p:spPr>
      </p:pic>
      <p:cxnSp>
        <p:nvCxnSpPr>
          <p:cNvPr id="705" name="Straight Arrow Connector 6"/>
          <p:cNvCxnSpPr>
            <a:endCxn id="697" idx="3"/>
          </p:cNvCxnSpPr>
          <p:nvPr/>
        </p:nvCxnSpPr>
        <p:spPr>
          <a:xfrm flipH="1">
            <a:off x="4690080" y="1619640"/>
            <a:ext cx="3617640" cy="485640"/>
          </a:xfrm>
          <a:prstGeom prst="straightConnector1">
            <a:avLst/>
          </a:prstGeom>
          <a:ln>
            <a:solidFill>
              <a:srgbClr val="7030a0"/>
            </a:solidFill>
            <a:prstDash val="sysDash"/>
            <a:round/>
            <a:tailEnd len="med" type="arrow" w="med"/>
          </a:ln>
        </p:spPr>
      </p:cxnSp>
      <p:cxnSp>
        <p:nvCxnSpPr>
          <p:cNvPr id="706" name="Straight Arrow Connector 97"/>
          <p:cNvCxnSpPr>
            <a:endCxn id="688" idx="1"/>
          </p:cNvCxnSpPr>
          <p:nvPr/>
        </p:nvCxnSpPr>
        <p:spPr>
          <a:xfrm flipH="1">
            <a:off x="3962160" y="2471760"/>
            <a:ext cx="4399920" cy="233640"/>
          </a:xfrm>
          <a:prstGeom prst="straightConnector1">
            <a:avLst/>
          </a:prstGeom>
          <a:ln>
            <a:solidFill>
              <a:srgbClr val="f79646">
                <a:lumMod val="60000"/>
                <a:lumOff val="40000"/>
              </a:srgbClr>
            </a:solidFill>
            <a:prstDash val="sysDash"/>
            <a:round/>
            <a:tailEnd len="med" type="arrow" w="med"/>
          </a:ln>
        </p:spPr>
      </p:cxnSp>
      <p:cxnSp>
        <p:nvCxnSpPr>
          <p:cNvPr id="707" name="Straight Arrow Connector 98"/>
          <p:cNvCxnSpPr/>
          <p:nvPr/>
        </p:nvCxnSpPr>
        <p:spPr>
          <a:xfrm flipH="1">
            <a:off x="3095640" y="2075040"/>
            <a:ext cx="5266440" cy="393120"/>
          </a:xfrm>
          <a:prstGeom prst="straightConnector1">
            <a:avLst/>
          </a:prstGeom>
          <a:ln>
            <a:solidFill>
              <a:srgbClr val="ff0000"/>
            </a:solidFill>
            <a:prstDash val="sysDash"/>
            <a:round/>
            <a:tailEnd len="med" type="arrow" w="med"/>
          </a:ln>
        </p:spPr>
      </p:cxnSp>
      <p:cxnSp>
        <p:nvCxnSpPr>
          <p:cNvPr id="708" name="Straight Arrow Connector 100"/>
          <p:cNvCxnSpPr/>
          <p:nvPr/>
        </p:nvCxnSpPr>
        <p:spPr>
          <a:xfrm flipH="1">
            <a:off x="2233440" y="2180520"/>
            <a:ext cx="6190560" cy="291600"/>
          </a:xfrm>
          <a:prstGeom prst="straightConnector1">
            <a:avLst/>
          </a:prstGeom>
          <a:ln>
            <a:solidFill>
              <a:srgbClr val="4bacc6">
                <a:lumMod val="60000"/>
                <a:lumOff val="40000"/>
              </a:srgbClr>
            </a:solidFill>
            <a:prstDash val="sysDash"/>
            <a:round/>
            <a:tailEnd len="med" type="arrow" w="med"/>
          </a:ln>
        </p:spPr>
      </p:cxnSp>
      <p:cxnSp>
        <p:nvCxnSpPr>
          <p:cNvPr id="709" name="Straight Arrow Connector 101"/>
          <p:cNvCxnSpPr/>
          <p:nvPr/>
        </p:nvCxnSpPr>
        <p:spPr>
          <a:xfrm flipH="1">
            <a:off x="1498680" y="2732040"/>
            <a:ext cx="6925320" cy="206280"/>
          </a:xfrm>
          <a:prstGeom prst="straightConnector1">
            <a:avLst/>
          </a:prstGeom>
          <a:ln>
            <a:solidFill>
              <a:srgbClr val="9bbb59">
                <a:lumMod val="75000"/>
              </a:srgbClr>
            </a:solidFill>
            <a:prstDash val="sysDash"/>
            <a:round/>
            <a:tailEnd len="med" type="arrow" w="med"/>
          </a:ln>
        </p:spPr>
      </p:cxnSp>
      <p:cxnSp>
        <p:nvCxnSpPr>
          <p:cNvPr id="710" name="Straight Arrow Connector 20"/>
          <p:cNvCxnSpPr/>
          <p:nvPr/>
        </p:nvCxnSpPr>
        <p:spPr>
          <a:xfrm>
            <a:off x="1549080" y="2949480"/>
            <a:ext cx="360" cy="551520"/>
          </a:xfrm>
          <a:prstGeom prst="straightConnector1">
            <a:avLst/>
          </a:prstGeom>
          <a:ln>
            <a:solidFill>
              <a:srgbClr val="4f81bd"/>
            </a:solidFill>
            <a:round/>
            <a:tailEnd len="med" type="arrow" w="med"/>
          </a:ln>
        </p:spPr>
      </p:cxnSp>
      <p:cxnSp>
        <p:nvCxnSpPr>
          <p:cNvPr id="711" name="Straight Arrow Connector 103"/>
          <p:cNvCxnSpPr/>
          <p:nvPr/>
        </p:nvCxnSpPr>
        <p:spPr>
          <a:xfrm>
            <a:off x="2233440" y="2514600"/>
            <a:ext cx="360" cy="986400"/>
          </a:xfrm>
          <a:prstGeom prst="straightConnector1">
            <a:avLst/>
          </a:prstGeom>
          <a:ln>
            <a:solidFill>
              <a:srgbClr val="4f81bd"/>
            </a:solidFill>
            <a:round/>
            <a:tailEnd len="med" type="arrow" w="med"/>
          </a:ln>
        </p:spPr>
      </p:cxnSp>
      <p:cxnSp>
        <p:nvCxnSpPr>
          <p:cNvPr id="712" name="Straight Arrow Connector 106"/>
          <p:cNvCxnSpPr/>
          <p:nvPr/>
        </p:nvCxnSpPr>
        <p:spPr>
          <a:xfrm>
            <a:off x="3095640" y="2467800"/>
            <a:ext cx="360" cy="1033200"/>
          </a:xfrm>
          <a:prstGeom prst="straightConnector1">
            <a:avLst/>
          </a:prstGeom>
          <a:ln>
            <a:solidFill>
              <a:srgbClr val="4f81bd"/>
            </a:solidFill>
            <a:round/>
            <a:tailEnd len="med" type="arrow" w="med"/>
          </a:ln>
        </p:spPr>
      </p:cxnSp>
      <p:cxnSp>
        <p:nvCxnSpPr>
          <p:cNvPr id="713" name="Straight Arrow Connector 108"/>
          <p:cNvCxnSpPr/>
          <p:nvPr/>
        </p:nvCxnSpPr>
        <p:spPr>
          <a:xfrm flipH="1">
            <a:off x="3976920" y="2685600"/>
            <a:ext cx="14760" cy="815400"/>
          </a:xfrm>
          <a:prstGeom prst="straightConnector1">
            <a:avLst/>
          </a:prstGeom>
          <a:ln>
            <a:solidFill>
              <a:srgbClr val="4f81bd"/>
            </a:solidFill>
            <a:round/>
            <a:tailEnd len="med" type="arrow" w="med"/>
          </a:ln>
        </p:spPr>
      </p:cxnSp>
      <p:cxnSp>
        <p:nvCxnSpPr>
          <p:cNvPr id="714" name="Straight Arrow Connector 110"/>
          <p:cNvCxnSpPr/>
          <p:nvPr/>
        </p:nvCxnSpPr>
        <p:spPr>
          <a:xfrm>
            <a:off x="4719240" y="2153880"/>
            <a:ext cx="360" cy="1347120"/>
          </a:xfrm>
          <a:prstGeom prst="straightConnector1">
            <a:avLst/>
          </a:prstGeom>
          <a:ln>
            <a:solidFill>
              <a:srgbClr val="4f81bd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9" dur="2000" fill="hold"/>
                                        <p:tgtEl>
                                          <p:spTgt spid="640"/>
                                        </p:tgtEl>
                                      </p:cBhvr>
                                      <p:by x="75000" y="75000"/>
                                    </p:animScale>
                                  </p:childTnLst>
                                </p:cTn>
                              </p:par>
                              <p:par>
                                <p:cTn id="110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3.33333E-006 L -0.23108 -0.1162 E">
                                      <p:cBhvr>
                                        <p:cTn id="111" dur="20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20" dur="1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23" dur="1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26" dur="1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29" dur="1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32" dur="1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5" name="Picture 2" descr=""/>
          <p:cNvPicPr/>
          <p:nvPr/>
        </p:nvPicPr>
        <p:blipFill>
          <a:blip r:embed="rId1"/>
          <a:stretch/>
        </p:blipFill>
        <p:spPr>
          <a:xfrm>
            <a:off x="0" y="1011960"/>
            <a:ext cx="4691160" cy="2844360"/>
          </a:xfrm>
          <a:prstGeom prst="rect">
            <a:avLst/>
          </a:prstGeom>
          <a:ln w="0">
            <a:noFill/>
          </a:ln>
        </p:spPr>
      </p:pic>
      <p:sp>
        <p:nvSpPr>
          <p:cNvPr id="716" name="Oval 2047"/>
          <p:cNvSpPr/>
          <p:nvPr/>
        </p:nvSpPr>
        <p:spPr>
          <a:xfrm>
            <a:off x="3881160" y="1696680"/>
            <a:ext cx="169560" cy="104040"/>
          </a:xfrm>
          <a:prstGeom prst="ellipse">
            <a:avLst/>
          </a:prstGeom>
          <a:gradFill rotWithShape="0">
            <a:gsLst>
              <a:gs pos="0">
                <a:srgbClr val="3e7fcc"/>
              </a:gs>
              <a:gs pos="100000">
                <a:srgbClr val="a4c1ff"/>
              </a:gs>
            </a:gsLst>
            <a:lin ang="16200000"/>
          </a:gradFill>
          <a:ln>
            <a:solidFill>
              <a:srgbClr val="4a7ebb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28800" bIns="288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17" name="Oval 68"/>
          <p:cNvSpPr/>
          <p:nvPr/>
        </p:nvSpPr>
        <p:spPr>
          <a:xfrm>
            <a:off x="1090440" y="3490560"/>
            <a:ext cx="169560" cy="104040"/>
          </a:xfrm>
          <a:prstGeom prst="ellipse">
            <a:avLst/>
          </a:prstGeom>
          <a:gradFill rotWithShape="0">
            <a:gsLst>
              <a:gs pos="0">
                <a:srgbClr val="3e7fcc"/>
              </a:gs>
              <a:gs pos="100000">
                <a:srgbClr val="a4c1ff"/>
              </a:gs>
            </a:gsLst>
            <a:lin ang="16200000"/>
          </a:gradFill>
          <a:ln>
            <a:solidFill>
              <a:srgbClr val="4a7ebb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28800" bIns="288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18" name="Rectangle 2048"/>
          <p:cNvSpPr/>
          <p:nvPr/>
        </p:nvSpPr>
        <p:spPr>
          <a:xfrm>
            <a:off x="4728240" y="1084320"/>
            <a:ext cx="4290840" cy="41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57240">
              <a:lnSpc>
                <a:spcPct val="100000"/>
              </a:lnSpc>
              <a:tabLst>
                <a:tab algn="l" pos="0"/>
              </a:tabLst>
            </a:pPr>
            <a:r>
              <a:rPr b="1" lang="en-US" sz="1200" spc="-1" strike="noStrike">
                <a:solidFill>
                  <a:srgbClr val="800000"/>
                </a:solidFill>
                <a:latin typeface="Arial"/>
              </a:rPr>
              <a:t>Tier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14440" indent="-457200">
              <a:lnSpc>
                <a:spcPct val="100000"/>
              </a:lnSpc>
              <a:tabLst>
                <a:tab algn="l" pos="0"/>
              </a:tabLst>
            </a:pPr>
            <a:r>
              <a:rPr b="1" lang="en-US" sz="1200" spc="-1" strike="noStrike">
                <a:solidFill>
                  <a:srgbClr val="800000"/>
                </a:solidFill>
                <a:latin typeface="Arial"/>
              </a:rPr>
              <a:t>SSP5-8.5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inuity with CMIP5 and representative of high end of range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14440" indent="-457200">
              <a:lnSpc>
                <a:spcPct val="100000"/>
              </a:lnSpc>
              <a:tabLst>
                <a:tab algn="l" pos="0"/>
              </a:tabLst>
            </a:pPr>
            <a:r>
              <a:rPr b="1" lang="en-US" sz="1200" spc="-1" strike="noStrike">
                <a:solidFill>
                  <a:srgbClr val="800000"/>
                </a:solidFill>
                <a:latin typeface="Arial"/>
              </a:rPr>
              <a:t>SSP3-7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illing the gap; Representative of many unmitigated SSP baseline scenarios. Interesting afforestation/airpollution burden (LUMIP/AerChemMI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14440" indent="-457200">
              <a:lnSpc>
                <a:spcPct val="100000"/>
              </a:lnSpc>
              <a:tabLst>
                <a:tab algn="l" pos="0"/>
              </a:tabLst>
            </a:pPr>
            <a:r>
              <a:rPr b="1" lang="en-US" sz="1200" spc="-1" strike="noStrike">
                <a:solidFill>
                  <a:srgbClr val="800000"/>
                </a:solidFill>
                <a:latin typeface="Arial"/>
              </a:rPr>
              <a:t>SSP2-4.5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inuity with CMIP5 and interest from CORDEX/Decadal Prediction/DAMI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14440" indent="-457200">
              <a:lnSpc>
                <a:spcPct val="100000"/>
              </a:lnSpc>
              <a:tabLst>
                <a:tab algn="l" pos="0"/>
              </a:tabLst>
            </a:pPr>
            <a:r>
              <a:rPr b="1" lang="en-US" sz="1200" spc="-1" strike="noStrike">
                <a:solidFill>
                  <a:srgbClr val="800000"/>
                </a:solidFill>
                <a:latin typeface="Arial"/>
              </a:rPr>
              <a:t>SSP1-2.6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inuity with CMIP5 and representative of low end of ran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0520" indent="-233280">
              <a:lnSpc>
                <a:spcPct val="100000"/>
              </a:lnSpc>
              <a:tabLst>
                <a:tab algn="l" pos="0"/>
              </a:tabLst>
            </a:pPr>
            <a:r>
              <a:rPr b="1" lang="en-US" sz="1200" spc="-1" strike="noStrike">
                <a:solidFill>
                  <a:srgbClr val="800000"/>
                </a:solidFill>
                <a:latin typeface="Arial"/>
              </a:rPr>
              <a:t>Tier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14440" indent="-457200">
              <a:lnSpc>
                <a:spcPct val="100000"/>
              </a:lnSpc>
              <a:tabLst>
                <a:tab algn="l" pos="0"/>
              </a:tabLst>
            </a:pPr>
            <a:r>
              <a:rPr b="1" lang="en-US" sz="1200" spc="-1" strike="noStrike">
                <a:solidFill>
                  <a:srgbClr val="800000"/>
                </a:solidFill>
                <a:latin typeface="Arial"/>
              </a:rPr>
              <a:t>SSP1-6.0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inu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14440" indent="-457200">
              <a:lnSpc>
                <a:spcPct val="100000"/>
              </a:lnSpc>
              <a:tabLst>
                <a:tab algn="l" pos="0"/>
              </a:tabLst>
            </a:pPr>
            <a:r>
              <a:rPr b="1" lang="en-US" sz="1200" spc="-1" strike="noStrike">
                <a:solidFill>
                  <a:srgbClr val="800000"/>
                </a:solidFill>
                <a:latin typeface="Arial"/>
              </a:rPr>
              <a:t>SSP4-3.7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ling the Gap (interesting mitigation target less stringent than RCP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14440" indent="-457200">
              <a:lnSpc>
                <a:spcPct val="100000"/>
              </a:lnSpc>
              <a:tabLst>
                <a:tab algn="l" pos="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ershoot scenar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14440" indent="-457200">
              <a:lnSpc>
                <a:spcPct val="100000"/>
              </a:lnSpc>
              <a:tabLst>
                <a:tab algn="l" pos="0"/>
              </a:tabLst>
            </a:pPr>
            <a:r>
              <a:rPr b="1" lang="en-US" sz="1200" spc="-1" strike="noStrike">
                <a:solidFill>
                  <a:srgbClr val="800000"/>
                </a:solidFill>
                <a:latin typeface="Arial"/>
              </a:rPr>
              <a:t>SSP3-7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ensemble enriching the exploration of internal variabi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14440" indent="-457200">
              <a:lnSpc>
                <a:spcPct val="100000"/>
              </a:lnSpc>
              <a:tabLst>
                <a:tab algn="l" pos="0"/>
              </a:tabLst>
            </a:pPr>
            <a:r>
              <a:rPr b="1" lang="en-US" sz="1200" spc="-1" strike="noStrike">
                <a:solidFill>
                  <a:srgbClr val="800000"/>
                </a:solidFill>
                <a:latin typeface="Arial"/>
              </a:rPr>
              <a:t>Long-term extension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) to address slow-response components of the climate syste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14440" indent="-457200">
              <a:lnSpc>
                <a:spcPct val="100000"/>
              </a:lnSpc>
              <a:tabLst>
                <a:tab algn="l" pos="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ice sheet, sea level rise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14440" indent="-457200">
              <a:lnSpc>
                <a:spcPct val="100000"/>
              </a:lnSpc>
              <a:tabLst>
                <a:tab algn="l" pos="0"/>
              </a:tabLst>
            </a:pPr>
            <a:r>
              <a:rPr b="1" lang="en-US" sz="1200" spc="-1" strike="noStrike">
                <a:solidFill>
                  <a:srgbClr val="800000"/>
                </a:solidFill>
                <a:latin typeface="Arial"/>
              </a:rPr>
              <a:t>Oversh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Title 1"/>
          <p:cNvSpPr/>
          <p:nvPr/>
        </p:nvSpPr>
        <p:spPr>
          <a:xfrm>
            <a:off x="457200" y="39600"/>
            <a:ext cx="8229240" cy="11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 fontScale="86000"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ScenarioMIP Experimental Design</a:t>
            </a:r>
            <a:br>
              <a:rPr sz="36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Oval 15"/>
          <p:cNvSpPr/>
          <p:nvPr/>
        </p:nvSpPr>
        <p:spPr>
          <a:xfrm>
            <a:off x="1874520" y="2940840"/>
            <a:ext cx="169560" cy="104040"/>
          </a:xfrm>
          <a:prstGeom prst="ellipse">
            <a:avLst/>
          </a:prstGeom>
          <a:gradFill rotWithShape="0">
            <a:gsLst>
              <a:gs pos="0">
                <a:srgbClr val="3e7fcc"/>
              </a:gs>
              <a:gs pos="100000">
                <a:srgbClr val="a4c1ff"/>
              </a:gs>
            </a:gsLst>
            <a:lin ang="16200000"/>
          </a:gradFill>
          <a:ln>
            <a:solidFill>
              <a:srgbClr val="4a7ebb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28800" bIns="288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21" name="AutoShape 2"/>
          <p:cNvSpPr/>
          <p:nvPr/>
        </p:nvSpPr>
        <p:spPr>
          <a:xfrm>
            <a:off x="15552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2" name="Picture 4" descr="http://comicsforbeginners.com/files/2013/06/getting-critique-on-your-co.png"/>
          <p:cNvPicPr/>
          <p:nvPr/>
        </p:nvPicPr>
        <p:blipFill>
          <a:blip r:embed="rId2"/>
          <a:stretch/>
        </p:blipFill>
        <p:spPr>
          <a:xfrm>
            <a:off x="450360" y="4399200"/>
            <a:ext cx="3430440" cy="1869480"/>
          </a:xfrm>
          <a:prstGeom prst="rect">
            <a:avLst/>
          </a:prstGeom>
          <a:ln w="0">
            <a:noFill/>
          </a:ln>
        </p:spPr>
      </p:pic>
      <p:sp>
        <p:nvSpPr>
          <p:cNvPr id="723" name="Oval 2"/>
          <p:cNvSpPr/>
          <p:nvPr/>
        </p:nvSpPr>
        <p:spPr>
          <a:xfrm>
            <a:off x="1882440" y="3714120"/>
            <a:ext cx="179640" cy="128160"/>
          </a:xfrm>
          <a:prstGeom prst="ellipse">
            <a:avLst/>
          </a:prstGeom>
          <a:solidFill>
            <a:srgbClr val="ffff00"/>
          </a:solidFill>
          <a:ln>
            <a:solidFill>
              <a:srgbClr val="4a7ebb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24" name="Oval 19"/>
          <p:cNvSpPr/>
          <p:nvPr/>
        </p:nvSpPr>
        <p:spPr>
          <a:xfrm>
            <a:off x="1216440" y="2538000"/>
            <a:ext cx="169560" cy="104040"/>
          </a:xfrm>
          <a:prstGeom prst="ellipse">
            <a:avLst/>
          </a:prstGeom>
          <a:solidFill>
            <a:schemeClr val="accent3"/>
          </a:solidFill>
          <a:ln>
            <a:solidFill>
              <a:srgbClr val="4a7ebb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28800" bIns="288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25" name="Oval 20"/>
          <p:cNvSpPr/>
          <p:nvPr/>
        </p:nvSpPr>
        <p:spPr>
          <a:xfrm>
            <a:off x="3308400" y="3203280"/>
            <a:ext cx="169560" cy="104040"/>
          </a:xfrm>
          <a:prstGeom prst="ellipse">
            <a:avLst/>
          </a:prstGeom>
          <a:solidFill>
            <a:schemeClr val="accent3"/>
          </a:solidFill>
          <a:ln>
            <a:solidFill>
              <a:srgbClr val="4a7ebb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28800" bIns="288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26" name="Rectangle 3"/>
          <p:cNvSpPr/>
          <p:nvPr/>
        </p:nvSpPr>
        <p:spPr>
          <a:xfrm>
            <a:off x="4854600" y="5261400"/>
            <a:ext cx="173844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nl-NL" sz="1200" spc="-1" strike="noStrike">
                <a:solidFill>
                  <a:srgbClr val="800000"/>
                </a:solidFill>
                <a:latin typeface="Arial"/>
              </a:rPr>
              <a:t>Tier3 -&gt; 1.5</a:t>
            </a:r>
            <a:r>
              <a:rPr b="0" lang="nl-NL" sz="1200" spc="-1" strike="noStrike" baseline="30000">
                <a:solidFill>
                  <a:srgbClr val="800000"/>
                </a:solidFill>
                <a:latin typeface="Arial"/>
              </a:rPr>
              <a:t>o</a:t>
            </a:r>
            <a:r>
              <a:rPr b="0" lang="nl-NL" sz="1200" spc="-1" strike="noStrike">
                <a:solidFill>
                  <a:srgbClr val="800000"/>
                </a:solidFill>
                <a:latin typeface="Arial"/>
              </a:rPr>
              <a:t>C scenar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Rectangle 4"/>
          <p:cNvSpPr/>
          <p:nvPr/>
        </p:nvSpPr>
        <p:spPr>
          <a:xfrm>
            <a:off x="967320" y="1696680"/>
            <a:ext cx="585000" cy="235440"/>
          </a:xfrm>
          <a:prstGeom prst="rect">
            <a:avLst/>
          </a:prstGeom>
          <a:solidFill>
            <a:schemeClr val="bg1">
              <a:lumMod val="75000"/>
            </a:schemeClr>
          </a:solidFill>
          <a:ln>
            <a:solidFill>
              <a:srgbClr val="ffffff">
                <a:lumMod val="75000"/>
              </a:srgbClr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28" name="Rectangle 23"/>
          <p:cNvSpPr/>
          <p:nvPr/>
        </p:nvSpPr>
        <p:spPr>
          <a:xfrm>
            <a:off x="1666800" y="1696680"/>
            <a:ext cx="585000" cy="235440"/>
          </a:xfrm>
          <a:prstGeom prst="rect">
            <a:avLst/>
          </a:prstGeom>
          <a:solidFill>
            <a:schemeClr val="bg1">
              <a:lumMod val="75000"/>
            </a:schemeClr>
          </a:solidFill>
          <a:ln>
            <a:solidFill>
              <a:srgbClr val="ffffff">
                <a:lumMod val="75000"/>
              </a:srgbClr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29" name="Rectangle 24"/>
          <p:cNvSpPr/>
          <p:nvPr/>
        </p:nvSpPr>
        <p:spPr>
          <a:xfrm>
            <a:off x="2380680" y="3439080"/>
            <a:ext cx="585000" cy="235440"/>
          </a:xfrm>
          <a:prstGeom prst="rect">
            <a:avLst/>
          </a:prstGeom>
          <a:solidFill>
            <a:schemeClr val="bg1">
              <a:lumMod val="75000"/>
            </a:schemeClr>
          </a:solidFill>
          <a:ln>
            <a:solidFill>
              <a:srgbClr val="ffffff">
                <a:lumMod val="75000"/>
              </a:srgbClr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30" name="Rectangle 30"/>
          <p:cNvSpPr/>
          <p:nvPr/>
        </p:nvSpPr>
        <p:spPr>
          <a:xfrm>
            <a:off x="2395800" y="2057400"/>
            <a:ext cx="585000" cy="235440"/>
          </a:xfrm>
          <a:prstGeom prst="rect">
            <a:avLst/>
          </a:prstGeom>
          <a:solidFill>
            <a:schemeClr val="bg1"/>
          </a:solidFill>
          <a:ln>
            <a:solidFill>
              <a:srgbClr val="ffffff">
                <a:lumMod val="75000"/>
              </a:srgbClr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31" name="Rectangle 28"/>
          <p:cNvSpPr/>
          <p:nvPr/>
        </p:nvSpPr>
        <p:spPr>
          <a:xfrm>
            <a:off x="967320" y="2057400"/>
            <a:ext cx="585000" cy="235440"/>
          </a:xfrm>
          <a:prstGeom prst="rect">
            <a:avLst/>
          </a:prstGeom>
          <a:solidFill>
            <a:schemeClr val="bg1"/>
          </a:solidFill>
          <a:ln>
            <a:solidFill>
              <a:srgbClr val="ffffff">
                <a:lumMod val="75000"/>
              </a:srgbClr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32" name="Rectangle 29"/>
          <p:cNvSpPr/>
          <p:nvPr/>
        </p:nvSpPr>
        <p:spPr>
          <a:xfrm>
            <a:off x="1666800" y="2057400"/>
            <a:ext cx="585000" cy="235440"/>
          </a:xfrm>
          <a:prstGeom prst="rect">
            <a:avLst/>
          </a:prstGeom>
          <a:solidFill>
            <a:schemeClr val="bg1"/>
          </a:solidFill>
          <a:ln>
            <a:solidFill>
              <a:srgbClr val="ffffff">
                <a:lumMod val="75000"/>
              </a:srgbClr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33" name="Rectangle 31"/>
          <p:cNvSpPr/>
          <p:nvPr/>
        </p:nvSpPr>
        <p:spPr>
          <a:xfrm>
            <a:off x="3100680" y="2057400"/>
            <a:ext cx="585000" cy="235440"/>
          </a:xfrm>
          <a:prstGeom prst="rect">
            <a:avLst/>
          </a:prstGeom>
          <a:solidFill>
            <a:schemeClr val="bg1"/>
          </a:solidFill>
          <a:ln>
            <a:solidFill>
              <a:srgbClr val="ffffff">
                <a:lumMod val="75000"/>
              </a:srgbClr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34" name="Rectangle 32"/>
          <p:cNvSpPr/>
          <p:nvPr/>
        </p:nvSpPr>
        <p:spPr>
          <a:xfrm>
            <a:off x="3809880" y="2057400"/>
            <a:ext cx="585000" cy="235440"/>
          </a:xfrm>
          <a:prstGeom prst="rect">
            <a:avLst/>
          </a:prstGeom>
          <a:solidFill>
            <a:schemeClr val="bg1"/>
          </a:solidFill>
          <a:ln>
            <a:solidFill>
              <a:srgbClr val="ffffff">
                <a:lumMod val="75000"/>
              </a:srgbClr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35" name="Rectangle 25"/>
          <p:cNvSpPr/>
          <p:nvPr/>
        </p:nvSpPr>
        <p:spPr>
          <a:xfrm>
            <a:off x="2346480" y="1696680"/>
            <a:ext cx="585000" cy="235440"/>
          </a:xfrm>
          <a:prstGeom prst="rect">
            <a:avLst/>
          </a:prstGeom>
          <a:solidFill>
            <a:schemeClr val="bg1">
              <a:lumMod val="75000"/>
            </a:schemeClr>
          </a:solidFill>
          <a:ln>
            <a:solidFill>
              <a:srgbClr val="ffffff">
                <a:lumMod val="75000"/>
              </a:srgbClr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36" name="Rectangle 26"/>
          <p:cNvSpPr/>
          <p:nvPr/>
        </p:nvSpPr>
        <p:spPr>
          <a:xfrm>
            <a:off x="3042360" y="1696680"/>
            <a:ext cx="585000" cy="235440"/>
          </a:xfrm>
          <a:prstGeom prst="rect">
            <a:avLst/>
          </a:prstGeom>
          <a:solidFill>
            <a:schemeClr val="bg1">
              <a:lumMod val="75000"/>
            </a:schemeClr>
          </a:solidFill>
          <a:ln>
            <a:solidFill>
              <a:srgbClr val="ffffff">
                <a:lumMod val="75000"/>
              </a:srgbClr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37" name="Oval 27"/>
          <p:cNvSpPr/>
          <p:nvPr/>
        </p:nvSpPr>
        <p:spPr>
          <a:xfrm>
            <a:off x="4153680" y="1696680"/>
            <a:ext cx="169560" cy="104040"/>
          </a:xfrm>
          <a:prstGeom prst="ellipse">
            <a:avLst/>
          </a:prstGeom>
          <a:solidFill>
            <a:schemeClr val="accent3"/>
          </a:solidFill>
          <a:ln>
            <a:solidFill>
              <a:srgbClr val="4a7ebb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28800" bIns="288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38" name="Oval 69"/>
          <p:cNvSpPr/>
          <p:nvPr/>
        </p:nvSpPr>
        <p:spPr>
          <a:xfrm>
            <a:off x="2505600" y="2127960"/>
            <a:ext cx="169560" cy="104040"/>
          </a:xfrm>
          <a:prstGeom prst="ellipse">
            <a:avLst/>
          </a:prstGeom>
          <a:gradFill rotWithShape="0">
            <a:gsLst>
              <a:gs pos="0">
                <a:srgbClr val="3e7fcc"/>
              </a:gs>
              <a:gs pos="100000">
                <a:srgbClr val="a4c1ff"/>
              </a:gs>
            </a:gsLst>
            <a:lin ang="16200000"/>
          </a:gradFill>
          <a:ln>
            <a:solidFill>
              <a:srgbClr val="4a7ebb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28800" bIns="288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39" name="Oval 33"/>
          <p:cNvSpPr/>
          <p:nvPr/>
        </p:nvSpPr>
        <p:spPr>
          <a:xfrm>
            <a:off x="2762280" y="2127960"/>
            <a:ext cx="169560" cy="104040"/>
          </a:xfrm>
          <a:prstGeom prst="ellipse">
            <a:avLst/>
          </a:prstGeom>
          <a:solidFill>
            <a:schemeClr val="accent3"/>
          </a:solidFill>
          <a:ln>
            <a:solidFill>
              <a:srgbClr val="4a7ebb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28800" bIns="288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40" name="Oval 34"/>
          <p:cNvSpPr/>
          <p:nvPr/>
        </p:nvSpPr>
        <p:spPr>
          <a:xfrm>
            <a:off x="1314360" y="3490560"/>
            <a:ext cx="169560" cy="104040"/>
          </a:xfrm>
          <a:prstGeom prst="ellipse">
            <a:avLst/>
          </a:prstGeom>
          <a:solidFill>
            <a:schemeClr val="accent3"/>
          </a:solidFill>
          <a:ln>
            <a:solidFill>
              <a:srgbClr val="4a7ebb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28800" bIns="288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41" name="TextBox 5"/>
          <p:cNvSpPr/>
          <p:nvPr/>
        </p:nvSpPr>
        <p:spPr>
          <a:xfrm>
            <a:off x="4027320" y="1842120"/>
            <a:ext cx="5256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Ex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TextBox 36"/>
          <p:cNvSpPr/>
          <p:nvPr/>
        </p:nvSpPr>
        <p:spPr>
          <a:xfrm>
            <a:off x="2729520" y="2227320"/>
            <a:ext cx="502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TextBox 37"/>
          <p:cNvSpPr/>
          <p:nvPr/>
        </p:nvSpPr>
        <p:spPr>
          <a:xfrm>
            <a:off x="1265400" y="3121200"/>
            <a:ext cx="9993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Ext + 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4" name="Picture 6" descr="http://d2x79bjupkp9on.cloudfront.net/wp-content/uploads/mostpopularbadge.jpg"/>
          <p:cNvPicPr/>
          <p:nvPr/>
        </p:nvPicPr>
        <p:blipFill>
          <a:blip r:embed="rId3"/>
          <a:stretch/>
        </p:blipFill>
        <p:spPr>
          <a:xfrm>
            <a:off x="5174640" y="2219400"/>
            <a:ext cx="285732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Text Box 2"/>
          <p:cNvSpPr/>
          <p:nvPr/>
        </p:nvSpPr>
        <p:spPr>
          <a:xfrm>
            <a:off x="278280" y="-7200"/>
            <a:ext cx="777204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007bc7"/>
                </a:solidFill>
                <a:latin typeface="Arial"/>
              </a:rPr>
              <a:t>World CO</a:t>
            </a:r>
            <a:r>
              <a:rPr b="1" lang="en-US" sz="4000" spc="-1" strike="noStrike" baseline="-25000">
                <a:solidFill>
                  <a:srgbClr val="007bc7"/>
                </a:solidFill>
                <a:latin typeface="Arial"/>
              </a:rPr>
              <a:t>2</a:t>
            </a:r>
            <a:r>
              <a:rPr b="1" lang="en-US" sz="4000" spc="-1" strike="noStrike">
                <a:solidFill>
                  <a:srgbClr val="007bc7"/>
                </a:solidFill>
                <a:latin typeface="Arial"/>
              </a:rPr>
              <a:t> Emiss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TextBox 1"/>
          <p:cNvSpPr/>
          <p:nvPr/>
        </p:nvSpPr>
        <p:spPr>
          <a:xfrm>
            <a:off x="6951240" y="1446120"/>
            <a:ext cx="2074320" cy="19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Harmonisation with historic emission and concentration 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TextBox 71"/>
          <p:cNvSpPr/>
          <p:nvPr/>
        </p:nvSpPr>
        <p:spPr>
          <a:xfrm>
            <a:off x="7013520" y="3526920"/>
            <a:ext cx="194976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Translation of future emissions into concent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8" name="Content Placeholder 3" descr=""/>
          <p:cNvPicPr/>
          <p:nvPr/>
        </p:nvPicPr>
        <p:blipFill>
          <a:blip r:embed="rId1"/>
          <a:stretch/>
        </p:blipFill>
        <p:spPr>
          <a:xfrm>
            <a:off x="0" y="1177560"/>
            <a:ext cx="6644880" cy="49849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Text Box 6"/>
          <p:cNvSpPr/>
          <p:nvPr/>
        </p:nvSpPr>
        <p:spPr>
          <a:xfrm>
            <a:off x="519480" y="5739840"/>
            <a:ext cx="46296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Dialog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Freeform 7"/>
          <p:cNvSpPr/>
          <p:nvPr/>
        </p:nvSpPr>
        <p:spPr>
          <a:xfrm>
            <a:off x="750960" y="5660640"/>
            <a:ext cx="360" cy="50400"/>
          </a:xfrm>
          <a:custGeom>
            <a:avLst/>
            <a:gdLst>
              <a:gd name="textAreaLeft" fmla="*/ 0 w 360"/>
              <a:gd name="textAreaRight" fmla="*/ 720 w 360"/>
              <a:gd name="textAreaTop" fmla="*/ 0 h 50400"/>
              <a:gd name="textAreaBottom" fmla="*/ 50760 h 50400"/>
            </a:gdLst>
            <a:ahLst/>
            <a:rect l="textAreaLeft" t="textAreaTop" r="textAreaRight" b="textAreaBottom"/>
            <a:pathLst>
              <a:path w="0" h="32">
                <a:moveTo>
                  <a:pt x="0" y="0"/>
                </a:moveTo>
                <a:lnTo>
                  <a:pt x="0" y="32"/>
                </a:lnTo>
              </a:path>
            </a:pathLst>
          </a:custGeom>
          <a:noFill/>
          <a:ln w="317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Text Box 8"/>
          <p:cNvSpPr/>
          <p:nvPr/>
        </p:nvSpPr>
        <p:spPr>
          <a:xfrm>
            <a:off x="1522800" y="5739840"/>
            <a:ext cx="46296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Dialog"/>
              </a:rPr>
              <a:t>20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Freeform 9"/>
          <p:cNvSpPr/>
          <p:nvPr/>
        </p:nvSpPr>
        <p:spPr>
          <a:xfrm>
            <a:off x="1754280" y="5660640"/>
            <a:ext cx="360" cy="50400"/>
          </a:xfrm>
          <a:custGeom>
            <a:avLst/>
            <a:gdLst>
              <a:gd name="textAreaLeft" fmla="*/ 0 w 360"/>
              <a:gd name="textAreaRight" fmla="*/ 720 w 360"/>
              <a:gd name="textAreaTop" fmla="*/ 0 h 50400"/>
              <a:gd name="textAreaBottom" fmla="*/ 50760 h 50400"/>
            </a:gdLst>
            <a:ahLst/>
            <a:rect l="textAreaLeft" t="textAreaTop" r="textAreaRight" b="textAreaBottom"/>
            <a:pathLst>
              <a:path w="0" h="32">
                <a:moveTo>
                  <a:pt x="0" y="0"/>
                </a:moveTo>
                <a:lnTo>
                  <a:pt x="0" y="32"/>
                </a:lnTo>
              </a:path>
            </a:pathLst>
          </a:custGeom>
          <a:noFill/>
          <a:ln w="317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Text Box 10"/>
          <p:cNvSpPr/>
          <p:nvPr/>
        </p:nvSpPr>
        <p:spPr>
          <a:xfrm>
            <a:off x="2538720" y="5739840"/>
            <a:ext cx="46296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Dialog"/>
              </a:rPr>
              <a:t>204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Freeform 11"/>
          <p:cNvSpPr/>
          <p:nvPr/>
        </p:nvSpPr>
        <p:spPr>
          <a:xfrm>
            <a:off x="2770200" y="5660640"/>
            <a:ext cx="360" cy="50400"/>
          </a:xfrm>
          <a:custGeom>
            <a:avLst/>
            <a:gdLst>
              <a:gd name="textAreaLeft" fmla="*/ 0 w 360"/>
              <a:gd name="textAreaRight" fmla="*/ 720 w 360"/>
              <a:gd name="textAreaTop" fmla="*/ 0 h 50400"/>
              <a:gd name="textAreaBottom" fmla="*/ 50760 h 50400"/>
            </a:gdLst>
            <a:ahLst/>
            <a:rect l="textAreaLeft" t="textAreaTop" r="textAreaRight" b="textAreaBottom"/>
            <a:pathLst>
              <a:path w="0" h="32">
                <a:moveTo>
                  <a:pt x="0" y="0"/>
                </a:moveTo>
                <a:lnTo>
                  <a:pt x="0" y="32"/>
                </a:lnTo>
              </a:path>
            </a:pathLst>
          </a:custGeom>
          <a:noFill/>
          <a:ln w="317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Text Box 12"/>
          <p:cNvSpPr/>
          <p:nvPr/>
        </p:nvSpPr>
        <p:spPr>
          <a:xfrm>
            <a:off x="3542040" y="5739840"/>
            <a:ext cx="46296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Dialog"/>
              </a:rPr>
              <a:t>206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Freeform 13"/>
          <p:cNvSpPr/>
          <p:nvPr/>
        </p:nvSpPr>
        <p:spPr>
          <a:xfrm>
            <a:off x="3773520" y="5660640"/>
            <a:ext cx="360" cy="50400"/>
          </a:xfrm>
          <a:custGeom>
            <a:avLst/>
            <a:gdLst>
              <a:gd name="textAreaLeft" fmla="*/ 0 w 360"/>
              <a:gd name="textAreaRight" fmla="*/ 720 w 360"/>
              <a:gd name="textAreaTop" fmla="*/ 0 h 50400"/>
              <a:gd name="textAreaBottom" fmla="*/ 50760 h 50400"/>
            </a:gdLst>
            <a:ahLst/>
            <a:rect l="textAreaLeft" t="textAreaTop" r="textAreaRight" b="textAreaBottom"/>
            <a:pathLst>
              <a:path w="0" h="32">
                <a:moveTo>
                  <a:pt x="0" y="0"/>
                </a:moveTo>
                <a:lnTo>
                  <a:pt x="0" y="32"/>
                </a:lnTo>
              </a:path>
            </a:pathLst>
          </a:custGeom>
          <a:noFill/>
          <a:ln w="317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Text Box 14"/>
          <p:cNvSpPr/>
          <p:nvPr/>
        </p:nvSpPr>
        <p:spPr>
          <a:xfrm>
            <a:off x="4557960" y="5739840"/>
            <a:ext cx="46296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Dialog"/>
              </a:rPr>
              <a:t>208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Freeform 15"/>
          <p:cNvSpPr/>
          <p:nvPr/>
        </p:nvSpPr>
        <p:spPr>
          <a:xfrm>
            <a:off x="4789440" y="5660640"/>
            <a:ext cx="360" cy="50400"/>
          </a:xfrm>
          <a:custGeom>
            <a:avLst/>
            <a:gdLst>
              <a:gd name="textAreaLeft" fmla="*/ 0 w 360"/>
              <a:gd name="textAreaRight" fmla="*/ 720 w 360"/>
              <a:gd name="textAreaTop" fmla="*/ 0 h 50400"/>
              <a:gd name="textAreaBottom" fmla="*/ 50760 h 50400"/>
            </a:gdLst>
            <a:ahLst/>
            <a:rect l="textAreaLeft" t="textAreaTop" r="textAreaRight" b="textAreaBottom"/>
            <a:pathLst>
              <a:path w="0" h="32">
                <a:moveTo>
                  <a:pt x="0" y="0"/>
                </a:moveTo>
                <a:lnTo>
                  <a:pt x="0" y="32"/>
                </a:lnTo>
              </a:path>
            </a:pathLst>
          </a:custGeom>
          <a:noFill/>
          <a:ln w="317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Text Box 16"/>
          <p:cNvSpPr/>
          <p:nvPr/>
        </p:nvSpPr>
        <p:spPr>
          <a:xfrm>
            <a:off x="5573880" y="5739840"/>
            <a:ext cx="46296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Dialog"/>
              </a:rPr>
              <a:t>2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Freeform 17"/>
          <p:cNvSpPr/>
          <p:nvPr/>
        </p:nvSpPr>
        <p:spPr>
          <a:xfrm>
            <a:off x="5805360" y="5660640"/>
            <a:ext cx="360" cy="50400"/>
          </a:xfrm>
          <a:custGeom>
            <a:avLst/>
            <a:gdLst>
              <a:gd name="textAreaLeft" fmla="*/ 0 w 360"/>
              <a:gd name="textAreaRight" fmla="*/ 720 w 360"/>
              <a:gd name="textAreaTop" fmla="*/ 0 h 50400"/>
              <a:gd name="textAreaBottom" fmla="*/ 50760 h 50400"/>
            </a:gdLst>
            <a:ahLst/>
            <a:rect l="textAreaLeft" t="textAreaTop" r="textAreaRight" b="textAreaBottom"/>
            <a:pathLst>
              <a:path w="0" h="32">
                <a:moveTo>
                  <a:pt x="0" y="0"/>
                </a:moveTo>
                <a:lnTo>
                  <a:pt x="0" y="32"/>
                </a:lnTo>
              </a:path>
            </a:pathLst>
          </a:custGeom>
          <a:noFill/>
          <a:ln w="317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Text Box 18"/>
          <p:cNvSpPr/>
          <p:nvPr/>
        </p:nvSpPr>
        <p:spPr>
          <a:xfrm rot="16200000">
            <a:off x="-640440" y="3373920"/>
            <a:ext cx="1588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Dialog"/>
              </a:rPr>
              <a:t>million ha (2005=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Text Box 19"/>
          <p:cNvSpPr/>
          <p:nvPr/>
        </p:nvSpPr>
        <p:spPr>
          <a:xfrm>
            <a:off x="379080" y="5523840"/>
            <a:ext cx="2862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Dialog"/>
              </a:rPr>
              <a:t>0.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Freeform 20"/>
          <p:cNvSpPr/>
          <p:nvPr/>
        </p:nvSpPr>
        <p:spPr>
          <a:xfrm>
            <a:off x="700200" y="5660640"/>
            <a:ext cx="50400" cy="360"/>
          </a:xfrm>
          <a:custGeom>
            <a:avLst/>
            <a:gdLst>
              <a:gd name="textAreaLeft" fmla="*/ 0 w 50400"/>
              <a:gd name="textAreaRight" fmla="*/ 50760 w 50400"/>
              <a:gd name="textAreaTop" fmla="*/ 0 h 360"/>
              <a:gd name="textAreaBottom" fmla="*/ 720 h 360"/>
            </a:gdLst>
            <a:ahLst/>
            <a:rect l="textAreaLeft" t="textAreaTop" r="textAreaRight" b="textAreaBottom"/>
            <a:pathLst>
              <a:path w="32" h="0">
                <a:moveTo>
                  <a:pt x="32" y="0"/>
                </a:moveTo>
                <a:lnTo>
                  <a:pt x="0" y="0"/>
                </a:lnTo>
              </a:path>
            </a:pathLst>
          </a:custGeom>
          <a:noFill/>
          <a:ln w="317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280" bIns="-4428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Text Box 21"/>
          <p:cNvSpPr/>
          <p:nvPr/>
        </p:nvSpPr>
        <p:spPr>
          <a:xfrm>
            <a:off x="379080" y="4977720"/>
            <a:ext cx="2862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Dialog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Freeform 22"/>
          <p:cNvSpPr/>
          <p:nvPr/>
        </p:nvSpPr>
        <p:spPr>
          <a:xfrm>
            <a:off x="700200" y="5114520"/>
            <a:ext cx="50400" cy="360"/>
          </a:xfrm>
          <a:custGeom>
            <a:avLst/>
            <a:gdLst>
              <a:gd name="textAreaLeft" fmla="*/ 0 w 50400"/>
              <a:gd name="textAreaRight" fmla="*/ 50760 w 50400"/>
              <a:gd name="textAreaTop" fmla="*/ 0 h 360"/>
              <a:gd name="textAreaBottom" fmla="*/ 720 h 360"/>
            </a:gdLst>
            <a:ahLst/>
            <a:rect l="textAreaLeft" t="textAreaTop" r="textAreaRight" b="textAreaBottom"/>
            <a:pathLst>
              <a:path w="32" h="0">
                <a:moveTo>
                  <a:pt x="32" y="0"/>
                </a:moveTo>
                <a:lnTo>
                  <a:pt x="0" y="0"/>
                </a:lnTo>
              </a:path>
            </a:pathLst>
          </a:custGeom>
          <a:noFill/>
          <a:ln w="317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280" bIns="-4428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Text Box 23"/>
          <p:cNvSpPr/>
          <p:nvPr/>
        </p:nvSpPr>
        <p:spPr>
          <a:xfrm>
            <a:off x="379080" y="4431600"/>
            <a:ext cx="2862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Dialog"/>
              </a:rPr>
              <a:t>0.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Freeform 24"/>
          <p:cNvSpPr/>
          <p:nvPr/>
        </p:nvSpPr>
        <p:spPr>
          <a:xfrm>
            <a:off x="700200" y="4568400"/>
            <a:ext cx="50400" cy="360"/>
          </a:xfrm>
          <a:custGeom>
            <a:avLst/>
            <a:gdLst>
              <a:gd name="textAreaLeft" fmla="*/ 0 w 50400"/>
              <a:gd name="textAreaRight" fmla="*/ 50760 w 50400"/>
              <a:gd name="textAreaTop" fmla="*/ 0 h 360"/>
              <a:gd name="textAreaBottom" fmla="*/ 720 h 360"/>
            </a:gdLst>
            <a:ahLst/>
            <a:rect l="textAreaLeft" t="textAreaTop" r="textAreaRight" b="textAreaBottom"/>
            <a:pathLst>
              <a:path w="32" h="0">
                <a:moveTo>
                  <a:pt x="32" y="0"/>
                </a:moveTo>
                <a:lnTo>
                  <a:pt x="0" y="0"/>
                </a:lnTo>
              </a:path>
            </a:pathLst>
          </a:custGeom>
          <a:noFill/>
          <a:ln w="317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280" bIns="-4428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Text Box 25"/>
          <p:cNvSpPr/>
          <p:nvPr/>
        </p:nvSpPr>
        <p:spPr>
          <a:xfrm>
            <a:off x="379080" y="3885480"/>
            <a:ext cx="2862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Dialog"/>
              </a:rPr>
              <a:t>1.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Freeform 26"/>
          <p:cNvSpPr/>
          <p:nvPr/>
        </p:nvSpPr>
        <p:spPr>
          <a:xfrm>
            <a:off x="700200" y="4022280"/>
            <a:ext cx="50400" cy="360"/>
          </a:xfrm>
          <a:custGeom>
            <a:avLst/>
            <a:gdLst>
              <a:gd name="textAreaLeft" fmla="*/ 0 w 50400"/>
              <a:gd name="textAreaRight" fmla="*/ 50760 w 50400"/>
              <a:gd name="textAreaTop" fmla="*/ 0 h 360"/>
              <a:gd name="textAreaBottom" fmla="*/ 720 h 360"/>
            </a:gdLst>
            <a:ahLst/>
            <a:rect l="textAreaLeft" t="textAreaTop" r="textAreaRight" b="textAreaBottom"/>
            <a:pathLst>
              <a:path w="32" h="0">
                <a:moveTo>
                  <a:pt x="32" y="0"/>
                </a:moveTo>
                <a:lnTo>
                  <a:pt x="0" y="0"/>
                </a:lnTo>
              </a:path>
            </a:pathLst>
          </a:custGeom>
          <a:noFill/>
          <a:ln w="317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280" bIns="-4428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Text Box 27"/>
          <p:cNvSpPr/>
          <p:nvPr/>
        </p:nvSpPr>
        <p:spPr>
          <a:xfrm>
            <a:off x="379080" y="3352320"/>
            <a:ext cx="2862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Dialog"/>
              </a:rPr>
              <a:t>1.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Freeform 28"/>
          <p:cNvSpPr/>
          <p:nvPr/>
        </p:nvSpPr>
        <p:spPr>
          <a:xfrm>
            <a:off x="700200" y="3488760"/>
            <a:ext cx="50400" cy="360"/>
          </a:xfrm>
          <a:custGeom>
            <a:avLst/>
            <a:gdLst>
              <a:gd name="textAreaLeft" fmla="*/ 0 w 50400"/>
              <a:gd name="textAreaRight" fmla="*/ 50760 w 50400"/>
              <a:gd name="textAreaTop" fmla="*/ 0 h 360"/>
              <a:gd name="textAreaBottom" fmla="*/ 720 h 360"/>
            </a:gdLst>
            <a:ahLst/>
            <a:rect l="textAreaLeft" t="textAreaTop" r="textAreaRight" b="textAreaBottom"/>
            <a:pathLst>
              <a:path w="32" h="0">
                <a:moveTo>
                  <a:pt x="32" y="0"/>
                </a:moveTo>
                <a:lnTo>
                  <a:pt x="0" y="0"/>
                </a:lnTo>
              </a:path>
            </a:pathLst>
          </a:custGeom>
          <a:noFill/>
          <a:ln w="317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280" bIns="-4428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Text Box 29"/>
          <p:cNvSpPr/>
          <p:nvPr/>
        </p:nvSpPr>
        <p:spPr>
          <a:xfrm>
            <a:off x="379080" y="2806200"/>
            <a:ext cx="2862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Dialog"/>
              </a:rPr>
              <a:t>1.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Freeform 30"/>
          <p:cNvSpPr/>
          <p:nvPr/>
        </p:nvSpPr>
        <p:spPr>
          <a:xfrm>
            <a:off x="700200" y="2942640"/>
            <a:ext cx="50400" cy="360"/>
          </a:xfrm>
          <a:custGeom>
            <a:avLst/>
            <a:gdLst>
              <a:gd name="textAreaLeft" fmla="*/ 0 w 50400"/>
              <a:gd name="textAreaRight" fmla="*/ 50760 w 50400"/>
              <a:gd name="textAreaTop" fmla="*/ 0 h 360"/>
              <a:gd name="textAreaBottom" fmla="*/ 720 h 360"/>
            </a:gdLst>
            <a:ahLst/>
            <a:rect l="textAreaLeft" t="textAreaTop" r="textAreaRight" b="textAreaBottom"/>
            <a:pathLst>
              <a:path w="32" h="0">
                <a:moveTo>
                  <a:pt x="32" y="0"/>
                </a:moveTo>
                <a:lnTo>
                  <a:pt x="0" y="0"/>
                </a:lnTo>
              </a:path>
            </a:pathLst>
          </a:custGeom>
          <a:noFill/>
          <a:ln w="317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280" bIns="-4428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Text Box 31"/>
          <p:cNvSpPr/>
          <p:nvPr/>
        </p:nvSpPr>
        <p:spPr>
          <a:xfrm>
            <a:off x="379080" y="2260080"/>
            <a:ext cx="2862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Dialog"/>
              </a:rPr>
              <a:t>1.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Freeform 32"/>
          <p:cNvSpPr/>
          <p:nvPr/>
        </p:nvSpPr>
        <p:spPr>
          <a:xfrm>
            <a:off x="700200" y="2396520"/>
            <a:ext cx="50400" cy="360"/>
          </a:xfrm>
          <a:custGeom>
            <a:avLst/>
            <a:gdLst>
              <a:gd name="textAreaLeft" fmla="*/ 0 w 50400"/>
              <a:gd name="textAreaRight" fmla="*/ 50760 w 50400"/>
              <a:gd name="textAreaTop" fmla="*/ 0 h 360"/>
              <a:gd name="textAreaBottom" fmla="*/ 720 h 360"/>
            </a:gdLst>
            <a:ahLst/>
            <a:rect l="textAreaLeft" t="textAreaTop" r="textAreaRight" b="textAreaBottom"/>
            <a:pathLst>
              <a:path w="32" h="0">
                <a:moveTo>
                  <a:pt x="32" y="0"/>
                </a:moveTo>
                <a:lnTo>
                  <a:pt x="0" y="0"/>
                </a:lnTo>
              </a:path>
            </a:pathLst>
          </a:custGeom>
          <a:noFill/>
          <a:ln w="317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280" bIns="-4428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Text Box 33"/>
          <p:cNvSpPr/>
          <p:nvPr/>
        </p:nvSpPr>
        <p:spPr>
          <a:xfrm>
            <a:off x="379080" y="1713960"/>
            <a:ext cx="2862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Dialog"/>
              </a:rPr>
              <a:t>1.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Freeform 34"/>
          <p:cNvSpPr/>
          <p:nvPr/>
        </p:nvSpPr>
        <p:spPr>
          <a:xfrm>
            <a:off x="700200" y="1850760"/>
            <a:ext cx="50400" cy="360"/>
          </a:xfrm>
          <a:custGeom>
            <a:avLst/>
            <a:gdLst>
              <a:gd name="textAreaLeft" fmla="*/ 0 w 50400"/>
              <a:gd name="textAreaRight" fmla="*/ 50760 w 50400"/>
              <a:gd name="textAreaTop" fmla="*/ 0 h 360"/>
              <a:gd name="textAreaBottom" fmla="*/ 720 h 360"/>
            </a:gdLst>
            <a:ahLst/>
            <a:rect l="textAreaLeft" t="textAreaTop" r="textAreaRight" b="textAreaBottom"/>
            <a:pathLst>
              <a:path w="32" h="0">
                <a:moveTo>
                  <a:pt x="32" y="0"/>
                </a:moveTo>
                <a:lnTo>
                  <a:pt x="0" y="0"/>
                </a:lnTo>
              </a:path>
            </a:pathLst>
          </a:custGeom>
          <a:noFill/>
          <a:ln w="317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280" bIns="-4428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Text Box 35"/>
          <p:cNvSpPr/>
          <p:nvPr/>
        </p:nvSpPr>
        <p:spPr>
          <a:xfrm>
            <a:off x="379080" y="1180440"/>
            <a:ext cx="2862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Dialog"/>
              </a:rPr>
              <a:t>1.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Freeform 36"/>
          <p:cNvSpPr/>
          <p:nvPr/>
        </p:nvSpPr>
        <p:spPr>
          <a:xfrm>
            <a:off x="700200" y="1317240"/>
            <a:ext cx="50400" cy="360"/>
          </a:xfrm>
          <a:custGeom>
            <a:avLst/>
            <a:gdLst>
              <a:gd name="textAreaLeft" fmla="*/ 0 w 50400"/>
              <a:gd name="textAreaRight" fmla="*/ 50760 w 50400"/>
              <a:gd name="textAreaTop" fmla="*/ 0 h 360"/>
              <a:gd name="textAreaBottom" fmla="*/ 720 h 360"/>
            </a:gdLst>
            <a:ahLst/>
            <a:rect l="textAreaLeft" t="textAreaTop" r="textAreaRight" b="textAreaBottom"/>
            <a:pathLst>
              <a:path w="32" h="0">
                <a:moveTo>
                  <a:pt x="32" y="0"/>
                </a:moveTo>
                <a:lnTo>
                  <a:pt x="0" y="0"/>
                </a:lnTo>
              </a:path>
            </a:pathLst>
          </a:custGeom>
          <a:noFill/>
          <a:ln w="317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280" bIns="-4428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Freeform 37"/>
          <p:cNvSpPr/>
          <p:nvPr/>
        </p:nvSpPr>
        <p:spPr>
          <a:xfrm>
            <a:off x="750960" y="1317240"/>
            <a:ext cx="5054400" cy="4343040"/>
          </a:xfrm>
          <a:custGeom>
            <a:avLst/>
            <a:gdLst>
              <a:gd name="textAreaLeft" fmla="*/ 0 w 5054400"/>
              <a:gd name="textAreaRight" fmla="*/ 5054760 w 5054400"/>
              <a:gd name="textAreaTop" fmla="*/ 0 h 4343040"/>
              <a:gd name="textAreaBottom" fmla="*/ 4343400 h 4343040"/>
            </a:gdLst>
            <a:ahLst/>
            <a:rect l="textAreaLeft" t="textAreaTop" r="textAreaRight" b="textAreaBottom"/>
            <a:pathLst>
              <a:path w="3184" h="2736">
                <a:moveTo>
                  <a:pt x="0" y="0"/>
                </a:moveTo>
                <a:lnTo>
                  <a:pt x="3184" y="0"/>
                </a:lnTo>
                <a:lnTo>
                  <a:pt x="3184" y="2736"/>
                </a:lnTo>
                <a:lnTo>
                  <a:pt x="0" y="2736"/>
                </a:lnTo>
                <a:lnTo>
                  <a:pt x="0" y="0"/>
                </a:lnTo>
                <a:close/>
              </a:path>
            </a:pathLst>
          </a:custGeom>
          <a:noFill/>
          <a:ln w="317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Freeform 38"/>
          <p:cNvSpPr/>
          <p:nvPr/>
        </p:nvSpPr>
        <p:spPr>
          <a:xfrm>
            <a:off x="1003320" y="2558520"/>
            <a:ext cx="4801680" cy="1707840"/>
          </a:xfrm>
          <a:custGeom>
            <a:avLst/>
            <a:gdLst>
              <a:gd name="textAreaLeft" fmla="*/ 0 w 4801680"/>
              <a:gd name="textAreaRight" fmla="*/ 4802040 w 4801680"/>
              <a:gd name="textAreaTop" fmla="*/ 0 h 1707840"/>
              <a:gd name="textAreaBottom" fmla="*/ 1708200 h 1707840"/>
            </a:gdLst>
            <a:ahLst/>
            <a:rect l="textAreaLeft" t="textAreaTop" r="textAreaRight" b="textAreaBottom"/>
            <a:pathLst>
              <a:path w="3024" h="1076">
                <a:moveTo>
                  <a:pt x="0" y="927"/>
                </a:moveTo>
                <a:lnTo>
                  <a:pt x="31" y="936"/>
                </a:lnTo>
                <a:lnTo>
                  <a:pt x="63" y="945"/>
                </a:lnTo>
                <a:lnTo>
                  <a:pt x="95" y="954"/>
                </a:lnTo>
                <a:lnTo>
                  <a:pt x="127" y="963"/>
                </a:lnTo>
                <a:lnTo>
                  <a:pt x="159" y="972"/>
                </a:lnTo>
                <a:lnTo>
                  <a:pt x="191" y="973"/>
                </a:lnTo>
                <a:lnTo>
                  <a:pt x="222" y="973"/>
                </a:lnTo>
                <a:lnTo>
                  <a:pt x="254" y="974"/>
                </a:lnTo>
                <a:lnTo>
                  <a:pt x="286" y="975"/>
                </a:lnTo>
                <a:lnTo>
                  <a:pt x="318" y="975"/>
                </a:lnTo>
                <a:lnTo>
                  <a:pt x="350" y="976"/>
                </a:lnTo>
                <a:lnTo>
                  <a:pt x="382" y="976"/>
                </a:lnTo>
                <a:lnTo>
                  <a:pt x="413" y="977"/>
                </a:lnTo>
                <a:lnTo>
                  <a:pt x="445" y="977"/>
                </a:lnTo>
                <a:lnTo>
                  <a:pt x="477" y="978"/>
                </a:lnTo>
                <a:lnTo>
                  <a:pt x="509" y="975"/>
                </a:lnTo>
                <a:lnTo>
                  <a:pt x="541" y="972"/>
                </a:lnTo>
                <a:lnTo>
                  <a:pt x="573" y="969"/>
                </a:lnTo>
                <a:lnTo>
                  <a:pt x="604" y="967"/>
                </a:lnTo>
                <a:lnTo>
                  <a:pt x="636" y="964"/>
                </a:lnTo>
                <a:lnTo>
                  <a:pt x="668" y="961"/>
                </a:lnTo>
                <a:lnTo>
                  <a:pt x="700" y="958"/>
                </a:lnTo>
                <a:lnTo>
                  <a:pt x="732" y="955"/>
                </a:lnTo>
                <a:lnTo>
                  <a:pt x="764" y="953"/>
                </a:lnTo>
                <a:lnTo>
                  <a:pt x="795" y="950"/>
                </a:lnTo>
                <a:lnTo>
                  <a:pt x="827" y="939"/>
                </a:lnTo>
                <a:lnTo>
                  <a:pt x="859" y="927"/>
                </a:lnTo>
                <a:lnTo>
                  <a:pt x="891" y="916"/>
                </a:lnTo>
                <a:lnTo>
                  <a:pt x="923" y="905"/>
                </a:lnTo>
                <a:lnTo>
                  <a:pt x="955" y="893"/>
                </a:lnTo>
                <a:lnTo>
                  <a:pt x="987" y="882"/>
                </a:lnTo>
                <a:lnTo>
                  <a:pt x="1018" y="870"/>
                </a:lnTo>
                <a:lnTo>
                  <a:pt x="1050" y="859"/>
                </a:lnTo>
                <a:lnTo>
                  <a:pt x="1082" y="848"/>
                </a:lnTo>
                <a:lnTo>
                  <a:pt x="1114" y="836"/>
                </a:lnTo>
                <a:lnTo>
                  <a:pt x="1146" y="834"/>
                </a:lnTo>
                <a:lnTo>
                  <a:pt x="1178" y="832"/>
                </a:lnTo>
                <a:lnTo>
                  <a:pt x="1209" y="830"/>
                </a:lnTo>
                <a:lnTo>
                  <a:pt x="1241" y="828"/>
                </a:lnTo>
                <a:lnTo>
                  <a:pt x="1273" y="826"/>
                </a:lnTo>
                <a:lnTo>
                  <a:pt x="1305" y="824"/>
                </a:lnTo>
                <a:lnTo>
                  <a:pt x="1337" y="822"/>
                </a:lnTo>
                <a:lnTo>
                  <a:pt x="1369" y="820"/>
                </a:lnTo>
                <a:lnTo>
                  <a:pt x="1400" y="818"/>
                </a:lnTo>
                <a:lnTo>
                  <a:pt x="1432" y="816"/>
                </a:lnTo>
                <a:lnTo>
                  <a:pt x="1464" y="812"/>
                </a:lnTo>
                <a:lnTo>
                  <a:pt x="1496" y="808"/>
                </a:lnTo>
                <a:lnTo>
                  <a:pt x="1528" y="804"/>
                </a:lnTo>
                <a:lnTo>
                  <a:pt x="1560" y="800"/>
                </a:lnTo>
                <a:lnTo>
                  <a:pt x="1591" y="796"/>
                </a:lnTo>
                <a:lnTo>
                  <a:pt x="1623" y="792"/>
                </a:lnTo>
                <a:lnTo>
                  <a:pt x="1655" y="788"/>
                </a:lnTo>
                <a:lnTo>
                  <a:pt x="1687" y="784"/>
                </a:lnTo>
                <a:lnTo>
                  <a:pt x="1719" y="780"/>
                </a:lnTo>
                <a:lnTo>
                  <a:pt x="1751" y="776"/>
                </a:lnTo>
                <a:lnTo>
                  <a:pt x="1783" y="779"/>
                </a:lnTo>
                <a:lnTo>
                  <a:pt x="1814" y="782"/>
                </a:lnTo>
                <a:lnTo>
                  <a:pt x="1846" y="784"/>
                </a:lnTo>
                <a:lnTo>
                  <a:pt x="1878" y="787"/>
                </a:lnTo>
                <a:lnTo>
                  <a:pt x="1910" y="789"/>
                </a:lnTo>
                <a:lnTo>
                  <a:pt x="1942" y="792"/>
                </a:lnTo>
                <a:lnTo>
                  <a:pt x="1974" y="795"/>
                </a:lnTo>
                <a:lnTo>
                  <a:pt x="2005" y="797"/>
                </a:lnTo>
                <a:lnTo>
                  <a:pt x="2037" y="800"/>
                </a:lnTo>
                <a:lnTo>
                  <a:pt x="2069" y="802"/>
                </a:lnTo>
                <a:lnTo>
                  <a:pt x="2101" y="809"/>
                </a:lnTo>
                <a:lnTo>
                  <a:pt x="2133" y="815"/>
                </a:lnTo>
                <a:lnTo>
                  <a:pt x="2165" y="821"/>
                </a:lnTo>
                <a:lnTo>
                  <a:pt x="2196" y="827"/>
                </a:lnTo>
                <a:lnTo>
                  <a:pt x="2228" y="833"/>
                </a:lnTo>
                <a:lnTo>
                  <a:pt x="2260" y="840"/>
                </a:lnTo>
                <a:lnTo>
                  <a:pt x="2292" y="846"/>
                </a:lnTo>
                <a:lnTo>
                  <a:pt x="2324" y="852"/>
                </a:lnTo>
                <a:lnTo>
                  <a:pt x="2356" y="858"/>
                </a:lnTo>
                <a:lnTo>
                  <a:pt x="2387" y="864"/>
                </a:lnTo>
                <a:lnTo>
                  <a:pt x="2419" y="873"/>
                </a:lnTo>
                <a:lnTo>
                  <a:pt x="2451" y="882"/>
                </a:lnTo>
                <a:lnTo>
                  <a:pt x="2483" y="891"/>
                </a:lnTo>
                <a:lnTo>
                  <a:pt x="2515" y="900"/>
                </a:lnTo>
                <a:lnTo>
                  <a:pt x="2547" y="909"/>
                </a:lnTo>
                <a:lnTo>
                  <a:pt x="2579" y="918"/>
                </a:lnTo>
                <a:lnTo>
                  <a:pt x="2610" y="927"/>
                </a:lnTo>
                <a:lnTo>
                  <a:pt x="2642" y="936"/>
                </a:lnTo>
                <a:lnTo>
                  <a:pt x="2674" y="945"/>
                </a:lnTo>
                <a:lnTo>
                  <a:pt x="2706" y="954"/>
                </a:lnTo>
                <a:lnTo>
                  <a:pt x="2738" y="966"/>
                </a:lnTo>
                <a:lnTo>
                  <a:pt x="2770" y="978"/>
                </a:lnTo>
                <a:lnTo>
                  <a:pt x="2801" y="991"/>
                </a:lnTo>
                <a:lnTo>
                  <a:pt x="2833" y="1003"/>
                </a:lnTo>
                <a:lnTo>
                  <a:pt x="2865" y="1015"/>
                </a:lnTo>
                <a:lnTo>
                  <a:pt x="2897" y="1027"/>
                </a:lnTo>
                <a:lnTo>
                  <a:pt x="2929" y="1039"/>
                </a:lnTo>
                <a:lnTo>
                  <a:pt x="2961" y="1052"/>
                </a:lnTo>
                <a:lnTo>
                  <a:pt x="2992" y="1064"/>
                </a:lnTo>
                <a:lnTo>
                  <a:pt x="3024" y="1076"/>
                </a:lnTo>
                <a:lnTo>
                  <a:pt x="3024" y="122"/>
                </a:lnTo>
                <a:lnTo>
                  <a:pt x="2992" y="114"/>
                </a:lnTo>
                <a:lnTo>
                  <a:pt x="2961" y="106"/>
                </a:lnTo>
                <a:lnTo>
                  <a:pt x="2929" y="98"/>
                </a:lnTo>
                <a:lnTo>
                  <a:pt x="2897" y="90"/>
                </a:lnTo>
                <a:lnTo>
                  <a:pt x="2865" y="82"/>
                </a:lnTo>
                <a:lnTo>
                  <a:pt x="2833" y="73"/>
                </a:lnTo>
                <a:lnTo>
                  <a:pt x="2801" y="65"/>
                </a:lnTo>
                <a:lnTo>
                  <a:pt x="2770" y="57"/>
                </a:lnTo>
                <a:lnTo>
                  <a:pt x="2738" y="49"/>
                </a:lnTo>
                <a:lnTo>
                  <a:pt x="2706" y="41"/>
                </a:lnTo>
                <a:lnTo>
                  <a:pt x="2674" y="38"/>
                </a:lnTo>
                <a:lnTo>
                  <a:pt x="2642" y="35"/>
                </a:lnTo>
                <a:lnTo>
                  <a:pt x="2610" y="31"/>
                </a:lnTo>
                <a:lnTo>
                  <a:pt x="2579" y="28"/>
                </a:lnTo>
                <a:lnTo>
                  <a:pt x="2547" y="25"/>
                </a:lnTo>
                <a:lnTo>
                  <a:pt x="2515" y="22"/>
                </a:lnTo>
                <a:lnTo>
                  <a:pt x="2483" y="19"/>
                </a:lnTo>
                <a:lnTo>
                  <a:pt x="2451" y="16"/>
                </a:lnTo>
                <a:lnTo>
                  <a:pt x="2419" y="12"/>
                </a:lnTo>
                <a:lnTo>
                  <a:pt x="2387" y="9"/>
                </a:lnTo>
                <a:lnTo>
                  <a:pt x="2356" y="8"/>
                </a:lnTo>
                <a:lnTo>
                  <a:pt x="2324" y="7"/>
                </a:lnTo>
                <a:lnTo>
                  <a:pt x="2292" y="6"/>
                </a:lnTo>
                <a:lnTo>
                  <a:pt x="2260" y="5"/>
                </a:lnTo>
                <a:lnTo>
                  <a:pt x="2228" y="4"/>
                </a:lnTo>
                <a:lnTo>
                  <a:pt x="2196" y="3"/>
                </a:lnTo>
                <a:lnTo>
                  <a:pt x="2165" y="2"/>
                </a:lnTo>
                <a:lnTo>
                  <a:pt x="2133" y="1"/>
                </a:lnTo>
                <a:lnTo>
                  <a:pt x="2101" y="0"/>
                </a:lnTo>
                <a:lnTo>
                  <a:pt x="2069" y="0"/>
                </a:lnTo>
                <a:lnTo>
                  <a:pt x="2037" y="0"/>
                </a:lnTo>
                <a:lnTo>
                  <a:pt x="2005" y="1"/>
                </a:lnTo>
                <a:lnTo>
                  <a:pt x="1974" y="2"/>
                </a:lnTo>
                <a:lnTo>
                  <a:pt x="1942" y="3"/>
                </a:lnTo>
                <a:lnTo>
                  <a:pt x="1910" y="3"/>
                </a:lnTo>
                <a:lnTo>
                  <a:pt x="1878" y="4"/>
                </a:lnTo>
                <a:lnTo>
                  <a:pt x="1846" y="5"/>
                </a:lnTo>
                <a:lnTo>
                  <a:pt x="1814" y="6"/>
                </a:lnTo>
                <a:lnTo>
                  <a:pt x="1783" y="7"/>
                </a:lnTo>
                <a:lnTo>
                  <a:pt x="1751" y="7"/>
                </a:lnTo>
                <a:lnTo>
                  <a:pt x="1719" y="13"/>
                </a:lnTo>
                <a:lnTo>
                  <a:pt x="1687" y="18"/>
                </a:lnTo>
                <a:lnTo>
                  <a:pt x="1655" y="23"/>
                </a:lnTo>
                <a:lnTo>
                  <a:pt x="1623" y="28"/>
                </a:lnTo>
                <a:lnTo>
                  <a:pt x="1591" y="33"/>
                </a:lnTo>
                <a:lnTo>
                  <a:pt x="1560" y="38"/>
                </a:lnTo>
                <a:lnTo>
                  <a:pt x="1528" y="43"/>
                </a:lnTo>
                <a:lnTo>
                  <a:pt x="1496" y="49"/>
                </a:lnTo>
                <a:lnTo>
                  <a:pt x="1464" y="54"/>
                </a:lnTo>
                <a:lnTo>
                  <a:pt x="1432" y="59"/>
                </a:lnTo>
                <a:lnTo>
                  <a:pt x="1400" y="70"/>
                </a:lnTo>
                <a:lnTo>
                  <a:pt x="1369" y="81"/>
                </a:lnTo>
                <a:lnTo>
                  <a:pt x="1337" y="92"/>
                </a:lnTo>
                <a:lnTo>
                  <a:pt x="1305" y="103"/>
                </a:lnTo>
                <a:lnTo>
                  <a:pt x="1273" y="114"/>
                </a:lnTo>
                <a:lnTo>
                  <a:pt x="1241" y="125"/>
                </a:lnTo>
                <a:lnTo>
                  <a:pt x="1209" y="137"/>
                </a:lnTo>
                <a:lnTo>
                  <a:pt x="1178" y="148"/>
                </a:lnTo>
                <a:lnTo>
                  <a:pt x="1146" y="159"/>
                </a:lnTo>
                <a:lnTo>
                  <a:pt x="1114" y="170"/>
                </a:lnTo>
                <a:lnTo>
                  <a:pt x="1082" y="191"/>
                </a:lnTo>
                <a:lnTo>
                  <a:pt x="1050" y="213"/>
                </a:lnTo>
                <a:lnTo>
                  <a:pt x="1018" y="234"/>
                </a:lnTo>
                <a:lnTo>
                  <a:pt x="987" y="256"/>
                </a:lnTo>
                <a:lnTo>
                  <a:pt x="955" y="278"/>
                </a:lnTo>
                <a:lnTo>
                  <a:pt x="923" y="299"/>
                </a:lnTo>
                <a:lnTo>
                  <a:pt x="891" y="321"/>
                </a:lnTo>
                <a:lnTo>
                  <a:pt x="859" y="342"/>
                </a:lnTo>
                <a:lnTo>
                  <a:pt x="827" y="364"/>
                </a:lnTo>
                <a:lnTo>
                  <a:pt x="795" y="385"/>
                </a:lnTo>
                <a:lnTo>
                  <a:pt x="764" y="401"/>
                </a:lnTo>
                <a:lnTo>
                  <a:pt x="732" y="416"/>
                </a:lnTo>
                <a:lnTo>
                  <a:pt x="700" y="431"/>
                </a:lnTo>
                <a:lnTo>
                  <a:pt x="668" y="446"/>
                </a:lnTo>
                <a:lnTo>
                  <a:pt x="636" y="462"/>
                </a:lnTo>
                <a:lnTo>
                  <a:pt x="604" y="477"/>
                </a:lnTo>
                <a:lnTo>
                  <a:pt x="573" y="492"/>
                </a:lnTo>
                <a:lnTo>
                  <a:pt x="541" y="507"/>
                </a:lnTo>
                <a:lnTo>
                  <a:pt x="509" y="523"/>
                </a:lnTo>
                <a:lnTo>
                  <a:pt x="477" y="538"/>
                </a:lnTo>
                <a:lnTo>
                  <a:pt x="445" y="567"/>
                </a:lnTo>
                <a:lnTo>
                  <a:pt x="413" y="596"/>
                </a:lnTo>
                <a:lnTo>
                  <a:pt x="382" y="625"/>
                </a:lnTo>
                <a:lnTo>
                  <a:pt x="350" y="654"/>
                </a:lnTo>
                <a:lnTo>
                  <a:pt x="318" y="683"/>
                </a:lnTo>
                <a:lnTo>
                  <a:pt x="286" y="712"/>
                </a:lnTo>
                <a:lnTo>
                  <a:pt x="254" y="742"/>
                </a:lnTo>
                <a:lnTo>
                  <a:pt x="222" y="771"/>
                </a:lnTo>
                <a:lnTo>
                  <a:pt x="191" y="800"/>
                </a:lnTo>
                <a:lnTo>
                  <a:pt x="159" y="829"/>
                </a:lnTo>
                <a:lnTo>
                  <a:pt x="127" y="848"/>
                </a:lnTo>
                <a:lnTo>
                  <a:pt x="95" y="868"/>
                </a:lnTo>
                <a:lnTo>
                  <a:pt x="63" y="888"/>
                </a:lnTo>
                <a:lnTo>
                  <a:pt x="31" y="907"/>
                </a:lnTo>
                <a:lnTo>
                  <a:pt x="0" y="927"/>
                </a:lnTo>
                <a:close/>
              </a:path>
            </a:pathLst>
          </a:custGeom>
          <a:solidFill>
            <a:srgbClr val="c032c0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Freeform 39"/>
          <p:cNvSpPr/>
          <p:nvPr/>
        </p:nvSpPr>
        <p:spPr>
          <a:xfrm>
            <a:off x="1003320" y="2630160"/>
            <a:ext cx="4801680" cy="1472760"/>
          </a:xfrm>
          <a:custGeom>
            <a:avLst/>
            <a:gdLst>
              <a:gd name="textAreaLeft" fmla="*/ 0 w 4801680"/>
              <a:gd name="textAreaRight" fmla="*/ 4802040 w 4801680"/>
              <a:gd name="textAreaTop" fmla="*/ 0 h 1472760"/>
              <a:gd name="textAreaBottom" fmla="*/ 1473120 h 1472760"/>
            </a:gdLst>
            <a:ahLst/>
            <a:rect l="textAreaLeft" t="textAreaTop" r="textAreaRight" b="textAreaBottom"/>
            <a:pathLst>
              <a:path w="3024" h="927">
                <a:moveTo>
                  <a:pt x="0" y="882"/>
                </a:moveTo>
                <a:lnTo>
                  <a:pt x="31" y="891"/>
                </a:lnTo>
                <a:lnTo>
                  <a:pt x="63" y="900"/>
                </a:lnTo>
                <a:lnTo>
                  <a:pt x="95" y="909"/>
                </a:lnTo>
                <a:lnTo>
                  <a:pt x="127" y="918"/>
                </a:lnTo>
                <a:lnTo>
                  <a:pt x="159" y="927"/>
                </a:lnTo>
                <a:lnTo>
                  <a:pt x="191" y="922"/>
                </a:lnTo>
                <a:lnTo>
                  <a:pt x="222" y="918"/>
                </a:lnTo>
                <a:lnTo>
                  <a:pt x="254" y="913"/>
                </a:lnTo>
                <a:lnTo>
                  <a:pt x="286" y="909"/>
                </a:lnTo>
                <a:lnTo>
                  <a:pt x="318" y="904"/>
                </a:lnTo>
                <a:lnTo>
                  <a:pt x="350" y="900"/>
                </a:lnTo>
                <a:lnTo>
                  <a:pt x="382" y="895"/>
                </a:lnTo>
                <a:lnTo>
                  <a:pt x="413" y="891"/>
                </a:lnTo>
                <a:lnTo>
                  <a:pt x="445" y="886"/>
                </a:lnTo>
                <a:lnTo>
                  <a:pt x="477" y="882"/>
                </a:lnTo>
                <a:lnTo>
                  <a:pt x="509" y="872"/>
                </a:lnTo>
                <a:lnTo>
                  <a:pt x="541" y="863"/>
                </a:lnTo>
                <a:lnTo>
                  <a:pt x="573" y="853"/>
                </a:lnTo>
                <a:lnTo>
                  <a:pt x="604" y="844"/>
                </a:lnTo>
                <a:lnTo>
                  <a:pt x="636" y="834"/>
                </a:lnTo>
                <a:lnTo>
                  <a:pt x="668" y="825"/>
                </a:lnTo>
                <a:lnTo>
                  <a:pt x="700" y="815"/>
                </a:lnTo>
                <a:lnTo>
                  <a:pt x="732" y="806"/>
                </a:lnTo>
                <a:lnTo>
                  <a:pt x="764" y="796"/>
                </a:lnTo>
                <a:lnTo>
                  <a:pt x="795" y="787"/>
                </a:lnTo>
                <a:lnTo>
                  <a:pt x="827" y="774"/>
                </a:lnTo>
                <a:lnTo>
                  <a:pt x="859" y="762"/>
                </a:lnTo>
                <a:lnTo>
                  <a:pt x="891" y="750"/>
                </a:lnTo>
                <a:lnTo>
                  <a:pt x="923" y="738"/>
                </a:lnTo>
                <a:lnTo>
                  <a:pt x="955" y="725"/>
                </a:lnTo>
                <a:lnTo>
                  <a:pt x="987" y="713"/>
                </a:lnTo>
                <a:lnTo>
                  <a:pt x="1018" y="701"/>
                </a:lnTo>
                <a:lnTo>
                  <a:pt x="1050" y="688"/>
                </a:lnTo>
                <a:lnTo>
                  <a:pt x="1082" y="676"/>
                </a:lnTo>
                <a:lnTo>
                  <a:pt x="1114" y="664"/>
                </a:lnTo>
                <a:lnTo>
                  <a:pt x="1146" y="657"/>
                </a:lnTo>
                <a:lnTo>
                  <a:pt x="1178" y="651"/>
                </a:lnTo>
                <a:lnTo>
                  <a:pt x="1209" y="644"/>
                </a:lnTo>
                <a:lnTo>
                  <a:pt x="1241" y="638"/>
                </a:lnTo>
                <a:lnTo>
                  <a:pt x="1273" y="631"/>
                </a:lnTo>
                <a:lnTo>
                  <a:pt x="1305" y="625"/>
                </a:lnTo>
                <a:lnTo>
                  <a:pt x="1337" y="619"/>
                </a:lnTo>
                <a:lnTo>
                  <a:pt x="1369" y="612"/>
                </a:lnTo>
                <a:lnTo>
                  <a:pt x="1400" y="606"/>
                </a:lnTo>
                <a:lnTo>
                  <a:pt x="1432" y="599"/>
                </a:lnTo>
                <a:lnTo>
                  <a:pt x="1464" y="586"/>
                </a:lnTo>
                <a:lnTo>
                  <a:pt x="1496" y="573"/>
                </a:lnTo>
                <a:lnTo>
                  <a:pt x="1528" y="561"/>
                </a:lnTo>
                <a:lnTo>
                  <a:pt x="1560" y="548"/>
                </a:lnTo>
                <a:lnTo>
                  <a:pt x="1591" y="535"/>
                </a:lnTo>
                <a:lnTo>
                  <a:pt x="1623" y="522"/>
                </a:lnTo>
                <a:lnTo>
                  <a:pt x="1655" y="509"/>
                </a:lnTo>
                <a:lnTo>
                  <a:pt x="1687" y="497"/>
                </a:lnTo>
                <a:lnTo>
                  <a:pt x="1719" y="484"/>
                </a:lnTo>
                <a:lnTo>
                  <a:pt x="1751" y="471"/>
                </a:lnTo>
                <a:lnTo>
                  <a:pt x="1783" y="466"/>
                </a:lnTo>
                <a:lnTo>
                  <a:pt x="1814" y="462"/>
                </a:lnTo>
                <a:lnTo>
                  <a:pt x="1846" y="457"/>
                </a:lnTo>
                <a:lnTo>
                  <a:pt x="1878" y="453"/>
                </a:lnTo>
                <a:lnTo>
                  <a:pt x="1910" y="448"/>
                </a:lnTo>
                <a:lnTo>
                  <a:pt x="1942" y="444"/>
                </a:lnTo>
                <a:lnTo>
                  <a:pt x="1974" y="439"/>
                </a:lnTo>
                <a:lnTo>
                  <a:pt x="2005" y="435"/>
                </a:lnTo>
                <a:lnTo>
                  <a:pt x="2037" y="430"/>
                </a:lnTo>
                <a:lnTo>
                  <a:pt x="2069" y="426"/>
                </a:lnTo>
                <a:lnTo>
                  <a:pt x="2101" y="424"/>
                </a:lnTo>
                <a:lnTo>
                  <a:pt x="2133" y="423"/>
                </a:lnTo>
                <a:lnTo>
                  <a:pt x="2165" y="421"/>
                </a:lnTo>
                <a:lnTo>
                  <a:pt x="2196" y="420"/>
                </a:lnTo>
                <a:lnTo>
                  <a:pt x="2228" y="418"/>
                </a:lnTo>
                <a:lnTo>
                  <a:pt x="2260" y="417"/>
                </a:lnTo>
                <a:lnTo>
                  <a:pt x="2292" y="415"/>
                </a:lnTo>
                <a:lnTo>
                  <a:pt x="2324" y="414"/>
                </a:lnTo>
                <a:lnTo>
                  <a:pt x="2356" y="412"/>
                </a:lnTo>
                <a:lnTo>
                  <a:pt x="2387" y="411"/>
                </a:lnTo>
                <a:lnTo>
                  <a:pt x="2419" y="412"/>
                </a:lnTo>
                <a:lnTo>
                  <a:pt x="2451" y="413"/>
                </a:lnTo>
                <a:lnTo>
                  <a:pt x="2483" y="413"/>
                </a:lnTo>
                <a:lnTo>
                  <a:pt x="2515" y="414"/>
                </a:lnTo>
                <a:lnTo>
                  <a:pt x="2547" y="415"/>
                </a:lnTo>
                <a:lnTo>
                  <a:pt x="2579" y="416"/>
                </a:lnTo>
                <a:lnTo>
                  <a:pt x="2610" y="416"/>
                </a:lnTo>
                <a:lnTo>
                  <a:pt x="2642" y="417"/>
                </a:lnTo>
                <a:lnTo>
                  <a:pt x="2674" y="418"/>
                </a:lnTo>
                <a:lnTo>
                  <a:pt x="2706" y="419"/>
                </a:lnTo>
                <a:lnTo>
                  <a:pt x="2738" y="420"/>
                </a:lnTo>
                <a:lnTo>
                  <a:pt x="2770" y="422"/>
                </a:lnTo>
                <a:lnTo>
                  <a:pt x="2801" y="423"/>
                </a:lnTo>
                <a:lnTo>
                  <a:pt x="2833" y="425"/>
                </a:lnTo>
                <a:lnTo>
                  <a:pt x="2865" y="426"/>
                </a:lnTo>
                <a:lnTo>
                  <a:pt x="2897" y="428"/>
                </a:lnTo>
                <a:lnTo>
                  <a:pt x="2929" y="429"/>
                </a:lnTo>
                <a:lnTo>
                  <a:pt x="2961" y="431"/>
                </a:lnTo>
                <a:lnTo>
                  <a:pt x="2992" y="433"/>
                </a:lnTo>
                <a:lnTo>
                  <a:pt x="3024" y="434"/>
                </a:lnTo>
                <a:lnTo>
                  <a:pt x="3024" y="0"/>
                </a:lnTo>
                <a:lnTo>
                  <a:pt x="2992" y="2"/>
                </a:lnTo>
                <a:lnTo>
                  <a:pt x="2961" y="4"/>
                </a:lnTo>
                <a:lnTo>
                  <a:pt x="2929" y="6"/>
                </a:lnTo>
                <a:lnTo>
                  <a:pt x="2897" y="9"/>
                </a:lnTo>
                <a:lnTo>
                  <a:pt x="2865" y="11"/>
                </a:lnTo>
                <a:lnTo>
                  <a:pt x="2833" y="13"/>
                </a:lnTo>
                <a:lnTo>
                  <a:pt x="2801" y="16"/>
                </a:lnTo>
                <a:lnTo>
                  <a:pt x="2770" y="18"/>
                </a:lnTo>
                <a:lnTo>
                  <a:pt x="2738" y="20"/>
                </a:lnTo>
                <a:lnTo>
                  <a:pt x="2706" y="23"/>
                </a:lnTo>
                <a:lnTo>
                  <a:pt x="2674" y="25"/>
                </a:lnTo>
                <a:lnTo>
                  <a:pt x="2642" y="28"/>
                </a:lnTo>
                <a:lnTo>
                  <a:pt x="2610" y="30"/>
                </a:lnTo>
                <a:lnTo>
                  <a:pt x="2579" y="32"/>
                </a:lnTo>
                <a:lnTo>
                  <a:pt x="2547" y="35"/>
                </a:lnTo>
                <a:lnTo>
                  <a:pt x="2515" y="37"/>
                </a:lnTo>
                <a:lnTo>
                  <a:pt x="2483" y="40"/>
                </a:lnTo>
                <a:lnTo>
                  <a:pt x="2451" y="42"/>
                </a:lnTo>
                <a:lnTo>
                  <a:pt x="2419" y="45"/>
                </a:lnTo>
                <a:lnTo>
                  <a:pt x="2387" y="47"/>
                </a:lnTo>
                <a:lnTo>
                  <a:pt x="2356" y="52"/>
                </a:lnTo>
                <a:lnTo>
                  <a:pt x="2324" y="56"/>
                </a:lnTo>
                <a:lnTo>
                  <a:pt x="2292" y="60"/>
                </a:lnTo>
                <a:lnTo>
                  <a:pt x="2260" y="65"/>
                </a:lnTo>
                <a:lnTo>
                  <a:pt x="2228" y="69"/>
                </a:lnTo>
                <a:lnTo>
                  <a:pt x="2196" y="74"/>
                </a:lnTo>
                <a:lnTo>
                  <a:pt x="2165" y="78"/>
                </a:lnTo>
                <a:lnTo>
                  <a:pt x="2133" y="83"/>
                </a:lnTo>
                <a:lnTo>
                  <a:pt x="2101" y="87"/>
                </a:lnTo>
                <a:lnTo>
                  <a:pt x="2069" y="91"/>
                </a:lnTo>
                <a:lnTo>
                  <a:pt x="2037" y="99"/>
                </a:lnTo>
                <a:lnTo>
                  <a:pt x="2005" y="106"/>
                </a:lnTo>
                <a:lnTo>
                  <a:pt x="1974" y="114"/>
                </a:lnTo>
                <a:lnTo>
                  <a:pt x="1942" y="121"/>
                </a:lnTo>
                <a:lnTo>
                  <a:pt x="1910" y="128"/>
                </a:lnTo>
                <a:lnTo>
                  <a:pt x="1878" y="136"/>
                </a:lnTo>
                <a:lnTo>
                  <a:pt x="1846" y="143"/>
                </a:lnTo>
                <a:lnTo>
                  <a:pt x="1814" y="151"/>
                </a:lnTo>
                <a:lnTo>
                  <a:pt x="1783" y="158"/>
                </a:lnTo>
                <a:lnTo>
                  <a:pt x="1751" y="165"/>
                </a:lnTo>
                <a:lnTo>
                  <a:pt x="1719" y="176"/>
                </a:lnTo>
                <a:lnTo>
                  <a:pt x="1687" y="188"/>
                </a:lnTo>
                <a:lnTo>
                  <a:pt x="1655" y="199"/>
                </a:lnTo>
                <a:lnTo>
                  <a:pt x="1623" y="210"/>
                </a:lnTo>
                <a:lnTo>
                  <a:pt x="1591" y="221"/>
                </a:lnTo>
                <a:lnTo>
                  <a:pt x="1560" y="232"/>
                </a:lnTo>
                <a:lnTo>
                  <a:pt x="1528" y="243"/>
                </a:lnTo>
                <a:lnTo>
                  <a:pt x="1496" y="254"/>
                </a:lnTo>
                <a:lnTo>
                  <a:pt x="1464" y="265"/>
                </a:lnTo>
                <a:lnTo>
                  <a:pt x="1432" y="277"/>
                </a:lnTo>
                <a:lnTo>
                  <a:pt x="1400" y="284"/>
                </a:lnTo>
                <a:lnTo>
                  <a:pt x="1369" y="292"/>
                </a:lnTo>
                <a:lnTo>
                  <a:pt x="1337" y="299"/>
                </a:lnTo>
                <a:lnTo>
                  <a:pt x="1305" y="307"/>
                </a:lnTo>
                <a:lnTo>
                  <a:pt x="1273" y="314"/>
                </a:lnTo>
                <a:lnTo>
                  <a:pt x="1241" y="322"/>
                </a:lnTo>
                <a:lnTo>
                  <a:pt x="1209" y="330"/>
                </a:lnTo>
                <a:lnTo>
                  <a:pt x="1178" y="337"/>
                </a:lnTo>
                <a:lnTo>
                  <a:pt x="1146" y="345"/>
                </a:lnTo>
                <a:lnTo>
                  <a:pt x="1114" y="352"/>
                </a:lnTo>
                <a:lnTo>
                  <a:pt x="1082" y="362"/>
                </a:lnTo>
                <a:lnTo>
                  <a:pt x="1050" y="372"/>
                </a:lnTo>
                <a:lnTo>
                  <a:pt x="1018" y="382"/>
                </a:lnTo>
                <a:lnTo>
                  <a:pt x="987" y="392"/>
                </a:lnTo>
                <a:lnTo>
                  <a:pt x="955" y="402"/>
                </a:lnTo>
                <a:lnTo>
                  <a:pt x="923" y="412"/>
                </a:lnTo>
                <a:lnTo>
                  <a:pt x="891" y="422"/>
                </a:lnTo>
                <a:lnTo>
                  <a:pt x="859" y="432"/>
                </a:lnTo>
                <a:lnTo>
                  <a:pt x="827" y="442"/>
                </a:lnTo>
                <a:lnTo>
                  <a:pt x="795" y="452"/>
                </a:lnTo>
                <a:lnTo>
                  <a:pt x="764" y="469"/>
                </a:lnTo>
                <a:lnTo>
                  <a:pt x="732" y="486"/>
                </a:lnTo>
                <a:lnTo>
                  <a:pt x="700" y="502"/>
                </a:lnTo>
                <a:lnTo>
                  <a:pt x="668" y="519"/>
                </a:lnTo>
                <a:lnTo>
                  <a:pt x="636" y="536"/>
                </a:lnTo>
                <a:lnTo>
                  <a:pt x="604" y="552"/>
                </a:lnTo>
                <a:lnTo>
                  <a:pt x="573" y="569"/>
                </a:lnTo>
                <a:lnTo>
                  <a:pt x="541" y="586"/>
                </a:lnTo>
                <a:lnTo>
                  <a:pt x="509" y="603"/>
                </a:lnTo>
                <a:lnTo>
                  <a:pt x="477" y="619"/>
                </a:lnTo>
                <a:lnTo>
                  <a:pt x="445" y="638"/>
                </a:lnTo>
                <a:lnTo>
                  <a:pt x="413" y="657"/>
                </a:lnTo>
                <a:lnTo>
                  <a:pt x="382" y="675"/>
                </a:lnTo>
                <a:lnTo>
                  <a:pt x="350" y="694"/>
                </a:lnTo>
                <a:lnTo>
                  <a:pt x="318" y="713"/>
                </a:lnTo>
                <a:lnTo>
                  <a:pt x="286" y="731"/>
                </a:lnTo>
                <a:lnTo>
                  <a:pt x="254" y="750"/>
                </a:lnTo>
                <a:lnTo>
                  <a:pt x="222" y="769"/>
                </a:lnTo>
                <a:lnTo>
                  <a:pt x="191" y="787"/>
                </a:lnTo>
                <a:lnTo>
                  <a:pt x="159" y="806"/>
                </a:lnTo>
                <a:lnTo>
                  <a:pt x="127" y="821"/>
                </a:lnTo>
                <a:lnTo>
                  <a:pt x="95" y="836"/>
                </a:lnTo>
                <a:lnTo>
                  <a:pt x="63" y="851"/>
                </a:lnTo>
                <a:lnTo>
                  <a:pt x="31" y="867"/>
                </a:lnTo>
                <a:lnTo>
                  <a:pt x="0" y="882"/>
                </a:lnTo>
                <a:close/>
              </a:path>
            </a:pathLst>
          </a:custGeom>
          <a:solidFill>
            <a:srgbClr val="f79646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Freeform 40"/>
          <p:cNvSpPr/>
          <p:nvPr/>
        </p:nvSpPr>
        <p:spPr>
          <a:xfrm>
            <a:off x="1003320" y="1644120"/>
            <a:ext cx="4801680" cy="2458800"/>
          </a:xfrm>
          <a:custGeom>
            <a:avLst/>
            <a:gdLst>
              <a:gd name="textAreaLeft" fmla="*/ 0 w 4801680"/>
              <a:gd name="textAreaRight" fmla="*/ 4802040 w 4801680"/>
              <a:gd name="textAreaTop" fmla="*/ 0 h 2458800"/>
              <a:gd name="textAreaBottom" fmla="*/ 2459160 h 2458800"/>
            </a:gdLst>
            <a:ahLst/>
            <a:rect l="textAreaLeft" t="textAreaTop" r="textAreaRight" b="textAreaBottom"/>
            <a:pathLst>
              <a:path w="3024" h="1549">
                <a:moveTo>
                  <a:pt x="0" y="1503"/>
                </a:moveTo>
                <a:lnTo>
                  <a:pt x="31" y="1512"/>
                </a:lnTo>
                <a:lnTo>
                  <a:pt x="63" y="1522"/>
                </a:lnTo>
                <a:lnTo>
                  <a:pt x="95" y="1531"/>
                </a:lnTo>
                <a:lnTo>
                  <a:pt x="127" y="1540"/>
                </a:lnTo>
                <a:lnTo>
                  <a:pt x="159" y="1549"/>
                </a:lnTo>
                <a:lnTo>
                  <a:pt x="191" y="1532"/>
                </a:lnTo>
                <a:lnTo>
                  <a:pt x="222" y="1515"/>
                </a:lnTo>
                <a:lnTo>
                  <a:pt x="254" y="1498"/>
                </a:lnTo>
                <a:lnTo>
                  <a:pt x="286" y="1481"/>
                </a:lnTo>
                <a:lnTo>
                  <a:pt x="318" y="1464"/>
                </a:lnTo>
                <a:lnTo>
                  <a:pt x="350" y="1447"/>
                </a:lnTo>
                <a:lnTo>
                  <a:pt x="382" y="1431"/>
                </a:lnTo>
                <a:lnTo>
                  <a:pt x="413" y="1414"/>
                </a:lnTo>
                <a:lnTo>
                  <a:pt x="445" y="1397"/>
                </a:lnTo>
                <a:lnTo>
                  <a:pt x="477" y="1380"/>
                </a:lnTo>
                <a:lnTo>
                  <a:pt x="509" y="1360"/>
                </a:lnTo>
                <a:lnTo>
                  <a:pt x="541" y="1339"/>
                </a:lnTo>
                <a:lnTo>
                  <a:pt x="573" y="1319"/>
                </a:lnTo>
                <a:lnTo>
                  <a:pt x="604" y="1299"/>
                </a:lnTo>
                <a:lnTo>
                  <a:pt x="636" y="1282"/>
                </a:lnTo>
                <a:lnTo>
                  <a:pt x="668" y="1271"/>
                </a:lnTo>
                <a:lnTo>
                  <a:pt x="700" y="1260"/>
                </a:lnTo>
                <a:lnTo>
                  <a:pt x="732" y="1249"/>
                </a:lnTo>
                <a:lnTo>
                  <a:pt x="764" y="1238"/>
                </a:lnTo>
                <a:lnTo>
                  <a:pt x="795" y="1227"/>
                </a:lnTo>
                <a:lnTo>
                  <a:pt x="827" y="1215"/>
                </a:lnTo>
                <a:lnTo>
                  <a:pt x="859" y="1203"/>
                </a:lnTo>
                <a:lnTo>
                  <a:pt x="891" y="1191"/>
                </a:lnTo>
                <a:lnTo>
                  <a:pt x="923" y="1179"/>
                </a:lnTo>
                <a:lnTo>
                  <a:pt x="955" y="1167"/>
                </a:lnTo>
                <a:lnTo>
                  <a:pt x="987" y="1155"/>
                </a:lnTo>
                <a:lnTo>
                  <a:pt x="1018" y="1143"/>
                </a:lnTo>
                <a:lnTo>
                  <a:pt x="1050" y="1131"/>
                </a:lnTo>
                <a:lnTo>
                  <a:pt x="1082" y="1119"/>
                </a:lnTo>
                <a:lnTo>
                  <a:pt x="1114" y="1107"/>
                </a:lnTo>
                <a:lnTo>
                  <a:pt x="1146" y="1093"/>
                </a:lnTo>
                <a:lnTo>
                  <a:pt x="1178" y="1079"/>
                </a:lnTo>
                <a:lnTo>
                  <a:pt x="1209" y="1066"/>
                </a:lnTo>
                <a:lnTo>
                  <a:pt x="1241" y="1052"/>
                </a:lnTo>
                <a:lnTo>
                  <a:pt x="1273" y="1038"/>
                </a:lnTo>
                <a:lnTo>
                  <a:pt x="1305" y="1025"/>
                </a:lnTo>
                <a:lnTo>
                  <a:pt x="1337" y="1011"/>
                </a:lnTo>
                <a:lnTo>
                  <a:pt x="1369" y="997"/>
                </a:lnTo>
                <a:lnTo>
                  <a:pt x="1400" y="983"/>
                </a:lnTo>
                <a:lnTo>
                  <a:pt x="1432" y="970"/>
                </a:lnTo>
                <a:lnTo>
                  <a:pt x="1464" y="955"/>
                </a:lnTo>
                <a:lnTo>
                  <a:pt x="1496" y="941"/>
                </a:lnTo>
                <a:lnTo>
                  <a:pt x="1528" y="927"/>
                </a:lnTo>
                <a:lnTo>
                  <a:pt x="1560" y="912"/>
                </a:lnTo>
                <a:lnTo>
                  <a:pt x="1591" y="898"/>
                </a:lnTo>
                <a:lnTo>
                  <a:pt x="1623" y="884"/>
                </a:lnTo>
                <a:lnTo>
                  <a:pt x="1655" y="869"/>
                </a:lnTo>
                <a:lnTo>
                  <a:pt x="1687" y="855"/>
                </a:lnTo>
                <a:lnTo>
                  <a:pt x="1719" y="841"/>
                </a:lnTo>
                <a:lnTo>
                  <a:pt x="1751" y="826"/>
                </a:lnTo>
                <a:lnTo>
                  <a:pt x="1783" y="812"/>
                </a:lnTo>
                <a:lnTo>
                  <a:pt x="1814" y="798"/>
                </a:lnTo>
                <a:lnTo>
                  <a:pt x="1846" y="784"/>
                </a:lnTo>
                <a:lnTo>
                  <a:pt x="1878" y="770"/>
                </a:lnTo>
                <a:lnTo>
                  <a:pt x="1910" y="756"/>
                </a:lnTo>
                <a:lnTo>
                  <a:pt x="1942" y="745"/>
                </a:lnTo>
                <a:lnTo>
                  <a:pt x="1974" y="744"/>
                </a:lnTo>
                <a:lnTo>
                  <a:pt x="2005" y="742"/>
                </a:lnTo>
                <a:lnTo>
                  <a:pt x="2037" y="740"/>
                </a:lnTo>
                <a:lnTo>
                  <a:pt x="2069" y="739"/>
                </a:lnTo>
                <a:lnTo>
                  <a:pt x="2101" y="733"/>
                </a:lnTo>
                <a:lnTo>
                  <a:pt x="2133" y="726"/>
                </a:lnTo>
                <a:lnTo>
                  <a:pt x="2165" y="720"/>
                </a:lnTo>
                <a:lnTo>
                  <a:pt x="2196" y="714"/>
                </a:lnTo>
                <a:lnTo>
                  <a:pt x="2228" y="708"/>
                </a:lnTo>
                <a:lnTo>
                  <a:pt x="2260" y="702"/>
                </a:lnTo>
                <a:lnTo>
                  <a:pt x="2292" y="696"/>
                </a:lnTo>
                <a:lnTo>
                  <a:pt x="2324" y="689"/>
                </a:lnTo>
                <a:lnTo>
                  <a:pt x="2356" y="683"/>
                </a:lnTo>
                <a:lnTo>
                  <a:pt x="2387" y="677"/>
                </a:lnTo>
                <a:lnTo>
                  <a:pt x="2419" y="672"/>
                </a:lnTo>
                <a:lnTo>
                  <a:pt x="2451" y="667"/>
                </a:lnTo>
                <a:lnTo>
                  <a:pt x="2483" y="661"/>
                </a:lnTo>
                <a:lnTo>
                  <a:pt x="2515" y="656"/>
                </a:lnTo>
                <a:lnTo>
                  <a:pt x="2547" y="651"/>
                </a:lnTo>
                <a:lnTo>
                  <a:pt x="2579" y="646"/>
                </a:lnTo>
                <a:lnTo>
                  <a:pt x="2610" y="641"/>
                </a:lnTo>
                <a:lnTo>
                  <a:pt x="2642" y="635"/>
                </a:lnTo>
                <a:lnTo>
                  <a:pt x="2674" y="630"/>
                </a:lnTo>
                <a:lnTo>
                  <a:pt x="2706" y="625"/>
                </a:lnTo>
                <a:lnTo>
                  <a:pt x="2738" y="616"/>
                </a:lnTo>
                <a:lnTo>
                  <a:pt x="2770" y="607"/>
                </a:lnTo>
                <a:lnTo>
                  <a:pt x="2801" y="599"/>
                </a:lnTo>
                <a:lnTo>
                  <a:pt x="2833" y="590"/>
                </a:lnTo>
                <a:lnTo>
                  <a:pt x="2865" y="581"/>
                </a:lnTo>
                <a:lnTo>
                  <a:pt x="2897" y="572"/>
                </a:lnTo>
                <a:lnTo>
                  <a:pt x="2929" y="564"/>
                </a:lnTo>
                <a:lnTo>
                  <a:pt x="2961" y="555"/>
                </a:lnTo>
                <a:lnTo>
                  <a:pt x="2992" y="546"/>
                </a:lnTo>
                <a:lnTo>
                  <a:pt x="3024" y="537"/>
                </a:lnTo>
                <a:lnTo>
                  <a:pt x="3024" y="0"/>
                </a:lnTo>
                <a:lnTo>
                  <a:pt x="2992" y="12"/>
                </a:lnTo>
                <a:lnTo>
                  <a:pt x="2961" y="24"/>
                </a:lnTo>
                <a:lnTo>
                  <a:pt x="2929" y="36"/>
                </a:lnTo>
                <a:lnTo>
                  <a:pt x="2897" y="48"/>
                </a:lnTo>
                <a:lnTo>
                  <a:pt x="2865" y="61"/>
                </a:lnTo>
                <a:lnTo>
                  <a:pt x="2833" y="73"/>
                </a:lnTo>
                <a:lnTo>
                  <a:pt x="2801" y="85"/>
                </a:lnTo>
                <a:lnTo>
                  <a:pt x="2770" y="97"/>
                </a:lnTo>
                <a:lnTo>
                  <a:pt x="2738" y="109"/>
                </a:lnTo>
                <a:lnTo>
                  <a:pt x="2706" y="122"/>
                </a:lnTo>
                <a:lnTo>
                  <a:pt x="2674" y="135"/>
                </a:lnTo>
                <a:lnTo>
                  <a:pt x="2642" y="148"/>
                </a:lnTo>
                <a:lnTo>
                  <a:pt x="2610" y="161"/>
                </a:lnTo>
                <a:lnTo>
                  <a:pt x="2579" y="174"/>
                </a:lnTo>
                <a:lnTo>
                  <a:pt x="2547" y="187"/>
                </a:lnTo>
                <a:lnTo>
                  <a:pt x="2515" y="200"/>
                </a:lnTo>
                <a:lnTo>
                  <a:pt x="2483" y="213"/>
                </a:lnTo>
                <a:lnTo>
                  <a:pt x="2451" y="226"/>
                </a:lnTo>
                <a:lnTo>
                  <a:pt x="2419" y="239"/>
                </a:lnTo>
                <a:lnTo>
                  <a:pt x="2387" y="252"/>
                </a:lnTo>
                <a:lnTo>
                  <a:pt x="2356" y="267"/>
                </a:lnTo>
                <a:lnTo>
                  <a:pt x="2324" y="281"/>
                </a:lnTo>
                <a:lnTo>
                  <a:pt x="2292" y="295"/>
                </a:lnTo>
                <a:lnTo>
                  <a:pt x="2260" y="309"/>
                </a:lnTo>
                <a:lnTo>
                  <a:pt x="2228" y="323"/>
                </a:lnTo>
                <a:lnTo>
                  <a:pt x="2196" y="337"/>
                </a:lnTo>
                <a:lnTo>
                  <a:pt x="2165" y="351"/>
                </a:lnTo>
                <a:lnTo>
                  <a:pt x="2133" y="365"/>
                </a:lnTo>
                <a:lnTo>
                  <a:pt x="2101" y="379"/>
                </a:lnTo>
                <a:lnTo>
                  <a:pt x="2069" y="394"/>
                </a:lnTo>
                <a:lnTo>
                  <a:pt x="2037" y="409"/>
                </a:lnTo>
                <a:lnTo>
                  <a:pt x="2005" y="425"/>
                </a:lnTo>
                <a:lnTo>
                  <a:pt x="1974" y="441"/>
                </a:lnTo>
                <a:lnTo>
                  <a:pt x="1942" y="457"/>
                </a:lnTo>
                <a:lnTo>
                  <a:pt x="1910" y="473"/>
                </a:lnTo>
                <a:lnTo>
                  <a:pt x="1878" y="489"/>
                </a:lnTo>
                <a:lnTo>
                  <a:pt x="1846" y="504"/>
                </a:lnTo>
                <a:lnTo>
                  <a:pt x="1814" y="520"/>
                </a:lnTo>
                <a:lnTo>
                  <a:pt x="1783" y="536"/>
                </a:lnTo>
                <a:lnTo>
                  <a:pt x="1751" y="552"/>
                </a:lnTo>
                <a:lnTo>
                  <a:pt x="1719" y="570"/>
                </a:lnTo>
                <a:lnTo>
                  <a:pt x="1687" y="589"/>
                </a:lnTo>
                <a:lnTo>
                  <a:pt x="1655" y="607"/>
                </a:lnTo>
                <a:lnTo>
                  <a:pt x="1623" y="625"/>
                </a:lnTo>
                <a:lnTo>
                  <a:pt x="1591" y="644"/>
                </a:lnTo>
                <a:lnTo>
                  <a:pt x="1560" y="662"/>
                </a:lnTo>
                <a:lnTo>
                  <a:pt x="1528" y="680"/>
                </a:lnTo>
                <a:lnTo>
                  <a:pt x="1496" y="699"/>
                </a:lnTo>
                <a:lnTo>
                  <a:pt x="1464" y="717"/>
                </a:lnTo>
                <a:lnTo>
                  <a:pt x="1432" y="735"/>
                </a:lnTo>
                <a:lnTo>
                  <a:pt x="1400" y="749"/>
                </a:lnTo>
                <a:lnTo>
                  <a:pt x="1369" y="763"/>
                </a:lnTo>
                <a:lnTo>
                  <a:pt x="1337" y="777"/>
                </a:lnTo>
                <a:lnTo>
                  <a:pt x="1305" y="791"/>
                </a:lnTo>
                <a:lnTo>
                  <a:pt x="1273" y="805"/>
                </a:lnTo>
                <a:lnTo>
                  <a:pt x="1241" y="819"/>
                </a:lnTo>
                <a:lnTo>
                  <a:pt x="1209" y="833"/>
                </a:lnTo>
                <a:lnTo>
                  <a:pt x="1178" y="847"/>
                </a:lnTo>
                <a:lnTo>
                  <a:pt x="1146" y="861"/>
                </a:lnTo>
                <a:lnTo>
                  <a:pt x="1114" y="875"/>
                </a:lnTo>
                <a:lnTo>
                  <a:pt x="1082" y="889"/>
                </a:lnTo>
                <a:lnTo>
                  <a:pt x="1050" y="904"/>
                </a:lnTo>
                <a:lnTo>
                  <a:pt x="1018" y="918"/>
                </a:lnTo>
                <a:lnTo>
                  <a:pt x="987" y="932"/>
                </a:lnTo>
                <a:lnTo>
                  <a:pt x="955" y="946"/>
                </a:lnTo>
                <a:lnTo>
                  <a:pt x="923" y="961"/>
                </a:lnTo>
                <a:lnTo>
                  <a:pt x="891" y="975"/>
                </a:lnTo>
                <a:lnTo>
                  <a:pt x="859" y="989"/>
                </a:lnTo>
                <a:lnTo>
                  <a:pt x="827" y="1003"/>
                </a:lnTo>
                <a:lnTo>
                  <a:pt x="795" y="1018"/>
                </a:lnTo>
                <a:lnTo>
                  <a:pt x="764" y="1036"/>
                </a:lnTo>
                <a:lnTo>
                  <a:pt x="732" y="1055"/>
                </a:lnTo>
                <a:lnTo>
                  <a:pt x="700" y="1074"/>
                </a:lnTo>
                <a:lnTo>
                  <a:pt x="668" y="1092"/>
                </a:lnTo>
                <a:lnTo>
                  <a:pt x="636" y="1111"/>
                </a:lnTo>
                <a:lnTo>
                  <a:pt x="604" y="1130"/>
                </a:lnTo>
                <a:lnTo>
                  <a:pt x="573" y="1148"/>
                </a:lnTo>
                <a:lnTo>
                  <a:pt x="541" y="1167"/>
                </a:lnTo>
                <a:lnTo>
                  <a:pt x="509" y="1186"/>
                </a:lnTo>
                <a:lnTo>
                  <a:pt x="477" y="1204"/>
                </a:lnTo>
                <a:lnTo>
                  <a:pt x="445" y="1225"/>
                </a:lnTo>
                <a:lnTo>
                  <a:pt x="413" y="1246"/>
                </a:lnTo>
                <a:lnTo>
                  <a:pt x="382" y="1265"/>
                </a:lnTo>
                <a:lnTo>
                  <a:pt x="350" y="1282"/>
                </a:lnTo>
                <a:lnTo>
                  <a:pt x="318" y="1298"/>
                </a:lnTo>
                <a:lnTo>
                  <a:pt x="286" y="1314"/>
                </a:lnTo>
                <a:lnTo>
                  <a:pt x="254" y="1330"/>
                </a:lnTo>
                <a:lnTo>
                  <a:pt x="222" y="1346"/>
                </a:lnTo>
                <a:lnTo>
                  <a:pt x="191" y="1362"/>
                </a:lnTo>
                <a:lnTo>
                  <a:pt x="159" y="1379"/>
                </a:lnTo>
                <a:lnTo>
                  <a:pt x="127" y="1404"/>
                </a:lnTo>
                <a:lnTo>
                  <a:pt x="95" y="1428"/>
                </a:lnTo>
                <a:lnTo>
                  <a:pt x="63" y="1453"/>
                </a:lnTo>
                <a:lnTo>
                  <a:pt x="31" y="1478"/>
                </a:lnTo>
                <a:lnTo>
                  <a:pt x="0" y="1503"/>
                </a:lnTo>
                <a:close/>
              </a:path>
            </a:pathLst>
          </a:custGeom>
          <a:solidFill>
            <a:srgbClr val="ff0505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Freeform 41"/>
          <p:cNvSpPr/>
          <p:nvPr/>
        </p:nvSpPr>
        <p:spPr>
          <a:xfrm>
            <a:off x="1003320" y="2601360"/>
            <a:ext cx="4801680" cy="1501560"/>
          </a:xfrm>
          <a:custGeom>
            <a:avLst/>
            <a:gdLst>
              <a:gd name="textAreaLeft" fmla="*/ 0 w 4801680"/>
              <a:gd name="textAreaRight" fmla="*/ 4802040 w 4801680"/>
              <a:gd name="textAreaTop" fmla="*/ 0 h 1501560"/>
              <a:gd name="textAreaBottom" fmla="*/ 1501920 h 1501560"/>
            </a:gdLst>
            <a:ahLst/>
            <a:rect l="textAreaLeft" t="textAreaTop" r="textAreaRight" b="textAreaBottom"/>
            <a:pathLst>
              <a:path w="3024" h="945">
                <a:moveTo>
                  <a:pt x="0" y="900"/>
                </a:moveTo>
                <a:lnTo>
                  <a:pt x="31" y="909"/>
                </a:lnTo>
                <a:lnTo>
                  <a:pt x="63" y="918"/>
                </a:lnTo>
                <a:lnTo>
                  <a:pt x="95" y="927"/>
                </a:lnTo>
                <a:lnTo>
                  <a:pt x="127" y="936"/>
                </a:lnTo>
                <a:lnTo>
                  <a:pt x="159" y="945"/>
                </a:lnTo>
                <a:lnTo>
                  <a:pt x="191" y="937"/>
                </a:lnTo>
                <a:lnTo>
                  <a:pt x="222" y="929"/>
                </a:lnTo>
                <a:lnTo>
                  <a:pt x="254" y="922"/>
                </a:lnTo>
                <a:lnTo>
                  <a:pt x="286" y="914"/>
                </a:lnTo>
                <a:lnTo>
                  <a:pt x="318" y="906"/>
                </a:lnTo>
                <a:lnTo>
                  <a:pt x="350" y="898"/>
                </a:lnTo>
                <a:lnTo>
                  <a:pt x="382" y="890"/>
                </a:lnTo>
                <a:lnTo>
                  <a:pt x="413" y="882"/>
                </a:lnTo>
                <a:lnTo>
                  <a:pt x="445" y="875"/>
                </a:lnTo>
                <a:lnTo>
                  <a:pt x="477" y="867"/>
                </a:lnTo>
                <a:lnTo>
                  <a:pt x="509" y="857"/>
                </a:lnTo>
                <a:lnTo>
                  <a:pt x="541" y="846"/>
                </a:lnTo>
                <a:lnTo>
                  <a:pt x="573" y="836"/>
                </a:lnTo>
                <a:lnTo>
                  <a:pt x="604" y="826"/>
                </a:lnTo>
                <a:lnTo>
                  <a:pt x="636" y="816"/>
                </a:lnTo>
                <a:lnTo>
                  <a:pt x="668" y="805"/>
                </a:lnTo>
                <a:lnTo>
                  <a:pt x="700" y="795"/>
                </a:lnTo>
                <a:lnTo>
                  <a:pt x="732" y="785"/>
                </a:lnTo>
                <a:lnTo>
                  <a:pt x="764" y="775"/>
                </a:lnTo>
                <a:lnTo>
                  <a:pt x="795" y="764"/>
                </a:lnTo>
                <a:lnTo>
                  <a:pt x="827" y="749"/>
                </a:lnTo>
                <a:lnTo>
                  <a:pt x="859" y="735"/>
                </a:lnTo>
                <a:lnTo>
                  <a:pt x="891" y="720"/>
                </a:lnTo>
                <a:lnTo>
                  <a:pt x="923" y="705"/>
                </a:lnTo>
                <a:lnTo>
                  <a:pt x="955" y="690"/>
                </a:lnTo>
                <a:lnTo>
                  <a:pt x="987" y="675"/>
                </a:lnTo>
                <a:lnTo>
                  <a:pt x="1018" y="660"/>
                </a:lnTo>
                <a:lnTo>
                  <a:pt x="1050" y="646"/>
                </a:lnTo>
                <a:lnTo>
                  <a:pt x="1082" y="631"/>
                </a:lnTo>
                <a:lnTo>
                  <a:pt x="1114" y="625"/>
                </a:lnTo>
                <a:lnTo>
                  <a:pt x="1146" y="622"/>
                </a:lnTo>
                <a:lnTo>
                  <a:pt x="1178" y="618"/>
                </a:lnTo>
                <a:lnTo>
                  <a:pt x="1209" y="615"/>
                </a:lnTo>
                <a:lnTo>
                  <a:pt x="1241" y="611"/>
                </a:lnTo>
                <a:lnTo>
                  <a:pt x="1273" y="608"/>
                </a:lnTo>
                <a:lnTo>
                  <a:pt x="1305" y="604"/>
                </a:lnTo>
                <a:lnTo>
                  <a:pt x="1337" y="601"/>
                </a:lnTo>
                <a:lnTo>
                  <a:pt x="1369" y="598"/>
                </a:lnTo>
                <a:lnTo>
                  <a:pt x="1400" y="594"/>
                </a:lnTo>
                <a:lnTo>
                  <a:pt x="1432" y="591"/>
                </a:lnTo>
                <a:lnTo>
                  <a:pt x="1464" y="588"/>
                </a:lnTo>
                <a:lnTo>
                  <a:pt x="1496" y="585"/>
                </a:lnTo>
                <a:lnTo>
                  <a:pt x="1528" y="582"/>
                </a:lnTo>
                <a:lnTo>
                  <a:pt x="1560" y="579"/>
                </a:lnTo>
                <a:lnTo>
                  <a:pt x="1591" y="576"/>
                </a:lnTo>
                <a:lnTo>
                  <a:pt x="1623" y="573"/>
                </a:lnTo>
                <a:lnTo>
                  <a:pt x="1655" y="570"/>
                </a:lnTo>
                <a:lnTo>
                  <a:pt x="1687" y="567"/>
                </a:lnTo>
                <a:lnTo>
                  <a:pt x="1719" y="564"/>
                </a:lnTo>
                <a:lnTo>
                  <a:pt x="1751" y="561"/>
                </a:lnTo>
                <a:lnTo>
                  <a:pt x="1783" y="557"/>
                </a:lnTo>
                <a:lnTo>
                  <a:pt x="1814" y="554"/>
                </a:lnTo>
                <a:lnTo>
                  <a:pt x="1846" y="550"/>
                </a:lnTo>
                <a:lnTo>
                  <a:pt x="1878" y="546"/>
                </a:lnTo>
                <a:lnTo>
                  <a:pt x="1910" y="543"/>
                </a:lnTo>
                <a:lnTo>
                  <a:pt x="1942" y="539"/>
                </a:lnTo>
                <a:lnTo>
                  <a:pt x="1974" y="535"/>
                </a:lnTo>
                <a:lnTo>
                  <a:pt x="2005" y="532"/>
                </a:lnTo>
                <a:lnTo>
                  <a:pt x="2037" y="528"/>
                </a:lnTo>
                <a:lnTo>
                  <a:pt x="2069" y="525"/>
                </a:lnTo>
                <a:lnTo>
                  <a:pt x="2101" y="517"/>
                </a:lnTo>
                <a:lnTo>
                  <a:pt x="2133" y="509"/>
                </a:lnTo>
                <a:lnTo>
                  <a:pt x="2165" y="501"/>
                </a:lnTo>
                <a:lnTo>
                  <a:pt x="2196" y="493"/>
                </a:lnTo>
                <a:lnTo>
                  <a:pt x="2228" y="485"/>
                </a:lnTo>
                <a:lnTo>
                  <a:pt x="2260" y="477"/>
                </a:lnTo>
                <a:lnTo>
                  <a:pt x="2292" y="469"/>
                </a:lnTo>
                <a:lnTo>
                  <a:pt x="2324" y="461"/>
                </a:lnTo>
                <a:lnTo>
                  <a:pt x="2356" y="453"/>
                </a:lnTo>
                <a:lnTo>
                  <a:pt x="2387" y="445"/>
                </a:lnTo>
                <a:lnTo>
                  <a:pt x="2419" y="447"/>
                </a:lnTo>
                <a:lnTo>
                  <a:pt x="2451" y="450"/>
                </a:lnTo>
                <a:lnTo>
                  <a:pt x="2483" y="452"/>
                </a:lnTo>
                <a:lnTo>
                  <a:pt x="2515" y="454"/>
                </a:lnTo>
                <a:lnTo>
                  <a:pt x="2547" y="457"/>
                </a:lnTo>
                <a:lnTo>
                  <a:pt x="2579" y="459"/>
                </a:lnTo>
                <a:lnTo>
                  <a:pt x="2610" y="461"/>
                </a:lnTo>
                <a:lnTo>
                  <a:pt x="2642" y="464"/>
                </a:lnTo>
                <a:lnTo>
                  <a:pt x="2674" y="466"/>
                </a:lnTo>
                <a:lnTo>
                  <a:pt x="2706" y="468"/>
                </a:lnTo>
                <a:lnTo>
                  <a:pt x="2738" y="461"/>
                </a:lnTo>
                <a:lnTo>
                  <a:pt x="2770" y="455"/>
                </a:lnTo>
                <a:lnTo>
                  <a:pt x="2801" y="448"/>
                </a:lnTo>
                <a:lnTo>
                  <a:pt x="2833" y="441"/>
                </a:lnTo>
                <a:lnTo>
                  <a:pt x="2865" y="434"/>
                </a:lnTo>
                <a:lnTo>
                  <a:pt x="2897" y="427"/>
                </a:lnTo>
                <a:lnTo>
                  <a:pt x="2929" y="420"/>
                </a:lnTo>
                <a:lnTo>
                  <a:pt x="2961" y="413"/>
                </a:lnTo>
                <a:lnTo>
                  <a:pt x="2992" y="406"/>
                </a:lnTo>
                <a:lnTo>
                  <a:pt x="3024" y="399"/>
                </a:lnTo>
                <a:lnTo>
                  <a:pt x="3024" y="0"/>
                </a:lnTo>
                <a:lnTo>
                  <a:pt x="2992" y="0"/>
                </a:lnTo>
                <a:lnTo>
                  <a:pt x="2961" y="0"/>
                </a:lnTo>
                <a:lnTo>
                  <a:pt x="2929" y="0"/>
                </a:lnTo>
                <a:lnTo>
                  <a:pt x="2897" y="1"/>
                </a:lnTo>
                <a:lnTo>
                  <a:pt x="2865" y="1"/>
                </a:lnTo>
                <a:lnTo>
                  <a:pt x="2833" y="1"/>
                </a:lnTo>
                <a:lnTo>
                  <a:pt x="2801" y="1"/>
                </a:lnTo>
                <a:lnTo>
                  <a:pt x="2770" y="2"/>
                </a:lnTo>
                <a:lnTo>
                  <a:pt x="2738" y="2"/>
                </a:lnTo>
                <a:lnTo>
                  <a:pt x="2706" y="2"/>
                </a:lnTo>
                <a:lnTo>
                  <a:pt x="2674" y="5"/>
                </a:lnTo>
                <a:lnTo>
                  <a:pt x="2642" y="8"/>
                </a:lnTo>
                <a:lnTo>
                  <a:pt x="2610" y="11"/>
                </a:lnTo>
                <a:lnTo>
                  <a:pt x="2579" y="14"/>
                </a:lnTo>
                <a:lnTo>
                  <a:pt x="2547" y="17"/>
                </a:lnTo>
                <a:lnTo>
                  <a:pt x="2515" y="20"/>
                </a:lnTo>
                <a:lnTo>
                  <a:pt x="2483" y="23"/>
                </a:lnTo>
                <a:lnTo>
                  <a:pt x="2451" y="26"/>
                </a:lnTo>
                <a:lnTo>
                  <a:pt x="2419" y="29"/>
                </a:lnTo>
                <a:lnTo>
                  <a:pt x="2387" y="32"/>
                </a:lnTo>
                <a:lnTo>
                  <a:pt x="2356" y="38"/>
                </a:lnTo>
                <a:lnTo>
                  <a:pt x="2324" y="44"/>
                </a:lnTo>
                <a:lnTo>
                  <a:pt x="2292" y="47"/>
                </a:lnTo>
                <a:lnTo>
                  <a:pt x="2260" y="48"/>
                </a:lnTo>
                <a:lnTo>
                  <a:pt x="2228" y="48"/>
                </a:lnTo>
                <a:lnTo>
                  <a:pt x="2196" y="49"/>
                </a:lnTo>
                <a:lnTo>
                  <a:pt x="2165" y="50"/>
                </a:lnTo>
                <a:lnTo>
                  <a:pt x="2133" y="51"/>
                </a:lnTo>
                <a:lnTo>
                  <a:pt x="2101" y="52"/>
                </a:lnTo>
                <a:lnTo>
                  <a:pt x="2069" y="53"/>
                </a:lnTo>
                <a:lnTo>
                  <a:pt x="2037" y="57"/>
                </a:lnTo>
                <a:lnTo>
                  <a:pt x="2005" y="61"/>
                </a:lnTo>
                <a:lnTo>
                  <a:pt x="1974" y="65"/>
                </a:lnTo>
                <a:lnTo>
                  <a:pt x="1942" y="68"/>
                </a:lnTo>
                <a:lnTo>
                  <a:pt x="1910" y="72"/>
                </a:lnTo>
                <a:lnTo>
                  <a:pt x="1878" y="76"/>
                </a:lnTo>
                <a:lnTo>
                  <a:pt x="1846" y="80"/>
                </a:lnTo>
                <a:lnTo>
                  <a:pt x="1814" y="84"/>
                </a:lnTo>
                <a:lnTo>
                  <a:pt x="1783" y="88"/>
                </a:lnTo>
                <a:lnTo>
                  <a:pt x="1751" y="92"/>
                </a:lnTo>
                <a:lnTo>
                  <a:pt x="1719" y="100"/>
                </a:lnTo>
                <a:lnTo>
                  <a:pt x="1687" y="107"/>
                </a:lnTo>
                <a:lnTo>
                  <a:pt x="1655" y="114"/>
                </a:lnTo>
                <a:lnTo>
                  <a:pt x="1623" y="121"/>
                </a:lnTo>
                <a:lnTo>
                  <a:pt x="1591" y="128"/>
                </a:lnTo>
                <a:lnTo>
                  <a:pt x="1560" y="136"/>
                </a:lnTo>
                <a:lnTo>
                  <a:pt x="1528" y="143"/>
                </a:lnTo>
                <a:lnTo>
                  <a:pt x="1496" y="150"/>
                </a:lnTo>
                <a:lnTo>
                  <a:pt x="1464" y="157"/>
                </a:lnTo>
                <a:lnTo>
                  <a:pt x="1432" y="165"/>
                </a:lnTo>
                <a:lnTo>
                  <a:pt x="1400" y="177"/>
                </a:lnTo>
                <a:lnTo>
                  <a:pt x="1369" y="190"/>
                </a:lnTo>
                <a:lnTo>
                  <a:pt x="1337" y="203"/>
                </a:lnTo>
                <a:lnTo>
                  <a:pt x="1305" y="216"/>
                </a:lnTo>
                <a:lnTo>
                  <a:pt x="1273" y="228"/>
                </a:lnTo>
                <a:lnTo>
                  <a:pt x="1241" y="241"/>
                </a:lnTo>
                <a:lnTo>
                  <a:pt x="1209" y="254"/>
                </a:lnTo>
                <a:lnTo>
                  <a:pt x="1178" y="267"/>
                </a:lnTo>
                <a:lnTo>
                  <a:pt x="1146" y="280"/>
                </a:lnTo>
                <a:lnTo>
                  <a:pt x="1114" y="292"/>
                </a:lnTo>
                <a:lnTo>
                  <a:pt x="1082" y="306"/>
                </a:lnTo>
                <a:lnTo>
                  <a:pt x="1050" y="320"/>
                </a:lnTo>
                <a:lnTo>
                  <a:pt x="1018" y="334"/>
                </a:lnTo>
                <a:lnTo>
                  <a:pt x="987" y="348"/>
                </a:lnTo>
                <a:lnTo>
                  <a:pt x="955" y="362"/>
                </a:lnTo>
                <a:lnTo>
                  <a:pt x="923" y="376"/>
                </a:lnTo>
                <a:lnTo>
                  <a:pt x="891" y="390"/>
                </a:lnTo>
                <a:lnTo>
                  <a:pt x="859" y="403"/>
                </a:lnTo>
                <a:lnTo>
                  <a:pt x="827" y="417"/>
                </a:lnTo>
                <a:lnTo>
                  <a:pt x="795" y="431"/>
                </a:lnTo>
                <a:lnTo>
                  <a:pt x="764" y="440"/>
                </a:lnTo>
                <a:lnTo>
                  <a:pt x="732" y="449"/>
                </a:lnTo>
                <a:lnTo>
                  <a:pt x="700" y="458"/>
                </a:lnTo>
                <a:lnTo>
                  <a:pt x="668" y="468"/>
                </a:lnTo>
                <a:lnTo>
                  <a:pt x="636" y="477"/>
                </a:lnTo>
                <a:lnTo>
                  <a:pt x="604" y="486"/>
                </a:lnTo>
                <a:lnTo>
                  <a:pt x="573" y="495"/>
                </a:lnTo>
                <a:lnTo>
                  <a:pt x="541" y="504"/>
                </a:lnTo>
                <a:lnTo>
                  <a:pt x="509" y="513"/>
                </a:lnTo>
                <a:lnTo>
                  <a:pt x="477" y="522"/>
                </a:lnTo>
                <a:lnTo>
                  <a:pt x="445" y="550"/>
                </a:lnTo>
                <a:lnTo>
                  <a:pt x="413" y="577"/>
                </a:lnTo>
                <a:lnTo>
                  <a:pt x="382" y="605"/>
                </a:lnTo>
                <a:lnTo>
                  <a:pt x="350" y="633"/>
                </a:lnTo>
                <a:lnTo>
                  <a:pt x="318" y="660"/>
                </a:lnTo>
                <a:lnTo>
                  <a:pt x="286" y="688"/>
                </a:lnTo>
                <a:lnTo>
                  <a:pt x="254" y="716"/>
                </a:lnTo>
                <a:lnTo>
                  <a:pt x="222" y="744"/>
                </a:lnTo>
                <a:lnTo>
                  <a:pt x="191" y="771"/>
                </a:lnTo>
                <a:lnTo>
                  <a:pt x="159" y="793"/>
                </a:lnTo>
                <a:lnTo>
                  <a:pt x="127" y="814"/>
                </a:lnTo>
                <a:lnTo>
                  <a:pt x="95" y="835"/>
                </a:lnTo>
                <a:lnTo>
                  <a:pt x="63" y="857"/>
                </a:lnTo>
                <a:lnTo>
                  <a:pt x="31" y="878"/>
                </a:lnTo>
                <a:lnTo>
                  <a:pt x="0" y="900"/>
                </a:lnTo>
                <a:close/>
              </a:path>
            </a:pathLst>
          </a:custGeom>
          <a:solidFill>
            <a:srgbClr val="0000ff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Freeform 42"/>
          <p:cNvSpPr/>
          <p:nvPr/>
        </p:nvSpPr>
        <p:spPr>
          <a:xfrm>
            <a:off x="1003320" y="2982600"/>
            <a:ext cx="4801680" cy="2457000"/>
          </a:xfrm>
          <a:custGeom>
            <a:avLst/>
            <a:gdLst>
              <a:gd name="textAreaLeft" fmla="*/ 0 w 4801680"/>
              <a:gd name="textAreaRight" fmla="*/ 4802040 w 4801680"/>
              <a:gd name="textAreaTop" fmla="*/ 0 h 2457000"/>
              <a:gd name="textAreaBottom" fmla="*/ 2457360 h 2457000"/>
            </a:gdLst>
            <a:ahLst/>
            <a:rect l="textAreaLeft" t="textAreaTop" r="textAreaRight" b="textAreaBottom"/>
            <a:pathLst>
              <a:path w="3024" h="1547">
                <a:moveTo>
                  <a:pt x="0" y="660"/>
                </a:moveTo>
                <a:lnTo>
                  <a:pt x="31" y="669"/>
                </a:lnTo>
                <a:lnTo>
                  <a:pt x="63" y="678"/>
                </a:lnTo>
                <a:lnTo>
                  <a:pt x="95" y="687"/>
                </a:lnTo>
                <a:lnTo>
                  <a:pt x="127" y="696"/>
                </a:lnTo>
                <a:lnTo>
                  <a:pt x="159" y="705"/>
                </a:lnTo>
                <a:lnTo>
                  <a:pt x="191" y="713"/>
                </a:lnTo>
                <a:lnTo>
                  <a:pt x="222" y="720"/>
                </a:lnTo>
                <a:lnTo>
                  <a:pt x="254" y="727"/>
                </a:lnTo>
                <a:lnTo>
                  <a:pt x="286" y="734"/>
                </a:lnTo>
                <a:lnTo>
                  <a:pt x="318" y="741"/>
                </a:lnTo>
                <a:lnTo>
                  <a:pt x="350" y="748"/>
                </a:lnTo>
                <a:lnTo>
                  <a:pt x="382" y="755"/>
                </a:lnTo>
                <a:lnTo>
                  <a:pt x="413" y="762"/>
                </a:lnTo>
                <a:lnTo>
                  <a:pt x="445" y="769"/>
                </a:lnTo>
                <a:lnTo>
                  <a:pt x="477" y="776"/>
                </a:lnTo>
                <a:lnTo>
                  <a:pt x="509" y="780"/>
                </a:lnTo>
                <a:lnTo>
                  <a:pt x="541" y="783"/>
                </a:lnTo>
                <a:lnTo>
                  <a:pt x="573" y="787"/>
                </a:lnTo>
                <a:lnTo>
                  <a:pt x="604" y="790"/>
                </a:lnTo>
                <a:lnTo>
                  <a:pt x="636" y="794"/>
                </a:lnTo>
                <a:lnTo>
                  <a:pt x="668" y="797"/>
                </a:lnTo>
                <a:lnTo>
                  <a:pt x="700" y="801"/>
                </a:lnTo>
                <a:lnTo>
                  <a:pt x="732" y="804"/>
                </a:lnTo>
                <a:lnTo>
                  <a:pt x="764" y="808"/>
                </a:lnTo>
                <a:lnTo>
                  <a:pt x="795" y="811"/>
                </a:lnTo>
                <a:lnTo>
                  <a:pt x="827" y="807"/>
                </a:lnTo>
                <a:lnTo>
                  <a:pt x="859" y="802"/>
                </a:lnTo>
                <a:lnTo>
                  <a:pt x="891" y="798"/>
                </a:lnTo>
                <a:lnTo>
                  <a:pt x="923" y="794"/>
                </a:lnTo>
                <a:lnTo>
                  <a:pt x="955" y="790"/>
                </a:lnTo>
                <a:lnTo>
                  <a:pt x="987" y="785"/>
                </a:lnTo>
                <a:lnTo>
                  <a:pt x="1018" y="781"/>
                </a:lnTo>
                <a:lnTo>
                  <a:pt x="1050" y="777"/>
                </a:lnTo>
                <a:lnTo>
                  <a:pt x="1082" y="773"/>
                </a:lnTo>
                <a:lnTo>
                  <a:pt x="1114" y="768"/>
                </a:lnTo>
                <a:lnTo>
                  <a:pt x="1146" y="770"/>
                </a:lnTo>
                <a:lnTo>
                  <a:pt x="1178" y="772"/>
                </a:lnTo>
                <a:lnTo>
                  <a:pt x="1209" y="774"/>
                </a:lnTo>
                <a:lnTo>
                  <a:pt x="1241" y="776"/>
                </a:lnTo>
                <a:lnTo>
                  <a:pt x="1273" y="778"/>
                </a:lnTo>
                <a:lnTo>
                  <a:pt x="1305" y="779"/>
                </a:lnTo>
                <a:lnTo>
                  <a:pt x="1337" y="781"/>
                </a:lnTo>
                <a:lnTo>
                  <a:pt x="1369" y="783"/>
                </a:lnTo>
                <a:lnTo>
                  <a:pt x="1400" y="785"/>
                </a:lnTo>
                <a:lnTo>
                  <a:pt x="1432" y="787"/>
                </a:lnTo>
                <a:lnTo>
                  <a:pt x="1464" y="780"/>
                </a:lnTo>
                <a:lnTo>
                  <a:pt x="1496" y="773"/>
                </a:lnTo>
                <a:lnTo>
                  <a:pt x="1528" y="766"/>
                </a:lnTo>
                <a:lnTo>
                  <a:pt x="1560" y="759"/>
                </a:lnTo>
                <a:lnTo>
                  <a:pt x="1591" y="753"/>
                </a:lnTo>
                <a:lnTo>
                  <a:pt x="1623" y="746"/>
                </a:lnTo>
                <a:lnTo>
                  <a:pt x="1655" y="739"/>
                </a:lnTo>
                <a:lnTo>
                  <a:pt x="1687" y="732"/>
                </a:lnTo>
                <a:lnTo>
                  <a:pt x="1719" y="725"/>
                </a:lnTo>
                <a:lnTo>
                  <a:pt x="1751" y="718"/>
                </a:lnTo>
                <a:lnTo>
                  <a:pt x="1783" y="722"/>
                </a:lnTo>
                <a:lnTo>
                  <a:pt x="1814" y="725"/>
                </a:lnTo>
                <a:lnTo>
                  <a:pt x="1846" y="728"/>
                </a:lnTo>
                <a:lnTo>
                  <a:pt x="1878" y="731"/>
                </a:lnTo>
                <a:lnTo>
                  <a:pt x="1910" y="734"/>
                </a:lnTo>
                <a:lnTo>
                  <a:pt x="1942" y="737"/>
                </a:lnTo>
                <a:lnTo>
                  <a:pt x="1974" y="740"/>
                </a:lnTo>
                <a:lnTo>
                  <a:pt x="2005" y="743"/>
                </a:lnTo>
                <a:lnTo>
                  <a:pt x="2037" y="746"/>
                </a:lnTo>
                <a:lnTo>
                  <a:pt x="2069" y="749"/>
                </a:lnTo>
                <a:lnTo>
                  <a:pt x="2101" y="757"/>
                </a:lnTo>
                <a:lnTo>
                  <a:pt x="2133" y="764"/>
                </a:lnTo>
                <a:lnTo>
                  <a:pt x="2165" y="772"/>
                </a:lnTo>
                <a:lnTo>
                  <a:pt x="2196" y="779"/>
                </a:lnTo>
                <a:lnTo>
                  <a:pt x="2228" y="787"/>
                </a:lnTo>
                <a:lnTo>
                  <a:pt x="2260" y="794"/>
                </a:lnTo>
                <a:lnTo>
                  <a:pt x="2292" y="802"/>
                </a:lnTo>
                <a:lnTo>
                  <a:pt x="2324" y="809"/>
                </a:lnTo>
                <a:lnTo>
                  <a:pt x="2356" y="816"/>
                </a:lnTo>
                <a:lnTo>
                  <a:pt x="2387" y="824"/>
                </a:lnTo>
                <a:lnTo>
                  <a:pt x="2419" y="836"/>
                </a:lnTo>
                <a:lnTo>
                  <a:pt x="2451" y="848"/>
                </a:lnTo>
                <a:lnTo>
                  <a:pt x="2483" y="889"/>
                </a:lnTo>
                <a:lnTo>
                  <a:pt x="2515" y="936"/>
                </a:lnTo>
                <a:lnTo>
                  <a:pt x="2547" y="983"/>
                </a:lnTo>
                <a:lnTo>
                  <a:pt x="2579" y="1030"/>
                </a:lnTo>
                <a:lnTo>
                  <a:pt x="2610" y="1077"/>
                </a:lnTo>
                <a:lnTo>
                  <a:pt x="2642" y="1124"/>
                </a:lnTo>
                <a:lnTo>
                  <a:pt x="2674" y="1171"/>
                </a:lnTo>
                <a:lnTo>
                  <a:pt x="2706" y="1219"/>
                </a:lnTo>
                <a:lnTo>
                  <a:pt x="2738" y="1251"/>
                </a:lnTo>
                <a:lnTo>
                  <a:pt x="2770" y="1284"/>
                </a:lnTo>
                <a:lnTo>
                  <a:pt x="2801" y="1317"/>
                </a:lnTo>
                <a:lnTo>
                  <a:pt x="2833" y="1350"/>
                </a:lnTo>
                <a:lnTo>
                  <a:pt x="2865" y="1383"/>
                </a:lnTo>
                <a:lnTo>
                  <a:pt x="2897" y="1416"/>
                </a:lnTo>
                <a:lnTo>
                  <a:pt x="2929" y="1449"/>
                </a:lnTo>
                <a:lnTo>
                  <a:pt x="2961" y="1481"/>
                </a:lnTo>
                <a:lnTo>
                  <a:pt x="2992" y="1514"/>
                </a:lnTo>
                <a:lnTo>
                  <a:pt x="3024" y="1547"/>
                </a:lnTo>
                <a:lnTo>
                  <a:pt x="3024" y="393"/>
                </a:lnTo>
                <a:lnTo>
                  <a:pt x="2992" y="390"/>
                </a:lnTo>
                <a:lnTo>
                  <a:pt x="2961" y="386"/>
                </a:lnTo>
                <a:lnTo>
                  <a:pt x="2929" y="383"/>
                </a:lnTo>
                <a:lnTo>
                  <a:pt x="2897" y="379"/>
                </a:lnTo>
                <a:lnTo>
                  <a:pt x="2865" y="376"/>
                </a:lnTo>
                <a:lnTo>
                  <a:pt x="2833" y="372"/>
                </a:lnTo>
                <a:lnTo>
                  <a:pt x="2801" y="368"/>
                </a:lnTo>
                <a:lnTo>
                  <a:pt x="2770" y="365"/>
                </a:lnTo>
                <a:lnTo>
                  <a:pt x="2738" y="361"/>
                </a:lnTo>
                <a:lnTo>
                  <a:pt x="2706" y="358"/>
                </a:lnTo>
                <a:lnTo>
                  <a:pt x="2674" y="355"/>
                </a:lnTo>
                <a:lnTo>
                  <a:pt x="2642" y="353"/>
                </a:lnTo>
                <a:lnTo>
                  <a:pt x="2610" y="351"/>
                </a:lnTo>
                <a:lnTo>
                  <a:pt x="2579" y="348"/>
                </a:lnTo>
                <a:lnTo>
                  <a:pt x="2547" y="346"/>
                </a:lnTo>
                <a:lnTo>
                  <a:pt x="2515" y="344"/>
                </a:lnTo>
                <a:lnTo>
                  <a:pt x="2483" y="341"/>
                </a:lnTo>
                <a:lnTo>
                  <a:pt x="2451" y="339"/>
                </a:lnTo>
                <a:lnTo>
                  <a:pt x="2419" y="336"/>
                </a:lnTo>
                <a:lnTo>
                  <a:pt x="2387" y="334"/>
                </a:lnTo>
                <a:lnTo>
                  <a:pt x="2356" y="334"/>
                </a:lnTo>
                <a:lnTo>
                  <a:pt x="2324" y="329"/>
                </a:lnTo>
                <a:lnTo>
                  <a:pt x="2292" y="324"/>
                </a:lnTo>
                <a:lnTo>
                  <a:pt x="2260" y="318"/>
                </a:lnTo>
                <a:lnTo>
                  <a:pt x="2228" y="313"/>
                </a:lnTo>
                <a:lnTo>
                  <a:pt x="2196" y="307"/>
                </a:lnTo>
                <a:lnTo>
                  <a:pt x="2165" y="302"/>
                </a:lnTo>
                <a:lnTo>
                  <a:pt x="2133" y="297"/>
                </a:lnTo>
                <a:lnTo>
                  <a:pt x="2101" y="291"/>
                </a:lnTo>
                <a:lnTo>
                  <a:pt x="2069" y="286"/>
                </a:lnTo>
                <a:lnTo>
                  <a:pt x="2037" y="285"/>
                </a:lnTo>
                <a:lnTo>
                  <a:pt x="2005" y="285"/>
                </a:lnTo>
                <a:lnTo>
                  <a:pt x="1974" y="262"/>
                </a:lnTo>
                <a:lnTo>
                  <a:pt x="1942" y="235"/>
                </a:lnTo>
                <a:lnTo>
                  <a:pt x="1910" y="208"/>
                </a:lnTo>
                <a:lnTo>
                  <a:pt x="1878" y="181"/>
                </a:lnTo>
                <a:lnTo>
                  <a:pt x="1846" y="154"/>
                </a:lnTo>
                <a:lnTo>
                  <a:pt x="1814" y="127"/>
                </a:lnTo>
                <a:lnTo>
                  <a:pt x="1783" y="100"/>
                </a:lnTo>
                <a:lnTo>
                  <a:pt x="1751" y="73"/>
                </a:lnTo>
                <a:lnTo>
                  <a:pt x="1719" y="66"/>
                </a:lnTo>
                <a:lnTo>
                  <a:pt x="1687" y="58"/>
                </a:lnTo>
                <a:lnTo>
                  <a:pt x="1655" y="51"/>
                </a:lnTo>
                <a:lnTo>
                  <a:pt x="1623" y="44"/>
                </a:lnTo>
                <a:lnTo>
                  <a:pt x="1591" y="36"/>
                </a:lnTo>
                <a:lnTo>
                  <a:pt x="1560" y="29"/>
                </a:lnTo>
                <a:lnTo>
                  <a:pt x="1528" y="22"/>
                </a:lnTo>
                <a:lnTo>
                  <a:pt x="1496" y="14"/>
                </a:lnTo>
                <a:lnTo>
                  <a:pt x="1464" y="7"/>
                </a:lnTo>
                <a:lnTo>
                  <a:pt x="1432" y="0"/>
                </a:lnTo>
                <a:lnTo>
                  <a:pt x="1400" y="1"/>
                </a:lnTo>
                <a:lnTo>
                  <a:pt x="1369" y="2"/>
                </a:lnTo>
                <a:lnTo>
                  <a:pt x="1337" y="4"/>
                </a:lnTo>
                <a:lnTo>
                  <a:pt x="1305" y="5"/>
                </a:lnTo>
                <a:lnTo>
                  <a:pt x="1273" y="7"/>
                </a:lnTo>
                <a:lnTo>
                  <a:pt x="1241" y="8"/>
                </a:lnTo>
                <a:lnTo>
                  <a:pt x="1209" y="9"/>
                </a:lnTo>
                <a:lnTo>
                  <a:pt x="1178" y="11"/>
                </a:lnTo>
                <a:lnTo>
                  <a:pt x="1146" y="12"/>
                </a:lnTo>
                <a:lnTo>
                  <a:pt x="1114" y="14"/>
                </a:lnTo>
                <a:lnTo>
                  <a:pt x="1082" y="25"/>
                </a:lnTo>
                <a:lnTo>
                  <a:pt x="1050" y="36"/>
                </a:lnTo>
                <a:lnTo>
                  <a:pt x="1018" y="47"/>
                </a:lnTo>
                <a:lnTo>
                  <a:pt x="987" y="58"/>
                </a:lnTo>
                <a:lnTo>
                  <a:pt x="955" y="69"/>
                </a:lnTo>
                <a:lnTo>
                  <a:pt x="923" y="80"/>
                </a:lnTo>
                <a:lnTo>
                  <a:pt x="891" y="91"/>
                </a:lnTo>
                <a:lnTo>
                  <a:pt x="859" y="102"/>
                </a:lnTo>
                <a:lnTo>
                  <a:pt x="827" y="113"/>
                </a:lnTo>
                <a:lnTo>
                  <a:pt x="795" y="124"/>
                </a:lnTo>
                <a:lnTo>
                  <a:pt x="764" y="137"/>
                </a:lnTo>
                <a:lnTo>
                  <a:pt x="732" y="150"/>
                </a:lnTo>
                <a:lnTo>
                  <a:pt x="700" y="163"/>
                </a:lnTo>
                <a:lnTo>
                  <a:pt x="668" y="176"/>
                </a:lnTo>
                <a:lnTo>
                  <a:pt x="636" y="189"/>
                </a:lnTo>
                <a:lnTo>
                  <a:pt x="604" y="202"/>
                </a:lnTo>
                <a:lnTo>
                  <a:pt x="573" y="215"/>
                </a:lnTo>
                <a:lnTo>
                  <a:pt x="541" y="227"/>
                </a:lnTo>
                <a:lnTo>
                  <a:pt x="509" y="240"/>
                </a:lnTo>
                <a:lnTo>
                  <a:pt x="477" y="253"/>
                </a:lnTo>
                <a:lnTo>
                  <a:pt x="445" y="283"/>
                </a:lnTo>
                <a:lnTo>
                  <a:pt x="413" y="312"/>
                </a:lnTo>
                <a:lnTo>
                  <a:pt x="382" y="342"/>
                </a:lnTo>
                <a:lnTo>
                  <a:pt x="350" y="371"/>
                </a:lnTo>
                <a:lnTo>
                  <a:pt x="318" y="401"/>
                </a:lnTo>
                <a:lnTo>
                  <a:pt x="286" y="430"/>
                </a:lnTo>
                <a:lnTo>
                  <a:pt x="254" y="460"/>
                </a:lnTo>
                <a:lnTo>
                  <a:pt x="222" y="490"/>
                </a:lnTo>
                <a:lnTo>
                  <a:pt x="191" y="519"/>
                </a:lnTo>
                <a:lnTo>
                  <a:pt x="159" y="549"/>
                </a:lnTo>
                <a:lnTo>
                  <a:pt x="127" y="571"/>
                </a:lnTo>
                <a:lnTo>
                  <a:pt x="95" y="593"/>
                </a:lnTo>
                <a:lnTo>
                  <a:pt x="63" y="615"/>
                </a:lnTo>
                <a:lnTo>
                  <a:pt x="31" y="638"/>
                </a:lnTo>
                <a:lnTo>
                  <a:pt x="0" y="660"/>
                </a:lnTo>
                <a:close/>
              </a:path>
            </a:pathLst>
          </a:custGeom>
          <a:solidFill>
            <a:srgbClr val="00b050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Freeform 43"/>
          <p:cNvSpPr/>
          <p:nvPr/>
        </p:nvSpPr>
        <p:spPr>
          <a:xfrm>
            <a:off x="5880240" y="3607920"/>
            <a:ext cx="360" cy="1831680"/>
          </a:xfrm>
          <a:custGeom>
            <a:avLst/>
            <a:gdLst>
              <a:gd name="textAreaLeft" fmla="*/ 0 w 360"/>
              <a:gd name="textAreaRight" fmla="*/ 720 w 360"/>
              <a:gd name="textAreaTop" fmla="*/ 0 h 1831680"/>
              <a:gd name="textAreaBottom" fmla="*/ 1832040 h 1831680"/>
            </a:gdLst>
            <a:ahLst/>
            <a:rect l="textAreaLeft" t="textAreaTop" r="textAreaRight" b="textAreaBottom"/>
            <a:pathLst>
              <a:path w="0" h="1153">
                <a:moveTo>
                  <a:pt x="0" y="1153"/>
                </a:moveTo>
                <a:lnTo>
                  <a:pt x="0" y="0"/>
                </a:lnTo>
              </a:path>
            </a:pathLst>
          </a:custGeom>
          <a:noFill/>
          <a:ln w="5080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Freeform 44"/>
          <p:cNvSpPr/>
          <p:nvPr/>
        </p:nvSpPr>
        <p:spPr>
          <a:xfrm>
            <a:off x="5951520" y="2601360"/>
            <a:ext cx="360" cy="634680"/>
          </a:xfrm>
          <a:custGeom>
            <a:avLst/>
            <a:gdLst>
              <a:gd name="textAreaLeft" fmla="*/ 0 w 360"/>
              <a:gd name="textAreaRight" fmla="*/ 720 w 360"/>
              <a:gd name="textAreaTop" fmla="*/ 0 h 634680"/>
              <a:gd name="textAreaBottom" fmla="*/ 635040 h 634680"/>
            </a:gdLst>
            <a:ahLst/>
            <a:rect l="textAreaLeft" t="textAreaTop" r="textAreaRight" b="textAreaBottom"/>
            <a:pathLst>
              <a:path w="0" h="399">
                <a:moveTo>
                  <a:pt x="0" y="399"/>
                </a:moveTo>
                <a:lnTo>
                  <a:pt x="0" y="0"/>
                </a:lnTo>
              </a:path>
            </a:pathLst>
          </a:custGeom>
          <a:noFill/>
          <a:ln w="508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Freeform 45"/>
          <p:cNvSpPr/>
          <p:nvPr/>
        </p:nvSpPr>
        <p:spPr>
          <a:xfrm>
            <a:off x="5945040" y="1644120"/>
            <a:ext cx="360" cy="852120"/>
          </a:xfrm>
          <a:custGeom>
            <a:avLst/>
            <a:gdLst>
              <a:gd name="textAreaLeft" fmla="*/ 0 w 360"/>
              <a:gd name="textAreaRight" fmla="*/ 720 w 360"/>
              <a:gd name="textAreaTop" fmla="*/ 0 h 852120"/>
              <a:gd name="textAreaBottom" fmla="*/ 852480 h 852120"/>
            </a:gdLst>
            <a:ahLst/>
            <a:rect l="textAreaLeft" t="textAreaTop" r="textAreaRight" b="textAreaBottom"/>
            <a:pathLst>
              <a:path w="0" h="537">
                <a:moveTo>
                  <a:pt x="0" y="537"/>
                </a:moveTo>
                <a:lnTo>
                  <a:pt x="0" y="0"/>
                </a:lnTo>
              </a:path>
            </a:pathLst>
          </a:custGeom>
          <a:noFill/>
          <a:ln w="50800">
            <a:solidFill>
              <a:srgbClr val="ff050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Freeform 46"/>
          <p:cNvSpPr/>
          <p:nvPr/>
        </p:nvSpPr>
        <p:spPr>
          <a:xfrm>
            <a:off x="6105600" y="2630160"/>
            <a:ext cx="360" cy="690120"/>
          </a:xfrm>
          <a:custGeom>
            <a:avLst/>
            <a:gdLst>
              <a:gd name="textAreaLeft" fmla="*/ 0 w 360"/>
              <a:gd name="textAreaRight" fmla="*/ 720 w 360"/>
              <a:gd name="textAreaTop" fmla="*/ 0 h 690120"/>
              <a:gd name="textAreaBottom" fmla="*/ 690480 h 690120"/>
            </a:gdLst>
            <a:ahLst/>
            <a:rect l="textAreaLeft" t="textAreaTop" r="textAreaRight" b="textAreaBottom"/>
            <a:pathLst>
              <a:path w="0" h="434">
                <a:moveTo>
                  <a:pt x="0" y="434"/>
                </a:moveTo>
                <a:lnTo>
                  <a:pt x="0" y="0"/>
                </a:lnTo>
              </a:path>
            </a:pathLst>
          </a:custGeom>
          <a:noFill/>
          <a:ln w="50800">
            <a:solidFill>
              <a:srgbClr val="f7964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Freeform 47"/>
          <p:cNvSpPr/>
          <p:nvPr/>
        </p:nvSpPr>
        <p:spPr>
          <a:xfrm>
            <a:off x="6033960" y="2754000"/>
            <a:ext cx="360" cy="1512360"/>
          </a:xfrm>
          <a:custGeom>
            <a:avLst/>
            <a:gdLst>
              <a:gd name="textAreaLeft" fmla="*/ 0 w 360"/>
              <a:gd name="textAreaRight" fmla="*/ 720 w 360"/>
              <a:gd name="textAreaTop" fmla="*/ 0 h 1512360"/>
              <a:gd name="textAreaBottom" fmla="*/ 1512720 h 1512360"/>
            </a:gdLst>
            <a:ahLst/>
            <a:rect l="textAreaLeft" t="textAreaTop" r="textAreaRight" b="textAreaBottom"/>
            <a:pathLst>
              <a:path w="0" h="953">
                <a:moveTo>
                  <a:pt x="0" y="953"/>
                </a:moveTo>
                <a:lnTo>
                  <a:pt x="0" y="0"/>
                </a:lnTo>
              </a:path>
            </a:pathLst>
          </a:custGeom>
          <a:noFill/>
          <a:ln w="50800">
            <a:solidFill>
              <a:srgbClr val="c032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Freeform 48"/>
          <p:cNvSpPr/>
          <p:nvPr/>
        </p:nvSpPr>
        <p:spPr>
          <a:xfrm>
            <a:off x="750960" y="4031640"/>
            <a:ext cx="5054400" cy="360"/>
          </a:xfrm>
          <a:custGeom>
            <a:avLst/>
            <a:gdLst>
              <a:gd name="textAreaLeft" fmla="*/ 0 w 5054400"/>
              <a:gd name="textAreaRight" fmla="*/ 5054760 w 5054400"/>
              <a:gd name="textAreaTop" fmla="*/ 0 h 360"/>
              <a:gd name="textAreaBottom" fmla="*/ 720 h 360"/>
            </a:gdLst>
            <a:ahLst/>
            <a:rect l="textAreaLeft" t="textAreaTop" r="textAreaRight" b="textAreaBottom"/>
            <a:pathLst>
              <a:path w="3184" h="0">
                <a:moveTo>
                  <a:pt x="0" y="0"/>
                </a:moveTo>
                <a:lnTo>
                  <a:pt x="3184" y="0"/>
                </a:lnTo>
              </a:path>
            </a:pathLst>
          </a:custGeom>
          <a:noFill/>
          <a:ln w="190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280" bIns="-4428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Freeform 49"/>
          <p:cNvSpPr/>
          <p:nvPr/>
        </p:nvSpPr>
        <p:spPr>
          <a:xfrm>
            <a:off x="1003320" y="3858840"/>
            <a:ext cx="4801680" cy="231480"/>
          </a:xfrm>
          <a:custGeom>
            <a:avLst/>
            <a:gdLst>
              <a:gd name="textAreaLeft" fmla="*/ 0 w 4801680"/>
              <a:gd name="textAreaRight" fmla="*/ 4802040 w 4801680"/>
              <a:gd name="textAreaTop" fmla="*/ 0 h 231480"/>
              <a:gd name="textAreaBottom" fmla="*/ 231840 h 231480"/>
            </a:gdLst>
            <a:ahLst/>
            <a:rect l="textAreaLeft" t="textAreaTop" r="textAreaRight" b="textAreaBottom"/>
            <a:pathLst>
              <a:path w="3024" h="145">
                <a:moveTo>
                  <a:pt x="0" y="108"/>
                </a:moveTo>
                <a:lnTo>
                  <a:pt x="159" y="0"/>
                </a:lnTo>
                <a:lnTo>
                  <a:pt x="477" y="74"/>
                </a:lnTo>
                <a:lnTo>
                  <a:pt x="795" y="111"/>
                </a:lnTo>
                <a:lnTo>
                  <a:pt x="1114" y="64"/>
                </a:lnTo>
                <a:lnTo>
                  <a:pt x="1432" y="24"/>
                </a:lnTo>
                <a:lnTo>
                  <a:pt x="1751" y="66"/>
                </a:lnTo>
                <a:lnTo>
                  <a:pt x="2069" y="64"/>
                </a:lnTo>
                <a:lnTo>
                  <a:pt x="2387" y="23"/>
                </a:lnTo>
                <a:lnTo>
                  <a:pt x="2706" y="104"/>
                </a:lnTo>
                <a:lnTo>
                  <a:pt x="3024" y="145"/>
                </a:lnTo>
              </a:path>
            </a:pathLst>
          </a:custGeom>
          <a:noFill/>
          <a:ln w="5080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Freeform 50"/>
          <p:cNvSpPr/>
          <p:nvPr/>
        </p:nvSpPr>
        <p:spPr>
          <a:xfrm>
            <a:off x="1003320" y="2715840"/>
            <a:ext cx="4801680" cy="1315800"/>
          </a:xfrm>
          <a:custGeom>
            <a:avLst/>
            <a:gdLst>
              <a:gd name="textAreaLeft" fmla="*/ 0 w 4801680"/>
              <a:gd name="textAreaRight" fmla="*/ 4802040 w 4801680"/>
              <a:gd name="textAreaTop" fmla="*/ 0 h 1315800"/>
              <a:gd name="textAreaBottom" fmla="*/ 1316160 h 1315800"/>
            </a:gdLst>
            <a:ahLst/>
            <a:rect l="textAreaLeft" t="textAreaTop" r="textAreaRight" b="textAreaBottom"/>
            <a:pathLst>
              <a:path w="3024" h="828">
                <a:moveTo>
                  <a:pt x="0" y="828"/>
                </a:moveTo>
                <a:lnTo>
                  <a:pt x="159" y="764"/>
                </a:lnTo>
                <a:lnTo>
                  <a:pt x="477" y="688"/>
                </a:lnTo>
                <a:lnTo>
                  <a:pt x="795" y="593"/>
                </a:lnTo>
                <a:lnTo>
                  <a:pt x="1114" y="495"/>
                </a:lnTo>
                <a:lnTo>
                  <a:pt x="1432" y="399"/>
                </a:lnTo>
                <a:lnTo>
                  <a:pt x="1751" y="284"/>
                </a:lnTo>
                <a:lnTo>
                  <a:pt x="2069" y="179"/>
                </a:lnTo>
                <a:lnTo>
                  <a:pt x="2387" y="97"/>
                </a:lnTo>
                <a:lnTo>
                  <a:pt x="2706" y="37"/>
                </a:lnTo>
                <a:lnTo>
                  <a:pt x="3024" y="0"/>
                </a:lnTo>
              </a:path>
            </a:pathLst>
          </a:custGeom>
          <a:noFill/>
          <a:ln w="508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Freeform 52"/>
          <p:cNvSpPr/>
          <p:nvPr/>
        </p:nvSpPr>
        <p:spPr>
          <a:xfrm>
            <a:off x="1003320" y="3284280"/>
            <a:ext cx="4801680" cy="818640"/>
          </a:xfrm>
          <a:custGeom>
            <a:avLst/>
            <a:gdLst>
              <a:gd name="textAreaLeft" fmla="*/ 0 w 4801680"/>
              <a:gd name="textAreaRight" fmla="*/ 4802040 w 4801680"/>
              <a:gd name="textAreaTop" fmla="*/ 0 h 818640"/>
              <a:gd name="textAreaBottom" fmla="*/ 819000 h 818640"/>
            </a:gdLst>
            <a:ahLst/>
            <a:rect l="textAreaLeft" t="textAreaTop" r="textAreaRight" b="textAreaBottom"/>
            <a:pathLst>
              <a:path w="3024" h="516">
                <a:moveTo>
                  <a:pt x="0" y="470"/>
                </a:moveTo>
                <a:lnTo>
                  <a:pt x="159" y="516"/>
                </a:lnTo>
                <a:lnTo>
                  <a:pt x="477" y="470"/>
                </a:lnTo>
                <a:lnTo>
                  <a:pt x="795" y="375"/>
                </a:lnTo>
                <a:lnTo>
                  <a:pt x="1114" y="252"/>
                </a:lnTo>
                <a:lnTo>
                  <a:pt x="1432" y="188"/>
                </a:lnTo>
                <a:lnTo>
                  <a:pt x="1751" y="60"/>
                </a:lnTo>
                <a:lnTo>
                  <a:pt x="2069" y="14"/>
                </a:lnTo>
                <a:lnTo>
                  <a:pt x="2387" y="0"/>
                </a:lnTo>
                <a:lnTo>
                  <a:pt x="2706" y="7"/>
                </a:lnTo>
                <a:lnTo>
                  <a:pt x="3024" y="23"/>
                </a:lnTo>
              </a:path>
            </a:pathLst>
          </a:custGeom>
          <a:noFill/>
          <a:ln w="50800">
            <a:solidFill>
              <a:srgbClr val="f7964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Freeform 53"/>
          <p:cNvSpPr/>
          <p:nvPr/>
        </p:nvSpPr>
        <p:spPr>
          <a:xfrm>
            <a:off x="1003320" y="2558520"/>
            <a:ext cx="4801680" cy="1472760"/>
          </a:xfrm>
          <a:custGeom>
            <a:avLst/>
            <a:gdLst>
              <a:gd name="textAreaLeft" fmla="*/ 0 w 4801680"/>
              <a:gd name="textAreaRight" fmla="*/ 4802040 w 4801680"/>
              <a:gd name="textAreaTop" fmla="*/ 0 h 1472760"/>
              <a:gd name="textAreaBottom" fmla="*/ 1473120 h 1472760"/>
            </a:gdLst>
            <a:ahLst/>
            <a:rect l="textAreaLeft" t="textAreaTop" r="textAreaRight" b="textAreaBottom"/>
            <a:pathLst>
              <a:path w="3024" h="927">
                <a:moveTo>
                  <a:pt x="0" y="927"/>
                </a:moveTo>
                <a:lnTo>
                  <a:pt x="159" y="829"/>
                </a:lnTo>
                <a:lnTo>
                  <a:pt x="477" y="538"/>
                </a:lnTo>
                <a:lnTo>
                  <a:pt x="795" y="385"/>
                </a:lnTo>
                <a:lnTo>
                  <a:pt x="1114" y="170"/>
                </a:lnTo>
                <a:lnTo>
                  <a:pt x="1432" y="59"/>
                </a:lnTo>
                <a:lnTo>
                  <a:pt x="1751" y="7"/>
                </a:lnTo>
                <a:lnTo>
                  <a:pt x="2069" y="0"/>
                </a:lnTo>
                <a:lnTo>
                  <a:pt x="2387" y="9"/>
                </a:lnTo>
                <a:lnTo>
                  <a:pt x="2706" y="41"/>
                </a:lnTo>
                <a:lnTo>
                  <a:pt x="3024" y="122"/>
                </a:lnTo>
              </a:path>
            </a:pathLst>
          </a:custGeom>
          <a:noFill/>
          <a:ln w="50800">
            <a:solidFill>
              <a:srgbClr val="c032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Text Box 91"/>
          <p:cNvSpPr/>
          <p:nvPr/>
        </p:nvSpPr>
        <p:spPr>
          <a:xfrm>
            <a:off x="6237000" y="4276440"/>
            <a:ext cx="5878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b050"/>
                </a:solidFill>
                <a:latin typeface="Dialog"/>
              </a:rPr>
              <a:t>SSP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Text Box 93"/>
          <p:cNvSpPr/>
          <p:nvPr/>
        </p:nvSpPr>
        <p:spPr>
          <a:xfrm>
            <a:off x="6292440" y="2874600"/>
            <a:ext cx="5878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33cc"/>
                </a:solidFill>
                <a:latin typeface="Dialog"/>
              </a:rPr>
              <a:t>SSP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Text Box 95"/>
          <p:cNvSpPr/>
          <p:nvPr/>
        </p:nvSpPr>
        <p:spPr>
          <a:xfrm>
            <a:off x="6132240" y="1507680"/>
            <a:ext cx="5878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0000"/>
                </a:solidFill>
                <a:latin typeface="Dialog"/>
              </a:rPr>
              <a:t>SSP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Text Box 97"/>
          <p:cNvSpPr/>
          <p:nvPr/>
        </p:nvSpPr>
        <p:spPr>
          <a:xfrm>
            <a:off x="6292440" y="3107880"/>
            <a:ext cx="5878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e79b03"/>
                </a:solidFill>
                <a:latin typeface="Dialog"/>
              </a:rPr>
              <a:t>SSP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Text Box 99"/>
          <p:cNvSpPr/>
          <p:nvPr/>
        </p:nvSpPr>
        <p:spPr>
          <a:xfrm>
            <a:off x="6292440" y="2599920"/>
            <a:ext cx="5878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cc00cc"/>
                </a:solidFill>
                <a:latin typeface="Dialog"/>
              </a:rPr>
              <a:t>SSP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Rectangle 70"/>
          <p:cNvSpPr/>
          <p:nvPr/>
        </p:nvSpPr>
        <p:spPr>
          <a:xfrm>
            <a:off x="1227240" y="1595160"/>
            <a:ext cx="495000" cy="177480"/>
          </a:xfrm>
          <a:prstGeom prst="rect">
            <a:avLst/>
          </a:prstGeom>
          <a:solidFill>
            <a:schemeClr val="tx1">
              <a:alpha val="25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2" name="Freeform 90"/>
          <p:cNvSpPr/>
          <p:nvPr/>
        </p:nvSpPr>
        <p:spPr>
          <a:xfrm>
            <a:off x="1068480" y="1675800"/>
            <a:ext cx="821880" cy="360"/>
          </a:xfrm>
          <a:custGeom>
            <a:avLst/>
            <a:gdLst>
              <a:gd name="textAreaLeft" fmla="*/ 0 w 821880"/>
              <a:gd name="textAreaRight" fmla="*/ 822240 w 821880"/>
              <a:gd name="textAreaTop" fmla="*/ 0 h 360"/>
              <a:gd name="textAreaBottom" fmla="*/ 720 h 360"/>
            </a:gdLst>
            <a:ahLst/>
            <a:rect l="textAreaLeft" t="textAreaTop" r="textAreaRight" b="textAreaBottom"/>
            <a:pathLst>
              <a:path w="256" h="0">
                <a:moveTo>
                  <a:pt x="0" y="0"/>
                </a:moveTo>
                <a:lnTo>
                  <a:pt x="256" y="0"/>
                </a:lnTo>
              </a:path>
            </a:pathLst>
          </a:custGeom>
          <a:noFill/>
          <a:ln w="381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280" bIns="-4428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TextBox 72"/>
          <p:cNvSpPr/>
          <p:nvPr/>
        </p:nvSpPr>
        <p:spPr>
          <a:xfrm>
            <a:off x="1018800" y="1355400"/>
            <a:ext cx="9262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AM r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TextBox 73"/>
          <p:cNvSpPr/>
          <p:nvPr/>
        </p:nvSpPr>
        <p:spPr>
          <a:xfrm>
            <a:off x="1848960" y="1504440"/>
            <a:ext cx="113832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SP mark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TextBox 74"/>
          <p:cNvSpPr/>
          <p:nvPr/>
        </p:nvSpPr>
        <p:spPr>
          <a:xfrm>
            <a:off x="2184840" y="4202640"/>
            <a:ext cx="27201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b050"/>
                </a:solidFill>
                <a:latin typeface="Dialog"/>
              </a:rPr>
              <a:t>Sustainable 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TextBox 75"/>
          <p:cNvSpPr/>
          <p:nvPr/>
        </p:nvSpPr>
        <p:spPr>
          <a:xfrm rot="20113800">
            <a:off x="2874240" y="1716120"/>
            <a:ext cx="2442600" cy="5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ff0000"/>
                </a:solidFill>
                <a:latin typeface="Dialog"/>
              </a:rPr>
              <a:t>High pop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ff0000"/>
                </a:solidFill>
                <a:latin typeface="Dialog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Dialog"/>
              </a:rPr>
              <a:t>&amp; low agr. produ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Freeform 51"/>
          <p:cNvSpPr/>
          <p:nvPr/>
        </p:nvSpPr>
        <p:spPr>
          <a:xfrm>
            <a:off x="1003320" y="1644120"/>
            <a:ext cx="4801680" cy="2387160"/>
          </a:xfrm>
          <a:custGeom>
            <a:avLst/>
            <a:gdLst>
              <a:gd name="textAreaLeft" fmla="*/ 0 w 4801680"/>
              <a:gd name="textAreaRight" fmla="*/ 4802040 w 4801680"/>
              <a:gd name="textAreaTop" fmla="*/ 0 h 2387160"/>
              <a:gd name="textAreaBottom" fmla="*/ 2387520 h 2387160"/>
            </a:gdLst>
            <a:ahLst/>
            <a:rect l="textAreaLeft" t="textAreaTop" r="textAreaRight" b="textAreaBottom"/>
            <a:pathLst>
              <a:path w="3024" h="1503">
                <a:moveTo>
                  <a:pt x="0" y="1503"/>
                </a:moveTo>
                <a:lnTo>
                  <a:pt x="159" y="1411"/>
                </a:lnTo>
                <a:lnTo>
                  <a:pt x="477" y="1204"/>
                </a:lnTo>
                <a:lnTo>
                  <a:pt x="795" y="1018"/>
                </a:lnTo>
                <a:lnTo>
                  <a:pt x="1114" y="875"/>
                </a:lnTo>
                <a:lnTo>
                  <a:pt x="1432" y="735"/>
                </a:lnTo>
                <a:lnTo>
                  <a:pt x="1751" y="552"/>
                </a:lnTo>
                <a:lnTo>
                  <a:pt x="2069" y="394"/>
                </a:lnTo>
                <a:lnTo>
                  <a:pt x="2387" y="252"/>
                </a:lnTo>
                <a:lnTo>
                  <a:pt x="2706" y="122"/>
                </a:lnTo>
                <a:lnTo>
                  <a:pt x="3024" y="0"/>
                </a:lnTo>
              </a:path>
            </a:pathLst>
          </a:custGeom>
          <a:noFill/>
          <a:ln w="50800">
            <a:solidFill>
              <a:srgbClr val="ff050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Rectangle 1"/>
          <p:cNvSpPr/>
          <p:nvPr/>
        </p:nvSpPr>
        <p:spPr>
          <a:xfrm>
            <a:off x="1474920" y="823320"/>
            <a:ext cx="53384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ference scenarios, relative to 2005 = 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Text Box 2"/>
          <p:cNvSpPr/>
          <p:nvPr/>
        </p:nvSpPr>
        <p:spPr>
          <a:xfrm>
            <a:off x="278280" y="34560"/>
            <a:ext cx="777204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007bc7"/>
                </a:solidFill>
                <a:latin typeface="Arial"/>
              </a:rPr>
              <a:t>Land ma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TextBox 63"/>
          <p:cNvSpPr/>
          <p:nvPr/>
        </p:nvSpPr>
        <p:spPr>
          <a:xfrm>
            <a:off x="6951240" y="1446120"/>
            <a:ext cx="2074320" cy="264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Cooperation with George Hurtt to translate these into harmonised m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5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5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5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5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07</TotalTime>
  <Application>LibreOffice/7.4.7.2$Linux_X86_64 LibreOffice_project/40$Build-2</Application>
  <AppVersion>15.0000</AppVersion>
  <Words>863</Words>
  <Paragraphs>333</Paragraphs>
  <Company>Climate Central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02T20:42:38Z</dcterms:created>
  <dc:creator>Claudia Tebaldi</dc:creator>
  <dc:description/>
  <dc:language>en-US</dc:language>
  <cp:lastModifiedBy>Vuuren, van Detlef</cp:lastModifiedBy>
  <dcterms:modified xsi:type="dcterms:W3CDTF">2015-10-19T09:17:35Z</dcterms:modified>
  <cp:revision>58</cp:revision>
  <dc:subject/>
  <dc:title>ScenarioMIP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5</vt:r8>
  </property>
  <property fmtid="{D5CDD505-2E9C-101B-9397-08002B2CF9AE}" pid="3" name="PresentationFormat">
    <vt:lpwstr>On-screen Show (4:3)</vt:lpwstr>
  </property>
  <property fmtid="{D5CDD505-2E9C-101B-9397-08002B2CF9AE}" pid="4" name="Slides">
    <vt:r8>16</vt:r8>
  </property>
</Properties>
</file>