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27DC-6331-4E45-924D-ECD2A720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ECE-1153-4293-9351-2D8D8AB7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A5B-893B-4565-B22B-0AE25C0B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60A-6742-4E06-8BD6-A081EF03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C43-DC38-4CF8-AA91-41227626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73A-B8D6-4CC6-BBA9-AB6D0BA5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EE5-2953-4DCD-A915-08E2CFD8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06FA-B562-45C5-927E-67C5D68F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4CC-ACE9-4A16-9817-55888C67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BA59-9825-4D92-B976-71C97D73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4D1-48B7-435A-AE4A-1BB484BE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D62-10E1-499A-8CD7-08EFFC7A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BCF5-7BE3-47AD-9F75-AD99295497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85C9-5F46-4710-87A1-48D161EE3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ward a WMO Lead Center for Near Term Climate Predic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600120"/>
            <a:ext cx="8458200" cy="61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h 2014 ET-OPSLS Meet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d that CBS-15 had encouraged GPC Exeter to prepare a written submission to CBS and CCl recommending how multi-annual to decadal predictions (= Near Term Climate Predictions, NTCP) might be incorporated into the Climate Services Information System of the GFC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 made in the context of the multi-model decadal forecast exchange hosted by GPC Ex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PC Exeter tabled a proposal recommending the establishment of infrastructure similar to that of the WMO Lead Center for Long-Range Forecast Multi-Model Ensemble (LC-LRFMME) and its 12 GP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 reviewed this first submission and noted that there would be challenges in ensuring judicious use of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edictions, in promo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ir lim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in harmonizing them wit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tional decadal outlook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pared by NMHS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pos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LC-NTCP discussed 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Cl-16 (Jul 2014), CBS-Ext 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ep 2014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Cg-17 (M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rcRect l="0" t="0" r="14394" b="0"/>
          <a:stretch/>
        </p:blipFill>
        <p:spPr>
          <a:xfrm>
            <a:off x="4191120" y="3927600"/>
            <a:ext cx="487656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80880" y="304920"/>
            <a:ext cx="86108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tcome of Technical Comission Mee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ess welcomed, ET asked to finalize roles and functions of LC-NTCP for consideration by CBS-16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T asked to consider following concer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Demonstration of adequacy of real-time multi-annual to decadal forecas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or operational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Harmonization of output from a LC-NTCP with national decadal outlook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epared by NMH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How to ensure judicious use of the predictions and enhance us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nderstanding of their limi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ince the Exeter (2014) meeting, two further initiatives that support establishment of infrastructure for real time NTCP have starte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WCRP/WGSIP Decadal Climate Prediction Project (DCPP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- WCRP Grand Challenge of Near Term Climate Prediction (GC-NTC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commended that ET harmonise planning with these initia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255600"/>
            <a:ext cx="8610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y 2016 ET-OPSLS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Concerns expressed by Technical Commissions viewed as addressed (e.g. Year 2-5 decadal skill not worse than DJF seasonal forecasts initialized in Nov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access concerns viewed as being addressed in the same way as for seasonal forecast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C-NTCP would be password protected, allowing access only to NMHSs, RCCs, GPCs and supporting research centr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 as a whole endorsed the concept of a LC-NTCP and recommended that the activity should proc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Hindcast verification (deterministic, later probabilistic) will be an immediate requir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Key difference from LC-LRFMME: instead of CBS-approved GPCs, forecasts come from LC-managed “contributing centres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1905120" y="3895560"/>
            <a:ext cx="56372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6T12:01:13Z</dcterms:created>
  <dc:creator>Merryfield,Bill [CCCMA]</dc:creator>
  <dc:description/>
  <dc:language>en-US</dc:language>
  <cp:lastModifiedBy>Catherine Michaut</cp:lastModifiedBy>
  <dcterms:modified xsi:type="dcterms:W3CDTF">2016-06-16T12:02:14Z</dcterms:modified>
  <cp:revision>24</cp:revision>
  <dc:subject/>
  <dc:title>WT </dc:title>
</cp:coreProperties>
</file>