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930-32D6-44A9-A32A-939408B0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81B-3E6A-455D-839C-F7A52948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8AB-D6DF-4AD5-B216-16ADC127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1A4-D942-4B4E-B02B-175BB964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35B-EDB6-4419-B074-836887EA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116-2FBD-4549-A189-EAE99721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B48-42F7-44A7-AEFC-E9F3219C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D89-148C-43CD-89F3-D386A61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2D5-01A7-4E73-BFE2-B34EDB05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D2F-E246-49F2-93BB-B75B084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C1E-3736-48E3-8508-D8F58E1E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C23-901B-4503-B8B6-A4934E6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982-09C1-45DA-83A5-7F67BF998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968-26F3-4AAE-8D99-A6AFE59BA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ward a WMO Lead Center for Near Term Climate Predi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600120"/>
            <a:ext cx="8458200" cy="61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2014 ET-OPSLS Mee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d that CBS-15 had encouraged GPC Exeter to prepare a written submission to CBS and CCl recommending how multi-annual to decadal predictions (= Near Term Climate Predictions, NTCP) might be incorporated into the Climate Services Information System of the GFC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 made in the context of the multi-model decadal forecast exchange hosted by GPC Ex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PC Exeter tabled a proposal recommending the establishment of infrastructure similar to that of the WMO Lead Center for Long-Range Forecast Multi-Model Ensemble (LC-LRFMME) and its 12 GP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reviewed this first submission and noted that there would be challenges in ensuring judicious us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edictions, in promo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ir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n harmonizing them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decadal outlook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ed by NMHS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po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C-NTCP discussed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l-16 (Jul 2014), CBS-Ext 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ep 201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g-17 (M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rcRect l="0" t="0" r="14394" b="0"/>
          <a:stretch/>
        </p:blipFill>
        <p:spPr>
          <a:xfrm>
            <a:off x="4191120" y="3927600"/>
            <a:ext cx="48765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880" y="30492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come of Technical Comission Mee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welcomed, ET asked to finalize roles and functions of LC-NTCP for consideration by CBS-16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T asked to consider following concer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Demonstration of adequacy of real-time multi-annual to decadal foreca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operational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Harmonization of output from a LC-NTCP with national decadal outlook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pared by NMH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How to ensure judicious use of the predictions and enhance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ir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ince the Exeter (2014) meeting, two further initiatives that support establishment of infrastructure for real time NTCP have start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WCRP/WGSIP Decadal Climate Prediction Project (DCP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WCRP Grand Challenge of Near Term Climate Prediction (GC-NTC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that ET harmonise planning with these initi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255600"/>
            <a:ext cx="8610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y 2016 ET-OPSLS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expressed by Technical Commissions viewed as addressed (e.g. Year 2-5 decadal skill not worse than DJF seasonal forecasts initialized in No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access concerns viewed as being addressed in the same way as for seasonal forecast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C-NTCP would be password protected, allowing access only to NMHSs, RCCs, GPCs and supporting research centr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as a whole endorsed the concept of a LC-NTCP and recommended that the activity should proc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indcast verification (deterministic, later probabilistic) will be an immediate requir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Key difference from LC-LRFMME: instead of CBS-approved GPCs, forecasts come from LC-managed “contributing centr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05120" y="3895560"/>
            <a:ext cx="5637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2:01:13Z</dcterms:created>
  <dc:creator>Merryfield,Bill [CCCMA]</dc:creator>
  <dc:description/>
  <dc:language>en-US</dc:language>
  <cp:lastModifiedBy>Catherine Michaut</cp:lastModifiedBy>
  <dcterms:modified xsi:type="dcterms:W3CDTF">2016-06-16T12:02:14Z</dcterms:modified>
  <cp:revision>24</cp:revision>
  <dc:subject/>
  <dc:title>WT </dc:title>
</cp:coreProperties>
</file>