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855720" y="744120"/>
            <a:ext cx="49608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17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F25AA8C-937D-4915-8127-CCC544427F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55BF5B0-8D51-450C-BC8F-033CB4D609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0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4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5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6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8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9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itle 1"/>
          <p:cNvSpPr/>
          <p:nvPr/>
        </p:nvSpPr>
        <p:spPr>
          <a:xfrm>
            <a:off x="0" y="333360"/>
            <a:ext cx="9144000" cy="403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roposed WCRP Grand Challeng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n</a:t>
            </a:r>
            <a:br>
              <a:rPr sz="3900"/>
            </a:b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Near Term Climate Predic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10920" y="4076640"/>
            <a:ext cx="7848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cept Team members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.A. Scaife and Y. Kushnir (co-leads), J. Perlwitz (SPARC), G. Boer (DCPP), D. Carlson (WCRP), F. Doblas-Reyes (WGSIP), E. Hawkins (CLIVAR), M. Kimoto(DCPP, CLIVAR, JSC), A. Kumar (ET-OPSLS), K. Matthes (SPARC), S. Power (WGCM, CLIVAR), M. Raphael (CliC), D. Smith (DCPP) and A. Shimpo (CC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CRP Secretariat support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chael Sparrow and Matthias Tu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Content Placeholder 2"/>
          <p:cNvSpPr/>
          <p:nvPr/>
        </p:nvSpPr>
        <p:spPr>
          <a:xfrm>
            <a:off x="179280" y="404640"/>
            <a:ext cx="8856720" cy="6048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mat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ject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ut to a century ahead, based on potential greenhouse gas and aerosol emission scenarios successfull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ordinated under the WCRP/WGCM through the CMIPs and used to inform governme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ong-ter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isks due to climate change via the IPCC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jections only provide the long-term path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the anthropogenic-forced climate embedded within a wide envelope of uncertainty that includes internal variability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ions don’t account f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minent, state-dependent evolution of clim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several months to year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ear ter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head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ar-term risk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osed by the combination of anthropogenic climate trends and natural climate variability are needed by a broad range of users involved in near term plann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h information can be derived from multi-year integration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upled models, initialized with observation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incorporating external forcing. Such integrations were conducted in CMIP5 and are planned in CMIP6 via the DCP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Content Placeholder 2"/>
          <p:cNvSpPr/>
          <p:nvPr/>
        </p:nvSpPr>
        <p:spPr>
          <a:xfrm>
            <a:off x="179280" y="216000"/>
            <a:ext cx="8856720" cy="645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need for a Grand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Grand Challenge (GC) on Near Term Climate Prediction (NTCP) is needed to support three objectiv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) Research and development to improve multi-year to decadal climate prediction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fundamental understanding of predictability, specification of forcing, forecast initialization and model bias/drif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) Collate and synthesize prediction output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tailor climate information (including assessments of uncertainty) to form the basis of a service addressing stakeholder nee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) Develop organizational and technical processes, including international coordination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underpin future routine provision of scientifically-sound prediction servic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proposal includes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synthesis of real-time prediction information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rom multiple existing, initialized prediction systems, and assessment of the confidence the scientific community has in the inform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GC on Near-Term Climate Prediction will fill an important gap in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vision of seamless climate information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 between seasonal climate predictions and long-term projections, as recommended by the GFC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Content Placeholder 2"/>
          <p:cNvSpPr/>
          <p:nvPr/>
        </p:nvSpPr>
        <p:spPr>
          <a:xfrm>
            <a:off x="179280" y="189000"/>
            <a:ext cx="8856720" cy="65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cientific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&amp;D to address objective 1) Research and Develop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vance decadal variability and predictability science with DCVP &amp; DCPP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derstanding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rces of decadal predict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ment of th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of decadal variabil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ntifying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diction ski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GC will engage with the WCRP Projects and Working Group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build on progress in their research areas and to stimulate development of new projects which address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esearch gaps revealed during experimental and operational near term prediction activ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initialization method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d specification of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ternal forcing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ts (in particular solar variability and aerosol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ursue research on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bservational needs, data assimilation and initialization and ensemble method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ursue research to reduce th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impact of initialization shock, model drift and model bias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on predictions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ith WCRP modelling group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imed at reducing their impact on predictive ski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Content Placeholder 2"/>
          <p:cNvSpPr/>
          <p:nvPr/>
        </p:nvSpPr>
        <p:spPr>
          <a:xfrm>
            <a:off x="179280" y="404640"/>
            <a:ext cx="8856720" cy="597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cientific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&amp;D to address objective 2) Collate and Synthesize Prediction Outp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ine and understand th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alue of information embedded in multi-model hindcast and forecast ensembl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GC will explore the broad space of ensemble hindcast and forecast outputs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links from predictable variability to land and the changing risk of extreme event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s of particular intere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nderstand how to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ombine forecast output and observational and model statistics and scenario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producing relevant near term climate outlook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earch on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to best produce relevant outlooks including the assessment of the risk of extreme event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on timescales out to decad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Content Placeholder 2"/>
          <p:cNvSpPr/>
          <p:nvPr/>
        </p:nvSpPr>
        <p:spPr>
          <a:xfrm>
            <a:off x="179280" y="404640"/>
            <a:ext cx="8856720" cy="597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xample Real Time Forec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2" descr="decadal_exchange_2014_Temp_yr1.png"/>
          <p:cNvPicPr/>
          <p:nvPr/>
        </p:nvPicPr>
        <p:blipFill>
          <a:blip r:embed="rId1"/>
          <a:stretch/>
        </p:blipFill>
        <p:spPr>
          <a:xfrm>
            <a:off x="755640" y="1125360"/>
            <a:ext cx="3056040" cy="50119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decadal_exchange_2014_Amoc_yrs1-5.png"/>
          <p:cNvPicPr/>
          <p:nvPr/>
        </p:nvPicPr>
        <p:blipFill>
          <a:blip r:embed="rId2"/>
          <a:stretch/>
        </p:blipFill>
        <p:spPr>
          <a:xfrm>
            <a:off x="4716360" y="1123920"/>
            <a:ext cx="3816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Content Placeholder 2"/>
          <p:cNvSpPr/>
          <p:nvPr/>
        </p:nvSpPr>
        <p:spPr>
          <a:xfrm>
            <a:off x="179280" y="260280"/>
            <a:ext cx="8856720" cy="6408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cientific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&amp;D to address objective 3) Develop organizational and technical processes, including international coordin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eed to determine and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ommunicate forecast uncertainty and expert assessmen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n delivering of forecasts/outlook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ulti-model ensembles and observations to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quantify uncertainty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Learn how to incorporate expert assessment of forecast confidence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uild on experience from seasonal to interannual prediction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delivering to us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nderstand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forecaster and user need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 content and format of outloo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ngage with users, national meteorological and hydrological servic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particularly in under represented countries) through tailored workshop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Develop uniform protocols and procedure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 delivering near-term forecasts/outlooks to forecasters and us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municate with other WCRP/WMO projects, to address the relevant scientific issues. Strengthen the link to WGSIP, WGCM and the Decadal Climate Prediction Project (DCPP)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ork with WMO CBS-CCL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determine best presentation and dissemination methods c.f. seasonal foreca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Content Placeholder 2"/>
          <p:cNvSpPr/>
          <p:nvPr/>
        </p:nvSpPr>
        <p:spPr>
          <a:xfrm>
            <a:off x="179280" y="333360"/>
            <a:ext cx="8856720" cy="6264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posed Deliverabl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liver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oncept not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scribing the GC to the WCRP JSC for comments and approval (see JSC37 paper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velop a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ite paper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 the “Challenge of Near-Term Climate Prediction” with more details on the motivation, aims, existing and proposed research and implementation of this Grand Challenge (in progres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duction of standards, verification methods and guidanc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 near term predictions in collaboration with the WMO CBS/CCl Expert Team, which are seamless with long-term projections (2018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ursu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MO recognition for operational decadal prediction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2019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itiate and issue a real-tim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Global Decadal Climate Outlook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ce each year (2016 onwards, with 2 years of dry running before issue) in consultation with CBS-CCL and following the template of the Global Seasonal Climate Update (GSCU) for seasonal predic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0:14:13Z</dcterms:created>
  <dc:creator>sancha.lancaster</dc:creator>
  <dc:description>submitted 26.7.2005     CHG015666 refers</dc:description>
  <dc:language>en-US</dc:language>
  <cp:lastModifiedBy>Yochanan Kushnir</cp:lastModifiedBy>
  <cp:lastPrinted>2016-05-09T19:08:51Z</cp:lastPrinted>
  <dcterms:modified xsi:type="dcterms:W3CDTF">2016-05-11T21:01:22Z</dcterms:modified>
  <cp:revision>1403</cp:revision>
  <dc:subject/>
  <dc:title>Slide 1</dc:title>
</cp:coreProperties>
</file>