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dt" idx="15"/>
          </p:nvPr>
        </p:nvSpPr>
        <p:spPr>
          <a:xfrm>
            <a:off x="377676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sldImg"/>
          </p:nvPr>
        </p:nvSpPr>
        <p:spPr>
          <a:xfrm>
            <a:off x="855720" y="744120"/>
            <a:ext cx="496080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ftr" idx="16"/>
          </p:nvPr>
        </p:nvSpPr>
        <p:spPr>
          <a:xfrm>
            <a:off x="0" y="9427680"/>
            <a:ext cx="2890800" cy="4971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 type="sldNum" idx="17"/>
          </p:nvPr>
        </p:nvSpPr>
        <p:spPr>
          <a:xfrm>
            <a:off x="3776760" y="9427680"/>
            <a:ext cx="2890800" cy="4971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45DF871E-0092-4E36-ACB0-9D2709B0303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85572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9B245BA4-662C-48F6-A9F4-AACC333FFD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1752480" y="347760"/>
            <a:ext cx="6934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09716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44184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175248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409716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44184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1752480" y="347760"/>
            <a:ext cx="6934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9716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4184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75248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09716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4184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09716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44184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175248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409716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44184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1752480" y="347760"/>
            <a:ext cx="6934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09716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44184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175248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409716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44184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1752480" y="347760"/>
            <a:ext cx="6934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09716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44184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175248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409716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44184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1752480" y="347760"/>
            <a:ext cx="6934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09716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44184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175248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409716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44184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1752480" y="347760"/>
            <a:ext cx="6934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09716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44184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175248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409716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44184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752480" y="347760"/>
            <a:ext cx="6934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9716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44184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75248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09716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44184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752480" y="347760"/>
            <a:ext cx="6934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09716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44184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75248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09716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44184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752480" y="347760"/>
            <a:ext cx="6934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09716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44184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175248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409716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44184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752480" y="347760"/>
            <a:ext cx="6934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752480" y="347760"/>
            <a:ext cx="6934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09716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44184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75248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409716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44184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752480" y="347760"/>
            <a:ext cx="6934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09716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44184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75248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409716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44184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1752480" y="347760"/>
            <a:ext cx="6934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09716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44184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175248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409716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44184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1752480" y="347760"/>
            <a:ext cx="6934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1752480" y="4255200"/>
            <a:ext cx="69343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305680" y="177336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17524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305680" y="4255200"/>
            <a:ext cx="3383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09716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441840" y="177336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175248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09716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441840" y="4255200"/>
            <a:ext cx="22327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-262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1843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492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23640" y="65527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Crown copyright   Met Offi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-262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1843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492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ftr" idx="10"/>
          </p:nvPr>
        </p:nvSpPr>
        <p:spPr>
          <a:xfrm>
            <a:off x="323640" y="65527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Crown copyright   Met Off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-262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1843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492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ftr" idx="11"/>
          </p:nvPr>
        </p:nvSpPr>
        <p:spPr>
          <a:xfrm>
            <a:off x="323640" y="65527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Crown copyright   Met Off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-262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1843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492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ftr" idx="12"/>
          </p:nvPr>
        </p:nvSpPr>
        <p:spPr>
          <a:xfrm>
            <a:off x="323640" y="65527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Crown copyright   Met Off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-262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1843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492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ftr" idx="13"/>
          </p:nvPr>
        </p:nvSpPr>
        <p:spPr>
          <a:xfrm>
            <a:off x="323640" y="65527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Crown copyright   Met Off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-262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1843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492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ftr" idx="14"/>
          </p:nvPr>
        </p:nvSpPr>
        <p:spPr>
          <a:xfrm>
            <a:off x="323640" y="65527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Crown copyright   Met Off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-262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1843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492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ftr" idx="2"/>
          </p:nvPr>
        </p:nvSpPr>
        <p:spPr>
          <a:xfrm>
            <a:off x="323640" y="65527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Crown copyright   Met Off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-262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1843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492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3"/>
          </p:nvPr>
        </p:nvSpPr>
        <p:spPr>
          <a:xfrm>
            <a:off x="323640" y="65527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© Crown copyright   Met Offi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-262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1843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492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ftr" idx="4"/>
          </p:nvPr>
        </p:nvSpPr>
        <p:spPr>
          <a:xfrm>
            <a:off x="323640" y="65527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Crown copyright   Met Off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-262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1843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492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ftr" idx="5"/>
          </p:nvPr>
        </p:nvSpPr>
        <p:spPr>
          <a:xfrm>
            <a:off x="323640" y="65527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Crown copyright   Met Off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-262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1843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492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ftr" idx="6"/>
          </p:nvPr>
        </p:nvSpPr>
        <p:spPr>
          <a:xfrm>
            <a:off x="323640" y="65527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Crown copyright   Met Off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-262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1843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492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ftr" idx="7"/>
          </p:nvPr>
        </p:nvSpPr>
        <p:spPr>
          <a:xfrm>
            <a:off x="323640" y="65527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Crown copyright   Met Off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-262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1843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492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ftr" idx="8"/>
          </p:nvPr>
        </p:nvSpPr>
        <p:spPr>
          <a:xfrm>
            <a:off x="323640" y="65527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Crown copyright   Met Off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752480" y="34776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1752480" y="1773360"/>
            <a:ext cx="69343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-262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1843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49280" indent="-18252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98480" indent="-1695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ftr" idx="9"/>
          </p:nvPr>
        </p:nvSpPr>
        <p:spPr>
          <a:xfrm>
            <a:off x="323640" y="65527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Crown copyright   Met Off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itle 1"/>
          <p:cNvSpPr/>
          <p:nvPr/>
        </p:nvSpPr>
        <p:spPr>
          <a:xfrm>
            <a:off x="0" y="333360"/>
            <a:ext cx="9144000" cy="4032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Proposed WCRP Grand Challenge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on</a:t>
            </a:r>
            <a:br>
              <a:rPr sz="3900"/>
            </a:b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Near Term Climate Predictio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610920" y="4076640"/>
            <a:ext cx="784836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70000"/>
              </a:lnSpc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Concept Team members: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12"/>
              </a:spcBef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.A. Scaife and Y. Kushnir (co-leads), J. Perlwitz (SPARC), G. Boer (DCPP), D. Carlson (WCRP), F. Doblas-Reyes (WGSIP), E. Hawkins (CLIVAR), M. Kimoto(DCPP, CLIVAR, JSC), A. Kumar (ET-OPSLS), K. Matthes (SPARC), S. Power (WGCM, CLIVAR), M. Raphael (CliC), D. Smith (DCPP) and A. Shimpo (CCL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WCRP Secretariat support: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612"/>
              </a:spcBef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ichael Sparrow and Matthias Tu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12"/>
              </a:spcBef>
              <a:spcAft>
                <a:spcPts val="6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Content Placeholder 2"/>
          <p:cNvSpPr/>
          <p:nvPr/>
        </p:nvSpPr>
        <p:spPr>
          <a:xfrm>
            <a:off x="179280" y="404640"/>
            <a:ext cx="8856720" cy="6048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mate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rojection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ut to a century ahead, based on potential greenhouse gas and aerosol emission scenarios successfull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oordinated under the WCRP/WGCM through the CMIPs and used to inform government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f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long-term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risks due to climate change via the IPCC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rojections only provide the long-term path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f the anthropogenic-forced climate embedded within a wide envelope of uncertainty that includes internal variability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jections don’t account for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mminent, state-dependent evolution of climate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rom several months to years (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near term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head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ear-term risks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osed by the combination of anthropogenic climate trends and natural climate variability are needed by a broad range of users involved in near term planning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ch information can be derived from multi-year integrations of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oupled models, initialized with observations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d incorporating external forcing. Such integrations were conducted in CMIP5 and are planned in CMIP6 via the DCPP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Content Placeholder 2"/>
          <p:cNvSpPr/>
          <p:nvPr/>
        </p:nvSpPr>
        <p:spPr>
          <a:xfrm>
            <a:off x="179280" y="216000"/>
            <a:ext cx="8856720" cy="64530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The need for a Grand Challen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 Grand Challenge (GC) on Near Term Climate Prediction (NTCP) is needed to support three objective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) Research and development to improve multi-year to decadal climate predictions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fundamental understanding of predictability, specification of forcing, forecast initialization and model bias/drift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) Collate and synthesize prediction output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tailor climate information (including assessments of uncertainty) to form the basis of a service addressing stakeholder need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) Develop organizational and technical processes, including international coordination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o underpin future routine provision of scientifically-sound prediction servic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e proposal includes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synthesis of real-time prediction information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from multiple existing, initialized prediction systems, and assessment of the confidence the scientific community has in the informatio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e GC on Near-Term Climate Prediction will fill an important gap in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provision of seamless climate information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, between seasonal climate predictions and long-term projections, as recommended by the GFC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Content Placeholder 2"/>
          <p:cNvSpPr/>
          <p:nvPr/>
        </p:nvSpPr>
        <p:spPr>
          <a:xfrm>
            <a:off x="179280" y="189000"/>
            <a:ext cx="8856720" cy="65246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Scientific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R&amp;D to address objective 1) Research and Develop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dvance decadal variability and predictability science with DCVP &amp; DCPP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nderstanding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urces of decadal predictabili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mprovement of the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of decadal variability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quantifying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ediction skil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GC will engage with the WCRP Projects and Working Groups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 build on progress in their research areas and to stimulate development of new projects which address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research gaps revealed during experimental and operational near term prediction activit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mprove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initialization methods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nd specification of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ternal forcing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gents (in particular solar variability and aerosol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ursue research on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observational needs, data assimilation and initialization and ensemble methods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ursue research to reduce the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impact of initialization shock, model drift and model biases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on predictions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with WCRP modelling groups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imed at reducing their impact on predictive skill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Content Placeholder 2"/>
          <p:cNvSpPr/>
          <p:nvPr/>
        </p:nvSpPr>
        <p:spPr>
          <a:xfrm>
            <a:off x="179280" y="404640"/>
            <a:ext cx="8856720" cy="59770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Scientific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R&amp;D to address objective 2) Collate and Synthesize Prediction Outpu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Mine and understand the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value of information embedded in multi-model hindcast and forecast ensembles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e GC will explore the broad space of ensemble hindcast and forecast outputs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links from predictable variability to land and the changing risk of extreme events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s of particular interes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Understand how to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combine forecast output and observational and model statistics and scenarios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n producing relevant near term climate outlook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esearch on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how to best produce relevant outlooks including the assessment of the risk of extreme events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on timescales out to decadal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Content Placeholder 2"/>
          <p:cNvSpPr/>
          <p:nvPr/>
        </p:nvSpPr>
        <p:spPr>
          <a:xfrm>
            <a:off x="179280" y="404640"/>
            <a:ext cx="8856720" cy="59770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Example Real Time Forecas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0" name="Picture 2" descr="decadal_exchange_2014_Temp_yr1.png"/>
          <p:cNvPicPr/>
          <p:nvPr/>
        </p:nvPicPr>
        <p:blipFill>
          <a:blip r:embed="rId1"/>
          <a:stretch/>
        </p:blipFill>
        <p:spPr>
          <a:xfrm>
            <a:off x="755640" y="1125360"/>
            <a:ext cx="3056040" cy="501192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3" descr="decadal_exchange_2014_Amoc_yrs1-5.png"/>
          <p:cNvPicPr/>
          <p:nvPr/>
        </p:nvPicPr>
        <p:blipFill>
          <a:blip r:embed="rId2"/>
          <a:stretch/>
        </p:blipFill>
        <p:spPr>
          <a:xfrm>
            <a:off x="4716360" y="1123920"/>
            <a:ext cx="381636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Content Placeholder 2"/>
          <p:cNvSpPr/>
          <p:nvPr/>
        </p:nvSpPr>
        <p:spPr>
          <a:xfrm>
            <a:off x="179280" y="260280"/>
            <a:ext cx="8856720" cy="6408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Scientific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R&amp;D to address objective 3) Develop organizational and technical processes, including international coordinatio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Need to determine and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communicate forecast uncertainty and expert assessment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in delivering of forecasts/outlook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Multi-model ensembles and observations to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quantify uncertainty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. Learn how to incorporate expert assessment of forecast confidence.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Build on experience from seasonal to interannual prediction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n delivering to user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Understand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forecaster and user needs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for content and format of outlook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ngage with users, national meteorological and hydrological services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(particularly in under represented countries) through tailored workshop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Develop uniform protocols and procedures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for delivering near-term forecasts/outlooks to forecasters and user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ommunicate with other WCRP/WMO projects, to address the relevant scientific issues. Strengthen the link to WGSIP, WGCM and the Decadal Climate Prediction Project (DCPP).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Work with WMO CBS-CCL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o determine best presentation and dissemination methods c.f. seasonal forecas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Content Placeholder 2"/>
          <p:cNvSpPr/>
          <p:nvPr/>
        </p:nvSpPr>
        <p:spPr>
          <a:xfrm>
            <a:off x="179280" y="333360"/>
            <a:ext cx="8856720" cy="62643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Proposed Deliverable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eliver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concept note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escribing the GC to the WCRP JSC for comments and approval (see JSC37 papers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evelop a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white paper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on the “Challenge of Near-Term Climate Prediction” with more details on the motivation, aims, existing and proposed research and implementation of this Grand Challenge (in progress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production of standards, verification methods and guidance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for near term predictions in collaboration with the WMO CBS/CCl Expert Team, which are seamless with long-term projections (2018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ursue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WMO recognition for operational decadal predictions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(2019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nitiate and issue a real-time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Global Decadal Climate Outlook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once each year (2016 onwards, with 2 years of dry running before issue) in consultation with CBS-CCL and following the template of the Global Seasonal Climate Update (GSCU) for seasonal prediction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10:14:13Z</dcterms:created>
  <dc:creator>sancha.lancaster</dc:creator>
  <dc:description>submitted 26.7.2005     CHG015666 refers</dc:description>
  <dc:language>en-US</dc:language>
  <cp:lastModifiedBy>Yochanan Kushnir</cp:lastModifiedBy>
  <cp:lastPrinted>2016-05-09T19:08:51Z</cp:lastPrinted>
  <dcterms:modified xsi:type="dcterms:W3CDTF">2016-05-11T21:01:22Z</dcterms:modified>
  <cp:revision>1403</cp:revision>
  <dc:subject/>
  <dc:title>Slide 1</dc:title>
</cp:coreProperties>
</file>