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3CB-8F7C-4963-8A5B-D8075603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319-48DA-4ADE-BB23-FE3594BF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683A2-5057-4190-9637-19749DC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BCB4-C009-4FE2-A606-CC96EB1A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DBD7F-D44A-4A55-BB41-853A1E0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05EB6-38D0-4B46-9078-411401D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C3A7-8B18-46F1-B1BD-83A9BF49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2E7FB-239E-47EF-88AC-2F009064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A5452-C7D5-4967-86DF-8A08DED3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0F37A-A72D-4044-9B22-008BBEDA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CAE89-2817-4B3D-8098-CC83584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A44A0-9E6B-46FE-B612-6064280A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E3E-C89F-4457-BB32-07477195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1D10F-19A4-4035-93D7-71971469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F2A22-D920-4CD6-8BF6-93A4D944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57E34-11BF-49E4-BDA6-A03F5A0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7D3C2-6972-472D-88DC-4C1C20D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55188-56C5-456A-8BB5-3A4013E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91EE7-4449-4EEC-BC29-2A41DE06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68862-C647-4DF1-8E43-78F694C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5EDE-C454-4545-BE98-A2EC99E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9FF0-B5BF-4CE0-BA41-2CD2C3B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C62F0-8A9B-4733-9316-FF693640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D23-D61E-464E-849D-F4BB4425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C6096-2C94-4142-A0A4-7F8AF8E0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E0658-1B15-41CB-8122-9FC5392A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D74E8-B50D-4690-80CB-0D80F557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0BE21-59CD-40F4-A017-7DF6EB6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9B772-DDDC-4582-BA94-A875878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3ED3-33F3-4EA1-8977-112F4E7B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A399-42E2-4D30-A15D-675AA7DD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6A9DD-A5E4-4446-9BAE-5B5B8D1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1637A-EDBE-496E-B75B-FE405C0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C461D-E184-416C-8C70-6608902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330F-0124-4505-9815-12398EE1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91C4A-C07E-427F-ADF5-405F0334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5B17-C23C-47B3-9CC6-390B9FD3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49E5E-1343-4344-BE02-4FC262A9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492B4-90D0-4551-935E-3E63FDF2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C6B7A-B9A8-4BCB-A80C-9F7CD6F7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8ABD7-4CA6-4E78-B692-541030F6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79A24-7431-44C8-8FA1-B95D000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15248-9050-4FCA-952E-64627F1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0477E-E4B7-48A0-B89F-E895015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D0724-C015-4EA4-908B-122C0AF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DAE7-9DAD-42BA-A4DA-D4F78E2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C50E1-72E1-4A2B-BC67-9C5CDB5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1F3C1-24BE-4802-AA5A-99D1E06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CE943-91DF-4B59-9CD2-DADF0D0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43B99-FF7E-4B69-8788-6B40FAAF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79FE-02A2-46FC-9258-1105D3AE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1A8AB-9530-4380-828E-71E189D1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97BE5-DAD6-4EE3-96D8-5DF229C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769FC-7C06-4715-BB21-CD10F79E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EB9A2-7272-4C5F-9288-F144EF5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11D51-4F28-404D-952C-FB85D24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773-503A-4D32-AB8A-DCC0F4F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ADA04-7B23-4B20-9887-A07AFBD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FA7A5-070D-4B3B-AE0B-DA62C9A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4741-74A2-4469-9DC6-365DFA9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3051B-6E47-46DC-93C8-70FA14E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5A8C9-4758-4B94-B099-42C8877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F2D78-D94B-4064-A3BC-FFF8B64D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AB0BF-FF76-45F4-B4CE-35A7F747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FD279-E5FB-440E-89D7-C8D4E1B1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F0DBC-10CF-4F41-A911-CAFD909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29F53-F4A7-4392-9ED0-6BC7E62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F72-E96A-406F-B6B7-A08982C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B7752-1839-4BE2-B052-02380E01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41BD4-FC92-4FF0-BFC9-FA02136E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BFD65-377C-4517-9F00-1A939D4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24D9A-22C8-4B68-97B6-BA77765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95B57-C803-41BC-BE8E-3861A86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8C60D-B2EC-47A7-81A8-A66A0BA7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F193B-5FA3-4655-B8EA-B2312A8C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35874-2AA2-4971-A05F-127760C2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CC1A8-E181-488F-A1F0-47CC4EC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58E5E-2907-4EA3-BA97-F7699750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D16C-E2AE-4446-A0BF-0985BF20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63990-5CE3-42C7-975F-A503DF9F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57510-7B07-490A-B428-36D330C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8DE31-759E-44F4-8754-BC99E939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0B3B3-9886-42A7-937B-B0EDA5F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2CE24-4D8A-4DE8-8095-422E739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77126-AD9B-4C49-A676-56A54BA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9AB32-FC0B-4B1E-8A37-CAA1307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DFF2B-ACAC-44CC-AA29-58F6924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80795-38AB-4EB2-9EA1-EBA6A920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9A823-044D-4263-B26A-E608F91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9C5D-3B8A-430E-AD16-BA120FEB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84FF9-5CBB-4709-A12E-51D0A8BD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88758-9527-4633-ACFF-20C8EFA9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7FB57-8A50-4301-B660-5F45324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4BEA1-0390-4C0D-98F9-8C660578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74D30-854C-469F-961B-D12C05CD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45CD2-A6EE-4C83-B9D2-93518597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8B158-FBBC-4D85-AB9B-5706B46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2359E-6809-4700-9400-B83E7566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CD42D-C1F0-4D79-A953-EC5E4CE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04F10-85B7-4E62-902E-09952FD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20A-597C-417F-AD2F-93345D27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08CAA-DCFD-4295-A281-B154554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127BD-0673-4561-B764-40A74C9A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1DD01-CF58-4E9B-81FC-CAEE8A5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FA89B-506C-42C4-B946-4DAD226C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634E1-3A66-4AF0-A738-4EE9E1C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2B273-3AAD-4118-882B-30C5B7A4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99C21-05A1-4481-9C67-5DCFDCD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A951A-8FBC-4CA3-BDBB-B01266D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8D3A7-15DE-4D34-B20F-AF40C84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3ACDC-CEFC-4EEC-B70D-BCEC8C3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5E9-C9BB-4A12-95C3-D724038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3333-8AE6-48AD-9603-F7348B9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0CF73-60FE-4033-AB30-D031051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3702C-FC8B-4041-91E1-C09993E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9AD61-123D-4C69-846A-F495B6B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FF75F-946D-4B70-8E94-6ECCAA80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33A1B-D4F1-4C2B-9D35-D71D8B3D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183D3-5D3D-4D92-9D46-6EBCF7F3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001AF-2CCC-4049-8200-D368130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5D78B-B1A1-464A-94B6-52B806D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F157E-4C1E-470E-B554-71C484E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792B9-8567-4286-8C75-7178D11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946F-14D5-4A55-B614-9CA569B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82407-7C56-4597-86CF-AE43D39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E1CE4-9103-45FC-8300-B3A94CE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DB782-48B6-4463-9400-D10FF0F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6160D-BB30-4C00-AF38-F146ADC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86550-7488-409E-8AD7-C3CB8642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E198E-6FED-4CA0-B364-100EFC87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DE9A8-8BBB-4930-B2CD-0929A9C4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3789-6B74-4CDA-898D-EFF9817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A30A-7B92-4502-AE25-46AFA7B2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AA0-D6CD-4EE1-B26D-AB6F50E1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CABD-10DE-4AC3-A7FB-2A5AD7E0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9BF4-A88D-4554-85AF-19DCE99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F2CB-95E1-4013-AB70-DCB4257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861E-D875-4F14-8881-DFBA626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F461-2F05-483F-8B4E-A1CA54B6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C8D-4FA3-4BA9-B8C0-257EBBB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4C0D-A044-453E-8764-24A68A2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EFF4-ED2D-4627-A85B-CED9C01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5663-04A3-4CA6-A95C-509541B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10EA-4F2E-4C8C-B78F-46D8622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E409-691A-46BB-930C-B773B31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BDC7-57CF-4B6E-B937-4BB9C9F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8A92-9137-4054-96D2-1342325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0229-3A42-43E1-B967-479F17C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9755-E1ED-4601-BD72-78C750B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6531-D197-4EA0-8972-CE3F268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BBC-0EA2-4C06-8576-DACE1B8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3B3C-9658-4750-BFC4-94F6147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96C7-7069-45A2-909B-A31F764E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AD98-180F-4A34-82BD-419187E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38E8-A43E-4D4F-9487-8EE58E7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B1BE-2C76-456E-B2C2-27E820B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A749-7BB7-4663-B9C2-733B07E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6649-04A3-42D9-9CBE-6C81629F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2AEA-86B2-4A67-AF7D-A4D8F71B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4144-EBDB-411E-B386-099E4EA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EFD2-74CA-4A1A-83F1-856B0810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CD5-B812-4E97-876B-90CE73E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1304-F9FF-4FD0-9C51-19ECDBC2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2FE99-9F99-40A9-BCFA-CE3B20B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500B-EE03-44F4-B167-2C1F8A5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2F02-43E2-471C-9740-889A33C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37CD-50E3-4693-8A4A-9BB7725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8E0C-C9FA-4D29-9BD6-508BEDD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BB14-4D79-42C4-91A5-D41A037C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74C2-21C0-475F-A5E2-7B44E390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7032-C0AC-45BB-A2B6-DB9959A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ED5F4-E1B6-40F6-848F-B58DBC19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D02-9A06-4DD0-9FF9-775B1D7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C576-1C8A-47E0-94A5-A05F1AD6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2AF6D-E5B9-4419-A8F3-5D4C7B28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E1FD-5D70-42B3-94E7-D08505C5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A58A-2D85-4ED1-B86B-EB149808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39C7-7DDF-4503-A646-C3DC7C4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B8A5-612C-4ED4-83AB-9A126F7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1675-1736-4678-806E-1CC1FBB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1BB6D-2370-4715-93C2-548E2A5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52D1-9298-42EA-81BE-06587AC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46E3-BFC1-40D3-B492-A0A1FC9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BD5-3D15-412C-AEFD-F483293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A0230-609A-42D1-A13A-0738CA28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1525-F66D-4BF7-9A13-793F4058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04D0A-06A4-49D1-9915-B9100697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3DB8-B9CC-4EF9-9DAB-DD34DE5F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B721D-3611-4243-A9EE-D753DE6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E9E8-F6B2-40C9-B83C-C9E6B73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F9B7-8AA7-4E66-83FA-7FA7386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0B35-A907-4A73-812B-FEA9F13E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8A70-44CF-4FA0-85C9-A304124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746B-F03F-46F7-959E-B723054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880-4749-4257-A842-3CD6F18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7D28-5ED0-47EB-B75F-1D9E9B9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62C4-8306-45C2-9906-E8E447E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A692-595A-4974-9B5E-97AA50A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0321-B2EA-42F0-84D7-12054B25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06CC-1342-4B0D-B3B6-73D6F00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246F-CBFE-4A2C-AE25-F9D2BD45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0243-330F-4F32-ADE6-44814FF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B028C-7991-4965-833E-28769C1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18792-61FC-4AD5-ABDF-DD7E16E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FCD0-1903-49DD-AA73-34F2B44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51A-5E80-4C7A-83CD-53C0148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389B-E878-47B1-9491-1F3F378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E7F0-1102-4A62-8E0C-EEB82F2A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E044-60E7-4E34-8E1D-8AA4B80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91C3-0B28-4663-8DB9-C1E7A32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913F8-7565-48A7-A620-018A3FE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0991-ACB1-42CE-8FA3-0998174A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C996E-9113-42C0-96C2-FDC40263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7EA24-3E5B-4F4B-9A2E-A9CB2FA1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83B4F-0FA5-4011-9E56-F7F53B1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19B77-C0C3-40B3-A161-32EC32A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EEC-76B5-4734-A1BF-3BA9FA78CFB3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F5B-C0F6-46AE-94EA-ECCB9CB2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8959-5C60-46E3-A08B-C28253F3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CD41-7F8D-4699-95E6-1DBBF42B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325D-E458-4D62-8100-0FB61C79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D5F-BF08-41ED-9E42-344E6023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05F-F340-4AB8-A135-27A25685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D479-DCFC-4B9A-A2ED-4FDE165B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B86-6D19-4000-83FB-588851F5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668-9AD3-4814-A95E-8E9C4A2D601D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C8F-C673-4368-ADFE-0BAF7F63B967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45B-BC57-4A5B-AFDB-29917707F0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59B-E29E-4B2D-A97E-5696AEED2B40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772F-F88B-494F-99FD-5409720B2B6C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CFB-3B22-4FEF-AD19-0A25409A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763-FC58-4780-A493-F3C35D242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69E-05F4-4BEB-8345-32DF240E4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528D-0C7D-413D-B10E-259AE52E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"/>
          <p:cNvPicPr/>
          <p:nvPr/>
        </p:nvPicPr>
        <p:blipFill>
          <a:blip r:embed="rId1"/>
          <a:stretch/>
        </p:blipFill>
        <p:spPr>
          <a:xfrm>
            <a:off x="1908000" y="387360"/>
            <a:ext cx="5556600" cy="4491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1"/>
          <p:cNvSpPr/>
          <p:nvPr/>
        </p:nvSpPr>
        <p:spPr>
          <a:xfrm>
            <a:off x="1637640" y="5273640"/>
            <a:ext cx="60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hat is our Vision for Decad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Climate Research in the WC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7848720" cy="30099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66"/>
                </a:solidFill>
                <a:latin typeface="Verdana"/>
              </a:rPr>
              <a:t>Broad interests in decadal climate variability and pred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Sub-seasonal to (inter)annual predic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rced climate</a:t>
            </a:r>
            <a:r>
              <a:rPr b="1" lang="en-C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hange and natural vari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oordinated experimentation including scenarios, decadal prediction …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LIVAR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cus” on decadal variability and predict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Ocean aspects, initializ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lang="en-CA" sz="1000" spc="-1" strike="noStrike">
                <a:solidFill>
                  <a:srgbClr val="000000"/>
                </a:solidFill>
                <a:latin typeface="Verdana"/>
              </a:rPr>
              <a:t>of Near Term Climate Predi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research and development leading toward operational annual, multi-annual forecas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IPC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Near term climate a focus of AR5 and expected to be an important contribution to AR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DCPP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Decadal climate prediction project currently reports to WGSIP and WGCM, is an endorsed CMIP MIP and has connections to all group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0" name="Group 7"/>
          <p:cNvGrpSpPr/>
          <p:nvPr/>
        </p:nvGrpSpPr>
        <p:grpSpPr>
          <a:xfrm>
            <a:off x="1400040" y="3268800"/>
            <a:ext cx="5495760" cy="3531960"/>
            <a:chOff x="1400040" y="3268800"/>
            <a:chExt cx="5495760" cy="3531960"/>
          </a:xfrm>
        </p:grpSpPr>
        <p:sp>
          <p:nvSpPr>
            <p:cNvPr id="811" name="Isosceles Triangle 2"/>
            <p:cNvSpPr/>
            <p:nvPr/>
          </p:nvSpPr>
          <p:spPr>
            <a:xfrm>
              <a:off x="1400040" y="3517560"/>
              <a:ext cx="1994760" cy="163404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21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"/>
            <p:cNvSpPr/>
            <p:nvPr/>
          </p:nvSpPr>
          <p:spPr>
            <a:xfrm>
              <a:off x="4834800" y="428760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"/>
            <p:cNvSpPr/>
            <p:nvPr/>
          </p:nvSpPr>
          <p:spPr>
            <a:xfrm>
              <a:off x="3994560" y="5376240"/>
              <a:ext cx="1825560" cy="1424520"/>
            </a:xfrm>
            <a:prstGeom prst="ellipse">
              <a:avLst/>
            </a:prstGeom>
            <a:solidFill>
              <a:srgbClr val="def3f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>
              <a:off x="2015640" y="428760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ounded Rectangle 6"/>
            <p:cNvSpPr/>
            <p:nvPr/>
          </p:nvSpPr>
          <p:spPr>
            <a:xfrm>
              <a:off x="3436200" y="3268800"/>
              <a:ext cx="1994760" cy="137700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076000" y="4151160"/>
              <a:ext cx="1728360" cy="1437480"/>
            </a:xfrm>
            <a:prstGeom prst="rect">
              <a:avLst/>
            </a:prstGeom>
            <a:solidFill>
              <a:srgbClr val="33cccc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2725920" y="3964680"/>
              <a:ext cx="2035080" cy="1963440"/>
            </a:xfrm>
            <a:prstGeom prst="ellipse">
              <a:avLst/>
            </a:prstGeom>
            <a:solidFill>
              <a:srgbClr val="adffff"/>
            </a:solidFill>
            <a:ln cap="sq" w="12600">
              <a:solidFill>
                <a:srgbClr val="000000">
                  <a:alpha val="76000"/>
                </a:srgbClr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7"/>
            <p:cNvSpPr/>
            <p:nvPr/>
          </p:nvSpPr>
          <p:spPr>
            <a:xfrm>
              <a:off x="3355920" y="49993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S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10"/>
            <p:cNvSpPr/>
            <p:nvPr/>
          </p:nvSpPr>
          <p:spPr>
            <a:xfrm>
              <a:off x="4277880" y="3623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M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1"/>
            <p:cNvSpPr/>
            <p:nvPr/>
          </p:nvSpPr>
          <p:spPr>
            <a:xfrm>
              <a:off x="5367960" y="506844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9"/>
            <p:cNvSpPr/>
            <p:nvPr/>
          </p:nvSpPr>
          <p:spPr>
            <a:xfrm>
              <a:off x="4495680" y="60433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LI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23" name="Group 1"/>
          <p:cNvGrpSpPr/>
          <p:nvPr/>
        </p:nvGrpSpPr>
        <p:grpSpPr>
          <a:xfrm>
            <a:off x="1387440" y="1125360"/>
            <a:ext cx="6218280" cy="3232440"/>
            <a:chOff x="1387440" y="1125360"/>
            <a:chExt cx="6218280" cy="3232440"/>
          </a:xfrm>
        </p:grpSpPr>
        <p:pic>
          <p:nvPicPr>
            <p:cNvPr id="824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ine 5"/>
            <p:cNvSpPr/>
            <p:nvPr/>
          </p:nvSpPr>
          <p:spPr>
            <a:xfrm flipV="1">
              <a:off x="3752640" y="1541880"/>
              <a:ext cx="0" cy="176760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"/>
            <p:cNvSpPr/>
            <p:nvPr/>
          </p:nvSpPr>
          <p:spPr>
            <a:xfrm>
              <a:off x="3549960" y="1345320"/>
              <a:ext cx="2230560" cy="301248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"/>
          <p:cNvSpPr/>
          <p:nvPr/>
        </p:nvSpPr>
        <p:spPr>
          <a:xfrm>
            <a:off x="2302200" y="459432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y-week      week-year    year -decade  decade-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4583160" y="48988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Deca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1"/>
          <p:cNvSpPr/>
          <p:nvPr/>
        </p:nvSpPr>
        <p:spPr>
          <a:xfrm>
            <a:off x="3389760" y="4898880"/>
            <a:ext cx="12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ub-sea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ea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2"/>
          <p:cNvSpPr/>
          <p:nvPr/>
        </p:nvSpPr>
        <p:spPr>
          <a:xfrm>
            <a:off x="2242440" y="48988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Wea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fore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3"/>
          <p:cNvSpPr/>
          <p:nvPr/>
        </p:nvSpPr>
        <p:spPr>
          <a:xfrm>
            <a:off x="5583240" y="490212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6"/>
          <p:cNvSpPr/>
          <p:nvPr/>
        </p:nvSpPr>
        <p:spPr>
          <a:xfrm>
            <a:off x="2097360" y="5421240"/>
            <a:ext cx="522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least currently, approaches and results depend on </a:t>
            </a:r>
            <a:r>
              <a:rPr b="0" lang="en-CA" sz="14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mosphere/land/ocean initialization, ensembl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solution of models, ensembl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ependent realizations, start 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ternal forcing, d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variability and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 or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0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7"/>
            <p:cNvSpPr/>
            <p:nvPr/>
          </p:nvSpPr>
          <p:spPr>
            <a:xfrm>
              <a:off x="3464280" y="465444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>
              <a:off x="5559480" y="469440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2150280" y="4653000"/>
            <a:ext cx="3522960" cy="703800"/>
            <a:chOff x="2150280" y="4653000"/>
            <a:chExt cx="3522960" cy="703800"/>
          </a:xfrm>
        </p:grpSpPr>
        <p:sp>
          <p:nvSpPr>
            <p:cNvPr id="846" name="Text Box 7"/>
            <p:cNvSpPr/>
            <p:nvPr/>
          </p:nvSpPr>
          <p:spPr>
            <a:xfrm>
              <a:off x="2150280" y="465300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4532400" y="4653000"/>
              <a:ext cx="114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Deca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Clim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4619520" y="4546440"/>
            <a:ext cx="92088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8"/>
          <p:cNvSpPr/>
          <p:nvPr/>
        </p:nvSpPr>
        <p:spPr>
          <a:xfrm>
            <a:off x="5572080" y="450072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n Example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Content Placeholder 6" descr=""/>
          <p:cNvPicPr/>
          <p:nvPr/>
        </p:nvPicPr>
        <p:blipFill>
          <a:blip r:embed="rId1"/>
          <a:stretch/>
        </p:blipFill>
        <p:spPr>
          <a:xfrm>
            <a:off x="700200" y="1257480"/>
            <a:ext cx="3744720" cy="3476520"/>
          </a:xfrm>
          <a:prstGeom prst="rect">
            <a:avLst/>
          </a:prstGeom>
          <a:ln w="0">
            <a:noFill/>
          </a:ln>
        </p:spPr>
      </p:pic>
      <p:pic>
        <p:nvPicPr>
          <p:cNvPr id="855" name="Content Placeholder 7" descr=""/>
          <p:cNvPicPr/>
          <p:nvPr/>
        </p:nvPicPr>
        <p:blipFill>
          <a:blip r:embed="rId2"/>
          <a:stretch/>
        </p:blipFill>
        <p:spPr>
          <a:xfrm>
            <a:off x="4643280" y="1260360"/>
            <a:ext cx="3380040" cy="3468960"/>
          </a:xfrm>
          <a:prstGeom prst="rect">
            <a:avLst/>
          </a:prstGeom>
          <a:ln w="0">
            <a:noFill/>
          </a:ln>
        </p:spPr>
      </p:pic>
      <p:sp>
        <p:nvSpPr>
          <p:cNvPr id="856" name="TextBox 8"/>
          <p:cNvSpPr/>
          <p:nvPr/>
        </p:nvSpPr>
        <p:spPr>
          <a:xfrm>
            <a:off x="5969880" y="5200560"/>
            <a:ext cx="30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cross DCPP and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gt;50% of NTCP part of DCPP,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"/>
          <p:cNvSpPr/>
          <p:nvPr/>
        </p:nvSpPr>
        <p:spPr>
          <a:xfrm>
            <a:off x="6449400" y="1103400"/>
            <a:ext cx="175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focu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3"/>
          <a:stretch/>
        </p:blipFill>
        <p:spPr>
          <a:xfrm>
            <a:off x="447840" y="4668840"/>
            <a:ext cx="556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Reorganization/renewal of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resumably basic organization not changing (for now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what should we consider for reorganization/renew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o wants to cycle off/has not been a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of reduction of “overlap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 we have sufficient representation from major modelling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special knowledge on “end-to-end” aspects of decadal prediction does the panel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itialization, ensembl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ediction and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ias adjustment, combination, calibration,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6-06-16T12:01:59Z</dcterms:modified>
  <cp:revision>197</cp:revision>
  <dc:subject/>
  <dc:title>Decadal prediction</dc:title>
</cp:coreProperties>
</file>