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9D3-47C8-4744-801D-D638538C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049-FA35-4AF1-9434-776CCF5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5E5A95-43E7-4FD0-B261-24CAFB79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19B2E-90EA-4E9F-ADAC-FEC8751C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505D2-2F95-4B79-872C-279F610D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53131-9A23-4221-A813-C43C86C4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B8F37-C06A-49BD-9E37-394A6F2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3545C-2309-4F1F-A9CE-16CC6095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7A76B-B2E4-40EF-A185-AA1607AD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DF8A9-98FE-49E5-96CE-680A04D1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E88B1-A6BA-426C-82BC-231DD238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E9FE8-6994-4968-B66E-4FAF01B6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394-D2EB-49EE-A868-34550C09F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3FAEA-28B8-4F17-AD2F-CF38938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DBF57-A0A7-4F0A-9042-5E10CA1B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4EE90-AF5F-4B5E-A5FF-330C067B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B5A88-ED27-4BA9-B2ED-DD91254C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A496A-01D2-4EFB-B1F7-B0EAA3DD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FF44F-68B5-407C-8FB1-42BAF5B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F4941-1967-4BA8-91AD-1F84B3EB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D725B-F44D-4FFE-9545-90E4983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ACA886-5DF4-4C99-98C4-AC7C56A9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0651D-7975-4FCE-9A2B-C04C3564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161-0AF2-4734-9424-0790D242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DA85E-0EFE-42F7-9B12-7DF423AE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CD3FB-BE85-4D4B-B1DF-1A45796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7DD69-5212-4BE3-A793-6502833E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5EBF5-A006-4930-9896-67BDD661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01D2-0E0C-497B-8328-7844B46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CB51-AF5A-4FBF-8659-FBA356DA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49C1E-95B0-4528-A45B-69CFEA30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5A2D3-7994-4934-9542-62F992C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91E64-D483-496C-864E-9CEBE60F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6C9FD-6A51-4290-B24F-FB860A05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F039-863F-4E12-AF32-5013A2A5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8861E-D874-46DE-96F8-BAEFDCE4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A0EC-4343-4B3A-A74D-1FB84136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9D9AC-F8F0-426F-93FA-15772853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176FD-8F8C-4753-BFD0-442BAAED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D6BEB-FC52-4114-A24F-15AF2D93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B8288-F408-4FCC-A5FC-908D8F8C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B7664-DCCE-403A-9127-26630B65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01B29-4D1F-43B3-830B-0AB06F034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1C23C-3B6F-4E22-B9B5-7617F5D0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6BC7F-8BD2-4280-949C-C0142802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8777-AA64-471B-887F-F65E629A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ACBE5-CC25-4E59-8804-61B0C4A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872F2-B0ED-4AA8-A511-92DF700B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5D37A-EDC3-4C37-91C0-26B4DA3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C087F-C9FE-4B5D-AF3B-060B67E3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98C29-3C20-464F-9322-C360EE9A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28B8F2-1CC0-4EB9-8E65-3053792F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393EC8-BFBB-4E29-8C0A-54C2916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7EE912-D7C0-4B85-898C-16D6FD02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6C1AC-CAFD-4E2A-AC70-3A61C81C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662E4-EE86-439F-ADB7-4DE7C417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AFD-2788-4620-8F6C-28A35A1E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8C912-5F19-47FF-A0FC-11193AD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4743F-2BEF-44A7-9F24-C0F582EB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03122-9494-4A52-AE21-0508348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9CEAB1-4465-472B-8C1D-3E4B2BAA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119C0-A1E0-4A7D-A73F-F49B8D80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CEA91B-5D5F-4B46-8273-7F099878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F7DFA-F4BC-41F6-9616-8443D17D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C7162-4EB5-4DB4-BC88-8BFCF32A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E43E1C-4BC0-4F0F-8D8D-7123BD86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9BD55D-C709-4193-A87B-B399DB6B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FC37-06A9-4402-A3FB-3D930752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80570-FFC0-467B-B131-1C936FD7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F1397-1463-4634-AA0A-61E476EC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3653F-141E-4C2E-80A4-0ADA9256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CDAF7A-6691-4749-93D6-91380441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15D24-C2A7-48DA-A562-31CF1FA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CAF37-359A-4C9D-9F06-D8D2640C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26D561-75EC-4238-92E8-83F123CD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8DDDC4-287B-4B22-B954-D3605C49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CB409-B6FF-4480-AA9E-B619B38E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F04CA-8EFB-4E78-A30B-05C397FE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90A8-A0D7-4B3C-B690-98CB0510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56A73-65A5-4B40-B303-5D693EF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FD2D0E-7502-4EC0-B46E-1C987A59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BACFA-3603-4734-BBDC-AE608680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6727D-587E-40B0-BF0A-EB50C501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F73E0-1CA6-46E4-9D60-A9291606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F8963-E1EC-479C-A1E5-9C9CA0F2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19F86-1D70-49B9-9765-B8FFF032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A85C1-67AD-4F9D-9207-DA601899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0B4462-AEAB-4194-8714-182749E1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11D50-377D-4171-90E3-8CD281615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5F73-64F0-4412-9788-FC6D47D3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DED1D3-52BF-4673-A352-8C0D7966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021012-1403-45AA-9980-645A60D8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65260-A0B7-46BB-9B4A-C8C90374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F1070E-BADC-47CC-8425-29EBD8C1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E32A10-6B0A-4011-8BBA-5F93B37D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C8686E-A2D4-4438-8FFD-B033BDB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43C7CB-6E43-4EC7-9517-E3628ABE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16B1B7-6567-4F3A-AD09-3340FB77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266A1-117B-4975-A24E-7AFAF6F8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48E8B-9DBE-48E8-B034-E5E4EFA7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6C65-D3E4-49E4-AD7B-65336868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12CE7-E675-4F80-8526-A131CBF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517BF-C300-4E03-A8DD-AF879E95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5EFB15-DED1-4691-AEC2-11D698A9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2130ED-C795-466F-AD6F-5B070E99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851755-4DE1-46C2-B8E8-0790992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0E1D7-0E40-44BD-A379-7669D24B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EF3BF-060F-4ACE-869D-EBCFF9CB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B02ECC-4108-499A-B092-44FE3A41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A6D42-71F7-4B8D-A93B-82E5087D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18074-FAD3-4B4A-B91D-DF08A7A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00D-EED8-4636-BC4F-E541C76D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6F6A-2446-470C-B613-BAE4CA75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AD70F8-E44D-4EF1-99F0-6E913F4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C5D00-37A1-4B00-B918-87C91166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94080-E9A0-468F-880D-B3C64FE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851F36-2EBC-4BEC-8CAC-10A19994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FDB24-0077-4D6F-AC92-3B8018C0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C1012-3B48-4175-B529-58B1E81F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098E7-3FD8-4652-8B8B-FC3668A7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F2DDFE-91C2-4E1D-90ED-5D0553C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EF0F8D-E28B-4D79-9786-3E475AC3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1E5A1-D826-49F3-AF2F-A59ABDEA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584D-DC11-4443-9635-2F69ACFE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B80222-4B01-4F2E-9F76-8DBF3145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6D797B-B659-4978-8043-7399CAF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9B0F3F-C3E0-411F-9CAF-277AE05A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D5F31E-488B-44C1-A5AB-5FC0378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D37B6-CA34-486C-B99A-B28138CE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7CB05D-5E93-4814-B352-68BACE0B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EBCF7-E0BA-4819-A8AD-1B4DA994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B0A3-1A22-4F43-9BF5-1553380E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69F1-435D-4551-B8E7-5A1A8713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3A68-53B5-45DD-915D-BE96D6D2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2C2DC-B146-427C-9A5C-72EDB339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68C7-EEE3-41F2-9809-5E7C7089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7933-EB25-49B6-B88C-06F076F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7E0F-4D4A-4ADB-BF16-8EF7991A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43D80-1B30-484A-8759-DC1EAC35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FB61-FE14-41B2-96CC-036D7F23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AF0FB-369D-4F46-902A-2EB2A1BC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7FDE-8E4D-4935-88C9-25E92DF6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C0330-60AB-45A7-AD2E-2C206E6F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806C-0CF0-41E9-83A2-7F42C8F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F1173-B1A0-4900-BCF1-5F9FD741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87916-E57F-4EE9-9AC1-235CDF6E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65C0F-C29E-47B4-A493-CBA04912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5E145-3D60-403B-82BD-8B010966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71B7-22B6-41B4-A66E-FE2A956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16AE2-3E6B-4C66-8696-488CD839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52F-E29F-4117-A4BC-F8FF60CA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898B8-EFFA-466F-B00C-EF37D64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84E3-3862-4AEA-AD5E-A04E1A55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7ABF-F9C0-40C3-B8A3-435914E5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75D1-C4CC-4D99-B9E7-E6BE7A2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54AB-21CC-41BB-A016-7B058A96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7410-1788-4679-ADFA-B23026D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51240-3BC3-420C-B355-E1C04D12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2EB02-459C-46D3-84B9-917E3B0F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88D06-8ADD-4CB3-ABCE-4D3E3201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3D81-2542-4156-8484-9E3D1F0C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4705-490E-42E5-8B08-2A44F3B4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627C3-3732-4AD8-8053-338D88B4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5F5F-708E-45D6-9ED5-8EF03ED0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FDD9-9E0E-4C89-AC61-56E3E335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B7205-C836-486A-B5EE-5D78C899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DEF9-E8C5-4E09-AFC5-2405853C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62B5C-EBE4-42E1-A301-57942D3B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859B5-37BC-4862-872D-254EB09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AFD3-6C0B-4926-ACF6-142DFE6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FA8B2-ABB3-45D0-A993-3D61E86D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0A8F1-3CAF-485F-9118-DC41E146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BDC-5B74-46C3-BEB4-97FD8DF1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FA196-C6E4-4B66-856D-BCEA5EBF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831F-5858-4862-8B5D-A2FFBE5A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6072-FB1B-4F8B-9BB7-42227DD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8EA7-0753-47D2-A0DE-8DFA05CB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D442A-0220-42FC-96EF-0CB70D31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A246-A4B4-40D4-829D-C321B895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AD27-AD31-47DF-825A-021D9722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EEC29-C6BC-4595-AAD8-FAF3698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DA04-00A7-4B74-BF94-C80B97A9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6F3DF-EB1F-4442-A020-05F8908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3B1-48F9-4050-AC9C-DF2578C6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1CB8-8E04-49CE-8578-0B0B8EDF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AE37E-F2AC-410D-BE5B-2DD85829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9A0F6-876D-4F49-B564-5775C6A3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2FB64-AD58-4322-976C-5122003E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F193-E228-4E65-9220-3FC66B45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C4A4C-1583-4229-A372-F55D513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241FF-B2C4-481D-83FC-D542ABC2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043E2-98C5-4FFF-820E-F3E7C2ED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47A80-0264-4032-A29F-8C29981F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80791-8A6C-4C55-8AF1-CDE3054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804-E6FE-42A7-922D-CC8AA49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84A21-075D-4FD6-8B44-1DABECD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5D460-0E2E-4F0F-BE9D-0D543D56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67024-160D-49BF-B618-DDE6C875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FCC4B-2257-465B-ACA6-86D5BE31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222F1-EB65-4EC5-AEFE-69C28D66B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173E6-9E95-4D97-971D-20C8FEE8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B90A8-6D9E-4CEF-B362-3342917C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12FAD-B4D1-4BDE-8200-57B3A6B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7B53-74B0-457C-8530-94D8D78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F1DE8-6D18-4DD8-82DE-BB85DF90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197-4705-4F81-AA68-FC53634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16B7E-1FC1-4DA4-91BA-0F8EB336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62D1C-88F6-452C-99AF-D7F3D4C8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AF57-4218-4224-ACC8-E0F896D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45627-2BCC-4CBF-9AAF-5982CD6E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2646-A53D-4E84-BF27-026EF0F6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A55E-271D-493F-BA97-48B26A24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1D00D-45BA-4154-B844-8A73D68D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6494F-AC7D-4768-AEB9-9985747E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601FE-82C0-40AF-9716-A0A21A2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CA8B6-1979-4B42-B513-CC61BF83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6D7F-D335-4EEA-B45D-59324CB60EC5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0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FEAD-47DF-42C7-A85B-C3938AD3D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2665-5E40-4C62-8A0D-26A53853C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9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0F5C-15A4-4310-B178-9716A709F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3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4EA7-EA02-463B-9F44-289CE8221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658F-2149-4E5B-B2C5-89DC74EF8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2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7B19-AAF7-4858-ACFD-916A5033A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67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B19-DDDD-4AC2-A2C5-C6108E96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71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2F2-57C6-4586-92A1-F17DBB80F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76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A4ED-41EE-4FA5-AF0A-24BAFBE87954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05B5-8DBC-4798-8E64-832DF83BEA44}" type="slidenum">
              <a:rPr b="0" lang="en-C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DB50-89F1-41CA-8A95-7B07AFAC2E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3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D58-666B-4823-8091-F2684FEC5FF8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7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FF4-9AC8-4048-8DD2-DE948094CE4C}" type="slidenum">
              <a:rPr b="0" lang="en-C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22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7CA-BFB4-44CE-9BD4-BF667C699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26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B6D-7229-4A56-A336-A0D5AF7D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1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24C-7357-42FB-B3BB-F011661D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35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B76D-FC52-46DC-8B0B-A20A1BF4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2" descr=""/>
          <p:cNvPicPr/>
          <p:nvPr/>
        </p:nvPicPr>
        <p:blipFill>
          <a:blip r:embed="rId1"/>
          <a:stretch/>
        </p:blipFill>
        <p:spPr>
          <a:xfrm>
            <a:off x="1908000" y="387360"/>
            <a:ext cx="5556600" cy="4491000"/>
          </a:xfrm>
          <a:prstGeom prst="rect">
            <a:avLst/>
          </a:prstGeom>
          <a:ln w="0">
            <a:noFill/>
          </a:ln>
        </p:spPr>
      </p:pic>
      <p:sp>
        <p:nvSpPr>
          <p:cNvPr id="808" name="TextBox 1"/>
          <p:cNvSpPr/>
          <p:nvPr/>
        </p:nvSpPr>
        <p:spPr>
          <a:xfrm>
            <a:off x="1637640" y="5273640"/>
            <a:ext cx="609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What is our Vision for Decad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6666"/>
                </a:solidFill>
                <a:latin typeface="Arial"/>
              </a:rPr>
              <a:t>Climate Research in the WCR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755640" y="115560"/>
            <a:ext cx="7848720" cy="3009960"/>
          </a:xfrm>
          <a:prstGeom prst="rect">
            <a:avLst/>
          </a:prstGeom>
          <a:noFill/>
          <a:ln w="9360">
            <a:solidFill>
              <a:srgbClr val="0066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6666"/>
                </a:solidFill>
                <a:latin typeface="Verdana"/>
              </a:rPr>
              <a:t>Broad interests in decadal climate variability and predi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S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Sub-seasonal to (inter)annual predic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WGC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rced climate</a:t>
            </a:r>
            <a:r>
              <a:rPr b="1" lang="en-CA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hange and natural vari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MIP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Coordinated experimentation including scenarios, decadal prediction …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CLIVAR</a:t>
            </a:r>
            <a:r>
              <a:rPr b="0" lang="en-CA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Focus” on decadal variability and predictability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Ocean aspects, initializ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Grand Challenge </a:t>
            </a:r>
            <a:r>
              <a:rPr b="0" lang="en-CA" sz="1000" spc="-1" strike="noStrike">
                <a:solidFill>
                  <a:srgbClr val="000000"/>
                </a:solidFill>
                <a:latin typeface="Verdana"/>
              </a:rPr>
              <a:t>of Near Term Climate Predic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research and development leading toward operational annual, multi-annual forecas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IPCC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Near term climate a focus of AR5 and expected to be an important contribution to AR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Verdana"/>
              </a:rPr>
              <a:t>DCPP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000000"/>
                </a:solidFill>
                <a:latin typeface="Verdana"/>
              </a:rPr>
              <a:t>Decadal climate prediction project currently reports to WGSIP and WGCM, is an endorsed CMIP MIP and has connections to all group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10" name="Group 7"/>
          <p:cNvGrpSpPr/>
          <p:nvPr/>
        </p:nvGrpSpPr>
        <p:grpSpPr>
          <a:xfrm>
            <a:off x="1400040" y="3268800"/>
            <a:ext cx="5495760" cy="3531960"/>
            <a:chOff x="1400040" y="3268800"/>
            <a:chExt cx="5495760" cy="3531960"/>
          </a:xfrm>
        </p:grpSpPr>
        <p:sp>
          <p:nvSpPr>
            <p:cNvPr id="811" name="Isosceles Triangle 2"/>
            <p:cNvSpPr/>
            <p:nvPr/>
          </p:nvSpPr>
          <p:spPr>
            <a:xfrm>
              <a:off x="1400040" y="3517560"/>
              <a:ext cx="1994760" cy="163404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21000"/>
              </a:srgbClr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"/>
            <p:cNvSpPr/>
            <p:nvPr/>
          </p:nvSpPr>
          <p:spPr>
            <a:xfrm>
              <a:off x="4834800" y="428760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4"/>
            <p:cNvSpPr/>
            <p:nvPr/>
          </p:nvSpPr>
          <p:spPr>
            <a:xfrm>
              <a:off x="3994560" y="5376240"/>
              <a:ext cx="1825560" cy="1424520"/>
            </a:xfrm>
            <a:prstGeom prst="ellipse">
              <a:avLst/>
            </a:prstGeom>
            <a:solidFill>
              <a:srgbClr val="def3f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>
              <a:off x="2015640" y="4287600"/>
              <a:ext cx="76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C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ounded Rectangle 6"/>
            <p:cNvSpPr/>
            <p:nvPr/>
          </p:nvSpPr>
          <p:spPr>
            <a:xfrm>
              <a:off x="3436200" y="3268800"/>
              <a:ext cx="1994760" cy="1377000"/>
            </a:xfrm>
            <a:prstGeom prst="roundRect">
              <a:avLst>
                <a:gd name="adj" fmla="val 16667"/>
              </a:avLst>
            </a:prstGeom>
            <a:solidFill>
              <a:srgbClr val="d9d9d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076000" y="4151160"/>
              <a:ext cx="1728360" cy="1437480"/>
            </a:xfrm>
            <a:prstGeom prst="rect">
              <a:avLst/>
            </a:prstGeom>
            <a:solidFill>
              <a:srgbClr val="33cccc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2725920" y="3964680"/>
              <a:ext cx="2035080" cy="1963440"/>
            </a:xfrm>
            <a:prstGeom prst="ellipse">
              <a:avLst/>
            </a:prstGeom>
            <a:solidFill>
              <a:srgbClr val="adffff"/>
            </a:solidFill>
            <a:ln cap="sq" w="12600">
              <a:solidFill>
                <a:srgbClr val="000000">
                  <a:alpha val="76000"/>
                </a:srgbClr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7"/>
            <p:cNvSpPr/>
            <p:nvPr/>
          </p:nvSpPr>
          <p:spPr>
            <a:xfrm>
              <a:off x="3355920" y="49993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WGS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Box 10"/>
            <p:cNvSpPr/>
            <p:nvPr/>
          </p:nvSpPr>
          <p:spPr>
            <a:xfrm>
              <a:off x="4277880" y="3623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M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TextBox 11"/>
            <p:cNvSpPr/>
            <p:nvPr/>
          </p:nvSpPr>
          <p:spPr>
            <a:xfrm>
              <a:off x="5367960" y="5068440"/>
              <a:ext cx="152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rand Challe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Text Box 9"/>
            <p:cNvSpPr/>
            <p:nvPr/>
          </p:nvSpPr>
          <p:spPr>
            <a:xfrm>
              <a:off x="4495680" y="6043320"/>
              <a:ext cx="82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LIV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823" name="Group 1"/>
          <p:cNvGrpSpPr/>
          <p:nvPr/>
        </p:nvGrpSpPr>
        <p:grpSpPr>
          <a:xfrm>
            <a:off x="1387440" y="1125360"/>
            <a:ext cx="6218280" cy="3232440"/>
            <a:chOff x="1387440" y="1125360"/>
            <a:chExt cx="6218280" cy="3232440"/>
          </a:xfrm>
        </p:grpSpPr>
        <p:pic>
          <p:nvPicPr>
            <p:cNvPr id="824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Line 5"/>
            <p:cNvSpPr/>
            <p:nvPr/>
          </p:nvSpPr>
          <p:spPr>
            <a:xfrm flipV="1">
              <a:off x="3752640" y="1541880"/>
              <a:ext cx="0" cy="176760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6"/>
            <p:cNvSpPr/>
            <p:nvPr/>
          </p:nvSpPr>
          <p:spPr>
            <a:xfrm>
              <a:off x="3549960" y="1345320"/>
              <a:ext cx="2230560" cy="301248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3"/>
          <p:cNvSpPr/>
          <p:nvPr/>
        </p:nvSpPr>
        <p:spPr>
          <a:xfrm>
            <a:off x="4500720" y="4575240"/>
            <a:ext cx="92052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8"/>
          <p:cNvSpPr/>
          <p:nvPr/>
        </p:nvSpPr>
        <p:spPr>
          <a:xfrm>
            <a:off x="5435640" y="450864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4"/>
          <p:cNvSpPr/>
          <p:nvPr/>
        </p:nvSpPr>
        <p:spPr>
          <a:xfrm>
            <a:off x="2302200" y="459432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day-week      week-year    year -decade  decade-cent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5"/>
          <p:cNvSpPr/>
          <p:nvPr/>
        </p:nvSpPr>
        <p:spPr>
          <a:xfrm>
            <a:off x="4583160" y="4898880"/>
            <a:ext cx="83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Deca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1"/>
          <p:cNvSpPr/>
          <p:nvPr/>
        </p:nvSpPr>
        <p:spPr>
          <a:xfrm>
            <a:off x="3389760" y="4898880"/>
            <a:ext cx="12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ub-sea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eas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2"/>
          <p:cNvSpPr/>
          <p:nvPr/>
        </p:nvSpPr>
        <p:spPr>
          <a:xfrm>
            <a:off x="2242440" y="489888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Weath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foreca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3"/>
          <p:cNvSpPr/>
          <p:nvPr/>
        </p:nvSpPr>
        <p:spPr>
          <a:xfrm>
            <a:off x="5583240" y="4902120"/>
            <a:ext cx="98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Clim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6"/>
          <p:cNvSpPr/>
          <p:nvPr/>
        </p:nvSpPr>
        <p:spPr>
          <a:xfrm>
            <a:off x="2097360" y="5421240"/>
            <a:ext cx="522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least currently, approaches and results depend on </a:t>
            </a:r>
            <a:r>
              <a:rPr b="0" lang="en-CA" sz="1400" spc="-1" strike="noStrike">
                <a:solidFill>
                  <a:srgbClr val="006666"/>
                </a:solidFill>
                <a:latin typeface="Arial"/>
              </a:rPr>
              <a:t>timescal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mosphere/land/ocean initialization, ensemble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solution of models, ensemble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ependent realizations, start 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ternal forcing, dri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50880" y="188640"/>
            <a:ext cx="788832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6666"/>
                </a:solidFill>
                <a:latin typeface="Arial"/>
              </a:rPr>
              <a:t>Where does a decadal climate f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8" name="Text Box 12"/>
          <p:cNvSpPr/>
          <p:nvPr/>
        </p:nvSpPr>
        <p:spPr>
          <a:xfrm>
            <a:off x="1258920" y="5229360"/>
            <a:ext cx="72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ecadal variability and predi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annual, multi-annual, up to a decade or 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itializ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forecasts of both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forc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1600" spc="-1" strike="noStrike">
                <a:solidFill>
                  <a:srgbClr val="006666"/>
                </a:solidFill>
                <a:latin typeface="Arial"/>
              </a:rPr>
              <a:t>internally generate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omponents of var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Group 1"/>
          <p:cNvGrpSpPr/>
          <p:nvPr/>
        </p:nvGrpSpPr>
        <p:grpSpPr>
          <a:xfrm>
            <a:off x="1387440" y="1125360"/>
            <a:ext cx="6218280" cy="3967920"/>
            <a:chOff x="1387440" y="1125360"/>
            <a:chExt cx="6218280" cy="3967920"/>
          </a:xfrm>
        </p:grpSpPr>
        <p:pic>
          <p:nvPicPr>
            <p:cNvPr id="840" name="Picture 4" descr="Fig11"/>
            <p:cNvPicPr/>
            <p:nvPr/>
          </p:nvPicPr>
          <p:blipFill>
            <a:blip r:embed="rId1"/>
            <a:srcRect l="0" t="16318" r="0" b="17011"/>
            <a:stretch/>
          </p:blipFill>
          <p:spPr>
            <a:xfrm>
              <a:off x="1387440" y="1125360"/>
              <a:ext cx="6218280" cy="292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Line 5"/>
            <p:cNvSpPr/>
            <p:nvPr/>
          </p:nvSpPr>
          <p:spPr>
            <a:xfrm flipV="1">
              <a:off x="3752640" y="1541520"/>
              <a:ext cx="0" cy="1767240"/>
            </a:xfrm>
            <a:prstGeom prst="line">
              <a:avLst/>
            </a:prstGeom>
            <a:ln w="1908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6"/>
            <p:cNvSpPr/>
            <p:nvPr/>
          </p:nvSpPr>
          <p:spPr>
            <a:xfrm>
              <a:off x="3549960" y="1345320"/>
              <a:ext cx="2230560" cy="3012120"/>
            </a:xfrm>
            <a:prstGeom prst="rect">
              <a:avLst/>
            </a:prstGeom>
            <a:noFill/>
            <a:ln cap="sq" w="1260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 Box 7"/>
            <p:cNvSpPr/>
            <p:nvPr/>
          </p:nvSpPr>
          <p:spPr>
            <a:xfrm>
              <a:off x="3464280" y="4654440"/>
              <a:ext cx="9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S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8"/>
            <p:cNvSpPr/>
            <p:nvPr/>
          </p:nvSpPr>
          <p:spPr>
            <a:xfrm>
              <a:off x="5559480" y="4694400"/>
              <a:ext cx="99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6"/>
          <p:cNvGrpSpPr/>
          <p:nvPr/>
        </p:nvGrpSpPr>
        <p:grpSpPr>
          <a:xfrm>
            <a:off x="2150280" y="4653000"/>
            <a:ext cx="3522960" cy="703800"/>
            <a:chOff x="2150280" y="4653000"/>
            <a:chExt cx="3522960" cy="703800"/>
          </a:xfrm>
        </p:grpSpPr>
        <p:sp>
          <p:nvSpPr>
            <p:cNvPr id="846" name="Text Box 7"/>
            <p:cNvSpPr/>
            <p:nvPr/>
          </p:nvSpPr>
          <p:spPr>
            <a:xfrm>
              <a:off x="2150280" y="4653000"/>
              <a:ext cx="9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6666"/>
                  </a:solidFill>
                  <a:latin typeface="Verdana"/>
                </a:rPr>
                <a:t>WG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 Box 7"/>
            <p:cNvSpPr/>
            <p:nvPr/>
          </p:nvSpPr>
          <p:spPr>
            <a:xfrm>
              <a:off x="4532400" y="4653000"/>
              <a:ext cx="1140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Decad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ff0000"/>
                  </a:solidFill>
                  <a:latin typeface="Verdana"/>
                </a:rPr>
                <a:t>Clim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Straight Connector 3"/>
          <p:cNvSpPr/>
          <p:nvPr/>
        </p:nvSpPr>
        <p:spPr>
          <a:xfrm>
            <a:off x="2050920" y="4575240"/>
            <a:ext cx="1297080" cy="612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traight Connector 8"/>
          <p:cNvSpPr/>
          <p:nvPr/>
        </p:nvSpPr>
        <p:spPr>
          <a:xfrm flipV="1">
            <a:off x="3419640" y="4502160"/>
            <a:ext cx="107604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4619520" y="4546440"/>
            <a:ext cx="920880" cy="648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8"/>
          <p:cNvSpPr/>
          <p:nvPr/>
        </p:nvSpPr>
        <p:spPr>
          <a:xfrm>
            <a:off x="5572080" y="4500720"/>
            <a:ext cx="1008000" cy="0"/>
          </a:xfrm>
          <a:prstGeom prst="line">
            <a:avLst/>
          </a:prstGeom>
          <a:ln cap="sq"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2"/>
          <p:cNvSpPr/>
          <p:nvPr/>
        </p:nvSpPr>
        <p:spPr>
          <a:xfrm>
            <a:off x="430200" y="5659560"/>
            <a:ext cx="199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6666"/>
                </a:solidFill>
                <a:latin typeface="Arial"/>
              </a:rPr>
              <a:t>An Example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Content Placeholder 6" descr=""/>
          <p:cNvPicPr/>
          <p:nvPr/>
        </p:nvPicPr>
        <p:blipFill>
          <a:blip r:embed="rId1"/>
          <a:stretch/>
        </p:blipFill>
        <p:spPr>
          <a:xfrm>
            <a:off x="700200" y="1257480"/>
            <a:ext cx="3744720" cy="3476520"/>
          </a:xfrm>
          <a:prstGeom prst="rect">
            <a:avLst/>
          </a:prstGeom>
          <a:ln w="0">
            <a:noFill/>
          </a:ln>
        </p:spPr>
      </p:pic>
      <p:pic>
        <p:nvPicPr>
          <p:cNvPr id="855" name="Content Placeholder 7" descr=""/>
          <p:cNvPicPr/>
          <p:nvPr/>
        </p:nvPicPr>
        <p:blipFill>
          <a:blip r:embed="rId2"/>
          <a:stretch/>
        </p:blipFill>
        <p:spPr>
          <a:xfrm>
            <a:off x="4643280" y="1260360"/>
            <a:ext cx="3380040" cy="3468960"/>
          </a:xfrm>
          <a:prstGeom prst="rect">
            <a:avLst/>
          </a:prstGeom>
          <a:ln w="0">
            <a:noFill/>
          </a:ln>
        </p:spPr>
      </p:pic>
      <p:sp>
        <p:nvSpPr>
          <p:cNvPr id="856" name="TextBox 8"/>
          <p:cNvSpPr/>
          <p:nvPr/>
        </p:nvSpPr>
        <p:spPr>
          <a:xfrm>
            <a:off x="5969880" y="5200560"/>
            <a:ext cx="30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50% of membership in 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across DCPP and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  <a:ea typeface="Arial"/>
              </a:rPr>
              <a:t>&gt;50% of NTCP part of DCPP, DCV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"/>
          <p:cNvSpPr/>
          <p:nvPr/>
        </p:nvSpPr>
        <p:spPr>
          <a:xfrm>
            <a:off x="6449400" y="1103400"/>
            <a:ext cx="175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6666"/>
                </a:solidFill>
                <a:latin typeface="Arial"/>
                <a:ea typeface="Arial"/>
              </a:rPr>
              <a:t>DCVP focu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3"/>
          <a:stretch/>
        </p:blipFill>
        <p:spPr>
          <a:xfrm>
            <a:off x="447840" y="4668840"/>
            <a:ext cx="5564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6666"/>
                </a:solidFill>
                <a:latin typeface="Arial"/>
              </a:rPr>
              <a:t>Reorganization/renewal of Pa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presumably basic organization not changing (for now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what should we consider for reorganization/renew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o wants to cycle off/has not been act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of reduction of “overlap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 we have sufficient representation from major modelling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hat special knowledge on “end-to-end” aspects of decadal prediction does the panel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itialization, ensemble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prediction and predic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ias adjustment, combination, calibration,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us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er,George [CCCMA]</dc:creator>
  <dc:description/>
  <dc:language>en-US</dc:language>
  <cp:lastModifiedBy>Catherine Michaut</cp:lastModifiedBy>
  <dcterms:modified xsi:type="dcterms:W3CDTF">2016-06-16T12:01:59Z</dcterms:modified>
  <cp:revision>197</cp:revision>
  <dc:subject/>
  <dc:title>Decadal prediction</dc:title>
</cp:coreProperties>
</file>