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6D6-80A6-434C-9188-A7D97809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4DC-2130-4C19-992D-AFAB1DD4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48D3-F905-4013-9154-9F2DC71E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804-B15E-4C74-A0A1-4242BCAC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1E3-FCB8-4596-8502-9DD8DFC7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294-4E9D-4005-83A2-52CB36EE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204-D061-4526-AF2B-758A550F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1FA-40B9-419D-A8AE-7EB80D66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8004-34B8-4965-8AEF-9DC2D25E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C65-4727-407C-ABB0-6A6B577F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8E7-C774-47BE-9816-3AC235E0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B7C-DE57-4EA6-A1A1-85A3026C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806EA-BCC2-44B2-AA03-83D2C0A2C95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9C239-CBE1-49B0-8AFD-77541624C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 3" descr="plot_PDV_pattern_ERSST.png"/>
          <p:cNvPicPr/>
          <p:nvPr/>
        </p:nvPicPr>
        <p:blipFill>
          <a:blip r:embed="rId1"/>
          <a:srcRect l="11403" t="0" r="9465" b="66228"/>
          <a:stretch/>
        </p:blipFill>
        <p:spPr>
          <a:xfrm>
            <a:off x="4510080" y="944640"/>
            <a:ext cx="4467240" cy="1906560"/>
          </a:xfrm>
          <a:prstGeom prst="rect">
            <a:avLst/>
          </a:prstGeom>
          <a:ln w="0">
            <a:noFill/>
          </a:ln>
        </p:spPr>
      </p:pic>
      <p:pic>
        <p:nvPicPr>
          <p:cNvPr id="42" name="Image 2" descr="plot_PDV_pattern_ERSST.png"/>
          <p:cNvPicPr/>
          <p:nvPr/>
        </p:nvPicPr>
        <p:blipFill>
          <a:blip r:embed="rId2"/>
          <a:srcRect l="0" t="35209" r="52643" b="36623"/>
          <a:stretch/>
        </p:blipFill>
        <p:spPr>
          <a:xfrm>
            <a:off x="4746600" y="2955960"/>
            <a:ext cx="3774960" cy="2193840"/>
          </a:xfrm>
          <a:prstGeom prst="rect">
            <a:avLst/>
          </a:prstGeom>
          <a:ln w="0">
            <a:noFill/>
          </a:ln>
        </p:spPr>
      </p:pic>
      <p:pic>
        <p:nvPicPr>
          <p:cNvPr id="43" name="Image 4" descr="plot_IPO_pattern_ERSST.png"/>
          <p:cNvPicPr/>
          <p:nvPr/>
        </p:nvPicPr>
        <p:blipFill>
          <a:blip r:embed="rId3"/>
          <a:srcRect l="7867" t="0" r="10491" b="0"/>
          <a:stretch/>
        </p:blipFill>
        <p:spPr>
          <a:xfrm>
            <a:off x="87480" y="998640"/>
            <a:ext cx="4362120" cy="53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3" descr="plot_PDV_pattern_ERSST.pn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2" descr="plot_IPO_pattern_ERSST.pn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7:09:23Z</dcterms:created>
  <dc:creator>Christophe Cassou</dc:creator>
  <dc:description/>
  <dc:language>en-US</dc:language>
  <cp:lastModifiedBy>Catherine Michaut</cp:lastModifiedBy>
  <dcterms:modified xsi:type="dcterms:W3CDTF">2016-06-16T11:59:57Z</dcterms:modified>
  <cp:revision>2</cp:revision>
  <dc:subject/>
  <dc:title>Diapositive 1</dc:title>
</cp:coreProperties>
</file>