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5D09-4E77-4F31-8BDD-13A54F62E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8B4A-3FEF-4CAB-8971-E9C3367D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8FD9-5CF8-4DE2-8770-35351B399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89A6-9F13-497C-9930-93B3DE856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F6AF-341B-4249-AF39-AF235202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82E3-8B71-4390-899A-AF0FEE29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E916-0258-489C-A05B-7B9DDCB0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02A8-AA41-4EEF-B8DD-78846ADF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5395-5C17-4BF0-86CA-A0F25B25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14F4-E053-453A-A837-184B688D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6BF4-E35B-4CD0-89A5-EE7E1C46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7EDC-3CF7-4B80-A38A-D390AFB7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4173D6-A96A-4497-842C-313AC4AB8105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4172D3-66AC-4278-B256-64242563A2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 3" descr="plot_PDV_pattern_ERSST.png"/>
          <p:cNvPicPr/>
          <p:nvPr/>
        </p:nvPicPr>
        <p:blipFill>
          <a:blip r:embed="rId1"/>
          <a:srcRect l="11403" t="0" r="9465" b="66228"/>
          <a:stretch/>
        </p:blipFill>
        <p:spPr>
          <a:xfrm>
            <a:off x="4510080" y="944640"/>
            <a:ext cx="4467240" cy="1906560"/>
          </a:xfrm>
          <a:prstGeom prst="rect">
            <a:avLst/>
          </a:prstGeom>
          <a:ln w="0">
            <a:noFill/>
          </a:ln>
        </p:spPr>
      </p:pic>
      <p:pic>
        <p:nvPicPr>
          <p:cNvPr id="42" name="Image 2" descr="plot_PDV_pattern_ERSST.png"/>
          <p:cNvPicPr/>
          <p:nvPr/>
        </p:nvPicPr>
        <p:blipFill>
          <a:blip r:embed="rId2"/>
          <a:srcRect l="0" t="35209" r="52643" b="36623"/>
          <a:stretch/>
        </p:blipFill>
        <p:spPr>
          <a:xfrm>
            <a:off x="4746600" y="2955960"/>
            <a:ext cx="3774960" cy="2193840"/>
          </a:xfrm>
          <a:prstGeom prst="rect">
            <a:avLst/>
          </a:prstGeom>
          <a:ln w="0">
            <a:noFill/>
          </a:ln>
        </p:spPr>
      </p:pic>
      <p:pic>
        <p:nvPicPr>
          <p:cNvPr id="43" name="Image 4" descr="plot_IPO_pattern_ERSST.png"/>
          <p:cNvPicPr/>
          <p:nvPr/>
        </p:nvPicPr>
        <p:blipFill>
          <a:blip r:embed="rId3"/>
          <a:srcRect l="7867" t="0" r="10491" b="0"/>
          <a:stretch/>
        </p:blipFill>
        <p:spPr>
          <a:xfrm>
            <a:off x="87480" y="998640"/>
            <a:ext cx="4362120" cy="53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 3" descr="plot_PDV_pattern_ERSST.pn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age 2" descr="plot_IPO_pattern_ERSST.pn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2T07:09:23Z</dcterms:created>
  <dc:creator>Christophe Cassou</dc:creator>
  <dc:description/>
  <dc:language>en-US</dc:language>
  <cp:lastModifiedBy>Catherine Michaut</cp:lastModifiedBy>
  <dcterms:modified xsi:type="dcterms:W3CDTF">2016-06-16T11:59:57Z</dcterms:modified>
  <cp:revision>2</cp:revision>
  <dc:subject/>
  <dc:title>Diapositive 1</dc:title>
</cp:coreProperties>
</file>