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7ADA0A-2291-42D1-9744-AE93E437F9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3D6E7D-FC90-4DB2-918D-5A2982BA50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F30165-9526-4AB5-AF2C-607B381A7B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BBFB9B-AB48-440C-B7D5-962C44E714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B0B45B-1769-470C-9F31-6CB929ABC5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B5EB0D-055F-47CD-8748-048DD8F874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8F44A3-3309-4483-BD7D-0EF9232104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D59B62-59A0-4963-B1AB-80E45D191D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BD621D-8742-411B-B242-B9EC14F783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5B098E-4041-4136-88EA-7824E1EE68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ABF338-944A-4F3F-A2FF-371D7E4B06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11FECA-757D-4945-9400-C478AD33BD8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DA6069-5F37-4CCF-89BC-6808A5E90988}"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990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MIP5 Model Analysis Workshop</a:t>
            </a:r>
            <a:endParaRPr b="0" lang="en-US" sz="4400" spc="-1" strike="noStrike">
              <a:solidFill>
                <a:srgbClr val="000000"/>
              </a:solidFill>
              <a:latin typeface="Calibri"/>
            </a:endParaRPr>
          </a:p>
        </p:txBody>
      </p:sp>
      <p:sp>
        <p:nvSpPr>
          <p:cNvPr id="42" name="PlaceHolder 2"/>
          <p:cNvSpPr>
            <a:spLocks noGrp="1"/>
          </p:cNvSpPr>
          <p:nvPr>
            <p:ph type="subTitle"/>
          </p:nvPr>
        </p:nvSpPr>
        <p:spPr>
          <a:xfrm>
            <a:off x="685440" y="2590920"/>
            <a:ext cx="7543800" cy="1828800"/>
          </a:xfrm>
          <a:prstGeom prst="rect">
            <a:avLst/>
          </a:prstGeom>
          <a:noFill/>
          <a:ln w="0">
            <a:noFill/>
          </a:ln>
        </p:spPr>
        <p:txBody>
          <a:bodyPr anchor="t">
            <a:noAutofit/>
          </a:bodyPr>
          <a:p>
            <a:pPr indent="0" algn="ctr">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Impressions from Organizing Committee </a:t>
            </a:r>
            <a:endParaRPr b="0" lang="en-US" sz="2500" spc="-1" strike="noStrike">
              <a:solidFill>
                <a:srgbClr val="000000"/>
              </a:solidFill>
              <a:latin typeface="Calibri"/>
            </a:endParaRPr>
          </a:p>
          <a:p>
            <a:pPr indent="0" algn="ctr">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represented by Jerry Meehl, Sandrine Bony, Karl Taylor)</a:t>
            </a:r>
            <a:endParaRPr b="0" lang="en-US" sz="2500" spc="-1" strike="noStrike">
              <a:solidFill>
                <a:srgbClr val="000000"/>
              </a:solidFill>
              <a:latin typeface="Calibri"/>
            </a:endParaRPr>
          </a:p>
          <a:p>
            <a:pPr indent="0" algn="ctr">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indent="0" algn="ctr">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with input welcome from participants</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TextBox 1"/>
          <p:cNvSpPr/>
          <p:nvPr/>
        </p:nvSpPr>
        <p:spPr>
          <a:xfrm>
            <a:off x="685800" y="914400"/>
            <a:ext cx="7772400" cy="366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e encourage CMIP5 analysts to look at the new classes of CMIP5 experiments that provide the opportunity to analyze what the models produc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ore model data will continue to come in to CMIP5, so continue checking to include more models in your multi-model result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ppt slides from this meeting will be made available on the password-protected web page maintained by WCRP.  In the next week or so you will receive an email from WCRP asking your permission to post your ppt slides.  If you do not want your ppt slide posted in this way, please respond to the email and request your slide be removed</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TextBox 1"/>
          <p:cNvSpPr/>
          <p:nvPr/>
        </p:nvSpPr>
        <p:spPr>
          <a:xfrm>
            <a:off x="838080" y="1219320"/>
            <a:ext cx="746784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anks to all of you for your interest, and for taking on the challenges of analyzing the CMIP5 model simulations to advance the state of human knowledge of climate science</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TextBox 1"/>
          <p:cNvSpPr/>
          <p:nvPr/>
        </p:nvSpPr>
        <p:spPr>
          <a:xfrm>
            <a:off x="838080" y="1219320"/>
            <a:ext cx="7467840" cy="435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anks to all of you for your interest, and for taking on the challenges of analyzing the CMIP5 model simulations to advance the state of human knowledge of climate science</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 lot of work has been done, and there’s a lot more to do”</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David Karoly</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TextBox 1"/>
          <p:cNvSpPr/>
          <p:nvPr/>
        </p:nvSpPr>
        <p:spPr>
          <a:xfrm>
            <a:off x="304920" y="380880"/>
            <a:ext cx="86104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at have we learned?</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s is about as close as most of us will ever get to a La Niña event </a:t>
            </a:r>
            <a:endParaRPr b="0" lang="en-US" sz="2400" spc="-1" strike="noStrike">
              <a:solidFill>
                <a:srgbClr val="000000"/>
              </a:solidFill>
              <a:latin typeface="Calibri"/>
            </a:endParaRPr>
          </a:p>
        </p:txBody>
      </p:sp>
      <p:pic>
        <p:nvPicPr>
          <p:cNvPr id="44" name="Picture 3" descr=""/>
          <p:cNvPicPr/>
          <p:nvPr/>
        </p:nvPicPr>
        <p:blipFill>
          <a:blip r:embed="rId1"/>
          <a:stretch/>
        </p:blipFill>
        <p:spPr>
          <a:xfrm>
            <a:off x="838080" y="1882800"/>
            <a:ext cx="7086600" cy="4518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TextBox 2"/>
          <p:cNvSpPr/>
          <p:nvPr/>
        </p:nvSpPr>
        <p:spPr>
          <a:xfrm>
            <a:off x="685800" y="685800"/>
            <a:ext cx="83059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nd we have personally experienced a La Niña teleconnection: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it can be wet in Hawaii during a La Niña event</a:t>
            </a:r>
            <a:endParaRPr b="0" lang="en-US" sz="2400" spc="-1" strike="noStrike">
              <a:solidFill>
                <a:srgbClr val="000000"/>
              </a:solidFill>
              <a:latin typeface="Calibri"/>
            </a:endParaRPr>
          </a:p>
        </p:txBody>
      </p:sp>
      <p:pic>
        <p:nvPicPr>
          <p:cNvPr id="46" name="Picture 4" descr=""/>
          <p:cNvPicPr/>
          <p:nvPr/>
        </p:nvPicPr>
        <p:blipFill>
          <a:blip r:embed="rId1"/>
          <a:stretch/>
        </p:blipFill>
        <p:spPr>
          <a:xfrm>
            <a:off x="914400" y="1523880"/>
            <a:ext cx="7620120" cy="48578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TextBox 1"/>
          <p:cNvSpPr/>
          <p:nvPr/>
        </p:nvSpPr>
        <p:spPr>
          <a:xfrm>
            <a:off x="609480" y="609480"/>
            <a:ext cx="777240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 spite of some delays in model availability and challenges in downloading model data (though still farther along than in a similar stage for CMIP3), analyses so far usually could include between 15 and 22 AOGCMs, 4 to 8 decadal prediction simulation sets, about 6 high-top models, and 3 to 8 ESMs included in analyses, and there is considerable interest  and excitement in analyzing model data to learn new things about the climate system</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Box 1"/>
          <p:cNvSpPr/>
          <p:nvPr/>
        </p:nvSpPr>
        <p:spPr>
          <a:xfrm>
            <a:off x="685800" y="1066680"/>
            <a:ext cx="762012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concern that the spread of future projections from the new generation of AOGCMs with more complexity, or from  ESMs  with coupled carbon cycle, would be wildly greater than from the AOGCMs of CMIP3 appears to have been unfounded—spread of projections in CMIP5 AOGCMs comparable to CMIP3, and most first generation ESMs are well-behaved and produce comparable first order results to AOGCMs, but with all their additional capabilities</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TextBox 1"/>
          <p:cNvSpPr/>
          <p:nvPr/>
        </p:nvSpPr>
        <p:spPr>
          <a:xfrm>
            <a:off x="76320" y="117360"/>
            <a:ext cx="9067680" cy="7774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atterns of future change of temperature and precipitation, equilibrium climate sensitivity, and spread among CMIP5 models similar to previous generations of models and we  have the opportunity to better understand the spread;  this increases confidence in these results</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haracteristics of model simulations in CMIP5 are either similar to CMIP3 or have improved somewhat;  nothing appears to have degraded</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ome quantities show considerable improvement (e.g. rate of sea ice loss in Arctic, reduction in cloud brightness)  or a decrease in model spread (e.g. AMOC, seasonal cycle of precipitation in Caribbean, Greenland ice sheet mass balance from temperature and precipitation, Nino3 standard deviation)</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ome things have not significantly improved (e.g. double ITCZ, Arctic clouds and atmospheric circulation, Antarctic sea ice loss, southern ocean too warm, SPCZ too zonal, humidity in subtropical descent regimes too high)</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TextBox 1"/>
          <p:cNvSpPr/>
          <p:nvPr/>
        </p:nvSpPr>
        <p:spPr>
          <a:xfrm>
            <a:off x="228600" y="0"/>
            <a:ext cx="8763120" cy="7043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MIP5 provides many more capabilities and new types of climate change information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carbon cycle feedback,  quantifying sources and sinks of carbon for land vs ocean, allowable emissions for different levels of mitigation in the RCP scenarios, ocean acidification, physiological effects of vegetation changes</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high resolution time slices to study tropical cyclones</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decadal climate prediction for short term climate change and possible climate shifts</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aleoclimate simulations that allow analysis of climate response across past, present and future climates, and that provide “out of sample” insights to build model credibility and provide possible constraints on nature and magnitude of future climate change</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nalysis of cloud feedbacks</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visiting of forcing and feedback better helps to interpret the spread of model projections</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tempts to relate 20</a:t>
            </a:r>
            <a:r>
              <a:rPr b="0" lang="en-US" sz="2400" spc="-1" strike="noStrike" baseline="30000">
                <a:solidFill>
                  <a:srgbClr val="000000"/>
                </a:solidFill>
                <a:latin typeface="Calibri"/>
              </a:rPr>
              <a:t>th</a:t>
            </a:r>
            <a:r>
              <a:rPr b="0" lang="en-US" sz="2400" spc="-1" strike="noStrike">
                <a:solidFill>
                  <a:srgbClr val="000000"/>
                </a:solidFill>
                <a:latin typeface="Calibri"/>
              </a:rPr>
              <a:t> century model biases to projections</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TextBox 1"/>
          <p:cNvSpPr/>
          <p:nvPr/>
        </p:nvSpPr>
        <p:spPr>
          <a:xfrm>
            <a:off x="76320" y="-71280"/>
            <a:ext cx="8991360" cy="7409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ew types of results, just a few examples (many more presented):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MO more predictable than PDO</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ritical thresholds for Arctic sea ice loss</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gional climate regimes like Indian Ocean Dipole and  connections to east African rainfall</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outh Pacific Convergence Zone</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cean wave heights</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hanges in monsoon onset characteristics,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ole of salinity and patterns of changes connected to hydrological cycle and ocean response</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effects of aerosols on Atlantic SSTs</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tracking regional ocean heat content changes and relation to regional patterns of sea level rise</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etter quantification of factors affecting cloud feedback</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mechanisms for regional precipitation and temperature changes and extremes—Caribbean drying, SE US wetter, drying Amazon, connecting Arctic sea ice loss to European cold extremes, atmospheric rivers and extreme precipitation, importance of circulation changes, blocking, what will not change in a future climate is also useful information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TextBox 1"/>
          <p:cNvSpPr/>
          <p:nvPr/>
        </p:nvSpPr>
        <p:spPr>
          <a:xfrm>
            <a:off x="0" y="0"/>
            <a:ext cx="9220320" cy="7653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fer to the model runs as “CMIP5 models”,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ot “IPCC models” or “AR5 models”</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clude acknowledgment found at: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http://cmip-pcmdi.llnl.gov/cmip5/citation.html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fer to models by “official” acronyms found at: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ttp://cmip-pcmdi.llnl.gov/cmip5/docs/CMIP5_modeling_groups.pdf</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nter CMIP5 publication information  on the PCMDI website (coming very soon!);  send publications for assessment in AR5 directly to lead authors, or to wg1@ipcc.unibe.ch, before July 31, 2012</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nsult and interact with modeling groups when you find interesting or confusing results, or you find anything you think will help them understand/improve their models (can go through PCMDI)</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f you want to volunteer to be a beta tester for new ESG software system, contact  taylor13@llnl.gov</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9T19:58:03Z</dcterms:created>
  <dc:creator>meehl</dc:creator>
  <dc:description/>
  <dc:language>en-US</dc:language>
  <cp:lastModifiedBy>meehl</cp:lastModifiedBy>
  <dcterms:modified xsi:type="dcterms:W3CDTF">2012-03-10T00:28:45Z</dcterms:modified>
  <cp:revision>26</cp:revision>
  <dc:subject/>
  <dc:title>CMIP5 Model Analysis Workshop</dc:title>
</cp:coreProperties>
</file>