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Img"/>
          </p:nvPr>
        </p:nvSpPr>
        <p:spPr>
          <a:xfrm>
            <a:off x="-360" y="-5256360"/>
            <a:ext cx="360" cy="119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cordex.dmi.dk/" TargetMode="Externa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SGMIP=Stretched Grid Models Intercomparison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Cordex stands for COordinated Regional Downscaling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Cordex is co-chaired by F. Giorgi and Colin J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Cordex main data archive: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ea typeface="DejaVu Sans"/>
                <a:hlinkClick r:id="rId1"/>
              </a:rPr>
              <a:t>http://cordex.dmi.dk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Cordex also includes statistical downscaling (B. Hewitson chai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First pan-Cordex meeting in Trieste March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8AE29DE-11A8-4184-93DF-66F6671740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This result has been recently publish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Nikulin, G., C. Jones, F. Giorgi, G. Asrar, M. Büchner, R. Cerezo-Mota, 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Christensen, M. Déqué, J. Fernandez, A. Haensler, E. van Meijgaard, 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Samuelsson, M. Sylla, and L. Sushama, 2012: Precipitation Climatology in An Ensemble of CORDEX-Africa Regional Climate Simulations. J. Clim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doi:10.1175/JCLI-D-11-00375.1, in pr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It features various Cordex models driven by ERA interim reanaly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This result will be submitted very soon by R. Vaut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It features various Cordex models driven by ERA interim reanaly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190080"/>
            <a:ext cx="72673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7916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0920" y="3920760"/>
            <a:ext cx="7916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280" y="190080"/>
            <a:ext cx="72673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3863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557360"/>
            <a:ext cx="3863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0920" y="3920760"/>
            <a:ext cx="3863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3920760"/>
            <a:ext cx="3863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280" y="190080"/>
            <a:ext cx="72673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2548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520" y="1557360"/>
            <a:ext cx="2548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4120" y="1557360"/>
            <a:ext cx="2548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0920" y="3920760"/>
            <a:ext cx="2548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520" y="3920760"/>
            <a:ext cx="2548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4120" y="3920760"/>
            <a:ext cx="2548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190080"/>
            <a:ext cx="72673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10920" y="1557360"/>
            <a:ext cx="7916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280" y="190080"/>
            <a:ext cx="72673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79167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280" y="190080"/>
            <a:ext cx="72673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3863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7760" y="1557360"/>
            <a:ext cx="3863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280" y="190080"/>
            <a:ext cx="72673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71280" y="190080"/>
            <a:ext cx="726732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1280" y="190080"/>
            <a:ext cx="72673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3863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7760" y="1557360"/>
            <a:ext cx="3863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0920" y="3920760"/>
            <a:ext cx="3863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280" y="190080"/>
            <a:ext cx="72673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0920" y="1557360"/>
            <a:ext cx="7916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1280" y="190080"/>
            <a:ext cx="72673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3863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760" y="1557360"/>
            <a:ext cx="3863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7760" y="3920760"/>
            <a:ext cx="3863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1280" y="190080"/>
            <a:ext cx="72673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3863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760" y="1557360"/>
            <a:ext cx="3863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10920" y="3920760"/>
            <a:ext cx="7916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190080"/>
            <a:ext cx="72673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7916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10920" y="3920760"/>
            <a:ext cx="7916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280" y="190080"/>
            <a:ext cx="72673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3863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7760" y="1557360"/>
            <a:ext cx="3863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10920" y="3920760"/>
            <a:ext cx="3863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7760" y="3920760"/>
            <a:ext cx="3863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71280" y="190080"/>
            <a:ext cx="72673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2548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7520" y="1557360"/>
            <a:ext cx="2548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4120" y="1557360"/>
            <a:ext cx="2548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10920" y="3920760"/>
            <a:ext cx="2548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87520" y="3920760"/>
            <a:ext cx="2548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4120" y="3920760"/>
            <a:ext cx="2548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280" y="190080"/>
            <a:ext cx="72673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79167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280" y="190080"/>
            <a:ext cx="72673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3863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557360"/>
            <a:ext cx="3863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280" y="190080"/>
            <a:ext cx="72673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280" y="190080"/>
            <a:ext cx="726732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280" y="190080"/>
            <a:ext cx="72673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3863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557360"/>
            <a:ext cx="3863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0920" y="3920760"/>
            <a:ext cx="3863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280" y="190080"/>
            <a:ext cx="72673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3863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557360"/>
            <a:ext cx="3863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3920760"/>
            <a:ext cx="3863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190080"/>
            <a:ext cx="72673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3863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557360"/>
            <a:ext cx="3863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0920" y="3920760"/>
            <a:ext cx="7916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6836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449200" y="0"/>
            <a:ext cx="81612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DB0762F-A81E-4BE1-A359-29127AE519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96560" y="6508800"/>
            <a:ext cx="17262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eijing, 16 July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71280" y="190080"/>
            <a:ext cx="72673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10920" y="1557360"/>
            <a:ext cx="79167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9280" y="1628280"/>
            <a:ext cx="6043680" cy="33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8044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327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9083520" cy="38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748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Regional Climate Modeling</a:t>
            </a: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CORDEX</a:t>
            </a: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ichel Déqu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étéo-France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1640" y="5759280"/>
            <a:ext cx="612000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anks to C. Jones and R. Vaut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09280" y="-71640"/>
            <a:ext cx="6048360" cy="1501560"/>
          </a:xfrm>
          <a:prstGeom prst="rect">
            <a:avLst/>
          </a:prstGeom>
          <a:noFill/>
          <a:ln w="0">
            <a:noFill/>
          </a:ln>
        </p:spPr>
        <p:txBody>
          <a:bodyPr lIns="0" rIns="0" tIns="36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pre-CORDEX 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9120" cy="439416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115920"/>
                <a:tab algn="l" pos="573120"/>
                <a:tab algn="l" pos="1030320"/>
                <a:tab algn="l" pos="1487520"/>
                <a:tab algn="l" pos="1944720"/>
                <a:tab algn="l" pos="2401920"/>
                <a:tab algn="l" pos="2859120"/>
                <a:tab algn="l" pos="3316320"/>
                <a:tab algn="l" pos="3773520"/>
                <a:tab algn="l" pos="4230720"/>
                <a:tab algn="l" pos="4687920"/>
                <a:tab algn="l" pos="5145120"/>
                <a:tab algn="l" pos="5602320"/>
                <a:tab algn="l" pos="6059520"/>
                <a:tab algn="l" pos="6516720"/>
                <a:tab algn="l" pos="6973920"/>
                <a:tab algn="l" pos="7431120"/>
                <a:tab algn="l" pos="7888320"/>
                <a:tab algn="l" pos="8345520"/>
                <a:tab algn="l" pos="8802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uro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115920"/>
                <a:tab algn="l" pos="573120"/>
                <a:tab algn="l" pos="1030320"/>
                <a:tab algn="l" pos="1487520"/>
                <a:tab algn="l" pos="1944720"/>
                <a:tab algn="l" pos="2401920"/>
                <a:tab algn="l" pos="2859120"/>
                <a:tab algn="l" pos="3316320"/>
                <a:tab algn="l" pos="3773520"/>
                <a:tab algn="l" pos="4230720"/>
                <a:tab algn="l" pos="4687920"/>
                <a:tab algn="l" pos="5145120"/>
                <a:tab algn="l" pos="5602320"/>
                <a:tab algn="l" pos="6059520"/>
                <a:tab algn="l" pos="6516720"/>
                <a:tab algn="l" pos="6973920"/>
                <a:tab algn="l" pos="7431120"/>
                <a:tab algn="l" pos="7888320"/>
                <a:tab algn="l" pos="8345520"/>
                <a:tab algn="l" pos="8802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UDENCE (EC funde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115920"/>
                <a:tab algn="l" pos="573120"/>
                <a:tab algn="l" pos="1030320"/>
                <a:tab algn="l" pos="1487520"/>
                <a:tab algn="l" pos="1944720"/>
                <a:tab algn="l" pos="2401920"/>
                <a:tab algn="l" pos="2859120"/>
                <a:tab algn="l" pos="3316320"/>
                <a:tab algn="l" pos="3773520"/>
                <a:tab algn="l" pos="4230720"/>
                <a:tab algn="l" pos="4687920"/>
                <a:tab algn="l" pos="5145120"/>
                <a:tab algn="l" pos="5602320"/>
                <a:tab algn="l" pos="6059520"/>
                <a:tab algn="l" pos="6516720"/>
                <a:tab algn="l" pos="6973920"/>
                <a:tab algn="l" pos="7431120"/>
                <a:tab algn="l" pos="7888320"/>
                <a:tab algn="l" pos="8345520"/>
                <a:tab algn="l" pos="8802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SEMBLES (EC fund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115920"/>
                <a:tab algn="l" pos="573120"/>
                <a:tab algn="l" pos="1030320"/>
                <a:tab algn="l" pos="1487520"/>
                <a:tab algn="l" pos="1944720"/>
                <a:tab algn="l" pos="2401920"/>
                <a:tab algn="l" pos="2859120"/>
                <a:tab algn="l" pos="3316320"/>
                <a:tab algn="l" pos="3773520"/>
                <a:tab algn="l" pos="4230720"/>
                <a:tab algn="l" pos="4687920"/>
                <a:tab algn="l" pos="5145120"/>
                <a:tab algn="l" pos="5602320"/>
                <a:tab algn="l" pos="6059520"/>
                <a:tab algn="l" pos="6516720"/>
                <a:tab algn="l" pos="6973920"/>
                <a:tab algn="l" pos="7431120"/>
                <a:tab algn="l" pos="7888320"/>
                <a:tab algn="l" pos="8345520"/>
                <a:tab algn="l" pos="8802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115920"/>
                <a:tab algn="l" pos="573120"/>
                <a:tab algn="l" pos="1030320"/>
                <a:tab algn="l" pos="1487520"/>
                <a:tab algn="l" pos="1944720"/>
                <a:tab algn="l" pos="2401920"/>
                <a:tab algn="l" pos="2859120"/>
                <a:tab algn="l" pos="3316320"/>
                <a:tab algn="l" pos="3773520"/>
                <a:tab algn="l" pos="4230720"/>
                <a:tab algn="l" pos="4687920"/>
                <a:tab algn="l" pos="5145120"/>
                <a:tab algn="l" pos="5602320"/>
                <a:tab algn="l" pos="6059520"/>
                <a:tab algn="l" pos="6516720"/>
                <a:tab algn="l" pos="6973920"/>
                <a:tab algn="l" pos="7431120"/>
                <a:tab algn="l" pos="7888320"/>
                <a:tab algn="l" pos="8345520"/>
                <a:tab algn="l" pos="8802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rth Amer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115920"/>
                <a:tab algn="l" pos="573120"/>
                <a:tab algn="l" pos="1030320"/>
                <a:tab algn="l" pos="1487520"/>
                <a:tab algn="l" pos="1944720"/>
                <a:tab algn="l" pos="2401920"/>
                <a:tab algn="l" pos="2859120"/>
                <a:tab algn="l" pos="3316320"/>
                <a:tab algn="l" pos="3773520"/>
                <a:tab algn="l" pos="4230720"/>
                <a:tab algn="l" pos="4687920"/>
                <a:tab algn="l" pos="5145120"/>
                <a:tab algn="l" pos="5602320"/>
                <a:tab algn="l" pos="6059520"/>
                <a:tab algn="l" pos="6516720"/>
                <a:tab algn="l" pos="6973920"/>
                <a:tab algn="l" pos="7431120"/>
                <a:tab algn="l" pos="7888320"/>
                <a:tab algn="l" pos="8345520"/>
                <a:tab algn="l" pos="8802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IL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115920"/>
                <a:tab algn="l" pos="573120"/>
                <a:tab algn="l" pos="1030320"/>
                <a:tab algn="l" pos="1487520"/>
                <a:tab algn="l" pos="1944720"/>
                <a:tab algn="l" pos="2401920"/>
                <a:tab algn="l" pos="2859120"/>
                <a:tab algn="l" pos="3316320"/>
                <a:tab algn="l" pos="3773520"/>
                <a:tab algn="l" pos="4230720"/>
                <a:tab algn="l" pos="4687920"/>
                <a:tab algn="l" pos="5145120"/>
                <a:tab algn="l" pos="5602320"/>
                <a:tab algn="l" pos="6059520"/>
                <a:tab algn="l" pos="6516720"/>
                <a:tab algn="l" pos="6973920"/>
                <a:tab algn="l" pos="7431120"/>
                <a:tab algn="l" pos="7888320"/>
                <a:tab algn="l" pos="8345520"/>
                <a:tab algn="l" pos="8802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ARC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115920"/>
                <a:tab algn="l" pos="573120"/>
                <a:tab algn="l" pos="1030320"/>
                <a:tab algn="l" pos="1487520"/>
                <a:tab algn="l" pos="1944720"/>
                <a:tab algn="l" pos="2401920"/>
                <a:tab algn="l" pos="2859120"/>
                <a:tab algn="l" pos="3316320"/>
                <a:tab algn="l" pos="3773520"/>
                <a:tab algn="l" pos="4230720"/>
                <a:tab algn="l" pos="4687920"/>
                <a:tab algn="l" pos="5145120"/>
                <a:tab algn="l" pos="5602320"/>
                <a:tab algn="l" pos="6059520"/>
                <a:tab algn="l" pos="6516720"/>
                <a:tab algn="l" pos="6973920"/>
                <a:tab algn="l" pos="7431120"/>
                <a:tab algn="l" pos="7888320"/>
                <a:tab algn="l" pos="8345520"/>
                <a:tab algn="l" pos="8802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115920"/>
                <a:tab algn="l" pos="573120"/>
                <a:tab algn="l" pos="1030320"/>
                <a:tab algn="l" pos="1487520"/>
                <a:tab algn="l" pos="1944720"/>
                <a:tab algn="l" pos="2401920"/>
                <a:tab algn="l" pos="2859120"/>
                <a:tab algn="l" pos="3316320"/>
                <a:tab algn="l" pos="3773520"/>
                <a:tab algn="l" pos="4230720"/>
                <a:tab algn="l" pos="4687920"/>
                <a:tab algn="l" pos="5145120"/>
                <a:tab algn="l" pos="5602320"/>
                <a:tab algn="l" pos="6059520"/>
                <a:tab algn="l" pos="6516720"/>
                <a:tab algn="l" pos="6973920"/>
                <a:tab algn="l" pos="7431120"/>
                <a:tab algn="l" pos="7888320"/>
                <a:tab algn="l" pos="8345520"/>
                <a:tab algn="l" pos="8802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ob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115920"/>
                <a:tab algn="l" pos="573120"/>
                <a:tab algn="l" pos="1030320"/>
                <a:tab algn="l" pos="1487520"/>
                <a:tab algn="l" pos="1944720"/>
                <a:tab algn="l" pos="2401920"/>
                <a:tab algn="l" pos="2859120"/>
                <a:tab algn="l" pos="3316320"/>
                <a:tab algn="l" pos="3773520"/>
                <a:tab algn="l" pos="4230720"/>
                <a:tab algn="l" pos="4687920"/>
                <a:tab algn="l" pos="5145120"/>
                <a:tab algn="l" pos="5602320"/>
                <a:tab algn="l" pos="6059520"/>
                <a:tab algn="l" pos="6516720"/>
                <a:tab algn="l" pos="6973920"/>
                <a:tab algn="l" pos="7431120"/>
                <a:tab algn="l" pos="7888320"/>
                <a:tab algn="l" pos="8345520"/>
                <a:tab algn="l" pos="8802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GMIP (WGNE endor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704960" y="1461960"/>
            <a:ext cx="2475000" cy="990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Evalu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37320" y="1461960"/>
            <a:ext cx="2474640" cy="990720"/>
          </a:xfrm>
          <a:prstGeom prst="rect">
            <a:avLst/>
          </a:prstGeom>
          <a:solidFill>
            <a:srgbClr val="99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Climate Pro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04960" y="4149720"/>
            <a:ext cx="2475000" cy="990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A-Interim B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9-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65680" y="5068800"/>
            <a:ext cx="2475000" cy="708120"/>
          </a:xfrm>
          <a:prstGeom prst="rect">
            <a:avLst/>
          </a:prstGeom>
          <a:solidFill>
            <a:srgbClr val="99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ultiple AOGC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65680" y="4221000"/>
            <a:ext cx="2475000" cy="708120"/>
          </a:xfrm>
          <a:prstGeom prst="rect">
            <a:avLst/>
          </a:prstGeom>
          <a:solidFill>
            <a:srgbClr val="99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RCP4.5, RCP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80000" y="5918040"/>
            <a:ext cx="4319640" cy="706680"/>
          </a:xfrm>
          <a:prstGeom prst="rect">
            <a:avLst/>
          </a:prstGeom>
          <a:solidFill>
            <a:srgbClr val="99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rojections 1951-2100 + timesl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Decadal hindcasts &amp; predi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00360" y="2986200"/>
            <a:ext cx="6480000" cy="668160"/>
          </a:xfrm>
          <a:prstGeom prst="rect">
            <a:avLst/>
          </a:prstGeom>
          <a:solidFill>
            <a:srgbClr val="ff7c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ultiple regions (Initial focus on Afric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50km resolution (higher in some regions, Europe: 10k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19400" y="2452680"/>
            <a:ext cx="450720" cy="495360"/>
          </a:xfrm>
          <a:prstGeom prst="downArrow">
            <a:avLst>
              <a:gd name="adj1" fmla="val 50000"/>
              <a:gd name="adj2" fmla="val 274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19400" y="3654360"/>
            <a:ext cx="450720" cy="495360"/>
          </a:xfrm>
          <a:prstGeom prst="downArrow">
            <a:avLst>
              <a:gd name="adj1" fmla="val 50000"/>
              <a:gd name="adj2" fmla="val 274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43640" y="2452680"/>
            <a:ext cx="450720" cy="495360"/>
          </a:xfrm>
          <a:prstGeom prst="downArrow">
            <a:avLst>
              <a:gd name="adj1" fmla="val 50000"/>
              <a:gd name="adj2" fmla="val 2747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43640" y="3654360"/>
            <a:ext cx="450720" cy="565200"/>
          </a:xfrm>
          <a:prstGeom prst="downArrow">
            <a:avLst>
              <a:gd name="adj1" fmla="val 50000"/>
              <a:gd name="adj2" fmla="val 3135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57160" y="5635800"/>
            <a:ext cx="3183120" cy="1060200"/>
          </a:xfrm>
          <a:prstGeom prst="ellipse">
            <a:avLst/>
          </a:prstGeom>
          <a:solidFill>
            <a:srgbClr val="ff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Region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Regional Data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44600" y="5140440"/>
            <a:ext cx="451080" cy="495360"/>
          </a:xfrm>
          <a:prstGeom prst="downArrow">
            <a:avLst>
              <a:gd name="adj1" fmla="val 50000"/>
              <a:gd name="adj2" fmla="val 274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3780000">
            <a:off x="4447080" y="4582080"/>
            <a:ext cx="451080" cy="1697040"/>
          </a:xfrm>
          <a:prstGeom prst="downArrow">
            <a:avLst>
              <a:gd name="adj1" fmla="val 50000"/>
              <a:gd name="adj2" fmla="val 94054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09640" y="-71280"/>
            <a:ext cx="604836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36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gothic"/>
              </a:rPr>
              <a:t>CORDEX experimental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627280" y="5661000"/>
            <a:ext cx="4183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042920" y="1197000"/>
            <a:ext cx="7002360" cy="4464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152360" y="5807160"/>
            <a:ext cx="7920360" cy="94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2 domains with a resolution of 0.44° (approx. 50x50km²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cus on Af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igh resolution  ~0.11°x0.11° for Europe (by some institu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60360" y="-71280"/>
            <a:ext cx="738036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36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gothic"/>
              </a:rPr>
              <a:t>CORDEX domains (+ polar domai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174840" y="1152360"/>
            <a:ext cx="5753160" cy="5580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260360" y="-71280"/>
            <a:ext cx="738036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36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gothic"/>
              </a:rPr>
              <a:t>CORDEX Africa res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2700360"/>
            <a:ext cx="251964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Western African monsoon : montly mean precipitation 10°W-10°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260360" y="-71280"/>
            <a:ext cx="738036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36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gothic"/>
              </a:rPr>
              <a:t>CORDEX Europe res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36720" y="6335640"/>
            <a:ext cx="719928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Heat waves :JJA 90</a:t>
            </a:r>
            <a:r>
              <a:rPr b="1" lang="fr-FR" sz="2400" spc="-1" strike="noStrike" baseline="33000">
                <a:solidFill>
                  <a:srgbClr val="000000"/>
                </a:solidFill>
                <a:latin typeface="Arial"/>
              </a:rPr>
              <a:t>th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percentile of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6360" y="1260360"/>
            <a:ext cx="8963280" cy="50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chel Déqué</cp:lastModifiedBy>
  <dcterms:modified xsi:type="dcterms:W3CDTF">2012-07-06T16:17:35Z</dcterms:modified>
  <cp:revision>8</cp:revision>
  <dc:subject/>
  <dc:title>Variable horizontal resolution: the other numerical downscaling technique   Michel Déqué    Météo-France CNRM/GAME Toulouse </dc:title>
</cp:coreProperties>
</file>