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0E53-DC2A-4C37-9998-C785F9D26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B046-7E17-4FD7-8C95-46DF6C7D1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1F1-E170-4E7F-98AF-140A75DA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1D30-A2D0-47A3-90D9-EA73A731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1B2A-DDFC-4314-B8F4-CA5168C5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CED5-1C4C-4BF5-B581-14C9F730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54F0-8A7B-4ACD-8916-67FD5614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8285-67C1-4E79-8E7D-D3C8AE35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2C82-8768-479B-9B3F-6CC5CB2C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ED10-C8B8-4142-AC68-5AE2BD57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89EE-82E7-497C-98AD-06BF8D6A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5CDF-D973-4763-9C76-380E77E5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EE47-12CC-45FE-B9B5-AB97D910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3E81-F634-4AB3-8FD7-450C5E52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2560" y="6095520"/>
            <a:ext cx="327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7784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91F4-7285-4D8E-8786-69C2E981E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5" name="Picture 9" descr="lower_banner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upper_banner"/>
          <p:cNvPicPr/>
          <p:nvPr/>
        </p:nvPicPr>
        <p:blipFill>
          <a:blip r:embed="rId3"/>
          <a:stretch/>
        </p:blipFill>
        <p:spPr>
          <a:xfrm>
            <a:off x="0" y="0"/>
            <a:ext cx="9144000" cy="93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321264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279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a selection of) Important data and modeling activities sponsored by WCRP in 2011-2012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jor findings, recommendations and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/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1599840"/>
            <a:ext cx="8763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-28 October 2011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ould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CRP Open Science Conf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ctionable science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ttp://www.wcrp-climate.org/conference2011/documents/WCRP%20Conference%20AGU_Eos_mtg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ion of the Earth System, bridging physical climate and bio-geo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ud/aerosols/radiative feedback and climate sensi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al climate/seamless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fy predicted climate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adal/initialized predic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predic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emes at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-level 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challenges will involve both data and model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28600" y="16765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-20 April 2011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rascat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CRP-GCOS workshop on the evaluation of satellite-related global climate datase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ttp://www.wcrp-climate.org/documents/ECV_Wksp_WCRP_Report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1 data sets = great value and opportunity for verification and validation of Earth/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 2 incompatibility of format, projection and error characteristics were identified as major impediments to sub-optimal use of observ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M promote intercomparison and the evaluation of datasets of Essential Climate Variables (ECV) following GCOS Requir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US lessons learned and best practices for a manageable sub-set of space-based observations rather than being all encompassing (future could focus on in situ and/or additional space-based observational recor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 establish an international framework for a consistent approach to the production, evaluation and accessibility of global climate datasets, which could lead to inventory of essential climate data s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GOING discussions with NCDC to host ECV inventory on GOSIC, draft plan developed and being review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A tentatively agreed to host the follow-up meeting early 2013, possibly with WDAC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2280" y="1905120"/>
            <a:ext cx="8839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AP Flux re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://www.wcrp-climate.org/documents/woap_fluxes_report_01_2012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issues over land, ice and se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 Evaluation of products (in-situ, models, reanalysis) and accuracies, WDAC ideal for cross-entity dialo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 of reference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 Initial consideration on land, optimization (distribution, consistency, multi-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measurement and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 Liaise with space agencies, gap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datasets of fluxes: RECOM devpt of community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of model fluxes: RECOM continuation of WGNE SU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2280" y="2057040"/>
            <a:ext cx="8763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-11 May 2012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lver Spring, 4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International Reanalysis Con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://icr4.org/ppts/Bosilovich_Wrapup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 Reanalyses: one of most used info in climate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: unsecure funding, some observing systems at risk will impact quality, bias correction and ref obs, uncertainty estimations, longer peri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: international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: coupled and hybrid assimilation, adjusting cov and assimilation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: conference every 4-5 years, data assimilation conference in 2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: make reanalyses available on ESG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17521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-26 March 2011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ieste, 1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International CORDEX Con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://cdsagenda5.ictp.it/askArchive.php?base=agenda&amp;categ=a10131&amp;id=a10131s37t80/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: leverage CMIP5 experience, approach, architecture,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: focus on 3 VIA applications (health, agriculture, w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: populate the GCM/RCM/RCP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: extend CORDEX man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: from “CORDEX Task Force on Regional Climate Downscaling” to “CORDEX Science Advisory Team”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-DO: web portal consistency, develop all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-DO: identify suitable observational data sets for each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2280" y="1905120"/>
            <a:ext cx="8839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9 March 2012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nolulu, CMIP5 Analysis Worksh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ttp://www.wcrp-climate.org/documents/ezine/WCRPnews_14032012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: spread and patterns of new CMIP5 AOGCM and ESM similar to CMI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: some problems persist (double ITCZ, Arctic clouds and circulation, Antarctic sea ice loss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: CMIP5 has far more info to be analyzed, IPCC deadline, continuous ESG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prepare grounds for CMIP6, AR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-23 March 2012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sadena, The Physics of Weather and Climat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ught worksh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seasonal to seasonal Project (WCRP/WW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co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GNE Systematic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GNE Short to medium range coupled predi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-WGS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-COR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assimilation (TB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VAR, CLIC, SPARC, GEWEX data and model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11:43:36Z</dcterms:created>
  <dc:creator>V Ryabinin</dc:creator>
  <dc:description/>
  <dc:language>en-US</dc:language>
  <cp:lastModifiedBy>MRixen</cp:lastModifiedBy>
  <cp:lastPrinted>2008-10-29T15:33:33Z</cp:lastPrinted>
  <dcterms:modified xsi:type="dcterms:W3CDTF">2012-06-01T09:08:35Z</dcterms:modified>
  <cp:revision>378</cp:revision>
  <dc:subject/>
  <dc:title>WCRP to IGFA</dc:title>
</cp:coreProperties>
</file>