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-360" y="-5256360"/>
            <a:ext cx="360" cy="119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cordex.dmi.dk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GMIP=Stretched Grid Models Intercomparison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stands for COordinated Regional Downscal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is co-chaired by F. Giorgi and Colin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main data archive: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DejaVu Sans"/>
                <a:hlinkClick r:id="rId1"/>
              </a:rPr>
              <a:t>http://cordex.dmi.d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ordex also includes statistical downscaling (B. Hewitson ch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First pan-Cordex meeting in Trieste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A167FC-AE55-4E21-8AF6-03657DDC84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is result has been recently publish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Nikulin, G., C. Jones, F. Giorgi, G. Asrar, M. Büchner, R. Cerezo-Mota, 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Christensen, M. Déqué, J. Fernandez, A. Haensler, E. van Meijgaard,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amuelsson, M. Sylla, and L. Sushama, 2012: Precipitation Climatology in An Ensemble of CORDEX-Africa Regional Climate Simulations. J. Cli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doi:10.1175/JCLI-D-11-00375.1, in p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features various Cordex models driven by ERA interim re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This result will be submitted very soon by R. Vaut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It features various Cordex models driven by ERA interim re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280" y="190080"/>
            <a:ext cx="72673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75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4120" y="15573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09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75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4120" y="3920760"/>
            <a:ext cx="25488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280" y="190080"/>
            <a:ext cx="72673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207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57360"/>
            <a:ext cx="3863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20760"/>
            <a:ext cx="7916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6836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49200" y="0"/>
            <a:ext cx="816120" cy="2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0D395B-3EDB-4CE5-B047-3A0C41B53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96560" y="6508800"/>
            <a:ext cx="17262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eijing, 16 Jul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190080"/>
            <a:ext cx="7267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557360"/>
            <a:ext cx="79167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956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628280"/>
            <a:ext cx="604368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327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8352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748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gional Climate Modeling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RDEX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hel Déqu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étéo-France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5759280"/>
            <a:ext cx="61200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anks to C. Jones and R. Vaut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09280" y="-71640"/>
            <a:ext cx="604836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re-CORDEX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9416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UDENCE (EC fund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SEMBLES (EC fu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rth Ame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I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RC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115920"/>
                <a:tab algn="l" pos="573120"/>
                <a:tab algn="l" pos="1030320"/>
                <a:tab algn="l" pos="1487520"/>
                <a:tab algn="l" pos="1944720"/>
                <a:tab algn="l" pos="2401920"/>
                <a:tab algn="l" pos="2859120"/>
                <a:tab algn="l" pos="3316320"/>
                <a:tab algn="l" pos="3773520"/>
                <a:tab algn="l" pos="4230720"/>
                <a:tab algn="l" pos="4687920"/>
                <a:tab algn="l" pos="5145120"/>
                <a:tab algn="l" pos="5602320"/>
                <a:tab algn="l" pos="6059520"/>
                <a:tab algn="l" pos="6516720"/>
                <a:tab algn="l" pos="6973920"/>
                <a:tab algn="l" pos="7431120"/>
                <a:tab algn="l" pos="7888320"/>
                <a:tab algn="l" pos="8345520"/>
                <a:tab algn="l" pos="8802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GMIP (WGNE endor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04960" y="1461960"/>
            <a:ext cx="247500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37320" y="1461960"/>
            <a:ext cx="2474640" cy="9907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imate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04960" y="4149720"/>
            <a:ext cx="247500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-Interim B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65680" y="5068800"/>
            <a:ext cx="2475000" cy="7081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ultiple AOG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65680" y="4221000"/>
            <a:ext cx="2475000" cy="70812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CP4.5, RCP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0000" y="5918040"/>
            <a:ext cx="4319640" cy="70668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ojections 1951-2100 + timesl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ecadal hindcasts &amp; 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00360" y="2986200"/>
            <a:ext cx="6480000" cy="668160"/>
          </a:xfrm>
          <a:prstGeom prst="rect">
            <a:avLst/>
          </a:prstGeom>
          <a:solidFill>
            <a:srgbClr val="ff7c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ltiple regions (Initial focus on Af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km resolution (higher in some regions, Europe: 10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9400" y="245268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19400" y="365436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2452680"/>
            <a:ext cx="450720" cy="495360"/>
          </a:xfrm>
          <a:prstGeom prst="downArrow">
            <a:avLst>
              <a:gd name="adj1" fmla="val 50000"/>
              <a:gd name="adj2" fmla="val 2747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3654360"/>
            <a:ext cx="450720" cy="565200"/>
          </a:xfrm>
          <a:prstGeom prst="downArrow">
            <a:avLst>
              <a:gd name="adj1" fmla="val 50000"/>
              <a:gd name="adj2" fmla="val 31350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7160" y="5635800"/>
            <a:ext cx="3183120" cy="106020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gion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gional Data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44600" y="5140440"/>
            <a:ext cx="451080" cy="495360"/>
          </a:xfrm>
          <a:prstGeom prst="downArrow">
            <a:avLst>
              <a:gd name="adj1" fmla="val 50000"/>
              <a:gd name="adj2" fmla="val 274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780000">
            <a:off x="4447080" y="4582080"/>
            <a:ext cx="451080" cy="1697040"/>
          </a:xfrm>
          <a:prstGeom prst="downArrow">
            <a:avLst>
              <a:gd name="adj1" fmla="val 50000"/>
              <a:gd name="adj2" fmla="val 9405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9640" y="-71280"/>
            <a:ext cx="6048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experimental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27280" y="5661000"/>
            <a:ext cx="418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002360" cy="4464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52360" y="5807160"/>
            <a:ext cx="7920360" cy="9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 domains with a resolution of 0.44° (approx. 50x50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cus on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gh resolution  ~0.11°x0.11° for Europe (by some institu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domains (+ polar doma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74840" y="1152360"/>
            <a:ext cx="5753160" cy="558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Afric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700360"/>
            <a:ext cx="251964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estern African monsoon : montly mean precipitation 10°W-10°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60360" y="-71280"/>
            <a:ext cx="7380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CORDEX Europe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6720" y="6335640"/>
            <a:ext cx="719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eat waves :JJA 90</a:t>
            </a:r>
            <a:r>
              <a:rPr b="1" lang="fr-FR" sz="2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percentile of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360" y="1260360"/>
            <a:ext cx="8963280" cy="50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el Déqué</cp:lastModifiedBy>
  <dcterms:modified xsi:type="dcterms:W3CDTF">2012-07-06T16:17:35Z</dcterms:modified>
  <cp:revision>8</cp:revision>
  <dc:subject/>
  <dc:title>Variable horizontal resolution: the other numerical downscaling technique   Michel Déqué    Météo-France CNRM/GAME Toulouse </dc:title>
</cp:coreProperties>
</file>