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43C4-132F-46CC-B58A-E67060415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58F4-40F7-4BC6-B1A9-33104F53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FF1-96A8-4410-8B19-A0BB79EE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A1D-6CE8-44D3-AB7F-E47FD261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D4C-68EF-4EC0-BB1D-51F49BE9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92D-94F9-4EFF-9EBD-5ECA97B3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4FA-5DD0-4D81-A9A5-4AF17691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FEF-40C0-4BD9-96CC-EC0C48AA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8A5-331E-4132-A811-671EED09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251-E143-48F2-9389-F02873D7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912-D922-4550-A1FE-25EDCE67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7BD-11DA-4079-BB16-AA9B0430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E7A-CB83-4F69-93AD-4DC592E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E97-5192-4772-9752-B872344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9E4E-30AB-4F54-976A-F86179CE7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 selection of) Important data and modeling activities sponsored by WCRP in 2011-2012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jor findings, recommendations and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/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5998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-28 October 2011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ul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CRP Open Science Co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ctionable science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ttp://www.wcrp-climate.org/conference2011/documents/WCRP%20Conference%20AGU_Eos_mtg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of the Earth System, bridging physical climate and bio-ge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/aerosols/radiative feedback and climate sensi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climate/seamless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fy predicted climat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/initialized predic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predic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s at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-level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challenges will involve both data and model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16765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-20 April 2011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rasca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CRP-GCOS workshop on the evaluation of satellite-related global climate datase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://www.wcrp-climate.org/documents/ECV_Wksp_WCRP_Report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 data sets = great value and opportunity for verification and validation of Earth/climate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 2 incompatibility of format, projection and error characteristics were identified as major impediments to sub-optimal use of 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M promote intercomparison and the evaluation of datasets of Essential Climate Variables (ECV) following GCOS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lessons learned and best practices for a manageable sub-set of space-based observations rather than being all encompassing (future could focus on in situ and/or additional space-based observational recor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establish an international framework for a consistent approach to the production, evaluation and accessibility of global climate datasets, which could lead to inventory of essential climate data 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GOING discussions with NCDC to host ECV inventory on GOSIC, draft plan developed and being review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A tentatively agreed to host the follow-up meeting early 2013, possibly with WDA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1905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AP Flux re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www.wcrp-climate.org/documents/woap_fluxes_report_01_2012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ssues over land, ice and se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 Evaluation of products (in-situ, models, reanalysis) and accuracies, WDAC ideal for cross-entity dia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of referenc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 Initial consideration on land, optimization (distribution, consistency, multi-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measurement and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 Liaise with space agencies, gap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datasets of fluxes: RECOM devpt of community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of model fluxes: RECOM continuation of WGNE SU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20570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-11 May 2012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lver Spring, 4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nternational Reanalysis Co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icr4.org/ppts/Bosilovich_Wrapup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 Reanalyses: one of most used info in climat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: unsecure funding, some observing systems at risk will impact quality, bias correction and ref obs, uncertainty estimations, longer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: international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: coupled and hybrid assimilation, adjusting cov and assimilation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: conference every 4-5 years, data assimilation conference in 2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: make reanalyses available on ESG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7521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-26 March 2011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ieste,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International CORDEX Co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://cdsagenda5.ictp.it/askArchive.php?base=agenda&amp;categ=a10131&amp;id=a10131s37t80/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: leverage CMIP5 experience, approach, architecture,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: focus on 3 VIA applications (health, agriculture,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: populate the GCM/RCM/RCP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: extend CORDEX man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: from “CORDEX Task Force on Regional Climate Downscaling” to “CORDEX Science Advisory Team”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DO: web portal consistency, develop all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DO: identify suitable observational data sets for each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1905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9 March 2012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nolulu, CMIP5 Analysis Worksh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ttp://www.wcrp-climate.org/documents/ezine/WCRPnews_14032012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: spread and patterns of new CMIP5 AOGCM and ESM similar to CMI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: some problems persist (double ITCZ, Arctic clouds and circulation, Antarctic sea ice los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: CMIP5 has far more info to be analyzed, IPCC deadline, continuous ESG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prepare grounds for CMIP6, A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-23 March 2012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sadena, The Physics of Weather and Climat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ught 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seasonal to seasonal Project (WCRP/WW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GNE Systematic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GNE Short to medium range coupled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-WGS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-COR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ssimilation (T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VAR, CLIC, SPARC, GEWEX data and model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11:43:36Z</dcterms:created>
  <dc:creator>V Ryabinin</dc:creator>
  <dc:description/>
  <dc:language>en-US</dc:language>
  <cp:lastModifiedBy>MRixen</cp:lastModifiedBy>
  <cp:lastPrinted>2008-10-29T15:33:33Z</cp:lastPrinted>
  <dcterms:modified xsi:type="dcterms:W3CDTF">2012-06-01T09:08:35Z</dcterms:modified>
  <cp:revision>378</cp:revision>
  <dc:subject/>
  <dc:title>WCRP to IGFA</dc:title>
</cp:coreProperties>
</file>