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B1A9-3DC9-49DB-AC5F-51EDD6E9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EE9-5CDE-459C-83AA-1C881835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688-9BD7-4CE1-98D1-FC4E912C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00E-85C5-4971-9685-70DB6CD9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DF6-01A4-4F17-9CA1-DD993995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754-23E7-44D5-8FF5-7E28F645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661-5E7F-445B-A00C-FF31EBBB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0B9-362C-4D38-9F87-1D42044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710-2A06-425C-B0FF-CB9DF5C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7D5-2ACE-488C-AAAA-4E0DA1DC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903-A38C-4885-82DE-3231F320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5DA-6B3D-48D4-BBCC-851EFD6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5CC-3988-4300-8160-E3802B6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AAD-8521-4B6A-BA53-928C87C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FC34-9070-4D3E-8D58-1F5A9D485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6-7, 20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ctions for you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0464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ut together a summary of actions for your input and approva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s the last item on our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 as a single entry point for all WCRP data, information, and observation activities with its sister programm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their high-level aspects across the WCR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cooperation with main WCRP partners such a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C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EOS, CGMS and other observing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DAC works with the WCRP Modeling Advisory Council to promote effective use of observations with models and to address issues related to the coordinated development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ata assimilation, reanalysis, Observing System Sampling Experiments, fluxes and paleoclimatic data and their assess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etric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5720" y="1371600"/>
            <a:ext cx="670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CRP Data Advisory Council 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(WDAC)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628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participating in WDA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hanks to NIU Galway for hosting this meeting and to Brian Ward for local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genda is both diverse and full, so please respect the tim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x0013_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14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C34 requ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Flu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set Quality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4M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4 Recommendations [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2060280"/>
            <a:ext cx="82789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best practices on process of publishing datasets and their endor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est a white paper from projects, starting with GEWEX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will coordinate development of a WCRP-wide dataset quality assessment process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In pro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will distribute to other Core Projects for input/comment and make it available for Spring 2014 discu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guidelines for submitting datasets to ESG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e Project data sets will be considered as early entrants to ESGF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 Projects and other entities represented on WDAC should nominate datasets for inclusion in the ESGF (both old and new) by next WDAC meeting.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4 Recommendations [2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2060640"/>
            <a:ext cx="8278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he lead of SPARC, WDAC to consider the use of Open access journals citations for data sets via use of DOI across the whole of the WCR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will discuss and draft a recommendation to the JSC on using DOIs as a way to document data sets from Core Projects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opic will be discussed at WDAC-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WCRP efforts on surface fluxes relative to plan developed across CLIVAR, GEWEX, WGNE, SOLAS as posted on the WCRP webs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e Projects should nominate representatives to surface flux discussion in early 20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WEX and CLIVAR to consider joint session making scientific progress on surface fluxes at 2014 Pan GEWEX/CLIVAR meet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to include a specific agenda item on fluxes at its next session and seek ways to reinvigorate this effort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2060280"/>
            <a:ext cx="82789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es, Flux Modeling, Data Assimil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ssemination, Inventories, obs4MIP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essment and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A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Agenda_WDAC3 final_p1.pdf"/>
          <p:cNvPicPr/>
          <p:nvPr/>
        </p:nvPicPr>
        <p:blipFill>
          <a:blip r:embed="rId1"/>
          <a:stretch/>
        </p:blipFill>
        <p:spPr>
          <a:xfrm>
            <a:off x="250920" y="1341360"/>
            <a:ext cx="3779640" cy="534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Agenda_WDAC3 final_p2.pdf"/>
          <p:cNvPicPr/>
          <p:nvPr/>
        </p:nvPicPr>
        <p:blipFill>
          <a:blip r:embed="rId2"/>
          <a:stretch/>
        </p:blipFill>
        <p:spPr>
          <a:xfrm>
            <a:off x="3203640" y="1484280"/>
            <a:ext cx="3672000" cy="519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Agenda_WDAC3 final_p3.pdf"/>
          <p:cNvPicPr/>
          <p:nvPr/>
        </p:nvPicPr>
        <p:blipFill>
          <a:blip r:embed="rId3"/>
          <a:stretch/>
        </p:blipFill>
        <p:spPr>
          <a:xfrm>
            <a:off x="6227640" y="1413000"/>
            <a:ext cx="3746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-2 Recs/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2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mstadt, 4-5 March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981000"/>
          <a:ext cx="7417080" cy="5230800"/>
        </p:xfrm>
        <a:graphic>
          <a:graphicData uri="http://schemas.openxmlformats.org/drawingml/2006/table">
            <a:tbl>
              <a:tblPr/>
              <a:tblGrid>
                <a:gridCol w="2592720"/>
                <a:gridCol w="48243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-CM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ilot phase completed; broader participation in Phase 2 – starts 1/2014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V Inventory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IC / CEOS/CGMS Harmonization joint tool – CEOS SIT supportive – in situ QA/QC by GCOS panels?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4MIPS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stablished WDAC Task Team (TT) to advise on *4MIPS activities 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nalysis/Fluxes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to continue planning of WCRP Workshop in 2014; develop TOR for a TT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set Quality Assessment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WEX to provide a short white paper on best practices; circulate to WCRP core projects first, then wider distribution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O Rolling Requirements Review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ations concerning long term stability and additional granularity are needed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OS Review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 represented WCRP at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 in March 2013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-3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way, Ireland – April 2013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0:19:47Z</dcterms:created>
  <dc:creator>O.Brown</dc:creator>
  <dc:description/>
  <dc:language>en-US</dc:language>
  <cp:lastModifiedBy>Otis Brown</cp:lastModifiedBy>
  <cp:lastPrinted>2008-10-29T15:33:33Z</cp:lastPrinted>
  <dcterms:modified xsi:type="dcterms:W3CDTF">2014-05-02T14:59:02Z</dcterms:modified>
  <cp:revision>434</cp:revision>
  <dc:subject/>
  <dc:title>WDAC CEOS/CGMS</dc:title>
</cp:coreProperties>
</file>