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59DF-4023-4D91-AAAB-80EB55EE0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2235-3B22-4D15-B239-B445735E9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3A68-BF4B-4AFD-BDE8-16F1CAFB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A9FA-9570-4249-804B-9779CDAF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01FD-EE50-4D2A-9243-3EC1656D9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5A91-0FA7-4340-9D69-3739004CC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86E1-9CF7-4B06-BE3F-E597B687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95F3-FBA0-4B60-A686-CB113F1B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45D4-ECCA-4042-ADB3-35EB0C81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ED83-AD3C-4D6E-9D58-04A84A38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A30B-387B-4C3D-90D3-559FE0A8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7444-0D5C-48EA-8947-5322B8AA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368F-0419-4F69-9C0A-22CFD335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AA2B-A986-4AEE-9398-BE5C994D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0152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0152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0152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2560" y="6095520"/>
            <a:ext cx="327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77840" y="64767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060B-141B-4397-88DD-09DB1E0AF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5" name="Picture 9" descr="lower_banner"/>
          <p:cNvPicPr/>
          <p:nvPr/>
        </p:nvPicPr>
        <p:blipFill>
          <a:blip r:embed="rId2"/>
          <a:stretch/>
        </p:blipFill>
        <p:spPr>
          <a:xfrm>
            <a:off x="0" y="6229440"/>
            <a:ext cx="9144000" cy="628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upper_banner"/>
          <p:cNvPicPr/>
          <p:nvPr/>
        </p:nvPicPr>
        <p:blipFill>
          <a:blip r:embed="rId3"/>
          <a:stretch/>
        </p:blipFill>
        <p:spPr>
          <a:xfrm>
            <a:off x="0" y="0"/>
            <a:ext cx="9144000" cy="93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321264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468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CR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Advisory Council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y 6-7, 201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2218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Actions for your consid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204640"/>
            <a:ext cx="850752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put together a summary of actions for your input and approval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 this as the last item on our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2514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 as a single entry point for all WCRP data, information, and observation activities with its sister programm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ordinate their high-level aspects across the WCRP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ure cooperation with main WCRP partners such as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GCO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CEOS, CGMS and other observing program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DAC works with the WCRP Modeling Advisory Council to promote effective use of observations with models and to address issues related to the coordinated development of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ata assimilation, reanalysis, Observing System Sampling Experiments, fluxes and paleoclimatic data and their assessment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etrics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c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215720" y="1371600"/>
            <a:ext cx="6707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WCRP Data Advisory Council </a:t>
            </a:r>
            <a:endParaRPr b="1" lang="en-US" sz="3600" spc="-1" strike="noStrike">
              <a:solidFill>
                <a:srgbClr val="bbe0e3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(WDAC)</a:t>
            </a:r>
            <a:endParaRPr b="1" lang="en-US" sz="36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WDAC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1628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participating in WDAC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thanks to NIU Galway for hosting this meeting and to Brian Ward for local prepa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agenda is both diverse and full, so please respect the time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x0013_</a:t>
            </a: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WDAC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14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da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C34 reque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 Flu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set Quality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4M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DAC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150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JSC34 Recommendations [1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440" y="2060280"/>
            <a:ext cx="827892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for best practices on process of publishing datasets and their endors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quest a white paper from projects, starting with GEWEX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D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DAC will coordinate development of a WCRP-wide dataset quality assessment process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In proce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DAC will distribute to other Core Projects for input/comment and make it available for Spring 2014 discuss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for guidelines for submitting datasets to ESG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re Project data sets will be considered as early entrants to ESGF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e Projects and other entities represented on WDAC should nominate datasets for inclusion in the ESGF (both old and new) by next WDAC meeting.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1150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JSC34 Recommendations [2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440" y="2060640"/>
            <a:ext cx="82789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ing the lead of SPARC, WDAC to consider the use of Open access journals citations for data sets via use of DOI across the whole of the WCR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DAC will discuss and draft a recommendation to the JSC on using DOIs as a way to document data sets from Core Projects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opic will be discussed at WDAC-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aluate WCRP efforts on surface fluxes relative to plan developed across CLIVAR, GEWEX, WGNE, SOLAS as posted on the WCRP websi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re Projects should nominate representatives to surface flux discussion in early 201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EWEX and CLIVAR to consider joint session making scientific progress on surface fluxes at 2014 Pan GEWEX/CLIVAR meeting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DAC to include a specific agenda item on fluxes at its next session and seek ways to reinvigorate this effort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D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150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WDAC3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440" y="2060280"/>
            <a:ext cx="827892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xes, Flux Modeling, Data Assimilation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Dissemination, Inventories, obs4MIP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assessment and best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ation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DAC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150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Agend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" descr="Agenda_WDAC3 final_p1.pdf"/>
          <p:cNvPicPr/>
          <p:nvPr/>
        </p:nvPicPr>
        <p:blipFill>
          <a:blip r:embed="rId1"/>
          <a:stretch/>
        </p:blipFill>
        <p:spPr>
          <a:xfrm>
            <a:off x="250920" y="1341360"/>
            <a:ext cx="3779640" cy="5348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Agenda_WDAC3 final_p2.pdf"/>
          <p:cNvPicPr/>
          <p:nvPr/>
        </p:nvPicPr>
        <p:blipFill>
          <a:blip r:embed="rId2"/>
          <a:stretch/>
        </p:blipFill>
        <p:spPr>
          <a:xfrm>
            <a:off x="3203640" y="1484280"/>
            <a:ext cx="3672000" cy="5197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Agenda_WDAC3 final_p3.pdf"/>
          <p:cNvPicPr/>
          <p:nvPr/>
        </p:nvPicPr>
        <p:blipFill>
          <a:blip r:embed="rId3"/>
          <a:stretch/>
        </p:blipFill>
        <p:spPr>
          <a:xfrm>
            <a:off x="6227640" y="1413000"/>
            <a:ext cx="37465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WDAC-2 Recs/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13716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DAC2 Outcom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mstadt, 4-5 March</a:t>
            </a: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826920" y="981000"/>
          <a:ext cx="7417080" cy="5230800"/>
        </p:xfrm>
        <a:graphic>
          <a:graphicData uri="http://schemas.openxmlformats.org/drawingml/2006/table">
            <a:tbl>
              <a:tblPr/>
              <a:tblGrid>
                <a:gridCol w="2592720"/>
                <a:gridCol w="482436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pic</a:t>
                      </a:r>
                      <a:endParaRPr b="1" lang="en-US" sz="16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come</a:t>
                      </a:r>
                      <a:endParaRPr b="1" lang="en-US" sz="16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-CM</a:t>
                      </a:r>
                      <a:endParaRPr b="1" lang="en-US" sz="16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Pilot phase completed; broader participation in Phase 2 – starts 1/2014</a:t>
                      </a:r>
                      <a:endParaRPr b="1" lang="en-US" sz="16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V Inventory</a:t>
                      </a:r>
                      <a:endParaRPr b="1" lang="en-US" sz="16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SIC / CEOS/CGMS Harmonization joint tool – CEOS SIT supportive – in situ QA/QC by GCOS panels?</a:t>
                      </a:r>
                      <a:endParaRPr b="1" lang="en-US" sz="16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4MIPS</a:t>
                      </a:r>
                      <a:endParaRPr b="1" lang="en-US" sz="16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Established WDAC Task Team (TT) to advise on *4MIPS activities </a:t>
                      </a:r>
                      <a:endParaRPr b="1" lang="en-US" sz="16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nalysis/Fluxes</a:t>
                      </a:r>
                      <a:endParaRPr b="1" lang="en-US" sz="16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eed to continue planning of WCRP Workshop in 2014; develop TOR for a TT</a:t>
                      </a:r>
                      <a:endParaRPr b="1" lang="en-US" sz="16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set Quality Assessment</a:t>
                      </a:r>
                      <a:endParaRPr b="1" lang="en-US" sz="16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WEX to provide a short white paper on best practices; circulate to WCRP core projects first, then wider distribution</a:t>
                      </a:r>
                      <a:endParaRPr b="1" lang="en-US" sz="16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MO Rolling Requirements Review</a:t>
                      </a:r>
                      <a:endParaRPr b="1" lang="en-US" sz="16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derations concerning long term stability and additional granularity are needed</a:t>
                      </a:r>
                      <a:endParaRPr b="1" lang="en-US" sz="16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COS Review</a:t>
                      </a:r>
                      <a:endParaRPr b="1" lang="en-US" sz="16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AC represented WCRP at 1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eeting in March 2013</a:t>
                      </a:r>
                      <a:endParaRPr b="1" lang="en-US" sz="16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53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AC-3</a:t>
                      </a:r>
                      <a:endParaRPr b="1" lang="en-US" sz="16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lway, Ireland – April 2013</a:t>
                      </a:r>
                      <a:endParaRPr b="1" lang="en-US" sz="16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6T10:19:47Z</dcterms:created>
  <dc:creator>O.Brown</dc:creator>
  <dc:description/>
  <dc:language>en-US</dc:language>
  <cp:lastModifiedBy>Otis Brown</cp:lastModifiedBy>
  <cp:lastPrinted>2008-10-29T15:33:33Z</cp:lastPrinted>
  <dcterms:modified xsi:type="dcterms:W3CDTF">2014-05-02T14:59:02Z</dcterms:modified>
  <cp:revision>434</cp:revision>
  <dc:subject/>
  <dc:title>WDAC CEOS/CGMS</dc:title>
</cp:coreProperties>
</file>